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913-0B62-49A2-B742-E1825A50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029-387C-4A09-BA33-326866C0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565-E717-4764-9055-B3256A15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771-7AA3-48B8-B29E-2C9A6833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331C-C012-4E13-AA49-2B8689B7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30EE-FCE1-4378-A5C3-92F2F526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F99A-A132-48F1-902D-13373652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1B0E-3894-4CBD-9CB5-5ED86126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77D2-62D6-4503-9E0E-F57962BF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C213-1A2A-4FBB-8DDE-99963435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D1BE-3309-4FDC-8106-E5ED1FC7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E3D-D1CF-4716-A75A-37F04D3D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D604-D637-44F9-888F-FA5D714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0A22-A801-4A6D-BB21-FCA6A3ED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441E-5DDB-417E-AFE2-5A8F346C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A9C7-912C-409B-9EAC-CE7EEC2C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F0FB-2C3B-4784-8F56-B9D89AA5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90C-27CB-409F-9E5C-7AC72486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0DC-B443-4BAB-BAF2-BBC59A5A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3D8-2B42-42C4-8BE5-4FE2C771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36D-A5E3-4837-93D5-065684E8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AFB-D9F3-40A3-A596-79D8E64A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EE1-5E3A-4AE7-9033-79C58168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FA4-B245-4C10-8E79-A767780D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08A6-5970-489E-A1EF-EE59A9F676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5CEA-1A46-4E44-ADF5-25A93C58BD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redit Card Bill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lueprint Technologies,  In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isting legacy systems do not support collection of demographic data (e.g., personal buying trend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or integration between credit card billing system and other systems within the organiz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not find enough qualified software engine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st work smarter, not har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ed to produce a system that is easily maintain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isting legacy maintenance costs are unmanage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Functional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stomer centr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count Level Bill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ch customer account may have unique ter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lance Seg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fine how account funds are process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ture system must support dynamic balance seg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nsa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ports internal and external (web) process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intenance Reque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ministrative changes including opening/closing accou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Non-Functional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 for NT 4.0 cli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verage Oracle server for persist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ow for 100 million transactions per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duce maintenace costs by at least 4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ploy across continental United St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chive all transa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 fault tolerance cap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ply pre-existing patterns and framewor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uild on analysis and design patter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tilize FrameworkStud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verage iterative and incremental development via the Rational Unified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tional RequisitePro, Rational Rose, Rational ClearCase, Microsoft Developer Stud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dit Card Billing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billing.mdl on this C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Blueprint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blueprint-technologies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Terry Quatrani</cp:lastModifiedBy>
  <dcterms:modified xsi:type="dcterms:W3CDTF">1999-03-12T03:27:34Z</dcterms:modified>
  <cp:revision>13</cp:revision>
  <dc:subject/>
  <dc:title>Credit Card Billing</dc:title>
</cp:coreProperties>
</file>