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9953-C835-486E-B0F1-1C56F4C0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0682-2502-462D-96AE-C712610F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BCEA-B320-435E-BA78-30D116DB6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024E-6AEE-4761-9706-EC69B562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84B2-F8FF-4F1E-85BE-E4F55FE9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E97F-6029-492E-99ED-5844AF2B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4B8C-8B6F-4DCF-94F9-F819B699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E9F0-C404-43F9-8852-C72D5F76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409E-BC22-423B-9384-79C5187C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696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3030-DBDD-4881-9053-8955BF46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55C5-1D13-4C5E-9AB7-876C5BFC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40A6-7CBB-4041-8001-42C599F9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8E92-216C-4F83-A7EC-B6B23107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3A8B-C040-492B-A50A-21B3A6D2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2417-9CB3-4A06-B786-189CA5E8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39E3-7146-42B0-80D7-5A1709F0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6492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476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44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6492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476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4744-2CF1-40F0-BE66-5E600293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4420-331E-46E7-BC37-7146402E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C3D8-9009-4F55-8C4A-F87F7E86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6E7A-B823-40BA-B2BF-A62C811E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696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592E-5382-47A4-97DA-D9BB55AE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A56E-281F-4A23-A2D2-B59B3AE3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FC8B-282E-4918-B63A-0FB3843F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FB21-6A57-490B-85AA-7A9BD512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80880"/>
            <a:ext cx="8152920" cy="1599840"/>
            <a:chOff x="457200" y="38088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38088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54612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76680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09692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Inside the U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412D-A18C-402D-A2CB-DC6238456E6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RatLogo_rev_2color_crisp" descr=""/>
          <p:cNvPicPr/>
          <p:nvPr/>
        </p:nvPicPr>
        <p:blipFill>
          <a:blip r:embed="rId2"/>
          <a:stretch/>
        </p:blipFill>
        <p:spPr>
          <a:xfrm>
            <a:off x="7489800" y="6381720"/>
            <a:ext cx="1603440" cy="438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pic>
        <p:nvPicPr>
          <p:cNvPr id="11" name="Ens11" descr=""/>
          <p:cNvPicPr/>
          <p:nvPr/>
        </p:nvPicPr>
        <p:blipFill>
          <a:blip r:embed="rId3"/>
          <a:stretch/>
        </p:blipFill>
        <p:spPr>
          <a:xfrm>
            <a:off x="152280" y="6111720"/>
            <a:ext cx="1230480" cy="74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9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77E9-01E1-4FA7-84CD-EC823FA8B5C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Runners Inc.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semble Systems In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0517-F9B8-432D-8130-4AFCB54FD9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Problem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unners Inc. is a hypothetical distributor of shoes for jogging enthusias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y currently handle all orders on pap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rders are being delayed or lost due to misplaced paperwor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utomation of the order entry and shipping system is need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A422-12F6-439B-B8FB-1456C6063B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Requiremen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ild an order entry and shipping system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nsure that all orders are processed in a timely fash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system should use data storage techniques that are scaleable and are easily extended and maintain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hort-term volumes are expected to remain relatively low (10 orders per day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64A7-6BEF-45D4-BC05-EB01A68C26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Solu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semble Rose Business Process Link (RBP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Runners Inc. business process is modeled using activity diagram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oftware requirements, in the form of Use cases, features and GUI designs, are identified in context with the business proc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Actors, Use cases, &amp; Classes are then exported from RBPL to Rose 9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ational Rose 98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 cases and Class designs are enhanced to complete the software design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robust software architecture is developed iterativel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BFA7-0B9E-43CE-B489-4A840D03FD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Solution (continued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semble Rose JBuilder Lin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Java code framework is generated &amp; round trip engineered between Rose and JBuild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implementation is completed using Borland JBuilder &amp; MS Acc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0FB4-8342-442B-BFA4-C90E5E3A90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Rational Rose Model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heck out th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unners, Inc.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Rose model titled runners.mdl on this C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file EnsembleRunnersInc.zip on this CD contains the RBPL model &amp; documentation, the Rose model documentation, the JBuilder project &amp; Java files, the MS Access database &amp; 30-day installations of Rose Business Process Link &amp; Rose JBuilder Lin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 more information visit the Ensemble Systems web si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ww.ensemble-systems.c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8C23-81F3-483C-A477-CFEB6A4F6C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7T22:48:14Z</dcterms:created>
  <dc:creator>Pierre van Aswegen</dc:creator>
  <dc:description/>
  <dc:language>en-US</dc:language>
  <cp:lastModifiedBy>Brett Collins</cp:lastModifiedBy>
  <cp:lastPrinted>1999-03-09T02:47:27Z</cp:lastPrinted>
  <dcterms:modified xsi:type="dcterms:W3CDTF">1999-03-25T19:51:07Z</dcterms:modified>
  <cp:revision>165</cp:revision>
  <dc:subject/>
  <dc:title>RBPL Demo Script</dc:title>
</cp:coreProperties>
</file>