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EA36-AF8B-433B-9B37-73CB71E44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440" y="3882600"/>
            <a:ext cx="7924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6C44-6891-41D1-91CE-EC72626A3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46240" y="129492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440" y="388260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46240" y="388260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49F0-3586-4083-B927-7AEAB4228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2551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64920" y="1294920"/>
            <a:ext cx="2551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44760" y="1294920"/>
            <a:ext cx="2551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440" y="3882600"/>
            <a:ext cx="2551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64920" y="3882600"/>
            <a:ext cx="2551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44760" y="3882600"/>
            <a:ext cx="2551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01AD-2699-4786-83F5-D0BC1F93B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BEC7D-7327-4777-8E59-4113FFED8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685440" y="1294920"/>
            <a:ext cx="792468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34DB7-D6E0-4CDB-A18B-F70EC514F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0CEDE-F59A-4ACA-9C9A-EB123BA33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671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46240" y="1294920"/>
            <a:ext cx="38671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7ECCE-30E8-49A4-9617-2DE0C85C2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C011D-EB38-4C26-9F4B-BFEA02836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762120" y="151920"/>
            <a:ext cx="76960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F2977-04B4-4760-95B0-CDF335A29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46240" y="1294920"/>
            <a:ext cx="38671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440" y="388260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FB830-ED6B-4A21-8565-154035F11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440" y="1294920"/>
            <a:ext cx="792468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A736-C621-4200-912E-F5A2B431D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671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46240" y="129492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746240" y="388260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7E99E-48A3-4174-BEE6-94D95AAE4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46240" y="129492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440" y="3882600"/>
            <a:ext cx="7924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F17C8-FDD1-4B2F-B7DB-F30B4F74E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85440" y="3882600"/>
            <a:ext cx="7924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9C0F3-985C-42FF-829C-F21254761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46240" y="129492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440" y="388260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746240" y="388260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12DA4-5310-4B11-BD7C-648E54822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2551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364920" y="1294920"/>
            <a:ext cx="2551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44760" y="1294920"/>
            <a:ext cx="2551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685440" y="3882600"/>
            <a:ext cx="2551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364920" y="3882600"/>
            <a:ext cx="2551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44760" y="3882600"/>
            <a:ext cx="2551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46977-7F96-4C76-BB9B-1A23708B3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0331-E991-4C8C-ADA3-7DC023709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671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46240" y="1294920"/>
            <a:ext cx="38671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3473-6A51-4371-8FB6-6FCA2AC9D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D1CE-222D-4C68-87F2-37B4825F5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762120" y="151920"/>
            <a:ext cx="76960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B4AA-28C3-4A4D-B3D5-88A13C5A7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294920"/>
            <a:ext cx="38671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440" y="388260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0EF6-ECEC-4243-B881-C9BB6CEFB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671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29492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46240" y="388260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B5F4-6194-4214-8CBF-0EBE49B76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46240" y="129492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440" y="3882600"/>
            <a:ext cx="7924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0B66-0FE5-46CA-9B42-71CE401A5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380880"/>
            <a:ext cx="8152920" cy="1599840"/>
            <a:chOff x="457200" y="38088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38088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54612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76680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09692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440" y="1294920"/>
            <a:ext cx="79246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Inside the UM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BCF28-865B-440E-A3FC-EE4D4C6BF01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" name="RatLogo_rev_2color_crisp" descr=""/>
          <p:cNvPicPr/>
          <p:nvPr/>
        </p:nvPicPr>
        <p:blipFill>
          <a:blip r:embed="rId2"/>
          <a:stretch/>
        </p:blipFill>
        <p:spPr>
          <a:xfrm>
            <a:off x="7489800" y="6381720"/>
            <a:ext cx="1603440" cy="4381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5f5f5f"/>
            </a:outerShdw>
          </a:effectLst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8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82409-51D4-4DEC-B197-6C66D048519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1447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Front End to the Automated Budget Interactive Data Environment System</a:t>
            </a:r>
            <a:br>
              <a:rPr sz="4000"/>
            </a:b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(ABIDES-FE)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Number Six Software, Inc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The Problem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evelop a Java wrapper for an existing application that helps budget analysts manage the Air Force’s budge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wrapper would address the highest value portion of the legacy application, its ability to generate reports based on the state of the budge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The Requirements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rovide a portable solution that would be easy to distribute and maintain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rovide a modern user interface that would be easier to learn and us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rovide a solution that can coexist with the legacy application and with special care from the legacy application maintainer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legacy system would have no knowledge of the existence of the wrapper, and the solution we deliver cannot affect operation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The Solution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Use pure Java for all software developed for ABIDES Front En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No commercial off the shelf (COTS) components were used to develop ABIDES Front En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nstead, we have relied on Java-provided RMI, Swing, Properties, and JavaHelp to provide core design and implementation mechanism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We relied heavily on the use of well-known design patterns such as Factory Method, Adapter, Observer, and Prox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The Solution (continued)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We developed four essential distributed services utilizing Java RMI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ogger - Responsible for recording all significant event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ogin - Responsible for authenticating users and maintaining authentication ticket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uthorizer - Like an Authenticator the Authorizer is responsible for determining and packaging all authorized rights and business packages for a particular clien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FPReportBreakGenerator - Responsible for forwarding Execoms to ABIDES and then retrieving and delivering results to the requesting clien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Rational Rose Model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Check out the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ront End to the Automated Budget Interactive Data Environment System </a:t>
            </a: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Rose model titled abidesfe.mdl on this C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Additional stereotype icons are installed when StereotypeIcons.exe is execute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Additional documentation may be found in the doc folde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The file abidesfe Pathmap.txt contains pathmap informa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Rational Rose Model 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e key SAM/GA personnel for ABIDES-FE are: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Jim Berry (berryi@comm.hq.af.mil)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am Johnson (johnsonp@comm.hq.af.mil)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Vicky Nguyen (nguyenv@comm.hq.af.mil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Gino Yannotti (yannottig@comm.hq.af.mil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or more information visit the Number Six web sit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ww.numbersix.co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22T21:24:11Z</dcterms:created>
  <dc:creator>Internal Use</dc:creator>
  <dc:description/>
  <dc:language>en-US</dc:language>
  <cp:lastModifiedBy>Terry Quatrani</cp:lastModifiedBy>
  <dcterms:modified xsi:type="dcterms:W3CDTF">1999-03-13T01:46:49Z</dcterms:modified>
  <cp:revision>33</cp:revision>
  <dc:subject/>
  <dc:title>No Slide Title</dc:title>
</cp:coreProperties>
</file>