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E54-8841-4F96-B0B3-E7437476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5C6-968F-4158-9BEF-40048AB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A0D-6B7A-4005-8034-2C9E9A1A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38B-09EA-4DFE-BF30-4004A1E8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E061-D250-41DD-A780-4D965B0D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896-D2D3-4195-9FE7-80D80185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11A-A002-47CD-B61A-3FDCE046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6D4C-CF83-40A7-B181-C95DCD6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38C1-0299-42BD-901D-DE08C1E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AEB-E43F-4BF8-B915-23A1387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B428-79C4-4C8A-AB1E-08D4F43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E44-1413-487F-B830-08B3501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16A-B663-4F70-96F2-B6FD3E5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397-89E2-49B1-9787-4AEE93C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E51-2C9F-4227-B4B2-F499D62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255F-DC3F-4E24-81E7-56B340E4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673F-AAD8-4CD4-82FE-035233BE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F1D-A20B-4FDB-83D6-E64F0AB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81F-D629-4131-9BA5-D3A9211A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4A3-AC63-4405-896F-B23CD19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3AA-D765-45FD-9706-FE8CC3B5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19D-1528-45C8-9E29-F827596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816-ED2D-4A83-916B-17EE285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422-0404-433D-A294-D2D5667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D77-E16E-4E3F-AAB6-45873B2906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4356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graphicFrame>
        <p:nvGraphicFramePr>
          <p:cNvPr id="11" name=""/>
          <p:cNvGraphicFramePr/>
          <p:nvPr/>
        </p:nvGraphicFramePr>
        <p:xfrm>
          <a:off x="152280" y="6265800"/>
          <a:ext cx="14479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265800"/>
                    <a:ext cx="1447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850-A09D-42D6-B190-1A4C6B9AB0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Car Dealership Distributed Application Architecture Framewor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ign an architecture for a complex business with different and changing rules for each car manufacturer and dealership in different countries of LatinAmer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must support all the main business processes of the various car dealershi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must integrate smoothly with all the back office units (accounting,  receivables, taxes etc.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system must be as independent as possible on the current technolo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system was designed using components identifying several levels of reuse, having a clear separation between the technology dependant components and business rules dependant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day, the system has been successfully installed in several dealers who sell vehicles from various manufacturers with different business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 Dealership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cardealer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r more information, please write to indudata@cable.net.co or visit the Indudata web site at www.indudata.com (currently under construc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2T20:35:28Z</dcterms:modified>
  <cp:revision>24</cp:revision>
  <dc:subject/>
  <dc:title>No Slide Title</dc:title>
</cp:coreProperties>
</file>