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60B-9A4B-4167-BCC8-08632FD65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surance Network Fees and Claims System created by InterAccess calculates and maintains fee schedules for a  managed care provider subsidiary of a major international insurance and financial services company conducting business from their New York City corporate headquar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esentation examines one of the sequence diagrams created for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siness objectives for the system w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, allow one fee schedule to be used by multipl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, manage a history of fee sched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, automatically approve a fe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, Assign fee schedule network fees to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ve, capture provider information which may be supplied to the referral system for non-network provi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isplay the bullets one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price Claims use case calculates a provider network fee for a claim submitted with a provider normal fee.  This use case has four scenario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price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ice in area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existing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cenario is documented with a sequence diagram which contains the objects and messages between the objects needed to carry out the functionality of the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334-12B4-4F75-96FB-F0CCC780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309-C34B-4B05-B2C2-9FA0E2BC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80C-9234-4A86-8A75-AB550BA2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EC6-7115-462E-A809-7A10D320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40CB-0C47-4C06-A066-22307577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494F-4E5D-49B4-9529-6424B43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4D6-1739-4F94-AC30-00B19822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27F7-A2FD-4C2F-AF06-BFDE51E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44B4-10BB-4696-A927-E7F64DEB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411B-EFE3-4C37-B830-7BA8B35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61BA-E682-481E-92C8-FA56798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0C9-758A-41EB-8B83-38548A73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96B7-DEE8-4C54-AE54-5AE90B97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481-A88E-4A31-9771-3A3B36D3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FC30-8D09-434F-8C9D-148D7FC6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2A1C-8523-4559-8E6D-BF674669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1836-CCC2-48CB-A334-768B19C4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0C7-DBF6-4E4F-95C9-EFB11664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AEB-643B-4FEA-A50C-3E5E59A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6B5-1421-4587-B15D-162423D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784-773A-4AD7-B62E-02E12794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19D-717F-417C-9F1E-CA9D1C4A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4D8-F29B-4FA7-8EF7-BCCBAFE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EE8-925D-421D-ABF1-AABD7C6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C063-B56E-4D53-A7C5-A689A0DDD2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E2A9-9FDE-436B-A0FC-17C748AE5D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surance Network Fees and Claim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Access, In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r client represented in this model is a managed care provider subsidiary of a major international insurance and financial services company conducting business from their New York City corporate headquart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ognizing software limitations, declining data integrity, and an enormous maintenance effort regarding their legacy system, our client decided to develop a new system, which could react smoothly to business opportunities and future grow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rice claims by entering claim information and receive a repriced amount for each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ad and utilize legacy claim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ility to review claim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ad proprietary information used in fee calcul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alculate provider fee schedules annuall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r’s fee sched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tain provider medical procedures, categories,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sign multiple providers the same fee sche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ad legacy provider’s fee schedules and other related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cally appro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 a PC based system with high end PC Servers to deliver on our require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the Rational Unified Process (RUP) as our software developmen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duce use cases to deliver our high level requirements and further identify application function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Rational Rose 98 to model th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nguage development dictated by client - Visual Bas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base development dictated by client - Orac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urance Network Fees and Claims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insurance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le Business Opportunity 6_0.doc on this CD contains additional information about the pro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le Reprice Claims Use Case.doc contains sample use case 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InterAccess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interaccesscorp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4T02:28:56Z</dcterms:created>
  <dc:creator>Terry Quatrani</dc:creator>
  <dc:description/>
  <dc:language>en-US</dc:language>
  <cp:lastModifiedBy>Terry Quatrani</cp:lastModifiedBy>
  <dcterms:modified xsi:type="dcterms:W3CDTF">1999-03-12T20:58:19Z</dcterms:modified>
  <cp:revision>7</cp:revision>
  <dc:subject/>
  <dc:title>Insurance Network Fees and Claims</dc:title>
</cp:coreProperties>
</file>