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8236-FFB7-4805-9E05-4669DA3EA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6D5E-5887-4F78-8F55-4EC261C2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F365-6D34-4CF3-ACBD-D3688603A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492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476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44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492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476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C02D-F59A-4EB3-A154-2E29966B4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B091-923E-444C-B8F9-8F58100A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A69D-B2FD-4B21-B584-1323204C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85CA-5B3A-4783-BEA6-84E95DEE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23AB-1A1D-4BE3-B2EA-B4FD49D0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1C29-81AE-4A50-A172-B525408E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696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E6CC-1459-44E5-9C5F-6C574AE8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CC05-3C04-4D25-AFC9-5E5E177F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9D0C-44DC-491C-AA04-FB48912B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B852-0172-4807-877D-701298E5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DA58-6B3E-43C6-883F-8E752A6A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8168-1EC1-4F96-A404-2C30F04A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C995-6D74-416A-998A-C32F0908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6492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4476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44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6492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4476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45C4-9D7B-4047-AC95-D1D58F8E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5B50-D778-4832-9BB7-FB183394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6EDE-8A25-49BE-8F22-D9747A53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4A47-815C-4BE6-9B8E-461CEDAC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696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407F-4B48-47AB-BE53-58BDBA8C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5DBE-51C2-4209-BEB9-7CA2AEE3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17ED-47CC-43BE-A12E-50A4F464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0E30-B0D9-49D3-BBAB-4B4DEAE7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380880"/>
            <a:ext cx="8152920" cy="1599840"/>
            <a:chOff x="457200" y="38088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38088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54612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76680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09692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Inside the U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1697-3197-4C55-9893-E4B1234C773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RatLogo_rev_2color_crisp" descr=""/>
          <p:cNvPicPr/>
          <p:nvPr/>
        </p:nvPicPr>
        <p:blipFill>
          <a:blip r:embed="rId2"/>
          <a:stretch/>
        </p:blipFill>
        <p:spPr>
          <a:xfrm>
            <a:off x="7489800" y="6381720"/>
            <a:ext cx="1603440" cy="438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8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8898-3DBF-4363-9F10-017368F91E1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Real Time Auction System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ex Systems In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Problem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uctioning in real time over the Web requires that many people connect and participate simultaneous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al-time Web applications that require human control interaction also require remote interfaces for controlling the softwa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header2" descr=""/>
          <p:cNvPicPr/>
          <p:nvPr/>
        </p:nvPicPr>
        <p:blipFill>
          <a:blip r:embed="rId1"/>
          <a:stretch/>
        </p:blipFill>
        <p:spPr>
          <a:xfrm>
            <a:off x="0" y="5918040"/>
            <a:ext cx="9144000" cy="9399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Requiremen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letely distributable syst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al-time synchronization of all compon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calability of the syst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Solu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pply the Publish Subscribe (or Observer GHJV94) Pattern to the syst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reate components that are independent of each other but which blindly output the appropriate d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ansmit this data as messages through the Publish Subscribe mechanis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Rational Rose Model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heck out th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al Time Auction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Rose model titled auction.mdl on this C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 more information visit the Metex web si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ww.metex.c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Gamma, E., Helm, R., Johnson, R., and Vlissides, J.. Design Patterns: Elements of Reusable Object-Oriented Software. 1995, Addison Wesley.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5T17:09:21Z</dcterms:created>
  <dc:creator>adrianai</dc:creator>
  <dc:description/>
  <dc:language>en-US</dc:language>
  <cp:lastModifiedBy>Brett Collins</cp:lastModifiedBy>
  <dcterms:modified xsi:type="dcterms:W3CDTF">1999-03-23T21:04:59Z</dcterms:modified>
  <cp:revision>12</cp:revision>
  <dc:subject/>
  <dc:title>No Slide Title</dc:title>
</cp:coreProperties>
</file>