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E59-F2E1-49CA-8E09-F8D27212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6A5-6B07-4D97-A2D9-20D5ED2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3DF-0C78-47E6-8E92-0B1F6047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DD6-4B3A-499E-B004-E580FD81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E8B-5487-420D-A980-3B3D0B3E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074-446A-4DF7-9B85-02D5D9FD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F81-5C13-4341-ACE2-BBF8053C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76C-E0A9-4BF7-89D1-1EC0412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27D5-0C17-4F3B-90FF-179E2D20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234C-DAC3-4CC3-8239-4FCF0D35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8B0B-A0F3-4C32-9C15-98779FE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0F7-75CE-469F-931C-0B20029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DC8-934D-4BE9-B548-819ED3D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9AE-B010-42EF-8500-25F1D4E0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5ABA-584E-41AE-B2E5-E7D5C0C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A2E1-3240-4941-ACA0-AD6AFA1C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1671-41A3-4E11-9C1C-7741C9FC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CCD-8C34-4A3A-B05C-B95136F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423-790C-48D7-B5D8-BF9E9837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415-31FE-4BFF-B59F-8888F6E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636-5DE1-467C-8C90-1224069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DC4-4C57-4EC2-AE8C-3034D1C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008-F74F-406E-A8F7-6322F1A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A88-75C3-428D-9E03-1655BC3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12B5-19CA-4D99-A9F9-ECF785DD24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C31-4992-45A1-ACB2-3CFF48630B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Business Solutions with UM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b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systems are not aligned with the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evolving faster than existing technologies can handle cha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ck of business process understanding by the user due to no standard visual communication meth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nterprise wide workflow resulting in disjointed process workers and islands of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tools exist to integrate or map logical and physical components within the enterpri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275-04FD-4587-BC2D-EC33C42CA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erprise wide solution that aligns with business strate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by process build using a standard communication mecha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orting and enquiry cap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security by ro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ed workflow solution with total component information inte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inuos 100% business information f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7E7-0B7A-4D66-93EF-06B3CF504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foc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flow dri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chnology issues shiel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standing of system complex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ooth implementation design into technolo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tern driv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sterfile patterns; classes, interactions, states, use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nsaction patterns; classes, interactions, states, use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orting patterns; classes, intera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es and securities; actors, intera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EB4-891B-4AC9-8EFF-72F519EA4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Solutions with UML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busines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Rubico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rubico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B1C-108F-4FE3-B125-29BA4BF855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y van Zyl, Anthony Stewart</dc:creator>
  <dc:description/>
  <dc:language>en-US</dc:language>
  <cp:lastModifiedBy>Terry Quatrani</cp:lastModifiedBy>
  <cp:lastPrinted>1998-03-09T08:44:59Z</cp:lastPrinted>
  <dcterms:modified xsi:type="dcterms:W3CDTF">1999-03-12T19:50:58Z</dcterms:modified>
  <cp:revision>1126</cp:revision>
  <dc:subject>Competition</dc:subject>
  <dc:title>UML Model</dc:title>
</cp:coreProperties>
</file>