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F82C-8190-454E-B205-98350BD25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communications framework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04760" y="615960"/>
            <a:ext cx="4846680" cy="36352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3680" y="4500360"/>
            <a:ext cx="5198760" cy="3973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ong the vast set of requirements, this client wanted the system t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s this system needed to communicate with the already existing command and control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E01-E451-47AB-A4A6-DDA78B27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96C-CF32-472D-B3D5-79E5E462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550-4D5E-45DD-81A7-26609F76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BAB8-192C-4E4A-907C-3A8D0357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5107-D450-43AE-A5F8-57315616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4A51-5E33-434A-8966-1AA0FC04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C8EB-56CF-4300-A226-D71647D8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BCB7-91A6-41D8-A6D0-9A2013DA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6A75-F408-4839-A0B9-0C6BEC65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BA65-DE47-402B-A58E-CD17DA5F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25E0-72D9-4CF4-8DA8-D899B660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CF7-9A36-4C85-90BF-A943FAE9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0E82-13D3-47A0-9587-45831C20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7348-F6DA-42B8-9ED2-0EE78522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F791-BBAF-4209-86E2-33348FB8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572A-A1AA-4808-B37E-7D4069B8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3A12-5950-4E54-9F75-FC4C2522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E91-CD8E-482B-AC42-C9B091A0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8FA-1526-4630-94EE-FCD41685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5E8-207A-4AED-AFF4-D3E87D28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919-76A7-4E7A-A2F5-BD7B3480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72D-5E7C-469E-B145-E5E26B34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152-60DA-431D-8BA4-F7E50429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2C5-316E-464D-B1A7-5E11FB22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C72B-082C-476A-AA61-886E2CB283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278400"/>
            <a:ext cx="1603440" cy="438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11" name="ssi%20logo1" descr=""/>
          <p:cNvPicPr/>
          <p:nvPr/>
        </p:nvPicPr>
        <p:blipFill>
          <a:blip r:embed="rId3"/>
          <a:stretch/>
        </p:blipFill>
        <p:spPr>
          <a:xfrm>
            <a:off x="101520" y="6215040"/>
            <a:ext cx="157500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9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C666-0AF7-42BC-BBDF-EB151104D5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Art Advisory Management Syst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ftware Services Internati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ild a system for the Art Advisory Service (AAS) which wil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ist a large group of high net worth private banking clients in building and maintaining personal art coll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ack and maintain all information pertaining to a global art loan portfol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ack accounts payable and accounts receivab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intain historical activity records for all client, inventory, vendor and loan ev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ck all transactional information, including client information, inventory information, accounts payable/receivable, and loan information, all to be available from a single source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ve the ability to maintain visual images of the art itsel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 a database of information to clients of AA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 the user interface using Visual C+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provided code reuse which reduced the development time on subsequent proje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intenance time was also reduced as many additions to the system could be made without code redunda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database structure was built in Oracle 7, and all existing data was ported to the new data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ient and inventory information, accounts payable/receivable, and loan information are all stored conveniently in one pla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old information is not overwritten so complete purchase histories are now available for re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 (continued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visual image of the art would be made available by using WaterMark software, and the image attributes themselves would be stored using SQL serv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t Advisory Management System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art.mdl on this C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Software Services International (SSI)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ssius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2T21:24:11Z</dcterms:created>
  <dc:creator>Internal Use</dc:creator>
  <dc:description/>
  <dc:language>en-US</dc:language>
  <cp:lastModifiedBy>Terry Quatrani</cp:lastModifiedBy>
  <cp:lastPrinted>1999-03-12T19:03:08Z</cp:lastPrinted>
  <dcterms:modified xsi:type="dcterms:W3CDTF">1999-03-13T02:42:37Z</dcterms:modified>
  <cp:revision>24</cp:revision>
  <dc:subject/>
  <dc:title>No Slide Title</dc:title>
</cp:coreProperties>
</file>