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6858000" cy="9144000"/>
  <p:notesSz cx="66643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847A-ECF6-43E7-BBC8-0D8F2680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4973040"/>
            <a:ext cx="58291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2570-FC1B-4DAB-BBBB-EE12D906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284436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1523520"/>
            <a:ext cx="284436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4973040"/>
            <a:ext cx="284436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4973040"/>
            <a:ext cx="284436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2F45-699A-4C2D-B752-E670EA7D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152352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152352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497304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497304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4973040"/>
            <a:ext cx="187668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E8A5-BD8C-4D2D-9287-D2F0186C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5D2A-152E-4EDB-92BE-FBB58A62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C200-5BDF-426B-A910-DBF2A38C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284436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1523520"/>
            <a:ext cx="284436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7F2F-AE7D-48F6-96DB-43D81304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A1D2-A80B-4D05-8675-9470FD06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-3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2B89-3EC2-4DEF-880B-6D6C58EB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284436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1523520"/>
            <a:ext cx="284436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4973040"/>
            <a:ext cx="284436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5BC7-FAEF-4C8A-BD5F-980DCC5B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284436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1523520"/>
            <a:ext cx="284436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4973040"/>
            <a:ext cx="284436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AEBA-3450-4679-9A6A-965D6FBB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284436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1523520"/>
            <a:ext cx="284436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4973040"/>
            <a:ext cx="5829120" cy="31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16FB-FAD8-42CB-9105-D8DB85CA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0BFB-B1B5-4F39-9FAD-86D928CE5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BM-131 &amp; EE-111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omputer Programming in C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320" y="5181480"/>
            <a:ext cx="4800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cture No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vember 24–28, 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Dr. K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ıvanç Dinç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Computer Enginee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nt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74FD-A9B4-4C93-B2A4-4BBFBA3604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Example 1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761760"/>
            <a:ext cx="5829120" cy="73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/* Reading integers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int a, b, c, d, e, f, 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Enter seven integers: “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scanf(“%d%i%i%i%i%d%u”, &amp;a, &amp;b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&amp;c, &amp;d, &amp;e, &amp;f, &amp;g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Input numbers were: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%d %d %d %d %d %d %d\n”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a, b, c, d, e, f, g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5791320"/>
            <a:ext cx="5257800" cy="23619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0600" y="5848200"/>
            <a:ext cx="49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er seven integers:-70 -70 70 -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0 -70 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put numbers w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22C9-D074-4362-80DB-87FCD46315D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.24-28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14440" y="0"/>
            <a:ext cx="5829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990720"/>
            <a:ext cx="5829480" cy="73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/* Reading floating-point numbers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float a, b,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Enter three floating-point numbers: “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scanf(“%e%f%g”, &amp;a, &amp;b, &amp;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Input numbers were: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%f %f %f\n”, a, b, 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791320"/>
            <a:ext cx="5257800" cy="23619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6920" y="5848200"/>
            <a:ext cx="49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er three floating-point numb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.27987  1.27987e+03  3.38476e-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put numbers w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EB03-6321-45BF-B4EF-C6C6443E4248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.24-28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-457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Example 3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6324480" cy="744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/* Reading characters and strings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char x, y[9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Enter a string: “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scanf(“%c%s”, &amp;x, &amp;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The input was: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the character \”%c\“ “, 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and the string \”%s\”\n”, y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5791320"/>
            <a:ext cx="5257800" cy="23619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4920" y="5848200"/>
            <a:ext cx="31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er a string: Mon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input w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1A69-8D29-4B1F-B136-3CDD1094FBD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.24-28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5943600"/>
            <a:ext cx="5257800" cy="2362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a50021"/>
                </a:solidFill>
                <a:latin typeface="Times New Roman"/>
              </a:rPr>
              <a:t>Field Widths in Scanf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 field width can be used in a scanf conversion specification to read a </a:t>
            </a:r>
            <a:r>
              <a:rPr b="0" i="1" lang="en-AU" sz="2800" spc="-1" strike="noStrike">
                <a:solidFill>
                  <a:srgbClr val="000000"/>
                </a:solidFill>
                <a:latin typeface="Times New Roman"/>
              </a:rPr>
              <a:t>specific number of characters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from the input stre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int x,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Enter a six digit integer:“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scanf(“%2d%d”, &amp;x, &amp;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The integers were: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%d and %d\n”, x, 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4880" y="6019920"/>
            <a:ext cx="47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er a six digit integer: 1234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9200" y="647712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integers wer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1C48-12CE-4747-A8B3-62145134239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.24-28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kipping Certain Characters in Inpu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ften it is necessary to skip certain characters in the input strea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o eliminate unnecessary characters, include them in the format control string of sca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tespace character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such as space, newline, and tab, skip all leading whitesp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Enter date as in 7-19-91: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scanf(“%d-%d-%d”,&amp;month,&amp;day,&amp;yea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Date is: %d/%d/%d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6781680"/>
            <a:ext cx="5257800" cy="1524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7520" y="6838920"/>
            <a:ext cx="36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er date as in 7-19-9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B289-E1D6-4D8D-80C2-47DA82BCE81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.24-28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rithmetic in C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371600"/>
          <a:ext cx="6096240" cy="815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6096240" cy="81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80880" y="1371600"/>
            <a:ext cx="548640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0292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1148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9DA2-5FD4-4E5E-9EFA-47F1FE38817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.24-28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Integer Division &amp; Modulus Operation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Integer division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yields an integer resul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17 / 5 evaluates to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Modulus operator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is an integer operator that can be used </a:t>
            </a:r>
            <a:r>
              <a:rPr b="0" i="1" lang="en-AU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with integer operands. It yields the remainder from the integer divi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17 % 5 yields 2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3CED-1577-442C-9A17-253A1A3EC30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.24-28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Rules of Operator Precedence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xpressions contained within parantheses are evaluated first. (Parantheses are said to be at the “</a:t>
            </a:r>
            <a:r>
              <a:rPr b="0" i="1" lang="en-AU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ghest level of precedenc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If parantheses are nested, the expression in the innermost pair is evaluated fir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If there are several parantheses at the same level, they are evaluated </a:t>
            </a:r>
            <a:r>
              <a:rPr b="0" i="1" lang="en-AU" sz="2000" spc="-1" strike="noStrike" u="sng">
                <a:solidFill>
                  <a:srgbClr val="000000"/>
                </a:solidFill>
                <a:uFillTx/>
                <a:latin typeface="Times New Roman"/>
              </a:rPr>
              <a:t>from left to right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*, /, and % operations are evaluated next. (*, /, and % are said to be at the “</a:t>
            </a:r>
            <a:r>
              <a:rPr b="0" i="1" lang="en-AU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me level of precedenc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If there are several of them in an expression, evaluation proceeds </a:t>
            </a:r>
            <a:r>
              <a:rPr b="0" i="1" lang="en-AU" sz="2000" spc="-1" strike="noStrike" u="sng">
                <a:solidFill>
                  <a:srgbClr val="000000"/>
                </a:solidFill>
                <a:uFillTx/>
                <a:latin typeface="Times New Roman"/>
              </a:rPr>
              <a:t>from left to right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+ and – are evaluated last. (+ and – are said to be at the “</a:t>
            </a:r>
            <a:r>
              <a:rPr b="0" i="1" lang="en-AU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me level of precedenc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”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If there are several of them in an expression, evaluation proceeds </a:t>
            </a:r>
            <a:r>
              <a:rPr b="0" i="1" lang="en-AU" sz="2000" spc="-1" strike="noStrike" u="sng">
                <a:solidFill>
                  <a:srgbClr val="000000"/>
                </a:solidFill>
                <a:uFillTx/>
                <a:latin typeface="Times New Roman"/>
              </a:rPr>
              <a:t>from left to right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6248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8077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67D8-52BD-4B78-B5F1-A3B8A29E1B2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.24-28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Operator Precedence (Cont’d)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When we say evaluation proceeds from left to right, we are referring to the </a:t>
            </a:r>
            <a:r>
              <a:rPr b="0" i="1" lang="en-AU" sz="2800" spc="-1" strike="noStrike" u="sng">
                <a:solidFill>
                  <a:srgbClr val="3333cc"/>
                </a:solidFill>
                <a:uFillTx/>
                <a:latin typeface="Times New Roman"/>
              </a:rPr>
              <a:t>associativity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of the operato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(Some other operators associate from right to lef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a50021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a50021"/>
                </a:solidFill>
                <a:latin typeface="Times New Roman"/>
              </a:rPr>
              <a:t>                        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+b+c+d+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lgebra: m = 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lgebra: a + b + c + d + 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lgebra: z = pr%q+w/x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lgebra: a * (b+c) + c * (d+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752120" y="36576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2438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9AC6-6016-403D-BEE6-EA431012582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.24-28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ther perfor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calculations or input or output of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they mak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cis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structure allows a program to make a deci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truth or falsity of some statement of fact called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conditi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statement in the body of the if structure is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condition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body  statement is NO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condition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body&gt;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Decision Making: Equality and Relational Operator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6858000"/>
            <a:ext cx="1828800" cy="685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23200" y="701028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7543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19360" y="7481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7924680"/>
            <a:ext cx="1828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809880" y="7162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71629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8686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8305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8610480"/>
            <a:ext cx="1526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71440" y="71010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7D94-2DE2-466E-9653-66050C1F0B7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.24-28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Printing Floating-Point Number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ing-point numbers are displayed in one of several forma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loating-point no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onential no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s the computer equivalent of the scientific notation used in m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The value 150.45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represented in scientific notation as 1.504582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represented in exponential format  a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.504582E+0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y the compu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nds for “exponent.”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uses an upperc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e output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uses a lowerc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e display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s printed with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output 6 digits of precision to the right of the decimal point by defa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4E16-AEAF-42F2-AC91-3C20F899970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.24-28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Equality and Relational Operator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582948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s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uctures are formed by us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quality operat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lational operat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09480" y="2209680"/>
          <a:ext cx="4946760" cy="894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4946760" cy="894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562720" y="220968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50292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3657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57150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57150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3657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57150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3657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5715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86200" y="2209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23A3-E901-43CF-A7AB-E02874C8639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.24-28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a50021"/>
                </a:solidFill>
                <a:latin typeface="Times New Roman"/>
              </a:rPr>
              <a:t>Precedence and Associativity of Equality and Relational Operator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Relational operators have the same level of precedence and they associate </a:t>
            </a:r>
            <a:r>
              <a:rPr b="0" i="1" lang="en-AU" sz="2800" spc="-1" strike="noStrike">
                <a:solidFill>
                  <a:srgbClr val="000000"/>
                </a:solidFill>
                <a:latin typeface="Times New Roman"/>
              </a:rPr>
              <a:t>left to right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Equality operators  have a </a:t>
            </a:r>
            <a:r>
              <a:rPr b="0" i="1" lang="en-AU" sz="2800" spc="-1" strike="noStrike">
                <a:solidFill>
                  <a:srgbClr val="000000"/>
                </a:solidFill>
                <a:latin typeface="Times New Roman"/>
              </a:rPr>
              <a:t>lower level of precedence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than relational operators and they associate </a:t>
            </a:r>
            <a:r>
              <a:rPr b="0" i="1" lang="en-AU" sz="2800" spc="-1" strike="noStrike">
                <a:solidFill>
                  <a:srgbClr val="000000"/>
                </a:solidFill>
                <a:latin typeface="Times New Roman"/>
              </a:rPr>
              <a:t>left to right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recedence and associativity of operators discussed so f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19320" y="5799240"/>
          <a:ext cx="4695840" cy="315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799240"/>
                    <a:ext cx="469584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1295280" y="5791320"/>
            <a:ext cx="37339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57913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60958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6172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A8ED-D399-47C0-88DF-15E2D7F6E3F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.24-28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6553080" cy="77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a50021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/* Using if statements, relational operators, and equality operator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main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int num1, num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printf(“Enter two integers: \n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scanf(“%d%d, &amp;num1, &amp;num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if (num1 == num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printf(“%d is equal to %d\n”, num1, num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if (num1 != num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printf(“%d is not equal to %d\n”, num1, num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if (num1 &lt; num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printf(“%d is less than %d\n”, num1, num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if (num1 &gt; num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printf(“%d is greater than %d\n”, num1, num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if (num1 &lt;= num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printf(“%d is less than or equal to %d\n”,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num1, num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if (num1 &gt;= num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printf(“%d is greater than or equal to %d\n”,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num1, num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6356-4C75-48A0-BE2C-205485BFEEAA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.24-28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EE-111 Homework</a:t>
            </a:r>
            <a:br>
              <a:rPr sz="3200"/>
            </a:b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Due Date: Dec. 2</a:t>
            </a:r>
            <a:r>
              <a:rPr b="0" lang="en-US" sz="2400" spc="-1" strike="noStrike" baseline="30000">
                <a:solidFill>
                  <a:srgbClr val="a50021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,1997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ad a date of the form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mm/dd/yyyy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storing the parts of the date in the integer variables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month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day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year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 Skip the slashes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(/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n the input stream. Convert the given month number to the corresponding month name, and print out the date as shown be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11/25/1997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utput: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25 November 1997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ürkçesi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mm/dd/yyyy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formatında girilen bir tarihdeki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(/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karakterlerini atlayarak okuyup, okunan değerleri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month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day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 ve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year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değişkenlerine saklayınız. Okunan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month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değerini ayın adına çevirerek sonucu gösterildiği gibi yazdırınız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irdi: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11/25/1997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Çıktı: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25 November 1997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4DDD-60DB-4503-805F-F8E0D2DD1BD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.24-28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BM-131 Homework</a:t>
            </a:r>
            <a:br>
              <a:rPr sz="3200"/>
            </a:b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Due Date: Dec. 2</a:t>
            </a:r>
            <a:r>
              <a:rPr b="0" lang="en-US" sz="2400" spc="-1" strike="noStrike" baseline="30000">
                <a:solidFill>
                  <a:srgbClr val="a50021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,1997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Times New Roman"/>
              </a:rPr>
              <a:t>Problem 1:</a:t>
            </a: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Input 3 test scores T1, T2, and T3 for a student. The final grade is found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0.30 *T1 + 0.30 * T2 + 0.40 * T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he program should output ‘pass’ if final grade is greater than or equal to 70; ‘fail’ if final grade is less than 50 and ‘probation’ otherwis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Times New Roman"/>
              </a:rPr>
              <a:t>Problem 2:</a:t>
            </a: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alculate the volume of a sphere using the formula: (Use 3.1416 for Π, read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from us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6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6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V = --- Π r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6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Times New Roman"/>
              </a:rPr>
              <a:t>Problem 3: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Read in two integer numbers and store them in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Num1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Num2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. Write a program to interchange the values contained in the memory locations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Num1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Num2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, and print out the resul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3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Outpu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Num1 is 3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Num2 is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Interchange is OK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Num1 is 5 and Num2 is 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89A8-3922-4E58-8EE0-72FCF6FEC02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.24-28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loating-Point Conversion Specifier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33520" y="1905120"/>
          <a:ext cx="5721120" cy="491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05120"/>
                    <a:ext cx="5721120" cy="49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609480" y="1676520"/>
            <a:ext cx="5867640" cy="53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1676520"/>
            <a:ext cx="0" cy="533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243828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342900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41972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556272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3FDE-9F87-4F86-AB96-B5BE99B9CF28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.24-28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G (g) Forma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nts in eithe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mat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 trailing zer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railing zero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the insignificant zero digits following, i.e., after, the decimal poi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are print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after converting the value to the exponential notation, the value’s exponent is &lt; -4, or &gt;= default precision (i.e., 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(Use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000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75000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7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298B-C72D-4CF3-B2E1-FD1FBBC5F6A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.24-28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/* Printing floating-point numbers with floating-point conversion specifiers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main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%e\n”, 1234567.89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%e\n”, +1234567.89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%e\n”, -1234567.89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%E\n”, 1234567.89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%f\n”, 1234567.89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%g\n”, 1234567.89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%G\n”, 1234567.89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AC94-D4A4-4857-9568-E3CE002AD9F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.24-28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Printing Strings and Character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/* Printing strings and characters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char name[] = “John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char initial = ‘J’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%c\n”, initi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%s\n”, “Joh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%s\n”, 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John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AAB5-43D2-4629-9652-C643545289C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.24-28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lag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287360" y="1554120"/>
          <a:ext cx="5697720" cy="589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7360" y="1554120"/>
                    <a:ext cx="569772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914400" y="1295280"/>
            <a:ext cx="525780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20574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1295280"/>
            <a:ext cx="0" cy="624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914040" y="655308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914040" y="403848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27432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A510-FE47-44A5-9A93-A6EFB94D71A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.24-28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582912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float p = 1427.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%10s%10d%10c%10f\n\n”,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“hello”, 7, ‘a’, 1.2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%-10s%-10d%-10c\n”,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“hello”, 7, ‘a’, 1.2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%d\n%d\n”, 786, -78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%+d\n%+d\n”, 786, -78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 %d\n%d\n”, 547, -547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%+09d”, 45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%09d”, 45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\n%g\n”, 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%#g\n”, 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B962-8985-4B23-A34D-44CE736D102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.24-28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a50021"/>
                </a:solidFill>
                <a:latin typeface="Times New Roman"/>
              </a:rPr>
              <a:t>Formatting Input with Scanf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582912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Function scanf has the following input formatting capab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nputting all types of dat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nputting specific characters from an input stre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kipping specific characters in the input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0720" y="3659040"/>
          <a:ext cx="5799240" cy="50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720" y="3659040"/>
                    <a:ext cx="579924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57200" y="3657600"/>
            <a:ext cx="5867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3657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67057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571500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114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6E01-98BE-4F14-BC1E-5060C0A083C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.24-28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4T16:13:58Z</dcterms:created>
  <dc:creator>K. Dincer</dc:creator>
  <dc:description/>
  <dc:language>en-US</dc:language>
  <cp:lastModifiedBy>teaching</cp:lastModifiedBy>
  <cp:lastPrinted>1997-05-26T11:06:36Z</cp:lastPrinted>
  <dcterms:modified xsi:type="dcterms:W3CDTF">2001-07-28T13:04:46Z</dcterms:modified>
  <cp:revision>10</cp:revision>
  <dc:subject/>
  <dc:title>Arithmetic in C</dc:title>
</cp:coreProperties>
</file>