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6858000" cy="9144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28D-3191-4030-AC75-19FB2446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4973040"/>
            <a:ext cx="58291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73D-84DC-47A3-80F3-E8AAB796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497304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497304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582-F9EB-44F6-922F-7DF149EC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152352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152352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497304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497304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497304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D48-2430-41E0-A23C-C67A7EDD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50D-7B01-4F90-8803-8D7E8064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6BB-2E4A-4F63-893D-6A35FB47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284436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1523520"/>
            <a:ext cx="284436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348-6FBE-4A31-8C9B-7869578B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87E-F07C-4B14-8976-49AE5C25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-3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B8F-1557-4F0E-B539-510CEBE7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1523520"/>
            <a:ext cx="284436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497304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163-7901-4688-A342-83AEE2E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284436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497304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E9B-E3FF-453D-AC15-F73911C8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4973040"/>
            <a:ext cx="58291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02C-D136-44C7-89F1-11467B67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8BDB-A1FD-463F-9000-32D0D3C92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BM-131 &amp; EE-111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omputer Programming in C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51814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cture No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cember  1–5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r. K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ıvanç Dinç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Computer Engine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nt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B14-E8F8-4F18-AF5B-B82D638085C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a50021"/>
                </a:solidFill>
                <a:latin typeface="Times New Roman"/>
              </a:rPr>
              <a:t>Homework</a:t>
            </a:r>
            <a:br>
              <a:rPr sz="3200"/>
            </a:br>
            <a:r>
              <a:rPr b="0" lang="en-AU" sz="3200" spc="-1" strike="noStrike">
                <a:solidFill>
                  <a:srgbClr val="a50021"/>
                </a:solidFill>
                <a:latin typeface="Times New Roman"/>
              </a:rPr>
              <a:t>Due: Dec.2</a:t>
            </a:r>
            <a:r>
              <a:rPr b="0" lang="en-AU" sz="3200" spc="-1" strike="noStrike" baseline="30000">
                <a:solidFill>
                  <a:srgbClr val="a50021"/>
                </a:solidFill>
                <a:latin typeface="Times New Roman"/>
              </a:rPr>
              <a:t>nd</a:t>
            </a:r>
            <a:r>
              <a:rPr b="0" lang="en-AU" sz="3200" spc="-1" strike="noStrike">
                <a:solidFill>
                  <a:srgbClr val="a50021"/>
                </a:solidFill>
                <a:latin typeface="Times New Roman"/>
              </a:rPr>
              <a:t>, 1997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829480" cy="73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1)  Assuming that M and N are integer variables with the values -5 and 8, respectively, and that X, Y, and Z are real variables with values -3.56, 0, and 44.7, respectively. Find the values of te following logical   expres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 &lt;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2* abs(M) &lt;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X*X &lt; sqrt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runc(Z) == (6*N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(X &lt;= Y) &amp;&amp; (Y &lt;= 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! (X &lt;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! ((M &lt;= N) &amp;&amp; (X+Z &gt; 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! ((M &lt;= n) || !(X+Z &gt; 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! ((M &gt; N) || (X &lt; Z)) &amp;&amp; ((M &lt;= N)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(X &gt;= 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!((M &gt; N)&amp;&amp;(X &lt; Z) || ((M &lt; N) &amp;&amp; (X &gt;= 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304-6C4E-4F9E-8315-35D32E7683F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Homework (continued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Assuming that A, B, and C are logical variables, use truth tables to display the values of the following logical expressions for all possible values of A, B, and 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|| !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(A &amp;&amp;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A || !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amp;&amp; true || (1+2 ==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amp;&amp; (B ||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&amp;&amp; B) || (A &amp;&amp;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DDC-B1A0-4E87-956F-F6C7E82601F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lection Structure: The Logical If Statemen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68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selection structure makes possible the selection of one of several alternative actions, depending on the value of a logical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simplest selection structur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logical-expression)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f the logical expression is true, the designated statement is executed; otherwise it is bypa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disc &gt;= 0) disc = sqrt(dis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1.5 &lt;= x &amp;&amp; x &lt; 2.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"x  is %f\n", 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70E-08C2-4FFB-B89A-2E53CA6BCD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ample Program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loat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"Enter a real number: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canf("%f", 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y = x * (1.0 / 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"x = %f \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y = x*(1/x) = %f \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1.0-y = %f \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x, y, 1.0-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y == 1) printf("*** YES ***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y != 1) printf("*** NO  ***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ry for inputs: .1, .2, .3, .4, .5, and 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DD7-A2A5-4281-8762-B4D8568013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lection Structure: The Block If Statemen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lock if 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ows the programmer to specify a block of statements to be executed if a logical expression i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ay even be used to specify a block of statements to be executed if the logical expression is true and a different block to be executed if it is fa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at is the difference between a logical if statement and a block if stat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D3D-6F0B-4DD7-A427-20CF002F06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logical-expressio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men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ment-2   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ment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logical expression is true, the entire block of statements betwee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xecuted; otherwise, the block is bypass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execution continues with the next executable statement following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less some statement within the block transfers control to some other point in the program or halts executio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1981080"/>
            <a:ext cx="304560" cy="129564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1F2-8DD4-4099-8471-FD256F774F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logical-expressio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tatemen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tatemen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…      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-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tatement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tatement-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tatement-ii    Else-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tatement-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f the logical expression is true, the  statements in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-Block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re executed, and the statements in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-Block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re bypasse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therwise, the statements in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-Block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re bypassed, and the statements in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-Block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r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 either case, execution continues with the next executable statement following the } terminating the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-Block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(unless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590920"/>
            <a:ext cx="457200" cy="144756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83808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889-721F-4AAE-B9C3-9DFB7D8C1BB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( 0 &lt; x) &amp;&amp; (x &lt;= 10.0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y = sqr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"%f %f \n", x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"The value %f is out of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ange\n", 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nsider f(x) =   –x   if x&l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if 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x &lt;=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val = -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val = x*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41148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F3B-6DC5-437E-82DF-A859E0CE69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Nested If Statement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nsider f(x) =   – x      if  x &lt;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if  0 &lt; x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    if  x&gt;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x &lt;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val = -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x &lt; 1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val = x*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val = 1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160020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1B8-A14F-4DF1-B007-454A1EEBB2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Nested If Statements: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e if-else if- construc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t may be possible to design selection structures that contain more than two alterna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logical-expression-1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Block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 if (logical-expression-2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Block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 if (logical-expression-3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Block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Block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6EE-5C60-4A28-8A68-7B50C5BD654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ontrol Structur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tructured program, the logical flow is governed by three basic control stru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FBA-86A0-4D94-8D07-7738B6FA80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block if statement thus implements an n-way selection structure in which exactly o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ock-1, ..., Block-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and its corresponding block of statements may be omitted in this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9F3-D4D7-46CA-B93C-7CB4864901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terpretation of </a:t>
            </a:r>
            <a:r>
              <a:rPr b="0" lang="en-US" sz="2800" spc="-1" strike="noStrike">
                <a:solidFill>
                  <a:srgbClr val="a50021"/>
                </a:solidFill>
                <a:latin typeface="Courier New"/>
              </a:rPr>
              <a:t>if-else if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Construc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gical expressions are evaluated to determine  the first true logical express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sociated block of statements is execu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xecution then continues with  the next executable statement following the fi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less..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ne of the logical expressions is tru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ck associated with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is executed and the execution continu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3BA-EB6C-4922-AC49-44F23B833E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ame Example with if-else if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nsider f(x) =   –x    if x &lt;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f 0 &lt; x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    if x&gt;=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x &lt;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val = -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 if (x &lt; 1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val = x*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val = 1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160020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8C1-D818-4034-9BDC-467BC402845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Repetition Structure: The Do and Continue Statement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1142640"/>
            <a:ext cx="58291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repetition structure or loop makes it possible the repeated execution of one or more stat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repetition must be controlled so that these statements are executed only a finite number of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re are two basic types of repetition structures, which use different control mechanis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ps controlled by some counter in which the body of the loop is executed once for each value or some control variable in a specified range of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ps controlled by some logical expression in which the decision to continue or to terminate repetition is determined by the truth or falsity of some logical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98B-6354-4B22-B2EE-E39E13F14D5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Writing A Loop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following four basic steps are present in some form in all lo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itialization is done to set up control variables for loop control and initialize any data object that may be needed.  This is done outside and before the loop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loop body is the group of statements that are executed  repetitively, and that perform useful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adjustment step occurs within the loop structures, it consists of updating the control variables to keep track of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ndition checking examines the state of the control variables, and perhaps the data variables also, to determine when the loop is fin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17A-7A17-4D75-B741-C6A1B65109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loop is finished, it is exi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is not finished, a branch is taken back to the first statement in the loop, and the next iteration or pass begins through the loop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E50-FC33-4FB9-B774-BC74539101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a50021"/>
                </a:solidFill>
                <a:latin typeface="Times New Roman"/>
              </a:rPr>
              <a:t>Characterization of Loop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oops in general are characterized by the placement of the condition-checking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ps that perform the checking at the end of the loop structure is said to use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-end condition checking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ps that perform this checking at the beginning of the loop structure is said to use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ont-end condition checking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B3C-F7A8-48B3-A2FC-B6D17DC383A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ront-end Condition Checking: while(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while (logical expressio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loop body is executed repeatedly, as long as </a:t>
            </a: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logical-expression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evaluates to a non-zero integral value (evaluates to tru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means that while the controlling-expression is true the associated satement is executed repeti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or each pass through the loop, the </a:t>
            </a: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logical-expression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is evaluated first and when it yields a false integral result, the loop is ex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DF1-50E5-453C-A7C0-3E301174CCA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Back-end Condition Checking: while(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while (logical-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o statement evaluate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ical-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 after the loop body has been executed. Thus this guarante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least one p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the loo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each pass through the loop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ical-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valuated and when it yields a false integral result, the loop is ex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5FA-EFAE-489D-8989-19B356AC28D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a50021"/>
                </a:solidFill>
                <a:latin typeface="Courier New"/>
              </a:rPr>
              <a:t>for()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oop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for (expr1; expr2; expr3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-loop statement grou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initialization expression(s), (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xpr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) front-end controlling expression(s) (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xpr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loop-variable adjustment expression(s) (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xpr3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ogether inside a single paranthesized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13B-BDFB-45FA-89F5-51C1054EBD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quential Structur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tial structur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refers to the sequential execution of the statements in the order in which they appear in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09880"/>
            <a:ext cx="220968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ment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4800600"/>
            <a:ext cx="220968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ment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7086600"/>
            <a:ext cx="220968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ment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6629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5943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6172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6400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7620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6E8-B840-4BAA-A7C6-BC81FAE0EA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use of for statemenet is the equivalent of the following while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expr1;    /* initialize loop variable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while(expr2){ /*front-end condit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checking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expr3; /* update loop variable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703-D866-4599-B1FC-6A59570D54D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/* Counter-controlled repetition with the for structur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nt cn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for (cntr=1;cntr&lt;=10; cntr++)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d\n”, cn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urier New"/>
              </a:rPr>
              <a:t>for (cntr=1;cntr&lt;=10; cntr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9120" y="70675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560" y="5029200"/>
            <a:ext cx="10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79200" y="716292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valu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9120" y="716292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men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5040" y="5257800"/>
            <a:ext cx="20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ontro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2120" y="6781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14600" y="6781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10080" y="6781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6019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6019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686-494C-4DDE-83BE-5E619B6A25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ercis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 the control variable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crement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 the control variable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crement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ecrement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 the control variable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7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step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 the control variable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tep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 the control variable over the following sequence of value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, 5, 8, 11, 14, 17, 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95D-B1AA-4865-8678-EFAD67E9312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e Switch Multiple-Selection Structur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ple-selection structure handles the decision making when an algorithm contains a series of decisions in which a variable or expression is tested separately for each of the logical constant integral values it may assu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consists of a serie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bels, and an option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E72-E9C3-408B-9BD7-2960B9EF6E8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440" y="-360"/>
            <a:ext cx="5829480" cy="73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in() { /* Counting letter grade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har gr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intf(“Enter the letter grade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canf(“%c”, gra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witch (grad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se ‘A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intf(“Grade %c is 4.0 points\n”, gra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se ‘B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intf(“Grade %c is 3.0 points\n”, gra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se ‘C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intf(“Grade %c is 2.0 points\n”, gra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se ‘D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intf(“Grade %c is 1.0 points\n”, gra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se ‘F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intf(“Grade %c is 1.0 points\n”, gra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intf(“Incorrect letter grade entered !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5CB-9E81-4107-9309-559EFC315FE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lection structures 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stru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possible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xecu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of a number of alternative bloc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tatements. Selections are made at certain decision points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C6F-0347-4FA6-B9D5-CDF100F6A9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Repetition structur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petition stru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possible the construction of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is the controlled execution of a block of stat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block may be executed repeatedly a predetermined number of times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on may be controlled by some logical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B41-69AF-4BDA-B2D4-73A72B3C1D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ogical Expression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ogical expressions are used extensively in selection and repetition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member that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numeric expressions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in which numeric quantities (integer and real) are combined using arithmetic operations (+, -, /, *) and functions (such as sqrt) yielding numeric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re are also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nunnumeric expressions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in which nunnumeric quantities (character and logical) are combined using logical and relational operators to give nonnumeric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1E4-80CB-4DC6-BA46-F0F26B8FBB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ogical expressions may be either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most commo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e logical expression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re relational expressions of the 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xpr-1 relational-operator expr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xpr-1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xpr-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re numeric expressions, and the relational operator may be any of the following: &lt;, &gt;, &lt;=, &gt;=, ==, !=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und logical expression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re formed by combining logical expressions by using the logical operators: !, &amp;&amp;, and ||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0CD-C76C-4733-A27D-81B78EA878D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s are defin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+ 1.1 &gt; 1.0 &amp;&amp; ! x &lt;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1523880"/>
          <a:ext cx="419400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41940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84D-0935-4D02-87D8-8DA493AC6DE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ruth Tabl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40" y="990720"/>
            <a:ext cx="5829120" cy="71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se definitions are summarized by the following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uth tables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which display all possible values for p and q and the corresponding values of the logical ex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00200" y="3429000"/>
          <a:ext cx="3994200" cy="23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399420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447920" y="5402160"/>
          <a:ext cx="4295520" cy="3741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5402160"/>
                    <a:ext cx="42955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212-2EA5-4088-96A7-6695E788AF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1-5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4T16:13:58Z</dcterms:created>
  <dc:creator>K. Dincer</dc:creator>
  <dc:description/>
  <dc:language>en-US</dc:language>
  <cp:lastModifiedBy>K. Dincer</cp:lastModifiedBy>
  <cp:lastPrinted>1997-05-31T21:28:16Z</cp:lastPrinted>
  <dcterms:modified xsi:type="dcterms:W3CDTF">1997-06-04T10:31:10Z</dcterms:modified>
  <cp:revision>15</cp:revision>
  <dc:subject/>
  <dc:title>Arithmetic in C</dc:title>
</cp:coreProperties>
</file>