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6858000" cy="9144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43D-8CD8-434F-ABC5-E1E05BB3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4682520"/>
            <a:ext cx="582912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DC6-6EA2-434A-B863-F2F78076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468252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468252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1CA-9691-4A8B-8E9D-A2C4CC0B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91440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91440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468252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468252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4682520"/>
            <a:ext cx="187668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36C-E445-47B7-8E53-17352E8B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687-FCD6-40BC-AF7F-E93170ED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314-EC1D-491B-952A-8CBC3824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284436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914400"/>
            <a:ext cx="284436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59C-B4AE-49F8-BD05-E919ED86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99D-8E4D-4E59-97E4-9177F893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0"/>
            <a:ext cx="5829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3A5-8ED4-40FB-9743-040FFA74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914400"/>
            <a:ext cx="284436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468252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348-D61A-47AB-9774-92FF853B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284436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468252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B31-ED6A-44DF-A97F-B6546769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914400"/>
            <a:ext cx="284436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4682520"/>
            <a:ext cx="5829120" cy="34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5BF-2C1E-4B16-A03D-510BB064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Click to edit the title text format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F746-E568-41D9-9FF9-84F1F134F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BM-131 &amp; EE-111</a:t>
            </a:r>
            <a:br>
              <a:rPr sz="3200"/>
            </a:b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Computer Programming in C</a:t>
            </a:r>
            <a:br>
              <a:rPr sz="3200"/>
            </a:b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 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518148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cture No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cember  8-12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r. K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ıvanç Dinç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Computer Engine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nt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AFC-8482-467D-927E-B3B2A9EDC9F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66680" y="762120"/>
          <a:ext cx="4562640" cy="725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4562640" cy="72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143000" y="13716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64832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61722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BD0-19ED-411F-8C23-DDCD4231A51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Arrays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17524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22096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26668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31240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5812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40384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44956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49528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4100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58672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67816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63244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4480" y="1752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4480" y="220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4480" y="266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4480" y="3124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4480" y="358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4480" y="4038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4480" y="4495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4480" y="4952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448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4480" y="5867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1840" y="632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1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1840" y="6781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1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97880" y="9144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array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98600" y="7467480"/>
            <a:ext cx="327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number of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733920" y="7086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8386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 u="sng">
                <a:solidFill>
                  <a:srgbClr val="9900cc"/>
                </a:solidFill>
                <a:uFillTx/>
                <a:latin typeface="Times New Roman"/>
              </a:rPr>
              <a:t>arra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group of memory locations related by the fact that they all have the same name and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fer to a particular location or element in the array, we speci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arr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sition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particular element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AD0-2E2C-43D3-9ABA-1037D0A0FF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191120" y="17524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22096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26668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1240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5812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0384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44956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49528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54100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58672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67816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6324480"/>
            <a:ext cx="11430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4480" y="1752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4480" y="220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4480" y="266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4480" y="3124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4480" y="358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4480" y="4038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4480" y="4495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4480" y="4952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448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4480" y="5867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1840" y="632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1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1840" y="6781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1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97880" y="9144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array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98600" y="7467480"/>
            <a:ext cx="327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number of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733920" y="7086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A70-6C7C-4D3C-9C8B-944C5850D861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Example: A 12-element array.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is is an integer array called </a:t>
            </a: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 (i.e., its name is </a:t>
            </a: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A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ray contains 12 </a:t>
            </a:r>
            <a:r>
              <a:rPr b="0" i="1" lang="en-AU" sz="2800" spc="-1" strike="noStrike">
                <a:solidFill>
                  <a:srgbClr val="9900cc"/>
                </a:solidFill>
                <a:latin typeface="Times New Roman"/>
              </a:rPr>
              <a:t>elements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ny one of these elements may be referred to by g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ame of the arr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llowed by the position number of the particular element in square brackets  (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[ ]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first element in every array is the </a:t>
            </a:r>
            <a:r>
              <a:rPr b="0" i="1" lang="en-AU" sz="2800" spc="-1" strike="noStrike">
                <a:solidFill>
                  <a:srgbClr val="9900cc"/>
                </a:solidFill>
                <a:latin typeface="Times New Roman"/>
              </a:rPr>
              <a:t>zeroth element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us, the first element of array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referred to as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[0]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cond element of array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referred to as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[1]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290-4A8F-4756-84D3-284D139397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Array Subscripts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sition number contained within square brackets is more formally called a </a:t>
            </a:r>
            <a:r>
              <a:rPr b="0" i="1" lang="en-US" sz="2800" spc="-1" strike="noStrike">
                <a:solidFill>
                  <a:srgbClr val="9900cc"/>
                </a:solidFill>
                <a:latin typeface="Times New Roman"/>
              </a:rPr>
              <a:t>sub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[5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numbe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ubscri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script must be an integer or an integer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program uses an expression as a subscript, then the expression is evaluated to determine the subscri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 =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the stat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 [a + b] += 2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rray elemen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[11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29E-C934-4EFE-A779-FC0846719B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Back to th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urier New"/>
              </a:rPr>
              <a:t>c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 Array Again!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array’s twelve elements are referred to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[0], c[1], c[2], … , c[11]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et’s look at the values of individual elements of array </a:t>
            </a: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[0]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-45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[1]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6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[2]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the value o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[11]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78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o print the sum of the values contained in the first three elements of array </a:t>
            </a: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we would 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printf(“%d”,c[0]+c[1]+c[2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a50021"/>
                </a:solidFill>
                <a:latin typeface="Times New Roman"/>
              </a:rPr>
              <a:t>Question: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To divide the value of the seventh element of array</a:t>
            </a: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 c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 2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nd assign the result to variable</a:t>
            </a: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 x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what </a:t>
            </a: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ould we wri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857-F730-437C-8646-1B95172BA8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Declaring Arrays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programmer specif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type of each 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the number of elements required by each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or example, the programmer writes the following decla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nt c[1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 response, the computer reserves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1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elements for integer array </a:t>
            </a: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everal arrays may be declared with a single declaration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nt b[100], x[27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har name[9], lastname[9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float x[5], y[10], z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82D-42A7-442A-9EC2-F402D27675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Operator Precedence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523880"/>
          <a:ext cx="6324480" cy="541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632448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80880" y="25146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32004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8098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495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71A-E4D0-4F9F-A04F-655B90EE364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Examples Using Arrays: I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64008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Courier New"/>
              </a:rPr>
              <a:t>/* initializing an array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nt n[10],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or (i=0; i &lt;= 9; i++)</a:t>
            </a:r>
            <a:r>
              <a:rPr b="0" lang="en-AU" sz="1600" spc="-1" strike="noStrike">
                <a:solidFill>
                  <a:srgbClr val="006600"/>
                </a:solidFill>
                <a:latin typeface="Courier New"/>
              </a:rPr>
              <a:t>/*initialize array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n[i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s%13s\n”, “Element”,“Valu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or (i = 0; i &lt;= 9; i++) </a:t>
            </a:r>
            <a:r>
              <a:rPr b="0" lang="en-AU" sz="1600" spc="-1" strike="noStrike">
                <a:solidFill>
                  <a:srgbClr val="006600"/>
                </a:solidFill>
                <a:latin typeface="Courier New"/>
              </a:rPr>
              <a:t>/*print arra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7d%13d\n”, i, n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363-0E6A-404D-B2C5-366477D47A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a50021"/>
                </a:solidFill>
                <a:uFillTx/>
                <a:latin typeface="Times New Roman"/>
              </a:rPr>
              <a:t>Initializing Arrays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rays are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initialized to some value in C.The elements of an array can be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manually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initialized in the array declaration by following the decla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ith an equals 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a comma-separated list (enclosed in braces) of initializ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a50021"/>
                </a:solidFill>
                <a:latin typeface="Times New Roman"/>
              </a:rPr>
              <a:t>Example: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nt n[5]={1,5,10,6,9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f the array size is omitted from a declaration with an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initializer list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the number  of elements in the array will be the number of elements in the initializer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nt n[] = {32, 27, 14};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ould create a three-element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1C7-86A1-44D3-9AF9-44AC07B84D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a50021"/>
                </a:solidFill>
                <a:uFillTx/>
                <a:latin typeface="Times New Roman"/>
              </a:rPr>
              <a:t>A Pretest Loop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447920"/>
            <a:ext cx="175248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200400"/>
            <a:ext cx="1981440" cy="137160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257800"/>
            <a:ext cx="175248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3429000"/>
            <a:ext cx="175248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2438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248520" y="27428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514600" y="274320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23520" y="4537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14600" y="34401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9AD-2368-4B1F-BE4F-BA9B410AA1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What if ...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f there are fewer initializers than elements in the array, then the remaining elements are automatically initialized to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following statement initializes the first element of array </a:t>
            </a:r>
            <a:r>
              <a:rPr b="1" lang="en-AU" sz="2800" spc="-1" strike="noStrike">
                <a:solidFill>
                  <a:srgbClr val="3333cc"/>
                </a:solidFill>
                <a:latin typeface="Courier New"/>
              </a:rPr>
              <a:t>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he value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nd value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o the rest of the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nt n[10] = {1};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f there are more initializers than elements in the array, it is a syntax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nt n[5]={32,27,64,18,95,14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6EF-8531-49F6-B753-5149C42837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Examples Using Arrays: II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Courier New"/>
              </a:rPr>
              <a:t>/* Initializing the elements of array s to the even integers from 2 to 20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nt s[10],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or (j=0; i &lt;= 9;j++)</a:t>
            </a:r>
            <a:r>
              <a:rPr b="0" lang="en-AU" sz="1400" spc="-1" strike="noStrike">
                <a:solidFill>
                  <a:srgbClr val="006600"/>
                </a:solidFill>
                <a:latin typeface="Courier New"/>
              </a:rPr>
              <a:t>/*set the values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[j] = 2 + 2 * 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s%13s\n”, “Element”,“Valu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or (j = 0; j &lt;= 9; j++)</a:t>
            </a:r>
            <a:r>
              <a:rPr b="0" lang="en-AU" sz="1400" spc="-1" strike="noStrike">
                <a:solidFill>
                  <a:srgbClr val="006600"/>
                </a:solidFill>
                <a:latin typeface="Courier New"/>
              </a:rPr>
              <a:t>/*print values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7d%13d\n”, j, s[j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BA1-A51F-4EB7-8499-9E4F6FF306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Using Symbolic Constants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AU" sz="2800" spc="-1" strike="noStrike" u="sng">
                <a:solidFill>
                  <a:srgbClr val="9900cc"/>
                </a:solidFill>
                <a:uFillTx/>
                <a:latin typeface="Times New Roman"/>
              </a:rPr>
              <a:t>symbolic constant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is an identifier that is replaced with replacement text by C preprocessor before the program is comp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f the 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#define PI 3.14159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ccur in a file that is being compiled, the preprocessor first changes all occurences of the identifier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PI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3.14159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except in quoted strings and in com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0E0-D505-4BA2-9D37-5BD6D643050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Conventions Related to Using Symbolic Constants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68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ll identifiers that are to be changed by the preprocessor are written in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capital letters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lthough it is allowed to place a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#defin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line anywhere in a program,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#defin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lines are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normally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placed at the beginning of the f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#defin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line affects only the lines in the file that come after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B93-84B6-4B9C-9A08-4212EC4193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Examples Using Arrays: II-b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6629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Courier New"/>
              </a:rPr>
              <a:t>/* Initializing the elements of array s to the even integers from 2 to 20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define SIZE 10 </a:t>
            </a:r>
            <a:r>
              <a:rPr b="0" lang="en-AU" sz="1800" spc="-1" strike="noStrike">
                <a:solidFill>
                  <a:srgbClr val="006600"/>
                </a:solidFill>
                <a:latin typeface="Courier New"/>
              </a:rPr>
              <a:t>/*Use of symbolic constant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AU" sz="1800" spc="-1" strike="noStrike">
                <a:solidFill>
                  <a:srgbClr val="006600"/>
                </a:solidFill>
                <a:latin typeface="Courier New"/>
              </a:rPr>
              <a:t>/*makes the program more scalable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nt s[SIZE],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or (j=0; i &lt;= SIZE-1;j++)</a:t>
            </a:r>
            <a:r>
              <a:rPr b="0" lang="en-AU" sz="1400" spc="-1" strike="noStrike">
                <a:solidFill>
                  <a:srgbClr val="006600"/>
                </a:solidFill>
                <a:latin typeface="Courier New"/>
              </a:rPr>
              <a:t>/*set the values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[j] = 2 + 2 * 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s%13s\n”, “Element”,“Valu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or (j = 0; j &lt;= SIZE-1; j++)</a:t>
            </a:r>
            <a:r>
              <a:rPr b="0" lang="en-AU" sz="1400" spc="-1" strike="noStrike">
                <a:solidFill>
                  <a:srgbClr val="006600"/>
                </a:solidFill>
                <a:latin typeface="Courier New"/>
              </a:rPr>
              <a:t>/*print values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7d%13d\n”, j, s[j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18A-A71B-4150-B39D-046FC39060A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Examples Using Arrays: III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Courier New"/>
              </a:rPr>
              <a:t>/* Compute the sum of the elements of the array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define SIZE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nt a[SIZE]={1,3,5,4,7,2,89}, k, total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or (k=0; k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SIZE; 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total += a[k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Total of array elements i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%d\n, tot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9D3-AC1A-457E-9C59-317C5E8999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Examples Using Arrays: IV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Courier New"/>
              </a:rPr>
              <a:t>/* Histogram printing progra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define SIZ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nt n[SIZE]={3,0,3,5,7,9,1,8,2,4}; int i, 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s%13s%17s\n”, “Element”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“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Value”, “Histogram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or (i=0; i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= SIZE-1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7d%13d   ”,i, n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or (j=1;j&lt;=n[i];j++)</a:t>
            </a:r>
            <a:r>
              <a:rPr b="0" lang="en-AU" sz="1200" spc="-1" strike="noStrike">
                <a:solidFill>
                  <a:srgbClr val="006600"/>
                </a:solidFill>
                <a:latin typeface="Courier New"/>
              </a:rPr>
              <a:t>/*</a:t>
            </a:r>
            <a:r>
              <a:rPr b="0" lang="en-AU" sz="1400" spc="-1" strike="noStrike">
                <a:solidFill>
                  <a:srgbClr val="006600"/>
                </a:solidFill>
                <a:latin typeface="Courier New"/>
              </a:rPr>
              <a:t>print one bar </a:t>
            </a:r>
            <a:r>
              <a:rPr b="0" lang="en-AU" sz="10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c”, ‘*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(“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210-57AF-4A07-8E71-9067A5A045E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Strings (Character Arrays)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AU" sz="2800" spc="-1" strike="noStrike" u="sng">
                <a:solidFill>
                  <a:srgbClr val="9900cc"/>
                </a:solidFill>
                <a:uFillTx/>
                <a:latin typeface="Times New Roman"/>
              </a:rPr>
              <a:t>string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in C is a one-dimensional array of characters delimited by a  null character (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\0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tring constants are written between double quo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“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abcd”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is a character array (or string) of size five, with the last element being the null character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\0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tring constants are different from character constants.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“a”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‘a’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are not the same.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har color[] = “blue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s equivalen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char color[] = {‘b’,‘l’,‘u’,‘e’,‘\0’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4800600"/>
            <a:ext cx="4572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4800600"/>
            <a:ext cx="4572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4800600"/>
            <a:ext cx="4572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800600"/>
            <a:ext cx="4572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4800600"/>
            <a:ext cx="4572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760-FE13-4E9D-BE05-85139ED2109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String Comparison Functions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trcmp(s1, s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mpares the string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o the string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The function returns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less than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 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or greater than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i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equal to, less than, or greater than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trncpy(s1, s2,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mpares up to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characters of the string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o the string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The function returns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less than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 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or greater than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if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equal to, less than, or greater than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s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746-4D58-4131-A0D2-BDA2DCFEF1F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a50021"/>
                </a:solidFill>
                <a:uFillTx/>
                <a:latin typeface="Times New Roman"/>
              </a:rPr>
              <a:t>Using </a:t>
            </a:r>
            <a:r>
              <a:rPr b="1" lang="en-AU" sz="2800" spc="-1" strike="noStrike" u="sng">
                <a:solidFill>
                  <a:srgbClr val="3333cc"/>
                </a:solidFill>
                <a:uFillTx/>
                <a:latin typeface="Courier New"/>
              </a:rPr>
              <a:t>strcmp</a:t>
            </a:r>
            <a:r>
              <a:rPr b="1" lang="en-AU" sz="3200" spc="-1" strike="noStrike" u="sng">
                <a:solidFill>
                  <a:srgbClr val="a50021"/>
                </a:solidFill>
                <a:uFillTx/>
                <a:latin typeface="Times New Roman"/>
              </a:rPr>
              <a:t> and </a:t>
            </a:r>
            <a:r>
              <a:rPr b="1" lang="en-AU" sz="2800" spc="-1" strike="noStrike" u="sng">
                <a:solidFill>
                  <a:srgbClr val="3333cc"/>
                </a:solidFill>
                <a:uFillTx/>
                <a:latin typeface="Courier New"/>
              </a:rPr>
              <a:t>strncmp</a:t>
            </a:r>
            <a:endParaRPr b="1" lang="en-US" sz="28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6600"/>
                </a:solidFill>
                <a:latin typeface="Courier New"/>
              </a:rPr>
              <a:t>/* Using strcmp and strncmp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char s1[] = “Happy New Year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char s2[] = “Happy New Year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char s3[] = “Happy Holidays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printf(“%s%s\n%s%s\n%s%s\n\n%s%2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\n%s%2d\n%s%2d\n\n”,“s1 = ”, s1,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“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2 = ”, s2, “s3 = ”, s3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“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trcmp(s1, s2)= ”,strcmp(s1,s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“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trcmp(s1, s3)= ”,strcmp(s1,s3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“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trcmp(s3, s1)= ”,strcmp(s3,s1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printf(“%s%2d\n%s%2d\n%s%2d\n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“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trncmp(s1,s2,6)= ”,strncmp(s1,s2,6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“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trncmp(s1,s3,7)= ”,strncmp(s1,s3,7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“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trncmp(s3,s1,7)= ”,strncmp(s3,s1,7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CF5-922F-41A7-A79C-4BC4565ADE8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a50021"/>
                </a:solidFill>
                <a:uFillTx/>
                <a:latin typeface="Times New Roman"/>
              </a:rPr>
              <a:t>A Posttest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1447920"/>
            <a:ext cx="175248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952880"/>
            <a:ext cx="1981440" cy="137160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6934320"/>
            <a:ext cx="175248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3200400"/>
            <a:ext cx="175248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2438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41911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6324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7924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5638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724280" y="2819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146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19160" y="5116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23520" y="62895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37F-B1B2-4610-BE13-95D0DAD7F7F2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ourier New"/>
              </a:rPr>
              <a:t>for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1447920"/>
            <a:ext cx="175248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6324480"/>
            <a:ext cx="1981440" cy="137160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952880"/>
            <a:ext cx="175248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200400"/>
            <a:ext cx="175248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2438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7772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7010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724280" y="281916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5146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000" y="6477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5680" y="77724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16D-93E1-45C7-90B7-C2D3BBBC264D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ourier New"/>
              </a:rPr>
              <a:t>break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ourier New"/>
              </a:rPr>
              <a:t>continue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 Statements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when executed in a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/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, causes immediate exit from that structure. Program execution continues with the first statement after the struc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, when executed in a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/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, skips the remaining statements in the body of that structure, and performs the next iteration of the loo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s, the loop-continuation test is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, the increment expression is executed, then the loop-continuation test is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D39-8988-4FDD-9C31-1DEEE039B5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Using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urier New"/>
              </a:rPr>
              <a:t>break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 in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urier New"/>
              </a:rPr>
              <a:t>for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 Loop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or (x=0; x&lt;=10; x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x == 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d ”, 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\nBroke out of loop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x == %d\n”, 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709-117A-4868-AA51-611DB9338A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Using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urier New"/>
              </a:rPr>
              <a:t>continue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 in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urier New"/>
              </a:rPr>
              <a:t>for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 Loop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for (x=0; x&lt;=10; x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if (x == 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%d ”, 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f(“\nUsed continue to sk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rinting the value 5 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20D-AFBF-4731-96BD-BB8014C267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Assignment Operators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971440"/>
            <a:ext cx="58291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assignment statements are val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a = b = c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a = (b = 2) + (c=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re are other assignment operators other than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 =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xamples include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 +=, -=, *=, /=, %=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Variable op=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variable = variable op (expres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ote that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j *= k+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i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j = j*(k+3)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ather than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j = j*k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1447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 = b 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7760" y="2286000"/>
            <a:ext cx="20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hand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9160" y="228600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505320" y="137124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5812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057400" y="1676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86000" y="1981080"/>
            <a:ext cx="914400" cy="228600"/>
          </a:xfrm>
          <a:custGeom>
            <a:avLst/>
            <a:gdLst>
              <a:gd name="textAreaLeft" fmla="*/ 159840 w 914400"/>
              <a:gd name="textAreaRight" fmla="*/ 663120 w 9144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1676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4320" y="114300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rithmetic ex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4197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661-DC1B-426F-A29A-F761B3BDCF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Increment and Decrement Operators</a:t>
            </a:r>
            <a:endParaRPr b="1" lang="en-US" sz="3200" spc="-1" strike="noStrike" u="sng">
              <a:solidFill>
                <a:srgbClr val="a50021"/>
              </a:solidFill>
              <a:uFillTx/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91440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 u="sng">
                <a:solidFill>
                  <a:srgbClr val="9900cc"/>
                </a:solidFill>
                <a:uFillTx/>
                <a:latin typeface="Times New Roman"/>
              </a:rPr>
              <a:t>Unary increment operator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+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++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or 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++i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can be used rather than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 = i+1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or 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 += 1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 u="sng">
                <a:solidFill>
                  <a:srgbClr val="9900cc"/>
                </a:solidFill>
                <a:uFillTx/>
                <a:latin typeface="Times New Roman"/>
              </a:rPr>
              <a:t>Unary decrement operator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–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––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––i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  can be used rather than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 = i–1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or  </a:t>
            </a:r>
            <a:r>
              <a:rPr b="1" lang="en-AU" sz="2400" spc="-1" strike="noStrike">
                <a:solidFill>
                  <a:srgbClr val="3333cc"/>
                </a:solidFill>
                <a:latin typeface="Courier New"/>
              </a:rPr>
              <a:t>i –= 1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f increment or decrement operators are placed before a variable, they are referred to as the </a:t>
            </a:r>
            <a:r>
              <a:rPr b="0" i="1" lang="en-AU" sz="2800" spc="-1" strike="noStrike" u="sng">
                <a:solidFill>
                  <a:srgbClr val="9900cc"/>
                </a:solidFill>
                <a:uFillTx/>
                <a:latin typeface="Times New Roman"/>
              </a:rPr>
              <a:t>preincrement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AU" sz="2800" spc="-1" strike="noStrike" u="sng">
                <a:solidFill>
                  <a:srgbClr val="9900cc"/>
                </a:solidFill>
                <a:uFillTx/>
                <a:latin typeface="Times New Roman"/>
              </a:rPr>
              <a:t>predecrement operators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f increment or decrement operators are placed after a variable, they are referred to as the </a:t>
            </a:r>
            <a:r>
              <a:rPr b="0" i="1" lang="en-AU" sz="2800" spc="-1" strike="noStrike" u="sng">
                <a:solidFill>
                  <a:srgbClr val="9900cc"/>
                </a:solidFill>
                <a:uFillTx/>
                <a:latin typeface="Times New Roman"/>
              </a:rPr>
              <a:t>postincrement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AU" sz="2800" spc="-1" strike="noStrike" u="sng">
                <a:solidFill>
                  <a:srgbClr val="9900cc"/>
                </a:solidFill>
                <a:uFillTx/>
                <a:latin typeface="Times New Roman"/>
              </a:rPr>
              <a:t>postdecrement operators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785-ABDC-49DE-98F7-A8B849E3C2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8-12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4T16:13:58Z</dcterms:created>
  <dc:creator>K. Dincer</dc:creator>
  <dc:description/>
  <dc:language>en-US</dc:language>
  <cp:lastModifiedBy>K. Dincer</cp:lastModifiedBy>
  <cp:lastPrinted>1997-06-07T21:33:26Z</cp:lastPrinted>
  <dcterms:modified xsi:type="dcterms:W3CDTF">1997-06-07T21:35:44Z</dcterms:modified>
  <cp:revision>34</cp:revision>
  <dc:subject/>
  <dc:title>Arithmetic in C</dc:title>
</cp:coreProperties>
</file>