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A56-6A76-44ED-A591-DD568506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682520"/>
            <a:ext cx="582912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5FF-AC96-466B-B46B-F6F1187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396-9E09-40BA-BB80-9CD6487C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91440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91440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68252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68252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68252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AFE-90A3-4AB6-B1BE-126E810D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B4B-6E9F-481A-804F-3E3FA4FB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BEE-109E-45AF-A93B-87293F74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0E9-06A4-4294-8C15-6FE52259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3B7-7095-4E5F-8158-A692D235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0"/>
            <a:ext cx="5829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788-A05C-484A-86CE-B320E7B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1AC-2E1B-4487-B34D-96F1DC1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614-B4C2-4C7D-AA00-FB409E7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682520"/>
            <a:ext cx="582912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73B-C8F0-4CDF-ABAE-F67FDAB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Click to edit the title text format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7755-F48E-497A-BAC4-B35B741A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BM-131 &amp; EE-111</a:t>
            </a:r>
            <a:br>
              <a:rPr sz="3200"/>
            </a:b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Computer Programming in C</a:t>
            </a:r>
            <a:br>
              <a:rPr sz="3200"/>
            </a:b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51814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cture N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ember  15-19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r. K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ıvanç Dinç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Computer Engine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t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708-DFB5-4FCC-B380-B164B2FBAC3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String Manipulation Function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trcpy(s1, s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pies the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to the array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retur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trncpy(s1, s2,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pies at most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characters of the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to the array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retur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trcat(s1, s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ppends the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o the array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first character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overwrites the terminat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NU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character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retur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trncat(s1, s2,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ppends at most n characters of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rray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first character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verwrites the terminat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NU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character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retur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5BA-B650-4164-B9FD-D6322AC2F3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4T16:13:58Z</dcterms:created>
  <dc:creator>K. Dincer</dc:creator>
  <dc:description/>
  <dc:language>en-US</dc:language>
  <cp:lastModifiedBy>K. Dincer</cp:lastModifiedBy>
  <cp:lastPrinted>1997-05-31T21:28:16Z</cp:lastPrinted>
  <dcterms:modified xsi:type="dcterms:W3CDTF">1997-06-07T20:51:00Z</dcterms:modified>
  <cp:revision>32</cp:revision>
  <dc:subject/>
  <dc:title>Arithmetic in C</dc:title>
</cp:coreProperties>
</file>