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5C2-D519-454B-94E0-68E9B4A2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136-ECAC-4659-9314-A6A5D437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5274-C1C6-41B5-87FA-A8122E6B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DC1-A402-4BDF-9E80-5E44CB56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79F4-D614-408C-B3C4-6B06B4E1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45B-B343-48F6-B8B1-025FD10D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C26C-6AFC-4E8C-8392-4C244614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126-2580-4E4C-AA39-7A0EBA97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808-9099-45EE-9AAF-A5512497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D99-516C-47A6-98C7-30C0FC62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F29-8DBD-4EEC-826A-830B3932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27A-7794-4082-87EE-04F6F9B4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4C63-6FA3-4831-8D1F-97CB8CB04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Objects and Const Member Fun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7.2 D&amp;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bjects need to be modifiable and some do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 Time noon(12, 0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mpilers totally disallow any member function calls f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. (Even the “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functions are prohibited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er functions that can operate on const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getValue() 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return privateDataMember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14080" y="199548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is not modifiable &amp; any attempt to modify it is an erro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057400"/>
            <a:ext cx="7086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724280"/>
            <a:ext cx="33526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both in decl &amp; de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A9A-7F8E-4E3F-A4BD-57CDF29115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class members exist even when no objects of that class exi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ess a public static class member when no objects of the class exist, it must be called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Employee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::cou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ess a private static class member when no objects of the class exist, a public static member function must be provided and the function must be called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getCou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45600" y="30492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7.7/3 D&amp;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28160" y="53352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de Latin"/>
              </a:rPr>
              <a:t>SEE Fig. 17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AF0-691F-4AC6-A8BE-D5ECB68EAF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can not be modified by assignment so it must be initial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mber initializ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constructor with the initial values for the object. (SEE Fig. 17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you need multiple member initializ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ftware Engineering Observation 17.1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laring an object as constant helps enforce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inciple of least privileg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Accidental attempts to modify the object are cought at compile time rather than causing execution time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80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Programming Practive 17.1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lare as const all member functions that are intended to be used with const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45600" y="30492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7.2/2 D&amp;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436-55B8-4CA0-9014-C764F5F2F2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mposition: Classes as Members of Other Clas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.3 D&amp;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Employe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(char *, char *, int, int, int, int, int, 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) con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lastName[25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firstName[25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irth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hire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193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ftware Engineering Observation 17.4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form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composition in which a class has objects of other classes as me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43800" y="250524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de Latin"/>
              </a:rPr>
              <a:t>SEE Fig. 17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AA0-EA55-46FC-AE5D-2D1B744235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riend Functions and Friend Clas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.4 D&amp;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iend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efined outside that class’s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t, it has the right to access private members of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or an entire class may be declared to b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oth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hip is granted, not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for class B to be a friend of class A, class A must declare that class B is its fri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hip is neither symmetric nor tra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if a class A is a friend of class B, and class B is a friend of class C, you cannot infer that class B is a friend of class A or class C is a friend of class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26280" y="251460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de Latin"/>
              </a:rPr>
              <a:t>SEE Fig. 1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84F-92A3-4419-8286-495168111E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sing the This Poin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.5 D&amp;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bject maintains a pointer to itself - calle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i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n implicit argument in all references to members within tha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mplicity used to reference both the data members and member functions of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038480"/>
            <a:ext cx="7162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may determine its own address by using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66360" y="548640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de Latin"/>
              </a:rPr>
              <a:t>SEE Fig. 17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F5A-DF6F-4246-940E-413DF29C2C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ncatenating Function Cal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.5/2 D&amp;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ing a reference 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to enable member function calls of 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concaten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5240" y="129528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de Latin"/>
              </a:rPr>
              <a:t>SEE Fig. 17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124080"/>
            <a:ext cx="6172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Set the hour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::setHour(int 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ur = (h &gt;= 0 &amp;&amp; h &lt; 24) ? h :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// enables ch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6280" y="5257800"/>
            <a:ext cx="6581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 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.setHour(18).setMinute(30).setSecond(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F79-095D-4A59-B510-F4B6CF19DF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ynamic Memory Allo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.6 D&amp;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an object of the proper siz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s the constructor for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turns a pointer of the correct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nable to find space, it returns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s the space previously allocated for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267080"/>
            <a:ext cx="85345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Name *t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Ptr=malloc sizeof(TypeName); = tPtr = new Type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*fptr = new float(3.14159); // with an initi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*chestBoard = new int[8][8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[] chestBoar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572000"/>
            <a:ext cx="4038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4572000"/>
            <a:ext cx="2819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3BB-41B4-47B3-B0FC-C74EDE4076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c Class Memb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.7 D&amp;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, each object of a class has its own copy of all the data members of the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ic data member is used when only one copy of a particular data member should be shared by all members of a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ic data member represents “class-wide”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data members have class scope and must be initialized at file 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data members can be public or private, or pro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D21-64D6-4244-83DA-D2631BDA26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tatic class members can be accessed through any object of that cl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ssuming ssn is a public static data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ssn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static class members must be accessed through public member functions of that cl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Assuming getSSN is a public static member fc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getSS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45600" y="30492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7.7/2 D&amp;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28160" y="53352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de Latin"/>
              </a:rPr>
              <a:t>SEE Fig. 17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C3F-1C39-42DB-898D-F362E0DD99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4:29:10Z</dcterms:created>
  <dc:creator>K. Dincer</dc:creator>
  <dc:description/>
  <dc:language>en-US</dc:language>
  <cp:lastModifiedBy>K. Dincer</cp:lastModifiedBy>
  <cp:lastPrinted>1998-10-21T16:46:13Z</cp:lastPrinted>
  <dcterms:modified xsi:type="dcterms:W3CDTF">1998-10-21T16:49:39Z</dcterms:modified>
  <cp:revision>9</cp:revision>
  <dc:subject/>
  <dc:title>Constant Objects and Const Member Functions (17.2 D&amp;D)</dc:title>
</cp:coreProperties>
</file>