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A4A-A298-4F29-A432-18ECB210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DC7-DE39-45B0-A6AC-70B83C8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046-96D1-4197-86B2-34C3BA54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4F4-BF0F-460E-A74F-4EA30BA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CD0-5B13-4B98-A1E2-9D6C0AA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568-044F-4C44-BA69-BCB9345E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879-F0F1-4011-95FD-F1C7D61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D8F-579C-4E52-B690-2D1AB5D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075-0D6F-402B-939E-0038F96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8EF-06FE-41E7-9E11-F000171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841-257B-429E-896B-D202768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AF0-25DA-4F12-A2C7-626C054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3806-E8E7-49FC-856B-0DC400D0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000" y="304920"/>
            <a:ext cx="78616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int MaxListSize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Seq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ist storage array and number of current lis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 listitem[MaxListSiz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ize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List(vo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ist access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Size(void) con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mpty(void) con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ind (DataType&amp; item) con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 GetData(int pos) con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ist modification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Insert(const DataType&amp; 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Delete(const DataType&amp; 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 DeleteFront(vo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ClearList(vo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DD7-2D01-406F-B546-7FC1B58BC5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99072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. set size t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List (void): size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eturn number of elements in l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Size(void) 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iz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ests for an empty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mpty(void) 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ize =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lears list by setting size t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earLis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A38-E143-45D8-BA38-09E8FB2C4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9240" y="304920"/>
            <a:ext cx="7495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ake item as key and search the list. return True if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s in the list and False otherwise. if foun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sign the list element to the reference parameter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d(DataType&amp; item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mpt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// return False when list 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i &lt; size &amp;&amp; !(item == listitem[i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&lt; 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listitem[i]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assign list element to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// return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//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6F9-4F25-47E3-8FDF-39C995283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96960" y="1295280"/>
            <a:ext cx="76179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sert item at the rear of the list. terminate th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f the list size would exceed MaxListS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ert(const DataType&amp; i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ll an insertion exceed maximum list size allow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ize+1 &gt; MaxList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rr &lt;&lt; "Maximum list size exceeded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dex of rear is current value of size. insert at r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item[size]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++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// increment li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F8E-E03B-4C5A-A686-570667A80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17600"/>
            <a:ext cx="7495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arch for item in the list and delete it if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(const DataType&amp; i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arch for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i &lt; size &amp;&amp; !(item == listitem[i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&lt; 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// successful if i &lt;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hift the tail of the list to the left one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i &lt; size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item[i] = listitem[i+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--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// decremen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E2C-511D-4AFB-942A-2928BC93F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1560" y="0"/>
            <a:ext cx="88369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lete element at front of list and return its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erminate the program with an error message if the list is emp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Fron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 front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ize == 0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// list is empty if size 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rr &lt;&lt; "Attempt to delete the front of an empty list!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ontItem = listitem[0]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get value from position 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(frontItem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// delete the first item and shif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rontItem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// return the orig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eturn value at position pos in list. if pos is not 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ist position, teminate program with an error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List: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Data(int pos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pos &lt; 0 || pos &gt;= 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// terminate program if pos out of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rr &lt;&lt; "pos is out of range!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item[pos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22A-7BED-49E8-BCEC-6724CA1FE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5T14:42:56Z</dcterms:created>
  <dc:creator>K. Dincer</dc:creator>
  <dc:description/>
  <dc:language>en-US</dc:language>
  <cp:lastModifiedBy>K. Dincer</cp:lastModifiedBy>
  <cp:lastPrinted>1998-11-15T15:11:08Z</cp:lastPrinted>
  <dcterms:modified xsi:type="dcterms:W3CDTF">1998-11-15T15:17:04Z</dcterms:modified>
  <cp:revision>2</cp:revision>
  <dc:subject/>
  <dc:title>No Slide Title</dc:title>
</cp:coreProperties>
</file>