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C837-8C51-447F-8B6E-D5AF446AA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5481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56DF-4677-4181-8569-FAC630C9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AA9-7A6B-44CC-BA41-03565519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21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5481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6DE2-7DFD-4F48-A6F0-220484AE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FBE5-C8CF-4241-A73C-DF872C92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E93-0BA8-450B-985E-07C2D765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C844-1CE4-4FC3-821D-80896C2C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B898-9B0B-4FD7-BE63-8089E0ED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1D11-AD8F-4591-B6C1-B02A3CF7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FC37-7005-407D-B951-093F830C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5481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FE3A-AE0E-4CAF-AC2D-78A0302F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21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5481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809-C68E-4506-A8A2-EC2680E4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oudy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oudy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oudy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9BE8-6E1E-43EB-99A6-DFBF8B764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perator Overloading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redefines standard operator symbols such as +, !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=, [], and = 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o implement operations for the abstract ty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pe.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allows us to use standard language operators with their precedence and associativity properties as class methods.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Question: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 Why do we call this concept as “operator overloading” instead of “user-defined operators”? 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d&amp;Topp: Chapter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FC3-5BA7-4E99-8C5A-DB05BA7CF2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(Overloading arithmetic operators)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oudy Old Style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oudy Old Style"/>
              </a:rPr>
              <a:t>Standard Class Method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oudy Old Style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oudy Old Style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oudy Old Style"/>
              </a:rPr>
              <a:t>Overloaded Operators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 = P.AddMat(Q);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 = R.MultMat(Q.AddMat(P))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(Overloading relational operators)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(6, 6, 44)  &lt; Date(12, 25, 80)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(4, 1, 99) == Date(“4/1/99”)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(7, 1, 94)  &lt; Date(“8/1/94”)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Example: 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(Overloading stream operators)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 today = new Date(11,16, 98);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.out &lt;&lt; “The date is:”;  today.PrintDate();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.out &lt;&lt; “The date is:” &lt;&lt; today;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1600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2057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d&amp;Topp: Chapter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481-8F2C-4856-84F1-45F9F79184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lass  Members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When the left operand is an object, the operator can be executed as a method that is  defined for that object.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Example:Given vect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=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Vector Addition: 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+v = (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Vector Negation: 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 = (-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-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Vector Multiplica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*v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d&amp;Topp: Chapter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312B-EC48-4CE6-AAA5-83F422AF79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18360" y="914400"/>
            <a:ext cx="8958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Vec2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x1, x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2d(double h=0.0, double v=0.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member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2d operator- (void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2d operator+ (const Vec2d&amp; 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2d operator* (const Vec2d&amp; V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friend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 Vec2d operator* (const double, const Vec2d&amp; 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 ostream&amp; operator&lt;&lt; (ostream&amp; ostr,const Vec2d&amp; V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d&amp;Topp: Chapter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6F5-D4D7-4894-825B-300DC1AEB0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onditions that must be met: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Operators must obey the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oudy Old Style"/>
              </a:rPr>
              <a:t>precedence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oudy Old Style"/>
              </a:rPr>
              <a:t>associativity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,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oudy Old Style"/>
              </a:rPr>
              <a:t>the number of operators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dictated by the built-in definition of the operator.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29844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All operators in C++ can be overloaded, with the exception of  the following three: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  ::   ?: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2984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Overloaded arguments cannot have default arguments.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29844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When an operator is overloaded as a member function, the object associated with the operator is always the left-most operand.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2984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As member functions, the unary operators take no arguments, and binary operators take one argument.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d&amp;Topp: Chapter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03C-C4E8-4CFB-B1A6-74B1EADBD2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700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oudy Old Style"/>
              </a:rPr>
              <a:t>In some situations, using overloading with a member function is impossible or too inconvenient: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lvl="1" marL="676080" indent="-259920" algn="just"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Goudy Old Style"/>
              </a:rPr>
              <a:t>We need to use friend functions that are defined outside of the class but have access to the private data members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121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121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Goudy Old Style"/>
              </a:rPr>
              <a:t>Example:</a:t>
            </a:r>
            <a:r>
              <a:rPr b="0" lang="en-AU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Goudy Old Style"/>
              </a:rPr>
              <a:t>scalar multiplication</a:t>
            </a:r>
            <a:r>
              <a:rPr b="0" lang="en-AU" sz="2800" spc="-1" strike="noStrike">
                <a:solidFill>
                  <a:srgbClr val="000000"/>
                </a:solidFill>
                <a:latin typeface="Goudy Old Style"/>
              </a:rPr>
              <a:t> c*U = (c u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Goudy Old Style"/>
              </a:rPr>
              <a:t>1</a:t>
            </a:r>
            <a:r>
              <a:rPr b="0" lang="en-AU" sz="2800" spc="-1" strike="noStrike">
                <a:solidFill>
                  <a:srgbClr val="000000"/>
                </a:solidFill>
                <a:latin typeface="Goudy Old Style"/>
              </a:rPr>
              <a:t>, c u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Goudy Old Style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Goudy Old Sty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121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121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perator overloading using a member function does not permit the placing of the scalar value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the left-hand operand. The vector must be the left-hand operand.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d&amp;Topp: Chapter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0C02-2502-4B9F-AED5-47F314D7A7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List of Rules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A friend declaration is made by placing the function declaration inside the class preceded by the keyword </a:t>
            </a: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friend</a:t>
            </a: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. The actual definition of a friend function made outside the class block.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2674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The keyword friend is used only within the function declaration in the class not with the function definition.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2674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A friend function has access to private members of the class.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26748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oudy Old Style"/>
              </a:rPr>
              <a:t>A friend function gains access to members of the class only by being passed objects as parameters and using the dot notation to reference a member.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26748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In order to overload a unary operator as a friend, pass the operand as a parameter. When overloading a binary operator as a friend, pass both operands as parameters.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rd&amp;Topp: Chapter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2136-42F5-4B00-BC33-D1DA7DD797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3T14:02:09Z</dcterms:created>
  <dc:creator>K. Dincer</dc:creator>
  <dc:description/>
  <dc:language>en-US</dc:language>
  <cp:lastModifiedBy>K. Dincer</cp:lastModifiedBy>
  <dcterms:modified xsi:type="dcterms:W3CDTF">1998-11-13T15:16:45Z</dcterms:modified>
  <cp:revision>4</cp:revision>
  <dc:subject/>
  <dc:title>Operator Overloading</dc:title>
</cp:coreProperties>
</file>