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E46-CE16-407A-9593-40750B18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303-4AB3-4CFF-A235-961056E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5F7-AC38-4B76-9081-93603F07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7E3-6A67-4E5E-B68C-49FFE3A9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9DC6-E814-43D2-B754-4FDC4B7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EBEE-9F7D-4178-9008-566DC3A0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F72-61A0-4448-A68D-B3BAE2D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F7F7-0E9B-4E3B-AB9F-F04DE71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3F1-DD53-4313-A2B2-77FBF59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52F-C957-49F7-A137-6D9A9E0D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8336-A6EA-49C1-8191-D6467C6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9E4-5069-4489-AFCD-2C27947E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5FE-E91B-466F-9C06-8FBD88A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10E-FA5B-4EFA-95D5-761DD78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032-E0DC-4B80-A3C3-C9FAD7A9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30F0-30F4-4A26-83F2-E3B81CF3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720-069E-483C-BDD7-12447217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489-365D-4741-AE61-E13132B9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C17-5A1C-4276-9BFD-31DCD4F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493-CFD9-4765-9A9D-A9D1D77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4BA-88ED-4645-BB70-99CD9F11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200-1335-46D4-8372-9B16B5FB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9E6-B3B7-4555-BA1A-6E9197D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241-F4D1-4E54-9372-784723E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63DB-280C-4780-B352-CAE33602074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E58-585A-4855-B043-C04F76437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42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43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660033"/>
                  </a:gs>
                  <a:gs pos="100000">
                    <a:srgbClr val="99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66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66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51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B14-55C2-4A13-B834-827EE65B94E9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F02-3ABC-405F-8049-CB516C0B2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UH 101 – Introduction to Computer Engineering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Kıvanç Dinç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ring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EC5-1504-4813-8DCA-2B0AA1FB17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4E0ADC8-3404-4BA2-A8D5-4195F9F8F0B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 The World Wide Web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orld Wide Web (WWW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graphical service that provides a network of interactive documents and the software to access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 uses hyperlinks to locate and retrieve pages from WWW servers. 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yperli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connection or a hypertext link from a WWW page to another file on the WW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262-F6EE-43BA-BAB0-F6534E8DAD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3191A-4CAC-4349-ACAC-327B8F76CF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.1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WW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Pag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a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HTML-coded basic document of the WWW that combines text, graphics, sound, and software programs as a dynamic docu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TML (HyperText Markup Languag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ains special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ta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embedded commands that supply information about a page’s structure, appearance and cont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ome Pa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top-level, default page in a WWW site and usually contains an introduction to the Web site along with hyperlinks to other p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E62-808C-47C1-89F2-2EBDE938C0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FD44D-DFF8-4A4F-A564-8C44D696D0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.2 Web Browsers and Serve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ther Internet services, the WWW is also based on clients and serv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Web cli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brows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program that navigates the WWW, retrieves pages from servers on the Internet and displays pag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Web serv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es Web documents and sends them to a browser when requested. Web browsers and servers use communication rules called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HyperText Transfer Protocol (HTTP)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7DD-9CD1-4571-ABA4-73413AA9C3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34977-3008-41CD-A7B1-8E94D1AA14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.4 Hyperlink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yperli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connection from a World Wide Web page to another file on the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stination of the hyperlink is mostly another WWW page, but it can also be a multimedia file or a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yperlink is embedded directly in text or images of a page. Browsers usually underline text hyperlinks and display them in a specific color. Hyperlinked images change appearance when the pointer is over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F0C-D9F1-4C8D-BEB3-F5EA0A29E9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376B2-2BC5-40ED-AF50-15F9F02D44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.4 Uniform Resource Locators (URLs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Uniform Resource Locator (URL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ives the address of a file on the Web and also identifies the Internet service, such as FTP or the World Wide Web, that will handle the f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URL can be absolute or relati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bsolute 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s the full Internet address of a page or file, including the protocol, network location, and optional path and file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Relative 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s a URL with one or more of its parts missing. The browser uses current page’s parts to complete the UR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274-6EDA-44F8-98F0-3330066320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568A8-E7DF-48B0-AC88-1B24287B152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4.4.1 Parts of a URL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htt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www.baskent.edu.t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e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kd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Protocol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ells the browser the Internet service that will handle the file. Examples includ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il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Network Loc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unique name that identifies an Internet server (e.g., www.baskent.edu.t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Pa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dentifies the folders containing the file (e.g,ce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File n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he file containing the page (e.g., kd.ht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Bookm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s a named set of zero or more characters on a page that can be target of a hyperlink.  (e.g.,stud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6C2-CEC6-4D4C-9A8F-68257DD216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180B6-294F-43D0-8165-40D9066A35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TML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(HyperText Markup Languag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not a programming languag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kind of document formatt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 way of embedding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thway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yperlin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tlin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between documents in the documents themselves, such that reading a document is in fact a process of following any of several paths through a number of documents, however the user cho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25C-EA5F-41B6-9D5D-2B8175656A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062A8-596E-4595-879B-E179A2280C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arkup and Markup Languag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markup langua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set of instructions, collectively called markup, which directs the formatting of a document being typeset or display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context of the WWW, the Web browser is the typeset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s markup in an HTML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s it into a nicely formatted human-readable document, with embedded hyperlinks to other documents as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06C-1149-4736-A8A6-09F031A745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C72C1-9C32-4E35-AE08-C6D60B783D8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Basic  HTML  Markup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ical HTML document is split into two par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 - contains special info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tle, auth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bout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dy - “real” text of the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A single HTML ele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ff66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TITLE&gt; My First HTML Document &lt;/TITL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ff66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ff66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is is my &lt;STRONG&gt;first&lt;/STRONG&gt; HTML documen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ff66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BDD-1A02-4286-BA6A-F1285C5E29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6DC9D-D1EF-4E87-9E8E-26DA03CDC57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ortance of Descriptive Tit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browsers show document’s title in a special location, usually at the very top of the browser’s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visitors add your page to their hotlist (set of  favorite links), the more descriptive your title is, the better the chances the reader will remember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eb robo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eep logs of URLs they visit, and the titles of the documents at those URLs. These logs are then indexed and made available as Web inde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35E-EE76-42F1-8F4B-8818ED3705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1EB0-FB2D-429F-98AF-ACE99C1E75C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 The Interne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computer network that connects millions of computers globally and provides world-wide communications to businesses, homes, schools, and governmen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61-3844-4EC8-955C-71331AFFA7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DF259-843B-4D11-ACD0-FBABA8C2B0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nt  Sele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Web browsers will try to display your document in a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portional fo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ixed-width font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ine containing eighty text characters will always be the same physical length, regardless of what characters are in the l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oportional font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than eighty characters may be squeezed into the same physical length on one line, but fewer on an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97B-5C68-4D16-A9B0-DF1F2E1A51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D5DF2-B214-4756-8CB7-F5CC1F843DF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Whitespac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collapses all whitespace into a single sp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hitesp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characters that don’t actually     print a letter or symbol on your screen but cause some change in the position of where the next printable character will appear. Examples are space bar, tabs, newl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1DC-7FB9-4A79-8FC7-95782AF70F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9995-F0A9-49C5-9B98-2453402E35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aragraphs &lt;P&gt;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&gt; is used to identify the start of a new paragrap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P&gt; tag is one of a group of singular tags called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empty elemen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simply means that stand alone and do not embrace text between a start and an end ta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26708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ine  Breaks (</a:t>
            </a: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&lt;BR&gt;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5334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way to start a new line without adding an extra vertical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947-F28B-46A2-AF6D-19F5545197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7089E-83A1-4620-AF11-B71942D22D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ogical and Physical Styl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logical style, it is possible to make certain words or phrases stand out from the rest of the documen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gical sty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form the browser that “ this is something that should stand out”, the browser decides how best to make the text stan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hysical sty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ow you to specify exactly how you want something to appe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5B4-EFD4-4DCE-9D68-B4C1BCE95E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3C7A-4DF2-4E56-B542-2CB04D06A6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ogical Styl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CITE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citation, usually displayed in ital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DFN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fining instance of a term, usually displayed as bold or bold ital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EM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, usually displayed in ital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STRONG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 strongly, usually displayed as bo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CODE&gt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 of programming code, usually displayed as fixed-width fo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KBD&gt;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to highlight key strokes as user may type, such as found in a computer man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SAMP&gt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equence of literal charact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VAR&gt;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variable name, such as found in an example of programm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463-D414-4A6A-AB01-B837F57C47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4A050-E4AD-4510-957F-65F359F2B7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hysical  Styl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B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lay as bo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I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lay as ital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U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der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TT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xed-width fo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2767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ection  Headings </a:t>
            </a:r>
            <a:r>
              <a:rPr b="0" lang="en-US" sz="3600" spc="-1" strike="noStrike">
                <a:solidFill>
                  <a:srgbClr val="ffff66"/>
                </a:solidFill>
                <a:latin typeface="Courier New"/>
              </a:rPr>
              <a:t>&lt;Hn&gt;…&lt;/Hn&gt;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Section head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short description of the information to fol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six levels of headings, with level one being the largest and most emphatic, and level six being the smallest and least emphati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DB4-C875-4E92-80BB-282EC148AC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B7E73-B86A-4D18-B737-107EB0850D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Blockquotes</a:t>
            </a:r>
            <a:br>
              <a:rPr sz="3600"/>
            </a:b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&lt;BLOCKQUOTE&gt; … &lt;/BLOCKQUOTE&gt;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ckquotes are used to take a large section of text, such as a paragraph or two, and separate it from the rest of the surrounding paragrap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9718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orizontal  Rule (</a:t>
            </a:r>
            <a:r>
              <a:rPr b="0" lang="en-US" sz="3600" spc="-1" strike="noStrike">
                <a:solidFill>
                  <a:srgbClr val="ffff66"/>
                </a:solidFill>
                <a:latin typeface="Courier New"/>
              </a:rPr>
              <a:t>&lt;HR&gt;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used to split the document into even more s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orizontal ru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imply a straight line that stretches from one end of the page to the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1DE-6F28-40A3-B1C3-5632BE802BF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F1AC2-5919-4CAA-BB38-5831B38B18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ddress Formatting </a:t>
            </a:r>
            <a:br>
              <a:rPr sz="3600"/>
            </a:b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(&lt;ADDRESS&gt; … &lt;/ADDRESS&gt;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lement is used to mark some text as an addres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ddress may be displayed in italics, right-justified, or inden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DDRES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Kivanc  Di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&gt; Department of Computer Engine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&gt; Baskent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DDRES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8D1-7A2D-493B-9098-D2DDFC005F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ED1D4-D62D-4AF3-8527-E90AF87E44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Ordered Lis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O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LI&gt; This is the first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LI&gt; This is the second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O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s  may be emdedded in other 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22A-46D1-4A56-91E2-84A1B70350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1BCFA-76C5-44A6-9776-9EFDDC3721F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Unordered Lis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ordered Lists are identical to ordered lists, with the exception of the prefix character appearing ahead of each item in the l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U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LI&gt; This is the first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LI&gt; This is the second i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1A4-069F-4A01-9BA5-0C42A6E2B3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2E7A0-46DE-4EA2-A3FA-721CED48BE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1 History of the Interne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1960s and 1970s many computer networking technologies were cre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cal Area Networ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via cabl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ide Area Networ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via transmission lin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s of the Internet can be traced back to 1969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D-funded ARPA conducted research on networ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earch problem was that LANs and WANs were incompatible with each other. The goal was to design a network that allowed different types of computers on different types of networks to communicate with each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2D-7774-4D1F-9F0B-F98B2535A3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477B7-2533-43BB-B177-56D77071A19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lossary (Definition List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Glossa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set of terms with corresponding defin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D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DT&gt; Piz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DD&gt; A  common food found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DT&gt; Co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DD&gt; A drink which usually accompani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D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5A9-8D2F-46DA-AC41-56E48D1126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B8A93-B024-491D-9196-CBE250977A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reformatted  Tex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ormatted  text, as its name implies, text which has already been formatted by other means outside the bounds of  HT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ormatted  text is displayed using fixed-width fonts, and treats spaces and new lines just as you would expect: as spaces and newl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3EE-16D3-4386-AD05-41ED3C4842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5CA68-3EC4-44F0-94A4-E2F1CF2292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reformatted  Text (cont’d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formatted text defaults to a line width of eighty columns, which may stretch off the edge of the browser’s scre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element attrib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eyword inserted inside a start tag, after the element’s name, to change the behavior of a particular element in some way.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PRE WIDTH=“40”&gt; … &lt;/PR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ame of the attribute specifies the width of preformatted text is WID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quoted value “40”, to the right of the equal sign is called the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</a:rPr>
              <a:t>attribute val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F4B-B8F2-41A3-8F5C-87BCD180A9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7C891-AC4C-4609-9C7F-CBB56BE542C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inking Documents Together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hypertext hyperlinks, you can link documents to other documents on your machine, on other machines, and even to other Internet services like gopher and ft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7DE-6304-472E-A0DA-5666072F5C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1C3D3-4858-4FC1-B4A0-35B51C9C5A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chor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nchor element &lt;A&gt; … &lt;/A&gt; allows you to specify a section of text or a graphic image, as a l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chor element has several attribu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H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used to “attach”  the anchor to a specific UR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HREF=“http://www.baskent.edu.tr/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askent Univer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A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HREF=“logo.gif” Baskent University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CD4-85E0-4FED-B3BC-1FD40D3426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36DE1-524E-4E21-9495-149A7A1A73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nline  Imag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line images are part of the document, displayed automatically by the brow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line images can be used to illustrate your documents, as special bullets for lists, for fancier horizontal rul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IMG  SRC=“red_bullet.gif”&gt;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IMG SRC=“BU_logo.gif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T=“[Image: Baskent Un.Logo]”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DF1-7338-4CBA-80E9-E0D4F4351E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35099-1D44-4E8C-A885-D0CE3771DF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omework (Due to: Nov. 23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 Prepare your home page. (Save it as index.ht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By searching the Internet, prepare a comprehensive web page that includes links to tutorials and useful documents on  web page design and HTML.  Add a pointer to your home page pointing to this web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Prepare a sample web page that shows the usage and effects of each of the HTML elements covered in this l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8DE-3A53-4A9C-AA5C-0CB8C351E4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97020-8CBD-4147-9B7D-2CC614C4BC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2 How Was It Achieved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lobal network (i.e., the Internet) that interconnects different types of networks became possible by developing two new concep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rou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pecial computers that connect LANs and WANs of different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TCP/IP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common protocol or a shared set of rules describing how to transmi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682-B118-4374-825E-08D4092417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C92EF-2EBA-4430-81BC-33B78AC0E9F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3 TCP/IP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TCP/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software used on the Internet to pass information from machine to machine and from network to network. It has two compon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IP (Internet Protoco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helps to break up information into software packets that can move across networ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TCP (Transport Control Protocol)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 with the IP to guarantee that the information is transmitted correctly across the Internet. It makes sure tha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ets are properly reassembled at the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66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t and/or damaged packets are resent to the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1E5-B2EE-45DB-A474-C45F458B3B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817B2-AB54-41E1-BA44-FA8A863738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4 IP Addressing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omputer on the Internet is assigned a unique numerical address, called it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IP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rganization that will connect to Internet gets a set of IP addresses from an Internet autho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wo computers on the Internet needs to communicate, IP addresses of sender and destination computer are appended to packets, and routers determine the routes by looking at these addre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9FD-44A9-4E13-AF72-CE4B19F4F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2DE5C-2430-4879-BBC1-EC68D48788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 Servers and Clien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net is based on the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ent/ser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cept: Every computer program that communicates on the Internet is either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a cli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ser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fers service to other computers on the network (e.g., a file serv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quests a service from a ser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and server uses a common method for communicating and for passing the file from one machine to another, called a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rotoc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E84-134E-4CF5-BEE4-88C4A5C9DD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833E5-0EC9-4706-B44A-35ABA92C149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Example:Client/Server Interaction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that a client would like to get a copy of a file stored on the file server across the Inter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program on the user’s machine formats and  sends the request to the file ser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rver program locates the file on the server machine and sends a copy of it back to the client mach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program either saves it or opens it for immediate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D68-6602-46BB-85AF-AA8F65F1F5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73890-03E0-4145-8D18-677ED47FD2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0066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3 Intrane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intran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network that exists exclusively within an organization and that is based on Internet 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have thousands of users across many locations but still be private using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firewa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s an organization’s information resources to each member’s desktop quickly and inexpensively and also prevents the unauthorized ac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Dincer (BM 585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E43-37F7-48DF-9C32-CEF6687FF6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F134F-163E-4B84-AC73-397DCDCB27D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K. Dincer</dc:creator>
  <dc:description/>
  <dc:language>en-US</dc:language>
  <cp:lastModifiedBy>teaching</cp:lastModifiedBy>
  <cp:lastPrinted>1998-11-10T08:57:28Z</cp:lastPrinted>
  <dcterms:modified xsi:type="dcterms:W3CDTF">2001-06-19T17:10:17Z</dcterms:modified>
  <cp:revision>10</cp:revision>
  <dc:subject/>
  <dc:title>BM 585 - Web-Based Technologies and Applications</dc:title>
</cp:coreProperties>
</file>