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BB5-7027-48F3-A204-33074A9E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454-B153-4E75-902F-C91E98B3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662-EA1D-48C6-90F3-449AD5D4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7BD-6069-43C6-BF99-9D9DE916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F78-11B4-497A-A718-D01313B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7B6-E232-4E7B-B3B2-BD21846E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9C1-2325-4B9B-82DD-8C5EAF71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6DF-B430-42C8-8B92-FB30CA0B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70F-3C53-482A-A765-6345FD89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F73-604F-4985-9A18-7AB6532E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E7B-6BA1-4F6A-B5C5-B8B33657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1B3-FCD6-41D5-A106-992357AC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BF7D-26F3-4E93-8769-542929102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Computing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ed Burgh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D7D-29EC-45A7-84B6-31A6CC384E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. Mess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cket of data that is labeled with the information it cont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ssaging systems operate in an asynchronous architecture (Also able to operate synchronously and in hybrid mod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5D4-A143-4F57-965E-833FB7E530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. RP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ormal procedure call but execution is on a remote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PC client process make a call nam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chronous mess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2DE-40FB-4F13-940C-E5FA82CA38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I. Client/Ser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Database Proto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ECE-F56F-4835-B8F0-BA90B1A27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. Database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ll Level Interf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LI) provides an interface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lational Database Management Syste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DBMS) using SQ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’s ODBC and Sun Microsystems’ JDB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brid messaging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6D1-103B-4CFB-96A9-FC9F051987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V. Middle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D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eliable Mess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B99-2107-4520-9EF8-90C0E0BDA8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V. Middle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s a functional layer between client and ser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clients to interact with server rather than as a specific host or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A11-D73E-4907-8039-F5395513AE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. D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izes the concepts described here with  a group of related specif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are based on ‘C’ so preventing from multilingual and OO deploy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6D6-14A0-40B8-AAE9-2B6415659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. Reliable Messa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reliable delivery of asynchronous mess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passed to middleware synchronously and stored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ware does not destroy the message until a confirmation recei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5105520"/>
            <a:ext cx="16761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6761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105520"/>
            <a:ext cx="16761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5486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486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580-18D7-45CA-881F-28ED0D3ADD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. Distributed Ob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Java R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D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BAB-3F4D-4FDC-A5FE-CB59DAF146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. Java RM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a consistent and abstract interface regardless of the underlying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vanta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 Java object model advantage whenever pos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061-C1FB-42DC-8D2C-7769571D6D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274320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 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The Common Foun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Client/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Distributed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AEC-E895-4D03-B110-232D99CC9C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. DC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of Microsoft’s C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s interactions between objects on remote ho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32A-632F-42F4-A284-768C279CC8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. COR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andard for the distribution of objects across heterogeneous networ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 Combine object and distributed systems techn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to use a common interface (ID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BA object is opaq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B24-E6DD-49EE-88EF-B0624D754F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. 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synchronous communication, message based architectures will be most appropri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ynchronous communication, DCE RCP will generally be good cho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/DCOM is the solution for windows 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RMI is easy but since CORBA is built in Java environment, RMI does not have the advantage of being assured a larger installed b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547-99DA-47E7-B1CA-63B00814D8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.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e of networked works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 first in hardware, then in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 of Distributed Computing Work and popular implementations of that conce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EBC-1C4B-4133-814E-D53DA6B840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.The Common Found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Network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ynchronous and Asynchronous Trans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lients, Servers and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AP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 Terminal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. Me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. R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1C6-D06E-4CBB-8B38-9CEE4C6213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. Network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between computers is the basic n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ages between compu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ng communication protoc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897-1483-4BD9-A836-418CD02FD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. Synchronous and Asynchronous Trans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ynchrono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 Sender needs a response from the receiver before it can contin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ynchrono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: Sender does not require a response from receiver to contin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B81-0E80-413D-83F7-1492B344D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. Clients, Servers and Pe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 A thread that opens communication channel and waits for another thread to contac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 The thread that contacts the ser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e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 A thread that is able to act as both a client and a ser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026-4927-47F4-B370-EEECC4A78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. AP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of functions called by a program to accomplish the actual transmission and receipt of bytes of data between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E99-CCC9-4E54-BC5C-77EC7CA60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. Terminal Interf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ging into a host system from a dump ter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n’t require the application written using a communication API at 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7DD-5080-4B69-9A7C-48137ABC4C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09:33Z</dcterms:created>
  <dc:creator>Cihad Baskoy</dc:creator>
  <dc:description/>
  <dc:language>en-US</dc:language>
  <cp:lastModifiedBy>Ulku Gulmez</cp:lastModifiedBy>
  <dcterms:modified xsi:type="dcterms:W3CDTF">1999-11-01T01:16:57Z</dcterms:modified>
  <cp:revision>7</cp:revision>
  <dc:subject/>
  <dc:title>Distributed Computing Overview</dc:title>
</cp:coreProperties>
</file>