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8631-14D2-4E4A-9936-FD87DD14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B65-5DF8-4B9A-B6EA-EF8D554E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201-CC20-485C-A00E-91E46ACD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DF0-6AD9-4DFD-A8D0-31B18EA2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85F-F363-40B7-8DB1-ABA1CDB1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702-7321-40AC-97A8-5243CB46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4517-3060-455C-A22E-66347F38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1A2-79EE-43DE-90F1-FE0D2533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73A-1F32-47B0-A423-0171BDB2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40D-1D70-433A-B416-D08C99A2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844-210F-45DA-AF3F-C769FF9C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9419-5AFD-46C5-B513-5B584A9D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858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0204-B233-42FC-A6A1-42C1DD642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858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rapping Legacy Applications : A distributed computing solu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0ED-D1A5-47A7-A75B-FD9C2847FA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858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(Continued ...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rs target candidate classes for adding distributed cap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interface for these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ublic methods are good as interface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the behavior of all of the methods of these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B9EE-84D3-4C9B-9C89-9EAB0DF201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858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(Continued ...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ous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etter method should be an asynchronous method  so the client application contin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alternative solution is using Power Broker Extended C++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C++ classes but adding some keywords for distributed 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1D8-ECBD-4974-9DB0-AF8D4CC1F8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858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provid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aightforward mechanism for hooking into legacy system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ing desktop acces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ing the life of valuable applications by treating them as reusable componen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 the migration of legacy applica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the coding impact on client-side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579C-073A-43C7-A27C-F8765B5F71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858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rapping Legacy Application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of encapsulation provides clients for accessing server applications or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vant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The client need not to know the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is the ideal language for implementing encaps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is programming language and platform in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objects may exist anywhere on the network, leveraging additional CP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15C9-C682-4E9F-81D2-0E93ABAF76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858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hree Exampl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example deals with extending a standalone libr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example deals with migrating a database application from a vendor-specific solution for accessing and updating the database to a more flexible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example is to convert a standalone application to distributed-enabled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DAA-E568-49BE-89E0-439F85EB73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858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rapping a Simulation Librar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rs must initialize and start the simulation eng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ser interacts with the simulation via G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CORBA, simulations take a certain amount of time in order to reach the steady state necessary to convey useful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A2B-981A-400C-A34A-63660480CB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858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(Continued ...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interface provides IDL that allows remote applications to ‘see’ the simulation, the client does not need to know where the application is run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CORBA interface should cause some problems such 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all the users have privileges to start and stop the applic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38C4-4C74-4DD8-95D7-7681B08954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858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(Continued ...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 limit to the number of entities that can enter the simul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some clients only have read access to the simul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does not address the domain based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7D0-D5E0-46A4-B28F-FB1F6D85C2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858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rapping a Database Applic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client application that accesses and updates personnel information on a database 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enables to hide the database structure from cl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interface to client stays constant, any change in the back-end system does not need for redesign of that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ECF-075B-4251-975A-C2BC4AE608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858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(Continued ...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implementa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apsulates databas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the business logic on top of the databas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side the scope of any particular cl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based middle tier becomes a highly flexible and scalable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4697-3B12-4C8F-B3B8-E3C7B290DE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5858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onverting C++ into a Distributed Applic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ing a standalone home accounting system to a distributed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rovide a CORBA interface but converting application into distributed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an be done by using threads but threads are limited to running on a single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713-9846-4B7D-8A0E-7588290E16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0:29:25Z</dcterms:created>
  <dc:creator>Cihad Baskoy</dc:creator>
  <dc:description/>
  <dc:language>en-US</dc:language>
  <cp:lastModifiedBy>Ulku Gulmez</cp:lastModifiedBy>
  <dcterms:modified xsi:type="dcterms:W3CDTF">1999-11-01T01:15:15Z</dcterms:modified>
  <cp:revision>4</cp:revision>
  <dc:subject/>
  <dc:title>Wrapping Legacy Applications : A distributed computing solution</dc:title>
</cp:coreProperties>
</file>