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4BF5-636D-4F12-B253-A7DACF01A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8365C-B378-43C9-8B12-459FFA209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A964-C739-473D-82F4-9F3932BE7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CAB97-D67F-4C1A-8B80-5A82C07EF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1CE52-297D-49EE-8B63-7309DFA984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1B6F4-99A8-49CB-9A42-A3765D3DF0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FBA2C-1E96-4B84-8517-E4B849FC5E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F0EE8-33F3-4726-9F16-36279A7DA0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8FE2-69B8-4375-92D9-CF22584009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9021E-DC8C-480B-A2FE-FDA8B6F783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892A-944E-4F21-B045-FBE283DE22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8CAD8-BA5F-4CF6-95BC-5B3BDD8F65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FFD0-7ADB-44FA-AB78-4AE0073304B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3D83-1033-46D6-A153-AAB0F94453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90A5D-E484-41A5-9593-5E88F4992B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D464E-167F-4218-844D-E66A760E7A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5179D-B492-46AE-A19E-A2E05A21E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6AA7C-D2E6-4EFD-B115-FAEA1A156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1B0F-DA5D-4D12-822B-2DF3236576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71057-C0A2-4F77-ACCE-AD3BF63810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EF1F-04B9-4FD9-82E2-FC32F889E5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050B3-FD4C-42D2-B6E9-2207C3625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8EA2B-AFA3-4171-83B6-CE7E0E2A56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8A90B-D436-45E4-89A9-36EECDB2A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C669-7FAF-40F7-AF8C-8396DB654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7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DBDF-115C-4DB5-9B20-D7060FAE31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53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3 - The Preprocessor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200240"/>
            <a:ext cx="800100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#includ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reprocessor Directiv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#def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reprocessor Directive: Symbolic Consta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#def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reprocessor Directive: Macro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onditional Compil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#error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#pragma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Preprocessor Directiv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#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##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 Operato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Line Numb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Predefined Symbolic Consta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3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sser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5   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DEBUG  1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def DEBU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cerr &lt;&lt; "Variable x = " &lt;&lt; x &lt;&lt; end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EBU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nables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code corrected, remov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bugging statements are now ign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6  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#error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#pragma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reprocessor Directiv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err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kens are sequences of characters separated by 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I like C++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k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plays a message including the specified tokens as an error mess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ps preprocessing and prevents program comp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pragm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k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lementation defined action (consult compiler document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agmas not recognized by compiler are ign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7  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#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##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s a replacement text token to be converted to a string surrounded by quo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HELLO( x ) printf( “Hello, ” #x  “\n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uld ca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ELLO( John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be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ntf( “Hello, ” “John” “\n”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ings separated by whitespace are concatenated when us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7  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#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##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catenates two toke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TOKENCONCAT( x, y )  x ##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uld ca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KENCONCAT( O, K 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be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8   Line Nu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numbers subsequent code lines, starting with integer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name can be inclu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line 100 "myFile.c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s are numbered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ginning with next source cod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messages will think that the error occurred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myfile.C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s errors more meaning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numbers do not appear in sourc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9   Predefined Symbolic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ve predefined symbolic con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be used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unde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09480" y="2362320"/>
          <a:ext cx="7721640" cy="275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362320"/>
                    <a:ext cx="7721640" cy="27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  Asser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sse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cr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ead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assert.h&g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sts value of an expr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 prints error message and call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b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ssert( x &lt;= 10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DEBU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subsequent assert statements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NDE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1  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ccurs before a program is compi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sion of other fi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 of symbolic constants and mac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al compilation of program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ditional execution of preprocessor dir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of preprocessor dir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es begin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whitespace characters before directives on a li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2  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#includ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reprocessor Directiv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inclu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a specified file included in place of the directiv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filena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standard library for f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for standard library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"filename"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es current directory, then standard libr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for user-defined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d f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s with multiple source files to be compiled toge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er fi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common declarations and definitions (classes, structures, function prototyp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ment in each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3  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#def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reprocessor Directive: Symbolic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rocessor directive used to create symbolic constants and mac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ymbolic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program compiled, all occurrences of symbolic constant replaced with replacement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dentifier replacement-tex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PI 3.1415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thing to right of identifier replaces t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PI = 3.1415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s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 with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= 3.1415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define symbolic constants once they have been cre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4  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#def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ion defined i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defi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macro without arguments is treated like a symbolic const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macro with arguments has its arguments substituted for replacement text, when the macro is expan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s a text substitution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no data type che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ac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CIRCLE_AREA( x ) ( PI * ( x ) * ( x ) 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ea = CIRCLE_AREA( 4 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be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ea = ( 3.14159 * ( 4 ) * ( 4 )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4  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#def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are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out them the mac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CIRCLE_AREA( x )  PI * ( x ) * ( x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uld ca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ea = CIRCLE_AREA( c + 2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be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rea = 3.14159 * c + 2 * c +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RECTANGLE_AREA( x, y )  ( ( x ) * ( y )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uld ca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rea = RECTANGLE_AREA( a + 4, b + 7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be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ctArea = ( ( a + 4 ) * ( b + 7 ) 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4   The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#define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Preprocessor Directive: Macro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unde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defines a symbolic constant or mac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symbolic constant or macro has been undefined it can later be re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5   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tional compi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trol preprocessor directives and compi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st expressions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numeration constants cannot be evaluated in preprocessor dir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 similar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!defined( NUL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define NULL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s if symbolic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been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defined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ined( NULL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not defined, this function defin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ust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ort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 defined( name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nde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hort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f !defined( name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3.5   Conditional Compil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l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ivalen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equivalen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"Comment out"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...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f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de commented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end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enable code, chang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1T20:20:05Z</dcterms:created>
  <dc:creator>kalid</dc:creator>
  <dc:description/>
  <dc:language>en-US</dc:language>
  <cp:lastModifiedBy>jason</cp:lastModifiedBy>
  <dcterms:modified xsi:type="dcterms:W3CDTF">2000-12-12T18:09:45Z</dcterms:modified>
  <cp:revision>269</cp:revision>
  <dc:subject/>
  <dc:title>PowerPoint Presentation</dc:title>
</cp:coreProperties>
</file>