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AC9C-8D80-4691-96A2-099C852D3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460D-6445-46DB-88C3-60C143C6E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F035-59E0-4996-8F1A-1E0A0FA58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B122-4D9F-4191-AB0D-DCDCEAEB7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0EAA-6041-4A53-B30A-645CC3E57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CC74-599E-4072-BB98-2E97467133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ADFB-EB80-4E90-BD8D-BED59B083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E120-B809-4B25-AF83-6CA33A2BF8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629A-68A0-4410-8A60-AD72DE1FF9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7D5F-743A-4313-9EEB-59FFF0E1A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BF7D-C498-4C01-AF5C-FEC2DC4F8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EA6F-17D8-4DFB-A0D8-F9D859A78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B1DD-9A8C-45EE-872B-61F19A5A03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F918-FCE9-4807-AFD1-BEA49BE68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24CF-34FB-4ED3-92BB-D1BFCE4DD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E5EE-8E7D-4906-97E3-511B2C62B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52ED-1D7A-46BD-8B18-16B43BB04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67F8-699D-4F56-B289-6C37137E9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0F1A-7406-4A91-A54E-8D0480FB8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881E-60EA-48FC-9C5A-199688BE2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F92C-A7AD-4A45-91C9-4238BF1BA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42B2-708E-4CA6-BD01-1BF2D98C8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4405-7F42-44CE-A487-5457067FF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8B80-7015-4FC1-B2D9-62EA070ED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29B6-A8C2-4521-80D7-8DF585DE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640080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7C2-8746-461C-A21A-27CD63446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 - Advanced C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01064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directing Input/Output on UNIX and DO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ariable-Length Argument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Command-Line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Notes on Compiling Multiple-Source-Fil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Termination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xi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texi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olati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ype Qualifi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uffixes for Integer and Floating-Point Consta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re on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gnal Handl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llo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Unconditional Branch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oto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pe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pecify open type (read or writ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opy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6780960" cy="6248520"/>
            <a:chOff x="0" y="0"/>
            <a:chExt cx="6780960" cy="624852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6780960" cy="227520"/>
              <a:chOff x="0" y="0"/>
              <a:chExt cx="6780960" cy="2275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3: fig14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227520"/>
              <a:ext cx="6780960" cy="227520"/>
              <a:chOff x="0" y="227520"/>
              <a:chExt cx="6780960" cy="22752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227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27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command-line argument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455040"/>
              <a:ext cx="6780960" cy="227520"/>
              <a:chOff x="0" y="455040"/>
              <a:chExt cx="6780960" cy="2275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4550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550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682560"/>
              <a:ext cx="6780960" cy="227520"/>
              <a:chOff x="0" y="682560"/>
              <a:chExt cx="6780960" cy="2275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6825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6825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910080"/>
              <a:ext cx="6780960" cy="227520"/>
              <a:chOff x="0" y="910080"/>
              <a:chExt cx="6780960" cy="22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910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910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g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gv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137600"/>
              <a:ext cx="6780960" cy="227520"/>
              <a:chOff x="0" y="1137600"/>
              <a:chExt cx="6780960" cy="2275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137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137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65120"/>
              <a:ext cx="6780960" cy="227520"/>
              <a:chOff x="0" y="1365120"/>
              <a:chExt cx="6780960" cy="22752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65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65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inFilePtr, *outFile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592640"/>
              <a:ext cx="6780960" cy="227520"/>
              <a:chOff x="0" y="1592640"/>
              <a:chExt cx="6780960" cy="22752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592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592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20160"/>
              <a:ext cx="6780960" cy="227520"/>
              <a:chOff x="0" y="1820160"/>
              <a:chExt cx="6780960" cy="22752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20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20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047680"/>
              <a:ext cx="6780960" cy="227520"/>
              <a:chOff x="0" y="2047680"/>
              <a:chExt cx="6780960" cy="2275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047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047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gc != 3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275200"/>
              <a:ext cx="6780960" cy="227520"/>
              <a:chOff x="0" y="2275200"/>
              <a:chExt cx="6780960" cy="22752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275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275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Usage: copy infile outfile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503080"/>
              <a:ext cx="6780960" cy="227520"/>
              <a:chOff x="0" y="2503080"/>
              <a:chExt cx="6780960" cy="22752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503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503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2730600"/>
              <a:ext cx="6780960" cy="227520"/>
              <a:chOff x="0" y="2730600"/>
              <a:chExt cx="6780960" cy="22752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2730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730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inFilePtr = fopen( argv[ 1 ], "r" ) ) !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2958120"/>
              <a:ext cx="6780960" cy="227520"/>
              <a:chOff x="0" y="2958120"/>
              <a:chExt cx="6780960" cy="2275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2958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958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3185640"/>
              <a:ext cx="6780960" cy="227520"/>
              <a:chOff x="0" y="3185640"/>
              <a:chExt cx="6780960" cy="22752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3185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3185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outFilePtr = fopen( argv[ 2 ], "w" ) ) !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3413160"/>
              <a:ext cx="6780960" cy="227520"/>
              <a:chOff x="0" y="3413160"/>
              <a:chExt cx="6780960" cy="22752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3413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3413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3640680"/>
              <a:ext cx="6780960" cy="227520"/>
              <a:chOff x="0" y="3640680"/>
              <a:chExt cx="6780960" cy="22752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3640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3640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fgetc( inFilePtr 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868200"/>
              <a:ext cx="6780960" cy="227520"/>
              <a:chOff x="0" y="3868200"/>
              <a:chExt cx="6780960" cy="2275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8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8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fputc( c, outFile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4095720"/>
              <a:ext cx="6780960" cy="227520"/>
              <a:chOff x="0" y="4095720"/>
              <a:chExt cx="6780960" cy="22752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40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40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4323240"/>
              <a:ext cx="6780960" cy="227520"/>
              <a:chOff x="0" y="4323240"/>
              <a:chExt cx="6780960" cy="22752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4323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4323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4551120"/>
              <a:ext cx="6780960" cy="279720"/>
              <a:chOff x="0" y="4551120"/>
              <a:chExt cx="6780960" cy="27972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455112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455112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File \"%s\" could not be opened\n", argv[ 2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4830840"/>
              <a:ext cx="6780960" cy="227520"/>
              <a:chOff x="0" y="4830840"/>
              <a:chExt cx="6780960" cy="22752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48308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8308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5058360"/>
              <a:ext cx="6780960" cy="227520"/>
              <a:chOff x="0" y="5058360"/>
              <a:chExt cx="6780960" cy="2275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5058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5058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5285880"/>
              <a:ext cx="6780960" cy="279720"/>
              <a:chOff x="0" y="5285880"/>
              <a:chExt cx="6780960" cy="27972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528588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528588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File \"%s\" could not be opened\n", argv[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5565960"/>
              <a:ext cx="6780960" cy="227520"/>
              <a:chOff x="0" y="5565960"/>
              <a:chExt cx="6780960" cy="22752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55659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5659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5793480"/>
              <a:ext cx="6780960" cy="227520"/>
              <a:chOff x="0" y="5793480"/>
              <a:chExt cx="6780960" cy="22752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5793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793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6021000"/>
              <a:ext cx="6780960" cy="227520"/>
              <a:chOff x="0" y="6021000"/>
              <a:chExt cx="6780960" cy="2275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6021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6021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895120" y="304920"/>
            <a:ext cx="3277080" cy="685800"/>
            <a:chOff x="2895120" y="304920"/>
            <a:chExt cx="3277080" cy="685800"/>
          </a:xfrm>
        </p:grpSpPr>
        <p:sp>
          <p:nvSpPr>
            <p:cNvPr id="313" name=""/>
            <p:cNvSpPr/>
            <p:nvPr/>
          </p:nvSpPr>
          <p:spPr>
            <a:xfrm>
              <a:off x="4191120" y="304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895120" y="609480"/>
              <a:ext cx="1295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200400" y="1600200"/>
            <a:ext cx="5334120" cy="1200240"/>
            <a:chOff x="3200400" y="1600200"/>
            <a:chExt cx="5334120" cy="1200240"/>
          </a:xfrm>
        </p:grpSpPr>
        <p:sp>
          <p:nvSpPr>
            <p:cNvPr id="316" name=""/>
            <p:cNvSpPr/>
            <p:nvPr/>
          </p:nvSpPr>
          <p:spPr>
            <a:xfrm>
              <a:off x="58672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second argument, and is being r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00400" y="1733400"/>
              <a:ext cx="26668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657600" y="1886040"/>
              <a:ext cx="2209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43040" y="2457360"/>
            <a:ext cx="3429360" cy="824040"/>
            <a:chOff x="4343040" y="2457360"/>
            <a:chExt cx="3429360" cy="824040"/>
          </a:xfrm>
        </p:grpSpPr>
        <p:sp>
          <p:nvSpPr>
            <p:cNvPr id="320" name=""/>
            <p:cNvSpPr/>
            <p:nvPr/>
          </p:nvSpPr>
          <p:spPr>
            <a:xfrm flipH="1">
              <a:off x="4343040" y="2761920"/>
              <a:ext cx="762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24573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third argument, and is being written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114800" y="4038480"/>
            <a:ext cx="4419720" cy="1281240"/>
            <a:chOff x="4114800" y="4038480"/>
            <a:chExt cx="4419720" cy="1281240"/>
          </a:xfrm>
        </p:grpSpPr>
        <p:sp>
          <p:nvSpPr>
            <p:cNvPr id="323" name=""/>
            <p:cNvSpPr/>
            <p:nvPr/>
          </p:nvSpPr>
          <p:spPr>
            <a:xfrm>
              <a:off x="4114800" y="4495680"/>
              <a:ext cx="4419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p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 Of 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get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 charact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File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put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t in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utFile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4648320" y="40384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 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with multiple sourc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must be in one file (cannot be split u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 accessible to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variables must be defined in every file in which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Glob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in on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use it in another file you must include th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myGlob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that the variable is defined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 can be used in other files without an extern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prototype in each file that uses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 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at variables can only be used in the file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with multiple source fi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dious to compile everything if small changes have been made to only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compile only the chang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dure varies o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6   Program Termination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exi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program to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mbolic consta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_SUC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_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implementation-defin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 EXIT_SUCCES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unctionToRu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To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ecute upon successful program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tself does not terminate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up to 32 functions (multi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called in reverse register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function cannot take arguments or retur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Register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4: fig14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the exit and atexit function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texit( print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gister function pr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1 to terminate program with function exit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Enter 2 to terminate program normally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nswer == 1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Terminating program with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"function exit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exit( EXIT_SUCCES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erminating program by reach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 the end of main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xecuting function print at program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ermination\nProgram terminat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terminate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terminate program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ating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ing function print at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95264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terminate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terminate program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ating program by reaching the end of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ing function print at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olati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Type Qualifi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may be altered outsid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ot under control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optim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ffixes for Integer and Floating-Point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vides suffixes f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4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67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51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integer constant is not suffixed type determined by first type capable of storing a value of that siz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 long 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loating point not suffixed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ore on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can process binar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ll systems support binary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s opened as text files if binary mode not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files should be used when rigorous speed, storage, and compatibility conditions demand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text files are prefe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ent portability, can use standard tools to examin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mp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s a temporary file in m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wb+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may process temporary files as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orary file exists until clo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cl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until program ter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s file pointers to the beginning of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ore on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ope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81120" y="1677960"/>
          <a:ext cx="7710480" cy="30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77960"/>
                    <a:ext cx="77104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dvanced topics 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UNIX or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xpected event, can terminat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ctrl&gt;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illegal instructions, segmentation violations, termination orders, floating-point exceptions (division by zero, multiplying large floa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ps unexpected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ignal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two arguments a signal number and a pointer to the signal handl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an integer signal number and creates a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defin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.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378080" y="1600200"/>
          <a:ext cx="6622920" cy="30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600200"/>
                    <a:ext cx="662292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nerate random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is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ignal if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= 25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5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8: fig14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ignal handling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ignal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_handl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ignal( SIGINT, signal_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clock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0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x = 1 + rand() % 5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== 2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aise( SIG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1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_handl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2895120" y="1295280"/>
            <a:ext cx="4115160" cy="1523880"/>
            <a:chOff x="2895120" y="1295280"/>
            <a:chExt cx="4115160" cy="1523880"/>
          </a:xfrm>
        </p:grpSpPr>
        <p:sp>
          <p:nvSpPr>
            <p:cNvPr id="547" name=""/>
            <p:cNvSpPr/>
            <p:nvPr/>
          </p:nvSpPr>
          <p:spPr>
            <a:xfrm>
              <a:off x="396216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to 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_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signal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ccu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895120" y="190476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0"/>
            <a:ext cx="6780960" cy="4572000"/>
            <a:chOff x="0" y="0"/>
            <a:chExt cx="6780960" cy="4572000"/>
          </a:xfrm>
        </p:grpSpPr>
        <p:grpSp>
          <p:nvGrpSpPr>
            <p:cNvPr id="551" name=""/>
            <p:cNvGrpSpPr/>
            <p:nvPr/>
          </p:nvGrpSpPr>
          <p:grpSpPr>
            <a:xfrm>
              <a:off x="0" y="0"/>
              <a:ext cx="6780960" cy="240480"/>
              <a:chOff x="0" y="0"/>
              <a:chExt cx="6780960" cy="2404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240480"/>
              <a:ext cx="6780960" cy="240480"/>
              <a:chOff x="0" y="240480"/>
              <a:chExt cx="6780960" cy="24048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2404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2404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pon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480960"/>
              <a:ext cx="6780960" cy="240480"/>
              <a:chOff x="0" y="480960"/>
              <a:chExt cx="6780960" cy="24048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4809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4809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721800"/>
              <a:ext cx="6780960" cy="240480"/>
              <a:chOff x="0" y="721800"/>
              <a:chExt cx="6780960" cy="24048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7218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7218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d%s\n%s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962280"/>
              <a:ext cx="6780960" cy="240480"/>
              <a:chOff x="0" y="962280"/>
              <a:chExt cx="6780960" cy="24048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9622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9622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\nInterrupt signal ( ", signalValue, " ) received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1203120"/>
              <a:ext cx="6780960" cy="240480"/>
              <a:chOff x="0" y="1203120"/>
              <a:chExt cx="6780960" cy="24048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12031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12031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Do you wish to continue ( 1 = yes or 2 = no )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1443600"/>
              <a:ext cx="6780960" cy="240480"/>
              <a:chOff x="0" y="1443600"/>
              <a:chExt cx="6780960" cy="24048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14436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4436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1684440"/>
              <a:ext cx="6780960" cy="240480"/>
              <a:chOff x="0" y="1684440"/>
              <a:chExt cx="6780960" cy="24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16844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16844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1924920"/>
              <a:ext cx="6780960" cy="240480"/>
              <a:chOff x="0" y="1924920"/>
              <a:chExt cx="6780960" cy="24048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19249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9249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2165760"/>
              <a:ext cx="6780960" cy="240480"/>
              <a:chOff x="0" y="2165760"/>
              <a:chExt cx="6780960" cy="24048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21657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1657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ponse != 1 &amp;&amp; response != 2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2406240"/>
              <a:ext cx="6780960" cy="240480"/>
              <a:chOff x="0" y="2406240"/>
              <a:chExt cx="6780960" cy="24048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24062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24062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( 1 = yes or 2 = no )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2647080"/>
              <a:ext cx="6780960" cy="240480"/>
              <a:chOff x="0" y="2647080"/>
              <a:chExt cx="6780960" cy="24048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26470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26470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887560"/>
              <a:ext cx="6780960" cy="240480"/>
              <a:chOff x="0" y="2887560"/>
              <a:chExt cx="6780960" cy="24048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8875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8875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3128040"/>
              <a:ext cx="6780960" cy="240480"/>
              <a:chOff x="0" y="3128040"/>
              <a:chExt cx="6780960" cy="24048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31280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31280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3368880"/>
              <a:ext cx="6780960" cy="240480"/>
              <a:chOff x="0" y="3368880"/>
              <a:chExt cx="6780960" cy="24048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33688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33688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ponse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3609720"/>
              <a:ext cx="6780960" cy="240480"/>
              <a:chOff x="0" y="3609720"/>
              <a:chExt cx="6780960" cy="24048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36097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6097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ignal( SIGINT, signal_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850200"/>
              <a:ext cx="6780960" cy="240480"/>
              <a:chOff x="0" y="3850200"/>
              <a:chExt cx="6780960" cy="24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8502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8502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090680"/>
              <a:ext cx="6780960" cy="240480"/>
              <a:chOff x="0" y="4090680"/>
              <a:chExt cx="6780960" cy="24048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0906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0906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exit( EXIT_SUCCES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4331520"/>
              <a:ext cx="6780960" cy="240480"/>
              <a:chOff x="0" y="4331520"/>
              <a:chExt cx="6780960" cy="24048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43315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43315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0" y="480060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2   3   4   5   6   7   8 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12  13  14  15  16  17  18  19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  22  23  24  25  26  27  28  29 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1  32  33  34  35  36  37  38  39 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1  42  43  44  45  46  47  48  49 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1  52  53  54  55  56  57  58  59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800240" y="1523520"/>
            <a:ext cx="4115160" cy="676440"/>
            <a:chOff x="4800240" y="1523520"/>
            <a:chExt cx="4115160" cy="676440"/>
          </a:xfrm>
        </p:grpSpPr>
        <p:sp>
          <p:nvSpPr>
            <p:cNvPr id="610" name=""/>
            <p:cNvSpPr/>
            <p:nvPr/>
          </p:nvSpPr>
          <p:spPr>
            <a:xfrm>
              <a:off x="5867280" y="16192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given option of terminating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4800240" y="152352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123720" y="2457360"/>
            <a:ext cx="5563080" cy="1199880"/>
            <a:chOff x="3123720" y="2457360"/>
            <a:chExt cx="5563080" cy="1199880"/>
          </a:xfrm>
        </p:grpSpPr>
        <p:sp>
          <p:nvSpPr>
            <p:cNvPr id="613" name=""/>
            <p:cNvSpPr/>
            <p:nvPr/>
          </p:nvSpPr>
          <p:spPr>
            <a:xfrm>
              <a:off x="5105160" y="245736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al handler reinitialized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123720" y="289548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1  62  63  64  65  66  67  68  69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1  72  73  74  75  76  77  78  79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1  82  83  84  85  86  87  88  89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1  92 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rupt signal ( 2 ) recei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 you wish to continue ( 1 = yes or 2 = no )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4  95 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rupt signal ( 2 ) recei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 you wish to continue ( 1 = yes or 2 = no )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7  98  99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 Dynamic Memory Allocation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allo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reate dynamic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oc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members, siz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mber of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ze of each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pointer to a dynam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lloc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erToObject, new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erTo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to the object being realloc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w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w size of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reallocate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cannot allocat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the object pointed to is fr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erTo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it acts 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ll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2   The Unconditional Branch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performance cru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it loop instead of waiting until condition beco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flow control to first statement after specified lab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abel is an identifier followed by a colon (i.e.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escape from deeply nested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abe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623" name=""/>
            <p:cNvGrpSpPr/>
            <p:nvPr/>
          </p:nvGrpSpPr>
          <p:grpSpPr>
            <a:xfrm>
              <a:off x="0" y="0"/>
              <a:ext cx="6780960" cy="206640"/>
              <a:chOff x="0" y="0"/>
              <a:chExt cx="6780960" cy="2066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9: fig14_09.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06640"/>
              <a:ext cx="6780960" cy="206640"/>
              <a:chOff x="0" y="206640"/>
              <a:chExt cx="6780960" cy="2066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066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066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goto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413280"/>
              <a:ext cx="6780960" cy="206640"/>
              <a:chOff x="0" y="413280"/>
              <a:chExt cx="6780960" cy="2066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413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13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0280"/>
              <a:ext cx="6780960" cy="206640"/>
              <a:chOff x="0" y="620280"/>
              <a:chExt cx="6780960" cy="2066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0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0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827280"/>
              <a:ext cx="6780960" cy="206640"/>
              <a:chOff x="0" y="827280"/>
              <a:chExt cx="6780960" cy="2066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827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827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1033920"/>
              <a:ext cx="6780960" cy="206640"/>
              <a:chOff x="0" y="1033920"/>
              <a:chExt cx="6780960" cy="20664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1033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1033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1240920"/>
              <a:ext cx="6780960" cy="206640"/>
              <a:chOff x="0" y="1240920"/>
              <a:chExt cx="6780960" cy="2066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1240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240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1447920"/>
              <a:ext cx="6780960" cy="206640"/>
              <a:chOff x="0" y="1447920"/>
              <a:chExt cx="6780960" cy="2066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1447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447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1654560"/>
              <a:ext cx="6780960" cy="206640"/>
              <a:chOff x="0" y="1654560"/>
              <a:chExt cx="6780960" cy="2066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16545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6545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rt: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abe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1861200"/>
              <a:ext cx="6780960" cy="206640"/>
              <a:chOff x="0" y="1861200"/>
              <a:chExt cx="6780960" cy="2066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1861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1861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 &gt; 1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2068200"/>
              <a:ext cx="6780960" cy="206640"/>
              <a:chOff x="0" y="2068200"/>
              <a:chExt cx="6780960" cy="20664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2068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068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got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2275200"/>
              <a:ext cx="6780960" cy="206640"/>
              <a:chOff x="0" y="2275200"/>
              <a:chExt cx="6780960" cy="2066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2275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2275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2481840"/>
              <a:ext cx="6780960" cy="206640"/>
              <a:chOff x="0" y="2481840"/>
              <a:chExt cx="6780960" cy="2066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2481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2481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 ", 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2688840"/>
              <a:ext cx="6780960" cy="206640"/>
              <a:chOff x="0" y="2688840"/>
              <a:chExt cx="6780960" cy="2066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2688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2688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2895480"/>
              <a:ext cx="6780960" cy="206640"/>
              <a:chOff x="0" y="2895480"/>
              <a:chExt cx="6780960" cy="20664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2895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2895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got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r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3102480"/>
              <a:ext cx="6780960" cy="206640"/>
              <a:chOff x="0" y="3102480"/>
              <a:chExt cx="6780960" cy="2066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3102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3102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3309120"/>
              <a:ext cx="6780960" cy="206640"/>
              <a:chOff x="0" y="3309120"/>
              <a:chExt cx="6780960" cy="2066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3309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3309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nd: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abe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3516120"/>
              <a:ext cx="6780960" cy="206640"/>
              <a:chOff x="0" y="3516120"/>
              <a:chExt cx="6780960" cy="2066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3516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3516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3722760"/>
              <a:ext cx="6780960" cy="206640"/>
              <a:chOff x="0" y="3722760"/>
              <a:chExt cx="6780960" cy="20664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3722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3722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3929760"/>
              <a:ext cx="6780960" cy="206640"/>
              <a:chOff x="0" y="3929760"/>
              <a:chExt cx="6780960" cy="2066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3929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3929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4136760"/>
              <a:ext cx="6780960" cy="206640"/>
              <a:chOff x="0" y="4136760"/>
              <a:chExt cx="6780960" cy="2066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4136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4136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0" y="45720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2  3  4  5  6  7  8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219320" y="380880"/>
            <a:ext cx="5105160" cy="1828800"/>
            <a:chOff x="1219320" y="380880"/>
            <a:chExt cx="5105160" cy="1828800"/>
          </a:xfrm>
        </p:grpSpPr>
        <p:sp>
          <p:nvSpPr>
            <p:cNvPr id="688" name=""/>
            <p:cNvSpPr/>
            <p:nvPr/>
          </p:nvSpPr>
          <p:spPr>
            <a:xfrm>
              <a:off x="3429000" y="3808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1219320" y="609480"/>
              <a:ext cx="2209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133720" y="60948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Redirecting Input/Output on UNIX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 - keyboard and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 input an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symbol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ng system feature, not a C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X and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comman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Program &lt;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ther than inputting values by hand, read them from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 command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one program becomes input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firstProgram | second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Redirecting Input/Output on UNIX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where output of a program go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Program &gt; 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rases previous 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output to end of file (preserve previous cont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OtherProgram &gt;&gt; 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is added onto the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 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with unspecified number of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arg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llipsis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end of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t least one defined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myfunction ( int i, ...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llipsis is only used in the prototype of a function with a variable length argument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example of a function that can take multipl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totyp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intf( const char* format, ...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s and definitions of the variable arguments heade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arg.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specifier, required (va_list arguments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start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ther variab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ializes parameters, required befor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arg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arameter each ti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all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points to next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end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function have a normal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darg.h&gt;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 (variable length argument lis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start(ap, i)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6781320" cy="230040"/>
            <a:chOff x="0" y="0"/>
            <a:chExt cx="6781320" cy="23004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6781320" cy="230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0"/>
              <a:ext cx="6781320" cy="230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1</a:t>
              </a: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33cc33"/>
                  </a:solidFill>
                  <a:latin typeface="Courier New"/>
                  <a:ea typeface="Times New Roman"/>
                </a:rPr>
                <a:t>/* Fig. 14.2: fig14_02.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230040"/>
            <a:ext cx="6781320" cy="6627600"/>
            <a:chOff x="0" y="230040"/>
            <a:chExt cx="6781320" cy="6627600"/>
          </a:xfrm>
        </p:grpSpPr>
        <p:grpSp>
          <p:nvGrpSpPr>
            <p:cNvPr id="111" name=""/>
            <p:cNvGrpSpPr/>
            <p:nvPr/>
          </p:nvGrpSpPr>
          <p:grpSpPr>
            <a:xfrm>
              <a:off x="0" y="230040"/>
              <a:ext cx="6781320" cy="237240"/>
              <a:chOff x="0" y="230040"/>
              <a:chExt cx="6781320" cy="2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23004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004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variable-length argument list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467280"/>
              <a:ext cx="6781320" cy="235440"/>
              <a:chOff x="0" y="467280"/>
              <a:chExt cx="6781320" cy="23544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46728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6728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703080"/>
              <a:ext cx="6781320" cy="236880"/>
              <a:chOff x="0" y="703080"/>
              <a:chExt cx="6781320" cy="2368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703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703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ar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939960"/>
              <a:ext cx="6781320" cy="236880"/>
              <a:chOff x="0" y="939960"/>
              <a:chExt cx="6781320" cy="23688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9399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399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1177200"/>
              <a:ext cx="6781320" cy="235440"/>
              <a:chOff x="0" y="1177200"/>
              <a:chExt cx="6781320" cy="23544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1177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177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int, ...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1413000"/>
              <a:ext cx="6781320" cy="236880"/>
              <a:chOff x="0" y="1413000"/>
              <a:chExt cx="6781320" cy="2368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141300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41300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649880"/>
              <a:ext cx="6781320" cy="237240"/>
              <a:chOff x="0" y="1649880"/>
              <a:chExt cx="6781320" cy="23724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64988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64988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887480"/>
              <a:ext cx="6781320" cy="236880"/>
              <a:chOff x="0" y="1887480"/>
              <a:chExt cx="6781320" cy="23688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8874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8874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2124720"/>
              <a:ext cx="6781320" cy="235440"/>
              <a:chOff x="0" y="2124720"/>
              <a:chExt cx="6781320" cy="23544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1247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1247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37.5, x = 22.5, y = 1.7, z = 10.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2360160"/>
              <a:ext cx="6781320" cy="236880"/>
              <a:chOff x="0" y="2360160"/>
              <a:chExt cx="6781320" cy="23688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23601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3601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2597400"/>
              <a:ext cx="6781320" cy="237240"/>
              <a:chOff x="0" y="2597400"/>
              <a:chExt cx="6781320" cy="23724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25974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5974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1f\n%s%.1f\n%s%.1f\n%s%.1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835000"/>
              <a:ext cx="6781320" cy="235440"/>
              <a:chOff x="0" y="2835000"/>
              <a:chExt cx="6781320" cy="23544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8350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8350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w = ", w, "x = ", x, "y = ", y, "z = ",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3070440"/>
              <a:ext cx="6781320" cy="236880"/>
              <a:chOff x="0" y="3070440"/>
              <a:chExt cx="6781320" cy="2368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30704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30704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3f\n%s%.3f\n%s%.3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3307680"/>
              <a:ext cx="6781320" cy="236880"/>
              <a:chOff x="0" y="3307680"/>
              <a:chExt cx="6781320" cy="2368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33076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33076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 and x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3544920"/>
              <a:ext cx="6781320" cy="235440"/>
              <a:chOff x="0" y="3544920"/>
              <a:chExt cx="6781320" cy="23544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35449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35449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2, w, x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3780360"/>
              <a:ext cx="6781320" cy="236880"/>
              <a:chOff x="0" y="3780360"/>
              <a:chExt cx="6781320" cy="2368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37803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7803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, x, and y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017600"/>
              <a:ext cx="6781320" cy="237240"/>
              <a:chOff x="0" y="4017600"/>
              <a:chExt cx="6781320" cy="237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0176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0176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3, w, x, y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4255200"/>
              <a:ext cx="6781320" cy="235440"/>
              <a:chOff x="0" y="4255200"/>
              <a:chExt cx="6781320" cy="2354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4255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4255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, x, y, and z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4490640"/>
              <a:ext cx="6781320" cy="236880"/>
              <a:chOff x="0" y="4490640"/>
              <a:chExt cx="6781320" cy="23688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44906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4906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4, w, x, y, z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727880"/>
              <a:ext cx="6781320" cy="236880"/>
              <a:chOff x="0" y="4727880"/>
              <a:chExt cx="6781320" cy="23688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7278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7278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4965120"/>
              <a:ext cx="6781320" cy="235440"/>
              <a:chOff x="0" y="4965120"/>
              <a:chExt cx="6781320" cy="23544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49651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651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5200560"/>
              <a:ext cx="6781320" cy="236880"/>
              <a:chOff x="0" y="5200560"/>
              <a:chExt cx="6781320" cy="23688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52005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005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5437800"/>
              <a:ext cx="6781320" cy="237240"/>
              <a:chOff x="0" y="5437800"/>
              <a:chExt cx="6781320" cy="237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54378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4378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5675040"/>
              <a:ext cx="6781320" cy="235440"/>
              <a:chOff x="0" y="5675040"/>
              <a:chExt cx="6781320" cy="23544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567504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67504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...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5910840"/>
              <a:ext cx="6781320" cy="236880"/>
              <a:chOff x="0" y="5910840"/>
              <a:chExt cx="6781320" cy="23688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59108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59108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6148080"/>
              <a:ext cx="6781320" cy="236880"/>
              <a:chOff x="0" y="6148080"/>
              <a:chExt cx="6781320" cy="23688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6148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6148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6384960"/>
              <a:ext cx="6781320" cy="235440"/>
              <a:chOff x="0" y="6384960"/>
              <a:chExt cx="6781320" cy="23544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638496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8496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6620760"/>
              <a:ext cx="6781320" cy="236880"/>
              <a:chOff x="0" y="6620760"/>
              <a:chExt cx="6781320" cy="23688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66207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6207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_list a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Access argu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arg(ap, doubl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4 En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end(ap)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otal/1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59092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 = 3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 and x is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, x, and y is 20.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, x, y, and z is 17.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6781320" cy="2133720"/>
            <a:chOff x="0" y="0"/>
            <a:chExt cx="6781320" cy="2133720"/>
          </a:xfrm>
        </p:grpSpPr>
        <p:grpSp>
          <p:nvGrpSpPr>
            <p:cNvPr id="198" name=""/>
            <p:cNvGrpSpPr/>
            <p:nvPr/>
          </p:nvGrpSpPr>
          <p:grpSpPr>
            <a:xfrm>
              <a:off x="0" y="685800"/>
              <a:ext cx="6780960" cy="1447920"/>
              <a:chOff x="0" y="685800"/>
              <a:chExt cx="6780960" cy="14479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0" y="685800"/>
                <a:ext cx="6780960" cy="241200"/>
                <a:chOff x="0" y="685800"/>
                <a:chExt cx="6780960" cy="241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6858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0" y="6858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fo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( j = 1; j &lt;= i; j++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0" y="927000"/>
                <a:ext cx="6780960" cy="241200"/>
                <a:chOff x="0" y="927000"/>
                <a:chExt cx="6780960" cy="241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0" y="9270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0" y="9270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total += va_arg( ap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0" y="1168200"/>
                <a:ext cx="6780960" cy="241200"/>
                <a:chOff x="0" y="1168200"/>
                <a:chExt cx="6780960" cy="241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0" y="11682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0" y="11682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0" y="1409760"/>
                <a:ext cx="6780960" cy="241200"/>
                <a:chOff x="0" y="1409760"/>
                <a:chExt cx="6780960" cy="241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0" y="14097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0" y="14097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va_end( ap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0" y="1650960"/>
                <a:ext cx="6780960" cy="241200"/>
                <a:chOff x="0" y="1650960"/>
                <a:chExt cx="6780960" cy="241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0" y="16509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0" y="16509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total / i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0" y="1892520"/>
                <a:ext cx="6780960" cy="241200"/>
                <a:chOff x="0" y="1892520"/>
                <a:chExt cx="6780960" cy="241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0" y="189252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0" y="189252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0" y="0"/>
              <a:ext cx="6781320" cy="685800"/>
              <a:chOff x="0" y="0"/>
              <a:chExt cx="6781320" cy="6858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0" y="0"/>
                <a:ext cx="6781320" cy="258840"/>
                <a:chOff x="0" y="0"/>
                <a:chExt cx="6781320" cy="258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0" y="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0" y="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0" y="214200"/>
                <a:ext cx="6781320" cy="257400"/>
                <a:chOff x="0" y="214200"/>
                <a:chExt cx="6781320" cy="257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0" y="214200"/>
                  <a:ext cx="6781320" cy="257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214200"/>
                  <a:ext cx="6781320" cy="257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va_start( ap, i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0" y="426960"/>
                <a:ext cx="6781320" cy="258840"/>
                <a:chOff x="0" y="426960"/>
                <a:chExt cx="6781320" cy="258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42696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42696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 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argumen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DOS or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mai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int argc, char *argv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rguments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argv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ames of arguments i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py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npu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outpu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8:11:54Z</dcterms:created>
  <dc:creator>kalid</dc:creator>
  <dc:description/>
  <dc:language>en-US</dc:language>
  <cp:lastModifiedBy>Matty</cp:lastModifiedBy>
  <dcterms:modified xsi:type="dcterms:W3CDTF">2000-12-22T19:49:37Z</dcterms:modified>
  <cp:revision>477</cp:revision>
  <dc:subject/>
  <dc:title>Chapter 18 - C Legacy Code Topics</dc:title>
</cp:coreProperties>
</file>