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A015-338C-49B8-994C-843024AE4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ADEB-3151-4AD5-8CEC-9FB21B6A2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8003-31DA-4F4B-868C-928BF7786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7B79-9E76-4A56-AAC1-E01A4435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9BE3-2BFD-43DA-A499-D1528C8302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2E84-D9E3-46D8-A27E-52AB3969D9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86EE-18DB-46F7-A625-E99DFB5526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3B95-A9CD-4335-86F8-AD56E4CE2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A90E-4F06-43ED-9151-A3995919A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FB22-2717-4D42-926C-0B82C6CDF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CE99-841A-4223-BD1E-4FA26F6C9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3CAF-67E0-413A-ABCF-0C345E601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875A-1F1B-4DBF-9A79-4FB5D3840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F933-A9EF-4F99-95A3-7E3D2F1003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C5F9-FE4C-4D22-9D6B-240CAB631B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5750-2F65-48CB-8D84-9AB1780EC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8B99-AD14-4989-A8F4-E7C7FE5E0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339A-0811-46C5-AF6B-5E4709945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489E-B1BF-4A2F-BA76-3F2F5EBB4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E02E-DF3D-4AEF-8399-1976AFFE5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7552-2DE9-40CF-90F4-DE78A8D14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41AD-4BF2-45C4-A65D-E9BB0E942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F34A-98F0-46A8-BB5A-E2845E143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3CEE-ECE6-4FAA-BE0A-6BD522F56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EB7C-336D-44B1-8FCE-24744092B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B626-727D-477B-ABF3-E725B7697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1536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at Is a Computer?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uter Organ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olution of Operating System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ersonal Computing, Distributed Computing and Client/Server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ut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chine Languages, Assembly Languages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History of 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C Standard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Key Software Trend: Object Technolog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and C++ How to Progra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and Java How to Program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ther High-lev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d Programm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Basics of a typical C Program Development Environmen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22D6-BEE3-4B91-81BF-D0DC6436DF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by Ritchie from two previous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develop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write modern 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 (por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late 1970's C had evolved to "Traditional C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slight variations of C existed, and were incompat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ittee formed to create a "unambiguous, machine-independent"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created in 1989, updated in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8C93-8E80-499F-ACA5-DDF0734501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The C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grams consist of pieces/modules call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grammer can create his ow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: the programmer knows exactly 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: time consu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s will often use the C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se as buildin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re-inventing the wh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premade function exists, generally best to use it rather than write your 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functions carefully written, efficient, and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A077-D95E-401E-8B09-21CA55FAE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items in the real wor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,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BD24-F74E-4B43-B135-1B61F94EF7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++ and C++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set of C developed by Bjarne Stroustrup at Bell L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Spruces up" C, and provides object-oriented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design very power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100 fold increase in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ant language in industry and academ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cause C++ includes C, some feel it is best to master C, then learn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 Chapter 15, we begin our introduction to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26D9-49F1-4A7B-879D-12FCE65E1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6833-B502-40AB-94B4-23BF279146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ded for academ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22AF-B7BD-4890-A127-1A1AB1DC31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ing that many activities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DB1F-C159-4A5E-8A8B-EA920A2EB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 Program Development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0666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is crea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ditor and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i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128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1285920"/>
            <a:ext cx="4800600" cy="5572080"/>
            <a:chOff x="4419720" y="1285920"/>
            <a:chExt cx="4800600" cy="5572080"/>
          </a:xfrm>
        </p:grpSpPr>
        <p:sp>
          <p:nvSpPr>
            <p:cNvPr id="132" name=""/>
            <p:cNvSpPr/>
            <p:nvPr/>
          </p:nvSpPr>
          <p:spPr>
            <a:xfrm>
              <a:off x="7238880" y="182880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4267080"/>
              <a:ext cx="1828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 in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5334120"/>
              <a:ext cx="1828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takes e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 executes it, possibly storing new data values as the program exec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8880" y="24382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 object code and stor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38880" y="3276720"/>
              <a:ext cx="1905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385596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252900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85596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46600" y="4000680"/>
              <a:ext cx="7398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2840" y="152388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22840" y="21477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2840" y="40845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3657600"/>
              <a:ext cx="1498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ary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68476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908760" y="3733200"/>
              <a:ext cx="342360" cy="1524600"/>
              <a:chOff x="6908760" y="3733200"/>
              <a:chExt cx="342360" cy="15246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08760" y="37339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908760" y="44946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079760" y="44956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7079760" y="37328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908760" y="5333400"/>
              <a:ext cx="342360" cy="1524600"/>
              <a:chOff x="6908760" y="5333400"/>
              <a:chExt cx="34236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908760" y="53341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908760" y="60948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079760" y="60958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7079760" y="53330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908760" y="1294200"/>
              <a:ext cx="342360" cy="458640"/>
              <a:chOff x="6908760" y="1294200"/>
              <a:chExt cx="342360" cy="458640"/>
            </a:xfrm>
          </p:grpSpPr>
          <p:sp>
            <p:nvSpPr>
              <p:cNvPr id="157" name=""/>
              <p:cNvSpPr/>
              <p:nvPr/>
            </p:nvSpPr>
            <p:spPr>
              <a:xfrm>
                <a:off x="690876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08760" y="15220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079760" y="152352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707976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909120" y="190980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909120" y="213732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080120" y="213840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7080120" y="190872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52900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4600" y="2671920"/>
              <a:ext cx="9781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22840" y="27576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908760" y="2516760"/>
              <a:ext cx="342360" cy="458640"/>
              <a:chOff x="6908760" y="2516760"/>
              <a:chExt cx="342360" cy="458640"/>
            </a:xfrm>
          </p:grpSpPr>
          <p:sp>
            <p:nvSpPr>
              <p:cNvPr id="169" name=""/>
              <p:cNvSpPr/>
              <p:nvPr/>
            </p:nvSpPr>
            <p:spPr>
              <a:xfrm>
                <a:off x="6908760" y="2517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908760" y="27446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079760" y="27460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7079760" y="25164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622840" y="336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9120" y="31258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909120" y="3353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080120" y="33544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080120" y="3124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419720" y="1285920"/>
              <a:ext cx="1199880" cy="457200"/>
              <a:chOff x="4419720" y="1285920"/>
              <a:chExt cx="119988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4419720" y="128592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19720" y="128592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7320" y="14299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419720" y="1919160"/>
              <a:ext cx="1199880" cy="457200"/>
              <a:chOff x="4419720" y="1919160"/>
              <a:chExt cx="1199880" cy="457200"/>
            </a:xfrm>
          </p:grpSpPr>
          <p:sp>
            <p:nvSpPr>
              <p:cNvPr id="183" name=""/>
              <p:cNvSpPr/>
              <p:nvPr/>
            </p:nvSpPr>
            <p:spPr>
              <a:xfrm>
                <a:off x="4419720" y="19191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4419720" y="1919160"/>
                <a:ext cx="1199880" cy="457200"/>
                <a:chOff x="4419720" y="1919160"/>
                <a:chExt cx="1199880" cy="4572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419720" y="1919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90280" y="205308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4419720" y="3137040"/>
              <a:ext cx="1199880" cy="457200"/>
              <a:chOff x="4419720" y="3137040"/>
              <a:chExt cx="119988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4419720" y="31370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419720" y="3137040"/>
                <a:ext cx="1199880" cy="457200"/>
                <a:chOff x="4419720" y="3137040"/>
                <a:chExt cx="1199880" cy="457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419720" y="31370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47320" y="32716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4419720" y="5456160"/>
              <a:ext cx="1199880" cy="457200"/>
              <a:chOff x="4419720" y="5456160"/>
              <a:chExt cx="1199880" cy="4572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19720" y="5456160"/>
                <a:ext cx="1199880" cy="457200"/>
                <a:chOff x="4419720" y="5456160"/>
                <a:chExt cx="1199880" cy="4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419720" y="5456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04720" y="573552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419720" y="5456160"/>
                <a:ext cx="1199880" cy="457200"/>
                <a:chOff x="4419720" y="5456160"/>
                <a:chExt cx="1199880" cy="45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54561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876200" y="560844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5181480" y="52578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ary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37280" y="5595840"/>
              <a:ext cx="773280" cy="1212840"/>
              <a:chOff x="6137280" y="5595840"/>
              <a:chExt cx="773280" cy="1212840"/>
            </a:xfrm>
          </p:grpSpPr>
          <p:sp>
            <p:nvSpPr>
              <p:cNvPr id="201" name=""/>
              <p:cNvSpPr/>
              <p:nvPr/>
            </p:nvSpPr>
            <p:spPr>
              <a:xfrm>
                <a:off x="6459480" y="635940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37280" y="559584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38360" y="559692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38360" y="57495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38360" y="589932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38360" y="6051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38360" y="62024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38360" y="635436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38360" y="66574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81080" y="635436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137280" y="4008600"/>
              <a:ext cx="773280" cy="1214280"/>
              <a:chOff x="6137280" y="4008600"/>
              <a:chExt cx="773280" cy="1214280"/>
            </a:xfrm>
          </p:grpSpPr>
          <p:sp>
            <p:nvSpPr>
              <p:cNvPr id="212" name=""/>
              <p:cNvSpPr/>
              <p:nvPr/>
            </p:nvSpPr>
            <p:spPr>
              <a:xfrm>
                <a:off x="6137280" y="40086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38360" y="4009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38360" y="41619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38360" y="4314600"/>
                <a:ext cx="772200" cy="908280"/>
                <a:chOff x="6138360" y="4314600"/>
                <a:chExt cx="772200" cy="908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459480" y="47739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8360" y="43146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38360" y="44658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38360" y="4617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138360" y="47689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38360" y="50720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80720" y="47689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6137280" y="2608200"/>
              <a:ext cx="797040" cy="309600"/>
              <a:chOff x="6137280" y="2608200"/>
              <a:chExt cx="79704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137280" y="2609280"/>
                <a:ext cx="797040" cy="308520"/>
                <a:chOff x="6137280" y="2609280"/>
                <a:chExt cx="79704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137280" y="28407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38000" y="264852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7280" y="260928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137280" y="28404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38000" y="264744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5200" y="283968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43560" y="270936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43040" y="264096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37280" y="26082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137280" y="3211560"/>
              <a:ext cx="797040" cy="309600"/>
              <a:chOff x="6137280" y="3211560"/>
              <a:chExt cx="79704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137280" y="3212640"/>
                <a:ext cx="797040" cy="308520"/>
                <a:chOff x="6137280" y="3212640"/>
                <a:chExt cx="79704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37280" y="344412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8000" y="325188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37280" y="321264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137280" y="344376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38000" y="325080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145200" y="344304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43560" y="331272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43040" y="324432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37280" y="321156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637160" y="4586400"/>
              <a:ext cx="849240" cy="309600"/>
              <a:chOff x="4637160" y="4586400"/>
              <a:chExt cx="849240" cy="3096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637880" y="4586760"/>
                <a:ext cx="848520" cy="309240"/>
                <a:chOff x="4637880" y="4586760"/>
                <a:chExt cx="848520" cy="309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637880" y="4818960"/>
                  <a:ext cx="8485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38600" y="4626000"/>
                  <a:ext cx="8478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37880" y="4586760"/>
                  <a:ext cx="8485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637160" y="4817880"/>
                <a:ext cx="8485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37880" y="4625640"/>
                <a:ext cx="8478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5440" y="4817880"/>
                <a:ext cx="8323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6760" y="4686840"/>
                <a:ext cx="4089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44000" y="4618800"/>
                <a:ext cx="83844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7160" y="4586400"/>
                <a:ext cx="8485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022720" y="431316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5360" y="55627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172200" y="1981080"/>
              <a:ext cx="797040" cy="309600"/>
              <a:chOff x="6172200" y="1981080"/>
              <a:chExt cx="797040" cy="3096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172200" y="1982160"/>
                <a:ext cx="797040" cy="308520"/>
                <a:chOff x="6172200" y="1982160"/>
                <a:chExt cx="797040" cy="3085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172200" y="221364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72920" y="202140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72200" y="19821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172200" y="221328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920" y="202032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80120" y="221256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78480" y="208224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77960" y="201384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2200" y="198108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172200" y="1371600"/>
              <a:ext cx="797040" cy="309600"/>
              <a:chOff x="6172200" y="1371600"/>
              <a:chExt cx="797040" cy="3096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72200" y="1372680"/>
                <a:ext cx="797040" cy="308520"/>
                <a:chOff x="6172200" y="1372680"/>
                <a:chExt cx="797040" cy="308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72200" y="160416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72920" y="1411920"/>
                  <a:ext cx="79632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72200" y="1372680"/>
                  <a:ext cx="79704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6172200" y="16038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72920" y="1410840"/>
                <a:ext cx="79632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80120" y="1603080"/>
                <a:ext cx="7815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78480" y="1472760"/>
                <a:ext cx="384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77960" y="1404360"/>
                <a:ext cx="7876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1371600"/>
                <a:ext cx="79704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ACC0-6502-4E28-96CC-1FAE80DE4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the following approximately d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memory in which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 (such as disk stor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hold programs and data over the longer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s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3F94-7EA1-493F-B824-92F80D149A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ransfer of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BFD2-CE4D-40EB-BDC1-608BBBD9D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ardware Tr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istory of the Intern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istory of the World Wide Web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neral Notes About C and this 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4A67-1B8A-41F9-B05A-947E8CF75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AD91-25EC-4929-8A3D-039AA774AD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General Notes About C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are convoluted are difficult to read, understand, and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a porta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portability is an elusive go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o a careful walkthrough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details and subtleties are not co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need additional technical det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C standard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book by Kernigan and Ritc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AEDC-8674-40C2-BE43-2E578DAF54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proper programming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ook also c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3 introduce the C++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s 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0 introduce the Jav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rse is appropria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chnically oriented people with little or no programming experi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rienced programmers who want a deep and rigorous treatment of th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E2E2-F6CE-4998-935C-3E078754E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s process data under the control of sets of instructions called computer progr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and processing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62FA-8F7D-402B-B1E5-80E5C9EDF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7240" indent="-414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B4F3-F839-4F99-8224-CFA20BAC7E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resources are shared by many jobs or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runs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C0A1-1E13-4F3B-8BB9-AD78D39140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 across computer networks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7FE1-4118-45A9-BE8A-8909DCD0BA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  BAS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OVER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217F-D2DE-471A-8D8B-DC7F304DB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s similar to everyday 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6A9-898A-4F09-86E4-EBBBF58794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jason</cp:lastModifiedBy>
  <dcterms:modified xsi:type="dcterms:W3CDTF">2000-12-11T14:17:08Z</dcterms:modified>
  <cp:revision>447</cp:revision>
  <dc:subject/>
  <dc:title>Chapter 1 – Introduction to Computers and C++ Programming</dc:title>
</cp:coreProperties>
</file>