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E81D-6EDC-44AE-8B06-2273253DE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BD5C-3BDE-4213-A9BB-B3E7BF20E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C138-1BAB-4937-AFA2-A71EE9F3A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26CE-6540-47A7-AC32-D49F9F31D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8EAA-C07C-45F0-904A-59FACE5FB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F1FE-306A-47C4-B729-8E702E1815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072C-D052-419C-9429-44F1C1985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6020-D592-45E8-A2DD-F3823C3CFA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56F5-8D79-4055-BA29-8A7D96D32B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FF1B-7579-4D74-9CF2-AFF55E3387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8BDE-A389-4447-B61D-466A16860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BCE7-BA32-4E28-87DA-22A938EAE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8821-AAC3-4FD7-8FC5-F992DB173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9FA3-76E5-496E-8554-F2A9BCC1D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BD33-5994-4895-844C-F84A56FF8A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C348-2249-46E7-A2B2-07823F4BE9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8CAF-73EF-4D8D-A3BB-4AF31296B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35C6-C0D7-4F21-9B8F-1B9ED4DE8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AEE2-B0AD-42E3-924E-03F420B09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A661-1992-4D26-AF51-81C62EDC9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8A36-C88D-4D8C-8CA4-14E7E5C7C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A6D6-8916-463A-B0B0-A82C43B92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27BE-49EB-4C78-AFD4-A1E2E42D9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7478-9098-4511-84A7-A815FB936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568E-9424-4822-B43D-762BFB233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4C1-4F23-4CAA-A319-FC76AC9A9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8001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Modules in 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: Call by Value and Call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ath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math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file with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in other fil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: Call by Value and Call by 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 invok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argument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in function do not e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function does not need to modify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accidenta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original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in function e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trust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, we focus on 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"random"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t lea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276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rand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sequence for every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get a 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+ ( rand() %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 %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random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+ ( rand() %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an integer seed and jumps to that location in its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NULL ) );  //load &lt;time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time at which the program was compiled in seco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s"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6780960" cy="284760"/>
              <a:chOff x="0" y="0"/>
              <a:chExt cx="6780960" cy="28476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9: fig05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284760"/>
              <a:ext cx="6780960" cy="284760"/>
              <a:chOff x="0" y="284760"/>
              <a:chExt cx="6780960" cy="28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284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84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andomizing die-roll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569520"/>
              <a:ext cx="6780960" cy="284760"/>
              <a:chOff x="0" y="569520"/>
              <a:chExt cx="6780960" cy="28476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569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569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54640"/>
              <a:ext cx="6780960" cy="284760"/>
              <a:chOff x="0" y="854640"/>
              <a:chExt cx="6780960" cy="2847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546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546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39400"/>
              <a:ext cx="6780960" cy="284760"/>
              <a:chOff x="0" y="1139400"/>
              <a:chExt cx="6780960" cy="28476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39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39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424520"/>
              <a:ext cx="6780960" cy="284760"/>
              <a:chOff x="0" y="1424520"/>
              <a:chExt cx="6780960" cy="28476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424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24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09280"/>
              <a:ext cx="6780960" cy="284760"/>
              <a:chOff x="0" y="1709280"/>
              <a:chExt cx="6780960" cy="28476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09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09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94400"/>
              <a:ext cx="6780960" cy="284760"/>
              <a:chOff x="0" y="1994400"/>
              <a:chExt cx="6780960" cy="28476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94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94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279160"/>
              <a:ext cx="6780960" cy="284760"/>
              <a:chOff x="0" y="2279160"/>
              <a:chExt cx="6780960" cy="28476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279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79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564280"/>
              <a:ext cx="6780960" cy="284760"/>
              <a:chOff x="0" y="2564280"/>
              <a:chExt cx="6780960" cy="2847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564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564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849040"/>
              <a:ext cx="6780960" cy="284760"/>
              <a:chOff x="0" y="2849040"/>
              <a:chExt cx="6780960" cy="28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849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849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seed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134160"/>
              <a:ext cx="6780960" cy="284760"/>
              <a:chOff x="0" y="3134160"/>
              <a:chExt cx="6780960" cy="28476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134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134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u", &amp;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418920"/>
              <a:ext cx="6780960" cy="284760"/>
              <a:chOff x="0" y="3418920"/>
              <a:chExt cx="6780960" cy="2847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418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418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704040"/>
              <a:ext cx="6780960" cy="284760"/>
              <a:chOff x="0" y="3704040"/>
              <a:chExt cx="6780960" cy="28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704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704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988800"/>
              <a:ext cx="6780960" cy="284760"/>
              <a:chOff x="0" y="3988800"/>
              <a:chExt cx="6780960" cy="2847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988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988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4273920"/>
              <a:ext cx="6780960" cy="284760"/>
              <a:chOff x="0" y="4273920"/>
              <a:chExt cx="6780960" cy="28476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4273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4273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10d", 1 + ( rand() % 6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4558680"/>
              <a:ext cx="6780960" cy="284760"/>
              <a:chOff x="0" y="4558680"/>
              <a:chExt cx="6780960" cy="2847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4558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558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843440"/>
              <a:ext cx="6780960" cy="284760"/>
              <a:chOff x="0" y="4843440"/>
              <a:chExt cx="6780960" cy="28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843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843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5128560"/>
              <a:ext cx="6780960" cy="284760"/>
              <a:chOff x="0" y="5128560"/>
              <a:chExt cx="6780960" cy="2847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51285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51285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5413320"/>
              <a:ext cx="6780960" cy="284760"/>
              <a:chOff x="0" y="5413320"/>
              <a:chExt cx="6780960" cy="28476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5413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5413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5698440"/>
              <a:ext cx="6780960" cy="284760"/>
              <a:chOff x="0" y="5698440"/>
              <a:chExt cx="6780960" cy="2847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5698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5698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5983200"/>
              <a:ext cx="6780960" cy="284760"/>
              <a:chOff x="0" y="5983200"/>
              <a:chExt cx="6780960" cy="2847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5983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5983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6268320"/>
              <a:ext cx="6780960" cy="284760"/>
              <a:chOff x="0" y="6268320"/>
              <a:chExt cx="6780960" cy="28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6268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6268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9907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6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1         3         6        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82880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6         1         6         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6         1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 Game of Ch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 - 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0: fig05_10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ap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ameStatus,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NULL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rst roll of the dic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win on first rol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se on first rol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member po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Point is %d\n", myPo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0 )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keep rolling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388" name=""/>
            <p:cNvGrpSpPr/>
            <p:nvPr/>
          </p:nvGrpSpPr>
          <p:grpSpPr>
            <a:xfrm>
              <a:off x="0" y="0"/>
              <a:ext cx="6780960" cy="235440"/>
              <a:chOff x="0" y="0"/>
              <a:chExt cx="6780960" cy="2354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win by making po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235440"/>
              <a:ext cx="6780960" cy="235440"/>
              <a:chOff x="0" y="235440"/>
              <a:chExt cx="6780960" cy="2354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470880"/>
              <a:ext cx="6780960" cy="235440"/>
              <a:chOff x="0" y="470880"/>
              <a:chExt cx="6780960" cy="2354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706680"/>
              <a:ext cx="6780960" cy="235440"/>
              <a:chOff x="0" y="706680"/>
              <a:chExt cx="6780960" cy="2354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se by rolling 7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942120"/>
              <a:ext cx="6780960" cy="235440"/>
              <a:chOff x="0" y="942120"/>
              <a:chExt cx="6780960" cy="2354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1177560"/>
              <a:ext cx="6780960" cy="235440"/>
              <a:chOff x="0" y="1177560"/>
              <a:chExt cx="6780960" cy="23544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413360"/>
              <a:ext cx="6780960" cy="235440"/>
              <a:chOff x="0" y="1413360"/>
              <a:chExt cx="6780960" cy="23544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413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413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648800"/>
              <a:ext cx="6780960" cy="235440"/>
              <a:chOff x="0" y="1648800"/>
              <a:chExt cx="6780960" cy="23544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884600"/>
              <a:ext cx="6780960" cy="235440"/>
              <a:chOff x="0" y="1884600"/>
              <a:chExt cx="6780960" cy="23544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884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884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Player win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2120040"/>
              <a:ext cx="6780960" cy="235440"/>
              <a:chOff x="0" y="2120040"/>
              <a:chExt cx="6780960" cy="2354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2120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2120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2355480"/>
              <a:ext cx="6780960" cy="235440"/>
              <a:chOff x="0" y="2355480"/>
              <a:chExt cx="6780960" cy="23544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2355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2355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Player lose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591280"/>
              <a:ext cx="6780960" cy="235440"/>
              <a:chOff x="0" y="2591280"/>
              <a:chExt cx="6780960" cy="23544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5912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5912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826720"/>
              <a:ext cx="6780960" cy="235440"/>
              <a:chOff x="0" y="2826720"/>
              <a:chExt cx="6780960" cy="23544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8267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8267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3062520"/>
              <a:ext cx="6780960" cy="235440"/>
              <a:chOff x="0" y="3062520"/>
              <a:chExt cx="6780960" cy="2354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30625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30625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3297960"/>
              <a:ext cx="6780960" cy="235440"/>
              <a:chOff x="0" y="3297960"/>
              <a:chExt cx="6780960" cy="23544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32979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32979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3533760"/>
              <a:ext cx="6780960" cy="235440"/>
              <a:chOff x="0" y="3533760"/>
              <a:chExt cx="6780960" cy="2354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35337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35337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769200"/>
              <a:ext cx="6780960" cy="235440"/>
              <a:chOff x="0" y="3769200"/>
              <a:chExt cx="6780960" cy="2354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7692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7692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04640"/>
              <a:ext cx="6780960" cy="235440"/>
              <a:chOff x="0" y="4004640"/>
              <a:chExt cx="6780960" cy="2354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046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046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4240440"/>
              <a:ext cx="6780960" cy="235440"/>
              <a:chOff x="0" y="4240440"/>
              <a:chExt cx="6780960" cy="2354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4240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4240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4475880"/>
              <a:ext cx="6780960" cy="235440"/>
              <a:chOff x="0" y="4475880"/>
              <a:chExt cx="6780960" cy="23544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4475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4475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(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711680"/>
              <a:ext cx="6780960" cy="235440"/>
              <a:chOff x="0" y="4711680"/>
              <a:chExt cx="6780960" cy="2354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711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711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(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947120"/>
              <a:ext cx="6780960" cy="235440"/>
              <a:chOff x="0" y="4947120"/>
              <a:chExt cx="6780960" cy="23544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947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947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5182560"/>
              <a:ext cx="6780960" cy="289800"/>
              <a:chOff x="0" y="5182560"/>
              <a:chExt cx="6780960" cy="2898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5182560"/>
                <a:ext cx="6780960" cy="28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5182560"/>
                <a:ext cx="6780960" cy="28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Player rolled %d + %d = %d\n", die1, die2, workS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472360"/>
              <a:ext cx="6780960" cy="235440"/>
              <a:chOff x="0" y="5472360"/>
              <a:chExt cx="6780960" cy="23544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472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472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708160"/>
              <a:ext cx="6780960" cy="235440"/>
              <a:chOff x="0" y="5708160"/>
              <a:chExt cx="6780960" cy="23544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7081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0" y="5708160"/>
                <a:ext cx="6780600" cy="235440"/>
                <a:chOff x="0" y="5708160"/>
                <a:chExt cx="6780600" cy="235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0" y="5708160"/>
                  <a:ext cx="6780600" cy="235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5708160"/>
                  <a:ext cx="678060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5" name=""/>
          <p:cNvSpPr/>
          <p:nvPr/>
        </p:nvSpPr>
        <p:spPr>
          <a:xfrm>
            <a:off x="0" y="59436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w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94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4 + 6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2 + 4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4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13372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3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is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4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5 + 4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4 + 6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5 + 2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smaller pieces are called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dur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ow long an object exists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object can be referenc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files in which an identifier is known (more in Chapter 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fault for local variab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double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ries to put variable into high-speed regi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used for automatic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 of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ocal variables defined in function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fault for global variabl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 defined outside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global variables, function definitions,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only for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 declared inside a block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cope begins at declaration, ends at righ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"hidden" from inner blocks if there is a variable with the same name in the inner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480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2: fig05_1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 scoping examp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1325520"/>
              <a:ext cx="6780960" cy="221040"/>
              <a:chOff x="0" y="1325520"/>
              <a:chExt cx="6780960" cy="22104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1767600"/>
              <a:ext cx="6780960" cy="220680"/>
              <a:chOff x="0" y="1767600"/>
              <a:chExt cx="6780960" cy="22068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lobal variab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cal variable to mai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093480"/>
              <a:ext cx="6780960" cy="221040"/>
              <a:chOff x="0" y="3093480"/>
              <a:chExt cx="6780960" cy="22104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"local x in out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3535560"/>
              <a:ext cx="6780960" cy="220680"/>
              <a:chOff x="0" y="3535560"/>
              <a:chExt cx="6780960" cy="22068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rt new sco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local x in inn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419720"/>
              <a:ext cx="6780960" cy="220680"/>
              <a:chOff x="0" y="4419720"/>
              <a:chExt cx="6780960" cy="22068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end new sco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4640400"/>
              <a:ext cx="6780960" cy="220680"/>
              <a:chOff x="0" y="4640400"/>
              <a:chExt cx="6780960" cy="2206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4861440"/>
              <a:ext cx="6780960" cy="220680"/>
              <a:chOff x="0" y="4861440"/>
              <a:chExt cx="6780960" cy="22068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out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082480"/>
              <a:ext cx="6780960" cy="221040"/>
              <a:chOff x="0" y="5082480"/>
              <a:chExt cx="6780960" cy="22104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303520"/>
              <a:ext cx="6780960" cy="220680"/>
              <a:chOff x="0" y="5303520"/>
              <a:chExt cx="6780960" cy="22068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has autom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5524560"/>
              <a:ext cx="6780960" cy="220680"/>
              <a:chOff x="0" y="5524560"/>
              <a:chExt cx="6780960" cy="22068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b has st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5745600"/>
              <a:ext cx="6780960" cy="220680"/>
              <a:chOff x="0" y="5745600"/>
              <a:chExt cx="6780960" cy="22068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 uses glob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5966280"/>
              <a:ext cx="6780960" cy="221040"/>
              <a:chOff x="0" y="5966280"/>
              <a:chExt cx="6780960" cy="2210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reinitializes autom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187680"/>
              <a:ext cx="6780960" cy="220680"/>
              <a:chOff x="0" y="6187680"/>
              <a:chExt cx="6780960" cy="22068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tic local x retains its previous valu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6408360"/>
              <a:ext cx="6780960" cy="220680"/>
              <a:chOff x="0" y="6408360"/>
              <a:chExt cx="6780960" cy="22068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lobal x also retains its valu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itialized each time a is calle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local x in a is %d after entering a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a is %d before exiting a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tic initialization on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rst time b is calle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printf( "\nlocal static x is %d on entering b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printf( "local static x is %d on exiting b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global x is %d on entering c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global x is %d on exiting c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a problem up 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not do resembles origina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launches a new copy of itself (recursion step) to solve what it 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plugged in, works its way up and solves who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! = 5 * 4 * 3 * 2 *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ce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! = 4 * 3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mpute factorials recursive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ve base cas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en plug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! = 2 * 1! = 2 * 1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! = 3 * 2! = 3 * 2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Using Recursion: The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is the sum of the previous tw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recursivel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 n ) = fib( n - 1 ) + fib( n –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de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baonacc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0 || n == 1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onacci( n - 1)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Modules in 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es in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ombine user-defined functions with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standard library has a wide variety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unction name and arguments (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erforms operations or mani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return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all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ss asks worker to complete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 gets information, does task, returns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: boss does not know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Using Recursion: The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recursive calls to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38080" y="1855800"/>
            <a:ext cx="6933240" cy="3553560"/>
            <a:chOff x="838080" y="1855800"/>
            <a:chExt cx="6933240" cy="3553560"/>
          </a:xfrm>
        </p:grpSpPr>
        <p:sp>
          <p:nvSpPr>
            <p:cNvPr id="673" name=""/>
            <p:cNvSpPr/>
            <p:nvPr/>
          </p:nvSpPr>
          <p:spPr>
            <a:xfrm>
              <a:off x="1558080" y="4878720"/>
              <a:ext cx="1888920" cy="13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95400" y="4878720"/>
              <a:ext cx="1888200" cy="13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82400" y="3861720"/>
              <a:ext cx="188892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8080" y="3861720"/>
              <a:ext cx="434376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88960" y="2859840"/>
              <a:ext cx="453312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25520" y="185580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41840" y="29642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20960" y="29642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71760" y="397764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03120" y="39776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4920" y="39776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50680" y="499392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80080" y="499392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3480" y="2282400"/>
              <a:ext cx="360" cy="57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59760" y="3391560"/>
              <a:ext cx="641520" cy="469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18920" y="3385800"/>
              <a:ext cx="409320" cy="4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83440" y="4395960"/>
              <a:ext cx="36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9560" y="4395960"/>
              <a:ext cx="36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92480" y="190728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91520" y="302184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21040" y="301896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60360" y="403776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2160" y="403776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42320" y="403776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33840" y="506592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42360" y="506592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43920" y="403776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81920" y="4047120"/>
              <a:ext cx="2523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19560" y="3021840"/>
              <a:ext cx="251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04960" y="301572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0" y="0"/>
            <a:ext cx="6780960" cy="5562720"/>
            <a:chOff x="0" y="0"/>
            <a:chExt cx="6780960" cy="5562720"/>
          </a:xfrm>
        </p:grpSpPr>
        <p:grpSp>
          <p:nvGrpSpPr>
            <p:cNvPr id="708" name=""/>
            <p:cNvGrpSpPr/>
            <p:nvPr/>
          </p:nvGrpSpPr>
          <p:grpSpPr>
            <a:xfrm>
              <a:off x="0" y="0"/>
              <a:ext cx="6780960" cy="222480"/>
              <a:chOff x="0" y="0"/>
              <a:chExt cx="6780960" cy="22248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5: fig05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222480"/>
              <a:ext cx="6780960" cy="222480"/>
              <a:chOff x="0" y="222480"/>
              <a:chExt cx="6780960" cy="22248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222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222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cursive fibonacci func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44960"/>
              <a:ext cx="6780960" cy="222480"/>
              <a:chOff x="0" y="444960"/>
              <a:chExt cx="6780960" cy="22248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449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449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667440"/>
              <a:ext cx="6780960" cy="222480"/>
              <a:chOff x="0" y="667440"/>
              <a:chExt cx="6780960" cy="22248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6674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6674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889920"/>
              <a:ext cx="6780960" cy="222480"/>
              <a:chOff x="0" y="889920"/>
              <a:chExt cx="6780960" cy="22248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8899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8899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1112400"/>
              <a:ext cx="6780960" cy="222480"/>
              <a:chOff x="0" y="1112400"/>
              <a:chExt cx="6780960" cy="22248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11124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11124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1334880"/>
              <a:ext cx="6780960" cy="222480"/>
              <a:chOff x="0" y="1334880"/>
              <a:chExt cx="6780960" cy="22248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13348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13348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1557360"/>
              <a:ext cx="6780960" cy="222480"/>
              <a:chOff x="0" y="1557360"/>
              <a:chExt cx="6780960" cy="22248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15573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5573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1779840"/>
              <a:ext cx="6780960" cy="222480"/>
              <a:chOff x="0" y="1779840"/>
              <a:chExt cx="6780960" cy="22248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7798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17798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2002320"/>
              <a:ext cx="6780960" cy="222480"/>
              <a:chOff x="0" y="2002320"/>
              <a:chExt cx="6780960" cy="22248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2002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2002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2224800"/>
              <a:ext cx="6780960" cy="222480"/>
              <a:chOff x="0" y="2224800"/>
              <a:chExt cx="6780960" cy="22248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2224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2224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n integer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2447640"/>
              <a:ext cx="6780960" cy="222480"/>
              <a:chOff x="0" y="2447640"/>
              <a:chExt cx="6780960" cy="222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24476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24476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ld",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2670120"/>
              <a:ext cx="6780960" cy="222480"/>
              <a:chOff x="0" y="2670120"/>
              <a:chExt cx="6780960" cy="22248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26701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26701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2892600"/>
              <a:ext cx="6780960" cy="222480"/>
              <a:chOff x="0" y="2892600"/>
              <a:chExt cx="6780960" cy="22248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28926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28926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Fibonacci( %ld ) = %ld\n", number, resul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3115080"/>
              <a:ext cx="6780960" cy="222480"/>
              <a:chOff x="0" y="3115080"/>
              <a:chExt cx="6780960" cy="22248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31150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31150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337560"/>
              <a:ext cx="6780960" cy="222480"/>
              <a:chOff x="0" y="3337560"/>
              <a:chExt cx="6780960" cy="22248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3375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3375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3560040"/>
              <a:ext cx="6780960" cy="222480"/>
              <a:chOff x="0" y="3560040"/>
              <a:chExt cx="6780960" cy="22248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5600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5600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782520"/>
              <a:ext cx="6780960" cy="222480"/>
              <a:chOff x="0" y="3782520"/>
              <a:chExt cx="6780960" cy="22248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7825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7825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cursive definition of function fibonacci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005000"/>
              <a:ext cx="6780960" cy="222480"/>
              <a:chOff x="0" y="4005000"/>
              <a:chExt cx="6780960" cy="22248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0050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0050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227480"/>
              <a:ext cx="6780960" cy="222480"/>
              <a:chOff x="0" y="4227480"/>
              <a:chExt cx="6780960" cy="22248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227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227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450320"/>
              <a:ext cx="6780960" cy="222480"/>
              <a:chOff x="0" y="4450320"/>
              <a:chExt cx="6780960" cy="22248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450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450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672800"/>
              <a:ext cx="6780960" cy="222480"/>
              <a:chOff x="0" y="4672800"/>
              <a:chExt cx="6780960" cy="22248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672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672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4895280"/>
              <a:ext cx="6780960" cy="222480"/>
              <a:chOff x="0" y="4895280"/>
              <a:chExt cx="6780960" cy="22248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48952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48952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117760"/>
              <a:ext cx="6780960" cy="222480"/>
              <a:chOff x="0" y="5117760"/>
              <a:chExt cx="6780960" cy="22248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1177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1177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340240"/>
              <a:ext cx="6780960" cy="222480"/>
              <a:chOff x="0" y="5340240"/>
              <a:chExt cx="6780960" cy="22248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3402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3402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6781680" cy="502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ice between performance (iteration) and good software engineering (recur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library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math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call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Name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arguments, use 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( "%.2f", sqrt( 900.0 )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returns the square root of its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h functions return data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guments may be constants, variables, or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side func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only in function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information betwee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able program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functions as building blocks for new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ion - hide internal details (library fun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code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-value-type  function-name( parameter-list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-name: any valid ident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: data type of the result (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icates that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-list: comma separated list, declares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e must be listed explicitly for each parameter unless, the parameter is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 format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-value-type  function-name( parameter-list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 and statements: function body (bloc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can be declared inside blocks (can be ne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can not be defined inside oth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ing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hing retu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until reaches righ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mething retu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6780960" cy="6095880"/>
            <a:chOff x="0" y="0"/>
            <a:chExt cx="6780960" cy="6095880"/>
          </a:xfrm>
        </p:grpSpPr>
        <p:grpSp>
          <p:nvGrpSpPr>
            <p:cNvPr id="110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4: fig05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Finding the maximum of three integ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609480"/>
              <a:ext cx="6780960" cy="203040"/>
              <a:chOff x="0" y="609480"/>
              <a:chExt cx="6780960" cy="203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6094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094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812520"/>
              <a:ext cx="6780960" cy="203040"/>
              <a:chOff x="0" y="812520"/>
              <a:chExt cx="6780960" cy="203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812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812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015920"/>
              <a:ext cx="6780960" cy="203040"/>
              <a:chOff x="0" y="1015920"/>
              <a:chExt cx="6780960" cy="203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015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015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218960"/>
              <a:ext cx="6780960" cy="203040"/>
              <a:chOff x="0" y="1218960"/>
              <a:chExt cx="6780960" cy="203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218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218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422360"/>
              <a:ext cx="6780960" cy="203040"/>
              <a:chOff x="0" y="1422360"/>
              <a:chExt cx="6780960" cy="20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4223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223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625400"/>
              <a:ext cx="6780960" cy="203040"/>
              <a:chOff x="0" y="1625400"/>
              <a:chExt cx="6780960" cy="203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625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625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828800"/>
              <a:ext cx="6780960" cy="203040"/>
              <a:chOff x="0" y="1828800"/>
              <a:chExt cx="6780960" cy="203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8288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031840"/>
              <a:ext cx="6780960" cy="203040"/>
              <a:chOff x="0" y="2031840"/>
              <a:chExt cx="6780960" cy="203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031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031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three integers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35240"/>
              <a:ext cx="6780960" cy="203040"/>
              <a:chOff x="0" y="2235240"/>
              <a:chExt cx="6780960" cy="203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352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352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%d%d", &amp;a, &amp;b, &amp;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8280"/>
              <a:ext cx="6780960" cy="203040"/>
              <a:chOff x="0" y="2438280"/>
              <a:chExt cx="6780960" cy="203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82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82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Maximum is: %d\n", maximum( a, b, c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41320"/>
              <a:ext cx="6780960" cy="203040"/>
              <a:chOff x="0" y="2641320"/>
              <a:chExt cx="6780960" cy="203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413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413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44720"/>
              <a:ext cx="6780960" cy="203040"/>
              <a:chOff x="0" y="2844720"/>
              <a:chExt cx="6780960" cy="203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447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447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48120"/>
              <a:ext cx="6780960" cy="203040"/>
              <a:chOff x="0" y="3048120"/>
              <a:chExt cx="6780960" cy="203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48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48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251160"/>
              <a:ext cx="6780960" cy="203040"/>
              <a:chOff x="0" y="3251160"/>
              <a:chExt cx="6780960" cy="203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2511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2511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454200"/>
              <a:ext cx="6780960" cy="203040"/>
              <a:chOff x="0" y="3454200"/>
              <a:chExt cx="6780960" cy="203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4542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4542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maximum defini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657600"/>
              <a:ext cx="6780960" cy="203040"/>
              <a:chOff x="0" y="3657600"/>
              <a:chExt cx="6780960" cy="203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657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657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860640"/>
              <a:ext cx="6780960" cy="203040"/>
              <a:chOff x="0" y="3860640"/>
              <a:chExt cx="6780960" cy="203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8606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8606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064040"/>
              <a:ext cx="6780960" cy="203040"/>
              <a:chOff x="0" y="4064040"/>
              <a:chExt cx="6780960" cy="203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064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064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267080"/>
              <a:ext cx="6780960" cy="203040"/>
              <a:chOff x="0" y="4267080"/>
              <a:chExt cx="6780960" cy="203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267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267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470120"/>
              <a:ext cx="6780960" cy="203040"/>
              <a:chOff x="0" y="4470120"/>
              <a:chExt cx="6780960" cy="203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470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470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673520"/>
              <a:ext cx="6780960" cy="203040"/>
              <a:chOff x="0" y="4673520"/>
              <a:chExt cx="6780960" cy="203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673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673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876920"/>
              <a:ext cx="6780960" cy="203040"/>
              <a:chOff x="0" y="4876920"/>
              <a:chExt cx="6780960" cy="203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876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76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079960"/>
              <a:ext cx="6780960" cy="203040"/>
              <a:chOff x="0" y="5079960"/>
              <a:chExt cx="6780960" cy="20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079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079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283000"/>
              <a:ext cx="6780960" cy="203040"/>
              <a:chOff x="0" y="5283000"/>
              <a:chExt cx="6780960" cy="203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2830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2830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86400"/>
              <a:ext cx="6780960" cy="203040"/>
              <a:chOff x="0" y="5486400"/>
              <a:chExt cx="6780960" cy="203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86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86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689440"/>
              <a:ext cx="6780960" cy="203040"/>
              <a:chOff x="0" y="5689440"/>
              <a:chExt cx="6780960" cy="203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6894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6894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5892840"/>
              <a:ext cx="6780960" cy="203040"/>
              <a:chOff x="0" y="5892840"/>
              <a:chExt cx="6780960" cy="203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5892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892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61722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at the function takes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type function returns (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validat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only needed if function definition comes after use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nction with the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 rules and con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ing to lower types can lead t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6:16:43Z</dcterms:created>
  <dc:creator>kalid</dc:creator>
  <dc:description/>
  <dc:language>en-US</dc:language>
  <cp:lastModifiedBy>Matty</cp:lastModifiedBy>
  <dcterms:modified xsi:type="dcterms:W3CDTF">2000-12-22T19:09:22Z</dcterms:modified>
  <cp:revision>249</cp:revision>
  <dc:subject/>
  <dc:title>PowerPoint Presentation</dc:title>
</cp:coreProperties>
</file>