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D9D6-A0F6-40C8-889E-C9CC9FB5B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81A4-8773-4067-963F-DABF75068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A68B8-408B-44CD-B716-59D387266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04CE2-E8D2-4F33-A0BF-FF6CAB2AC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F253F-5037-4040-A576-3A561A645D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8905-283E-442A-9DAD-B765FA96F9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9E9BE-BFB7-4F3D-868A-907559D7E6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9D218-30ED-4FB5-8407-C27E97FE44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1438F-BD33-47B8-A795-B633338FF7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BD4CC-1F34-4E40-A0B3-CFEC7B32DA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71E2B-F6C9-4A1D-937F-E3A2F98471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DB4A-1E16-4CC8-B0D4-A4244996A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D9FCC-FA29-4C18-A48B-A1FFD0453A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B51D9-89D5-4391-A77B-01E40B4E0E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296D9-6045-437C-A521-412DD7DA6E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E712-6799-4FA9-A04D-9626266294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11317-1D61-4EB2-9094-CA91F7989D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30CE2-F13B-4894-AD11-4DDF931DB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E066-B294-4944-AEF7-C34284D93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DE8C-D380-41EA-8B7C-779975DEB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8C44-8758-4F51-8DAF-EEF497E40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E89F-BBD8-4C9E-A0F4-EB2B1C359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0D2A-EEBD-4B45-B904-BDF5EE548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5A61-9B3A-4371-B80E-FA05791C5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607D-F552-42C8-925A-E355C6B17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1520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6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9814-F8A6-409F-AE83-5E34A50EA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2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6 - Array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76200"/>
            <a:ext cx="82296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clar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s Us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assing Arrays to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ort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Computing Mean, Median and Mode Using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arch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ultiple-Subscripted Array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F4EE-7677-45FD-A8B7-39559026D5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string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string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Define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characters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individuall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3  Input str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string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0" y="0"/>
            <a:ext cx="6780960" cy="5562360"/>
            <a:chOff x="0" y="0"/>
            <a:chExt cx="6780960" cy="5562360"/>
          </a:xfrm>
        </p:grpSpPr>
        <p:grpSp>
          <p:nvGrpSpPr>
            <p:cNvPr id="241" name=""/>
            <p:cNvGrpSpPr/>
            <p:nvPr/>
          </p:nvGrpSpPr>
          <p:grpSpPr>
            <a:xfrm>
              <a:off x="0" y="0"/>
              <a:ext cx="6780960" cy="264600"/>
              <a:chOff x="0" y="0"/>
              <a:chExt cx="6780960" cy="264600"/>
            </a:xfrm>
          </p:grpSpPr>
          <p:sp>
            <p:nvSpPr>
              <p:cNvPr id="242" name=""/>
              <p:cNvSpPr/>
              <p:nvPr/>
            </p:nvSpPr>
            <p:spPr>
              <a:xfrm>
                <a:off x="0" y="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6.10: fig06_10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0" y="264600"/>
              <a:ext cx="6780960" cy="264600"/>
              <a:chOff x="0" y="264600"/>
              <a:chExt cx="6780960" cy="26460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2646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646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Treating character arrays as string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529560"/>
              <a:ext cx="6780960" cy="264960"/>
              <a:chOff x="0" y="529560"/>
              <a:chExt cx="6780960" cy="26496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529560"/>
                <a:ext cx="6780960" cy="264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29560"/>
                <a:ext cx="6780960" cy="264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794520"/>
              <a:ext cx="6780960" cy="264600"/>
              <a:chOff x="0" y="794520"/>
              <a:chExt cx="6780960" cy="26460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7945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7945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1059480"/>
              <a:ext cx="6780960" cy="264600"/>
              <a:chOff x="0" y="1059480"/>
              <a:chExt cx="6780960" cy="26460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10594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0594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1324440"/>
              <a:ext cx="6780960" cy="264600"/>
              <a:chOff x="0" y="1324440"/>
              <a:chExt cx="6780960" cy="26460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13244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13244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1589040"/>
              <a:ext cx="6780960" cy="264960"/>
              <a:chOff x="0" y="1589040"/>
              <a:chExt cx="6780960" cy="26496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589040"/>
                <a:ext cx="6780960" cy="264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1589040"/>
                <a:ext cx="6780960" cy="264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ring1[ 20 ], string2[] = "string literal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1854360"/>
              <a:ext cx="6780960" cy="264600"/>
              <a:chOff x="0" y="1854360"/>
              <a:chExt cx="6780960" cy="26460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18543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18543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2118960"/>
              <a:ext cx="6780960" cy="264600"/>
              <a:chOff x="0" y="2118960"/>
              <a:chExt cx="6780960" cy="26460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21189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21189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2383920"/>
              <a:ext cx="6780960" cy="264600"/>
              <a:chOff x="0" y="2383920"/>
              <a:chExt cx="6780960" cy="26460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23839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23839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" Enter a string: "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648880"/>
              <a:ext cx="6780960" cy="264960"/>
              <a:chOff x="0" y="2648880"/>
              <a:chExt cx="6780960" cy="26496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648880"/>
                <a:ext cx="6780960" cy="264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2648880"/>
                <a:ext cx="6780960" cy="264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s", string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2913840"/>
              <a:ext cx="6780960" cy="264600"/>
              <a:chOff x="0" y="2913840"/>
              <a:chExt cx="6780960" cy="264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29138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29138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string1 is: %s\nstring2: is %s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3178800"/>
              <a:ext cx="6780960" cy="264600"/>
              <a:chOff x="0" y="3178800"/>
              <a:chExt cx="6780960" cy="26460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31788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31788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string1 with spaces between characters is: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3443400"/>
              <a:ext cx="6780960" cy="264600"/>
              <a:chOff x="0" y="3443400"/>
              <a:chExt cx="6780960" cy="26460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34434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34434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string1, string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3708360"/>
              <a:ext cx="6780960" cy="264960"/>
              <a:chOff x="0" y="3708360"/>
              <a:chExt cx="6780960" cy="26496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3708360"/>
                <a:ext cx="6780960" cy="264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3708360"/>
                <a:ext cx="6780960" cy="264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3973320"/>
              <a:ext cx="6780960" cy="264600"/>
              <a:chOff x="0" y="3973320"/>
              <a:chExt cx="6780960" cy="26460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39733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39733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string1[ i ] != '\0'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4238280"/>
              <a:ext cx="6780960" cy="264600"/>
              <a:chOff x="0" y="4238280"/>
              <a:chExt cx="6780960" cy="26460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42382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42382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c ", string1[ i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4503240"/>
              <a:ext cx="6780960" cy="264600"/>
              <a:chOff x="0" y="4503240"/>
              <a:chExt cx="6780960" cy="26460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45032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45032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4767840"/>
              <a:ext cx="6780960" cy="264600"/>
              <a:chOff x="0" y="4767840"/>
              <a:chExt cx="6780960" cy="26460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47678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47678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5032800"/>
              <a:ext cx="6780960" cy="264960"/>
              <a:chOff x="0" y="5032800"/>
              <a:chExt cx="6780960" cy="26496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5032800"/>
                <a:ext cx="6780960" cy="264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5032800"/>
                <a:ext cx="6780960" cy="264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0" y="5297760"/>
              <a:ext cx="6780960" cy="264600"/>
              <a:chOff x="0" y="5297760"/>
              <a:chExt cx="6780960" cy="264600"/>
            </a:xfrm>
          </p:grpSpPr>
          <p:sp>
            <p:nvSpPr>
              <p:cNvPr id="302" name=""/>
              <p:cNvSpPr/>
              <p:nvPr/>
            </p:nvSpPr>
            <p:spPr>
              <a:xfrm>
                <a:off x="0" y="52977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52977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0" y="556272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tring: Hello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1 is: 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2 is: string li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1 with spaces between characters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e l l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25B17-2D1C-4F16-8546-2D5A29D978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pass an array argument to a function, specify the name of the array without any bracke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unction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Array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size usually passed to fun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passed call-by-refer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of array is address of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knows where the array is sto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s original memory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array ele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by call-by-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subscripted name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Array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DFBC-F103-4428-9BFB-1A464E1527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odifyArray( int b[], int arraySiz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 names optional i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writt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rray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simp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47BB-8906-4756-AFB2-5A33041A19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ass array to a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ass array element to a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11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31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6.13: fig06_13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31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Passing arrays and individual array elements to function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31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appears strang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33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El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33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 SIZE ] = { 0, 1, 2, 3, 4 }, i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34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ffects of passing entire array call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by reference:\n\nThe values of the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original array are: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SIZE - 1; i++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3d", a[ i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difyArray( a, SIZE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passed call by referenc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The values of the modified array are: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SIZE - 1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38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3d", a[ i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38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39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\n\nEffects of passing array element call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39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by value:\n\nThe value of a[3] is %d\n", a[ 3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difyElement( a[ 3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39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The value of a[ 3 ] is %d\n", a[ 3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2666880" y="3276720"/>
            <a:ext cx="5334120" cy="990360"/>
            <a:chOff x="2666880" y="3276720"/>
            <a:chExt cx="5334120" cy="990360"/>
          </a:xfrm>
        </p:grpSpPr>
        <p:sp>
          <p:nvSpPr>
            <p:cNvPr id="408" name=""/>
            <p:cNvSpPr/>
            <p:nvPr/>
          </p:nvSpPr>
          <p:spPr>
            <a:xfrm>
              <a:off x="5105520" y="32767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tire arrays passed call-by-reference, and can be mod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666880" y="3505320"/>
              <a:ext cx="24386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895480" y="4876920"/>
            <a:ext cx="5334120" cy="1218960"/>
            <a:chOff x="2895480" y="4876920"/>
            <a:chExt cx="5334120" cy="1218960"/>
          </a:xfrm>
        </p:grpSpPr>
        <p:sp>
          <p:nvSpPr>
            <p:cNvPr id="411" name=""/>
            <p:cNvSpPr/>
            <p:nvPr/>
          </p:nvSpPr>
          <p:spPr>
            <a:xfrm>
              <a:off x="5334120" y="48769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ray elements passed call-by-value, and cannot be mod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95480" y="5105520"/>
              <a:ext cx="24386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1A0B-98EE-46BC-96C9-A3C9CD05E2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0" y="0"/>
            <a:ext cx="6780960" cy="3733560"/>
            <a:chOff x="0" y="0"/>
            <a:chExt cx="6780960" cy="3733560"/>
          </a:xfrm>
        </p:grpSpPr>
        <p:grpSp>
          <p:nvGrpSpPr>
            <p:cNvPr id="415" name=""/>
            <p:cNvGrpSpPr/>
            <p:nvPr/>
          </p:nvGrpSpPr>
          <p:grpSpPr>
            <a:xfrm>
              <a:off x="0" y="0"/>
              <a:ext cx="6780960" cy="286920"/>
              <a:chOff x="0" y="0"/>
              <a:chExt cx="6780960" cy="28692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0" y="286920"/>
              <a:ext cx="6780960" cy="286920"/>
              <a:chOff x="0" y="286920"/>
              <a:chExt cx="6780960" cy="286920"/>
            </a:xfrm>
          </p:grpSpPr>
          <p:sp>
            <p:nvSpPr>
              <p:cNvPr id="419" name=""/>
              <p:cNvSpPr/>
              <p:nvPr/>
            </p:nvSpPr>
            <p:spPr>
              <a:xfrm>
                <a:off x="0" y="28692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28692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0" y="574200"/>
              <a:ext cx="6780960" cy="287280"/>
              <a:chOff x="0" y="574200"/>
              <a:chExt cx="6780960" cy="287280"/>
            </a:xfrm>
          </p:grpSpPr>
          <p:sp>
            <p:nvSpPr>
              <p:cNvPr id="422" name=""/>
              <p:cNvSpPr/>
              <p:nvPr/>
            </p:nvSpPr>
            <p:spPr>
              <a:xfrm>
                <a:off x="0" y="574200"/>
                <a:ext cx="6780960" cy="28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4200"/>
                <a:ext cx="6780960" cy="28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0" y="861480"/>
              <a:ext cx="6780960" cy="286920"/>
              <a:chOff x="0" y="861480"/>
              <a:chExt cx="6780960" cy="286920"/>
            </a:xfrm>
          </p:grpSpPr>
          <p:sp>
            <p:nvSpPr>
              <p:cNvPr id="425" name=""/>
              <p:cNvSpPr/>
              <p:nvPr/>
            </p:nvSpPr>
            <p:spPr>
              <a:xfrm>
                <a:off x="0" y="86148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0" y="86148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0" y="1148760"/>
              <a:ext cx="6780960" cy="286920"/>
              <a:chOff x="0" y="1148760"/>
              <a:chExt cx="6780960" cy="286920"/>
            </a:xfrm>
          </p:grpSpPr>
          <p:sp>
            <p:nvSpPr>
              <p:cNvPr id="428" name=""/>
              <p:cNvSpPr/>
              <p:nvPr/>
            </p:nvSpPr>
            <p:spPr>
              <a:xfrm>
                <a:off x="0" y="114876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114876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0" y="1436040"/>
              <a:ext cx="6780960" cy="286920"/>
              <a:chOff x="0" y="1436040"/>
              <a:chExt cx="6780960" cy="286920"/>
            </a:xfrm>
          </p:grpSpPr>
          <p:sp>
            <p:nvSpPr>
              <p:cNvPr id="431" name=""/>
              <p:cNvSpPr/>
              <p:nvPr/>
            </p:nvSpPr>
            <p:spPr>
              <a:xfrm>
                <a:off x="0" y="143604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143604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0; j &lt;= size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0" y="1723320"/>
              <a:ext cx="6780960" cy="287280"/>
              <a:chOff x="0" y="1723320"/>
              <a:chExt cx="6780960" cy="28728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1723320"/>
                <a:ext cx="6780960" cy="28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1723320"/>
                <a:ext cx="6780960" cy="28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b[ j ] *= 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0" y="2010600"/>
              <a:ext cx="6780960" cy="286920"/>
              <a:chOff x="0" y="2010600"/>
              <a:chExt cx="6780960" cy="28692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201060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201060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0" y="2297880"/>
              <a:ext cx="6780960" cy="286920"/>
              <a:chOff x="0" y="2297880"/>
              <a:chExt cx="6780960" cy="28692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229788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229788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0" y="2584800"/>
              <a:ext cx="6780960" cy="286920"/>
              <a:chOff x="0" y="2584800"/>
              <a:chExt cx="6780960" cy="28692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258480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258480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El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0" y="2872080"/>
              <a:ext cx="6780960" cy="287280"/>
              <a:chOff x="0" y="2872080"/>
              <a:chExt cx="6780960" cy="287280"/>
            </a:xfrm>
          </p:grpSpPr>
          <p:sp>
            <p:nvSpPr>
              <p:cNvPr id="446" name=""/>
              <p:cNvSpPr/>
              <p:nvPr/>
            </p:nvSpPr>
            <p:spPr>
              <a:xfrm>
                <a:off x="0" y="2872080"/>
                <a:ext cx="6780960" cy="28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2872080"/>
                <a:ext cx="6780960" cy="28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0" y="3159360"/>
              <a:ext cx="6780960" cy="286920"/>
              <a:chOff x="0" y="3159360"/>
              <a:chExt cx="6780960" cy="28692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315936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315936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Value in modifyElement is %d\n", e *=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0" y="3446640"/>
              <a:ext cx="6780960" cy="286920"/>
              <a:chOff x="0" y="3446640"/>
              <a:chExt cx="6780960" cy="286920"/>
            </a:xfrm>
          </p:grpSpPr>
          <p:sp>
            <p:nvSpPr>
              <p:cNvPr id="452" name=""/>
              <p:cNvSpPr/>
              <p:nvPr/>
            </p:nvSpPr>
            <p:spPr>
              <a:xfrm>
                <a:off x="0" y="344664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344664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0" y="380988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ffects of passing entire array call by refer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s of the original arra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1  2  3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s of the modified arra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2  4  6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ffects of passing array element call by val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a[3] is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in modifyElement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a[3] is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8D87C-3576-4D05-8DE6-A49F859C1D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ortant computing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ly every organization must sort some d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bble sort (sinking sor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ral passes through the arr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ccessive pairs of elements are comp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creasing order (or identical ), no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ecreasing order, elements ex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iginal:   3  4  2  6 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1:      3  2  4  6 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2:      2  3  4  6  7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 elements "bubble" to the 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95480" y="5334120"/>
            <a:ext cx="60984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90920" y="5715000"/>
            <a:ext cx="60948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BF02-6ECD-4EFF-9B20-BD1F08B634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Computing Mean, Median and Mode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umber in middle of sort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2, 3, 4, 5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 is the medi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umber that occurs most of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1, 1, 2, 3, 3, 4, 5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 is the m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B203-54A4-44D9-87DA-4E229A175A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a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63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464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6.16: fig06_16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467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This program introduces the topic of survey data analysis.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470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It computes the mean, median, and  mode of the data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473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476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479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482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485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di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488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) 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491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494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497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500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requency[ 10 ] = { 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509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sponse[ SIZE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{ 6, 7, 8, 9, 8, 7, 8, 9, 8, 9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515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7, 8, 9, 5, 9, 8, 7, 8, 7, 8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518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6, 7, 8, 9, 3, 9, 8, 7, 8, 7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521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7, 8, 9, 8, 9, 8, 9, 7, 8, 9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524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6, 7, 8, 7, 8, 7, 9, 8, 9, 2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527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7, 8, 9, 8, 9, 8, 9, 7, 5, 3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530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5, 6, 7, 2, 5, 3, 9, 4, 6, 4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533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7, 8, 9, 6, 8, 7, 8, 9, 7, 8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536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7, 4, 4, 2, 5, 3, 8, 7, 5, 6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539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4, 5, 6, 1, 6, 5, 7, 8, 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542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ean( respons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edian( respons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551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de( frequency, respons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EF524-6D87-4822-B6D2-0A3126A6FC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a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Courier New"/>
              </a:rPr>
              <a:t>3.1.1 Sort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.2 Print middle eleme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561" name=""/>
            <p:cNvGrpSpPr/>
            <p:nvPr/>
          </p:nvGrpSpPr>
          <p:grpSpPr>
            <a:xfrm>
              <a:off x="0" y="0"/>
              <a:ext cx="6705000" cy="214200"/>
              <a:chOff x="0" y="0"/>
              <a:chExt cx="6705000" cy="21420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0" y="214200"/>
              <a:ext cx="6705000" cy="214200"/>
              <a:chOff x="0" y="214200"/>
              <a:chExt cx="6705000" cy="214200"/>
            </a:xfrm>
          </p:grpSpPr>
          <p:sp>
            <p:nvSpPr>
              <p:cNvPr id="565" name="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swer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0" y="428400"/>
              <a:ext cx="6705000" cy="214200"/>
              <a:chOff x="0" y="428400"/>
              <a:chExt cx="6705000" cy="214200"/>
            </a:xfrm>
          </p:grpSpPr>
          <p:sp>
            <p:nvSpPr>
              <p:cNvPr id="568" name="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0" y="642960"/>
              <a:ext cx="6705000" cy="214200"/>
              <a:chOff x="0" y="642960"/>
              <a:chExt cx="6705000" cy="214200"/>
            </a:xfrm>
          </p:grpSpPr>
          <p:sp>
            <p:nvSpPr>
              <p:cNvPr id="571" name="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, total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0" y="857160"/>
              <a:ext cx="6705000" cy="214200"/>
              <a:chOff x="0" y="857160"/>
              <a:chExt cx="6705000" cy="214200"/>
            </a:xfrm>
          </p:grpSpPr>
          <p:sp>
            <p:nvSpPr>
              <p:cNvPr id="574" name="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0" y="1071360"/>
              <a:ext cx="6705000" cy="214200"/>
              <a:chOff x="0" y="1071360"/>
              <a:chExt cx="6705000" cy="214200"/>
            </a:xfrm>
          </p:grpSpPr>
          <p:sp>
            <p:nvSpPr>
              <p:cNvPr id="577" name="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\n%s\n%s\n", "********", "  Mean", "********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0" y="1285560"/>
              <a:ext cx="6705000" cy="214200"/>
              <a:chOff x="0" y="1285560"/>
              <a:chExt cx="6705000" cy="214200"/>
            </a:xfrm>
          </p:grpSpPr>
          <p:sp>
            <p:nvSpPr>
              <p:cNvPr id="580" name="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0" y="1500120"/>
              <a:ext cx="6705000" cy="214200"/>
              <a:chOff x="0" y="1500120"/>
              <a:chExt cx="6705000" cy="214200"/>
            </a:xfrm>
          </p:grpSpPr>
          <p:sp>
            <p:nvSpPr>
              <p:cNvPr id="583" name="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0; j &lt;= SIZE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0" y="1714320"/>
              <a:ext cx="6705000" cy="214200"/>
              <a:chOff x="0" y="1714320"/>
              <a:chExt cx="6705000" cy="214200"/>
            </a:xfrm>
          </p:grpSpPr>
          <p:sp>
            <p:nvSpPr>
              <p:cNvPr id="586" name="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+= answer[  j 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0" y="1928520"/>
              <a:ext cx="6705000" cy="214200"/>
              <a:chOff x="0" y="1928520"/>
              <a:chExt cx="6705000" cy="214200"/>
            </a:xfrm>
          </p:grpSpPr>
          <p:sp>
            <p:nvSpPr>
              <p:cNvPr id="589" name="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0" y="2143080"/>
              <a:ext cx="6705000" cy="214200"/>
              <a:chOff x="0" y="2143080"/>
              <a:chExt cx="6705000" cy="214200"/>
            </a:xfrm>
          </p:grpSpPr>
          <p:sp>
            <p:nvSpPr>
              <p:cNvPr id="592" name="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The mean is the average value of the data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0" y="2357280"/>
              <a:ext cx="6705000" cy="214200"/>
              <a:chOff x="0" y="2357280"/>
              <a:chExt cx="6705000" cy="214200"/>
            </a:xfrm>
          </p:grpSpPr>
          <p:sp>
            <p:nvSpPr>
              <p:cNvPr id="595" name="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items. The mean is equal to the total of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0" y="2571480"/>
              <a:ext cx="6705000" cy="214200"/>
              <a:chOff x="0" y="2571480"/>
              <a:chExt cx="6705000" cy="214200"/>
            </a:xfrm>
          </p:grpSpPr>
          <p:sp>
            <p:nvSpPr>
              <p:cNvPr id="598" name="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all the data items divided by the number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0" y="2786040"/>
              <a:ext cx="6705000" cy="214200"/>
              <a:chOff x="0" y="2786040"/>
              <a:chExt cx="6705000" cy="214200"/>
            </a:xfrm>
          </p:grpSpPr>
          <p:sp>
            <p:nvSpPr>
              <p:cNvPr id="601" name="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of data items ( %d ). The mean value for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0" y="3000240"/>
              <a:ext cx="6705000" cy="214200"/>
              <a:chOff x="0" y="3000240"/>
              <a:chExt cx="6705000" cy="214200"/>
            </a:xfrm>
          </p:grpSpPr>
          <p:sp>
            <p:nvSpPr>
              <p:cNvPr id="604" name="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his run is: %d / %d = %.4f\n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0" y="3214800"/>
              <a:ext cx="6705000" cy="214200"/>
              <a:chOff x="0" y="3214800"/>
              <a:chExt cx="6705000" cy="214200"/>
            </a:xfrm>
          </p:grpSpPr>
          <p:sp>
            <p:nvSpPr>
              <p:cNvPr id="607" name="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SIZE, total, SIZE, (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) total /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0" y="3429000"/>
              <a:ext cx="6705000" cy="214200"/>
              <a:chOff x="0" y="3429000"/>
              <a:chExt cx="6705000" cy="214200"/>
            </a:xfrm>
          </p:grpSpPr>
          <p:sp>
            <p:nvSpPr>
              <p:cNvPr id="610" name="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0" y="3643200"/>
              <a:ext cx="6705000" cy="214200"/>
              <a:chOff x="0" y="3643200"/>
              <a:chExt cx="6705000" cy="214200"/>
            </a:xfrm>
          </p:grpSpPr>
          <p:sp>
            <p:nvSpPr>
              <p:cNvPr id="613" name="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0" y="3857400"/>
              <a:ext cx="6705000" cy="214200"/>
              <a:chOff x="0" y="3857400"/>
              <a:chExt cx="6705000" cy="214200"/>
            </a:xfrm>
          </p:grpSpPr>
          <p:sp>
            <p:nvSpPr>
              <p:cNvPr id="616" name="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di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swer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0" y="4071960"/>
              <a:ext cx="6705000" cy="214200"/>
              <a:chOff x="0" y="4071960"/>
              <a:chExt cx="6705000" cy="214200"/>
            </a:xfrm>
          </p:grpSpPr>
          <p:sp>
            <p:nvSpPr>
              <p:cNvPr id="619" name="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0" y="4286160"/>
              <a:ext cx="6705000" cy="214200"/>
              <a:chOff x="0" y="4286160"/>
              <a:chExt cx="6705000" cy="214200"/>
            </a:xfrm>
          </p:grpSpPr>
          <p:sp>
            <p:nvSpPr>
              <p:cNvPr id="622" name="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%s\n%s\n%s\n%s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0" y="4500360"/>
              <a:ext cx="6705000" cy="214200"/>
              <a:chOff x="0" y="4500360"/>
              <a:chExt cx="6705000" cy="21420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********", " Median", "********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0" y="4714920"/>
              <a:ext cx="6705000" cy="214200"/>
              <a:chOff x="0" y="4714920"/>
              <a:chExt cx="6705000" cy="214200"/>
            </a:xfrm>
          </p:grpSpPr>
          <p:sp>
            <p:nvSpPr>
              <p:cNvPr id="628" name="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he unsorted array of responses is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4929120"/>
              <a:ext cx="6705000" cy="214200"/>
              <a:chOff x="0" y="4929120"/>
              <a:chExt cx="6705000" cy="214200"/>
            </a:xfrm>
          </p:grpSpPr>
          <p:sp>
            <p:nvSpPr>
              <p:cNvPr id="631" name="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0" y="5143320"/>
              <a:ext cx="6705000" cy="214200"/>
              <a:chOff x="0" y="5143320"/>
              <a:chExt cx="6705000" cy="21420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Array( answ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0" y="5357880"/>
              <a:ext cx="6705000" cy="214200"/>
              <a:chOff x="0" y="5357880"/>
              <a:chExt cx="6705000" cy="21420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ubbleSort( answ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5572080"/>
              <a:ext cx="6705000" cy="214200"/>
              <a:chOff x="0" y="5572080"/>
              <a:chExt cx="6705000" cy="21420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\nThe sorted array is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0" y="5786280"/>
              <a:ext cx="6705000" cy="214200"/>
              <a:chOff x="0" y="5786280"/>
              <a:chExt cx="6705000" cy="214200"/>
            </a:xfrm>
          </p:grpSpPr>
          <p:sp>
            <p:nvSpPr>
              <p:cNvPr id="643" name="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Array( answ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0" y="6000840"/>
              <a:ext cx="6705000" cy="214200"/>
              <a:chOff x="0" y="6000840"/>
              <a:chExt cx="6705000" cy="214200"/>
            </a:xfrm>
          </p:grpSpPr>
          <p:sp>
            <p:nvSpPr>
              <p:cNvPr id="646" name="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\nThe median is element %d of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0" y="6215040"/>
              <a:ext cx="6705000" cy="214200"/>
              <a:chOff x="0" y="6215040"/>
              <a:chExt cx="6705000" cy="214200"/>
            </a:xfrm>
          </p:grpSpPr>
          <p:sp>
            <p:nvSpPr>
              <p:cNvPr id="649" name="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he sorted %d element array.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0" y="6429240"/>
              <a:ext cx="6705000" cy="214200"/>
              <a:chOff x="0" y="6429240"/>
              <a:chExt cx="6705000" cy="21420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For this run the median is %d\n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6643800"/>
              <a:ext cx="6705000" cy="214200"/>
              <a:chOff x="0" y="6643800"/>
              <a:chExt cx="6705000" cy="21420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SIZE / 2, SIZE, answer[ SIZE / 2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E5313-211D-4F40-8367-C4CDC62D36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659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66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66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66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req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swer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66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67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ting, j, h, largest = 0, modeValue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67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678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%s\n%s\n%s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68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********", "  Mode", "********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687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ating = 1; rating &lt;= 9; rating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690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req[ rating ]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693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696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0; j &lt;= SIZE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699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++freq[ answer[ j ]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702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705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%11s%19s\n\n%54s\n%54s\n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708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Response", "Frequency", "Histogram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711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1    1    2    2", "5    0    5    0    5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714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717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ating = 1; rating &lt;= 9; rating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720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8d%11d          ", rating, freq[ rating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723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726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freq[ rating ] &gt; largest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729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largest = freq[ rating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modeValue = rating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h = 1; h &lt;= freq[ rating ]; h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*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705720" y="762120"/>
            <a:ext cx="23619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2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Courier New"/>
              </a:rPr>
              <a:t>3.2.1 Increa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equency[]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Courier New"/>
              </a:rPr>
              <a:t> depending 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[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2666880" y="2425680"/>
            <a:ext cx="4724280" cy="1067400"/>
            <a:chOff x="2666880" y="2425680"/>
            <a:chExt cx="4724280" cy="1067400"/>
          </a:xfrm>
        </p:grpSpPr>
        <p:sp>
          <p:nvSpPr>
            <p:cNvPr id="751" name=""/>
            <p:cNvSpPr/>
            <p:nvPr/>
          </p:nvSpPr>
          <p:spPr>
            <a:xfrm>
              <a:off x="3962160" y="2425680"/>
              <a:ext cx="3429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subscript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requency[]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the value of an element in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ponse[]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nswer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2666880" y="2578320"/>
              <a:ext cx="1295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2590920" y="5943600"/>
            <a:ext cx="5333760" cy="580680"/>
            <a:chOff x="2590920" y="5943600"/>
            <a:chExt cx="5333760" cy="580680"/>
          </a:xfrm>
        </p:grpSpPr>
        <p:sp>
          <p:nvSpPr>
            <p:cNvPr id="754" name=""/>
            <p:cNvSpPr/>
            <p:nvPr/>
          </p:nvSpPr>
          <p:spPr>
            <a:xfrm>
              <a:off x="4724280" y="594360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 stars depending on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requency[]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590920" y="6095880"/>
              <a:ext cx="2133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B86D-A89A-409D-AA2B-E018DFB813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s of related data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entity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ame size throughout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ynamic data structures discussed in Chapter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7A7E-84DD-43C0-B2E6-64584EEFA9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3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3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58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The mode is the most frequent value.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771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For this run the mode is %d which occurred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 %d times.\n", modeValue, large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777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780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783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786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789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, j, hol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pass = 1; pass &lt;= SIZE - 1; pass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0; j &lt;= SIZE - 2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a[ j ] &gt; a[ j + 1 ]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hold = a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a[ j ] = a[ j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a[ j + 1 ] = hol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828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831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834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837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840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0; j &lt;= SIZE - 1; j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843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846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% 20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849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"/>
          <p:cNvGrpSpPr/>
          <p:nvPr/>
        </p:nvGrpSpPr>
        <p:grpSpPr>
          <a:xfrm>
            <a:off x="3124080" y="3809520"/>
            <a:ext cx="4495680" cy="657000"/>
            <a:chOff x="3124080" y="3809520"/>
            <a:chExt cx="4495680" cy="657000"/>
          </a:xfrm>
        </p:grpSpPr>
        <p:sp>
          <p:nvSpPr>
            <p:cNvPr id="852" name=""/>
            <p:cNvSpPr/>
            <p:nvPr/>
          </p:nvSpPr>
          <p:spPr>
            <a:xfrm>
              <a:off x="4419360" y="388584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bble sort: if elements out of order, swap them.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3124080" y="380952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5A6A7-F1E0-4A6D-8FBC-743B90D28E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0" y="0"/>
            <a:ext cx="6780960" cy="990720"/>
            <a:chOff x="0" y="0"/>
            <a:chExt cx="6780960" cy="990720"/>
          </a:xfrm>
        </p:grpSpPr>
        <p:grpSp>
          <p:nvGrpSpPr>
            <p:cNvPr id="856" name=""/>
            <p:cNvGrpSpPr/>
            <p:nvPr/>
          </p:nvGrpSpPr>
          <p:grpSpPr>
            <a:xfrm>
              <a:off x="0" y="0"/>
              <a:ext cx="6780960" cy="247680"/>
              <a:chOff x="0" y="0"/>
              <a:chExt cx="6780960" cy="24768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247680"/>
              <a:ext cx="6780960" cy="247680"/>
              <a:chOff x="0" y="247680"/>
              <a:chExt cx="6780960" cy="24768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24768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24768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2d", a[ j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495360"/>
              <a:ext cx="6780960" cy="247680"/>
              <a:chOff x="0" y="495360"/>
              <a:chExt cx="6780960" cy="24768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49536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49536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743040"/>
              <a:ext cx="6780960" cy="247680"/>
              <a:chOff x="0" y="743040"/>
              <a:chExt cx="6780960" cy="24768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74304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74304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8" name=""/>
          <p:cNvSpPr/>
          <p:nvPr/>
        </p:nvSpPr>
        <p:spPr>
          <a:xfrm>
            <a:off x="0" y="990720"/>
            <a:ext cx="6781680" cy="5569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an is the average value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tems. The mean is equal to the tota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the data items divided by th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f data items (99). The mean valu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 run is: 681 / 99 = 6.87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unsorted array of response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8 9 8 7 8 9 8 9 7 8 9 5 9 8 7 8 7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7 8 9 3 9 8 7 8 7 7 8 9 8 9 8 9 7 8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7 8 7 8 7 9 8 9 2 7 8 9 8 9 8 9 7 5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6 7 2 5 3 9 4 6 4 7 8 9 6 8 7 8 9 7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4 4 2 5 3 8 7 5 6 4 5 6 1 6 5 7 8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orted array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2 2 2 3 3 3 3 4 4 4 4 4 5 5 5 5 5 5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6 6 6 6 6 6 6 6 6 7 7 7 7 7 7 7 7 7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7 7 7 7 7 7 7 7 7 7 7 7 8 8 8 8 8 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8 8 8 8 8 8 8 8 8 8 8 8 8 8 8 8 8 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9 9 9 9 9 9 9 9 9 9 9 9 9 9 9 9 9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dian is element 49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orted 99 element ar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this run the median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9C10E-E611-4640-A5D8-2823AD49B9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0"/>
            <a:ext cx="6781680" cy="392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ponse  Frequency       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1    2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0    5    0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1         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     3         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      4          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         5          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8          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      9          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        23          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    27          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19          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ode is the most frequent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this run the mode is 8 which occurred 27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2757B-F1B3-45B7-BDD0-C296F18693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arching Arrays: Linear Search and Binary Search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n array for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p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each element of array with key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small and un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B645-E0DB-4451-BBE6-62E18DBF6C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arching Arrays: Linear Search and Binary Search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dd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lement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qual, match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 &lt; midd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looks in first half of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 &gt; midd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looks in last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y fast; at most n steps, where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&gt; 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element array takes at most 5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30 so at most 5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209680" y="4267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04B5-0DC8-4607-9764-A48F4580F6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ubscripted array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bles with rows and column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ra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matrices: specify row, then colum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1190520" y="2792520"/>
            <a:ext cx="6505560" cy="2388960"/>
            <a:chOff x="1190520" y="2792520"/>
            <a:chExt cx="6505560" cy="2388960"/>
          </a:xfrm>
        </p:grpSpPr>
        <p:grpSp>
          <p:nvGrpSpPr>
            <p:cNvPr id="879" name=""/>
            <p:cNvGrpSpPr/>
            <p:nvPr/>
          </p:nvGrpSpPr>
          <p:grpSpPr>
            <a:xfrm>
              <a:off x="1190520" y="2792520"/>
              <a:ext cx="6108840" cy="1371600"/>
              <a:chOff x="1190520" y="2792520"/>
              <a:chExt cx="6108840" cy="1371600"/>
            </a:xfrm>
          </p:grpSpPr>
          <p:sp>
            <p:nvSpPr>
              <p:cNvPr id="880" name=""/>
              <p:cNvSpPr/>
              <p:nvPr/>
            </p:nvSpPr>
            <p:spPr>
              <a:xfrm>
                <a:off x="1190520" y="3192480"/>
                <a:ext cx="71136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Row 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190520" y="3460680"/>
                <a:ext cx="71136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Row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190520" y="3728880"/>
                <a:ext cx="71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Row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176560" y="2792520"/>
                <a:ext cx="110304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lumn 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486240" y="2792520"/>
                <a:ext cx="110484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lumn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797360" y="2792520"/>
                <a:ext cx="110340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lumn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107040" y="2792520"/>
                <a:ext cx="110484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lumn 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7" name=""/>
              <p:cNvGrpSpPr/>
              <p:nvPr/>
            </p:nvGrpSpPr>
            <p:grpSpPr>
              <a:xfrm>
                <a:off x="2057400" y="3097080"/>
                <a:ext cx="1311120" cy="344520"/>
                <a:chOff x="2057400" y="3097080"/>
                <a:chExt cx="1311120" cy="344520"/>
              </a:xfrm>
            </p:grpSpPr>
            <p:sp>
              <p:nvSpPr>
                <p:cNvPr id="888" name=""/>
                <p:cNvSpPr/>
                <p:nvPr/>
              </p:nvSpPr>
              <p:spPr>
                <a:xfrm>
                  <a:off x="2057400" y="3097080"/>
                  <a:ext cx="1311120" cy="3445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110680" y="3146760"/>
                  <a:ext cx="120348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0" name=""/>
              <p:cNvGrpSpPr/>
              <p:nvPr/>
            </p:nvGrpSpPr>
            <p:grpSpPr>
              <a:xfrm>
                <a:off x="2057400" y="3441600"/>
                <a:ext cx="1311120" cy="341280"/>
                <a:chOff x="2057400" y="3441600"/>
                <a:chExt cx="1311120" cy="34128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2057400" y="3441600"/>
                  <a:ext cx="1311120" cy="3412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2110680" y="3490560"/>
                  <a:ext cx="120348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" name=""/>
              <p:cNvGrpSpPr/>
              <p:nvPr/>
            </p:nvGrpSpPr>
            <p:grpSpPr>
              <a:xfrm>
                <a:off x="2057400" y="3782880"/>
                <a:ext cx="1311120" cy="381240"/>
                <a:chOff x="2057400" y="3782880"/>
                <a:chExt cx="1311120" cy="38124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2057400" y="3782880"/>
                  <a:ext cx="1311120" cy="381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2110680" y="3837600"/>
                  <a:ext cx="120348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" name=""/>
              <p:cNvGrpSpPr/>
              <p:nvPr/>
            </p:nvGrpSpPr>
            <p:grpSpPr>
              <a:xfrm>
                <a:off x="3368520" y="3097080"/>
                <a:ext cx="1309680" cy="344520"/>
                <a:chOff x="3368520" y="3097080"/>
                <a:chExt cx="1309680" cy="34452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3368520" y="3097080"/>
                  <a:ext cx="1309680" cy="3445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421440" y="3146760"/>
                  <a:ext cx="120204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9" name=""/>
              <p:cNvGrpSpPr/>
              <p:nvPr/>
            </p:nvGrpSpPr>
            <p:grpSpPr>
              <a:xfrm>
                <a:off x="3368520" y="3441600"/>
                <a:ext cx="1309680" cy="341280"/>
                <a:chOff x="3368520" y="3441600"/>
                <a:chExt cx="1309680" cy="341280"/>
              </a:xfrm>
            </p:grpSpPr>
            <p:sp>
              <p:nvSpPr>
                <p:cNvPr id="900" name=""/>
                <p:cNvSpPr/>
                <p:nvPr/>
              </p:nvSpPr>
              <p:spPr>
                <a:xfrm>
                  <a:off x="3368520" y="3441600"/>
                  <a:ext cx="1309680" cy="3412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421440" y="3490560"/>
                  <a:ext cx="120204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" name=""/>
              <p:cNvGrpSpPr/>
              <p:nvPr/>
            </p:nvGrpSpPr>
            <p:grpSpPr>
              <a:xfrm>
                <a:off x="3368520" y="3782880"/>
                <a:ext cx="1309680" cy="381240"/>
                <a:chOff x="3368520" y="3782880"/>
                <a:chExt cx="1309680" cy="38124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3368520" y="3782880"/>
                  <a:ext cx="1309680" cy="381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21440" y="3837600"/>
                  <a:ext cx="120204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5" name=""/>
              <p:cNvGrpSpPr/>
              <p:nvPr/>
            </p:nvGrpSpPr>
            <p:grpSpPr>
              <a:xfrm>
                <a:off x="4678200" y="3097080"/>
                <a:ext cx="1311480" cy="344520"/>
                <a:chOff x="4678200" y="3097080"/>
                <a:chExt cx="1311480" cy="34452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4678200" y="3097080"/>
                  <a:ext cx="1311480" cy="3445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4731480" y="3146760"/>
                  <a:ext cx="120348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8" name=""/>
              <p:cNvGrpSpPr/>
              <p:nvPr/>
            </p:nvGrpSpPr>
            <p:grpSpPr>
              <a:xfrm>
                <a:off x="4678200" y="3441600"/>
                <a:ext cx="1311480" cy="341280"/>
                <a:chOff x="4678200" y="3441600"/>
                <a:chExt cx="1311480" cy="34128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4678200" y="3441600"/>
                  <a:ext cx="1311480" cy="3412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4731480" y="3490560"/>
                  <a:ext cx="120348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1" name=""/>
              <p:cNvGrpSpPr/>
              <p:nvPr/>
            </p:nvGrpSpPr>
            <p:grpSpPr>
              <a:xfrm>
                <a:off x="4678200" y="3782880"/>
                <a:ext cx="1311480" cy="381240"/>
                <a:chOff x="4678200" y="3782880"/>
                <a:chExt cx="1311480" cy="38124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4678200" y="3782880"/>
                  <a:ext cx="1311480" cy="381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731480" y="3837600"/>
                  <a:ext cx="120348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5989680" y="3097080"/>
                <a:ext cx="1309680" cy="344520"/>
                <a:chOff x="5989680" y="3097080"/>
                <a:chExt cx="1309680" cy="34452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5989680" y="3097080"/>
                  <a:ext cx="1309680" cy="3445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042600" y="3146760"/>
                  <a:ext cx="120204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3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5989680" y="3441600"/>
                <a:ext cx="1309680" cy="341280"/>
                <a:chOff x="5989680" y="3441600"/>
                <a:chExt cx="1309680" cy="34128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5989680" y="3441600"/>
                  <a:ext cx="1309680" cy="3412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6042600" y="3490560"/>
                  <a:ext cx="120204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3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5989680" y="3782880"/>
                <a:ext cx="1309680" cy="381240"/>
                <a:chOff x="5989680" y="3782880"/>
                <a:chExt cx="1309680" cy="381240"/>
              </a:xfrm>
            </p:grpSpPr>
            <p:sp>
              <p:nvSpPr>
                <p:cNvPr id="921" name=""/>
                <p:cNvSpPr/>
                <p:nvPr/>
              </p:nvSpPr>
              <p:spPr>
                <a:xfrm>
                  <a:off x="5989680" y="3782880"/>
                  <a:ext cx="1309680" cy="381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6042600" y="3837600"/>
                  <a:ext cx="120204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3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3" name=""/>
            <p:cNvSpPr/>
            <p:nvPr/>
          </p:nvSpPr>
          <p:spPr>
            <a:xfrm>
              <a:off x="2971800" y="5002200"/>
              <a:ext cx="22096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w subscri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286000" y="4697280"/>
              <a:ext cx="1365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rray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57720" y="4421160"/>
              <a:ext cx="2538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umn subscri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505320" y="4087800"/>
              <a:ext cx="75960" cy="685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3734640" y="4087800"/>
              <a:ext cx="74520" cy="898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7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344840" y="4087800"/>
              <a:ext cx="74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6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4343400" y="4468680"/>
              <a:ext cx="762120" cy="74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25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0" y="1228680"/>
            <a:ext cx="548640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FE87-AFF8-44D1-BF7A-F0B9501179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b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,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,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,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rs grouped by row in brac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enough, unspecified elements set to z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ing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row, then colum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%d"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1228680"/>
            <a:ext cx="548640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36511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0" y="32637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7162920" y="1523880"/>
            <a:ext cx="914400" cy="631440"/>
            <a:chOff x="7162920" y="1523880"/>
            <a:chExt cx="914400" cy="631440"/>
          </a:xfrm>
        </p:grpSpPr>
        <p:sp>
          <p:nvSpPr>
            <p:cNvPr id="937" name=""/>
            <p:cNvSpPr/>
            <p:nvPr/>
          </p:nvSpPr>
          <p:spPr>
            <a:xfrm>
              <a:off x="7162920" y="1523880"/>
              <a:ext cx="914400" cy="63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3   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620120" y="15238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62920" y="1828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7010280" y="2895480"/>
            <a:ext cx="914400" cy="631440"/>
            <a:chOff x="7010280" y="2895480"/>
            <a:chExt cx="914400" cy="631440"/>
          </a:xfrm>
        </p:grpSpPr>
        <p:sp>
          <p:nvSpPr>
            <p:cNvPr id="941" name=""/>
            <p:cNvSpPr/>
            <p:nvPr/>
          </p:nvSpPr>
          <p:spPr>
            <a:xfrm>
              <a:off x="7010280" y="2895480"/>
              <a:ext cx="914400" cy="63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3   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467480" y="28954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10280" y="3200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75E9-8276-4C82-9313-5FB6804A61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Define functions to take double scripted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]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46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947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6.22: fig06_22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Double-subscripted array exampl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956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UDENTS 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959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XAMS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968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971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977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980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983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986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ude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udentGrades[ STUDENTS ][ EXAMS ] =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{ { 77, 68, 86, 73 }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{ 96, 87, 89, 78 }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{ 70, 90, 86, 81 }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The array is: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Array( studentGrades, STUDENTS, EXAM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\nLowest grade: %d\nHighest grade: %d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minimum( studentGrades, STUDENTS, EXAMS )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maximum( studentGrades, STUDENTS, EXAMS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019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022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tudent = 0; student &lt;= STUDENTS - 1; student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025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The average grade for student %d is %.2f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028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studen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031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average( studentGrades[ student ], EXAMS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034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037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040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2" name=""/>
          <p:cNvGrpSpPr/>
          <p:nvPr/>
        </p:nvGrpSpPr>
        <p:grpSpPr>
          <a:xfrm>
            <a:off x="3504960" y="1981080"/>
            <a:ext cx="4572360" cy="990360"/>
            <a:chOff x="3504960" y="1981080"/>
            <a:chExt cx="4572360" cy="990360"/>
          </a:xfrm>
        </p:grpSpPr>
        <p:sp>
          <p:nvSpPr>
            <p:cNvPr id="1043" name=""/>
            <p:cNvSpPr/>
            <p:nvPr/>
          </p:nvSpPr>
          <p:spPr>
            <a:xfrm>
              <a:off x="5029200" y="19810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ach row is a particular student, each column is the grades on the exam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3504960" y="2209680"/>
              <a:ext cx="1523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0EBD-154B-40F8-95E1-59D4D9B0FF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47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048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051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nd the minimum grad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054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s[][ EXAMS ]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057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upil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060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063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j, lowGrade = 1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066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069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pupils - 1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072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0; j &lt;= tests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075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s[ i ][ j ] &lt; lowGrad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078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lowGrade = grades[ i ]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081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084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wGrad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087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090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093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nd the maximum grad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096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s[][ EXAMS ]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099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upil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102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105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j, highGrade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108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111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pupils - 1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114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0; j &lt;= tests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117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s[ i ][ j ] &gt; highGrad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120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highGrade = grades[ i ]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123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126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ighGrad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129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132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135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Determine the average grade for a particular exam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138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OfGrades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141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733B3-8386-4C29-AC05-5B9B0DEDF9A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0" y="0"/>
            <a:ext cx="6780960" cy="4952880"/>
            <a:chOff x="0" y="0"/>
            <a:chExt cx="6780960" cy="4952880"/>
          </a:xfrm>
        </p:grpSpPr>
        <p:grpSp>
          <p:nvGrpSpPr>
            <p:cNvPr id="1145" name=""/>
            <p:cNvGrpSpPr/>
            <p:nvPr/>
          </p:nvGrpSpPr>
          <p:grpSpPr>
            <a:xfrm>
              <a:off x="0" y="0"/>
              <a:ext cx="6780960" cy="215280"/>
              <a:chOff x="0" y="0"/>
              <a:chExt cx="6780960" cy="21528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total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0" y="215280"/>
              <a:ext cx="6780960" cy="215280"/>
              <a:chOff x="0" y="215280"/>
              <a:chExt cx="6780960" cy="215280"/>
            </a:xfrm>
          </p:grpSpPr>
          <p:sp>
            <p:nvSpPr>
              <p:cNvPr id="1149" name=""/>
              <p:cNvSpPr/>
              <p:nvPr/>
            </p:nvSpPr>
            <p:spPr>
              <a:xfrm>
                <a:off x="0" y="2152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2152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0" y="430560"/>
              <a:ext cx="6780960" cy="215280"/>
              <a:chOff x="0" y="430560"/>
              <a:chExt cx="6780960" cy="21528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4305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4305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tests - 1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0" y="645840"/>
              <a:ext cx="6780960" cy="215280"/>
              <a:chOff x="0" y="645840"/>
              <a:chExt cx="6780960" cy="215280"/>
            </a:xfrm>
          </p:grpSpPr>
          <p:sp>
            <p:nvSpPr>
              <p:cNvPr id="1155" name=""/>
              <p:cNvSpPr/>
              <p:nvPr/>
            </p:nvSpPr>
            <p:spPr>
              <a:xfrm>
                <a:off x="0" y="6458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6458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+= setOfGrades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0" y="861120"/>
              <a:ext cx="6780960" cy="215280"/>
              <a:chOff x="0" y="861120"/>
              <a:chExt cx="6780960" cy="215280"/>
            </a:xfrm>
          </p:grpSpPr>
          <p:sp>
            <p:nvSpPr>
              <p:cNvPr id="1158" name=""/>
              <p:cNvSpPr/>
              <p:nvPr/>
            </p:nvSpPr>
            <p:spPr>
              <a:xfrm>
                <a:off x="0" y="8611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8611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0" y="1076400"/>
              <a:ext cx="6780960" cy="215280"/>
              <a:chOff x="0" y="1076400"/>
              <a:chExt cx="6780960" cy="215280"/>
            </a:xfrm>
          </p:grpSpPr>
          <p:sp>
            <p:nvSpPr>
              <p:cNvPr id="1161" name=""/>
              <p:cNvSpPr/>
              <p:nvPr/>
            </p:nvSpPr>
            <p:spPr>
              <a:xfrm>
                <a:off x="0" y="10764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0" y="10764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 total / test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0" y="1292040"/>
              <a:ext cx="6780960" cy="215280"/>
              <a:chOff x="0" y="1292040"/>
              <a:chExt cx="6780960" cy="215280"/>
            </a:xfrm>
          </p:grpSpPr>
          <p:sp>
            <p:nvSpPr>
              <p:cNvPr id="1164" name=""/>
              <p:cNvSpPr/>
              <p:nvPr/>
            </p:nvSpPr>
            <p:spPr>
              <a:xfrm>
                <a:off x="0" y="12920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0" y="12920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0" y="1507320"/>
              <a:ext cx="6780960" cy="215280"/>
              <a:chOff x="0" y="1507320"/>
              <a:chExt cx="6780960" cy="215280"/>
            </a:xfrm>
          </p:grpSpPr>
          <p:sp>
            <p:nvSpPr>
              <p:cNvPr id="1167" name=""/>
              <p:cNvSpPr/>
              <p:nvPr/>
            </p:nvSpPr>
            <p:spPr>
              <a:xfrm>
                <a:off x="0" y="1507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0" y="1507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0" y="1722600"/>
              <a:ext cx="6780960" cy="215280"/>
              <a:chOff x="0" y="1722600"/>
              <a:chExt cx="6780960" cy="215280"/>
            </a:xfrm>
          </p:grpSpPr>
          <p:sp>
            <p:nvSpPr>
              <p:cNvPr id="1170" name=""/>
              <p:cNvSpPr/>
              <p:nvPr/>
            </p:nvSpPr>
            <p:spPr>
              <a:xfrm>
                <a:off x="0" y="1722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0" y="1722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Print the array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0" y="1937880"/>
              <a:ext cx="6780960" cy="215280"/>
              <a:chOff x="0" y="1937880"/>
              <a:chExt cx="6780960" cy="215280"/>
            </a:xfrm>
          </p:grpSpPr>
          <p:sp>
            <p:nvSpPr>
              <p:cNvPr id="1173" name=""/>
              <p:cNvSpPr/>
              <p:nvPr/>
            </p:nvSpPr>
            <p:spPr>
              <a:xfrm>
                <a:off x="0" y="19378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0" y="19378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s[][ EXAMS ]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0" y="2153160"/>
              <a:ext cx="6780960" cy="215280"/>
              <a:chOff x="0" y="2153160"/>
              <a:chExt cx="6780960" cy="215280"/>
            </a:xfrm>
          </p:grpSpPr>
          <p:sp>
            <p:nvSpPr>
              <p:cNvPr id="1176" name=""/>
              <p:cNvSpPr/>
              <p:nvPr/>
            </p:nvSpPr>
            <p:spPr>
              <a:xfrm>
                <a:off x="0" y="21531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21531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upil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0" y="2368800"/>
              <a:ext cx="6780960" cy="215280"/>
              <a:chOff x="0" y="2368800"/>
              <a:chExt cx="6780960" cy="215280"/>
            </a:xfrm>
          </p:grpSpPr>
          <p:sp>
            <p:nvSpPr>
              <p:cNvPr id="1179" name=""/>
              <p:cNvSpPr/>
              <p:nvPr/>
            </p:nvSpPr>
            <p:spPr>
              <a:xfrm>
                <a:off x="0" y="23688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0" y="23688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0" y="2584080"/>
              <a:ext cx="6780960" cy="215280"/>
              <a:chOff x="0" y="2584080"/>
              <a:chExt cx="6780960" cy="215280"/>
            </a:xfrm>
          </p:grpSpPr>
          <p:sp>
            <p:nvSpPr>
              <p:cNvPr id="1182" name=""/>
              <p:cNvSpPr/>
              <p:nvPr/>
            </p:nvSpPr>
            <p:spPr>
              <a:xfrm>
                <a:off x="0" y="2584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2584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j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0" y="2799360"/>
              <a:ext cx="6780960" cy="215280"/>
              <a:chOff x="0" y="2799360"/>
              <a:chExt cx="6780960" cy="21528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27993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27993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3014640"/>
              <a:ext cx="6780960" cy="215280"/>
              <a:chOff x="0" y="3014640"/>
              <a:chExt cx="6780960" cy="21528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30146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30146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                 [0]  [1]  [2]  [3]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3230280"/>
              <a:ext cx="6780960" cy="215280"/>
              <a:chOff x="0" y="3230280"/>
              <a:chExt cx="6780960" cy="21528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32302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32302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3445560"/>
              <a:ext cx="6780960" cy="215280"/>
              <a:chOff x="0" y="3445560"/>
              <a:chExt cx="6780960" cy="21528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34455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34455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pupils - 1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3660840"/>
              <a:ext cx="6780960" cy="215280"/>
              <a:chOff x="0" y="3660840"/>
              <a:chExt cx="6780960" cy="21528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36608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36608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\nstudentGrades[%d] ", i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3876120"/>
              <a:ext cx="6780960" cy="215280"/>
              <a:chOff x="0" y="3876120"/>
              <a:chExt cx="6780960" cy="21528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38761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38761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4091400"/>
              <a:ext cx="6780960" cy="215280"/>
              <a:chOff x="0" y="4091400"/>
              <a:chExt cx="6780960" cy="21528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40914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40914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0; j &lt;= tests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0" y="4307040"/>
              <a:ext cx="6780960" cy="215280"/>
              <a:chOff x="0" y="4307040"/>
              <a:chExt cx="6780960" cy="21528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43070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43070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%-5d", grades[ i ][ j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4522320"/>
              <a:ext cx="6780960" cy="215280"/>
              <a:chOff x="0" y="4522320"/>
              <a:chExt cx="6780960" cy="21528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4522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4522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0" y="4737600"/>
              <a:ext cx="6780960" cy="215280"/>
              <a:chOff x="0" y="4737600"/>
              <a:chExt cx="6780960" cy="215280"/>
            </a:xfrm>
          </p:grpSpPr>
          <p:sp>
            <p:nvSpPr>
              <p:cNvPr id="1212" name=""/>
              <p:cNvSpPr/>
              <p:nvPr/>
            </p:nvSpPr>
            <p:spPr>
              <a:xfrm>
                <a:off x="0" y="4737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0" y="4737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6614-68BA-4690-B7F7-03F2F343B0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oup of consecutive memory loc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nd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fer to an element, spec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ition 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ray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sition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element at posi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lement array nam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0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1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n –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248520" y="349200"/>
            <a:ext cx="2743200" cy="5813640"/>
            <a:chOff x="6248520" y="349200"/>
            <a:chExt cx="2743200" cy="5813640"/>
          </a:xfrm>
        </p:grpSpPr>
        <p:sp>
          <p:nvSpPr>
            <p:cNvPr id="101" name=""/>
            <p:cNvSpPr/>
            <p:nvPr/>
          </p:nvSpPr>
          <p:spPr>
            <a:xfrm>
              <a:off x="6437160" y="349200"/>
              <a:ext cx="25545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me of array (Note that all elements of this array have the same name,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8520" y="5834160"/>
              <a:ext cx="2401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sition number of the element within array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83320" y="5410080"/>
              <a:ext cx="360" cy="366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400800" y="1698480"/>
              <a:ext cx="2076480" cy="3635640"/>
              <a:chOff x="6400800" y="1698480"/>
              <a:chExt cx="2076480" cy="363564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7188120" y="2031840"/>
                <a:ext cx="1289160" cy="3302280"/>
                <a:chOff x="7188120" y="2031840"/>
                <a:chExt cx="1289160" cy="3302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188120" y="3682800"/>
                  <a:ext cx="128916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7188120" y="2031840"/>
                  <a:ext cx="1289160" cy="3302280"/>
                  <a:chOff x="7188120" y="2031840"/>
                  <a:chExt cx="1289160" cy="33022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7188120" y="203184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7188120" y="230688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188120" y="258192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7188120" y="285732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7188120" y="313236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188120" y="340776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7188120" y="395820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188120" y="423324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188120" y="450864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7188120" y="478368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188120" y="505908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9" name=""/>
              <p:cNvSpPr/>
              <p:nvPr/>
            </p:nvSpPr>
            <p:spPr>
              <a:xfrm>
                <a:off x="6508800" y="3722760"/>
                <a:ext cx="465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6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20120" y="2071800"/>
                <a:ext cx="357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-4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34320" y="2346120"/>
                <a:ext cx="142920" cy="2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834320" y="2622600"/>
                <a:ext cx="1429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728120" y="2897280"/>
                <a:ext cx="249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7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512120" y="3171960"/>
                <a:ext cx="465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154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0120" y="3448080"/>
                <a:ext cx="3571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-8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834320" y="3722760"/>
                <a:ext cx="1429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728120" y="3997440"/>
                <a:ext cx="249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6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28120" y="4273560"/>
                <a:ext cx="249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834320" y="4548240"/>
                <a:ext cx="1429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512120" y="4822920"/>
                <a:ext cx="465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645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728120" y="5099040"/>
                <a:ext cx="249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7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624720" y="1698480"/>
                <a:ext cx="360" cy="366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5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508800" y="2071800"/>
                <a:ext cx="465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0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508800" y="2346120"/>
                <a:ext cx="465120" cy="2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1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508800" y="2622600"/>
                <a:ext cx="4651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2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508800" y="2897280"/>
                <a:ext cx="465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3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00800" y="5099040"/>
                <a:ext cx="573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11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400800" y="4822920"/>
                <a:ext cx="573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10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08800" y="4548240"/>
                <a:ext cx="465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9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08800" y="4273560"/>
                <a:ext cx="465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8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08800" y="3997440"/>
                <a:ext cx="465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7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508800" y="3448080"/>
                <a:ext cx="4651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5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08800" y="3171960"/>
                <a:ext cx="465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4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7188120" y="2031840"/>
                <a:ext cx="1289160" cy="3302280"/>
                <a:chOff x="7188120" y="2031840"/>
                <a:chExt cx="1289160" cy="3302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88120" y="3682800"/>
                  <a:ext cx="128916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" name=""/>
                <p:cNvGrpSpPr/>
                <p:nvPr/>
              </p:nvGrpSpPr>
              <p:grpSpPr>
                <a:xfrm>
                  <a:off x="7188120" y="2031840"/>
                  <a:ext cx="1289160" cy="3302280"/>
                  <a:chOff x="7188120" y="2031840"/>
                  <a:chExt cx="1289160" cy="33022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7188120" y="203184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7188120" y="230688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7188120" y="258192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7188120" y="285732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7188120" y="313236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7188120" y="340776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7188120" y="395820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7188120" y="423324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188120" y="450864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188120" y="478368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188120" y="505908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5A30-51A3-4883-AD03-8A31874D5E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15" name=""/>
          <p:cNvSpPr/>
          <p:nvPr/>
        </p:nvSpPr>
        <p:spPr>
          <a:xfrm>
            <a:off x="0" y="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rray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0]  [1]  [2]  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udentGrades[0] 77   68   86   73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udentGrades[1] 96   87   89   78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udentGrades[2] 70   90   86   81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west grade: 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ighest grade: 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grade for student 0 is 76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grade for student 1 is 87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grade for student 2 is 81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0F504-3700-4D12-9EEA-71C8F4E29D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elements are like norm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0 ] = 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%d", c[ 0 ]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operations in subscript.  If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5 - 2 ] == c[ 3 ] == c[ x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53C1-E55A-43FE-BCC0-22178B06E0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clar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eclaring arrays, spec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of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Type arrayName[ numberOfElements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[ 10 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myArray[ 3284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multiple arrays of sam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 similar to regular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100 ], x[ 27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5C2F-30C1-4438-B79E-7C29FBDC10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enough initializers, rightmost elements becom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0 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elements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oo many a syntax error is produced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arrays have no bounds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ize omitted, initializers determin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 initializers, therefore 5 element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D637-9567-425C-815F-A25EA5E737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0"/>
            <a:ext cx="6780960" cy="5257440"/>
            <a:chOff x="0" y="0"/>
            <a:chExt cx="6780960" cy="5257440"/>
          </a:xfrm>
        </p:grpSpPr>
        <p:grpSp>
          <p:nvGrpSpPr>
            <p:cNvPr id="166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6.8: fig06_08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Histogram printing program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1371600"/>
              <a:ext cx="6780960" cy="228600"/>
              <a:chOff x="0" y="1371600"/>
              <a:chExt cx="6780960" cy="22860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[ SIZE ] = { 19, 3, 15, 7, 11, 9, 13, 5, 17, 1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j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%13s%17s\n", "Element", "Value", "Histogra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SIZE - 1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7d%13d        ", i, n[ i ]) 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1; j &lt;= n[ i ]; j++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print one bar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%c", '*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44069-7755-4293-BC7B-4BF3C913ED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ent        Value       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19        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 3       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      15        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        7        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          11        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 9        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       13        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           5        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      17        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   1       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AE0F8-2EB2-42FD-94BA-383A7064A2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“first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really a static array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 arrays can be initialized using string liter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1[] = "firs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 charac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rminates 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tually has 6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equivalent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]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f'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i'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r'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s'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t'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access individual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is character ‘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 is address of array, so &amp; not needed for scan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%s"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characters until whitespace encoun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write beyond end of array, be care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3709-B639-40F3-AC2F-12B6E72B54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18:43:14Z</dcterms:created>
  <dc:creator>kalid</dc:creator>
  <dc:description/>
  <dc:language>en-US</dc:language>
  <cp:lastModifiedBy>Matty</cp:lastModifiedBy>
  <dcterms:modified xsi:type="dcterms:W3CDTF">2000-12-22T19:13:47Z</dcterms:modified>
  <cp:revision>193</cp:revision>
  <dc:subject/>
  <dc:title>PowerPoint Presentation</dc:title>
</cp:coreProperties>
</file>