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A51B-2A9D-43FE-B261-304D83C38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6097-6CD4-42DB-88F1-8FEF46C79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BA23-4D1D-493D-A141-1BE772D41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0B93-F45C-4004-B619-9707AE55F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F98B-952F-444F-9E15-D3ECB516A4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55EC7-CF39-448E-B064-99FE5C41C0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778E-26CD-4621-8B49-EE90335CCB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133E-5160-4144-927D-BA051F7E1F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A92C-140B-40F0-997B-86B68205A2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066F-077D-490C-9AC2-EE4C6542DD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D38B-9877-42EF-ABA4-DB54C15A9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87F1-6665-4D0A-BBDA-9841CEC3A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BE9D-DC65-4448-B93F-E1AEFB93D7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3E49-F655-48EB-900F-A124BB0FDC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A2F3-9A04-4EA5-BB0A-319413D3A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CF7E-6AD0-4FD5-A80A-5D6AA44446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2DE3-B639-43A1-A8A5-5CA4D512D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8632-4B06-4320-B953-9F94BB0E7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0EC0-E493-499B-96F6-B94B048D4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5CEB-70EA-4053-90F7-FE49CB023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5C53-2D2C-4A28-909B-0A8420A35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817E-B935-49ED-989B-D0C1CD67E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E99A-F503-4450-A724-C8A15131A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E206-6FC4-42A7-9B40-BFC58EC2D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7952-1BDC-4592-A0F1-C180C6A92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75FA-645B-4070-83EF-05D6761BE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7 - Pointer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77724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Variable Declarations and Initializ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lling Functions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Qualifier with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Call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Expressions and Pointer Arithme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Relationship between Pointers an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 of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s to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Qualifier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ing to chang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produces an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a constant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const myPtr = &amp;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 int *myPtr = &amp;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 int *const Ptr = &amp;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changed, but no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pt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(which 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Attempt to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t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64600"/>
              <a:chOff x="0" y="0"/>
              <a:chExt cx="6780960" cy="26460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13: fig07_1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64600"/>
              <a:ext cx="6780960" cy="264600"/>
              <a:chOff x="0" y="264600"/>
              <a:chExt cx="6780960" cy="2646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ttempting to modify a constant pointer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529200"/>
              <a:ext cx="6780960" cy="264600"/>
              <a:chOff x="0" y="529200"/>
              <a:chExt cx="6780960" cy="2646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5292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5292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non-constant dat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794160"/>
              <a:ext cx="6780960" cy="264600"/>
              <a:chOff x="0" y="794160"/>
              <a:chExt cx="6780960" cy="2646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7941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7941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1058760"/>
              <a:ext cx="6780960" cy="264600"/>
              <a:chOff x="0" y="1058760"/>
              <a:chExt cx="6780960" cy="2646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1058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058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323360"/>
              <a:ext cx="6780960" cy="264600"/>
              <a:chOff x="0" y="1323360"/>
              <a:chExt cx="6780960" cy="2646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323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323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587960"/>
              <a:ext cx="6780960" cy="264600"/>
              <a:chOff x="0" y="1587960"/>
              <a:chExt cx="6780960" cy="2646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587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587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852920"/>
              <a:ext cx="6780960" cy="264600"/>
              <a:chOff x="0" y="1852920"/>
              <a:chExt cx="6780960" cy="2646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852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852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2117520"/>
              <a:ext cx="6780960" cy="264600"/>
              <a:chOff x="0" y="2117520"/>
              <a:chExt cx="6780960" cy="2646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2117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2117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2382120"/>
              <a:ext cx="6780960" cy="264600"/>
              <a:chOff x="0" y="2382120"/>
              <a:chExt cx="6780960" cy="2646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3821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3821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646720"/>
              <a:ext cx="6780960" cy="264600"/>
              <a:chOff x="0" y="2646720"/>
              <a:chExt cx="6780960" cy="2646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6467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6467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tr = &amp;x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tr is a constant pointer to a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911680"/>
              <a:ext cx="6780960" cy="264600"/>
              <a:chOff x="0" y="2911680"/>
              <a:chExt cx="6780960" cy="2646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9116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9116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integer. An integer can be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3176280"/>
              <a:ext cx="6780960" cy="264600"/>
              <a:chOff x="0" y="3176280"/>
              <a:chExt cx="6780960" cy="2646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3176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3176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rough ptr, but ptr always point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3440880"/>
              <a:ext cx="6780960" cy="264600"/>
              <a:chOff x="0" y="3440880"/>
              <a:chExt cx="6780960" cy="2646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34408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4408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o the same memory location.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3705840"/>
              <a:ext cx="6780960" cy="264600"/>
              <a:chOff x="0" y="3705840"/>
              <a:chExt cx="6780960" cy="2646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3705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705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pt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970440"/>
              <a:ext cx="6780960" cy="264600"/>
              <a:chOff x="0" y="3970440"/>
              <a:chExt cx="6780960" cy="2646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970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970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tr = &amp;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4235040"/>
              <a:ext cx="6780960" cy="264600"/>
              <a:chOff x="0" y="4235040"/>
              <a:chExt cx="6780960" cy="2646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42350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42350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4500000"/>
              <a:ext cx="6780960" cy="264600"/>
              <a:chOff x="0" y="4500000"/>
              <a:chExt cx="6780960" cy="2646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45000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45000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4764600"/>
              <a:ext cx="6780960" cy="264600"/>
              <a:chOff x="0" y="4764600"/>
              <a:chExt cx="6780960" cy="2646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47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7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0" y="53341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13.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7_13.c 16: Cannot modify a const object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 1 errors in Compil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447920" y="1924200"/>
            <a:ext cx="4724280" cy="1809720"/>
            <a:chOff x="1447920" y="1924200"/>
            <a:chExt cx="4724280" cy="1809720"/>
          </a:xfrm>
        </p:grpSpPr>
        <p:sp>
          <p:nvSpPr>
            <p:cNvPr id="380" name=""/>
            <p:cNvSpPr/>
            <p:nvPr/>
          </p:nvSpPr>
          <p:spPr>
            <a:xfrm flipH="1">
              <a:off x="1447920" y="2286360"/>
              <a:ext cx="22096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0400" y="1924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llowed –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a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599840" y="3809880"/>
            <a:ext cx="5029560" cy="1676520"/>
            <a:chOff x="1599840" y="3809880"/>
            <a:chExt cx="5029560" cy="1676520"/>
          </a:xfrm>
        </p:grpSpPr>
        <p:grpSp>
          <p:nvGrpSpPr>
            <p:cNvPr id="383" name=""/>
            <p:cNvGrpSpPr/>
            <p:nvPr/>
          </p:nvGrpSpPr>
          <p:grpSpPr>
            <a:xfrm>
              <a:off x="1599840" y="3809880"/>
              <a:ext cx="5029560" cy="580680"/>
              <a:chOff x="1599840" y="3809880"/>
              <a:chExt cx="5029560" cy="580680"/>
            </a:xfrm>
          </p:grpSpPr>
          <p:sp>
            <p:nvSpPr>
              <p:cNvPr id="384" name=""/>
              <p:cNvSpPr/>
              <p:nvPr/>
            </p:nvSpPr>
            <p:spPr>
              <a:xfrm flipH="1">
                <a:off x="1599840" y="4038480"/>
                <a:ext cx="25146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200" y="380988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error –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 constant poin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 flipH="1">
              <a:off x="4419720" y="4419360"/>
              <a:ext cx="76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bubblesort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ap two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must receive address (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elements have call-by-valu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pointers 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switch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data in origin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l function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sort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fine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:  size of 1 element *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ytes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d", sizeof( myArray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pr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93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15: fig07_1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is program puts values into an array, sorts the values i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scending order, and prints the resulting array.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 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Data items in original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4d", a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, SIZE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ort the arra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Data items in ascending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4d", a[ i ] );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1828800" y="2362320"/>
            <a:ext cx="4419720" cy="1523880"/>
            <a:chOff x="1828800" y="2362320"/>
            <a:chExt cx="4419720" cy="1523880"/>
          </a:xfrm>
        </p:grpSpPr>
        <p:sp>
          <p:nvSpPr>
            <p:cNvPr id="490" name=""/>
            <p:cNvSpPr/>
            <p:nvPr/>
          </p:nvSpPr>
          <p:spPr>
            <a:xfrm flipH="1">
              <a:off x="1828800" y="2895840"/>
              <a:ext cx="1752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36232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passed the address of array elements (pointers).  The name of an array is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0" y="0"/>
            <a:ext cx="6780960" cy="4114800"/>
            <a:chOff x="0" y="0"/>
            <a:chExt cx="6780960" cy="4114800"/>
          </a:xfrm>
        </p:grpSpPr>
        <p:grpSp>
          <p:nvGrpSpPr>
            <p:cNvPr id="494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, j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 = 0; pass &lt; size - 1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rray[ j ] &gt; array[ j + 1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array[ j ], &amp;array[ j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"/>
          <p:cNvSpPr/>
          <p:nvPr/>
        </p:nvSpPr>
        <p:spPr>
          <a:xfrm>
            <a:off x="0" y="434340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ions can be performed o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an integer to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 meaningless unless performed on an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machine with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cremented by 2), but the machine has 4 by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 so it points to addre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76520" y="3581280"/>
            <a:ext cx="5485680" cy="2056680"/>
            <a:chOff x="1676520" y="3581280"/>
            <a:chExt cx="5485680" cy="2056680"/>
          </a:xfrm>
        </p:grpSpPr>
        <p:sp>
          <p:nvSpPr>
            <p:cNvPr id="547" name=""/>
            <p:cNvSpPr/>
            <p:nvPr/>
          </p:nvSpPr>
          <p:spPr>
            <a:xfrm>
              <a:off x="1676520" y="5346000"/>
              <a:ext cx="289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er variabl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7480" y="4973400"/>
              <a:ext cx="495720" cy="403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73080" y="5107680"/>
              <a:ext cx="164520" cy="1346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29760" y="4339080"/>
              <a:ext cx="826920" cy="403920"/>
              <a:chOff x="3029760" y="4339080"/>
              <a:chExt cx="826920" cy="4039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29760" y="4339080"/>
                <a:ext cx="82692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6520" y="4419720"/>
                <a:ext cx="65196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3856680" y="4339080"/>
              <a:ext cx="826200" cy="403920"/>
              <a:chOff x="3856680" y="4339080"/>
              <a:chExt cx="826200" cy="403920"/>
            </a:xfrm>
          </p:grpSpPr>
          <p:sp>
            <p:nvSpPr>
              <p:cNvPr id="554" name=""/>
              <p:cNvSpPr/>
              <p:nvPr/>
            </p:nvSpPr>
            <p:spPr>
              <a:xfrm>
                <a:off x="3856680" y="4339080"/>
                <a:ext cx="82620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43440" y="4419720"/>
                <a:ext cx="65160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4682880" y="4339080"/>
              <a:ext cx="826200" cy="403920"/>
              <a:chOff x="4682880" y="4339080"/>
              <a:chExt cx="826200" cy="403920"/>
            </a:xfrm>
          </p:grpSpPr>
          <p:sp>
            <p:nvSpPr>
              <p:cNvPr id="557" name=""/>
              <p:cNvSpPr/>
              <p:nvPr/>
            </p:nvSpPr>
            <p:spPr>
              <a:xfrm>
                <a:off x="4682880" y="4339080"/>
                <a:ext cx="82620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69640" y="4419720"/>
                <a:ext cx="65160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336000" y="4339080"/>
              <a:ext cx="826200" cy="403920"/>
              <a:chOff x="6336000" y="4339080"/>
              <a:chExt cx="826200" cy="403920"/>
            </a:xfrm>
          </p:grpSpPr>
          <p:sp>
            <p:nvSpPr>
              <p:cNvPr id="560" name=""/>
              <p:cNvSpPr/>
              <p:nvPr/>
            </p:nvSpPr>
            <p:spPr>
              <a:xfrm>
                <a:off x="6336000" y="4339080"/>
                <a:ext cx="82620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422760" y="4419720"/>
                <a:ext cx="65160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5509080" y="4339080"/>
              <a:ext cx="826920" cy="403920"/>
              <a:chOff x="5509080" y="4339080"/>
              <a:chExt cx="826920" cy="403920"/>
            </a:xfrm>
          </p:grpSpPr>
          <p:sp>
            <p:nvSpPr>
              <p:cNvPr id="563" name=""/>
              <p:cNvSpPr/>
              <p:nvPr/>
            </p:nvSpPr>
            <p:spPr>
              <a:xfrm>
                <a:off x="5509080" y="4339080"/>
                <a:ext cx="82692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595840" y="4419720"/>
                <a:ext cx="65196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302976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5668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8288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0908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3600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3744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400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90200" y="3817080"/>
              <a:ext cx="6512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712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4332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47800" y="3581280"/>
              <a:ext cx="11156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49040" y="4515840"/>
              <a:ext cx="1084680" cy="599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umber of elements from one to the other.  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2 - 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ould produc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 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 which pointer points to the higher numbered arra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, see if a pointer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of the same type can be assigned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the same type, a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a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call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a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an arra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point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P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et them equal to one another 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rray na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actually the address of first element of the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 &amp;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assig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ddress of fir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ccess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offset. 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ccess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subscrip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ccessed by performing pointer arithmetic on the array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 an array of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 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are pointers to the first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ach elemen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rings are not actually stored in the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nly pointers to the strings are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a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grpSp>
          <p:nvGrpSpPr>
            <p:cNvPr id="591" name=""/>
            <p:cNvGrpSpPr/>
            <p:nvPr/>
          </p:nvGrpSpPr>
          <p:grpSpPr>
            <a:xfrm>
              <a:off x="838080" y="5276880"/>
              <a:ext cx="2190960" cy="361800"/>
              <a:chOff x="838080" y="5276880"/>
              <a:chExt cx="2190960" cy="3618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838080" y="5276880"/>
                <a:ext cx="1565280" cy="361800"/>
                <a:chOff x="838080" y="5276880"/>
                <a:chExt cx="1565280" cy="36180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1934280" y="5276880"/>
                  <a:ext cx="469080" cy="361800"/>
                  <a:chOff x="1934280" y="5276880"/>
                  <a:chExt cx="469080" cy="36180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1934280" y="52768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089080" y="53974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6" name=""/>
                <p:cNvSpPr/>
                <p:nvPr/>
              </p:nvSpPr>
              <p:spPr>
                <a:xfrm>
                  <a:off x="838080" y="53370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2246760" y="545760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838080" y="4914720"/>
              <a:ext cx="2190960" cy="361800"/>
              <a:chOff x="838080" y="4914720"/>
              <a:chExt cx="2190960" cy="36180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838080" y="4914720"/>
                <a:ext cx="1565280" cy="361800"/>
                <a:chOff x="838080" y="4914720"/>
                <a:chExt cx="1565280" cy="36180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1934280" y="4914720"/>
                  <a:ext cx="469080" cy="361800"/>
                  <a:chOff x="1934280" y="4914720"/>
                  <a:chExt cx="469080" cy="36180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1934280" y="491472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089440" y="503532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>
                  <a:off x="838080" y="497484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2247120" y="509544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838080" y="4552920"/>
              <a:ext cx="2190960" cy="361800"/>
              <a:chOff x="838080" y="4552920"/>
              <a:chExt cx="2190960" cy="3618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838080" y="4552920"/>
                <a:ext cx="1565280" cy="361800"/>
                <a:chOff x="838080" y="4552920"/>
                <a:chExt cx="1565280" cy="36180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1934280" y="4552920"/>
                  <a:ext cx="469080" cy="361800"/>
                  <a:chOff x="1934280" y="4552920"/>
                  <a:chExt cx="469080" cy="36180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1934280" y="455292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89440" y="467352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0" name=""/>
                <p:cNvSpPr/>
                <p:nvPr/>
              </p:nvSpPr>
              <p:spPr>
                <a:xfrm>
                  <a:off x="838080" y="461304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2247120" y="473364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38080" y="4191120"/>
              <a:ext cx="2190960" cy="361800"/>
              <a:chOff x="838080" y="4191120"/>
              <a:chExt cx="2190960" cy="361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838080" y="4191120"/>
                <a:ext cx="1565280" cy="361800"/>
                <a:chOff x="838080" y="4191120"/>
                <a:chExt cx="1565280" cy="3618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1934280" y="4191120"/>
                  <a:ext cx="469080" cy="361800"/>
                  <a:chOff x="1934280" y="4191120"/>
                  <a:chExt cx="469080" cy="3618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934280" y="419112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089440" y="431172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>
                  <a:off x="838080" y="425124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2247120" y="437184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3029040" y="4251240"/>
              <a:ext cx="625680" cy="282240"/>
              <a:chOff x="3029040" y="4251240"/>
              <a:chExt cx="625680" cy="282240"/>
            </a:xfrm>
          </p:grpSpPr>
          <p:sp>
            <p:nvSpPr>
              <p:cNvPr id="620" name=""/>
              <p:cNvSpPr/>
              <p:nvPr/>
            </p:nvSpPr>
            <p:spPr>
              <a:xfrm>
                <a:off x="302904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980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655080" y="4251240"/>
              <a:ext cx="625680" cy="282240"/>
              <a:chOff x="3655080" y="4251240"/>
              <a:chExt cx="625680" cy="282240"/>
            </a:xfrm>
          </p:grpSpPr>
          <p:sp>
            <p:nvSpPr>
              <p:cNvPr id="623" name=""/>
              <p:cNvSpPr/>
              <p:nvPr/>
            </p:nvSpPr>
            <p:spPr>
              <a:xfrm>
                <a:off x="365508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70584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280760" y="4251240"/>
              <a:ext cx="625680" cy="282240"/>
              <a:chOff x="4280760" y="4251240"/>
              <a:chExt cx="625680" cy="282240"/>
            </a:xfrm>
          </p:grpSpPr>
          <p:sp>
            <p:nvSpPr>
              <p:cNvPr id="626" name=""/>
              <p:cNvSpPr/>
              <p:nvPr/>
            </p:nvSpPr>
            <p:spPr>
              <a:xfrm>
                <a:off x="428076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33152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906800" y="4251240"/>
              <a:ext cx="625680" cy="282240"/>
              <a:chOff x="4906800" y="4251240"/>
              <a:chExt cx="625680" cy="282240"/>
            </a:xfrm>
          </p:grpSpPr>
          <p:sp>
            <p:nvSpPr>
              <p:cNvPr id="629" name=""/>
              <p:cNvSpPr/>
              <p:nvPr/>
            </p:nvSpPr>
            <p:spPr>
              <a:xfrm>
                <a:off x="490680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95756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532480" y="4251240"/>
              <a:ext cx="625680" cy="282240"/>
              <a:chOff x="5532480" y="4251240"/>
              <a:chExt cx="625680" cy="282240"/>
            </a:xfrm>
          </p:grpSpPr>
          <p:sp>
            <p:nvSpPr>
              <p:cNvPr id="632" name=""/>
              <p:cNvSpPr/>
              <p:nvPr/>
            </p:nvSpPr>
            <p:spPr>
              <a:xfrm>
                <a:off x="553248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8324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6158160" y="4251240"/>
              <a:ext cx="625680" cy="282240"/>
              <a:chOff x="6158160" y="4251240"/>
              <a:chExt cx="625680" cy="282240"/>
            </a:xfrm>
          </p:grpSpPr>
          <p:sp>
            <p:nvSpPr>
              <p:cNvPr id="635" name=""/>
              <p:cNvSpPr/>
              <p:nvPr/>
            </p:nvSpPr>
            <p:spPr>
              <a:xfrm>
                <a:off x="615816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0892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756480" y="4251240"/>
              <a:ext cx="678960" cy="282240"/>
              <a:chOff x="6756480" y="4251240"/>
              <a:chExt cx="678960" cy="282240"/>
            </a:xfrm>
          </p:grpSpPr>
          <p:sp>
            <p:nvSpPr>
              <p:cNvPr id="638" name=""/>
              <p:cNvSpPr/>
              <p:nvPr/>
            </p:nvSpPr>
            <p:spPr>
              <a:xfrm>
                <a:off x="678384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756480" y="425124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029040" y="4603320"/>
              <a:ext cx="625680" cy="282240"/>
              <a:chOff x="3029040" y="4603320"/>
              <a:chExt cx="625680" cy="282240"/>
            </a:xfrm>
          </p:grpSpPr>
          <p:sp>
            <p:nvSpPr>
              <p:cNvPr id="641" name=""/>
              <p:cNvSpPr/>
              <p:nvPr/>
            </p:nvSpPr>
            <p:spPr>
              <a:xfrm>
                <a:off x="302904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07980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3655080" y="4603320"/>
              <a:ext cx="625680" cy="282240"/>
              <a:chOff x="3655080" y="4603320"/>
              <a:chExt cx="625680" cy="282240"/>
            </a:xfrm>
          </p:grpSpPr>
          <p:sp>
            <p:nvSpPr>
              <p:cNvPr id="644" name=""/>
              <p:cNvSpPr/>
              <p:nvPr/>
            </p:nvSpPr>
            <p:spPr>
              <a:xfrm>
                <a:off x="365508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584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280760" y="4603320"/>
              <a:ext cx="625680" cy="282240"/>
              <a:chOff x="4280760" y="4603320"/>
              <a:chExt cx="625680" cy="282240"/>
            </a:xfrm>
          </p:grpSpPr>
          <p:sp>
            <p:nvSpPr>
              <p:cNvPr id="647" name=""/>
              <p:cNvSpPr/>
              <p:nvPr/>
            </p:nvSpPr>
            <p:spPr>
              <a:xfrm>
                <a:off x="428076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3152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906800" y="4603320"/>
              <a:ext cx="625680" cy="282240"/>
              <a:chOff x="4906800" y="4603320"/>
              <a:chExt cx="625680" cy="282240"/>
            </a:xfrm>
          </p:grpSpPr>
          <p:sp>
            <p:nvSpPr>
              <p:cNvPr id="650" name=""/>
              <p:cNvSpPr/>
              <p:nvPr/>
            </p:nvSpPr>
            <p:spPr>
              <a:xfrm>
                <a:off x="490680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95756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5532480" y="4603320"/>
              <a:ext cx="625680" cy="282240"/>
              <a:chOff x="5532480" y="4603320"/>
              <a:chExt cx="625680" cy="282240"/>
            </a:xfrm>
          </p:grpSpPr>
          <p:sp>
            <p:nvSpPr>
              <p:cNvPr id="653" name=""/>
              <p:cNvSpPr/>
              <p:nvPr/>
            </p:nvSpPr>
            <p:spPr>
              <a:xfrm>
                <a:off x="553248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582880" y="46033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158160" y="4603320"/>
              <a:ext cx="625680" cy="282240"/>
              <a:chOff x="6158160" y="4603320"/>
              <a:chExt cx="625680" cy="282240"/>
            </a:xfrm>
          </p:grpSpPr>
          <p:sp>
            <p:nvSpPr>
              <p:cNvPr id="656" name=""/>
              <p:cNvSpPr/>
              <p:nvPr/>
            </p:nvSpPr>
            <p:spPr>
              <a:xfrm>
                <a:off x="615816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08560" y="46033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783840" y="4603320"/>
              <a:ext cx="625680" cy="282240"/>
              <a:chOff x="6783840" y="4603320"/>
              <a:chExt cx="625680" cy="282240"/>
            </a:xfrm>
          </p:grpSpPr>
          <p:sp>
            <p:nvSpPr>
              <p:cNvPr id="659" name=""/>
              <p:cNvSpPr/>
              <p:nvPr/>
            </p:nvSpPr>
            <p:spPr>
              <a:xfrm>
                <a:off x="678384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34240" y="46033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7409520" y="4603320"/>
              <a:ext cx="625680" cy="282240"/>
              <a:chOff x="7409520" y="4603320"/>
              <a:chExt cx="625680" cy="282240"/>
            </a:xfrm>
          </p:grpSpPr>
          <p:sp>
            <p:nvSpPr>
              <p:cNvPr id="662" name=""/>
              <p:cNvSpPr/>
              <p:nvPr/>
            </p:nvSpPr>
            <p:spPr>
              <a:xfrm>
                <a:off x="740952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46028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8007840" y="4603320"/>
              <a:ext cx="678960" cy="282240"/>
              <a:chOff x="8007840" y="4603320"/>
              <a:chExt cx="678960" cy="282240"/>
            </a:xfrm>
          </p:grpSpPr>
          <p:sp>
            <p:nvSpPr>
              <p:cNvPr id="665" name=""/>
              <p:cNvSpPr/>
              <p:nvPr/>
            </p:nvSpPr>
            <p:spPr>
              <a:xfrm>
                <a:off x="803520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7840" y="460332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029040" y="4965120"/>
              <a:ext cx="625680" cy="282240"/>
              <a:chOff x="3029040" y="4965120"/>
              <a:chExt cx="625680" cy="282240"/>
            </a:xfrm>
          </p:grpSpPr>
          <p:sp>
            <p:nvSpPr>
              <p:cNvPr id="668" name=""/>
              <p:cNvSpPr/>
              <p:nvPr/>
            </p:nvSpPr>
            <p:spPr>
              <a:xfrm>
                <a:off x="302904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079800" y="49651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3655080" y="4965120"/>
              <a:ext cx="625680" cy="282240"/>
              <a:chOff x="3655080" y="4965120"/>
              <a:chExt cx="625680" cy="282240"/>
            </a:xfrm>
          </p:grpSpPr>
          <p:sp>
            <p:nvSpPr>
              <p:cNvPr id="671" name=""/>
              <p:cNvSpPr/>
              <p:nvPr/>
            </p:nvSpPr>
            <p:spPr>
              <a:xfrm>
                <a:off x="365508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05840" y="49651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280760" y="4965120"/>
              <a:ext cx="625680" cy="282240"/>
              <a:chOff x="4280760" y="4965120"/>
              <a:chExt cx="625680" cy="282240"/>
            </a:xfrm>
          </p:grpSpPr>
          <p:sp>
            <p:nvSpPr>
              <p:cNvPr id="674" name=""/>
              <p:cNvSpPr/>
              <p:nvPr/>
            </p:nvSpPr>
            <p:spPr>
              <a:xfrm>
                <a:off x="428076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331160" y="49651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906800" y="4965120"/>
              <a:ext cx="625320" cy="282240"/>
              <a:chOff x="4906800" y="4965120"/>
              <a:chExt cx="625320" cy="282240"/>
            </a:xfrm>
          </p:grpSpPr>
          <p:sp>
            <p:nvSpPr>
              <p:cNvPr id="677" name=""/>
              <p:cNvSpPr/>
              <p:nvPr/>
            </p:nvSpPr>
            <p:spPr>
              <a:xfrm>
                <a:off x="4906800" y="4965120"/>
                <a:ext cx="62532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957200" y="49651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5532120" y="4965120"/>
              <a:ext cx="625680" cy="282240"/>
              <a:chOff x="5532120" y="4965120"/>
              <a:chExt cx="625680" cy="282240"/>
            </a:xfrm>
          </p:grpSpPr>
          <p:sp>
            <p:nvSpPr>
              <p:cNvPr id="680" name=""/>
              <p:cNvSpPr/>
              <p:nvPr/>
            </p:nvSpPr>
            <p:spPr>
              <a:xfrm>
                <a:off x="553212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82880" y="49651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6130800" y="4965120"/>
              <a:ext cx="678960" cy="282240"/>
              <a:chOff x="6130800" y="4965120"/>
              <a:chExt cx="678960" cy="282240"/>
            </a:xfrm>
          </p:grpSpPr>
          <p:sp>
            <p:nvSpPr>
              <p:cNvPr id="683" name=""/>
              <p:cNvSpPr/>
              <p:nvPr/>
            </p:nvSpPr>
            <p:spPr>
              <a:xfrm>
                <a:off x="615780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130800" y="496512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029040" y="5327280"/>
              <a:ext cx="625680" cy="282240"/>
              <a:chOff x="3029040" y="5327280"/>
              <a:chExt cx="625680" cy="282240"/>
            </a:xfrm>
          </p:grpSpPr>
          <p:sp>
            <p:nvSpPr>
              <p:cNvPr id="686" name=""/>
              <p:cNvSpPr/>
              <p:nvPr/>
            </p:nvSpPr>
            <p:spPr>
              <a:xfrm>
                <a:off x="302904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7980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655080" y="5327280"/>
              <a:ext cx="625680" cy="282240"/>
              <a:chOff x="3655080" y="5327280"/>
              <a:chExt cx="625680" cy="282240"/>
            </a:xfrm>
          </p:grpSpPr>
          <p:sp>
            <p:nvSpPr>
              <p:cNvPr id="689" name=""/>
              <p:cNvSpPr/>
              <p:nvPr/>
            </p:nvSpPr>
            <p:spPr>
              <a:xfrm>
                <a:off x="365508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70584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4280760" y="5327280"/>
              <a:ext cx="625680" cy="282240"/>
              <a:chOff x="4280760" y="5327280"/>
              <a:chExt cx="625680" cy="282240"/>
            </a:xfrm>
          </p:grpSpPr>
          <p:sp>
            <p:nvSpPr>
              <p:cNvPr id="692" name=""/>
              <p:cNvSpPr/>
              <p:nvPr/>
            </p:nvSpPr>
            <p:spPr>
              <a:xfrm>
                <a:off x="428076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331160" y="532728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4906800" y="5327280"/>
              <a:ext cx="625320" cy="282240"/>
              <a:chOff x="4906800" y="5327280"/>
              <a:chExt cx="625320" cy="282240"/>
            </a:xfrm>
          </p:grpSpPr>
          <p:sp>
            <p:nvSpPr>
              <p:cNvPr id="695" name=""/>
              <p:cNvSpPr/>
              <p:nvPr/>
            </p:nvSpPr>
            <p:spPr>
              <a:xfrm>
                <a:off x="4906800" y="5327280"/>
                <a:ext cx="62532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957200" y="532728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5532120" y="5327280"/>
              <a:ext cx="625680" cy="282240"/>
              <a:chOff x="5532120" y="5327280"/>
              <a:chExt cx="625680" cy="282240"/>
            </a:xfrm>
          </p:grpSpPr>
          <p:sp>
            <p:nvSpPr>
              <p:cNvPr id="698" name=""/>
              <p:cNvSpPr/>
              <p:nvPr/>
            </p:nvSpPr>
            <p:spPr>
              <a:xfrm>
                <a:off x="553212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58288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157800" y="5327280"/>
              <a:ext cx="625680" cy="282240"/>
              <a:chOff x="6157800" y="5327280"/>
              <a:chExt cx="625680" cy="282240"/>
            </a:xfrm>
          </p:grpSpPr>
          <p:sp>
            <p:nvSpPr>
              <p:cNvPr id="701" name=""/>
              <p:cNvSpPr/>
              <p:nvPr/>
            </p:nvSpPr>
            <p:spPr>
              <a:xfrm>
                <a:off x="615780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0856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756120" y="5327280"/>
              <a:ext cx="678960" cy="282240"/>
              <a:chOff x="6756120" y="5327280"/>
              <a:chExt cx="678960" cy="28224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348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56120" y="532728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rray of pointers t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ouble scripted array (suit, 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umbers 1-52 go into th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ing the order in which the cards are de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6320" y="2666880"/>
            <a:ext cx="9983520" cy="2355840"/>
            <a:chOff x="76320" y="2666880"/>
            <a:chExt cx="9983520" cy="2355840"/>
          </a:xfrm>
        </p:grpSpPr>
        <p:sp>
          <p:nvSpPr>
            <p:cNvPr id="712" name=""/>
            <p:cNvSpPr/>
            <p:nvPr/>
          </p:nvSpPr>
          <p:spPr>
            <a:xfrm>
              <a:off x="4114800" y="4343400"/>
              <a:ext cx="59450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k[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[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 represents the King of 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76320" y="2666880"/>
              <a:ext cx="9178920" cy="2355840"/>
              <a:chOff x="76320" y="2666880"/>
              <a:chExt cx="9178920" cy="2355840"/>
            </a:xfrm>
          </p:grpSpPr>
          <p:sp>
            <p:nvSpPr>
              <p:cNvPr id="714" name=""/>
              <p:cNvSpPr/>
              <p:nvPr/>
            </p:nvSpPr>
            <p:spPr>
              <a:xfrm>
                <a:off x="76320" y="3180960"/>
                <a:ext cx="914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Hear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6320" y="3425400"/>
                <a:ext cx="1200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Diamon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6320" y="3671640"/>
                <a:ext cx="770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Cl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320" y="3917880"/>
                <a:ext cx="914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Sp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734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401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0071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4736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738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5403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073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405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740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2075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4069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7407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2742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734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9401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0071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4736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0738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403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073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405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6740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075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4069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7407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742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8734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401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071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4736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738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403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073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1405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6740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075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4069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7407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8734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401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0071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736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0738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5403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073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405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6740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075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069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407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2742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35400" y="3126960"/>
                <a:ext cx="2379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535400" y="3371760"/>
                <a:ext cx="23796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535400" y="3617640"/>
                <a:ext cx="23796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35400" y="3863880"/>
                <a:ext cx="23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2742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2444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75760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Tw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29112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Thr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24640" y="2666880"/>
                <a:ext cx="630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F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357800" y="2666880"/>
                <a:ext cx="630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F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9132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S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2484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Se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5800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491520" y="2666880"/>
                <a:ext cx="630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N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2504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T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58200" y="2666880"/>
                <a:ext cx="630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J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09172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Que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625240" y="2666880"/>
                <a:ext cx="630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0210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5456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87720" y="2825640"/>
                <a:ext cx="236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6212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15476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687920" y="2825640"/>
                <a:ext cx="236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2214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5496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288120" y="2825640"/>
                <a:ext cx="236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8216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266240" y="2825640"/>
                <a:ext cx="41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99760" y="2825640"/>
                <a:ext cx="41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332920" y="2825640"/>
                <a:ext cx="41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6755760" y="3774960"/>
                <a:ext cx="1600200" cy="533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8" y="1997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556080" y="4460760"/>
                <a:ext cx="990720" cy="30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16" y="199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73760" y="4776480"/>
                <a:ext cx="76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Cl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84880" y="4765320"/>
                <a:ext cx="62892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5004000" y="4536720"/>
                <a:ext cx="45720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2"/>
                    </a:moveTo>
                    <a:lnTo>
                      <a:pt x="1991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"/>
          <p:cNvSpPr/>
          <p:nvPr/>
        </p:nvSpPr>
        <p:spPr>
          <a:xfrm>
            <a:off x="-609480" y="1447920"/>
            <a:ext cx="128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413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 lev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huffle and deal 52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refine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he sui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he fac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he deck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huffle the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al 52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refin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shuffle the de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al 52 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refin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huffle the de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deal 52 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slot of the deck array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i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k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15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24: fig07_2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ard shuffling dealing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1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uit[ 4 ]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"Hearts", "Diamonds", "Clubs", "Spades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ace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"Ace", "Deuce", "Three", "Fou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"Five", "Six", "Seven", "Eigh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"Nine", "Ten", "Jack", "Queen", "King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ck[ 4 ][ 13 ] = {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al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[][ 13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w, column,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ard = 1; card &lt;= 52; card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0" y="0"/>
            <a:ext cx="6780960" cy="6553080"/>
            <a:chOff x="0" y="0"/>
            <a:chExt cx="6780960" cy="6553080"/>
          </a:xfrm>
        </p:grpSpPr>
        <p:grpSp>
          <p:nvGrpSpPr>
            <p:cNvPr id="913" name=""/>
            <p:cNvGrpSpPr/>
            <p:nvPr/>
          </p:nvGrpSpPr>
          <p:grpSpPr>
            <a:xfrm>
              <a:off x="0" y="0"/>
              <a:ext cx="6780960" cy="262080"/>
              <a:chOff x="0" y="0"/>
              <a:chExt cx="6780960" cy="26208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262080"/>
              <a:ext cx="6780960" cy="262080"/>
              <a:chOff x="0" y="262080"/>
              <a:chExt cx="6780960" cy="26208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262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262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row = rand() %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524160"/>
              <a:ext cx="6780960" cy="262080"/>
              <a:chOff x="0" y="524160"/>
              <a:chExt cx="6780960" cy="26208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524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524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lumn = rand() % 1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786240"/>
              <a:ext cx="6780960" cy="262080"/>
              <a:chOff x="0" y="786240"/>
              <a:chExt cx="6780960" cy="26208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786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786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wDeck[ row ][ column ] !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048320"/>
              <a:ext cx="6780960" cy="262080"/>
              <a:chOff x="0" y="1048320"/>
              <a:chExt cx="6780960" cy="26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048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048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310400"/>
              <a:ext cx="6780960" cy="262080"/>
              <a:chOff x="0" y="1310400"/>
              <a:chExt cx="6780960" cy="26208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310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310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row ][ column ] =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572480"/>
              <a:ext cx="6780960" cy="262080"/>
              <a:chOff x="0" y="1572480"/>
              <a:chExt cx="6780960" cy="26208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572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572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1834920"/>
              <a:ext cx="6780960" cy="262080"/>
              <a:chOff x="0" y="1834920"/>
              <a:chExt cx="6780960" cy="26208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1834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1834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097000"/>
              <a:ext cx="6780960" cy="262080"/>
              <a:chOff x="0" y="2097000"/>
              <a:chExt cx="6780960" cy="26208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097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097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359080"/>
              <a:ext cx="6780960" cy="262080"/>
              <a:chOff x="0" y="2359080"/>
              <a:chExt cx="6780960" cy="26208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359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359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wFace[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621160"/>
              <a:ext cx="6780960" cy="262080"/>
              <a:chOff x="0" y="2621160"/>
              <a:chExt cx="6780960" cy="26208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621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621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883240"/>
              <a:ext cx="6780960" cy="262080"/>
              <a:chOff x="0" y="2883240"/>
              <a:chExt cx="6780960" cy="26208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883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883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145320"/>
              <a:ext cx="6780960" cy="262080"/>
              <a:chOff x="0" y="3145320"/>
              <a:chExt cx="6780960" cy="26208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145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145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, row, colu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407400"/>
              <a:ext cx="6780960" cy="262080"/>
              <a:chOff x="0" y="3407400"/>
              <a:chExt cx="6780960" cy="26208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407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407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669480"/>
              <a:ext cx="6780960" cy="262080"/>
              <a:chOff x="0" y="3669480"/>
              <a:chExt cx="6780960" cy="26208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669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669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ard = 1; card &lt;= 52; card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931920"/>
              <a:ext cx="6780960" cy="262080"/>
              <a:chOff x="0" y="3931920"/>
              <a:chExt cx="6780960" cy="26208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931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931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4194000"/>
              <a:ext cx="6780960" cy="262080"/>
              <a:chOff x="0" y="4194000"/>
              <a:chExt cx="6780960" cy="26208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4194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4194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ow = 0; row &lt;= 3; row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456080"/>
              <a:ext cx="6780960" cy="262080"/>
              <a:chOff x="0" y="4456080"/>
              <a:chExt cx="6780960" cy="26208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456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456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4718160"/>
              <a:ext cx="6780960" cy="262080"/>
              <a:chOff x="0" y="4718160"/>
              <a:chExt cx="6780960" cy="26208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4718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4718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lumn = 0; column &lt;= 12; colum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4980240"/>
              <a:ext cx="6780960" cy="262080"/>
              <a:chOff x="0" y="4980240"/>
              <a:chExt cx="6780960" cy="26208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4980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4980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5242320"/>
              <a:ext cx="6780960" cy="262080"/>
              <a:chOff x="0" y="5242320"/>
              <a:chExt cx="6780960" cy="26208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5242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5242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wDeck[ row ][ column ] == car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5504400"/>
              <a:ext cx="6780960" cy="262080"/>
              <a:chOff x="0" y="5504400"/>
              <a:chExt cx="6780960" cy="26208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5504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5504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printf( "%5s of %-8s%c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5766840"/>
              <a:ext cx="6780960" cy="262080"/>
              <a:chOff x="0" y="5766840"/>
              <a:chExt cx="6780960" cy="26208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57668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57668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wFace[ column ], wSuit[ row 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6028920"/>
              <a:ext cx="6780960" cy="262080"/>
              <a:chOff x="0" y="6028920"/>
              <a:chExt cx="6780960" cy="26208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6028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6028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card % 2 == 0 ? '\n' : '\t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6291000"/>
              <a:ext cx="6780960" cy="262080"/>
              <a:chOff x="0" y="6291000"/>
              <a:chExt cx="6780960" cy="26208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6291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0" y="6291000"/>
                <a:ext cx="6780600" cy="262080"/>
                <a:chOff x="0" y="6291000"/>
                <a:chExt cx="6780600" cy="26208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0" y="6291000"/>
                  <a:ext cx="6780600" cy="2620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0" y="6291000"/>
                  <a:ext cx="6780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0" name=""/>
          <p:cNvGrpSpPr/>
          <p:nvPr/>
        </p:nvGrpSpPr>
        <p:grpSpPr>
          <a:xfrm>
            <a:off x="3733920" y="228600"/>
            <a:ext cx="4343400" cy="1218960"/>
            <a:chOff x="3733920" y="228600"/>
            <a:chExt cx="4343400" cy="1218960"/>
          </a:xfrm>
        </p:grpSpPr>
        <p:sp>
          <p:nvSpPr>
            <p:cNvPr id="991" name=""/>
            <p:cNvSpPr/>
            <p:nvPr/>
          </p:nvSpPr>
          <p:spPr>
            <a:xfrm>
              <a:off x="5410080" y="228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numbers 1-52 are randomly placed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3733920" y="76176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3657240" y="4038480"/>
            <a:ext cx="4343760" cy="1371600"/>
            <a:chOff x="3657240" y="4038480"/>
            <a:chExt cx="4343760" cy="1371600"/>
          </a:xfrm>
        </p:grpSpPr>
        <p:sp>
          <p:nvSpPr>
            <p:cNvPr id="994" name=""/>
            <p:cNvSpPr/>
            <p:nvPr/>
          </p:nvSpPr>
          <p:spPr>
            <a:xfrm>
              <a:off x="5638680" y="40384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umber, then prin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3657240" y="441936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0"/>
            <a:ext cx="6781680" cy="538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Spades  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Hearts         Que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en of Clubs          Sev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Heart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Spade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Diamonds        Four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Diamonds         T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Diamonds         Six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Hearts         Thre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Spades           Six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Clubs          Eight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Diamonds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Spades         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Diamonds        Jack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Hearts         Que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Clubs           King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 of Clubs           King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Clubs           Nin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Hearts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Diamonds        Nin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Hearts  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Clubs 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Sev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their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 variables contain a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address of a variable that has a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rec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ing a point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962520" y="2378160"/>
            <a:ext cx="847440" cy="745920"/>
            <a:chOff x="3962520" y="2378160"/>
            <a:chExt cx="847440" cy="745920"/>
          </a:xfrm>
        </p:grpSpPr>
        <p:sp>
          <p:nvSpPr>
            <p:cNvPr id="104" name=""/>
            <p:cNvSpPr/>
            <p:nvPr/>
          </p:nvSpPr>
          <p:spPr>
            <a:xfrm>
              <a:off x="3962520" y="2378160"/>
              <a:ext cx="8474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038480" y="2654280"/>
              <a:ext cx="560520" cy="469800"/>
              <a:chOff x="4038480" y="2654280"/>
              <a:chExt cx="560520" cy="469800"/>
            </a:xfrm>
          </p:grpSpPr>
          <p:sp>
            <p:nvSpPr>
              <p:cNvPr id="106" name=""/>
              <p:cNvSpPr/>
              <p:nvPr/>
            </p:nvSpPr>
            <p:spPr>
              <a:xfrm>
                <a:off x="4038480" y="2654280"/>
                <a:ext cx="56052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8720" y="2804400"/>
                <a:ext cx="138960" cy="20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819520" y="4419720"/>
            <a:ext cx="2361960" cy="685800"/>
            <a:chOff x="2819520" y="4419720"/>
            <a:chExt cx="2361960" cy="685800"/>
          </a:xfrm>
        </p:grpSpPr>
        <p:sp>
          <p:nvSpPr>
            <p:cNvPr id="109" name=""/>
            <p:cNvSpPr/>
            <p:nvPr/>
          </p:nvSpPr>
          <p:spPr>
            <a:xfrm>
              <a:off x="4343400" y="4419720"/>
              <a:ext cx="838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4664160"/>
              <a:ext cx="506160" cy="441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19967" y="19967"/>
                  </a:lnTo>
                  <a:lnTo>
                    <a:pt x="0" y="19967"/>
                  </a:lnTo>
                  <a:lnTo>
                    <a:pt x="0" y="0"/>
                  </a:lnTo>
                  <a:lnTo>
                    <a:pt x="19967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99000" y="4740120"/>
              <a:ext cx="125280" cy="198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19520" y="4419720"/>
              <a:ext cx="1296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P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24080" y="4648320"/>
              <a:ext cx="6098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19967" y="19967"/>
                  </a:lnTo>
                  <a:lnTo>
                    <a:pt x="0" y="19967"/>
                  </a:lnTo>
                  <a:lnTo>
                    <a:pt x="0" y="0"/>
                  </a:lnTo>
                  <a:lnTo>
                    <a:pt x="19967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2680" y="4800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9000" y="4876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ddress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rray name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Pointer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ubbl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a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 this help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etermines ascending or descending s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rgumen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function poin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s bubblesort to expect a pointer to a function that takes tw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parentheses were left ou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*compare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function that receives two integers and returns a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ompt for ascending or descending sor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ut appropriate function pointer into 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0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26: fig07_2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Multipurpose sorting program using function pointe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*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rde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counte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[ 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1 to sort in ascending order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Enter 2 to sort in descending order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 &amp;ord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Data items in original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er = 0; counter &lt; 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5d", a[ counter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order == 1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ubble( a, SIZE, a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Data items in ascending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ubble( a, SIZE, de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Data items in descending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0" name=""/>
          <p:cNvGrpSpPr/>
          <p:nvPr/>
        </p:nvGrpSpPr>
        <p:grpSpPr>
          <a:xfrm>
            <a:off x="3886200" y="1142640"/>
            <a:ext cx="3657600" cy="885960"/>
            <a:chOff x="3886200" y="1142640"/>
            <a:chExt cx="3657600" cy="885960"/>
          </a:xfrm>
        </p:grpSpPr>
        <p:sp>
          <p:nvSpPr>
            <p:cNvPr id="1101" name=""/>
            <p:cNvSpPr/>
            <p:nvPr/>
          </p:nvSpPr>
          <p:spPr>
            <a:xfrm flipH="1" flipV="1">
              <a:off x="3886200" y="114264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105520" y="14479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function pointer parame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05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10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er = 0; counter &lt; 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10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5d", a[ counter ] );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11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11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11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12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12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12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13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ork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13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*compare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, 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 = 0; count &lt; size - 1; count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*compare)( work[ count ], work[ count + 1 ]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work[ count ], &amp;work[ count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mp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1" name=""/>
          <p:cNvGrpSpPr/>
          <p:nvPr/>
        </p:nvGrpSpPr>
        <p:grpSpPr>
          <a:xfrm>
            <a:off x="2133360" y="1600200"/>
            <a:ext cx="6476760" cy="2514600"/>
            <a:chOff x="2133360" y="1600200"/>
            <a:chExt cx="6476760" cy="2514600"/>
          </a:xfrm>
        </p:grpSpPr>
        <p:sp>
          <p:nvSpPr>
            <p:cNvPr id="1202" name=""/>
            <p:cNvSpPr/>
            <p:nvPr/>
          </p:nvSpPr>
          <p:spPr>
            <a:xfrm>
              <a:off x="5714640" y="160020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function call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2133360" y="1981080"/>
              <a:ext cx="358092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438280" y="4343400"/>
            <a:ext cx="6400800" cy="1813320"/>
            <a:chOff x="2438280" y="4343400"/>
            <a:chExt cx="6400800" cy="1813320"/>
          </a:xfrm>
        </p:grpSpPr>
        <p:sp>
          <p:nvSpPr>
            <p:cNvPr id="1205" name=""/>
            <p:cNvSpPr/>
            <p:nvPr/>
          </p:nvSpPr>
          <p:spPr>
            <a:xfrm>
              <a:off x="6095880" y="4359240"/>
              <a:ext cx="2743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 pointers are called using the dereferencing operator. 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required, but emphasiz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function pointer and not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 flipV="1">
              <a:off x="2438280" y="4343400"/>
              <a:ext cx="36576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0" y="0"/>
            <a:ext cx="6780960" cy="2895120"/>
            <a:chOff x="0" y="0"/>
            <a:chExt cx="6780960" cy="2895120"/>
          </a:xfrm>
        </p:grpSpPr>
        <p:grpSp>
          <p:nvGrpSpPr>
            <p:cNvPr id="1209" name=""/>
            <p:cNvGrpSpPr/>
            <p:nvPr/>
          </p:nvGrpSpPr>
          <p:grpSpPr>
            <a:xfrm>
              <a:off x="0" y="0"/>
              <a:ext cx="6780960" cy="321480"/>
              <a:chOff x="0" y="0"/>
              <a:chExt cx="6780960" cy="32148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321480"/>
              <a:ext cx="6780960" cy="321480"/>
              <a:chOff x="0" y="321480"/>
              <a:chExt cx="6780960" cy="32148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321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321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0" y="643320"/>
              <a:ext cx="6780960" cy="321840"/>
              <a:chOff x="0" y="643320"/>
              <a:chExt cx="6780960" cy="321840"/>
            </a:xfrm>
          </p:grpSpPr>
          <p:sp>
            <p:nvSpPr>
              <p:cNvPr id="1216" name=""/>
              <p:cNvSpPr/>
              <p:nvPr/>
            </p:nvSpPr>
            <p:spPr>
              <a:xfrm>
                <a:off x="0" y="643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0" y="643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&l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wap if b is less than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0" y="965160"/>
              <a:ext cx="6780960" cy="321480"/>
              <a:chOff x="0" y="965160"/>
              <a:chExt cx="6780960" cy="321480"/>
            </a:xfrm>
          </p:grpSpPr>
          <p:sp>
            <p:nvSpPr>
              <p:cNvPr id="1219" name=""/>
              <p:cNvSpPr/>
              <p:nvPr/>
            </p:nvSpPr>
            <p:spPr>
              <a:xfrm>
                <a:off x="0" y="965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0" y="965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0" y="1286640"/>
              <a:ext cx="6780960" cy="321480"/>
              <a:chOff x="0" y="1286640"/>
              <a:chExt cx="6780960" cy="32148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128664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128664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1608480"/>
              <a:ext cx="6780960" cy="321480"/>
              <a:chOff x="0" y="1608480"/>
              <a:chExt cx="6780960" cy="32148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1608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1608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1930320"/>
              <a:ext cx="6780960" cy="321840"/>
              <a:chOff x="0" y="1930320"/>
              <a:chExt cx="6780960" cy="3218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1930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1930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2252160"/>
              <a:ext cx="6780960" cy="321480"/>
              <a:chOff x="0" y="2252160"/>
              <a:chExt cx="6780960" cy="32148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2252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2252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&g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wap if b is greater than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2573640"/>
              <a:ext cx="6780960" cy="321480"/>
              <a:chOff x="0" y="2573640"/>
              <a:chExt cx="6780960" cy="32148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257364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5" name=""/>
              <p:cNvGrpSpPr/>
              <p:nvPr/>
            </p:nvGrpSpPr>
            <p:grpSpPr>
              <a:xfrm>
                <a:off x="0" y="2573640"/>
                <a:ext cx="6780600" cy="321480"/>
                <a:chOff x="0" y="2573640"/>
                <a:chExt cx="6780600" cy="3214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0" y="2573640"/>
                  <a:ext cx="6780600" cy="321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0" y="2573640"/>
                  <a:ext cx="67806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8" name=""/>
          <p:cNvSpPr/>
          <p:nvPr/>
        </p:nvSpPr>
        <p:spPr>
          <a:xfrm>
            <a:off x="0" y="304812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472428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ith pointe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pointer to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using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each variable decl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pointer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fer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ddress of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“points to”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3556080"/>
            <a:ext cx="7696080" cy="2532600"/>
            <a:chOff x="685800" y="3556080"/>
            <a:chExt cx="7696080" cy="2532600"/>
          </a:xfrm>
        </p:grpSpPr>
        <p:sp>
          <p:nvSpPr>
            <p:cNvPr id="123" name=""/>
            <p:cNvSpPr/>
            <p:nvPr/>
          </p:nvSpPr>
          <p:spPr>
            <a:xfrm>
              <a:off x="700200" y="4520880"/>
              <a:ext cx="55080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22440" y="4132080"/>
              <a:ext cx="549360" cy="329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6320" y="4316400"/>
              <a:ext cx="1446120" cy="369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325760"/>
              <a:ext cx="577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9080" y="4652640"/>
              <a:ext cx="111240" cy="66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04960" y="3936960"/>
              <a:ext cx="1825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4960" y="4217760"/>
              <a:ext cx="182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505320" y="3860640"/>
              <a:ext cx="4876560" cy="685440"/>
              <a:chOff x="3505320" y="3860640"/>
              <a:chExt cx="4876560" cy="685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505320" y="3860640"/>
                <a:ext cx="2059920" cy="685440"/>
                <a:chOff x="3505320" y="3860640"/>
                <a:chExt cx="2059920" cy="685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17160" y="3860640"/>
                  <a:ext cx="5155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3505320" y="4166280"/>
                  <a:ext cx="2059920" cy="379800"/>
                  <a:chOff x="3505320" y="4166280"/>
                  <a:chExt cx="2059920" cy="3798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3505320" y="422928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258440" y="4166280"/>
                    <a:ext cx="1306800" cy="379800"/>
                    <a:chOff x="4258440" y="4166280"/>
                    <a:chExt cx="1306800" cy="37980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534560" y="422928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258440" y="416628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8" name=""/>
              <p:cNvGrpSpPr/>
              <p:nvPr/>
            </p:nvGrpSpPr>
            <p:grpSpPr>
              <a:xfrm>
                <a:off x="6321960" y="3860640"/>
                <a:ext cx="2059920" cy="685440"/>
                <a:chOff x="6321960" y="3860640"/>
                <a:chExt cx="2059920" cy="6854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48560" y="3860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6321960" y="4166280"/>
                  <a:ext cx="2059920" cy="379800"/>
                  <a:chOff x="6321960" y="4166280"/>
                  <a:chExt cx="2059920" cy="3798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6321960" y="422928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7075080" y="4166280"/>
                    <a:ext cx="1306800" cy="379800"/>
                    <a:chOff x="7075080" y="4166280"/>
                    <a:chExt cx="1306800" cy="37980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648200" y="422928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075080" y="416628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"/>
            <p:cNvSpPr/>
            <p:nvPr/>
          </p:nvSpPr>
          <p:spPr>
            <a:xfrm>
              <a:off x="3429000" y="35560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10080" y="5079960"/>
              <a:ext cx="167652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value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p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400800" y="446976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5028840" y="4394160"/>
              <a:ext cx="6094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synonym/alias of what its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used for assign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lias to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7;  // changes y to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(opera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must be an lvalue (no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cancel each other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153" name=""/>
            <p:cNvGrpSpPr/>
            <p:nvPr/>
          </p:nvGrpSpPr>
          <p:grpSpPr>
            <a:xfrm>
              <a:off x="0" y="0"/>
              <a:ext cx="6780960" cy="225000"/>
              <a:chOff x="0" y="0"/>
              <a:chExt cx="6780960" cy="22500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4: fig07_0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225000"/>
              <a:ext cx="6780960" cy="208800"/>
              <a:chOff x="0" y="225000"/>
              <a:chExt cx="6780960" cy="20880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250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250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the &amp; and * operato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433800"/>
              <a:ext cx="6780960" cy="208800"/>
              <a:chOff x="0" y="433800"/>
              <a:chExt cx="6780960" cy="20880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4338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338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642600"/>
              <a:ext cx="6780960" cy="208800"/>
              <a:chOff x="0" y="642600"/>
              <a:chExt cx="6780960" cy="20880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642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42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851400"/>
              <a:ext cx="6780960" cy="208800"/>
              <a:chOff x="0" y="851400"/>
              <a:chExt cx="6780960" cy="20880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851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851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1060560"/>
              <a:ext cx="6780960" cy="208800"/>
              <a:chOff x="0" y="1060560"/>
              <a:chExt cx="6780960" cy="20880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10605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10605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1269360"/>
              <a:ext cx="6780960" cy="208800"/>
              <a:chOff x="0" y="1269360"/>
              <a:chExt cx="6780960" cy="20880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12693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12693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 is an integ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1478160"/>
              <a:ext cx="6780960" cy="208800"/>
              <a:chOff x="0" y="1478160"/>
              <a:chExt cx="6780960" cy="20880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14781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14781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Pt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Ptr is a pointer to an integ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1686960"/>
              <a:ext cx="6780960" cy="208800"/>
              <a:chOff x="0" y="1686960"/>
              <a:chExt cx="6780960" cy="20880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6869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16869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1896120"/>
              <a:ext cx="6780960" cy="208800"/>
              <a:chOff x="0" y="1896120"/>
              <a:chExt cx="6780960" cy="20880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18961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8961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2104920"/>
              <a:ext cx="6780960" cy="208800"/>
              <a:chOff x="0" y="2104920"/>
              <a:chExt cx="6780960" cy="2088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21049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21049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Ptr = &amp;a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Ptr set to address of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2313720"/>
              <a:ext cx="6780960" cy="208800"/>
              <a:chOff x="0" y="2313720"/>
              <a:chExt cx="6780960" cy="20880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23137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23137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2522520"/>
              <a:ext cx="6780960" cy="208800"/>
              <a:chOff x="0" y="2522520"/>
              <a:chExt cx="6780960" cy="20880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25225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25225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address of a is %p"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2731320"/>
              <a:ext cx="6780960" cy="208800"/>
              <a:chOff x="0" y="2731320"/>
              <a:chExt cx="6780960" cy="20880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27313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27313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The value of aPtr is %p", &amp;a, a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2940480"/>
              <a:ext cx="6780960" cy="208800"/>
              <a:chOff x="0" y="2940480"/>
              <a:chExt cx="6780960" cy="20880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9404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9404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3149280"/>
              <a:ext cx="6780960" cy="208800"/>
              <a:chOff x="0" y="3149280"/>
              <a:chExt cx="6780960" cy="20880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31492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1492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The value of a is %d"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3358080"/>
              <a:ext cx="6780960" cy="208800"/>
              <a:chOff x="0" y="3358080"/>
              <a:chExt cx="6780960" cy="2088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33580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3580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The value of *aPtr is %d", a, *a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3566880"/>
              <a:ext cx="6780960" cy="208800"/>
              <a:chOff x="0" y="3566880"/>
              <a:chExt cx="6780960" cy="20880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35668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5668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3776040"/>
              <a:ext cx="6780960" cy="208800"/>
              <a:chOff x="0" y="3776040"/>
              <a:chExt cx="6780960" cy="2088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37760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7760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Showing that * and &amp; are inverses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984840"/>
              <a:ext cx="6780960" cy="208800"/>
              <a:chOff x="0" y="3984840"/>
              <a:chExt cx="6780960" cy="2088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9848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9848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each other.\n&amp;*aPtr = %p"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4193640"/>
              <a:ext cx="6780960" cy="208800"/>
              <a:chOff x="0" y="4193640"/>
              <a:chExt cx="6780960" cy="2088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41936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1936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*&amp;aPtr = %p\n", &amp;*aPtr, *&amp;a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4402440"/>
              <a:ext cx="6780960" cy="208800"/>
              <a:chOff x="0" y="4402440"/>
              <a:chExt cx="6780960" cy="2088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44024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44024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4611600"/>
              <a:ext cx="6780960" cy="208800"/>
              <a:chOff x="0" y="4611600"/>
              <a:chExt cx="6780960" cy="2088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4611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611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820400"/>
              <a:ext cx="6780960" cy="208800"/>
              <a:chOff x="0" y="4820400"/>
              <a:chExt cx="6780960" cy="2088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820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820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ddress of a is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Ptr is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ving that * and &amp; are complement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*aPtr =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&amp;aPtr =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90560" y="990720"/>
            <a:ext cx="4572360" cy="1523880"/>
            <a:chOff x="2590560" y="990720"/>
            <a:chExt cx="4572360" cy="1523880"/>
          </a:xfrm>
        </p:grpSpPr>
        <p:sp>
          <p:nvSpPr>
            <p:cNvPr id="227" name=""/>
            <p:cNvSpPr/>
            <p:nvPr/>
          </p:nvSpPr>
          <p:spPr>
            <a:xfrm>
              <a:off x="4495680" y="990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90560" y="1295280"/>
              <a:ext cx="1904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876560" y="1828800"/>
            <a:ext cx="3124440" cy="1476360"/>
            <a:chOff x="4876560" y="1828800"/>
            <a:chExt cx="3124440" cy="1476360"/>
          </a:xfrm>
        </p:grpSpPr>
        <p:sp>
          <p:nvSpPr>
            <p:cNvPr id="230" name=""/>
            <p:cNvSpPr/>
            <p:nvPr/>
          </p:nvSpPr>
          <p:spPr>
            <a:xfrm>
              <a:off x="5410080" y="18288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 returns an alias to what its operand points to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i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876560" y="2467080"/>
              <a:ext cx="53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00240" y="3753000"/>
            <a:ext cx="3657960" cy="580680"/>
            <a:chOff x="4800240" y="3753000"/>
            <a:chExt cx="3657960" cy="580680"/>
          </a:xfrm>
        </p:grpSpPr>
        <p:sp>
          <p:nvSpPr>
            <p:cNvPr id="233" name=""/>
            <p:cNvSpPr/>
            <p:nvPr/>
          </p:nvSpPr>
          <p:spPr>
            <a:xfrm>
              <a:off x="6781680" y="37530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vers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800240" y="3981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you to change actual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re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the array name is already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uble( int *numbe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number = 2 * ( *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s nickname for the variable pa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6780960" cy="5486400"/>
            <a:chOff x="0" y="0"/>
            <a:chExt cx="6780960" cy="5486400"/>
          </a:xfrm>
        </p:grpSpPr>
        <p:grpSp>
          <p:nvGrpSpPr>
            <p:cNvPr id="239" name=""/>
            <p:cNvGrpSpPr/>
            <p:nvPr/>
          </p:nvGrpSpPr>
          <p:grpSpPr>
            <a:xfrm>
              <a:off x="0" y="0"/>
              <a:ext cx="6780960" cy="238320"/>
              <a:chOff x="0" y="0"/>
              <a:chExt cx="6780960" cy="2383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7: fig07_0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238320"/>
              <a:ext cx="6780960" cy="238320"/>
              <a:chOff x="0" y="238320"/>
              <a:chExt cx="6780960" cy="23832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383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383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ube a variable using call-by-referenc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477000"/>
              <a:ext cx="6780960" cy="238320"/>
              <a:chOff x="0" y="477000"/>
              <a:chExt cx="6780960" cy="23832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477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477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with a pointer argumen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715680"/>
              <a:ext cx="6780960" cy="238320"/>
              <a:chOff x="0" y="715680"/>
              <a:chExt cx="6780960" cy="23832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715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15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954000"/>
              <a:ext cx="6780960" cy="238320"/>
              <a:chOff x="0" y="954000"/>
              <a:chExt cx="6780960" cy="23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954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954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1192680"/>
              <a:ext cx="6780960" cy="238320"/>
              <a:chOff x="0" y="1192680"/>
              <a:chExt cx="6780960" cy="23832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1192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1192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1431000"/>
              <a:ext cx="6780960" cy="238320"/>
              <a:chOff x="0" y="1431000"/>
              <a:chExt cx="6780960" cy="2383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1431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1431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1669680"/>
              <a:ext cx="6780960" cy="238320"/>
              <a:chOff x="0" y="1669680"/>
              <a:chExt cx="6780960" cy="23832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1669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669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1908360"/>
              <a:ext cx="6780960" cy="238320"/>
              <a:chOff x="0" y="1908360"/>
              <a:chExt cx="6780960" cy="23832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1908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908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2146680"/>
              <a:ext cx="6780960" cy="238320"/>
              <a:chOff x="0" y="2146680"/>
              <a:chExt cx="6780960" cy="23832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2146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2146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2385360"/>
              <a:ext cx="6780960" cy="238320"/>
              <a:chOff x="0" y="2385360"/>
              <a:chExt cx="6780960" cy="23832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2385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2385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2624040"/>
              <a:ext cx="6780960" cy="238320"/>
              <a:chOff x="0" y="2624040"/>
              <a:chExt cx="6780960" cy="23832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2624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2624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2862360"/>
              <a:ext cx="6780960" cy="238320"/>
              <a:chOff x="0" y="2862360"/>
              <a:chExt cx="6780960" cy="23832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2862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2862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original value of number is %d",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3101040"/>
              <a:ext cx="6780960" cy="238320"/>
              <a:chOff x="0" y="3101040"/>
              <a:chExt cx="6780960" cy="23832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3101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3101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ubeByReference( &amp;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3339360"/>
              <a:ext cx="6780960" cy="238320"/>
              <a:chOff x="0" y="3339360"/>
              <a:chExt cx="6780960" cy="23832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3339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3339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new value of number is %d\n",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3578040"/>
              <a:ext cx="6780960" cy="238320"/>
              <a:chOff x="0" y="3578040"/>
              <a:chExt cx="6780960" cy="23832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3578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3578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3816720"/>
              <a:ext cx="6780960" cy="238320"/>
              <a:chOff x="0" y="3816720"/>
              <a:chExt cx="6780960" cy="2383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3816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816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4055040"/>
              <a:ext cx="6780960" cy="238320"/>
              <a:chOff x="0" y="4055040"/>
              <a:chExt cx="6780960" cy="23832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4055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4055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4293720"/>
              <a:ext cx="6780960" cy="238320"/>
              <a:chOff x="0" y="4293720"/>
              <a:chExt cx="6780960" cy="23832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4293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4293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4532400"/>
              <a:ext cx="6780960" cy="238320"/>
              <a:chOff x="0" y="4532400"/>
              <a:chExt cx="6780960" cy="23832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4532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532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n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4770720"/>
              <a:ext cx="6780960" cy="238320"/>
              <a:chOff x="0" y="4770720"/>
              <a:chExt cx="6780960" cy="23832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4770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4770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5009400"/>
              <a:ext cx="6780960" cy="238320"/>
              <a:chOff x="0" y="5009400"/>
              <a:chExt cx="6780960" cy="23832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5009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5009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nPtr = *nPtr * *nPtr * *n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ube number in mai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5248080"/>
              <a:ext cx="6780960" cy="238320"/>
              <a:chOff x="0" y="5248080"/>
              <a:chExt cx="6780960" cy="23832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52480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52480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0" y="56386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666520" y="1143000"/>
            <a:ext cx="4038840" cy="1981080"/>
            <a:chOff x="2666520" y="1143000"/>
            <a:chExt cx="4038840" cy="1981080"/>
          </a:xfrm>
        </p:grpSpPr>
        <p:sp>
          <p:nvSpPr>
            <p:cNvPr id="310" name=""/>
            <p:cNvSpPr/>
            <p:nvPr/>
          </p:nvSpPr>
          <p:spPr>
            <a:xfrm flipH="1">
              <a:off x="2666520" y="220968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33560" y="114300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iven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pects a pointer (an address of a variable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048120" y="3505320"/>
            <a:ext cx="4647600" cy="990000"/>
            <a:chOff x="3048120" y="3505320"/>
            <a:chExt cx="4647600" cy="990000"/>
          </a:xfrm>
        </p:grpSpPr>
        <p:sp>
          <p:nvSpPr>
            <p:cNvPr id="313" name=""/>
            <p:cNvSpPr/>
            <p:nvPr/>
          </p:nvSpPr>
          <p:spPr>
            <a:xfrm>
              <a:off x="4410360" y="3505320"/>
              <a:ext cx="3285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048120" y="3809880"/>
              <a:ext cx="13622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048120" y="152280"/>
            <a:ext cx="3352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the function prototype takes a pointer to an integer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819160" y="7621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6:08:17Z</dcterms:created>
  <dc:creator>kalid</dc:creator>
  <dc:description/>
  <dc:language>en-US</dc:language>
  <cp:lastModifiedBy>Matty</cp:lastModifiedBy>
  <dcterms:modified xsi:type="dcterms:W3CDTF">2000-12-22T19:16:24Z</dcterms:modified>
  <cp:revision>429</cp:revision>
  <dc:subject/>
  <dc:title>PowerPoint Presentation</dc:title>
</cp:coreProperties>
</file>