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7A79-03EF-4755-822F-4525338B7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645A0-F3C1-4C16-89F2-B715416C9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A4C7-6FAB-44E1-BCCA-748F4FD5C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5CAA8-FB61-4867-9151-058A03BFB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F5896-2C9B-4D3E-8D18-AE914A3A0F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C9F70-6658-42A4-943C-7A5DA355DB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9FEFB-29E3-4E74-8CC5-D207CF05B0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07F7D-4258-46B5-8F18-7DB76CA470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F7A97-FC42-4132-91C8-DA7AD3C5F4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C095E-8E03-4B44-93C9-1FA554A5DE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E0A2C-93F8-4EC1-A62C-3746C591CC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29693-3592-408B-AA62-39161E2D0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834D6-FC14-43F2-9D57-73E495EA76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B8495-FA7E-4DAA-BBD0-19275A7870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10284-A1BE-4A93-A70C-0D9340BF76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87CA2-449B-4647-AA0B-B4FF497070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52B10-4EE7-4081-9C3A-F9885713B4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34CD1-E8BA-48EB-8962-44123E7C5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4415-1C9D-46C5-AB60-3CDBBFA46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F134-F264-44AE-8913-0FE30632B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BB56-A38A-400A-BD69-A54AEBF60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4AC9-1D06-49DA-8904-BC1957F49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59B2-47F9-48E6-ADAB-FA0589B2A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7AE3-9A93-49D8-A0CA-AB1852EDC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4506-2792-4DEF-868F-8D04E5F91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1520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6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C9CF-E3B1-490D-A764-5EB2833E3E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2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6370560"/>
            <a:ext cx="35812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8 - Characters and String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336680"/>
            <a:ext cx="8229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damentals of Strings and Charac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haracter Handling Library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ing Conversion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andard Input/Output Library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tring Manipulation Functions of the String Handling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mparison Functions of the String Handling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Search Functions of the String Handling Library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Memory Functions of the String Handling Library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8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ther Functions of the String Handling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11BC5-8B19-4313-8874-998B2A2968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Convert string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1 Assign to variab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0" y="0"/>
            <a:ext cx="6780960" cy="4038480"/>
            <a:chOff x="0" y="0"/>
            <a:chExt cx="6780960" cy="4038480"/>
          </a:xfrm>
        </p:grpSpPr>
        <p:grpSp>
          <p:nvGrpSpPr>
            <p:cNvPr id="238" name=""/>
            <p:cNvGrpSpPr/>
            <p:nvPr/>
          </p:nvGrpSpPr>
          <p:grpSpPr>
            <a:xfrm>
              <a:off x="0" y="0"/>
              <a:ext cx="6780960" cy="252360"/>
              <a:chOff x="0" y="0"/>
              <a:chExt cx="6780960" cy="252360"/>
            </a:xfrm>
          </p:grpSpPr>
          <p:sp>
            <p:nvSpPr>
              <p:cNvPr id="239" name=""/>
              <p:cNvSpPr/>
              <p:nvPr/>
            </p:nvSpPr>
            <p:spPr>
              <a:xfrm>
                <a:off x="0" y="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8.6: fig08_06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0" y="252360"/>
              <a:ext cx="6780960" cy="252360"/>
              <a:chOff x="0" y="252360"/>
              <a:chExt cx="6780960" cy="252360"/>
            </a:xfrm>
          </p:grpSpPr>
          <p:sp>
            <p:nvSpPr>
              <p:cNvPr id="242" name=""/>
              <p:cNvSpPr/>
              <p:nvPr/>
            </p:nvSpPr>
            <p:spPr>
              <a:xfrm>
                <a:off x="0" y="25236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5236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Using atof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0" y="504720"/>
              <a:ext cx="6780960" cy="252360"/>
              <a:chOff x="0" y="504720"/>
              <a:chExt cx="6780960" cy="25236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50472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50472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757080"/>
              <a:ext cx="6780960" cy="252360"/>
              <a:chOff x="0" y="757080"/>
              <a:chExt cx="6780960" cy="25236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75708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75708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lib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1009440"/>
              <a:ext cx="6780960" cy="252360"/>
              <a:chOff x="0" y="1009440"/>
              <a:chExt cx="6780960" cy="25236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100944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100944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0" y="1261800"/>
              <a:ext cx="6780960" cy="252360"/>
              <a:chOff x="0" y="1261800"/>
              <a:chExt cx="6780960" cy="252360"/>
            </a:xfrm>
          </p:grpSpPr>
          <p:sp>
            <p:nvSpPr>
              <p:cNvPr id="254" name=""/>
              <p:cNvSpPr/>
              <p:nvPr/>
            </p:nvSpPr>
            <p:spPr>
              <a:xfrm>
                <a:off x="0" y="126180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26180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1514160"/>
              <a:ext cx="6780960" cy="252360"/>
              <a:chOff x="0" y="1514160"/>
              <a:chExt cx="6780960" cy="25236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151416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0" y="151416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1766880"/>
              <a:ext cx="6780960" cy="252360"/>
              <a:chOff x="0" y="1766880"/>
              <a:chExt cx="6780960" cy="25236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176688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0" y="176688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2019240"/>
              <a:ext cx="6780960" cy="252360"/>
              <a:chOff x="0" y="2019240"/>
              <a:chExt cx="6780960" cy="25236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201924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201924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0" y="2271600"/>
              <a:ext cx="6780960" cy="252360"/>
              <a:chOff x="0" y="2271600"/>
              <a:chExt cx="6780960" cy="252360"/>
            </a:xfrm>
          </p:grpSpPr>
          <p:sp>
            <p:nvSpPr>
              <p:cNvPr id="266" name=""/>
              <p:cNvSpPr/>
              <p:nvPr/>
            </p:nvSpPr>
            <p:spPr>
              <a:xfrm>
                <a:off x="0" y="227160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0" y="227160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d = atof( "99.0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0" y="2523960"/>
              <a:ext cx="6780960" cy="252360"/>
              <a:chOff x="0" y="2523960"/>
              <a:chExt cx="6780960" cy="25236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252396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0" y="252396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%.3f\n%s%.3f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776320"/>
              <a:ext cx="6780960" cy="252360"/>
              <a:chOff x="0" y="2776320"/>
              <a:chExt cx="6780960" cy="25236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277632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0" y="277632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The string \"99.0\" converted to double is ", d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3028680"/>
              <a:ext cx="6780960" cy="252360"/>
              <a:chOff x="0" y="3028680"/>
              <a:chExt cx="6780960" cy="25236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302868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0" y="302868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The converted value divided by 2 is 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0" y="3281040"/>
              <a:ext cx="6780960" cy="252360"/>
              <a:chOff x="0" y="3281040"/>
              <a:chExt cx="6780960" cy="252360"/>
            </a:xfrm>
          </p:grpSpPr>
          <p:sp>
            <p:nvSpPr>
              <p:cNvPr id="278" name=""/>
              <p:cNvSpPr/>
              <p:nvPr/>
            </p:nvSpPr>
            <p:spPr>
              <a:xfrm>
                <a:off x="0" y="328104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0" y="328104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d / 2.0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0" y="3533760"/>
              <a:ext cx="6780960" cy="252360"/>
              <a:chOff x="0" y="3533760"/>
              <a:chExt cx="6780960" cy="25236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353376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0" y="353376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3786120"/>
              <a:ext cx="6780960" cy="252360"/>
              <a:chOff x="0" y="3786120"/>
              <a:chExt cx="6780960" cy="25236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378612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3786120"/>
                <a:ext cx="6780960" cy="252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0" y="426708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tring "99.0" converted to double is 99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converted value divided by 2 is 49.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E644C-FDC4-43AD-A443-A32F3ED2A6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andard Input/Output Library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stdio.h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to manipulate character and string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-519120" y="2209680"/>
          <a:ext cx="10196640" cy="389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19120" y="2209680"/>
                    <a:ext cx="1019664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A329-F108-44C0-BDBE-6B98D234D6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In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1 Function definition (note recursion)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0" y="0"/>
            <a:ext cx="6780960" cy="5562720"/>
            <a:chOff x="0" y="0"/>
            <a:chExt cx="6780960" cy="5562720"/>
          </a:xfrm>
        </p:grpSpPr>
        <p:grpSp>
          <p:nvGrpSpPr>
            <p:cNvPr id="293" name=""/>
            <p:cNvGrpSpPr/>
            <p:nvPr/>
          </p:nvGrpSpPr>
          <p:grpSpPr>
            <a:xfrm>
              <a:off x="0" y="0"/>
              <a:ext cx="6780960" cy="205920"/>
              <a:chOff x="0" y="0"/>
              <a:chExt cx="6780960" cy="205920"/>
            </a:xfrm>
          </p:grpSpPr>
          <p:sp>
            <p:nvSpPr>
              <p:cNvPr id="294" name=""/>
              <p:cNvSpPr/>
              <p:nvPr/>
            </p:nvSpPr>
            <p:spPr>
              <a:xfrm>
                <a:off x="0" y="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8.13: fig08_13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0" y="205920"/>
              <a:ext cx="6780960" cy="205920"/>
              <a:chOff x="0" y="205920"/>
              <a:chExt cx="6780960" cy="205920"/>
            </a:xfrm>
          </p:grpSpPr>
          <p:sp>
            <p:nvSpPr>
              <p:cNvPr id="297" name=""/>
              <p:cNvSpPr/>
              <p:nvPr/>
            </p:nvSpPr>
            <p:spPr>
              <a:xfrm>
                <a:off x="0" y="20592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20592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Using gets and putchar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0" y="411840"/>
              <a:ext cx="6780960" cy="205920"/>
              <a:chOff x="0" y="411840"/>
              <a:chExt cx="6780960" cy="205920"/>
            </a:xfrm>
          </p:grpSpPr>
          <p:sp>
            <p:nvSpPr>
              <p:cNvPr id="300" name=""/>
              <p:cNvSpPr/>
              <p:nvPr/>
            </p:nvSpPr>
            <p:spPr>
              <a:xfrm>
                <a:off x="0" y="4118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0" y="4118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0" y="618120"/>
              <a:ext cx="6780960" cy="205920"/>
              <a:chOff x="0" y="618120"/>
              <a:chExt cx="6780960" cy="205920"/>
            </a:xfrm>
          </p:grpSpPr>
          <p:sp>
            <p:nvSpPr>
              <p:cNvPr id="303" name=""/>
              <p:cNvSpPr/>
              <p:nvPr/>
            </p:nvSpPr>
            <p:spPr>
              <a:xfrm>
                <a:off x="0" y="61812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0" y="61812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0" y="824040"/>
              <a:ext cx="6780960" cy="205920"/>
              <a:chOff x="0" y="824040"/>
              <a:chExt cx="6780960" cy="205920"/>
            </a:xfrm>
          </p:grpSpPr>
          <p:sp>
            <p:nvSpPr>
              <p:cNvPr id="306" name=""/>
              <p:cNvSpPr/>
              <p:nvPr/>
            </p:nvSpPr>
            <p:spPr>
              <a:xfrm>
                <a:off x="0" y="8240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0" y="8240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0" y="1029960"/>
              <a:ext cx="6780960" cy="205920"/>
              <a:chOff x="0" y="1029960"/>
              <a:chExt cx="6780960" cy="205920"/>
            </a:xfrm>
          </p:grpSpPr>
          <p:sp>
            <p:nvSpPr>
              <p:cNvPr id="309" name=""/>
              <p:cNvSpPr/>
              <p:nvPr/>
            </p:nvSpPr>
            <p:spPr>
              <a:xfrm>
                <a:off x="0" y="1029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10299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0" y="1235880"/>
              <a:ext cx="6780960" cy="205920"/>
              <a:chOff x="0" y="1235880"/>
              <a:chExt cx="6780960" cy="205920"/>
            </a:xfrm>
          </p:grpSpPr>
          <p:sp>
            <p:nvSpPr>
              <p:cNvPr id="312" name=""/>
              <p:cNvSpPr/>
              <p:nvPr/>
            </p:nvSpPr>
            <p:spPr>
              <a:xfrm>
                <a:off x="0" y="12358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0" y="12358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entence[ 80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0" y="1442160"/>
              <a:ext cx="6780960" cy="205920"/>
              <a:chOff x="0" y="1442160"/>
              <a:chExt cx="6780960" cy="205920"/>
            </a:xfrm>
          </p:grpSpPr>
          <p:sp>
            <p:nvSpPr>
              <p:cNvPr id="315" name=""/>
              <p:cNvSpPr/>
              <p:nvPr/>
            </p:nvSpPr>
            <p:spPr>
              <a:xfrm>
                <a:off x="0" y="14421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14421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vers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0" y="1648080"/>
              <a:ext cx="6780960" cy="205920"/>
              <a:chOff x="0" y="1648080"/>
              <a:chExt cx="6780960" cy="205920"/>
            </a:xfrm>
          </p:grpSpPr>
          <p:sp>
            <p:nvSpPr>
              <p:cNvPr id="318" name=""/>
              <p:cNvSpPr/>
              <p:nvPr/>
            </p:nvSpPr>
            <p:spPr>
              <a:xfrm>
                <a:off x="0" y="1648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0" y="16480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0" y="1854000"/>
              <a:ext cx="6780960" cy="205920"/>
              <a:chOff x="0" y="1854000"/>
              <a:chExt cx="6780960" cy="205920"/>
            </a:xfrm>
          </p:grpSpPr>
          <p:sp>
            <p:nvSpPr>
              <p:cNvPr id="321" name=""/>
              <p:cNvSpPr/>
              <p:nvPr/>
            </p:nvSpPr>
            <p:spPr>
              <a:xfrm>
                <a:off x="0" y="18540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0" y="18540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Enter a line of text: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0" y="2060280"/>
              <a:ext cx="6780960" cy="205920"/>
              <a:chOff x="0" y="2060280"/>
              <a:chExt cx="6780960" cy="205920"/>
            </a:xfrm>
          </p:grpSpPr>
          <p:sp>
            <p:nvSpPr>
              <p:cNvPr id="324" name=""/>
              <p:cNvSpPr/>
              <p:nvPr/>
            </p:nvSpPr>
            <p:spPr>
              <a:xfrm>
                <a:off x="0" y="2060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20602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gets( sente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0" y="2266200"/>
              <a:ext cx="6780960" cy="205920"/>
              <a:chOff x="0" y="2266200"/>
              <a:chExt cx="6780960" cy="205920"/>
            </a:xfrm>
          </p:grpSpPr>
          <p:sp>
            <p:nvSpPr>
              <p:cNvPr id="327" name=""/>
              <p:cNvSpPr/>
              <p:nvPr/>
            </p:nvSpPr>
            <p:spPr>
              <a:xfrm>
                <a:off x="0" y="22662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22662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0" y="2472120"/>
              <a:ext cx="6780960" cy="205920"/>
              <a:chOff x="0" y="2472120"/>
              <a:chExt cx="6780960" cy="20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0" y="247212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47212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\nThe line printed backwards is:\n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0" y="2678400"/>
              <a:ext cx="6780960" cy="205920"/>
              <a:chOff x="0" y="2678400"/>
              <a:chExt cx="6780960" cy="205920"/>
            </a:xfrm>
          </p:grpSpPr>
          <p:sp>
            <p:nvSpPr>
              <p:cNvPr id="333" name=""/>
              <p:cNvSpPr/>
              <p:nvPr/>
            </p:nvSpPr>
            <p:spPr>
              <a:xfrm>
                <a:off x="0" y="26784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0" y="26784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reverse( sentenc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0" y="2884320"/>
              <a:ext cx="6780960" cy="205920"/>
              <a:chOff x="0" y="2884320"/>
              <a:chExt cx="6780960" cy="20592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288432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288432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3090600"/>
              <a:ext cx="6780960" cy="205920"/>
              <a:chOff x="0" y="3090600"/>
              <a:chExt cx="6780960" cy="20592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30906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30906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0" y="3296520"/>
              <a:ext cx="6780960" cy="205920"/>
              <a:chOff x="0" y="3296520"/>
              <a:chExt cx="6780960" cy="205920"/>
            </a:xfrm>
          </p:grpSpPr>
          <p:sp>
            <p:nvSpPr>
              <p:cNvPr id="342" name=""/>
              <p:cNvSpPr/>
              <p:nvPr/>
            </p:nvSpPr>
            <p:spPr>
              <a:xfrm>
                <a:off x="0" y="329652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0" y="329652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0" y="3502440"/>
              <a:ext cx="6780960" cy="205920"/>
              <a:chOff x="0" y="3502440"/>
              <a:chExt cx="6780960" cy="205920"/>
            </a:xfrm>
          </p:grpSpPr>
          <p:sp>
            <p:nvSpPr>
              <p:cNvPr id="345" name=""/>
              <p:cNvSpPr/>
              <p:nvPr/>
            </p:nvSpPr>
            <p:spPr>
              <a:xfrm>
                <a:off x="0" y="35024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5024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0" y="3708360"/>
              <a:ext cx="6780960" cy="205920"/>
              <a:chOff x="0" y="3708360"/>
              <a:chExt cx="6780960" cy="205920"/>
            </a:xfrm>
          </p:grpSpPr>
          <p:sp>
            <p:nvSpPr>
              <p:cNvPr id="348" name=""/>
              <p:cNvSpPr/>
              <p:nvPr/>
            </p:nvSpPr>
            <p:spPr>
              <a:xfrm>
                <a:off x="0" y="37083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0" y="37083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revers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Pt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0" y="3914640"/>
              <a:ext cx="6780960" cy="205920"/>
              <a:chOff x="0" y="3914640"/>
              <a:chExt cx="6780960" cy="205920"/>
            </a:xfrm>
          </p:grpSpPr>
          <p:sp>
            <p:nvSpPr>
              <p:cNvPr id="351" name=""/>
              <p:cNvSpPr/>
              <p:nvPr/>
            </p:nvSpPr>
            <p:spPr>
              <a:xfrm>
                <a:off x="0" y="39146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0" y="391464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0" y="4120560"/>
              <a:ext cx="6780960" cy="205920"/>
              <a:chOff x="0" y="4120560"/>
              <a:chExt cx="6780960" cy="205920"/>
            </a:xfrm>
          </p:grpSpPr>
          <p:sp>
            <p:nvSpPr>
              <p:cNvPr id="354" name=""/>
              <p:cNvSpPr/>
              <p:nvPr/>
            </p:nvSpPr>
            <p:spPr>
              <a:xfrm>
                <a:off x="0" y="41205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0" y="41205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sPtr[ 0 ] == '\0'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4326480"/>
              <a:ext cx="6780960" cy="205920"/>
              <a:chOff x="0" y="4326480"/>
              <a:chExt cx="6780960" cy="2059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4326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43264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0" y="4532760"/>
              <a:ext cx="6780960" cy="205920"/>
              <a:chOff x="0" y="4532760"/>
              <a:chExt cx="6780960" cy="205920"/>
            </a:xfrm>
          </p:grpSpPr>
          <p:sp>
            <p:nvSpPr>
              <p:cNvPr id="360" name=""/>
              <p:cNvSpPr/>
              <p:nvPr/>
            </p:nvSpPr>
            <p:spPr>
              <a:xfrm>
                <a:off x="0" y="4532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53276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{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0" y="4738680"/>
              <a:ext cx="6780960" cy="205920"/>
              <a:chOff x="0" y="4738680"/>
              <a:chExt cx="6780960" cy="205920"/>
            </a:xfrm>
          </p:grpSpPr>
          <p:sp>
            <p:nvSpPr>
              <p:cNvPr id="363" name=""/>
              <p:cNvSpPr/>
              <p:nvPr/>
            </p:nvSpPr>
            <p:spPr>
              <a:xfrm>
                <a:off x="0" y="47386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47386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reverse( &amp;sPtr[ 1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0" y="4944600"/>
              <a:ext cx="6780960" cy="205920"/>
              <a:chOff x="0" y="4944600"/>
              <a:chExt cx="6780960" cy="205920"/>
            </a:xfrm>
          </p:grpSpPr>
          <p:sp>
            <p:nvSpPr>
              <p:cNvPr id="366" name=""/>
              <p:cNvSpPr/>
              <p:nvPr/>
            </p:nvSpPr>
            <p:spPr>
              <a:xfrm>
                <a:off x="0" y="49446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9446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utchar( sPtr[ 0 ]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0" y="5150880"/>
              <a:ext cx="6780960" cy="205920"/>
              <a:chOff x="0" y="5150880"/>
              <a:chExt cx="6780960" cy="205920"/>
            </a:xfrm>
          </p:grpSpPr>
          <p:sp>
            <p:nvSpPr>
              <p:cNvPr id="369" name=""/>
              <p:cNvSpPr/>
              <p:nvPr/>
            </p:nvSpPr>
            <p:spPr>
              <a:xfrm>
                <a:off x="0" y="51508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515088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0" y="5356800"/>
              <a:ext cx="6780960" cy="205920"/>
              <a:chOff x="0" y="5356800"/>
              <a:chExt cx="6780960" cy="20592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53568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5356800"/>
                <a:ext cx="6780960" cy="205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4" name=""/>
          <p:cNvSpPr/>
          <p:nvPr/>
        </p:nvSpPr>
        <p:spPr>
          <a:xfrm>
            <a:off x="0" y="5562720"/>
            <a:ext cx="678168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a line of tex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acters and 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line printed backwards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gnirtS dna sretcarah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048120" y="4191120"/>
            <a:ext cx="4572000" cy="824040"/>
            <a:chOff x="3048120" y="4191120"/>
            <a:chExt cx="4572000" cy="824040"/>
          </a:xfrm>
        </p:grpSpPr>
        <p:sp>
          <p:nvSpPr>
            <p:cNvPr id="376" name=""/>
            <p:cNvSpPr/>
            <p:nvPr/>
          </p:nvSpPr>
          <p:spPr>
            <a:xfrm flipH="1">
              <a:off x="3048120" y="449568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09880" y="4191120"/>
              <a:ext cx="3810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revers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alls itself using substrings of the original string.  When it reaches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'\0'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haracter it prints us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tch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E248C-2C04-4B98-9BFA-3FBB12458D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ing Manipulation Functions of the String 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handling library has function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ipulate string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arch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kenize str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termine string leng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73080" y="3198960"/>
          <a:ext cx="8866080" cy="371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3198960"/>
                    <a:ext cx="886608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D8DD-17AC-4D03-9A8C-E3EAB027D2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0" y="0"/>
            <a:ext cx="6780960" cy="4419720"/>
            <a:chOff x="0" y="0"/>
            <a:chExt cx="6780960" cy="4419720"/>
          </a:xfrm>
        </p:grpSpPr>
        <p:grpSp>
          <p:nvGrpSpPr>
            <p:cNvPr id="384" name=""/>
            <p:cNvGrpSpPr/>
            <p:nvPr/>
          </p:nvGrpSpPr>
          <p:grpSpPr>
            <a:xfrm>
              <a:off x="0" y="0"/>
              <a:ext cx="6780960" cy="256320"/>
              <a:chOff x="0" y="0"/>
              <a:chExt cx="6780960" cy="256320"/>
            </a:xfrm>
          </p:grpSpPr>
          <p:sp>
            <p:nvSpPr>
              <p:cNvPr id="385" name=""/>
              <p:cNvSpPr/>
              <p:nvPr/>
            </p:nvSpPr>
            <p:spPr>
              <a:xfrm>
                <a:off x="0" y="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0" y="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8.19: fig08_19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0" y="256320"/>
              <a:ext cx="6780960" cy="256320"/>
              <a:chOff x="0" y="256320"/>
              <a:chExt cx="6780960" cy="256320"/>
            </a:xfrm>
          </p:grpSpPr>
          <p:sp>
            <p:nvSpPr>
              <p:cNvPr id="388" name=""/>
              <p:cNvSpPr/>
              <p:nvPr/>
            </p:nvSpPr>
            <p:spPr>
              <a:xfrm>
                <a:off x="0" y="25632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0" y="25632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Using strcat and strncat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0" y="512640"/>
              <a:ext cx="6780960" cy="256320"/>
              <a:chOff x="0" y="512640"/>
              <a:chExt cx="6780960" cy="256320"/>
            </a:xfrm>
          </p:grpSpPr>
          <p:sp>
            <p:nvSpPr>
              <p:cNvPr id="391" name=""/>
              <p:cNvSpPr/>
              <p:nvPr/>
            </p:nvSpPr>
            <p:spPr>
              <a:xfrm>
                <a:off x="0" y="51264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51264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0" y="769320"/>
              <a:ext cx="6780960" cy="256320"/>
              <a:chOff x="0" y="769320"/>
              <a:chExt cx="6780960" cy="256320"/>
            </a:xfrm>
          </p:grpSpPr>
          <p:sp>
            <p:nvSpPr>
              <p:cNvPr id="394" name=""/>
              <p:cNvSpPr/>
              <p:nvPr/>
            </p:nvSpPr>
            <p:spPr>
              <a:xfrm>
                <a:off x="0" y="76932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0" y="76932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ring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1026000"/>
              <a:ext cx="6780960" cy="256320"/>
              <a:chOff x="0" y="1026000"/>
              <a:chExt cx="6780960" cy="256320"/>
            </a:xfrm>
          </p:grpSpPr>
          <p:sp>
            <p:nvSpPr>
              <p:cNvPr id="397" name=""/>
              <p:cNvSpPr/>
              <p:nvPr/>
            </p:nvSpPr>
            <p:spPr>
              <a:xfrm>
                <a:off x="0" y="10260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0" y="10260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0" y="1282320"/>
              <a:ext cx="6780960" cy="256320"/>
              <a:chOff x="0" y="1282320"/>
              <a:chExt cx="6780960" cy="25632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128232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128232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0" y="1539000"/>
              <a:ext cx="6780960" cy="256320"/>
              <a:chOff x="0" y="1539000"/>
              <a:chExt cx="6780960" cy="256320"/>
            </a:xfrm>
          </p:grpSpPr>
          <p:sp>
            <p:nvSpPr>
              <p:cNvPr id="403" name=""/>
              <p:cNvSpPr/>
              <p:nvPr/>
            </p:nvSpPr>
            <p:spPr>
              <a:xfrm>
                <a:off x="0" y="15390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0" y="15390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0" y="1795680"/>
              <a:ext cx="6780960" cy="256320"/>
              <a:chOff x="0" y="1795680"/>
              <a:chExt cx="6780960" cy="256320"/>
            </a:xfrm>
          </p:grpSpPr>
          <p:sp>
            <p:nvSpPr>
              <p:cNvPr id="406" name=""/>
              <p:cNvSpPr/>
              <p:nvPr/>
            </p:nvSpPr>
            <p:spPr>
              <a:xfrm>
                <a:off x="0" y="179568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0" y="179568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1[ 20 ] = "Happy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0" y="2052000"/>
              <a:ext cx="6780960" cy="256320"/>
              <a:chOff x="0" y="2052000"/>
              <a:chExt cx="6780960" cy="256320"/>
            </a:xfrm>
          </p:grpSpPr>
          <p:sp>
            <p:nvSpPr>
              <p:cNvPr id="409" name=""/>
              <p:cNvSpPr/>
              <p:nvPr/>
            </p:nvSpPr>
            <p:spPr>
              <a:xfrm>
                <a:off x="0" y="20520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0" y="20520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2[] = "New Year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0" y="2308680"/>
              <a:ext cx="6780960" cy="256320"/>
              <a:chOff x="0" y="2308680"/>
              <a:chExt cx="6780960" cy="256320"/>
            </a:xfrm>
          </p:grpSpPr>
          <p:sp>
            <p:nvSpPr>
              <p:cNvPr id="412" name=""/>
              <p:cNvSpPr/>
              <p:nvPr/>
            </p:nvSpPr>
            <p:spPr>
              <a:xfrm>
                <a:off x="0" y="230868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230868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3[ 40 ] = "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0" y="2565000"/>
              <a:ext cx="6780960" cy="256320"/>
              <a:chOff x="0" y="2565000"/>
              <a:chExt cx="6780960" cy="256320"/>
            </a:xfrm>
          </p:grpSpPr>
          <p:sp>
            <p:nvSpPr>
              <p:cNvPr id="415" name=""/>
              <p:cNvSpPr/>
              <p:nvPr/>
            </p:nvSpPr>
            <p:spPr>
              <a:xfrm>
                <a:off x="0" y="25650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0" y="25650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0" y="2821680"/>
              <a:ext cx="6780960" cy="256320"/>
              <a:chOff x="0" y="2821680"/>
              <a:chExt cx="6780960" cy="256320"/>
            </a:xfrm>
          </p:grpSpPr>
          <p:sp>
            <p:nvSpPr>
              <p:cNvPr id="418" name=""/>
              <p:cNvSpPr/>
              <p:nvPr/>
            </p:nvSpPr>
            <p:spPr>
              <a:xfrm>
                <a:off x="0" y="282168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0" y="282168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s1 = %s\ns2 = %s\n", s1, s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0" y="3078360"/>
              <a:ext cx="6780960" cy="256320"/>
              <a:chOff x="0" y="3078360"/>
              <a:chExt cx="6780960" cy="25632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307836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0" y="307836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strcat( s1, s2 ) = %s\n", strcat( s1, s2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0" y="3334680"/>
              <a:ext cx="6780960" cy="315360"/>
              <a:chOff x="0" y="3334680"/>
              <a:chExt cx="6780960" cy="31536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3334680"/>
                <a:ext cx="6780960" cy="31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3334680"/>
                <a:ext cx="6780960" cy="315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strncat( s3, s1, 6 ) = %s\n", strncat( s3, s1, 6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0" y="3650400"/>
              <a:ext cx="6780960" cy="256320"/>
              <a:chOff x="0" y="3650400"/>
              <a:chExt cx="6780960" cy="256320"/>
            </a:xfrm>
          </p:grpSpPr>
          <p:sp>
            <p:nvSpPr>
              <p:cNvPr id="427" name=""/>
              <p:cNvSpPr/>
              <p:nvPr/>
            </p:nvSpPr>
            <p:spPr>
              <a:xfrm>
                <a:off x="0" y="36504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36504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strcat( s3, s1 ) = %s\n", strcat( s3, s1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0" y="3906720"/>
              <a:ext cx="6780960" cy="256320"/>
              <a:chOff x="0" y="3906720"/>
              <a:chExt cx="6780960" cy="256320"/>
            </a:xfrm>
          </p:grpSpPr>
          <p:sp>
            <p:nvSpPr>
              <p:cNvPr id="430" name=""/>
              <p:cNvSpPr/>
              <p:nvPr/>
            </p:nvSpPr>
            <p:spPr>
              <a:xfrm>
                <a:off x="0" y="390672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0" y="390672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0" y="4163400"/>
              <a:ext cx="6780960" cy="256320"/>
              <a:chOff x="0" y="4163400"/>
              <a:chExt cx="6780960" cy="256320"/>
            </a:xfrm>
          </p:grpSpPr>
          <p:sp>
            <p:nvSpPr>
              <p:cNvPr id="433" name=""/>
              <p:cNvSpPr/>
              <p:nvPr/>
            </p:nvSpPr>
            <p:spPr>
              <a:xfrm>
                <a:off x="0" y="41634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0" y="4163400"/>
                <a:ext cx="6780960" cy="256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"/>
          <p:cNvSpPr/>
          <p:nvPr/>
        </p:nvSpPr>
        <p:spPr>
          <a:xfrm>
            <a:off x="0" y="457200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1 = Happ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2 = New Ye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cat( s1, s2 ) = Happy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ncat( s3, s1, 6 ) = Hap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cat( s3, s1 ) = Happy Happy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D49CE-88ED-4E5B-9A1E-A0E576C60D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parison Functions of the String 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er compares numeric ASCII codes of characters in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endix D has a list of character co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strcmp( const char *s1, const char *s2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s str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a negative number 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 &lt; s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zero 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 == s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a positive number 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 &gt; s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strncmp( const char *s1, const char *s2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_t n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s up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haracters of str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values as abo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01BA-853C-4647-A531-81511E6591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arch Functions of the String 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-519120" y="1442880"/>
          <a:ext cx="9956880" cy="785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19120" y="1442880"/>
                    <a:ext cx="9956880" cy="785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EB0A-6FDE-4366-8BCD-A39D5F644E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0" y="0"/>
            <a:ext cx="6780960" cy="4419720"/>
            <a:chOff x="0" y="0"/>
            <a:chExt cx="6780960" cy="4419720"/>
          </a:xfrm>
        </p:grpSpPr>
        <p:grpSp>
          <p:nvGrpSpPr>
            <p:cNvPr id="444" name=""/>
            <p:cNvGrpSpPr/>
            <p:nvPr/>
          </p:nvGrpSpPr>
          <p:grpSpPr>
            <a:xfrm>
              <a:off x="0" y="0"/>
              <a:ext cx="6780960" cy="259920"/>
              <a:chOff x="0" y="0"/>
              <a:chExt cx="6780960" cy="25992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8.27: fig08_27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0" y="259920"/>
              <a:ext cx="6780960" cy="259920"/>
              <a:chOff x="0" y="259920"/>
              <a:chExt cx="6780960" cy="259920"/>
            </a:xfrm>
          </p:grpSpPr>
          <p:sp>
            <p:nvSpPr>
              <p:cNvPr id="448" name=""/>
              <p:cNvSpPr/>
              <p:nvPr/>
            </p:nvSpPr>
            <p:spPr>
              <a:xfrm>
                <a:off x="0" y="25992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25992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Using strspn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0" y="519840"/>
              <a:ext cx="6780960" cy="259920"/>
              <a:chOff x="0" y="519840"/>
              <a:chExt cx="6780960" cy="259920"/>
            </a:xfrm>
          </p:grpSpPr>
          <p:sp>
            <p:nvSpPr>
              <p:cNvPr id="451" name=""/>
              <p:cNvSpPr/>
              <p:nvPr/>
            </p:nvSpPr>
            <p:spPr>
              <a:xfrm>
                <a:off x="0" y="51984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0" y="51984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0" y="779760"/>
              <a:ext cx="6780960" cy="259920"/>
              <a:chOff x="0" y="779760"/>
              <a:chExt cx="6780960" cy="259920"/>
            </a:xfrm>
          </p:grpSpPr>
          <p:sp>
            <p:nvSpPr>
              <p:cNvPr id="454" name=""/>
              <p:cNvSpPr/>
              <p:nvPr/>
            </p:nvSpPr>
            <p:spPr>
              <a:xfrm>
                <a:off x="0" y="77976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0" y="77976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ring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0" y="1039680"/>
              <a:ext cx="6780960" cy="259920"/>
              <a:chOff x="0" y="1039680"/>
              <a:chExt cx="6780960" cy="259920"/>
            </a:xfrm>
          </p:grpSpPr>
          <p:sp>
            <p:nvSpPr>
              <p:cNvPr id="457" name=""/>
              <p:cNvSpPr/>
              <p:nvPr/>
            </p:nvSpPr>
            <p:spPr>
              <a:xfrm>
                <a:off x="0" y="103968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0" y="103968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0" y="1299600"/>
              <a:ext cx="6780960" cy="259920"/>
              <a:chOff x="0" y="1299600"/>
              <a:chExt cx="6780960" cy="259920"/>
            </a:xfrm>
          </p:grpSpPr>
          <p:sp>
            <p:nvSpPr>
              <p:cNvPr id="460" name=""/>
              <p:cNvSpPr/>
              <p:nvPr/>
            </p:nvSpPr>
            <p:spPr>
              <a:xfrm>
                <a:off x="0" y="129960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0" y="129960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0" y="1559880"/>
              <a:ext cx="6780960" cy="259920"/>
              <a:chOff x="0" y="1559880"/>
              <a:chExt cx="6780960" cy="259920"/>
            </a:xfrm>
          </p:grpSpPr>
          <p:sp>
            <p:nvSpPr>
              <p:cNvPr id="463" name=""/>
              <p:cNvSpPr/>
              <p:nvPr/>
            </p:nvSpPr>
            <p:spPr>
              <a:xfrm>
                <a:off x="0" y="155988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155988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0" y="1819800"/>
              <a:ext cx="6780960" cy="259920"/>
              <a:chOff x="0" y="1819800"/>
              <a:chExt cx="6780960" cy="259920"/>
            </a:xfrm>
          </p:grpSpPr>
          <p:sp>
            <p:nvSpPr>
              <p:cNvPr id="466" name=""/>
              <p:cNvSpPr/>
              <p:nvPr/>
            </p:nvSpPr>
            <p:spPr>
              <a:xfrm>
                <a:off x="0" y="181980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181980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string1 = "The value is 3.14159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0" y="2079720"/>
              <a:ext cx="6780960" cy="259920"/>
              <a:chOff x="0" y="2079720"/>
              <a:chExt cx="6780960" cy="259920"/>
            </a:xfrm>
          </p:grpSpPr>
          <p:sp>
            <p:nvSpPr>
              <p:cNvPr id="469" name=""/>
              <p:cNvSpPr/>
              <p:nvPr/>
            </p:nvSpPr>
            <p:spPr>
              <a:xfrm>
                <a:off x="0" y="207972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207972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string2 = "aehi lsTuv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0" y="2339640"/>
              <a:ext cx="6780960" cy="259920"/>
              <a:chOff x="0" y="2339640"/>
              <a:chExt cx="6780960" cy="259920"/>
            </a:xfrm>
          </p:grpSpPr>
          <p:sp>
            <p:nvSpPr>
              <p:cNvPr id="472" name=""/>
              <p:cNvSpPr/>
              <p:nvPr/>
            </p:nvSpPr>
            <p:spPr>
              <a:xfrm>
                <a:off x="0" y="233964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33964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0" y="2599560"/>
              <a:ext cx="6780960" cy="259920"/>
              <a:chOff x="0" y="2599560"/>
              <a:chExt cx="6780960" cy="259920"/>
            </a:xfrm>
          </p:grpSpPr>
          <p:sp>
            <p:nvSpPr>
              <p:cNvPr id="475" name=""/>
              <p:cNvSpPr/>
              <p:nvPr/>
            </p:nvSpPr>
            <p:spPr>
              <a:xfrm>
                <a:off x="0" y="259956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59956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%s\n%s%s\n\n%s\n%s%u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0" y="2859840"/>
              <a:ext cx="6780960" cy="259920"/>
              <a:chOff x="0" y="2859840"/>
              <a:chExt cx="6780960" cy="259920"/>
            </a:xfrm>
          </p:grpSpPr>
          <p:sp>
            <p:nvSpPr>
              <p:cNvPr id="478" name=""/>
              <p:cNvSpPr/>
              <p:nvPr/>
            </p:nvSpPr>
            <p:spPr>
              <a:xfrm>
                <a:off x="0" y="285984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285984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string1 = ", string1, "string2 = ", string2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0" y="3119760"/>
              <a:ext cx="6780960" cy="259920"/>
              <a:chOff x="0" y="3119760"/>
              <a:chExt cx="6780960" cy="259920"/>
            </a:xfrm>
          </p:grpSpPr>
          <p:sp>
            <p:nvSpPr>
              <p:cNvPr id="481" name=""/>
              <p:cNvSpPr/>
              <p:nvPr/>
            </p:nvSpPr>
            <p:spPr>
              <a:xfrm>
                <a:off x="0" y="311976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311976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The length of the initial segment of string1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0" y="3379680"/>
              <a:ext cx="6780960" cy="259920"/>
              <a:chOff x="0" y="3379680"/>
              <a:chExt cx="6780960" cy="259920"/>
            </a:xfrm>
          </p:grpSpPr>
          <p:sp>
            <p:nvSpPr>
              <p:cNvPr id="484" name=""/>
              <p:cNvSpPr/>
              <p:nvPr/>
            </p:nvSpPr>
            <p:spPr>
              <a:xfrm>
                <a:off x="0" y="337968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337968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containing only characters from string2 = 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0" y="3639600"/>
              <a:ext cx="6780960" cy="259920"/>
              <a:chOff x="0" y="3639600"/>
              <a:chExt cx="6780960" cy="259920"/>
            </a:xfrm>
          </p:grpSpPr>
          <p:sp>
            <p:nvSpPr>
              <p:cNvPr id="487" name=""/>
              <p:cNvSpPr/>
              <p:nvPr/>
            </p:nvSpPr>
            <p:spPr>
              <a:xfrm>
                <a:off x="0" y="363960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0" y="363960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strspn( string1, string2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0" y="3899880"/>
              <a:ext cx="6780960" cy="259920"/>
              <a:chOff x="0" y="3899880"/>
              <a:chExt cx="6780960" cy="259920"/>
            </a:xfrm>
          </p:grpSpPr>
          <p:sp>
            <p:nvSpPr>
              <p:cNvPr id="490" name=""/>
              <p:cNvSpPr/>
              <p:nvPr/>
            </p:nvSpPr>
            <p:spPr>
              <a:xfrm>
                <a:off x="0" y="389988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0" y="389988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0" y="4159800"/>
              <a:ext cx="6780960" cy="259920"/>
              <a:chOff x="0" y="4159800"/>
              <a:chExt cx="6780960" cy="259920"/>
            </a:xfrm>
          </p:grpSpPr>
          <p:sp>
            <p:nvSpPr>
              <p:cNvPr id="493" name=""/>
              <p:cNvSpPr/>
              <p:nvPr/>
            </p:nvSpPr>
            <p:spPr>
              <a:xfrm>
                <a:off x="0" y="415980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0" y="4159800"/>
                <a:ext cx="6780960" cy="2599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5" name=""/>
          <p:cNvSpPr/>
          <p:nvPr/>
        </p:nvSpPr>
        <p:spPr>
          <a:xfrm>
            <a:off x="0" y="457200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1 = The value is 3.141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ing2 = aehi lsT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length of the initial segment of string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taining only characters from string2 =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C3CD9-5165-4BF7-A53B-94844984F0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0" y="0"/>
            <a:ext cx="6780960" cy="4572000"/>
            <a:chOff x="0" y="0"/>
            <a:chExt cx="6780960" cy="4572000"/>
          </a:xfrm>
        </p:grpSpPr>
        <p:grpSp>
          <p:nvGrpSpPr>
            <p:cNvPr id="498" name=""/>
            <p:cNvGrpSpPr/>
            <p:nvPr/>
          </p:nvGrpSpPr>
          <p:grpSpPr>
            <a:xfrm>
              <a:off x="0" y="0"/>
              <a:ext cx="6780960" cy="198720"/>
              <a:chOff x="0" y="0"/>
              <a:chExt cx="6780960" cy="198720"/>
            </a:xfrm>
          </p:grpSpPr>
          <p:sp>
            <p:nvSpPr>
              <p:cNvPr id="499" name=""/>
              <p:cNvSpPr/>
              <p:nvPr/>
            </p:nvSpPr>
            <p:spPr>
              <a:xfrm>
                <a:off x="0" y="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0" y="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8.29: fig08_29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0" y="198720"/>
              <a:ext cx="6780960" cy="198720"/>
              <a:chOff x="0" y="198720"/>
              <a:chExt cx="6780960" cy="198720"/>
            </a:xfrm>
          </p:grpSpPr>
          <p:sp>
            <p:nvSpPr>
              <p:cNvPr id="502" name=""/>
              <p:cNvSpPr/>
              <p:nvPr/>
            </p:nvSpPr>
            <p:spPr>
              <a:xfrm>
                <a:off x="0" y="1987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0" y="1987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Using strtok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0" y="397440"/>
              <a:ext cx="6780960" cy="198720"/>
              <a:chOff x="0" y="397440"/>
              <a:chExt cx="6780960" cy="198720"/>
            </a:xfrm>
          </p:grpSpPr>
          <p:sp>
            <p:nvSpPr>
              <p:cNvPr id="505" name=""/>
              <p:cNvSpPr/>
              <p:nvPr/>
            </p:nvSpPr>
            <p:spPr>
              <a:xfrm>
                <a:off x="0" y="3974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0" y="3974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0" y="596160"/>
              <a:ext cx="6780960" cy="198720"/>
              <a:chOff x="0" y="596160"/>
              <a:chExt cx="6780960" cy="198720"/>
            </a:xfrm>
          </p:grpSpPr>
          <p:sp>
            <p:nvSpPr>
              <p:cNvPr id="508" name=""/>
              <p:cNvSpPr/>
              <p:nvPr/>
            </p:nvSpPr>
            <p:spPr>
              <a:xfrm>
                <a:off x="0" y="5961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0" y="5961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ring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0" y="794880"/>
              <a:ext cx="6780960" cy="198720"/>
              <a:chOff x="0" y="794880"/>
              <a:chExt cx="6780960" cy="198720"/>
            </a:xfrm>
          </p:grpSpPr>
          <p:sp>
            <p:nvSpPr>
              <p:cNvPr id="511" name=""/>
              <p:cNvSpPr/>
              <p:nvPr/>
            </p:nvSpPr>
            <p:spPr>
              <a:xfrm>
                <a:off x="0" y="7948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0" y="7948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0" y="993600"/>
              <a:ext cx="6780960" cy="198720"/>
              <a:chOff x="0" y="993600"/>
              <a:chExt cx="6780960" cy="198720"/>
            </a:xfrm>
          </p:grpSpPr>
          <p:sp>
            <p:nvSpPr>
              <p:cNvPr id="514" name=""/>
              <p:cNvSpPr/>
              <p:nvPr/>
            </p:nvSpPr>
            <p:spPr>
              <a:xfrm>
                <a:off x="0" y="993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0" y="993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0" y="1192680"/>
              <a:ext cx="6780960" cy="198720"/>
              <a:chOff x="0" y="1192680"/>
              <a:chExt cx="6780960" cy="198720"/>
            </a:xfrm>
          </p:grpSpPr>
          <p:sp>
            <p:nvSpPr>
              <p:cNvPr id="517" name=""/>
              <p:cNvSpPr/>
              <p:nvPr/>
            </p:nvSpPr>
            <p:spPr>
              <a:xfrm>
                <a:off x="0" y="11926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11926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0" y="1391400"/>
              <a:ext cx="6780960" cy="198720"/>
              <a:chOff x="0" y="1391400"/>
              <a:chExt cx="6780960" cy="198720"/>
            </a:xfrm>
          </p:grpSpPr>
          <p:sp>
            <p:nvSpPr>
              <p:cNvPr id="520" name=""/>
              <p:cNvSpPr/>
              <p:nvPr/>
            </p:nvSpPr>
            <p:spPr>
              <a:xfrm>
                <a:off x="0" y="13914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0" y="13914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ring[] = "This is a sentence with 7 tokens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0" y="1590120"/>
              <a:ext cx="6780960" cy="198720"/>
              <a:chOff x="0" y="1590120"/>
              <a:chExt cx="6780960" cy="198720"/>
            </a:xfrm>
          </p:grpSpPr>
          <p:sp>
            <p:nvSpPr>
              <p:cNvPr id="523" name=""/>
              <p:cNvSpPr/>
              <p:nvPr/>
            </p:nvSpPr>
            <p:spPr>
              <a:xfrm>
                <a:off x="0" y="15901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0" y="15901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*tokenPt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0" y="1788840"/>
              <a:ext cx="6780960" cy="198720"/>
              <a:chOff x="0" y="1788840"/>
              <a:chExt cx="6780960" cy="198720"/>
            </a:xfrm>
          </p:grpSpPr>
          <p:sp>
            <p:nvSpPr>
              <p:cNvPr id="526" name=""/>
              <p:cNvSpPr/>
              <p:nvPr/>
            </p:nvSpPr>
            <p:spPr>
              <a:xfrm>
                <a:off x="0" y="17888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0" y="17888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0" y="1987560"/>
              <a:ext cx="6780960" cy="198720"/>
              <a:chOff x="0" y="1987560"/>
              <a:chExt cx="6780960" cy="198720"/>
            </a:xfrm>
          </p:grpSpPr>
          <p:sp>
            <p:nvSpPr>
              <p:cNvPr id="529" name=""/>
              <p:cNvSpPr/>
              <p:nvPr/>
            </p:nvSpPr>
            <p:spPr>
              <a:xfrm>
                <a:off x="0" y="1987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1987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\n%s\n\n%s\n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0" y="2186640"/>
              <a:ext cx="6780960" cy="198720"/>
              <a:chOff x="0" y="2186640"/>
              <a:chExt cx="6780960" cy="198720"/>
            </a:xfrm>
          </p:grpSpPr>
          <p:sp>
            <p:nvSpPr>
              <p:cNvPr id="532" name=""/>
              <p:cNvSpPr/>
              <p:nvPr/>
            </p:nvSpPr>
            <p:spPr>
              <a:xfrm>
                <a:off x="0" y="21866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0" y="21866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The string to be tokenized is:", string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0" y="2385360"/>
              <a:ext cx="6780960" cy="198720"/>
              <a:chOff x="0" y="2385360"/>
              <a:chExt cx="6780960" cy="198720"/>
            </a:xfrm>
          </p:grpSpPr>
          <p:sp>
            <p:nvSpPr>
              <p:cNvPr id="535" name=""/>
              <p:cNvSpPr/>
              <p:nvPr/>
            </p:nvSpPr>
            <p:spPr>
              <a:xfrm>
                <a:off x="0" y="23853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0" y="23853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The tokens are: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0" y="2584080"/>
              <a:ext cx="6780960" cy="198720"/>
              <a:chOff x="0" y="2584080"/>
              <a:chExt cx="6780960" cy="198720"/>
            </a:xfrm>
          </p:grpSpPr>
          <p:sp>
            <p:nvSpPr>
              <p:cNvPr id="538" name=""/>
              <p:cNvSpPr/>
              <p:nvPr/>
            </p:nvSpPr>
            <p:spPr>
              <a:xfrm>
                <a:off x="0" y="25840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0" y="25840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0" y="2782800"/>
              <a:ext cx="6780960" cy="198720"/>
              <a:chOff x="0" y="2782800"/>
              <a:chExt cx="6780960" cy="198720"/>
            </a:xfrm>
          </p:grpSpPr>
          <p:sp>
            <p:nvSpPr>
              <p:cNvPr id="541" name=""/>
              <p:cNvSpPr/>
              <p:nvPr/>
            </p:nvSpPr>
            <p:spPr>
              <a:xfrm>
                <a:off x="0" y="27828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0" y="27828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tokenPtr = strtok( string, "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0" y="2981880"/>
              <a:ext cx="6780960" cy="198720"/>
              <a:chOff x="0" y="2981880"/>
              <a:chExt cx="6780960" cy="198720"/>
            </a:xfrm>
          </p:grpSpPr>
          <p:sp>
            <p:nvSpPr>
              <p:cNvPr id="544" name=""/>
              <p:cNvSpPr/>
              <p:nvPr/>
            </p:nvSpPr>
            <p:spPr>
              <a:xfrm>
                <a:off x="0" y="29818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0" y="29818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0" y="3180600"/>
              <a:ext cx="6780960" cy="198720"/>
              <a:chOff x="0" y="3180600"/>
              <a:chExt cx="6780960" cy="198720"/>
            </a:xfrm>
          </p:grpSpPr>
          <p:sp>
            <p:nvSpPr>
              <p:cNvPr id="547" name=""/>
              <p:cNvSpPr/>
              <p:nvPr/>
            </p:nvSpPr>
            <p:spPr>
              <a:xfrm>
                <a:off x="0" y="3180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0" y="318060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( tokenPtr != NULL ) 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0" y="3379320"/>
              <a:ext cx="6780960" cy="198720"/>
              <a:chOff x="0" y="3379320"/>
              <a:chExt cx="6780960" cy="198720"/>
            </a:xfrm>
          </p:grpSpPr>
          <p:sp>
            <p:nvSpPr>
              <p:cNvPr id="550" name=""/>
              <p:cNvSpPr/>
              <p:nvPr/>
            </p:nvSpPr>
            <p:spPr>
              <a:xfrm>
                <a:off x="0" y="33793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0" y="337932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printf( "%s\n", tokenPtr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0" y="3578040"/>
              <a:ext cx="6780960" cy="198720"/>
              <a:chOff x="0" y="3578040"/>
              <a:chExt cx="6780960" cy="198720"/>
            </a:xfrm>
          </p:grpSpPr>
          <p:sp>
            <p:nvSpPr>
              <p:cNvPr id="553" name=""/>
              <p:cNvSpPr/>
              <p:nvPr/>
            </p:nvSpPr>
            <p:spPr>
              <a:xfrm>
                <a:off x="0" y="35780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35780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tokenPtr = strtok( NULL, " 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0" y="3776760"/>
              <a:ext cx="6780960" cy="198720"/>
              <a:chOff x="0" y="3776760"/>
              <a:chExt cx="6780960" cy="198720"/>
            </a:xfrm>
          </p:grpSpPr>
          <p:sp>
            <p:nvSpPr>
              <p:cNvPr id="556" name=""/>
              <p:cNvSpPr/>
              <p:nvPr/>
            </p:nvSpPr>
            <p:spPr>
              <a:xfrm>
                <a:off x="0" y="37767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0" y="37767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0" y="3975840"/>
              <a:ext cx="6780960" cy="198720"/>
              <a:chOff x="0" y="3975840"/>
              <a:chExt cx="6780960" cy="198720"/>
            </a:xfrm>
          </p:grpSpPr>
          <p:sp>
            <p:nvSpPr>
              <p:cNvPr id="559" name=""/>
              <p:cNvSpPr/>
              <p:nvPr/>
            </p:nvSpPr>
            <p:spPr>
              <a:xfrm>
                <a:off x="0" y="39758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0" y="397584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0" y="4174560"/>
              <a:ext cx="6780960" cy="198720"/>
              <a:chOff x="0" y="4174560"/>
              <a:chExt cx="6780960" cy="198720"/>
            </a:xfrm>
          </p:grpSpPr>
          <p:sp>
            <p:nvSpPr>
              <p:cNvPr id="562" name=""/>
              <p:cNvSpPr/>
              <p:nvPr/>
            </p:nvSpPr>
            <p:spPr>
              <a:xfrm>
                <a:off x="0" y="4174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417456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0" y="4373280"/>
              <a:ext cx="6780960" cy="198720"/>
              <a:chOff x="0" y="4373280"/>
              <a:chExt cx="6780960" cy="198720"/>
            </a:xfrm>
          </p:grpSpPr>
          <p:sp>
            <p:nvSpPr>
              <p:cNvPr id="565" name=""/>
              <p:cNvSpPr/>
              <p:nvPr/>
            </p:nvSpPr>
            <p:spPr>
              <a:xfrm>
                <a:off x="0" y="43732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0" y="4373280"/>
                <a:ext cx="6780960" cy="198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7" name=""/>
          <p:cNvSpPr/>
          <p:nvPr/>
        </p:nvSpPr>
        <p:spPr>
          <a:xfrm>
            <a:off x="0" y="4572000"/>
            <a:ext cx="6781680" cy="210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tring to be tokenized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 is a sentence with 7 to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token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3F553-0F01-4914-A776-5BE2E5A4D4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Memory Functions of the String- 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dlib.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ipulate, compare, and search blocks of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manipulate any block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 parameters ar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id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y pointer can be assigned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vice ver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 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not be dereferen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function receives a size argument specifying the number of bytes (characters) to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BF0F-6228-410E-AD8D-EDA2000F00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 some standard library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sy string and character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can process characters, strings, lines of text, and blocks of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techniques used to 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d process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ge layout soft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setting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D8993-B8C9-4A50-AFED-4F3A1995FE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9 Memory Functions of the String- handling Library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-247680" y="1146240"/>
          <a:ext cx="9696600" cy="548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47680" y="1146240"/>
                    <a:ext cx="9696600" cy="54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1C97C-3697-49FF-98A9-7F8B3501F2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0" y="0"/>
            <a:ext cx="6780960" cy="4038120"/>
            <a:chOff x="0" y="0"/>
            <a:chExt cx="6780960" cy="4038120"/>
          </a:xfrm>
        </p:grpSpPr>
        <p:grpSp>
          <p:nvGrpSpPr>
            <p:cNvPr id="576" name=""/>
            <p:cNvGrpSpPr/>
            <p:nvPr/>
          </p:nvGrpSpPr>
          <p:grpSpPr>
            <a:xfrm>
              <a:off x="0" y="0"/>
              <a:ext cx="6780960" cy="237240"/>
              <a:chOff x="0" y="0"/>
              <a:chExt cx="6780960" cy="237240"/>
            </a:xfrm>
          </p:grpSpPr>
          <p:sp>
            <p:nvSpPr>
              <p:cNvPr id="577" name=""/>
              <p:cNvSpPr/>
              <p:nvPr/>
            </p:nvSpPr>
            <p:spPr>
              <a:xfrm>
                <a:off x="0" y="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0" y="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8.32: fig08_32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0" y="237240"/>
              <a:ext cx="6780960" cy="237240"/>
              <a:chOff x="0" y="237240"/>
              <a:chExt cx="6780960" cy="237240"/>
            </a:xfrm>
          </p:grpSpPr>
          <p:sp>
            <p:nvSpPr>
              <p:cNvPr id="580" name=""/>
              <p:cNvSpPr/>
              <p:nvPr/>
            </p:nvSpPr>
            <p:spPr>
              <a:xfrm>
                <a:off x="0" y="2372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2372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Using memmove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0" y="474840"/>
              <a:ext cx="6780960" cy="237600"/>
              <a:chOff x="0" y="474840"/>
              <a:chExt cx="6780960" cy="237600"/>
            </a:xfrm>
          </p:grpSpPr>
          <p:sp>
            <p:nvSpPr>
              <p:cNvPr id="583" name=""/>
              <p:cNvSpPr/>
              <p:nvPr/>
            </p:nvSpPr>
            <p:spPr>
              <a:xfrm>
                <a:off x="0" y="474840"/>
                <a:ext cx="678096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474840"/>
                <a:ext cx="678096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0" y="712440"/>
              <a:ext cx="6780960" cy="237240"/>
              <a:chOff x="0" y="712440"/>
              <a:chExt cx="6780960" cy="237240"/>
            </a:xfrm>
          </p:grpSpPr>
          <p:sp>
            <p:nvSpPr>
              <p:cNvPr id="586" name=""/>
              <p:cNvSpPr/>
              <p:nvPr/>
            </p:nvSpPr>
            <p:spPr>
              <a:xfrm>
                <a:off x="0" y="7124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0" y="7124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ring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0" y="950040"/>
              <a:ext cx="6780960" cy="237240"/>
              <a:chOff x="0" y="950040"/>
              <a:chExt cx="6780960" cy="237240"/>
            </a:xfrm>
          </p:grpSpPr>
          <p:sp>
            <p:nvSpPr>
              <p:cNvPr id="589" name=""/>
              <p:cNvSpPr/>
              <p:nvPr/>
            </p:nvSpPr>
            <p:spPr>
              <a:xfrm>
                <a:off x="0" y="9500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9500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0" y="1187640"/>
              <a:ext cx="6780960" cy="237240"/>
              <a:chOff x="0" y="1187640"/>
              <a:chExt cx="6780960" cy="237240"/>
            </a:xfrm>
          </p:grpSpPr>
          <p:sp>
            <p:nvSpPr>
              <p:cNvPr id="592" name=""/>
              <p:cNvSpPr/>
              <p:nvPr/>
            </p:nvSpPr>
            <p:spPr>
              <a:xfrm>
                <a:off x="0" y="11876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0" y="11876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0" y="1425240"/>
              <a:ext cx="6780960" cy="237600"/>
              <a:chOff x="0" y="1425240"/>
              <a:chExt cx="6780960" cy="237600"/>
            </a:xfrm>
          </p:grpSpPr>
          <p:sp>
            <p:nvSpPr>
              <p:cNvPr id="595" name=""/>
              <p:cNvSpPr/>
              <p:nvPr/>
            </p:nvSpPr>
            <p:spPr>
              <a:xfrm>
                <a:off x="0" y="1425240"/>
                <a:ext cx="678096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1425240"/>
                <a:ext cx="678096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0" y="1662840"/>
              <a:ext cx="6780960" cy="237240"/>
              <a:chOff x="0" y="1662840"/>
              <a:chExt cx="6780960" cy="237240"/>
            </a:xfrm>
          </p:grpSpPr>
          <p:sp>
            <p:nvSpPr>
              <p:cNvPr id="598" name=""/>
              <p:cNvSpPr/>
              <p:nvPr/>
            </p:nvSpPr>
            <p:spPr>
              <a:xfrm>
                <a:off x="0" y="16628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16628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[] = "Home Sweet Home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0" y="1900440"/>
              <a:ext cx="6780960" cy="237240"/>
              <a:chOff x="0" y="1900440"/>
              <a:chExt cx="6780960" cy="237240"/>
            </a:xfrm>
          </p:grpSpPr>
          <p:sp>
            <p:nvSpPr>
              <p:cNvPr id="601" name=""/>
              <p:cNvSpPr/>
              <p:nvPr/>
            </p:nvSpPr>
            <p:spPr>
              <a:xfrm>
                <a:off x="0" y="19004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0" y="19004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0" y="2138040"/>
              <a:ext cx="6780960" cy="237240"/>
              <a:chOff x="0" y="2138040"/>
              <a:chExt cx="6780960" cy="237240"/>
            </a:xfrm>
          </p:grpSpPr>
          <p:sp>
            <p:nvSpPr>
              <p:cNvPr id="604" name=""/>
              <p:cNvSpPr/>
              <p:nvPr/>
            </p:nvSpPr>
            <p:spPr>
              <a:xfrm>
                <a:off x="0" y="21380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0" y="21380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%s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0" y="2375640"/>
              <a:ext cx="6780960" cy="237600"/>
              <a:chOff x="0" y="2375640"/>
              <a:chExt cx="6780960" cy="237600"/>
            </a:xfrm>
          </p:grpSpPr>
          <p:sp>
            <p:nvSpPr>
              <p:cNvPr id="607" name=""/>
              <p:cNvSpPr/>
              <p:nvPr/>
            </p:nvSpPr>
            <p:spPr>
              <a:xfrm>
                <a:off x="0" y="2375640"/>
                <a:ext cx="678096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2375640"/>
                <a:ext cx="678096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The string in array x before memmove is: ", x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0" y="2613240"/>
              <a:ext cx="6780960" cy="237240"/>
              <a:chOff x="0" y="2613240"/>
              <a:chExt cx="6780960" cy="237240"/>
            </a:xfrm>
          </p:grpSpPr>
          <p:sp>
            <p:nvSpPr>
              <p:cNvPr id="610" name=""/>
              <p:cNvSpPr/>
              <p:nvPr/>
            </p:nvSpPr>
            <p:spPr>
              <a:xfrm>
                <a:off x="0" y="26132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0" y="26132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%s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0" y="2850840"/>
              <a:ext cx="6780960" cy="237240"/>
              <a:chOff x="0" y="2850840"/>
              <a:chExt cx="6780960" cy="237240"/>
            </a:xfrm>
          </p:grpSpPr>
          <p:sp>
            <p:nvSpPr>
              <p:cNvPr id="613" name=""/>
              <p:cNvSpPr/>
              <p:nvPr/>
            </p:nvSpPr>
            <p:spPr>
              <a:xfrm>
                <a:off x="0" y="28508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0" y="285084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"The string in array x after memmove is:  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0" y="3088080"/>
              <a:ext cx="6780960" cy="237240"/>
              <a:chOff x="0" y="3088080"/>
              <a:chExt cx="6780960" cy="237240"/>
            </a:xfrm>
          </p:grpSpPr>
          <p:sp>
            <p:nvSpPr>
              <p:cNvPr id="616" name=""/>
              <p:cNvSpPr/>
              <p:nvPr/>
            </p:nvSpPr>
            <p:spPr>
              <a:xfrm>
                <a:off x="0" y="308808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308808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memmove( x, &amp;x[ 5 ], 10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0" y="3325680"/>
              <a:ext cx="6780960" cy="237600"/>
              <a:chOff x="0" y="3325680"/>
              <a:chExt cx="6780960" cy="237600"/>
            </a:xfrm>
          </p:grpSpPr>
          <p:sp>
            <p:nvSpPr>
              <p:cNvPr id="619" name=""/>
              <p:cNvSpPr/>
              <p:nvPr/>
            </p:nvSpPr>
            <p:spPr>
              <a:xfrm>
                <a:off x="0" y="3325680"/>
                <a:ext cx="678096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0" y="3325680"/>
                <a:ext cx="678096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0" y="3563280"/>
              <a:ext cx="6780960" cy="237240"/>
              <a:chOff x="0" y="3563280"/>
              <a:chExt cx="6780960" cy="237240"/>
            </a:xfrm>
          </p:grpSpPr>
          <p:sp>
            <p:nvSpPr>
              <p:cNvPr id="622" name=""/>
              <p:cNvSpPr/>
              <p:nvPr/>
            </p:nvSpPr>
            <p:spPr>
              <a:xfrm>
                <a:off x="0" y="356328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0" y="356328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0" y="3800880"/>
              <a:ext cx="6780960" cy="237240"/>
              <a:chOff x="0" y="3800880"/>
              <a:chExt cx="6780960" cy="237240"/>
            </a:xfrm>
          </p:grpSpPr>
          <p:sp>
            <p:nvSpPr>
              <p:cNvPr id="625" name=""/>
              <p:cNvSpPr/>
              <p:nvPr/>
            </p:nvSpPr>
            <p:spPr>
              <a:xfrm>
                <a:off x="0" y="380088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3800880"/>
                <a:ext cx="6780960" cy="237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7" name=""/>
          <p:cNvSpPr/>
          <p:nvPr/>
        </p:nvSpPr>
        <p:spPr>
          <a:xfrm>
            <a:off x="0" y="4343400"/>
            <a:ext cx="6781680" cy="64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tring in array x before memmove is: Home Sweet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tring in array x after memmove is:  Sweet Hom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FD652-81D3-4DE0-9720-2648559C63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ther Functions of the String 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 *strerror( int errornum 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a system-dependent error message based 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rrorn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a pointer to the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_t strlen( const char *s 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the number of characters (befor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in str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3A0C-4278-4CCA-A4FE-D418CAD5E9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 Function call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0" y="0"/>
            <a:ext cx="6780960" cy="3352680"/>
            <a:chOff x="0" y="0"/>
            <a:chExt cx="6780960" cy="3352680"/>
          </a:xfrm>
        </p:grpSpPr>
        <p:grpSp>
          <p:nvGrpSpPr>
            <p:cNvPr id="632" name=""/>
            <p:cNvGrpSpPr/>
            <p:nvPr/>
          </p:nvGrpSpPr>
          <p:grpSpPr>
            <a:xfrm>
              <a:off x="0" y="0"/>
              <a:ext cx="6780960" cy="335160"/>
              <a:chOff x="0" y="0"/>
              <a:chExt cx="6780960" cy="335160"/>
            </a:xfrm>
          </p:grpSpPr>
          <p:sp>
            <p:nvSpPr>
              <p:cNvPr id="633" name=""/>
              <p:cNvSpPr/>
              <p:nvPr/>
            </p:nvSpPr>
            <p:spPr>
              <a:xfrm>
                <a:off x="0" y="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0" y="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8.37: fig08_37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0" y="335160"/>
              <a:ext cx="6780960" cy="335160"/>
              <a:chOff x="0" y="335160"/>
              <a:chExt cx="6780960" cy="335160"/>
            </a:xfrm>
          </p:grpSpPr>
          <p:sp>
            <p:nvSpPr>
              <p:cNvPr id="636" name=""/>
              <p:cNvSpPr/>
              <p:nvPr/>
            </p:nvSpPr>
            <p:spPr>
              <a:xfrm>
                <a:off x="0" y="33516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0" y="33516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Using strerror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0" y="670320"/>
              <a:ext cx="6780960" cy="335160"/>
              <a:chOff x="0" y="670320"/>
              <a:chExt cx="6780960" cy="335160"/>
            </a:xfrm>
          </p:grpSpPr>
          <p:sp>
            <p:nvSpPr>
              <p:cNvPr id="639" name=""/>
              <p:cNvSpPr/>
              <p:nvPr/>
            </p:nvSpPr>
            <p:spPr>
              <a:xfrm>
                <a:off x="0" y="67032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0" y="67032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0" y="1005840"/>
              <a:ext cx="6780960" cy="335160"/>
              <a:chOff x="0" y="1005840"/>
              <a:chExt cx="6780960" cy="335160"/>
            </a:xfrm>
          </p:grpSpPr>
          <p:sp>
            <p:nvSpPr>
              <p:cNvPr id="642" name=""/>
              <p:cNvSpPr/>
              <p:nvPr/>
            </p:nvSpPr>
            <p:spPr>
              <a:xfrm>
                <a:off x="0" y="100584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0" y="100584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ring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0" y="1341000"/>
              <a:ext cx="6780960" cy="335160"/>
              <a:chOff x="0" y="1341000"/>
              <a:chExt cx="6780960" cy="335160"/>
            </a:xfrm>
          </p:grpSpPr>
          <p:sp>
            <p:nvSpPr>
              <p:cNvPr id="645" name=""/>
              <p:cNvSpPr/>
              <p:nvPr/>
            </p:nvSpPr>
            <p:spPr>
              <a:xfrm>
                <a:off x="0" y="134100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0" y="134100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0" y="1676160"/>
              <a:ext cx="6780960" cy="335160"/>
              <a:chOff x="0" y="1676160"/>
              <a:chExt cx="6780960" cy="335160"/>
            </a:xfrm>
          </p:grpSpPr>
          <p:sp>
            <p:nvSpPr>
              <p:cNvPr id="648" name=""/>
              <p:cNvSpPr/>
              <p:nvPr/>
            </p:nvSpPr>
            <p:spPr>
              <a:xfrm>
                <a:off x="0" y="167616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0" y="167616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0" y="2011320"/>
              <a:ext cx="6780960" cy="335160"/>
              <a:chOff x="0" y="2011320"/>
              <a:chExt cx="6780960" cy="335160"/>
            </a:xfrm>
          </p:grpSpPr>
          <p:sp>
            <p:nvSpPr>
              <p:cNvPr id="651" name=""/>
              <p:cNvSpPr/>
              <p:nvPr/>
            </p:nvSpPr>
            <p:spPr>
              <a:xfrm>
                <a:off x="0" y="201132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0" y="201132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0" y="2346840"/>
              <a:ext cx="6780960" cy="335160"/>
              <a:chOff x="0" y="2346840"/>
              <a:chExt cx="6780960" cy="335160"/>
            </a:xfrm>
          </p:grpSpPr>
          <p:sp>
            <p:nvSpPr>
              <p:cNvPr id="654" name=""/>
              <p:cNvSpPr/>
              <p:nvPr/>
            </p:nvSpPr>
            <p:spPr>
              <a:xfrm>
                <a:off x="0" y="234684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0" y="234684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\n", strerror( 2 )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0" y="2682000"/>
              <a:ext cx="6780960" cy="335160"/>
              <a:chOff x="0" y="2682000"/>
              <a:chExt cx="6780960" cy="335160"/>
            </a:xfrm>
          </p:grpSpPr>
          <p:sp>
            <p:nvSpPr>
              <p:cNvPr id="657" name=""/>
              <p:cNvSpPr/>
              <p:nvPr/>
            </p:nvSpPr>
            <p:spPr>
              <a:xfrm>
                <a:off x="0" y="268200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0" y="268200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0" y="3017520"/>
              <a:ext cx="6780960" cy="335160"/>
              <a:chOff x="0" y="3017520"/>
              <a:chExt cx="6780960" cy="335160"/>
            </a:xfrm>
          </p:grpSpPr>
          <p:sp>
            <p:nvSpPr>
              <p:cNvPr id="660" name=""/>
              <p:cNvSpPr/>
              <p:nvPr/>
            </p:nvSpPr>
            <p:spPr>
              <a:xfrm>
                <a:off x="0" y="301752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0" y="3017520"/>
                <a:ext cx="6780960" cy="335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2" name=""/>
          <p:cNvSpPr/>
          <p:nvPr/>
        </p:nvSpPr>
        <p:spPr>
          <a:xfrm>
            <a:off x="0" y="3657600"/>
            <a:ext cx="678168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 such file or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8F6C6-A6C0-4857-9EE9-460CFA6377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damentals of Strings and Charac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ding blocks of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program is a sequence of meaningfully grouped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 const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 represented as a character in single qu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z'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presents the integer value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ies of characters treated as a single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include letters, digits and special character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 literal (string constant) - written in double quo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Hello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s are arrays of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a pointer to first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of string is the address of first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7484-F640-4ACA-B9E2-FD5A24B8A4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damentals of Strings and Charac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decla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as a character array or a variable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 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color[] = "blu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colorPtr = "blue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ember that strings represented as character arrays en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\0'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t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can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("%s", wor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ies inpu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d[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not nee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because a string is a poi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member to leave room in the array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\0'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1D91-C0DB-429D-9DFD-F41AD09EAB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haracter 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 handling libr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s functions to perform useful tests and manipulations of character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function receives a character (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s an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slide contains a table of all the functions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ctype.h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6066-3EC1-41CF-96A2-003D1C8D0A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3 Character Handling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-166680" y="1066680"/>
          <a:ext cx="9767880" cy="638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6680" y="1066680"/>
                    <a:ext cx="9767880" cy="63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55881-F613-45C6-9762-B6E0FD80D0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Perform tes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 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09" name=""/>
            <p:cNvGrpSpPr/>
            <p:nvPr/>
          </p:nvGrpSpPr>
          <p:grpSpPr>
            <a:xfrm>
              <a:off x="0" y="0"/>
              <a:ext cx="6780960" cy="213480"/>
              <a:chOff x="0" y="0"/>
              <a:chExt cx="6780960" cy="213480"/>
            </a:xfrm>
          </p:grpSpPr>
          <p:sp>
            <p:nvSpPr>
              <p:cNvPr id="110" name=""/>
              <p:cNvSpPr/>
              <p:nvPr/>
            </p:nvSpPr>
            <p:spPr>
              <a:xfrm>
                <a:off x="0" y="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* Fig. 8.2: fig08_02.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0" y="213480"/>
              <a:ext cx="6780960" cy="230040"/>
              <a:chOff x="0" y="213480"/>
              <a:chExt cx="6780960" cy="230040"/>
            </a:xfrm>
          </p:grpSpPr>
          <p:sp>
            <p:nvSpPr>
              <p:cNvPr id="113" name=""/>
              <p:cNvSpPr/>
              <p:nvPr/>
            </p:nvSpPr>
            <p:spPr>
              <a:xfrm>
                <a:off x="0" y="213480"/>
                <a:ext cx="6780960" cy="230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213480"/>
                <a:ext cx="6780960" cy="230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Using functions isdigit, isalpha, isalnum, and isxdigit *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0" y="443880"/>
              <a:ext cx="6780960" cy="213840"/>
              <a:chOff x="0" y="443880"/>
              <a:chExt cx="6780960" cy="21384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44388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44388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stdio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0" y="657720"/>
              <a:ext cx="6780960" cy="213480"/>
              <a:chOff x="0" y="657720"/>
              <a:chExt cx="6780960" cy="213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6577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6577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ctype.h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0" y="871560"/>
              <a:ext cx="6780960" cy="213480"/>
              <a:chOff x="0" y="871560"/>
              <a:chExt cx="6780960" cy="21348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8715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8715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0" y="1085400"/>
              <a:ext cx="6780960" cy="213480"/>
              <a:chOff x="0" y="1085400"/>
              <a:chExt cx="6780960" cy="213480"/>
            </a:xfrm>
          </p:grpSpPr>
          <p:sp>
            <p:nvSpPr>
              <p:cNvPr id="125" name=""/>
              <p:cNvSpPr/>
              <p:nvPr/>
            </p:nvSpPr>
            <p:spPr>
              <a:xfrm>
                <a:off x="0" y="10854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0854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0" y="1299240"/>
              <a:ext cx="6780960" cy="213840"/>
              <a:chOff x="0" y="1299240"/>
              <a:chExt cx="6780960" cy="213840"/>
            </a:xfrm>
          </p:grpSpPr>
          <p:sp>
            <p:nvSpPr>
              <p:cNvPr id="128" name=""/>
              <p:cNvSpPr/>
              <p:nvPr/>
            </p:nvSpPr>
            <p:spPr>
              <a:xfrm>
                <a:off x="0" y="129924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129924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0" y="1513080"/>
              <a:ext cx="6780960" cy="213480"/>
              <a:chOff x="0" y="1513080"/>
              <a:chExt cx="6780960" cy="21348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151308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51308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\n%s%s\n%s%s\n\n", "According to isdigit: 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0" y="1726920"/>
              <a:ext cx="6780960" cy="213480"/>
              <a:chOff x="0" y="1726920"/>
              <a:chExt cx="6780960" cy="213480"/>
            </a:xfrm>
          </p:grpSpPr>
          <p:sp>
            <p:nvSpPr>
              <p:cNvPr id="134" name=""/>
              <p:cNvSpPr/>
              <p:nvPr/>
            </p:nvSpPr>
            <p:spPr>
              <a:xfrm>
                <a:off x="0" y="17269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17269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digit( '8' ) ? "8 is a " : "8 is not a ", "digit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0" y="1940760"/>
              <a:ext cx="6780960" cy="213480"/>
              <a:chOff x="0" y="1940760"/>
              <a:chExt cx="6780960" cy="213480"/>
            </a:xfrm>
          </p:grpSpPr>
          <p:sp>
            <p:nvSpPr>
              <p:cNvPr id="137" name=""/>
              <p:cNvSpPr/>
              <p:nvPr/>
            </p:nvSpPr>
            <p:spPr>
              <a:xfrm>
                <a:off x="0" y="19407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19407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digit( '#' ) ? "# is a " :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0" y="2154240"/>
              <a:ext cx="6780960" cy="213480"/>
              <a:chOff x="0" y="2154240"/>
              <a:chExt cx="6780960" cy="213480"/>
            </a:xfrm>
          </p:grpSpPr>
          <p:sp>
            <p:nvSpPr>
              <p:cNvPr id="140" name=""/>
              <p:cNvSpPr/>
              <p:nvPr/>
            </p:nvSpPr>
            <p:spPr>
              <a:xfrm>
                <a:off x="0" y="215424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15424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# is not a ", "digit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0" y="2368080"/>
              <a:ext cx="6780960" cy="213840"/>
              <a:chOff x="0" y="2368080"/>
              <a:chExt cx="6780960" cy="213840"/>
            </a:xfrm>
          </p:grpSpPr>
          <p:sp>
            <p:nvSpPr>
              <p:cNvPr id="143" name=""/>
              <p:cNvSpPr/>
              <p:nvPr/>
            </p:nvSpPr>
            <p:spPr>
              <a:xfrm>
                <a:off x="0" y="236808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236808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\n%s%s\n%s%s\n%s%s\n%s%s\n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0" y="2581920"/>
              <a:ext cx="6780960" cy="213480"/>
              <a:chOff x="0" y="2581920"/>
              <a:chExt cx="6780960" cy="21348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25819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25819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According to isalpha: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0" y="2795760"/>
              <a:ext cx="6780960" cy="213480"/>
              <a:chOff x="0" y="2795760"/>
              <a:chExt cx="6780960" cy="2134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27957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27957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alpha( 'A' ) ? "A is a " : "A is not a ", "lett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0" y="3009600"/>
              <a:ext cx="6780960" cy="213480"/>
              <a:chOff x="0" y="3009600"/>
              <a:chExt cx="6780960" cy="213480"/>
            </a:xfrm>
          </p:grpSpPr>
          <p:sp>
            <p:nvSpPr>
              <p:cNvPr id="152" name=""/>
              <p:cNvSpPr/>
              <p:nvPr/>
            </p:nvSpPr>
            <p:spPr>
              <a:xfrm>
                <a:off x="0" y="3009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3009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alpha( 'b' ) ? "b is a " : "b is not a ", "lett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0" y="3223440"/>
              <a:ext cx="6780960" cy="213840"/>
              <a:chOff x="0" y="3223440"/>
              <a:chExt cx="6780960" cy="213840"/>
            </a:xfrm>
          </p:grpSpPr>
          <p:sp>
            <p:nvSpPr>
              <p:cNvPr id="155" name=""/>
              <p:cNvSpPr/>
              <p:nvPr/>
            </p:nvSpPr>
            <p:spPr>
              <a:xfrm>
                <a:off x="0" y="322344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322344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alpha( '&amp;' ) ? "&amp; is a " : "&amp; is not a ", "lett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0" y="3437280"/>
              <a:ext cx="6780960" cy="213480"/>
              <a:chOff x="0" y="3437280"/>
              <a:chExt cx="6780960" cy="21348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343728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343728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alpha( '4' ) ? "4 is a " :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0" y="3651120"/>
              <a:ext cx="6780960" cy="213480"/>
              <a:chOff x="0" y="3651120"/>
              <a:chExt cx="6780960" cy="213480"/>
            </a:xfrm>
          </p:grpSpPr>
          <p:sp>
            <p:nvSpPr>
              <p:cNvPr id="161" name=""/>
              <p:cNvSpPr/>
              <p:nvPr/>
            </p:nvSpPr>
            <p:spPr>
              <a:xfrm>
                <a:off x="0" y="36511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36511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4 is not a ", "letter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0" y="3864960"/>
              <a:ext cx="6780960" cy="213480"/>
              <a:chOff x="0" y="3864960"/>
              <a:chExt cx="6780960" cy="213480"/>
            </a:xfrm>
          </p:grpSpPr>
          <p:sp>
            <p:nvSpPr>
              <p:cNvPr id="164" name=""/>
              <p:cNvSpPr/>
              <p:nvPr/>
            </p:nvSpPr>
            <p:spPr>
              <a:xfrm>
                <a:off x="0" y="38649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38649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\n%s%s\n%s%s\n%s%s\n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0" y="4078440"/>
              <a:ext cx="6780960" cy="213840"/>
              <a:chOff x="0" y="4078440"/>
              <a:chExt cx="6780960" cy="21384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407844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407844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According to isalnum: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4292640"/>
              <a:ext cx="6780960" cy="213480"/>
              <a:chOff x="0" y="4292640"/>
              <a:chExt cx="6780960" cy="21348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429264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29264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alnum( 'A' ) ? "A is a " : "A is not a 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0" y="4506120"/>
              <a:ext cx="6780960" cy="213480"/>
              <a:chOff x="0" y="4506120"/>
              <a:chExt cx="6780960" cy="213480"/>
            </a:xfrm>
          </p:grpSpPr>
          <p:sp>
            <p:nvSpPr>
              <p:cNvPr id="173" name=""/>
              <p:cNvSpPr/>
              <p:nvPr/>
            </p:nvSpPr>
            <p:spPr>
              <a:xfrm>
                <a:off x="0" y="45061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45061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digit or a lett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0" y="4719960"/>
              <a:ext cx="6780960" cy="213480"/>
              <a:chOff x="0" y="4719960"/>
              <a:chExt cx="6780960" cy="213480"/>
            </a:xfrm>
          </p:grpSpPr>
          <p:sp>
            <p:nvSpPr>
              <p:cNvPr id="176" name=""/>
              <p:cNvSpPr/>
              <p:nvPr/>
            </p:nvSpPr>
            <p:spPr>
              <a:xfrm>
                <a:off x="0" y="47199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199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alnum( '8' ) ? "8 is a " : "8 is not a 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0" y="4933800"/>
              <a:ext cx="6780960" cy="213840"/>
              <a:chOff x="0" y="4933800"/>
              <a:chExt cx="6780960" cy="213840"/>
            </a:xfrm>
          </p:grpSpPr>
          <p:sp>
            <p:nvSpPr>
              <p:cNvPr id="179" name=""/>
              <p:cNvSpPr/>
              <p:nvPr/>
            </p:nvSpPr>
            <p:spPr>
              <a:xfrm>
                <a:off x="0" y="493380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93380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digit or a lett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0" y="5147640"/>
              <a:ext cx="6780960" cy="213480"/>
              <a:chOff x="0" y="5147640"/>
              <a:chExt cx="6780960" cy="213480"/>
            </a:xfrm>
          </p:grpSpPr>
          <p:sp>
            <p:nvSpPr>
              <p:cNvPr id="182" name=""/>
              <p:cNvSpPr/>
              <p:nvPr/>
            </p:nvSpPr>
            <p:spPr>
              <a:xfrm>
                <a:off x="0" y="514764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514764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alnum( '#' ) ? "# is a " : "# is not a 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0" y="5361480"/>
              <a:ext cx="6780960" cy="213480"/>
              <a:chOff x="0" y="5361480"/>
              <a:chExt cx="6780960" cy="213480"/>
            </a:xfrm>
          </p:grpSpPr>
          <p:sp>
            <p:nvSpPr>
              <p:cNvPr id="185" name=""/>
              <p:cNvSpPr/>
              <p:nvPr/>
            </p:nvSpPr>
            <p:spPr>
              <a:xfrm>
                <a:off x="0" y="536148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536148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digit or a letter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0" y="5575320"/>
              <a:ext cx="6780960" cy="213480"/>
              <a:chOff x="0" y="5575320"/>
              <a:chExt cx="6780960" cy="21348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55753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557532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printf( "%s\n%s%s\n%s%s\n%s%s\n%s%s\n%s%s\n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0" y="5789160"/>
              <a:ext cx="6780960" cy="213480"/>
              <a:chOff x="0" y="5789160"/>
              <a:chExt cx="6780960" cy="213480"/>
            </a:xfrm>
          </p:grpSpPr>
          <p:sp>
            <p:nvSpPr>
              <p:cNvPr id="191" name=""/>
              <p:cNvSpPr/>
              <p:nvPr/>
            </p:nvSpPr>
            <p:spPr>
              <a:xfrm>
                <a:off x="0" y="5789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5789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According to isxdigit: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0" y="6003000"/>
              <a:ext cx="6780960" cy="213840"/>
              <a:chOff x="0" y="6003000"/>
              <a:chExt cx="6780960" cy="213840"/>
            </a:xfrm>
          </p:grpSpPr>
          <p:sp>
            <p:nvSpPr>
              <p:cNvPr id="194" name=""/>
              <p:cNvSpPr/>
              <p:nvPr/>
            </p:nvSpPr>
            <p:spPr>
              <a:xfrm>
                <a:off x="0" y="600300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6003000"/>
                <a:ext cx="6780960" cy="213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xdigit( 'F' ) ? "F is a " : "F is not a 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0" y="6216840"/>
              <a:ext cx="6780960" cy="213480"/>
              <a:chOff x="0" y="6216840"/>
              <a:chExt cx="6780960" cy="2134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621684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621684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hexadecimal digit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0" y="6430680"/>
              <a:ext cx="6780960" cy="213480"/>
              <a:chOff x="0" y="6430680"/>
              <a:chExt cx="6780960" cy="213480"/>
            </a:xfrm>
          </p:grpSpPr>
          <p:sp>
            <p:nvSpPr>
              <p:cNvPr id="200" name=""/>
              <p:cNvSpPr/>
              <p:nvPr/>
            </p:nvSpPr>
            <p:spPr>
              <a:xfrm>
                <a:off x="0" y="643068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643068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xdigit( 'J' ) ? "J is a " : "J is not a 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0" y="6644160"/>
              <a:ext cx="6780960" cy="213480"/>
              <a:chOff x="0" y="6644160"/>
              <a:chExt cx="6780960" cy="213480"/>
            </a:xfrm>
          </p:grpSpPr>
          <p:sp>
            <p:nvSpPr>
              <p:cNvPr id="203" name=""/>
              <p:cNvSpPr/>
              <p:nvPr/>
            </p:nvSpPr>
            <p:spPr>
              <a:xfrm>
                <a:off x="0" y="6644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6644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hexadecimal digit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ECB33-4760-422D-B1CC-AECC28B0B8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0" y="0"/>
            <a:ext cx="6780960" cy="1980720"/>
            <a:chOff x="0" y="0"/>
            <a:chExt cx="6780960" cy="1980720"/>
          </a:xfrm>
        </p:grpSpPr>
        <p:grpSp>
          <p:nvGrpSpPr>
            <p:cNvPr id="207" name=""/>
            <p:cNvGrpSpPr/>
            <p:nvPr/>
          </p:nvGrpSpPr>
          <p:grpSpPr>
            <a:xfrm>
              <a:off x="0" y="0"/>
              <a:ext cx="6780960" cy="247320"/>
              <a:chOff x="0" y="0"/>
              <a:chExt cx="6780960" cy="24732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xdigit( '7' ) ? "7 is a " : "7 is not a 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0" y="247320"/>
              <a:ext cx="6780960" cy="247320"/>
              <a:chOff x="0" y="247320"/>
              <a:chExt cx="6780960" cy="24732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24732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4732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hexadecimal digit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0" y="495000"/>
              <a:ext cx="6780960" cy="247680"/>
              <a:chOff x="0" y="495000"/>
              <a:chExt cx="6780960" cy="24768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49500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49500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xdigit( '$' ) ? "$ is a " : "$ is not a 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742680"/>
              <a:ext cx="6780960" cy="247320"/>
              <a:chOff x="0" y="742680"/>
              <a:chExt cx="6780960" cy="24732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74268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74268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hexadecimal digit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990360"/>
              <a:ext cx="6780960" cy="247320"/>
              <a:chOff x="0" y="990360"/>
              <a:chExt cx="6780960" cy="24732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99036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99036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isxdigit( 'f' ) ? "f is a " : "f is not a "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1238040"/>
              <a:ext cx="6780960" cy="247320"/>
              <a:chOff x="0" y="1238040"/>
              <a:chExt cx="6780960" cy="24732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123804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123804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"hexadecimal digit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1485720"/>
              <a:ext cx="6780960" cy="247680"/>
              <a:chOff x="0" y="1485720"/>
              <a:chExt cx="6780960" cy="24768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148572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85720"/>
                <a:ext cx="6780960" cy="247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0" y="1733400"/>
              <a:ext cx="6780960" cy="247320"/>
              <a:chOff x="0" y="1733400"/>
              <a:chExt cx="6780960" cy="247320"/>
            </a:xfrm>
          </p:grpSpPr>
          <p:sp>
            <p:nvSpPr>
              <p:cNvPr id="229" name=""/>
              <p:cNvSpPr/>
              <p:nvPr/>
            </p:nvSpPr>
            <p:spPr>
              <a:xfrm>
                <a:off x="0" y="173340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733400"/>
                <a:ext cx="6780960" cy="247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>
            <a:off x="0" y="2133720"/>
            <a:ext cx="6781680" cy="4109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ording to isdigi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is a dig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 is not a dig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ording to isalph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is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 is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amp; is not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 is not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ording to isaln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 is a digit or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 is a digit or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 is not a digit or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ording to isxdigi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is a hexadecimal dig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 is not a hexadecimal dig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is a hexadecimal dig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 is not a hexadecimal dig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 is a hexadecimal dig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64D9B-62B2-4B9D-BF67-3F1130CF56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8.4   String Conversion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dlib.h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general utilities librar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strings of digits to integer and floating-poin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80880" y="3056040"/>
          <a:ext cx="8377200" cy="40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56040"/>
                    <a:ext cx="8377200" cy="40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8E3A-024F-461C-A6CE-E0A9E2831E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20:19:05Z</dcterms:created>
  <dc:creator>kalid</dc:creator>
  <dc:description/>
  <dc:language>en-US</dc:language>
  <cp:lastModifiedBy>Matty</cp:lastModifiedBy>
  <dcterms:modified xsi:type="dcterms:W3CDTF">2000-12-22T19:20:50Z</dcterms:modified>
  <cp:revision>110</cp:revision>
  <dc:subject/>
  <dc:title>Chapter 8 - Characters and Strings</dc:title>
</cp:coreProperties>
</file>