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9000-FA75-4F37-9703-F0EA04646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CE07-B2D1-483C-AEFB-AEAF8C5E7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ED61-61EE-4B9D-B08D-EA99BC744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C19E-E619-4359-A1A9-DA2CB708F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B29B-C760-4378-90A9-00B419E145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1FD8-C86B-4C0E-9999-A602A89208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7840-14AA-48C1-AA0A-B17AAAE750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9F35-21B3-4CFA-8866-89FF1880D8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E140-952F-4B8A-874B-7FD054A88E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8A2B-F875-4B18-910D-6854C341F1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0877-7544-4939-AA66-7A91FB9D1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8767-4F16-441C-9876-90AB3CFF8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1FFA-34DB-4B05-96DA-1D3B9A81C3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CB03-57E1-488B-9170-87AF7672F2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1C9E-1B2F-40C3-960D-138B59EA00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9332-F9FA-4826-86CD-983DFE40A6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E3A8-FB1D-4EA1-80CF-7FC16EB7B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2888-7D71-4839-BA23-22CE21D64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398C-0729-4BFD-9D33-9752C36A1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A005-A02B-4C14-B08D-1D774218D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258E-B281-4B76-A818-BEF795F2C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22DB-78C4-4534-93A1-AC2721393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49A3-DD62-4396-A8C6-0D61679B2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A28E-5200-44ED-BEEB-815D55764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AB72-89EA-4093-9800-44F1CE940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D87E-4FC1-41ED-9119-3C51D10C5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0 - Structures, Unions, Bit Manipulations, and Enumera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Structures with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ype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High-Performance Card Shuffling and Dealing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itwis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i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umeration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EC3A-EF77-492B-BB13-441936C807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Example: High-Performance Card-shuffling and Dealing Simul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 array of card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ards in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e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 the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7AB8-2451-4F37-AC5F-2FD749E2B5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ck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it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116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3: fig10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The card shuffling and dealing program using structure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ype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llDeck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rd deck[ 52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[] = { "Ace", "Deuce", "Three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Four", "Fiv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Six", "Seven", "Eight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Nine", "Te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Jack", "Queen", "King"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[] = { "Hearts", "Diamonds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Clubs", "Spades"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NULL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B8BB-BBC4-49D3-BCD1-CA1F3C2E8C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De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208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lDeck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al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llDeck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wFace[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.face = wFace[ i % 13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.suit = wSuit[ i / 13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rd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j = rand() % 5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emp = wDeck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 = wDeck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j ]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657240" y="1908000"/>
            <a:ext cx="4038840" cy="911520"/>
            <a:chOff x="3657240" y="1908000"/>
            <a:chExt cx="4038840" cy="911520"/>
          </a:xfrm>
        </p:grpSpPr>
        <p:sp>
          <p:nvSpPr>
            <p:cNvPr id="299" name=""/>
            <p:cNvSpPr/>
            <p:nvPr/>
          </p:nvSpPr>
          <p:spPr>
            <a:xfrm>
              <a:off x="4800600" y="19080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all 52 cards in the deck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ermined by remainder (modulu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657240" y="2362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90920" y="5333760"/>
            <a:ext cx="5104800" cy="676440"/>
            <a:chOff x="2590920" y="5333760"/>
            <a:chExt cx="5104800" cy="676440"/>
          </a:xfrm>
        </p:grpSpPr>
        <p:sp>
          <p:nvSpPr>
            <p:cNvPr id="302" name=""/>
            <p:cNvSpPr/>
            <p:nvPr/>
          </p:nvSpPr>
          <p:spPr>
            <a:xfrm>
              <a:off x="3809880" y="5429520"/>
              <a:ext cx="388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 random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Swap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at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90920" y="533376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125C-20AC-4126-AB5A-6CBA09D99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306" name=""/>
            <p:cNvGrpSpPr/>
            <p:nvPr/>
          </p:nvGrpSpPr>
          <p:grpSpPr>
            <a:xfrm>
              <a:off x="0" y="0"/>
              <a:ext cx="6780960" cy="258840"/>
              <a:chOff x="0" y="0"/>
              <a:chExt cx="6780960" cy="25884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258840"/>
              <a:ext cx="6780960" cy="258840"/>
              <a:chOff x="0" y="258840"/>
              <a:chExt cx="6780960" cy="25884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518040"/>
              <a:ext cx="6780960" cy="259200"/>
              <a:chOff x="0" y="518040"/>
              <a:chExt cx="6780960" cy="2592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777240"/>
              <a:ext cx="6780960" cy="258840"/>
              <a:chOff x="0" y="777240"/>
              <a:chExt cx="6780960" cy="2588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1036440"/>
              <a:ext cx="6780960" cy="258840"/>
              <a:chOff x="0" y="1036440"/>
              <a:chExt cx="6780960" cy="25884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10364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10364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1295280"/>
              <a:ext cx="6780960" cy="258840"/>
              <a:chOff x="0" y="1295280"/>
              <a:chExt cx="6780960" cy="25884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1554480"/>
              <a:ext cx="6780960" cy="259200"/>
              <a:chOff x="0" y="1554480"/>
              <a:chExt cx="6780960" cy="2592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15544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15544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s of %-8s%c", wDeck[ i ].fac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813680"/>
              <a:ext cx="6780960" cy="258840"/>
              <a:chOff x="0" y="1813680"/>
              <a:chExt cx="6780960" cy="2588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8136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8136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wDeck[ i ].sui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2072880"/>
              <a:ext cx="6780960" cy="258840"/>
              <a:chOff x="0" y="2072880"/>
              <a:chExt cx="6780960" cy="25884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0728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728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( i + 1 ) % 2 ? '\t' :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2331720"/>
              <a:ext cx="6780960" cy="258840"/>
              <a:chOff x="0" y="2331720"/>
              <a:chExt cx="6780960" cy="25884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23317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3317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4724280" y="781200"/>
            <a:ext cx="4114440" cy="1428120"/>
            <a:chOff x="4724280" y="781200"/>
            <a:chExt cx="4114440" cy="1428120"/>
          </a:xfrm>
        </p:grpSpPr>
        <p:sp>
          <p:nvSpPr>
            <p:cNvPr id="337" name=""/>
            <p:cNvSpPr/>
            <p:nvPr/>
          </p:nvSpPr>
          <p:spPr>
            <a:xfrm>
              <a:off x="6049080" y="781200"/>
              <a:ext cx="2789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ycle through array and print ou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212440" y="1142640"/>
              <a:ext cx="836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724280" y="1142640"/>
              <a:ext cx="1324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913C-2182-4DF9-96F9-20BB10D34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6781680" cy="502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Diamonds         Ac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Clubs           Fiv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ven of Hearts         Deu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Clubs            T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Spades           Six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ven of Spade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  T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Hearts          Jack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Clubs           Nin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Hearts         Deuc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Clubs 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Heart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Diamonds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Spades          Fiv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Spades          Four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Spades  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Diamonds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Spades          Nin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Clubs           Fiv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Spades          Four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Hearts         Eight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Spades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Clubs          Que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59A8-128E-441D-8986-51BD765974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hat contains a variety of objects over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contains one data member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ar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rves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last data member defined can be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 Nu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 Number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64A9-7E8A-4DF2-A0B0-2CD8B705F6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same type: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union memb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using poin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9225-3ED9-4C56-9197-BD0ED2761B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un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80960" cy="234000"/>
              <a:chOff x="0" y="0"/>
              <a:chExt cx="6780960" cy="2340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5: fig10_0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34000"/>
              <a:ext cx="6780960" cy="234000"/>
              <a:chOff x="0" y="234000"/>
              <a:chExt cx="6780960" cy="2340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An example of a un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68000"/>
              <a:ext cx="6780960" cy="234000"/>
              <a:chOff x="0" y="468000"/>
              <a:chExt cx="6780960" cy="2340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702000"/>
              <a:ext cx="6780960" cy="234000"/>
              <a:chOff x="0" y="702000"/>
              <a:chExt cx="6780960" cy="2340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936000"/>
              <a:ext cx="6780960" cy="234000"/>
              <a:chOff x="0" y="936000"/>
              <a:chExt cx="6780960" cy="23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io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170000"/>
              <a:ext cx="6780960" cy="234000"/>
              <a:chOff x="0" y="1170000"/>
              <a:chExt cx="6780960" cy="2340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404000"/>
              <a:ext cx="6780960" cy="234000"/>
              <a:chOff x="0" y="1404000"/>
              <a:chExt cx="6780960" cy="2340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638360"/>
              <a:ext cx="6780960" cy="234000"/>
              <a:chOff x="0" y="1638360"/>
              <a:chExt cx="6780960" cy="2340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872360"/>
              <a:ext cx="6780960" cy="234000"/>
              <a:chOff x="0" y="1872360"/>
              <a:chExt cx="6780960" cy="2340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106360"/>
              <a:ext cx="6780960" cy="234000"/>
              <a:chOff x="0" y="2106360"/>
              <a:chExt cx="6780960" cy="2340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340360"/>
              <a:ext cx="6780960" cy="234000"/>
              <a:chOff x="0" y="2340360"/>
              <a:chExt cx="6780960" cy="2340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574360"/>
              <a:ext cx="6780960" cy="234000"/>
              <a:chOff x="0" y="2574360"/>
              <a:chExt cx="6780960" cy="2340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io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808360"/>
              <a:ext cx="6780960" cy="234000"/>
              <a:chOff x="0" y="2808360"/>
              <a:chExt cx="6780960" cy="2340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3042360"/>
              <a:ext cx="6780960" cy="234000"/>
              <a:chOff x="0" y="3042360"/>
              <a:chExt cx="6780960" cy="2340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x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276360"/>
              <a:ext cx="6780960" cy="234000"/>
              <a:chOff x="0" y="3276360"/>
              <a:chExt cx="6780960" cy="2340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%d\n%s%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510720"/>
              <a:ext cx="6780960" cy="234000"/>
              <a:chOff x="0" y="3510720"/>
              <a:chExt cx="6780960" cy="2340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Put a value in the integer mem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744720"/>
              <a:ext cx="6780960" cy="234000"/>
              <a:chOff x="0" y="3744720"/>
              <a:chExt cx="6780960" cy="2340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and print both members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978720"/>
              <a:ext cx="6780960" cy="234000"/>
              <a:chOff x="0" y="3978720"/>
              <a:chExt cx="6780960" cy="2340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int:   ", value.x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4212720"/>
              <a:ext cx="6780960" cy="234000"/>
              <a:chOff x="0" y="4212720"/>
              <a:chExt cx="6780960" cy="2340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double:\n", value.y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446720"/>
              <a:ext cx="6780960" cy="234000"/>
              <a:chOff x="0" y="4446720"/>
              <a:chExt cx="6780960" cy="2340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680720"/>
              <a:ext cx="6780960" cy="234000"/>
              <a:chOff x="0" y="4680720"/>
              <a:chExt cx="6780960" cy="2340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y = 100.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914720"/>
              <a:ext cx="6780960" cy="234000"/>
              <a:chOff x="0" y="4914720"/>
              <a:chExt cx="6780960" cy="234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%d\n%s%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5148720"/>
              <a:ext cx="6780960" cy="234000"/>
              <a:chOff x="0" y="5148720"/>
              <a:chExt cx="6780960" cy="2340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Put a value in the floating mem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5382720"/>
              <a:ext cx="6780960" cy="234000"/>
              <a:chOff x="0" y="5382720"/>
              <a:chExt cx="6780960" cy="2340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and print both members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617080"/>
              <a:ext cx="6780960" cy="234000"/>
              <a:chOff x="0" y="5617080"/>
              <a:chExt cx="6780960" cy="2340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int:   ", value.x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851080"/>
              <a:ext cx="6780960" cy="234000"/>
              <a:chOff x="0" y="5851080"/>
              <a:chExt cx="6780960" cy="2340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double:\n", value.y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6085080"/>
              <a:ext cx="6780960" cy="234000"/>
              <a:chOff x="0" y="6085080"/>
              <a:chExt cx="6780960" cy="2340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6319080"/>
              <a:ext cx="6780960" cy="234000"/>
              <a:chOff x="0" y="6319080"/>
              <a:chExt cx="6780960" cy="2340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13A8-4E9E-414A-A866-1E4AEDC0D9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 a value in the integer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: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2559592117433136000000000000000000000000000000000000000000000.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 a value in the floating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: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5D64-3646-4664-B8BF-C4C6D1A88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 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represented internally as sequences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bit can be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of 8 bits forms a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09480" y="2514600"/>
          <a:ext cx="7848720" cy="3500280"/>
        </p:xfrm>
        <a:graphic>
          <a:graphicData uri="http://schemas.openxmlformats.org/drawingml/2006/table">
            <a:tbl>
              <a:tblPr/>
              <a:tblGrid>
                <a:gridCol w="1295640"/>
                <a:gridCol w="2133360"/>
                <a:gridCol w="4419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the corresponding bits in the two operands are bo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at least one of the corresponding bits in the two operands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exactly one of the corresponding bits in the two operands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fts the bits of the first operand left by the number of bits specified by the second operand; fill from right wi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fts the bits of the first operand right by the number of bits specified by the second operand; the method of filling from the left is machine depend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’s 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DCDE-E2BE-4EDD-950C-1D38EEB28B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s of related variables (aggregates) under on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in variables of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define records to be stored in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d with pointers, can create linked lists, stacks, queues,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508F-0DBF-4960-8A73-6881C68F5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439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9: fig10_0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Using the bitwise AND, bitwise inclusive OR, bit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exclusive OR and bitwise complement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splayBit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1, number2, mask, setBi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6553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ask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mas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AND operator &amp;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&amp; mas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1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Bits = 24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setBit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inclusive OR operator |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| setBit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13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2 = 1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DBB4-792B-4A29-8CD2-865DE91B8C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0" y="0"/>
            <a:ext cx="6780960" cy="6476760"/>
            <a:chOff x="0" y="0"/>
            <a:chExt cx="6780960" cy="6476760"/>
          </a:xfrm>
        </p:grpSpPr>
        <p:grpSp>
          <p:nvGrpSpPr>
            <p:cNvPr id="531" name=""/>
            <p:cNvGrpSpPr/>
            <p:nvPr/>
          </p:nvGrpSpPr>
          <p:grpSpPr>
            <a:xfrm>
              <a:off x="0" y="0"/>
              <a:ext cx="6780960" cy="215640"/>
              <a:chOff x="0" y="0"/>
              <a:chExt cx="6780960" cy="21564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215640"/>
              <a:ext cx="6780960" cy="215640"/>
              <a:chOff x="0" y="215640"/>
              <a:chExt cx="6780960" cy="21564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215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15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31640"/>
              <a:ext cx="6780960" cy="216000"/>
              <a:chOff x="0" y="431640"/>
              <a:chExt cx="6780960" cy="21600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316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316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exclusive OR operator ^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647640"/>
              <a:ext cx="6780960" cy="215640"/>
              <a:chOff x="0" y="647640"/>
              <a:chExt cx="6780960" cy="21564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647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647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^ number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863640"/>
              <a:ext cx="6780960" cy="215640"/>
              <a:chOff x="0" y="863640"/>
              <a:chExt cx="6780960" cy="21564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863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863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1079280"/>
              <a:ext cx="6780960" cy="215640"/>
              <a:chOff x="0" y="1079280"/>
              <a:chExt cx="6780960" cy="21564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1079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1079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218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1295280"/>
              <a:ext cx="6780960" cy="216000"/>
              <a:chOff x="0" y="1295280"/>
              <a:chExt cx="6780960" cy="21600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12952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12952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one's complement of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1511280"/>
              <a:ext cx="6780960" cy="215640"/>
              <a:chOff x="0" y="1511280"/>
              <a:chExt cx="6780960" cy="21564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1511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1511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1727280"/>
              <a:ext cx="6780960" cy="215640"/>
              <a:chOff x="0" y="1727280"/>
              <a:chExt cx="6780960" cy="21564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1727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727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1942920"/>
              <a:ext cx="6780960" cy="215640"/>
              <a:chOff x="0" y="1942920"/>
              <a:chExt cx="6780960" cy="21564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1942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942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~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2158920"/>
              <a:ext cx="6780960" cy="216000"/>
              <a:chOff x="0" y="2158920"/>
              <a:chExt cx="6780960" cy="21600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215892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215892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2374920"/>
              <a:ext cx="6780960" cy="215640"/>
              <a:chOff x="0" y="2374920"/>
              <a:chExt cx="6780960" cy="21564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2374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374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590920"/>
              <a:ext cx="6780960" cy="215640"/>
              <a:chOff x="0" y="2590920"/>
              <a:chExt cx="6780960" cy="21564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590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590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2806560"/>
              <a:ext cx="6780960" cy="215640"/>
              <a:chOff x="0" y="2806560"/>
              <a:chExt cx="6780960" cy="21564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2806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806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3022560"/>
              <a:ext cx="6780960" cy="216000"/>
              <a:chOff x="0" y="3022560"/>
              <a:chExt cx="6780960" cy="21600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302256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302256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splayBit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3238560"/>
              <a:ext cx="6780960" cy="215640"/>
              <a:chOff x="0" y="3238560"/>
              <a:chExt cx="6780960" cy="21564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3238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3238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3454560"/>
              <a:ext cx="6780960" cy="215640"/>
              <a:chOff x="0" y="3454560"/>
              <a:chExt cx="6780960" cy="21564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3454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454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displayMask = 1 &lt;&lt; 3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3670200"/>
              <a:ext cx="6780960" cy="215640"/>
              <a:chOff x="0" y="3670200"/>
              <a:chExt cx="6780960" cy="21564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3670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670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3886200"/>
              <a:ext cx="6780960" cy="215640"/>
              <a:chOff x="0" y="3886200"/>
              <a:chExt cx="6780960" cy="2156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3886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3886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7u = ", valu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4102200"/>
              <a:ext cx="6780960" cy="216000"/>
              <a:chOff x="0" y="4102200"/>
              <a:chExt cx="6780960" cy="21600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410220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410220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4318200"/>
              <a:ext cx="6780960" cy="215640"/>
              <a:chOff x="0" y="4318200"/>
              <a:chExt cx="6780960" cy="21564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4318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4318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 = 1; c &lt;= 32; c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4533840"/>
              <a:ext cx="6780960" cy="215640"/>
              <a:chOff x="0" y="4533840"/>
              <a:chExt cx="6780960" cy="2156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4533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533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value &amp; displayMask ? '1' : '0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4749840"/>
              <a:ext cx="6780960" cy="215640"/>
              <a:chOff x="0" y="4749840"/>
              <a:chExt cx="6780960" cy="21564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4749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4749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 &lt;&lt;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4965840"/>
              <a:ext cx="6780960" cy="216000"/>
              <a:chOff x="0" y="4965840"/>
              <a:chExt cx="6780960" cy="2160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49658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49658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5181840"/>
              <a:ext cx="6780960" cy="215640"/>
              <a:chOff x="0" y="5181840"/>
              <a:chExt cx="678096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5181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5181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 % 8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5397480"/>
              <a:ext cx="6780960" cy="215640"/>
              <a:chOff x="0" y="5397480"/>
              <a:chExt cx="6780960" cy="21564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5397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97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utchar( ' 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5613480"/>
              <a:ext cx="6780960" cy="215640"/>
              <a:chOff x="0" y="5613480"/>
              <a:chExt cx="6780960" cy="21564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5613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5613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5829480"/>
              <a:ext cx="6780960" cy="216000"/>
              <a:chOff x="0" y="5829480"/>
              <a:chExt cx="6780960" cy="2160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58294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58294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6045480"/>
              <a:ext cx="6780960" cy="215640"/>
              <a:chOff x="0" y="6045480"/>
              <a:chExt cx="6780960" cy="21564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6045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045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tchar(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6261120"/>
              <a:ext cx="6780960" cy="215640"/>
              <a:chOff x="0" y="6261120"/>
              <a:chExt cx="6780960" cy="21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62611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62611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3885840" y="3352680"/>
            <a:ext cx="5029560" cy="707760"/>
            <a:chOff x="3885840" y="3352680"/>
            <a:chExt cx="5029560" cy="707760"/>
          </a:xfrm>
        </p:grpSpPr>
        <p:sp>
          <p:nvSpPr>
            <p:cNvPr id="622" name=""/>
            <p:cNvSpPr/>
            <p:nvPr/>
          </p:nvSpPr>
          <p:spPr>
            <a:xfrm>
              <a:off x="4876560" y="3352680"/>
              <a:ext cx="4038840" cy="707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d with only one set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.e.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0000000 0000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885840" y="3581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819520" y="4800600"/>
            <a:ext cx="6095520" cy="1564920"/>
            <a:chOff x="2819520" y="4800600"/>
            <a:chExt cx="6095520" cy="1564920"/>
          </a:xfrm>
        </p:grpSpPr>
        <p:sp>
          <p:nvSpPr>
            <p:cNvPr id="625" name=""/>
            <p:cNvSpPr/>
            <p:nvPr/>
          </p:nvSpPr>
          <p:spPr>
            <a:xfrm>
              <a:off x="4876560" y="4800600"/>
              <a:ext cx="403848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onstant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ly contains one bit, so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rue it mea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have that bi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n shifted to test the next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819520" y="4876560"/>
              <a:ext cx="205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113A-CD08-4C69-99E6-A4F0B4495D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5535 = 00000000 00000000 11111111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AND operator &amp;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= 00000000 00000000 00000000 0000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41 = 00000000 00000000 00000000 1111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inclusive OR operator |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55 = 00000000 00000000 00000000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9 = 00000000 00000000 00000000 1000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9 = 00000000 00000000 00000000 1100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exclusive OR operator ^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6 = 00000000 00000000 00000000 01001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ne's compl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845 = 00000000 00000000 01010101 01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294945450 = 11111111 11111111 10101010 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2A2A-F855-4649-A932-CB4760150A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  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f a structure whose size (in bits) has been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better memory utiliz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ccess individual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bit fie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an integer constant representing the width of the 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Bit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face :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suit :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color :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C400-0382-465B-8BC4-D5E40FD4A6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 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amed bi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used as padding in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hing may be stored in the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  :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 bit field with zero width aligns next bit field to a new storage unit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534D-0AA9-4100-8C68-FBA6498A5C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1   Enumeration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 constants represented by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constants are like symbolic constants whose values are automatically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start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increment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can be set explicitly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unique constant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new type enum Months in which the identifiers are set to the intege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variables can only assume their enumeration constant values (not the integer represent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1005-4E8E-4AB6-918B-6FA085EBBB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enume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637" name=""/>
            <p:cNvGrpSpPr/>
            <p:nvPr/>
          </p:nvGrpSpPr>
          <p:grpSpPr>
            <a:xfrm>
              <a:off x="0" y="0"/>
              <a:ext cx="6780960" cy="243000"/>
              <a:chOff x="0" y="0"/>
              <a:chExt cx="6780960" cy="24300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18: fig10_1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43000"/>
              <a:ext cx="6780960" cy="243000"/>
              <a:chOff x="0" y="243000"/>
              <a:chExt cx="6780960" cy="24300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43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43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Using an enumeration 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486000"/>
              <a:ext cx="6780960" cy="243000"/>
              <a:chOff x="0" y="486000"/>
              <a:chExt cx="6780960" cy="24300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486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486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729360"/>
              <a:ext cx="6780960" cy="243000"/>
              <a:chOff x="0" y="729360"/>
              <a:chExt cx="6780960" cy="24300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729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729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972360"/>
              <a:ext cx="6780960" cy="243000"/>
              <a:chOff x="0" y="972360"/>
              <a:chExt cx="6780960" cy="24300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972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972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s { JAN = 1, FEB, MAR, APR, MAY, JUN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1215360"/>
              <a:ext cx="6780960" cy="243000"/>
              <a:chOff x="0" y="1215360"/>
              <a:chExt cx="6780960" cy="24300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215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1215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JUL, AUG, SEP, OCT, NOV, DEC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1458360"/>
              <a:ext cx="6780960" cy="243000"/>
              <a:chOff x="0" y="1458360"/>
              <a:chExt cx="6780960" cy="24300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1458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1458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1701720"/>
              <a:ext cx="6780960" cy="243000"/>
              <a:chOff x="0" y="1701720"/>
              <a:chExt cx="6780960" cy="24300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1701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701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1944720"/>
              <a:ext cx="6780960" cy="243000"/>
              <a:chOff x="0" y="1944720"/>
              <a:chExt cx="6780960" cy="24300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1944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1944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2188080"/>
              <a:ext cx="6780960" cy="243000"/>
              <a:chOff x="0" y="2188080"/>
              <a:chExt cx="6780960" cy="24300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2188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2188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s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2431080"/>
              <a:ext cx="6780960" cy="243000"/>
              <a:chOff x="0" y="2431080"/>
              <a:chExt cx="6780960" cy="24300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2431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2431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monthName[] = { "", "January", "Febr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2674440"/>
              <a:ext cx="6780960" cy="243000"/>
              <a:chOff x="0" y="2674440"/>
              <a:chExt cx="6780960" cy="24300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2674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2674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March", "April", "May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2917440"/>
              <a:ext cx="6780960" cy="243000"/>
              <a:chOff x="0" y="2917440"/>
              <a:chExt cx="6780960" cy="24300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2917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2917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June", "July", "August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3160440"/>
              <a:ext cx="6780960" cy="243000"/>
              <a:chOff x="0" y="3160440"/>
              <a:chExt cx="6780960" cy="24300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3160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3160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September", "October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0" y="3403440"/>
              <a:ext cx="6780960" cy="243000"/>
              <a:chOff x="0" y="3403440"/>
              <a:chExt cx="6780960" cy="243000"/>
            </a:xfrm>
          </p:grpSpPr>
          <p:sp>
            <p:nvSpPr>
              <p:cNvPr id="680" name=""/>
              <p:cNvSpPr/>
              <p:nvPr/>
            </p:nvSpPr>
            <p:spPr>
              <a:xfrm>
                <a:off x="0" y="3403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3403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0" y="3646800"/>
              <a:ext cx="6780960" cy="243000"/>
              <a:chOff x="0" y="3646800"/>
              <a:chExt cx="6780960" cy="243000"/>
            </a:xfrm>
          </p:grpSpPr>
          <p:sp>
            <p:nvSpPr>
              <p:cNvPr id="683" name=""/>
              <p:cNvSpPr/>
              <p:nvPr/>
            </p:nvSpPr>
            <p:spPr>
              <a:xfrm>
                <a:off x="0" y="3646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3646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0" y="3889800"/>
              <a:ext cx="6780960" cy="243000"/>
              <a:chOff x="0" y="3889800"/>
              <a:chExt cx="6780960" cy="24300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3889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3889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 JAN; month &lt;= DEC; mont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4133160"/>
              <a:ext cx="6780960" cy="243000"/>
              <a:chOff x="0" y="4133160"/>
              <a:chExt cx="6780960" cy="24300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4133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4133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2d%11s\n", month, monthName[ month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4376160"/>
              <a:ext cx="6780960" cy="243000"/>
              <a:chOff x="0" y="4376160"/>
              <a:chExt cx="6780960" cy="2430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4376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4376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4619160"/>
              <a:ext cx="6780960" cy="243000"/>
              <a:chOff x="0" y="4619160"/>
              <a:chExt cx="6780960" cy="2430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4619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4619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862520"/>
              <a:ext cx="6780960" cy="243000"/>
              <a:chOff x="0" y="4862520"/>
              <a:chExt cx="6780960" cy="243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8625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8625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F383-1E50-4A31-BC45-783C042251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Febr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Ap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Aug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Octo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Nov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Dec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99D7-60CF-4517-979F-879DC4E518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roduces the definition for structure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tructure name and is used to declare variables of the structure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two members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embers 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15CF-BB17-4203-9E26-79B1F5EFA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contain an instance of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ontain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tructure definition does not reserve space in memo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creates a new data type used to declare structu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like other variab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a comma separated lis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5612-DB20-4529-846D-61C366059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ing a structure to a structure of the same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the addr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a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the members of a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to determine the size of 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4B0C-4BFF-408E-8807-21DEE72D91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 Initializing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oneCard = { "Three", "Heart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threeHearts = one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also declare and initial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eeHear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threeHe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eHearts.face = “Thre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eHearts.suit = “Heart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BD19-5716-4C7B-9565-2B0C9DB7F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Accessing Members of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structur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sed with structu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my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", myCard.su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sed with pointers to structu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myCardPtr = &amp;my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", myCardPtr-&gt;su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CardPtr-&gt;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myCardPtr ).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CB87-14AF-4A62-9B7F-981400B83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Using Structures With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structure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entir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pass individua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ss call b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structures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its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reference to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rrays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structure with the array as a me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F63A-5DFB-44A0-A8B8-3DDBF6A7B8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ypede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ynonyms (aliases) for previously defin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reate shorter 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Card *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a new type 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a synonym for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 Car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create a new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reates an 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6DF9-A236-43CF-B006-E30650D0C5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7:58:37Z</dcterms:created>
  <dc:creator>kalid</dc:creator>
  <dc:description/>
  <dc:language>en-US</dc:language>
  <cp:lastModifiedBy>jason</cp:lastModifiedBy>
  <dcterms:modified xsi:type="dcterms:W3CDTF">2000-12-12T15:08:46Z</dcterms:modified>
  <cp:revision>131</cp:revision>
  <dc:subject/>
  <dc:title>Chapter 10 - Structures, Unions, Bit Manipulations, and Enumerations</dc:title>
</cp:coreProperties>
</file>