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2FBA-8ABE-4511-A3BA-139AB6ECB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4DAD-821C-4D27-A96C-FEA4589F0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92D6-BEB7-48BF-9A4D-931011315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A0BA-6357-4C22-86E5-DE4CCC0FB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DB5B-33ED-43AF-8728-C1C2966C4D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F24B-1C39-437F-9CD2-C3DF5BB122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41FE-595B-494D-9DC0-8F48230073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C256-1E5D-4AA9-AE19-83B3E470DF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E9C7-A81D-4172-9741-E56E2A8C53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DB19-2187-4752-B627-6C0EFA3EB9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ED82-37A7-4AC7-B7AF-67C245C454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B6A6-3A2F-4EDA-801D-EDB63E22A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E96B-0FC6-4EAE-BBC1-05CBD6450F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F968-E90B-48FA-AED5-A3577827A9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D75A-7C88-41DE-82F4-9D9350B15E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37CA-A6D8-4D15-B58D-89B717E52F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5096-6996-47A1-B253-3EA4F9233D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DA3E-2652-4F89-80BC-4984A3516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9DBE-AB33-45A8-9BC0-73539E532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D2BB-8337-40B2-A08E-0D5DAE727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8796-6413-4E4D-A445-C0D8CC3DB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57C5-3DBE-4D8E-9FD6-C732EACD0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6606-7D1A-42FB-AE5B-21E7F6BB6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73EE-7B04-4F64-93C6-A3AAF1F07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CDB-507B-47A1-A7A7-E7FC8E739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59B6-D218-46C3-84D0-4535C81B0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 – File Process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4678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vantGarde"/>
              </a:rPr>
              <a:t>Outline</a:t>
            </a:r>
            <a:br>
              <a:rPr sz="20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The Data Hierarch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Files and Stream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reating a Sequential Access File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Reading Data from a Sequential Access File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Updating Sequential Access Fil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Random Access Fil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reating a Random Access File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Writing Data Randomly to a Random Access File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1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Reading Data Sequentially from a Random Access File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1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ase Study: A Transaction Processing Program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1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Input/Output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8A11-A850-4E83-9771-01D287D089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  Creating a Sequential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file open mo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343160" y="1757520"/>
          <a:ext cx="6429240" cy="314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757520"/>
                    <a:ext cx="6429240" cy="31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2C7F-E7C2-4D49-8939-C4336684FF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point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Link the pointer to a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Write to file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68" name=""/>
            <p:cNvGrpSpPr/>
            <p:nvPr/>
          </p:nvGrpSpPr>
          <p:grpSpPr>
            <a:xfrm>
              <a:off x="0" y="0"/>
              <a:ext cx="6780960" cy="237600"/>
              <a:chOff x="0" y="0"/>
              <a:chExt cx="6780960" cy="23760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3: fig11_0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237600"/>
              <a:ext cx="6780960" cy="220320"/>
              <a:chOff x="0" y="237600"/>
              <a:chExt cx="6780960" cy="22032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237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237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reate a sequential fi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458280"/>
              <a:ext cx="6780960" cy="220680"/>
              <a:chOff x="0" y="458280"/>
              <a:chExt cx="6780960" cy="22068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4582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582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678960"/>
              <a:ext cx="6780960" cy="220320"/>
              <a:chOff x="0" y="678960"/>
              <a:chExt cx="6780960" cy="22032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6789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789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899640"/>
              <a:ext cx="6780960" cy="220320"/>
              <a:chOff x="0" y="899640"/>
              <a:chExt cx="6780960" cy="22032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899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899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1120320"/>
              <a:ext cx="6780960" cy="220320"/>
              <a:chOff x="0" y="1120320"/>
              <a:chExt cx="6780960" cy="22032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1120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1120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1341000"/>
              <a:ext cx="6780960" cy="220680"/>
              <a:chOff x="0" y="1341000"/>
              <a:chExt cx="6780960" cy="22068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13410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13410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1561680"/>
              <a:ext cx="6780960" cy="220320"/>
              <a:chOff x="0" y="1561680"/>
              <a:chExt cx="6780960" cy="22032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5616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15616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ame[ 3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1782360"/>
              <a:ext cx="6780960" cy="220320"/>
              <a:chOff x="0" y="1782360"/>
              <a:chExt cx="6780960" cy="22032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17823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17823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2003040"/>
              <a:ext cx="6780960" cy="220320"/>
              <a:chOff x="0" y="2003040"/>
              <a:chExt cx="6780960" cy="22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20030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0030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cfPtr = clients.dat file point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2223720"/>
              <a:ext cx="6780960" cy="220320"/>
              <a:chOff x="0" y="2223720"/>
              <a:chExt cx="6780960" cy="22032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22237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2237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2444400"/>
              <a:ext cx="6780960" cy="220680"/>
              <a:chOff x="0" y="2444400"/>
              <a:chExt cx="6780960" cy="22068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2444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44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lients.dat", "w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2665080"/>
              <a:ext cx="6780960" cy="220320"/>
              <a:chOff x="0" y="2665080"/>
              <a:chExt cx="6780960" cy="22032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6650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6650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2885760"/>
              <a:ext cx="6780960" cy="220320"/>
              <a:chOff x="0" y="2885760"/>
              <a:chExt cx="6780960" cy="22032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28857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8857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3106440"/>
              <a:ext cx="6780960" cy="220320"/>
              <a:chOff x="0" y="3106440"/>
              <a:chExt cx="6780960" cy="22032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31064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1064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the account, name, and balance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3327120"/>
              <a:ext cx="6780960" cy="220680"/>
              <a:chOff x="0" y="3327120"/>
              <a:chExt cx="6780960" cy="22068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33271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3271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EOF to end input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3547800"/>
              <a:ext cx="6780960" cy="220320"/>
              <a:chOff x="0" y="3547800"/>
              <a:chExt cx="6780960" cy="22032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35478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5478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3768480"/>
              <a:ext cx="6780960" cy="220320"/>
              <a:chOff x="0" y="3768480"/>
              <a:chExt cx="6780960" cy="22032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37684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7684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d%s%lf",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3989160"/>
              <a:ext cx="6780960" cy="220320"/>
              <a:chOff x="0" y="3989160"/>
              <a:chExt cx="6780960" cy="22032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39891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9891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4209840"/>
              <a:ext cx="6780960" cy="220680"/>
              <a:chOff x="0" y="4209840"/>
              <a:chExt cx="6780960" cy="22068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4209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4209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stdin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4430520"/>
              <a:ext cx="6780960" cy="220320"/>
              <a:chOff x="0" y="4430520"/>
              <a:chExt cx="6780960" cy="22032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44305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44305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printf( cfPtr, "%d %s %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4651200"/>
              <a:ext cx="6780960" cy="220320"/>
              <a:chOff x="0" y="4651200"/>
              <a:chExt cx="6780960" cy="22032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46512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46512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account, name, 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4871880"/>
              <a:ext cx="6780960" cy="220320"/>
              <a:chOff x="0" y="4871880"/>
              <a:chExt cx="6780960" cy="22032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48718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718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5092560"/>
              <a:ext cx="6780960" cy="220680"/>
              <a:chOff x="0" y="5092560"/>
              <a:chExt cx="6780960" cy="22068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5092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092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scanf( "%d%s%lf",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5313240"/>
              <a:ext cx="6780960" cy="220320"/>
              <a:chOff x="0" y="5313240"/>
              <a:chExt cx="6780960" cy="22032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53132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53132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5533920"/>
              <a:ext cx="6780960" cy="220320"/>
              <a:chOff x="0" y="5533920"/>
              <a:chExt cx="6780960" cy="22032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55339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5339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5754600"/>
              <a:ext cx="6780960" cy="220320"/>
              <a:chOff x="0" y="5754600"/>
              <a:chExt cx="6780960" cy="22032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5754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5754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5975280"/>
              <a:ext cx="6780960" cy="220320"/>
              <a:chOff x="0" y="5975280"/>
              <a:chExt cx="6780960" cy="22032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59752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9752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6195960"/>
              <a:ext cx="6780960" cy="220680"/>
              <a:chOff x="0" y="6195960"/>
              <a:chExt cx="6780960" cy="22068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61959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1959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6416640"/>
              <a:ext cx="6780960" cy="220320"/>
              <a:chOff x="0" y="6416640"/>
              <a:chExt cx="6780960" cy="22032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6416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6416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6637320"/>
              <a:ext cx="6780960" cy="220320"/>
              <a:chOff x="0" y="6637320"/>
              <a:chExt cx="6780960" cy="22032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6637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6637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3FBE-90C2-40D4-A5E4-07E820E39B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678168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account, name, and bal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EOF to end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100 Jones 2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200 Doe 345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300 White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400 Stone -42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500 Rich 224.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5654-DD11-4D75-A0C9-D682ED27B2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5   Reading Data from a Sequential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 sequential access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, link it to the file to r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tr = fopen( "myFile.dat", "r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scan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read from th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xcept first argument i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scanf( myPtr, "%d%s%f", &amp;myInt, &amp;myString, &amp;myFloa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read from beginning to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posi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number of next byte to be read /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really a pointer, but an integer value (specifies byte lo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called byte 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wind( myPtr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sitions file position pointer to beginning of file (by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0E81-15ED-469B-B196-D75F30F916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Link pointer to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Read data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scanf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0"/>
            <a:ext cx="6780960" cy="5410080"/>
            <a:chOff x="0" y="0"/>
            <a:chExt cx="6780960" cy="5410080"/>
          </a:xfrm>
        </p:grpSpPr>
        <p:grpSp>
          <p:nvGrpSpPr>
            <p:cNvPr id="267" name=""/>
            <p:cNvGrpSpPr/>
            <p:nvPr/>
          </p:nvGrpSpPr>
          <p:grpSpPr>
            <a:xfrm>
              <a:off x="0" y="0"/>
              <a:ext cx="6780960" cy="200160"/>
              <a:chOff x="0" y="0"/>
              <a:chExt cx="6780960" cy="20016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7: fig11_07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200160"/>
              <a:ext cx="6780960" cy="200160"/>
              <a:chOff x="0" y="200160"/>
              <a:chExt cx="6780960" cy="20016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Reading and printing a sequential fi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400680"/>
              <a:ext cx="6780960" cy="200160"/>
              <a:chOff x="0" y="400680"/>
              <a:chExt cx="6780960" cy="20016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600840"/>
              <a:ext cx="6780960" cy="200160"/>
              <a:chOff x="0" y="600840"/>
              <a:chExt cx="6780960" cy="20016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801360"/>
              <a:ext cx="6780960" cy="200160"/>
              <a:chOff x="0" y="801360"/>
              <a:chExt cx="6780960" cy="20016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1001880"/>
              <a:ext cx="6780960" cy="200160"/>
              <a:chOff x="0" y="1001880"/>
              <a:chExt cx="6780960" cy="20016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1202040"/>
              <a:ext cx="6780960" cy="200160"/>
              <a:chOff x="0" y="1202040"/>
              <a:chExt cx="6780960" cy="20016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1402560"/>
              <a:ext cx="6780960" cy="200160"/>
              <a:chOff x="0" y="1402560"/>
              <a:chExt cx="6780960" cy="20016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ame[ 3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1603080"/>
              <a:ext cx="6780960" cy="200160"/>
              <a:chOff x="0" y="1603080"/>
              <a:chExt cx="6780960" cy="20016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1803240"/>
              <a:ext cx="6780960" cy="200160"/>
              <a:chOff x="0" y="1803240"/>
              <a:chExt cx="6780960" cy="20016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cfPtr = clients.dat file point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2003760"/>
              <a:ext cx="6780960" cy="200160"/>
              <a:chOff x="0" y="2003760"/>
              <a:chExt cx="6780960" cy="20016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2203920"/>
              <a:ext cx="6780960" cy="200160"/>
              <a:chOff x="0" y="2203920"/>
              <a:chExt cx="6780960" cy="20016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lients.dat", "r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2404440"/>
              <a:ext cx="6780960" cy="200160"/>
              <a:chOff x="0" y="2404440"/>
              <a:chExt cx="6780960" cy="20016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2604960"/>
              <a:ext cx="6780960" cy="200160"/>
              <a:chOff x="0" y="2604960"/>
              <a:chExt cx="6780960" cy="20016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2805120"/>
              <a:ext cx="6780960" cy="200160"/>
              <a:chOff x="0" y="2805120"/>
              <a:chExt cx="6780960" cy="20016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-10s%-13s%s\n", "Account", "Name", "Balance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3005640"/>
              <a:ext cx="6780960" cy="200160"/>
              <a:chOff x="0" y="3005640"/>
              <a:chExt cx="6780960" cy="20016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scanf( cfPtr, "%d%s%lf",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3206160"/>
              <a:ext cx="6780960" cy="200160"/>
              <a:chOff x="0" y="3206160"/>
              <a:chExt cx="6780960" cy="20016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3406320"/>
              <a:ext cx="6780960" cy="200160"/>
              <a:chOff x="0" y="3406320"/>
              <a:chExt cx="6780960" cy="20016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cf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3606840"/>
              <a:ext cx="6780960" cy="200160"/>
              <a:chOff x="0" y="3606840"/>
              <a:chExt cx="6780960" cy="20016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%-10d%-13s%7.2f\n", account, name, 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3807000"/>
              <a:ext cx="6780960" cy="200160"/>
              <a:chOff x="0" y="3807000"/>
              <a:chExt cx="6780960" cy="20016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scanf( cfPtr, "%d%s%lf",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007520"/>
              <a:ext cx="6780960" cy="200160"/>
              <a:chOff x="0" y="4007520"/>
              <a:chExt cx="6780960" cy="20016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4208040"/>
              <a:ext cx="6780960" cy="200160"/>
              <a:chOff x="0" y="4208040"/>
              <a:chExt cx="6780960" cy="20016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4408200"/>
              <a:ext cx="6780960" cy="200160"/>
              <a:chOff x="0" y="4408200"/>
              <a:chExt cx="6780960" cy="20016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4608720"/>
              <a:ext cx="6780960" cy="200160"/>
              <a:chOff x="0" y="4608720"/>
              <a:chExt cx="6780960" cy="20016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4809240"/>
              <a:ext cx="6780960" cy="200160"/>
              <a:chOff x="0" y="4809240"/>
              <a:chExt cx="6780960" cy="20016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5009400"/>
              <a:ext cx="6780960" cy="200160"/>
              <a:chOff x="0" y="5009400"/>
              <a:chExt cx="6780960" cy="20016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5209920"/>
              <a:ext cx="6780960" cy="200160"/>
              <a:chOff x="0" y="5209920"/>
              <a:chExt cx="6780960" cy="20016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0" y="541008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unt   Name     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       Jones          2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0       Doe           345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00       White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00       Stone         -42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Rich          224.6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6C10-282F-430A-BD40-6E1636B57B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Open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put choi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can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5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8: fig11_08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redit inquiry progr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quest, ac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ame[ 3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lients.dat", "r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reques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 1 - List accounts with zero balances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 2 - List accounts with credit balances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 3 - List accounts with debit balances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 4 - End of run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d", &amp;reque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quest != 4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scanf( cfPtr, "%d%s%lf", &amp;account, 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quest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printf( "\nAccounts with zer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"balances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cf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E3FE-AC3F-4820-A6CD-5AE0499D2F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can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49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balance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printf( "%-10d%-13s%7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account, name, 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fscanf( cfPtr, "%d%s%lf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printf( "\nAccounts with credit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"balances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cf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balance &lt;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printf( "%-10d%-13s%7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account, name, 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fscanf( cfPtr, "%d%s%lf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printf( "\nAccounts with debit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"balances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cf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balance &gt;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printf( "%-10d%-13s%7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9201-D6C7-48F6-AE05-94C2385F82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0" y="0"/>
            <a:ext cx="6780960" cy="4419720"/>
            <a:chOff x="0" y="0"/>
            <a:chExt cx="6780960" cy="4419720"/>
          </a:xfrm>
        </p:grpSpPr>
        <p:grpSp>
          <p:nvGrpSpPr>
            <p:cNvPr id="547" name=""/>
            <p:cNvGrpSpPr/>
            <p:nvPr/>
          </p:nvGrpSpPr>
          <p:grpSpPr>
            <a:xfrm>
              <a:off x="0" y="0"/>
              <a:ext cx="6780960" cy="220680"/>
              <a:chOff x="0" y="0"/>
              <a:chExt cx="6780960" cy="22068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account, name, 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220680"/>
              <a:ext cx="6780960" cy="220680"/>
              <a:chOff x="0" y="220680"/>
              <a:chExt cx="6780960" cy="22068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441720"/>
              <a:ext cx="6780960" cy="221040"/>
              <a:chOff x="0" y="441720"/>
              <a:chExt cx="6780960" cy="22104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fscanf( cfPtr, "%d%s%lf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662760"/>
              <a:ext cx="6780960" cy="220680"/>
              <a:chOff x="0" y="662760"/>
              <a:chExt cx="6780960" cy="22068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883800"/>
              <a:ext cx="6780960" cy="220680"/>
              <a:chOff x="0" y="883800"/>
              <a:chExt cx="6780960" cy="22068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1104840"/>
              <a:ext cx="6780960" cy="220680"/>
              <a:chOff x="0" y="1104840"/>
              <a:chExt cx="6780960" cy="22068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1325880"/>
              <a:ext cx="6780960" cy="221040"/>
              <a:chOff x="0" y="1325880"/>
              <a:chExt cx="6780960" cy="22104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1325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1325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1546920"/>
              <a:ext cx="6780960" cy="220680"/>
              <a:chOff x="0" y="1546920"/>
              <a:chExt cx="6780960" cy="22068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1767960"/>
              <a:ext cx="6780960" cy="220680"/>
              <a:chOff x="0" y="1767960"/>
              <a:chExt cx="6780960" cy="22068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7679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7679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1988640"/>
              <a:ext cx="6780960" cy="220680"/>
              <a:chOff x="0" y="1988640"/>
              <a:chExt cx="6780960" cy="22068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rewind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2209680"/>
              <a:ext cx="6780960" cy="221040"/>
              <a:chOff x="0" y="2209680"/>
              <a:chExt cx="6780960" cy="22104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2430720"/>
              <a:ext cx="6780960" cy="220680"/>
              <a:chOff x="0" y="2430720"/>
              <a:chExt cx="6780960" cy="22068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scanf( "%d", &amp;reque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2651760"/>
              <a:ext cx="6780960" cy="220680"/>
              <a:chOff x="0" y="2651760"/>
              <a:chExt cx="6780960" cy="22068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2872800"/>
              <a:ext cx="6780960" cy="220680"/>
              <a:chOff x="0" y="2872800"/>
              <a:chExt cx="6780960" cy="22068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3093840"/>
              <a:ext cx="6780960" cy="221040"/>
              <a:chOff x="0" y="3093840"/>
              <a:chExt cx="6780960" cy="22104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309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309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d of run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3314880"/>
              <a:ext cx="6780960" cy="220680"/>
              <a:chOff x="0" y="3314880"/>
              <a:chExt cx="6780960" cy="22068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3535920"/>
              <a:ext cx="6780960" cy="220680"/>
              <a:chOff x="0" y="3535920"/>
              <a:chExt cx="6780960" cy="22068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3535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3535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3756600"/>
              <a:ext cx="6780960" cy="220680"/>
              <a:chOff x="0" y="3756600"/>
              <a:chExt cx="6780960" cy="22068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3977640"/>
              <a:ext cx="6780960" cy="220680"/>
              <a:chOff x="0" y="3977640"/>
              <a:chExt cx="6780960" cy="22068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4198680"/>
              <a:ext cx="6780960" cy="221040"/>
              <a:chOff x="0" y="4198680"/>
              <a:chExt cx="6780960" cy="22104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0" y="4198680"/>
                <a:ext cx="6780600" cy="221040"/>
                <a:chOff x="0" y="4198680"/>
                <a:chExt cx="6780600" cy="22104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0" y="4198680"/>
                  <a:ext cx="6780600" cy="221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0" y="4198680"/>
                  <a:ext cx="6780600" cy="22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0EA6-15BB-4119-B535-8BFAF58FB5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- List accounts with zero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- List accounts with credit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- List accounts with debit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- End of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unts with zero bala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00       White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unts with credit bala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00       Stone         -42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unts with debit bala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       Jones          2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0       Doe           345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00       Rich          224.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of r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B9E8-A9CC-48A7-A08B-428562F8DF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5   Reading Data from a Sequential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access 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modified without the risk of destroy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s can vary in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representation in files and screen than internal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8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 but have different sizes on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194120" y="3581280"/>
            <a:ext cx="6730560" cy="2440800"/>
            <a:chOff x="1194120" y="3581280"/>
            <a:chExt cx="6730560" cy="2440800"/>
          </a:xfrm>
        </p:grpSpPr>
        <p:sp>
          <p:nvSpPr>
            <p:cNvPr id="614" name=""/>
            <p:cNvSpPr/>
            <p:nvPr/>
          </p:nvSpPr>
          <p:spPr>
            <a:xfrm>
              <a:off x="1197000" y="3581280"/>
              <a:ext cx="6400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300 White 0.00 400 Jones 32.87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old data in fil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we want to change White's name to Worthingto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194120" y="4530600"/>
              <a:ext cx="6730560" cy="1491480"/>
              <a:chOff x="1194120" y="4530600"/>
              <a:chExt cx="6730560" cy="1491480"/>
            </a:xfrm>
          </p:grpSpPr>
          <p:sp>
            <p:nvSpPr>
              <p:cNvPr id="616" name=""/>
              <p:cNvSpPr/>
              <p:nvPr/>
            </p:nvSpPr>
            <p:spPr>
              <a:xfrm>
                <a:off x="1194120" y="5064120"/>
                <a:ext cx="338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00 White 0.00 400 Jones 32.8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94120" y="5715000"/>
                <a:ext cx="338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00 Worthington 0.00ones 32.8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1200240" y="4530600"/>
                <a:ext cx="2314440" cy="533520"/>
                <a:chOff x="1200240" y="4530600"/>
                <a:chExt cx="2314440" cy="5335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64040" y="47592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00240" y="4530600"/>
                  <a:ext cx="2314440" cy="307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300 Worthington 0.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 flipH="1">
                <a:off x="4647600" y="541008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2860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715000" y="5181480"/>
                <a:ext cx="220968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ta gets overwrit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2500-28D5-4C23-9FA5-30D739FBF4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created, updated, and processed by C progra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used for permanent storage of large amount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of data in variables and arrays is only 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1D82-2C52-444D-8562-01EF846285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   Random Access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cess fi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individual records without searching through other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nt access to records in a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can be inserted without destroy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previously stored can be updated or deleted without overwri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using fixed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tial files do not have fixed length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376280" y="4191120"/>
            <a:ext cx="6350040" cy="2200320"/>
            <a:chOff x="1376280" y="4191120"/>
            <a:chExt cx="6350040" cy="2200320"/>
          </a:xfrm>
        </p:grpSpPr>
        <p:sp>
          <p:nvSpPr>
            <p:cNvPr id="627" name=""/>
            <p:cNvSpPr/>
            <p:nvPr/>
          </p:nvSpPr>
          <p:spPr>
            <a:xfrm>
              <a:off x="1569960" y="5114880"/>
              <a:ext cx="77328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72120" y="5114880"/>
              <a:ext cx="77328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72120" y="5114880"/>
              <a:ext cx="77292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72120" y="5114880"/>
              <a:ext cx="77292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70320" y="5114880"/>
              <a:ext cx="77292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70320" y="5114880"/>
              <a:ext cx="77472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376280" y="5051520"/>
              <a:ext cx="5661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76280" y="5500800"/>
              <a:ext cx="5661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1440" y="4214880"/>
              <a:ext cx="3222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18840" y="4191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12920" y="4214880"/>
              <a:ext cx="773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90680" y="4191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14720" y="4214880"/>
              <a:ext cx="773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92120" y="4191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15080" y="4214880"/>
              <a:ext cx="7729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2480" y="4191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15080" y="4214880"/>
              <a:ext cx="7729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92480" y="4191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2365200" y="4471920"/>
              <a:ext cx="84240" cy="514440"/>
              <a:chOff x="2365200" y="4471920"/>
              <a:chExt cx="84240" cy="514440"/>
            </a:xfrm>
          </p:grpSpPr>
          <p:sp>
            <p:nvSpPr>
              <p:cNvPr id="646" name=""/>
              <p:cNvSpPr/>
              <p:nvPr/>
            </p:nvSpPr>
            <p:spPr>
              <a:xfrm>
                <a:off x="2406600" y="4471920"/>
                <a:ext cx="180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365200" y="4903920"/>
                <a:ext cx="84240" cy="82440"/>
              </a:xfrm>
              <a:custGeom>
                <a:avLst/>
                <a:gdLst/>
                <a:ahLst/>
                <a:rect l="l" t="t" r="r" b="b"/>
                <a:pathLst>
                  <a:path w="106" h="105">
                    <a:moveTo>
                      <a:pt x="0" y="0"/>
                    </a:moveTo>
                    <a:lnTo>
                      <a:pt x="52" y="105"/>
                    </a:lnTo>
                    <a:lnTo>
                      <a:pt x="1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3265560" y="4471920"/>
              <a:ext cx="84240" cy="514440"/>
              <a:chOff x="3265560" y="4471920"/>
              <a:chExt cx="84240" cy="514440"/>
            </a:xfrm>
          </p:grpSpPr>
          <p:sp>
            <p:nvSpPr>
              <p:cNvPr id="649" name=""/>
              <p:cNvSpPr/>
              <p:nvPr/>
            </p:nvSpPr>
            <p:spPr>
              <a:xfrm>
                <a:off x="3306600" y="4471920"/>
                <a:ext cx="180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65560" y="4903920"/>
                <a:ext cx="84240" cy="82440"/>
              </a:xfrm>
              <a:custGeom>
                <a:avLst/>
                <a:gdLst/>
                <a:ahLst/>
                <a:rect l="l" t="t" r="r" b="b"/>
                <a:pathLst>
                  <a:path w="106" h="105">
                    <a:moveTo>
                      <a:pt x="0" y="0"/>
                    </a:moveTo>
                    <a:lnTo>
                      <a:pt x="52" y="105"/>
                    </a:lnTo>
                    <a:lnTo>
                      <a:pt x="1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4165560" y="4471920"/>
              <a:ext cx="84240" cy="514440"/>
              <a:chOff x="4165560" y="4471920"/>
              <a:chExt cx="84240" cy="514440"/>
            </a:xfrm>
          </p:grpSpPr>
          <p:sp>
            <p:nvSpPr>
              <p:cNvPr id="652" name=""/>
              <p:cNvSpPr/>
              <p:nvPr/>
            </p:nvSpPr>
            <p:spPr>
              <a:xfrm>
                <a:off x="4206960" y="4471920"/>
                <a:ext cx="144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165560" y="4903920"/>
                <a:ext cx="84240" cy="82440"/>
              </a:xfrm>
              <a:custGeom>
                <a:avLst/>
                <a:gdLst/>
                <a:ahLst/>
                <a:rect l="l" t="t" r="r" b="b"/>
                <a:pathLst>
                  <a:path w="106" h="105">
                    <a:moveTo>
                      <a:pt x="0" y="0"/>
                    </a:moveTo>
                    <a:lnTo>
                      <a:pt x="52" y="105"/>
                    </a:lnTo>
                    <a:lnTo>
                      <a:pt x="1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5065560" y="4471920"/>
              <a:ext cx="86040" cy="514440"/>
              <a:chOff x="5065560" y="4471920"/>
              <a:chExt cx="86040" cy="514440"/>
            </a:xfrm>
          </p:grpSpPr>
          <p:sp>
            <p:nvSpPr>
              <p:cNvPr id="655" name=""/>
              <p:cNvSpPr/>
              <p:nvPr/>
            </p:nvSpPr>
            <p:spPr>
              <a:xfrm>
                <a:off x="5108400" y="4471920"/>
                <a:ext cx="180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065560" y="4903920"/>
                <a:ext cx="86040" cy="82440"/>
              </a:xfrm>
              <a:custGeom>
                <a:avLst/>
                <a:gdLst/>
                <a:ahLst/>
                <a:rect l="l" t="t" r="r" b="b"/>
                <a:pathLst>
                  <a:path w="106" h="105">
                    <a:moveTo>
                      <a:pt x="0" y="0"/>
                    </a:moveTo>
                    <a:lnTo>
                      <a:pt x="52" y="105"/>
                    </a:lnTo>
                    <a:lnTo>
                      <a:pt x="1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967360" y="4471920"/>
              <a:ext cx="84240" cy="514440"/>
              <a:chOff x="5967360" y="4471920"/>
              <a:chExt cx="84240" cy="514440"/>
            </a:xfrm>
          </p:grpSpPr>
          <p:sp>
            <p:nvSpPr>
              <p:cNvPr id="658" name=""/>
              <p:cNvSpPr/>
              <p:nvPr/>
            </p:nvSpPr>
            <p:spPr>
              <a:xfrm>
                <a:off x="6008760" y="4471920"/>
                <a:ext cx="144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967360" y="4903920"/>
                <a:ext cx="84240" cy="82440"/>
              </a:xfrm>
              <a:custGeom>
                <a:avLst/>
                <a:gdLst/>
                <a:ahLst/>
                <a:rect l="l" t="t" r="r" b="b"/>
                <a:pathLst>
                  <a:path w="107" h="105">
                    <a:moveTo>
                      <a:pt x="0" y="0"/>
                    </a:moveTo>
                    <a:lnTo>
                      <a:pt x="53" y="105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1528920" y="4471920"/>
              <a:ext cx="83880" cy="514440"/>
              <a:chOff x="1528920" y="4471920"/>
              <a:chExt cx="83880" cy="514440"/>
            </a:xfrm>
          </p:grpSpPr>
          <p:sp>
            <p:nvSpPr>
              <p:cNvPr id="661" name=""/>
              <p:cNvSpPr/>
              <p:nvPr/>
            </p:nvSpPr>
            <p:spPr>
              <a:xfrm>
                <a:off x="1569960" y="4471920"/>
                <a:ext cx="180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528920" y="4903920"/>
                <a:ext cx="83880" cy="82440"/>
              </a:xfrm>
              <a:custGeom>
                <a:avLst/>
                <a:gdLst/>
                <a:ahLst/>
                <a:rect l="l" t="t" r="r" b="b"/>
                <a:pathLst>
                  <a:path w="106" h="105">
                    <a:moveTo>
                      <a:pt x="0" y="0"/>
                    </a:moveTo>
                    <a:lnTo>
                      <a:pt x="52" y="105"/>
                    </a:lnTo>
                    <a:lnTo>
                      <a:pt x="1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6586560" y="4600440"/>
              <a:ext cx="966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663240" y="4653000"/>
              <a:ext cx="106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 offs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29520" y="4343400"/>
              <a:ext cx="3873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19960" y="447516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174816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264816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354816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5400000">
              <a:off x="444852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5400000">
              <a:off x="534996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625032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12920" y="4214880"/>
              <a:ext cx="4525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0320" y="4191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62200" y="5888160"/>
              <a:ext cx="4525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67580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64000" y="5888160"/>
              <a:ext cx="450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98840" y="6080040"/>
              <a:ext cx="7095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64000" y="5888160"/>
              <a:ext cx="4525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65800" y="5888160"/>
              <a:ext cx="450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65800" y="5888160"/>
              <a:ext cx="4510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56500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7940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39380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5744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7184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2349-48D8-4BA1-AC74-1D28CA59CE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  Creating a Random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 random access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formatted (stored as "raw bytes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data of the same typ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 for example) uses the same amount of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records of the same type have a fixed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not human 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47C0-FD2F-4156-9D3B-92E64E5530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  Creating a Random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rmatted I/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w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bytes from a location in memory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bytes from a file to a locatio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write( &amp;number, sizeof( int ), 1, myPtr 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Location to transfer byt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of( int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umber of bytes to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For arrays, number of elements to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case, "one element" of an array is being trans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File to transfer to or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61AE-3D0C-44CB-9499-4EBAA6125A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  Creating a Random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write( &amp;myObject, sizeof (struct myStruct), 1, myPt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size in bytes of object in parenth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several array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to array as first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 to write as third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66FE-5A8B-42D1-BD3C-B46F4E7598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Open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Write to file using unformatted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0" y="0"/>
            <a:ext cx="6780960" cy="6629040"/>
            <a:chOff x="0" y="0"/>
            <a:chExt cx="6780960" cy="6629040"/>
          </a:xfrm>
        </p:grpSpPr>
        <p:grpSp>
          <p:nvGrpSpPr>
            <p:cNvPr id="695" name=""/>
            <p:cNvGrpSpPr/>
            <p:nvPr/>
          </p:nvGrpSpPr>
          <p:grpSpPr>
            <a:xfrm>
              <a:off x="0" y="0"/>
              <a:ext cx="6780960" cy="220680"/>
              <a:chOff x="0" y="0"/>
              <a:chExt cx="6780960" cy="220680"/>
            </a:xfrm>
          </p:grpSpPr>
          <p:sp>
            <p:nvSpPr>
              <p:cNvPr id="696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11: fig11_11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0" y="220680"/>
              <a:ext cx="6780960" cy="220680"/>
              <a:chOff x="0" y="220680"/>
              <a:chExt cx="6780960" cy="220680"/>
            </a:xfrm>
          </p:grpSpPr>
          <p:sp>
            <p:nvSpPr>
              <p:cNvPr id="699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reating a randomly accessed file sequentiall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0" y="441720"/>
              <a:ext cx="6780960" cy="221040"/>
              <a:chOff x="0" y="441720"/>
              <a:chExt cx="6780960" cy="22104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662760"/>
              <a:ext cx="6780960" cy="220680"/>
              <a:chOff x="0" y="662760"/>
              <a:chExt cx="6780960" cy="22068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883800"/>
              <a:ext cx="6780960" cy="220680"/>
              <a:chOff x="0" y="883800"/>
              <a:chExt cx="6780960" cy="22068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1104840"/>
              <a:ext cx="6780960" cy="220680"/>
              <a:chOff x="0" y="1104840"/>
              <a:chExt cx="6780960" cy="22068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1325520"/>
              <a:ext cx="6780960" cy="221040"/>
              <a:chOff x="0" y="1325520"/>
              <a:chExt cx="6780960" cy="22104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1325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1325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1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1546920"/>
              <a:ext cx="6780960" cy="220680"/>
              <a:chOff x="0" y="1546920"/>
              <a:chExt cx="6780960" cy="22068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1767600"/>
              <a:ext cx="6780960" cy="220680"/>
              <a:chOff x="0" y="1767600"/>
              <a:chExt cx="6780960" cy="22068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1767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1767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1988640"/>
              <a:ext cx="6780960" cy="220680"/>
              <a:chOff x="0" y="1988640"/>
              <a:chExt cx="6780960" cy="22068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2209680"/>
              <a:ext cx="6780960" cy="221040"/>
              <a:chOff x="0" y="2209680"/>
              <a:chExt cx="6780960" cy="22104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2430720"/>
              <a:ext cx="6780960" cy="220680"/>
              <a:chOff x="0" y="2430720"/>
              <a:chExt cx="6780960" cy="22068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2651760"/>
              <a:ext cx="6780960" cy="220680"/>
              <a:chOff x="0" y="2651760"/>
              <a:chExt cx="6780960" cy="22068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2872800"/>
              <a:ext cx="6780960" cy="220680"/>
              <a:chOff x="0" y="2872800"/>
              <a:chExt cx="6780960" cy="22068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3093480"/>
              <a:ext cx="6780960" cy="221040"/>
              <a:chOff x="0" y="3093480"/>
              <a:chExt cx="6780960" cy="22104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309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309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blank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3314880"/>
              <a:ext cx="6780960" cy="220680"/>
              <a:chOff x="0" y="3314880"/>
              <a:chExt cx="6780960" cy="22068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3535560"/>
              <a:ext cx="6780960" cy="220680"/>
              <a:chOff x="0" y="3535560"/>
              <a:chExt cx="6780960" cy="22068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3535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3535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3756600"/>
              <a:ext cx="6780960" cy="220680"/>
              <a:chOff x="0" y="3756600"/>
              <a:chExt cx="6780960" cy="22068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redit.dat", "w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3977640"/>
              <a:ext cx="6780960" cy="220680"/>
              <a:chOff x="0" y="3977640"/>
              <a:chExt cx="6780960" cy="22068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4198680"/>
              <a:ext cx="6780960" cy="221040"/>
              <a:chOff x="0" y="4198680"/>
              <a:chExt cx="6780960" cy="22104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4419720"/>
              <a:ext cx="6780960" cy="220680"/>
              <a:chOff x="0" y="4419720"/>
              <a:chExt cx="6780960" cy="22068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4419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4419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4640400"/>
              <a:ext cx="6780960" cy="220680"/>
              <a:chOff x="0" y="4640400"/>
              <a:chExt cx="6780960" cy="22068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4640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4640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1; i &lt;= 100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4861440"/>
              <a:ext cx="6780960" cy="220680"/>
              <a:chOff x="0" y="4861440"/>
              <a:chExt cx="6780960" cy="22068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48614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48614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write( &amp;blankClien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5082480"/>
              <a:ext cx="6780960" cy="221040"/>
              <a:chOff x="0" y="5082480"/>
              <a:chExt cx="6780960" cy="22104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5082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5082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5303520"/>
              <a:ext cx="6780960" cy="220680"/>
              <a:chOff x="0" y="5303520"/>
              <a:chExt cx="6780960" cy="22068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53035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53035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5524560"/>
              <a:ext cx="6780960" cy="220680"/>
              <a:chOff x="0" y="5524560"/>
              <a:chExt cx="6780960" cy="22068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5524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5524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5745600"/>
              <a:ext cx="6780960" cy="220680"/>
              <a:chOff x="0" y="5745600"/>
              <a:chExt cx="6780960" cy="22068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5745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5745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5966280"/>
              <a:ext cx="6780960" cy="221040"/>
              <a:chOff x="0" y="5966280"/>
              <a:chExt cx="6780960" cy="22104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5966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5966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6187680"/>
              <a:ext cx="6780960" cy="220680"/>
              <a:chOff x="0" y="6187680"/>
              <a:chExt cx="6780960" cy="22068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6187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6187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6408360"/>
              <a:ext cx="6780960" cy="220680"/>
              <a:chOff x="0" y="6408360"/>
              <a:chExt cx="6780960" cy="22068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64083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0" y="6408360"/>
                <a:ext cx="6780600" cy="220680"/>
                <a:chOff x="0" y="6408360"/>
                <a:chExt cx="6780600" cy="22068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0" y="6408360"/>
                  <a:ext cx="6780600" cy="2206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0" y="6408360"/>
                  <a:ext cx="6780600" cy="2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74F8-6EDB-4CC7-90D5-D544C7CD40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Writing Data Randomly to a Random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s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file position pointer to a specific 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seek(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inter, offset, symbolic_consta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to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e position pointer (0 is first lo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mbolic_const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where in file we are read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_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ek starts at beginning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_C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ek starts at current location i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_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ek starts at end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69E0-78EA-4E71-83AE-13B6777D98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Open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Write to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9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12: fig11_12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Writing to a random access fi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1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redit.dat", "r+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account number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85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 ( 1 to 100, 0 to end input )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85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d", &amp;client.acc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85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!= 0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Enter lastname, firstname, balance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86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scanf( stdin, "%s%s%lf", client.last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87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client.firstName, &amp;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seek( cfPtr, ( client.acctNum - 1 ) *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write( &amp;client, sizeof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Enter account number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4441-8FA2-410B-8CA3-B47489A955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0" y="0"/>
            <a:ext cx="6780960" cy="1828440"/>
            <a:chOff x="0" y="0"/>
            <a:chExt cx="6780960" cy="1828440"/>
          </a:xfrm>
        </p:grpSpPr>
        <p:grpSp>
          <p:nvGrpSpPr>
            <p:cNvPr id="88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scanf( "%d", &amp;client.acc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0" y="1600200"/>
                <a:ext cx="6780600" cy="228240"/>
                <a:chOff x="0" y="1600200"/>
                <a:chExt cx="6780600" cy="2282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0" y="1600200"/>
                  <a:ext cx="678060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0" y="1600200"/>
                  <a:ext cx="678060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"/>
          <p:cNvSpPr/>
          <p:nvPr/>
        </p:nvSpPr>
        <p:spPr>
          <a:xfrm>
            <a:off x="0" y="198108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 (1 to 100, 0 to end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Barker Doug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Brown Nancy -24.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Stone Sam 3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B991-28CB-4D6A-AEA3-049B8C6E66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Smith Dave 258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Dunn Stacey 314.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E54A-4AEA-4696-B2AE-54ABAAEB26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9   Reading Data Sequentially from a Random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a specified number of bytes from a file in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ad( &amp;client, sizeof (struct clientData), 1, myPt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ad several fixed-size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pointer to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 number of elements to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ead multiple elements, specify in third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B7C0-4066-4700-A3D6-E89DCD0184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  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Hierarch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mallest data i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te – 8 bi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store a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mal digits, letters, and special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roup of characters conveying mea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you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 – group of related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ed by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In a payroll system, a record for a particular employee that contained his/her identification number, name, addres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5A95-243D-48E0-8491-A83C1F3D0B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Read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a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2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15: fig11_15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Reading a random access file sequentiall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1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redit.dat", "r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-6s%-16s%-11s%10s\n", "Acct", "Last Nam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First Name", "Balance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cf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read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!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rintf( "%-6d%-16s%-11s%10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client.acctNum, client.last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client.firstName, 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4CDA-4067-4280-95F9-F4C4929553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0" y="0"/>
            <a:ext cx="6780960" cy="1066320"/>
            <a:chOff x="0" y="0"/>
            <a:chExt cx="6780960" cy="1066320"/>
          </a:xfrm>
        </p:grpSpPr>
        <p:grpSp>
          <p:nvGrpSpPr>
            <p:cNvPr id="1020" name="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1021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1024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1027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1030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0" y="853200"/>
              <a:ext cx="6780960" cy="213120"/>
              <a:chOff x="0" y="853200"/>
              <a:chExt cx="6780960" cy="213120"/>
            </a:xfrm>
          </p:grpSpPr>
          <p:sp>
            <p:nvSpPr>
              <p:cNvPr id="1033" name=""/>
              <p:cNvSpPr/>
              <p:nvPr/>
            </p:nvSpPr>
            <p:spPr>
              <a:xfrm>
                <a:off x="0" y="85320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0" y="85320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5" name=""/>
          <p:cNvSpPr/>
          <p:nvPr/>
        </p:nvSpPr>
        <p:spPr>
          <a:xfrm>
            <a:off x="0" y="129528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t  Last Name       First Name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9    Brown           Nancy          -24.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    Dunn            Stacey         314.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8    Smith           Dave           258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Stone           Sam             34.9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E81F-0D86-462E-A790-D250D3772D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   Case Study: A Transaction Processing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s using random access files to achieve instant access processing of a bank’s account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 existing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new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te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a formatted listing of all accounts in a text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2E88-EEE6-42CD-8AFA-4FD339CB63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Link pointer and open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choi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40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16: fig11_16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his program reads a random access file sequentially,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pdates data already written to the file, creates 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data to be placed in the file, and deletes data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lready in the file.                                 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1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nterCho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xtFile( FIL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updateRecord( FIL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ewRecord( FIL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leteRecord( FIL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hoi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redit.dat", "r+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hoice = enterChoice() ) != 5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hoice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3D43-E8B3-4BD1-A80D-5812BE6354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erform a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38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textFil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updateRecord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newRecord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4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deleteRecord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20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xtFile( FILE *read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20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20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write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21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writePtr = fopen( "accounts.txt", "w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rewind( read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printf( writePtr, "%-6s%-16s%-11s%10s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"Acct", "Last Name", "First Name","Balance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EDE9-9F2B-4169-8AC4-FC76867D5E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36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23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24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read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24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read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read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24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!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25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fprintf( writePtr, "%-6d%-16s%-11s%10.2f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25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client.acctNum, client.lastNam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26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client.firstName, 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27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clo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write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27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27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27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28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updateRecord( FILE *f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29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ransact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29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30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account to update ( 1 - 100 )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30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accou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30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seek( fPt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31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( account - 1 )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31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31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read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32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32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Acount #%d has no information.\n", accou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33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A27B-5DC1-4EED-B2AD-79121CC9FA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334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335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-6d%-16s%-11s%10.2f\n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338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client.acctNum, client.last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client.firstName, 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344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charge ( + ) or payment ( - )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347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lf", &amp;transaction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lient.balance += transact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353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-6d%-16s%-11s%10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356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client.acctNum, client.last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359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client.firstName, 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362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seek( fPt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4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365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( account - 1 )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7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368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371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write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374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377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380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383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386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leteRecord( FILE *f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389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392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395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blankClient = { 0, "", "", 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398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oun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401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404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account number t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407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delete ( 1 - 100 )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410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can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"%d", &amp;accoun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413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seek( fPt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416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( accountNum - 1 )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422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read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6DE2-056D-464C-B558-A872FE2BC3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426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427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430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433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Account %d does not exist.\n", accoun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436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439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seek( fPt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442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( accountNum - 1 )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write( &amp;blankClien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454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457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460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463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ewRecord( FILE *f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466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469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472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oun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475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new account number ( 1 - 100 )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478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accoun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481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seek( fPt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484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( accountNum - 1 )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487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490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read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493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!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499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Account #%d already contains information.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502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client.acc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505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508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lastname, firstname, balance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511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s%s%lf", &amp;client.lastName, &amp;client.first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514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&amp;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3F5D-C831-4DE3-930B-AEAD47E4DC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518" name="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1519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lient.acctNum = accoun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1522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seek( fPtr, ( client.acctNum - 1 ) *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1525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1528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write( &amp;clien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1531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1534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1537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1543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nterCho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1546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1549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nuChoi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1552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1555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Enter your choice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1558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1 - store a formatted text file of acounts called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1561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    \"accounts.txt\" for printing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2 - update an accoun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1567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3 - add a new accoun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1570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4 - delete an accoun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1573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5 - end program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1576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menuChoi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1579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nuChoi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1582" name="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3" name=""/>
              <p:cNvGrpSpPr/>
              <p:nvPr/>
            </p:nvGrpSpPr>
            <p:grpSpPr>
              <a:xfrm>
                <a:off x="0" y="6546240"/>
                <a:ext cx="6780600" cy="311400"/>
                <a:chOff x="0" y="6546240"/>
                <a:chExt cx="6780600" cy="31140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0" y="6546240"/>
                  <a:ext cx="6780600" cy="31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7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0" y="6546240"/>
                  <a:ext cx="6780600" cy="3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965F-52C7-4B23-BF61-39527FE2AC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87" name=""/>
          <p:cNvSpPr/>
          <p:nvPr/>
        </p:nvSpPr>
        <p:spPr>
          <a:xfrm>
            <a:off x="0" y="21337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to update (1 - 100):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charge (+) or payment (-): +87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    Barker          Doug            87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0" y="35812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new account number (1 - 100):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Johnston Sarah 247.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0" y="0"/>
            <a:ext cx="678168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choosing option 1 accounts.txt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t  Last Name       First Name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9    Brown           Nancy          -24.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    Dunn            Stacey         314.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8    Smith           Dave           258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Stone           Sam             34.9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6D80-EF3F-4475-A5DD-691F9AE5F0F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  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Hierarchy (continu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– group of related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payrol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– group of related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33600" y="3048120"/>
            <a:ext cx="5172120" cy="2895480"/>
            <a:chOff x="1533600" y="3048120"/>
            <a:chExt cx="5172120" cy="2895480"/>
          </a:xfrm>
        </p:grpSpPr>
        <p:sp>
          <p:nvSpPr>
            <p:cNvPr id="103" name=""/>
            <p:cNvSpPr/>
            <p:nvPr/>
          </p:nvSpPr>
          <p:spPr>
            <a:xfrm>
              <a:off x="2116080" y="5627520"/>
              <a:ext cx="1652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90800" y="5280120"/>
              <a:ext cx="1031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010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8400" y="4927680"/>
              <a:ext cx="90648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97160" y="4579920"/>
              <a:ext cx="5364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76480" y="457992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65400" y="5435640"/>
              <a:ext cx="144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98680" y="5076720"/>
              <a:ext cx="144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8120" y="4756320"/>
              <a:ext cx="36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74760" y="458316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6360" y="458316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98840" y="458316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7600" y="458316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8400" y="3048120"/>
              <a:ext cx="660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S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6920" y="304812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Bl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6360" y="305100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7600" y="305100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40440" y="305100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98840" y="3051000"/>
              <a:ext cx="74160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38400" y="3257640"/>
              <a:ext cx="412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06920" y="3257640"/>
              <a:ext cx="5364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B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6360" y="325908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7600" y="325908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40440" y="325908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98840" y="325908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38400" y="3467160"/>
              <a:ext cx="5367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06920" y="346716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6360" y="34686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600" y="34686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40440" y="34686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98840" y="346860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38400" y="3675240"/>
              <a:ext cx="53676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06920" y="3675240"/>
              <a:ext cx="78264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6360" y="36781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36781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40440" y="36781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98840" y="367812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38400" y="3882960"/>
              <a:ext cx="660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an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6920" y="3882960"/>
              <a:ext cx="4125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16360" y="38862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38862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40440" y="38862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98840" y="388620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46280" y="3538440"/>
              <a:ext cx="370080" cy="974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  <a:lnTo>
                    <a:pt x="0" y="199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68960" y="3467160"/>
              <a:ext cx="5367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1720" y="4583160"/>
              <a:ext cx="7826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09840" y="4927680"/>
              <a:ext cx="6606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81160" y="5288040"/>
              <a:ext cx="30067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Byte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(ASCII character J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2240" y="5780160"/>
              <a:ext cx="414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33600" y="5224320"/>
              <a:ext cx="428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7733-08EE-40EC-8BE9-A21344808B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  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a record to facilitate the retrieval of specific records from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tial fi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s typically sorted b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A572-95E4-45FD-AA40-D2CB15D2A8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   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views each file as a sequence of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ends with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d-of-file mar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, file ends at a specified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 created when a file is 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communication channel between files and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ing a file return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file point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standard input (key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standard output (sc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standard error (sc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descri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into operating system array called the open fil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Control Block (FC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nd in every array element, system uses it to administer th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F529-C8AF-4A84-ADE2-7FEBB8955A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   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/Write functions in 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get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one character from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as an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getc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h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put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one character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and a character to write as an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utc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, std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g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a line from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a line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scan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print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processing equivalent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CABE-5491-4EDA-BE2E-CDB5F1DC71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  Creating a Sequential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mposes no fil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otion of records in a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must provide fil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 *my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Ptr = fopen("myFile.dat", openmod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p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to fil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two argume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e to open and file open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pen fails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print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print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printf, except first argument i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(pointer to the file you want to print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DAB3-0AF6-48D6-B6B2-FAA6A725D4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  Creating a Sequential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eof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rue if end-of-file indicator (no more data to process) is set for the specified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close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s specified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ed automatically when program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practice to close files ex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may process no files, one file, or many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file must have a unique name and should have its ow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39A1-FF2A-4FA5-AD6A-DB2D26D878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4:19:48Z</dcterms:created>
  <dc:creator>jason</dc:creator>
  <dc:description/>
  <dc:language>en-US</dc:language>
  <cp:lastModifiedBy>Matty</cp:lastModifiedBy>
  <dcterms:modified xsi:type="dcterms:W3CDTF">2000-12-22T19:34:56Z</dcterms:modified>
  <cp:revision>457</cp:revision>
  <dc:subject/>
  <dc:title>Chapter 14 – File Processing</dc:title>
</cp:coreProperties>
</file>