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EC661-2E91-44A0-82AD-7AC4E47C97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2947-5AE0-4EB5-8CF7-AB2DFE7E58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77C7F-D6CA-4440-81BA-62AA99749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0359D-A87A-4484-BB44-73002588EF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7550-3004-4A6E-ADCA-93D83E6BB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76176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746880"/>
            <a:ext cx="250236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E9E8D-4CDF-445E-88DC-1A43E7CC7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EF6C-7F0F-42F0-9C45-CD39B9FF6E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8D670-E7D7-40E7-83AA-8DA53308962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7596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A38F-2D17-47DD-A3E3-7441795B5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A017-8BC9-4E67-8B78-DC11BDBE5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74688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10D7-A72E-483B-9193-09E5799C6D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761760"/>
            <a:ext cx="37926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46880"/>
            <a:ext cx="7772400" cy="27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33F44-69DB-4E69-BCEC-52F5888DF4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Click to edit the title text format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ıvanç Dinç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D1AB-5A97-4463-80AE-072D5D819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6553080"/>
            <a:ext cx="358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Kıvanç Dinçer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 All rights reser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670572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838080"/>
            <a:ext cx="2438280" cy="601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vantGarde"/>
              </a:rPr>
              <a:t>Click to edit the title text format</a:t>
            </a:r>
            <a:endParaRPr b="0" lang="en-US" sz="10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vantGarde"/>
              </a:rPr>
              <a:t>Click to edit the outline text format</a:t>
            </a:r>
            <a:endParaRPr b="1" lang="en-US" sz="1400" spc="-1" strike="noStrike">
              <a:solidFill>
                <a:srgbClr val="000000"/>
              </a:solidFill>
              <a:latin typeface="AvantGarde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52388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000000"/>
                </a:solidFill>
                <a:latin typeface="AvantGarde"/>
              </a:rPr>
              <a:t>ELE-491</a:t>
            </a:r>
            <a:r>
              <a:rPr b="0" lang="tr-TR" sz="2400" spc="-1" strike="noStrike">
                <a:solidFill>
                  <a:srgbClr val="000000"/>
                </a:solidFill>
                <a:latin typeface="AvantGarde"/>
              </a:rPr>
              <a:t>  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tr-TR" sz="2400" spc="-1" strike="noStrike">
                <a:solidFill>
                  <a:srgbClr val="000000"/>
                </a:solidFill>
                <a:latin typeface="AvantGarde"/>
              </a:rPr>
              <a:t>07/01/2002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vantGarde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6576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Lecture  Notes on </a:t>
            </a:r>
            <a:r>
              <a:rPr b="0" lang="tr-TR" sz="2400" spc="-1" strike="noStrike">
                <a:solidFill>
                  <a:srgbClr val="000000"/>
                </a:solidFill>
                <a:latin typeface="AvantGarde"/>
              </a:rPr>
              <a:t>Bitwise Operation</a:t>
            </a:r>
            <a:r>
              <a:rPr b="0" lang="en-US" sz="2400" spc="-1" strike="noStrike">
                <a:solidFill>
                  <a:srgbClr val="000000"/>
                </a:solidFill>
                <a:latin typeface="AvantGarde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Bitwise "or“</a:t>
            </a:r>
            <a:r>
              <a:rPr b="0" lang="tr-TR" sz="2800" spc="-1" strike="noStrike">
                <a:solidFill>
                  <a:srgbClr val="ff3300"/>
                </a:solidFill>
                <a:latin typeface="AvantGarde"/>
              </a:rPr>
              <a:t> (|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the result of logically or'ing the corresponding bits of each valu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hort bb = 0x1357, cc = 0x765F, dd;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dd = bb </a:t>
            </a:r>
            <a:r>
              <a:rPr b="0" lang="en-US" sz="21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en-US" sz="1700" spc="-1" strike="noStrike">
                <a:solidFill>
                  <a:srgbClr val="000000"/>
                </a:solidFill>
                <a:latin typeface="Courier New"/>
              </a:rPr>
              <a:t> cc;</a:t>
            </a:r>
            <a:r>
              <a:rPr b="0" lang="en-US" sz="13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r-TR" sz="2000" spc="-1" strike="noStrike">
                <a:solidFill>
                  <a:srgbClr val="3333cc"/>
                </a:solidFill>
                <a:latin typeface="Arial Unicode MS"/>
              </a:rPr>
              <a:t>// 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dd is set to 0x</a:t>
            </a:r>
            <a:r>
              <a:rPr b="0" lang="tr-TR" sz="2200" spc="-1" strike="noStrike">
                <a:solidFill>
                  <a:srgbClr val="3333cc"/>
                </a:solidFill>
                <a:latin typeface="Times New Roman"/>
              </a:rPr>
              <a:t>775F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bit of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or'd with the corresponding bit in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produce the</a:t>
            </a:r>
            <a:r>
              <a:rPr b="0" lang="tr-T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ult. Result bits are one unless both bits were a zer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19f1" descr=""/>
          <p:cNvPicPr/>
          <p:nvPr/>
        </p:nvPicPr>
        <p:blipFill>
          <a:blip r:embed="rId1"/>
          <a:stretch/>
        </p:blipFill>
        <p:spPr>
          <a:xfrm>
            <a:off x="1295280" y="3733920"/>
            <a:ext cx="6172200" cy="1825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7B1CF6-46F3-4E96-B3FC-BCF550FD51A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"exclusive or“</a:t>
            </a:r>
            <a:r>
              <a:rPr b="1" lang="tr-TR" sz="2800" spc="-1" strike="noStrike">
                <a:solidFill>
                  <a:srgbClr val="ff3300"/>
                </a:solidFill>
                <a:latin typeface="AvantGarde"/>
              </a:rPr>
              <a:t>  (^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giv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result of logically exclusively or'ing the corresponding bits of each va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rt bb = 0x1357, cc = 0x765F, d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d = bb ^ cc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tr-TR" sz="2200" spc="-1" strike="noStrike">
                <a:solidFill>
                  <a:srgbClr val="3333cc"/>
                </a:solidFill>
                <a:latin typeface="Times New Roman"/>
              </a:rPr>
              <a:t>// </a:t>
            </a:r>
            <a:r>
              <a:rPr b="0" lang="en-US" sz="2200" spc="-1" strike="noStrike">
                <a:solidFill>
                  <a:srgbClr val="3333cc"/>
                </a:solidFill>
                <a:latin typeface="Times New Roman"/>
              </a:rPr>
              <a:t>dd is set to 0x6508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ch bit of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bb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is exclusive or'd with the corresponding bit in </a:t>
            </a:r>
            <a:r>
              <a:rPr b="1" lang="en-US" sz="1700" spc="-1" strike="noStrike">
                <a:solidFill>
                  <a:srgbClr val="000000"/>
                </a:solidFill>
                <a:latin typeface="Courier New"/>
              </a:rPr>
              <a:t>c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</a:rPr>
              <a:t>to p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oduce the result. Result bits are one if the two bits were</a:t>
            </a:r>
            <a:r>
              <a:rPr b="0" lang="tr-TR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ifferent, zero if they were the same (both zero or both one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3429000"/>
            <a:ext cx="325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3429000"/>
            <a:ext cx="325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429000"/>
            <a:ext cx="325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0" y="3429000"/>
            <a:ext cx="325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429000"/>
            <a:ext cx="32590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19g1" descr=""/>
          <p:cNvPicPr/>
          <p:nvPr/>
        </p:nvPicPr>
        <p:blipFill>
          <a:blip r:embed="rId1"/>
          <a:stretch/>
        </p:blipFill>
        <p:spPr>
          <a:xfrm>
            <a:off x="1143000" y="4267080"/>
            <a:ext cx="6781680" cy="18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E543F-6706-4EB8-B8D1-CD36B4D6DEB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nes complement</a:t>
            </a:r>
            <a:r>
              <a:rPr b="1" lang="tr-TR" sz="2800" spc="-1" strike="noStrike">
                <a:solidFill>
                  <a:srgbClr val="ff3300"/>
                </a:solidFill>
                <a:latin typeface="AvantGarde"/>
              </a:rPr>
              <a:t> (~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the result of logically complementing each bit of its oper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rt bb = 0x1357, cc = 0x765F, d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d = ~cc; </a:t>
            </a:r>
            <a:r>
              <a:rPr b="0" lang="tr-TR" sz="2800" spc="-1" strike="noStrike">
                <a:solidFill>
                  <a:srgbClr val="3333cc"/>
                </a:solidFill>
                <a:latin typeface="Times New Roman"/>
              </a:rPr>
              <a:t>//</a:t>
            </a:r>
            <a:r>
              <a:rPr b="0" lang="tr-TR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d is set to 0x89a0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19g1" descr=""/>
          <p:cNvPicPr/>
          <p:nvPr/>
        </p:nvPicPr>
        <p:blipFill>
          <a:blip r:embed="rId1"/>
          <a:srcRect l="0" t="0" r="0" b="36794"/>
          <a:stretch/>
        </p:blipFill>
        <p:spPr>
          <a:xfrm>
            <a:off x="1066680" y="3581280"/>
            <a:ext cx="6782040" cy="117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94039-28FA-4594-A086-2BF818AF84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"and" appl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Application 1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bitwise "and" to test if certain bit(s) on (one) C uses nonzero for true and zer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'ing a value against a pattern with ones only in the bit positions you are interested in will give zero if none of them are on, nonzero if one or more is on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4EDAA-20AE-49CA-B057-6ACBC476D0E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"and" application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#define PASTDUE 0x01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#define LOST 0x0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#define STOLEN 0x04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int flags, testpa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flags = ... obtain value for flags 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if ( flags &amp; PASTDUE 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...yep, it's late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if ( flags &amp; (LOST | STOLEN) 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...uh-oh, lost or stolen plastic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estpat = LOST + PASTDU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if ( (flags &amp; testpat ) == testpat 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...both PASTDUE and LOST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A4F4C-9301-4B88-938F-59AF0AAE62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"and" appl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Application 2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bitwise "and" to turn off (set to zero) desired bit(s). If you "and" a pattern against a variable, bit positions in the pattern that are ones will leave the target bit unchanged, and bit positions in the pattern that are zeros will set the target bit to zer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fortunately, the zero/one relationship is the opposite of what we usually define for bit position access. Luckily, ones complementing flips zero and ones and produces the right pattern for and'in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 operator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&amp;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great to "and" a pattern against a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flags &amp;= 0x54;</a:t>
            </a:r>
            <a:r>
              <a:rPr b="0" i="1" lang="tr-T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s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flags = flags &amp; 0x5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D7ECA-3EB4-4B92-A8A6-61B6E612107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"and" application example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#define PASTDUE 0x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#define LOST 0x0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#define STOLEN 0x0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flags = ... obtain value for flags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/* turn off LOST bit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flags &amp;= ~LO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/* turn off LOST and STOLEN bits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flags &amp;= ~(LOST+STOLEN)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3F32B-5B8B-4923-A642-63205328D0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"or" appl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bitwise "or" to turn on (set to one) desired bit(s)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 operator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great to “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" a pattern against a variable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to turn on desired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flags </a:t>
            </a:r>
            <a:r>
              <a:rPr b="0" i="1" lang="tr-TR" sz="1800" spc="-1" strike="noStrike">
                <a:solidFill>
                  <a:srgbClr val="3333cc"/>
                </a:solidFill>
                <a:latin typeface="Courier New"/>
              </a:rPr>
              <a:t>|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= 0x54;</a:t>
            </a:r>
            <a:r>
              <a:rPr b="0" i="1" lang="tr-T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ns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flags = flags </a:t>
            </a:r>
            <a:r>
              <a:rPr b="0" i="1" lang="tr-TR" sz="1800" spc="-1" strike="noStrike">
                <a:solidFill>
                  <a:srgbClr val="3333cc"/>
                </a:solidFill>
                <a:latin typeface="Courier New"/>
              </a:rPr>
              <a:t>|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0x5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#define PASTDUE 0x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#define LOST 0x0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#define STOLEN 0x04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flags = ... obtain value for flags 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/* turn on LOST bit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flags |= LOS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/* turn on LOST and PASTDUE bits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flags &amp;= LOST+PASTDUE;</a:t>
            </a:r>
            <a:r>
              <a:rPr b="0" lang="en-US" sz="20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105C3-DA7E-43A8-948F-484A59509B4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Exclusive "or" appl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400" spc="-1" strike="noStrike" u="sng">
                <a:solidFill>
                  <a:srgbClr val="00cc99"/>
                </a:solidFill>
                <a:uFillTx/>
                <a:latin typeface="Times New Roman"/>
              </a:rPr>
              <a:t>Appl</a:t>
            </a:r>
            <a:r>
              <a:rPr b="0" lang="en-US" sz="2400" spc="-1" strike="noStrike" u="sng">
                <a:solidFill>
                  <a:srgbClr val="00cc99"/>
                </a:solidFill>
                <a:uFillTx/>
                <a:latin typeface="Times New Roman"/>
              </a:rPr>
              <a:t>i</a:t>
            </a:r>
            <a:r>
              <a:rPr b="0" lang="tr-TR" sz="2400" spc="-1" strike="noStrike" u="sng">
                <a:solidFill>
                  <a:srgbClr val="00cc99"/>
                </a:solidFill>
                <a:uFillTx/>
                <a:latin typeface="Times New Roman"/>
              </a:rPr>
              <a:t>cat</a:t>
            </a:r>
            <a:r>
              <a:rPr b="0" lang="en-US" sz="2400" spc="-1" strike="noStrike" u="sng">
                <a:solidFill>
                  <a:srgbClr val="00cc99"/>
                </a:solidFill>
                <a:uFillTx/>
                <a:latin typeface="Times New Roman"/>
              </a:rPr>
              <a:t>i</a:t>
            </a:r>
            <a:r>
              <a:rPr b="0" lang="tr-TR" sz="2400" spc="-1" strike="noStrike" u="sng">
                <a:solidFill>
                  <a:srgbClr val="00cc99"/>
                </a:solidFill>
                <a:uFillTx/>
                <a:latin typeface="Times New Roman"/>
              </a:rPr>
              <a:t>on 1:</a:t>
            </a:r>
            <a:r>
              <a:rPr b="0" lang="tr-TR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bitwise "exclusive or" to flip or reverse the setting of desired bit(s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(make it a one if it was zero or make it zero if it was one)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bit pattern with C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 ^=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operator to flip the setting of bit positions where the pattern has one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flags </a:t>
            </a:r>
            <a:r>
              <a:rPr b="0" i="1" lang="tr-TR" sz="1800" spc="-1" strike="noStrike">
                <a:solidFill>
                  <a:srgbClr val="3333cc"/>
                </a:solidFill>
                <a:latin typeface="Courier New"/>
              </a:rPr>
              <a:t>^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= 0x54;</a:t>
            </a:r>
            <a:r>
              <a:rPr b="0" i="1" lang="tr-TR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means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flags = flags </a:t>
            </a:r>
            <a:r>
              <a:rPr b="0" i="1" lang="tr-TR" sz="1800" spc="-1" strike="noStrike">
                <a:solidFill>
                  <a:srgbClr val="3333cc"/>
                </a:solidFill>
                <a:latin typeface="Courier New"/>
              </a:rPr>
              <a:t>^ </a:t>
            </a:r>
            <a:r>
              <a:rPr b="0" i="1" lang="en-US" sz="1800" spc="-1" strike="noStrike">
                <a:solidFill>
                  <a:srgbClr val="3333cc"/>
                </a:solidFill>
                <a:latin typeface="Courier New"/>
              </a:rPr>
              <a:t>0x54;</a:t>
            </a:r>
            <a:r>
              <a:rPr b="0" lang="en-US" sz="2400" spc="-1" strike="noStrike">
                <a:solidFill>
                  <a:srgbClr val="3333cc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#define ACTIVE 0x0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#define RUNNING 0x8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/* flip active bit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flags ^= ACTIVE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..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/* flip ACTIVE and RUNNING bits *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flags |= ACTIVE + RUN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BAF19-3439-4D5F-A34C-89D7680D5F3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cc99"/>
                </a:solidFill>
                <a:uFillTx/>
                <a:latin typeface="Times New Roman"/>
              </a:rPr>
              <a:t>Application 2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bitwise "exclusive or" to exchange two variables of the same integral type without using a temporary area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hanging without exclusive or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char a = 0xb3, b = 0x5c, te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temp = a; a = b; b = te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hree xor's below exchange the contents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out the need for a third 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a ^= b; b ^= a; a ^= 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BAD57-7358-494C-B5FA-B51C1BD65A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ntegral data types and bi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data typ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hor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lo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re considered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integral typ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since each stores whole-number integ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sizes vary on various platforms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but generall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200" spc="-1" strike="noStrike">
                <a:solidFill>
                  <a:srgbClr val="000000"/>
                </a:solidFill>
                <a:latin typeface="Arial Unicode MS"/>
              </a:rPr>
              <a:t>char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ype contains 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bi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shor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ype contains 16 bi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long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ype contains 32 bi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Unicode MS"/>
              </a:rPr>
              <a:t>in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ype contains either 16 or 32 bi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bit represents a zero or one in computer's memory circu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2BB5E-5434-4380-AF42-904FFE2058F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772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cc99"/>
                </a:solidFill>
                <a:uFillTx/>
                <a:latin typeface="Times New Roman"/>
              </a:rPr>
              <a:t>Application 3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Use "exclusive or" to toggle an integral variable between two constant val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Example 1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onstants valu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l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val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the constant resulting from the express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( val1 ^ val2 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xor'd against a variable will change it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it w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or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f it wa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val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ample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2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toggle between the characters 'Y' and 'N‘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#define FLIPPER ( 'Y' ^ 'N'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char res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resp ^= FLIPPER; /* alternate Y/N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xample 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3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#define MALE 'M'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#define FEMALE 'F'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#define RODMAN (MALE ^ FEMALE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char gender = MALE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gender ^= RODMAN; /* sex change operation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DB84-B9C1-47D9-A3ED-1648B98DE2A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Shifting bits  (</a:t>
            </a: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&gt;&g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 and </a:t>
            </a:r>
            <a:r>
              <a:rPr b="1" lang="en-US" sz="2800" spc="-1" strike="noStrike">
                <a:solidFill>
                  <a:srgbClr val="ff3300"/>
                </a:solidFill>
                <a:latin typeface="Arial Unicode MS"/>
              </a:rPr>
              <a:t>&lt;&lt;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used to shift the bits of an operand to the right or left a desired number of posi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The number of positions to be shifted can be specified as a constant, in a variable or as an expression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Can be used on any of the integral data types -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char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short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, or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lon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s shifted out are los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eft shif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it positions vacated by shifting always filled with zer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right shift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it positions vacated by shifting filled with zeros for unsigned data type with copy of the highest (sign) bit for signed data 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518B0-9F08-4348-B045-71CDCB32B1B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Left shift operation (&lt;&lt;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37" name="19m1" descr=""/>
          <p:cNvPicPr/>
          <p:nvPr/>
        </p:nvPicPr>
        <p:blipFill>
          <a:blip r:embed="rId1"/>
          <a:stretch/>
        </p:blipFill>
        <p:spPr>
          <a:xfrm>
            <a:off x="4302000" y="3505320"/>
            <a:ext cx="4842000" cy="2124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 1: Left shift ope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x &lt;&lt; y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val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hifted lef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 2: Compound assignment ope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x &lt;&lt;= y;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fts varia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lef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bits of operand participate in the shi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short a = 0x68a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a &lt;&lt;= 3; /* shift left 3 bits */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57120" y="5410080"/>
            <a:ext cx="48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ts positions vacated by shift are filled with z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95815-4413-4FB4-AEE7-289842342E7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Right shift operation (&gt;&gt;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pic>
        <p:nvPicPr>
          <p:cNvPr id="141" name="19n1" descr=""/>
          <p:cNvPicPr/>
          <p:nvPr/>
        </p:nvPicPr>
        <p:blipFill>
          <a:blip r:embed="rId1"/>
          <a:stretch/>
        </p:blipFill>
        <p:spPr>
          <a:xfrm>
            <a:off x="4572000" y="3429000"/>
            <a:ext cx="4354560" cy="1895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515240" y="5334120"/>
            <a:ext cx="70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For unsigned data typ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bits positions vacated by shift are filled with zero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 1: Right shift ope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x &gt;&gt; y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ives valu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hifted righ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t 2: Compound assignment ope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x &gt;&gt;= y;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fts variabl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ight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bits of operand participate in the shif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unsigned short a = 0x98a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a &gt;&gt;= 5; /* shift right 5 bits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21685-8055-4A91-B72B-17785A448AF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&gt;&gt; for signed data type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</a:t>
            </a:r>
            <a:r>
              <a:rPr b="0" lang="en-US" sz="1800" spc="-1" strike="noStrike">
                <a:solidFill>
                  <a:srgbClr val="3333cc"/>
                </a:solidFill>
                <a:latin typeface="Times New Roman"/>
              </a:rPr>
              <a:t>signed data typ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its positions vacated by shift are filled with the original highest bit (sign bi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short a = 0x98a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* signed short var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a &gt;&gt;= 5;</a:t>
            </a:r>
            <a:r>
              <a:rPr b="0" lang="en-US" sz="2000" spc="-1" strike="noStrike">
                <a:solidFill>
                  <a:srgbClr val="3333cc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* shift right 5 bits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a = 0x78a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a &gt;&gt;= 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* shift right 5 bits 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19n2" descr=""/>
          <p:cNvPicPr/>
          <p:nvPr/>
        </p:nvPicPr>
        <p:blipFill>
          <a:blip r:embed="rId1"/>
          <a:stretch/>
        </p:blipFill>
        <p:spPr>
          <a:xfrm>
            <a:off x="4648320" y="1752480"/>
            <a:ext cx="4267080" cy="1584360"/>
          </a:xfrm>
          <a:prstGeom prst="rect">
            <a:avLst/>
          </a:prstGeom>
          <a:ln w="0">
            <a:noFill/>
          </a:ln>
        </p:spPr>
      </p:pic>
      <p:pic>
        <p:nvPicPr>
          <p:cNvPr id="147" name="19n3" descr=""/>
          <p:cNvPicPr/>
          <p:nvPr/>
        </p:nvPicPr>
        <p:blipFill>
          <a:blip r:embed="rId2"/>
          <a:stretch/>
        </p:blipFill>
        <p:spPr>
          <a:xfrm>
            <a:off x="4495680" y="3886200"/>
            <a:ext cx="4419720" cy="164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5A2DA-5284-40EE-BCAF-07D12EDEFD8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Left Shift appl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Application 1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Can use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&lt;&lt;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o multiply integral value by a power of tw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bit multiplies by 2, 2 bits multiplies by 4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its multiplies by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some implementations, shifting may be much faster than multiplying (but multiplication makes for much clearer cod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ing left shift to multiply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long x = 75, 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int i; 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x &lt;&lt;= 2;     /* x = 75 * 4 = 300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y = x &lt;&lt; 1;  /* y = ( x * 2 = 600 ) x is not changed */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x = 6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for ( i = 0; i &lt; 5; i++ 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printf( "%d\n", x &lt;&lt; i 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n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6  6 &lt;&lt; 0 is  6*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12  6 &lt;&lt; 1 is  6*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24  6 &lt;&lt; 2 is  6*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48  6 &lt;&lt; 3 is  6*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96  6 &lt;&lt; 4 is  6*16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5549B-2464-4D5F-A8AC-D5EB4ED9F6F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AvantGarde"/>
              </a:rPr>
              <a:t>Right Shift application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Times New Roman"/>
              </a:rPr>
              <a:t>Application 1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n use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&gt;&g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divide unsigned integral value by a power of 2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1 bit divides by 2, 2 bits divides by 4,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bits divides by 2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On some implementations, shifting may be much faster than dividing (but division makes for much clearer code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ifting signed values may fail because for negative values the result never gets past -1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100000"/>
              </a:lnSpc>
              <a:spcBef>
                <a:spcPts val="624"/>
              </a:spcBef>
              <a:buClr>
                <a:srgbClr val="3333cc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5 &gt;&gt;</a:t>
            </a: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3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is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1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and not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like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-5/8</a:t>
            </a:r>
            <a:r>
              <a:rPr b="0" lang="en-US" sz="25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ing right shift to divid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unsigned long x = 75, y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x &gt;&gt;= 2;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/* x = 75 / 4 = 18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y = x &gt;&gt; 1; /* y = ( x / 2 = 9 ) x is not changed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2AC72-E2E7-40F3-BF9D-0E3D32B9342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Shift Applications: Printing a number in binary</a:t>
            </a:r>
            <a:endParaRPr b="1" lang="en-US" sz="24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shifting to display an integer value in binar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rintf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does not have a format type to display number in binary, but you can write a little function to do thi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pattern with just one bit, repeatedly and'd against the integer to be print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hift pattern right one place after each bit displayed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void binprint( short val 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unsigned short 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for (i=0x8000; i != 0; i &gt;&gt;= 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putchar( ( i &amp; val )? '1' : '0' );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imes New Roman"/>
              </a:rPr>
              <a:t>See the alternative 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imes New Roman"/>
              </a:rPr>
              <a:t>in your textbook.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19o1" descr=""/>
          <p:cNvPicPr/>
          <p:nvPr/>
        </p:nvPicPr>
        <p:blipFill>
          <a:blip r:embed="rId1"/>
          <a:stretch/>
        </p:blipFill>
        <p:spPr>
          <a:xfrm>
            <a:off x="4724280" y="4322880"/>
            <a:ext cx="4114800" cy="233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A9DAA2-1A6E-4DD1-95A2-E3020BD3D9B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19o3" descr=""/>
          <p:cNvPicPr/>
          <p:nvPr/>
        </p:nvPicPr>
        <p:blipFill>
          <a:blip r:embed="rId1"/>
          <a:stretch/>
        </p:blipFill>
        <p:spPr>
          <a:xfrm>
            <a:off x="3200400" y="3429000"/>
            <a:ext cx="4876920" cy="271152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vantGarde"/>
              </a:rPr>
              <a:t>Shift Applications: Packing digits into a word</a:t>
            </a:r>
            <a:endParaRPr b="1" lang="en-US" sz="24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unsigned int pcke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char digs[5]="7801", *ch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for ( ch = digs, pcked = 0; *ch; ch++ )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pcked &lt;&lt;=4;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*shift for next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pcked |= (*ch &amp; 0x0f ); 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/*or in nibble *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imes New Roman"/>
              </a:rPr>
              <a:t>Think about the unpack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c99"/>
                </a:solidFill>
                <a:latin typeface="Times New Roman"/>
              </a:rPr>
              <a:t>function yourself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652480" y="509760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668320" y="5791320"/>
            <a:ext cx="66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k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49720-B311-42B4-9FDC-11440AE8774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3300"/>
                </a:solidFill>
                <a:latin typeface="AvantGarde"/>
              </a:rPr>
              <a:t>Value of b</a:t>
            </a: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i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ce of bits in a data type determines its valu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or same bit sequence, interpretation may vary - ASCII char, signed binary number, unsigned binary number,</a:t>
            </a:r>
            <a:r>
              <a:rPr b="0" lang="tr-TR" sz="2200" spc="-1" strike="noStrike">
                <a:solidFill>
                  <a:srgbClr val="000000"/>
                </a:solidFill>
                <a:latin typeface="Times New Roman"/>
              </a:rPr>
              <a:t> 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Regardless of interpretation, bits numbered from zero through number of bits minus on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wise operators work the same regardless of data interpre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19a1" descr=""/>
          <p:cNvPicPr/>
          <p:nvPr/>
        </p:nvPicPr>
        <p:blipFill>
          <a:blip r:embed="rId1"/>
          <a:stretch/>
        </p:blipFill>
        <p:spPr>
          <a:xfrm>
            <a:off x="1066680" y="2819520"/>
            <a:ext cx="7162920" cy="922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4F72-8A0C-41AB-9D38-17F40FA7204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Relating bits and constan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of the following constants is stored as a bit sequence with a single "one" bi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371600" y="1676520"/>
          <a:ext cx="6629400" cy="4875120"/>
        </p:xfrm>
        <a:graphic>
          <a:graphicData uri="http://schemas.openxmlformats.org/drawingml/2006/table">
            <a:tbl>
              <a:tblPr/>
              <a:tblGrid>
                <a:gridCol w="1542960"/>
                <a:gridCol w="1543320"/>
                <a:gridCol w="2392200"/>
                <a:gridCol w="11509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t patte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t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8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5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1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04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09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19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638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276</a:t>
                      </a: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001 0x0002 0x0004 0x0008 0x0010 0x0020 0x0040 0x0080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100 0x0200 0x0400 0x0800 0x1000 0x2000 0x4000 0x8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00000</a:t>
                      </a: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00001 00000000 00000010 00000000 00000100 00000000 00001000 00000000 00010000 00000000 00100000 00000000 01000000 00000000 10000000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00001 00000000 00000010 00000000 00000100 00000000 00001000 00000000 00010000 00000000 00100000 00000000 01000000 00000000 10000000 00000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br>
                        <a:rPr sz="1600"/>
                      </a:b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1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3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4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94D1C-149C-41EA-BDF4-2A926FB5F7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Hexadecimal nu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ditional constants can be used for bits 16 thru 3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ch constants are useful when using bitwise operators to access desired bi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onstants for bit sequenc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ith multiple one bits can be expressed as the sum of the constants for each bit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pose you want bits 0, 6, 7 and 10 to be ones. The constant needs to be the sum of the constants for each individual bit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143000" y="3581280"/>
          <a:ext cx="6857640" cy="2514240"/>
        </p:xfrm>
        <a:graphic>
          <a:graphicData uri="http://schemas.openxmlformats.org/drawingml/2006/table">
            <a:tbl>
              <a:tblPr/>
              <a:tblGrid>
                <a:gridCol w="1595880"/>
                <a:gridCol w="1596600"/>
                <a:gridCol w="2474640"/>
                <a:gridCol w="1190520"/>
              </a:tblGrid>
              <a:tr h="743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im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t patter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t 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8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</a:t>
                      </a:r>
                      <a:br>
                        <a:rPr sz="1600"/>
                      </a:b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4</a:t>
                      </a:r>
                      <a:br>
                        <a:rPr sz="1600"/>
                      </a:b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8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001 0x0040 0x008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4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00000</a:t>
                      </a:r>
                      <a:r>
                        <a:rPr b="0" lang="tr-TR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00001 00000000 01000000 00000000 1000000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00100 00000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</a:t>
                      </a:r>
                      <a:br>
                        <a:rPr sz="1600"/>
                      </a:b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x04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0000100 110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0B33E-C3D0-4E65-8EB5-FEBF1E30228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Hexadecimal numbe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's hard to relate the decimal sum back to individual bits. However, hex is easier since each hex digit has a 4-bit pattern (memorize them!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514600" y="2362320"/>
          <a:ext cx="3048120" cy="2842920"/>
        </p:xfrm>
        <a:graphic>
          <a:graphicData uri="http://schemas.openxmlformats.org/drawingml/2006/table">
            <a:tbl>
              <a:tblPr/>
              <a:tblGrid>
                <a:gridCol w="1402560"/>
                <a:gridCol w="216000"/>
                <a:gridCol w="1429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x</a:t>
                      </a: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/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r-TR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ex / b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0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 00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1 00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2 00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3 001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 0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 0101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6 011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 0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8 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9 1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 1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b 1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 1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 11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 1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 1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E0289-A964-4EC6-B98F-6EC110FCF7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Defining symbols for bit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t's easiest 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#def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ach bi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#define BIT0 0x00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#define BIT1 0x00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#define BIT2 0x000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tr-TR" sz="1600" spc="-1" strike="noStrike">
                <a:solidFill>
                  <a:srgbClr val="3333cc"/>
                </a:solidFill>
                <a:latin typeface="Courier New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#define BIT15 0x8000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then #define combinations by either adding or or'ing them togeth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#define STATBITS (BIT0+BIT6+BIT7+BIT1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ts used as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dicator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accessed by defining a constant for each bit posi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4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#define PASTDUE 0x0001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#define OVERLIMIT 0x0002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#define LOST 0x0004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#define STOLEN 0x0008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6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0" lang="en-US" sz="1600" spc="-1" strike="noStrike">
                <a:solidFill>
                  <a:srgbClr val="3333cc"/>
                </a:solidFill>
                <a:latin typeface="Courier New"/>
              </a:rPr>
              <a:t>#define VIP 0x0010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5465C-248F-4930-94F1-8C9799AC37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19d1" descr=""/>
          <p:cNvPicPr/>
          <p:nvPr/>
        </p:nvPicPr>
        <p:blipFill>
          <a:blip r:embed="rId1"/>
          <a:stretch/>
        </p:blipFill>
        <p:spPr>
          <a:xfrm>
            <a:off x="2286000" y="3276720"/>
            <a:ext cx="5562720" cy="267156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operators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7617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wise operators apply the same operation to matching bits in value on each side of opera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the one's complement is unary and works only on the value to it's right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for each bit position determined only by the bit(s) in that posi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for each operator summarized in the following t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8CD9-59C2-4341-9E6A-5D48C8B1681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vantGarde"/>
              </a:rPr>
              <a:t>Bitwise "and</a:t>
            </a:r>
            <a:r>
              <a:rPr b="1" lang="tr-TR" sz="2800" spc="-1" strike="noStrike">
                <a:solidFill>
                  <a:srgbClr val="ff3300"/>
                </a:solidFill>
                <a:latin typeface="AvantGarde"/>
              </a:rPr>
              <a:t>” (&amp;)</a:t>
            </a:r>
            <a:endParaRPr b="1" lang="en-US" sz="2800" spc="-1" strike="noStrike">
              <a:solidFill>
                <a:srgbClr val="ff3300"/>
              </a:solidFill>
              <a:latin typeface="AvantGar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80773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the result of logically and'ing the corresponding bits of each 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hort bb = 0x1357, cc = 0x765F, dd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d = bb &amp; cc;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tr-TR" sz="20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tr-TR" sz="1800" spc="-1" strike="noStrike">
                <a:solidFill>
                  <a:srgbClr val="3333cc"/>
                </a:solidFill>
                <a:latin typeface="Arial Unicode MS"/>
              </a:rPr>
              <a:t>// 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dd is set to 0x1257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bi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d'd with the corresponding bit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c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e the</a:t>
            </a:r>
            <a:r>
              <a:rPr b="0" lang="tr-T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. Result bits are zero unless both bits were a o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"and" operation is sometimes called "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it multiplic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, since the result is same as mu</a:t>
            </a:r>
            <a:r>
              <a:rPr b="0" lang="tr-TR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plying the pair of bi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19e1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5986440" cy="16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087CD-34E5-4014-8D9D-7D8A416E439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5T17:58:37Z</dcterms:created>
  <dc:creator>kalid</dc:creator>
  <dc:description/>
  <dc:language>en-US</dc:language>
  <cp:lastModifiedBy>KD</cp:lastModifiedBy>
  <dcterms:modified xsi:type="dcterms:W3CDTF">2002-01-06T23:06:31Z</dcterms:modified>
  <cp:revision>137</cp:revision>
  <dc:subject/>
  <dc:title>Chapter 10 - Structures, Unions, Bit Manipulations, and Enumerations</dc:title>
</cp:coreProperties>
</file>