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9FA7D-D5F9-42E2-8C90-9E812A4C7B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452EA-0F33-483D-A832-FD2DA08A89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D6D38-056F-4D14-8E8D-2077A51F21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00AA0-7670-42EF-A845-3BE4D7F32D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C5FFA-9CD7-41B5-91FD-7BA5202681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13580-7417-4478-A7A1-28C8569EA5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32822-982F-4E5C-8A6A-AB25D6ACE6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78A43-9469-40F0-BD66-E34F7B9114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083AF-E98F-45AF-90A3-763B1BFF50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2A9F9-3549-4156-B597-7083993127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799F7-9030-40B4-BF33-4645C5079E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11E8F-2928-4168-9EA7-A94B7117F0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ıvanç Dinç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8DFE7-4B83-41D1-A88A-BCFB75198D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Kıvanç Dinç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62940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vantGarde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vantGarde"/>
              </a:rPr>
              <a:t>Click to edit the outline text format</a:t>
            </a:r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AvantGarde"/>
              </a:rPr>
              <a:t>ELE-491</a:t>
            </a:r>
            <a:r>
              <a:rPr b="0" lang="tr-TR" sz="2400" spc="-1" strike="noStrike">
                <a:solidFill>
                  <a:srgbClr val="000000"/>
                </a:solidFill>
                <a:latin typeface="AvantGarde"/>
              </a:rPr>
              <a:t> 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AvantGarde"/>
              </a:rPr>
              <a:t>07/01/2002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36576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Lecture  Notes on </a:t>
            </a:r>
            <a:r>
              <a:rPr b="0" lang="tr-TR" sz="2400" spc="-1" strike="noStrike">
                <a:solidFill>
                  <a:srgbClr val="000000"/>
                </a:solidFill>
                <a:latin typeface="AvantGarde"/>
              </a:rPr>
              <a:t>Enum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Enumera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umeration used to assign integer constants to related set of symbol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be used just to create the symbol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use to define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enum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data type which can be used to declare enumeration type variabl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an let compiler assign the values or explicitly specify your own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ould use </a:t>
            </a:r>
            <a:r>
              <a:rPr b="1" lang="en-US" sz="2200" spc="-1" strike="noStrike">
                <a:solidFill>
                  <a:srgbClr val="3333cc"/>
                </a:solidFill>
                <a:latin typeface="Courier New"/>
              </a:rPr>
              <a:t>#define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o do pretty much the same thing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ce defined, only constant names should be used, NEVER the numeric valu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46774D-19B8-4386-A721-A5D24B29460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Examples </a:t>
            </a:r>
            <a:br>
              <a:rPr sz="2800"/>
            </a:b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enum REGIONS { NORTH, SOUTH, EAST, WEST }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/* C assigns 0 1 2 3 */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..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/* declare variable of this enum type */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enum REGIONS reg; ..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/* should only assign by NAME */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reg = WEST;   /* NEVER use numeric value! */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Courier New"/>
              </a:rPr>
              <a:t>reg = 1;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      /* DON'T DO THIS, YOU IDIOT! */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reg = SOUTH;  /* that's better! */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..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if ( reg == EAST )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17E1E-56E0-40B2-9E7D-E0E67F59E55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dentifiers inside the braces called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numeration consta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Standard is to use all capital letters for these names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default, first enumeration constant given value zero, incremented by one for each additional consta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an specify a specific value for a constant, continues incrementing from there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enum REGIONS { NORTH, SOUTH=4, EAST, WEST }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/* C assigns 0 4 5 6 */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..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enum CROPS{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CORN,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/* 0 */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WHEAT=4,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/* 4 */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SOYBEANS,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/* 5 */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POTATOE,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/* 6 */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BARLEY=15,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/* 15 */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OATS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/* 16 */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}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219B4-194E-4AAA-94A7-02830CABE77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c value for constant not usually used unless it relates to data outside the progra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ize of enum type implementation-depend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k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ruc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u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define template for later declarations and/or declare one or more variab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ometimes used just to define constant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1D672-8E14-4B36-A56B-CA189828D93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Examples 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Courier New"/>
              </a:rPr>
              <a:t>/* just define constants */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enum { GOOD, BAD, UGLY }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..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int hombre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..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hombre = UGLY;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Courier New"/>
              </a:rPr>
              <a:t>/* define tag for later declarations */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enum COLORS { RED, WHITE, BLUE }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..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enum COLORS stripe1 = RED, stars = WHITE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Courier New"/>
              </a:rPr>
              <a:t>/* define constants &amp; declare vars */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enum {POOR, AVERAGE, GOOD} rating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Courier New"/>
              </a:rPr>
              <a:t>/* define tag and declare vars */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enum FILESTATUS { OPEN, CLOSED, UNKNOWN } filesta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..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enum FILESTATUS inputstat, outputsta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787062-978D-4154-8980-CD04A2AF172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Enumeration Issu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81532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#defi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robably better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nu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or values that will be stored in file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nu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ine for values used only in memory during program execu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der if a value is deleted from enum li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for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enum REGIONS {NORTH, NW, SE, SOUTH, WEST }; /*0 1 2 3 4 */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fter deleting NW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enum REGIONS {NORTH, SE, SOUTH, WEST }; /* 0 1 2 3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program(s) using this type are recompiled, ol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nu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values that may be stored in files for SE, SOUTH and WEST are no longer valid. If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#defi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sed instead, NW can be easily deleted without affecting other valu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for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aft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1600200" y="4952880"/>
          <a:ext cx="6095880" cy="157464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15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Courier New"/>
                        </a:rPr>
                        <a:t>#define NORTH 0 #define NW 1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Courier New"/>
                        </a:rPr>
                        <a:t>#define SE 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Courier New"/>
                        </a:rPr>
                        <a:t>#define SOUTH 3 #define WEST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Courier New"/>
                        </a:rPr>
                        <a:t>#define NORTH 0 #define SE 2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3333cc"/>
                          </a:solidFill>
                          <a:latin typeface="Courier New"/>
                        </a:rPr>
                        <a:t>#define SOUTH 3 #define WEST 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9CB48-CB09-449C-842D-B562ECCABFA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5T17:58:37Z</dcterms:created>
  <dc:creator>kalid</dc:creator>
  <dc:description/>
  <dc:language>en-US</dc:language>
  <cp:lastModifiedBy>KD</cp:lastModifiedBy>
  <dcterms:modified xsi:type="dcterms:W3CDTF">2002-01-06T23:00:53Z</dcterms:modified>
  <cp:revision>137</cp:revision>
  <dc:subject/>
  <dc:title>Chapter 10 - Structures, Unions, Bit Manipulations, and Enumerations</dc:title>
</cp:coreProperties>
</file>