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C92-EE97-46FA-957C-C24615E8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A4B-CB9D-4844-A117-006EDDA8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95C-4AE5-4D0A-BCCB-B089EA79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BA4-A2E2-4BDD-AE22-3DEDF13B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223-53FE-4BB8-8534-C4A8B0EC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960-FD29-4B3B-995A-F086E6CE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F0C-7052-41E8-BE36-6454C5F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869-EC03-42A7-BA9F-A7D244D3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9D1-36CD-467C-8199-4206E441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A76-C7EA-4CD8-8733-B3522A5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DB2-F5B9-475A-8BB1-50FCBF66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DEB-7C25-4007-809F-6F8ABAA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0B55-4043-4AE6-9FF3-C52BB8176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o.tubitak.gov.t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M-515</a:t>
            </a:r>
            <a:br>
              <a:rPr sz="3200"/>
            </a:b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ftware Verification &amp; Validatio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(Fall 2002 Semester)</a:t>
            </a:r>
            <a:endParaRPr b="0" lang="en-US" sz="18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r. Kıvanç DİNÇ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ÜBİTAK-UEKAE/İLT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0033cc"/>
                </a:solidFill>
                <a:uFillTx/>
                <a:latin typeface="Tahoma"/>
                <a:hlinkClick r:id="rId2"/>
              </a:rPr>
              <a:t>http://www.uao.tubitak.gov.t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Criticality of the Product – Integrity Level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intend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any given software product can vary considerably and, as a result, so can the implications and consequences of its incorrect op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VVP must specify a method of classifying the software integrity levels relevant to each deliverable product a project is produc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ity, infinite logical permutation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ose areas that have the potential to cause significant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C69-96F4-4EDD-95F7-F023BDD069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riticality Analysi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used to identify, evaluate, and categorize subjects and areas within the software produ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93640" y="1862280"/>
            <a:ext cx="809316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ahoma"/>
              </a:rPr>
              <a:t>structured evaluation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of the software characteristics (e.g., safety, security,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omplexity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, performance)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ahoma"/>
              </a:rPr>
              <a:t>for severity of impact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of system failure, system degradation, or failure to meet software requirements or system objec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A53-DA50-472C-A70F-3A64CAFA6C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Marciniak’s Method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a block (or control flow) diagram of the system and its softwa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e each critical function or quality requirement through the diagr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y all traced software modules as criti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additional analysis on these traced modu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Repeat the analysis for each life cycle ph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What is the implicit assumption here</a:t>
            </a:r>
            <a:r>
              <a:rPr b="0" lang="tr-TR" sz="2000" spc="-1" strike="noStrike">
                <a:solidFill>
                  <a:srgbClr val="339933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The original, </a:t>
            </a: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specified functions and quality requirements have themselves </a:t>
            </a:r>
            <a:r>
              <a:rPr b="0" lang="en-US" sz="1600" spc="-1" strike="noStrike">
                <a:solidFill>
                  <a:srgbClr val="800000"/>
                </a:solidFill>
                <a:latin typeface="Tahoma"/>
              </a:rPr>
              <a:t>already been ranked</a:t>
            </a: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 for criticalit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752-3196-4E43-B104-FBFCBA91C4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Marciniak’s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Develop a block (or control flow) diagram of the system and its softw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Trace each critical function or quality requirement through th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Classify all traced software modules as criti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Focus additional analysis on these traced mod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Repeat the analysis for each life cycle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What is the implicit assumption here</a:t>
            </a:r>
            <a:r>
              <a:rPr b="0" lang="tr-TR" sz="2000" spc="-1" strike="noStrike">
                <a:solidFill>
                  <a:srgbClr val="339933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The original,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specified functions and quality requirements have themselves </a:t>
            </a:r>
            <a:r>
              <a:rPr b="0" lang="en-US" sz="1600" spc="-1" strike="noStrike" u="sng">
                <a:solidFill>
                  <a:srgbClr val="b2b2b2"/>
                </a:solidFill>
                <a:uFillTx/>
                <a:latin typeface="Tahoma"/>
              </a:rPr>
              <a:t>already been ranked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 for critic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90E-0CCD-4BCC-AE33-B313F376F14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Hazard Analysi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ing a hazard analys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 if any of the listed conditions ex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it early in the project life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Concept phase </a:t>
            </a:r>
            <a:r>
              <a:rPr b="0" lang="en-US" sz="1800" spc="-1" strike="noStrike">
                <a:solidFill>
                  <a:srgbClr val="6666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 establish integrity levels </a:t>
            </a:r>
            <a:r>
              <a:rPr b="0" lang="en-US" sz="1800" spc="-1" strike="noStrike">
                <a:solidFill>
                  <a:srgbClr val="6666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 plan acquirer’s V&amp;V effo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 it periodically during the remainder of the project life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Initial analysis: identify potential system haz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Identify general strategies for eliminating and controlling each haz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685800"/>
            <a:ext cx="8191440" cy="17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 </a:t>
            </a:r>
            <a:r>
              <a:rPr b="0" lang="en-US" sz="2000" spc="-1" strike="noStrike" u="sng">
                <a:solidFill>
                  <a:srgbClr val="800000"/>
                </a:solidFill>
                <a:uFillTx/>
                <a:latin typeface="Tahoma"/>
              </a:rPr>
              <a:t>hazard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is a source of potential harm or situation with a potential for harm in terms of human injury, damage to health, property, or the environment, or some combination of these. [IEC, 19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+ economic loss, failure of mission, or adverse social impact. [IEEE, 199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BBD-5157-4A57-87D2-17C8DC655C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echniques for Performing Hazard Analysi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s and insp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of the effects of deviations on normal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2b2b2"/>
                </a:solidFill>
                <a:uFillTx/>
                <a:latin typeface="Tahoma"/>
              </a:rPr>
              <a:t>Fault-tree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tracing hazardous events back to their sources by using a logic diagram that assigns probabilities to credible event 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2b2b2"/>
                </a:solidFill>
                <a:uFillTx/>
                <a:latin typeface="Tahoma"/>
              </a:rPr>
              <a:t>Event-tree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tracing of primary event forward to identify its consequen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Are they performed by by individuals 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or by 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a group 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of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individuals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647-C5B7-4A29-B1BC-EBE487CB9D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echniques for Performing Hazar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Reviews and insp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nalysis of the effects of deviations on norma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ahoma"/>
              </a:rPr>
              <a:t>Fault-tre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ing hazardous events back to their sources by using a logic diagram that assigns probabilities to credible event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ahoma"/>
              </a:rPr>
              <a:t>Event-tre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cing of primary event forward to identify its con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Are they performed by by individuals 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or by 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a group 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of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individuals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647-9DD1-4ACF-8528-3A13473F024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Techniques for Performing Hazar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Reviews and insp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nalysis of the effects of deviations on norma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2b2b2"/>
                </a:solidFill>
                <a:uFillTx/>
                <a:latin typeface="Tahoma"/>
              </a:rPr>
              <a:t>Fault-tre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tracing hazardous events back to their sources by using a logic diagram that assigns probabilities to credible event s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2b2b2"/>
                </a:solidFill>
                <a:uFillTx/>
                <a:latin typeface="Tahoma"/>
              </a:rPr>
              <a:t>Event-tre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tracing of primary event forward to identify its con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Are they performed by by individuals </a:t>
            </a:r>
            <a:r>
              <a:rPr b="0" lang="tr-TR" sz="2000" spc="-1" strike="noStrike">
                <a:solidFill>
                  <a:srgbClr val="339933"/>
                </a:solidFill>
                <a:latin typeface="Tahoma"/>
              </a:rPr>
              <a:t>or by </a:t>
            </a: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a group </a:t>
            </a:r>
            <a:r>
              <a:rPr b="0" lang="tr-TR" sz="2000" spc="-1" strike="noStrike">
                <a:solidFill>
                  <a:srgbClr val="339933"/>
                </a:solidFill>
                <a:latin typeface="Tahoma"/>
              </a:rPr>
              <a:t>of</a:t>
            </a: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 individuals</a:t>
            </a:r>
            <a:r>
              <a:rPr b="0" lang="tr-TR" sz="2000" spc="-1" strike="noStrike">
                <a:solidFill>
                  <a:srgbClr val="339933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9D1-AEA5-49D4-A343-A9A381D8238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isk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800000"/>
                </a:solidFill>
                <a:uFillTx/>
                <a:latin typeface="Tahoma"/>
              </a:rPr>
              <a:t>Intrinsic risk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to the system, i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, its environment, and its planned usage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iscovered while performing a hazar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Ex: A B2B Web 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b2b2b2"/>
                </a:solidFill>
                <a:uFillTx/>
                <a:latin typeface="Tahoma"/>
              </a:rPr>
              <a:t>Extrinsic or coincidental risks</a:t>
            </a: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often arise from the nature of the software and software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Unneceassary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Low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Requirements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Software tool and method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Unexpected interface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6280" y="685800"/>
            <a:ext cx="819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 </a:t>
            </a: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risk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is a potential</a:t>
            </a: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ly negative events whose consequences and likelihood of occurrence have been evalu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7EB-17AD-44EA-975A-91DC3890884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Risk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b2b2b2"/>
                </a:solidFill>
                <a:uFillTx/>
                <a:latin typeface="Tahoma"/>
              </a:rPr>
              <a:t>Intrinsic risks</a:t>
            </a: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 to the system, its 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application, its environment, and its planned usage</a:t>
            </a: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 discovered while performing a hazard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Ex: A B2B Web 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800000"/>
                </a:solidFill>
                <a:uFillTx/>
                <a:latin typeface="Tahoma"/>
              </a:rPr>
              <a:t>Extrinsic or coincidental risks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arise from the nature of the software and software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Unneceassary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Low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Requirements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Software tool and method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Unexpected interface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6280" y="685800"/>
            <a:ext cx="81914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 </a:t>
            </a: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risk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is a potential</a:t>
            </a: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ly negative events whose consequences and likelihood of occurrence have been evalu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916-C031-4A03-B13B-FBA4AFE367F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EEE Std. 1012-1998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standard both structures and simplifies the selecting and documenting the V&amp;V activities needed for a particular item and pro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me considerations that must be evaluated when planning and performing V&amp;V activities using the standar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selected integrity le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minimum V&amp;V tasks recommended for the selected integrity le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necessary intensity and rigor needed to perform the various V&amp;V tas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detailed criteria for  specifying the V&amp;V tas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&amp;V tasks for sys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role of V&amp;V in prog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structure and content of V&amp;V pl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DCE-0D2B-478D-8370-85D71120C7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b2b2b2"/>
                </a:solidFill>
                <a:uFillTx/>
                <a:latin typeface="Tahoma"/>
              </a:rPr>
              <a:t>Extrinsic or coincidental risks</a:t>
            </a: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often arise from the nature of the software and software develop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Unneceassary complex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Low 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Requirements grow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Software tool and method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Unexpected interface behavi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ot causes of the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Schedule and cost press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Lack of technical capac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Lack of planning and manag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Tahoma"/>
              </a:rPr>
              <a:t>The high rate of change in underlying computer technolog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ember that V&amp;V, by itself, does not manage these root cau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is the function of 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project manage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F32-507A-4F55-951B-F088F86E30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&amp;V should focu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efforts on those risks that will impact the attainment of the required software integ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the risks have in fact eventua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y have, quantify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451"/>
              </a:spcBef>
              <a:buClr>
                <a:srgbClr val="b2b2b2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Evaluate and rank them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by asking the following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What can go wrong</a:t>
            </a: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How and when </a:t>
            </a:r>
            <a:r>
              <a:rPr b="0" lang="en-US" sz="1600" spc="-1" strike="noStrike">
                <a:solidFill>
                  <a:srgbClr val="b2b2b2"/>
                </a:solidFill>
                <a:latin typeface="Tahoma"/>
              </a:rPr>
              <a:t>is it likely to go wrong</a:t>
            </a: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What will occur when it goes wrong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Will it be detectabl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What is the probability of loss if it occur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If the loses are only economic, how much will be lost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What might be the losses if the worst case happened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What are the options for preventing it from occuring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217520" indent="-3578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Will the alternatives produce other risk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4.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Implement a plan of action that targets each identified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C59-241A-45E7-A26A-104138C644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V</a:t>
            </a: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&amp;V should focus 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its efforts on those risks that will impact the attainment of the required software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1.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Determine if the risks have in fact eventu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2.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If they have, quantify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and rank them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 ask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follow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What can go wrong</a:t>
            </a: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How and when </a:t>
            </a:r>
            <a:r>
              <a:rPr b="0" lang="en-US" sz="1600" spc="-1" strike="noStrike">
                <a:solidFill>
                  <a:srgbClr val="666633"/>
                </a:solidFill>
                <a:latin typeface="Tahoma"/>
              </a:rPr>
              <a:t>is it likely to go wrong</a:t>
            </a: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What will occur when it goes wro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Will it be detect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What is the probability of loss if it occur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If the loses are only economic, how much will be los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What might be the losses if the worst case happen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What are the options for preventing it from occur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Will the alternatives produce other risk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mplement a plan of action that targets each identified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D0F-4F60-41CC-85E1-F22A8A5F96B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ntegrity Level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ypically, projects that control life-sustaining processes or that would cause catastrophic results on failure require greater and more intense V&amp;V efforts than products whose failure simply cause inconvenience, such as stand-alone tool developed for personal 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integrity levels that a project could use are to evaluate each specified function or sofware attribu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grity levels can vary within a pro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an decrease as a result of sequence of eval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an increase if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EF4-7943-4D77-A5B5-01B7C00A48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Four Integrity Level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High (Level 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ffects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critical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performance of the syst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f the function does not work correctly, the system is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useless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or even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dangerous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Major (Level 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ffects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important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system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lack of the function is a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serious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operational impact. It may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comprise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the product in use but does not render it dangerous or utterly useles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Moderate (Level 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affects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performance of the system, bur workaround strategies can be implemented to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compensate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for loss of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lack of function is an operational impact but the system can be made to work by using a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workaround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Tahoma"/>
              </a:rPr>
              <a:t>Low (Level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as a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noticeable effect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on system performance, but merely creates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incovenience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to the us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lack of function is an operational impact but the effect is </a:t>
            </a:r>
            <a:r>
              <a:rPr b="0" lang="tr-TR" sz="1800" spc="-1" strike="noStrike">
                <a:solidFill>
                  <a:srgbClr val="cc0066"/>
                </a:solidFill>
                <a:latin typeface="Tahoma"/>
              </a:rPr>
              <a:t>minor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and no explicit workaround is necessar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E86-A3B0-418A-99C1-78516ECED3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term critical should be specifically defined during the criticality analy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hazard and risk analyses performed earlier provide the basis for the criticality analy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Key elements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f any criticality analysis 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assessments of the impact or consequence of even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likelihood that the event will in fact occu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4BA-49A0-4729-9F12-19B7EAFC17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Integrity Level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23960" y="1295280"/>
          <a:ext cx="7696080" cy="3921120"/>
        </p:xfrm>
        <a:graphic>
          <a:graphicData uri="http://schemas.openxmlformats.org/drawingml/2006/table">
            <a:tbl>
              <a:tblPr/>
              <a:tblGrid>
                <a:gridCol w="1878120"/>
                <a:gridCol w="1454040"/>
                <a:gridCol w="1455840"/>
                <a:gridCol w="1452240"/>
                <a:gridCol w="1455840"/>
              </a:tblGrid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ei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ability of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Reason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Prob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Occas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nfrequ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atastroph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l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ri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r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Neg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89F-AE31-4A84-9586-1AFBE4F5B4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Organizational Independenc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selection of personnel or organization(s) to plan and perform V&amp;V tasks of the project depends on the nature of the pro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primarily the desired level of integr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allocation of responsibility for various V&amp;V tasks can range anywhe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from actual developers who unit test their own co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o specialized organizations that have completely independent facili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ich duplicate the development organization’s software/hardware test environ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Ultimately, the parties who are acquiring the software must be comfortable with the allocation responsibil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4B2-FC82-4A59-A211-3D2C56F746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Organizational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selection of personnel or organization(s) to plan and perform V&amp;V tasks of the project depends on the nature of th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primarily the desired level of integ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allocation of responsibility for various V&amp;V tasks can range any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from actual developers who unit test their own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to specialized organizations that have completely independent facil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hich duplicate the development organization’s software/hardware test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ltimately, the parties who are acquiring the software must be comfortable with the allocation responsi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5A9-F94E-47EC-A45C-3A1BDEF1AC2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Key Independence Descriminator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cc"/>
                </a:solidFill>
                <a:latin typeface="Tahoma"/>
              </a:rPr>
              <a:t>Managerial Independ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&amp;V grou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is managed separately from the development organizatio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reports directly to the acquirer of the softwar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provides information to develope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has authority to make decisions regarding all V&amp;V 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Technical Independ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V&amp;V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is formed of persons other than the development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comes up with their own approach to V&amp;V </a:t>
            </a: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(selection of tools,etc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Financial Independ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The budget for V&amp;V activities are separate and distinct from all other activi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B04-4043-4CD4-9307-0D53ADBF94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selected </a:t>
            </a: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integrity level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criticality of the software: high integrity ... low integr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minimum V&amp;V tasks recommended for the selected integrity le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plus a table of optional tasks to help </a:t>
            </a:r>
            <a:r>
              <a:rPr b="0" lang="tr-TR" sz="1800" spc="-1" strike="noStrike" u="sng">
                <a:solidFill>
                  <a:srgbClr val="800000"/>
                </a:solidFill>
                <a:uFillTx/>
                <a:latin typeface="Tahoma"/>
              </a:rPr>
              <a:t>tailoring</a:t>
            </a: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 proces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necessary </a:t>
            </a: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intensity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needed to perform the various V&amp;V tas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analysis across normal and abnormal operating conditions -&gt; integr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necessary </a:t>
            </a: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rigor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needed to perform the various V&amp;V tas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degree to which formal tecniques and recording procedure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degree of technical and managerial indepen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DF1-8B50-49CD-8D0D-002183A7C7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Key Independence Descri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Managerial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V&amp;V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is managed separately from the development organiz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reports directly to the acquirer of the softwa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provides information to develop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has authority to make decisions regarding all V&amp;V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cc"/>
                </a:solidFill>
                <a:latin typeface="Tahoma"/>
              </a:rPr>
              <a:t>Technical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&amp;V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is formed of persons other than the development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comes up with their own approach to V&amp;V </a:t>
            </a:r>
            <a:r>
              <a:rPr b="0" lang="tr-TR" sz="1600" spc="-1" strike="noStrike">
                <a:solidFill>
                  <a:srgbClr val="666633"/>
                </a:solidFill>
                <a:latin typeface="Tahoma"/>
              </a:rPr>
              <a:t>(selection of tools,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Financial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The budget for V&amp;V activities are separate and distinct from all other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CD9-14E7-4B85-B851-58794EAEB92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Key Independence Descri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Managerial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V&amp;V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is managed separately from the development organiz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reports directly to the acquirer of the softwa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provides information to develop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has authority to make decisions regarding all V&amp;V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Technical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V&amp;V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is formed of persons other than the development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comes up with their own approach to V&amp;V </a:t>
            </a:r>
            <a:r>
              <a:rPr b="0" lang="tr-TR" sz="1600" spc="-1" strike="noStrike">
                <a:solidFill>
                  <a:srgbClr val="b2b2b2"/>
                </a:solidFill>
                <a:latin typeface="Tahoma"/>
              </a:rPr>
              <a:t>(selection of tools,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cc"/>
                </a:solidFill>
                <a:latin typeface="Tahoma"/>
              </a:rPr>
              <a:t>Financial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budget for V&amp;V activities are separate and distinct from all other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0D9-B221-412F-94F8-5907BAA53984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ypes and Degrees of Independenc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Differing degrees of independence may be associated with an independent V&amp;V (IV&amp;V) effort depending on the criticality of the final produ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evel 4 products must adhere to the strictest forms of independ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evel 1 (or </a:t>
            </a:r>
            <a:r>
              <a:rPr b="0" lang="tr-TR" sz="2400" spc="-1" strike="noStrike">
                <a:solidFill>
                  <a:srgbClr val="800000"/>
                </a:solidFill>
                <a:latin typeface="Tahoma"/>
              </a:rPr>
              <a:t>below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) products need not be as regoro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9B5-8BD5-4DF6-A657-2587258871C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Types of IV&amp;V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990720"/>
          <a:ext cx="8076600" cy="4063680"/>
        </p:xfrm>
        <a:graphic>
          <a:graphicData uri="http://schemas.openxmlformats.org/drawingml/2006/table">
            <a:tbl>
              <a:tblPr/>
              <a:tblGrid>
                <a:gridCol w="2019240"/>
                <a:gridCol w="2018880"/>
                <a:gridCol w="2019240"/>
                <a:gridCol w="2019240"/>
              </a:tblGrid>
              <a:tr h="598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s of Independ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Independence 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lassical IV&amp;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odified IV&amp;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nternal IV&amp;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mbedded IV&amp;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646000" y="5181480"/>
            <a:ext cx="385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99"/>
                </a:solidFill>
                <a:latin typeface="Tahoma"/>
              </a:rPr>
              <a:t>I    :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rigorous independence,</a:t>
            </a:r>
            <a:r>
              <a:rPr b="1" lang="tr-TR" sz="1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99"/>
                </a:solidFill>
                <a:latin typeface="Tahoma"/>
              </a:rPr>
              <a:t>I-Q: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ndependence with qualifications,</a:t>
            </a:r>
            <a:r>
              <a:rPr b="1" lang="tr-TR" sz="16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99"/>
                </a:solidFill>
                <a:latin typeface="Tahoma"/>
              </a:rPr>
              <a:t>M-I: 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inimal independ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5D2-FF88-431E-8194-6D4791BB527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lassical IV&amp;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generally required for Level 4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applies the highest degree of independence in all thre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maintain a good working relationship with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Modified IV&amp;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appropriate for Level 3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differs in management and financial asp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development and V&amp;V are separate but both report to the same organizational parent who has the responsibility for the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66680" y="4308480"/>
          <a:ext cx="7010640" cy="186372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s of Indepe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Independence Parame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echn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Finan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lassical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odified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nternal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mbedded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66A-B8F6-45ED-8B06-1FA24C5C7D7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b2b2b2"/>
                </a:solidFill>
                <a:latin typeface="Tahoma"/>
              </a:rPr>
              <a:t>Classical IV&amp;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generally required for Level 4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applies the highest degree of independence in all three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maintain a good working relationship with 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odified IV&amp;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appropriate for Level 3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differs in management and financial a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development and V&amp;V are separate but both report to the same organizational parent who has the responsibility for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66680" y="4308480"/>
          <a:ext cx="7010640" cy="186372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s of Indepe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Independence Parame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echn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Finan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lassical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odified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nternal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mbedded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7EB-A86A-44FC-8183-6921DEB73DE9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al  IV&amp;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appropriate when risks are low or moderate and benefits of preexisting staff knowledge outweigh objectiv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V&amp;V group is part of the development organization, but still a distinct, recognizable ent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managerial, technical, and financial independence are comprimi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66680" y="3429000"/>
          <a:ext cx="7010640" cy="186372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s of Indepe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Independence Parame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echn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Finan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lassical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odified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nternal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mbedded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B0A-7145-471D-BCD1-A62689D6AB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Embedded  IV&amp;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uses personnel from the development organization – comprimises technical independ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budget is controlled by the development gro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666633"/>
                </a:solidFill>
                <a:latin typeface="Tahoma"/>
              </a:rPr>
              <a:t>V&amp;V activities are only contribute to the assessments produced in the course of normal develop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429000"/>
          <a:ext cx="7010640" cy="186372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s of Indepen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tional Independence Parame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echn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Finan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Classical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Modified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Internal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-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Embedded IV&amp;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-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1CC-506E-4853-886B-EF6F41108C0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detailed criteria for  specifying the V&amp;V tas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min. criteria for correctness, consistency, completeness, accuracy, readability, testabilit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&amp;V </a:t>
            </a:r>
            <a:r>
              <a:rPr b="0" lang="tr-TR" sz="2000" spc="-1" strike="noStrike" u="sng">
                <a:solidFill>
                  <a:srgbClr val="800000"/>
                </a:solidFill>
                <a:uFillTx/>
                <a:latin typeface="Tahoma"/>
              </a:rPr>
              <a:t>tasks for systems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non-software-specific V&amp;V tasks: hazard analysis, risk analysis, migration assessment, and retirement assess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role of V&amp;V in progr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relationships and interactions between V&amp;V activities and other tas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structure and content of V&amp;V pl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the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51D-3670-49A6-A424-844D4CABE9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ing the Scope of the Ef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duct and Its Critic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ity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ganizational Context: In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A4D-7E43-48A5-9799-384D34B68E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Determining the Scope of the Effor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tors that fundamentally determine the scope and the technical activities are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ature of the produ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What hazards might it create</a:t>
            </a: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How is </a:t>
            </a: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it </a:t>
            </a: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being built</a:t>
            </a: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? (technology used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33"/>
                </a:solidFill>
                <a:latin typeface="Tahoma"/>
              </a:rPr>
              <a:t>What is the operational environment</a:t>
            </a: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desired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integrity 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level of the software and development proce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consequence and likelihood of noncompliance sit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organizational cont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o will perform the various task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is their relationship to other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programmatic cont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are the project’s objectiv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is the intended use of evaluat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o is planning the effort and wh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are the cost and schedule limitat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140-270D-406E-8520-B7EFA4E635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Determining the Scope of the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tors that fundamentally determine the scope and the technical activities are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The nature of the 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hat hazards might it create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How is 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it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being built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 (technology used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hat is the operational environment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desir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grity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evel of the software and development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consequence and likelihood of noncompliance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organizational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o will perform the various tas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is their relationship to oth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programmatic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are the project’s objectiv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is the intended use of evalu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o is planning the effort and wh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are the cost and schedule limit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913-EC93-4FF4-BB42-97263749EFC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Determining the Scope of the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tors that fundamentally determine the scope and the technical activities are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The nature of the 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hat hazards might it create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How is 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it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being built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 (technology used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hat is the operational environment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desired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integrity 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level of the software and development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consequence and likelihood of noncompliance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organizational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ho will perform the various tas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hat is their relationship to oth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programmatic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are the project’s objectiv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is the intended use of evalu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o is planning the effort and wh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are the cost and schedule limit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0C6-C058-4018-9840-200B23D3A5F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Determining the Scope of the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tors that fundamentally determine the scope and the technical activities are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The nature of the 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hat hazards might it create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How is 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it </a:t>
            </a: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being built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 (technology used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What is the operational environment</a:t>
            </a: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desired</a:t>
            </a:r>
            <a:r>
              <a:rPr b="0" lang="en-US" sz="2000" spc="-1" strike="noStrike">
                <a:solidFill>
                  <a:srgbClr val="b2b2b2"/>
                </a:solidFill>
                <a:latin typeface="Tahoma"/>
              </a:rPr>
              <a:t> integrity </a:t>
            </a: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level of the software and development proc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consequence and likelihood of noncompliance sit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b2b2b2"/>
                </a:solidFill>
                <a:latin typeface="Tahoma"/>
              </a:rPr>
              <a:t>The organizational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o will perform the various tas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2b2b2"/>
                </a:solidFill>
                <a:latin typeface="Tahoma"/>
              </a:rPr>
              <a:t>What is their relationship to oth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he programmatic c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hat are the project’s objectiv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hat is the intended use of evalu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ho is planning the effort and wh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666633"/>
                </a:solidFill>
                <a:latin typeface="Tahoma"/>
              </a:rPr>
              <a:t>What are the cost and schedule limita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F46-ABDA-4CD9-9C94-914D0096BEA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2 Lect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7:47:38Z</dcterms:created>
  <dc:creator>Kivanc Dincer</dc:creator>
  <dc:description/>
  <dc:language>en-US</dc:language>
  <cp:lastModifiedBy>KD</cp:lastModifiedBy>
  <dcterms:modified xsi:type="dcterms:W3CDTF">2002-10-07T10:55:10Z</dcterms:modified>
  <cp:revision>32</cp:revision>
  <dc:subject>(Fall 2002 Semester)</dc:subject>
  <dc:title>SM-515 Software Verification &amp; Validation</dc:title>
</cp:coreProperties>
</file>