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5F0F-D576-4379-86ED-826D6B40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F8D-6400-4744-8A8B-AD16AA54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DDB-65A3-40CE-B83F-28F37736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737-66F1-4D88-9B94-F670B0CB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E1D-28B6-4A68-8F75-6F02C780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2A3-F91D-4318-B97A-61F895A1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B43-E009-42B9-B38D-EEA4C182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62F-4FDD-43DC-AAEF-C4068D34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0E3-241B-424E-838E-4DCE6426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34C-A716-451F-9AEF-00BF37A6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ECD-65CA-4DF6-9023-89311027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13E-D32C-4820-B10E-17212689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0542-5F14-4DF3-A231-684ED3C4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ao.tubitak.gov.tr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M-515</a:t>
            </a:r>
            <a:br>
              <a:rPr sz="3200"/>
            </a:b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oftware Verification &amp; Validatio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(Fall 2002 Semester)</a:t>
            </a:r>
            <a:endParaRPr b="0" lang="en-US" sz="18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Dr. Kıvanç DİNÇ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ÜBİTAK-UEKAE/İLT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 u="sng">
                <a:solidFill>
                  <a:srgbClr val="0033cc"/>
                </a:solidFill>
                <a:uFillTx/>
                <a:latin typeface="Tahoma"/>
                <a:hlinkClick r:id="rId2"/>
              </a:rPr>
              <a:t>http://www.uao.tubitak.gov.tr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functional, performance, and quality properties of the software product are defined and docume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The main product of this phase is the S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bjectives of the V&amp;V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to ensure the correctness, correctness, completeness, accuracy, testability, and consistency of each item in the S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Requirements V&amp;V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A48-7D7A-41AA-94F8-03E6477B2E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ftware requirements are transformed into an architecture and detailed design for each software com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includes databases and interfa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bjectives of the V&amp;V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to demonstrate that the design is correct, accurate, and complete transformation of the software requirement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to ensure that no unintended features are introduc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Design V&amp;V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9A1-10DE-4FC1-8D10-87ACFAAB91B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ransforms the design into code, database structures, and related machine executable represent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ddresses software coding and tes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bjectives of the V&amp;V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to ensure that these transformations are correct, accurate, and comple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Implementation V&amp;V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17A-96D8-4D20-BBB5-A79110264F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ov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software testing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software integration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software qualification testing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system integration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system qualification te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bjectives of the V&amp;V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to ensure that the software requirements and system requirements allocated to software are satisfied by execution of integration, system, and acceptance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Test V&amp;V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56E-48F3-4FE1-8FF2-1468EFC734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stallation of the software product in the target environment and the acquirer’s acceptance review and testing of the software produ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addresses software installation and software acceptance suppor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bjectives of the V&amp;V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to verify and validate the correctness of the software installation in the target environ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Installation and Checkout V&amp;V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771-6083-432D-8683-EDC04BC8B5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66680" y="914400"/>
          <a:ext cx="7020000" cy="2063880"/>
        </p:xfrm>
        <a:graphic>
          <a:graphicData uri="http://schemas.openxmlformats.org/drawingml/2006/table">
            <a:tbl>
              <a:tblPr/>
              <a:tblGrid>
                <a:gridCol w="2210040"/>
                <a:gridCol w="701640"/>
                <a:gridCol w="1127160"/>
                <a:gridCol w="928440"/>
                <a:gridCol w="484200"/>
                <a:gridCol w="455760"/>
                <a:gridCol w="111276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ments 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llation / Checkout 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VVP Generation or Upda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iticality Analysis (Upda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ceability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zard Analysis (Upda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sk Analysis (Upda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face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99"/>
                </a:solidFill>
                <a:uFillTx/>
                <a:latin typeface="Tahoma"/>
              </a:rPr>
              <a:t>Tasks Performed in Development Process Activities</a:t>
            </a:r>
            <a:endParaRPr b="0" lang="en-US" sz="24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E44-BC78-4283-AC87-6DC927FA3F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6680" y="914400"/>
          <a:ext cx="8269200" cy="3387600"/>
        </p:xfrm>
        <a:graphic>
          <a:graphicData uri="http://schemas.openxmlformats.org/drawingml/2006/table">
            <a:tbl>
              <a:tblPr/>
              <a:tblGrid>
                <a:gridCol w="3352680"/>
                <a:gridCol w="701640"/>
                <a:gridCol w="1127160"/>
                <a:gridCol w="620640"/>
                <a:gridCol w="484200"/>
                <a:gridCol w="561960"/>
                <a:gridCol w="142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ments 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llation/ Checkout 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 Documentation Eval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aluation of Operational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w/Sw/User Requirements Allocation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Requirements Eval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guration Management Assess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Design Eval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 Code and Source Code Documentation Eval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llation Configuration 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llation Check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 Final Report Gen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99"/>
                </a:solidFill>
                <a:uFillTx/>
                <a:latin typeface="Tahoma"/>
              </a:rPr>
              <a:t>Tasks Performed in Development Process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169-77B7-4D78-A129-9F54C1D9E4B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06520" y="974880"/>
          <a:ext cx="8129520" cy="4908240"/>
        </p:xfrm>
        <a:graphic>
          <a:graphicData uri="http://schemas.openxmlformats.org/drawingml/2006/table">
            <a:tbl>
              <a:tblPr/>
              <a:tblGrid>
                <a:gridCol w="5256360"/>
                <a:gridCol w="1191960"/>
                <a:gridCol w="687600"/>
                <a:gridCol w="534960"/>
                <a:gridCol w="4586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 V&amp;V Test Pla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eptance V&amp;V Test Pla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Component V&amp;V Test Pla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Component V&amp;V Test Desig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Integration V&amp;V Test Desig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System V&amp;V Test Desig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Acceptance V&amp;V Test Desig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nent V&amp;V Test Case and Test Procedure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tion  V&amp;V Test Case and Test Procedure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 V&amp;V Test Case and Test Procedure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eptance V&amp;V Test Case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nent V&amp;V Test Execu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Acceptance V&amp;V Test Procedure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Acceptance V&amp;V Test Execu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Integration V&amp;V Test Execu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System V&amp;V Test Execu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99"/>
                </a:solidFill>
                <a:uFillTx/>
                <a:latin typeface="Tahoma"/>
              </a:rPr>
              <a:t>Tasks Performed in Development Process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654-BF76-4703-9281-F743171D9BA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06520" y="974880"/>
          <a:ext cx="8129520" cy="4908240"/>
        </p:xfrm>
        <a:graphic>
          <a:graphicData uri="http://schemas.openxmlformats.org/drawingml/2006/table">
            <a:tbl>
              <a:tblPr/>
              <a:tblGrid>
                <a:gridCol w="5256000"/>
                <a:gridCol w="1192320"/>
                <a:gridCol w="687240"/>
                <a:gridCol w="534960"/>
                <a:gridCol w="4590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 V&amp;V Test Pla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cc0066"/>
                          </a:solidFill>
                          <a:latin typeface="Tahoma"/>
                        </a:rPr>
                        <a:t>Acceptance V&amp;V Test Pla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66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Component V&amp;V Test Pla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Component V&amp;V Test Desig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Integration V&amp;V Test Desig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System V&amp;V Test Desig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cc0066"/>
                          </a:solidFill>
                          <a:latin typeface="Tahoma"/>
                        </a:rPr>
                        <a:t>Acceptance V&amp;V Test Design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66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nent V&amp;V Test Case and Test Procedure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tion  V&amp;V Test Case and Test Procedure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 V&amp;V Test Case and Test Procedure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cc0066"/>
                          </a:solidFill>
                          <a:latin typeface="Tahoma"/>
                        </a:rPr>
                        <a:t>Acceptance V&amp;V Test Case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66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nent V&amp;V Test Execu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cc0066"/>
                          </a:solidFill>
                          <a:latin typeface="Tahoma"/>
                        </a:rPr>
                        <a:t>Acceptance V&amp;V Test Procedure Genera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66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cc0066"/>
                          </a:solidFill>
                          <a:latin typeface="Tahoma"/>
                        </a:rPr>
                        <a:t>Acceptance V&amp;V Test Execu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66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Integration V&amp;V Test Execu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666633"/>
                          </a:solidFill>
                          <a:latin typeface="Tahoma"/>
                        </a:rPr>
                        <a:t>System V&amp;V Test Execution and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99"/>
                </a:solidFill>
                <a:uFillTx/>
                <a:latin typeface="Tahoma"/>
              </a:rPr>
              <a:t>Tasks Performed in Development Process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71F-9768-4C73-994F-49202D31EA7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fter the system has started operation and is in use, V&amp;V can be used to assess the impact of any chan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at might impact the integrity level of the system or might introduce a new hazard or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y monitoring and evaluat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perating environm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perating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sage patter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for any changes that might occur after install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V&amp;V tas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evaluation of new constraints (4, 3,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proposed change assessment (4, 3,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operating procedures evaluation (4, 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hazard analysis update (4, 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risk analysis update (4, 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9B9-ED72-42E9-8753-FB31E88360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V&amp;V Tasks </a:t>
            </a:r>
            <a:r>
              <a:rPr b="0" lang="tr-TR" sz="2400" spc="-1" strike="noStrike" u="sng">
                <a:solidFill>
                  <a:srgbClr val="000099"/>
                </a:solidFill>
                <a:uFillTx/>
                <a:latin typeface="Tahoma"/>
              </a:rPr>
              <a:t>MAPPED TO THE</a:t>
            </a: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 Software Life Cycle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activities of th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V&amp;V plan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should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parallel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life cycle processe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whose products and attributes they evalu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ome V&amp;V processes contain tasks or activities similar or identical to those performed by other groups (e.g.,S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se two efforts are not redundant, because the independent evaluators will have different assumptions than the develop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rocesses or products judget not relevant can be excluded, provided this is noted in the SVV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From the standpoint of the V&amp;V effort, no process is concluded until its development products are verified and validated according to the defined tasks in the SVV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9B7-A33F-4E30-B455-3697C94C7C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After the system has started operation and is in use, V&amp;V can be used to assess the impact of any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hat might impact the integrity level of the system or might introduce a new hazard 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by monitoring and evalua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operating enviro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operating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usage patt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for any changes that might occur after instal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&amp;V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evaluation of new constraints (4, 3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roposed change assessment (4, 3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perating procedures evaluation (4,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azard analysis update (4,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risk analysis update (4,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2C9-BC20-4D21-92EB-4414C78A01F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hile a product is in service th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need for change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is often identified. Changes are requir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 add new featu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 correct latent defects in the softwa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intenance actions would include </a:t>
            </a:r>
            <a:r>
              <a:rPr b="0" lang="tr-TR" sz="2400" spc="-1" strike="noStrike" u="sng">
                <a:solidFill>
                  <a:srgbClr val="800000"/>
                </a:solidFill>
                <a:uFillTx/>
                <a:latin typeface="Tahoma"/>
              </a:rPr>
              <a:t>migrating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the product to a new environment and complete removal from serv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Migration of the software:</a:t>
            </a: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ovement of software to a new operational environ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Maintenance actions are essentially smaller scale versions of the initial development, with the added constraint of the large sheer volume of existing code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Does it lower or raise the risk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235-0100-40DE-9868-669DCC037F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While a product is in service the need for changes is often identified. Changes are requ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o add new feat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o correct latent defects in the soft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Maintenance actions would include migrating the product to a new environment and complete removal from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intenance actions are essentially smaller scale versions of the initial development, with the added constraint of the large sheer volume of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existing code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9933"/>
                </a:solidFill>
                <a:latin typeface="Tahoma"/>
              </a:rPr>
              <a:t>Does it lower or raise the ris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CA5-EB77-4C1E-A1A7-681201A05B2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&amp;V tas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SVVP r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Proposed change asse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Anomaly eval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Criticality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800000"/>
                </a:solidFill>
                <a:uFillTx/>
                <a:latin typeface="Tahoma"/>
              </a:rPr>
              <a:t>Migration</a:t>
            </a: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 asse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800000"/>
                </a:solidFill>
                <a:uFillTx/>
                <a:latin typeface="Tahoma"/>
              </a:rPr>
              <a:t>Retirement</a:t>
            </a: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 asse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Hazard analysis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Risk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Retirement of the software:</a:t>
            </a: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ithdrawal of active support by the operation and maintenance organization, partial or total replacement by a new system, or installation of an upgraded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85B-70A5-4EE7-BD2E-47B420CB759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VVP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 plan that is used to guide and manage the V&amp;V activ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functional baseline of the SVVP should be established prior to the requirements phase, if not earlier as part of the acquisition strate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first draft may be incomplete in some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hanges and additions are typically made at the end of life cycle phases or proce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4F1-1769-483F-B528-AB8172BEA8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electing V&amp;V Staff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&amp;V staff should be knowledgeable and experienced and has a good track record of giving accurate and timely information to the development gro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ost V&amp;V efforts require three categories of individual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chnical analy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will perform the analysis and evaluation tasks specified in the SVV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must be technically skilled and experienc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st desig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will design the acceptance and systems te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must be familiar with the intent and design of the applic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must be facile with the test environm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st execu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will perform formal tests specified by test design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must be familiar with intent of the application, test environment and test faciliti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must be able to produce meaningful/informative repor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21E-37F8-4687-8CA0-1A239A8EED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electing V&amp;V Staff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V&amp;V staff should be knowledgeable and experienced and has a good track record of giving accurate and timely information to the development gro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ost V&amp;V efforts require three categories of individual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chnical analy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will perform the analysis and evaluation tasks specified in the SVV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must be technically skilled and experienc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st desig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will design the acceptance and systems te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must be familiar with the intent and design of the applic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must be facile with the test environm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st execu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will perform formal tests specified by test design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must be familiar with intent of the application, test environment and test faciliti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must be able to produce meaningful/informative repor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8CE-9C78-4EF9-8C1B-6531D9875E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Goal: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to ensure that the software being produced possesses the required integ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primary V&amp;V management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responsibilitie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invol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review (i.e.,management revie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The V&amp;V task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Software SVVP generation and maintenance (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Change assessment (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Management review of V&amp;V activities (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Planning, monitoring, and controlling the V&amp;V effort (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Management and technical review support (4, 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Interface with organizational and supporting processes (4, 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66F-0426-4FB4-9D1F-EB16FC834C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Goal: to ensure that the software being produced possesses the required integ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The primary V&amp;V management responsibilities invol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review (i.e.,management revi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V&amp;V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task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Software SVVP generation and maintenance (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Change assessment (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Management review of V&amp;V activities (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Planning, monitoring, and controlling the V&amp;V effort (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Management and technical review support (4,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Interface with organizational and supporting processes (4,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A23-3B66-4CA9-A543-BF458E1F31F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Statement of need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is develop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Make-buy decision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is ma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Acquisition strategy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is develop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ncludes a decision on criticality and how to approach the V&amp;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Tahoma"/>
              </a:rPr>
              <a:t>Request for Information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(RFI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to determine what options exist for answering the needs stateme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Request for Proposal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(RFP)s,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bid requests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, or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invitations to tender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(ITT) are prepared and distributed to interested suppliers (and V&amp;V supplier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Negotiation of the contracts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with the selected suppli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V&amp;V tasks in support of the acquisition proces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scope the V&amp;V effort (4, 3, 2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plan the interface between V&amp;V effort and supplier (4, 3, 2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review system requirements (al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Acquisition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328C-7496-43BC-9D2B-F39EB556F7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Statement of need is develo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Make-buy decision is m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Acquisition strategy is develo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includes a decision on criticality and how to approach the V&amp;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Request for Informatıon (RF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to determine what options exist for answering the needs stat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Request for Proposal (RFP)s, bid requests, or invitations to tender (ITT) are prepared and distributed to interested suppliers (and V&amp;V supplie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Negotiation of the contracts with the selected suppli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&amp;V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task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in support of the acquisition proces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cope the V&amp;V effort (4, 3, 2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lan the interface between V&amp;V effort and supplier (4, 3, 2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review system requirements (al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Acquisition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D68-5772-4EC3-B5B0-33CEEE1C50C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dual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to (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r the mirror image of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) the acquisition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supplier responds following some supply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&amp;V supply process is usually initiated when a candidate supplier decides to respond to an RF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&amp;V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lan the interface between V&amp;V effort and supplier (4, 3, 2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Tahoma"/>
              </a:rPr>
              <a:t>contract verification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determining if the RFP, requirements, and other info provided by the acquirer are consistent and will satisfy the needs of the us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D3B-B776-4051-8D9C-A442460852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ix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activitie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(five from the waterfall model plus one) are encompass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666633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concept V&amp;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666633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requirements V&amp;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666633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design V&amp;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666633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implementation V&amp;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666633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test V&amp;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666633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installation and checkout V&amp;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gain tailoring is possibl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AD2-D3CD-4FE9-B618-BD1ACAA1D5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presents the deliniation of a specific implementation solution to solve the user’s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system architecture is sel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system requirements are allocated to hardware, software, and UI compon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bjectives of the V&amp;V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to verify the allocation of system requirement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to validate the selected solution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to ensure that no false assumptions have been incorporated in the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nage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Acquisition/Supply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Development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Operation</a:t>
            </a:r>
            <a:r>
              <a:rPr b="0" lang="tr-TR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Concept V&amp;V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14A-3970-49BB-AB13-CE54D53608A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0/2002 Lect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7:47:38Z</dcterms:created>
  <dc:creator>Kivanc Dincer</dc:creator>
  <dc:description/>
  <dc:language>en-US</dc:language>
  <cp:lastModifiedBy>KD</cp:lastModifiedBy>
  <dcterms:modified xsi:type="dcterms:W3CDTF">2002-10-07T11:05:27Z</dcterms:modified>
  <cp:revision>38</cp:revision>
  <dc:subject>(Fall 2002 Semester)</dc:subject>
  <dc:title>SM-515 Software Verification &amp; Validation</dc:title>
</cp:coreProperties>
</file>