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506-B089-430B-B0E3-122ECCF8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CD4-5E6A-4364-A576-2E5C6219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7FF-5529-473A-ACD7-13F11D87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FAD-0CFD-444C-BCB8-C52E4643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DF4-D5A4-460D-AF46-99CE3E2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DEF-76AF-42F3-A5F1-22A7E0B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CED-7A0B-4ECE-9223-5FB95FB0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610-A9C7-4058-904F-7F00693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4D4-9EDB-49C3-97D0-804192D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74A-DD3F-48CD-BE06-C614758C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B99-E2F9-4809-930F-4EB39A5E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CF4-6CEE-40C3-AC1C-CD2D716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6958-6A48-4130-912E-E3B69EDF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o.tubitak.gov.t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M-515</a:t>
            </a: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Verification &amp; Validation</a:t>
            </a:r>
            <a:br>
              <a:rPr sz="3200"/>
            </a:br>
            <a:br>
              <a:rPr sz="3200"/>
            </a:b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Traceability</a:t>
            </a:r>
            <a:br>
              <a:rPr sz="2400"/>
            </a:b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(Fall 2002 Semester)</a:t>
            </a: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(Lecture 4:  14/10/2002)</a:t>
            </a:r>
            <a:endParaRPr b="0" lang="en-US" sz="18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r. Kıvanç DİNÇ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BİTAK-UEKAE/İLT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http://www.uao.tubitak.gov.t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Problems and Issu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keholder and developer at development time should dec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apportion projects by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and nature of information that should be traced across different discip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s of tools that can be used to provide consistent and correct traceability across discipl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urrently, there is no single modeling method or language sufficiently rich to represent all aspects of a large complex system and still be understandable to those invol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352-E6EA-4C9F-B2BE-4FA49FFE41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Definition of Term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lowdow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move or circulate from upper to lower level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to trace a requirement from a top level to designs to code to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mpact Analysi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paration into constituent parts to examine or distinguish contact of one on another, a communicating for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to focus on software changes and the traceable consequences – relating software requirements to design compon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rea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onnect; as to pass a thread through; string together; as to link behaviors of a system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6F3-151E-428F-ADF0-3B19F34543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tate of Practic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ility management applies to the entire development life cycle from project initiation through operation and mainten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feasible to manage tracing using a combination of manual and automated ass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70E-C8B1-45EE-BC73-216AF78900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raceability Management Across the SDLC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6714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69920" y="224784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rdware &amp;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2824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42252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399744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uild &amp;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5943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gration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amp;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1814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amp;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62360" y="190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78080" y="190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46440" y="243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43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08560" y="3043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304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70320" y="3652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652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440" y="4186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4186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70520" y="4795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4795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638680" y="5177160"/>
            <a:ext cx="304560" cy="315720"/>
            <a:chOff x="5638680" y="5177160"/>
            <a:chExt cx="304560" cy="315720"/>
          </a:xfrm>
        </p:grpSpPr>
        <p:sp>
          <p:nvSpPr>
            <p:cNvPr id="166" name=""/>
            <p:cNvSpPr/>
            <p:nvPr/>
          </p:nvSpPr>
          <p:spPr>
            <a:xfrm>
              <a:off x="5638680" y="549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638680" y="51771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00600" y="4566960"/>
            <a:ext cx="304560" cy="315720"/>
            <a:chOff x="4800600" y="4566960"/>
            <a:chExt cx="304560" cy="315720"/>
          </a:xfrm>
        </p:grpSpPr>
        <p:sp>
          <p:nvSpPr>
            <p:cNvPr id="169" name=""/>
            <p:cNvSpPr/>
            <p:nvPr/>
          </p:nvSpPr>
          <p:spPr>
            <a:xfrm>
              <a:off x="4800600" y="488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00600" y="4566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62520" y="4027680"/>
            <a:ext cx="304560" cy="315720"/>
            <a:chOff x="3962520" y="4027680"/>
            <a:chExt cx="304560" cy="315720"/>
          </a:xfrm>
        </p:grpSpPr>
        <p:sp>
          <p:nvSpPr>
            <p:cNvPr id="172" name=""/>
            <p:cNvSpPr/>
            <p:nvPr/>
          </p:nvSpPr>
          <p:spPr>
            <a:xfrm>
              <a:off x="3962520" y="4343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962520" y="4027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00400" y="3423960"/>
            <a:ext cx="304560" cy="315720"/>
            <a:chOff x="3200400" y="3423960"/>
            <a:chExt cx="304560" cy="315720"/>
          </a:xfrm>
        </p:grpSpPr>
        <p:sp>
          <p:nvSpPr>
            <p:cNvPr id="175" name=""/>
            <p:cNvSpPr/>
            <p:nvPr/>
          </p:nvSpPr>
          <p:spPr>
            <a:xfrm>
              <a:off x="3200400" y="373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200400" y="3423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438280" y="2814840"/>
            <a:ext cx="304560" cy="315720"/>
            <a:chOff x="2438280" y="2814840"/>
            <a:chExt cx="304560" cy="315720"/>
          </a:xfrm>
        </p:grpSpPr>
        <p:sp>
          <p:nvSpPr>
            <p:cNvPr id="178" name=""/>
            <p:cNvSpPr/>
            <p:nvPr/>
          </p:nvSpPr>
          <p:spPr>
            <a:xfrm>
              <a:off x="2438280" y="3130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438280" y="2814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76520" y="2280960"/>
            <a:ext cx="304560" cy="315720"/>
            <a:chOff x="1676520" y="2280960"/>
            <a:chExt cx="304560" cy="315720"/>
          </a:xfrm>
        </p:grpSpPr>
        <p:sp>
          <p:nvSpPr>
            <p:cNvPr id="181" name=""/>
            <p:cNvSpPr/>
            <p:nvPr/>
          </p:nvSpPr>
          <p:spPr>
            <a:xfrm>
              <a:off x="1676520" y="2596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676520" y="2280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143000" y="838080"/>
            <a:ext cx="6553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ceability 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1219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1219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1219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1219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12193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983-B4F5-488C-884C-9DC7B46F0E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ontemporary Traceability Practic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with a CASE Tool, the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initial identif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race entities and linkages must be accomplished manu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establish a unique identification system and follow this scheme throughout the life of the pro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ique identity may be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linked within and across docu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manually derived traceability tables to assure full traceability over all aspects of the pro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ypical output of tracing is a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traceability matri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links high-level requirements to each and every other requirement or specification of the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693-CCF3-48A1-8BC9-9CA562E3EF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raceability Matrix for Multi-Segment System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1397160"/>
          <a:ext cx="8305920" cy="266040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295280"/>
                <a:gridCol w="1193760"/>
                <a:gridCol w="1384560"/>
                <a:gridCol w="13842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Requirements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m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m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m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.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.2.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.2.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.5.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.4.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.4.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.4.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.2.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.4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.4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.4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.2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.2.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822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3CB-90D0-4AF7-BDB6-8C76348E8F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ypical Requirements Classification Schema for a Large Complex System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129528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ystem 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209680"/>
            <a:ext cx="2286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ystem 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3048120"/>
            <a:ext cx="2286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face Contro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41911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00680" y="41911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1911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886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E5A-0192-429F-A283-12B047AC8E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he Ideal Traceability Proces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129528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21337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289548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65760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44197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low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10040" y="1600200"/>
            <a:ext cx="1066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2743200" y="144684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72080" y="2362320"/>
            <a:ext cx="1066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305240" y="2208960"/>
            <a:ext cx="7617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124080"/>
            <a:ext cx="1066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638680" y="2971440"/>
            <a:ext cx="7617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1520" y="3886200"/>
            <a:ext cx="1065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934320" y="373284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760" y="5105520"/>
            <a:ext cx="9138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o understand what must be traced, we need a defined process for develo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system architectural views, classification schemes, as well as process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specifying and verifying the products to be constru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F94-0523-4964-966D-EDA72D537A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teps to Accomplish 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8380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eip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quir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41444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ect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rm to Be Fo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99080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lect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58912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s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d As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niqu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316404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locate Accord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c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7609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stablish Lin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cross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3480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ene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49528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intain 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kages i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55627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intain 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k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ir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84200" y="2608200"/>
            <a:ext cx="37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options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: shall statements, ent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paragraphs, or total set o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82400" y="1928880"/>
            <a:ext cx="49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ay be centered on functional aspects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Performance and security or buyer’s organ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39320" y="3886200"/>
            <a:ext cx="37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ased on syntactic and semantic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93320" y="4419720"/>
            <a:ext cx="19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ay be 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41C-369B-4439-89C5-B9A9A67A03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eturn on Investment (ROI) for 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t is not feasible to measure the ROI for trace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lthough most of the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costs associated with implementation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can be documented, the benefits are quite difficult to ascertain unless comparative case studies are conduc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Cost of implementation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inclu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investment of time and effort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of domain experts to provide system architectural perspectives and classification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initial cost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of acquiring CAS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expended cost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of training and maintenance of such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benefits are largely intangible and are related to the avoided costs associated with rework and possible failure of the product to satisfy stakehold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8EA-B680-457D-AAC9-6FF3B97625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uccessful system development depends on the ability to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satisfy stakeholder needs and requirement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nd to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reflect these in the delivered system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quirements, 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, and implementation that are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complete, correct, consistent, and error 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lay a major role in ensuring that the delivered system meets stakeholder nee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keys to this ar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understanding and tracing the relationship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exist amongst system requirements, design, code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AE2-A7D8-40A9-9742-7A6A8859A3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ypical System</a:t>
            </a: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&amp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oftware Development Life Cycl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9144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69920" y="149076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 &amp;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6676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266544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2400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&amp;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38368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ration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4244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6236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80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644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08560" y="2286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032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32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05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638680" y="4419360"/>
            <a:ext cx="304560" cy="315720"/>
            <a:chOff x="5638680" y="4419360"/>
            <a:chExt cx="304560" cy="315720"/>
          </a:xfrm>
        </p:grpSpPr>
        <p:sp>
          <p:nvSpPr>
            <p:cNvPr id="66" name=""/>
            <p:cNvSpPr/>
            <p:nvPr/>
          </p:nvSpPr>
          <p:spPr>
            <a:xfrm>
              <a:off x="5638680" y="473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638680" y="44193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800600" y="3810240"/>
            <a:ext cx="304560" cy="315720"/>
            <a:chOff x="4800600" y="3810240"/>
            <a:chExt cx="304560" cy="315720"/>
          </a:xfrm>
        </p:grpSpPr>
        <p:sp>
          <p:nvSpPr>
            <p:cNvPr id="69" name=""/>
            <p:cNvSpPr/>
            <p:nvPr/>
          </p:nvSpPr>
          <p:spPr>
            <a:xfrm>
              <a:off x="4800600" y="4125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800600" y="3810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962520" y="3270600"/>
            <a:ext cx="304560" cy="315720"/>
            <a:chOff x="3962520" y="3270600"/>
            <a:chExt cx="304560" cy="315720"/>
          </a:xfrm>
        </p:grpSpPr>
        <p:sp>
          <p:nvSpPr>
            <p:cNvPr id="72" name=""/>
            <p:cNvSpPr/>
            <p:nvPr/>
          </p:nvSpPr>
          <p:spPr>
            <a:xfrm>
              <a:off x="3962520" y="3586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962520" y="3270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200400" y="2667240"/>
            <a:ext cx="304560" cy="315720"/>
            <a:chOff x="3200400" y="2667240"/>
            <a:chExt cx="304560" cy="315720"/>
          </a:xfrm>
        </p:grpSpPr>
        <p:sp>
          <p:nvSpPr>
            <p:cNvPr id="75" name=""/>
            <p:cNvSpPr/>
            <p:nvPr/>
          </p:nvSpPr>
          <p:spPr>
            <a:xfrm>
              <a:off x="3200400" y="2982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200400" y="2667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38280" y="2057760"/>
            <a:ext cx="304560" cy="315720"/>
            <a:chOff x="2438280" y="2057760"/>
            <a:chExt cx="304560" cy="315720"/>
          </a:xfrm>
        </p:grpSpPr>
        <p:sp>
          <p:nvSpPr>
            <p:cNvPr id="78" name=""/>
            <p:cNvSpPr/>
            <p:nvPr/>
          </p:nvSpPr>
          <p:spPr>
            <a:xfrm>
              <a:off x="2438280" y="2373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438280" y="2057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76520" y="1524240"/>
            <a:ext cx="304560" cy="315720"/>
            <a:chOff x="1676520" y="1524240"/>
            <a:chExt cx="304560" cy="315720"/>
          </a:xfrm>
        </p:grpSpPr>
        <p:sp>
          <p:nvSpPr>
            <p:cNvPr id="81" name=""/>
            <p:cNvSpPr/>
            <p:nvPr/>
          </p:nvSpPr>
          <p:spPr>
            <a:xfrm>
              <a:off x="1676520" y="1839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676520" y="1524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078720" y="1041480"/>
            <a:ext cx="553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oadly outline the desired capabilities</a:t>
            </a:r>
            <a:r>
              <a:rPr b="0" lang="tr-TR" sz="1200" spc="-1" strike="noStrike">
                <a:solidFill>
                  <a:srgbClr val="000000"/>
                </a:solidFill>
                <a:latin typeface="Tahoma"/>
              </a:rPr>
              <a:t> which are investigated to ascer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ahoma"/>
              </a:rPr>
              <a:t>feasibility and practicality of the desired system and examine trade-of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133720"/>
            <a:ext cx="31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ahoma"/>
              </a:rPr>
              <a:t>new system or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ificant modifica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isting or legac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9840" y="5029200"/>
            <a:ext cx="86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essential to maintain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traceability from the system requirement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operation and mainten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ssure that the delivered system me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ted organizational needs of the stakehol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6600" y="207180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er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DCB-8039-4951-9D12-D12D7299DC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ystem Life Cycle for Traceability Managemen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any system development life cycle, requirements must be traced both forward and backwar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the correct system is being designed and produced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the correct design and production approach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3AE-C420-43C4-AAA9-3A3ED15C3F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9144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69920" y="149076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rdware &amp;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06676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66544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2400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uild &amp;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38368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gration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amp;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44244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amp;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236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80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644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08560" y="2286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7032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2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705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638680" y="4419360"/>
            <a:ext cx="304560" cy="315720"/>
            <a:chOff x="5638680" y="4419360"/>
            <a:chExt cx="304560" cy="315720"/>
          </a:xfrm>
        </p:grpSpPr>
        <p:sp>
          <p:nvSpPr>
            <p:cNvPr id="109" name=""/>
            <p:cNvSpPr/>
            <p:nvPr/>
          </p:nvSpPr>
          <p:spPr>
            <a:xfrm>
              <a:off x="5638680" y="473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638680" y="44193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800600" y="3810240"/>
            <a:ext cx="304560" cy="315720"/>
            <a:chOff x="4800600" y="3810240"/>
            <a:chExt cx="304560" cy="315720"/>
          </a:xfrm>
        </p:grpSpPr>
        <p:sp>
          <p:nvSpPr>
            <p:cNvPr id="112" name=""/>
            <p:cNvSpPr/>
            <p:nvPr/>
          </p:nvSpPr>
          <p:spPr>
            <a:xfrm>
              <a:off x="4800600" y="4125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800600" y="3810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62520" y="3270600"/>
            <a:ext cx="304560" cy="315720"/>
            <a:chOff x="3962520" y="3270600"/>
            <a:chExt cx="304560" cy="315720"/>
          </a:xfrm>
        </p:grpSpPr>
        <p:sp>
          <p:nvSpPr>
            <p:cNvPr id="115" name=""/>
            <p:cNvSpPr/>
            <p:nvPr/>
          </p:nvSpPr>
          <p:spPr>
            <a:xfrm>
              <a:off x="3962520" y="3586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962520" y="3270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00400" y="2667240"/>
            <a:ext cx="304560" cy="315720"/>
            <a:chOff x="3200400" y="2667240"/>
            <a:chExt cx="304560" cy="315720"/>
          </a:xfrm>
        </p:grpSpPr>
        <p:sp>
          <p:nvSpPr>
            <p:cNvPr id="118" name=""/>
            <p:cNvSpPr/>
            <p:nvPr/>
          </p:nvSpPr>
          <p:spPr>
            <a:xfrm>
              <a:off x="3200400" y="2982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200400" y="2667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38280" y="2057760"/>
            <a:ext cx="304560" cy="315720"/>
            <a:chOff x="2438280" y="2057760"/>
            <a:chExt cx="304560" cy="315720"/>
          </a:xfrm>
        </p:grpSpPr>
        <p:sp>
          <p:nvSpPr>
            <p:cNvPr id="121" name=""/>
            <p:cNvSpPr/>
            <p:nvPr/>
          </p:nvSpPr>
          <p:spPr>
            <a:xfrm>
              <a:off x="2438280" y="2373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38280" y="2057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76520" y="1524240"/>
            <a:ext cx="304560" cy="315720"/>
            <a:chOff x="1676520" y="1524240"/>
            <a:chExt cx="304560" cy="315720"/>
          </a:xfrm>
        </p:grpSpPr>
        <p:sp>
          <p:nvSpPr>
            <p:cNvPr id="124" name=""/>
            <p:cNvSpPr/>
            <p:nvPr/>
          </p:nvSpPr>
          <p:spPr>
            <a:xfrm>
              <a:off x="1676520" y="1839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676520" y="1524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54960" y="914400"/>
            <a:ext cx="529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prepared in natural language, are provided by the stakeh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poorly written and only vaguely define stakeholder des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600" y="207180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er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30680" y="27432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ce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0920" y="27432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ce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4560" y="518148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eds and outcomes for each life cycle activity must be docum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A45-0010-48B2-8D3B-21B53707D7C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Need for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ility is essential to V&amp;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s needed to better understand the processes used to develop the system and the products that resul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ility is essential to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he requirements of one phase translate to outcomes of that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become the requirements for the next phase, and so 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ility is equally essential to validate that system requirements are satisfied during op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C72-A09F-4FBF-8F8C-CDD4684772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Need for 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ility is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eded for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change control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development process control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risk control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racing provides insights to non-behavioral components such as quality, consistency, completeness, impact analysis, system evolution, and process improvem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raceability supports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assessment of under- or overdesign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raceability supports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conflict detection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y making it feasible to examine linkages within and across selected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y providing visibility into the entire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3CD-F234-404D-B021-0529567012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A Controversy !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re is a widespread acceptance of the necessity to tr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re is a considerabl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controversy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s to the ultimate need, purpose, and cost of tracing from requirements to delivered produ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ack of automated approaches to implement the proce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oncomitant time and effort that must be applied with any of the presently available support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BC0-F913-406D-95D4-BC06DB6A33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Problems and Issu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necessity to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manually add trace element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to requirements documents and subsequent work products from software develop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se products have little or no direct consequence to the development team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(assignment of trace elements generally a low priority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raceability is often misunderstood, frequently misapplied, and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seldom performed correctly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omplexity of th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multi-discipline]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jects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discipline may have languages, methods and tools peculiar to the discip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AD6-584A-4D4F-9371-A635F888C4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/10/2002 Lect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7:47:38Z</dcterms:created>
  <dc:creator>Kivanc Dincer</dc:creator>
  <dc:description/>
  <dc:language>en-US</dc:language>
  <cp:lastModifiedBy>kivancd</cp:lastModifiedBy>
  <dcterms:modified xsi:type="dcterms:W3CDTF">2002-10-21T12:41:15Z</dcterms:modified>
  <cp:revision>47</cp:revision>
  <dc:subject>(Fall 2002 Semester)</dc:subject>
  <dc:title>SM-515 Software Verification &amp; Validation</dc:title>
</cp:coreProperties>
</file>