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2744-FFE9-4284-82FA-20BD7BF3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FFEB-E587-4D5F-AFF9-31F38ED0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FEC2-001C-4A67-B582-C933D237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78E4-C909-41CB-95BD-EA82ECB3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C7E3-3E10-4D44-8165-9FC2BFEE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73F-F3A5-4256-8EA5-C453C93A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36E1-1981-40BE-B84D-C79B20A9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9775-7B18-4699-9299-9573B278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2CDB-775C-4A2C-9721-4D98F450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9E5D-A85A-495F-AE96-E4DEB75A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7F8D-80F4-4B3A-8800-28FA206F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C57F-EDB6-4DC2-9561-8AC04BE5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B58F-5257-487A-8906-3F703F156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ao.tubitak.gov.tr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SM-515</a:t>
            </a:r>
            <a:br>
              <a:rPr sz="3200"/>
            </a:b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Software Verification &amp; Validation</a:t>
            </a:r>
            <a:br>
              <a:rPr sz="3200"/>
            </a:br>
            <a:br>
              <a:rPr sz="3200"/>
            </a:b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Requirements Traceability</a:t>
            </a:r>
            <a:br>
              <a:rPr sz="3200"/>
            </a:br>
            <a:r>
              <a:rPr b="0" lang="en-US" sz="1800" spc="-1" strike="noStrike" u="sng">
                <a:solidFill>
                  <a:srgbClr val="000099"/>
                </a:solidFill>
                <a:uFillTx/>
                <a:latin typeface="Tahoma"/>
              </a:rPr>
              <a:t>(Fall 2002 Semester)</a:t>
            </a:r>
            <a:br>
              <a:rPr sz="1800"/>
            </a:br>
            <a:r>
              <a:rPr b="0" lang="tr-TR" sz="1800" spc="-1" strike="noStrike">
                <a:solidFill>
                  <a:srgbClr val="000099"/>
                </a:solidFill>
                <a:latin typeface="Tahoma"/>
              </a:rPr>
              <a:t>(Lecture 5:  21/10/2002)</a:t>
            </a:r>
            <a:endParaRPr b="0" lang="en-US" sz="18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Dr. Kıvanç DİNÇ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ÜBİTAK-UEKAE/İLTA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 u="sng">
                <a:solidFill>
                  <a:srgbClr val="0033cc"/>
                </a:solidFill>
                <a:uFillTx/>
                <a:latin typeface="Tahoma"/>
                <a:hlinkClick r:id="rId2"/>
              </a:rPr>
              <a:t>http://www.uao.tubitak.gov.tr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Benefits ...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Many of these are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long-term benefits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reducing overall lifecyle cos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t increasing the development cost by the effort expended to accumulate and manage the traceability inform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ou should view requirements traceability as an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at increases your chances of delivering a product that satisfies all the </a:t>
            </a:r>
            <a:r>
              <a:rPr b="0" lang="tr-TR" sz="2000" spc="-1" strike="noStrike">
                <a:solidFill>
                  <a:srgbClr val="800000"/>
                </a:solidFill>
                <a:latin typeface="Tahoma"/>
              </a:rPr>
              <a:t>stated user requirements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nd is easy to mainta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5029200"/>
            <a:ext cx="708660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Requirements traceability is addressed at level 3 of the CM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38FC-19D1-4B7F-B27D-DF47B070BF9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Requirements Traceability Matrix (RTM)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 most common way to represent the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ks between requirements and other 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system ele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er granularity gives you the precise locations of the related software elements, which can save time when you perform change impact analysis and maintena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ly creating a RTM is a matter of habit and discipline, and it is practical for small projects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(i.e., a couple hundred req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How will you populate your matrix</a:t>
            </a:r>
            <a:r>
              <a:rPr b="0" lang="tr-TR" sz="2000" spc="-1" strike="noStrike">
                <a:solidFill>
                  <a:srgbClr val="339933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3520" y="2438280"/>
          <a:ext cx="7705440" cy="2133360"/>
        </p:xfrm>
        <a:graphic>
          <a:graphicData uri="http://schemas.openxmlformats.org/drawingml/2006/table">
            <a:tbl>
              <a:tblPr/>
              <a:tblGrid>
                <a:gridCol w="990360"/>
                <a:gridCol w="2057400"/>
                <a:gridCol w="1347840"/>
                <a:gridCol w="1739880"/>
                <a:gridCol w="1569960"/>
              </a:tblGrid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e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unctional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quir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ign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C-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talog.query.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cata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talog.sort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arch.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arch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C-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talog.query.im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cata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talog.import()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talog.validate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arch.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arch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arch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41D3-5BF1-4D1D-9FAA-7AEB418A262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Requirement Traceability Matrix - 2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 same info can be represented through a set of matrices that define links between pairs of system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One type of req to reqs of another 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One type of req to other reqs of that sam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One type of req to test c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969696"/>
                </a:solidFill>
                <a:latin typeface="Tahoma"/>
              </a:rPr>
              <a:t>You can use these matrices to define various relationships</a:t>
            </a:r>
            <a:r>
              <a:rPr b="0" lang="tr-TR" sz="2000" spc="-1" strike="noStrike">
                <a:solidFill>
                  <a:srgbClr val="969696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969696"/>
                </a:solidFill>
                <a:latin typeface="Tahoma"/>
              </a:rPr>
              <a:t>that are possible between pairs of requirement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69696"/>
                </a:solidFill>
                <a:latin typeface="Tahoma"/>
              </a:rPr>
              <a:t>such as “specifies/is specified by,”  “depends on,”  “is parent of,” and “constrains/is contrained by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8F03-7361-4CA3-9498-254B2468717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Requirement Traceability Matrix -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969696"/>
                </a:solidFill>
                <a:latin typeface="Tahoma"/>
              </a:rPr>
              <a:t>The same info can be represented through a set of matrices that define links between pairs of system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69696"/>
                </a:solidFill>
                <a:latin typeface="Tahoma"/>
              </a:rPr>
              <a:t>One type of req to reqs of another 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69696"/>
                </a:solidFill>
                <a:latin typeface="Tahoma"/>
              </a:rPr>
              <a:t>One type of req to other reqs of that same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69696"/>
                </a:solidFill>
                <a:latin typeface="Tahoma"/>
              </a:rPr>
              <a:t>One type of req to test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ou can use these matrices to define various relationships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at are possible between pairs of requiremen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uch as “specifies/is specified by,”  “depends on,”  “is parent of,” and “constrains/is contrained b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885D-34AD-4E95-A3AA-23C3C57652D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A 2-Way Traceability Matrix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se matrices are more amenable to automated tool support than is the single traceability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ost automated products  use this matrix typ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2057400"/>
          <a:ext cx="7925040" cy="4064040"/>
        </p:xfrm>
        <a:graphic>
          <a:graphicData uri="http://schemas.openxmlformats.org/drawingml/2006/table">
            <a:tbl>
              <a:tblPr/>
              <a:tblGrid>
                <a:gridCol w="1584360"/>
                <a:gridCol w="1584360"/>
                <a:gridCol w="1587600"/>
                <a:gridCol w="1584360"/>
                <a:gridCol w="1584360"/>
              </a:tblGrid>
              <a:tr h="455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unctional Requir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e C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C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C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C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C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84D7-C511-4E68-A881-02935A2312B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Likely Sources of Traceability Link Info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raceability links should be defined by whoever has the appropriate inform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 roles and individuals who can supply each type of traceability info for the project should be defin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2209680"/>
          <a:ext cx="8196120" cy="4114800"/>
        </p:xfrm>
        <a:graphic>
          <a:graphicData uri="http://schemas.openxmlformats.org/drawingml/2006/table">
            <a:tbl>
              <a:tblPr/>
              <a:tblGrid>
                <a:gridCol w="2878200"/>
                <a:gridCol w="2625840"/>
                <a:gridCol w="269208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k Source Object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k Target Object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ormation 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ystem requi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ftware requi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ystem Engin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e c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unctional requi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quirement Analy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unctional requi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unctional requi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quirement Analy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unctional requi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ftware architecture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ftware Archit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unctional requi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design el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velop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ig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velop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unctional requi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 c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 Engin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E243-FB01-427C-9CCF-61F15607F1E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Relationships Between System Element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-to-on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one design element is implemented in one code modu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-to-m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one functional requirement is verified by multiple test c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-to-m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Each use case leads to multiple functional requirements, and certain functional requirements are common to several use c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2D44-45AB-4F37-BB8E-004F093B196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Tools for Requirement Traceability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T cannot be fully automated because the knowledge of the links originates in the minds of the development team memb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However, once you’ve identified the links, certain tools can help you manage the vast quantity of traceability inf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You can store requirements and other info in the tool’s database and define links between the various types of stored objec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69696"/>
                </a:solidFill>
                <a:latin typeface="Tahoma"/>
              </a:rPr>
              <a:t>Most tools use the second type of traceability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69696"/>
                </a:solidFill>
                <a:latin typeface="Tahoma"/>
              </a:rPr>
              <a:t>Some tools let you differentiate “traced-to” and “traced-from relationships, automatically defining the complimentary link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69696"/>
                </a:solidFill>
                <a:latin typeface="Tahoma"/>
              </a:rPr>
              <a:t>Some automatically flag “suspect” link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69696"/>
                </a:solidFill>
                <a:latin typeface="Tahoma"/>
              </a:rPr>
              <a:t>Tools also let you define cross-project and cross-subsystem link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8AFE-A434-4E73-BFD8-D59D105F822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Tools for Requirement Trace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969696"/>
                </a:solidFill>
                <a:latin typeface="Tahoma"/>
              </a:rPr>
              <a:t>RT cannot be fully automated because the knowledge of the links originates in the minds of the development team me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69696"/>
                </a:solidFill>
                <a:latin typeface="Tahoma"/>
              </a:rPr>
              <a:t>However, once you’ve identified the links, certain tools can help you manage the vast quantity of traceability inf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969696"/>
                </a:solidFill>
                <a:latin typeface="Tahoma"/>
              </a:rPr>
              <a:t>You can store requirements and other info in the tool’s database and define links between the various types of stored obje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ost tools use the second type of traceability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ome tools let you differentiate “traced-to” and “traced-from relationships, automatically defining the complimentary lin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ome automatically flag “</a:t>
            </a:r>
            <a:r>
              <a:rPr b="0" lang="tr-TR" sz="2000" spc="-1" strike="noStrike">
                <a:solidFill>
                  <a:srgbClr val="800000"/>
                </a:solidFill>
                <a:latin typeface="Tahoma"/>
              </a:rPr>
              <a:t>suspect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” lin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ools also let you define cross-project and cross-subsystem lin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518C-B71B-468A-A9A0-E749432D1B65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RT Procedure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Decide the kind of link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80008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800080"/>
                </a:solidFill>
                <a:latin typeface="Tahoma"/>
              </a:rPr>
              <a:t>Choose the type of traceability matri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dentify parts of the product to tr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80008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800080"/>
                </a:solidFill>
                <a:latin typeface="Tahoma"/>
              </a:rPr>
              <a:t>Modify your procedures and checklists to accomodate traceability ta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Define tagging conven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96969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969696"/>
                </a:solidFill>
                <a:latin typeface="Tahoma"/>
              </a:rPr>
              <a:t>Identify responsible individu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96969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969696"/>
                </a:solidFill>
                <a:latin typeface="Tahoma"/>
              </a:rPr>
              <a:t>Educate the team about 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96969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969696"/>
                </a:solidFill>
                <a:latin typeface="Tahoma"/>
              </a:rPr>
              <a:t>Inform participants that the traceability data must be kept cu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96969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969696"/>
                </a:solidFill>
                <a:latin typeface="Tahoma"/>
              </a:rPr>
              <a:t>Audit the traceability info period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3B21-D6F8-4169-AD1E-29CD47D32BB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Introduction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tr-TR" sz="2800" spc="-1" strike="noStrike">
                <a:solidFill>
                  <a:srgbClr val="800000"/>
                </a:solidFill>
                <a:latin typeface="Tahoma"/>
              </a:rPr>
              <a:t>software change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that appears simple and straightforward on the surface is often much more difficult and time consuming than you would expe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We will look at the related subjects of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requirements tracing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requirements change impact analysis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0033cc"/>
                </a:solidFill>
                <a:uFillTx/>
                <a:latin typeface="Tahoma"/>
              </a:rPr>
              <a:t>Requirements tracing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ves documenting the dependencies and logical links between individual requirements and 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other system ele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 requirements, architecture and other design components, source code modules, tests, help files, and docum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3136-D209-4A02-8F0E-B69A81E0ECB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RT Proced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969696"/>
                </a:solidFill>
                <a:latin typeface="Tahoma"/>
              </a:rPr>
              <a:t>Decide the kind of link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969696"/>
                </a:solidFill>
                <a:latin typeface="Tahoma"/>
              </a:rPr>
              <a:t>Choose the type of traceability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969696"/>
                </a:solidFill>
                <a:latin typeface="Tahoma"/>
              </a:rPr>
              <a:t>Identify parts of the product to tr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969696"/>
                </a:solidFill>
                <a:latin typeface="Tahoma"/>
              </a:rPr>
              <a:t>Modify your procedures and checklists to accomodate traceability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969696"/>
                </a:solidFill>
                <a:latin typeface="Tahoma"/>
              </a:rPr>
              <a:t>Define tagging conv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800080"/>
                </a:solidFill>
                <a:latin typeface="Tahoma"/>
              </a:rPr>
              <a:t>Identify responsible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Educate the team about 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800080"/>
                </a:solidFill>
                <a:latin typeface="Tahoma"/>
              </a:rPr>
              <a:t>Inform participants that the traceability data must be kept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udit the traceability info period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3B2C-C9A6-481E-9AE8-A6355C00EDE5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Is RT Feasible? Is It Necessary?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ou might conclude that creating a RTM is more trouble than it is worth or that it is simply not realistic for your proje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Ex.: An aircraft manufactu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Not all companies build products that can have grave consequences if the software has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However, you should take requirements tracing seriously, especially for your business’s core info syst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D8C1-6AE5-44CB-9C38-C0621713927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Is RT Feasible? Is It Necessary?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ou should decide to use any improved requireements engineering practice based on both the costs of applying the technique and the risks of not using i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vest your valuable time where you expect the greatest payb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8B82-C0E9-4AD4-A964-062A81D15EA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Change Isn’t Free: Impact Analysi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Many times a simple change turns out to be far more complicated than expec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oo often, developer’s can’t provide </a:t>
            </a:r>
            <a:r>
              <a:rPr b="0" lang="tr-TR" sz="2000" spc="-1" strike="noStrike">
                <a:solidFill>
                  <a:srgbClr val="800000"/>
                </a:solidFill>
                <a:latin typeface="Tahoma"/>
              </a:rPr>
              <a:t>realistic estimates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 of the cost and other ramifications of a proposed software chan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 misconception that change is free is one cause of project scope cree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969696"/>
                </a:solidFill>
                <a:uFillTx/>
                <a:latin typeface="Tahoma"/>
              </a:rPr>
              <a:t>Impact analysis</a:t>
            </a:r>
            <a:r>
              <a:rPr b="0" lang="tr-TR" sz="2400" spc="-1" strike="noStrike">
                <a:solidFill>
                  <a:srgbClr val="969696"/>
                </a:solidFill>
                <a:latin typeface="Tahoma"/>
              </a:rPr>
              <a:t> provides accurate understanding of the implications of the proposed change, helping you make informed decisions about which proposals to appro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69696"/>
                </a:solidFill>
                <a:latin typeface="Tahoma"/>
              </a:rPr>
              <a:t>The analysis examines the context of the proposed chang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969696"/>
                </a:solidFill>
                <a:latin typeface="Tahoma"/>
              </a:rPr>
              <a:t>to identify existing components that might have to be modified or discarde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969696"/>
                </a:solidFill>
                <a:latin typeface="Tahoma"/>
              </a:rPr>
              <a:t>to identify new work products to be create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969696"/>
                </a:solidFill>
                <a:latin typeface="Tahoma"/>
              </a:rPr>
              <a:t>and to estimate the effort associated with each tas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7225200" y="59054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9933"/>
                </a:solidFill>
                <a:latin typeface="Times New Roman"/>
              </a:rPr>
              <a:t>Q: T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BC04-24AC-43F3-A603-B58F2319C5C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Change Isn’t Free: Impact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969696"/>
                </a:solidFill>
                <a:latin typeface="Tahoma"/>
              </a:rPr>
              <a:t>Many times a simple change turns out to be far more complicated than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69696"/>
                </a:solidFill>
                <a:latin typeface="Tahoma"/>
              </a:rPr>
              <a:t>Too often, developer’s can’t provide realistic estimates of the cost and other ramifications of a proposed software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69696"/>
                </a:solidFill>
                <a:latin typeface="Tahoma"/>
              </a:rPr>
              <a:t>The misconception that change is free is one cause of project scope cre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000099"/>
                </a:solidFill>
                <a:uFillTx/>
                <a:latin typeface="Tahoma"/>
              </a:rPr>
              <a:t>Impact analysis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provides accurate understanding of the implications of the proposed change, helping you make informed decisions about which proposals to ap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 analysis </a:t>
            </a:r>
            <a:r>
              <a:rPr b="0" lang="tr-TR" sz="2000" spc="-1" strike="noStrike">
                <a:solidFill>
                  <a:srgbClr val="800000"/>
                </a:solidFill>
                <a:latin typeface="Tahoma"/>
              </a:rPr>
              <a:t>examines the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800000"/>
                </a:solidFill>
                <a:latin typeface="Tahoma"/>
              </a:rPr>
              <a:t>context of the proposed change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o identify existing components that might have to be modified or discard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o identify new work products to be creat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nd to estimate the effort associated with each tas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25200" y="59054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9933"/>
                </a:solidFill>
                <a:latin typeface="Times New Roman"/>
              </a:rPr>
              <a:t>Q: T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395-F527-4E42-8D71-B4A807DB8CCF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Impact Analysis Procedure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 member of the project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Configuration Control Board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(CCB) will typic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 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knowledgeable develop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perform the impact analysis for a specific 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change propos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hecklist of questions designed to help the impact analyst understand the implications of accepting a proposed chan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hecklist of questions to help identify all the software requirements that change might aff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2ED5-169D-4EE5-9E5B-4EA982C3AB5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Checklist-1: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 Possible Implications of a Proposed Change</a:t>
            </a:r>
            <a:endParaRPr b="0" lang="en-US" sz="20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any existing requirements in the baseline conflict with the proposed change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Tahoma"/>
              </a:rPr>
              <a:t>Do any other pend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ing requirements changes conflict with the proposed change</a:t>
            </a:r>
            <a:r>
              <a:rPr b="0" lang="tr-TR" sz="2000" spc="-1" strike="noStrike">
                <a:solidFill>
                  <a:srgbClr val="0033cc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are the business or technical consequences of not making the change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Tahoma"/>
              </a:rPr>
              <a:t>What are the poss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ible adverse side effects or other risks of making the proposed chang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Will the proposed change adversely affect performance requirements or other quality attribut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Is the proposed change feasible within known technical constraints and current staff skill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Will the proposed change place unacceptable demands on any computer resources required for the development, test, or host environment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Must any tools be acquired to implement and test the chang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077F-D900-42D6-9A33-AC9289F3F6C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Checklist-1: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 Possible Implications of a Proposed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Do any existing requirements in the baseline conflict with the proposed change</a:t>
            </a:r>
            <a:r>
              <a:rPr b="0" lang="tr-TR" sz="2000" spc="-1" strike="noStrike">
                <a:solidFill>
                  <a:srgbClr val="969696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69696"/>
                </a:solidFill>
                <a:latin typeface="Tahoma"/>
              </a:rPr>
              <a:t>Do any other pend</a:t>
            </a: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ing requirements changes conflict with the proposed change</a:t>
            </a:r>
            <a:r>
              <a:rPr b="0" lang="tr-TR" sz="2000" spc="-1" strike="noStrike">
                <a:solidFill>
                  <a:srgbClr val="969696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What are the business or technical consequences of not making the change</a:t>
            </a:r>
            <a:r>
              <a:rPr b="0" lang="tr-TR" sz="2000" spc="-1" strike="noStrike">
                <a:solidFill>
                  <a:srgbClr val="969696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69696"/>
                </a:solidFill>
                <a:latin typeface="Tahoma"/>
              </a:rPr>
              <a:t>What are the poss</a:t>
            </a: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ible adverse side effects or other risks of making the proposed chang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the proposed change adversely affect performance requirements or other quality attribu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Is the proposed change feasible within known technical constraints and current staff skill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the proposed change place unacceptable demands on any computer resources required for the development, test, or host environmen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Must any tools be acquired to implement and test the chang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EE69-E94E-4DC6-9277-1D9590F16B84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Checklist-1: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Possible Implications of a Proposed Change</a:t>
            </a:r>
            <a:endParaRPr b="0" lang="en-US" sz="20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will the proposed change affect the sequence, dependencies, effort, or scheduled duration of any tasks currently in the project pla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Will prototyping or other user input be required to verify the proposed chang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uch effort that has already been invested in the project will be lost if this change is accept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Will the proposed change cause an increase in product unit cost, such as by increasing third-party products licensing fe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the change affect any marketing, manufacturing, training, or customer support plan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353A-5E04-4CD9-87FE-717008D2EEC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Checklist-2: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Possible Software Elements Affected by a Proposed Change</a:t>
            </a:r>
            <a:endParaRPr b="0" lang="en-US" sz="20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any user interface changes, additions, or deletions requir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Identify any changes, additions, or deletions required in reports, databases, or fi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the design components that must be created, modified, or dele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Identify the source code files that must be created, modified, or dele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any changes required in build files or procedu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Identify existing unit, integration, and system test cases that must be modified or dele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2844-A0FF-43BE-BE21-BF4FEEDF77A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Tracing Requirement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Traceability inform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reatly facilitates change impact analysis, which helps you identify and estimate all the work you might have to do fully implement a proposed requirement chan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Traceability links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allow you to follow the life of a requirement both forward and backward, from origin through implemen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o permit traceability, each requirement must be uniquely </a:t>
            </a:r>
            <a:r>
              <a:rPr b="0" lang="tr-TR" sz="2000" spc="-1" strike="noStrike">
                <a:solidFill>
                  <a:srgbClr val="800000"/>
                </a:solidFill>
                <a:latin typeface="Tahoma"/>
              </a:rPr>
              <a:t>labeled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 so that you can refer to it unambiguous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EEF6-57D1-448E-81B5-500A6F9586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Checklist-2: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Possible Software Elements Affected by a Proposed Change</a:t>
            </a:r>
            <a:endParaRPr b="0" lang="en-US" sz="20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imate the number of new unit, integration, and system test cases that will be requir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Identify any help screens, training materials, or other user documentation that must be created or modifi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any other applications, libraries, or hardware components affected by the chan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Identify any third-party software that must be purcha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any impact the proposed change will have on the project’s software PMP (Project Management Plan), quality assurance plan, configuration management plan, or other pla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Identify work products that must be reviewed after they are modifi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AB4-AE5B-4F64-A6B2-EFDE443B0AB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Worksheet: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Estimating Effort for a Requirement Change</a:t>
            </a:r>
            <a:endParaRPr b="0" lang="en-US" sz="20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 the SRS or requirement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Develop and evaluate a proto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new design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Modify existing design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 new user interface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Modify existing user interface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 new user documentation and help scre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Develop new source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ify existing source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Purchase and integrate third-party softw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Modify build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Develop new unit and integration t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Modify existing unit and integration t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Perform unit and integration testing after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Write new system test c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Modify existing system test c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0C3C-4A3B-40CA-B019-61BF8860A37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Worksheet: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Estimating Effort for a Requirement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Update the SRS or requirement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Develop and evaluate a 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Create new design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Modify existing design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Develop new user interface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Modify existing user interface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Develop new user documentation and help scre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Develop new sourc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Modify existing sourc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urchase and integrate third-party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ify build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Develop new unit and integration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ify existing unit and integration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erform unit and integration testing after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new system test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Modify existing system test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ABCB-A0BC-4786-B267-F92F19139D65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Worksheet: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Estimating Effort for a Requirement Change</a:t>
            </a:r>
            <a:endParaRPr b="0" lang="en-US" sz="20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ify automated test driver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Perform regression te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 new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Modify new existing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 new database el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Modify existing database el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Develop new data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Modify existing data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Modify various project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Update other docu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Update the R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Review work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Perform rework following reviews and te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6FC7-F10A-4075-B228-464D6B3EEF2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Worksheet: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Estimating Effort for a Requirement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Modify automated test driver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Perform regression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Develop new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Modify new existing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Develop new database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Modify existing database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 new data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Modify existing data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ify various project p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Update other 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 the R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Review work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 rework following reviews and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999F-3F6A-49B3-B69D-BC3020705885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Procedure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for Evaluating the Impact of Proposed Requirement Change</a:t>
            </a:r>
            <a:endParaRPr b="0" lang="en-US" sz="20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impact analysis approach emphasizes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comprehensive task identifica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k through the checklist – 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k through the checklist – 2 using available traceability inf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worksheet – 1 to estimate the effort required for the anticipated task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the effort estima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the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seque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which the tasks must be performed and how they can be interleaved with currently planned task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96969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Determine whether the change is on the project’s critical pa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96969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Estimate the impact of the proposed change on the project’s schedule and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96969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Evaluate the change’s priority by estimating the relative benefit, penalty, cost, and technical risk compared to other discretionary require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96969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Report the impact analysis results to the CC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F868-1DAE-4A30-8933-5E21828235A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Procedure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for Evaluating the Impact of Proposed Requirement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impact analysis approach emphasizes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comprehensive task identifica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Work through the checklist –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Work through the checklist – 2 using available traceability inf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Use worksheet – 1 to estimate the effort required for the anticipated ta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Total the effort estim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Identify the sequence in which the tasks must be performed and how they can be interleaved with currently planned ta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whether the change is on the project’s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critical pa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imate the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impac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proposed change on the project’s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schedule and co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e the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change’s prior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y estimating the relative benefit, penalty, cost, and technical risk compared to other discretionary requir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ort the impact analysis results to the CC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4D07-FAFC-4852-853A-E5EBE104A604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mpact Analysis Report Template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nge Request ID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tl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lys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Date Prepared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Prioritization Estimat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Relative Benefit: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(1-9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Relative Penalty: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(1-9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Relative Cost: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(1-9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Relative Risk: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(1-9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Calculated Priority: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Estimated total effort: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labor hou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Estimated lost effort: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labor hou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Estimated schedule impact: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dditional cost impact: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doll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Quality impact: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FD48-15C8-4F0B-94C9-CBFC4A00678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mpact Analysis Report Template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ther requirements affected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ther tasks affected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Plans to be updated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ntegration issu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Life-cycle cost issu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ther components to examine for possible chang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Using a standard template will make it easier for the CCB members to find the info they need to make informed dec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 people who will implement the change will need the analysis details and the effort planning worksheet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t the CCB needs only the summary of analysis resul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D15C-EAE8-45F8-A029-5F1DC58FF15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Four Types of Requirements Traceability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1066680"/>
            <a:ext cx="152388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Nee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(Use Cas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2819520"/>
            <a:ext cx="1523880" cy="761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4572000"/>
            <a:ext cx="152388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Downstr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1828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952880" y="1828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952880" y="3581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3581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45080" y="1981080"/>
            <a:ext cx="131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Forward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83840" y="1981080"/>
            <a:ext cx="145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Backward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78440" y="3809880"/>
            <a:ext cx="131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Backward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76320" y="3749760"/>
            <a:ext cx="133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Forward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85360" y="4572000"/>
            <a:ext cx="18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nterpretation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6560" y="5384880"/>
            <a:ext cx="208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Gold-plating ?</a:t>
            </a:r>
            <a:br>
              <a:rPr sz="1400"/>
            </a:b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Missing requirement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BF3A-639C-4ED2-B28D-16E35E0525A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Traceability Link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raceability links help you keep track of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parentage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interconnections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dependencies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among individual requir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is info identifies the </a:t>
            </a:r>
            <a:r>
              <a:rPr b="0" lang="tr-TR" sz="2000" spc="-1" strike="noStrike">
                <a:solidFill>
                  <a:srgbClr val="800000"/>
                </a:solidFill>
                <a:latin typeface="Tahoma"/>
              </a:rPr>
              <a:t>propagation of change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 that can result when a specific requirement is deleted or modifi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E.g., specific reqs – to – tasks in project’s work-breakdown structure (WB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E35F-2F18-4C0A-A59D-AA6095CD68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Some Possible Requirements Traceability Link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838080"/>
            <a:ext cx="243828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Business Requi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1600200"/>
            <a:ext cx="3048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System Requirement, </a:t>
            </a:r>
            <a:br>
              <a:rPr sz="1400"/>
            </a:b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Use Case, Business Rule,</a:t>
            </a:r>
            <a:br>
              <a:rPr sz="1400"/>
            </a:b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External Interface Requi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2666880"/>
            <a:ext cx="2133720" cy="533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Software Func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Requi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1219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91800" y="121932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drives specification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44640" y="228600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is origin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2819520"/>
            <a:ext cx="609480" cy="30456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0" y="0"/>
                </a:moveTo>
                <a:cubicBezTo>
                  <a:pt x="168" y="96"/>
                  <a:pt x="336" y="192"/>
                  <a:pt x="336" y="240"/>
                </a:cubicBezTo>
                <a:cubicBezTo>
                  <a:pt x="336" y="288"/>
                  <a:pt x="56" y="280"/>
                  <a:pt x="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35840" y="2743200"/>
            <a:ext cx="116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depends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an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3657600"/>
            <a:ext cx="1295640" cy="533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Project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3657600"/>
            <a:ext cx="198144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Architectur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User Interfac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or Functional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3657600"/>
            <a:ext cx="1295640" cy="533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66280" y="327672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is verifi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3276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55800" y="327672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connects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286000" y="32767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09040" y="3124080"/>
            <a:ext cx="14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is address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4800600"/>
            <a:ext cx="1295640" cy="533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4800600"/>
            <a:ext cx="1295280" cy="533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5715000"/>
            <a:ext cx="1295280" cy="533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4419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19960" y="44197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is implemented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143000" y="44197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94480" y="441972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is verifi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99240" y="533412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is verifi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2133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6440" y="2971800"/>
            <a:ext cx="7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aff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600200"/>
            <a:ext cx="1295640" cy="533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C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502920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You don’t necessarily need to define and manage all these traceability link typ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D221-BA77-4AE4-A268-F228B87B1F4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Motivations for Tracing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t helps you to avoid from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overlooking a requirement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equirements tracing provides a way to demonstrate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compliance with a contract or specification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equirements tracing can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improve the quality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of your delivered products, reduce maintenance costs, and facilitate re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969696"/>
                </a:solidFill>
                <a:latin typeface="Tahoma"/>
              </a:rPr>
              <a:t>Tracing requirements is a manually intensive task that requires organizational commit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969696"/>
                </a:solidFill>
                <a:latin typeface="Tahoma"/>
              </a:rPr>
              <a:t>Keeping the link info current as the system undergoes development and maintenance takes discip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0355-4FE3-4293-81F3-5942EEEECC0C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Motivations for Tracing Requirement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969696"/>
                </a:solidFill>
                <a:latin typeface="Tahoma"/>
              </a:rPr>
              <a:t>It helps you to avoid from overlooking a requir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969696"/>
                </a:solidFill>
                <a:latin typeface="Tahoma"/>
              </a:rPr>
              <a:t>Requirements tracing provides a way to demonstrate compliance with a contract or specific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969696"/>
                </a:solidFill>
                <a:latin typeface="Tahoma"/>
              </a:rPr>
              <a:t>Requirements tracing can improve the quality of your delivered products, reduce maintenance costs, and facilitate reu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racing requirements is a manually intensive task that requires organizational commitme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Keeping the link info current as the system undergoes development and maintenance takes discipli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3129-614E-492E-87A7-0CDCF55804A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Benefits of Implementing Requirements Traceability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Cer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Change impact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facilitates making changes correctly and complet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9933"/>
                </a:solidFill>
                <a:latin typeface="Tahoma"/>
              </a:rPr>
              <a:t>What if you don’t have traceability info for an entire syste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roject 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n accurate record of the implementation status of planned function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e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e.g., replacing a legacy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e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isk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4D91-D783-4156-A1A8-59B5B9D909A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/10/2002 Lect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2T17:47:38Z</dcterms:created>
  <dc:creator>KD</dc:creator>
  <dc:description/>
  <dc:language>en-US</dc:language>
  <cp:lastModifiedBy>kivancd</cp:lastModifiedBy>
  <dcterms:modified xsi:type="dcterms:W3CDTF">2002-10-21T11:43:54Z</dcterms:modified>
  <cp:revision>53</cp:revision>
  <dc:subject/>
  <dc:title>SM-515 Software Verification &amp; Validation   (Fall 2002 Semester)</dc:title>
</cp:coreProperties>
</file>