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6E9-13A0-4290-86B8-B5E8ACF9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0AA-0BAD-443C-9683-C0D3D01C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2AA-D3C4-46FB-84A8-F005FC04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7EB-3595-46E1-9DCF-65A60D7C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867-F0C5-405C-B970-B868E5E2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B53-BBA1-410B-9F28-079A9B5C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8EC-D7EA-4ABD-92FB-1CAD14FC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894-FEB9-42BB-A627-A5327F53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7F6-A7F5-4D23-95D4-0D95CFC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6B8-4A7C-42BB-B8A0-B00EF404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156-C6D3-4B1D-ACD3-2545C91C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315-DBE5-4135-BFC1-A1DB391B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18E6-87BA-41D8-9903-DEB765E5F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ao.tubitak.gov.t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M-515</a:t>
            </a:r>
            <a:br>
              <a:rPr sz="3200"/>
            </a:b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ftware Verification &amp; Validation</a:t>
            </a:r>
            <a:br>
              <a:rPr sz="3200"/>
            </a:br>
            <a:br>
              <a:rPr sz="3200"/>
            </a:br>
            <a:r>
              <a:rPr b="0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Fall 2002 Semester</a:t>
            </a:r>
            <a:br>
              <a:rPr sz="2000"/>
            </a:br>
            <a:br>
              <a:rPr sz="1800"/>
            </a:br>
            <a:r>
              <a:rPr b="0" lang="tr-TR" sz="1800" spc="-1" strike="noStrike">
                <a:solidFill>
                  <a:srgbClr val="000099"/>
                </a:solidFill>
                <a:latin typeface="Tahoma"/>
              </a:rPr>
              <a:t>Lecture 6:  Software Reviews</a:t>
            </a:r>
            <a:br>
              <a:rPr sz="1800"/>
            </a:br>
            <a:r>
              <a:rPr b="0" lang="tr-TR" sz="1800" spc="-1" strike="noStrike">
                <a:solidFill>
                  <a:srgbClr val="000099"/>
                </a:solidFill>
                <a:latin typeface="Tahoma"/>
              </a:rPr>
              <a:t>11/11/2002</a:t>
            </a:r>
            <a:endParaRPr b="0" lang="en-US" sz="18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r. Kıvanç DİNÇ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ÜBİTAK-UEKAE/İLT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0033cc"/>
                </a:solidFill>
                <a:uFillTx/>
                <a:latin typeface="Tahoma"/>
                <a:hlinkClick r:id="rId2"/>
              </a:rPr>
              <a:t>http://www.uao.tubitak.gov.t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Audit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independent examination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f a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software product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software proces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, or set of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o assess compliance with specifications, standards, contractual agreements, or other crite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53B-F3B6-4C69-9024-A8368EB549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Comparison of Review Typ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880" y="1397160"/>
          <a:ext cx="8305920" cy="323208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384200"/>
                <a:gridCol w="1384200"/>
                <a:gridCol w="1384560"/>
                <a:gridCol w="1384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is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gement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p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k-throu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sure progres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mmend correc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e action, ensure proper allocation of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te conformance to specs and plans; ensure change integ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d anomalies; verify resolution; verify produ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d anomalies; examine alternatives; improve product; form for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ly evaluate compliance with objective stds and regu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ision-ma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gmt team charts course of action; decisions made at the meeting or as a result of recommend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ew team requests mgmt or technical leadership to act on recommend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ew team chooses predefined product dispositions; defects must be remo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team agrees on changes to be made by the 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ed organization, initiator, acquirer, customer or 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08D-D472-445B-9B66-FF47FF17AD4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General Not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or each review type, a Review Report must be gener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se reports themselves can be systematically review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review items are referred to as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software product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by the standard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he definition of software product is more loosely than IEEE Std.610.12 IEEE Standard Glossary of Software Engineering Terminolog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(A) A complete set of computer programs, procedures, and associated documentation and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(B) One or more of the individual items in (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DF9-5DC7-4318-8363-4A566A6612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Benefit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reviews are the most important software V&amp;V activity besides software tes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evaluating various work products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arly in the software life cyc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y anomalies in the work products can be identified and corrected earlier than with testing al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s to reduce project cost and schedu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reveal defects that would have been difficult to expose via te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complementing testing, can increase the quality of final produ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reviews specify formalized meetings.  By improving the efficiency of meetings, they guide them for a specific purpose and out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can improve the cost and schedule of software projects, and morale of the organiz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easy to document, and thus provide objective evidence of design controls, as required for compliance with some regul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E25-D0CC-4723-BF4F-3FEC95826C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ersonnel Roles for Review Typ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1219320"/>
          <a:ext cx="8305920" cy="358128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384200"/>
                <a:gridCol w="1384200"/>
                <a:gridCol w="1384560"/>
                <a:gridCol w="13842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is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gement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p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k-throu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atten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gement, technical leadership and peer m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leadership and peer m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leadership and peer m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ors, audited organization, management and technical person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up leade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ally the responsible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ally the lead engine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ined facilit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ilitator or 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d au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ct represent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ment team represent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ors collect and examine info by audited 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289-9C47-49ED-8C86-1B2590D8FDA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Audienc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d is useful for both management and technical teams, for development, testing, and quality assurance person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the customer and supplier, even the user, can be involved in software revie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854-8C2C-4FC3-8D60-311EB5A341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roject  Phases  Affected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reviews can be conducted during all project ph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V&amp;V tasks specified in IEEE Std.1012 for various phases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h as Criticality Analysis, Traceability Analysis, Hazard Analysis, Risk Analysis, and Interface Analy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performed via Technical Reviews, Inspections, or Walk-through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C06-60A6-4780-87A2-8096EC94A0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ossible Mapping to Review Typ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397160"/>
          <a:ext cx="8229600" cy="4579920"/>
        </p:xfrm>
        <a:graphic>
          <a:graphicData uri="http://schemas.openxmlformats.org/drawingml/2006/table">
            <a:tbl>
              <a:tblPr/>
              <a:tblGrid>
                <a:gridCol w="2057400"/>
                <a:gridCol w="609480"/>
                <a:gridCol w="3048120"/>
                <a:gridCol w="2514600"/>
              </a:tblGrid>
              <a:tr h="37008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EEE Std.1012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gement Review of V&amp;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gement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Requirements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act Ver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agement Review, Technical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pt Documentation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Requirements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, Inspection, Walk-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Design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, Inspection, Walk-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 Code and Source Code Documentation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, Inspection, Walk-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lation Configuration 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ing Procedures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ical Review, Inspection, Walk-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C59-87B3-4A92-A65B-4D6BFB16F1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Detailed Description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Std.1028 specifies the following info for each type of review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eded for the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try Criteria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ditions required for starting the review, including authorization and initiating ev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teps for the review including mgmt preparation, planning, overview meeting, preparation, examination, and rework activ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it Criteria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ditions required for completing the revie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inimum set of deliverables from the review, e.g., Review Repor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E45-5151-4FCF-A441-5B1A3B8873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Management  Reviews - Rol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sion Maker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s if the review objectives have been m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Lead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ns and conducts the review, and issues the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M</a:t>
            </a:r>
            <a:r>
              <a:rPr b="0" lang="tr-TR" sz="1800" spc="-1" strike="noStrike">
                <a:solidFill>
                  <a:srgbClr val="800000"/>
                </a:solidFill>
                <a:latin typeface="Tahoma"/>
              </a:rPr>
              <a:t>gmt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Review Re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s anomalies, action items, decisions, and recommendations made during the review examination, and provides this to the review lea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taff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e the revie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 Staff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for the revie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stomer or User Representativ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ally invited by the reviewer leader, to participate in the review, provide info for the revie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FF9-758E-4AAB-8ADE-8FA0528BD8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ftware Review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ftware Revie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sp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alkthroug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ud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EEE Std. 1028-1997, IEEE Standard for Software Review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” addresses this top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89C-6A36-4BF0-844B-AB0462E5E6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Rol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decision mak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erson for whom the management review is conduc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statement of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the review is established by the management personnel for whom the review is being carried 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B92-4988-4AE1-B7F8-160DD04320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Management Review Proces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895480"/>
            <a:ext cx="1371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1371600"/>
            <a:ext cx="114300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1371600"/>
            <a:ext cx="114300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1371600"/>
            <a:ext cx="114300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14479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e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62904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666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epa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581280"/>
            <a:ext cx="137160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4038480"/>
            <a:ext cx="1219320" cy="762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verview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05520"/>
            <a:ext cx="1371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epa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65760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tion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Can be conducted during th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ginning of the first review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77796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ually specified via a Softwa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Project Management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59092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nerate a list of action items, emphasizing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y anomalies   </a:t>
            </a:r>
            <a:r>
              <a:rPr b="1" lang="en-US" sz="1400" spc="-1" strike="noStrike">
                <a:solidFill>
                  <a:srgbClr val="339933"/>
                </a:solidFill>
                <a:latin typeface="Tahoma"/>
              </a:rPr>
              <a:t>why</a:t>
            </a:r>
            <a:r>
              <a:rPr b="1" lang="tr-TR" sz="1400" spc="-1" strike="noStrike">
                <a:solidFill>
                  <a:srgbClr val="339933"/>
                </a:solidFill>
                <a:latin typeface="Tahoma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3908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97D-C502-4132-A9F1-E987271E3D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277920"/>
          <a:ext cx="9144000" cy="590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7920"/>
                    <a:ext cx="9144000" cy="59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154-C809-444D-9780-4BB5556CA1A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4648320"/>
            <a:ext cx="75438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- Decis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ather than merely recommendations, can b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ing the review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unlike technical reviews and like inspec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sions are focused on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mgmt iss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ually involving softw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 cycle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Mgmt Review Repor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contain the following inf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ject being review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view team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obj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product review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inputs to the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 item status (open/closed), ownership and target date (if open) or completion date (if clo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st of anomalies identified by the review team that must be addressed for the project to meet its goa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7C8-549C-4F55-A9DA-D513BE67AD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echnical Reviews - Rol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Decision Maker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Determines if the review objectives have been m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Review Lead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Plans and conducts the review, and issues the Technical Review Repor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Record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Documents anomalies, action items, decisions, and recommendations made during the review examination, and provides this to the review lea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taff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Can particip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the review for the purpose of identifying issues that require management resolu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 Staff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e in the review and evaluate the software produc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Customer or User Representativ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ahoma"/>
              </a:rPr>
              <a:t>Optionally invited by the reviewer leader, to participate in the review, provide info for the revie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464-7EAD-448A-BC4C-A5683E53FB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Management Review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895480"/>
            <a:ext cx="1371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1371600"/>
            <a:ext cx="114300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1371600"/>
            <a:ext cx="114300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371600"/>
            <a:ext cx="114300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14479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e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62904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666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4479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epa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581280"/>
            <a:ext cx="137160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4038480"/>
            <a:ext cx="1219320" cy="762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verview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105520"/>
            <a:ext cx="1371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epa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59092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nerate a list of action items, emphasizing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y anomalies   </a:t>
            </a:r>
            <a:r>
              <a:rPr b="1" lang="en-US" sz="1400" spc="-1" strike="noStrike">
                <a:solidFill>
                  <a:srgbClr val="339933"/>
                </a:solidFill>
                <a:latin typeface="Tahoma"/>
              </a:rPr>
              <a:t>why</a:t>
            </a:r>
            <a:r>
              <a:rPr b="1" lang="tr-TR" sz="1400" spc="-1" strike="noStrike">
                <a:solidFill>
                  <a:srgbClr val="339933"/>
                </a:solidFill>
                <a:latin typeface="Tahoma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2BF-19B8-424C-BD29-7604A1FC35FD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533520"/>
          <a:ext cx="9144000" cy="509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914400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97D-FE41-45F5-8455-D4C974AC651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echnical</a:t>
            </a: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 Review Repor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contain the following inf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The project being review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The review team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Review objective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whether they were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Software product review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Specific inputs to the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Action item status (open/closed), ownership and target date (if open) or completion date (if clo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st of resolved and unresolved product anomal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st of unresolved system or hardware anomalies or specification action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st of management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recommendation made by the review team on how to dispose of unresolved issues and anoma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the software product meets the applicable regulations, standards, guidelines, plans and procedures without devi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867280"/>
            <a:ext cx="754380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- Information and recommendation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provided to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 will make decisions based on this in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51A-F110-4BDC-AA10-D014BCAE28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nspections - Rol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ion Lea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s and conducts the review, and issues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Inspection Rep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s anomalies, action items, decisions, and recommendations made during the review examination, and provides this to the inspection lea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he inspection through the software product, for example, paraphrasing several lines, functions, paragraphs, or se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s the product for the inspection, provides info for the inspection, reworks the software product as needed following the inspection mee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o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and describes anomalies in the software produ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4D5-BEC1-4F2C-AD41-73A1548465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Rol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uccessful inspections, it is important for the inspection leader to restrict the role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uthor to providing info regarding the work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not to become engaged in defending the work produc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ors to identification and description of objective defects in the work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not to allow subjective evaluation of the entire work product that might cause a defensive reaction on the part of the auth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419720"/>
            <a:ext cx="7543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- Individuals holding management posi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ver any member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the inspection team shall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not particip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spection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encourage open exchange of ideas during the insp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900-FB6D-44E7-B298-4B5694482E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Overview – IEEE Std. 1028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purpose of the standard is to define </a:t>
            </a:r>
            <a:r>
              <a:rPr b="0" lang="tr-TR" sz="2400" spc="-1" strike="noStrike" u="sng">
                <a:solidFill>
                  <a:srgbClr val="800000"/>
                </a:solidFill>
                <a:uFillTx/>
                <a:latin typeface="Tahoma"/>
              </a:rPr>
              <a:t>systematic review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pplicable to software acquisition, supply, development, operation and maintenance. This standard describes how to carry out a revie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primary purpose of such reviews is to identify </a:t>
            </a:r>
            <a:r>
              <a:rPr b="0" lang="tr-TR" sz="2400" spc="-1" strike="noStrike" u="sng">
                <a:solidFill>
                  <a:srgbClr val="800000"/>
                </a:solidFill>
                <a:uFillTx/>
                <a:latin typeface="Tahoma"/>
              </a:rPr>
              <a:t>anomalie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in the review item, so that these can be correc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400" spc="-1" strike="noStrike" u="sng">
                <a:solidFill>
                  <a:srgbClr val="000099"/>
                </a:solidFill>
                <a:uFillTx/>
                <a:latin typeface="Tahoma"/>
              </a:rPr>
              <a:t>Anomaly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(defect, error, fault, and bug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ny condition that </a:t>
            </a:r>
            <a:r>
              <a:rPr b="0" lang="tr-TR" sz="2000" spc="-1" strike="noStrike" u="sng">
                <a:solidFill>
                  <a:srgbClr val="000000"/>
                </a:solidFill>
                <a:uFillTx/>
                <a:latin typeface="Tahoma"/>
              </a:rPr>
              <a:t>deviates from expectations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based on requirements specifications, design documents, user documents, standards, and so on or from someone’s perceptions or experien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nomalies may be found ... </a:t>
            </a:r>
            <a:r>
              <a:rPr b="1" lang="tr-TR" sz="1600" spc="-1" strike="noStrike">
                <a:solidFill>
                  <a:srgbClr val="339933"/>
                </a:solidFill>
                <a:latin typeface="Tahoma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04A-6892-426B-83A4-69180DF14C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927000"/>
          <a:ext cx="9144000" cy="500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27000"/>
                    <a:ext cx="914400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92C-C809-4501-A2DB-BE6D4AC1BE3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omparison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tructured that a mgmt or technical review mee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e challenge of covering significant amounts of technical info within time constra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ike mgmt or technical reviews, inspections primarily focused on the identification of anomal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imary goal is to generate a list of action items emphasizing ri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pections are conducted by technical personnel, and provide info to technical personn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C92-9426-4793-9187-00DA75F455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nspection  Repor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contain the following inf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The project being review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The inspection team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spection meeting d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Inspection objectives and whether they were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Software product ins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ze of the materials inspected (e.g., number of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Specific inputs to the re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omaly list, containing each anomaly’s location, description, and classif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spection anomaly summary listing the number of anomalies identified by each anomaly catego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sposition of the software produ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stimate of the rework effort and rework completion d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527-6FF7-4408-B0F2-3289F83F50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Software Product Disposition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with no or minor re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duct is accepted as 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with rework verif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be accepted after the inspection leader or a designated member verifies re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insp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a minimum, the software product areas changed to resolve anomalies identified in the last inspection, as well as side effects of those chan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sposition of the sw product should be based on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number and severity of the anomal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dentified,and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stimated rework eff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e-inspection should be performed if the scope of the rework is substantial, the rework cannot be clearly specified, or side effects of the rework are poss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C8A-DD0D-433F-85EB-6216CEDD76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ategorization of Anomali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hough it is not necessary, anomalies can be categorized acc.to IEEE Std.1044 IEEE Standard Classification for Software Anomal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datory categories by IEEE Std.1044 are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ual ca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sche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8F4-52CA-4E13-9A08-6C7600CE54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Anomaly Ranking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 non-mandatory aspect of data collection during inspections, the std suggest the following anomaly rank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malies may be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ranked by potential imp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the software product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Majo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omalies that would result in failure of the software product or an observable departure from specif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Mino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omalies that deviate from relevant specifications but will not cause failure of the software product or an observable departure in perform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ny case, anomalies should be evaluated for r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029200"/>
            <a:ext cx="7543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spection leader is authorized to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make decis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ga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d rework of the software product. It delegates 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decision-making responsi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echnical perso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77F-7575-44B2-ABC7-1FC13DEBD8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alk-Through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lk-Through Lea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s and conducts the walk-through, defines the objectives of the walk-through and esures that these are met, and issues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Walk-Through Rep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s decisions and identified actions during the mee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s the software product in the walk-throug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Memb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cipates in the walk-throug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uthor can function as the leader and/or as the recorder. Only one other team member is sufficient to conduct a walk-throug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F05-B4E7-4C63-A1B3-4C1CC15205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alk-Through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and schedule of walk-throughs are lower and shorter, respectively, than those of insp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are easier to implement from the point of view of managing the review team dynam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there is less chance of putting the author in a defensive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walk-throughs are not as effective, as well-conducted inspections in identifying anomalies, for the very reasons that they are easier to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DC1-3411-4FD1-8BCE-392F1D3C90D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alk-Through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inspections, walk-throughs are primarily focused on the identification of anomal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, like inspections, walk-throughs are conducted by technical personnel, and provide info to technical personne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9D9-C000-4A1D-8FDF-D60B0DCF90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alk-Through Repor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contain the following inf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The software product being exam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The walk-throughs team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ahoma"/>
              </a:rPr>
              <a:t>Statement of objectives and whether they were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st of recommendations made regarding each anoma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st of actions, due dates, and responsible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recommendations made by the walk-through team on how to dispose of deficiencies and unresolved anomal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proposals made by the walk-through team for follow-up walk-through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cation of anomalies can be performed in the same manner as in inspe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BB1-128D-4E0D-AF3D-9398AA22AA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eview Typ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99"/>
                </a:solidFill>
                <a:uFillTx/>
                <a:latin typeface="Tahoma"/>
              </a:rPr>
              <a:t>Systematic Re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ystematic at least includes the following attribut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) Team participatio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) Documented results of the review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c) Documented procedures for conducting the revie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99"/>
                </a:solidFill>
                <a:uFillTx/>
                <a:latin typeface="Tahoma"/>
              </a:rPr>
              <a:t>Nonsystematic Re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Reviews that do not meet the requirements of this standa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he standard is not meant to discourage or prohibit the use of nonsystematic reviews for other purpos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2AE-1440-4E67-9ACE-C1A591F857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62120" y="380880"/>
          <a:ext cx="7581960" cy="587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80880"/>
                    <a:ext cx="75819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671-79AC-41DB-B757-CD38A465BAB5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alk-Throughs - Comparison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cision-making process for a walk-through is more restricted than for an insp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k-through is more oriented toward providing info, and less oriented to reworking of anomal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pection cannot be completed until the software has been accepted and anomalies have been resolved, whereas the exit criteria for a walk-through is only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tire software product has been exam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mmendations and required actions have been recor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walk-through output has been comple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3FB-F9FF-44BF-A15C-94A22429E8C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Walk-Throughs - Comparison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spection,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re-inspe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be mandated, whereas in a walk-through it can only b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propos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 sense, it is an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inspection-lite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” useful to small org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za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do not have the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personnel resources and process matur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conducting inspection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that are not willing to delegate as much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decision-mak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technical person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is required for inspe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9DB-C3E1-4E36-A386-B96918130C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457200"/>
          <a:ext cx="9144000" cy="544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914400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9A4-04B1-42B1-B7D5-2CD4B9B43F3F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Types of Software Review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nagement Re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chnical Revie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sp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alk-throug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ud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29F-0AC7-4C1B-9548-419CFA8FDA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Management Review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A systematic evaluation of a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software acquisition, supply, development, operation, or maintenanc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proc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monitor progres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determine the status of plans and schedule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confirm requirements and their system allocation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r to evaluate the effectiveness of management approaches used to achieve fitness for purpo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e carried out by, or on behalf of, th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management personnel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having direct responsibility for the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upport decisions abo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corrective action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changes in the allocation of resource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or changes to the scope of the pro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DA6-67C7-4B6A-AB70-1ECE207223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Technical Review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A systematic evaluation of a software produ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examine the suitability of the software product for its intended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identify discrepancies from specifications and stand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confirm whether changes to the software product are properly implemented and affect only those system areas identified by the change spec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e carried out by a team of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 qualified person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ovide recommendations of alternatives and examination of various altern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EB5-0B48-4F02-B67A-514DCFC134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Inspection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An examination of a software product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o detect and identify software anomalies, including errors and deviations from standards and specific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e peer examinations led by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impartial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facilitators who are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trained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in inspection techniq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etermination of remedial or investigative action for an anomaly is a mandatory ele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A5E-12E0-413B-81B4-8010D5ACBD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Walk-through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 static analysis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participants aks questions and make comments about possible errors, violation of development standards, and other problem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 designer or programmer leads members of the development team or other interested pa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A4F-191A-46CE-AA38-C43E970C9E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1/2002 Lect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7:47:38Z</dcterms:created>
  <dc:creator>KD</dc:creator>
  <dc:description/>
  <dc:language>en-US</dc:language>
  <cp:lastModifiedBy>kivancd</cp:lastModifiedBy>
  <dcterms:modified xsi:type="dcterms:W3CDTF">2002-11-27T22:03:40Z</dcterms:modified>
  <cp:revision>65</cp:revision>
  <dc:subject/>
  <dc:title>SM-515 Software Verification &amp; Validation   (Fall 2002 Semester)</dc:title>
</cp:coreProperties>
</file>