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C70-CADF-4C3D-8544-520D69F7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4F4-43A1-417A-8731-AE3158DF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095A-C67C-4B5E-B7C6-1F7064D5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9C7-E8CC-4ABA-B9BB-C54B9BB2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9E8-1691-4B5B-AB5D-9D2160A5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065-D9CC-4B3F-8BBC-190F6B52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D9A-B11F-49F6-9BC7-668497DB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F28F-6282-4426-A581-34C6A082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9B9-7457-4A4B-B7DD-72C0C14F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ECA-0EC0-4363-91CF-A226AFEC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25E-2CAA-4B7E-A805-9CEC7530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48A-4ED6-476C-AFA3-93636A8B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9D14-FD18-4324-895D-857774E16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ao.tubitak.gov.tr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M-515</a:t>
            </a:r>
            <a:br>
              <a:rPr sz="3200"/>
            </a:b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oftware Verification &amp; Validation</a:t>
            </a:r>
            <a:br>
              <a:rPr sz="3200"/>
            </a:br>
            <a:br>
              <a:rPr sz="3200"/>
            </a:br>
            <a:r>
              <a:rPr b="0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Fall 2002 Semester</a:t>
            </a:r>
            <a:br>
              <a:rPr sz="2000"/>
            </a:br>
            <a:br>
              <a:rPr sz="1800"/>
            </a:br>
            <a:r>
              <a:rPr b="0" lang="tr-TR" sz="1800" spc="-1" strike="noStrike">
                <a:solidFill>
                  <a:srgbClr val="000099"/>
                </a:solidFill>
                <a:latin typeface="Tahoma"/>
              </a:rPr>
              <a:t>Lecture 7:  Inspections: Planning and Preparation</a:t>
            </a:r>
            <a:br>
              <a:rPr sz="1800"/>
            </a:br>
            <a:r>
              <a:rPr b="0" lang="tr-TR" sz="1800" spc="-1" strike="noStrike">
                <a:solidFill>
                  <a:srgbClr val="000099"/>
                </a:solidFill>
                <a:latin typeface="Tahoma"/>
              </a:rPr>
              <a:t>18/11/2002</a:t>
            </a:r>
            <a:endParaRPr b="0" lang="en-US" sz="18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Dr. Kıvanç DİNÇ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ÜBİTAK-UEKAE/İLTA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 u="sng">
                <a:solidFill>
                  <a:srgbClr val="0033cc"/>
                </a:solidFill>
                <a:uFillTx/>
                <a:latin typeface="Tahoma"/>
                <a:hlinkClick r:id="rId2"/>
              </a:rPr>
              <a:t>http://www.uao.tubitak.gov.tr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Planning the Inspection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ne difference between formal reviews such as inspections and ad hoc reviews is that inspections are </a:t>
            </a:r>
            <a:r>
              <a:rPr b="0" lang="tr-TR" sz="2400" spc="-1" strike="noStrike" u="sng">
                <a:solidFill>
                  <a:srgbClr val="800000"/>
                </a:solidFill>
                <a:uFillTx/>
                <a:latin typeface="Tahoma"/>
              </a:rPr>
              <a:t>planned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t a strategic level, the PM (Project Manager) and QAM (Quality Assurance Manager) decide which project deliverables need to be reviewed and how to incorporate reviews into the project pl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project’s Software Quality Assurance Plan (SQAP) typically defines the reviews that will be conducted on the pro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Establishing </a:t>
            </a:r>
            <a:r>
              <a:rPr b="0" lang="tr-TR" sz="2000" spc="-1" strike="noStrike" u="sng">
                <a:solidFill>
                  <a:srgbClr val="800000"/>
                </a:solidFill>
                <a:uFillTx/>
                <a:latin typeface="Tahoma"/>
              </a:rPr>
              <a:t>review points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provides a sequence of </a:t>
            </a:r>
            <a:r>
              <a:rPr b="0" lang="tr-TR" sz="2000" spc="-1" strike="noStrike" u="sng">
                <a:solidFill>
                  <a:srgbClr val="800000"/>
                </a:solidFill>
                <a:uFillTx/>
                <a:latin typeface="Tahoma"/>
              </a:rPr>
              <a:t>quality gates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that keep the project on tr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99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339933"/>
                </a:solidFill>
                <a:latin typeface="Tahoma"/>
              </a:rPr>
              <a:t>What if you don’t explicitly schedule formal review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B294-5F18-4423-AF65-A7BBED4465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Planning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ecide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whether you really need an inspection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ased on author’s objectives and the risk assoc’d with the deliverable, you can determine whether a less formal review might be suffici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ecide on the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type of review technique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ased on the evaluation of project schedule and quality goals, the work product size, and the availability of suitable review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f you decide on an inspection, the author and the moderator need to plan the events and select participa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4495680"/>
            <a:ext cx="1143000" cy="91440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Auth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3962520"/>
            <a:ext cx="1143000" cy="91440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No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3080" y="5181480"/>
            <a:ext cx="1143000" cy="91440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Inspection</a:t>
            </a:r>
            <a:br>
              <a:rPr sz="1400"/>
            </a:b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4267080"/>
            <a:ext cx="18288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4648320"/>
            <a:ext cx="18288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Auth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Mod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4876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34120" y="44197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95288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CC2-2DDC-4525-A395-50C454B4E89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Major Planning Stag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ssign a mode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elect the material to be insp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Judge whether the material is ready to be insp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Choose the inspection participants and assign roles to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ssemble the inspection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chedule the remaining inspection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4B4-03D1-483E-AC07-2CDA90F567B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1. When to Hold Inspections?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lan to inspect a work product when it reaches a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completion milestone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and is ready to be passed on to next development st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339933"/>
                </a:solidFill>
                <a:latin typeface="Tahoma"/>
              </a:rPr>
              <a:t>What if you don’t know yet who the inspectors will be or precisely what artifacts they will examine at planning time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339933"/>
                </a:solidFill>
                <a:latin typeface="Tahoma"/>
              </a:rPr>
              <a:t>Why inspect at mileston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nspections are often viewed as a final quality filter through which a work product must pass before being approved. But don’t limit inpections to being the ultimate seal of approval all the tim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Combine inspections with early or incremental informal reviews for a cost effective quality approach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EDA-268D-4BEF-9A58-473140D183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me development processes involve a series of related docu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For example, requirements development proceeds from a high level of abstraction into progressively more deta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Begin with a </a:t>
            </a:r>
            <a:r>
              <a:rPr b="0" lang="tr-TR" sz="1800" spc="-1" strike="noStrike">
                <a:solidFill>
                  <a:srgbClr val="800000"/>
                </a:solidFill>
                <a:latin typeface="Tahoma"/>
              </a:rPr>
              <a:t>vision and scope document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that defines the business requirement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hen move into </a:t>
            </a:r>
            <a:r>
              <a:rPr b="0" lang="tr-TR" sz="1800" spc="-1" strike="noStrike">
                <a:solidFill>
                  <a:srgbClr val="800000"/>
                </a:solidFill>
                <a:latin typeface="Tahoma"/>
              </a:rPr>
              <a:t>user requirements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in the form of use cases, business rules, or event table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hen elaborate into detailed functional and nonfunctional require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lan to inspect all early-stage deliverables. This is crucial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99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339933"/>
                </a:solidFill>
                <a:latin typeface="Tahoma"/>
              </a:rPr>
              <a:t>Why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780-5EE7-41D7-85E4-627EE64577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lan to inspect the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initial increment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of a large body of work to look for systematic errors and major misunderstand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Examples: class diagrams modeling a system, source cod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rocess of developing, verifying, and reworking a code component could incorporate inspection either before or after unit te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339933"/>
                </a:solidFill>
                <a:latin typeface="Tahoma"/>
              </a:rPr>
              <a:t>Which one is better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4495680"/>
            <a:ext cx="8384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4495680"/>
            <a:ext cx="8380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Compile</a:t>
            </a:r>
            <a:br>
              <a:rPr sz="1400"/>
            </a:b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&amp;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15200" y="4495680"/>
            <a:ext cx="8380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Bas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4495680"/>
            <a:ext cx="8380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Unit</a:t>
            </a:r>
            <a:br>
              <a:rPr sz="1400"/>
            </a:b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4724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6483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4191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403848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70572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07320" y="48006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800000"/>
                </a:solidFill>
                <a:latin typeface="Tahoma"/>
              </a:rPr>
              <a:t>Inspec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02880" y="48006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800000"/>
                </a:solidFill>
                <a:latin typeface="Tahoma"/>
              </a:rPr>
              <a:t>Inspec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43680" y="396864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R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51600" y="5105520"/>
            <a:ext cx="304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(Manually inspect the code for </a:t>
            </a:r>
            <a:br>
              <a:rPr sz="1400"/>
            </a:b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 logic and problem domain erro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73D-438A-4D1E-9961-6F309B9D3D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2. Inspection  Moderator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Launching an inspection begins by matching the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author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with a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moderator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(inspection leade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y then select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recorder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reader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and other suitable particip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participator plays a vital role in an effective insp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Code inpections lead by trained moderators with strong facilitation skills found an average of </a:t>
            </a: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39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defects per TLOC (thousand lines of code) whereas inspections lead by untrained moderators detected only </a:t>
            </a: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9-12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defects per TLO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884-A8A5-48B6-BC41-3958E53BE5A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Effective moderators 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well versed in the inspection proces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ave performed all of the inspection roles themselve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re committed to the value of inspection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lus, they are willing to serve as modera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Every organization needs to develop a pool of qualified modera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f two few people are willing and able to fill this role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599-018A-44BA-9467-A10ED84C36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Characteristics of Best Moderator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y are good at both planning and follow-throug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y have strong meeting facilitation skil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339933"/>
                </a:solidFill>
                <a:latin typeface="Tahoma"/>
              </a:rPr>
              <a:t>What are those skill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y do not dominate the meeting with their own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y are willing to hold people to the guiding principles and to correct inappropriate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y are respected by the other particip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y are impartial, fair and nonjudgmen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y have enough technical and domain knowledge to contribute to the insp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98C3-E29A-4AFE-B70C-10D25B34E1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Using a moderator who is not intimately involved with the component being inspected has some 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rovides valuable outside review perspe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t, avoid using nontechnical meeting facilitators to moderate inspe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lso, do not allow anyone in the author’s management chain to moderate an insp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ow do you select a moderator for a particular inspe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y r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elected by author from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elected by peer review coordin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ssigned by PM and QA manager during project plan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7A0-2285-485C-A955-7EEE65AB489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Inspection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An examination of a software product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o detect and identify software anomalies, including errors and deviations from standards and specific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re peer examinations led by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impartial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facilitators who are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trained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in inspection techniq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etermination of remedial or investigative action for an anomaly is a mandatory elem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52E-68A6-4EC4-8CDB-09AC444D947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3. Selecting the Material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uring the planning stage, the Author and Moderator decide whether to examine the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entire deliverable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or just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selected portion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f the author alone identifies the components to inspect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uthor’s inspection objectives will help guide the material sele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quantity of material and organization’s recommended inspection rates will help determine the inspection dur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86BB-3717-4E63-A15C-6AC35E2B16F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Few organizations have the time and commitment to inspect everything they create,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o focus your inspection resources where they will do the most g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Look for some folks who are willing to peer-deskcheck the portions you choose not to insp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elect the material to inspect based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risk of its containing errors that could propogate throughout your product and lead to expensive rework or execution failu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AFA-FEFE-41F6-A8CE-2EFF037E08F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elective Sampling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elective sampling is appropriate for large work products you cannot examine in their entirety or when time is limit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For products that have sections of varying complexity or technical risk, focus you effort on the most complex or risky por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specting a representative sample of a deliverable provides quality data that will indicate whether you need to inspect the entire deliver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385-FAD4-4C39-9DF6-E6321FDE9BE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ome Places to Inspect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Code that traces back to safety- or security-related requirements should definitely be inspec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odules in which many changes have been made or which have a history of containing many defects are also good candida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Consider “Bad fix”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F4E0-C87F-49F7-A9E7-30D87A6F50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Guidelines for Choosing Artifacts to Inspect 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Fundamental and early-stage doc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e.g., requirements specs and proto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ocuments on which critical decisions 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e.g., architectural mod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parts you aren’t sure how to 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e.g., modules that implement unfamiliar or complex algorithms or enforce complicated business rules in which developers lack experience or knowled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Components that will be used repeated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1202-C29C-42D6-8803-42BB0C029E6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4. Inspection Entry Criteria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Entry criteria state the conditions that must be satisfied before you can execute a process with confidence of succes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y ensure that the work product is in a state that will make the inspection as effective and efficient as poss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se conditions must be met </a:t>
            </a: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before you begin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the inspection process, </a:t>
            </a: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not just before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you hold the inspection mee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me general entry criter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ll participants have been trained in the inspection proc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Otherwise, moderator should brief the untrained nov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F017-B26B-43A4-9E81-9D2BB338459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Other Entry Criteria ...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ther entry criteria that apply to most types of work products includ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ource documents, specs, or predecessor deliverables for the item being inspected have themselves passed an inspection and have been baseli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extual documents have been spell-checked and proofre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 deliverable has a unique version identifi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oderator found no flagrant quality problems or layout errors in a brief examin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nitial deliverable conforms to any applicable standards, templates, or formatting requir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open issues are marked by TBD (to be determine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 numbers are printed on the document or source code li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194-D79D-4C42-9047-5A7768EBB23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dditional criteria for source code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de compiles cleanly with specific compiler switch set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ors found by static code analyzers have been correc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de segments to be inspected have been identifi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2ED-B562-4B7B-9B9C-71F48E6621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Comparison of Review Typ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397160"/>
          <a:ext cx="8305920" cy="3232080"/>
        </p:xfrm>
        <a:graphic>
          <a:graphicData uri="http://schemas.openxmlformats.org/drawingml/2006/table">
            <a:tbl>
              <a:tblPr/>
              <a:tblGrid>
                <a:gridCol w="1384560"/>
                <a:gridCol w="1384200"/>
                <a:gridCol w="1384200"/>
                <a:gridCol w="1384200"/>
                <a:gridCol w="1384560"/>
                <a:gridCol w="1384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acteris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agement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chnical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p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lk-throu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sure progres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mmend correc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ve action, ensure proper allocation of 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valuate conformance to specs and plans; ensure change integ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nd anomalies; verify resolution; verify product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nd anomalies; examine alternatives; improve product; form for lear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ly evaluate compliance with objective stds and regul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cision-ma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gmt team charts course of action; decisions made at the meeting or as a result of recommend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iew team requests mgmt or technical leadership to act on recommend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iew team chooses predefined product dispositions; defects must be remo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team agrees on changes to be made by the aut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dited organization, initiator, acquirer, customer or 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CC97-07FB-49F9-B478-82FA5EB7685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Personnel Roles for Review Typ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1219320"/>
          <a:ext cx="8305920" cy="3581280"/>
        </p:xfrm>
        <a:graphic>
          <a:graphicData uri="http://schemas.openxmlformats.org/drawingml/2006/table">
            <a:tbl>
              <a:tblPr/>
              <a:tblGrid>
                <a:gridCol w="1384560"/>
                <a:gridCol w="1384200"/>
                <a:gridCol w="1384200"/>
                <a:gridCol w="1384200"/>
                <a:gridCol w="1384560"/>
                <a:gridCol w="1384200"/>
              </a:tblGrid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acteris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agement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chnical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p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lk-throu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oup attend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agement, technical leadership and peer m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chnical leadership and peer m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chnical leadership and peer m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ditors, audited organization, management and technical person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oup leader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ually the responsible mana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ually the lead engine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ined facilit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ilitator or aut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d au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en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ject represent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velopment team represent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t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ditors collect and examine info by audited orga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A56-7403-4841-A38B-83CE9561C4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Detailed Description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EE Std.1028 specifies the following info for each type of review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pu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eeded for the re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try Criteria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ditions required for starting the review, including authorization and initiating ev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cedure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steps for the review including mgmt preparation, planning, overview meeting, preparation, examination, and rework activit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it Criteria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ditions required for completing the revie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minimum set of deliverables from the review, e.g., Review Repor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E74-04F6-4B8D-9BAF-D95CEF1139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nspections - Rol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pection Leade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s and conducts the review, and issues the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Inspection Repo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uments anomalies, action items, decisions, and recommendations made during the review examination, and provides this to the inspection lea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e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ds the inspection through the software product, for example, paraphrasing several lines, functions, paragraphs, or sec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pares the product for the inspection, provides info for the inspection, reworks the software product as needed following the inspection mee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pecto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and describes anomalies in the software produ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714B-1A5F-47EB-9D6A-E649C904AE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Rol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uccessful inspections, it is important for the inspection leader to restrict the role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uthor to providing info regarding the work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not to become engaged in defending the work produc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pectors to identification and description of objective defects in the work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not to allow subjective evaluation of the entire work product that might cause a defensive reaction on the part of the auth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419720"/>
            <a:ext cx="75438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- Individuals holding management posi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ver any member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the inspection team shall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not particip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inspection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encourage open exchange of ideas during the insp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A31-99A5-4607-8CD2-D4BFAB6436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nspection  Report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contain the following inf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The project being review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The inspection team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nspection meeting du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Inspection objectives and whether they were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Software product ins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ize of the materials inspected (e.g., number of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Specific inputs to the re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nomaly list, containing each anomaly’s location, description, and classifi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nspection anomaly summary listing the number of anomalies identified by each anomaly categor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isposition of the software produ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stimate of the rework effort and rework completion da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DD9-29C7-4702-BF09-1B0FDC5F51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Software Product Disposition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with no or minor re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duct is accepted as 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with rework verific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be accepted after the inspection leader or a designated member verifies rewor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insp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a minimum, the software product areas changed to resolve anomalies identified in the last inspection, as well as side effects of those chan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isposition of the sw product should be based on the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number and severity of the anomali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dentified,and the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estimated rework effo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re-inspection should be performed if the scope of the rework is substantial, the rework cannot be clearly specified, or side effects of the rework are poss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29D-7ADD-40C8-92FC-BE0363DB6E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7:47:38Z</dcterms:created>
  <dc:creator>KD</dc:creator>
  <dc:description/>
  <dc:language>en-US</dc:language>
  <cp:lastModifiedBy>kivancd</cp:lastModifiedBy>
  <dcterms:modified xsi:type="dcterms:W3CDTF">2002-11-18T13:45:45Z</dcterms:modified>
  <cp:revision>66</cp:revision>
  <dc:subject/>
  <dc:title>SM-515 Software Verification &amp; Validation   (Fall 2002 Semester)</dc:title>
</cp:coreProperties>
</file>