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B1B6-DC53-45F7-B289-28907803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0DB-CB7A-4B3F-849B-98A0C0A9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2DD-4E94-4E23-85A0-DED1311B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85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1180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56C-F940-46CA-8EEA-ED685742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F9F0-BA00-47F2-8410-F0370848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3BA-A1DE-4EC6-895D-E7C1EA83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CB5-151F-4B79-87E9-7C77C59D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511-AE6C-4453-A991-678398E2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80C-A8A1-45FC-9D55-42AA43A4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158-BCF7-43BC-93F9-54DEAF76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11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463-0DA5-4ACD-8DE2-1681F6D4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8580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1180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59E-C48B-4642-911B-26D567F0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21A8-765B-4385-A107-7F4B4B807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ao.tubitak.gov.tr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M-515</a:t>
            </a:r>
            <a:br>
              <a:rPr sz="3200"/>
            </a:b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oftware Verification &amp; Validation</a:t>
            </a:r>
            <a:br>
              <a:rPr sz="3200"/>
            </a:br>
            <a:br>
              <a:rPr sz="3200"/>
            </a:br>
            <a:r>
              <a:rPr b="0" lang="tr-TR" sz="2000" spc="-1" strike="noStrike" u="sng">
                <a:solidFill>
                  <a:srgbClr val="000099"/>
                </a:solidFill>
                <a:uFillTx/>
                <a:latin typeface="Tahoma"/>
              </a:rPr>
              <a:t>Fall 2002 Semester</a:t>
            </a:r>
            <a:br>
              <a:rPr sz="2000"/>
            </a:br>
            <a:br>
              <a:rPr sz="1800"/>
            </a:br>
            <a:r>
              <a:rPr b="0" lang="tr-TR" sz="1800" spc="-1" strike="noStrike">
                <a:solidFill>
                  <a:srgbClr val="000099"/>
                </a:solidFill>
                <a:latin typeface="Tahoma"/>
              </a:rPr>
              <a:t>Lecture 8:  Inspections: Planning and Preparation II</a:t>
            </a:r>
            <a:br>
              <a:rPr sz="1800"/>
            </a:br>
            <a:r>
              <a:rPr b="0" lang="tr-TR" sz="1800" spc="-1" strike="noStrike">
                <a:solidFill>
                  <a:srgbClr val="000099"/>
                </a:solidFill>
                <a:latin typeface="Tahoma"/>
              </a:rPr>
              <a:t>25/11/2002</a:t>
            </a:r>
            <a:endParaRPr b="0" lang="en-US" sz="18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Dr. Kıvanç DİNÇ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ahoma"/>
              </a:rPr>
              <a:t>TÜBİTAK-UEKAE/İLTA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 u="sng">
                <a:solidFill>
                  <a:srgbClr val="0033cc"/>
                </a:solidFill>
                <a:uFillTx/>
                <a:latin typeface="Tahoma"/>
                <a:hlinkClick r:id="rId2"/>
              </a:rPr>
              <a:t>http://www.uao.tubitak.gov.tr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pract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ine the work product and corresponding test document together. (Test documentation provides an alternative view of a work produc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you electronically distribute deliverables, beware of formatting differenc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9B5-E31E-4649-BADE-C39B8C2EEE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nspection  Rat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mportant part of planning is to judge how much material your team can effectively examine in the time they have available for the insp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organizations have correlated th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defects with the preparation and inspection rates for different types of work produ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981080" y="2971800"/>
          <a:ext cx="5486400" cy="315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971800"/>
                    <a:ext cx="548640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F37-35D4-4F52-BF8B-743422C04E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Optimum Inspection Rat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um balance of efficiency and effectiveness occurs 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0-200 non-comment, nonblank source code statements per ho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-4 pages of docu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ends on product complexity, criticality, and information dens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aration rates should be similar to the rate at which you cover material in the inspection mee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lb and Graham: optimum individual preparation rate from 0.5 to 1.5 pages per ho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792A-69BC-4B6A-A830-FD6EF2CF4C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Meeting Time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oderator can estimate the meeting time needed based 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quantity of material to inspec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ganization’s historical inspection rate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uthor’s and moderator’s judgment about complexity and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ingle inspection meeting should not last more than two hou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D4D-E54A-4B0B-A4FC-BAF207CA18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Scheduling Inspection Event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oderator schedules the events for each insp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oderator and author determine whether an overview is needed and, if so, the best way to conduct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hold an overview meeting as soon as the inspection package is assembl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ackage may be put on the intran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 such as ReviewPro might be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cating a fixed weekly time block for inspections vs. scheduling meetings on-a-need ba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7CF-6882-47A4-8AB9-35F6C9B37B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Examining the Work Product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438280" y="762120"/>
          <a:ext cx="4038840" cy="199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762120"/>
                    <a:ext cx="403884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752480" y="2781360"/>
          <a:ext cx="5791320" cy="351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2781360"/>
                    <a:ext cx="579132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973-6921-4D9A-8B00-2EBB4200683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374840" y="0"/>
          <a:ext cx="63928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4840" y="0"/>
                    <a:ext cx="6392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94D-44BA-4FBE-9DD1-3B1F6FAA831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33520" y="152280"/>
          <a:ext cx="5419440" cy="274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2280"/>
                    <a:ext cx="541944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962520" y="2743200"/>
          <a:ext cx="4524120" cy="34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2520" y="2743200"/>
                    <a:ext cx="452412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A0E-07E4-419C-87CF-8937836A50B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914400" y="23760"/>
          <a:ext cx="7238880" cy="673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3760"/>
                    <a:ext cx="7238880" cy="67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5A6-620B-431F-9276-F86DD16487E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990720" y="304920"/>
          <a:ext cx="7543800" cy="578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04920"/>
                    <a:ext cx="754380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E73-B8D8-432A-9DB9-8E70887BF7F8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electing Participant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success of inspection depends heavily on who particip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less experienced inspectors </a:t>
            </a:r>
            <a:r>
              <a:rPr b="0" lang="tr-TR" sz="2000" spc="-1" strike="noStrike">
                <a:solidFill>
                  <a:srgbClr val="800000"/>
                </a:solidFill>
                <a:latin typeface="Tahoma"/>
              </a:rPr>
              <a:t>vs.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 skilled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The major guiding principle: </a:t>
            </a: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invite peop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who will provide the most constructive feedback on the work produ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who are willing to participa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eoff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ahoma"/>
              </a:rPr>
              <a:t>People who know the same 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s the author kno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v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eople who have different knowledge and will look at the initial deliverable from other points of vie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r picture, erroneous assumptions, functional gap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52E-F270-44EE-9A43-4370F72711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000099"/>
                </a:solidFill>
                <a:uFillTx/>
                <a:latin typeface="Tahoma"/>
              </a:rPr>
              <a:t>Selecting Participants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 - Issu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uctant inspectors vs. ensuring the participation of every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ware of the personality confli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pe that team members can behave in a professional and collaborative manner with their pe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same group of inspectors over a set of evolving work products vs. inviting some new inspe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315-B576-4BB0-8D02-4851F542DA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nspector Perspective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pectors having these different views, experiences, and interests will spot different kind of iss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not be able to represent every role every time though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 for participants who encompass multiple perspectives, such as programmers who are also doing design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90920" y="2666880"/>
          <a:ext cx="4333680" cy="29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666880"/>
                    <a:ext cx="433368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8CE-F179-477C-9ED9-7491F3559B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 of any predecessor document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 to judge whether the necessary changes have been made in every affected part of the product and whether the changes might have adverse impacts elsewhere in the syste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ant to verify that the work product satisfies its specific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one whose work is based on the item being ins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one whose deliverables interface with the component being ins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utines that handle comms between software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ftware components that interface with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D7D-D199-4D5A-A596-F0D999349C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63760" y="0"/>
          <a:ext cx="5737320" cy="632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3760" y="0"/>
                    <a:ext cx="5737320" cy="63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865-3A73-4419-BC5B-50D65FFB760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Managers and Observer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Conventionally, 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managers may not inspect deliverables created by people who report to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9933"/>
                </a:solidFill>
                <a:latin typeface="Tahoma"/>
              </a:rPr>
              <a:t>There are at least two reasons 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However, 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depends on the mutual respect and trust between the manager and the other team me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st level manger may participate at the author’s invitatio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small groups. you might need the manager to fill out an inspection tea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s need to have their own work products inspected, too! (esp. in small groups, managers perform technical wor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 the presence of observers who do not actively contribute to the inspe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inviting interested people to the overview mee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618-299C-41EA-9552-2E984499B5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nspection Package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ajor deliverable from the planning st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d by author and moderat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autions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ackage should be distributed in adva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uthor should freeze the work produ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A7D-97EB-43C4-BD89-9455E5FB82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Package Contents</a:t>
            </a:r>
            <a:endParaRPr b="0" lang="en-US" sz="3200" spc="-1" strike="noStrike" u="sng">
              <a:solidFill>
                <a:srgbClr val="000099"/>
              </a:solidFill>
              <a:uFillTx/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nitial deliverable being inspec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predecessor documents that define the specifications for this deliver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tinent standards or other reference documents that will let the inspectors prepare thorough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forms the participants will need,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sue log, typo 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 aids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list of common defects, rules to confor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documentation that will be used to verify the initial deliver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us reports from static code analyzers, other associated source code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M-515 Software Verification &amp; Validation (Fall 2002) © Dr. Kıvanç Dinç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416-2756-41FF-9E51-0EFDAE9489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5/11/2002 Lect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7:47:38Z</dcterms:created>
  <dc:creator>KD</dc:creator>
  <dc:description/>
  <dc:language>en-US</dc:language>
  <cp:lastModifiedBy>kivancd</cp:lastModifiedBy>
  <dcterms:modified xsi:type="dcterms:W3CDTF">2002-11-27T22:13:39Z</dcterms:modified>
  <cp:revision>68</cp:revision>
  <dc:subject/>
  <dc:title>SM-515 Software Verification &amp; Validation   (Fall 2002 Semester)</dc:title>
</cp:coreProperties>
</file>