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9C1B-8B6A-465C-A7F2-BA0DC2CD1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’s job is to solve problems economically by developing high-quality 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hapter, we will present important issues that all se’s should understand to do their job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hapter you will learn about the foll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Economic constraints: Limited budget and by a certain du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Reasons of failur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Code of ethics, Personal responsibility f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1980s comp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1970s comp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1990s comsci -&gt;  sw 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Goals of each stakeholder group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Customers may or may not be u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Like beuty, quality is largely in the eye of the beh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SEs tries to balance the relative importance of these attribut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External quality attributes observed by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 design sw system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olve the customer’s problem, you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 spec: describe the sw from the perspective of the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Examples of ea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Software developed in-house or contracted out, its success depends on meeting particular customer’s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ic Software: </a:t>
            </a: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heaper and more reliable</a:t>
            </a: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 – might not fully meet specific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Construction vs Civil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0A1-C436-4925-BF5E-5D695259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85E-8FD5-43A4-86AB-81CCF61A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B51-AB27-4950-A15B-F73042ED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4F3-DC85-4C44-8CD0-A04BECEF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B2C-BB46-460F-B3D6-84AA9AF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E47-27FC-4444-8030-1CC4FA54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3AB-2990-4F9A-BA2E-1F56A529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B72-9587-4B3C-9514-0B290A4B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656-F0DA-44E4-AD3B-2D48CAF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810-F7EE-49CA-A2A0-2520704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BE8-20DD-428B-BEBC-4FC7E7D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D02-16E0-47A7-9600-CC41A509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72B-79A6-4945-9371-2C8EE8159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1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ftware and Software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Software Enginee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st, time and other constrai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it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enefit must outweigh 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s are competing to do the job cheaper and 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accurate estimates of cost and time have caused many project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ftware Eng. is the process of solving customers’ problems by the systematic development and evolution of large, high-quality software systems within cost, time and other constra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FFA-3D8B-402A-908B-F52CD9379A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3 Software Engineering and the Engineering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term Software Engineering was coined in 196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began to realize that the principles of engineering should be applied to softwar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gineering is a licensed profess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rder to protect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gineers design artifacts following well accepted practices which involve the application of science, mathematics and eco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ical practice is also a key tenet of the prof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E35-DC3A-4885-B24C-656A7BC720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4 Stakeholder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se who use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Customers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 (Client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se who pay f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Software develo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Development Manag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four roles can be fulfilled by the same per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9E3-6FF9-4698-A61C-5820D03CB0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1.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Qual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36760" y="3197160"/>
            <a:ext cx="1973520" cy="801720"/>
            <a:chOff x="3236760" y="3197160"/>
            <a:chExt cx="1973520" cy="801720"/>
          </a:xfrm>
        </p:grpSpPr>
        <p:sp>
          <p:nvSpPr>
            <p:cNvPr id="77" name=""/>
            <p:cNvSpPr/>
            <p:nvPr/>
          </p:nvSpPr>
          <p:spPr>
            <a:xfrm>
              <a:off x="3236760" y="3197160"/>
              <a:ext cx="1973520" cy="80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62280" y="3259080"/>
              <a:ext cx="119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6400" y="3560760"/>
              <a:ext cx="137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42680" y="4237200"/>
            <a:ext cx="118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53360" y="4237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2200" y="4537080"/>
            <a:ext cx="157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desig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3280" y="4836960"/>
            <a:ext cx="180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maintai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59600" y="5138640"/>
            <a:ext cx="218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reuse it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0760" y="133020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Us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6160" y="1631880"/>
            <a:ext cx="142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lear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0960" y="1932120"/>
            <a:ext cx="164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fficient to 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8240" y="2232000"/>
            <a:ext cx="206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elps get wor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43760" y="1230480"/>
            <a:ext cx="11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Custom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29600" y="123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8600" y="1530360"/>
            <a:ext cx="196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olves problem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8440" y="1832040"/>
            <a:ext cx="217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 acceptable cost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8440" y="2131920"/>
            <a:ext cx="260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erms of money pa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39800" y="2433600"/>
            <a:ext cx="149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ourc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50880" y="4160880"/>
            <a:ext cx="254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ment manag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01840" y="4160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1920" y="4462560"/>
            <a:ext cx="153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lls mor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74640" y="4762440"/>
            <a:ext cx="189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leases custo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97320" y="5064120"/>
            <a:ext cx="187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ile costing l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36400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develop and mai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08880" y="2301120"/>
            <a:ext cx="59904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9" y="17978"/>
                </a:moveTo>
                <a:arcTo wR="10800" hR="10800" stAng="2499398" swAng="2451812"/>
                <a:lnTo>
                  <a:pt x="10800" y="10800"/>
                </a:lnTo>
                <a:close/>
              </a:path>
              <a:path fill="none" w="21600" h="21600">
                <a:moveTo>
                  <a:pt x="18869" y="17978"/>
                </a:moveTo>
                <a:arcTo wR="10800" hR="10800" stAng="2499398" swAng="24518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32240" y="2825640"/>
            <a:ext cx="225360" cy="45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4137840"/>
            <a:ext cx="59976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12" y="1966"/>
                </a:moveTo>
                <a:arcTo wR="10800" hR="10800" stAng="-3293143" swAng="2416350"/>
                <a:lnTo>
                  <a:pt x="10800" y="10800"/>
                </a:lnTo>
                <a:close/>
              </a:path>
              <a:path fill="none" w="21600" h="21600">
                <a:moveTo>
                  <a:pt x="17012" y="1966"/>
                </a:moveTo>
                <a:arcTo wR="10800" hR="10800" stAng="-3293143" swAng="241635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74760" y="3911760"/>
            <a:ext cx="52380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75040" y="4138200"/>
            <a:ext cx="596880" cy="60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1" y="4919"/>
                </a:moveTo>
                <a:arcTo wR="10800" hR="10800" stAng="-8820513" swAng="2398777"/>
                <a:lnTo>
                  <a:pt x="10800" y="10800"/>
                </a:lnTo>
                <a:close/>
              </a:path>
              <a:path fill="none" w="21600" h="21600">
                <a:moveTo>
                  <a:pt x="1741" y="4919"/>
                </a:moveTo>
                <a:arcTo wR="10800" hR="10800" stAng="-8820513" swAng="2398777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7280" y="3936960"/>
            <a:ext cx="200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96360" y="2422800"/>
            <a:ext cx="599040" cy="60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7" y="20688"/>
                </a:moveTo>
                <a:arcTo wR="10800" hR="10800" stAng="6822610" swAng="2430535"/>
                <a:lnTo>
                  <a:pt x="10800" y="10800"/>
                </a:lnTo>
                <a:close/>
              </a:path>
              <a:path fill="none" w="21600" h="21600">
                <a:moveTo>
                  <a:pt x="6457" y="20688"/>
                </a:moveTo>
                <a:arcTo wR="10800" hR="10800" stAng="6822610" swAng="243053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695480" y="2898720"/>
            <a:ext cx="299880" cy="35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67B-3DA7-4E33-8715-3D19DEB777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tt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utes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Qual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can learn it and fast and get their job done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fficienc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doesn’t waste resources such as CPU time an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does what it is required to do without fa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can be easily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s parts can be used in other projects, so reprogramming is not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B05-88F0-4EC0-B84D-6619657EA9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ifferent qualities can confli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efficiency can reduce maintainability or re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usability can reduc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tting objectives for quality is a key engineering activ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then design to meet th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s ‘over-engineering’ which wastes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mizing is also sometimes necess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obtain the highest possible reliability using a fixe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369-AF11-45BF-A41D-722CBACCF5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al Quality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acterize aspects of the design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an effect on the external quality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mount of commenting of the c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mplexity of the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DE2-6FC0-44C2-B60E-A8A1547530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rt Term Vs. Long Term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rt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the software meet the customer’s immediate nee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it sufficiently efficient for the volume of data we have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ng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’s future nee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9E9-4A33-41EB-ACAE-EA031F2166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6 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 projects are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olutionary or maintenance projec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involving work o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gac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rrective proj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fixing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aptive proj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hanging the system in response to chang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s and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hancement proj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dding new features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engineering or  perfective proj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hanging the system internally so it is more maintai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CB3-8269-4630-878F-862672BC43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Green field’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nority of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F5C-B2D7-489A-8E39-B9E35AAB21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1 The Nature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ftware is intang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 to understand developm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ftware is easy to reprodu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is in it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ther engineering products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nufactu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costly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industry is labor-intens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 to auto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233-CE6B-4ABD-806D-47D10D8126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jects that involve building on a </a:t>
            </a:r>
            <a:r>
              <a:rPr b="1" i="1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amework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or a set of existing component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ramewor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n application that is missing some important det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Specific rules of this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h pro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olve plugging together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on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ready develo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de significant functiona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nefit from reusing reliable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de much of the same freedom to innovate found in green field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09A-B791-4061-AA3A-43F1AF173F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7 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quirements and specif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ma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ng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ing input from as many sources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ing th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ing detailed instructions about what the software should do / how the software should be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039-29B0-4EC8-8E90-4D86C26196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iding how the requirements should be implemented, using the availabl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ystems enginee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Deciding what should be in hardware and what in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ftware architec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Dividing the system into subsystems and deciding how the subsystems will inte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ailed design of the internals of a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interfac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599-F243-49BD-BD82-CBDCAAAA72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ies Common to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ng representations of the domain 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as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 and behavio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lity assur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s and insp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plo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aging the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41D-66DD-47EC-8822-5EE7A269F0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8 The Eight Themes of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Understanding the customer and the u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Basing development on solid principles and reusable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Object ori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Visual modeling using U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Evaluation of alterna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. Iterative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. Communicating effectively using 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. Risk management in all SE activiti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659-73B8-4F49-AE99-B937386473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9 Difficulties and Risk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lexity and large numbers of detai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certainty about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certainty about requir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certainty about software engineering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tant 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terioration of software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itical ri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BBE-E91B-4E5D-9160-16811B9892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ature of Softwar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trained people can hack something toge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ity problems are hard to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ftware is easy to modif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ople make changes without fully understand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ftware does not ‘wear out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eteriorates by having its design 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neousl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ways that were not anticipated, thus making it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AFA-839A-4158-B572-15345BECF3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atur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 software has poor design and is getting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 for software is high and 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in a perpetual ‘software crisi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to learn to ‘engineer’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0AD-DEB5-48F4-8A41-C3C4F2B0E1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specific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d on ope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ten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TS (Commercial Off The Sh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rink-wr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bed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int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A10-CE9A-45CA-8634-9573B3BA9E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ces among custom, generic and embedded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66680" y="2514600"/>
          <a:ext cx="1181124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118112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D92-5690-4ABC-A500-3258A9DCA4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l time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control and monitor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reac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often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processing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run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uracy and security of data ar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me software has both asp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E72-7EE8-4155-9D7D-C45C5900F2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2 What is Software Engineering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ocess of solving customers’ problems by the systematic development and evolution of large, high-quality software systems within cost, time and other constrain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lving customers’ probl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goal of software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times the solution is to buy, not 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ng unnecessary features does not help solve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engineers must communicate effectively to identify and understand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C24-1E1C-42D2-9408-33C3A72B3E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Software Engineering?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atic development and evol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ngineering process involves applying well understood techniques in a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ganized and disciplined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 well-accepted practices have been formally standar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by the IEEE or IS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development work i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rge, high quality software sys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engineering techniques are needed because large systems cannot be completely understood by one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amwork and co-ordination ar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 challenge: Dividing up the work and ensuring that the parts of the system work properly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nd-product that is produced must be of sufficient qua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AAA-0EF6-4AA3-BB70-5A3FF02270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>Revised by Kivanc Dincer</dc:description>
  <dc:language>en-US</dc:language>
  <cp:lastModifiedBy>KIVANCD</cp:lastModifiedBy>
  <dcterms:modified xsi:type="dcterms:W3CDTF">2004-09-26T21:57:02Z</dcterms:modified>
  <cp:revision>27</cp:revision>
  <dc:subject/>
  <dc:title>CS 319 - OOSE - Chapter 1</dc:title>
</cp:coreProperties>
</file>