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FCA-54C9-4AB2-9951-F306050B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CEB-810F-4079-8C00-92AD183F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E98-9D08-46F7-A0F9-F400B3E2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F8B-127C-4C4F-914A-DD9290B9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F5B6-D307-454B-BE06-7955F483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477-B55C-4504-8419-DC01088D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779-003B-4EAA-8343-5D8269FE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342-1336-425A-9134-392070A4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1EF-0249-4311-BF67-C5751DF1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01B-4A95-4CA8-B13B-55BF6844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4E4-58E6-45E6-90F3-D37EDDF9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D216-46E7-4D47-9D68-07B9276E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E28A-7535-4D56-BDEA-F668CEC162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 10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esting and Inspecting to Ensure High Qualit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st cases for Phase 2 of the SimpleCh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990720"/>
            <a:ext cx="8153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Cha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startup check with a login and without a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t the console, enter: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ava ClientConsole &lt;login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loginID&g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name you wish to be identified b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res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 client reports it cannot connect to a server by display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not open connection. Awaiting comm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The client waits for 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if client is still ac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Hit CTRL+C to kill the cl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030-9D15-4C5C-999B-E0EB03389D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st cases for Phase 2 of the SimpleCh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143000"/>
            <a:ext cx="7467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Cha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host and port setup commands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art a client without a server (Test Case 200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t the client's console, typ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sethost &lt;newhost&g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newhost&g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 the name of a computer on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t the client’s console, typ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setport 123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res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st set to: &lt;newho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rt set to: 123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u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qu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kill the cl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6B0-3547-41DA-BC99-C02B304CD40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st cases for Phase 2 of the SimpleCh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1523880"/>
            <a:ext cx="7925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Case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Cha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platform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it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peat test cases 2001 to 2018 on Windows 95, 98, NT or 2000, and Sol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resul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The same as bef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8AC-BBC7-42F2-AB31-4124B6C58D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.1 Basic defini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ail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n unacceptable behaviour exhibited by a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requency of failures measures the </a:t>
            </a:r>
            <a:r>
              <a:rPr b="0" i="1" lang="en-GB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iabil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important design objective is to achieve a very low failure rate and hence high reliabil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failure can result from a violation of an ex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lici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mplici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equir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FAA-89A0-48FF-AF68-5C58364616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lack-box tes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sters provide the system with inputs and observe the outpu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can see none of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ource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ternal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y of the design documentation describing the system’s interna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5B9-5A35-42A6-AFEE-489C61F1CA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Glass-box tes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so called ‘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ite-box’ or ‘structural’ test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sters have access to the system design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ca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amine the design docum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ew the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serve at run time the steps taken by algorithms and their internal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ividual programmers often informally employ glass-box testing to verify their own cod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291-8A43-4134-9858-A64F1FBE56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.8 Writing Formal Test Cases and Test Pla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i="1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st case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n explicit set of instructions designed to detect a particular class of defect in a software system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test case can give rise to many tes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particular running of the test case on a particular version of the syst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75E-F303-48F1-B5F0-40290865C0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st pla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</a:t>
            </a:r>
            <a:r>
              <a:rPr b="1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est plan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a document that contains a complete set of test cases for a system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ong with other information about the testing proces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test plan is one of the standard forms of document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a project does not have a test pl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sting will inevitably be done in an ad-hoc mann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ading to poor quality softw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test plan should be written long before the testing star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ou can start to develop the test plan once you have developed the 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9DB-5F04-496E-B210-D7AFCB5F71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formation to include in a formal test ca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343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 Identification and classificatio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16400" indent="-203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test case should have a number, and may also be given a descriptive titl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16400" indent="-203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ystem, subsystem or module being tested should also be clearly indicat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16400" indent="-203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mportance of the test case should be indicat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3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 Instruc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16400" indent="-203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ll the tester exactly what to 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16400" indent="-203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tester should not normally have to refer to any documentation in order to execute the instruction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 Expected resul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16400" indent="-2034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lls the tester what the system should do in response to the instruc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716400" indent="-203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tester reports a failure if the expected result is not encountere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3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. Cleanup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when needed):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716400" indent="-2034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lls the tester how to make the system go ‘back to normal’ or shut down after the test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FFD-CEB0-48B3-BB52-2EB000F2F8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ls of importance of test c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vel 1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rst pass critical test cas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igned to verify the system runs and is saf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further testing is pos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vel 2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 test cas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ify that day-to-day functions correctl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ill permit testing of other aspects of the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l 3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tailed test cas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st requirements that are of lesser importanc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system functions most of the time but has not yet met quality objectiv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54B-4B40-41CF-8F25-7E59B969A4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sting performed by users and cli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5920" indent="-195480" algn="just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lpha testing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formed by the user or client, but under the supervision of the software development tea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eta testing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formed by the user or client in a normal work environ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ruited from the potential user popul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 </a:t>
            </a: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open beta releas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is the release of low-quality software to the general popula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 algn="just"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cceptance tes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formed by users and custom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 algn="just">
              <a:spcBef>
                <a:spcPts val="499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ever, the customers do it on their own initiat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C75-53B0-4453-9343-1195EB7D29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Lethbridge &amp; Laganiere</dc:creator>
  <dc:description/>
  <dc:language>en-US</dc:language>
  <cp:lastModifiedBy>KIVANCD</cp:lastModifiedBy>
  <dcterms:modified xsi:type="dcterms:W3CDTF">2004-12-30T16:32:05Z</dcterms:modified>
  <cp:revision>119</cp:revision>
  <dc:subject/>
  <dc:title>Object-Oriented Software Engineering</dc:title>
</cp:coreProperties>
</file>