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AE7-9AEA-497A-AB27-CD2A33C6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889-86D4-46E0-B49F-6FFC8CAE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3A2E-C546-4FEE-AD0B-1E7E7F71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A967-0574-485C-A2E3-9B9EBDB7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521-A1C1-4DD9-AC0D-D1F9B7B2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494-6A34-4F39-8D74-CC5CD9DD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B1C-51D5-40EE-9AD3-EF0F59BC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CA5-CB93-472E-9C46-75F853D0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73D-91C9-4D9F-BFD8-359B1C1D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7F4-BAFF-4945-B58C-6BEDE600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9C5-A756-4FB1-9387-2405A04E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71B-1579-4F57-90BB-0990EC06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E6E3-3371-4ABB-B541-A4F721D16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90440" y="1359000"/>
            <a:ext cx="8318520" cy="5537160"/>
            <a:chOff x="190440" y="1359000"/>
            <a:chExt cx="8318520" cy="553716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190440" y="5397480"/>
              <a:ext cx="1511280" cy="14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1701720" y="6235560"/>
              <a:ext cx="68072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4"/>
            <a:stretch/>
          </p:blipFill>
          <p:spPr>
            <a:xfrm>
              <a:off x="812880" y="1359000"/>
              <a:ext cx="127080" cy="40384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pter 2: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iew of Object Orientation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Something a Class or an Instanc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thing should be a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f it could have instan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thing should be an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stanc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f it is clearly a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ngl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ember of the set defined by a cla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m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4040" indent="-18936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; instances are individual fil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el of Film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4040" indent="-18936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; instances are physical re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m reel with serial number SW19876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4040" indent="-18936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stance of </a:t>
            </a:r>
            <a:r>
              <a:rPr b="1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elOfFil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ience Fictio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4040" indent="-18936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stance of the class </a:t>
            </a:r>
            <a:r>
              <a:rPr b="1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r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ience Fiction Film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4040" indent="-18936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; instances include ‘Star Wars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owing of ‘Star Wars’ in the Phoenix Cinema at 7 p.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4040" indent="-18936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stance of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owingOfFil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64D8-EF7F-468A-9886-7DAB8A4C5D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ming classes – An important challeng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ingula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ou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pitilize first letters of words and omit sp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BankAccount not bankAccount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 algn="just">
              <a:lnSpc>
                <a:spcPct val="96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the right level of gener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Municipality, not C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sure the name has only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ea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‘bus’ has several meani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 algn="just">
              <a:lnSpc>
                <a:spcPct val="96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sVehicle, BusRoute, BusRouteRun 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0" algn="just">
              <a:lnSpc>
                <a:spcPct val="96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 after the thing they represent in real worl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Person but not PersonInfo or Person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881-C9F1-4D19-BFF6-7B522AF3EA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3 Instance Variab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riables defined inside a class corresponding to data present in each instance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Vari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place you can put da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data to represent props of an obj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name, dateOfBir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ssoci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onships to other important cla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supervisor, coursesTak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on these in Chapter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972-459D-4819-809E-C8928331FC6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vs. Obj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ifference is a common source of confusion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variabl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fer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an object (also called a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y refer to different objects at different points in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object can be referred to by several different variables at the same tim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a variabl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ermines what classes of objects it may conta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DD7-AF53-449B-9282-7582B3ECED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variab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variable’s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lue is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ared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y all instances of a clas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so called a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ri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one instance sets the value of a class variable, then all the other instances see the same changed value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variables are useful fo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fault or ‘constant’ values (e.g. P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okup tables and similar struct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ution: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 not over-use class variabl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AF4B-D708-4AAE-9763-BF6CBAC858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4 Methods, Operations and Polymorphis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tho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procedural abstraction used to implement the behaviour of a cla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er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higher-level procedural abstra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at specifi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type of behavio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ependent of any code which implements that behavio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calculating area (in gener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C4B-82F8-44D9-8518-E306EA2D4CB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ods, Operations and Polymorphis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veral different classes can have methods with the same n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 implement the same abstract operation in ways suitable to each cla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, calculating area in a rectangle is done differently from in a circ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hod (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n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A way of performing an operatio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62D-50AC-45BD-8587-63BCE2B2884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operty of object oriented software by which an abstract operation may be performed in different ways in different classe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s that there be multiple methods of the same n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hoice of which one to execute depends on the object that is in a vari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uces the need for programmers to code many if-else or switch stat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See Ba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i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ng System Ap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ication: 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lculate Inter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F85C-0A67-434F-A8C1-10BC795A50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ing Classes into Inheritance Hierarch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cc99"/>
                </a:solidFill>
                <a:latin typeface="Comic Sans MS"/>
              </a:rPr>
              <a:t>Motivation</a:t>
            </a:r>
            <a:r>
              <a:rPr b="1" lang="en-US" sz="2000" spc="-1" strike="noStrike">
                <a:solidFill>
                  <a:srgbClr val="00cc99"/>
                </a:solidFill>
                <a:latin typeface="Comic Sans MS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ganizing into inheritance hierarchies is more efficient if several classes have common attributes, associations, and operations or if a class is too complex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Generaraliz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two-level hierarchy formed from one superclass with several immediate subclasse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triangle shows a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generaliz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perclass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ain features common to a set of sub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Inheritance Hierarch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hierarchy with multiple levels of generalizatio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w the relationships among superclasses and sub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8B6-CBB8-4258-895B-224C7FC58BF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ample Inheritance Hierarch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219320" y="1143000"/>
          <a:ext cx="7924680" cy="29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792468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4343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uperclass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ain features common to a set of subclass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Inheritance 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(automatic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mplici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ossession by all subclasses of features defined in its super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87C4-0D01-4CC0-ABCF-9AEACA6EB87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w Engineers must have a good understanding of 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computing technolog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 which they work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-Oriented Programming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&amp; Jav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hapter you will learn about the following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basic principles of object orientatio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es and object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nce variables, attributes, and association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hods, operations, and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lymorphism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ganizing classes into inheritance hierarchi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uating alternative impls of simple designs in Jav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DCC-083A-4FCE-B094-D9914B5607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sa Ru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rga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zing classes into class hierarchies is a key skill in OO design and programming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ways check generalizations to ensure they obey the isa rul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hecking account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s a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ccount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villag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s 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unicipality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uld ‘Province’ be a subclass of ‘Country’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, it violates the isa ru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rovinc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s 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untry” is invalid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311F-9CE0-4230-9EA8-2967C9D5B88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 Key Po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all classes where isa rule holds are good generalizations. You should also check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names should not be ambiguou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subclass must retain its distinctiveness throughout its life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OverdrawnAccou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the inherited features must make sense in each subclas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Comic Sans MS"/>
              </a:rPr>
              <a:t>Key poin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Generalizations and Inheritance help to avoid duplication and improve reuse. But poorly designed generalizations can actually cause more problems than they solve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625-7C99-4B6E-A2C6-C43DD3FA098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possible inheritance hierarchy of mathematical objec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28800" y="1281240"/>
            <a:ext cx="5715000" cy="48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451-B8B2-4235-A58D-1F1D43A1996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Sure all Inherited Features Make Sense in Subcla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219320" y="1219320"/>
          <a:ext cx="6858000" cy="501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85800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008440" y="1981080"/>
            <a:ext cx="11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06720" y="2895480"/>
            <a:ext cx="21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tions/meth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548640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Comic Sans MS"/>
              </a:rPr>
              <a:t>Inherited features not shown explicitly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84360" y="1905120"/>
            <a:ext cx="280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xtual Represent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avingsAc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ingAc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rtgageAc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A23-D667-4FDE-9C63-AC39B07902F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6 Inheritance, Polymorphism and Variab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362320" y="152280"/>
          <a:ext cx="6324480" cy="61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52280"/>
                    <a:ext cx="6324480" cy="61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E6C-0C3A-40A6-BBBF-636A3D77218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Operations in the Shape Exa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866960" y="1371600"/>
          <a:ext cx="594360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371600"/>
                    <a:ext cx="59436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6704-7715-435A-BE2C-A4A77B3E452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finitions of rotate, translate, changeScal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finitions of Ellipse, RegularPolygon, ArbitraryPolygo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finitions of  getCenter, getArea, getPerimeterLength, getBoundingRect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crete methods for rotate abstract operation in Shape2D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 abstract classes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pe2D, EllipticalShape, Polygon, SimplePolygo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crete methods for abstract operations defined in Shape2D 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plePolygon is an abstract class although all its methods are concrete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lygon declares getVertice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crete 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getBoun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gRect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lls abstract operation getVertices in Polygo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8188-1648-4CCB-9A6F-C0343A0E414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stract Classes and Metho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 operation should be declared to exist at the highest class in the hierarchy where it makes sens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operation may b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lacking implementation) at that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so, the class als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instances can be cre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opposite of an abstract class is a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a superclass has an abstract operation then its subclasses at some level must have a concrete method for the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f classes must have or inherit concrete methods for all oper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f classes must be concre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ling of an abstract operation by a concrete method is legal and a good design practi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0C0-7CE3-4B9E-BCA8-E83C0B41A16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verri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method would be inherited, but a subclass contains a new version instea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restriction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preventing violation of certain constraints present in subcla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changeScale(x,y) would not work in Circ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tension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adding extra capabi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SavingsAccount might charge an extra fee following every deb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optimization (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e.g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ma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g impl more effici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The getPerimeterLength method in Circle is much simpler than the one in Ellip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5443-3BB1-4800-873E-D806C83577F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mutable obj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stance variables may only be set when an object is first crea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e of the operations allow any changes to the instance vari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a scale method could only create a new object, not modify an existing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9DA7-9425-4CAA-A1E3-8FA156C5533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O Systems make use of abstraction in order to help make sw less complex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abstract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sthg that relieves you from having to deal with detail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O Systems combine procedural abstraction with data abstraction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C77-ED5E-4B4D-B629-8C5B459805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ynamic bindin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Late binding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curs when decision about which method to run can only be made at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un tim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eded whe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variable is declared to have a superclass as its type, 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is more than one possible polymorphic method that could be run among the type of the variable and its sub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ynamic binding is what gives polymorphism its power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ditional statements are need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ape2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|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ularPolygon | 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Shap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aShap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getBou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gRect();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789-4FC4-4851-8BEE-ADA0EDA2681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a decision is made about which method to ru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3200"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there is a concrete method for the operation in the current class, run that method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73200"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herwise, check in the immediate superclass to see if there is a method there; if so, run it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73200"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eat step 2, looking in successively higher superclasses until a concrete method is found and ru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73200"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no method is found, then there is an error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1058760" indent="-19512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Java and C++ the program would not have compil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34C-4F6E-4180-8A98-B86A8237009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7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pts that Define Object Orient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cessary for a system or language to be OO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dent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object is distinct from each other object, and can be referred 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objects are distinct even if they have the same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ode is organized using classes, each of which describes a set of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echanism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re features in a hierarchy inherit from superclasses to sub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olymorphi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mechanism by which several methods can have the same name and implement the same abstract operation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FBD6-4456-4A1B-B1F2-3C5E5C585B0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 Key Concep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following allow us to engineer sw effectively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Abstraction 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(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ified repr of sthg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 -&gt; something in the worl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-&gt;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erclass -&gt; sub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eration -&gt; 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tributes and associations -&gt; instance variab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Modularity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de can be constructed entirely of 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Encapsulatio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tails can be hidden in classes 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ke a 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cont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gives rise to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formation hiding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grammers do not need to know all the details of a cla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C38-2FDB-4B11-AB4E-4967EA55D5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sics of Ja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object oriented programming language was Simula-67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igned to allow programmers to write simulation program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early 1980’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malltalk was developed at Xerox PARC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w synta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rge open-sourc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brary of reusable code, bytecode, platform independence, garbage collec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te 1980’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++ was developed by B. Stroustrup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ognized the advantages of OO but also recognized that there were tremendous numbers of C programm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1991, engineers at Sun Microsystems started a project to design a language that could be used in consumer ‘smart devices’: Oa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 algn="just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the Internet gained popularity, Sun saw an opportunity to exploit the technology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 algn="just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new language, renamed Java, was formally presented in 1995 at the SunWorld ’95 conferen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B97-A633-4067-9E42-56DE62FFACE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va documen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oking up classes and methods is an essential skil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ing up unknown classes and methods will get you a long way towards understanding 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ava documentation can be automatically generated by a program called Javado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cumentation is generated from the code and its com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should format your comments as shown in some of the book’s examp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may include embedded 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A6E-26CE-41B7-80B0-7126040D5E9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verview of Ja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next few slides will remind you of several key Java featur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in the bo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 the book’s web site 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ore detailed overview of 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ers to tutorials, books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045-D6D7-4A06-A47D-EADF24D02F6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racters and Strin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ract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a class representing Unicode character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than a byte ea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 any world langu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a primitive data type containing a Unicode characte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a class containing collections of character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is the operator used to concatenate str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3B1A-FAF1-4FA6-A236-4EE3CD1F50F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rays and Colle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rrays are of fixed size and lack methods to manipulate them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ector is the most widely used class to hold a collection of other object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powerful than arrays, but less effic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terators are used to access members of Vector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umerations were formally used, but were more compl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 = new Vector(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erator i = v.iterator(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ile(i.hasNext(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Method(v.next()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5422-8D52-4E4E-AD0E-088985ED62E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s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ava is very strict about ty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a variable is declared to have the type X, you can only invoke operations on it that are defined in class X or its supercla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though an instance of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ubcla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X may be actually stored in the vari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kn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 instance of a subclass is stored, then you ca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a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variable to the subcl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if I know a Vector contains instances of String, I can get the next element of its Iterator using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String)iterator.next(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6B7-6352-433C-9CAB-157203C9976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1 What is Object Orienta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Procedural paradigm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ftwar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organized around the notion of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ur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Procedural abstra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 as long as the data is sim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dding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ata abstraction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s together the pieces of data that describe some ent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lps reduce the system’s complexity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ch as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ord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ctu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Object oriented paradigm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ganizing procedural abstractions in the context of data abstra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DBAD-8FB3-4713-A852-47126F75D9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ything that can go wrong should result in the raising of an Excep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ception is a class with many subclasses for specific things that can go wro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 a try - catch block to trap an excep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/ some c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tch (ArithmeticException 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/ code to handle division by ze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3D0-DD13-41A3-8A1C-5F4720C1B2E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ike abstract classes, but cannot have executable statement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a set of operations that make sense in several 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 Data Ty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A class can implement any number of interfac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t must have concrete methods for the oper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ou can declare the type of a variable to be an interfac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just like declaring the type to be an abstract cla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mportant interfaces in Java’s library includ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nable, Collection, Iterator, Comparable, Clone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385-B38A-47F5-B4AF-49845AC57BC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ckages and impor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package combines related classes into subsystem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the classes in a particular direc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es in different packages can have the same nam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hough not recommen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mporting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package is done as follow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ort finance.banking.accounts.*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1CB9-079A-49ED-A200-0259BB1773E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ess contr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plies to methods and variabl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class can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ec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code in the package, or subclasses can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blan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code in the package can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code written in the class can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601"/>
              </a:spcBef>
              <a:buClr>
                <a:srgbClr val="3333cc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heritance still occu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7CC-44EC-4AC2-ADDE-33136741358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eads and concurrenc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read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ce of executing statements that can be running concurrently with other threa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create a thread in Java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Create a class implementing Runnable or extending Thr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Implement the run method as a loop that does something for a period of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reate an instance of this cl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Invoke the start operation, which calls r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A79D-5948-4754-813F-7FE45C71E11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amming Style Guidel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member that programs are for people to rea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choose the simpler alterna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ject clever code that is hard to underst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rter code is not necessarily bet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oose good nam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them highly descrip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worry about using long na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A05-FE25-41A2-9737-F585B8AE592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amming style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ent extensively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ent whatever is non-obvio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comment the obvio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ents should be 25-50% of the 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ganize class elements consistently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, constructors, public methods then private metho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 consistent regarding layout of cod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F7D-70CA-453D-8C8F-1CE4BD2E542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amming style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void duplication of cod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‘clone’ if possi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a new method and call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oning results in two copies that may both have bu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one copy of the bug is fixed, the other may be forgott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A2C-459B-4BB0-A179-74CE156E56F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gramming style ..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here to good object oriented principl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the ‘isa rule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fer private as opposed to publi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 not mix user interface code with non-user interface cod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act with the user in separate cla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makes non-UI classes more reus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37B-7DF1-49D4-9277-A8C38E5FA45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10 Difficulties and Risks in Object-Oriented Program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nguage evolution and deprecated features: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 is evolving, so some features are ‘deprecated’ at every rele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the same thing is true of most other langu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fficiency can be a concern in some object oriented system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 can be less efficient than other langu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M-bas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ynamic bin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 hand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fety check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9254-8E6F-43D8-BFD7-F5676292E38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 Oriented paradig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approach to the solution of problems in which all computations are performed in the context of object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oot idea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ting all the procedures that access or modify a particular class of objects in one pla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objects are instances of classes, whi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data abstra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in procedural abstractions that operate on the obj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running program can be seen as a collection of objects collaborating to perform a given tas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F7A-AFA1-4B3D-8C5D-13D1491EC5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View of the Two paradig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66680" y="1371600"/>
          <a:ext cx="7543800" cy="258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543800" cy="25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6680" y="4114800"/>
            <a:ext cx="3962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cedures manipulate diff types of data</a:t>
            </a:r>
            <a:r>
              <a:rPr b="0" lang="tr-TR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if many diff procs work with each type of data</a:t>
            </a:r>
            <a:r>
              <a:rPr b="0" lang="tr-TR" sz="1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Comic Sans MS"/>
              </a:rPr>
              <a:t>What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f each proc works with many types of data</a:t>
            </a:r>
            <a:r>
              <a:rPr b="0" lang="tr-TR" sz="1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4114800"/>
            <a:ext cx="3352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Comic Sans MS"/>
              </a:rPr>
              <a:t>Classes conta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 procs for manipulating instances of that class al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lass hierarchy for more abs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ML No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71480" y="1208160"/>
            <a:ext cx="28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nking System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9E4-E7BC-4107-902B-B6D96DEA87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2 Classes and Obj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hunk of structured dat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a running software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s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 its s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s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behavio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t acts and rea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simulate the behaviour of an object in the real wor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C9FB-FD6F-4ABF-966F-405338D029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s in a Banking System Appl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4416480" y="3479760"/>
            <a:ext cx="1870200" cy="104472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35560" y="3817800"/>
            <a:ext cx="185724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0920" y="357336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rgare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9920" y="3922560"/>
            <a:ext cx="166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birth: 1980/03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86040" y="4297320"/>
            <a:ext cx="99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: T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78520" y="4762440"/>
            <a:ext cx="1755720" cy="86508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97600" y="5100480"/>
            <a:ext cx="174132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31600" y="4856040"/>
            <a:ext cx="1416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ransaction 487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53480" y="5205240"/>
            <a:ext cx="106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: 2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52040" y="5416560"/>
            <a:ext cx="156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: 2001/09/01 14: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3080" y="2414520"/>
            <a:ext cx="1870200" cy="86688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92160" y="2752560"/>
            <a:ext cx="185580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05040" y="2508120"/>
            <a:ext cx="47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re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36880" y="2857680"/>
            <a:ext cx="166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birth: 1970/01/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40480" y="3068640"/>
            <a:ext cx="15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: 75 Object D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73080" y="4013280"/>
            <a:ext cx="2241720" cy="108252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892160" y="4343400"/>
            <a:ext cx="2222640" cy="144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90360" y="4113360"/>
            <a:ext cx="216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ortgage Account 29865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41560" y="445608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: 19876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37960" y="4673520"/>
            <a:ext cx="136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ed: 2000/08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34360" y="4883040"/>
            <a:ext cx="154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: 75 Object D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76240" y="5505480"/>
            <a:ext cx="1967040" cy="65556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5320" y="5850000"/>
            <a:ext cx="195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68920" y="5605560"/>
            <a:ext cx="151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stant Teller 876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42920" y="5948280"/>
            <a:ext cx="176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: Java Valley Ca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96160" y="2165400"/>
            <a:ext cx="2157120" cy="86508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2514600"/>
            <a:ext cx="2133360" cy="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3800" y="2286000"/>
            <a:ext cx="20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avings Account 12876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64640" y="2608200"/>
            <a:ext cx="117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: 1976.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0680" y="2817720"/>
            <a:ext cx="136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ed: 1997/03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32200" y="1382760"/>
            <a:ext cx="1863720" cy="106344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44800" y="1720800"/>
            <a:ext cx="186228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16280" y="1463760"/>
            <a:ext cx="4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Jan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1825560"/>
            <a:ext cx="166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birth: 1955/02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02480" y="2219400"/>
            <a:ext cx="121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: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00320" y="2022480"/>
            <a:ext cx="13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: 99 UML 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86040" y="4121280"/>
            <a:ext cx="149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: 150 C++ 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20840" y="27576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Similar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3048120"/>
            <a:ext cx="152280" cy="304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800600" y="2514240"/>
            <a:ext cx="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50840" y="1004760"/>
            <a:ext cx="80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s represent things that are important to the users of the pro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4920" y="5943600"/>
            <a:ext cx="271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O Analysis vs. OO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0882-C079-4EFE-8D6C-CC7E621BAF6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las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unit of abstraction in an object oriented (OO) progra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s similar obj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s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insta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 kind of software modu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es its instances’ structure (properti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ain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implement their behavio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DCAF-129B-4E47-84B0-CFFFC520A3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>Revised by Kivanc Dincer</dc:description>
  <dc:language>en-US</dc:language>
  <cp:lastModifiedBy>KIVANCD</cp:lastModifiedBy>
  <dcterms:modified xsi:type="dcterms:W3CDTF">2004-10-04T13:43:38Z</dcterms:modified>
  <cp:revision>42</cp:revision>
  <dc:subject/>
  <dc:title>CS 319 - OOSE - Chapter 2</dc:title>
</cp:coreProperties>
</file>