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566-50FE-4295-AAEB-B4D32740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419-8280-44F8-8DE9-E88AC1BD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96B-9B23-4C92-AB06-6B85BEBC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7F4-FB09-42ED-98CA-C0E0A4FB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E38-3678-4849-9280-C334B14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88B-2F70-45D0-904F-AEC80CF9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72A-DEB6-4544-B344-2437F2D2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41F-E1DE-405B-9FBE-A785DE7B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00F4-5100-4BB0-998D-2040C9FF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45D-8284-4107-97BB-48E74CE4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5C5-93E9-4DC8-BFF2-D4E22C2D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7CA-B2FF-4E30-A474-4418745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4F95-76B7-421D-8867-50FAF9349C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apter 3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ng Software Development 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able Technolog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ype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framewo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rizontal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framewor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vides general application facilities that a large number of applications can u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vertical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framewor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pplication framewor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more ‘complete’ but still needs some slots to be filled to adapt it to specific application need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03HorVerFrame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4905360" cy="3112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53080" y="3798720"/>
            <a:ext cx="142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Ex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An 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/f in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50960" y="56386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n application uses a sub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of framework’s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DD1-9CB6-4E57-99E6-2943D4B511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-oriented framewo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the object oriented paradigm, a framework is composed of a library of class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API is defined by the set of all public methods of public class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of the classes will normally be abstrac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slo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use the framework, developer creates concrete classes that extend these abstract clas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F96-B7CF-46F5-A4E9-B4EA1722CC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4 The Client-Server 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ftware Architectur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branch of sw eng that deals with how to or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ze and connect a set of sw modules so that they can work together with each other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tributed system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system in which: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ations are performed by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te pro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rmally running on separate pieces of hard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-operat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perform the task of the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erver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rogram that provides a service for other programs that connect to it using a communication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lient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program that accesses a server (or several servers) to obtain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r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y be accessed by many clients simultaneous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82F-1159-4EE4-AE32-F70622D1B2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rver program communicating with two client progra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335240"/>
            <a:ext cx="5715000" cy="463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62920" y="518148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vertical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10720" y="54864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UML Sequenc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6280" y="5334120"/>
            <a:ext cx="44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Client-Server System vs. Peer-to-Pe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C </a:t>
            </a:r>
            <a:r>
              <a:rPr b="0" lang="tr-TR" sz="1600" spc="-1" strike="noStrike">
                <a:solidFill>
                  <a:srgbClr val="00cc99"/>
                </a:solidFill>
                <a:latin typeface="Comic Sans MS"/>
              </a:rPr>
              <a:t>&amp; S: same program / same mach</a:t>
            </a:r>
            <a:r>
              <a:rPr b="0" lang="en-US" sz="1600" spc="-1" strike="noStrike">
                <a:solidFill>
                  <a:srgbClr val="00cc99"/>
                </a:solidFill>
                <a:latin typeface="Comic Sans MS"/>
              </a:rPr>
              <a:t>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E8C-A954-4DFA-9DA6-8BBA5BAF39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quence of activities in a client-ser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yst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 starts runn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 waits for client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connect. (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s start running and perform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operations involve requests t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 client attempts to connect, 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 accepts the conne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if it is willing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 waits for messag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arrive from connected cli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 message from a client arrives, 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 takes some ac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response, then resumes wai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s and servers continue functioning in this manner until they decide to shut down or disconn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AE04-08B7-4473-AB8E-0BBE845A417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ternativ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the client server archite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ngle progra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n one computer that does everyt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computer performs the work separate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some mechanism other than client-server communication for exchanging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.g. one program writes to a database; the other reads from the databa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E20-D517-4A1F-BF0D-23A13762D1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vantag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client-server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mputational work can b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t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mong different machin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ferent workloads, different machine spec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lients can access the server’s functionality from a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lient and server can b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ed separat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can both be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r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 the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a can be kept central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t the 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liabi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versely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a can be distribut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mong many different geographically-distributed clients or servers 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rash/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saster recove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fo on server can be accesse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ultaneousl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many cli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eting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ients can be writte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communicate with the same server, and vice-vers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913-205F-4E63-BC54-61D3C7DB30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 of client-server sys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orld Wide Web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E – Web Server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ail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Outlook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 Post Of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ce Progr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File System (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UNIX NF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action Processing System (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Ban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ng System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Display System</a:t>
            </a: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x X-Windows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89A-7B29-4112-AAAF-D4E7BD39FC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ies of a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tializ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sel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rts listening for 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following types of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iginating from 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s connecti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ds to messa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sconn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 stop listen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eanly termin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tr-TR" sz="1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y clients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59320" y="1752480"/>
            <a:ext cx="3768840" cy="434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64360" y="1066680"/>
            <a:ext cx="22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UML </a:t>
            </a:r>
            <a:r>
              <a:rPr b="0" lang="tr-TR" sz="1800" spc="-1" strike="noStrike">
                <a:solidFill>
                  <a:srgbClr val="00cc99"/>
                </a:solidFill>
                <a:latin typeface="Comic Sans MS"/>
              </a:rPr>
              <a:t>State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55360" y="57913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cc99"/>
                </a:solidFill>
                <a:latin typeface="Comic Sans MS"/>
              </a:rPr>
              <a:t>end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85200" y="1676520"/>
            <a:ext cx="10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cc99"/>
                </a:solidFill>
                <a:latin typeface="Comic Sans MS"/>
              </a:rPr>
              <a:t>star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86D-29FA-40AA-9A49-829CCA82C8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62640" y="4865760"/>
            <a:ext cx="1800" cy="249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ies of a 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733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tializ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tself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tiat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 connec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ssag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following types of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iginating fr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ds to messa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sconn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eanly termi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539040" y="5135400"/>
            <a:ext cx="1440" cy="330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72280" y="509256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2320" y="530064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19960" y="5321160"/>
            <a:ext cx="144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39040" y="5321160"/>
            <a:ext cx="144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6320" y="532116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75400" y="530064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245360" y="3146040"/>
            <a:ext cx="1440" cy="35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35720" y="300024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09000" y="333216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27720" y="335268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5360" y="3352680"/>
            <a:ext cx="1440" cy="1256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62640" y="3352680"/>
            <a:ext cx="1800" cy="82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1720" y="33321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40560" y="3125520"/>
            <a:ext cx="1440" cy="330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30920" y="2979720"/>
            <a:ext cx="19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03840" y="32907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22920" y="3311640"/>
            <a:ext cx="144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40560" y="3311640"/>
            <a:ext cx="1440" cy="123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59280" y="331164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76920" y="3290760"/>
            <a:ext cx="144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65960" y="1841400"/>
            <a:ext cx="1440" cy="435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56320" y="1862280"/>
            <a:ext cx="1908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29240" y="21099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8320" y="213048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65960" y="2130480"/>
            <a:ext cx="1440" cy="1252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2130480"/>
            <a:ext cx="1800" cy="82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02320" y="2109960"/>
            <a:ext cx="1800" cy="61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95840" y="2297160"/>
            <a:ext cx="188604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84680" y="2284560"/>
            <a:ext cx="2178360" cy="60480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1120" y="2357280"/>
            <a:ext cx="18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e a conn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3640" y="258588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02320" y="3519360"/>
            <a:ext cx="255600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91160" y="3506760"/>
            <a:ext cx="2559240" cy="1522440"/>
          </a:xfrm>
          <a:prstGeom prst="roundRect">
            <a:avLst>
              <a:gd name="adj" fmla="val 11366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74840" y="3497400"/>
            <a:ext cx="167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ev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75920" y="3726000"/>
            <a:ext cx="2030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ed by th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4880" y="405756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14880" y="4057560"/>
            <a:ext cx="183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d to messag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8120" y="42656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16320" y="4471920"/>
            <a:ext cx="1216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ndle serv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conn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0560" y="3463920"/>
            <a:ext cx="1779480" cy="1393920"/>
          </a:xfrm>
          <a:prstGeom prst="roundRect">
            <a:avLst>
              <a:gd name="adj" fmla="val 11028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6440" y="3538440"/>
            <a:ext cx="147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act with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36080" y="3767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4280" y="3994200"/>
            <a:ext cx="175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 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37520" y="4222800"/>
            <a:ext cx="118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he 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4640" y="4449600"/>
            <a:ext cx="119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529240"/>
            <a:ext cx="106848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1360" y="5514840"/>
            <a:ext cx="1071720" cy="60660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39080" y="558972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1239840"/>
            <a:ext cx="106992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29200" y="1227240"/>
            <a:ext cx="1073160" cy="606240"/>
          </a:xfrm>
          <a:prstGeom prst="roundRect">
            <a:avLst>
              <a:gd name="adj" fmla="val 25000"/>
            </a:avLst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35480" y="13017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2560" y="3125880"/>
            <a:ext cx="1722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65960" y="2876400"/>
            <a:ext cx="1440" cy="249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62520" y="5105520"/>
            <a:ext cx="1573200" cy="11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883120" y="4865760"/>
            <a:ext cx="1800" cy="249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210440" y="5028840"/>
            <a:ext cx="0" cy="96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47520" y="68580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UML Activity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BAE-6C4F-4282-B7B8-10A9E4F525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ould be nice to adapt an existing system to meet your needs instead of developing an entire system from scratch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u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one of the keys to successful sw developmen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will learn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ramewor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usable sw subsystems that implement important facilities that applications can us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-server architectu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 important way of designing programs in which the sw is divided into two main parts: a client program and a server program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-server frame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ritten in Java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294A-5447-4B23-AC19-B07747CC32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eads in a client-server syst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1200240"/>
            <a:ext cx="8076960" cy="4821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981080" y="55627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evel 1: S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&amp; C are concurrently ru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evel 2: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n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2 concurrent threads are runn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B7A-6A0A-4A07-9248-B44B3DDD45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ork Distribution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n- vs. fat-client syste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n-client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ystem (a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 is made as small as possib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st of the work is done in the serv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 easy to download over the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t-client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ystem (b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 much work as possible is delegated to the client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 can handle more 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03ThinFatClient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5181840" cy="1876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6668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nsider intensity of network us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9B0-F895-401C-8121-7E18156C0DA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munications protoco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ypes of messages the client sends to the server form a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erver has to be programmed to understand that languag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ypes of messages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nds to 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lso form 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nguag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 to be programmed to understand that languag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a client and server are communicating, they are in effect having a conversation using these two langu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wo languages and the rules of the conversation, taken together, are called the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tocol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531440" y="560376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m parties take turns to s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Sequences of messages they must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815-5496-4075-AACF-321DA4051D8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s to perform to devel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-server applic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the primary work to be performed by both client and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how the work will be distribu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the details of the set of messages that will be s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.e., comm protocol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the mechanism for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itializ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ing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ing and receiv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rmina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18F-0CCE-4861-A578-28D70EA501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5 Technology Needed to Build Client-Server Syste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net Protocol (IP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oute messages from one computer to anot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ng messages are normally split up into small pie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ansmission Control Protocol (TCP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s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tween two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uters can then exchange many IP messages over 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ur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the messag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ve been satisfactorily recei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host has an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P addres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st nam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veral servers can run on the same ho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server is identified by a port number (0 to 65535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initiate communication with a server, a client must know both the host name and the port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4A4-CE10-4E0E-9551-3AD9EEBAF3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tablishing a connection in Ja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java.net pack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70440" indent="-1875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mits the creation of a TCP/IP connection between two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fore a connection can be established, the server must start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ing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one of the port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rverSocket serverSocket = new ServerSocket(port);    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ocket clientSocket = serverSocket.accept();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a client to connect to a serv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ocket clientSocket= new Socket(host, port);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254-39F8-4688-AA2C-6A5C10BD21E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changing information in 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program uses an instance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putStream to receive messages from the other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tputStream to send messages to the other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found in packag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ava.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tput =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ientSocket.getOutputStream();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put = clientSocket.getInputStream();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1C3-9CF4-4B82-9473-4CF8527381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ding and receiving mess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ithout any filters (raw bytes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output.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sg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g = input.read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 using DataInputStream/ DataOutputStream filter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output.writeDoubl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sg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sg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= input.readDouble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 using ObjectInputStream/ ObjectOutputStream filter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output.writeObject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sg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sg </a:t>
            </a:r>
            <a:r>
              <a:rPr b="1" lang="en-GB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= input.readObject()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115-8021-4636-9290-024D11DE51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6 The Object Client-Server Framewor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(OCSF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265400" y="1738440"/>
            <a:ext cx="2163600" cy="19033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4760" y="2062080"/>
            <a:ext cx="2144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0400" y="183528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7960" y="2149560"/>
            <a:ext cx="11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09040" y="2567160"/>
            <a:ext cx="113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1200" y="2357280"/>
            <a:ext cx="96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To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07240" y="3195720"/>
            <a:ext cx="153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8680" y="2776680"/>
            <a:ext cx="121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08320" y="3405240"/>
            <a:ext cx="18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cc"/>
                </a:solidFill>
                <a:latin typeface="Arial"/>
              </a:rPr>
              <a:t>handleMessageFrom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4760" y="2131920"/>
            <a:ext cx="21448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07960" y="2986200"/>
            <a:ext cx="141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Ex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114800" y="1720800"/>
            <a:ext cx="4781160" cy="3159000"/>
            <a:chOff x="4114800" y="1720800"/>
            <a:chExt cx="4781160" cy="3159000"/>
          </a:xfrm>
        </p:grpSpPr>
        <p:sp>
          <p:nvSpPr>
            <p:cNvPr id="182" name=""/>
            <p:cNvSpPr/>
            <p:nvPr/>
          </p:nvSpPr>
          <p:spPr>
            <a:xfrm>
              <a:off x="6216480" y="2376360"/>
              <a:ext cx="92412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85080" y="2149560"/>
              <a:ext cx="871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84360" y="21495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48520" y="1738440"/>
              <a:ext cx="1746360" cy="127476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57880" y="2062080"/>
              <a:ext cx="1727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06480" y="1817640"/>
              <a:ext cx="1689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nectionTo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93960" y="2149560"/>
              <a:ext cx="90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To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6120" y="23572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95760" y="2567160"/>
              <a:ext cx="46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95400" y="27766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4800" y="1720800"/>
              <a:ext cx="2093760" cy="3159000"/>
            </a:xfrm>
            <a:prstGeom prst="rect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24160" y="2044800"/>
              <a:ext cx="2075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23040" y="181764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bstract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2400" y="21319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59520" y="234144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Liste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2400" y="25495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58800" y="317808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Conn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8800" y="3387600"/>
              <a:ext cx="128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Disconnec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1680" y="380700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Star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57360" y="4643280"/>
              <a:ext cx="182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33cc"/>
                  </a:solidFill>
                  <a:latin typeface="Arial"/>
                </a:rPr>
                <a:t>handleMessageFrom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4160" y="2114640"/>
              <a:ext cx="2075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57880" y="2131920"/>
              <a:ext cx="17272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59880" y="4014720"/>
              <a:ext cx="99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Stopp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9880" y="2759040"/>
              <a:ext cx="114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ndToAll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57720" y="2968560"/>
              <a:ext cx="145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ClientConne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0960" y="4433760"/>
              <a:ext cx="90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erClos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9880" y="359712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58440" y="42242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eningExce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548-DD7C-44CB-8AC9-D28F40B784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OCS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ftware engineers using OCSF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ver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odify its three clas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subclasse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abstract classes in the frame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 public method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are provided by the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rid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ertain slot and hook methods (explicitly designed to be overridde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5F1-A33D-4FAC-BE56-45BC91EFFB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1 Building on the Experience of Oth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gineers, where feasible, should avoid re-developing software already developed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ypes of reuse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in increasing order of potential benefit)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of experti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of standard designs and algorithm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of libraries of classes or procedur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 powerful commands built into languages and operating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I’s of all P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GL 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many required functions are availabl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uilt-in macro languages of MS Excel, Word, and Acc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of framewor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structure of entire applications or subsyste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e of complete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TS software and some glue cod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AC9-A6A6-4628-8DC5-F0227EB649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7 The Client 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s of a single class: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bstractClien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 subclas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y subclass must provide an implementation for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handleMessageFromSer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s appropriate action when a message is received from a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s the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unnab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 a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un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 whi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ains a loop that executes for the lifetime of the 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E740-4484-4523-9C7E-2DD0367EF5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ublic interface of AbstractCli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oseConn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Conn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H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H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InetAddr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8A4-46D7-4E1E-87BA-BE78FA0E099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llback methods of AbstractCli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ionEstablish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ionClos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 implement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6EB-53B4-4022-9783-BCA608CF5A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Server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lot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s an instance of the new sub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s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nConn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s messages to the server using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Ser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rvice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ionCl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ionExcep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b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9F6-CAFD-4AC2-B829-77F811C866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als of Abstract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stance variabl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cke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ich keeps all the information about the connection to the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wo streams, a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OutputStrea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a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jectInputStrea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rea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runs using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Cli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s run meth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wo variables storing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the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F39D-57F6-4513-AB1E-8E010555CEA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erver 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wo class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 for the thread which listens for new connections (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e for the threads that handle the connections to clients (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nectionToCli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F5C-12C8-4700-B9A8-E1F6AE3CBA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ublic interface of AbstractSer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opListe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AllCli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Liste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ClientConne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Po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Backlo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BDF-64E6-48AC-B3EF-76D2BBC2F9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allback methods of AbstractServ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s that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 overridde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hooks) 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Star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Conn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Disconn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Exce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Stopp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ingExcep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Cl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 that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t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 implement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lot) 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C86-3068-4494-96FE-3B82D8BD85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ublic interface of ConnectionTo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trolling method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o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ssing method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Inet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Inf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Inf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15F-7A37-4204-8B75-FC5D11E69E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Server and ConnectionToCli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 a subclass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 the slot method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rite cod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ates an instance of the subclass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Ser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s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ste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5724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s messages to clients, us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ClientConnec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rvice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3812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AllCli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lement one or more of the other callback metho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EEE-56A8-40D9-B801-AE8462C1EB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2 Reusability and Reuse in 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u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ign for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usabil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hould be part of the culture of software development organiz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t there are problems to overcom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take the extra time needed to develop something that will benefi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h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jects/customer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agement may only reward the efforts of people who create the visible ‘final products’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usable software is often created in a hurry and without enough attention to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C4B-25BA-4903-B30C-AD0E889752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als of AbstractServer and ConnectionTo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Inf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tInf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s make use of a Java class called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y methods in the server side ar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nchroniz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ynchronizing an method ensures that no other thread can access the object while it is runn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ollection of instances of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nectionToClient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stored using a special class called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read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erver must pause from listening every 500ms to see if th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opListening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thod has been call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not, then it resumes listening immediate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40B-E1FB-4CFF-A379-4DF93B663E0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88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11 An Instant Messaging Application: SimpleCh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6745320" y="2897280"/>
            <a:ext cx="2363760" cy="141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54680" y="3255840"/>
            <a:ext cx="2345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54440" y="2984400"/>
            <a:ext cx="106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o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03000" y="3351240"/>
            <a:ext cx="21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04080" y="3584520"/>
            <a:ext cx="1073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ta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04080" y="3816360"/>
            <a:ext cx="116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top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07680" y="40482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727360" y="3719520"/>
            <a:ext cx="549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0000" y="1735200"/>
            <a:ext cx="1100160" cy="90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50800" y="2287440"/>
            <a:ext cx="1079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3960" y="1752480"/>
            <a:ext cx="115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&lt;interface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9160" y="2016000"/>
            <a:ext cx="59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2720" y="238284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17760" y="2897280"/>
            <a:ext cx="2363760" cy="118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27480" y="3255840"/>
            <a:ext cx="2344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01120" y="2984400"/>
            <a:ext cx="954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76160" y="335124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6880" y="3584520"/>
            <a:ext cx="23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eMessageFromClient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81560" y="3816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51760" y="1793880"/>
            <a:ext cx="1446120" cy="5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17280" y="1881360"/>
            <a:ext cx="137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stract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05000" y="3381480"/>
            <a:ext cx="1336680" cy="118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14360" y="3740040"/>
            <a:ext cx="1319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960" y="3468600"/>
            <a:ext cx="128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ientConso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67000" y="383544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67720" y="406872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69160" y="430056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02560" y="2365200"/>
            <a:ext cx="144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48480" y="2365200"/>
            <a:ext cx="274680" cy="231840"/>
          </a:xfrm>
          <a:custGeom>
            <a:avLst/>
            <a:gdLst/>
            <a:ahLst/>
            <a:rect l="l" t="t" r="r" b="b"/>
            <a:pathLst>
              <a:path w="183" h="146">
                <a:moveTo>
                  <a:pt x="97" y="0"/>
                </a:moveTo>
                <a:lnTo>
                  <a:pt x="183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8480" y="2365200"/>
            <a:ext cx="274680" cy="231840"/>
          </a:xfrm>
          <a:custGeom>
            <a:avLst/>
            <a:gdLst/>
            <a:ahLst/>
            <a:rect l="l" t="t" r="r" b="b"/>
            <a:pathLst>
              <a:path w="183" h="146">
                <a:moveTo>
                  <a:pt x="97" y="0"/>
                </a:moveTo>
                <a:lnTo>
                  <a:pt x="183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954080" y="2653920"/>
            <a:ext cx="1800" cy="71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54080" y="26542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54080" y="26748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54080" y="27320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4080" y="275112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54080" y="28098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54080" y="28288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54080" y="28875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54080" y="29066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54080" y="29653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29844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54080" y="304164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54080" y="30621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54080" y="31194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54080" y="3138480"/>
            <a:ext cx="1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54080" y="319716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54080" y="321624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4080" y="327492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54080" y="329400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54080" y="3352680"/>
            <a:ext cx="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98560" y="2654280"/>
            <a:ext cx="274680" cy="233280"/>
          </a:xfrm>
          <a:custGeom>
            <a:avLst/>
            <a:gdLst/>
            <a:ahLst/>
            <a:rect l="l" t="t" r="r" b="b"/>
            <a:pathLst>
              <a:path w="183" h="147">
                <a:moveTo>
                  <a:pt x="98" y="0"/>
                </a:moveTo>
                <a:lnTo>
                  <a:pt x="183" y="147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98560" y="2654280"/>
            <a:ext cx="274680" cy="233280"/>
          </a:xfrm>
          <a:custGeom>
            <a:avLst/>
            <a:gdLst/>
            <a:ahLst/>
            <a:rect l="l" t="t" r="r" b="b"/>
            <a:pathLst>
              <a:path w="183" h="147">
                <a:moveTo>
                  <a:pt x="98" y="0"/>
                </a:moveTo>
                <a:lnTo>
                  <a:pt x="183" y="147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9040" y="2365200"/>
            <a:ext cx="1440" cy="52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44960" y="2365200"/>
            <a:ext cx="27288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97" y="0"/>
                </a:moveTo>
                <a:lnTo>
                  <a:pt x="182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44960" y="2365200"/>
            <a:ext cx="272880" cy="231840"/>
          </a:xfrm>
          <a:custGeom>
            <a:avLst/>
            <a:gdLst/>
            <a:ahLst/>
            <a:rect l="l" t="t" r="r" b="b"/>
            <a:pathLst>
              <a:path w="182" h="146">
                <a:moveTo>
                  <a:pt x="97" y="0"/>
                </a:moveTo>
                <a:lnTo>
                  <a:pt x="182" y="146"/>
                </a:lnTo>
                <a:lnTo>
                  <a:pt x="0" y="146"/>
                </a:lnTo>
                <a:lnTo>
                  <a:pt x="97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66960" y="1793880"/>
            <a:ext cx="1355760" cy="5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2120" y="1881360"/>
            <a:ext cx="1306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bstract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54680" y="3314880"/>
            <a:ext cx="232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27480" y="3313080"/>
            <a:ext cx="23446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14360" y="3797280"/>
            <a:ext cx="1319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50800" y="2344680"/>
            <a:ext cx="1079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592000" y="2422080"/>
            <a:ext cx="165240" cy="194040"/>
            <a:chOff x="2592000" y="2422080"/>
            <a:chExt cx="165240" cy="194040"/>
          </a:xfrm>
        </p:grpSpPr>
        <p:sp>
          <p:nvSpPr>
            <p:cNvPr id="307" name=""/>
            <p:cNvSpPr/>
            <p:nvPr/>
          </p:nvSpPr>
          <p:spPr>
            <a:xfrm flipH="1" flipV="1">
              <a:off x="2592000" y="2422080"/>
              <a:ext cx="1652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92360" y="2422440"/>
              <a:ext cx="9144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14720" y="3662280"/>
            <a:ext cx="182520" cy="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114360" y="3719520"/>
            <a:ext cx="182520" cy="5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611440" y="2441520"/>
            <a:ext cx="658800" cy="696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Conso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n eventually be replaced b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GU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C81-C7FB-4A09-AF87-0BC7469A09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hoSer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subclass of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Serv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 creates a new instance and starts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listens for clients and handles connections until the server is stopp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hre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bac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s just print out a message to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Start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rverStopp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4764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l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handleMessageFromCli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s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AllCli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335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echoes any messag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F3B9-858B-44A6-AA17-B027602CC2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code in  EchoSer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1143000" y="175248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Object msg, ConnectionToClient cl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Message received: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msg + " from " + cli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sendToAllClients(ms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B20-A32D-4C05-81FB-E016BD937FD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n the client program starts, it creates instances of two classe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ubclass of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stract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verride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Serv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 calls the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 of the user interfa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Conso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er interface class that implements the interfa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t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nce implements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play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which outputs to the cons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s user input by calling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it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u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s all user input to th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atCli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y calling its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ndleMessageFromClientU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s, in turn, calls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dToSer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CE8-3666-4424-BE36-6D4ADA7D55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code in ChatCli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143000"/>
            <a:ext cx="7467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handleMessageFromClientUI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ToServer(messag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tch(IOException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UI.display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Could not send message. "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Terminating clien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999-0137-425E-9E04-723468879FF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code in ChatClient - continu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blic void handleMessageFromServer(Object msg)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ientUI.display(msg.toString());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6D5-64E0-42C0-9C11-DBB8A2E210B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12 Risks when reusing 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or quality reusable compon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the developers of the reusable technology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llow good software engineering pract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e willing to provide active suppor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atibility not maintain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oid obscure featu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nly re-use technology that others are also re-us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24F-3896-49D4-8A31-053157E7F59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sks when developing reusable technolo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uncertain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an the development of the reusable technology, just as if it was a product for a cli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‘not invented here syndrome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uild confidence in the reusable technology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uaranteeing sup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ing it is of high qu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ponding to the needs of its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80A-0D48-4551-BF9C-C156354CACF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sk when developing reusable technology – continu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eti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reusable technology must be as useful and as high quality as possi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verg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tendency of various groups to change technology in different way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 it to be general enough, test it and review it in advanc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3BE-CE60-4646-B168-39DCE8C0CED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icious cy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ers tend not develop high quality reusable components, so there is often little to reuse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solve the problem, recognize that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5100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icious cycle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sts mon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5100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reusable code is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322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usable softare tends to be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ore reli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5100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ten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o </a:t>
            </a:r>
            <a:r>
              <a:rPr b="0" i="1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ality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f reusable components is essenti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322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 that potential reusers have confidence in th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322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quality of a software product is only as good as its lowest-quality reusable componen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322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velopment of reusable components should be treated just like development of complete applic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5100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ing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usable components can often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y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322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abstraction and simpler stru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322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coupling: reduced interconnections among parts of the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878-FB24-407A-AF03-11BE72AE02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sks when adopting a client-server approa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urity is a big problem with no perfect solutions: consider the use of encryption, firewalls,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 for adaptive mainte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sure that all software is forward and backward compatible with other versions of clients and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CA0-0F10-40DF-98B8-15AF9A8C70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ing it possible to find reusable compon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talogue and documen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eep up-to-d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r deprecate older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precating a compon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laring that it should not be used in subsequent designs, but remains available to support existing designs that incorporate it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218-556B-4CE3-B226-A5CDDA7996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3 Frameworks: Reusable Subsystem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ramework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reusable software that implements a generic solution to a generalized problem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t provides common facilities applicable to different application program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cip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ication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ther in the same or different domai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at do different, but related, things tend to have quite similar desig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tterns of interactions among c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ponents are simi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51"/>
              </a:spcBef>
              <a:buClr>
                <a:srgbClr val="00cc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How do you develop a f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ramework</a:t>
            </a:r>
            <a:r>
              <a:rPr b="0" lang="en-US" sz="1800" spc="-1" strike="noStrike">
                <a:solidFill>
                  <a:srgbClr val="00cc99"/>
                </a:solidFill>
                <a:latin typeface="Comic Sans MS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BC6-FEF3-4448-8589-10C0DA51BD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meworks to promote re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amework is intrinsically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mple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rtai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asses or methods are used by the framework, but are missing (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lot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led in an application-specific 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tr-TR" sz="1800" spc="-1" strike="noStrike">
                <a:solidFill>
                  <a:srgbClr val="3333cc"/>
                </a:solidFill>
                <a:latin typeface="Comic Sans MS"/>
              </a:rPr>
              <a:t>lex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bility vs. Complex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functional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pt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owance is made for developer to provide i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ook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velopers use the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ervi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at the framework provi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ken together the services are called the Application Program Interface (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P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A framework enables the reuse of both design and cod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BDC-C7A7-4A38-833B-FDA6B9ED77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ples of framewo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ramework for payroll manag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les and features differ acc. To the type of business, jurisdiction and other company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ramework for frequent buy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lu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goal is to encourage loyal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ramework for university registr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ademic rules dif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ramework for e-commerce web si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1960" indent="-1933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ramework for controlling microwave ove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atures dif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966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 lines consisting of similar produ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. 3: Basing Development on Reusabl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CDF-E388-4B5E-B93C-94AD211B7E1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Timothy C. Lethbridge</dc:creator>
  <dc:description/>
  <dc:language>en-US</dc:language>
  <cp:lastModifiedBy>KIVANCD</cp:lastModifiedBy>
  <dcterms:modified xsi:type="dcterms:W3CDTF">2004-10-18T09:55:56Z</dcterms:modified>
  <cp:revision>74</cp:revision>
  <dc:subject/>
  <dc:title>SEG 2100 Software Design II</dc:title>
</cp:coreProperties>
</file>