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C48-E323-4149-961D-C3CF616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659-227C-43AE-ACC6-576A26BA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BCB-6103-4EFD-90E4-F4795706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103-8749-4D2F-97E4-8C66C1F3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34E-0D58-4B31-B21C-68808701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B82-021B-4CDF-BADC-35073665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D44-1C62-443D-A4FC-964F4E00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E17-22B1-4DBC-84FF-A9825F8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BD6-A9ED-434E-A1CA-6FA4C9E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739-6881-47BB-9E87-A5AC9B78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B02-9ABD-4682-AC8D-7DC820A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76D-7BC5-496B-9F66-4F11D04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3EEB-9E80-4D45-8015-7BC5D04637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5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ling with Class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belling associ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association can be labelled, to make explicit the nature of the associ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0503PossibleMultipAssoc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162920" cy="394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72520" y="457200"/>
            <a:ext cx="438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ociation name: verb or verb 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’ by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Role name: alternativ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40" y="2655720"/>
            <a:ext cx="1535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A good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of thumb: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suff name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make ass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lear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unambig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4CD-877F-474A-A529-7BBEA406CC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every assoc’n in both directions to verify that it makes sens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whether a less restrictive multiplicity also makes sense in some circumstanc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 to err on the side of being less restrictive so as not to reduce the flexibility of the system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: number of superviso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using ‘many’ when it is not justified, since it will increase a system’s complexity and reduce its efficienc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DB5-4BC8-4280-A81D-81F2F11512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st common patterns of multi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-to-on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ost common typ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any has many employe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mployee can only work for one compa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company will not store data about the moonlighting activities of employees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any can have zero employ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a ‘shell’ compa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not possible to be an employee unless you work for a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5105520"/>
            <a:ext cx="624816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797-2C80-4D2B-A4DA-7B2400EB39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st common patterns of multi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-to-m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cretary can work for many mana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anager can have many secret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retaries can work in p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agers can have a group of secret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managers might have zero secretari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it possible for a secretary to have, perhaps temporarily, zero manager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731520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C4E-992C-4113-AA8A-9474C0867A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st common patterns of multipli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-to-on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ess common type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each company, there is exactly one board of dire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oard is the board of only one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pany must always have a bo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oard must always be of some comp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678168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35600" y="5181480"/>
            <a:ext cx="35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What if all board members resign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86F-DD00-4C1D-86EA-1D149CA25A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alyzing and validating associ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oid unnecessary one-to-one associ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whether one or both ends can be changed to ‘optional’ or ‘many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mplication of one-to-one assoc’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ever you create an instance of one of the classses, you must simultaneously create an instance of the other, and when you delete one you must delete the 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625760"/>
                <a:tab algn="l" pos="514368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oid th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 thi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33720" y="4191120"/>
            <a:ext cx="5486400" cy="141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DE1-3F98-40CE-8368-A22B5A0F7D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re complex examp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ooking is always for exactly one passe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booking with zero passen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34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booking coul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volve more than one passeng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rings flexibility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assenger can have any number of Book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assenger could have no bookings at 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assenger could have more than one boo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4781520"/>
            <a:ext cx="7925040" cy="781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30200" y="5638680"/>
            <a:ext cx="476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- A booking is always for exactly one passe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- A passenger can have any number of book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E76-D957-4FDA-9F08-EC136B075A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 c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times, an attribute that concerns two associated classes cannot be placed in either of the clas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are equival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38280" y="3200400"/>
            <a:ext cx="3925800" cy="1294920"/>
            <a:chOff x="2438280" y="3200400"/>
            <a:chExt cx="3925800" cy="1294920"/>
          </a:xfrm>
        </p:grpSpPr>
        <p:sp>
          <p:nvSpPr>
            <p:cNvPr id="94" name=""/>
            <p:cNvSpPr/>
            <p:nvPr/>
          </p:nvSpPr>
          <p:spPr>
            <a:xfrm>
              <a:off x="3646080" y="3880080"/>
              <a:ext cx="1124280" cy="6152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55800" y="4187160"/>
              <a:ext cx="11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06560" y="395604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94400" y="42703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200400"/>
              <a:ext cx="103500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38440" y="327564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3000" y="3200400"/>
              <a:ext cx="1351080" cy="4820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72400" y="327564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463560" y="3441960"/>
              <a:ext cx="15242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68320" y="3225960"/>
              <a:ext cx="874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6796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48120" y="3225960"/>
              <a:ext cx="871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47400" y="32259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63760" y="3458520"/>
              <a:ext cx="1440" cy="64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63760" y="362340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63760" y="3789720"/>
              <a:ext cx="1440" cy="66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828800" y="4952880"/>
            <a:ext cx="5046480" cy="615960"/>
            <a:chOff x="1828800" y="4952880"/>
            <a:chExt cx="5046480" cy="615960"/>
          </a:xfrm>
        </p:grpSpPr>
        <p:sp>
          <p:nvSpPr>
            <p:cNvPr id="121" name=""/>
            <p:cNvSpPr/>
            <p:nvPr/>
          </p:nvSpPr>
          <p:spPr>
            <a:xfrm>
              <a:off x="3633840" y="4952880"/>
              <a:ext cx="1122120" cy="6159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43200" y="5261400"/>
              <a:ext cx="1103400" cy="1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92520" y="5028120"/>
              <a:ext cx="104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0360" y="53431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4952880"/>
              <a:ext cx="103500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8960" y="502812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24560" y="4952880"/>
              <a:ext cx="1350720" cy="482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3600" y="5028120"/>
              <a:ext cx="125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rse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46600" y="5194800"/>
              <a:ext cx="752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880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68280" y="497844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71720" y="5194800"/>
              <a:ext cx="754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560760" y="297180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Comic Sans MS"/>
              </a:rPr>
              <a:t>isRegistered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8640" y="4114800"/>
            <a:ext cx="189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cc99"/>
                </a:solidFill>
                <a:latin typeface="Symbol"/>
                <a:ea typeface="Symbol"/>
              </a:rPr>
              <a:t></a:t>
            </a:r>
            <a:r>
              <a:rPr b="1" lang="tr-TR" sz="14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Comic Sans MS"/>
              </a:rPr>
              <a:t>Association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895480"/>
            <a:ext cx="685800" cy="3812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62520" y="2895120"/>
            <a:ext cx="609480" cy="3812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638680"/>
            <a:ext cx="73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To create an ınstance of assoc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’n class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, you must already have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nstances of the two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associated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0C2-A0BF-469D-9FE9-58E77CE94B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lexive associ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possible for an association to connect a class to it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2486160" y="3365640"/>
            <a:ext cx="1482480" cy="69660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32040" y="3502080"/>
            <a:ext cx="104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83040" y="3471840"/>
            <a:ext cx="6033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6400" y="3471840"/>
            <a:ext cx="1440" cy="4539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983040" y="392580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81680" y="365436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71720" y="3502080"/>
            <a:ext cx="2850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isMutuallyExclusiveWi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76320" y="3541680"/>
            <a:ext cx="6033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6040" y="3541680"/>
            <a:ext cx="1440" cy="7556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76320" y="4297320"/>
            <a:ext cx="99720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90280" y="402588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28480" y="357192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49360" y="4287960"/>
            <a:ext cx="139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rerequisi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09240" y="3179880"/>
            <a:ext cx="120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1920" y="3230640"/>
            <a:ext cx="104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54440" y="4056120"/>
            <a:ext cx="1440" cy="2412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3360" y="4724280"/>
            <a:ext cx="29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asymmetric </a:t>
            </a: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 use ro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11560" y="396252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Symmetric </a:t>
            </a: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 use assoc’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69680" y="54864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ink is an instance of an associ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F96-34A3-4F5D-807A-32465BBA66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tionality in associ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s and links are by default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i-directional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possible to limit the direction of an association by adding an arrow at one e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959280"/>
            <a:ext cx="219384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26240" y="3554280"/>
            <a:ext cx="10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30840" y="3865680"/>
            <a:ext cx="299880" cy="93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30480" y="3959280"/>
            <a:ext cx="299880" cy="921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45120" y="3506760"/>
            <a:ext cx="17748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85560" y="3648240"/>
            <a:ext cx="70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38280" y="3506760"/>
            <a:ext cx="1384200" cy="903240"/>
          </a:xfrm>
          <a:prstGeom prst="rect">
            <a:avLst/>
          </a:prstGeom>
          <a:noFill/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3648240"/>
            <a:ext cx="582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82840" y="4495680"/>
            <a:ext cx="69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Knowing the Day, you can find the Note, but not the other way aroun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+ more eff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cient  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+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less complex   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- less flex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181480"/>
            <a:ext cx="799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isions about directionality should be deferred to later phases of develop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detailed desig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E70-39F1-4245-9B8F-522E4B498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ML class diagrams are one of the most imp tools for both reqs analysis and design of oo sw syste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hapter you will learn about the follow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ost essential features: classes, associations and generalization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more advanced features: aggregation, contraints and interfac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 modelling problem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tep-by-step process for systematically developing class diagram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83C-1E90-4513-A832-FB26935272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4 Generaliz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alizing a superclass into two or more subclas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riminat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label that describes the criteria used in the speci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0509AnimalDiscriminators" descr=""/>
          <p:cNvPicPr/>
          <p:nvPr/>
        </p:nvPicPr>
        <p:blipFill>
          <a:blip r:embed="rId1"/>
          <a:stretch/>
        </p:blipFill>
        <p:spPr>
          <a:xfrm>
            <a:off x="1243080" y="3246480"/>
            <a:ext cx="6148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DD8-221C-4677-9C27-C4A76E2150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ing unnecessary generaliz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876920" cy="1752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840280" y="4979880"/>
            <a:ext cx="1170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8520" y="5180040"/>
            <a:ext cx="194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r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62360" y="4979880"/>
            <a:ext cx="112896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89360" y="51800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l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4979880"/>
            <a:ext cx="11412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64640" y="5180040"/>
            <a:ext cx="38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28760" y="4979880"/>
            <a:ext cx="114300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75200" y="5180040"/>
            <a:ext cx="18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jaz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5400" y="4979880"/>
            <a:ext cx="1160280" cy="3780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0600" y="5180040"/>
            <a:ext cx="54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usic 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6560" y="4229280"/>
            <a:ext cx="120312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5240" y="442764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84480" y="4229280"/>
            <a:ext cx="1197000" cy="377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4520" y="4427640"/>
            <a:ext cx="24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05040" y="4600440"/>
            <a:ext cx="14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016080" y="4600440"/>
            <a:ext cx="109224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311360" y="4611600"/>
            <a:ext cx="75960" cy="363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65840" y="4600440"/>
            <a:ext cx="92052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65600" y="4600440"/>
            <a:ext cx="31680" cy="374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188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8644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31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47760" y="484668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b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308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20840" y="424512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0960" y="4395960"/>
            <a:ext cx="1190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2024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6500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9872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548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11240" y="4395960"/>
            <a:ext cx="1198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3960" y="5006880"/>
            <a:ext cx="1102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Catego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11240" y="5168880"/>
            <a:ext cx="1147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24080" y="5168880"/>
            <a:ext cx="1128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68840" y="5168880"/>
            <a:ext cx="1122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6760" y="5168880"/>
            <a:ext cx="11635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5732640"/>
            <a:ext cx="1094040" cy="5158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79680" y="5952960"/>
            <a:ext cx="6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9th Sympho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78600" y="575928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9160" y="5921280"/>
            <a:ext cx="10717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905280" y="535140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76840" y="5743440"/>
            <a:ext cx="1093680" cy="484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5640" y="594216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Let it 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04200" y="5770440"/>
            <a:ext cx="60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CA" sz="900" spc="-1" strike="noStrike" u="sng">
                <a:solidFill>
                  <a:srgbClr val="000000"/>
                </a:solidFill>
                <a:uFillTx/>
                <a:latin typeface="Arial"/>
              </a:rPr>
              <a:t>Record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3320" y="5931000"/>
            <a:ext cx="1071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94480" y="607068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80760" y="608184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eethov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175440" y="5362560"/>
            <a:ext cx="54000" cy="36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43000" y="3124080"/>
            <a:ext cx="3801240" cy="914040"/>
            <a:chOff x="1143000" y="3124080"/>
            <a:chExt cx="3801240" cy="914040"/>
          </a:xfrm>
        </p:grpSpPr>
        <p:sp>
          <p:nvSpPr>
            <p:cNvPr id="230" name=""/>
            <p:cNvSpPr/>
            <p:nvPr/>
          </p:nvSpPr>
          <p:spPr>
            <a:xfrm>
              <a:off x="2904480" y="3124080"/>
              <a:ext cx="1422000" cy="705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76120" y="320796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900" spc="-1" strike="noStrike">
                  <a:solidFill>
                    <a:srgbClr val="000000"/>
                  </a:solidFill>
                  <a:latin typeface="Arial"/>
                </a:rPr>
                <a:t>RecordingCateg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32600" y="3323520"/>
              <a:ext cx="27108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4040" y="3323520"/>
              <a:ext cx="1800" cy="28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332240" y="3610080"/>
              <a:ext cx="27108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44840" y="3438360"/>
              <a:ext cx="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87320" y="3610080"/>
              <a:ext cx="55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subcateg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10600" y="3475440"/>
              <a:ext cx="139428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52000" y="3551400"/>
              <a:ext cx="494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43000" y="3124080"/>
              <a:ext cx="800280" cy="9140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04200" y="320796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900" spc="-1" strike="noStrike">
                  <a:solidFill>
                    <a:srgbClr val="000000"/>
                  </a:solidFill>
                  <a:latin typeface="Arial"/>
                </a:rPr>
                <a:t>Record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360" y="3342600"/>
              <a:ext cx="963000" cy="2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77120" y="3151800"/>
              <a:ext cx="40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2520" y="336240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hasCateg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150920" y="3475440"/>
              <a:ext cx="771840" cy="2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89440" y="3551400"/>
              <a:ext cx="16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9440" y="3781440"/>
              <a:ext cx="22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800" spc="-1" strike="noStrike">
                  <a:solidFill>
                    <a:srgbClr val="000000"/>
                  </a:solidFill>
                  <a:latin typeface="Arial"/>
                </a:rPr>
                <a:t>arti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219320" y="1143000"/>
            <a:ext cx="344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appropriate hierarch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es, which should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5280" y="3557520"/>
            <a:ext cx="31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d class diagr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its correspo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stanc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97120" y="2209680"/>
            <a:ext cx="403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To justify the existence of each clas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There must be some ope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that will be done differently in that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67A-173F-461D-A878-391FD56FD0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05xxAnimalDupDisc" descr=""/>
          <p:cNvPicPr/>
          <p:nvPr/>
        </p:nvPicPr>
        <p:blipFill>
          <a:blip r:embed="rId1"/>
          <a:stretch/>
        </p:blipFill>
        <p:spPr>
          <a:xfrm>
            <a:off x="1371600" y="2151000"/>
            <a:ext cx="7391520" cy="3335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ing higher-level general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902880" y="2209680"/>
            <a:ext cx="367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A discriminator can be thought of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an attribute that will have a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value in each subclass (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 !?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79480" y="5562720"/>
            <a:ext cx="405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Drawbacks: duplication &amp; large #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4CE-A65B-41C0-897A-55B56B4429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multiple inherit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Player-Role pattern (in Chapter 6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ing multiple discrimina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170320" y="1373040"/>
            <a:ext cx="129564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67680" y="147168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804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17640" y="20415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8112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45360" y="2021040"/>
            <a:ext cx="144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3160" y="2021040"/>
            <a:ext cx="93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ypeOfF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8960" y="202104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41920" y="2394000"/>
            <a:ext cx="10335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30072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9136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97720" y="2822400"/>
            <a:ext cx="12304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6260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Herb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0680" y="2822400"/>
            <a:ext cx="127296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35560" y="2921040"/>
            <a:ext cx="101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Carnivo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4000" y="2394000"/>
            <a:ext cx="11192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46800" y="2394000"/>
            <a:ext cx="144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995280" y="2394000"/>
            <a:ext cx="1983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2394000"/>
            <a:ext cx="1800" cy="417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21320" y="2822400"/>
            <a:ext cx="136188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53000" y="2921040"/>
            <a:ext cx="123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Land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05160" y="2822400"/>
            <a:ext cx="1689120" cy="636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57720" y="2921040"/>
            <a:ext cx="151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Arial"/>
              </a:rPr>
              <a:t>AquaticAn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306440" y="4381560"/>
            <a:ext cx="2019240" cy="636480"/>
            <a:chOff x="1306440" y="4381560"/>
            <a:chExt cx="2019240" cy="636480"/>
          </a:xfrm>
        </p:grpSpPr>
        <p:sp>
          <p:nvSpPr>
            <p:cNvPr id="284" name=""/>
            <p:cNvSpPr/>
            <p:nvPr/>
          </p:nvSpPr>
          <p:spPr>
            <a:xfrm>
              <a:off x="1306440" y="4381560"/>
              <a:ext cx="201924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132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414600" y="4381560"/>
            <a:ext cx="2041560" cy="636480"/>
            <a:chOff x="3414600" y="4381560"/>
            <a:chExt cx="2041560" cy="636480"/>
          </a:xfrm>
        </p:grpSpPr>
        <p:sp>
          <p:nvSpPr>
            <p:cNvPr id="287" name=""/>
            <p:cNvSpPr/>
            <p:nvPr/>
          </p:nvSpPr>
          <p:spPr>
            <a:xfrm>
              <a:off x="3414600" y="4381560"/>
              <a:ext cx="2041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9480" y="4481640"/>
              <a:ext cx="1805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Aquatic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565600" y="4381560"/>
            <a:ext cx="1690920" cy="636480"/>
            <a:chOff x="5565600" y="4381560"/>
            <a:chExt cx="1690920" cy="636480"/>
          </a:xfrm>
        </p:grpSpPr>
        <p:sp>
          <p:nvSpPr>
            <p:cNvPr id="290" name=""/>
            <p:cNvSpPr/>
            <p:nvPr/>
          </p:nvSpPr>
          <p:spPr>
            <a:xfrm>
              <a:off x="5565600" y="4381560"/>
              <a:ext cx="169092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4012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Carn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65960" y="4381560"/>
            <a:ext cx="1690560" cy="636480"/>
            <a:chOff x="7365960" y="4381560"/>
            <a:chExt cx="1690560" cy="636480"/>
          </a:xfrm>
        </p:grpSpPr>
        <p:sp>
          <p:nvSpPr>
            <p:cNvPr id="293" name=""/>
            <p:cNvSpPr/>
            <p:nvPr/>
          </p:nvSpPr>
          <p:spPr>
            <a:xfrm>
              <a:off x="7365960" y="4381560"/>
              <a:ext cx="1690560" cy="63648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9600" y="4481640"/>
              <a:ext cx="1529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LandHerbivo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235560" y="3492360"/>
            <a:ext cx="1800" cy="373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952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21640" y="3492360"/>
            <a:ext cx="1440" cy="4827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7584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77120" y="3470400"/>
            <a:ext cx="33048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78040" y="3865680"/>
            <a:ext cx="35575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46640" y="3798720"/>
            <a:ext cx="17604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578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98720" y="3798720"/>
            <a:ext cx="17460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3790800"/>
            <a:ext cx="15228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3511440"/>
            <a:ext cx="1440" cy="460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1016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86200" y="3975120"/>
            <a:ext cx="38419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46640" y="3909960"/>
            <a:ext cx="17604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3902040"/>
            <a:ext cx="1537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560" y="3492360"/>
            <a:ext cx="144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372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560" y="4062240"/>
            <a:ext cx="13381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0888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0040" y="3902040"/>
            <a:ext cx="15336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73680" y="3492360"/>
            <a:ext cx="1800" cy="569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99080" y="347040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53160" y="4194000"/>
            <a:ext cx="2722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64240" y="3798720"/>
            <a:ext cx="175680" cy="17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75400" y="3790800"/>
            <a:ext cx="153720" cy="15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64240" y="3909960"/>
            <a:ext cx="175680" cy="17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5400" y="3892680"/>
            <a:ext cx="153720" cy="15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64240" y="3997440"/>
            <a:ext cx="175680" cy="218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75400" y="3979800"/>
            <a:ext cx="153720" cy="1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53160" y="3492360"/>
            <a:ext cx="1440" cy="701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54800" y="3470400"/>
            <a:ext cx="330120" cy="263520"/>
          </a:xfrm>
          <a:custGeom>
            <a:avLst/>
            <a:gdLst/>
            <a:ahLst/>
            <a:rect l="l" t="t" r="r" b="b"/>
            <a:pathLst>
              <a:path w="208" h="166">
                <a:moveTo>
                  <a:pt x="111" y="0"/>
                </a:moveTo>
                <a:lnTo>
                  <a:pt x="208" y="166"/>
                </a:lnTo>
                <a:lnTo>
                  <a:pt x="0" y="166"/>
                </a:lnTo>
                <a:lnTo>
                  <a:pt x="111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21400" y="4062240"/>
            <a:ext cx="1440" cy="308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816680" y="4194000"/>
            <a:ext cx="1800" cy="176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741920" y="3975120"/>
            <a:ext cx="1440" cy="395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205080" y="3865680"/>
            <a:ext cx="1800" cy="504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46640" y="2021040"/>
            <a:ext cx="1800" cy="37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203800" y="2394000"/>
            <a:ext cx="2412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72040" y="2021040"/>
            <a:ext cx="328680" cy="263520"/>
          </a:xfrm>
          <a:custGeom>
            <a:avLst/>
            <a:gdLst/>
            <a:ahLst/>
            <a:rect l="l" t="t" r="r" b="b"/>
            <a:pathLst>
              <a:path w="207" h="166">
                <a:moveTo>
                  <a:pt x="110" y="0"/>
                </a:moveTo>
                <a:lnTo>
                  <a:pt x="207" y="166"/>
                </a:lnTo>
                <a:lnTo>
                  <a:pt x="0" y="166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09480" y="502920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Drawbacks: complex, large # classes &amp; not exists in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7A4-40B1-4D7E-8CF3-A98E5DCA80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ing having instances change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05XXStudentOneDisc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781440" cy="1951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stance should never need to change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many PLs, thi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not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you have to completely destroy the 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ginal object and create a new instance of the second class which is complex and error pr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Problem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uring her studies, the attendance status of a student can change from full-time to part-time and vice vers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531440" y="4038480"/>
            <a:ext cx="114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Solutions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49C-B620-45E7-9119-3133ECBDEC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5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stance diagra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ows an example configuration of objects and links that may exist at a particular point during execution of a progra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ink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instance of an assoc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same way that we say an object is an instance of a cl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0400" y="3200400"/>
            <a:ext cx="4565160" cy="2999880"/>
            <a:chOff x="3200400" y="3200400"/>
            <a:chExt cx="4565160" cy="2999880"/>
          </a:xfrm>
        </p:grpSpPr>
        <p:sp>
          <p:nvSpPr>
            <p:cNvPr id="350" name=""/>
            <p:cNvSpPr/>
            <p:nvPr/>
          </p:nvSpPr>
          <p:spPr>
            <a:xfrm flipV="1">
              <a:off x="4117680" y="5536800"/>
              <a:ext cx="1358640" cy="250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82720" y="5327280"/>
              <a:ext cx="334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6135120" y="5326920"/>
              <a:ext cx="334440" cy="28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6121080" y="4128480"/>
              <a:ext cx="336240" cy="14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524120" y="4128840"/>
              <a:ext cx="280800" cy="445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68680" y="3989160"/>
              <a:ext cx="336240" cy="139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9720" y="3612960"/>
              <a:ext cx="952200" cy="3060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12720" y="5125680"/>
              <a:ext cx="1163520" cy="4046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59880" y="5187600"/>
              <a:ext cx="10598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Carla:Employe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36640" y="4371840"/>
              <a:ext cx="980640" cy="40572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83440" y="4435200"/>
              <a:ext cx="8892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Ali:Employe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0400" y="3785760"/>
              <a:ext cx="1261800" cy="4060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7560" y="3849480"/>
              <a:ext cx="11606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Wayne:Employe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11400" y="3925440"/>
              <a:ext cx="1303200" cy="4060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58920" y="3989160"/>
              <a:ext cx="12304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OCorp:Compa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64160" y="3939840"/>
              <a:ext cx="1301400" cy="4046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0240" y="4003200"/>
              <a:ext cx="114840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OCorp's Board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76760" y="5152680"/>
              <a:ext cx="1288800" cy="4060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5360" y="5216040"/>
              <a:ext cx="11008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UML inc's Boa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24000" y="5125680"/>
              <a:ext cx="1304640" cy="40464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3320" y="5187600"/>
              <a:ext cx="123048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UML inc:Compan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98520" y="3200400"/>
              <a:ext cx="1023840" cy="4060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46040" y="3263760"/>
              <a:ext cx="92736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Pat:Employe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78040" y="5794200"/>
              <a:ext cx="1139400" cy="40608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25200" y="5857560"/>
              <a:ext cx="10598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Terry:Employe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047600" y="3657600"/>
            <a:ext cx="2192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lass diagram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generat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n infin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ber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ance diagr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E32-5AA9-4E32-ADEE-09FC55128D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s versus generalizations in instance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soci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scribe the relationships that will exist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tween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t run tim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show an instance diagram generated from a class diagram, there will be an instanc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es joined by that assoc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iz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scribe relationships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tween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class diagram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do not appear in instance diagrams at al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see a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ng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stance of one of its concrete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stance of any class should also be considered to be an instance of each of that class’s super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788-5110-4617-9848-379259D1A8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6 More Advanced Features: Aggreg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gregatio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special associations that represent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part-whole’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lationship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‘whole’ side is often called the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ssemb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the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ggreg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symbol is a shorthand notation association named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sPartO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sPar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3813120" y="4343400"/>
            <a:ext cx="1463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15960" y="4111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13120" y="5075280"/>
            <a:ext cx="14986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50880" y="48434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9720" y="4815000"/>
            <a:ext cx="105552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61640" y="489744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84800" y="4083120"/>
            <a:ext cx="1108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45280" y="4165560"/>
            <a:ext cx="97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1120" y="481500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56320" y="4897440"/>
            <a:ext cx="68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1120" y="4083120"/>
            <a:ext cx="1054080" cy="5191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55240" y="416556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95840" y="425304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95840" y="4984920"/>
            <a:ext cx="285480" cy="179280"/>
          </a:xfrm>
          <a:custGeom>
            <a:avLst/>
            <a:gdLst/>
            <a:ahLst/>
            <a:rect l="l" t="t" r="r" b="b"/>
            <a:pathLst>
              <a:path w="180" h="113">
                <a:moveTo>
                  <a:pt x="90" y="0"/>
                </a:moveTo>
                <a:lnTo>
                  <a:pt x="180" y="57"/>
                </a:lnTo>
                <a:lnTo>
                  <a:pt x="90" y="113"/>
                </a:lnTo>
                <a:lnTo>
                  <a:pt x="0" y="57"/>
                </a:lnTo>
                <a:lnTo>
                  <a:pt x="90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CAA-4878-4910-B0B8-D09BE038FF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o use an aggre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a general rule, you can mark an association as an aggregation if the following are true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 state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arts ‘are part of’ the aggreg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the aggregate ‘is composed of’ the par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something owns or controls the aggregate, then they also own or control the par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ing an aggregation is optional, leaving it as an ordinary association is not en error – when in doubt, leave it ou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C11-9954-4A18-B033-469B087207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strong kind of aggreg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the aggregate is destroyed, then the parts are destroyed as wel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arts can never have a life of their own; they exist only to serve the aggreg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one-to-one composition often corresponds to a complex attribu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666880" y="3352680"/>
            <a:ext cx="4324320" cy="619200"/>
            <a:chOff x="2666880" y="3352680"/>
            <a:chExt cx="4324320" cy="619200"/>
          </a:xfrm>
        </p:grpSpPr>
        <p:sp>
          <p:nvSpPr>
            <p:cNvPr id="409" name=""/>
            <p:cNvSpPr/>
            <p:nvPr/>
          </p:nvSpPr>
          <p:spPr>
            <a:xfrm>
              <a:off x="3935160" y="3662280"/>
              <a:ext cx="1787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32120" y="3384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32120" y="3384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32120" y="3384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32120" y="3384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2120" y="33847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5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32280" y="3352680"/>
              <a:ext cx="1258920" cy="6192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9560" y="3449520"/>
              <a:ext cx="61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66880" y="3352680"/>
              <a:ext cx="1258920" cy="61920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11680" y="3449520"/>
              <a:ext cx="86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700" spc="-1" strike="noStrike">
                  <a:solidFill>
                    <a:srgbClr val="000000"/>
                  </a:solidFill>
                  <a:latin typeface="Arial"/>
                </a:rPr>
                <a:t>Build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13200" y="3556080"/>
              <a:ext cx="341280" cy="212760"/>
            </a:xfrm>
            <a:custGeom>
              <a:avLst/>
              <a:gdLst/>
              <a:ahLst/>
              <a:rect l="l" t="t" r="r" b="b"/>
              <a:pathLst>
                <a:path w="215" h="134">
                  <a:moveTo>
                    <a:pt x="108" y="0"/>
                  </a:moveTo>
                  <a:lnTo>
                    <a:pt x="215" y="67"/>
                  </a:lnTo>
                  <a:lnTo>
                    <a:pt x="108" y="134"/>
                  </a:lnTo>
                  <a:lnTo>
                    <a:pt x="0" y="6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13200" y="3556080"/>
              <a:ext cx="341280" cy="212760"/>
            </a:xfrm>
            <a:custGeom>
              <a:avLst/>
              <a:gdLst/>
              <a:ahLst/>
              <a:rect l="l" t="t" r="r" b="b"/>
              <a:pathLst>
                <a:path w="215" h="134">
                  <a:moveTo>
                    <a:pt x="108" y="0"/>
                  </a:moveTo>
                  <a:lnTo>
                    <a:pt x="215" y="67"/>
                  </a:lnTo>
                  <a:lnTo>
                    <a:pt x="108" y="134"/>
                  </a:lnTo>
                  <a:lnTo>
                    <a:pt x="0" y="67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438280" y="4800600"/>
            <a:ext cx="55627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832-3DB8-42CF-83A9-E69F8F2E4A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1 What is UM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Unified Modelling Languag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standard graphical language for modelling object oriented softwa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the end of the 1980s and the beginning of 1990s: the first oo development processes appea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 proliferation of methods and notations tended to cause considerable confus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94: Two important methodologists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umbaug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oo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cided to merge their approach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worked together at the Rational Software Corp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95: another methodologist,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Jacobs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 joined the t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s work focused 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se ca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97: the Object Management Group (OMG) started the process of UML standard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5A1-774B-4362-89A9-F68FD1676F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gregation hierarc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L allows aggregations to be drawn as a hierarchy, but this is very rarely us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219320" y="2057400"/>
            <a:ext cx="7518240" cy="3870360"/>
            <a:chOff x="1219320" y="2057400"/>
            <a:chExt cx="7518240" cy="3870360"/>
          </a:xfrm>
        </p:grpSpPr>
        <p:sp>
          <p:nvSpPr>
            <p:cNvPr id="425" name=""/>
            <p:cNvSpPr/>
            <p:nvPr/>
          </p:nvSpPr>
          <p:spPr>
            <a:xfrm>
              <a:off x="5529240" y="3322800"/>
              <a:ext cx="93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15280" y="3322800"/>
              <a:ext cx="93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78440" y="2814840"/>
              <a:ext cx="289080" cy="419040"/>
            </a:xfrm>
            <a:custGeom>
              <a:avLst/>
              <a:gdLst/>
              <a:ahLst/>
              <a:rect l="l" t="t" r="r" b="b"/>
              <a:pathLst>
                <a:path w="182" h="264">
                  <a:moveTo>
                    <a:pt x="182" y="132"/>
                  </a:moveTo>
                  <a:lnTo>
                    <a:pt x="83" y="264"/>
                  </a:lnTo>
                  <a:lnTo>
                    <a:pt x="0" y="132"/>
                  </a:lnTo>
                  <a:lnTo>
                    <a:pt x="83" y="0"/>
                  </a:lnTo>
                  <a:lnTo>
                    <a:pt x="182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78440" y="2814840"/>
              <a:ext cx="289080" cy="419040"/>
            </a:xfrm>
            <a:custGeom>
              <a:avLst/>
              <a:gdLst/>
              <a:ahLst/>
              <a:rect l="l" t="t" r="r" b="b"/>
              <a:pathLst>
                <a:path w="182" h="264">
                  <a:moveTo>
                    <a:pt x="182" y="132"/>
                  </a:moveTo>
                  <a:lnTo>
                    <a:pt x="83" y="264"/>
                  </a:lnTo>
                  <a:lnTo>
                    <a:pt x="0" y="132"/>
                  </a:lnTo>
                  <a:lnTo>
                    <a:pt x="83" y="0"/>
                  </a:lnTo>
                  <a:lnTo>
                    <a:pt x="182" y="132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3616560" y="3319560"/>
              <a:ext cx="371952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91640" y="4946760"/>
              <a:ext cx="93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91360" y="516744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97800" y="5259600"/>
              <a:ext cx="78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91040" y="5167440"/>
              <a:ext cx="188784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82480" y="5259600"/>
              <a:ext cx="1735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32360" y="516744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86240" y="5259600"/>
              <a:ext cx="890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Engin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19320" y="516744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99120" y="5259600"/>
              <a:ext cx="80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89800" y="357192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74000" y="3691080"/>
              <a:ext cx="622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Do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03760" y="357192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95920" y="3691080"/>
              <a:ext cx="1378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BodyPan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43280" y="357192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19040" y="3691080"/>
              <a:ext cx="1021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Chas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08480" y="2057400"/>
              <a:ext cx="1546200" cy="760320"/>
            </a:xfrm>
            <a:prstGeom prst="rect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768200" y="2176560"/>
              <a:ext cx="934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100" spc="-1" strike="noStrike">
                  <a:solidFill>
                    <a:srgbClr val="000000"/>
                  </a:solidFill>
                  <a:latin typeface="Arial"/>
                </a:rPr>
                <a:t>Vehic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07040" y="4345200"/>
              <a:ext cx="288720" cy="393480"/>
            </a:xfrm>
            <a:custGeom>
              <a:avLst/>
              <a:gdLst/>
              <a:ahLst/>
              <a:rect l="l" t="t" r="r" b="b"/>
              <a:pathLst>
                <a:path w="182" h="248">
                  <a:moveTo>
                    <a:pt x="182" y="132"/>
                  </a:moveTo>
                  <a:lnTo>
                    <a:pt x="83" y="248"/>
                  </a:lnTo>
                  <a:lnTo>
                    <a:pt x="0" y="132"/>
                  </a:lnTo>
                  <a:lnTo>
                    <a:pt x="83" y="0"/>
                  </a:lnTo>
                  <a:lnTo>
                    <a:pt x="182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07040" y="4345200"/>
              <a:ext cx="288720" cy="393480"/>
            </a:xfrm>
            <a:custGeom>
              <a:avLst/>
              <a:gdLst/>
              <a:ahLst/>
              <a:rect l="l" t="t" r="r" b="b"/>
              <a:pathLst>
                <a:path w="182" h="248">
                  <a:moveTo>
                    <a:pt x="182" y="132"/>
                  </a:moveTo>
                  <a:lnTo>
                    <a:pt x="83" y="248"/>
                  </a:lnTo>
                  <a:lnTo>
                    <a:pt x="0" y="132"/>
                  </a:lnTo>
                  <a:lnTo>
                    <a:pt x="83" y="0"/>
                  </a:lnTo>
                  <a:lnTo>
                    <a:pt x="182" y="132"/>
                  </a:lnTo>
                  <a:close/>
                </a:path>
              </a:pathLst>
            </a:custGeom>
            <a:solidFill>
              <a:srgbClr val="ffffff"/>
            </a:solidFill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67040" y="4896000"/>
              <a:ext cx="59720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16560" y="3335400"/>
              <a:ext cx="144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50040" y="3335400"/>
              <a:ext cx="144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6080" y="3335400"/>
              <a:ext cx="144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67040" y="4896000"/>
              <a:ext cx="1440" cy="261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26080" y="4921200"/>
              <a:ext cx="144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96080" y="4921200"/>
              <a:ext cx="144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39080" y="4921200"/>
              <a:ext cx="1800" cy="2365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116680" y="3206520"/>
              <a:ext cx="1440" cy="104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540240" y="4745160"/>
              <a:ext cx="1440" cy="1317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264320" y="304812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Not very flex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92F-7894-4C17-8948-2F86954506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echanism wher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 operation on an aggreg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implemented by having the aggregate perform that operation on its part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member encapsulation!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 the same time, properties of the parts are often propagated back to the aggreg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agation is to aggregation as inheritance is to generalization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jor difference i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heritance is an implicit mechan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pagation has to be programmed when requir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048120" y="5354640"/>
            <a:ext cx="500040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C9B-1F26-435A-8AF8-30D934DDDF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nterface describes a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tion of the visible behaviour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 set of object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similar to a class, except it lacks instance variables and implemented metho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867280" y="3200400"/>
            <a:ext cx="3115080" cy="1701360"/>
            <a:chOff x="5867280" y="3200400"/>
            <a:chExt cx="3115080" cy="1701360"/>
          </a:xfrm>
        </p:grpSpPr>
        <p:sp>
          <p:nvSpPr>
            <p:cNvPr id="466" name=""/>
            <p:cNvSpPr/>
            <p:nvPr/>
          </p:nvSpPr>
          <p:spPr>
            <a:xfrm>
              <a:off x="7999200" y="3741480"/>
              <a:ext cx="1800" cy="62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854840" y="372240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54840" y="372240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6640" y="3741480"/>
              <a:ext cx="1800" cy="628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02280" y="372240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02280" y="372240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19840" y="3200400"/>
              <a:ext cx="1063800" cy="523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89400" y="32652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19840" y="4377960"/>
              <a:ext cx="1063800" cy="523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070480" y="444312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84920" y="4377960"/>
              <a:ext cx="1063440" cy="523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82840" y="4443120"/>
              <a:ext cx="84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67280" y="3200400"/>
              <a:ext cx="1063800" cy="523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1560" y="326520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62080" y="377640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848280" y="4173120"/>
              <a:ext cx="1800" cy="178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48560" y="3982680"/>
              <a:ext cx="199800" cy="1998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78280" y="3776400"/>
              <a:ext cx="60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8664480" y="4173120"/>
              <a:ext cx="1440" cy="178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564400" y="3982680"/>
              <a:ext cx="200160" cy="1998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143000" y="3124080"/>
            <a:ext cx="3816360" cy="1800360"/>
            <a:chOff x="1143000" y="3124080"/>
            <a:chExt cx="3816360" cy="1800360"/>
          </a:xfrm>
        </p:grpSpPr>
        <p:sp>
          <p:nvSpPr>
            <p:cNvPr id="487" name=""/>
            <p:cNvSpPr/>
            <p:nvPr/>
          </p:nvSpPr>
          <p:spPr>
            <a:xfrm>
              <a:off x="2546640" y="3124080"/>
              <a:ext cx="1081080" cy="106344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56000" y="3673440"/>
              <a:ext cx="1062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12520" y="3170160"/>
              <a:ext cx="86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«interface»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52560" y="336852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Cash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01800" y="370980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withdra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01440" y="3925800"/>
              <a:ext cx="53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300" spc="-1" strike="noStrike">
                  <a:solidFill>
                    <a:srgbClr val="000000"/>
                  </a:solidFill>
                  <a:latin typeface="Arial"/>
                </a:rPr>
                <a:t>depos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14720" y="419580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4720" y="4213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14720" y="4267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14720" y="428436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14720" y="433836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14720" y="435744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14720" y="441144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14720" y="4429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70360" y="417672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32000" y="466236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51080" y="466236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14720" y="419580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14720" y="4213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14720" y="4267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14720" y="428436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14720" y="433836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14720" y="435744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14720" y="4411440"/>
              <a:ext cx="18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4429080"/>
              <a:ext cx="1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70360" y="417672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70360" y="4176720"/>
              <a:ext cx="270000" cy="21564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27640" y="3763800"/>
              <a:ext cx="1800" cy="628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83280" y="3744720"/>
              <a:ext cx="26964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83280" y="3744720"/>
              <a:ext cx="26964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75080" y="3763800"/>
              <a:ext cx="1440" cy="628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30360" y="3744720"/>
              <a:ext cx="27000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0360" y="3744720"/>
              <a:ext cx="27000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91" y="0"/>
                  </a:moveTo>
                  <a:lnTo>
                    <a:pt x="170" y="136"/>
                  </a:lnTo>
                  <a:lnTo>
                    <a:pt x="0" y="13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95920" y="3222360"/>
              <a:ext cx="1063440" cy="524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65120" y="328752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95920" y="4400280"/>
              <a:ext cx="1063440" cy="524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46560" y="446544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A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60640" y="4400280"/>
              <a:ext cx="1063440" cy="524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3000" y="3232080"/>
              <a:ext cx="1063800" cy="523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67640" y="329724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4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02120" y="4697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16520" y="4392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306440" y="5105520"/>
            <a:ext cx="634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  <a:ea typeface="Arial Unicode MS"/>
              </a:rPr>
              <a:t>≪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terface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  <a:ea typeface="Arial Unicode MS"/>
              </a:rPr>
              <a:t>≫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notation is an example of a stereotype in UML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tereotyp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is a way to use some of the standard UML no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represent something spe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51960" y="5335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an-be-seen-as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”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AF4-1B5D-432B-9CFA-E78FF84068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es and descriptive tex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Very often, in a class diagram, you want to say more than the graphical UML notation readily allow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Descriptive text and other di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bed your diagrams in a larger docum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xt can explain aspects of the system using any notation you lik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light and expand on important features, and give ration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Not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small block of text embedde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UML di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acts like a comment in a programming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box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s a ‘bent corner’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OC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BFD-A01F-40BE-9C13-6AF17BA3B5D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 Constraint Language (OCL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CL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</a:t>
            </a:r>
            <a:r>
              <a:rPr b="1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pecification</a:t>
            </a:r>
            <a:r>
              <a:rPr b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languag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ed to formally specify constraints in software modul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OCL expression simply specifies a logical fact (a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trai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about the system that must remain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ers must respect the constraints themselv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nstraint cannot have any side-eff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cannot compute a non-Boolean result nor modify any dat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L statements in class diagrams can specify what the values of attributes and associations must b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266-8976-4465-A0D5-6DCFE713DE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L stat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CL statements can be built from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ences to role names, association names, attributes and the results of oper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logical valu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gical operators such a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,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&gt;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not equa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ing values such as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‘a string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gers and real numb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ithmetic operations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F93-1D0A-461E-8260-BCC3251676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xample: constraints on Polyg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699000" y="2454120"/>
            <a:ext cx="1320840" cy="36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78640" y="2789280"/>
            <a:ext cx="139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2680" y="2502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arSha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530120" y="2847960"/>
            <a:ext cx="126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rt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61480" y="2617920"/>
            <a:ext cx="27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10120" y="2617920"/>
            <a:ext cx="244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106760" y="24066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81160" y="3228840"/>
            <a:ext cx="1951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765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3280" y="382284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81160" y="3228840"/>
            <a:ext cx="180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67360" y="4071960"/>
            <a:ext cx="1440" cy="4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9280" y="2454120"/>
            <a:ext cx="141588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554240" y="2502000"/>
            <a:ext cx="119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03600" y="3487680"/>
            <a:ext cx="650880" cy="59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69840" y="3516480"/>
            <a:ext cx="41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60840" y="3487680"/>
            <a:ext cx="59364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45800" y="3535200"/>
            <a:ext cx="39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18080" y="3487680"/>
            <a:ext cx="95580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83960" y="3535200"/>
            <a:ext cx="75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8480" y="4483080"/>
            <a:ext cx="1703160" cy="344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664880" y="4511520"/>
            <a:ext cx="146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Polyg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531560" y="3038400"/>
            <a:ext cx="121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dPoint: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474680" y="3575160"/>
            <a:ext cx="16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startPoint &lt;&gt; 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8000" y="238752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ordered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94520" y="3862440"/>
            <a:ext cx="102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edge-&gt;size=1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3160" y="483696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81720" y="5010120"/>
            <a:ext cx="162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e1.length = e2.length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48280" y="2808360"/>
            <a:ext cx="287280" cy="230040"/>
          </a:xfrm>
          <a:custGeom>
            <a:avLst/>
            <a:gdLst/>
            <a:ahLst/>
            <a:rect l="l" t="t" r="r" b="b"/>
            <a:pathLst>
              <a:path w="181" h="145">
                <a:moveTo>
                  <a:pt x="97" y="0"/>
                </a:moveTo>
                <a:lnTo>
                  <a:pt x="181" y="145"/>
                </a:lnTo>
                <a:lnTo>
                  <a:pt x="0" y="145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02000" y="3038400"/>
            <a:ext cx="1800" cy="19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49600" y="1679400"/>
            <a:ext cx="139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edge-&gt;forAll(e1,e2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552480" y="1852560"/>
            <a:ext cx="68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e1 &lt;&gt; 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48520" y="2023920"/>
            <a:ext cx="262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CA" sz="1200" spc="-1" strike="noStrike">
                <a:solidFill>
                  <a:srgbClr val="3333cc"/>
                </a:solidFill>
                <a:latin typeface="Arial"/>
              </a:rPr>
              <a:t>implies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e1.startPoint &lt;&gt; e2.start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4560" y="2197080"/>
            <a:ext cx="236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and e1.endPoint &lt;&gt; e2.endpoint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478640" y="3306600"/>
            <a:ext cx="139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531560" y="3306600"/>
            <a:ext cx="82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 : 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3880" y="3803760"/>
            <a:ext cx="63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49320" y="3824280"/>
            <a:ext cx="48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96680" y="4091040"/>
            <a:ext cx="64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length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94160" y="426420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edge.length-&gt;su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932360" y="3228840"/>
            <a:ext cx="1440" cy="24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36200" y="3843360"/>
            <a:ext cx="15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{edge-&gt;first.startPoint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33320" y="4014720"/>
            <a:ext cx="1501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200" spc="-1" strike="noStrike">
                <a:solidFill>
                  <a:srgbClr val="3333cc"/>
                </a:solidFill>
                <a:latin typeface="Arial"/>
              </a:rPr>
              <a:t>edge-&gt;last.endPoin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205000"/>
            <a:ext cx="2392200" cy="84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71800" y="219708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 LinearShape is any shap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68200" y="2387520"/>
            <a:ext cx="243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at can be constructed of li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71080" y="2579760"/>
            <a:ext cx="21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gments (in contrast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69640" y="2770200"/>
            <a:ext cx="223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apes that contain curv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371760" y="2195640"/>
            <a:ext cx="154080" cy="15372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278360" y="5410080"/>
            <a:ext cx="419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.   : separates components of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-&gt;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 : refers to OCL properties of a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73120" y="1219320"/>
            <a:ext cx="314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A collection is most often a 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{ordered} makes it a sequ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04680" y="1143000"/>
            <a:ext cx="17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mplies </a:t>
            </a:r>
            <a:r>
              <a:rPr b="0" lang="en-US" sz="1600" spc="-1" strike="noStrike">
                <a:solidFill>
                  <a:srgbClr val="00cc99"/>
                </a:solidFill>
                <a:latin typeface="Symbol"/>
                <a:ea typeface="Symbol"/>
              </a:rPr>
              <a:t>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 if-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778-53F6-4ADE-967C-4A519433377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7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ailed Example: A Class Diagram for Genea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erson must have two par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rriages not properly accounted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4824360" y="2203560"/>
            <a:ext cx="12384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73720" y="3745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7440" y="310824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44800" y="1063800"/>
            <a:ext cx="1685880" cy="269064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55960" y="1382760"/>
            <a:ext cx="164304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3240" y="109548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56840" y="1486080"/>
            <a:ext cx="47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68000" y="1978200"/>
            <a:ext cx="105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69440" y="2225520"/>
            <a:ext cx="9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70520" y="2471760"/>
            <a:ext cx="117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71600" y="2717640"/>
            <a:ext cx="1085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373640" y="3743280"/>
            <a:ext cx="1440" cy="411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50720" y="2963880"/>
            <a:ext cx="141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52160" y="3232080"/>
            <a:ext cx="133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OfMarrai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4920" y="3478320"/>
            <a:ext cx="122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442120" y="3374640"/>
            <a:ext cx="1440" cy="779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373640" y="4154400"/>
            <a:ext cx="104760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9520" y="3375000"/>
            <a:ext cx="801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46960" y="3416400"/>
            <a:ext cx="7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61360" y="37450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19400" y="3743280"/>
            <a:ext cx="1800" cy="4111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073240" y="3374640"/>
            <a:ext cx="1800" cy="7794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073240" y="4154400"/>
            <a:ext cx="104616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73240" y="3375000"/>
            <a:ext cx="86220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10360" y="339552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96120" y="3745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9040" y="3745080"/>
            <a:ext cx="293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f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0680" y="314964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sb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23600" y="269712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{husband.sex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22880" y="288288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= #male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4360" y="419724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{wife.sex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85440" y="438156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= #female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91400" y="4237200"/>
            <a:ext cx="160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{parent-&gt;forAll(p1,p2: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88880" y="44226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p1 &lt;&gt; p2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92120" y="4606920"/>
            <a:ext cx="201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cc"/>
                </a:solidFill>
                <a:latin typeface="Arial"/>
              </a:rPr>
              <a:t>implies p1.sex &lt;&gt; p2.sex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4760" y="1731960"/>
            <a:ext cx="29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55880" y="990720"/>
            <a:ext cx="457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Problem: Model various human relationship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particularly those bw parents and child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n a genealogical tre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248-2D48-43EA-9E66-95E39AF351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alogy example: Possible solu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2147760" y="1619280"/>
            <a:ext cx="1184400" cy="1630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57480" y="1903320"/>
            <a:ext cx="11653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88680" y="166212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368080" y="19890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291400" y="240048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91400" y="260676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90320" y="281160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90320" y="30178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95560" y="3900600"/>
            <a:ext cx="1374840" cy="10476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104920" y="4218120"/>
            <a:ext cx="1355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82640" y="397836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39560" y="430380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39560" y="451008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40280" y="471636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78200" y="2982960"/>
            <a:ext cx="1800" cy="1388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25480" y="437364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71920" y="41497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02720" y="2778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95880" y="3000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70440" y="32749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32280" y="3274920"/>
            <a:ext cx="856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2982960"/>
            <a:ext cx="13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78320" y="4371840"/>
            <a:ext cx="1199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186000" y="3257640"/>
            <a:ext cx="1800" cy="635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4920" y="36702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06840" y="327492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97240" y="3274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337480" y="219564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521400" y="1638360"/>
            <a:ext cx="1184400" cy="14414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31120" y="1938240"/>
            <a:ext cx="1166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22000" y="1681200"/>
            <a:ext cx="60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65760" y="20080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65040" y="22147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5040" y="2419200"/>
            <a:ext cx="77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3960" y="2625840"/>
            <a:ext cx="93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63960" y="283068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480000" y="4635360"/>
            <a:ext cx="1373400" cy="10479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88280" y="4952880"/>
            <a:ext cx="13554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933240" y="469584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622560" y="5022720"/>
            <a:ext cx="1130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lac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22560" y="5229360"/>
            <a:ext cx="106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Marri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623280" y="543384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teOf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51840" y="2793960"/>
            <a:ext cx="1800" cy="23335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899120" y="5127480"/>
            <a:ext cx="46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945560" y="4903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776360" y="258912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69160" y="279576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6560" y="4406760"/>
            <a:ext cx="29196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303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02600" y="4011480"/>
            <a:ext cx="29196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524360" y="401328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01000" y="40132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062840" y="4011480"/>
            <a:ext cx="8568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4248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958720" y="4030560"/>
            <a:ext cx="28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31000" y="4011480"/>
            <a:ext cx="290520" cy="2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796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713720" y="2793960"/>
            <a:ext cx="13381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868880" y="5127480"/>
            <a:ext cx="11826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0248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62240" y="441468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74400" y="40132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femalePartn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7473960" y="3995640"/>
            <a:ext cx="1440" cy="6336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13720" y="4013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598800" y="3446640"/>
            <a:ext cx="10638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8024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27920" y="3070080"/>
            <a:ext cx="257040" cy="206640"/>
          </a:xfrm>
          <a:custGeom>
            <a:avLst/>
            <a:gdLst/>
            <a:ahLst/>
            <a:rect l="l" t="t" r="r" b="b"/>
            <a:pathLst>
              <a:path w="162" h="130">
                <a:moveTo>
                  <a:pt x="87" y="0"/>
                </a:moveTo>
                <a:lnTo>
                  <a:pt x="162" y="130"/>
                </a:lnTo>
                <a:lnTo>
                  <a:pt x="0" y="130"/>
                </a:lnTo>
                <a:lnTo>
                  <a:pt x="87" y="0"/>
                </a:lnTo>
                <a:close/>
              </a:path>
            </a:pathLst>
          </a:custGeom>
          <a:solidFill>
            <a:srgbClr val="ffffff"/>
          </a:soli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599160" y="3446640"/>
            <a:ext cx="1800" cy="22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165800" y="3284640"/>
            <a:ext cx="1800" cy="153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72040" y="3676680"/>
            <a:ext cx="118584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04320" y="3720960"/>
            <a:ext cx="64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24840" y="3676680"/>
            <a:ext cx="927000" cy="31104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571520" y="372096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002240" y="3327480"/>
            <a:ext cx="141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3333cc"/>
                </a:solidFill>
                <a:latin typeface="Arial"/>
              </a:rPr>
              <a:t>{partner-&gt;forAll(p1,p2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03680" y="3481560"/>
            <a:ext cx="63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3333cc"/>
                </a:solidFill>
                <a:latin typeface="Arial"/>
              </a:rPr>
              <a:t>p1 &lt;&gt; p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00800" y="3635280"/>
            <a:ext cx="171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CA" sz="1100" spc="-1" strike="noStrike">
                <a:solidFill>
                  <a:srgbClr val="3333cc"/>
                </a:solidFill>
                <a:latin typeface="Arial"/>
              </a:rPr>
              <a:t>implies p1.sex &lt;&gt; p2.sex)}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112-4396-4105-82B0-8024617531F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8 The Process of Developing  Class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 create UML models at different stages and with different purposes and levels of detai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ploratory domain mod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ed in domain analysis to learn about the doma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 domain mod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s aspects of the domain represented by the syst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 mod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ludes also classes used to build the user interface and system archite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FC2-2C42-4B9C-BEED-1958A96C86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L 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 diagra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 classes and their relationship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rac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llabo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 the behaviour of systems in terms of how objects interact with each ot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a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vity diagra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 how systems behave intern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on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loyment dia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w how the various components of systems are arranged logically and physic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9FC-4C65-4BAC-A4F0-1D4F46810A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 Diagrams Developed At Different Phases of SE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066680" y="1397160"/>
          <a:ext cx="7467840" cy="4089240"/>
        </p:xfrm>
        <a:graphic>
          <a:graphicData uri="http://schemas.openxmlformats.org/drawingml/2006/table">
            <a:tbl>
              <a:tblPr/>
              <a:tblGrid>
                <a:gridCol w="1623960"/>
                <a:gridCol w="1622520"/>
                <a:gridCol w="1623960"/>
                <a:gridCol w="259740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s elements that represent things in the 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els only things that will actually be implemen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ains elements that do not represent things in the domain, but are needed to build a complete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loratory Domain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stem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omain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ystem 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1D1-A806-4C29-B9A8-50D854D1FB8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 domain model vs System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ystem domain mod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mits many classes that are needed to build a complete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contain less than half the classes of the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hould be developed to be used  independently of particular sets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class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chitectural clas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let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ystem mod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clud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ystem domain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chitectural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tility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6577560" y="5486400"/>
            <a:ext cx="9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Fig.5-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64A-6E3F-4931-B2F3-82FF5F79C7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uggested sequence of activities for systematic mode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 a initial set of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ndidate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ribut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iza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 the main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ponsibiliti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each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ide on specific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er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ver the entire proc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til the model is satisfac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d or delete classes, associations, attributes, generalizations, responsibilities or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 design patterns (Chapter 6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’t be too disorganized. Don’t be too rigid either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779-EFD2-4E79-9E37-5BB2F21FD3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iculties and R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ling is a particularly difficult skill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 that members of the team have adequate training in modelling. Review all models throughl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BDE3-4402-40FB-B190-F6A09B64DB4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d p.182-197 yourself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is not to be graded, but you will need this information while you are doing your projec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A6E-0A48-406F-A456-6C0ABD9AF7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ing class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developing a domain model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co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you work on the user interface or the system architecture, you tend t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eded to solve a particular design probl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nting may also occur when creating a domain m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should always be a concer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stem exten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ilar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731-A1DE-49DF-A5CC-AFC2374CD8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imple technique for discovering domain classes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 at a source material such as a description of requir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t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u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un phra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iminate nouns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redund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 in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vague or highly gene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t needed in the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y attention to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es in a domain model that represen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s of user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r other acto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7D2-5124-45E4-90B0-3196A2862CA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ing associations and attrib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art with classes you think are most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import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ide on the clear and obvious data it must contain and its relationships to other classe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 outwards towards the classes that are less importa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adding many associations and attributes to a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ystem is simpler if it manipulates less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5CA-02C4-438D-BECA-7DCAA370823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ps about identifying and specifying valid associ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ssociation should exist if a cla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s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connected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related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art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 as pa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member o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 as me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ther class in your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y the multiplicity at both 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bel it clea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49C-071B-4E69-A003-20498042840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ons versus associ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ommon mistake is to represen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on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s if they were associ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936800" y="3105000"/>
            <a:ext cx="144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9964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58880" y="2708280"/>
            <a:ext cx="1366920" cy="388800"/>
            <a:chOff x="1658880" y="2708280"/>
            <a:chExt cx="1366920" cy="388800"/>
          </a:xfrm>
        </p:grpSpPr>
        <p:sp>
          <p:nvSpPr>
            <p:cNvPr id="751" name=""/>
            <p:cNvSpPr/>
            <p:nvPr/>
          </p:nvSpPr>
          <p:spPr>
            <a:xfrm>
              <a:off x="1658880" y="2708280"/>
              <a:ext cx="136692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03960" y="278460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1478520" y="3494160"/>
            <a:ext cx="429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borro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578480" y="3367080"/>
            <a:ext cx="1198440" cy="979560"/>
            <a:chOff x="4578480" y="3367080"/>
            <a:chExt cx="1198440" cy="979560"/>
          </a:xfrm>
        </p:grpSpPr>
        <p:sp>
          <p:nvSpPr>
            <p:cNvPr id="755" name=""/>
            <p:cNvSpPr/>
            <p:nvPr/>
          </p:nvSpPr>
          <p:spPr>
            <a:xfrm>
              <a:off x="4578480" y="3367080"/>
              <a:ext cx="1198440" cy="9795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86400" y="3679920"/>
              <a:ext cx="1164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29040" y="3425760"/>
              <a:ext cx="39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o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17080" y="3746520"/>
              <a:ext cx="96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borrow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17800" y="3914640"/>
              <a:ext cx="57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due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17440" y="4083120"/>
              <a:ext cx="89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Arial"/>
                </a:rPr>
                <a:t>returned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1556640" y="4556160"/>
            <a:ext cx="285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ad, due to the use of associ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559520" y="4757760"/>
            <a:ext cx="122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at are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90320" y="32558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52880" y="3257640"/>
            <a:ext cx="83880" cy="21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83800" y="39654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2440" y="3494160"/>
            <a:ext cx="36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658880" y="4143240"/>
            <a:ext cx="1451160" cy="389160"/>
            <a:chOff x="1658880" y="4143240"/>
            <a:chExt cx="1451160" cy="389160"/>
          </a:xfrm>
        </p:grpSpPr>
        <p:sp>
          <p:nvSpPr>
            <p:cNvPr id="775" name=""/>
            <p:cNvSpPr/>
            <p:nvPr/>
          </p:nvSpPr>
          <p:spPr>
            <a:xfrm>
              <a:off x="1658880" y="4143240"/>
              <a:ext cx="145116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22680" y="420228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2612880" y="3105000"/>
            <a:ext cx="1800" cy="10130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25000" y="310500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091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232680" y="3298680"/>
            <a:ext cx="1384200" cy="389160"/>
            <a:chOff x="6232680" y="3298680"/>
            <a:chExt cx="1384200" cy="389160"/>
          </a:xfrm>
        </p:grpSpPr>
        <p:sp>
          <p:nvSpPr>
            <p:cNvPr id="781" name=""/>
            <p:cNvSpPr/>
            <p:nvPr/>
          </p:nvSpPr>
          <p:spPr>
            <a:xfrm>
              <a:off x="6232680" y="3298680"/>
              <a:ext cx="1384200" cy="3891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77400" y="3359160"/>
              <a:ext cx="1079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LibraryPa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6232680" y="3973680"/>
            <a:ext cx="1450800" cy="388800"/>
            <a:chOff x="6232680" y="3973680"/>
            <a:chExt cx="1450800" cy="388800"/>
          </a:xfrm>
        </p:grpSpPr>
        <p:sp>
          <p:nvSpPr>
            <p:cNvPr id="784" name=""/>
            <p:cNvSpPr/>
            <p:nvPr/>
          </p:nvSpPr>
          <p:spPr>
            <a:xfrm>
              <a:off x="6232680" y="3973680"/>
              <a:ext cx="1450800" cy="3888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11960" y="4033800"/>
              <a:ext cx="1134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300" spc="-1" strike="noStrike">
                  <a:solidFill>
                    <a:srgbClr val="000000"/>
                  </a:solidFill>
                  <a:latin typeface="Arial"/>
                </a:rPr>
                <a:t>CollectionIte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5769000" y="344340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69000" y="4118040"/>
            <a:ext cx="43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839560" y="345924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839560" y="3948120"/>
            <a:ext cx="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600440" y="4352760"/>
            <a:ext cx="96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Better: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80440" y="43704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65800" y="4352760"/>
            <a:ext cx="162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create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978680" y="4370400"/>
            <a:ext cx="488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355960" y="4352760"/>
            <a:ext cx="44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97560" y="4556160"/>
            <a:ext cx="29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21640" y="457344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22480" y="4556160"/>
            <a:ext cx="152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operation set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985080" y="4573440"/>
            <a:ext cx="1463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ourier New"/>
              </a:rPr>
              <a:t>returned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544240" y="45561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602600" y="4757760"/>
            <a:ext cx="72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ttrib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8A7-D72A-4E7F-A26D-C42DA9FC06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ML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 is more than just a notation for drawing diagram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has detailed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mantic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describing the meanings of various notation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has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tens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chanism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for representing non UML concept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has an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sociated textual languag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o state various facts about the elements of the diagrams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 Constraint Languag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OC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objective of UML is to assist in software developm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34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not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because it does not describe in a step-by-step way how to do thing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5B3-C452-470F-B580-45005671CC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ing attrib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 for information that must be maintained about each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veral nouns rejected as classes, may now become attribu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attribute should generally contain a simple valu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string,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FA7-9681-492E-8A95-51608094A7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ps about identifying and specifying valid attribut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is not good to have many duplicate attribute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subset of a class’s attributes form a coherent group, then create a distinct class containing these attribut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447920" y="2776680"/>
            <a:ext cx="7848360" cy="351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121-BA82-4F86-9C26-6E11DB4C37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xample (attributes and associati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6137280" y="240048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610320" y="2400480"/>
            <a:ext cx="1440" cy="3538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6137280" y="2754360"/>
            <a:ext cx="47304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37000" y="211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2680" y="275256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27800" y="1798560"/>
            <a:ext cx="1652760" cy="11556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340760" y="2235240"/>
            <a:ext cx="1627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412400" y="190332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84120" y="235260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28680" y="2635200"/>
            <a:ext cx="122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950080" y="3036960"/>
            <a:ext cx="1440" cy="9428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37320" y="306072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89160" y="30607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373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916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73240" y="1916280"/>
            <a:ext cx="1887480" cy="1109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66360" y="1974960"/>
            <a:ext cx="1220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58840" y="3036960"/>
            <a:ext cx="1800" cy="825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46440" y="355608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98280" y="355608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953800" y="4357800"/>
            <a:ext cx="280692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24080" y="4051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388280" y="2965320"/>
            <a:ext cx="1440" cy="1014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75520" y="3673440"/>
            <a:ext cx="11736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27720" y="367344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72240" y="3990960"/>
            <a:ext cx="169848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84840" y="4429080"/>
            <a:ext cx="16732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854680" y="4097160"/>
            <a:ext cx="158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22800" y="45464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250880" y="21636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202280" y="24462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employee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049640" y="1727280"/>
            <a:ext cx="2076480" cy="129852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062240" y="2139840"/>
            <a:ext cx="2052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65160" y="1762200"/>
            <a:ext cx="1139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03000" y="2706840"/>
            <a:ext cx="112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79600" y="3863880"/>
            <a:ext cx="1463760" cy="874800"/>
          </a:xfrm>
          <a:prstGeom prst="rect">
            <a:avLst/>
          </a:prstGeom>
          <a:noFill/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92200" y="4300560"/>
            <a:ext cx="143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51040" y="3970440"/>
            <a:ext cx="966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80840" y="441792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22000" y="24004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420560" y="268272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185840" y="2352600"/>
            <a:ext cx="18399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119-9FE9-4C0D-81FA-A398FD5315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ing generalizations and interfa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are two ways to identify generalization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ttom-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together similar classes creating a new supercla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p-d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 algn="just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 for more general classes first, specialize them if need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a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instead of a  superclass i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lasses are very dissimilar except for having a few operations in comm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or more of the  classes already have their own super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fferent implementations of the same class might be avail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CA2-D714-43F9-B4C0-F9CB92C041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xample (generaliz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5992920" y="324972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38960" y="3249720"/>
            <a:ext cx="1440" cy="333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992560" y="3583080"/>
            <a:ext cx="446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52760" y="296064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68960" y="3583080"/>
            <a:ext cx="93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116840" y="2681280"/>
            <a:ext cx="1558800" cy="109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128000" y="3094200"/>
            <a:ext cx="15364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93160" y="2782800"/>
            <a:ext cx="147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6020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07280" y="347184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815080" y="3849840"/>
            <a:ext cx="1440" cy="890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14920" y="3871800"/>
            <a:ext cx="11124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663880" y="38736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614920" y="4451400"/>
            <a:ext cx="1112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6638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306440" y="3193920"/>
            <a:ext cx="1781280" cy="644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384920" y="329400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41640" y="3849840"/>
            <a:ext cx="1440" cy="779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41480" y="4340160"/>
            <a:ext cx="11124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990440" y="434016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987640" y="5097600"/>
            <a:ext cx="2649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098880" y="4807080"/>
            <a:ext cx="1108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47840" y="480708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72280" y="3782880"/>
            <a:ext cx="1800" cy="957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72480" y="4451400"/>
            <a:ext cx="110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021080" y="4451400"/>
            <a:ext cx="7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648400" y="4751280"/>
            <a:ext cx="1601640" cy="824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659560" y="5164200"/>
            <a:ext cx="1579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24720" y="485316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84920" y="527544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22600" y="1413000"/>
            <a:ext cx="1314720" cy="1090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33760" y="1824120"/>
            <a:ext cx="1292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759920" y="151272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659840" y="19368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13040" y="220356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521160" y="1913040"/>
            <a:ext cx="890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686400" y="1623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608200" y="2825640"/>
            <a:ext cx="25164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24600" y="2825640"/>
            <a:ext cx="1440" cy="1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608200" y="2247840"/>
            <a:ext cx="1800" cy="577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30360" y="2247840"/>
            <a:ext cx="335160" cy="266760"/>
          </a:xfrm>
          <a:custGeom>
            <a:avLst/>
            <a:gdLst/>
            <a:ahLst/>
            <a:rect l="l" t="t" r="r" b="b"/>
            <a:pathLst>
              <a:path w="211" h="168">
                <a:moveTo>
                  <a:pt x="112" y="0"/>
                </a:moveTo>
                <a:lnTo>
                  <a:pt x="211" y="168"/>
                </a:lnTo>
                <a:lnTo>
                  <a:pt x="0" y="168"/>
                </a:lnTo>
                <a:lnTo>
                  <a:pt x="112" y="0"/>
                </a:lnTo>
                <a:close/>
              </a:path>
            </a:pathLst>
          </a:custGeom>
          <a:solidFill>
            <a:srgbClr val="ffffff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563560" y="2825640"/>
            <a:ext cx="442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563920" y="2825640"/>
            <a:ext cx="1440" cy="357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289400" y="3016080"/>
            <a:ext cx="1692360" cy="82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300560" y="3427560"/>
            <a:ext cx="16700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7160" y="311616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476960" y="353844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595520" y="4640400"/>
            <a:ext cx="1380960" cy="8236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6680" y="5051520"/>
            <a:ext cx="135864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895040" y="4740120"/>
            <a:ext cx="91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786320" y="516420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30480" y="1590840"/>
            <a:ext cx="1379520" cy="6458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08240" y="1690560"/>
            <a:ext cx="12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376-6A9A-4841-8A8C-2C4610EAC96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cating responsibilities to c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sibilit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something that the system is required to do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-179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functional requirement must be attributed to one of the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responsibilities of a given class should b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early rel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class has too many responsibilities, conside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lit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 into distinct class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class has no responsibilities attached to it, then it is probabl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l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responsibility cannot be attributed to any of the existing classes, then 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w cla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ould be crea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54960" indent="-179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determine responsibilit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 use cas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40520" indent="-210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ok for verbs and nouns describing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he system descrip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1D14-B9C4-43AE-B894-DA372CAEEF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egories of responsibil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ting and getting the values of attribu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ing and initializing new insta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ading to and saving from persistent stor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troying insta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ding and deleting links of associ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pying, converting, transforming, transmitting or output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ing numerical resul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vigating and search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 specialized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14A-3596-4764-829D-452B9B2BF5C1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ample (responsibilit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590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 new regular f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ing for a f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ying attributes of a f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a specific f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oking a passe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celing a boo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6810480" y="3216240"/>
            <a:ext cx="379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189920" y="3216240"/>
            <a:ext cx="144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6810480" y="3502080"/>
            <a:ext cx="379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45480" y="29685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46920" y="3502080"/>
            <a:ext cx="82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upervi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765920" y="2732040"/>
            <a:ext cx="132408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5640" y="3083040"/>
            <a:ext cx="1305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831080" y="2816280"/>
            <a:ext cx="122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Regular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965360" y="317808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23240" y="340668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ligh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59640" y="3730680"/>
            <a:ext cx="1440" cy="76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489720" y="3749760"/>
            <a:ext cx="936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529680" y="374796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89720" y="424332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52968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828880" y="3168720"/>
            <a:ext cx="1513080" cy="552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94760" y="325440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38440" y="3730680"/>
            <a:ext cx="1800" cy="66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68520" y="4148280"/>
            <a:ext cx="9396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08480" y="414828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4257360" y="4794120"/>
            <a:ext cx="225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391280" y="45482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813800" y="3673440"/>
            <a:ext cx="1440" cy="8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42080" y="424332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82040" y="424332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18160" y="4491000"/>
            <a:ext cx="1360440" cy="70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526080" y="4842000"/>
            <a:ext cx="1343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580440" y="457524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676920" y="49370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153280" y="2170080"/>
            <a:ext cx="1800" cy="55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83360" y="2475000"/>
            <a:ext cx="954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023320" y="247500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6602400" y="1905120"/>
            <a:ext cx="8143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697800" y="1657440"/>
            <a:ext cx="9360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737760" y="1657440"/>
            <a:ext cx="7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77040" y="1647720"/>
            <a:ext cx="1116000" cy="932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86400" y="2000160"/>
            <a:ext cx="1096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68640" y="1733400"/>
            <a:ext cx="64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70000" y="2093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35440" y="23223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d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711320" y="2075040"/>
            <a:ext cx="75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44520" y="182880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0.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935520" y="2855880"/>
            <a:ext cx="21366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72120" y="2855880"/>
            <a:ext cx="1800" cy="15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935520" y="2360520"/>
            <a:ext cx="1440" cy="49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784680" y="2360520"/>
            <a:ext cx="282600" cy="228600"/>
          </a:xfrm>
          <a:custGeom>
            <a:avLst/>
            <a:gdLst/>
            <a:ahLst/>
            <a:rect l="l" t="t" r="r" b="b"/>
            <a:pathLst>
              <a:path w="178" h="144">
                <a:moveTo>
                  <a:pt x="95" y="0"/>
                </a:moveTo>
                <a:lnTo>
                  <a:pt x="178" y="144"/>
                </a:lnTo>
                <a:lnTo>
                  <a:pt x="0" y="144"/>
                </a:lnTo>
                <a:lnTo>
                  <a:pt x="9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3897360" y="285588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97360" y="2855880"/>
            <a:ext cx="144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64000" y="3016080"/>
            <a:ext cx="1436760" cy="704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73720" y="3368520"/>
            <a:ext cx="1417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28440" y="310212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21320" y="346392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75120" y="4405320"/>
            <a:ext cx="1172880" cy="70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84480" y="4757760"/>
            <a:ext cx="1154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337200" y="449100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232080" y="4851360"/>
            <a:ext cx="9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eat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29080" y="1800360"/>
            <a:ext cx="1173240" cy="550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95320" y="1884240"/>
            <a:ext cx="105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erson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426440" y="1609560"/>
            <a:ext cx="1114200" cy="55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51880" y="1695600"/>
            <a:ext cx="595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l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443-2C94-49ED-86F7-D3DC5163B74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otyping a class diagram on pa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identify classes, you write their names on small c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you identify attributes and responsibilities, you list them on the car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you cannot fit all the responsibilities on one car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suggests you should split the class into two related classes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ve the cards around on a whiteboard to arrange them into a class diagra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raw lines among the cards to represent associations and generalization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AE0-35BD-4B80-901B-6A74BD94ED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ntifying oper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tions are needed to realize the responsibilities of each clas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re may be several operations per responsi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in operations that implement a responsibility are normally decla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 methods that collaborate to perform the responsibility must be as private as possibl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864-D774-4C3C-9098-E5A56AA2B9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constitutes a good model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model shoul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a standard notation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for common interpretation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 understandable by clients and users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imple enough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d software engineers to have insights about the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vide abstraction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n show various levels of detail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dels are used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describe and to validate a sw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help create desig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permit analysis and review of those design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the core documentation describing the syste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3BD-E2BF-4EDB-B0E7-0521B30D2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example (class collabora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6330960" y="3063960"/>
            <a:ext cx="2739960" cy="92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340320" y="3451320"/>
            <a:ext cx="2721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376040" y="3147840"/>
            <a:ext cx="76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Airpl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497640" y="3508200"/>
            <a:ext cx="234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SpecificFlight [a2, d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496920" y="3735360"/>
            <a:ext cx="224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deleteLinkToSpecificFlight [d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514680" y="3195720"/>
            <a:ext cx="2059200" cy="1625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22600" y="3583080"/>
            <a:ext cx="2022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80080" y="3281400"/>
            <a:ext cx="1252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SpecificFl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78840" y="3639960"/>
            <a:ext cx="1578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specifyAirplane [a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680280" y="3867120"/>
            <a:ext cx="159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reateFlightLog [b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051200" y="4888080"/>
            <a:ext cx="1450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makeBooking [c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679560" y="4075200"/>
            <a:ext cx="160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changeAirplane [d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680280" y="4302000"/>
            <a:ext cx="1715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findCrewMember [e1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438360" y="1797120"/>
            <a:ext cx="14367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448080" y="2184480"/>
            <a:ext cx="14176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04600" y="1882800"/>
            <a:ext cx="1314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Employee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602160" y="2241720"/>
            <a:ext cx="1130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+ getName [e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292800" y="4311720"/>
            <a:ext cx="130356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02520" y="4699080"/>
            <a:ext cx="1284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527880" y="4395960"/>
            <a:ext cx="86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FlightLo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55880" y="4754520"/>
            <a:ext cx="997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FlightLog [b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359000" y="3119400"/>
            <a:ext cx="1228680" cy="7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368360" y="3506760"/>
            <a:ext cx="1209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59240" y="3205080"/>
            <a:ext cx="76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Book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595520" y="356400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Booking [c2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000080" y="4443480"/>
            <a:ext cx="2022480" cy="96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009800" y="4830840"/>
            <a:ext cx="2003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310400" y="4527720"/>
            <a:ext cx="137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PassengerR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02760" y="51148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4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1954080" y="3905280"/>
            <a:ext cx="1800" cy="52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03240" y="3941640"/>
            <a:ext cx="95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846080" y="394164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7040" y="3470400"/>
            <a:ext cx="908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735280" y="348948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5582880" y="4660920"/>
            <a:ext cx="700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943960" y="44197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5583240" y="3544920"/>
            <a:ext cx="719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645160" y="33195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562640" y="2504880"/>
            <a:ext cx="1440" cy="68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392720" y="2523960"/>
            <a:ext cx="95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492440" y="252576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43556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392720" y="2940120"/>
            <a:ext cx="95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92440" y="2940120"/>
            <a:ext cx="6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39880" y="25066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rew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12360" y="32814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30040" y="4510080"/>
            <a:ext cx="1674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addLinkToBooking [c3]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7E6-39C5-4E00-BCB8-69E858E35C9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llaboration ‘a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ing a bi-directional link between two existing obj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adding a link between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calls operation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non-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back to the instance of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1" name="" descr=""/>
          <p:cNvPicPr/>
          <p:nvPr/>
        </p:nvPicPr>
        <p:blipFill>
          <a:blip r:embed="rId1"/>
          <a:stretch/>
        </p:blipFill>
        <p:spPr>
          <a:xfrm>
            <a:off x="4495680" y="411120"/>
            <a:ext cx="4572000" cy="6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8D9-6409-42BE-A27E-E90D9F847E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llaboration ‘b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ing an object and linking it to an existing objec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creating a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ightL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and linking it to a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8584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the constructor of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ightLo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operation 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8584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makes a one-directional link to the new instance of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ightLo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(non-public) Cla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ightL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s constructor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8584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back to the instance of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809880" cy="70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3B7-1066-4199-9E75-AFE0E2ED3D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llaboration ‘c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218960" y="9903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ing an association class, given two existing objec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creating an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which will link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engerRo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the constructor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operation 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non-public) Clas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s constructor, among its other action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bac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engerR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operations 3 and 4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non-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ssengerRol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32680" indent="-331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ok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4419720" y="254160"/>
            <a:ext cx="4686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EA4-1A2F-430D-AD77-0A4C498581C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llaboration ‘d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nging the destination of a link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changing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o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from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57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(public)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etes the link to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operation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n calls operation 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(non-public)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letes its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57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 (non-public)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irplane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4560" indent="-214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kes a one-directional link to 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432320" cy="75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E81-04B9-45B0-8A3A-8F8D2A66FE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 collaboration ‘e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arching for an associated inst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searching for a crew member associated with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has a certain nam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public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stance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s a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ver all 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wMe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inks of th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each of them call operation 2, until it finds a mat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may be public) The instance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ployeeRo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turns its nam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3" name="" descr=""/>
          <p:cNvPicPr/>
          <p:nvPr/>
        </p:nvPicPr>
        <p:blipFill>
          <a:blip r:embed="rId1"/>
          <a:stretch/>
        </p:blipFill>
        <p:spPr>
          <a:xfrm>
            <a:off x="4876920" y="484200"/>
            <a:ext cx="403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59D-4089-4DDF-BD0C-A26D0E28EE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9 Implementing Class Diagrams in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ributes are implemented as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izations are implemented using extend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faces are implemented using impl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ociations are normally implemented using instance varia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ide each two-way association into two one-way associ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11760" indent="-22608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each associated class has an instance variab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a one-way association where the multiplicity at the other end is ‘one’ or ‘optional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11760" indent="-22608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clare a variable of that clas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a referenc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a one-way association where the multiplicity at the other end is ‘many’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11760" indent="-226080" algn="just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 a collection class implementing Lis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such a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41C-56E3-42C6-94F8-01810765A6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1371600" y="1447920"/>
            <a:ext cx="73915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pecific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Calendar 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RegularFlight regular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TerminalOfAirport destin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irplane airpla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FlightLog flightLo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crew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of Employee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book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B57-0660-40AB-B12B-47888120CE36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Constructor that should only be called fro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/ addSpecificFligh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cificFlight(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endar aDate,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ularFlight aRegularFlight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e = aDate;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ularFlight = aRegularFlight;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12B-A9EC-4F2F-AE05-C0E54497F5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ularFl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1447920" y="1066680"/>
            <a:ext cx="69339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gular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specificFligh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Method that has pr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addSpecificFlight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endar a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 newSpecificFligh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SpecificFlight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SpecificFlight(aDate, thi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pecificFlights.add(newSpecificFligh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425-059A-4ED2-95F5-E4273C739B7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2 Essentials of UML Class Dia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main symbols shown on class diagrams are: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9952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 th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ypes of dat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mselv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9952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 linkages between instances of cla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9952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 dat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ound in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9952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present the functions performed by the classes and their instan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78000" indent="-19152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iz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19952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classes into inheritance hierarch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771-8E18-440F-83DE-55E4C7442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lass is simply represented as a box with the name of the class ins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diagram may also show the attributes and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mplet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gna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an operation i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ionName(parameterName: parameterType …): returnTyp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7238880" cy="166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99520" y="37987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ming convention: singular &amp; starts w/capital l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5715000"/>
            <a:ext cx="99072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43480" y="5780160"/>
            <a:ext cx="12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More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D1A-69F7-47BC-BEB1-69D02E6889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3 Associations and Multiplic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ssoci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used to show how two classes are related to each other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mbols indicating </a:t>
            </a:r>
            <a:r>
              <a:rPr b="0" i="1" lang="en-GB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ultiplicity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re shown at each end of asso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ultiplic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dicates how many instances of the class at this end of the assoc’n can be linked to an instance of the class at the other end of the associat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0502PossibleMultip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191120" cy="325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0960" y="3546360"/>
            <a:ext cx="25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   : (defaul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   : many – 0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..1: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.8: interval (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.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 no upper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t least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, 3..8: sev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53080" y="5892840"/>
            <a:ext cx="35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Comic Sans MS"/>
              </a:rPr>
              <a:t>Ex: person as having exactly 2 pa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: Modelling with class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E8B-1E8F-4532-BD9B-840D55D798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0-31T11:46:24Z</dcterms:modified>
  <cp:revision>114</cp:revision>
  <dc:subject/>
  <dc:title>SEG 2100 Software Design II</dc:title>
</cp:coreProperties>
</file>