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041C-7B83-41D0-B460-23219BA9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E985-79F1-42AF-AA9F-9D40627B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5B52-8A41-46A8-9F32-B0C08554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13A7-AEA8-4088-8072-9A6766BA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C09F-E489-42DC-8DE0-0DDDFCFF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C5B4-0EFE-46A2-96D2-AC338292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DCFA-083D-452B-A9F4-64724B19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5C28-78B2-41A9-AA03-C26D0707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E0A3-42D8-4144-8182-0AFB2F0D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BC3-8CB0-4507-B418-839D840B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6B5C-5DD2-426A-B395-AD0F738C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ED4E-AA7B-4D18-A1AA-FACF7983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losengMaster" descr=""/>
          <p:cNvPicPr/>
          <p:nvPr/>
        </p:nvPicPr>
        <p:blipFill>
          <a:blip r:embed="rId2"/>
          <a:stretch/>
        </p:blipFill>
        <p:spPr>
          <a:xfrm>
            <a:off x="357120" y="1162080"/>
            <a:ext cx="8429760" cy="561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44C0-7B70-4990-925C-3C74BE423ED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apter 6: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ing Design Patter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straction-Occur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ipatterns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 examples of real mistakes made by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ginner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066680" y="2633760"/>
            <a:ext cx="7620120" cy="30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F643-797E-4979-B02A-9ED859FB1D4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straction-Occurr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lated Patter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quare varian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1174680" y="2774880"/>
            <a:ext cx="1878120" cy="8128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85840" y="3170160"/>
            <a:ext cx="18558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33800" y="2871720"/>
            <a:ext cx="1625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ScheduledTra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56120" y="3276720"/>
            <a:ext cx="649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05040" y="2774880"/>
            <a:ext cx="1536840" cy="8128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16200" y="3170160"/>
            <a:ext cx="1514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1880" y="2871720"/>
            <a:ext cx="1358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SpecificTra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86480" y="327672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041280" y="3298680"/>
            <a:ext cx="5540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03440" y="302112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03440" y="302112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81160" y="3597120"/>
            <a:ext cx="214200" cy="319320"/>
          </a:xfrm>
          <a:custGeom>
            <a:avLst/>
            <a:gdLst/>
            <a:ahLst/>
            <a:rect l="l" t="t" r="r" b="b"/>
            <a:pathLst>
              <a:path w="135" h="201">
                <a:moveTo>
                  <a:pt x="135" y="107"/>
                </a:moveTo>
                <a:lnTo>
                  <a:pt x="68" y="201"/>
                </a:lnTo>
                <a:lnTo>
                  <a:pt x="0" y="107"/>
                </a:lnTo>
                <a:lnTo>
                  <a:pt x="68" y="0"/>
                </a:lnTo>
                <a:lnTo>
                  <a:pt x="135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81160" y="3597120"/>
            <a:ext cx="214200" cy="319320"/>
          </a:xfrm>
          <a:custGeom>
            <a:avLst/>
            <a:gdLst/>
            <a:ahLst/>
            <a:rect l="l" t="t" r="r" b="b"/>
            <a:pathLst>
              <a:path w="135" h="201">
                <a:moveTo>
                  <a:pt x="135" y="107"/>
                </a:moveTo>
                <a:lnTo>
                  <a:pt x="68" y="201"/>
                </a:lnTo>
                <a:lnTo>
                  <a:pt x="0" y="107"/>
                </a:lnTo>
                <a:lnTo>
                  <a:pt x="68" y="0"/>
                </a:lnTo>
                <a:lnTo>
                  <a:pt x="135" y="107"/>
                </a:lnTo>
                <a:close/>
              </a:path>
            </a:pathLst>
          </a:custGeom>
          <a:solidFill>
            <a:srgbClr val="ffffff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89160" y="3894120"/>
            <a:ext cx="1440" cy="3207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60280" y="402264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00680" y="3597120"/>
            <a:ext cx="212400" cy="339840"/>
          </a:xfrm>
          <a:custGeom>
            <a:avLst/>
            <a:gdLst/>
            <a:ahLst/>
            <a:rect l="l" t="t" r="r" b="b"/>
            <a:pathLst>
              <a:path w="134" h="214">
                <a:moveTo>
                  <a:pt x="134" y="107"/>
                </a:moveTo>
                <a:lnTo>
                  <a:pt x="67" y="214"/>
                </a:lnTo>
                <a:lnTo>
                  <a:pt x="0" y="107"/>
                </a:lnTo>
                <a:lnTo>
                  <a:pt x="67" y="0"/>
                </a:lnTo>
                <a:lnTo>
                  <a:pt x="134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00680" y="3597120"/>
            <a:ext cx="212400" cy="339840"/>
          </a:xfrm>
          <a:custGeom>
            <a:avLst/>
            <a:gdLst/>
            <a:ahLst/>
            <a:rect l="l" t="t" r="r" b="b"/>
            <a:pathLst>
              <a:path w="134" h="214">
                <a:moveTo>
                  <a:pt x="134" y="107"/>
                </a:moveTo>
                <a:lnTo>
                  <a:pt x="67" y="214"/>
                </a:lnTo>
                <a:lnTo>
                  <a:pt x="0" y="107"/>
                </a:lnTo>
                <a:lnTo>
                  <a:pt x="67" y="0"/>
                </a:lnTo>
                <a:lnTo>
                  <a:pt x="134" y="107"/>
                </a:lnTo>
                <a:close/>
              </a:path>
            </a:pathLst>
          </a:custGeom>
          <a:solidFill>
            <a:srgbClr val="ffffff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06880" y="3894120"/>
            <a:ext cx="1440" cy="3412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79440" y="400068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74680" y="4226040"/>
            <a:ext cx="2027160" cy="108900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85840" y="4621320"/>
            <a:ext cx="198288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33080" y="4324320"/>
            <a:ext cx="1482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ScheduledLe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05040" y="4226040"/>
            <a:ext cx="1536840" cy="106812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16200" y="4621320"/>
            <a:ext cx="1514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01520" y="4324320"/>
            <a:ext cx="1215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SpecificLe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86480" y="4727520"/>
            <a:ext cx="128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actualDepTi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191040" y="4749840"/>
            <a:ext cx="4046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46280" y="447192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86120" y="4983120"/>
            <a:ext cx="119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actualArrTi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55760" y="4727520"/>
            <a:ext cx="1649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scheduledDepTi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55040" y="4983120"/>
            <a:ext cx="1553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scheduledArrTi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5722920"/>
            <a:ext cx="1068480" cy="449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61480" y="5819760"/>
            <a:ext cx="733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08120" y="5303880"/>
            <a:ext cx="1800" cy="425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739880" y="5303880"/>
            <a:ext cx="1440" cy="425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2280" y="5473800"/>
            <a:ext cx="47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34480" y="5473800"/>
            <a:ext cx="9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5200" y="53244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58720" y="53244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86560" y="938160"/>
            <a:ext cx="1505160" cy="585720"/>
          </a:xfrm>
          <a:prstGeom prst="rect">
            <a:avLst/>
          </a:prstGeom>
          <a:solidFill>
            <a:srgbClr val="ffff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«Aggregate</a:t>
            </a:r>
            <a:br>
              <a:rPr sz="1400"/>
            </a:b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Occurrence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9840" y="938160"/>
            <a:ext cx="1465200" cy="585720"/>
          </a:xfrm>
          <a:prstGeom prst="rect">
            <a:avLst/>
          </a:prstGeom>
          <a:solidFill>
            <a:srgbClr val="ffff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«Aggreg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</a:t>
            </a:r>
            <a:br>
              <a:rPr sz="1400"/>
            </a:b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Abstraction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94400" y="1230480"/>
            <a:ext cx="9828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295760" y="9698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95760" y="9698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95760" y="9698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295760" y="9698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95760" y="9698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95760" y="9698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35600" y="2133720"/>
            <a:ext cx="1770120" cy="585720"/>
          </a:xfrm>
          <a:prstGeom prst="rect">
            <a:avLst/>
          </a:prstGeom>
          <a:solidFill>
            <a:srgbClr val="ffff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«PartAbstraction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373880" y="2133720"/>
            <a:ext cx="1693800" cy="585720"/>
          </a:xfrm>
          <a:prstGeom prst="rect">
            <a:avLst/>
          </a:prstGeom>
          <a:solidFill>
            <a:srgbClr val="ffff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«PartOccu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ce</a:t>
            </a: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86400" y="1523880"/>
            <a:ext cx="212760" cy="339840"/>
          </a:xfrm>
          <a:custGeom>
            <a:avLst/>
            <a:gdLst/>
            <a:ahLst/>
            <a:rect l="l" t="t" r="r" b="b"/>
            <a:pathLst>
              <a:path w="134" h="214">
                <a:moveTo>
                  <a:pt x="134" y="107"/>
                </a:moveTo>
                <a:lnTo>
                  <a:pt x="67" y="214"/>
                </a:lnTo>
                <a:lnTo>
                  <a:pt x="0" y="107"/>
                </a:lnTo>
                <a:lnTo>
                  <a:pt x="67" y="0"/>
                </a:lnTo>
                <a:lnTo>
                  <a:pt x="134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60840" y="1549440"/>
            <a:ext cx="212760" cy="339840"/>
          </a:xfrm>
          <a:custGeom>
            <a:avLst/>
            <a:gdLst/>
            <a:ahLst/>
            <a:rect l="l" t="t" r="r" b="b"/>
            <a:pathLst>
              <a:path w="134" h="214">
                <a:moveTo>
                  <a:pt x="134" y="107"/>
                </a:moveTo>
                <a:lnTo>
                  <a:pt x="67" y="214"/>
                </a:lnTo>
                <a:lnTo>
                  <a:pt x="0" y="107"/>
                </a:lnTo>
                <a:lnTo>
                  <a:pt x="67" y="0"/>
                </a:lnTo>
                <a:lnTo>
                  <a:pt x="134" y="107"/>
                </a:lnTo>
                <a:close/>
              </a:path>
            </a:pathLst>
          </a:custGeom>
          <a:solidFill>
            <a:srgbClr val="ffffff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65520" y="192708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001000" y="1501920"/>
            <a:ext cx="212760" cy="339480"/>
          </a:xfrm>
          <a:custGeom>
            <a:avLst/>
            <a:gdLst/>
            <a:ahLst/>
            <a:rect l="l" t="t" r="r" b="b"/>
            <a:pathLst>
              <a:path w="134" h="214">
                <a:moveTo>
                  <a:pt x="134" y="107"/>
                </a:moveTo>
                <a:lnTo>
                  <a:pt x="67" y="214"/>
                </a:lnTo>
                <a:lnTo>
                  <a:pt x="0" y="107"/>
                </a:lnTo>
                <a:lnTo>
                  <a:pt x="67" y="0"/>
                </a:lnTo>
                <a:lnTo>
                  <a:pt x="134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975440" y="1527120"/>
            <a:ext cx="212760" cy="339840"/>
          </a:xfrm>
          <a:custGeom>
            <a:avLst/>
            <a:gdLst/>
            <a:ahLst/>
            <a:rect l="l" t="t" r="r" b="b"/>
            <a:pathLst>
              <a:path w="134" h="214">
                <a:moveTo>
                  <a:pt x="134" y="107"/>
                </a:moveTo>
                <a:lnTo>
                  <a:pt x="67" y="214"/>
                </a:lnTo>
                <a:lnTo>
                  <a:pt x="0" y="107"/>
                </a:lnTo>
                <a:lnTo>
                  <a:pt x="67" y="0"/>
                </a:lnTo>
                <a:lnTo>
                  <a:pt x="134" y="107"/>
                </a:lnTo>
                <a:close/>
              </a:path>
            </a:pathLst>
          </a:custGeom>
          <a:solidFill>
            <a:srgbClr val="ffffff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980120" y="190512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1905120"/>
            <a:ext cx="0" cy="228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1882800"/>
            <a:ext cx="0" cy="228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30920" y="2438280"/>
            <a:ext cx="609840" cy="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62560" y="21337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0E75-3965-417A-9AD4-35CC5D9504D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3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General Hierarchy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9903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jects in a hierarchy can have one or more objects above them (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uperior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 algn="just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one or more objects below them (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ubordinate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me objects cannot have any subordinat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 represen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hierarchy of objects, in which some object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anno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have subordinates?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 want a flexible way of representing the hierarch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 algn="just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at prevents certain objects from having subordinat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 the objects have many common properties and operation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41B1-8809-4873-825D-7721CBF2623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Hierarch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agers and subordinates in an organization char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directories and files in a file system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8381-BDD5-441C-B186-564B65206A0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 Hierarch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1436760"/>
            <a:ext cx="1440" cy="903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69040" y="1436760"/>
            <a:ext cx="13273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25920" y="1436760"/>
            <a:ext cx="104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«subordinate»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56880" y="118584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37240" y="2214720"/>
            <a:ext cx="138888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26120" y="2214720"/>
            <a:ext cx="1800" cy="147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14800" y="1152360"/>
            <a:ext cx="1244880" cy="611280"/>
          </a:xfrm>
          <a:prstGeom prst="rect">
            <a:avLst/>
          </a:prstGeom>
          <a:solidFill>
            <a:srgbClr val="ffff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«Node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99320" y="2371680"/>
            <a:ext cx="1771560" cy="611280"/>
          </a:xfrm>
          <a:prstGeom prst="rect">
            <a:avLst/>
          </a:prstGeom>
          <a:solidFill>
            <a:srgbClr val="ffff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«SuperiorNode»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76520" y="2371680"/>
            <a:ext cx="2171880" cy="611280"/>
          </a:xfrm>
          <a:prstGeom prst="rect">
            <a:avLst/>
          </a:prstGeom>
          <a:solidFill>
            <a:srgbClr val="ffff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«NonSuperiorNode»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78120" y="4041720"/>
            <a:ext cx="14115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89680" y="4041720"/>
            <a:ext cx="1440" cy="8413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62360" y="3747960"/>
            <a:ext cx="10476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67400" y="37908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21280" y="3600360"/>
            <a:ext cx="841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41800" y="3622680"/>
            <a:ext cx="79992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38000" y="3811680"/>
            <a:ext cx="78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supervis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60720" y="4913280"/>
            <a:ext cx="124452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01920" y="5008680"/>
            <a:ext cx="890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151080" y="4735440"/>
            <a:ext cx="223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76640" y="4735440"/>
            <a:ext cx="1440" cy="1684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24240" y="3736800"/>
            <a:ext cx="124452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65360" y="3811680"/>
            <a:ext cx="1023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29000" y="4913280"/>
            <a:ext cx="124452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48160" y="5008680"/>
            <a:ext cx="1131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Technicia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76400" y="4913280"/>
            <a:ext cx="124452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48120" y="5008680"/>
            <a:ext cx="98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Secreta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73400" y="4336920"/>
            <a:ext cx="1440" cy="398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82960" y="4336920"/>
            <a:ext cx="315720" cy="250920"/>
          </a:xfrm>
          <a:custGeom>
            <a:avLst/>
            <a:gdLst/>
            <a:ahLst/>
            <a:rect l="l" t="t" r="r" b="b"/>
            <a:pathLst>
              <a:path w="199" h="158">
                <a:moveTo>
                  <a:pt x="106" y="0"/>
                </a:moveTo>
                <a:lnTo>
                  <a:pt x="199" y="158"/>
                </a:lnTo>
                <a:lnTo>
                  <a:pt x="0" y="158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82960" y="4336920"/>
            <a:ext cx="315720" cy="250920"/>
          </a:xfrm>
          <a:custGeom>
            <a:avLst/>
            <a:gdLst/>
            <a:ahLst/>
            <a:rect l="l" t="t" r="r" b="b"/>
            <a:pathLst>
              <a:path w="199" h="158">
                <a:moveTo>
                  <a:pt x="106" y="0"/>
                </a:moveTo>
                <a:lnTo>
                  <a:pt x="199" y="158"/>
                </a:lnTo>
                <a:lnTo>
                  <a:pt x="0" y="158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73400" y="4735440"/>
            <a:ext cx="11793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54560" y="4735440"/>
            <a:ext cx="1440" cy="147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1866600" y="4735440"/>
            <a:ext cx="13064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66960" y="4735440"/>
            <a:ext cx="1440" cy="147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7240" y="2025720"/>
            <a:ext cx="1440" cy="1681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68760" y="1773360"/>
            <a:ext cx="316080" cy="252360"/>
          </a:xfrm>
          <a:custGeom>
            <a:avLst/>
            <a:gdLst/>
            <a:ahLst/>
            <a:rect l="l" t="t" r="r" b="b"/>
            <a:pathLst>
              <a:path w="199" h="159">
                <a:moveTo>
                  <a:pt x="106" y="0"/>
                </a:moveTo>
                <a:lnTo>
                  <a:pt x="199" y="159"/>
                </a:lnTo>
                <a:lnTo>
                  <a:pt x="0" y="159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68760" y="1773360"/>
            <a:ext cx="316080" cy="252360"/>
          </a:xfrm>
          <a:custGeom>
            <a:avLst/>
            <a:gdLst/>
            <a:ahLst/>
            <a:rect l="l" t="t" r="r" b="b"/>
            <a:pathLst>
              <a:path w="199" h="159">
                <a:moveTo>
                  <a:pt x="106" y="0"/>
                </a:moveTo>
                <a:lnTo>
                  <a:pt x="199" y="159"/>
                </a:lnTo>
                <a:lnTo>
                  <a:pt x="0" y="159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141800" y="2214720"/>
            <a:ext cx="1495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141800" y="2214720"/>
            <a:ext cx="1440" cy="147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87480" y="21304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59920" y="46512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897680" y="4041720"/>
            <a:ext cx="7160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634240" y="4041720"/>
            <a:ext cx="1800" cy="8413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002440" y="3747960"/>
            <a:ext cx="10656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940520" y="37908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194320" y="3789360"/>
            <a:ext cx="613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contai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64600" y="4913280"/>
            <a:ext cx="124452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44960" y="5008680"/>
            <a:ext cx="950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7181640" y="4735440"/>
            <a:ext cx="20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73680" y="4735440"/>
            <a:ext cx="1800" cy="1684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5880" y="3736800"/>
            <a:ext cx="179244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34840" y="3811680"/>
            <a:ext cx="1585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FileSystemIt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70560" y="4913280"/>
            <a:ext cx="59076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86480" y="5008680"/>
            <a:ext cx="372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202520" y="4336920"/>
            <a:ext cx="1440" cy="398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34040" y="4336920"/>
            <a:ext cx="316080" cy="250920"/>
          </a:xfrm>
          <a:custGeom>
            <a:avLst/>
            <a:gdLst/>
            <a:ahLst/>
            <a:rect l="l" t="t" r="r" b="b"/>
            <a:pathLst>
              <a:path w="199" h="158">
                <a:moveTo>
                  <a:pt x="106" y="0"/>
                </a:moveTo>
                <a:lnTo>
                  <a:pt x="199" y="158"/>
                </a:lnTo>
                <a:lnTo>
                  <a:pt x="0" y="158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34040" y="4336920"/>
            <a:ext cx="316080" cy="250920"/>
          </a:xfrm>
          <a:custGeom>
            <a:avLst/>
            <a:gdLst/>
            <a:ahLst/>
            <a:rect l="l" t="t" r="r" b="b"/>
            <a:pathLst>
              <a:path w="199" h="158">
                <a:moveTo>
                  <a:pt x="106" y="0"/>
                </a:moveTo>
                <a:lnTo>
                  <a:pt x="199" y="158"/>
                </a:lnTo>
                <a:lnTo>
                  <a:pt x="0" y="158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76920" y="4735440"/>
            <a:ext cx="11779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858080" y="4735440"/>
            <a:ext cx="1800" cy="147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148600" y="46512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508960" y="4567320"/>
            <a:ext cx="231840" cy="315720"/>
          </a:xfrm>
          <a:custGeom>
            <a:avLst/>
            <a:gdLst/>
            <a:ahLst/>
            <a:rect l="l" t="t" r="r" b="b"/>
            <a:pathLst>
              <a:path w="146" h="199">
                <a:moveTo>
                  <a:pt x="146" y="106"/>
                </a:moveTo>
                <a:lnTo>
                  <a:pt x="66" y="199"/>
                </a:lnTo>
                <a:lnTo>
                  <a:pt x="0" y="106"/>
                </a:lnTo>
                <a:lnTo>
                  <a:pt x="66" y="0"/>
                </a:lnTo>
                <a:lnTo>
                  <a:pt x="146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508960" y="4595760"/>
            <a:ext cx="231840" cy="316080"/>
          </a:xfrm>
          <a:custGeom>
            <a:avLst/>
            <a:gdLst/>
            <a:ahLst/>
            <a:rect l="l" t="t" r="r" b="b"/>
            <a:pathLst>
              <a:path w="146" h="199">
                <a:moveTo>
                  <a:pt x="146" y="106"/>
                </a:moveTo>
                <a:lnTo>
                  <a:pt x="66" y="199"/>
                </a:lnTo>
                <a:lnTo>
                  <a:pt x="0" y="106"/>
                </a:lnTo>
                <a:lnTo>
                  <a:pt x="66" y="0"/>
                </a:lnTo>
                <a:lnTo>
                  <a:pt x="146" y="106"/>
                </a:lnTo>
                <a:close/>
              </a:path>
            </a:pathLst>
          </a:custGeom>
          <a:solidFill>
            <a:srgbClr val="ffffff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80120" y="583236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Comic Sans MS"/>
              </a:rPr>
              <a:t>Figure 6.5 &amp; 5.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1617-E6B3-4ACC-85BA-F1E9FFACA37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 Hierarch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tipattern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lated Patter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n-symmetric reflexive associ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Composite (recursive container) (Fig 6.5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7645320" y="4332240"/>
            <a:ext cx="1476360" cy="536760"/>
            <a:chOff x="7645320" y="4332240"/>
            <a:chExt cx="1476360" cy="536760"/>
          </a:xfrm>
        </p:grpSpPr>
        <p:sp>
          <p:nvSpPr>
            <p:cNvPr id="318" name=""/>
            <p:cNvSpPr/>
            <p:nvPr/>
          </p:nvSpPr>
          <p:spPr>
            <a:xfrm>
              <a:off x="7645320" y="4332240"/>
              <a:ext cx="1476360" cy="536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710120" y="4415040"/>
              <a:ext cx="1409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</a:rPr>
                <a:t>RockRecor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002280" y="4332240"/>
            <a:ext cx="1532160" cy="536760"/>
            <a:chOff x="6002280" y="4332240"/>
            <a:chExt cx="1532160" cy="536760"/>
          </a:xfrm>
        </p:grpSpPr>
        <p:sp>
          <p:nvSpPr>
            <p:cNvPr id="321" name=""/>
            <p:cNvSpPr/>
            <p:nvPr/>
          </p:nvSpPr>
          <p:spPr>
            <a:xfrm>
              <a:off x="6002280" y="4332240"/>
              <a:ext cx="1532160" cy="536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66720" y="4415040"/>
              <a:ext cx="1462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</a:rPr>
                <a:t>BluesRecor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4027320" y="4332240"/>
            <a:ext cx="1863720" cy="536760"/>
            <a:chOff x="4027320" y="4332240"/>
            <a:chExt cx="1863720" cy="536760"/>
          </a:xfrm>
        </p:grpSpPr>
        <p:sp>
          <p:nvSpPr>
            <p:cNvPr id="324" name=""/>
            <p:cNvSpPr/>
            <p:nvPr/>
          </p:nvSpPr>
          <p:spPr>
            <a:xfrm>
              <a:off x="4027320" y="4332240"/>
              <a:ext cx="1863720" cy="536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90320" y="4415040"/>
              <a:ext cx="177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</a:rPr>
                <a:t>ClassicalRecor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514600" y="4332240"/>
            <a:ext cx="1419120" cy="536760"/>
            <a:chOff x="2514600" y="4332240"/>
            <a:chExt cx="1419120" cy="536760"/>
          </a:xfrm>
        </p:grpSpPr>
        <p:sp>
          <p:nvSpPr>
            <p:cNvPr id="327" name=""/>
            <p:cNvSpPr/>
            <p:nvPr/>
          </p:nvSpPr>
          <p:spPr>
            <a:xfrm>
              <a:off x="2514600" y="4332240"/>
              <a:ext cx="1419120" cy="536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76520" y="4415040"/>
              <a:ext cx="1347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</a:rPr>
                <a:t>JazzRecor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000080" y="4351320"/>
            <a:ext cx="1144800" cy="536760"/>
            <a:chOff x="1000080" y="4351320"/>
            <a:chExt cx="1144800" cy="536760"/>
          </a:xfrm>
        </p:grpSpPr>
        <p:sp>
          <p:nvSpPr>
            <p:cNvPr id="330" name=""/>
            <p:cNvSpPr/>
            <p:nvPr/>
          </p:nvSpPr>
          <p:spPr>
            <a:xfrm>
              <a:off x="1000080" y="4351320"/>
              <a:ext cx="1144800" cy="536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64160" y="4434120"/>
              <a:ext cx="1059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</a:rPr>
                <a:t>MusicVide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757520" y="3166920"/>
            <a:ext cx="1457280" cy="534960"/>
            <a:chOff x="1757520" y="3166920"/>
            <a:chExt cx="1457280" cy="534960"/>
          </a:xfrm>
        </p:grpSpPr>
        <p:sp>
          <p:nvSpPr>
            <p:cNvPr id="333" name=""/>
            <p:cNvSpPr/>
            <p:nvPr/>
          </p:nvSpPr>
          <p:spPr>
            <a:xfrm>
              <a:off x="1757520" y="3166920"/>
              <a:ext cx="1457280" cy="53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20160" y="3249360"/>
              <a:ext cx="13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</a:rPr>
                <a:t>VideoReco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264280" y="3166920"/>
            <a:ext cx="1545120" cy="534960"/>
            <a:chOff x="5264280" y="3166920"/>
            <a:chExt cx="1545120" cy="534960"/>
          </a:xfrm>
        </p:grpSpPr>
        <p:sp>
          <p:nvSpPr>
            <p:cNvPr id="336" name=""/>
            <p:cNvSpPr/>
            <p:nvPr/>
          </p:nvSpPr>
          <p:spPr>
            <a:xfrm>
              <a:off x="5264280" y="3166920"/>
              <a:ext cx="1531800" cy="53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28720" y="3249360"/>
              <a:ext cx="1480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</a:rPr>
                <a:t>AudioRecor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725560" y="2879640"/>
            <a:ext cx="2880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25560" y="2879640"/>
            <a:ext cx="1800" cy="25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87920" y="1981080"/>
            <a:ext cx="1089000" cy="536400"/>
            <a:chOff x="3787920" y="1981080"/>
            <a:chExt cx="1089000" cy="536400"/>
          </a:xfrm>
        </p:grpSpPr>
        <p:sp>
          <p:nvSpPr>
            <p:cNvPr id="341" name=""/>
            <p:cNvSpPr/>
            <p:nvPr/>
          </p:nvSpPr>
          <p:spPr>
            <a:xfrm>
              <a:off x="3787920" y="1981080"/>
              <a:ext cx="10890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89080" y="2063520"/>
              <a:ext cx="942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</a:rPr>
                <a:t>Recor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4313160" y="2619360"/>
            <a:ext cx="1800" cy="2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65560" y="2508120"/>
            <a:ext cx="276120" cy="22248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93" y="0"/>
                </a:moveTo>
                <a:lnTo>
                  <a:pt x="174" y="140"/>
                </a:lnTo>
                <a:lnTo>
                  <a:pt x="0" y="140"/>
                </a:ln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65560" y="2508120"/>
            <a:ext cx="276120" cy="22248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93" y="0"/>
                </a:moveTo>
                <a:lnTo>
                  <a:pt x="174" y="140"/>
                </a:lnTo>
                <a:lnTo>
                  <a:pt x="0" y="140"/>
                </a:ln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59120" y="4064040"/>
            <a:ext cx="3987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975280" y="3805200"/>
            <a:ext cx="1800" cy="25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27680" y="3693960"/>
            <a:ext cx="276120" cy="22248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93" y="0"/>
                </a:moveTo>
                <a:lnTo>
                  <a:pt x="174" y="140"/>
                </a:lnTo>
                <a:lnTo>
                  <a:pt x="0" y="140"/>
                </a:ln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27680" y="3693960"/>
            <a:ext cx="276120" cy="22248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93" y="0"/>
                </a:moveTo>
                <a:lnTo>
                  <a:pt x="174" y="140"/>
                </a:lnTo>
                <a:lnTo>
                  <a:pt x="0" y="140"/>
                </a:ln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13040" y="3805200"/>
            <a:ext cx="1440" cy="53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65440" y="3711600"/>
            <a:ext cx="277560" cy="222120"/>
          </a:xfrm>
          <a:custGeom>
            <a:avLst/>
            <a:gdLst/>
            <a:ahLst/>
            <a:rect l="l" t="t" r="r" b="b"/>
            <a:pathLst>
              <a:path w="175" h="140">
                <a:moveTo>
                  <a:pt x="93" y="0"/>
                </a:moveTo>
                <a:lnTo>
                  <a:pt x="175" y="140"/>
                </a:lnTo>
                <a:lnTo>
                  <a:pt x="0" y="140"/>
                </a:ln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65440" y="3711600"/>
            <a:ext cx="277560" cy="222120"/>
          </a:xfrm>
          <a:custGeom>
            <a:avLst/>
            <a:gdLst/>
            <a:ahLst/>
            <a:rect l="l" t="t" r="r" b="b"/>
            <a:pathLst>
              <a:path w="175" h="140">
                <a:moveTo>
                  <a:pt x="93" y="0"/>
                </a:moveTo>
                <a:lnTo>
                  <a:pt x="175" y="140"/>
                </a:lnTo>
                <a:lnTo>
                  <a:pt x="0" y="140"/>
                </a:ln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05560" y="2879640"/>
            <a:ext cx="1440" cy="25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746840" y="4064040"/>
            <a:ext cx="1800" cy="25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23080" y="4064040"/>
            <a:ext cx="1440" cy="25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78440" y="4064040"/>
            <a:ext cx="1440" cy="25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59120" y="4064040"/>
            <a:ext cx="1800" cy="25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C583-0DE3-42CA-A4F8-5EDC34ACB00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4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Player-Role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ex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rol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a particular set of properties associated with an object in a particular contex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object may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a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fferent roles in different context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em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best model players and roles so that a player can change roles or possess multiple rol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7BF4-B0EF-42FD-8C44-D4E01E27A49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Player-Ro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student in a university may change roles several tim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duate or undergradu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ll-time or part-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8653-8EBA-4411-91D5-6B7E9EE2754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er-R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ce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is desirable to improve encapsulation by capturing the information associated with each separate role in a cla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ant to avoid multiple inheritan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 cannot allow an instance to change cla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olution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3327480" y="3962520"/>
            <a:ext cx="1466640" cy="7207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«Player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807080" y="4322880"/>
            <a:ext cx="671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399360" y="4695840"/>
            <a:ext cx="1440" cy="49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00640" y="4695840"/>
            <a:ext cx="373320" cy="298440"/>
          </a:xfrm>
          <a:custGeom>
            <a:avLst/>
            <a:gdLst/>
            <a:ahLst/>
            <a:rect l="l" t="t" r="r" b="b"/>
            <a:pathLst>
              <a:path w="235" h="188">
                <a:moveTo>
                  <a:pt x="125" y="0"/>
                </a:moveTo>
                <a:lnTo>
                  <a:pt x="235" y="188"/>
                </a:lnTo>
                <a:lnTo>
                  <a:pt x="0" y="188"/>
                </a:lnTo>
                <a:lnTo>
                  <a:pt x="1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200640" y="4695840"/>
            <a:ext cx="373320" cy="298440"/>
          </a:xfrm>
          <a:custGeom>
            <a:avLst/>
            <a:gdLst/>
            <a:ahLst/>
            <a:rect l="l" t="t" r="r" b="b"/>
            <a:pathLst>
              <a:path w="235" h="188">
                <a:moveTo>
                  <a:pt x="125" y="0"/>
                </a:moveTo>
                <a:lnTo>
                  <a:pt x="235" y="188"/>
                </a:lnTo>
                <a:lnTo>
                  <a:pt x="0" y="188"/>
                </a:lnTo>
                <a:lnTo>
                  <a:pt x="125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079600" y="5194440"/>
            <a:ext cx="131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079960" y="5194440"/>
            <a:ext cx="1800" cy="22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70360" y="5413320"/>
            <a:ext cx="1467000" cy="7207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«Role1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399360" y="5194440"/>
            <a:ext cx="1466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866000" y="5194440"/>
            <a:ext cx="1800" cy="22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35880" y="5430960"/>
            <a:ext cx="1466640" cy="7207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«Role2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91080" y="3962520"/>
            <a:ext cx="1989360" cy="7207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«AbstractRole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166720" y="38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593480" y="4016520"/>
            <a:ext cx="137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Could be 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83BB-C6E3-4DB2-B8EE-F7157E8B47D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er-R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ample 1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19320" y="2486160"/>
            <a:ext cx="7162560" cy="20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7B8F-E408-4CDE-8BE6-502580E8676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 will study the static view of software by looking at typical patterns found in class diagram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se patterns recur in many design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y learning and using them you are reusing the collective experience of many software developer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tudying patterns is an effective way to learn from the experience of oth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7468-D7AA-40C9-9DD6-96FCB38D2AA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er-R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ample 2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066680" y="2665440"/>
            <a:ext cx="8001000" cy="17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F1A8-9642-4246-B5BA-C0206504A63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er-R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ample 3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"/>
          <p:cNvSpPr/>
          <p:nvPr/>
        </p:nvSpPr>
        <p:spPr>
          <a:xfrm>
            <a:off x="5992920" y="3618000"/>
            <a:ext cx="4460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438960" y="3618000"/>
            <a:ext cx="1440" cy="333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992560" y="3951360"/>
            <a:ext cx="4460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103800" y="332892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103080" y="3951360"/>
            <a:ext cx="93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116840" y="3049560"/>
            <a:ext cx="1558800" cy="10908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128000" y="3462480"/>
            <a:ext cx="1536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193160" y="3151080"/>
            <a:ext cx="147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RegularF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306920" y="3573360"/>
            <a:ext cx="38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07280" y="3840120"/>
            <a:ext cx="1151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flight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815080" y="4218120"/>
            <a:ext cx="1440" cy="890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14920" y="4240080"/>
            <a:ext cx="11124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614920" y="42418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14920" y="4819680"/>
            <a:ext cx="1112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14920" y="4819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614920" y="4819680"/>
            <a:ext cx="1112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14920" y="4819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14920" y="4819680"/>
            <a:ext cx="1112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14920" y="4819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614920" y="4819680"/>
            <a:ext cx="1112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14920" y="4819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14920" y="4819680"/>
            <a:ext cx="1112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14920" y="4819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614920" y="4819680"/>
            <a:ext cx="1112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14920" y="4819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306440" y="3562200"/>
            <a:ext cx="1781280" cy="644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84920" y="3662280"/>
            <a:ext cx="164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assenger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41640" y="4218120"/>
            <a:ext cx="1440" cy="779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941480" y="4708440"/>
            <a:ext cx="1112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41480" y="47084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41480" y="4708440"/>
            <a:ext cx="1112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41480" y="47084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941480" y="4708440"/>
            <a:ext cx="1112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41480" y="47084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41480" y="4708440"/>
            <a:ext cx="1112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41480" y="47084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41480" y="4708440"/>
            <a:ext cx="1112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41480" y="47084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41480" y="4708440"/>
            <a:ext cx="1112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41480" y="47084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2987640" y="5465880"/>
            <a:ext cx="26496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98880" y="5175360"/>
            <a:ext cx="1108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098520" y="51753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098880" y="5175360"/>
            <a:ext cx="1108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098520" y="51753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98880" y="5175360"/>
            <a:ext cx="1108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98520" y="51753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98880" y="5175360"/>
            <a:ext cx="1108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98520" y="51753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98880" y="5175360"/>
            <a:ext cx="1108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98520" y="51753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98880" y="5175360"/>
            <a:ext cx="1108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98520" y="51753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172280" y="4151160"/>
            <a:ext cx="1800" cy="957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972480" y="4819680"/>
            <a:ext cx="1108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972120" y="4819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972480" y="4819680"/>
            <a:ext cx="1108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972120" y="4819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972480" y="4819680"/>
            <a:ext cx="1108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972120" y="4819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72480" y="4819680"/>
            <a:ext cx="1108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972120" y="4819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972480" y="4819680"/>
            <a:ext cx="1108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972120" y="4819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72480" y="4819680"/>
            <a:ext cx="1108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972120" y="4819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648400" y="5119560"/>
            <a:ext cx="1601640" cy="824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659560" y="5532480"/>
            <a:ext cx="15793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24720" y="5221440"/>
            <a:ext cx="150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pecificF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837400" y="56437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22600" y="1781280"/>
            <a:ext cx="1314720" cy="10904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33760" y="2192400"/>
            <a:ext cx="12924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02320" y="1881360"/>
            <a:ext cx="77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613400" y="23050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613040" y="2571840"/>
            <a:ext cx="88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d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3521160" y="2281320"/>
            <a:ext cx="8906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634200" y="199224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34200" y="199224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634200" y="199224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634200" y="199224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634200" y="199224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34200" y="199224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627280" y="3193920"/>
            <a:ext cx="25164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124600" y="3193920"/>
            <a:ext cx="1440" cy="179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608200" y="2616120"/>
            <a:ext cx="1800" cy="577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0360" y="2616120"/>
            <a:ext cx="335160" cy="266760"/>
          </a:xfrm>
          <a:custGeom>
            <a:avLst/>
            <a:gdLst/>
            <a:ahLst/>
            <a:rect l="l" t="t" r="r" b="b"/>
            <a:pathLst>
              <a:path w="211" h="168">
                <a:moveTo>
                  <a:pt x="112" y="0"/>
                </a:moveTo>
                <a:lnTo>
                  <a:pt x="211" y="168"/>
                </a:lnTo>
                <a:lnTo>
                  <a:pt x="0" y="168"/>
                </a:lnTo>
                <a:lnTo>
                  <a:pt x="1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30360" y="2616120"/>
            <a:ext cx="335160" cy="266760"/>
          </a:xfrm>
          <a:custGeom>
            <a:avLst/>
            <a:gdLst/>
            <a:ahLst/>
            <a:rect l="l" t="t" r="r" b="b"/>
            <a:pathLst>
              <a:path w="211" h="168">
                <a:moveTo>
                  <a:pt x="112" y="0"/>
                </a:moveTo>
                <a:lnTo>
                  <a:pt x="211" y="168"/>
                </a:lnTo>
                <a:lnTo>
                  <a:pt x="0" y="168"/>
                </a:lnTo>
                <a:lnTo>
                  <a:pt x="112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563560" y="3193920"/>
            <a:ext cx="442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03520" y="3193920"/>
            <a:ext cx="1440" cy="357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89400" y="3384720"/>
            <a:ext cx="1692360" cy="8222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300560" y="3795840"/>
            <a:ext cx="16700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367160" y="3484440"/>
            <a:ext cx="157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Employee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76960" y="3906720"/>
            <a:ext cx="105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job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595520" y="5008680"/>
            <a:ext cx="1380960" cy="8236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606680" y="5419800"/>
            <a:ext cx="13586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851480" y="5108400"/>
            <a:ext cx="91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Bo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786320" y="5532480"/>
            <a:ext cx="110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seat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130480" y="1959120"/>
            <a:ext cx="1379520" cy="6458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208240" y="2058840"/>
            <a:ext cx="127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erson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0924-1484-44A5-8090-6BF828377A3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er-R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tipattern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rge all the properties and behaviours into a single «Player» class and not have «Role» classes at all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eate roles as subclasses of the «Player» cla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e chp.5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9319-F716-42B3-AC84-93EE10D8CE4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5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Singleton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is very common to find classes for which only one instance should exi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ngleton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: Company or University classes that run the business of that company or univers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ensure that it is never possible to create more than one instance of a singleton class?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use of a public constructor cannot guarantee that no more than one instance will be created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singleton instance must also be accessible to all classes that require i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BA59-3355-49AE-9B8A-D4843069428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glet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ivate constru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ivate class variable: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heInstanc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tores the single instan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blic class (static) method: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getInstance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/>
          <p:cNvSpPr/>
          <p:nvPr/>
        </p:nvSpPr>
        <p:spPr>
          <a:xfrm>
            <a:off x="2065320" y="4713120"/>
            <a:ext cx="1573200" cy="114624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75040" y="5030640"/>
            <a:ext cx="1554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075040" y="5337000"/>
            <a:ext cx="1554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466000" y="4789440"/>
            <a:ext cx="81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207880" y="5114880"/>
            <a:ext cx="86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the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06080" y="5423040"/>
            <a:ext cx="132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mpany </a:t>
            </a:r>
            <a:r>
              <a:rPr b="1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1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07880" y="5627520"/>
            <a:ext cx="79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getIn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41800" y="4927680"/>
            <a:ext cx="2716200" cy="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132440" y="4917960"/>
            <a:ext cx="2717640" cy="9414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202640" y="4960800"/>
            <a:ext cx="162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Geneva"/>
              </a:rPr>
              <a:t>if (theCompany==nul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216680" y="5167440"/>
            <a:ext cx="232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CA" sz="1200" spc="-1" strike="noStrike">
                <a:solidFill>
                  <a:srgbClr val="000000"/>
                </a:solidFill>
                <a:latin typeface="Geneva"/>
              </a:rPr>
              <a:t>theCompany= new Company(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64480" y="53722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67360" y="5576760"/>
            <a:ext cx="1454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Geneva"/>
              </a:rPr>
              <a:t>return theCompan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6703920" y="4910040"/>
            <a:ext cx="136440" cy="13680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2184480" y="3328920"/>
            <a:ext cx="1077840" cy="941400"/>
          </a:xfrm>
          <a:prstGeom prst="rect">
            <a:avLst/>
          </a:prstGeom>
          <a:solidFill>
            <a:srgbClr val="ffff66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193840" y="3646440"/>
            <a:ext cx="1059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193840" y="3952800"/>
            <a:ext cx="1059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241720" y="3405240"/>
            <a:ext cx="1009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1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326680" y="3730680"/>
            <a:ext cx="79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theIn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26680" y="4038480"/>
            <a:ext cx="79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getIn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FAF3-3DF8-40D2-B510-8F751502DC3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6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Observer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an association is created between two classes, the code for the classes becomes inseparabl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 you want to reuse one class, then you also have to reuse the oth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reduce the interconnection between classes, especially between classes that belong to different modules or subsystem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 want to maximize the flexibility of the system to the greatest extent possib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8CD4-4216-4476-BC9F-7CEDA703682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ser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/>
          <p:nvPr/>
        </p:nvSpPr>
        <p:spPr>
          <a:xfrm>
            <a:off x="6951600" y="5121360"/>
            <a:ext cx="1703520" cy="625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114320" y="5218200"/>
            <a:ext cx="1550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eatherView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673520" y="1355760"/>
            <a:ext cx="23306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781520" y="1076400"/>
            <a:ext cx="108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781160" y="10764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10480" y="1076400"/>
            <a:ext cx="108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10120" y="10764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10480" y="1076400"/>
            <a:ext cx="108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10120" y="10764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10480" y="1076400"/>
            <a:ext cx="108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10120" y="10764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10480" y="1076400"/>
            <a:ext cx="108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810120" y="10764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810480" y="1076400"/>
            <a:ext cx="108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810120" y="10764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10480" y="1076400"/>
            <a:ext cx="108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10120" y="10764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824360" y="4722840"/>
            <a:ext cx="1857600" cy="81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815000" y="4711680"/>
            <a:ext cx="1855800" cy="819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35240" y="4722840"/>
            <a:ext cx="126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bservers ar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33440" y="4938840"/>
            <a:ext cx="174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otified when a new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41360" y="5154480"/>
            <a:ext cx="155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ediction is read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6486480" y="4700520"/>
            <a:ext cx="173160" cy="1731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3024360" y="5100480"/>
            <a:ext cx="1271520" cy="623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170880" y="5197320"/>
            <a:ext cx="1107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orecas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24360" y="3719520"/>
            <a:ext cx="1336680" cy="625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35600" y="3838680"/>
            <a:ext cx="1178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Observ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678040" y="2511360"/>
            <a:ext cx="2546280" cy="62388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752200" y="2606760"/>
            <a:ext cx="2358360" cy="259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«ConcreteObservable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519960" y="2489040"/>
            <a:ext cx="2307960" cy="62568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594120" y="2585880"/>
            <a:ext cx="2129760" cy="259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«ConcreteObserver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959200" y="871560"/>
            <a:ext cx="1703160" cy="105552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968560" y="1312920"/>
            <a:ext cx="16844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34440" y="988920"/>
            <a:ext cx="1419480" cy="259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«Observable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39200" y="1378080"/>
            <a:ext cx="110880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ddObser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137400" y="1636560"/>
            <a:ext cx="134352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otifyObserv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15320" y="849240"/>
            <a:ext cx="1360440" cy="101304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026120" y="1506600"/>
            <a:ext cx="1338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110000" y="925560"/>
            <a:ext cx="101268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«interface»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092000" y="1162080"/>
            <a:ext cx="1190880" cy="259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«Observer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197840" y="1571760"/>
            <a:ext cx="58752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371840" y="4032360"/>
            <a:ext cx="28051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479840" y="3751200"/>
            <a:ext cx="10800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28800" y="37512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983280" y="3751200"/>
            <a:ext cx="10800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032240" y="37512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983280" y="3751200"/>
            <a:ext cx="10800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032240" y="37512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983280" y="3751200"/>
            <a:ext cx="10800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032240" y="37512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983280" y="3751200"/>
            <a:ext cx="10800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032240" y="37512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983280" y="3751200"/>
            <a:ext cx="10800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032240" y="37512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83280" y="3751200"/>
            <a:ext cx="10800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032240" y="37512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659040" y="4334040"/>
            <a:ext cx="1800" cy="733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87680" y="4334040"/>
            <a:ext cx="324000" cy="258480"/>
          </a:xfrm>
          <a:custGeom>
            <a:avLst/>
            <a:gdLst/>
            <a:ahLst/>
            <a:rect l="l" t="t" r="r" b="b"/>
            <a:pathLst>
              <a:path w="204" h="163">
                <a:moveTo>
                  <a:pt x="108" y="0"/>
                </a:moveTo>
                <a:lnTo>
                  <a:pt x="204" y="163"/>
                </a:lnTo>
                <a:lnTo>
                  <a:pt x="0" y="163"/>
                </a:lnTo>
                <a:lnTo>
                  <a:pt x="10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87680" y="4334040"/>
            <a:ext cx="324000" cy="258480"/>
          </a:xfrm>
          <a:custGeom>
            <a:avLst/>
            <a:gdLst/>
            <a:ahLst/>
            <a:rect l="l" t="t" r="r" b="b"/>
            <a:pathLst>
              <a:path w="204" h="163">
                <a:moveTo>
                  <a:pt x="108" y="0"/>
                </a:moveTo>
                <a:lnTo>
                  <a:pt x="204" y="163"/>
                </a:lnTo>
                <a:lnTo>
                  <a:pt x="0" y="163"/>
                </a:lnTo>
                <a:lnTo>
                  <a:pt x="108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716960" y="4570200"/>
            <a:ext cx="1440" cy="539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716960" y="4570560"/>
            <a:ext cx="14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716960" y="4592520"/>
            <a:ext cx="14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716960" y="4657680"/>
            <a:ext cx="14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716960" y="4678200"/>
            <a:ext cx="14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716960" y="4743360"/>
            <a:ext cx="14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716960" y="4765680"/>
            <a:ext cx="14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716960" y="4830840"/>
            <a:ext cx="14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716960" y="4851360"/>
            <a:ext cx="14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716960" y="4916520"/>
            <a:ext cx="14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716960" y="4938840"/>
            <a:ext cx="14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16960" y="5002200"/>
            <a:ext cx="14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716960" y="5024520"/>
            <a:ext cx="14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716960" y="5089680"/>
            <a:ext cx="14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543800" y="4570560"/>
            <a:ext cx="324000" cy="260280"/>
          </a:xfrm>
          <a:custGeom>
            <a:avLst/>
            <a:gdLst/>
            <a:ahLst/>
            <a:rect l="l" t="t" r="r" b="b"/>
            <a:pathLst>
              <a:path w="204" h="164">
                <a:moveTo>
                  <a:pt x="109" y="0"/>
                </a:moveTo>
                <a:lnTo>
                  <a:pt x="204" y="164"/>
                </a:lnTo>
                <a:lnTo>
                  <a:pt x="0" y="164"/>
                </a:lnTo>
                <a:lnTo>
                  <a:pt x="10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43800" y="4570560"/>
            <a:ext cx="324000" cy="260280"/>
          </a:xfrm>
          <a:custGeom>
            <a:avLst/>
            <a:gdLst/>
            <a:ahLst/>
            <a:rect l="l" t="t" r="r" b="b"/>
            <a:pathLst>
              <a:path w="204" h="164">
                <a:moveTo>
                  <a:pt x="109" y="0"/>
                </a:moveTo>
                <a:lnTo>
                  <a:pt x="204" y="164"/>
                </a:lnTo>
                <a:lnTo>
                  <a:pt x="0" y="164"/>
                </a:lnTo>
                <a:lnTo>
                  <a:pt x="109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188120" y="3719520"/>
            <a:ext cx="1293840" cy="839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30320" y="3794040"/>
            <a:ext cx="1012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«interface»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436160" y="4032360"/>
            <a:ext cx="950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bserv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659040" y="1938240"/>
            <a:ext cx="1800" cy="561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487680" y="1938240"/>
            <a:ext cx="324000" cy="258840"/>
          </a:xfrm>
          <a:custGeom>
            <a:avLst/>
            <a:gdLst/>
            <a:ahLst/>
            <a:rect l="l" t="t" r="r" b="b"/>
            <a:pathLst>
              <a:path w="204" h="163">
                <a:moveTo>
                  <a:pt x="108" y="0"/>
                </a:moveTo>
                <a:lnTo>
                  <a:pt x="204" y="163"/>
                </a:lnTo>
                <a:lnTo>
                  <a:pt x="0" y="163"/>
                </a:lnTo>
                <a:lnTo>
                  <a:pt x="108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487680" y="1938240"/>
            <a:ext cx="324000" cy="258840"/>
          </a:xfrm>
          <a:custGeom>
            <a:avLst/>
            <a:gdLst/>
            <a:ahLst/>
            <a:rect l="l" t="t" r="r" b="b"/>
            <a:pathLst>
              <a:path w="204" h="163">
                <a:moveTo>
                  <a:pt x="108" y="0"/>
                </a:moveTo>
                <a:lnTo>
                  <a:pt x="204" y="163"/>
                </a:lnTo>
                <a:lnTo>
                  <a:pt x="0" y="163"/>
                </a:lnTo>
                <a:lnTo>
                  <a:pt x="108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7435800" y="1872720"/>
            <a:ext cx="1800" cy="605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435800" y="187308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435800" y="189540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435800" y="19605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435800" y="198108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435800" y="204624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435800" y="20685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435800" y="213372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435800" y="215424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435800" y="221940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435800" y="223992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435800" y="230508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435800" y="232740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435800" y="239220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435800" y="241308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264440" y="1873080"/>
            <a:ext cx="323640" cy="260640"/>
          </a:xfrm>
          <a:custGeom>
            <a:avLst/>
            <a:gdLst/>
            <a:ahLst/>
            <a:rect l="l" t="t" r="r" b="b"/>
            <a:pathLst>
              <a:path w="204" h="164">
                <a:moveTo>
                  <a:pt x="108" y="0"/>
                </a:moveTo>
                <a:lnTo>
                  <a:pt x="204" y="164"/>
                </a:lnTo>
                <a:lnTo>
                  <a:pt x="0" y="164"/>
                </a:lnTo>
                <a:lnTo>
                  <a:pt x="108" y="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264440" y="1873080"/>
            <a:ext cx="323640" cy="260640"/>
          </a:xfrm>
          <a:custGeom>
            <a:avLst/>
            <a:gdLst/>
            <a:ahLst/>
            <a:rect l="l" t="t" r="r" b="b"/>
            <a:pathLst>
              <a:path w="204" h="164">
                <a:moveTo>
                  <a:pt x="108" y="0"/>
                </a:moveTo>
                <a:lnTo>
                  <a:pt x="204" y="164"/>
                </a:lnTo>
                <a:lnTo>
                  <a:pt x="0" y="164"/>
                </a:lnTo>
                <a:lnTo>
                  <a:pt x="108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AE61-2280-4B36-A782-141DE5E4E9F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ser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va has an Observer interface and an Observable clas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tipattern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nect an observer directly to an observable so that they both have references to each othe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ke the observers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bclasse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the observab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25DE-F30E-48A2-8C7C-5ED3D7DBF35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7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Delegation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 need a method in a class. You realize that another class has a method which provides the required servic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heritanc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not appropriat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 because the isa rule does not appl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can you most effectively make use of a method that already exists in the other class?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 want to minimize development cost by reusing method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want to reduce the linkages bw class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7151-4711-48C2-ACA7-1E5CB7B2655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leg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gation can be seen as providing selective inheritan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"/>
          <p:cNvSpPr/>
          <p:nvPr/>
        </p:nvSpPr>
        <p:spPr>
          <a:xfrm>
            <a:off x="2820960" y="4381560"/>
            <a:ext cx="1495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87640" y="4381560"/>
            <a:ext cx="13287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800440" y="4297320"/>
            <a:ext cx="166680" cy="16668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0" y="53"/>
                </a:moveTo>
                <a:lnTo>
                  <a:pt x="52" y="0"/>
                </a:lnTo>
                <a:lnTo>
                  <a:pt x="105" y="53"/>
                </a:lnTo>
                <a:lnTo>
                  <a:pt x="52" y="105"/>
                </a:lnTo>
                <a:lnTo>
                  <a:pt x="0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800440" y="4297320"/>
            <a:ext cx="166680" cy="16668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0" y="53"/>
                </a:moveTo>
                <a:lnTo>
                  <a:pt x="52" y="0"/>
                </a:lnTo>
                <a:lnTo>
                  <a:pt x="105" y="53"/>
                </a:lnTo>
                <a:lnTo>
                  <a:pt x="52" y="105"/>
                </a:lnTo>
                <a:lnTo>
                  <a:pt x="0" y="53"/>
                </a:lnTo>
                <a:close/>
              </a:path>
            </a:pathLst>
          </a:custGeom>
          <a:solidFill>
            <a:srgbClr val="ffffff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10120" y="4317840"/>
            <a:ext cx="206280" cy="637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4109760" y="4381560"/>
            <a:ext cx="206280" cy="61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213080" y="4111560"/>
            <a:ext cx="2088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110120" y="4317840"/>
            <a:ext cx="206280" cy="637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4109760" y="4381560"/>
            <a:ext cx="206280" cy="61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325760" y="4057560"/>
            <a:ext cx="1229040" cy="226692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36920" y="4484520"/>
            <a:ext cx="12067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22600" y="4152960"/>
            <a:ext cx="101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Linked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502520" y="4546440"/>
            <a:ext cx="753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addFir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501800" y="4795920"/>
            <a:ext cx="683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addLa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501800" y="5045040"/>
            <a:ext cx="724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addAf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02160" y="5294160"/>
            <a:ext cx="109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removeFir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01440" y="5543640"/>
            <a:ext cx="1001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removeLa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502520" y="5792760"/>
            <a:ext cx="52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502880" y="6043680"/>
            <a:ext cx="74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84360" y="4098960"/>
            <a:ext cx="1227240" cy="12700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95520" y="4525920"/>
            <a:ext cx="12049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27080" y="4194000"/>
            <a:ext cx="54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761120" y="458784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761480" y="483696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761120" y="5086440"/>
            <a:ext cx="68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325760" y="2624040"/>
            <a:ext cx="1249560" cy="812880"/>
          </a:xfrm>
          <a:prstGeom prst="rect">
            <a:avLst/>
          </a:prstGeom>
          <a:solidFill>
            <a:srgbClr val="ffff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401000" y="2719440"/>
            <a:ext cx="107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Delegate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584360" y="2624040"/>
            <a:ext cx="1789200" cy="812880"/>
          </a:xfrm>
          <a:prstGeom prst="rect">
            <a:avLst/>
          </a:prstGeom>
          <a:solidFill>
            <a:srgbClr val="ffff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865880" y="2719440"/>
            <a:ext cx="116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Delegator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3360240" y="2905200"/>
            <a:ext cx="9558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884920" y="2583000"/>
            <a:ext cx="2411280" cy="95724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916240" y="2552760"/>
            <a:ext cx="217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delegatingMethod(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812920" y="2760840"/>
            <a:ext cx="34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165720" y="2968560"/>
            <a:ext cx="274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delegate.method();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833800" y="3197160"/>
            <a:ext cx="34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8118360" y="2573280"/>
            <a:ext cx="166680" cy="16668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1595520" y="3071880"/>
            <a:ext cx="17445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336920" y="3071880"/>
            <a:ext cx="12272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759680" y="3133800"/>
            <a:ext cx="152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delegatingMetho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502520" y="3133800"/>
            <a:ext cx="639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884920" y="4037040"/>
            <a:ext cx="2411280" cy="95724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916240" y="4006800"/>
            <a:ext cx="68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push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12920" y="4214880"/>
            <a:ext cx="34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165360" y="4422600"/>
            <a:ext cx="1829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list.addFirst(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833800" y="4651200"/>
            <a:ext cx="34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2"/>
          <a:stretch/>
        </p:blipFill>
        <p:spPr>
          <a:xfrm>
            <a:off x="8118360" y="4027320"/>
            <a:ext cx="166680" cy="1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E147-2B41-45E9-91D2-AAFF2EBD03E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troduction to Patter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 you gain experience in o-o sw development, you will begin to notice that many parts of your designs reappear, with only slight changes, in many different systems or subsystem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recurring aspects of designs are called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sign patterns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3A35-13E2-434C-A58F-CA1DD3F57C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leg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"/>
          <p:cNvSpPr/>
          <p:nvPr/>
        </p:nvSpPr>
        <p:spPr>
          <a:xfrm>
            <a:off x="1066680" y="1371600"/>
            <a:ext cx="7543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888840" y="2451240"/>
            <a:ext cx="8229600" cy="234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AB41-D86D-4607-9F50-83BF98141B3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leg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tipattern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veruse generalization and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heri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method that is to be reuse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stead of creating a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ngl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ethod in the «Delegator» that does nothing other than call a method in the «Deleg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der having many different methods in the «Delegator» call the delegate’s metho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ess non-neighboring cla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"/>
          <p:cNvSpPr/>
          <p:nvPr/>
        </p:nvSpPr>
        <p:spPr>
          <a:xfrm>
            <a:off x="1905120" y="49528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pecificFlight.regularFlight.flightNumbe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getRegularFlight().flightNumbe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68FE-808C-433F-9292-AF5225DA318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8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Adapter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366480" indent="-185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6464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 are building an inheritance hierarchy and want to incorporate into it an existing clas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6464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reused class is also often already part of its own inheritance hierarch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6464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reused class does not have the same name or arg typ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s the hierarchy we are creat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6480" indent="-1854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64640" indent="-217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btain the power of polymorphism when reusing a class whose metho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162800" indent="-217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ve the same fun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162800" indent="-217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ut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t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same signat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764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 the other methods in the hierarchy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6480" indent="-1854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64640" indent="-217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 do not have access to multiple inheritance or you do not want to use i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1162-EDAC-4DD1-B606-57B1A8768D2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dap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"/>
          <p:cNvSpPr/>
          <p:nvPr/>
        </p:nvSpPr>
        <p:spPr>
          <a:xfrm>
            <a:off x="6059520" y="4078440"/>
            <a:ext cx="2109600" cy="102708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72120" y="4646520"/>
            <a:ext cx="20844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406920" y="4202280"/>
            <a:ext cx="1413360" cy="335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«Adaptee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291360" y="4729320"/>
            <a:ext cx="1770120" cy="305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ed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4849920" y="4479840"/>
            <a:ext cx="1195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905440" y="4119480"/>
            <a:ext cx="28800" cy="360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767560" y="4397400"/>
            <a:ext cx="277560" cy="8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5767200" y="4479840"/>
            <a:ext cx="277560" cy="8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447920" y="2494080"/>
            <a:ext cx="2554200" cy="102708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60520" y="3063960"/>
            <a:ext cx="2529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794240" y="2619360"/>
            <a:ext cx="1802160" cy="335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«Superclass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678680" y="3146400"/>
            <a:ext cx="2224080" cy="305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morphic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600360" y="3535200"/>
            <a:ext cx="1800" cy="52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378240" y="3535200"/>
            <a:ext cx="415800" cy="333360"/>
          </a:xfrm>
          <a:custGeom>
            <a:avLst/>
            <a:gdLst/>
            <a:ahLst/>
            <a:rect l="l" t="t" r="r" b="b"/>
            <a:pathLst>
              <a:path w="262" h="210">
                <a:moveTo>
                  <a:pt x="140" y="0"/>
                </a:moveTo>
                <a:lnTo>
                  <a:pt x="262" y="210"/>
                </a:lnTo>
                <a:lnTo>
                  <a:pt x="0" y="210"/>
                </a:lnTo>
                <a:lnTo>
                  <a:pt x="1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378240" y="3535200"/>
            <a:ext cx="415800" cy="333360"/>
          </a:xfrm>
          <a:custGeom>
            <a:avLst/>
            <a:gdLst/>
            <a:ahLst/>
            <a:rect l="l" t="t" r="r" b="b"/>
            <a:pathLst>
              <a:path w="262" h="210">
                <a:moveTo>
                  <a:pt x="140" y="0"/>
                </a:moveTo>
                <a:lnTo>
                  <a:pt x="262" y="210"/>
                </a:lnTo>
                <a:lnTo>
                  <a:pt x="0" y="210"/>
                </a:lnTo>
                <a:lnTo>
                  <a:pt x="14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197160" y="4078440"/>
            <a:ext cx="1638360" cy="8046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50880" y="4202280"/>
            <a:ext cx="1366200" cy="335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«Adapter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683240" y="3701880"/>
            <a:ext cx="14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683240" y="3786120"/>
            <a:ext cx="14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683240" y="3813120"/>
            <a:ext cx="14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683240" y="389736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683240" y="392436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683240" y="400860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683240" y="403560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75160" y="2049480"/>
            <a:ext cx="4444920" cy="1638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89200" y="2062080"/>
            <a:ext cx="2896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lymorphicMethod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22560" y="2617920"/>
            <a:ext cx="1220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822560" y="2924280"/>
            <a:ext cx="3963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aptee.adaptedMethod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8683560" y="2035080"/>
            <a:ext cx="222480" cy="22248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/>
          <p:nvPr/>
        </p:nvSpPr>
        <p:spPr>
          <a:xfrm>
            <a:off x="4349520" y="2313000"/>
            <a:ext cx="45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349520" y="3146400"/>
            <a:ext cx="45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9FFE-1F80-48EF-A685-B2CED90E7D8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ap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apters are sometimes called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rapp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1752480" y="2057400"/>
            <a:ext cx="7011000" cy="3325320"/>
            <a:chOff x="1752480" y="2057400"/>
            <a:chExt cx="7011000" cy="3325320"/>
          </a:xfrm>
        </p:grpSpPr>
        <p:sp>
          <p:nvSpPr>
            <p:cNvPr id="709" name=""/>
            <p:cNvSpPr/>
            <p:nvPr/>
          </p:nvSpPr>
          <p:spPr>
            <a:xfrm>
              <a:off x="6356160" y="4280040"/>
              <a:ext cx="1587240" cy="1102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369480" y="4890240"/>
              <a:ext cx="15602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476040" y="4412880"/>
              <a:ext cx="1428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imsToru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580440" y="4978800"/>
              <a:ext cx="131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lc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141720" y="3787560"/>
              <a:ext cx="687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829680" y="3787560"/>
              <a:ext cx="1080" cy="44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141720" y="3369600"/>
              <a:ext cx="1080" cy="41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930040" y="3369600"/>
              <a:ext cx="396000" cy="357840"/>
            </a:xfrm>
            <a:custGeom>
              <a:avLst/>
              <a:gdLst/>
              <a:ahLst/>
              <a:rect l="l" t="t" r="r" b="b"/>
              <a:pathLst>
                <a:path w="262" h="210">
                  <a:moveTo>
                    <a:pt x="140" y="0"/>
                  </a:moveTo>
                  <a:lnTo>
                    <a:pt x="262" y="210"/>
                  </a:lnTo>
                  <a:lnTo>
                    <a:pt x="0" y="21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930040" y="3369600"/>
              <a:ext cx="396000" cy="357840"/>
            </a:xfrm>
            <a:custGeom>
              <a:avLst/>
              <a:gdLst/>
              <a:ahLst/>
              <a:rect l="l" t="t" r="r" b="b"/>
              <a:pathLst>
                <a:path w="262" h="210">
                  <a:moveTo>
                    <a:pt x="140" y="0"/>
                  </a:moveTo>
                  <a:lnTo>
                    <a:pt x="262" y="210"/>
                  </a:lnTo>
                  <a:lnTo>
                    <a:pt x="0" y="21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81320" y="2251440"/>
              <a:ext cx="1877760" cy="1103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295000" y="2861640"/>
              <a:ext cx="1851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22360" y="2413080"/>
              <a:ext cx="1800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hreeDShap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505600" y="2950200"/>
              <a:ext cx="822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2531880" y="3787560"/>
              <a:ext cx="609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532240" y="3787560"/>
              <a:ext cx="1440" cy="44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752480" y="4249440"/>
              <a:ext cx="1560240" cy="863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083680" y="4384080"/>
              <a:ext cx="947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pher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604320" y="4249440"/>
              <a:ext cx="1560240" cy="863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042080" y="4384080"/>
              <a:ext cx="776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oru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78240" y="4682520"/>
              <a:ext cx="11642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077880" y="4591800"/>
              <a:ext cx="264600" cy="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6077520" y="4682520"/>
              <a:ext cx="264600" cy="8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046840" y="3846960"/>
              <a:ext cx="1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046840" y="3935520"/>
              <a:ext cx="1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046840" y="3966480"/>
              <a:ext cx="1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46840" y="4055040"/>
              <a:ext cx="1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046840" y="4085640"/>
              <a:ext cx="1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046840" y="4174560"/>
              <a:ext cx="1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046840" y="4205160"/>
              <a:ext cx="1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26960" y="2072160"/>
              <a:ext cx="3835800" cy="1758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39560" y="208620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volum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57440" y="268272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return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257440" y="3009960"/>
              <a:ext cx="350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daptee.calcVolume(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2" name="" descr=""/>
            <p:cNvPicPr/>
            <p:nvPr/>
          </p:nvPicPr>
          <p:blipFill>
            <a:blip r:embed="rId1"/>
            <a:stretch/>
          </p:blipFill>
          <p:spPr>
            <a:xfrm>
              <a:off x="8539200" y="2057400"/>
              <a:ext cx="21168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"/>
            <p:cNvSpPr/>
            <p:nvPr/>
          </p:nvSpPr>
          <p:spPr>
            <a:xfrm>
              <a:off x="4807800" y="235368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{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807800" y="324864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}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7115-11BF-4234-B0C7-3546252CF5D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9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Façade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ften, an application contains several complex packag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programmer working with such packages has to manipulate many different class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simplify the view that programmers have of a complex package?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is hard for a programmer to understand and use an entire sub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several different application classes call methods of the complex package, then any modifications made to the package will necessitate a complete review of all these class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FDC4-2972-412A-A8CD-80D6DC24618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ça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"/>
          <p:cNvSpPr/>
          <p:nvPr/>
        </p:nvSpPr>
        <p:spPr>
          <a:xfrm>
            <a:off x="5375160" y="3038400"/>
            <a:ext cx="2157480" cy="67176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456880" y="3143160"/>
            <a:ext cx="1913400" cy="274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PackageClass3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892760" y="2554200"/>
            <a:ext cx="2157480" cy="66996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975920" y="2657520"/>
            <a:ext cx="1913400" cy="274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PackageClass2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330800" y="2103480"/>
            <a:ext cx="21960" cy="299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503520" y="2403360"/>
            <a:ext cx="9414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330800" y="2103480"/>
            <a:ext cx="21960" cy="299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456080" y="2068560"/>
            <a:ext cx="2158920" cy="67140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539240" y="2171880"/>
            <a:ext cx="1913400" cy="274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PackageClass1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595680" y="4344840"/>
            <a:ext cx="14922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881600" y="4044960"/>
            <a:ext cx="114120" cy="29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933440" y="40449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881600" y="4044960"/>
            <a:ext cx="114120" cy="29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933440" y="40449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881600" y="4044960"/>
            <a:ext cx="114120" cy="29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933440" y="40449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881600" y="4044960"/>
            <a:ext cx="114120" cy="29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933440" y="40449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881600" y="4044960"/>
            <a:ext cx="114120" cy="29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933440" y="40449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81600" y="4044960"/>
            <a:ext cx="114120" cy="29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933440" y="40449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099040" y="3986280"/>
            <a:ext cx="1608120" cy="6714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245200" y="4089240"/>
            <a:ext cx="147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rF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595680" y="5199120"/>
            <a:ext cx="15843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973760" y="4898880"/>
            <a:ext cx="1141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025600" y="48988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973760" y="4898880"/>
            <a:ext cx="1141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025600" y="48988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973760" y="4898880"/>
            <a:ext cx="1141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25600" y="48988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73760" y="4898880"/>
            <a:ext cx="1141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5600" y="48988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73760" y="4898880"/>
            <a:ext cx="1141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025600" y="48988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973760" y="4898880"/>
            <a:ext cx="1141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025600" y="48988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191200" y="4956120"/>
            <a:ext cx="1353960" cy="6714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549760" y="5060880"/>
            <a:ext cx="77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839960" y="4056120"/>
            <a:ext cx="1744560" cy="1409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851120" y="4529160"/>
            <a:ext cx="17222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425680" y="4159080"/>
            <a:ext cx="71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r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116080" y="4599000"/>
            <a:ext cx="82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Fl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107080" y="4876920"/>
            <a:ext cx="123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Boo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102040" y="5153040"/>
            <a:ext cx="1288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eBoo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138400" y="2068560"/>
            <a:ext cx="1353960" cy="67140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88160" y="2171880"/>
            <a:ext cx="1040040" cy="274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Fa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e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8C8C-9C64-463C-824E-59C29BE26EC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10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Immutable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374040" indent="-18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8048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mmutable objec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an object that has a state that never changes after cre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74040" indent="-18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8048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create a class whose instances are immutable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74040" indent="-18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8048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re must be no loopholes that would allow ‘illegal’ modification of an immutable objec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74040" indent="-1893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lutio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80480" indent="-2214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sure that the constructor of the immutable class is the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nly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lace where the values of instance variables are set or modified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221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stance methods which access properties 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ust not have side effect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221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a method that would otherwise modify an instance variable is required, then it 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has to return a </a:t>
            </a:r>
            <a:r>
              <a:rPr b="0" i="1" lang="en-GB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ew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instance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the clas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DB57-06C2-40A1-991F-8FB74DD0E57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11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Read-only Interface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 sometimes want certain privileged classes to be able to modify attributes of objects that are otherwise immutab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create a situation where some classes see a class as read-only whereas others are able to make modification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tricting access by using th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cted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vat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keywords is not adequately selectiv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king access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akes it public for both reading and writ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 classes that need to modify the class (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utator class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must be put in this packag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F4FC-C459-4A39-98F1-9C2E6904BD2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ad-only Interf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"/>
          <p:cNvSpPr/>
          <p:nvPr/>
        </p:nvSpPr>
        <p:spPr>
          <a:xfrm>
            <a:off x="5413320" y="2394000"/>
            <a:ext cx="2359080" cy="64296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491440" y="2492280"/>
            <a:ext cx="224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UnprivilegedClass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233960" y="4334040"/>
            <a:ext cx="219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159160" y="43340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159160" y="43340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159160" y="43340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159160" y="43340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159160" y="43340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159160" y="43340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369040" y="4300560"/>
            <a:ext cx="1301760" cy="64296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513400" y="4400640"/>
            <a:ext cx="109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Mutator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173320" y="3924360"/>
            <a:ext cx="1940040" cy="148572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84480" y="4334040"/>
            <a:ext cx="19177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84480" y="4734000"/>
            <a:ext cx="19177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603520" y="4022640"/>
            <a:ext cx="11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Mutable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361240" y="4444920"/>
            <a:ext cx="162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 «private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361240" y="4843440"/>
            <a:ext cx="103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Attrib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360880" y="511020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Attrib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996920" y="2193840"/>
            <a:ext cx="2379960" cy="104292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008080" y="2870280"/>
            <a:ext cx="23590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604600" y="227160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interface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075760" y="2514600"/>
            <a:ext cx="22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ReadOnlyInterface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184840" y="2936880"/>
            <a:ext cx="103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Attrib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387680" y="2714760"/>
            <a:ext cx="1014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98920" y="2427120"/>
            <a:ext cx="2232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203800" y="2425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203800" y="2425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203800" y="2425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4387320" y="2714400"/>
            <a:ext cx="22068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4387680" y="2647800"/>
            <a:ext cx="220680" cy="66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03800" y="2425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03800" y="2425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065400" y="3247920"/>
            <a:ext cx="1800" cy="287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065400" y="324792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065400" y="327024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065400" y="333540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065400" y="335772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89360" y="3247920"/>
            <a:ext cx="331560" cy="265320"/>
          </a:xfrm>
          <a:custGeom>
            <a:avLst/>
            <a:gdLst/>
            <a:ahLst/>
            <a:rect l="l" t="t" r="r" b="b"/>
            <a:pathLst>
              <a:path w="209" h="167">
                <a:moveTo>
                  <a:pt x="111" y="0"/>
                </a:moveTo>
                <a:lnTo>
                  <a:pt x="209" y="167"/>
                </a:lnTo>
                <a:lnTo>
                  <a:pt x="0" y="167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889360" y="3247920"/>
            <a:ext cx="331560" cy="265320"/>
          </a:xfrm>
          <a:custGeom>
            <a:avLst/>
            <a:gdLst/>
            <a:ahLst/>
            <a:rect l="l" t="t" r="r" b="b"/>
            <a:pathLst>
              <a:path w="209" h="167">
                <a:moveTo>
                  <a:pt x="111" y="0"/>
                </a:moveTo>
                <a:lnTo>
                  <a:pt x="209" y="167"/>
                </a:lnTo>
                <a:lnTo>
                  <a:pt x="0" y="167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067200" y="35053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067200" y="3657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067200" y="3809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91120" y="4572000"/>
            <a:ext cx="11649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 flipV="1">
            <a:off x="4114440" y="4571640"/>
            <a:ext cx="22068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4114800" y="4505040"/>
            <a:ext cx="22068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4C64-3C71-40FE-ABA9-B4FC9EF8FCF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roduction to Patter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atter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outline of a reusable solution to a general problem encountered in a particular context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ny of them have been systematically documented for all software developers to u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good pattern shoul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 as general as possi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ain a solution that has been proven to effectively solve the problem in the indicated contex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6B73-03D9-4926-8029-088DD5E9EA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-only Interf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3733920" y="2097000"/>
            <a:ext cx="1850760" cy="3770280"/>
            <a:chOff x="3733920" y="2097000"/>
            <a:chExt cx="1850760" cy="3770280"/>
          </a:xfrm>
        </p:grpSpPr>
        <p:sp>
          <p:nvSpPr>
            <p:cNvPr id="850" name=""/>
            <p:cNvSpPr/>
            <p:nvPr/>
          </p:nvSpPr>
          <p:spPr>
            <a:xfrm>
              <a:off x="3733920" y="3849840"/>
              <a:ext cx="1850760" cy="201744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744720" y="4259160"/>
              <a:ext cx="1828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744720" y="4924440"/>
              <a:ext cx="1828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53440" y="3948120"/>
              <a:ext cx="162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table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920760" y="4370400"/>
              <a:ext cx="86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irst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920040" y="4635720"/>
              <a:ext cx="85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ast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920760" y="5035680"/>
              <a:ext cx="1207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tFirst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920760" y="5300640"/>
              <a:ext cx="119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tLast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920760" y="5567400"/>
              <a:ext cx="82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t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427280" y="3151080"/>
              <a:ext cx="10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427280" y="3173400"/>
              <a:ext cx="10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427280" y="323856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427280" y="326088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27280" y="332748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427280" y="334980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427280" y="341640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427280" y="343872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427280" y="350532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427280" y="352764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427280" y="359424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427280" y="3616200"/>
              <a:ext cx="10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427280" y="368316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427280" y="3705120"/>
              <a:ext cx="10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427280" y="377208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27280" y="3794040"/>
              <a:ext cx="10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250880" y="3151080"/>
              <a:ext cx="331560" cy="265320"/>
            </a:xfrm>
            <a:custGeom>
              <a:avLst/>
              <a:gdLst/>
              <a:ahLst/>
              <a:rect l="l" t="t" r="r" b="b"/>
              <a:pathLst>
                <a:path w="209" h="167">
                  <a:moveTo>
                    <a:pt x="111" y="0"/>
                  </a:moveTo>
                  <a:lnTo>
                    <a:pt x="209" y="167"/>
                  </a:lnTo>
                  <a:lnTo>
                    <a:pt x="0" y="167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250880" y="3151080"/>
              <a:ext cx="331560" cy="265320"/>
            </a:xfrm>
            <a:custGeom>
              <a:avLst/>
              <a:gdLst/>
              <a:ahLst/>
              <a:rect l="l" t="t" r="r" b="b"/>
              <a:pathLst>
                <a:path w="209" h="167">
                  <a:moveTo>
                    <a:pt x="111" y="0"/>
                  </a:moveTo>
                  <a:lnTo>
                    <a:pt x="209" y="167"/>
                  </a:lnTo>
                  <a:lnTo>
                    <a:pt x="0" y="167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ffff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22480" y="2097000"/>
              <a:ext cx="1321920" cy="10432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833640" y="2773440"/>
              <a:ext cx="12996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99520" y="2174760"/>
              <a:ext cx="1070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«interface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118760" y="2417760"/>
              <a:ext cx="77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009680" y="2840040"/>
              <a:ext cx="82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t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4419720" y="34383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419720" y="359100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419720" y="3743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977B-DE8C-47C5-B8B7-F474C0DD648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-only Interf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ntipatterns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ke the read-only class a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bclas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the «Mutable» cla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verride all methods that modify proper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ch that they throw an excep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9AB8-51AD-4015-A2DB-4F103840318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12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Proxy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381960" indent="-19332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ften, it is time-consuming and complicated to create instances of a class (</a:t>
            </a: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heavyweight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class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e is a time delay and a complex mechanism involved in creating the object in memor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to reduce the need to create instances of a heavyweight class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want all the objects in a domain model to be available for programs to use when they execute a system’s various responsibiliti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is also important for many objects to persist from run to run of the same progra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0DD1-6AAF-4271-B032-9C58A6F0F0A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x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avyweight objects that are stored in the database or reside in a remote serv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proxy object normally acts only as a placehold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"/>
          <p:cNvSpPr/>
          <p:nvPr/>
        </p:nvSpPr>
        <p:spPr>
          <a:xfrm>
            <a:off x="4776840" y="3519360"/>
            <a:ext cx="1336680" cy="87336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855680" y="359712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interface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921560" y="384480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ClassIF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187960" y="5367240"/>
            <a:ext cx="6238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700600" y="5075280"/>
            <a:ext cx="2232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589720" y="5300640"/>
            <a:ext cx="22212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5589360" y="5367240"/>
            <a:ext cx="22212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700600" y="5075280"/>
            <a:ext cx="2232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589720" y="5300640"/>
            <a:ext cx="22212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5589360" y="5367240"/>
            <a:ext cx="22212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781360" y="5367240"/>
            <a:ext cx="106992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892240" y="50752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651120" y="50752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651120" y="50752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651120" y="50752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29160" y="5300640"/>
            <a:ext cx="22212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3628800" y="5367240"/>
            <a:ext cx="22212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651120" y="50752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651120" y="50752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651120" y="50752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629160" y="5300640"/>
            <a:ext cx="22212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3628800" y="5367240"/>
            <a:ext cx="22212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455840" y="5064120"/>
            <a:ext cx="1314360" cy="65088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689120" y="5165640"/>
            <a:ext cx="88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Client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823000" y="5041800"/>
            <a:ext cx="1873080" cy="64944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902920" y="5143680"/>
            <a:ext cx="168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HeavyWeight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862440" y="5041800"/>
            <a:ext cx="1314360" cy="64944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074120" y="514368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Proxy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5991120" y="4403520"/>
            <a:ext cx="1800" cy="626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991120" y="440388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991120" y="442584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991120" y="449424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991120" y="45165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991120" y="45831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991120" y="460548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991120" y="467352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991120" y="469584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991120" y="476244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991120" y="47847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991120" y="485136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991120" y="487368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991120" y="494172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991120" y="496404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811840" y="4403880"/>
            <a:ext cx="334800" cy="269640"/>
          </a:xfrm>
          <a:custGeom>
            <a:avLst/>
            <a:gdLst/>
            <a:ahLst/>
            <a:rect l="l" t="t" r="r" b="b"/>
            <a:pathLst>
              <a:path w="211" h="170">
                <a:moveTo>
                  <a:pt x="113" y="0"/>
                </a:moveTo>
                <a:lnTo>
                  <a:pt x="211" y="170"/>
                </a:lnTo>
                <a:lnTo>
                  <a:pt x="0" y="170"/>
                </a:lnTo>
                <a:lnTo>
                  <a:pt x="1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811840" y="4403880"/>
            <a:ext cx="334800" cy="269640"/>
          </a:xfrm>
          <a:custGeom>
            <a:avLst/>
            <a:gdLst/>
            <a:ahLst/>
            <a:rect l="l" t="t" r="r" b="b"/>
            <a:pathLst>
              <a:path w="211" h="170">
                <a:moveTo>
                  <a:pt x="113" y="0"/>
                </a:moveTo>
                <a:lnTo>
                  <a:pt x="211" y="170"/>
                </a:lnTo>
                <a:lnTo>
                  <a:pt x="0" y="170"/>
                </a:lnTo>
                <a:lnTo>
                  <a:pt x="113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4987800" y="4403520"/>
            <a:ext cx="1800" cy="626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987800" y="440388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987800" y="442584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987800" y="449424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987800" y="45165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987800" y="45831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987800" y="460548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987800" y="467352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87800" y="469584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87800" y="476244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987800" y="47847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87800" y="485136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87800" y="487368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987800" y="494172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87800" y="496404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809960" y="4403880"/>
            <a:ext cx="333720" cy="269640"/>
          </a:xfrm>
          <a:custGeom>
            <a:avLst/>
            <a:gdLst/>
            <a:ahLst/>
            <a:rect l="l" t="t" r="r" b="b"/>
            <a:pathLst>
              <a:path w="210" h="170">
                <a:moveTo>
                  <a:pt x="112" y="0"/>
                </a:moveTo>
                <a:lnTo>
                  <a:pt x="210" y="170"/>
                </a:lnTo>
                <a:lnTo>
                  <a:pt x="0" y="170"/>
                </a:lnTo>
                <a:lnTo>
                  <a:pt x="1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809960" y="4403880"/>
            <a:ext cx="333720" cy="269640"/>
          </a:xfrm>
          <a:custGeom>
            <a:avLst/>
            <a:gdLst/>
            <a:ahLst/>
            <a:rect l="l" t="t" r="r" b="b"/>
            <a:pathLst>
              <a:path w="210" h="170">
                <a:moveTo>
                  <a:pt x="112" y="0"/>
                </a:moveTo>
                <a:lnTo>
                  <a:pt x="210" y="170"/>
                </a:lnTo>
                <a:lnTo>
                  <a:pt x="0" y="170"/>
                </a:lnTo>
                <a:lnTo>
                  <a:pt x="112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A328-BA22-489D-9F0A-2598BEF1CF9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x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2432160" y="1143000"/>
            <a:ext cx="4959360" cy="2171520"/>
            <a:chOff x="2432160" y="1143000"/>
            <a:chExt cx="4959360" cy="2171520"/>
          </a:xfrm>
        </p:grpSpPr>
        <p:sp>
          <p:nvSpPr>
            <p:cNvPr id="956" name=""/>
            <p:cNvSpPr/>
            <p:nvPr/>
          </p:nvSpPr>
          <p:spPr>
            <a:xfrm>
              <a:off x="3278160" y="1143000"/>
              <a:ext cx="1338480" cy="8730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358800" y="1220760"/>
              <a:ext cx="1070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«interface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667680" y="1467000"/>
              <a:ext cx="61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stI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916520" y="1287360"/>
              <a:ext cx="2475000" cy="12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905360" y="1276200"/>
              <a:ext cx="2475000" cy="12099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827600" y="1332000"/>
              <a:ext cx="203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The list elements wil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807800" y="1601640"/>
              <a:ext cx="191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be loaded into loc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811040" y="1870200"/>
              <a:ext cx="1888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memory only whe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865760" y="2138400"/>
              <a:ext cx="77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need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5" name="" descr=""/>
            <p:cNvPicPr/>
            <p:nvPr/>
          </p:nvPicPr>
          <p:blipFill>
            <a:blip r:embed="rId1"/>
            <a:stretch/>
          </p:blipFill>
          <p:spPr>
            <a:xfrm>
              <a:off x="7189920" y="1265400"/>
              <a:ext cx="1792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6" name=""/>
            <p:cNvSpPr/>
            <p:nvPr/>
          </p:nvSpPr>
          <p:spPr>
            <a:xfrm>
              <a:off x="2432160" y="2665440"/>
              <a:ext cx="1314360" cy="6490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76520" y="2765520"/>
              <a:ext cx="1041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stProx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81480" y="2665440"/>
              <a:ext cx="1627200" cy="6490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359240" y="2765520"/>
              <a:ext cx="1510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sistent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757680" y="2989080"/>
              <a:ext cx="5126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159440" y="2698920"/>
              <a:ext cx="2196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48200" y="2922480"/>
              <a:ext cx="222120" cy="66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4047840" y="2989080"/>
              <a:ext cx="222120" cy="68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159440" y="2698920"/>
              <a:ext cx="2196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48200" y="2922480"/>
              <a:ext cx="222120" cy="66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4047840" y="2989080"/>
              <a:ext cx="222120" cy="68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4449960" y="2027160"/>
              <a:ext cx="1440" cy="627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449960" y="20271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449960" y="20494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449960" y="211608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449960" y="213840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449960" y="220644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449960" y="22287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449960" y="22953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449960" y="231768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449960" y="23860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449960" y="240840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449960" y="247500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449960" y="24969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449960" y="256392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449960" y="258588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270320" y="2027160"/>
              <a:ext cx="335160" cy="268200"/>
            </a:xfrm>
            <a:custGeom>
              <a:avLst/>
              <a:gdLst/>
              <a:ahLst/>
              <a:rect l="l" t="t" r="r" b="b"/>
              <a:pathLst>
                <a:path w="211" h="169">
                  <a:moveTo>
                    <a:pt x="113" y="0"/>
                  </a:moveTo>
                  <a:lnTo>
                    <a:pt x="211" y="169"/>
                  </a:lnTo>
                  <a:lnTo>
                    <a:pt x="0" y="169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270320" y="2027160"/>
              <a:ext cx="335160" cy="268200"/>
            </a:xfrm>
            <a:custGeom>
              <a:avLst/>
              <a:gdLst/>
              <a:ahLst/>
              <a:rect l="l" t="t" r="r" b="b"/>
              <a:pathLst>
                <a:path w="211" h="169">
                  <a:moveTo>
                    <a:pt x="113" y="0"/>
                  </a:moveTo>
                  <a:lnTo>
                    <a:pt x="211" y="169"/>
                  </a:lnTo>
                  <a:lnTo>
                    <a:pt x="0" y="169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ffff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3513240" y="2027160"/>
              <a:ext cx="1440" cy="627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513240" y="20271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513240" y="20494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513240" y="211608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513240" y="213840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513240" y="220644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513240" y="22287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513240" y="22953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513240" y="231768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513240" y="23860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513240" y="240840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513240" y="247500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13240" y="24969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513240" y="256392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513240" y="258588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335400" y="2027160"/>
              <a:ext cx="333360" cy="268200"/>
            </a:xfrm>
            <a:custGeom>
              <a:avLst/>
              <a:gdLst/>
              <a:ahLst/>
              <a:rect l="l" t="t" r="r" b="b"/>
              <a:pathLst>
                <a:path w="210" h="169">
                  <a:moveTo>
                    <a:pt x="112" y="0"/>
                  </a:moveTo>
                  <a:lnTo>
                    <a:pt x="210" y="169"/>
                  </a:lnTo>
                  <a:lnTo>
                    <a:pt x="0" y="169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335400" y="2027160"/>
              <a:ext cx="333360" cy="268200"/>
            </a:xfrm>
            <a:custGeom>
              <a:avLst/>
              <a:gdLst/>
              <a:ahLst/>
              <a:rect l="l" t="t" r="r" b="b"/>
              <a:pathLst>
                <a:path w="210" h="169">
                  <a:moveTo>
                    <a:pt x="112" y="0"/>
                  </a:moveTo>
                  <a:lnTo>
                    <a:pt x="210" y="169"/>
                  </a:lnTo>
                  <a:lnTo>
                    <a:pt x="0" y="169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ffff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2057400" y="3772080"/>
            <a:ext cx="4233960" cy="2171520"/>
            <a:chOff x="2057400" y="3772080"/>
            <a:chExt cx="4233960" cy="2171520"/>
          </a:xfrm>
        </p:grpSpPr>
        <p:sp>
          <p:nvSpPr>
            <p:cNvPr id="1012" name=""/>
            <p:cNvSpPr/>
            <p:nvPr/>
          </p:nvSpPr>
          <p:spPr>
            <a:xfrm flipV="1">
              <a:off x="4430880" y="4656240"/>
              <a:ext cx="1440" cy="627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430880" y="465624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430880" y="467856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430880" y="47451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430880" y="47674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430880" y="483552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430880" y="485784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430880" y="492444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430880" y="49467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430880" y="501516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30880" y="50374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430880" y="51040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430880" y="512604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430880" y="519300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430880" y="52149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251240" y="4656240"/>
              <a:ext cx="335160" cy="268200"/>
            </a:xfrm>
            <a:custGeom>
              <a:avLst/>
              <a:gdLst/>
              <a:ahLst/>
              <a:rect l="l" t="t" r="r" b="b"/>
              <a:pathLst>
                <a:path w="211" h="169">
                  <a:moveTo>
                    <a:pt x="113" y="0"/>
                  </a:moveTo>
                  <a:lnTo>
                    <a:pt x="211" y="169"/>
                  </a:lnTo>
                  <a:lnTo>
                    <a:pt x="0" y="169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251240" y="4656240"/>
              <a:ext cx="335160" cy="268200"/>
            </a:xfrm>
            <a:custGeom>
              <a:avLst/>
              <a:gdLst/>
              <a:ahLst/>
              <a:rect l="l" t="t" r="r" b="b"/>
              <a:pathLst>
                <a:path w="211" h="169">
                  <a:moveTo>
                    <a:pt x="113" y="0"/>
                  </a:moveTo>
                  <a:lnTo>
                    <a:pt x="211" y="169"/>
                  </a:lnTo>
                  <a:lnTo>
                    <a:pt x="0" y="169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ffff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282840" y="3772080"/>
              <a:ext cx="1336680" cy="8730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361680" y="3849840"/>
              <a:ext cx="1070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«interface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560040" y="4096080"/>
              <a:ext cx="852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649680" y="5618160"/>
              <a:ext cx="5796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118040" y="5328000"/>
              <a:ext cx="2232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006800" y="5551560"/>
              <a:ext cx="222480" cy="66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4006800" y="5618160"/>
              <a:ext cx="222480" cy="68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18040" y="5328000"/>
              <a:ext cx="2232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006800" y="5551560"/>
              <a:ext cx="222480" cy="66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4006800" y="5618160"/>
              <a:ext cx="222480" cy="68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>
              <a:off x="3449520" y="4656240"/>
              <a:ext cx="1800" cy="627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449520" y="4656240"/>
              <a:ext cx="1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449520" y="4678560"/>
              <a:ext cx="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449520" y="4745160"/>
              <a:ext cx="1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449520" y="4767480"/>
              <a:ext cx="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449520" y="4835520"/>
              <a:ext cx="1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449520" y="4857840"/>
              <a:ext cx="1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449520" y="4924440"/>
              <a:ext cx="1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449520" y="4946760"/>
              <a:ext cx="1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449520" y="5015160"/>
              <a:ext cx="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449520" y="5037480"/>
              <a:ext cx="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449520" y="5104080"/>
              <a:ext cx="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449520" y="5126040"/>
              <a:ext cx="1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449520" y="5193000"/>
              <a:ext cx="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449520" y="5214960"/>
              <a:ext cx="1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272040" y="4656240"/>
              <a:ext cx="333360" cy="268200"/>
            </a:xfrm>
            <a:custGeom>
              <a:avLst/>
              <a:gdLst/>
              <a:ahLst/>
              <a:rect l="l" t="t" r="r" b="b"/>
              <a:pathLst>
                <a:path w="210" h="169">
                  <a:moveTo>
                    <a:pt x="112" y="0"/>
                  </a:moveTo>
                  <a:lnTo>
                    <a:pt x="210" y="169"/>
                  </a:lnTo>
                  <a:lnTo>
                    <a:pt x="0" y="169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72040" y="4656240"/>
              <a:ext cx="333360" cy="268200"/>
            </a:xfrm>
            <a:custGeom>
              <a:avLst/>
              <a:gdLst/>
              <a:ahLst/>
              <a:rect l="l" t="t" r="r" b="b"/>
              <a:pathLst>
                <a:path w="210" h="169">
                  <a:moveTo>
                    <a:pt x="112" y="0"/>
                  </a:moveTo>
                  <a:lnTo>
                    <a:pt x="210" y="169"/>
                  </a:lnTo>
                  <a:lnTo>
                    <a:pt x="0" y="169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ffff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240080" y="5294520"/>
              <a:ext cx="2051280" cy="6490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319640" y="5394600"/>
              <a:ext cx="195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sistentStud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057400" y="5294520"/>
              <a:ext cx="1581120" cy="6490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134800" y="5394600"/>
              <a:ext cx="148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udentProx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77AD-ED91-412C-B09B-B37EDC084AE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6.</a:t>
            </a:r>
            <a:r>
              <a:rPr b="0" lang="en-GB" sz="32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13</a:t>
            </a:r>
            <a:r>
              <a:rPr b="0" lang="en-GB" sz="32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Detailed Example:  The Observable layer of OCSF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"/>
          <p:cNvSpPr/>
          <p:nvPr/>
        </p:nvSpPr>
        <p:spPr>
          <a:xfrm>
            <a:off x="5913360" y="4465800"/>
            <a:ext cx="1800" cy="3952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568600" y="4037040"/>
            <a:ext cx="1440" cy="824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392640" y="4619520"/>
            <a:ext cx="15951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987800" y="4619520"/>
            <a:ext cx="1800" cy="2415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249800" y="4379760"/>
            <a:ext cx="1440" cy="239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113360" y="4379760"/>
            <a:ext cx="257040" cy="206640"/>
          </a:xfrm>
          <a:custGeom>
            <a:avLst/>
            <a:gdLst/>
            <a:ahLst/>
            <a:rect l="l" t="t" r="r" b="b"/>
            <a:pathLst>
              <a:path w="162" h="130">
                <a:moveTo>
                  <a:pt x="86" y="0"/>
                </a:moveTo>
                <a:lnTo>
                  <a:pt x="162" y="130"/>
                </a:lnTo>
                <a:lnTo>
                  <a:pt x="0" y="130"/>
                </a:lnTo>
                <a:lnTo>
                  <a:pt x="8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113360" y="4379760"/>
            <a:ext cx="257040" cy="206640"/>
          </a:xfrm>
          <a:custGeom>
            <a:avLst/>
            <a:gdLst/>
            <a:ahLst/>
            <a:rect l="l" t="t" r="r" b="b"/>
            <a:pathLst>
              <a:path w="162" h="130">
                <a:moveTo>
                  <a:pt x="86" y="0"/>
                </a:moveTo>
                <a:lnTo>
                  <a:pt x="162" y="130"/>
                </a:lnTo>
                <a:lnTo>
                  <a:pt x="0" y="130"/>
                </a:lnTo>
                <a:lnTo>
                  <a:pt x="86" y="0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392640" y="4619520"/>
            <a:ext cx="1440" cy="2415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343400" y="4869000"/>
            <a:ext cx="2058840" cy="39528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605840" y="4946760"/>
            <a:ext cx="1527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808080"/>
                </a:solidFill>
                <a:latin typeface="Arial"/>
              </a:rPr>
              <a:t>Observable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873080" y="4869000"/>
            <a:ext cx="2129040" cy="39528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221200" y="4946760"/>
            <a:ext cx="146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808080"/>
                </a:solidFill>
                <a:latin typeface="Arial"/>
              </a:rPr>
              <a:t>Observable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321160" y="1917720"/>
            <a:ext cx="1355760" cy="4986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345280" y="2013120"/>
            <a:ext cx="1279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808080"/>
                </a:solidFill>
                <a:latin typeface="Arial"/>
              </a:rPr>
              <a:t>Abstract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22320" y="1917720"/>
            <a:ext cx="1270080" cy="4986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844640" y="201312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808080"/>
                </a:solidFill>
                <a:latin typeface="Arial"/>
              </a:rPr>
              <a:t>Abstract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675240" y="3873600"/>
            <a:ext cx="1063440" cy="49824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732120" y="3951360"/>
            <a:ext cx="97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808080"/>
                </a:solidFill>
                <a:latin typeface="Arial"/>
              </a:rPr>
              <a:t>Observ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981760" y="2424240"/>
            <a:ext cx="1440" cy="5666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845320" y="2424240"/>
            <a:ext cx="257040" cy="206280"/>
          </a:xfrm>
          <a:custGeom>
            <a:avLst/>
            <a:gdLst/>
            <a:ahLst/>
            <a:rect l="l" t="t" r="r" b="b"/>
            <a:pathLst>
              <a:path w="162" h="130">
                <a:moveTo>
                  <a:pt x="86" y="0"/>
                </a:moveTo>
                <a:lnTo>
                  <a:pt x="162" y="130"/>
                </a:lnTo>
                <a:lnTo>
                  <a:pt x="0" y="130"/>
                </a:lnTo>
                <a:lnTo>
                  <a:pt x="8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845320" y="2424240"/>
            <a:ext cx="257040" cy="206280"/>
          </a:xfrm>
          <a:custGeom>
            <a:avLst/>
            <a:gdLst/>
            <a:ahLst/>
            <a:rect l="l" t="t" r="r" b="b"/>
            <a:pathLst>
              <a:path w="162" h="130">
                <a:moveTo>
                  <a:pt x="86" y="0"/>
                </a:moveTo>
                <a:lnTo>
                  <a:pt x="162" y="130"/>
                </a:lnTo>
                <a:lnTo>
                  <a:pt x="0" y="130"/>
                </a:lnTo>
                <a:lnTo>
                  <a:pt x="86" y="0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036880" y="2424240"/>
            <a:ext cx="1440" cy="5490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900080" y="2424240"/>
            <a:ext cx="257400" cy="206280"/>
          </a:xfrm>
          <a:custGeom>
            <a:avLst/>
            <a:gdLst/>
            <a:ahLst/>
            <a:rect l="l" t="t" r="r" b="b"/>
            <a:pathLst>
              <a:path w="162" h="130">
                <a:moveTo>
                  <a:pt x="86" y="0"/>
                </a:moveTo>
                <a:lnTo>
                  <a:pt x="162" y="130"/>
                </a:lnTo>
                <a:lnTo>
                  <a:pt x="0" y="130"/>
                </a:lnTo>
                <a:lnTo>
                  <a:pt x="8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900080" y="2424240"/>
            <a:ext cx="257400" cy="206280"/>
          </a:xfrm>
          <a:custGeom>
            <a:avLst/>
            <a:gdLst/>
            <a:ahLst/>
            <a:rect l="l" t="t" r="r" b="b"/>
            <a:pathLst>
              <a:path w="162" h="130">
                <a:moveTo>
                  <a:pt x="86" y="0"/>
                </a:moveTo>
                <a:lnTo>
                  <a:pt x="162" y="130"/>
                </a:lnTo>
                <a:lnTo>
                  <a:pt x="0" y="130"/>
                </a:lnTo>
                <a:lnTo>
                  <a:pt x="86" y="0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191360" y="1917720"/>
            <a:ext cx="1716120" cy="4986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247880" y="1995480"/>
            <a:ext cx="168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808080"/>
                </a:solidFill>
                <a:latin typeface="Arial"/>
              </a:rPr>
              <a:t>ConnectionTo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286240" y="2998800"/>
            <a:ext cx="2060640" cy="145908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295960" y="3351240"/>
            <a:ext cx="2041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618160" y="3076560"/>
            <a:ext cx="1416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808080"/>
                </a:solidFill>
                <a:latin typeface="Arial"/>
              </a:rPr>
              <a:t>Adaptable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428800" y="3402000"/>
            <a:ext cx="109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08080"/>
                </a:solidFill>
                <a:latin typeface="Arial"/>
              </a:rPr>
              <a:t>clientConn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428800" y="3608280"/>
            <a:ext cx="128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08080"/>
                </a:solidFill>
                <a:latin typeface="Arial"/>
              </a:rPr>
              <a:t>clientDisconn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431320" y="3814920"/>
            <a:ext cx="91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08080"/>
                </a:solidFill>
                <a:latin typeface="Arial"/>
              </a:rPr>
              <a:t>serverSta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429880" y="4019400"/>
            <a:ext cx="995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08080"/>
                </a:solidFill>
                <a:latin typeface="Arial"/>
              </a:rPr>
              <a:t>serverSto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427000" y="4226040"/>
            <a:ext cx="182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08080"/>
                </a:solidFill>
                <a:latin typeface="Arial"/>
              </a:rPr>
              <a:t>handleMessageFrom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998640" y="2981160"/>
            <a:ext cx="2128680" cy="10479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008000" y="3333600"/>
            <a:ext cx="21099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415520" y="3059280"/>
            <a:ext cx="1355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808080"/>
                </a:solidFill>
                <a:latin typeface="Arial"/>
              </a:rPr>
              <a:t>Adaptable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137240" y="3386160"/>
            <a:ext cx="1532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08080"/>
                </a:solidFill>
                <a:latin typeface="Arial"/>
              </a:rPr>
              <a:t>connectionEstabl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138680" y="3591000"/>
            <a:ext cx="1216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08080"/>
                </a:solidFill>
                <a:latin typeface="Arial"/>
              </a:rPr>
              <a:t>connectionCl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138320" y="3797280"/>
            <a:ext cx="18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08080"/>
                </a:solidFill>
                <a:latin typeface="Arial"/>
              </a:rPr>
              <a:t>handleMessageFrom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684840" y="2166840"/>
            <a:ext cx="4986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027200" y="19447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0808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027200" y="19447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0808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027200" y="19447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0808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027200" y="19447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0808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027200" y="19447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0808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027200" y="19447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0808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CB2D-3004-4177-96F0-82F422D30AE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The Observable layer of OCSF (continued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"/>
          <p:cNvSpPr/>
          <p:nvPr/>
        </p:nvSpPr>
        <p:spPr>
          <a:xfrm>
            <a:off x="6504120" y="1884240"/>
            <a:ext cx="1440" cy="40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129120" y="1884240"/>
            <a:ext cx="1440" cy="382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946680" y="2039760"/>
            <a:ext cx="16174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564160" y="2039760"/>
            <a:ext cx="1440" cy="244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816440" y="1797120"/>
            <a:ext cx="1800" cy="2426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678200" y="1797120"/>
            <a:ext cx="260640" cy="209520"/>
          </a:xfrm>
          <a:custGeom>
            <a:avLst/>
            <a:gdLst/>
            <a:ahLst/>
            <a:rect l="l" t="t" r="r" b="b"/>
            <a:pathLst>
              <a:path w="164" h="132">
                <a:moveTo>
                  <a:pt x="87" y="0"/>
                </a:moveTo>
                <a:lnTo>
                  <a:pt x="164" y="132"/>
                </a:lnTo>
                <a:lnTo>
                  <a:pt x="0" y="132"/>
                </a:lnTo>
                <a:lnTo>
                  <a:pt x="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678200" y="1797120"/>
            <a:ext cx="260640" cy="209520"/>
          </a:xfrm>
          <a:custGeom>
            <a:avLst/>
            <a:gdLst/>
            <a:ahLst/>
            <a:rect l="l" t="t" r="r" b="b"/>
            <a:pathLst>
              <a:path w="164" h="132">
                <a:moveTo>
                  <a:pt x="87" y="0"/>
                </a:moveTo>
                <a:lnTo>
                  <a:pt x="164" y="132"/>
                </a:lnTo>
                <a:lnTo>
                  <a:pt x="0" y="132"/>
                </a:lnTo>
                <a:lnTo>
                  <a:pt x="87" y="0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946680" y="2039760"/>
            <a:ext cx="1440" cy="244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911840" y="2292480"/>
            <a:ext cx="2089080" cy="33591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21200" y="2649600"/>
            <a:ext cx="20700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177160" y="2370240"/>
            <a:ext cx="1527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Observable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59440" y="2701800"/>
            <a:ext cx="3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lis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56560" y="2909880"/>
            <a:ext cx="902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topList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059440" y="3119400"/>
            <a:ext cx="3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056920" y="3327480"/>
            <a:ext cx="114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endToAllCl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057280" y="353700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isList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54400" y="3745080"/>
            <a:ext cx="1454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getClient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056920" y="3954600"/>
            <a:ext cx="138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getNumberOfCl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059080" y="4162320"/>
            <a:ext cx="49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get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059800" y="437184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et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055120" y="4579920"/>
            <a:ext cx="1183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lientConnn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055840" y="4789440"/>
            <a:ext cx="128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lientDisconn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058360" y="4997520"/>
            <a:ext cx="91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erverSta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056920" y="5207040"/>
            <a:ext cx="995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erverSto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054040" y="5415120"/>
            <a:ext cx="182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handleMessageFrom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406600" y="2292480"/>
            <a:ext cx="2158920" cy="29415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416320" y="2649600"/>
            <a:ext cx="2139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759040" y="2370240"/>
            <a:ext cx="146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Observable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549520" y="2701800"/>
            <a:ext cx="111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open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550600" y="2909880"/>
            <a:ext cx="113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lose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552760" y="3119400"/>
            <a:ext cx="96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endTo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552040" y="3327480"/>
            <a:ext cx="85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isConn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553840" y="3537000"/>
            <a:ext cx="49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get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554560" y="374508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et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553840" y="3954600"/>
            <a:ext cx="52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get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554560" y="4162320"/>
            <a:ext cx="51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et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551680" y="4371840"/>
            <a:ext cx="103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getInet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549520" y="4579920"/>
            <a:ext cx="18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handleMessageFrom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550240" y="4789440"/>
            <a:ext cx="1216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onnectionCl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548440" y="4997520"/>
            <a:ext cx="1532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onnectionEstabl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233960" y="1387440"/>
            <a:ext cx="1079280" cy="4017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290840" y="1447920"/>
            <a:ext cx="97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Observ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729400" y="1474920"/>
            <a:ext cx="1654200" cy="4014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857920" y="1569960"/>
            <a:ext cx="1416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Adaptable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989000" y="1474920"/>
            <a:ext cx="1619280" cy="4014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117160" y="1552680"/>
            <a:ext cx="1355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Adaptable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84F9-4853-4E6B-9C62-9D9775B6C19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40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Using the observable lay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"/>
          <p:cNvSpPr/>
          <p:nvPr/>
        </p:nvSpPr>
        <p:spPr>
          <a:xfrm>
            <a:off x="1371600" y="1143000"/>
            <a:ext cx="8229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1. Create a class that implements the </a:t>
            </a:r>
            <a:r>
              <a:rPr b="1" lang="en-GB" sz="24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Observer</a:t>
            </a:r>
            <a:r>
              <a:rPr b="0" lang="en-GB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2. Register it as an observer of the </a:t>
            </a:r>
            <a:r>
              <a:rPr b="1" lang="en-GB" sz="24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Observable</a:t>
            </a:r>
            <a:r>
              <a:rPr b="0" lang="en-GB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</a:t>
            </a:r>
            <a:r>
              <a:rPr b="1" lang="en-GB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public MessageHandler(Observable cli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</a:t>
            </a:r>
            <a:r>
              <a:rPr b="1" lang="en-GB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  </a:t>
            </a:r>
            <a:r>
              <a:rPr b="1" lang="en-GB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client.addObserver(thi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  </a:t>
            </a:r>
            <a:r>
              <a:rPr b="1" lang="en-GB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</a:t>
            </a:r>
            <a:r>
              <a:rPr b="1" lang="en-GB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3. Define the </a:t>
            </a:r>
            <a:r>
              <a:rPr b="1" lang="en-GB" sz="24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update</a:t>
            </a:r>
            <a:r>
              <a:rPr b="0" lang="en-GB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method in the new class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</a:t>
            </a:r>
            <a:r>
              <a:rPr b="1" lang="en-GB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public void update(Observable obs, Object mess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</a:t>
            </a:r>
            <a:r>
              <a:rPr b="1" lang="en-GB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  </a:t>
            </a:r>
            <a:r>
              <a:rPr b="1" lang="en-GB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if (message instanceOf SomeCla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  </a:t>
            </a:r>
            <a:r>
              <a:rPr b="1" lang="en-GB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    </a:t>
            </a:r>
            <a:r>
              <a:rPr b="1" lang="en-GB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// process the 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  </a:t>
            </a:r>
            <a:r>
              <a:rPr b="1" lang="en-GB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     </a:t>
            </a:r>
            <a:r>
              <a:rPr b="1" lang="en-GB" sz="18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39AE-E863-4F2B-BE8C-A147C48D1273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fficulties and Risks When Creating Class Diagram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tterns are not a panacea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ever you see an indication that a pattern should be applied, you might be tempted to blindly apply the pattern. However this can lead to unwise design decisi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olu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ways understand in depth the forces that need to be balanced, and when other patterns better balance the forc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ke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re you justify each design decision carefull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1B7A-84BC-49F1-9C15-870A58B6763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Difficulties and Risks When Creating Class Diagr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Developing patterns is ha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80808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Writing a good pattern takes considerable work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80808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A poor pattern can be hard to apply correct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Resolution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80808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Do not write patterns for others to use until you have considerable experience both in software design and in the use of pattern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80808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Take an in-depth course on patter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80808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Iteratively refine your patterns, and have them peer reviewed at each iteration.</a:t>
            </a:r>
            <a:r>
              <a:rPr b="0" lang="en-US" sz="24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   </a:t>
            </a:r>
            <a:r>
              <a:rPr b="0" i="1" lang="en-GB" sz="24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EB15-A686-4EEC-92C2-D8B1CAA9B4D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ttern descrip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ex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563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situation in which the pattern appli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563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hort sentence or two raising the main difficul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c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563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issues or concerns to consider when solving the 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563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recommended way to solve the problem in the given context  ‘to balance the forces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Antipatterns</a:t>
            </a:r>
            <a:r>
              <a:rPr b="0" lang="en-US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: (Optiona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56360" indent="-21456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Solutions that are inferior or do not work in this contex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Related patterns</a:t>
            </a:r>
            <a:r>
              <a:rPr b="0" lang="en-US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: (Optional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56360" indent="-21456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Patterns that are similar to this pattern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ferenc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563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o developed or inspired the pattern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17A8-30AC-4966-AE0E-3DCCE95880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2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Abstraction-Occurrence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ex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ften in a domain model you find a set of related object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occurrences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members of such a set share common inform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 algn="just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ut also differ from each other in important way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best way to represent such sets of occurrences in a class diagram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 want to represent the members of each set of occurrences without duplicating the common inform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DF2F-715C-445E-80FE-212CBB9E33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 the episodes of a television serie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me produces and series tit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fferent story-lin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flights that leave at the same time every day for the same destination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me flight numb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fferent dates, passengers, and cre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 the copies of the same book in a library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me title and auth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fferent bar-code identifiers, borrow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6AA9-DC3E-4C86-99E4-FCA49F8697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straction-Occur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3298680" y="2684520"/>
            <a:ext cx="1284480" cy="98892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08400" y="3057480"/>
            <a:ext cx="12240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49160" y="2774880"/>
            <a:ext cx="86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TV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65720" y="3159000"/>
            <a:ext cx="95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eries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16840" y="3400560"/>
            <a:ext cx="70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84680" y="2684520"/>
            <a:ext cx="1444680" cy="123012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94400" y="3057480"/>
            <a:ext cx="14238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71320" y="2774880"/>
            <a:ext cx="78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Epis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03200" y="3159000"/>
            <a:ext cx="60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05360" y="3400560"/>
            <a:ext cx="27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49560" y="3643200"/>
            <a:ext cx="1114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torySynop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571640" y="3178080"/>
            <a:ext cx="10033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38880" y="29178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8880" y="29178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38880" y="29178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38880" y="29178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38880" y="29178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38880" y="29178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84680" y="1838160"/>
            <a:ext cx="1505160" cy="586080"/>
          </a:xfrm>
          <a:prstGeom prst="rect">
            <a:avLst/>
          </a:prstGeom>
          <a:solidFill>
            <a:srgbClr val="ffff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«Occurrence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17960" y="1838160"/>
            <a:ext cx="1465200" cy="586080"/>
          </a:xfrm>
          <a:prstGeom prst="rect">
            <a:avLst/>
          </a:prstGeom>
          <a:solidFill>
            <a:srgbClr val="ffff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«Abstraction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92520" y="2130480"/>
            <a:ext cx="9828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38880" y="18702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38880" y="18702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38880" y="18702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38880" y="18702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38880" y="18702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38880" y="18702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57480" y="4094280"/>
            <a:ext cx="1525680" cy="171432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68640" y="4468680"/>
            <a:ext cx="14828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71120" y="418608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4568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360" y="481176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84680" y="4094280"/>
            <a:ext cx="1605240" cy="74772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94400" y="4468680"/>
            <a:ext cx="15634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77280" y="4186080"/>
            <a:ext cx="110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Library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1720" y="4568760"/>
            <a:ext cx="1315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barCode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71640" y="4589640"/>
            <a:ext cx="10033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38880" y="43275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38880" y="43275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38880" y="43275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8880" y="43275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8880" y="43275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8880" y="43275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27400" y="5052960"/>
            <a:ext cx="32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sb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4880" y="5294160"/>
            <a:ext cx="1230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publication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25240" y="5537160"/>
            <a:ext cx="113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libOfCong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9E9D-478A-4457-BC29-FB4C74FD9E8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straction-Occurr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6137280" y="2400480"/>
            <a:ext cx="4730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10320" y="2400480"/>
            <a:ext cx="1440" cy="3538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137280" y="2754360"/>
            <a:ext cx="4730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37000" y="211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2680" y="2752560"/>
            <a:ext cx="999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27800" y="1798560"/>
            <a:ext cx="1652760" cy="11556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40760" y="2235240"/>
            <a:ext cx="162720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12400" y="1903320"/>
            <a:ext cx="1556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Arial"/>
              </a:rPr>
              <a:t>RegularFligh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84120" y="2352600"/>
            <a:ext cx="409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28680" y="2635200"/>
            <a:ext cx="1227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flightNumb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50080" y="3036960"/>
            <a:ext cx="1440" cy="9428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37320" y="306072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89160" y="306072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373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8916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373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8916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373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8916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373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8916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373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8916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373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8916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73240" y="1916280"/>
            <a:ext cx="1887480" cy="110952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66360" y="1974960"/>
            <a:ext cx="1220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Arial"/>
              </a:rPr>
              <a:t>Passeng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8840" y="3036960"/>
            <a:ext cx="1800" cy="825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46440" y="355608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98280" y="355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46440" y="355608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98280" y="355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46440" y="355608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98280" y="355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46440" y="355608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98280" y="355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46440" y="355608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8280" y="355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46440" y="355608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98280" y="355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953800" y="4357800"/>
            <a:ext cx="280692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4051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4051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4051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4051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4051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4051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88280" y="2965320"/>
            <a:ext cx="1440" cy="1014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755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2772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755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2772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755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2772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755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2772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755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2772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755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22772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72240" y="3990960"/>
            <a:ext cx="1698480" cy="8748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84840" y="4429080"/>
            <a:ext cx="167328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54680" y="4097160"/>
            <a:ext cx="1584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Arial"/>
              </a:rPr>
              <a:t>SpecificFligh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22800" y="454644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50880" y="21636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02280" y="2446200"/>
            <a:ext cx="1709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employeeNumb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49640" y="1727280"/>
            <a:ext cx="2076480" cy="129852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062240" y="2139840"/>
            <a:ext cx="205272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65160" y="1762200"/>
            <a:ext cx="1139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03000" y="2706840"/>
            <a:ext cx="1121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jobFun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79600" y="3863880"/>
            <a:ext cx="1463760" cy="8748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92200" y="4300560"/>
            <a:ext cx="143820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1040" y="3970440"/>
            <a:ext cx="966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Arial"/>
              </a:rPr>
              <a:t>Book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80840" y="4417920"/>
            <a:ext cx="1178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seatNumb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22000" y="240048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20560" y="2682720"/>
            <a:ext cx="733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85840" y="2352600"/>
            <a:ext cx="183996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D0DE-8239-45BE-B48F-8FC36C62D87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KIVANCD</cp:lastModifiedBy>
  <dcterms:modified xsi:type="dcterms:W3CDTF">2004-12-20T14:21:41Z</dcterms:modified>
  <cp:revision>108</cp:revision>
  <dc:subject/>
  <dc:title>SEG 2100 Software Design II</dc:title>
</cp:coreProperties>
</file>