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4E6-919E-4C87-8D36-5262DA86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9A6-9A48-4E1E-9B31-B0B27CA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DE7-5A2B-4580-A78E-6E9F80D6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14A-1D65-45D1-A9B5-C72BCCD0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F6E-C16D-4EE2-A527-2D9D44CD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325-642B-4598-BAA3-271EABB6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94E-922A-464D-B5DE-B0AAE2F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4E8-5059-49AE-B5AC-7D5F962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638-C89E-43B4-B225-7F6E3D1B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94D-4454-4CDC-A2DB-1696EF8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916-5490-443C-83CD-7E6357E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F54-B6F5-4678-84E0-97F76E6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39AB-E88B-41DF-AC9E-1457DE22BA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7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cusing on Users and Their Task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d to mak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tion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teractions explicit or to handl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ception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 creating separate use case extensions, the description of the basic use case remains simp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use case extension must list all the steps from the beginning of the use case to the e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luding the handling of the unusual situ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959-7E03-4C4B-B1EC-95674C891E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iza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ch like superclasses in a class diagra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generalized use case represent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veral simila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se ca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 or more specializations provides details of the similar use ca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A10-41AB-4EBA-9E83-22A956882D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lus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w one to expres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onal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tween several different use ca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included in other use ca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en very different use cases can share sequence of 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able you to avoid repeating details in multiple use ca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 the performing of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-level tas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a lower-level goa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3C1-C31C-412F-A339-1121766F15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of generalization, extension and inc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748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2F1-ABFD-46E7-846B-62CC3BCE9D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5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description of a use c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12840" y="1442880"/>
          <a:ext cx="739764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442880"/>
                    <a:ext cx="73976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A6F-82B2-4E3C-9BE6-1CC5ACC9CE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54080" y="1442880"/>
          <a:ext cx="809640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442880"/>
                    <a:ext cx="809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85E-55B6-4D47-917B-89A49459F5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658880" y="1760400"/>
          <a:ext cx="749160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760400"/>
                    <a:ext cx="749160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850-3DC2-4838-A196-F0DC273F16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703520" y="1717560"/>
          <a:ext cx="7605720" cy="50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1717560"/>
                    <a:ext cx="76057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4DF-5324-41A6-B950-D07624D665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290600" y="1447920"/>
          <a:ext cx="757080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447920"/>
                    <a:ext cx="75708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07E-BB09-45ED-952B-480CAC54C8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odeling processes: Choosing use cases on which to foc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 one use case (or a very small number) can be identified a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th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ntire system can be built around this particular use c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other reasons for focusing on particular use cas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use cases will represent a hig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for some reason their implementation is problema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use cases will have high political or commercial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18F-F65E-4ACB-9F43-7C327037DE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1 User Centred Desig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UCD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ftware development should focus on the needs of user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chp7_1_a%20(2)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870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CFC-7519-4C43-8C6B-BEC6450830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enefits of basing software development on use c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370440" indent="-18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can help to define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p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-18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are often used t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-18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are used to both develop and validate the requir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-18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can form the basis for the definition of testca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-18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can be used to structure user manu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E9F-4662-4C4C-A069-DEF5B5A86B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cases must not be seen as a panac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use cases themselves must be valid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the requirements validation 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e are some aspects of software that are not covered by use case analysi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novativ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utions may not be conside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4F5-2691-40D1-BAF0-F51A8E0EB5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4 Basics of User Interface Des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oday’s world, the user interface is often the most complex part of the system to desig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n take over half of all development effort and is the part that is most likely to cause users to perceive a lack of qualit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B2A-5ECC-4B7E-84E7-C8917FD022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main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i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problem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st attemp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ine the tasks that the UI must help the user per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prototyping (iterati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Address the use c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ıscuss 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h and evaluate by users and ui design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ine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s and user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ults of prototyping will enable you to finalize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quirem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5AF-3F1B-4450-9EBB-1BA260967D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bility vs. Ut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verall usefulness of a software system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be considered on two quality dimensions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the system provide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w capabiliti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llow the user to achieve their goal?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t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the system allow the user to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rn and to u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raw capabilitie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si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sabili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utility and usability are essenti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must be measured in the context of particular types of users (e.g., particular actor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2CB-BF7C-4E4D-A34A-571A66EA55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pects of usa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chp7_4_b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51068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6EB-737A-4B06-BBB9-DAE1C9AC93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t learning cur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mmon to describe learnibility in terms of learning curv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52320" y="1781280"/>
          <a:ext cx="8491680" cy="44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781280"/>
                    <a:ext cx="849168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3DD-4932-44F9-943B-9BF234B03A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basic terminology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log (Box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 specific window with which a user can interact, but which is not the main UI window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dget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fic components of a user interface. e.g., menus, lists, input fields, and scroll ba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ffordanc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The set of operations that the user can do at any given point in ti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t any stage in the dialog, the system is displaying certain information in certain widgets, and has a certain affordan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 situation in which the UI restricts what the user can 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al dialo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 dialog in which the system is in a very restrictive mo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edback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e from the syste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never the user does something, is called feedback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coding techniq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Ways of encoding information so as to communicate it to the use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0AA-6BE2-4F1B-B752-19E79CE739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4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encoding techniq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 and fo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s and abstract graphic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ing and borde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ken word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sound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tions and vide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sh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ED4-CA3F-4550-9948-B2717E34B7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hp7_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A4C-D38A-4165-9459-F20566934C1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p7_1_b" descr=""/>
          <p:cNvPicPr/>
          <p:nvPr/>
        </p:nvPicPr>
        <p:blipFill>
          <a:blip r:embed="rId1"/>
          <a:stretch/>
        </p:blipFill>
        <p:spPr>
          <a:xfrm>
            <a:off x="81000" y="609480"/>
            <a:ext cx="898200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C14-08EC-4F13-8182-999290958E3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d U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958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85300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3F8-E51C-41CB-8164-9E4342353E1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etter U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7212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72120" y="3535200"/>
            <a:ext cx="2911680" cy="332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19520" y="76320"/>
            <a:ext cx="2938320" cy="3352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19520" y="3522600"/>
            <a:ext cx="29178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E43-F0F7-4455-AE0C-481082FD9C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6 Evaluating User Interfa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bility can only be assured by careful evaluat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uristic evaluatio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Pick some use cases to evalu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For each window, page or dialog that appears during the execution of the use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y it in detail to look for possible usability defec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When you discover a usability defect write down the following inform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hort description of the defec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r ideas for how the defect might be fix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2B6-E741-41B3-8A69-561C34DC31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aluating User Interf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aluation by observation of user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users corresponding to each of the most important a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the most important use ca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 sufficient instructions about each of the scenari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range evaluation sessions with us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lain the purpose of the eval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ferably videotape each ses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verse with the users as they are performing the tas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he users finish all the tasks, de-brief th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 note of any difficulties experienced by the us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ulate recommended chan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A7A-8466-4050-A886-4788B1342B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7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ing a Simple GUI in Ja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bstract Window Toolkit (AWT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n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the basic building blocks of any graphical interfa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ton, TextField, List, Label, ScrollB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ntain the components constituting the GU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me, Dialog and Pa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youtManag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define the way components are laid out in a contain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idLayout, BorderLay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C08-E023-490A-9DBB-888CBEEDBF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219320"/>
            <a:ext cx="6095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lientGU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Ch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closeB = new Button("Clos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openB = new Button("Ope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sendB = new Button("Sen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quitB = new Button("Qu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ortTxF = new TextField(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hostTxF = new TextField(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message = new TextFie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ortLB =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Port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hostLB =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Host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messageLB =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Message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st messageList =  new 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9113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52A-8875-476F-B9BA-10651953667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914400"/>
            <a:ext cx="6705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ientGUI(String host, int p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"Simple Ch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300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5,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bottom = new Pan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"Center", message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"South", bottom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setLayout(new GridLayout(5,2,5,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host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hostTx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port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portTx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message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mess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open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send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close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quit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98F-3092-48DA-A3E7-BEF1D091039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066680"/>
            <a:ext cx="7467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B.addActionListener(new ActionListen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.sendToServer(message.getT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 (Exception 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add(ex.toString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makeVisible(messageList.getItemCount()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setBackground(Color.yell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CFF-7D7C-471D-963B-C4C571E53EF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Difficulties and Risks in Use Ca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odelling and UI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s differ wid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ount for differences among users when you design the syst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it for internationaliz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 perform usability studies, try the system with many different types of us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implementation technology changes rapid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ick to simpler UI frameworks widely used by oth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fancy and unusual UI designs involving specialized controls that will be hard to chan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09F-E53D-4B1E-B937-0450B7D7C44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iculties and Risks in Use Case Modelling and UI Des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design and implementation can often take the majority of work in an applic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UI design an integral part of the software engineering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cate time for many iterations of prototyping and evaluat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ers often underestimate the weaknesses of a G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all software engineers have training in UI develop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ways test with us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y the UIs of other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8BC-0253-45F4-ACE4-3D817D9DEC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2 Characteristics of Us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ftware engineers must develop an understanding of the user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chp7_2" descr=""/>
          <p:cNvPicPr/>
          <p:nvPr/>
        </p:nvPicPr>
        <p:blipFill>
          <a:blip r:embed="rId1"/>
          <a:stretch/>
        </p:blipFill>
        <p:spPr>
          <a:xfrm>
            <a:off x="-57240" y="1752480"/>
            <a:ext cx="925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780-9261-49A9-883D-F1B7F8B2A4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3 Developing Use-Case Models of Syste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typical sequence of actions that a user performs in order to complete a given tas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bjective of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 analy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o model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the point of view of how users interact with thi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rying to achieve their objectiv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 mod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sists 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t of use ca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optional description or diagram indicating how they are rela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07E-F8E4-43CC-AF57-DADBB17C33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a use case should cover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ll sequence of step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he beginning of a task until the en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use case should describe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’s interac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the system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computations the system perfor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use case should be written so as to be a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pend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 possible from any particular user interface desig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use case should only include actions in which the actor interacts with the compu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8F5-6B9F-44E5-B6DB-9DC6D4EA99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cenario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n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use case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expresses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 occurren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use c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pecific actor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a specific time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specific dat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CD7-B1B4-44FF-898F-1B6D5E99E3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o describe a single use c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 Na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ive a short, descriptive name to the use cas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Actor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ist the actors who can perform this use case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 Goal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xplain what the actor or actors are trying to achiev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 Precondi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tate of the system before the use cas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 Descrip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ive a short informal descript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. Related use cas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. Step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Describe each step using a 2-column forma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. Postcondi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tate of the system in following complet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F36-2F96-4AEB-A33A-0B3F75B76C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1209600"/>
            <a:ext cx="63248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52D-C00A-4EF9-B89A-AE0E5ED4CA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2-02T23:04:32Z</dcterms:modified>
  <cp:revision>91</cp:revision>
  <dc:subject/>
  <dc:title>SEG 2100 Software Design II</dc:title>
</cp:coreProperties>
</file>