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37A-D2AC-42C5-ABE5-A1AB0973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5A8-5A2C-4D6D-8A39-20631255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0C4-9BAD-4956-8109-E850C23E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E66-33E5-4F2C-B985-D354FB4E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B6D-99E3-4B2C-99AA-C4521518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AF2-B940-408B-8739-B5305E7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E02-4CFD-4DB5-9007-0A8D1366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82F-059B-4DC9-8C66-E31F18F7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054-F4EE-4D57-B59A-4505420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26A-5787-47EC-9188-E5100ED7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1E5-41A2-45FC-BA72-0CE80D4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B28-28EA-49C9-B814-C6487AC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6FD-20F4-4601-B5FD-79CE35F4E5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8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ling Interactions and Behaviou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n object’s life ends, this is shown with an X at the end of the life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n example with object dele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8487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71B-90D6-454B-9475-3D6DD09CC0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boration diagrams – a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282000" y="2722680"/>
            <a:ext cx="155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: addTo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54280" y="3200400"/>
            <a:ext cx="2282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2722680"/>
            <a:ext cx="119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: &lt;&lt;create&gt;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035920" y="2884320"/>
            <a:ext cx="1031760" cy="630360"/>
            <a:chOff x="8035920" y="2884320"/>
            <a:chExt cx="1031760" cy="630360"/>
          </a:xfrm>
        </p:grpSpPr>
        <p:sp>
          <p:nvSpPr>
            <p:cNvPr id="298" name=""/>
            <p:cNvSpPr/>
            <p:nvPr/>
          </p:nvSpPr>
          <p:spPr>
            <a:xfrm>
              <a:off x="8205120" y="302724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5920" y="2884320"/>
              <a:ext cx="103176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68720" y="2884320"/>
            <a:ext cx="1195200" cy="630360"/>
            <a:chOff x="4968720" y="2884320"/>
            <a:chExt cx="1195200" cy="630360"/>
          </a:xfrm>
        </p:grpSpPr>
        <p:sp>
          <p:nvSpPr>
            <p:cNvPr id="301" name=""/>
            <p:cNvSpPr/>
            <p:nvPr/>
          </p:nvSpPr>
          <p:spPr>
            <a:xfrm>
              <a:off x="5132160" y="3003480"/>
              <a:ext cx="82548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99680" y="3005280"/>
              <a:ext cx="107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68720" y="2884320"/>
              <a:ext cx="119520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90720" y="2906640"/>
            <a:ext cx="1673280" cy="630360"/>
            <a:chOff x="990720" y="2906640"/>
            <a:chExt cx="1673280" cy="630360"/>
          </a:xfrm>
        </p:grpSpPr>
        <p:sp>
          <p:nvSpPr>
            <p:cNvPr id="305" name=""/>
            <p:cNvSpPr/>
            <p:nvPr/>
          </p:nvSpPr>
          <p:spPr>
            <a:xfrm>
              <a:off x="1175040" y="3003480"/>
              <a:ext cx="13050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2000" y="3005280"/>
              <a:ext cx="13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Se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90720" y="2906640"/>
              <a:ext cx="167328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6154200" y="3200400"/>
            <a:ext cx="1870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544560" y="3048120"/>
            <a:ext cx="39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71800" y="2982960"/>
            <a:ext cx="85680" cy="152280"/>
            <a:chOff x="3871800" y="2982960"/>
            <a:chExt cx="85680" cy="152280"/>
          </a:xfrm>
        </p:grpSpPr>
        <p:sp>
          <p:nvSpPr>
            <p:cNvPr id="311" name=""/>
            <p:cNvSpPr/>
            <p:nvPr/>
          </p:nvSpPr>
          <p:spPr>
            <a:xfrm>
              <a:off x="3871800" y="2982960"/>
              <a:ext cx="85680" cy="65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871800" y="3048120"/>
              <a:ext cx="85680" cy="8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 flipH="1">
            <a:off x="7002000" y="3048120"/>
            <a:ext cx="390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327800" y="2982960"/>
            <a:ext cx="87120" cy="152280"/>
            <a:chOff x="7327800" y="2982960"/>
            <a:chExt cx="87120" cy="152280"/>
          </a:xfrm>
        </p:grpSpPr>
        <p:sp>
          <p:nvSpPr>
            <p:cNvPr id="315" name=""/>
            <p:cNvSpPr/>
            <p:nvPr/>
          </p:nvSpPr>
          <p:spPr>
            <a:xfrm>
              <a:off x="7327800" y="2982960"/>
              <a:ext cx="87120" cy="65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327800" y="3048120"/>
              <a:ext cx="87120" cy="8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2600" y="3330720"/>
            <a:ext cx="39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522240" y="3243240"/>
            <a:ext cx="66600" cy="152280"/>
            <a:chOff x="3522240" y="3243240"/>
            <a:chExt cx="66600" cy="152280"/>
          </a:xfrm>
        </p:grpSpPr>
        <p:sp>
          <p:nvSpPr>
            <p:cNvPr id="319" name=""/>
            <p:cNvSpPr/>
            <p:nvPr/>
          </p:nvSpPr>
          <p:spPr>
            <a:xfrm flipH="1">
              <a:off x="3522240" y="3243240"/>
              <a:ext cx="66600" cy="87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522240" y="3330720"/>
              <a:ext cx="66600" cy="64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757600" y="3375000"/>
            <a:ext cx="207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: addToRegistration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63D-7F65-4D91-BCC0-DD0ED53E50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aboration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aboration diagrams emphasise how the objects collaborate in order to realize an interac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llaboration diagram is a graph with the objects as the ve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 links are added between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ssages are attached to these link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n as arrows labelled with the message na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me ordering is indicated by prefixing the message with some numbering sche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BE8-BE78-4E78-ADD9-D76C5E77D7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boratio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60040" y="3027240"/>
            <a:ext cx="3092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59640" y="2440080"/>
            <a:ext cx="23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: requestToRegister(aStud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7840" y="262404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local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62680" y="424332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: 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440" y="44276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5560" y="398628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Studen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45080" y="417024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tud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9520" y="3865680"/>
            <a:ext cx="1047600" cy="625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46920" y="3809880"/>
            <a:ext cx="1032480" cy="533520"/>
            <a:chOff x="6046920" y="3809880"/>
            <a:chExt cx="1032480" cy="533520"/>
          </a:xfrm>
        </p:grpSpPr>
        <p:sp>
          <p:nvSpPr>
            <p:cNvPr id="334" name=""/>
            <p:cNvSpPr/>
            <p:nvPr/>
          </p:nvSpPr>
          <p:spPr>
            <a:xfrm>
              <a:off x="6155280" y="3911760"/>
              <a:ext cx="924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46920" y="3809880"/>
              <a:ext cx="101268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869000" y="2706840"/>
            <a:ext cx="1417680" cy="533160"/>
            <a:chOff x="4869000" y="2706840"/>
            <a:chExt cx="1417680" cy="533160"/>
          </a:xfrm>
        </p:grpSpPr>
        <p:sp>
          <p:nvSpPr>
            <p:cNvPr id="337" name=""/>
            <p:cNvSpPr/>
            <p:nvPr/>
          </p:nvSpPr>
          <p:spPr>
            <a:xfrm>
              <a:off x="5006880" y="2789280"/>
              <a:ext cx="110484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90320" y="278928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S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69000" y="2706840"/>
              <a:ext cx="141768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76400" y="2743200"/>
            <a:ext cx="681120" cy="533520"/>
            <a:chOff x="1076400" y="2743200"/>
            <a:chExt cx="681120" cy="533520"/>
          </a:xfrm>
        </p:grpSpPr>
        <p:sp>
          <p:nvSpPr>
            <p:cNvPr id="341" name=""/>
            <p:cNvSpPr/>
            <p:nvPr/>
          </p:nvSpPr>
          <p:spPr>
            <a:xfrm>
              <a:off x="1261080" y="282564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76400" y="2743200"/>
              <a:ext cx="6811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237520" y="2706840"/>
            <a:ext cx="754200" cy="533160"/>
            <a:chOff x="8237520" y="2706840"/>
            <a:chExt cx="754200" cy="533160"/>
          </a:xfrm>
        </p:grpSpPr>
        <p:sp>
          <p:nvSpPr>
            <p:cNvPr id="344" name=""/>
            <p:cNvSpPr/>
            <p:nvPr/>
          </p:nvSpPr>
          <p:spPr>
            <a:xfrm>
              <a:off x="8237520" y="2706840"/>
              <a:ext cx="75420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72080" y="280836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26880" y="34146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: [hasPrerequisite]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49520" y="359892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6720" y="2384280"/>
            <a:ext cx="199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: prereq := 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75840" y="3193920"/>
            <a:ext cx="151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: hasPrerequisite 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56960" y="337824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sPassedCourse(prereq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51960" y="356220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619080" y="3162240"/>
            <a:ext cx="123372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06840" y="4076640"/>
            <a:ext cx="2430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57880" y="3230640"/>
            <a:ext cx="38736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73320" y="2843280"/>
            <a:ext cx="331920" cy="147240"/>
            <a:chOff x="3073320" y="2843280"/>
            <a:chExt cx="331920" cy="147240"/>
          </a:xfrm>
        </p:grpSpPr>
        <p:sp>
          <p:nvSpPr>
            <p:cNvPr id="356" name=""/>
            <p:cNvSpPr/>
            <p:nvPr/>
          </p:nvSpPr>
          <p:spPr>
            <a:xfrm flipH="1">
              <a:off x="3073320" y="2917800"/>
              <a:ext cx="331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49800" y="2843280"/>
              <a:ext cx="55440" cy="147240"/>
              <a:chOff x="3349800" y="2843280"/>
              <a:chExt cx="55440" cy="147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349800" y="2843280"/>
                <a:ext cx="554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349800" y="2917440"/>
                <a:ext cx="55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4711320" y="4114800"/>
            <a:ext cx="351360" cy="145800"/>
            <a:chOff x="4711320" y="4114800"/>
            <a:chExt cx="351360" cy="145800"/>
          </a:xfrm>
        </p:grpSpPr>
        <p:sp>
          <p:nvSpPr>
            <p:cNvPr id="361" name=""/>
            <p:cNvSpPr/>
            <p:nvPr/>
          </p:nvSpPr>
          <p:spPr>
            <a:xfrm>
              <a:off x="4730760" y="4187880"/>
              <a:ext cx="331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711320" y="4114800"/>
              <a:ext cx="74520" cy="145800"/>
              <a:chOff x="4711320" y="4114800"/>
              <a:chExt cx="74520" cy="14580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4711320" y="4114800"/>
                <a:ext cx="74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4711320" y="4187520"/>
                <a:ext cx="74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3662280" y="3543480"/>
            <a:ext cx="312840" cy="183600"/>
            <a:chOff x="3662280" y="3543480"/>
            <a:chExt cx="312840" cy="183600"/>
          </a:xfrm>
        </p:grpSpPr>
        <p:sp>
          <p:nvSpPr>
            <p:cNvPr id="366" name=""/>
            <p:cNvSpPr/>
            <p:nvPr/>
          </p:nvSpPr>
          <p:spPr>
            <a:xfrm flipV="1">
              <a:off x="3681360" y="3543480"/>
              <a:ext cx="29376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662280" y="3616200"/>
              <a:ext cx="92160" cy="110880"/>
              <a:chOff x="3662280" y="3616200"/>
              <a:chExt cx="92160" cy="11088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3662280" y="3616200"/>
                <a:ext cx="36720" cy="7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662280" y="3690720"/>
                <a:ext cx="9216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6221160" y="3377880"/>
            <a:ext cx="220680" cy="294120"/>
            <a:chOff x="6221160" y="3377880"/>
            <a:chExt cx="220680" cy="294120"/>
          </a:xfrm>
        </p:grpSpPr>
        <p:sp>
          <p:nvSpPr>
            <p:cNvPr id="371" name=""/>
            <p:cNvSpPr/>
            <p:nvPr/>
          </p:nvSpPr>
          <p:spPr>
            <a:xfrm flipH="1" flipV="1">
              <a:off x="6221160" y="3377880"/>
              <a:ext cx="18396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13320" y="3579840"/>
              <a:ext cx="128520" cy="92160"/>
              <a:chOff x="6313320" y="3579840"/>
              <a:chExt cx="128520" cy="9216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6424200" y="3579840"/>
                <a:ext cx="17640" cy="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13320" y="3654360"/>
                <a:ext cx="111240" cy="1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6405480" y="3285720"/>
            <a:ext cx="220680" cy="294120"/>
            <a:chOff x="6405480" y="3285720"/>
            <a:chExt cx="220680" cy="294120"/>
          </a:xfrm>
        </p:grpSpPr>
        <p:sp>
          <p:nvSpPr>
            <p:cNvPr id="376" name=""/>
            <p:cNvSpPr/>
            <p:nvPr/>
          </p:nvSpPr>
          <p:spPr>
            <a:xfrm>
              <a:off x="6442200" y="3303720"/>
              <a:ext cx="18396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6405480" y="3285720"/>
              <a:ext cx="128160" cy="92520"/>
              <a:chOff x="6405480" y="3285720"/>
              <a:chExt cx="128160" cy="9252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6405480" y="3286080"/>
                <a:ext cx="36720" cy="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6441840" y="3285720"/>
                <a:ext cx="91800" cy="1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6577200" y="3268800"/>
            <a:ext cx="178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: 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98400" y="345132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940440" y="2622600"/>
            <a:ext cx="330480" cy="128160"/>
            <a:chOff x="6940440" y="2622600"/>
            <a:chExt cx="330480" cy="128160"/>
          </a:xfrm>
        </p:grpSpPr>
        <p:sp>
          <p:nvSpPr>
            <p:cNvPr id="383" name=""/>
            <p:cNvSpPr/>
            <p:nvPr/>
          </p:nvSpPr>
          <p:spPr>
            <a:xfrm flipH="1">
              <a:off x="6940440" y="2678040"/>
              <a:ext cx="33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216920" y="2622600"/>
              <a:ext cx="54000" cy="128160"/>
              <a:chOff x="7216920" y="2622600"/>
              <a:chExt cx="54000" cy="128160"/>
            </a:xfrm>
          </p:grpSpPr>
          <p:sp>
            <p:nvSpPr>
              <p:cNvPr id="385" name=""/>
              <p:cNvSpPr/>
              <p:nvPr/>
            </p:nvSpPr>
            <p:spPr>
              <a:xfrm>
                <a:off x="7216920" y="2622600"/>
                <a:ext cx="54000" cy="5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216920" y="2677680"/>
                <a:ext cx="54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6289560" y="2770200"/>
            <a:ext cx="1933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1FB-5F65-435A-ACA5-9C8852F588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cation lin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munication link can exist between two objects whenever it is possible for one object to send a message to the other on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veral situations can make this message exchange possib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The classes of the two objects have an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ocia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tween th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the most common ca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ll messages are sent in the same direction, then probably the association can be made unidirection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CEC-A11F-45EE-8D0D-B33D97FEBF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 communication link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The receiving object is stored in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c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riable of the sending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often happens when the object is created in the sending method or when some computation returns an obje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ereotype to be used is «local» or [L]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A reference to the receiving object has been received as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met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ending meth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ereotype is «parameter» or [P]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87F-3216-4313-A8E1-19AE31FF9A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 communication lin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The receiving object is globa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the case when a reference to an object can be obtained using a static metho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ereotype «global», or a [G] symbol is used in this ca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The objects communicate over a networ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suggest to write «network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1DC-243F-449B-92E6-FAC06FBFF8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o choose between using a sequence or collaboration diagr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explicit the time ordering of the intera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s make time ordering explicit to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sequence diagrams are a natural choice when you build an interaction model from a use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it easy to add details to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aboration diagrams have less space for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3C2-B86B-4EDB-A678-2E38CB15DF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o choose between using a sequence or collaboration dia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aboration diagram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seen as a projection of the class diagra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ght be preferred when you a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riv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interaction diagram from a class diagra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also useful for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idat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ass dia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5BB-9A26-48A6-ADF4-ED0232737C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aboration diagrams and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llaboration diagram can be used to represent aspects of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93396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D67-7190-4C12-B500-795A15D4EF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1 Interaction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ction diagrams are used to model the dynamic aspects of a software syste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help you to visualize how the system ru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nteraction diagram is often built from a use case and a class diagra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bjective is to show how a set of objects accomplish the required interactions with an a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4D1-D97B-4852-B42D-B90D682682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4343400" y="1295280"/>
          <a:ext cx="4552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295280"/>
                    <a:ext cx="4552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2 State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n-GB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tate diagram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scribes the behaviour of a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some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system, or an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vidual objec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any given point in time, the system or object is in a certain stat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ing in a state means that it is will behave in a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 way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response to any events that occu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ven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ll cause the system to change st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new state, the system will behave in a different way to ev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tate diagra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directed graph where the nodes ar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tat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the arcs ar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ransition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5909760" y="91440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c-tac-to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DAF-B284-41F1-9D5E-D8EA85B2B2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6248520" y="152280"/>
          <a:ext cx="27432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52280"/>
                    <a:ext cx="27432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37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any given point in time, the system is in one st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will remain in this state until an event occurs that causes it to change stat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tate is represented by a rounded rectangle containing the name of the st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al stat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black circle represents the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tart st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8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ircle with a ring around it represents an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nd st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F4F-F639-4D73-8747-63071E6FBC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ransi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presents a change of state in response to an ev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considered to occu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stantaneous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bel on each transition is the event that causes the change of stat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248520" y="152280"/>
          <a:ext cx="27432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52280"/>
                    <a:ext cx="27432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374-6185-4BBF-92F7-50F48EFE33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 flipH="1">
            <a:off x="2850840" y="2997360"/>
            <a:ext cx="114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851200" y="2997000"/>
            <a:ext cx="144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62320" y="3432240"/>
            <a:ext cx="1440" cy="1193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2851200" y="2997360"/>
            <a:ext cx="412560" cy="412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2520" y="38908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3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55880" y="451008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86040" y="3065400"/>
            <a:ext cx="144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55880" y="32716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2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8920" y="5003640"/>
            <a:ext cx="1355400" cy="48276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02800" y="508320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06600" y="2571840"/>
            <a:ext cx="137772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88320" y="265104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06600" y="3787920"/>
            <a:ext cx="140004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89040" y="38448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885680" y="3697200"/>
            <a:ext cx="903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93880" y="3697200"/>
            <a:ext cx="921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6040" y="4281480"/>
            <a:ext cx="1440" cy="68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885680" y="4915080"/>
            <a:ext cx="903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3880" y="4915080"/>
            <a:ext cx="921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849400" y="4635000"/>
            <a:ext cx="412920" cy="41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077320" y="1596960"/>
            <a:ext cx="1440" cy="364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8000" y="3065400"/>
            <a:ext cx="180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90360" y="3133800"/>
            <a:ext cx="22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25s since exit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8200" y="3363840"/>
            <a:ext cx="137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 RedL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64240" y="5003640"/>
            <a:ext cx="1353960" cy="48276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38120" y="508320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41920" y="2571840"/>
            <a:ext cx="314316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48480" y="2651040"/>
            <a:ext cx="29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Change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3787920"/>
            <a:ext cx="140004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24360" y="38448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418000" y="3697200"/>
            <a:ext cx="921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27640" y="3697200"/>
            <a:ext cx="903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8000" y="4281480"/>
            <a:ext cx="1800" cy="68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418000" y="4927680"/>
            <a:ext cx="921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27640" y="4927680"/>
            <a:ext cx="903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07040" y="5245200"/>
            <a:ext cx="1970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90720" y="5106960"/>
            <a:ext cx="298440" cy="298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440000" y="5244840"/>
            <a:ext cx="68040" cy="9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0000" y="5176800"/>
            <a:ext cx="6804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97000" y="5245200"/>
            <a:ext cx="29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26040" y="5106960"/>
            <a:ext cx="298440" cy="298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686480" y="5244840"/>
            <a:ext cx="69840" cy="9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86480" y="5176800"/>
            <a:ext cx="6984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32320" y="5245200"/>
            <a:ext cx="29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35720" y="451008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55080" y="38908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3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8000" y="1849320"/>
            <a:ext cx="180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85680" y="2055960"/>
            <a:ext cx="19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ehicleWaitingTo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41920" y="1355760"/>
            <a:ext cx="238608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47040" y="1434960"/>
            <a:ext cx="214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No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418000" y="2481120"/>
            <a:ext cx="9216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27640" y="2481120"/>
            <a:ext cx="9036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7129440" y="1574640"/>
            <a:ext cx="684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129440" y="1504800"/>
            <a:ext cx="6840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39160" y="1574640"/>
            <a:ext cx="938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diagrams – an example of transition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ith time-outs an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304-02E4-41B5-9E5A-699FD0DC48A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diagrams – an example with conditional transition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680000" y="2082960"/>
            <a:ext cx="79200" cy="159840"/>
            <a:chOff x="4680000" y="2082960"/>
            <a:chExt cx="79200" cy="159840"/>
          </a:xfrm>
        </p:grpSpPr>
        <p:sp>
          <p:nvSpPr>
            <p:cNvPr id="472" name=""/>
            <p:cNvSpPr/>
            <p:nvPr/>
          </p:nvSpPr>
          <p:spPr>
            <a:xfrm>
              <a:off x="4680000" y="2082960"/>
              <a:ext cx="7920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680000" y="2161800"/>
              <a:ext cx="792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7197120" y="2990880"/>
            <a:ext cx="1468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96040" y="344484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65800" y="3543480"/>
            <a:ext cx="1440" cy="876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33880" y="2062080"/>
            <a:ext cx="263520" cy="262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274640" y="2162160"/>
            <a:ext cx="484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4120" y="45054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5960" y="4565520"/>
            <a:ext cx="2219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51800" y="4788000"/>
            <a:ext cx="183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assSize &gt;= max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641680" y="3171960"/>
            <a:ext cx="1512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79960" y="337500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65800" y="2476440"/>
            <a:ext cx="1440" cy="52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21240" y="2506680"/>
            <a:ext cx="134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n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1990800"/>
            <a:ext cx="119232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33160" y="208296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76880" y="4524480"/>
            <a:ext cx="199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35400" y="3132000"/>
            <a:ext cx="23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Not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3800" y="4413240"/>
            <a:ext cx="99036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284800" y="2930400"/>
            <a:ext cx="161640" cy="79560"/>
            <a:chOff x="5284800" y="2930400"/>
            <a:chExt cx="161640" cy="79560"/>
          </a:xfrm>
        </p:grpSpPr>
        <p:sp>
          <p:nvSpPr>
            <p:cNvPr id="492" name=""/>
            <p:cNvSpPr/>
            <p:nvPr/>
          </p:nvSpPr>
          <p:spPr>
            <a:xfrm flipH="1">
              <a:off x="5365440" y="2930400"/>
              <a:ext cx="81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84800" y="2930400"/>
              <a:ext cx="81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620440" y="3090960"/>
            <a:ext cx="81000" cy="161640"/>
            <a:chOff x="2620440" y="3090960"/>
            <a:chExt cx="81000" cy="161640"/>
          </a:xfrm>
        </p:grpSpPr>
        <p:sp>
          <p:nvSpPr>
            <p:cNvPr id="495" name=""/>
            <p:cNvSpPr/>
            <p:nvPr/>
          </p:nvSpPr>
          <p:spPr>
            <a:xfrm flipH="1" flipV="1">
              <a:off x="2620440" y="317160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0440" y="30909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441760" y="3798720"/>
            <a:ext cx="178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assSize &gt;=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30080" y="4424400"/>
            <a:ext cx="1488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34040" y="480060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076480" y="4484520"/>
            <a:ext cx="79200" cy="141480"/>
            <a:chOff x="2076480" y="4484520"/>
            <a:chExt cx="79200" cy="141480"/>
          </a:xfrm>
        </p:grpSpPr>
        <p:sp>
          <p:nvSpPr>
            <p:cNvPr id="501" name=""/>
            <p:cNvSpPr/>
            <p:nvPr/>
          </p:nvSpPr>
          <p:spPr>
            <a:xfrm flipH="1" flipV="1">
              <a:off x="2076480" y="4565520"/>
              <a:ext cx="792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076480" y="4484520"/>
              <a:ext cx="792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284800" y="4313160"/>
            <a:ext cx="161640" cy="81000"/>
            <a:chOff x="5284800" y="4313160"/>
            <a:chExt cx="161640" cy="81000"/>
          </a:xfrm>
        </p:grpSpPr>
        <p:sp>
          <p:nvSpPr>
            <p:cNvPr id="504" name=""/>
            <p:cNvSpPr/>
            <p:nvPr/>
          </p:nvSpPr>
          <p:spPr>
            <a:xfrm flipH="1">
              <a:off x="5365440" y="43131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84800" y="43131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454800" y="2909880"/>
            <a:ext cx="72684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3" y="3722"/>
                </a:moveTo>
                <a:arcTo wR="10800" hR="10800" stAng="-8342941" swAng="16639720"/>
                <a:lnTo>
                  <a:pt x="10800" y="10800"/>
                </a:lnTo>
                <a:close/>
              </a:path>
              <a:path fill="none" w="21600" h="21600">
                <a:moveTo>
                  <a:pt x="2643" y="3722"/>
                </a:moveTo>
                <a:arcTo wR="10800" hR="10800" stAng="-8342941" swAng="1663972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65240" y="2919240"/>
            <a:ext cx="706680" cy="70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3" y="3722"/>
                </a:moveTo>
                <a:arcTo wR="10800" hR="10800" stAng="-8342941" swAng="16639720"/>
                <a:lnTo>
                  <a:pt x="10800" y="10800"/>
                </a:lnTo>
                <a:close/>
              </a:path>
              <a:path fill="none" w="21600" h="21600">
                <a:moveTo>
                  <a:pt x="2643" y="3722"/>
                </a:moveTo>
                <a:arcTo wR="10800" hR="10800" stAng="-8342941" swAng="16639720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94600" y="4282920"/>
            <a:ext cx="725040" cy="7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39" y="3726"/>
                </a:moveTo>
                <a:arcTo wR="10800" hR="10800" stAng="-8344725" swAng="16641504"/>
                <a:lnTo>
                  <a:pt x="10800" y="10800"/>
                </a:lnTo>
                <a:close/>
              </a:path>
              <a:path fill="none" w="21600" h="21600">
                <a:moveTo>
                  <a:pt x="2639" y="3726"/>
                </a:moveTo>
                <a:arcTo wR="10800" hR="10800" stAng="-8344725" swAng="16641504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05400" y="4292640"/>
            <a:ext cx="706320" cy="7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39" y="3726"/>
                </a:moveTo>
                <a:arcTo wR="10800" hR="10800" stAng="-8344725" swAng="16641504"/>
                <a:lnTo>
                  <a:pt x="10800" y="10800"/>
                </a:lnTo>
                <a:close/>
              </a:path>
              <a:path fill="none" w="21600" h="21600">
                <a:moveTo>
                  <a:pt x="2639" y="3726"/>
                </a:moveTo>
                <a:arcTo wR="10800" hR="10800" stAng="-8344725" swAng="16641504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05240" y="4413240"/>
            <a:ext cx="216072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4120" y="3040200"/>
            <a:ext cx="2463840" cy="506160"/>
          </a:xfrm>
          <a:prstGeom prst="roundRect">
            <a:avLst>
              <a:gd name="adj" fmla="val 28847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375240" y="4867200"/>
            <a:ext cx="120600" cy="122400"/>
            <a:chOff x="6375240" y="4867200"/>
            <a:chExt cx="120600" cy="122400"/>
          </a:xfrm>
        </p:grpSpPr>
        <p:sp>
          <p:nvSpPr>
            <p:cNvPr id="513" name=""/>
            <p:cNvSpPr/>
            <p:nvPr/>
          </p:nvSpPr>
          <p:spPr>
            <a:xfrm flipV="1">
              <a:off x="6375240" y="4888080"/>
              <a:ext cx="19080" cy="101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393960" y="4867200"/>
              <a:ext cx="101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556320" y="3495600"/>
            <a:ext cx="100080" cy="100080"/>
            <a:chOff x="6556320" y="3495600"/>
            <a:chExt cx="100080" cy="100080"/>
          </a:xfrm>
        </p:grpSpPr>
        <p:sp>
          <p:nvSpPr>
            <p:cNvPr id="516" name=""/>
            <p:cNvSpPr/>
            <p:nvPr/>
          </p:nvSpPr>
          <p:spPr>
            <a:xfrm flipV="1">
              <a:off x="6556320" y="3495600"/>
              <a:ext cx="180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556320" y="3495600"/>
              <a:ext cx="100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H="1">
            <a:off x="2620800" y="3394080"/>
            <a:ext cx="1533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36720" y="290988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620440" y="3313080"/>
            <a:ext cx="81000" cy="141480"/>
            <a:chOff x="2620440" y="3313080"/>
            <a:chExt cx="81000" cy="141480"/>
          </a:xfrm>
        </p:grpSpPr>
        <p:sp>
          <p:nvSpPr>
            <p:cNvPr id="521" name=""/>
            <p:cNvSpPr/>
            <p:nvPr/>
          </p:nvSpPr>
          <p:spPr>
            <a:xfrm flipH="1" flipV="1">
              <a:off x="2620440" y="3394080"/>
              <a:ext cx="810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620440" y="331308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H="1">
            <a:off x="2063880" y="4767120"/>
            <a:ext cx="2219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33520" y="428292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063880" y="4686480"/>
            <a:ext cx="79200" cy="141120"/>
            <a:chOff x="2063880" y="4686480"/>
            <a:chExt cx="79200" cy="141120"/>
          </a:xfrm>
        </p:grpSpPr>
        <p:sp>
          <p:nvSpPr>
            <p:cNvPr id="526" name=""/>
            <p:cNvSpPr/>
            <p:nvPr/>
          </p:nvSpPr>
          <p:spPr>
            <a:xfrm flipH="1" flipV="1">
              <a:off x="2063880" y="4767120"/>
              <a:ext cx="792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063880" y="4686480"/>
              <a:ext cx="79200" cy="80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664080" y="383868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560320" y="3555720"/>
            <a:ext cx="1800360" cy="873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560320" y="3514680"/>
            <a:ext cx="81000" cy="122040"/>
            <a:chOff x="2560320" y="3514680"/>
            <a:chExt cx="81000" cy="122040"/>
          </a:xfrm>
        </p:grpSpPr>
        <p:sp>
          <p:nvSpPr>
            <p:cNvPr id="531" name=""/>
            <p:cNvSpPr/>
            <p:nvPr/>
          </p:nvSpPr>
          <p:spPr>
            <a:xfrm flipH="1">
              <a:off x="2560320" y="3514680"/>
              <a:ext cx="81000" cy="41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2560320" y="3555720"/>
              <a:ext cx="1908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602720" y="317196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0000" y="3081240"/>
            <a:ext cx="1191960" cy="48600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BEB-C8AA-4BEE-9BAB-4A04B95A88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vities in state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i="1" lang="en-GB" sz="20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ctivi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something that takes place while the system i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stat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takes a period of tim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ystem may take a transition out of the state in response to completion of the activi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other outgoing transition may result i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terruption of the activity, a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arly exit from the st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219320" y="1371600"/>
          <a:ext cx="7315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315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AA1-4210-431D-98C6-5666200F93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ons in state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i="1" lang="en-GB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ctio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something that takes place effectively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taneously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 particular transition is taken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pon entry into a particular state, 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pon exit from a particular 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tion should consume no noticeable amount of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752480" y="1219320"/>
          <a:ext cx="57628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19320"/>
                    <a:ext cx="57628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B0C-9AA5-4EBF-8937-8E1637DC98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diagrams – another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7543800" cy="26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A67-2A20-47DB-85E7-19724C32CA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sted substates and guar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tate diagram can be nested inside a stat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ates of the inner diagram are calle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tat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515960" y="3909960"/>
            <a:ext cx="7237440" cy="1193760"/>
          </a:xfrm>
          <a:prstGeom prst="roundRect">
            <a:avLst>
              <a:gd name="adj" fmla="val 22032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049480" y="4259160"/>
            <a:ext cx="722160" cy="433440"/>
            <a:chOff x="2049480" y="4259160"/>
            <a:chExt cx="722160" cy="433440"/>
          </a:xfrm>
        </p:grpSpPr>
        <p:sp>
          <p:nvSpPr>
            <p:cNvPr id="549" name=""/>
            <p:cNvSpPr/>
            <p:nvPr/>
          </p:nvSpPr>
          <p:spPr>
            <a:xfrm>
              <a:off x="2049480" y="4259160"/>
              <a:ext cx="72216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54320" y="4354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4906800" y="4259160"/>
            <a:ext cx="865440" cy="433440"/>
            <a:chOff x="4906800" y="4259160"/>
            <a:chExt cx="865440" cy="433440"/>
          </a:xfrm>
        </p:grpSpPr>
        <p:sp>
          <p:nvSpPr>
            <p:cNvPr id="552" name=""/>
            <p:cNvSpPr/>
            <p:nvPr/>
          </p:nvSpPr>
          <p:spPr>
            <a:xfrm>
              <a:off x="4906800" y="4259160"/>
              <a:ext cx="86544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67000" y="435456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867800" y="4259160"/>
            <a:ext cx="699840" cy="433440"/>
            <a:chOff x="7867800" y="4259160"/>
            <a:chExt cx="699840" cy="433440"/>
          </a:xfrm>
        </p:grpSpPr>
        <p:sp>
          <p:nvSpPr>
            <p:cNvPr id="555" name=""/>
            <p:cNvSpPr/>
            <p:nvPr/>
          </p:nvSpPr>
          <p:spPr>
            <a:xfrm>
              <a:off x="7867800" y="4259160"/>
              <a:ext cx="69984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48880" y="43545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7704000" y="2882880"/>
            <a:ext cx="966960" cy="433440"/>
          </a:xfrm>
          <a:prstGeom prst="roundRect">
            <a:avLst>
              <a:gd name="adj" fmla="val 34093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911360" y="29559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959120" y="3119400"/>
            <a:ext cx="225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43520" y="2995560"/>
            <a:ext cx="1809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60840" y="4394160"/>
            <a:ext cx="2117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760480" y="4599000"/>
            <a:ext cx="2136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99440" y="29559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14720" y="2882880"/>
            <a:ext cx="3639960" cy="433440"/>
          </a:xfrm>
          <a:prstGeom prst="roundRect">
            <a:avLst>
              <a:gd name="adj" fmla="val 34093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864040" y="3119400"/>
            <a:ext cx="61560" cy="165240"/>
            <a:chOff x="5864040" y="3119400"/>
            <a:chExt cx="61560" cy="165240"/>
          </a:xfrm>
        </p:grpSpPr>
        <p:sp>
          <p:nvSpPr>
            <p:cNvPr id="566" name=""/>
            <p:cNvSpPr/>
            <p:nvPr/>
          </p:nvSpPr>
          <p:spPr>
            <a:xfrm flipH="1" flipV="1">
              <a:off x="5864040" y="3201840"/>
              <a:ext cx="6156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864040" y="3119400"/>
              <a:ext cx="6156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690560" y="2995560"/>
            <a:ext cx="268560" cy="268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89040" y="4332240"/>
            <a:ext cx="266760" cy="266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43520" y="3201840"/>
            <a:ext cx="18511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00600" y="3325680"/>
            <a:ext cx="1800" cy="574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81600" y="4394160"/>
            <a:ext cx="2076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61080" y="4578480"/>
            <a:ext cx="20970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31960" y="4456080"/>
            <a:ext cx="289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81600" y="4518000"/>
            <a:ext cx="61920" cy="142560"/>
            <a:chOff x="5781600" y="4518000"/>
            <a:chExt cx="61920" cy="142560"/>
          </a:xfrm>
        </p:grpSpPr>
        <p:sp>
          <p:nvSpPr>
            <p:cNvPr id="576" name=""/>
            <p:cNvSpPr/>
            <p:nvPr/>
          </p:nvSpPr>
          <p:spPr>
            <a:xfrm flipH="1" flipV="1">
              <a:off x="5781600" y="457812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781600" y="4518000"/>
              <a:ext cx="619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781360" y="4518000"/>
            <a:ext cx="61920" cy="142560"/>
            <a:chOff x="2781360" y="4518000"/>
            <a:chExt cx="61920" cy="142560"/>
          </a:xfrm>
        </p:grpSpPr>
        <p:sp>
          <p:nvSpPr>
            <p:cNvPr id="579" name=""/>
            <p:cNvSpPr/>
            <p:nvPr/>
          </p:nvSpPr>
          <p:spPr>
            <a:xfrm flipH="1" flipV="1">
              <a:off x="2781360" y="457812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2781360" y="4518000"/>
              <a:ext cx="619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795920" y="4311720"/>
            <a:ext cx="82440" cy="144000"/>
            <a:chOff x="4795920" y="4311720"/>
            <a:chExt cx="82440" cy="144000"/>
          </a:xfrm>
        </p:grpSpPr>
        <p:sp>
          <p:nvSpPr>
            <p:cNvPr id="582" name=""/>
            <p:cNvSpPr/>
            <p:nvPr/>
          </p:nvSpPr>
          <p:spPr>
            <a:xfrm flipV="1">
              <a:off x="4795920" y="43732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95920" y="431172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775640" y="4311720"/>
            <a:ext cx="82440" cy="144000"/>
            <a:chOff x="7775640" y="4311720"/>
            <a:chExt cx="82440" cy="144000"/>
          </a:xfrm>
        </p:grpSpPr>
        <p:sp>
          <p:nvSpPr>
            <p:cNvPr id="585" name=""/>
            <p:cNvSpPr/>
            <p:nvPr/>
          </p:nvSpPr>
          <p:spPr>
            <a:xfrm flipV="1">
              <a:off x="7775640" y="43732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75640" y="431172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612200" y="2914560"/>
            <a:ext cx="61920" cy="163080"/>
            <a:chOff x="7612200" y="2914560"/>
            <a:chExt cx="61920" cy="163080"/>
          </a:xfrm>
        </p:grpSpPr>
        <p:sp>
          <p:nvSpPr>
            <p:cNvPr id="588" name=""/>
            <p:cNvSpPr/>
            <p:nvPr/>
          </p:nvSpPr>
          <p:spPr>
            <a:xfrm flipV="1">
              <a:off x="7612200" y="29952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12200" y="2914560"/>
              <a:ext cx="6192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618160" y="3325680"/>
            <a:ext cx="163080" cy="60480"/>
            <a:chOff x="5618160" y="3325680"/>
            <a:chExt cx="163080" cy="60480"/>
          </a:xfrm>
        </p:grpSpPr>
        <p:sp>
          <p:nvSpPr>
            <p:cNvPr id="591" name=""/>
            <p:cNvSpPr/>
            <p:nvPr/>
          </p:nvSpPr>
          <p:spPr>
            <a:xfrm flipV="1">
              <a:off x="5618160" y="3325680"/>
              <a:ext cx="82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700240" y="3325680"/>
              <a:ext cx="810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717640" y="3510000"/>
            <a:ext cx="9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Dr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41360" y="3962520"/>
            <a:ext cx="146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reachThir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40280" y="41673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883480" y="4578480"/>
            <a:ext cx="189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dropBelowThir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40760" y="3962520"/>
            <a:ext cx="168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reachSecon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40040" y="41673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1840" y="4578480"/>
            <a:ext cx="210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dropBelowSecon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40040" y="47829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49360" y="3325680"/>
            <a:ext cx="1800" cy="90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266920" y="4168800"/>
            <a:ext cx="165240" cy="60480"/>
            <a:chOff x="2266920" y="4168800"/>
            <a:chExt cx="165240" cy="60480"/>
          </a:xfrm>
        </p:grpSpPr>
        <p:sp>
          <p:nvSpPr>
            <p:cNvPr id="603" name=""/>
            <p:cNvSpPr/>
            <p:nvPr/>
          </p:nvSpPr>
          <p:spPr>
            <a:xfrm>
              <a:off x="2266920" y="4168800"/>
              <a:ext cx="82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349360" y="4168800"/>
              <a:ext cx="82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1800" y="351000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93200" y="351000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58920" y="351000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Neut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268960" y="3304800"/>
            <a:ext cx="1440" cy="9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86520" y="4148280"/>
            <a:ext cx="142560" cy="81000"/>
            <a:chOff x="5186520" y="4148280"/>
            <a:chExt cx="142560" cy="81000"/>
          </a:xfrm>
        </p:grpSpPr>
        <p:sp>
          <p:nvSpPr>
            <p:cNvPr id="610" name=""/>
            <p:cNvSpPr/>
            <p:nvPr/>
          </p:nvSpPr>
          <p:spPr>
            <a:xfrm>
              <a:off x="5186520" y="4148280"/>
              <a:ext cx="6192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48440" y="4148280"/>
              <a:ext cx="806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05120" y="3325680"/>
            <a:ext cx="1800" cy="554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624120" y="3817800"/>
            <a:ext cx="163800" cy="61920"/>
            <a:chOff x="3624120" y="3817800"/>
            <a:chExt cx="163800" cy="61920"/>
          </a:xfrm>
        </p:grpSpPr>
        <p:sp>
          <p:nvSpPr>
            <p:cNvPr id="614" name=""/>
            <p:cNvSpPr/>
            <p:nvPr/>
          </p:nvSpPr>
          <p:spPr>
            <a:xfrm>
              <a:off x="3624120" y="3817800"/>
              <a:ext cx="810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705120" y="38178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252480" y="318132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Neut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31240" y="2770200"/>
            <a:ext cx="121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Reve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184480" y="4681440"/>
            <a:ext cx="164520" cy="82800"/>
            <a:chOff x="2184480" y="4681440"/>
            <a:chExt cx="164520" cy="82800"/>
          </a:xfrm>
        </p:grpSpPr>
        <p:sp>
          <p:nvSpPr>
            <p:cNvPr id="619" name=""/>
            <p:cNvSpPr/>
            <p:nvPr/>
          </p:nvSpPr>
          <p:spPr>
            <a:xfrm flipV="1">
              <a:off x="218448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226656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266920" y="4702320"/>
            <a:ext cx="1440" cy="576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92280" y="5092560"/>
            <a:ext cx="1800" cy="185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66920" y="5278320"/>
            <a:ext cx="225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268960" y="4681440"/>
            <a:ext cx="163080" cy="82800"/>
            <a:chOff x="5268960" y="4681440"/>
            <a:chExt cx="163080" cy="82800"/>
          </a:xfrm>
        </p:grpSpPr>
        <p:sp>
          <p:nvSpPr>
            <p:cNvPr id="625" name=""/>
            <p:cNvSpPr/>
            <p:nvPr/>
          </p:nvSpPr>
          <p:spPr>
            <a:xfrm flipV="1">
              <a:off x="5268960" y="4681440"/>
              <a:ext cx="8100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34960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5349960" y="4702320"/>
            <a:ext cx="1440" cy="576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76760" y="5092560"/>
            <a:ext cx="1800" cy="185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49960" y="5278320"/>
            <a:ext cx="226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7760" y="529740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15440" y="529740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122560" y="3036960"/>
            <a:ext cx="82440" cy="164520"/>
            <a:chOff x="2122560" y="3036960"/>
            <a:chExt cx="82440" cy="164520"/>
          </a:xfrm>
        </p:grpSpPr>
        <p:sp>
          <p:nvSpPr>
            <p:cNvPr id="633" name=""/>
            <p:cNvSpPr/>
            <p:nvPr/>
          </p:nvSpPr>
          <p:spPr>
            <a:xfrm flipV="1">
              <a:off x="2122560" y="311904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22560" y="303696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938240" y="4394160"/>
            <a:ext cx="82800" cy="144360"/>
            <a:chOff x="1938240" y="4394160"/>
            <a:chExt cx="82800" cy="144360"/>
          </a:xfrm>
        </p:grpSpPr>
        <p:sp>
          <p:nvSpPr>
            <p:cNvPr id="636" name=""/>
            <p:cNvSpPr/>
            <p:nvPr/>
          </p:nvSpPr>
          <p:spPr>
            <a:xfrm flipV="1">
              <a:off x="1938240" y="44766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38240" y="4394160"/>
              <a:ext cx="8280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E0C-CF01-4A9D-BA2F-C7FBE3C50A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diagram – an example with subst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4379760" y="2716200"/>
            <a:ext cx="2821320" cy="2344680"/>
          </a:xfrm>
          <a:prstGeom prst="roundRect">
            <a:avLst>
              <a:gd name="adj" fmla="val 6579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2840" y="1855800"/>
            <a:ext cx="82440" cy="166320"/>
            <a:chOff x="4722840" y="1855800"/>
            <a:chExt cx="82440" cy="166320"/>
          </a:xfrm>
        </p:grpSpPr>
        <p:sp>
          <p:nvSpPr>
            <p:cNvPr id="641" name=""/>
            <p:cNvSpPr/>
            <p:nvPr/>
          </p:nvSpPr>
          <p:spPr>
            <a:xfrm>
              <a:off x="4722840" y="1855800"/>
              <a:ext cx="824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22840" y="19396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7306200" y="2666880"/>
            <a:ext cx="1641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11240" y="3124080"/>
            <a:ext cx="160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62320" y="1835280"/>
            <a:ext cx="270000" cy="26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308480" y="1940040"/>
            <a:ext cx="496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27720" y="2271600"/>
            <a:ext cx="1440" cy="746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7120" y="2290680"/>
            <a:ext cx="145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pen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15000" y="1762200"/>
            <a:ext cx="122544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96520" y="185580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80720" y="457200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81080" y="3141720"/>
            <a:ext cx="181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345280" y="2935440"/>
            <a:ext cx="164520" cy="61920"/>
            <a:chOff x="5345280" y="2935440"/>
            <a:chExt cx="164520" cy="61920"/>
          </a:xfrm>
        </p:grpSpPr>
        <p:sp>
          <p:nvSpPr>
            <p:cNvPr id="654" name=""/>
            <p:cNvSpPr/>
            <p:nvPr/>
          </p:nvSpPr>
          <p:spPr>
            <a:xfrm flipH="1">
              <a:off x="5427360" y="293544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45280" y="293544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5093280" y="3825720"/>
            <a:ext cx="191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assSize &gt;=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930920" y="4344840"/>
            <a:ext cx="164520" cy="82800"/>
            <a:chOff x="4930920" y="4344840"/>
            <a:chExt cx="164520" cy="82800"/>
          </a:xfrm>
        </p:grpSpPr>
        <p:sp>
          <p:nvSpPr>
            <p:cNvPr id="658" name=""/>
            <p:cNvSpPr/>
            <p:nvPr/>
          </p:nvSpPr>
          <p:spPr>
            <a:xfrm flipH="1">
              <a:off x="5013000" y="43448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30920" y="43448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59440" y="3349800"/>
            <a:ext cx="747360" cy="74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090" swAng="11115426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090" swAng="11115426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68800" y="3359160"/>
            <a:ext cx="72720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084" swAng="11115407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084" swAng="11115407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08360" y="4457880"/>
            <a:ext cx="178452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08360" y="3048120"/>
            <a:ext cx="2095560" cy="4982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6880" y="27068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210440" y="3992400"/>
            <a:ext cx="63360" cy="144720"/>
            <a:chOff x="7210440" y="3992400"/>
            <a:chExt cx="63360" cy="144720"/>
          </a:xfrm>
        </p:grpSpPr>
        <p:sp>
          <p:nvSpPr>
            <p:cNvPr id="666" name=""/>
            <p:cNvSpPr/>
            <p:nvPr/>
          </p:nvSpPr>
          <p:spPr>
            <a:xfrm flipH="1" flipV="1">
              <a:off x="7210440" y="4075200"/>
              <a:ext cx="6336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210440" y="3992400"/>
              <a:ext cx="6336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212120" y="45306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27160" y="4594320"/>
            <a:ext cx="25718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11840" y="4281480"/>
            <a:ext cx="19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assSize &gt;= max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29080" y="3162240"/>
            <a:ext cx="1720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53320" y="2913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00080" y="4437000"/>
            <a:ext cx="103824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608200" y="3079800"/>
            <a:ext cx="61920" cy="166680"/>
            <a:chOff x="2608200" y="3079800"/>
            <a:chExt cx="61920" cy="166680"/>
          </a:xfrm>
        </p:grpSpPr>
        <p:sp>
          <p:nvSpPr>
            <p:cNvPr id="675" name=""/>
            <p:cNvSpPr/>
            <p:nvPr/>
          </p:nvSpPr>
          <p:spPr>
            <a:xfrm flipH="1" flipV="1">
              <a:off x="2608200" y="3162240"/>
              <a:ext cx="6192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608200" y="30798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027160" y="4510080"/>
            <a:ext cx="82800" cy="146160"/>
            <a:chOff x="2027160" y="4510080"/>
            <a:chExt cx="82800" cy="146160"/>
          </a:xfrm>
        </p:grpSpPr>
        <p:sp>
          <p:nvSpPr>
            <p:cNvPr id="678" name=""/>
            <p:cNvSpPr/>
            <p:nvPr/>
          </p:nvSpPr>
          <p:spPr>
            <a:xfrm flipH="1" flipV="1">
              <a:off x="2027160" y="459432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027160" y="4510080"/>
              <a:ext cx="8280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587680" y="3390840"/>
            <a:ext cx="2011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29160" y="341136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608200" y="3308400"/>
            <a:ext cx="61920" cy="144360"/>
            <a:chOff x="2608200" y="3308400"/>
            <a:chExt cx="61920" cy="144360"/>
          </a:xfrm>
        </p:grpSpPr>
        <p:sp>
          <p:nvSpPr>
            <p:cNvPr id="683" name=""/>
            <p:cNvSpPr/>
            <p:nvPr/>
          </p:nvSpPr>
          <p:spPr>
            <a:xfrm flipH="1" flipV="1">
              <a:off x="2608200" y="3390840"/>
              <a:ext cx="6192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608200" y="33084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2027160" y="4800600"/>
            <a:ext cx="25718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38640" y="480060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027160" y="4718160"/>
            <a:ext cx="82800" cy="144360"/>
            <a:chOff x="2027160" y="4718160"/>
            <a:chExt cx="82800" cy="144360"/>
          </a:xfrm>
        </p:grpSpPr>
        <p:sp>
          <p:nvSpPr>
            <p:cNvPr id="688" name=""/>
            <p:cNvSpPr/>
            <p:nvPr/>
          </p:nvSpPr>
          <p:spPr>
            <a:xfrm flipH="1" flipV="1">
              <a:off x="2027160" y="48006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027160" y="4718160"/>
              <a:ext cx="8280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5013360" y="3556080"/>
            <a:ext cx="1440" cy="871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50440" y="264312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87280" y="2549520"/>
            <a:ext cx="1411560" cy="1413000"/>
          </a:xfrm>
          <a:custGeom>
            <a:avLst/>
            <a:gdLst>
              <a:gd name="textAreaLeft" fmla="*/ 44640 w 1411560"/>
              <a:gd name="textAreaRight" fmla="*/ 1366920 w 1411560"/>
              <a:gd name="textAreaTop" fmla="*/ 44640 h 1413000"/>
              <a:gd name="textAreaBottom" fmla="*/ 1368360 h 1413000"/>
            </a:gdLst>
            <a:ahLst/>
            <a:rect l="textAreaLeft" t="textAreaTop" r="textAreaRight" b="textAreaBottom"/>
            <a:pathLst>
              <a:path w="21600" h="21622">
                <a:moveTo>
                  <a:pt x="2348" y="0"/>
                </a:moveTo>
                <a:arcTo wR="2348" hR="2348" stAng="16200000" swAng="-5400000"/>
                <a:lnTo>
                  <a:pt x="0" y="19274"/>
                </a:lnTo>
                <a:arcTo wR="2348" hR="2348" stAng="10800000" swAng="-5400000"/>
                <a:lnTo>
                  <a:pt x="19252" y="21622"/>
                </a:lnTo>
                <a:arcTo wR="2348" hR="2348" stAng="5400000" swAng="-5400000"/>
                <a:lnTo>
                  <a:pt x="21600" y="2348"/>
                </a:lnTo>
                <a:arcTo wR="2348" hR="2348" stAng="0" swAng="-5400000"/>
                <a:close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81240" y="3017880"/>
            <a:ext cx="122220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70080" y="3006720"/>
            <a:ext cx="1224000" cy="706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16240" y="3016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9240" y="32241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regi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2880" y="343224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317680" y="2997360"/>
            <a:ext cx="165240" cy="16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6AC-B2E7-4015-8E7F-B640D1621E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actions and mess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ction diagrams show how a set of actors and objects communicate with each other to per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eps of a use case, 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teps of some other piece of functionalit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et of steps, taken together, is called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ction diagrams can show several different types of communic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method calls, messages send over th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se are all referred to a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ssag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A60-E71C-44A6-8BAC-909BD53BCE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3 Activity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i="1" lang="en-GB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ctivity diagra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like a state diagra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cept most transitions are caused by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vents, such as the completion of a comput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tivity diagr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used to understand the flow of work that an object or component perform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also be used to visualize the interrelation and interaction between different use cases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most often associated with several class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 of the strengths of activity diagrams is the representation of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urren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ctivit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5105520" y="1447920"/>
          <a:ext cx="3809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809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72C-8004-45C0-9FAB-DFAD2230C7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urrency is shown using forks, joins and rendezvous.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fork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s one incoming transition and multiple outgoing transition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xecution splits into two concurrent thread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endezvou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s multiple incoming and multiple outgoing transi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ce all the incoming transitions occur  all the outgoing transitions may occu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5105520" y="1447920"/>
          <a:ext cx="3809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809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6B6-7C63-493A-830E-27EC6F3144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oin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coming transitions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n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utgoing transition.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utgoing transition will be taken when all incoming transitions have occurred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coming transitions must be triggered in separate thread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incoming transition occurs, a wait condition occurs at the join until the other transitions occu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5105520" y="1447920"/>
          <a:ext cx="3809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809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25C-D849-419B-BC15-0ED404524A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la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vity diagrams are most often associated with several classe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artition of activities among the existing classes can be explicitly shown using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imla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4800600" y="1066680"/>
          <a:ext cx="4191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066680"/>
                    <a:ext cx="4191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21-84C0-4630-A5D9-4E5BB63603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4 Implementing Classes Based on Interaction and State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hould use these diagrams for the parts of your system that you find most comple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not for every cl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ction, activity and state diagrams help you create a correct implemen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particularly true when behaviour i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t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cross several use ca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a state diagram is useful when different conditions cause instances to respond differently to the same even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2CA-C599-4EBC-AB02-46A1B9E21B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nned’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false &amp;&amp; open == fa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celled’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==true &amp;&amp; registrationList.size()==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osed’ (course section is too full, or being taught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==true &amp;&amp; registrationList.size() &gt;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148-DFA2-4D2F-9D49-EBBF48AB07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n’  (accepting registration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EnoughStudents’ (substate of ‘Open’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 &amp;&amp; registrationList.size() &lt; course.getMinimum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oughStudents’  (substate of ‘Open’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 &amp;&amp; registrationList.size() &gt;= course.getMinimum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82F-7049-4913-9446-E7E79F2C69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2870280" y="2946240"/>
            <a:ext cx="374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118120" y="2890800"/>
            <a:ext cx="411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46760" y="2908440"/>
            <a:ext cx="430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82480" y="2665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254400" y="2600280"/>
            <a:ext cx="185400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263760" y="2984400"/>
            <a:ext cx="183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12440" y="268452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17120" y="304020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38960" y="2619360"/>
            <a:ext cx="119844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45520" y="2703600"/>
            <a:ext cx="111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57280" y="2600280"/>
            <a:ext cx="140328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67000" y="2984400"/>
            <a:ext cx="138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87120" y="268452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18920" y="3040200"/>
            <a:ext cx="110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186680" y="2655720"/>
            <a:ext cx="160956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196040" y="3040200"/>
            <a:ext cx="159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64400" y="2739960"/>
            <a:ext cx="70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48320" y="309708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348320" y="3321000"/>
            <a:ext cx="134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hasPassed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17480" y="326556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 diagra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A3A-5A59-4E3E-A013-0BE6561B7D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1371600" y="1295280"/>
            <a:ext cx="777240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ourseS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many-1 abstraction-occurence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ourse cour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1-many association to class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st registation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following are present only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initial state is ‘Planne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oolean ope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oolean closedOrCancelled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56B-FA6F-44A1-90F4-2903EC43E03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1600200" y="1432080"/>
            <a:ext cx="71629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ourseSection(Course cour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course = cour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List = new Linked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cancel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ancelled’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registerStuden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230-DCA5-48C4-84F7-C66D9A5123B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s found in interaction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s of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n as boxes with the class and object identifier underlin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the stick-person symbol as in use case diagra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n as arrows from actor to object, or from object to o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C47-7E45-4799-9B6D-98330373F2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1295280" y="1371600"/>
            <a:ext cx="72392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openRegistrati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!closedOrCancell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ust be in ‘Planned’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'OpenNotEnoughStudents'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209-0D2D-4A52-BAF8-8E2FD9E0C39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closeRegistration(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'Cancelled' or 'Closed' stat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gistrationList.size() &lt;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rse.getMinimum()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registerStudents();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ancelled’ stat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66E-AFFB-4E2C-A309-C6FD479674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990720" y="1062000"/>
            <a:ext cx="815328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requestToRegister(Student 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open)  // must be in one of the two 'Open'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interaction specified in the sequence dia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rse prereq = course.getPrerequisi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tudent.hasPassedCourse(prere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ndirectly calls addToRegistration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Registration(this, stud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heck for automatic transition to 'Closed'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gistrationList.size() &gt;= course.getMaximum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losed’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AC8-C520-4233-B75C-3CDBFBB4FDD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1143000"/>
            <a:ext cx="73911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ctivity associated with ‘Cancelled’ st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void unregisterStudent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 it = registrationList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it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 r = (Registration)it.nex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.unregisterStud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.remov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alled within this package only,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nstructor of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addToRegistrationList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 newRegis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List.add(newRegistra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41A-D356-4DAB-B349-6DEE59A70D6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5 Difficulties and Risks in Modelling Interactions and Behavi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ynamic modelling is a difficult skill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a large system there are a very large number of possible paths a system can tak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hard to choose the classes to which to allocate each behaviou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skilled developers lead the process, and ensure that all aspects of your models are properly reviewed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ork iteratively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 initial class diagrams, use cases, responsibilities, interaction diagrams and state diagram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go back and verify that all of these are consistent, modifying them as necessary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rawing different diagrams that capture related, but distinct, information will often highlight proble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01E-D0B4-4E31-9338-05FD1F02342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ing interaction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hould develop a class diagram and a use case model before starting to create an interaction diagram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kinds of interaction diagram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laboration diagra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0FE-2707-493E-A2D0-325BEDDE68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 – a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560600" y="2570040"/>
            <a:ext cx="1440" cy="1630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81960" y="2570040"/>
            <a:ext cx="1800" cy="1606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80280" y="3184560"/>
            <a:ext cx="1440" cy="992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46680" y="2570040"/>
            <a:ext cx="1440" cy="1630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1720" y="2971800"/>
            <a:ext cx="21272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3640" y="2712960"/>
            <a:ext cx="11811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8040" y="2712960"/>
            <a:ext cx="178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68920" y="3303720"/>
            <a:ext cx="118116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16440" y="3184560"/>
            <a:ext cx="151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1720" y="3184560"/>
            <a:ext cx="16527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09760" y="292428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67960" y="2027160"/>
            <a:ext cx="80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Stud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85000" y="1873080"/>
            <a:ext cx="134784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7240" y="2641680"/>
            <a:ext cx="8982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31280" y="264168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05640" y="2511360"/>
            <a:ext cx="130176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1040" y="2003400"/>
            <a:ext cx="14173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6560" y="2003400"/>
            <a:ext cx="148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Course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9440" y="1873080"/>
            <a:ext cx="182052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96040" y="3195720"/>
            <a:ext cx="190440" cy="73332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7640" y="3444840"/>
            <a:ext cx="18432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00120" y="2841480"/>
            <a:ext cx="190440" cy="125424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71240" y="1849320"/>
            <a:ext cx="354240" cy="720720"/>
            <a:chOff x="1371240" y="1849320"/>
            <a:chExt cx="354240" cy="720720"/>
          </a:xfrm>
        </p:grpSpPr>
        <p:sp>
          <p:nvSpPr>
            <p:cNvPr id="76" name=""/>
            <p:cNvSpPr/>
            <p:nvPr/>
          </p:nvSpPr>
          <p:spPr>
            <a:xfrm>
              <a:off x="1454040" y="1849320"/>
              <a:ext cx="212760" cy="23832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0600" y="2075040"/>
              <a:ext cx="1440" cy="377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60600" y="2452680"/>
              <a:ext cx="164880" cy="11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71240" y="2452680"/>
              <a:ext cx="189000" cy="11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371600" y="2216160"/>
              <a:ext cx="189000" cy="47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60600" y="2216160"/>
              <a:ext cx="164880" cy="47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909960" y="2629080"/>
            <a:ext cx="7308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9960" y="2865600"/>
            <a:ext cx="7308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9960" y="4046400"/>
            <a:ext cx="7308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3880" y="2913120"/>
            <a:ext cx="189000" cy="113508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3560" y="4046400"/>
            <a:ext cx="9684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7040" y="4046400"/>
            <a:ext cx="7164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47040" y="3809880"/>
            <a:ext cx="71640" cy="968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7040" y="333864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7040" y="286560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7040" y="310212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7040" y="262908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75760" y="3384720"/>
            <a:ext cx="190440" cy="47448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82480" y="3514680"/>
            <a:ext cx="210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68360" y="3798720"/>
            <a:ext cx="2217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038120" y="3727440"/>
            <a:ext cx="141480" cy="142560"/>
            <a:chOff x="4038120" y="3727440"/>
            <a:chExt cx="141480" cy="142560"/>
          </a:xfrm>
        </p:grpSpPr>
        <p:sp>
          <p:nvSpPr>
            <p:cNvPr id="97" name=""/>
            <p:cNvSpPr/>
            <p:nvPr/>
          </p:nvSpPr>
          <p:spPr>
            <a:xfrm flipH="1" flipV="1">
              <a:off x="4038120" y="3798360"/>
              <a:ext cx="14148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8120" y="372744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53000" y="3114720"/>
            <a:ext cx="141480" cy="164880"/>
            <a:chOff x="5553000" y="3114720"/>
            <a:chExt cx="141480" cy="164880"/>
          </a:xfrm>
        </p:grpSpPr>
        <p:sp>
          <p:nvSpPr>
            <p:cNvPr id="100" name=""/>
            <p:cNvSpPr/>
            <p:nvPr/>
          </p:nvSpPr>
          <p:spPr>
            <a:xfrm flipV="1">
              <a:off x="5553000" y="320832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3000" y="3114720"/>
              <a:ext cx="141480" cy="69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86040" y="2901960"/>
            <a:ext cx="142920" cy="141120"/>
            <a:chOff x="3686040" y="2901960"/>
            <a:chExt cx="142920" cy="141120"/>
          </a:xfrm>
        </p:grpSpPr>
        <p:sp>
          <p:nvSpPr>
            <p:cNvPr id="103" name=""/>
            <p:cNvSpPr/>
            <p:nvPr/>
          </p:nvSpPr>
          <p:spPr>
            <a:xfrm flipV="1">
              <a:off x="3686040" y="2971800"/>
              <a:ext cx="14292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6040" y="2901960"/>
              <a:ext cx="142920" cy="69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199360" y="3373560"/>
            <a:ext cx="141480" cy="142560"/>
            <a:chOff x="8199360" y="3373560"/>
            <a:chExt cx="141480" cy="142560"/>
          </a:xfrm>
        </p:grpSpPr>
        <p:sp>
          <p:nvSpPr>
            <p:cNvPr id="106" name=""/>
            <p:cNvSpPr/>
            <p:nvPr/>
          </p:nvSpPr>
          <p:spPr>
            <a:xfrm flipV="1">
              <a:off x="8199360" y="3444480"/>
              <a:ext cx="14148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9360" y="337356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46240" y="5184720"/>
            <a:ext cx="37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94440" y="5129280"/>
            <a:ext cx="411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3080" y="5146560"/>
            <a:ext cx="430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58800" y="49039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30720" y="4838760"/>
            <a:ext cx="185400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5222880"/>
            <a:ext cx="183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8760" y="492300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3440" y="527832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14920" y="4857840"/>
            <a:ext cx="119880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1840" y="4941720"/>
            <a:ext cx="111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4838760"/>
            <a:ext cx="1403280" cy="69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2960" y="5222880"/>
            <a:ext cx="13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3440" y="492300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5240" y="5278320"/>
            <a:ext cx="110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62640" y="4894200"/>
            <a:ext cx="160992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72360" y="5278320"/>
            <a:ext cx="159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4978440"/>
            <a:ext cx="70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24640" y="533556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24280" y="5559480"/>
            <a:ext cx="134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hasPassed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3800" y="550404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678-A8CF-4499-AE14-1344D44F61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quence diagram shows the sequence of messages exchanged by the set of objects performing a certain task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bjects are arranged horizontally across the dia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tor that initiates the interaction is often shown on the lef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vertical dimension represents tim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vertical line, called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felin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is attached to each object or acto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ifeline becomes a broad box, called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vation box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ing the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ive activ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i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ssage is represented as an arrow between activation boxes of the sender and recei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ssage is labelled and can have an argument list and a return valu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BEA-0B13-4692-9572-46BC20629E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204920" y="2592360"/>
            <a:ext cx="1440" cy="209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260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3000" y="4354560"/>
            <a:ext cx="1440" cy="311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6572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25200" y="2973240"/>
            <a:ext cx="1467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2973240"/>
            <a:ext cx="87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7120" y="2782800"/>
            <a:ext cx="863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59480" y="2782800"/>
            <a:ext cx="125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60920" y="295596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2000" y="4043520"/>
            <a:ext cx="107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178000"/>
            <a:ext cx="11048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05600" y="2195640"/>
            <a:ext cx="65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tud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4360" y="236844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0" y="2082960"/>
            <a:ext cx="98604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54720" y="2178000"/>
            <a:ext cx="6555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877000" y="3551400"/>
            <a:ext cx="950760" cy="501480"/>
            <a:chOff x="5877000" y="3551400"/>
            <a:chExt cx="950760" cy="501480"/>
          </a:xfrm>
        </p:grpSpPr>
        <p:sp>
          <p:nvSpPr>
            <p:cNvPr id="158" name=""/>
            <p:cNvSpPr/>
            <p:nvPr/>
          </p:nvSpPr>
          <p:spPr>
            <a:xfrm>
              <a:off x="5916600" y="3629160"/>
              <a:ext cx="85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7000" y="3551400"/>
              <a:ext cx="950760" cy="5014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86280" y="2178000"/>
            <a:ext cx="10364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1880" y="217800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Course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83160" y="2082960"/>
            <a:ext cx="133164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2640" y="4268880"/>
            <a:ext cx="1174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2065320"/>
            <a:ext cx="258840" cy="527040"/>
            <a:chOff x="1066680" y="2065320"/>
            <a:chExt cx="258840" cy="527040"/>
          </a:xfrm>
        </p:grpSpPr>
        <p:sp>
          <p:nvSpPr>
            <p:cNvPr id="165" name=""/>
            <p:cNvSpPr/>
            <p:nvPr/>
          </p:nvSpPr>
          <p:spPr>
            <a:xfrm>
              <a:off x="1127160" y="2065320"/>
              <a:ext cx="155520" cy="1746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04920" y="2230560"/>
              <a:ext cx="1440" cy="27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4920" y="2506680"/>
              <a:ext cx="120600" cy="8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066680" y="2506680"/>
              <a:ext cx="138240" cy="8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066680" y="2333160"/>
              <a:ext cx="138240" cy="34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4920" y="2333520"/>
              <a:ext cx="120600" cy="34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482560" y="21780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0240" y="2082960"/>
            <a:ext cx="62388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53160" y="2697120"/>
            <a:ext cx="125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04920" y="2886120"/>
            <a:ext cx="14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828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74160" y="2082960"/>
            <a:ext cx="81756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02320" y="219564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435200" y="3664080"/>
            <a:ext cx="14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9640" y="3473280"/>
            <a:ext cx="114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sPrerequisit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2880" y="364644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6296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4389480"/>
            <a:ext cx="1503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3056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0372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508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824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2104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420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6736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872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2200" y="4562640"/>
            <a:ext cx="1416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81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353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6216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90800" y="4535640"/>
            <a:ext cx="522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17640" y="4535640"/>
            <a:ext cx="5256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448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7168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85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204920" y="4562640"/>
            <a:ext cx="85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1280" y="2635200"/>
            <a:ext cx="5256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1280" y="2808360"/>
            <a:ext cx="5256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3872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3872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66000" y="4362480"/>
            <a:ext cx="53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6000" y="4535640"/>
            <a:ext cx="53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2520" y="4051440"/>
            <a:ext cx="139680" cy="3124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22880" y="453564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7960" y="2981160"/>
            <a:ext cx="139680" cy="1435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560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7560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75600" y="29811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75600" y="31543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75600" y="332568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75600" y="36720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75600" y="41911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75600" y="38448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75600" y="40179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75600" y="436248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7560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40680" y="4241880"/>
            <a:ext cx="139680" cy="12204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792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792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77920" y="29811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77920" y="31543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7920" y="332568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77920" y="34988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77920" y="36720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7920" y="38448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77920" y="40179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77920" y="41911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7920" y="436248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779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5960" y="2635200"/>
            <a:ext cx="7164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35960" y="28083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5960" y="29811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35960" y="3325680"/>
            <a:ext cx="7164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35960" y="367200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5960" y="40179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35960" y="419112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5960" y="4362480"/>
            <a:ext cx="71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360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535960" y="384480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35960" y="3498840"/>
            <a:ext cx="71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35720" y="28684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req 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33200" y="304164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02480" y="3049560"/>
            <a:ext cx="140040" cy="1746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35200" y="3076560"/>
            <a:ext cx="40417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75600" y="34988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9880" y="3111480"/>
            <a:ext cx="123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Prerequisite 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7000" y="328464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PassedCourse(pre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35200" y="3301920"/>
            <a:ext cx="27795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40680" y="3292560"/>
            <a:ext cx="139680" cy="1728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435560" y="4268880"/>
            <a:ext cx="102960" cy="120600"/>
            <a:chOff x="4435560" y="4268880"/>
            <a:chExt cx="102960" cy="120600"/>
          </a:xfrm>
        </p:grpSpPr>
        <p:sp>
          <p:nvSpPr>
            <p:cNvPr id="255" name=""/>
            <p:cNvSpPr/>
            <p:nvPr/>
          </p:nvSpPr>
          <p:spPr>
            <a:xfrm flipH="1" flipV="1">
              <a:off x="4435560" y="433692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435560" y="426888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112160" y="4199040"/>
            <a:ext cx="102960" cy="121680"/>
            <a:chOff x="7112160" y="4199040"/>
            <a:chExt cx="102960" cy="121680"/>
          </a:xfrm>
        </p:grpSpPr>
        <p:sp>
          <p:nvSpPr>
            <p:cNvPr id="258" name=""/>
            <p:cNvSpPr/>
            <p:nvPr/>
          </p:nvSpPr>
          <p:spPr>
            <a:xfrm flipV="1">
              <a:off x="7112160" y="42685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12160" y="419904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112160" y="3249720"/>
            <a:ext cx="102960" cy="102600"/>
            <a:chOff x="7112160" y="3249720"/>
            <a:chExt cx="102960" cy="102600"/>
          </a:xfrm>
        </p:grpSpPr>
        <p:sp>
          <p:nvSpPr>
            <p:cNvPr id="261" name=""/>
            <p:cNvSpPr/>
            <p:nvPr/>
          </p:nvSpPr>
          <p:spPr>
            <a:xfrm flipV="1">
              <a:off x="7112160" y="330156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32497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356680" y="3008160"/>
            <a:ext cx="102960" cy="120960"/>
            <a:chOff x="8356680" y="3008160"/>
            <a:chExt cx="102960" cy="120960"/>
          </a:xfrm>
        </p:grpSpPr>
        <p:sp>
          <p:nvSpPr>
            <p:cNvPr id="264" name=""/>
            <p:cNvSpPr/>
            <p:nvPr/>
          </p:nvSpPr>
          <p:spPr>
            <a:xfrm flipV="1">
              <a:off x="8356680" y="307656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6680" y="3008160"/>
              <a:ext cx="10296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462920" y="4113360"/>
            <a:ext cx="148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65760" y="3611520"/>
            <a:ext cx="102960" cy="104400"/>
            <a:chOff x="5765760" y="3611520"/>
            <a:chExt cx="102960" cy="104400"/>
          </a:xfrm>
        </p:grpSpPr>
        <p:sp>
          <p:nvSpPr>
            <p:cNvPr id="268" name=""/>
            <p:cNvSpPr/>
            <p:nvPr/>
          </p:nvSpPr>
          <p:spPr>
            <a:xfrm flipV="1">
              <a:off x="5765760" y="36637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5760" y="361152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176720" y="2921040"/>
            <a:ext cx="102960" cy="103320"/>
            <a:chOff x="4176720" y="2921040"/>
            <a:chExt cx="102960" cy="103320"/>
          </a:xfrm>
        </p:grpSpPr>
        <p:sp>
          <p:nvSpPr>
            <p:cNvPr id="271" name=""/>
            <p:cNvSpPr/>
            <p:nvPr/>
          </p:nvSpPr>
          <p:spPr>
            <a:xfrm flipV="1">
              <a:off x="4176720" y="2973240"/>
              <a:ext cx="10296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6720" y="292104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H="1">
            <a:off x="4452840" y="4336920"/>
            <a:ext cx="1571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740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8460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6360" y="2911320"/>
            <a:ext cx="139680" cy="1678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76680" y="4321080"/>
            <a:ext cx="102960" cy="120240"/>
            <a:chOff x="2776680" y="4321080"/>
            <a:chExt cx="102960" cy="120240"/>
          </a:xfrm>
        </p:grpSpPr>
        <p:sp>
          <p:nvSpPr>
            <p:cNvPr id="278" name=""/>
            <p:cNvSpPr/>
            <p:nvPr/>
          </p:nvSpPr>
          <p:spPr>
            <a:xfrm flipH="1" flipV="1">
              <a:off x="2776680" y="43891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76680" y="432108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204920" y="4510080"/>
            <a:ext cx="102960" cy="104400"/>
            <a:chOff x="1204920" y="4510080"/>
            <a:chExt cx="102960" cy="104400"/>
          </a:xfrm>
        </p:grpSpPr>
        <p:sp>
          <p:nvSpPr>
            <p:cNvPr id="281" name=""/>
            <p:cNvSpPr/>
            <p:nvPr/>
          </p:nvSpPr>
          <p:spPr>
            <a:xfrm flipH="1" flipV="1">
              <a:off x="1204920" y="456228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04920" y="451008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17840" y="2835360"/>
            <a:ext cx="102960" cy="102600"/>
            <a:chOff x="2517840" y="2835360"/>
            <a:chExt cx="102960" cy="102600"/>
          </a:xfrm>
        </p:grpSpPr>
        <p:sp>
          <p:nvSpPr>
            <p:cNvPr id="284" name=""/>
            <p:cNvSpPr/>
            <p:nvPr/>
          </p:nvSpPr>
          <p:spPr>
            <a:xfrm flipV="1">
              <a:off x="2517840" y="288576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7840" y="283536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5FF-4021-4DAD-A1DD-5D2680BB75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era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ver objects is indicated by an asterisk preceding the message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819520" y="5133960"/>
            <a:ext cx="3728880" cy="80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857920" cy="2668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n example with replicated mess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6B4-8339-4CE5-96C3-D4192C550F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2-03T14:28:04Z</dcterms:modified>
  <cp:revision>113</cp:revision>
  <dc:subject/>
  <dc:title>SEG 2100 Software Design II</dc:title>
</cp:coreProperties>
</file>