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6F11-4D77-4727-A286-4CE0C346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2BF-DA2E-401A-A796-060218A0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298-B178-4B20-B619-693B2714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7E3-0A6E-4C72-9CDC-6252BE48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459E-E758-48E3-B494-99D2AD48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288-B038-4C7E-A664-10A8C2C6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463-5659-4BF7-88F1-0BA08DDB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084-575B-4831-B0BA-78EAA836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C7B6-1C73-4F30-B361-C81DE2B1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7C2D-5D43-4729-9EB0-CF463978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19F-D41C-4740-B003-C5085735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3A1-2C87-4B12-88CB-301F0F9C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E21B-91BC-4052-AB6F-9447D0A4ED4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9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rchitecting and Designing Softwar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p-down and bottom-up desig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p-down desig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rst design the very high level structure of the system. Then gradually work down to detailed decisions about low-level constructs. Finally arrive at detailed decisions such a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ormat of particular data items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dividual algorithms that will be us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ttom-up desig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 decisions about reusable low-level utilities. Then decide how these will be put together to create high-level construc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mix of top-down and bottom-up approaches are normally used: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p-down design is almost always needed to give the system a good structure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ttom-up design is normally useful so that reusable components can be create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62EE-5038-42A7-81F3-D9C54446690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fferent aspects of desig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chitecture design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division into subsystems and components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these will be connec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they will interac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ir interfac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ass design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various features of class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ser interface desig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gorithm design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design of computational mechanism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ocol design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design of communications protoco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65A-7DC6-48D1-9DF3-37BAD324A5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9.2 Principles Leading to Good Desig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verall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goal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good design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asing profit by reducing cost and increasing reven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suring that we actually conform with the requireme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elerating developm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asing qualities (nonfunctional reqs) such 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li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tain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usabil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58B-1FD6-4B61-87DB-488117CD637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Design Principle 1: Divide and conqu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ying to deal with something big all at once is normally much harder than dealing with a series of smaller thing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te people can work on each par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individual software engineer can specializ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individual component is smaller, and therefore easier to understa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ts can be replaced or changed without having to replace or extensively change other par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E394-DC8A-4023-869A-CD46946B1F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ys of dividing a softwar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distributed system is divided up into clients and 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ystem is divided up into sub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ubsystem can be divided up into one or more pack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package is divided up into 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lass is divided up into method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3BAE-6254-460D-AF5B-204AE5B43CC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Design Principle 2: Increase cohesion where possib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vide th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s up into smaller chunks (divide-n-conquer), but do it intelligently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ubsystem or module has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high cohesion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it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keeps together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ings that are related to each other, and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keeps out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ther thing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makes the system as a whole easier to understand and chang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s of cohesio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ctional, Layer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municationa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quential, Procedura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mporal, Utilit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ACA5-78ED-4708-BFEC-F24D198E7A2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1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7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Functional cohe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is achieved when all the code that computes a particular result is kept together - and everything else is kept out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when a module only performs a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ngl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mputation, and returns a result,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ithout having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de-effect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123720"/>
            <a:ext cx="36957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module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cks side-effect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f performing the com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aves the system in the same state it was in before the com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never the same inputs are provided, the mo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e will always compute the same result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3048120"/>
            <a:ext cx="3924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th functions such as sine or cos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dules that update a database, create a new file or interact with the us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unctionally cohesiv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9455-6EB8-4E9F-8B46-0FB971B22350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7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Layer cohe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371600"/>
            <a:ext cx="75438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e facilities for providing or accessing a set of related services are kept together, and everything else is kept out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layers should form a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er layers can access services of lower lay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wer layers do not access higher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3124080"/>
            <a:ext cx="3695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et of procedures through which a layer provides its services is the </a:t>
            </a:r>
            <a:r>
              <a:rPr b="0" i="1" lang="en-GB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pplication programming interface (A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048120"/>
            <a:ext cx="3924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can replace a layer without having any impact on the other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just replicate the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5A6-459E-469E-AE8E-1610221F538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7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Examples of the use of lay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261040" y="1992240"/>
            <a:ext cx="1224720" cy="416160"/>
            <a:chOff x="5261040" y="1992240"/>
            <a:chExt cx="1224720" cy="416160"/>
          </a:xfrm>
        </p:grpSpPr>
        <p:sp>
          <p:nvSpPr>
            <p:cNvPr id="83" name=""/>
            <p:cNvSpPr/>
            <p:nvPr/>
          </p:nvSpPr>
          <p:spPr>
            <a:xfrm>
              <a:off x="5261040" y="2000160"/>
              <a:ext cx="1109520" cy="408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06120" y="1992240"/>
              <a:ext cx="1079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Screen displa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6840" y="2171880"/>
              <a:ext cx="58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faciliti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521320" y="2678040"/>
            <a:ext cx="1130040" cy="416160"/>
            <a:chOff x="5521320" y="2678040"/>
            <a:chExt cx="1130040" cy="416160"/>
          </a:xfrm>
        </p:grpSpPr>
        <p:sp>
          <p:nvSpPr>
            <p:cNvPr id="87" name=""/>
            <p:cNvSpPr/>
            <p:nvPr/>
          </p:nvSpPr>
          <p:spPr>
            <a:xfrm>
              <a:off x="5521320" y="2685960"/>
              <a:ext cx="1077840" cy="408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81520" y="2678040"/>
              <a:ext cx="96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User accou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44800" y="2857680"/>
              <a:ext cx="960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848200" y="3348000"/>
            <a:ext cx="1013040" cy="432000"/>
            <a:chOff x="5848200" y="3348000"/>
            <a:chExt cx="1013040" cy="432000"/>
          </a:xfrm>
        </p:grpSpPr>
        <p:sp>
          <p:nvSpPr>
            <p:cNvPr id="91" name=""/>
            <p:cNvSpPr/>
            <p:nvPr/>
          </p:nvSpPr>
          <p:spPr>
            <a:xfrm>
              <a:off x="5848200" y="3371760"/>
              <a:ext cx="1013040" cy="408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47720" y="334800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46120" y="3527280"/>
              <a:ext cx="522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851360" y="4041720"/>
            <a:ext cx="1602000" cy="604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45080" y="4033800"/>
            <a:ext cx="476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38920" y="4213080"/>
            <a:ext cx="1472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(handling proces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73920" y="4392720"/>
            <a:ext cx="1070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nd swapping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05200" y="1494000"/>
            <a:ext cx="1633680" cy="245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1880" y="1486080"/>
            <a:ext cx="1546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pplication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346800" y="3771720"/>
            <a:ext cx="1440" cy="261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281640" y="3101760"/>
            <a:ext cx="1800" cy="245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76840" y="3102120"/>
            <a:ext cx="1800" cy="914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954760" y="2415960"/>
            <a:ext cx="1440" cy="245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5120" y="2416320"/>
            <a:ext cx="1440" cy="1600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791320" y="1730160"/>
            <a:ext cx="1440" cy="245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170320" y="1730520"/>
            <a:ext cx="1800" cy="228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00200" y="2865600"/>
            <a:ext cx="719280" cy="409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58680" y="285768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77240" y="3036960"/>
            <a:ext cx="63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62000" y="3551400"/>
            <a:ext cx="1797120" cy="409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9400" y="3543480"/>
            <a:ext cx="805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22680" y="3722760"/>
            <a:ext cx="33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68520" y="4237200"/>
            <a:ext cx="784440" cy="409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14680" y="4229280"/>
            <a:ext cx="704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12160" y="440856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349800" y="4229280"/>
            <a:ext cx="1207440" cy="417240"/>
            <a:chOff x="3349800" y="4229280"/>
            <a:chExt cx="1207440" cy="417240"/>
          </a:xfrm>
        </p:grpSpPr>
        <p:sp>
          <p:nvSpPr>
            <p:cNvPr id="117" name=""/>
            <p:cNvSpPr/>
            <p:nvPr/>
          </p:nvSpPr>
          <p:spPr>
            <a:xfrm>
              <a:off x="3349800" y="4237200"/>
              <a:ext cx="1160280" cy="409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25280" y="422928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50240" y="440856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 flipV="1">
            <a:off x="3684600" y="3968280"/>
            <a:ext cx="1440" cy="244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900520" y="3968280"/>
            <a:ext cx="1440" cy="244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52640" y="3282480"/>
            <a:ext cx="1800" cy="244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383600" y="4229280"/>
            <a:ext cx="1089360" cy="417240"/>
            <a:chOff x="7383600" y="4229280"/>
            <a:chExt cx="1089360" cy="417240"/>
          </a:xfrm>
        </p:grpSpPr>
        <p:sp>
          <p:nvSpPr>
            <p:cNvPr id="124" name=""/>
            <p:cNvSpPr/>
            <p:nvPr/>
          </p:nvSpPr>
          <p:spPr>
            <a:xfrm>
              <a:off x="7383600" y="4237200"/>
              <a:ext cx="1044360" cy="409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66840" y="4229280"/>
              <a:ext cx="906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Transmit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72520" y="4408560"/>
              <a:ext cx="979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and receiv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415280" y="3543480"/>
            <a:ext cx="1053000" cy="417240"/>
            <a:chOff x="7415280" y="3543480"/>
            <a:chExt cx="1053000" cy="417240"/>
          </a:xfrm>
        </p:grpSpPr>
        <p:sp>
          <p:nvSpPr>
            <p:cNvPr id="128" name=""/>
            <p:cNvSpPr/>
            <p:nvPr/>
          </p:nvSpPr>
          <p:spPr>
            <a:xfrm>
              <a:off x="7415280" y="3551400"/>
              <a:ext cx="981000" cy="409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71520" y="3543480"/>
              <a:ext cx="896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Dealing wit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30560" y="372276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packe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415280" y="2857680"/>
            <a:ext cx="1053000" cy="417240"/>
            <a:chOff x="7415280" y="2857680"/>
            <a:chExt cx="1053000" cy="417240"/>
          </a:xfrm>
        </p:grpSpPr>
        <p:sp>
          <p:nvSpPr>
            <p:cNvPr id="132" name=""/>
            <p:cNvSpPr/>
            <p:nvPr/>
          </p:nvSpPr>
          <p:spPr>
            <a:xfrm>
              <a:off x="7415280" y="2865600"/>
              <a:ext cx="981000" cy="409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71520" y="2857680"/>
              <a:ext cx="896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Dealing wit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06720" y="3036960"/>
              <a:ext cx="87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connec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121520" y="2187720"/>
            <a:ext cx="1608120" cy="417240"/>
            <a:chOff x="7121520" y="2187720"/>
            <a:chExt cx="1608120" cy="417240"/>
          </a:xfrm>
        </p:grpSpPr>
        <p:sp>
          <p:nvSpPr>
            <p:cNvPr id="136" name=""/>
            <p:cNvSpPr/>
            <p:nvPr/>
          </p:nvSpPr>
          <p:spPr>
            <a:xfrm>
              <a:off x="7121520" y="2195640"/>
              <a:ext cx="1568520" cy="409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87360" y="2187720"/>
              <a:ext cx="896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Dealing wit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29160" y="2367000"/>
              <a:ext cx="1500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application protocol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V="1">
            <a:off x="7881840" y="3968280"/>
            <a:ext cx="1800" cy="244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897680" y="3282480"/>
            <a:ext cx="1800" cy="244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897680" y="2595240"/>
            <a:ext cx="1800" cy="245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71000" y="4767120"/>
            <a:ext cx="1689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ahoma"/>
              </a:rPr>
              <a:t>a) Typical layers in a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38240" y="4964040"/>
            <a:ext cx="1753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CA" sz="1300" spc="-1" strike="noStrike">
                <a:solidFill>
                  <a:srgbClr val="000000"/>
                </a:solidFill>
                <a:latin typeface="Tahoma"/>
              </a:rPr>
              <a:t>application progr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92760" y="4767120"/>
            <a:ext cx="1697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ahoma"/>
              </a:rPr>
              <a:t>b) Typical layers in a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9440" y="4964040"/>
            <a:ext cx="1521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CA" sz="1300" spc="-1" strike="noStrike">
                <a:solidFill>
                  <a:srgbClr val="000000"/>
                </a:solidFill>
                <a:latin typeface="Tahoma"/>
              </a:rPr>
              <a:t>operating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65280" y="4767120"/>
            <a:ext cx="207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ahoma"/>
              </a:rPr>
              <a:t>c) Simplified view of layer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9800" y="4964040"/>
            <a:ext cx="2294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CA" sz="1300" spc="-1" strike="noStrike">
                <a:solidFill>
                  <a:srgbClr val="000000"/>
                </a:solidFill>
                <a:latin typeface="Tahoma"/>
              </a:rPr>
              <a:t>in a communication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14480" y="4237200"/>
            <a:ext cx="1355760" cy="409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54160" y="4229280"/>
            <a:ext cx="1289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53320" y="440856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263680" y="3968280"/>
            <a:ext cx="1800" cy="244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14480" y="4122720"/>
            <a:ext cx="23004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68520" y="4122720"/>
            <a:ext cx="22860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49800" y="4122720"/>
            <a:ext cx="24588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62000" y="3436920"/>
            <a:ext cx="22860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0200" y="2751120"/>
            <a:ext cx="23040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51360" y="3927600"/>
            <a:ext cx="230400" cy="114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48200" y="3257640"/>
            <a:ext cx="228600" cy="114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21320" y="2571840"/>
            <a:ext cx="228600" cy="114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61040" y="1886040"/>
            <a:ext cx="228600" cy="114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05200" y="1379520"/>
            <a:ext cx="22860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21520" y="2081160"/>
            <a:ext cx="22860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15280" y="2751120"/>
            <a:ext cx="23004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15280" y="3436920"/>
            <a:ext cx="24588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83600" y="4122720"/>
            <a:ext cx="22860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14720" y="4164120"/>
            <a:ext cx="98280" cy="48960"/>
            <a:chOff x="2214720" y="4164120"/>
            <a:chExt cx="98280" cy="48960"/>
          </a:xfrm>
        </p:grpSpPr>
        <p:sp>
          <p:nvSpPr>
            <p:cNvPr id="167" name=""/>
            <p:cNvSpPr/>
            <p:nvPr/>
          </p:nvSpPr>
          <p:spPr>
            <a:xfrm flipV="1">
              <a:off x="2263680" y="4164120"/>
              <a:ext cx="4932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2214720" y="4164120"/>
              <a:ext cx="4896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852280" y="4164120"/>
            <a:ext cx="97200" cy="48960"/>
            <a:chOff x="2852280" y="4164120"/>
            <a:chExt cx="97200" cy="48960"/>
          </a:xfrm>
        </p:grpSpPr>
        <p:sp>
          <p:nvSpPr>
            <p:cNvPr id="170" name=""/>
            <p:cNvSpPr/>
            <p:nvPr/>
          </p:nvSpPr>
          <p:spPr>
            <a:xfrm flipV="1">
              <a:off x="2900520" y="4164120"/>
              <a:ext cx="4896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2852280" y="4164120"/>
              <a:ext cx="4788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34920" y="4164120"/>
            <a:ext cx="99000" cy="48960"/>
            <a:chOff x="3634920" y="4164120"/>
            <a:chExt cx="99000" cy="48960"/>
          </a:xfrm>
        </p:grpSpPr>
        <p:sp>
          <p:nvSpPr>
            <p:cNvPr id="173" name=""/>
            <p:cNvSpPr/>
            <p:nvPr/>
          </p:nvSpPr>
          <p:spPr>
            <a:xfrm flipV="1">
              <a:off x="3684600" y="4164120"/>
              <a:ext cx="4932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3634920" y="4164120"/>
              <a:ext cx="4932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803680" y="3478320"/>
            <a:ext cx="96840" cy="48960"/>
            <a:chOff x="2803680" y="3478320"/>
            <a:chExt cx="96840" cy="48960"/>
          </a:xfrm>
        </p:grpSpPr>
        <p:sp>
          <p:nvSpPr>
            <p:cNvPr id="176" name=""/>
            <p:cNvSpPr/>
            <p:nvPr/>
          </p:nvSpPr>
          <p:spPr>
            <a:xfrm flipV="1">
              <a:off x="2852640" y="3478320"/>
              <a:ext cx="4788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2803680" y="3478320"/>
              <a:ext cx="4896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41640" y="1926720"/>
            <a:ext cx="98640" cy="49320"/>
            <a:chOff x="5741640" y="1926720"/>
            <a:chExt cx="98640" cy="49320"/>
          </a:xfrm>
        </p:grpSpPr>
        <p:sp>
          <p:nvSpPr>
            <p:cNvPr id="179" name=""/>
            <p:cNvSpPr/>
            <p:nvPr/>
          </p:nvSpPr>
          <p:spPr>
            <a:xfrm flipV="1">
              <a:off x="5791320" y="1926720"/>
              <a:ext cx="48960" cy="49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5741640" y="1926720"/>
              <a:ext cx="49320" cy="49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905080" y="2612520"/>
            <a:ext cx="99000" cy="49320"/>
            <a:chOff x="5905080" y="2612520"/>
            <a:chExt cx="99000" cy="49320"/>
          </a:xfrm>
        </p:grpSpPr>
        <p:sp>
          <p:nvSpPr>
            <p:cNvPr id="182" name=""/>
            <p:cNvSpPr/>
            <p:nvPr/>
          </p:nvSpPr>
          <p:spPr>
            <a:xfrm flipV="1">
              <a:off x="5954760" y="2612520"/>
              <a:ext cx="49320" cy="49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5905080" y="2612520"/>
              <a:ext cx="49320" cy="49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232680" y="3298320"/>
            <a:ext cx="96840" cy="49320"/>
            <a:chOff x="6232680" y="3298320"/>
            <a:chExt cx="96840" cy="49320"/>
          </a:xfrm>
        </p:grpSpPr>
        <p:sp>
          <p:nvSpPr>
            <p:cNvPr id="185" name=""/>
            <p:cNvSpPr/>
            <p:nvPr/>
          </p:nvSpPr>
          <p:spPr>
            <a:xfrm flipV="1">
              <a:off x="6281640" y="3298320"/>
              <a:ext cx="47880" cy="49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6232680" y="3298320"/>
              <a:ext cx="48960" cy="49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297120" y="3968280"/>
            <a:ext cx="99000" cy="47880"/>
            <a:chOff x="6297120" y="3968280"/>
            <a:chExt cx="99000" cy="47880"/>
          </a:xfrm>
        </p:grpSpPr>
        <p:sp>
          <p:nvSpPr>
            <p:cNvPr id="188" name=""/>
            <p:cNvSpPr/>
            <p:nvPr/>
          </p:nvSpPr>
          <p:spPr>
            <a:xfrm flipV="1">
              <a:off x="6346800" y="3968280"/>
              <a:ext cx="4932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6297120" y="3968280"/>
              <a:ext cx="4932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627160" y="3968280"/>
            <a:ext cx="99000" cy="47880"/>
            <a:chOff x="5627160" y="3968280"/>
            <a:chExt cx="99000" cy="47880"/>
          </a:xfrm>
        </p:grpSpPr>
        <p:sp>
          <p:nvSpPr>
            <p:cNvPr id="191" name=""/>
            <p:cNvSpPr/>
            <p:nvPr/>
          </p:nvSpPr>
          <p:spPr>
            <a:xfrm flipV="1">
              <a:off x="5676840" y="3968280"/>
              <a:ext cx="4932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5627160" y="3968280"/>
              <a:ext cx="4932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121360" y="3968280"/>
            <a:ext cx="98280" cy="47880"/>
            <a:chOff x="5121360" y="3968280"/>
            <a:chExt cx="98280" cy="47880"/>
          </a:xfrm>
        </p:grpSpPr>
        <p:sp>
          <p:nvSpPr>
            <p:cNvPr id="194" name=""/>
            <p:cNvSpPr/>
            <p:nvPr/>
          </p:nvSpPr>
          <p:spPr>
            <a:xfrm flipV="1">
              <a:off x="5170320" y="3968280"/>
              <a:ext cx="4932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5121360" y="3968280"/>
              <a:ext cx="4896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366880" y="3968280"/>
            <a:ext cx="97200" cy="47880"/>
            <a:chOff x="5366880" y="3968280"/>
            <a:chExt cx="97200" cy="47880"/>
          </a:xfrm>
        </p:grpSpPr>
        <p:sp>
          <p:nvSpPr>
            <p:cNvPr id="197" name=""/>
            <p:cNvSpPr/>
            <p:nvPr/>
          </p:nvSpPr>
          <p:spPr>
            <a:xfrm flipV="1">
              <a:off x="5415120" y="3968280"/>
              <a:ext cx="4896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5366880" y="3968280"/>
              <a:ext cx="4788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832880" y="4164120"/>
            <a:ext cx="96840" cy="48960"/>
            <a:chOff x="7832880" y="4164120"/>
            <a:chExt cx="96840" cy="48960"/>
          </a:xfrm>
        </p:grpSpPr>
        <p:sp>
          <p:nvSpPr>
            <p:cNvPr id="200" name=""/>
            <p:cNvSpPr/>
            <p:nvPr/>
          </p:nvSpPr>
          <p:spPr>
            <a:xfrm flipV="1">
              <a:off x="7881840" y="4164120"/>
              <a:ext cx="4788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7832880" y="4164120"/>
              <a:ext cx="4896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848720" y="3478320"/>
            <a:ext cx="98280" cy="48960"/>
            <a:chOff x="7848720" y="3478320"/>
            <a:chExt cx="98280" cy="48960"/>
          </a:xfrm>
        </p:grpSpPr>
        <p:sp>
          <p:nvSpPr>
            <p:cNvPr id="203" name=""/>
            <p:cNvSpPr/>
            <p:nvPr/>
          </p:nvSpPr>
          <p:spPr>
            <a:xfrm flipV="1">
              <a:off x="7897680" y="3478320"/>
              <a:ext cx="4932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7848720" y="3478320"/>
              <a:ext cx="4896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848720" y="2792520"/>
            <a:ext cx="98280" cy="48960"/>
            <a:chOff x="7848720" y="2792520"/>
            <a:chExt cx="98280" cy="48960"/>
          </a:xfrm>
        </p:grpSpPr>
        <p:sp>
          <p:nvSpPr>
            <p:cNvPr id="206" name=""/>
            <p:cNvSpPr/>
            <p:nvPr/>
          </p:nvSpPr>
          <p:spPr>
            <a:xfrm flipV="1">
              <a:off x="7897680" y="2792520"/>
              <a:ext cx="4932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848720" y="2792520"/>
              <a:ext cx="4896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5F6-741D-4395-AB97-20811004025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3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7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Communicational cohe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1371600"/>
            <a:ext cx="75438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e facilities for providing or accessing a set of related services are kept together, and everything else is kept out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lass would have good communicational cohe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all the system’s facilities for storing and manipulating its data are contained in this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the class does not do anything other than manage its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3124080"/>
            <a:ext cx="3695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-oriented paradigm helps to achieve communicational cohesion by providing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3048120"/>
            <a:ext cx="3924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you need to make changes to the data, you  find all the code in one pla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BF56-49E5-42B9-BF78-D89C52B34688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9.1 The Process of Desig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finition: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Desig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 problem-solving process whose objective is to find and describe a wa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implement the system’s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ctional requirement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respecting the constraints imposed by the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functional requirements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luding the budg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while adhering to general principles of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ood qual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8EF-2AB4-4C65-8B62-BF7DD4F156E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4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7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Sequenti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l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he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1371600"/>
            <a:ext cx="75438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ures, in which one procedure provides input to the next, are kept together – and everything else is kept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3124080"/>
            <a:ext cx="3695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should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hieve sequential cohesion, only once you have already achieved the preceding types of cohe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thods in two diff classes that provide input to each other and are called in sequence – kept in their own classes since comm cohesion is more impor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3048120"/>
            <a:ext cx="3924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Test recogni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EF3-659E-48A5-BC7E-C440B699DD30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5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7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Procedural cohe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1371600"/>
            <a:ext cx="75438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ep together several procedures that are used one after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ven if one does not necessarily provide input to the nex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3124080"/>
            <a:ext cx="3695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aker than sequential cohes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3048120"/>
            <a:ext cx="3924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a university registration system, a module to perform all steps required to register a student in a cou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DF53-A858-4ACD-A69E-32894D21DB9F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6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7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Temporal cohe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1371600"/>
            <a:ext cx="75438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tions that are performed during the same phase of the execution of the program are kept together, and everything else is kept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3124080"/>
            <a:ext cx="3695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aker than procedural cohe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3048120"/>
            <a:ext cx="3924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cing together the code used during system start-up or initializ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2DA-66CE-40AF-8351-1E2EAEC2E7F3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7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7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Utility cohe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1371600"/>
            <a:ext cx="75438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related utilities which cannot be logically placed in other cohesive units are kept togethe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3124080"/>
            <a:ext cx="3695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utilit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 procedure or class that has wide applicability to many different subsystems and is designed to be reusa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3048120"/>
            <a:ext cx="3924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java.lang.Math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FBD3-AEFF-4F69-B1E7-00E89AFF3564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Design Principle 3: Reduce coupling where possib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upling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ccurs when there are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dependencies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tween one module and anothe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interdependencies exist, changes in one place will require changes somewhere el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network of interdependencies makes it hard to see at a glance how some component work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 of coupl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nt, Common, Control, Stamp, Data, Routine Call, Type use, Inclusion/Import, Externa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352680" y="4800600"/>
            <a:ext cx="3200400" cy="11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D842-1872-486C-B56C-5789ABE8F67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1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9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Content co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upl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371600"/>
            <a:ext cx="75438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ccurs when one component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rreptitiously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odifies data that is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nal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o another component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reduce content coupling you should therefore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capsulat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ll instanc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clare them priv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provide get and set method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3124080"/>
            <a:ext cx="3695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3048120"/>
            <a:ext cx="3924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6535-6C21-4FD4-96E2-89FC8307099A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1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9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Content co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upling - 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Line {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Point start, end;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…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oint getStar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tart;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oint getEnd() {     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end;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Arch {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ine baseline;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…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slant(int newY) {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theEnd </a:t>
            </a: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= baselıne.getEnd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End.setLocation(theEnd,getX(), newY);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1295280"/>
            <a:ext cx="3695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worse form of content coupling occurs when you directly modify an instance variable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 instance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76A-4D20-4516-9A1D-9E70FD1F2C3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9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mmon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co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upl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1371600"/>
            <a:ext cx="75438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ccurs whenever you use a global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e components using the global variable become coupled to each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weaker form of common coupling is when a variable can be accessed by a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bse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the system’s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 a Java packa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3124080"/>
            <a:ext cx="3695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acceptable for creating global variables that represent system-wide default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st are constants thoug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76920" y="3048120"/>
            <a:ext cx="3924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capsulation reduces the harm of global variab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ingleton pattern provides encapsulated global access to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5E96-47C8-4B18-A9BB-F48CF5E3AA51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3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9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Control co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upl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1371600"/>
            <a:ext cx="75438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ccurs when one procedure calls another using a ‘flag’ or ‘command’ that explicitly controls what the second procedure doe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make a change you have to change both the calling and called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3124080"/>
            <a:ext cx="3695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76920" y="3048120"/>
            <a:ext cx="3924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F10C-E463-46C6-B404-1CB14F8E0C72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3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9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Control co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upling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- 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routineX(String command)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command.equals("drawCircle")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Circle();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Rectangle();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use of polymorphic operations is normally the best way to avoid control coupl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e way to reduce the control coupling could be to have a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ok-up tabl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mands are then mapped to a method that should be called when that command is issu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750-75F7-48BD-BD13-317E39A3E2D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ign as a series of decis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designer is faced with a series of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ign issues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se are sub-problems of the overall design probl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issue normally has several alternative solution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ff33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design </a:t>
            </a:r>
            <a:r>
              <a:rPr b="0" i="1" lang="en-GB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option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designer makes a </a:t>
            </a:r>
            <a:r>
              <a:rPr b="0" i="1" lang="en-GB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design decis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o resolve each issu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process involves choosing the best option from among the alternativ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21AB-6340-4B6B-9303-C0B3E08D21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4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9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Stamp co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upl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1371600"/>
            <a:ext cx="75438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ccurs whenever one of your application classes is declared as the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a method argument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nce one class now uses the other, changing the system becomes ha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using one class requires reusing the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wo ways to reduce stamp coupl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ing an interface as the argumen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ssing simple variab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3124080"/>
            <a:ext cx="3695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3048120"/>
            <a:ext cx="3924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1B3D-C186-4788-997C-D87BA87C8F7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4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9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Stamp co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upling - 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Emailer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sendEmail(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Employe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, String text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...}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ing simple data types to avoid it: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Emailer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sendEmail(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String name, String emai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tring text)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...}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65A-17B3-446B-9D70-91A156A9091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4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9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Stamp co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upling - 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ing an interface to avoid it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interfac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Addresse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abstract String getName();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abstract String getEmail();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Employee implements Addressee {…}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Emailer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sendEmail(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Addresse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, String text)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...}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0C25-787D-4505-8E6F-7546159E9E7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5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9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Data co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upl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1371600"/>
            <a:ext cx="75438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ccurs whenever the types of method arguments are either primitive or else simple library class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more arguments a method has, the higher the coupl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methods that use the method must pass all the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124080"/>
            <a:ext cx="3695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should reduce coupling by not giving methods unnecessary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76920" y="3048120"/>
            <a:ext cx="3924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is a trade-off between data coupling and stamp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asing one often decreases the other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392-183F-4D21-82A0-DF703EF0969B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6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9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Routine call co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upl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1371600"/>
            <a:ext cx="75438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ccurs when one routine (or method in an object oriented system) calls anothe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routines are coupled because they depend on each other’s 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outine call coupling is always present in any sys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you repetitively use a sequence of two or more methods to compute some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n you can reduce routine call coupling by writing a single routine that encapsulates the sequenc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h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.drawBackgroun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h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.drawForegroun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h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.drawBorde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05E-41FB-4D58-BF57-20065FC0BD54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7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9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Type use co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upl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1371600"/>
            <a:ext cx="75438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ccurs w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n a module uses a data type defined in another mo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occurs any time a class declares an instance variable or a local variable as having another class for its type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onsequence of type use coupling is that if the type definition changes, then the users of the type may have to chan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3124080"/>
            <a:ext cx="3695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 use coupling is similar to common coupling, but instead of data being shared, only data types are sh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76920" y="3048120"/>
            <a:ext cx="3924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ways declare the type of a variable to be the most general possible class or interface that contains the required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789-87AF-4775-A6B0-77BC0BAA7135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ccurs when one component imports a packag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s in Jav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 when one component includes another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s in C++)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cluding or importing component is now exposed to everything in the included or imported compon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the included/imported component changes something or adds someth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may raises a conflict with something in the includer, forcing the includer to chang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item in an importe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onent might hav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same name as something you have already defin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8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9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Inclusion or import co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upl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5671-4651-412C-85A0-C8B05624DE6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9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9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External co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upl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1371600"/>
            <a:ext cx="75438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a module has a dependency on such things as the operating system, shared libraries or the hardwar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is best to reduce the number of places in the code where such dependencies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3124080"/>
            <a:ext cx="3695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3048120"/>
            <a:ext cx="3924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açade design pattern can reduce external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9CA-DFC3-479B-865F-3658CA413B6B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Design Principle 4: Keep the level of abstraction as high as possib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sure that your designs allow you to hide or defer consideration of details, thus reducing complexity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good abstraction is said to provide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formation hid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ions allow you to understand the essence of a subsystem without having to know unnecessary detai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18F7-D183-4D4D-A3ED-8A594C6B3FA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ion and clas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es are data abstractions that contain procedural abstraction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ion is increased by defining all variables as privat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ewer public methods in a class, the better the abstrac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perclasses and interfaces increase the level of abstrac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tributes and associations are also data abstracti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thods are procedural abstractio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tter abstractions are achieved by giving methods fewer paramet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71A-6807-4E11-BFFF-0AC89569A49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ing deci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make each design decision, the software engineer use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nowledge o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require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design as created so f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technology avai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ftware design principles and ‘best practices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has worked well in the pa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CF31-6D97-4B24-942D-E6A9EB83E8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Design Principle 6: Reuse existing designs and code where possi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ign with reuse is complementary to design for reusability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tively reusing designs or code allows you to take advantage of the investment you or others have made in reusable compone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ning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hould not be seen as a form of reu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5647-282E-4B29-AD19-0AD74C66795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Design Principle 7: Design for flexibil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tively anticipate changes that a design may have to undergo in the future, and prepare for them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duce coupling and increase cohes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ate abstracti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 not hard-code anyth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a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ll options op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 not restrict the options of people who have to modify the system lat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reusable code and make code reusa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F90D-788B-4BFE-B22F-09BB25010D2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Design Principle 10: Design for Testabil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ke steps to make testing easie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ign a program to automatically test the softw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cussed more in Chapter 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sure that all the functionality of the code can by driven by an external program, bypassing a graphical user inte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Java, you can create a main() method in each class in order to exercise the other metho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8CD1-3350-442F-9096-87117A6F8E5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9.3 Techniques for making good design decis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ing priorities and objectives to decide among alternative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ep 1: List and describe the alternatives for the design decis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ep 2: List the advantages and disadvantages of each alternative with respect to your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bjectives and prioriti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ep 3: Determine whether any of the alternatives prevents you from meeting one or more of the objectiv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ep 4: Choose the alternative that helps you to best meet your objectiv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ep 5: Adjust priorities for subsequent decision making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4D8-FB59-407D-ACA2-D4FEA0424A6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Example priorities and objec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Imagine a system has the following objectives, starting with top priority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Security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Encryption must not be breakable within 100 hours of computing time on a 400Mhz Intel processor, using known cryptanalysis techniqu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Maintainability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. No specific objectiv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CPU efficiency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. Must respond to the user within one second when running on a 400MHz Intel processo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Network bandwidth efficiency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Must not require transmission of more than 8KB of data per transac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Memory efficiency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. Must not consume over 20MB of RA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Portability.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Must be able to run on Windows 98, NT 4 and ME as well as Linu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B591-BE62-4CBD-9881-293E4EC2A75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Example evaluation of alterna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066680" y="1752480"/>
          <a:ext cx="8686800" cy="250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8686800" cy="25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3552840" y="4568760"/>
            <a:ext cx="39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NO’ means that the objective is not m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B6C5-340A-4509-BAAD-EA47FBC3D53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Using cost-benefit analysis to choose among alterna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To estimate the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costs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, add up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80808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The incremental cost of doing the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software engineering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 work, including ongoing maintenance</a:t>
            </a:r>
            <a:r>
              <a:rPr b="0" lang="en-US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80808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The incremental costs of any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evelopment technology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 required</a:t>
            </a:r>
            <a:r>
              <a:rPr b="0" lang="en-US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80808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The incremental costs that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end-users and product support personnel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 will experience</a:t>
            </a:r>
            <a:r>
              <a:rPr b="0" lang="en-US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To estimate the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benefits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, add up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80808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The incremental software engineering time saved</a:t>
            </a:r>
            <a:r>
              <a:rPr b="0" lang="en-US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80808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The incremental benefits measured in terms of either increased sales or else financial benefit to users</a:t>
            </a:r>
            <a:r>
              <a:rPr b="0" lang="en-US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E82-39AD-4923-8A52-F01D096F84C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building’s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rchitectu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described using a set of plans that, taken together, represent all aspects of the building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describes the building from such viewpoints as electricity, plumbing, structure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rchit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person in charge of the whole project. She has the responsibility to make sure that the building will be solid, cost-effective and satisfactory to the cli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A9D-3C77-4DFC-9AED-79EC923862F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9.4 Software Archite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oftware architecture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process of designing the global organization of a software system, including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viding software into subsystem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ciding how these will intera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termining their interfac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rchitecture is the core of the design, so all software engineers need to understand it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rchitecture will often constrain the overall efficiency, reusability and maintainability of the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3B6-4C6B-4D6D-ABB5-A0D988DF844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mportance of 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y you need to develop an architectural model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enable everyone to better understand the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allow people to work on individual pieces of the system in isola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ch is imp for planning, coordination and integ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faces and dynamic interaction of subsystems are im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prepare for extension of the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in addition to the proposed syste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facilitate reuse and reusabil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8629-1001-4D35-86BE-62EE3A9997B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ign sp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pace of possible designs that could be achieved by choosing different sets of alternatives is often called the </a:t>
            </a:r>
            <a:r>
              <a:rPr b="1" i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design spa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3079800"/>
            <a:ext cx="6705720" cy="24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8DE-671A-417F-8585-39835D0ED1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nts of a good architectural mode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ystem’s architecture will often be expressed in terms of several different </a:t>
            </a:r>
            <a:r>
              <a:rPr b="1" i="1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ew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ckage diagram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: The logical breakdown into subsystem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 interfaces among th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eraction or activity diagram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: The dynamics of the interaction among components at run ti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diagram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: The data that will be shared among the subsystem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mponent </a:t>
            </a:r>
            <a:r>
              <a:rPr b="0" lang="tr-TR" sz="20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agram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: The components that will exist at run time, and the machines or devices on which they will be locat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F0D-9AA1-4379-8F86-6A13110CCAC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ign stable archite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ensure the maintainability and reliability of a system, an architectural model must be designed to be </a:t>
            </a:r>
            <a:r>
              <a:rPr b="1" i="1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table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Being stab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eans that the new features can be easily added with only small changes to the architectu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0893-DF29-4B93-9A4A-3ECA72A2DC3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eveloping an architectural model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. </a:t>
            </a:r>
            <a:r>
              <a:rPr b="1" lang="en-GB" sz="24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Start by sketching an outline of the architectu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Based on the principal requirements and use ca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etermine the main components </a:t>
            </a:r>
            <a:r>
              <a:rPr b="0" lang="en-US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(databases, hw devices,…)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that will be need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Choose among the various architectural patter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80808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iscussed nex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Suggestion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have several different teams independently develop a first draft of the architecture and merge together the best ideas</a:t>
            </a:r>
            <a:r>
              <a:rPr b="0" lang="en-US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EDB-A68A-4C36-B839-C401B716D85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eveloping an architectural model (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2. Refine the architec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80808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Identify the main ways in which the components will interact and the interfaces between th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80808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ecide how each piece of data and functionality will be distributed among the various compon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80808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etermine if you can re-use an existing framework, if you can build a frame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. </a:t>
            </a:r>
            <a:r>
              <a:rPr b="1" lang="en-GB" sz="24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Consider each use case and adjust the architecture to make it realizable</a:t>
            </a: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4. Mature the architecture</a:t>
            </a: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E4D-807C-4B9A-8FE1-DE557A6CFD7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ing an architecture using UM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UML diagrams can be useful to describe aspects of the architectural mod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case diagr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diagr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action diagram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ur UML diagrams are particularly suitable for architecture modell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ckage diagr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bsystem diagr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onent diagr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ployment diagram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4ADA-492E-4E0F-AB9B-E5C60552C76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ckage dia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UML, a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packag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is a collection of modeling elements that are grouped together because they are related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 is very common to use UML packages to represent Java packag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ide the box, you can put practically anything, including classes, instances, text or other packag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219320" y="4022640"/>
            <a:ext cx="7619760" cy="20732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078080" y="411480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Comic Sans MS"/>
              </a:rPr>
              <a:t>depend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3F9-10BF-4C8F-BE05-8A836066075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system dia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1459080" y="1646280"/>
            <a:ext cx="7041960" cy="418788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59080" y="1257480"/>
            <a:ext cx="1358640" cy="38556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52760" y="1838160"/>
            <a:ext cx="350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equestToRegister(aStudent) :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52760" y="2065320"/>
            <a:ext cx="200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ropCourse(aStud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54560" y="2290680"/>
            <a:ext cx="2131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getSchedule( ) : It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454720" y="1634760"/>
            <a:ext cx="1440" cy="421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2743200"/>
            <a:ext cx="4006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376360" y="1434960"/>
            <a:ext cx="1800" cy="90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647800" y="1434960"/>
            <a:ext cx="1800" cy="90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376360" y="1430280"/>
            <a:ext cx="271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511360" y="1339560"/>
            <a:ext cx="1800" cy="9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262240" y="3672000"/>
            <a:ext cx="703080" cy="588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52720" y="3162240"/>
            <a:ext cx="1676520" cy="8161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457080" y="33321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egister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366360" y="3559320"/>
            <a:ext cx="77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 cou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650960" y="3817800"/>
            <a:ext cx="476280" cy="758880"/>
            <a:chOff x="1650960" y="3817800"/>
            <a:chExt cx="476280" cy="758880"/>
          </a:xfrm>
        </p:grpSpPr>
        <p:sp>
          <p:nvSpPr>
            <p:cNvPr id="330" name=""/>
            <p:cNvSpPr/>
            <p:nvPr/>
          </p:nvSpPr>
          <p:spPr>
            <a:xfrm>
              <a:off x="1752480" y="3817800"/>
              <a:ext cx="295560" cy="250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00080" y="4056120"/>
              <a:ext cx="1800" cy="38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00080" y="4441680"/>
              <a:ext cx="227160" cy="135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650960" y="4441680"/>
              <a:ext cx="249120" cy="135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1650960" y="4192560"/>
              <a:ext cx="249120" cy="68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00080" y="4192560"/>
              <a:ext cx="227160" cy="68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1726560" y="4622760"/>
            <a:ext cx="75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tud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76240" y="4849920"/>
            <a:ext cx="47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76480" y="4995720"/>
            <a:ext cx="1674720" cy="79236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07840" y="5143680"/>
            <a:ext cx="72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ispl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06680" y="5370480"/>
            <a:ext cx="8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6480" y="4091040"/>
            <a:ext cx="1674720" cy="7920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64280" y="423864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ro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90120" y="4464000"/>
            <a:ext cx="77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 cou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62240" y="4282920"/>
            <a:ext cx="815760" cy="905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62240" y="4260960"/>
            <a:ext cx="725400" cy="9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4200" y="2222640"/>
            <a:ext cx="11448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844600" y="2224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94200" y="2222640"/>
            <a:ext cx="11448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44600" y="2224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4200" y="2222640"/>
            <a:ext cx="11448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44600" y="2224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94200" y="2222640"/>
            <a:ext cx="11448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44600" y="2224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4200" y="2222640"/>
            <a:ext cx="11448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44600" y="2224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94200" y="2222640"/>
            <a:ext cx="11448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64120" y="2052720"/>
            <a:ext cx="1925640" cy="657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03160" y="2200320"/>
            <a:ext cx="143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Course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2160" y="38307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35680" y="3807000"/>
            <a:ext cx="1800" cy="407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32160" y="292572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122880" y="3162240"/>
            <a:ext cx="1449360" cy="657360"/>
            <a:chOff x="6122880" y="3162240"/>
            <a:chExt cx="1449360" cy="657360"/>
          </a:xfrm>
        </p:grpSpPr>
        <p:sp>
          <p:nvSpPr>
            <p:cNvPr id="363" name=""/>
            <p:cNvSpPr/>
            <p:nvPr/>
          </p:nvSpPr>
          <p:spPr>
            <a:xfrm>
              <a:off x="6122880" y="3162240"/>
              <a:ext cx="1449360" cy="657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12960" y="3309840"/>
              <a:ext cx="1181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Arial"/>
                </a:rPr>
                <a:t>Regist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145200" y="4248000"/>
            <a:ext cx="1405080" cy="657360"/>
            <a:chOff x="6145200" y="4248000"/>
            <a:chExt cx="1405080" cy="657360"/>
          </a:xfrm>
        </p:grpSpPr>
        <p:sp>
          <p:nvSpPr>
            <p:cNvPr id="366" name=""/>
            <p:cNvSpPr/>
            <p:nvPr/>
          </p:nvSpPr>
          <p:spPr>
            <a:xfrm>
              <a:off x="6145200" y="4248000"/>
              <a:ext cx="1405080" cy="657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69920" y="4373640"/>
              <a:ext cx="75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835680" y="2720880"/>
            <a:ext cx="1800" cy="408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16440" y="2517840"/>
            <a:ext cx="2217600" cy="1765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5250960" y="2019240"/>
            <a:ext cx="701640" cy="317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3825360" y="2222280"/>
            <a:ext cx="212724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11600" y="2087640"/>
            <a:ext cx="181080" cy="249120"/>
          </a:xfrm>
          <a:custGeom>
            <a:avLst/>
            <a:gdLst/>
            <a:ahLst/>
            <a:rect l="l" t="t" r="r" b="b"/>
            <a:pathLst>
              <a:path w="114" h="157">
                <a:moveTo>
                  <a:pt x="0" y="85"/>
                </a:moveTo>
                <a:lnTo>
                  <a:pt x="114" y="0"/>
                </a:lnTo>
                <a:lnTo>
                  <a:pt x="114" y="157"/>
                </a:lnTo>
                <a:lnTo>
                  <a:pt x="0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11600" y="2087640"/>
            <a:ext cx="181080" cy="249120"/>
          </a:xfrm>
          <a:custGeom>
            <a:avLst/>
            <a:gdLst/>
            <a:ahLst/>
            <a:rect l="l" t="t" r="r" b="b"/>
            <a:pathLst>
              <a:path w="114" h="157">
                <a:moveTo>
                  <a:pt x="0" y="85"/>
                </a:moveTo>
                <a:lnTo>
                  <a:pt x="114" y="0"/>
                </a:lnTo>
                <a:lnTo>
                  <a:pt x="114" y="157"/>
                </a:lnTo>
                <a:lnTo>
                  <a:pt x="0" y="85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80000" y="3546360"/>
            <a:ext cx="9072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80000" y="3546360"/>
            <a:ext cx="9072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53200" y="3546360"/>
            <a:ext cx="9036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26040" y="3321000"/>
            <a:ext cx="92160" cy="407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900680" y="3094200"/>
            <a:ext cx="90360" cy="407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73520" y="2868480"/>
            <a:ext cx="9216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48160" y="2822400"/>
            <a:ext cx="90360" cy="2048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21000" y="2800440"/>
            <a:ext cx="90720" cy="9036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017960" y="2529000"/>
            <a:ext cx="90360" cy="15876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05360" y="3773520"/>
            <a:ext cx="92160" cy="407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10200" y="4000680"/>
            <a:ext cx="90720" cy="4060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25720" y="2427120"/>
            <a:ext cx="203400" cy="225720"/>
          </a:xfrm>
          <a:custGeom>
            <a:avLst/>
            <a:gdLst/>
            <a:ahLst/>
            <a:rect l="l" t="t" r="r" b="b"/>
            <a:pathLst>
              <a:path w="128" h="142">
                <a:moveTo>
                  <a:pt x="0" y="0"/>
                </a:moveTo>
                <a:lnTo>
                  <a:pt x="128" y="28"/>
                </a:lnTo>
                <a:lnTo>
                  <a:pt x="28" y="14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25720" y="2427120"/>
            <a:ext cx="203400" cy="225720"/>
          </a:xfrm>
          <a:custGeom>
            <a:avLst/>
            <a:gdLst/>
            <a:ahLst/>
            <a:rect l="l" t="t" r="r" b="b"/>
            <a:pathLst>
              <a:path w="128" h="142">
                <a:moveTo>
                  <a:pt x="0" y="0"/>
                </a:moveTo>
                <a:lnTo>
                  <a:pt x="128" y="28"/>
                </a:lnTo>
                <a:lnTo>
                  <a:pt x="28" y="14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05240" y="1974960"/>
            <a:ext cx="204840" cy="203040"/>
          </a:xfrm>
          <a:custGeom>
            <a:avLst/>
            <a:gdLst/>
            <a:ahLst/>
            <a:rect l="l" t="t" r="r" b="b"/>
            <a:pathLst>
              <a:path w="129" h="128">
                <a:moveTo>
                  <a:pt x="0" y="0"/>
                </a:moveTo>
                <a:lnTo>
                  <a:pt x="129" y="0"/>
                </a:lnTo>
                <a:lnTo>
                  <a:pt x="43" y="12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05240" y="1974960"/>
            <a:ext cx="204840" cy="203040"/>
          </a:xfrm>
          <a:custGeom>
            <a:avLst/>
            <a:gdLst/>
            <a:ahLst/>
            <a:rect l="l" t="t" r="r" b="b"/>
            <a:pathLst>
              <a:path w="129" h="128">
                <a:moveTo>
                  <a:pt x="0" y="0"/>
                </a:moveTo>
                <a:lnTo>
                  <a:pt x="129" y="0"/>
                </a:lnTo>
                <a:lnTo>
                  <a:pt x="43" y="12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83400" y="2120760"/>
            <a:ext cx="6804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56240" y="2120760"/>
            <a:ext cx="6840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0880" y="2166840"/>
            <a:ext cx="9036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26040" y="2143080"/>
            <a:ext cx="92160" cy="407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900680" y="2166840"/>
            <a:ext cx="9036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73520" y="2166840"/>
            <a:ext cx="9216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48160" y="2166840"/>
            <a:ext cx="9036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21000" y="2166840"/>
            <a:ext cx="9072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94200" y="2166840"/>
            <a:ext cx="92160" cy="1810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59880" y="1703520"/>
            <a:ext cx="202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Realization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98920" y="2811600"/>
            <a:ext cx="22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pecification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14400" y="27432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Comic Sans MS"/>
              </a:rPr>
              <a:t>mapp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76A-A036-49AE-BB55-4A560B5A0F7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onent dia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component diagram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shows how a system’s components (i.e. the physical elements such as files, executables, etc.) relate to each other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age diagrams show logical groping of design elements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reas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nent diagrams show relationships among types of physical component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1837080" y="4653000"/>
            <a:ext cx="846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41360" y="4267080"/>
            <a:ext cx="2203560" cy="1212840"/>
          </a:xfrm>
          <a:prstGeom prst="rect">
            <a:avLst/>
          </a:prstGeom>
          <a:noFill/>
          <a:ln w="36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4983120"/>
            <a:ext cx="403200" cy="220680"/>
          </a:xfrm>
          <a:custGeom>
            <a:avLst/>
            <a:gdLst/>
            <a:ahLst/>
            <a:rect l="l" t="t" r="r" b="b"/>
            <a:pathLst>
              <a:path w="254" h="139">
                <a:moveTo>
                  <a:pt x="0" y="0"/>
                </a:moveTo>
                <a:lnTo>
                  <a:pt x="254" y="0"/>
                </a:lnTo>
                <a:lnTo>
                  <a:pt x="254" y="139"/>
                </a:lnTo>
                <a:lnTo>
                  <a:pt x="0" y="13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84320" y="5000760"/>
            <a:ext cx="368280" cy="185760"/>
          </a:xfrm>
          <a:prstGeom prst="rect">
            <a:avLst/>
          </a:prstGeom>
          <a:solidFill>
            <a:srgbClr val="ffffff"/>
          </a:solidFill>
          <a:ln w="36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561440" y="465300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919920" y="4267080"/>
            <a:ext cx="2093760" cy="1212840"/>
          </a:xfrm>
          <a:prstGeom prst="rect">
            <a:avLst/>
          </a:prstGeom>
          <a:noFill/>
          <a:ln w="36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11320" y="4419720"/>
            <a:ext cx="253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&lt;communication&g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066680" y="4506840"/>
            <a:ext cx="403200" cy="219240"/>
          </a:xfrm>
          <a:custGeom>
            <a:avLst/>
            <a:gdLst/>
            <a:ahLst/>
            <a:rect l="l" t="t" r="r" b="b"/>
            <a:pathLst>
              <a:path w="254" h="138">
                <a:moveTo>
                  <a:pt x="0" y="0"/>
                </a:moveTo>
                <a:lnTo>
                  <a:pt x="254" y="0"/>
                </a:lnTo>
                <a:lnTo>
                  <a:pt x="254" y="138"/>
                </a:lnTo>
                <a:lnTo>
                  <a:pt x="0" y="13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084320" y="4524480"/>
            <a:ext cx="368280" cy="183960"/>
          </a:xfrm>
          <a:prstGeom prst="rect">
            <a:avLst/>
          </a:prstGeom>
          <a:solidFill>
            <a:srgbClr val="ffffff"/>
          </a:solidFill>
          <a:ln w="36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645240" y="4983120"/>
            <a:ext cx="403200" cy="220680"/>
          </a:xfrm>
          <a:custGeom>
            <a:avLst/>
            <a:gdLst/>
            <a:ahLst/>
            <a:rect l="l" t="t" r="r" b="b"/>
            <a:pathLst>
              <a:path w="254" h="139">
                <a:moveTo>
                  <a:pt x="0" y="0"/>
                </a:moveTo>
                <a:lnTo>
                  <a:pt x="254" y="0"/>
                </a:lnTo>
                <a:lnTo>
                  <a:pt x="254" y="139"/>
                </a:lnTo>
                <a:lnTo>
                  <a:pt x="0" y="13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62880" y="5000760"/>
            <a:ext cx="368280" cy="185760"/>
          </a:xfrm>
          <a:prstGeom prst="rect">
            <a:avLst/>
          </a:prstGeom>
          <a:solidFill>
            <a:srgbClr val="ffffff"/>
          </a:solidFill>
          <a:ln w="36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5240" y="4506840"/>
            <a:ext cx="403200" cy="219240"/>
          </a:xfrm>
          <a:custGeom>
            <a:avLst/>
            <a:gdLst/>
            <a:ahLst/>
            <a:rect l="l" t="t" r="r" b="b"/>
            <a:pathLst>
              <a:path w="254" h="138">
                <a:moveTo>
                  <a:pt x="0" y="0"/>
                </a:moveTo>
                <a:lnTo>
                  <a:pt x="254" y="0"/>
                </a:lnTo>
                <a:lnTo>
                  <a:pt x="254" y="138"/>
                </a:lnTo>
                <a:lnTo>
                  <a:pt x="0" y="13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62880" y="4524480"/>
            <a:ext cx="368280" cy="183960"/>
          </a:xfrm>
          <a:prstGeom prst="rect">
            <a:avLst/>
          </a:prstGeom>
          <a:solidFill>
            <a:srgbClr val="ffffff"/>
          </a:solidFill>
          <a:ln w="36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62720" y="4397760"/>
            <a:ext cx="878760" cy="87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4" y="14502"/>
                </a:moveTo>
                <a:arcTo wR="10800" hR="10800" stAng="9597110" swAng="2405781"/>
                <a:lnTo>
                  <a:pt x="10800" y="10800"/>
                </a:lnTo>
                <a:close/>
              </a:path>
              <a:path fill="none" w="21600" h="21600">
                <a:moveTo>
                  <a:pt x="654" y="14502"/>
                </a:moveTo>
                <a:arcTo wR="10800" hR="10800" stAng="9597110" swAng="240578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68680" y="4836960"/>
            <a:ext cx="2930400" cy="180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420-4ED0-4DCE-9BFC-A10E404251C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ployment dia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deployment diagram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describes the hardware where various instances of components reside at runtime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node represents a computational unit such as a computer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links show how communication takes place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816600" y="4341600"/>
            <a:ext cx="56052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4305240" y="4341600"/>
            <a:ext cx="56052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77120" y="4341960"/>
            <a:ext cx="83016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65760" y="4341960"/>
            <a:ext cx="83016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7804080" y="4341960"/>
            <a:ext cx="40320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5315040" y="4341960"/>
            <a:ext cx="38088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816240" y="4540320"/>
            <a:ext cx="98748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304880" y="4540320"/>
            <a:ext cx="100980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6816240" y="5484960"/>
            <a:ext cx="98748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4304880" y="5484960"/>
            <a:ext cx="100980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7804080" y="4341600"/>
            <a:ext cx="40320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315040" y="4341600"/>
            <a:ext cx="38088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207280" y="4341960"/>
            <a:ext cx="1800" cy="8571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695920" y="4341960"/>
            <a:ext cx="1440" cy="8571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7804080" y="5199120"/>
            <a:ext cx="403200" cy="2858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5315040" y="5199120"/>
            <a:ext cx="380880" cy="2858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804080" y="4540320"/>
            <a:ext cx="1800" cy="9446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5315040" y="4540320"/>
            <a:ext cx="1440" cy="9446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816600" y="4540320"/>
            <a:ext cx="1800" cy="9446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4305240" y="4540320"/>
            <a:ext cx="1800" cy="9446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086600" y="4560840"/>
            <a:ext cx="425520" cy="133560"/>
          </a:xfrm>
          <a:custGeom>
            <a:avLst/>
            <a:gdLst/>
            <a:ahLst/>
            <a:rect l="l" t="t" r="r" b="b"/>
            <a:pathLst>
              <a:path w="268" h="84">
                <a:moveTo>
                  <a:pt x="0" y="84"/>
                </a:moveTo>
                <a:lnTo>
                  <a:pt x="268" y="84"/>
                </a:lnTo>
                <a:lnTo>
                  <a:pt x="268" y="0"/>
                </a:lnTo>
                <a:lnTo>
                  <a:pt x="0" y="0"/>
                </a:lnTo>
                <a:lnTo>
                  <a:pt x="0" y="84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086600" y="4560840"/>
            <a:ext cx="425520" cy="1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97560" y="4560840"/>
            <a:ext cx="403200" cy="133560"/>
          </a:xfrm>
          <a:custGeom>
            <a:avLst/>
            <a:gdLst/>
            <a:ahLst/>
            <a:rect l="l" t="t" r="r" b="b"/>
            <a:pathLst>
              <a:path w="254" h="84">
                <a:moveTo>
                  <a:pt x="0" y="84"/>
                </a:moveTo>
                <a:lnTo>
                  <a:pt x="254" y="84"/>
                </a:lnTo>
                <a:lnTo>
                  <a:pt x="254" y="0"/>
                </a:lnTo>
                <a:lnTo>
                  <a:pt x="0" y="0"/>
                </a:lnTo>
                <a:lnTo>
                  <a:pt x="0" y="84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97560" y="4560840"/>
            <a:ext cx="403200" cy="1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38960" y="4957920"/>
            <a:ext cx="127764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326840" y="4538520"/>
            <a:ext cx="93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chine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919840" y="467028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38200" y="4538520"/>
            <a:ext cx="93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chine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166760" y="4341600"/>
            <a:ext cx="56052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727280" y="4341960"/>
            <a:ext cx="83016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152800" y="4341960"/>
            <a:ext cx="40464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166400" y="4540320"/>
            <a:ext cx="98604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1166400" y="5484960"/>
            <a:ext cx="98604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152800" y="4341600"/>
            <a:ext cx="40464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557440" y="4341960"/>
            <a:ext cx="1440" cy="8571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152800" y="5199120"/>
            <a:ext cx="404640" cy="2858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152800" y="4540320"/>
            <a:ext cx="1440" cy="9446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166760" y="4540320"/>
            <a:ext cx="1800" cy="9446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434960" y="4560840"/>
            <a:ext cx="427320" cy="133560"/>
          </a:xfrm>
          <a:custGeom>
            <a:avLst/>
            <a:gdLst/>
            <a:ahLst/>
            <a:rect l="l" t="t" r="r" b="b"/>
            <a:pathLst>
              <a:path w="269" h="84">
                <a:moveTo>
                  <a:pt x="0" y="84"/>
                </a:moveTo>
                <a:lnTo>
                  <a:pt x="269" y="84"/>
                </a:lnTo>
                <a:lnTo>
                  <a:pt x="269" y="0"/>
                </a:lnTo>
                <a:lnTo>
                  <a:pt x="0" y="0"/>
                </a:lnTo>
                <a:lnTo>
                  <a:pt x="0" y="84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434960" y="4560840"/>
            <a:ext cx="427320" cy="1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33360" y="456084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231560" y="4781520"/>
            <a:ext cx="72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55840" y="4957920"/>
            <a:ext cx="192708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35280" y="4451400"/>
            <a:ext cx="78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735640" y="4670280"/>
            <a:ext cx="136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4160" y="48243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ent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429080" y="4836960"/>
            <a:ext cx="830160" cy="26352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51320" y="4869000"/>
            <a:ext cx="155520" cy="66600"/>
          </a:xfrm>
          <a:custGeom>
            <a:avLst/>
            <a:gdLst/>
            <a:ahLst/>
            <a:rect l="l" t="t" r="r" b="b"/>
            <a:pathLst>
              <a:path w="98" h="42">
                <a:moveTo>
                  <a:pt x="0" y="0"/>
                </a:moveTo>
                <a:lnTo>
                  <a:pt x="98" y="0"/>
                </a:lnTo>
                <a:lnTo>
                  <a:pt x="98" y="42"/>
                </a:lnTo>
                <a:lnTo>
                  <a:pt x="0" y="4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362480" y="4879800"/>
            <a:ext cx="133200" cy="446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351320" y="5000760"/>
            <a:ext cx="155520" cy="66600"/>
          </a:xfrm>
          <a:custGeom>
            <a:avLst/>
            <a:gdLst/>
            <a:ahLst/>
            <a:rect l="l" t="t" r="r" b="b"/>
            <a:pathLst>
              <a:path w="98" h="42">
                <a:moveTo>
                  <a:pt x="0" y="0"/>
                </a:moveTo>
                <a:lnTo>
                  <a:pt x="98" y="0"/>
                </a:lnTo>
                <a:lnTo>
                  <a:pt x="98" y="42"/>
                </a:lnTo>
                <a:lnTo>
                  <a:pt x="0" y="4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362480" y="5011560"/>
            <a:ext cx="133200" cy="446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74160" y="51544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ent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29080" y="5165640"/>
            <a:ext cx="830160" cy="26352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351320" y="5199120"/>
            <a:ext cx="179280" cy="66600"/>
          </a:xfrm>
          <a:custGeom>
            <a:avLst/>
            <a:gdLst/>
            <a:ahLst/>
            <a:rect l="l" t="t" r="r" b="b"/>
            <a:pathLst>
              <a:path w="113" h="42">
                <a:moveTo>
                  <a:pt x="0" y="0"/>
                </a:moveTo>
                <a:lnTo>
                  <a:pt x="113" y="0"/>
                </a:lnTo>
                <a:lnTo>
                  <a:pt x="113" y="42"/>
                </a:lnTo>
                <a:lnTo>
                  <a:pt x="0" y="4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62480" y="5210280"/>
            <a:ext cx="156960" cy="442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351320" y="5330880"/>
            <a:ext cx="179280" cy="66600"/>
          </a:xfrm>
          <a:custGeom>
            <a:avLst/>
            <a:gdLst/>
            <a:ahLst/>
            <a:rect l="l" t="t" r="r" b="b"/>
            <a:pathLst>
              <a:path w="113" h="42">
                <a:moveTo>
                  <a:pt x="0" y="0"/>
                </a:moveTo>
                <a:lnTo>
                  <a:pt x="113" y="0"/>
                </a:lnTo>
                <a:lnTo>
                  <a:pt x="113" y="42"/>
                </a:lnTo>
                <a:lnTo>
                  <a:pt x="0" y="4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62480" y="5342040"/>
            <a:ext cx="156960" cy="442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086960" y="491328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erv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4902120"/>
            <a:ext cx="830520" cy="28584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61240" y="4957920"/>
            <a:ext cx="156960" cy="64800"/>
          </a:xfrm>
          <a:custGeom>
            <a:avLst/>
            <a:gdLst/>
            <a:ahLst/>
            <a:rect l="l" t="t" r="r" b="b"/>
            <a:pathLst>
              <a:path w="99" h="41">
                <a:moveTo>
                  <a:pt x="0" y="0"/>
                </a:moveTo>
                <a:lnTo>
                  <a:pt x="99" y="0"/>
                </a:lnTo>
                <a:lnTo>
                  <a:pt x="99" y="41"/>
                </a:lnTo>
                <a:lnTo>
                  <a:pt x="0" y="4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72400" y="4968720"/>
            <a:ext cx="135000" cy="428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61240" y="5089680"/>
            <a:ext cx="156960" cy="64800"/>
          </a:xfrm>
          <a:custGeom>
            <a:avLst/>
            <a:gdLst/>
            <a:ahLst/>
            <a:rect l="l" t="t" r="r" b="b"/>
            <a:pathLst>
              <a:path w="99" h="41">
                <a:moveTo>
                  <a:pt x="0" y="0"/>
                </a:moveTo>
                <a:lnTo>
                  <a:pt x="99" y="0"/>
                </a:lnTo>
                <a:lnTo>
                  <a:pt x="99" y="41"/>
                </a:lnTo>
                <a:lnTo>
                  <a:pt x="0" y="4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72400" y="5100480"/>
            <a:ext cx="135000" cy="4320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D16A-9BBB-47AC-8CE2-7A00EA50058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9.5 Architectural Patter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notion of patterns can be applied to software architecture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se are called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rchitectural pattern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r </a:t>
            </a:r>
            <a:r>
              <a:rPr b="0" i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rchitectural styl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allows you to design flexible systems using component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omponents are as independent of each other as possible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67CE-9017-4E90-9DD2-5F72E59FFAD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on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y piece of software or hardware that has a clear role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omponent can be isolated, allowing you to replace it with a different component that has equivalent functionali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ny components are designed to be reusab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versely, others perform special-purpose functi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4FB-0038-44F6-B263-78E4A1A92C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1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6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The Multi-Layer architectural patter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a layered system, each layer communicates only with the layer immediately below it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layer has a well-defined interface used by the layer immediately abov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layer sees the lower layer as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set of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rvic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omplex system can be built by superimposing layers at increasing levels of abstrac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is important to have a separate layer for the U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yers immediately below the UI layer provide the application functions determined by the use-cas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ttom layers provide general servic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 network communication, database ac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649-B68A-4DBD-B203-E50E497E6F2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 of multi-layer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270400" y="2311560"/>
            <a:ext cx="1137240" cy="422280"/>
            <a:chOff x="5270400" y="2311560"/>
            <a:chExt cx="1137240" cy="422280"/>
          </a:xfrm>
        </p:grpSpPr>
        <p:sp>
          <p:nvSpPr>
            <p:cNvPr id="489" name=""/>
            <p:cNvSpPr/>
            <p:nvPr/>
          </p:nvSpPr>
          <p:spPr>
            <a:xfrm>
              <a:off x="5270400" y="2317680"/>
              <a:ext cx="1127160" cy="416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282280" y="2311560"/>
              <a:ext cx="1125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Screen display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80480" y="2494080"/>
              <a:ext cx="58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faciliti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535720" y="3006720"/>
            <a:ext cx="1093680" cy="422280"/>
            <a:chOff x="5535720" y="3006720"/>
            <a:chExt cx="1093680" cy="422280"/>
          </a:xfrm>
        </p:grpSpPr>
        <p:sp>
          <p:nvSpPr>
            <p:cNvPr id="493" name=""/>
            <p:cNvSpPr/>
            <p:nvPr/>
          </p:nvSpPr>
          <p:spPr>
            <a:xfrm>
              <a:off x="5535720" y="3014640"/>
              <a:ext cx="1093680" cy="41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579640" y="3006720"/>
              <a:ext cx="1015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User account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80000" y="3189240"/>
              <a:ext cx="960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867280" y="3686040"/>
            <a:ext cx="1027080" cy="438120"/>
            <a:chOff x="5867280" y="3686040"/>
            <a:chExt cx="1027080" cy="438120"/>
          </a:xfrm>
        </p:grpSpPr>
        <p:sp>
          <p:nvSpPr>
            <p:cNvPr id="497" name=""/>
            <p:cNvSpPr/>
            <p:nvPr/>
          </p:nvSpPr>
          <p:spPr>
            <a:xfrm>
              <a:off x="5867280" y="3710160"/>
              <a:ext cx="1027080" cy="41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924520" y="368604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Fil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25240" y="3868560"/>
              <a:ext cx="522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4856040" y="4389480"/>
            <a:ext cx="1623960" cy="612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33080" y="4381560"/>
            <a:ext cx="52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36680" y="4564080"/>
            <a:ext cx="1518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(handling process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35240" y="4746600"/>
            <a:ext cx="1070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nd swapping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08440" y="1805040"/>
            <a:ext cx="1656000" cy="249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786920" y="1797120"/>
            <a:ext cx="1546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pplication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57080" y="4183200"/>
            <a:ext cx="39888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05" y="652"/>
                </a:moveTo>
                <a:arcTo wR="10800" hR="10800" stAng="-6600533" swAng="2397952"/>
                <a:lnTo>
                  <a:pt x="10800" y="10800"/>
                </a:lnTo>
                <a:close/>
              </a:path>
              <a:path fill="none" w="21600" h="21600">
                <a:moveTo>
                  <a:pt x="7105" y="652"/>
                </a:moveTo>
                <a:arcTo wR="10800" hR="10800" stAng="-6600533" swAng="239795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6356520" y="4116240"/>
            <a:ext cx="1440" cy="82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1920" y="3486240"/>
            <a:ext cx="39600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78" y="661"/>
                </a:moveTo>
                <a:arcTo wR="10800" hR="10800" stAng="-6609385" swAng="2415636"/>
                <a:lnTo>
                  <a:pt x="10800" y="10800"/>
                </a:lnTo>
                <a:close/>
              </a:path>
              <a:path fill="none" w="21600" h="21600">
                <a:moveTo>
                  <a:pt x="7078" y="661"/>
                </a:moveTo>
                <a:arcTo wR="10800" hR="10800" stAng="-6609385" swAng="241563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289560" y="3436560"/>
            <a:ext cx="180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478840" y="4165560"/>
            <a:ext cx="39636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8" y="658"/>
                </a:moveTo>
                <a:arcTo wR="10800" hR="10800" stAng="-6606095" swAng="2412189"/>
                <a:lnTo>
                  <a:pt x="10800" y="10800"/>
                </a:lnTo>
                <a:close/>
              </a:path>
              <a:path fill="none" w="21600" h="21600">
                <a:moveTo>
                  <a:pt x="7088" y="658"/>
                </a:moveTo>
                <a:arcTo wR="10800" hR="10800" stAng="-6606095" swAng="241218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676840" y="3436920"/>
            <a:ext cx="1800" cy="746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59280" y="2800440"/>
            <a:ext cx="39708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97" y="655"/>
                </a:moveTo>
                <a:arcTo wR="10800" hR="10800" stAng="-6602968" swAng="2409063"/>
                <a:lnTo>
                  <a:pt x="10800" y="10800"/>
                </a:lnTo>
                <a:close/>
              </a:path>
              <a:path fill="none" w="21600" h="21600">
                <a:moveTo>
                  <a:pt x="7097" y="655"/>
                </a:moveTo>
                <a:arcTo wR="10800" hR="10800" stAng="-6602968" swAng="2409063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958000" y="2741400"/>
            <a:ext cx="144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13520" y="4165560"/>
            <a:ext cx="39636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8" y="658"/>
                </a:moveTo>
                <a:arcTo wR="10800" hR="10800" stAng="-6606095" swAng="2412189"/>
                <a:lnTo>
                  <a:pt x="10800" y="10800"/>
                </a:lnTo>
                <a:close/>
              </a:path>
              <a:path fill="none" w="21600" h="21600">
                <a:moveTo>
                  <a:pt x="7088" y="658"/>
                </a:moveTo>
                <a:arcTo wR="10800" hR="10800" stAng="-6606095" swAng="241218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1880" y="2741760"/>
            <a:ext cx="1440" cy="144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594040" y="2095560"/>
            <a:ext cx="39744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8" y="658"/>
                </a:moveTo>
                <a:arcTo wR="10800" hR="10800" stAng="-6606095" swAng="2412189"/>
                <a:lnTo>
                  <a:pt x="10800" y="10800"/>
                </a:lnTo>
                <a:close/>
              </a:path>
              <a:path fill="none" w="21600" h="21600">
                <a:moveTo>
                  <a:pt x="7088" y="658"/>
                </a:moveTo>
                <a:arcTo wR="10800" hR="10800" stAng="-6606095" swAng="241218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792760" y="2045880"/>
            <a:ext cx="1440" cy="65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964760" y="4165560"/>
            <a:ext cx="39852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01" y="653"/>
                </a:moveTo>
                <a:arcTo wR="10800" hR="10800" stAng="-6601673" swAng="2400228"/>
                <a:lnTo>
                  <a:pt x="10800" y="10800"/>
                </a:lnTo>
                <a:close/>
              </a:path>
              <a:path fill="none" w="21600" h="21600">
                <a:moveTo>
                  <a:pt x="7101" y="653"/>
                </a:moveTo>
                <a:arcTo wR="10800" hR="10800" stAng="-6601673" swAng="240022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5164200" y="2046240"/>
            <a:ext cx="1440" cy="2136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73200" y="3195720"/>
            <a:ext cx="728640" cy="415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97680" y="318924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98400" y="3371760"/>
            <a:ext cx="63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25640" y="3892680"/>
            <a:ext cx="1822320" cy="414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00120" y="388476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399040" y="4067280"/>
            <a:ext cx="33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40080" y="4587840"/>
            <a:ext cx="795240" cy="414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67080" y="457992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Databas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466000" y="476244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3333600" y="4579920"/>
            <a:ext cx="1176120" cy="422280"/>
            <a:chOff x="3333600" y="4579920"/>
            <a:chExt cx="1176120" cy="422280"/>
          </a:xfrm>
        </p:grpSpPr>
        <p:sp>
          <p:nvSpPr>
            <p:cNvPr id="530" name=""/>
            <p:cNvSpPr/>
            <p:nvPr/>
          </p:nvSpPr>
          <p:spPr>
            <a:xfrm>
              <a:off x="3333600" y="4587840"/>
              <a:ext cx="1176120" cy="41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60240" y="457992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Network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61680" y="476244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3458520" y="4363920"/>
            <a:ext cx="398520" cy="39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92" y="657"/>
                </a:moveTo>
                <a:arcTo wR="10800" hR="10800" stAng="-6604952" swAng="2406780"/>
                <a:lnTo>
                  <a:pt x="10800" y="10800"/>
                </a:lnTo>
                <a:close/>
              </a:path>
              <a:path fill="none" w="21600" h="21600">
                <a:moveTo>
                  <a:pt x="7092" y="657"/>
                </a:moveTo>
                <a:arcTo wR="10800" hR="10800" stAng="-6604952" swAng="240678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656160" y="4314600"/>
            <a:ext cx="144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4360" y="4363920"/>
            <a:ext cx="396000" cy="39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78" y="661"/>
                </a:moveTo>
                <a:arcTo wR="10800" hR="10800" stAng="-6609385" swAng="2415636"/>
                <a:lnTo>
                  <a:pt x="10800" y="10800"/>
                </a:lnTo>
                <a:close/>
              </a:path>
              <a:path fill="none" w="21600" h="21600">
                <a:moveTo>
                  <a:pt x="7078" y="661"/>
                </a:moveTo>
                <a:arcTo wR="10800" hR="10800" stAng="-6609385" swAng="241563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862360" y="4314600"/>
            <a:ext cx="144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613240" y="3668760"/>
            <a:ext cx="39924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01" y="653"/>
                </a:moveTo>
                <a:arcTo wR="10800" hR="10800" stAng="-6601673" swAng="2400228"/>
                <a:lnTo>
                  <a:pt x="10800" y="10800"/>
                </a:lnTo>
                <a:close/>
              </a:path>
              <a:path fill="none" w="21600" h="21600">
                <a:moveTo>
                  <a:pt x="7101" y="653"/>
                </a:moveTo>
                <a:arcTo wR="10800" hR="10800" stAng="-6601673" swAng="240022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2813040" y="3619080"/>
            <a:ext cx="144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7423200" y="4579920"/>
            <a:ext cx="1060560" cy="422280"/>
            <a:chOff x="7423200" y="4579920"/>
            <a:chExt cx="1060560" cy="422280"/>
          </a:xfrm>
        </p:grpSpPr>
        <p:sp>
          <p:nvSpPr>
            <p:cNvPr id="540" name=""/>
            <p:cNvSpPr/>
            <p:nvPr/>
          </p:nvSpPr>
          <p:spPr>
            <a:xfrm>
              <a:off x="7423200" y="4587840"/>
              <a:ext cx="1060560" cy="41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51280" y="4579920"/>
              <a:ext cx="951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Transmitting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51280" y="4762440"/>
              <a:ext cx="979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and receiv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7456320" y="3884760"/>
            <a:ext cx="993600" cy="422280"/>
            <a:chOff x="7456320" y="3884760"/>
            <a:chExt cx="993600" cy="422280"/>
          </a:xfrm>
        </p:grpSpPr>
        <p:sp>
          <p:nvSpPr>
            <p:cNvPr id="544" name=""/>
            <p:cNvSpPr/>
            <p:nvPr/>
          </p:nvSpPr>
          <p:spPr>
            <a:xfrm>
              <a:off x="7456320" y="3892680"/>
              <a:ext cx="993600" cy="41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83320" y="388476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Dealing with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82600" y="406728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packe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7456320" y="3189240"/>
            <a:ext cx="993600" cy="422280"/>
            <a:chOff x="7456320" y="3189240"/>
            <a:chExt cx="993600" cy="422280"/>
          </a:xfrm>
        </p:grpSpPr>
        <p:sp>
          <p:nvSpPr>
            <p:cNvPr id="548" name=""/>
            <p:cNvSpPr/>
            <p:nvPr/>
          </p:nvSpPr>
          <p:spPr>
            <a:xfrm>
              <a:off x="7456320" y="3195720"/>
              <a:ext cx="993600" cy="415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83320" y="318924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Dealing with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483680" y="3371760"/>
              <a:ext cx="87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connec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157880" y="2509920"/>
            <a:ext cx="1590480" cy="422280"/>
            <a:chOff x="7157880" y="2509920"/>
            <a:chExt cx="1590480" cy="422280"/>
          </a:xfrm>
        </p:grpSpPr>
        <p:sp>
          <p:nvSpPr>
            <p:cNvPr id="552" name=""/>
            <p:cNvSpPr/>
            <p:nvPr/>
          </p:nvSpPr>
          <p:spPr>
            <a:xfrm>
              <a:off x="7157880" y="2517840"/>
              <a:ext cx="1590480" cy="41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184880" y="250992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Dealing with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187040" y="2692440"/>
              <a:ext cx="1500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application protocol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7731000" y="4363920"/>
            <a:ext cx="397440" cy="39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92" y="657"/>
                </a:moveTo>
                <a:arcTo wR="10800" hR="10800" stAng="-6604952" swAng="2406780"/>
                <a:lnTo>
                  <a:pt x="10800" y="10800"/>
                </a:lnTo>
                <a:close/>
              </a:path>
              <a:path fill="none" w="21600" h="21600">
                <a:moveTo>
                  <a:pt x="7092" y="657"/>
                </a:moveTo>
                <a:arcTo wR="10800" hR="10800" stAng="-6604952" swAng="240678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7927920" y="4314600"/>
            <a:ext cx="180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30280" y="3668760"/>
            <a:ext cx="39852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01" y="653"/>
                </a:moveTo>
                <a:arcTo wR="10800" hR="10800" stAng="-6601673" swAng="2400228"/>
                <a:lnTo>
                  <a:pt x="10800" y="10800"/>
                </a:lnTo>
                <a:close/>
              </a:path>
              <a:path fill="none" w="21600" h="21600">
                <a:moveTo>
                  <a:pt x="7101" y="653"/>
                </a:moveTo>
                <a:arcTo wR="10800" hR="10800" stAng="-6601673" swAng="240022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927920" y="3619080"/>
            <a:ext cx="180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30280" y="2982960"/>
            <a:ext cx="39852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01" y="653"/>
                </a:moveTo>
                <a:arcTo wR="10800" hR="10800" stAng="-6601673" swAng="2400228"/>
                <a:lnTo>
                  <a:pt x="10800" y="10800"/>
                </a:lnTo>
                <a:close/>
              </a:path>
              <a:path fill="none" w="21600" h="21600">
                <a:moveTo>
                  <a:pt x="7101" y="653"/>
                </a:moveTo>
                <a:arcTo wR="10800" hR="10800" stAng="-6601673" swAng="240022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7927920" y="2923920"/>
            <a:ext cx="1800" cy="65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22200" y="5292720"/>
            <a:ext cx="164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) Typical layers in a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122200" y="5475240"/>
            <a:ext cx="1445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pplication progr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19400" y="5292720"/>
            <a:ext cx="164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b) Typical layers in a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18320" y="5475240"/>
            <a:ext cx="1253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038360" y="5292720"/>
            <a:ext cx="198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c) Simplified view of layer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039440" y="5475240"/>
            <a:ext cx="198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in a communication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965160" y="4587840"/>
            <a:ext cx="1376280" cy="414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994320" y="4579920"/>
            <a:ext cx="1335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Operating system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91440" y="476244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02320" y="4363920"/>
            <a:ext cx="396000" cy="39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78" y="661"/>
                </a:moveTo>
                <a:arcTo wR="10800" hR="10800" stAng="-6609385" swAng="2415636"/>
                <a:lnTo>
                  <a:pt x="10800" y="10800"/>
                </a:lnTo>
                <a:close/>
              </a:path>
              <a:path fill="none" w="21600" h="21600">
                <a:moveTo>
                  <a:pt x="7078" y="661"/>
                </a:moveTo>
                <a:arcTo wR="10800" hR="10800" stAng="-6609385" swAng="241563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2200320" y="4314600"/>
            <a:ext cx="144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65160" y="4471920"/>
            <a:ext cx="23328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40080" y="4471920"/>
            <a:ext cx="23184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333600" y="4471920"/>
            <a:ext cx="24948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25640" y="3776760"/>
            <a:ext cx="23328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73200" y="3079800"/>
            <a:ext cx="231840" cy="117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856040" y="4273560"/>
            <a:ext cx="23364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67280" y="3594240"/>
            <a:ext cx="23184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535720" y="2898720"/>
            <a:ext cx="23184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270400" y="2201760"/>
            <a:ext cx="233640" cy="117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08440" y="1689120"/>
            <a:ext cx="23184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157880" y="2401920"/>
            <a:ext cx="24948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456320" y="3079800"/>
            <a:ext cx="249480" cy="117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472520" y="3776760"/>
            <a:ext cx="23328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423200" y="4471920"/>
            <a:ext cx="24912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FE7-0BCB-4129-B8DB-8CC159F97451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The multi-layer architecture and design princip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1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ivide and conquer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The layers can be independently design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2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Increase cohesion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Well-designed layers have layer cohes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3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Reduce coupling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Well-designed lower layers do not know about the higher layers and the only connection between layers is through the AP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4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Increase abstraction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you do not need to know the details of how the lower layers are implemented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7. Increase flexibility: you can add new facilities built on lower-level services, or replace higher-level lay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10. Design for testability: Layers can be tested independentl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46E-1E63-492D-9D16-F6A567D9CDE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6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The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lient-Server and other distributed architectural patter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is at least one component that has the role of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rve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waiting for and then handling connecti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is at least one component that has the role of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ien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initiating connections in order to obtain some servi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further extension i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Peer-to-Pee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atter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ystem composed of various software components that are distributed over several host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Each component can be both a server and a cli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CA83-854E-4FEC-BC35-6619DCEEF23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example of a distributed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3034080" y="32655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ent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97200" y="3274920"/>
            <a:ext cx="844560" cy="27468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17640" y="3309840"/>
            <a:ext cx="182880" cy="68400"/>
          </a:xfrm>
          <a:custGeom>
            <a:avLst/>
            <a:gdLst/>
            <a:ahLst/>
            <a:rect l="l" t="t" r="r" b="b"/>
            <a:pathLst>
              <a:path w="115" h="43">
                <a:moveTo>
                  <a:pt x="0" y="0"/>
                </a:moveTo>
                <a:lnTo>
                  <a:pt x="115" y="0"/>
                </a:lnTo>
                <a:lnTo>
                  <a:pt x="115" y="43"/>
                </a:lnTo>
                <a:lnTo>
                  <a:pt x="0" y="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728800" y="3321000"/>
            <a:ext cx="160560" cy="460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17640" y="3446640"/>
            <a:ext cx="182880" cy="69840"/>
          </a:xfrm>
          <a:custGeom>
            <a:avLst/>
            <a:gdLst/>
            <a:ahLst/>
            <a:rect l="l" t="t" r="r" b="b"/>
            <a:pathLst>
              <a:path w="115" h="44">
                <a:moveTo>
                  <a:pt x="0" y="0"/>
                </a:moveTo>
                <a:lnTo>
                  <a:pt x="115" y="0"/>
                </a:lnTo>
                <a:lnTo>
                  <a:pt x="115" y="44"/>
                </a:lnTo>
                <a:lnTo>
                  <a:pt x="0" y="4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28800" y="3457440"/>
            <a:ext cx="160560" cy="478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418880" y="290052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erv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175520" y="2887560"/>
            <a:ext cx="844560" cy="29700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095960" y="2944800"/>
            <a:ext cx="182880" cy="68400"/>
          </a:xfrm>
          <a:custGeom>
            <a:avLst/>
            <a:gdLst/>
            <a:ahLst/>
            <a:rect l="l" t="t" r="r" b="b"/>
            <a:pathLst>
              <a:path w="115" h="43">
                <a:moveTo>
                  <a:pt x="0" y="0"/>
                </a:moveTo>
                <a:lnTo>
                  <a:pt x="115" y="0"/>
                </a:lnTo>
                <a:lnTo>
                  <a:pt x="115" y="43"/>
                </a:lnTo>
                <a:lnTo>
                  <a:pt x="0" y="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107120" y="2955960"/>
            <a:ext cx="160560" cy="460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095960" y="3083040"/>
            <a:ext cx="182880" cy="68040"/>
          </a:xfrm>
          <a:custGeom>
            <a:avLst/>
            <a:gdLst/>
            <a:ahLst/>
            <a:rect l="l" t="t" r="r" b="b"/>
            <a:pathLst>
              <a:path w="115" h="43">
                <a:moveTo>
                  <a:pt x="0" y="0"/>
                </a:moveTo>
                <a:lnTo>
                  <a:pt x="115" y="0"/>
                </a:lnTo>
                <a:lnTo>
                  <a:pt x="115" y="43"/>
                </a:lnTo>
                <a:lnTo>
                  <a:pt x="0" y="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107120" y="3094200"/>
            <a:ext cx="160560" cy="4572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945240" y="21240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ent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708360" y="2135160"/>
            <a:ext cx="844560" cy="27468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29160" y="2170080"/>
            <a:ext cx="182520" cy="68400"/>
          </a:xfrm>
          <a:custGeom>
            <a:avLst/>
            <a:gdLst/>
            <a:ahLst/>
            <a:rect l="l" t="t" r="r" b="b"/>
            <a:pathLst>
              <a:path w="115" h="43">
                <a:moveTo>
                  <a:pt x="0" y="0"/>
                </a:moveTo>
                <a:lnTo>
                  <a:pt x="115" y="0"/>
                </a:lnTo>
                <a:lnTo>
                  <a:pt x="115" y="43"/>
                </a:lnTo>
                <a:lnTo>
                  <a:pt x="0" y="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639960" y="2181240"/>
            <a:ext cx="160560" cy="460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29160" y="2306520"/>
            <a:ext cx="182520" cy="68400"/>
          </a:xfrm>
          <a:custGeom>
            <a:avLst/>
            <a:gdLst/>
            <a:ahLst/>
            <a:rect l="l" t="t" r="r" b="b"/>
            <a:pathLst>
              <a:path w="115" h="43">
                <a:moveTo>
                  <a:pt x="0" y="0"/>
                </a:moveTo>
                <a:lnTo>
                  <a:pt x="115" y="0"/>
                </a:lnTo>
                <a:lnTo>
                  <a:pt x="115" y="43"/>
                </a:lnTo>
                <a:lnTo>
                  <a:pt x="0" y="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639960" y="2317680"/>
            <a:ext cx="160560" cy="460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629600" y="440532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ent3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392720" y="4416480"/>
            <a:ext cx="844560" cy="27468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313160" y="4451400"/>
            <a:ext cx="182520" cy="68040"/>
          </a:xfrm>
          <a:custGeom>
            <a:avLst/>
            <a:gdLst/>
            <a:ahLst/>
            <a:rect l="l" t="t" r="r" b="b"/>
            <a:pathLst>
              <a:path w="115" h="43">
                <a:moveTo>
                  <a:pt x="0" y="0"/>
                </a:moveTo>
                <a:lnTo>
                  <a:pt x="115" y="0"/>
                </a:lnTo>
                <a:lnTo>
                  <a:pt x="115" y="43"/>
                </a:lnTo>
                <a:lnTo>
                  <a:pt x="0" y="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24320" y="4462560"/>
            <a:ext cx="160200" cy="460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313160" y="4587840"/>
            <a:ext cx="182520" cy="68400"/>
          </a:xfrm>
          <a:custGeom>
            <a:avLst/>
            <a:gdLst/>
            <a:ahLst/>
            <a:rect l="l" t="t" r="r" b="b"/>
            <a:pathLst>
              <a:path w="115" h="43">
                <a:moveTo>
                  <a:pt x="0" y="0"/>
                </a:moveTo>
                <a:lnTo>
                  <a:pt x="115" y="0"/>
                </a:lnTo>
                <a:lnTo>
                  <a:pt x="115" y="43"/>
                </a:lnTo>
                <a:lnTo>
                  <a:pt x="0" y="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24320" y="4599000"/>
            <a:ext cx="160200" cy="460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3355920" y="2443320"/>
            <a:ext cx="523800" cy="798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336920" y="2443320"/>
            <a:ext cx="341280" cy="1962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446640" y="3560760"/>
            <a:ext cx="1002960" cy="820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564080" y="2284560"/>
            <a:ext cx="2690640" cy="591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5021280" y="3195720"/>
            <a:ext cx="2233440" cy="118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296760" y="3606840"/>
            <a:ext cx="184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communication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84600" y="3835440"/>
            <a:ext cx="164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 up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133000" y="3925800"/>
            <a:ext cx="184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communication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00480" y="4154400"/>
            <a:ext cx="186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hange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21800" y="2557440"/>
            <a:ext cx="184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communication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716480" y="2786040"/>
            <a:ext cx="186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hange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518720" y="2854440"/>
            <a:ext cx="184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communication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613400" y="3083040"/>
            <a:ext cx="186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hange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12760" y="2033640"/>
            <a:ext cx="184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communication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700600" y="2262240"/>
            <a:ext cx="164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 up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715760" y="5070600"/>
            <a:ext cx="610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eer-to-peer architecture for instant mess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33A6-5349-44FA-8CB6-0E773189544C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The distributed architecture and design princip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1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ivide and conquer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Dividing the system into client and server processes is a strong way to divide the syst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80808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Each can be separately develop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2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Increase cohesion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The server can provide a cohesive service to client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3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Reduce coupling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There is usually only one communication channel exchanging simple messag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4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Increase abstraction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Separate distributed components are often good abstracti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7. Design for flexibility:</a:t>
            </a:r>
            <a:r>
              <a:rPr b="0" lang="en-GB" sz="18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istributed systems can often be easily reconfigured by adding extra servers or client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10. Design for testability:</a:t>
            </a:r>
            <a:r>
              <a:rPr b="0" lang="en-GB" sz="18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You can test clients and servers independentl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B42-AB53-480E-A237-4C617589934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3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6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The Broker architectural patte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parently distribute aspects of the software system to different nod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object can call methods of another object without knowing that this object is remotely  locat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RBA is a well-known open standard that allows you to build this kind of architectu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crosoft COM architecture is another examp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7391160" cy="7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33EF-84A9-4F67-A61F-3DBE454593F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The broker architecture and design princip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1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ivide and conquer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The remote objects can be independently design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7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esign for flexibility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The brokers can be updated as required, or the proxy can communicate with a different remote objec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A70-D444-47DE-AE99-6A5DE72E075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4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6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The Transaction-Processing architectural patter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process reads a series of inputs one by one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input describes a </a:t>
            </a:r>
            <a:r>
              <a:rPr b="0" i="1" lang="en-GB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transaction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 a command that typically some change to the data stored by th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is a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action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spatche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mponent that decides what to do with each transa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dispatches a procedure call or message to one of a series of component that will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ndl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transac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1437840" y="4822920"/>
            <a:ext cx="106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37840" y="504360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295280" y="4724280"/>
            <a:ext cx="1324080" cy="72720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130400" y="5154480"/>
            <a:ext cx="242640" cy="131760"/>
          </a:xfrm>
          <a:custGeom>
            <a:avLst/>
            <a:gdLst/>
            <a:ahLst/>
            <a:rect l="l" t="t" r="r" b="b"/>
            <a:pathLst>
              <a:path w="153" h="83">
                <a:moveTo>
                  <a:pt x="0" y="0"/>
                </a:moveTo>
                <a:lnTo>
                  <a:pt x="153" y="0"/>
                </a:lnTo>
                <a:lnTo>
                  <a:pt x="153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141560" y="5165640"/>
            <a:ext cx="220680" cy="10980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481280" y="4800600"/>
            <a:ext cx="106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80920" y="5021280"/>
            <a:ext cx="93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at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316400" y="4724280"/>
            <a:ext cx="1257480" cy="72720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94960" y="4780080"/>
            <a:ext cx="109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130400" y="4867200"/>
            <a:ext cx="242640" cy="131760"/>
          </a:xfrm>
          <a:custGeom>
            <a:avLst/>
            <a:gdLst/>
            <a:ahLst/>
            <a:rect l="l" t="t" r="r" b="b"/>
            <a:pathLst>
              <a:path w="153" h="83">
                <a:moveTo>
                  <a:pt x="0" y="0"/>
                </a:moveTo>
                <a:lnTo>
                  <a:pt x="153" y="0"/>
                </a:lnTo>
                <a:lnTo>
                  <a:pt x="153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141560" y="4878360"/>
            <a:ext cx="220680" cy="1094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51160" y="5154480"/>
            <a:ext cx="243000" cy="131760"/>
          </a:xfrm>
          <a:custGeom>
            <a:avLst/>
            <a:gdLst/>
            <a:ahLst/>
            <a:rect l="l" t="t" r="r" b="b"/>
            <a:pathLst>
              <a:path w="153" h="83">
                <a:moveTo>
                  <a:pt x="0" y="0"/>
                </a:moveTo>
                <a:lnTo>
                  <a:pt x="153" y="0"/>
                </a:lnTo>
                <a:lnTo>
                  <a:pt x="153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62320" y="5165640"/>
            <a:ext cx="220680" cy="10980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51160" y="4867200"/>
            <a:ext cx="243000" cy="131760"/>
          </a:xfrm>
          <a:custGeom>
            <a:avLst/>
            <a:gdLst/>
            <a:ahLst/>
            <a:rect l="l" t="t" r="r" b="b"/>
            <a:pathLst>
              <a:path w="153" h="83">
                <a:moveTo>
                  <a:pt x="0" y="0"/>
                </a:moveTo>
                <a:lnTo>
                  <a:pt x="153" y="0"/>
                </a:lnTo>
                <a:lnTo>
                  <a:pt x="153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162320" y="4878360"/>
            <a:ext cx="220680" cy="1094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041720" y="4801320"/>
            <a:ext cx="530280" cy="5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1" y="14494"/>
                </a:moveTo>
                <a:arcTo wR="10800" hR="10800" stAng="9600062" swAng="2399875"/>
                <a:lnTo>
                  <a:pt x="10800" y="10800"/>
                </a:lnTo>
                <a:close/>
              </a:path>
              <a:path fill="none" w="21600" h="21600">
                <a:moveTo>
                  <a:pt x="651" y="14494"/>
                </a:moveTo>
                <a:arcTo wR="10800" hR="10800" stAng="9600062" swAng="239987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2630520" y="5065560"/>
            <a:ext cx="14335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97600" y="4282920"/>
            <a:ext cx="1895400" cy="72720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730920" y="4713120"/>
            <a:ext cx="243000" cy="131760"/>
          </a:xfrm>
          <a:custGeom>
            <a:avLst/>
            <a:gdLst/>
            <a:ahLst/>
            <a:rect l="l" t="t" r="r" b="b"/>
            <a:pathLst>
              <a:path w="153" h="83">
                <a:moveTo>
                  <a:pt x="0" y="0"/>
                </a:moveTo>
                <a:lnTo>
                  <a:pt x="153" y="0"/>
                </a:lnTo>
                <a:lnTo>
                  <a:pt x="153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742080" y="4724280"/>
            <a:ext cx="220680" cy="10980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30920" y="4425840"/>
            <a:ext cx="243000" cy="133560"/>
          </a:xfrm>
          <a:custGeom>
            <a:avLst/>
            <a:gdLst/>
            <a:ahLst/>
            <a:rect l="l" t="t" r="r" b="b"/>
            <a:pathLst>
              <a:path w="153" h="84">
                <a:moveTo>
                  <a:pt x="0" y="0"/>
                </a:moveTo>
                <a:lnTo>
                  <a:pt x="153" y="0"/>
                </a:lnTo>
                <a:lnTo>
                  <a:pt x="153" y="84"/>
                </a:lnTo>
                <a:lnTo>
                  <a:pt x="0" y="8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42080" y="4437000"/>
            <a:ext cx="220680" cy="1112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599160" y="4361760"/>
            <a:ext cx="530280" cy="527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86" y="17571"/>
                </a:moveTo>
                <a:arcTo wR="10800" hR="10800" stAng="8470638" swAng="2366836"/>
                <a:lnTo>
                  <a:pt x="10800" y="10800"/>
                </a:lnTo>
                <a:close/>
              </a:path>
              <a:path fill="none" w="21600" h="21600">
                <a:moveTo>
                  <a:pt x="2386" y="17571"/>
                </a:moveTo>
                <a:arcTo wR="10800" hR="10800" stAng="8470638" swAng="236683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5584680" y="4691160"/>
            <a:ext cx="1036800" cy="374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128360" y="4294080"/>
            <a:ext cx="100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r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127280" y="4514760"/>
            <a:ext cx="108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r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27640" y="4735440"/>
            <a:ext cx="99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97600" y="5165640"/>
            <a:ext cx="1895400" cy="72720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730920" y="5595840"/>
            <a:ext cx="243000" cy="131760"/>
          </a:xfrm>
          <a:custGeom>
            <a:avLst/>
            <a:gdLst/>
            <a:ahLst/>
            <a:rect l="l" t="t" r="r" b="b"/>
            <a:pathLst>
              <a:path w="153" h="83">
                <a:moveTo>
                  <a:pt x="0" y="0"/>
                </a:moveTo>
                <a:lnTo>
                  <a:pt x="153" y="0"/>
                </a:lnTo>
                <a:lnTo>
                  <a:pt x="153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42080" y="5607000"/>
            <a:ext cx="220680" cy="1094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30920" y="5308560"/>
            <a:ext cx="243000" cy="131760"/>
          </a:xfrm>
          <a:custGeom>
            <a:avLst/>
            <a:gdLst/>
            <a:ahLst/>
            <a:rect l="l" t="t" r="r" b="b"/>
            <a:pathLst>
              <a:path w="153" h="83">
                <a:moveTo>
                  <a:pt x="0" y="0"/>
                </a:moveTo>
                <a:lnTo>
                  <a:pt x="153" y="0"/>
                </a:lnTo>
                <a:lnTo>
                  <a:pt x="153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742080" y="5319720"/>
            <a:ext cx="220680" cy="1094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128360" y="5176800"/>
            <a:ext cx="100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r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125120" y="5397480"/>
            <a:ext cx="162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ight cance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127640" y="5616720"/>
            <a:ext cx="99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599160" y="5286960"/>
            <a:ext cx="530280" cy="529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" y="11450"/>
                </a:moveTo>
                <a:arcTo wR="10800" hR="10800" stAng="10592887" swAng="2363235"/>
                <a:lnTo>
                  <a:pt x="10800" y="10800"/>
                </a:lnTo>
                <a:close/>
              </a:path>
              <a:path fill="none" w="21600" h="21600">
                <a:moveTo>
                  <a:pt x="20" y="11450"/>
                </a:moveTo>
                <a:arcTo wR="10800" hR="10800" stAng="10592887" swAng="236323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584680" y="5176800"/>
            <a:ext cx="1036800" cy="28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8C5F-7044-4DAB-AF40-2615A9485E5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The transaction-processing architecture and design princip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1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ivide and conquer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The transaction handlers are suitable system divisions that you can give to separate software engine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2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Increase cohesion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Transaction handlers are naturally cohesive unit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3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Reduce coupling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Separating the dispatcher from the handlers tends to reduce coupl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7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esign for flexibility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You can readily add new transaction handl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D36D-B78E-4BE0-A04D-BCCC9A3865E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du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omponent that is defined at the programming languag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example, methods, classes and packages are modules in Jav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9E85-D4C8-4D09-82B8-24CD020A4F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5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6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The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The Pipe-and-Filter architectural patter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tream of data, in a relatively simple format, is passed through a series of processe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pipeline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of which transforms it in some way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ta is constantly fed into the pipe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rocesses work concurrentl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rchitecture is very flexib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most all the components could be remov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onents could be replac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w components could be inserted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rtain components could be reordered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ECEB-65CB-4BDA-97B0-A58872C6643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of a pipe-and-filter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1302840" y="1562040"/>
            <a:ext cx="106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encoders f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252080" y="1770120"/>
            <a:ext cx="105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microph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238400" y="197964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509920" y="3784680"/>
            <a:ext cx="97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encoder f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22160" y="3994200"/>
            <a:ext cx="6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mb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423880" y="4203720"/>
            <a:ext cx="45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56880" y="2778120"/>
            <a:ext cx="55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671560" y="2986200"/>
            <a:ext cx="45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544360" y="2682720"/>
            <a:ext cx="71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equaliz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36440" y="2892600"/>
            <a:ext cx="71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447520" y="3100320"/>
            <a:ext cx="49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969000" y="2682720"/>
            <a:ext cx="63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76200" y="2892600"/>
            <a:ext cx="83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non-vo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96280" y="3100320"/>
            <a:ext cx="99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frequenc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79520" y="2892600"/>
            <a:ext cx="83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241840" y="2892600"/>
            <a:ext cx="6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282520" y="42228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559200" y="4222800"/>
            <a:ext cx="1044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ecompr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18000" y="4013280"/>
            <a:ext cx="63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enco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391360" y="4222800"/>
            <a:ext cx="68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342040" y="4430880"/>
            <a:ext cx="53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426120" y="1523880"/>
            <a:ext cx="109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microph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411720" y="173196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409200" y="1941480"/>
            <a:ext cx="52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325320" y="2151000"/>
            <a:ext cx="57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364040" y="4051440"/>
            <a:ext cx="56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ist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307160" y="4259160"/>
            <a:ext cx="1001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577160" y="2778120"/>
            <a:ext cx="55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494000" y="298620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1436760" y="3870360"/>
            <a:ext cx="296640" cy="201600"/>
            <a:chOff x="1436760" y="3870360"/>
            <a:chExt cx="296640" cy="201600"/>
          </a:xfrm>
        </p:grpSpPr>
        <p:sp>
          <p:nvSpPr>
            <p:cNvPr id="712" name=""/>
            <p:cNvSpPr/>
            <p:nvPr/>
          </p:nvSpPr>
          <p:spPr>
            <a:xfrm>
              <a:off x="1465200" y="3917880"/>
              <a:ext cx="266760" cy="152640"/>
            </a:xfrm>
            <a:custGeom>
              <a:avLst/>
              <a:gdLst/>
              <a:ahLst/>
              <a:rect l="l" t="t" r="r" b="b"/>
              <a:pathLst>
                <a:path w="168" h="96">
                  <a:moveTo>
                    <a:pt x="0" y="0"/>
                  </a:moveTo>
                  <a:lnTo>
                    <a:pt x="12" y="12"/>
                  </a:lnTo>
                  <a:lnTo>
                    <a:pt x="24" y="36"/>
                  </a:lnTo>
                  <a:lnTo>
                    <a:pt x="48" y="48"/>
                  </a:lnTo>
                  <a:lnTo>
                    <a:pt x="72" y="60"/>
                  </a:lnTo>
                  <a:lnTo>
                    <a:pt x="96" y="72"/>
                  </a:lnTo>
                  <a:lnTo>
                    <a:pt x="120" y="84"/>
                  </a:lnTo>
                  <a:lnTo>
                    <a:pt x="144" y="96"/>
                  </a:lnTo>
                  <a:lnTo>
                    <a:pt x="156" y="96"/>
                  </a:lnTo>
                  <a:lnTo>
                    <a:pt x="168" y="96"/>
                  </a:lnTo>
                  <a:lnTo>
                    <a:pt x="168" y="84"/>
                  </a:lnTo>
                  <a:lnTo>
                    <a:pt x="156" y="72"/>
                  </a:lnTo>
                  <a:lnTo>
                    <a:pt x="132" y="60"/>
                  </a:lnTo>
                  <a:lnTo>
                    <a:pt x="108" y="48"/>
                  </a:lnTo>
                  <a:lnTo>
                    <a:pt x="96" y="24"/>
                  </a:lnTo>
                  <a:lnTo>
                    <a:pt x="72" y="12"/>
                  </a:lnTo>
                  <a:lnTo>
                    <a:pt x="48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65200" y="391788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84280" y="393696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03360" y="397512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541520" y="399420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579680" y="401328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17840" y="4032360"/>
              <a:ext cx="37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55640" y="405144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93800" y="40705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12880" y="40705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1731960" y="40510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1712520" y="40320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1674720" y="401292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1636560" y="399384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1617840" y="395604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1579680" y="393660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1541520" y="391752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1503360" y="39178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1483920" y="391788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1464840" y="391788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436760" y="3870360"/>
              <a:ext cx="133200" cy="152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488120" y="3860640"/>
            <a:ext cx="264600" cy="428760"/>
            <a:chOff x="4488120" y="3860640"/>
            <a:chExt cx="264600" cy="428760"/>
          </a:xfrm>
        </p:grpSpPr>
        <p:grpSp>
          <p:nvGrpSpPr>
            <p:cNvPr id="734" name=""/>
            <p:cNvGrpSpPr/>
            <p:nvPr/>
          </p:nvGrpSpPr>
          <p:grpSpPr>
            <a:xfrm>
              <a:off x="4488120" y="3860640"/>
              <a:ext cx="264600" cy="265320"/>
              <a:chOff x="4488120" y="3860640"/>
              <a:chExt cx="264600" cy="265320"/>
            </a:xfrm>
          </p:grpSpPr>
          <p:sp>
            <p:nvSpPr>
              <p:cNvPr id="735" name=""/>
              <p:cNvSpPr/>
              <p:nvPr/>
            </p:nvSpPr>
            <p:spPr>
              <a:xfrm>
                <a:off x="4488120" y="3860640"/>
                <a:ext cx="264600" cy="26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19" y="2314"/>
                    </a:moveTo>
                    <a:arcTo wR="10800" hR="10800" stAng="-7692891" swAng="94190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19" y="2314"/>
                    </a:moveTo>
                    <a:arcTo wR="10800" hR="10800" stAng="-7692891" swAng="9419072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498560" y="3870360"/>
                <a:ext cx="244440" cy="24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17" y="2316"/>
                    </a:moveTo>
                    <a:arcTo wR="10800" hR="10800" stAng="-7693660" swAng="94191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17" y="2316"/>
                    </a:moveTo>
                    <a:arcTo wR="10800" hR="10800" stAng="-7693660" swAng="9419172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7" name=""/>
              <p:cNvGrpSpPr/>
              <p:nvPr/>
            </p:nvGrpSpPr>
            <p:grpSpPr>
              <a:xfrm>
                <a:off x="4546080" y="3898800"/>
                <a:ext cx="168480" cy="209520"/>
                <a:chOff x="4546080" y="3898800"/>
                <a:chExt cx="168480" cy="20952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4546080" y="3898800"/>
                  <a:ext cx="168480" cy="209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67" y="2277"/>
                      </a:moveTo>
                      <a:arcTo wR="10800" hR="10800" stAng="-7673503" swAng="93928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67" y="2277"/>
                      </a:moveTo>
                      <a:arcTo wR="10800" hR="10800" stAng="-7673503" swAng="9392864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555080" y="3908520"/>
                  <a:ext cx="149760" cy="189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069" y="2354"/>
                      </a:moveTo>
                      <a:arcTo wR="10800" hR="10800" stAng="-7713006" swAng="93983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069" y="2354"/>
                      </a:moveTo>
                      <a:arcTo wR="10800" hR="10800" stAng="-7713006" swAng="939838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4584960" y="3956040"/>
                  <a:ext cx="92880" cy="9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067" y="2356"/>
                      </a:moveTo>
                      <a:arcTo wR="10800" hR="10800" stAng="-7713987" swAng="941771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067" y="2356"/>
                      </a:moveTo>
                      <a:arcTo wR="10800" hR="10800" stAng="-7713987" swAng="9417716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4593240" y="3965400"/>
                  <a:ext cx="73800" cy="75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050" y="2370"/>
                      </a:moveTo>
                      <a:arcTo wR="10800" hR="10800" stAng="-7721106" swAng="94187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050" y="2370"/>
                      </a:moveTo>
                      <a:arcTo wR="10800" hR="10800" stAng="-7721106" swAng="941873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2" name=""/>
            <p:cNvGrpSpPr/>
            <p:nvPr/>
          </p:nvGrpSpPr>
          <p:grpSpPr>
            <a:xfrm>
              <a:off x="4516560" y="4003560"/>
              <a:ext cx="95040" cy="285840"/>
              <a:chOff x="4516560" y="4003560"/>
              <a:chExt cx="95040" cy="285840"/>
            </a:xfrm>
          </p:grpSpPr>
          <p:sp>
            <p:nvSpPr>
              <p:cNvPr id="743" name=""/>
              <p:cNvSpPr/>
              <p:nvPr/>
            </p:nvSpPr>
            <p:spPr>
              <a:xfrm>
                <a:off x="4516560" y="4003560"/>
                <a:ext cx="95040" cy="28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516560" y="4041720"/>
                <a:ext cx="95040" cy="11448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14480"/>
                  <a:gd name="textAreaBottom" fmla="*/ 100800 h 114480"/>
                </a:gdLst>
                <a:ahLst/>
                <a:rect l="textAreaLeft" t="textAreaTop" r="textAreaRight" b="textAreaBottom"/>
                <a:pathLst>
                  <a:path w="21600" h="26002">
                    <a:moveTo>
                      <a:pt x="10800" y="0"/>
                    </a:moveTo>
                    <a:arcTo wR="10800" hR="10800" stAng="16200000" swAng="-5400000"/>
                    <a:lnTo>
                      <a:pt x="0" y="15202"/>
                    </a:lnTo>
                    <a:arcTo wR="10800" hR="10800" stAng="10800000" swAng="-5400000"/>
                    <a:lnTo>
                      <a:pt x="10800" y="2600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516560" y="4213080"/>
                <a:ext cx="37800" cy="38160"/>
              </a:xfrm>
              <a:custGeom>
                <a:avLst/>
                <a:gdLst>
                  <a:gd name="textAreaLeft" fmla="*/ 5400 w 37800"/>
                  <a:gd name="textAreaRight" fmla="*/ 32400 w 37800"/>
                  <a:gd name="textAreaTop" fmla="*/ 5400 h 38160"/>
                  <a:gd name="textAreaBottom" fmla="*/ 32760 h 38160"/>
                </a:gdLst>
                <a:ahLst/>
                <a:rect l="textAreaLeft" t="textAreaTop" r="textAreaRight" b="textAreaBottom"/>
                <a:pathLst>
                  <a:path w="21600" h="21804">
                    <a:moveTo>
                      <a:pt x="10800" y="0"/>
                    </a:moveTo>
                    <a:arcTo wR="10800" hR="10800" stAng="16200000" swAng="-5400000"/>
                    <a:lnTo>
                      <a:pt x="0" y="11004"/>
                    </a:lnTo>
                    <a:arcTo wR="10800" hR="10800" stAng="10800000" swAng="-5400000"/>
                    <a:lnTo>
                      <a:pt x="10800" y="2180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573440" y="4213080"/>
                <a:ext cx="38160" cy="3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7" name=""/>
          <p:cNvSpPr/>
          <p:nvPr/>
        </p:nvSpPr>
        <p:spPr>
          <a:xfrm>
            <a:off x="1360440" y="2787480"/>
            <a:ext cx="703440" cy="49392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58880" y="2787480"/>
            <a:ext cx="703440" cy="47484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755880" y="2692440"/>
            <a:ext cx="1082880" cy="68400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334120" y="2692440"/>
            <a:ext cx="853920" cy="68400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219640" y="4022640"/>
            <a:ext cx="777960" cy="68436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14560" y="1571760"/>
            <a:ext cx="1139760" cy="68400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311560" y="3795840"/>
            <a:ext cx="1120680" cy="68256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2824200" y="1647720"/>
            <a:ext cx="295200" cy="201600"/>
            <a:chOff x="2824200" y="1647720"/>
            <a:chExt cx="295200" cy="201600"/>
          </a:xfrm>
        </p:grpSpPr>
        <p:sp>
          <p:nvSpPr>
            <p:cNvPr id="755" name=""/>
            <p:cNvSpPr/>
            <p:nvPr/>
          </p:nvSpPr>
          <p:spPr>
            <a:xfrm>
              <a:off x="2852640" y="1695600"/>
              <a:ext cx="266760" cy="152280"/>
            </a:xfrm>
            <a:custGeom>
              <a:avLst/>
              <a:gdLst/>
              <a:ahLst/>
              <a:rect l="l" t="t" r="r" b="b"/>
              <a:pathLst>
                <a:path w="168" h="96">
                  <a:moveTo>
                    <a:pt x="0" y="0"/>
                  </a:moveTo>
                  <a:lnTo>
                    <a:pt x="0" y="12"/>
                  </a:lnTo>
                  <a:lnTo>
                    <a:pt x="12" y="24"/>
                  </a:lnTo>
                  <a:lnTo>
                    <a:pt x="36" y="36"/>
                  </a:lnTo>
                  <a:lnTo>
                    <a:pt x="60" y="48"/>
                  </a:lnTo>
                  <a:lnTo>
                    <a:pt x="84" y="72"/>
                  </a:lnTo>
                  <a:lnTo>
                    <a:pt x="96" y="84"/>
                  </a:lnTo>
                  <a:lnTo>
                    <a:pt x="120" y="96"/>
                  </a:lnTo>
                  <a:lnTo>
                    <a:pt x="144" y="96"/>
                  </a:lnTo>
                  <a:lnTo>
                    <a:pt x="156" y="96"/>
                  </a:lnTo>
                  <a:lnTo>
                    <a:pt x="168" y="96"/>
                  </a:lnTo>
                  <a:lnTo>
                    <a:pt x="156" y="84"/>
                  </a:lnTo>
                  <a:lnTo>
                    <a:pt x="144" y="60"/>
                  </a:lnTo>
                  <a:lnTo>
                    <a:pt x="120" y="48"/>
                  </a:lnTo>
                  <a:lnTo>
                    <a:pt x="96" y="36"/>
                  </a:lnTo>
                  <a:lnTo>
                    <a:pt x="72" y="24"/>
                  </a:lnTo>
                  <a:lnTo>
                    <a:pt x="48" y="12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52640" y="1695600"/>
              <a:ext cx="1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52640" y="1714680"/>
              <a:ext cx="19080" cy="1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71720" y="173340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909880" y="175248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948040" y="177156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986200" y="18097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005280" y="1828800"/>
              <a:ext cx="37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43080" y="184788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081240" y="18478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100320" y="18478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>
              <a:off x="3099960" y="182844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flipV="1">
              <a:off x="3080880" y="17906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 flipV="1">
              <a:off x="3043080" y="177120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 flipV="1">
              <a:off x="3004920" y="1752120"/>
              <a:ext cx="37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 flipV="1">
              <a:off x="2967120" y="173304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2928960" y="1714680"/>
              <a:ext cx="38160" cy="1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 flipV="1">
              <a:off x="2890800" y="169524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2871360" y="16956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852280" y="16956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24200" y="1647720"/>
              <a:ext cx="133200" cy="1526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2862360" y="1951200"/>
            <a:ext cx="295200" cy="201600"/>
            <a:chOff x="2862360" y="1951200"/>
            <a:chExt cx="295200" cy="201600"/>
          </a:xfrm>
        </p:grpSpPr>
        <p:sp>
          <p:nvSpPr>
            <p:cNvPr id="777" name=""/>
            <p:cNvSpPr/>
            <p:nvPr/>
          </p:nvSpPr>
          <p:spPr>
            <a:xfrm>
              <a:off x="2890800" y="1998720"/>
              <a:ext cx="266760" cy="152280"/>
            </a:xfrm>
            <a:custGeom>
              <a:avLst/>
              <a:gdLst/>
              <a:ahLst/>
              <a:rect l="l" t="t" r="r" b="b"/>
              <a:pathLst>
                <a:path w="168" h="96">
                  <a:moveTo>
                    <a:pt x="0" y="0"/>
                  </a:moveTo>
                  <a:lnTo>
                    <a:pt x="0" y="12"/>
                  </a:lnTo>
                  <a:lnTo>
                    <a:pt x="12" y="24"/>
                  </a:lnTo>
                  <a:lnTo>
                    <a:pt x="36" y="36"/>
                  </a:lnTo>
                  <a:lnTo>
                    <a:pt x="60" y="48"/>
                  </a:lnTo>
                  <a:lnTo>
                    <a:pt x="84" y="72"/>
                  </a:lnTo>
                  <a:lnTo>
                    <a:pt x="96" y="84"/>
                  </a:lnTo>
                  <a:lnTo>
                    <a:pt x="120" y="96"/>
                  </a:lnTo>
                  <a:lnTo>
                    <a:pt x="144" y="96"/>
                  </a:lnTo>
                  <a:lnTo>
                    <a:pt x="156" y="96"/>
                  </a:lnTo>
                  <a:lnTo>
                    <a:pt x="168" y="96"/>
                  </a:lnTo>
                  <a:lnTo>
                    <a:pt x="156" y="84"/>
                  </a:lnTo>
                  <a:lnTo>
                    <a:pt x="144" y="60"/>
                  </a:lnTo>
                  <a:lnTo>
                    <a:pt x="120" y="48"/>
                  </a:lnTo>
                  <a:lnTo>
                    <a:pt x="96" y="36"/>
                  </a:lnTo>
                  <a:lnTo>
                    <a:pt x="72" y="24"/>
                  </a:lnTo>
                  <a:lnTo>
                    <a:pt x="48" y="12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90800" y="1998720"/>
              <a:ext cx="1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90800" y="20178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909880" y="203688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48040" y="205596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986200" y="2075040"/>
              <a:ext cx="3816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024360" y="211284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043080" y="213192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081240" y="215100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19400" y="215100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138480" y="215100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flipV="1">
              <a:off x="3138120" y="213156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 flipV="1">
              <a:off x="3119040" y="209376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 flipV="1">
              <a:off x="3081240" y="2075040"/>
              <a:ext cx="38160" cy="1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 flipV="1">
              <a:off x="3043080" y="205560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3004920" y="2036520"/>
              <a:ext cx="37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 flipV="1">
              <a:off x="2967120" y="201744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 flipV="1">
              <a:off x="2928960" y="199836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2909520" y="19987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2890440" y="19987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62360" y="1951200"/>
              <a:ext cx="13320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2035080" y="1657080"/>
            <a:ext cx="456840" cy="45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36" y="7071"/>
                </a:moveTo>
                <a:arcTo wR="10800" hR="10800" stAng="-1211776" swAng="2418087"/>
                <a:lnTo>
                  <a:pt x="10800" y="10800"/>
                </a:lnTo>
                <a:close/>
              </a:path>
              <a:path fill="none" w="21600" h="21600">
                <a:moveTo>
                  <a:pt x="20936" y="7071"/>
                </a:moveTo>
                <a:arcTo wR="10800" hR="10800" stAng="-1211776" swAng="2418087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2473200" y="1884240"/>
            <a:ext cx="379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073240" y="3880440"/>
            <a:ext cx="456840" cy="45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7" y="14509"/>
                </a:moveTo>
                <a:arcTo wR="10800" hR="10800" stAng="9594818" swAng="2410364"/>
                <a:lnTo>
                  <a:pt x="10800" y="10800"/>
                </a:lnTo>
                <a:close/>
              </a:path>
              <a:path fill="none" w="21600" h="21600">
                <a:moveTo>
                  <a:pt x="657" y="14509"/>
                </a:moveTo>
                <a:arcTo wR="10800" hR="10800" stAng="9594818" swAng="2410364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808280" y="4108320"/>
            <a:ext cx="284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20920" y="2799360"/>
            <a:ext cx="456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6" y="14506"/>
                </a:moveTo>
                <a:arcTo wR="10800" hR="10800" stAng="9595813" swAng="2408373"/>
                <a:lnTo>
                  <a:pt x="10800" y="10800"/>
                </a:lnTo>
                <a:close/>
              </a:path>
              <a:path fill="none" w="21600" h="21600">
                <a:moveTo>
                  <a:pt x="656" y="14506"/>
                </a:moveTo>
                <a:arcTo wR="10800" hR="10800" stAng="9595813" swAng="2408373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054160" y="3025800"/>
            <a:ext cx="285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17920" y="2799000"/>
            <a:ext cx="456840" cy="455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61" y="14521"/>
                </a:moveTo>
                <a:arcTo wR="10800" hR="10800" stAng="9590956" swAng="2418089"/>
                <a:lnTo>
                  <a:pt x="10800" y="10800"/>
                </a:lnTo>
                <a:close/>
              </a:path>
              <a:path fill="none" w="21600" h="21600">
                <a:moveTo>
                  <a:pt x="661" y="14521"/>
                </a:moveTo>
                <a:arcTo wR="10800" hR="10800" stAng="9590956" swAng="241808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252960" y="3025800"/>
            <a:ext cx="284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095800" y="2799360"/>
            <a:ext cx="456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6" y="14506"/>
                </a:moveTo>
                <a:arcTo wR="10800" hR="10800" stAng="9595813" swAng="2408373"/>
                <a:lnTo>
                  <a:pt x="10800" y="10800"/>
                </a:lnTo>
                <a:close/>
              </a:path>
              <a:path fill="none" w="21600" h="21600">
                <a:moveTo>
                  <a:pt x="656" y="14506"/>
                </a:moveTo>
                <a:arcTo wR="10800" hR="10800" stAng="9595813" swAng="2408373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829040" y="3025800"/>
            <a:ext cx="285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464160" y="2799360"/>
            <a:ext cx="456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6" y="14506"/>
                </a:moveTo>
                <a:arcTo wR="10800" hR="10800" stAng="9595813" swAng="2408373"/>
                <a:lnTo>
                  <a:pt x="10800" y="10800"/>
                </a:lnTo>
                <a:close/>
              </a:path>
              <a:path fill="none" w="21600" h="21600">
                <a:moveTo>
                  <a:pt x="656" y="14506"/>
                </a:moveTo>
                <a:arcTo wR="10800" hR="10800" stAng="9595813" swAng="2408373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197760" y="3025800"/>
            <a:ext cx="285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681960" y="2806560"/>
            <a:ext cx="950760" cy="47484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908840" y="2799360"/>
            <a:ext cx="456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6" y="14506"/>
                </a:moveTo>
                <a:arcTo wR="10800" hR="10800" stAng="9595813" swAng="2408373"/>
                <a:lnTo>
                  <a:pt x="10800" y="10800"/>
                </a:lnTo>
                <a:close/>
              </a:path>
              <a:path fill="none" w="21600" h="21600">
                <a:moveTo>
                  <a:pt x="656" y="14506"/>
                </a:moveTo>
                <a:arcTo wR="10800" hR="10800" stAng="9595813" swAng="2408373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642080" y="3025800"/>
            <a:ext cx="285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145360" y="2806560"/>
            <a:ext cx="817560" cy="47484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145360" y="4137120"/>
            <a:ext cx="817560" cy="49356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394400" y="4128840"/>
            <a:ext cx="456840" cy="45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39" y="7079"/>
                </a:moveTo>
                <a:arcTo wR="10800" hR="10800" stAng="-1209044" swAng="2418089"/>
                <a:lnTo>
                  <a:pt x="10800" y="10800"/>
                </a:lnTo>
                <a:close/>
              </a:path>
              <a:path fill="none" w="21600" h="21600">
                <a:moveTo>
                  <a:pt x="20939" y="7079"/>
                </a:moveTo>
                <a:arcTo wR="10800" hR="10800" stAng="-1209044" swAng="241808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7832520" y="4356000"/>
            <a:ext cx="284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492960" y="4137120"/>
            <a:ext cx="1158840" cy="49356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761080" y="4128120"/>
            <a:ext cx="456840" cy="45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43" y="7091"/>
                </a:moveTo>
                <a:arcTo wR="10800" hR="10800" stAng="-1205182" swAng="2410364"/>
                <a:lnTo>
                  <a:pt x="10800" y="10800"/>
                </a:lnTo>
                <a:close/>
              </a:path>
              <a:path fill="none" w="21600" h="21600">
                <a:moveTo>
                  <a:pt x="20943" y="7091"/>
                </a:moveTo>
                <a:arcTo wR="10800" hR="10800" stAng="-1205182" swAng="2410364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6197400" y="4356000"/>
            <a:ext cx="285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4489560" y="4317840"/>
            <a:ext cx="264600" cy="427320"/>
            <a:chOff x="4489560" y="4317840"/>
            <a:chExt cx="264600" cy="427320"/>
          </a:xfrm>
        </p:grpSpPr>
        <p:grpSp>
          <p:nvGrpSpPr>
            <p:cNvPr id="821" name=""/>
            <p:cNvGrpSpPr/>
            <p:nvPr/>
          </p:nvGrpSpPr>
          <p:grpSpPr>
            <a:xfrm>
              <a:off x="4489560" y="4317840"/>
              <a:ext cx="264600" cy="264960"/>
              <a:chOff x="4489560" y="4317840"/>
              <a:chExt cx="264600" cy="264960"/>
            </a:xfrm>
          </p:grpSpPr>
          <p:sp>
            <p:nvSpPr>
              <p:cNvPr id="822" name=""/>
              <p:cNvSpPr/>
              <p:nvPr/>
            </p:nvSpPr>
            <p:spPr>
              <a:xfrm>
                <a:off x="4489560" y="4317840"/>
                <a:ext cx="264600" cy="26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44" y="2295"/>
                    </a:moveTo>
                    <a:arcTo wR="10800" hR="10800" stAng="-7682921" swAng="941524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44" y="2295"/>
                    </a:moveTo>
                    <a:arcTo wR="10800" hR="10800" stAng="-7682921" swAng="9415243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498200" y="4327560"/>
                <a:ext cx="244800" cy="24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44" y="2295"/>
                    </a:moveTo>
                    <a:arcTo wR="10800" hR="10800" stAng="-7682921" swAng="941524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44" y="2295"/>
                    </a:moveTo>
                    <a:arcTo wR="10800" hR="10800" stAng="-7682921" swAng="9415243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4" name=""/>
              <p:cNvGrpSpPr/>
              <p:nvPr/>
            </p:nvGrpSpPr>
            <p:grpSpPr>
              <a:xfrm>
                <a:off x="4545720" y="4356000"/>
                <a:ext cx="168840" cy="207360"/>
                <a:chOff x="4545720" y="4356000"/>
                <a:chExt cx="168840" cy="20736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4545720" y="4356000"/>
                  <a:ext cx="1688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8" y="2253"/>
                      </a:moveTo>
                      <a:arcTo wR="10800" hR="10800" stAng="-7660843" swAng="93886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8" y="2253"/>
                      </a:moveTo>
                      <a:arcTo wR="10800" hR="10800" stAng="-7660843" swAng="9388673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4556160" y="4365720"/>
                  <a:ext cx="150480" cy="18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04" y="2326"/>
                      </a:moveTo>
                      <a:arcTo wR="10800" hR="10800" stAng="-7698998" swAng="939383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04" y="2326"/>
                      </a:moveTo>
                      <a:arcTo wR="10800" hR="10800" stAng="-7698998" swAng="9393833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4584600" y="4413240"/>
                  <a:ext cx="93240" cy="93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36" y="2301"/>
                      </a:moveTo>
                      <a:arcTo wR="10800" hR="10800" stAng="-7685878" swAng="94113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36" y="2301"/>
                      </a:moveTo>
                      <a:arcTo wR="10800" hR="10800" stAng="-7685878" swAng="9411336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4594320" y="4422600"/>
                  <a:ext cx="7416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36" y="2301"/>
                      </a:moveTo>
                      <a:arcTo wR="10800" hR="10800" stAng="-7685878" swAng="94113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36" y="2301"/>
                      </a:moveTo>
                      <a:arcTo wR="10800" hR="10800" stAng="-7685878" swAng="941133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9" name=""/>
            <p:cNvGrpSpPr/>
            <p:nvPr/>
          </p:nvGrpSpPr>
          <p:grpSpPr>
            <a:xfrm>
              <a:off x="4516560" y="4459320"/>
              <a:ext cx="95040" cy="285840"/>
              <a:chOff x="4516560" y="4459320"/>
              <a:chExt cx="95040" cy="285840"/>
            </a:xfrm>
          </p:grpSpPr>
          <p:sp>
            <p:nvSpPr>
              <p:cNvPr id="830" name=""/>
              <p:cNvSpPr/>
              <p:nvPr/>
            </p:nvSpPr>
            <p:spPr>
              <a:xfrm>
                <a:off x="4516560" y="4459320"/>
                <a:ext cx="95040" cy="28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516560" y="4497480"/>
                <a:ext cx="95040" cy="11412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14120"/>
                  <a:gd name="textAreaBottom" fmla="*/ 100440 h 114120"/>
                </a:gdLst>
                <a:ahLst/>
                <a:rect l="textAreaLeft" t="textAreaTop" r="textAreaRight" b="textAreaBottom"/>
                <a:pathLst>
                  <a:path w="21600" h="25920">
                    <a:moveTo>
                      <a:pt x="10800" y="0"/>
                    </a:moveTo>
                    <a:arcTo wR="10800" hR="10800" stAng="16200000" swAng="-5400000"/>
                    <a:lnTo>
                      <a:pt x="0" y="15120"/>
                    </a:lnTo>
                    <a:arcTo wR="10800" hR="10800" stAng="10800000" swAng="-5400000"/>
                    <a:lnTo>
                      <a:pt x="10800" y="2592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516560" y="4668840"/>
                <a:ext cx="37800" cy="38160"/>
              </a:xfrm>
              <a:custGeom>
                <a:avLst/>
                <a:gdLst>
                  <a:gd name="textAreaLeft" fmla="*/ 5400 w 37800"/>
                  <a:gd name="textAreaRight" fmla="*/ 32400 w 37800"/>
                  <a:gd name="textAreaTop" fmla="*/ 5400 h 38160"/>
                  <a:gd name="textAreaBottom" fmla="*/ 32760 h 38160"/>
                </a:gdLst>
                <a:ahLst/>
                <a:rect l="textAreaLeft" t="textAreaTop" r="textAreaRight" b="textAreaBottom"/>
                <a:pathLst>
                  <a:path w="21600" h="21804">
                    <a:moveTo>
                      <a:pt x="10800" y="0"/>
                    </a:moveTo>
                    <a:arcTo wR="10800" hR="10800" stAng="16200000" swAng="-5400000"/>
                    <a:lnTo>
                      <a:pt x="0" y="11004"/>
                    </a:lnTo>
                    <a:arcTo wR="10800" hR="10800" stAng="10800000" swAng="-5400000"/>
                    <a:lnTo>
                      <a:pt x="10800" y="2180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573440" y="4668840"/>
                <a:ext cx="38160" cy="3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4" name=""/>
          <p:cNvSpPr/>
          <p:nvPr/>
        </p:nvSpPr>
        <p:spPr>
          <a:xfrm>
            <a:off x="4468680" y="4128120"/>
            <a:ext cx="456840" cy="45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43" y="7091"/>
                </a:moveTo>
                <a:arcTo wR="10800" hR="10800" stAng="-1205182" swAng="2410364"/>
                <a:lnTo>
                  <a:pt x="10800" y="10800"/>
                </a:lnTo>
                <a:close/>
              </a:path>
              <a:path fill="none" w="21600" h="21600">
                <a:moveTo>
                  <a:pt x="20943" y="7091"/>
                </a:moveTo>
                <a:arcTo wR="10800" hR="10800" stAng="-1205182" swAng="2410364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4905360" y="4356000"/>
            <a:ext cx="285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555040" y="3841920"/>
            <a:ext cx="571320" cy="57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74" y="663"/>
                </a:moveTo>
                <a:arcTo wR="10800" hR="10800" stAng="-6610999" swAng="2416538"/>
                <a:lnTo>
                  <a:pt x="10800" y="10800"/>
                </a:lnTo>
                <a:close/>
              </a:path>
              <a:path fill="none" w="21600" h="21600">
                <a:moveTo>
                  <a:pt x="7074" y="663"/>
                </a:moveTo>
                <a:arcTo wR="10800" hR="10800" stAng="-6610999" swAng="241653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8839080" y="3290400"/>
            <a:ext cx="1800" cy="56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024680" y="3519360"/>
            <a:ext cx="180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TCP/IP Transmis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446840" y="2530440"/>
            <a:ext cx="457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91" y="657"/>
                </a:moveTo>
                <a:arcTo wR="10800" hR="10800" stAng="-6605182" swAng="2410364"/>
                <a:lnTo>
                  <a:pt x="10800" y="10800"/>
                </a:lnTo>
                <a:close/>
              </a:path>
              <a:path fill="none" w="21600" h="21600">
                <a:moveTo>
                  <a:pt x="7091" y="657"/>
                </a:moveTo>
                <a:arcTo wR="10800" hR="10800" stAng="-6605182" swAng="2410364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674720" y="2265480"/>
            <a:ext cx="1800" cy="28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626920" y="304488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1" y="20946"/>
                </a:moveTo>
                <a:arcTo wR="10800" hR="10800" stAng="4197543" swAng="2410363"/>
                <a:lnTo>
                  <a:pt x="10800" y="10800"/>
                </a:lnTo>
                <a:close/>
              </a:path>
              <a:path fill="none" w="21600" h="21600">
                <a:moveTo>
                  <a:pt x="14501" y="20946"/>
                </a:moveTo>
                <a:arcTo wR="10800" hR="10800" stAng="4197543" swAng="2410363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2852640" y="3481200"/>
            <a:ext cx="1800" cy="28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019160" y="1969920"/>
            <a:ext cx="15228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019160" y="1704960"/>
            <a:ext cx="15228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266840" y="3111480"/>
            <a:ext cx="13176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266840" y="2844720"/>
            <a:ext cx="13176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444760" y="3111480"/>
            <a:ext cx="15228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444760" y="2844720"/>
            <a:ext cx="15228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660840" y="3111480"/>
            <a:ext cx="15228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660840" y="2844720"/>
            <a:ext cx="15228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257800" y="3111480"/>
            <a:ext cx="13176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257800" y="2844720"/>
            <a:ext cx="13176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216160" y="4213080"/>
            <a:ext cx="13320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216160" y="3946680"/>
            <a:ext cx="133200" cy="11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105520" y="4441680"/>
            <a:ext cx="15228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105520" y="4175280"/>
            <a:ext cx="152280" cy="11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607080" y="3111480"/>
            <a:ext cx="13176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607080" y="2844720"/>
            <a:ext cx="13176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031240" y="3111480"/>
            <a:ext cx="13320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031240" y="2844720"/>
            <a:ext cx="13320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031240" y="4441680"/>
            <a:ext cx="15228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031240" y="4175280"/>
            <a:ext cx="152280" cy="11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397560" y="4441680"/>
            <a:ext cx="13356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397560" y="4175280"/>
            <a:ext cx="133560" cy="11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897200" y="5029200"/>
            <a:ext cx="63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ipe-and-filter architecture for sound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92C8-A971-4D19-841D-9009A67B811B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The pipe-and-filter architecture and design princip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1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ivide and conquer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The separate processes can be independently design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2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Increase cohesion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The processes have functional cohes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3. 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Reduce coupling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The processes have only one input and one outpu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4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Increase abstraction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The pipeline components are often good abstractions, hiding their internal detai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7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esign for flexibility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There are several ways in which the system is flexib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10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esign for testability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It is normally easy to test the individual process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25DD-72EE-4F65-A567-F1AFAC5F9E8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6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/6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The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Model-View-Controller (MVC) architectural patter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architectural pattern used to help separate the user interface layer from other parts of the system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s the underlying classes whose instances are to be viewed and manipulat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ew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s objects used to render the appearance of the data from the model in the user interfa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trolle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s the objects that control and handle the user’s interaction with the view and the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Observable design pattern is normally used to separate the model from the view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687-7D8C-4BEF-8BFE-C5C5ACC35F0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 of the MVC architecture for the U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619760" cy="326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1D1F-57BB-445F-9B17-4DBF5BD0C6B5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The MVC architecture and design princip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1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ivide and conquer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The three components can be somewhat independently design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2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Increase cohesion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The components have stronger layer cohesion than if the view and controller were together in a single UI lay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3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Reduce coupling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The communication channels between the three components are minim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7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esign for flexibility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It is usually quite easy to change the UI by changing the view, the controller, or both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10. </a:t>
            </a:r>
            <a:r>
              <a:rPr b="0" i="1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esign for testability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You can test the application separately from the U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282-8927-4FF3-ACEB-F07FCF38EBE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9.6 Writing a Good Design Docum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ign documents as an aid to making better design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 force you to be explicit and consider the important issues before starting implementatio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 allow a group of people to review the design and therefore to improve i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ign documents as a means of communication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those who will be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mplementing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desig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those who will need, in the future, to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desig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those who need to create systems or subsystems that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fac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ith the system being design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A38A-9EBE-4AFB-B3F7-1D82BDF2C25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ure of a design docum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347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 Purpos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24320" indent="-205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system or part of the system this design document describ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24320" indent="-205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 reference to the requirements that are being implemented by this design (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ceability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7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 General prioriti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24320" indent="-205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 the priorities used to guide the design process. 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7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 Outline of the desig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24320" indent="-205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 a high-level description of the design that allows the reader to quickly get a general feeling for it. 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7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 Major design issu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24320" indent="-205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cuss the important issues that had to be resolv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24320" indent="-205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 the possible alternatives that were considered, the final decision and the rationale for the decis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 Other details of the desig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243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 any other details the reader may want to know that have not yet been mentioned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33B-41B0-4E3A-86C0-7BD41079285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riting the docu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oid documenting information that would b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adily obviou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o a skilled programmer or designer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oid writing details in a design document that would be better placed a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ment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cod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oid writing details that can b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acted automaticall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he code, such as the list of public metho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C8B-A6DA-431B-ACC3-C5170829BA6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9.7 Design of a Feature of the SimpleChat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"/>
          <p:cNvSpPr/>
          <p:nvPr/>
        </p:nvSpPr>
        <p:spPr>
          <a:xfrm>
            <a:off x="1143000" y="1295280"/>
            <a:ext cx="77724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152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A. Pur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This document describes important aspects of the implementation of the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#block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#unblock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#whoiblock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#whoblocksme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commands of the SimpleChat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B. General Pri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Decisions in this document are made based on the following prior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(most important first): Maintainability, Usability, Portability,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C. Outline of th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Blocking information will be maintained in the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ConnectionToClient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objects. The various commands will update and query the data using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setValue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getValue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3C82-2806-4975-B0D2-AA28681F5F4F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logical entity, having a set of definable responsibilities or objectives, and consisting of hardware, software or both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ystem can have a specification which is then implemented by a collection of component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ystem continues to exist, even if its components are changed or replac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oal of requirements analysis is to determine the responsibilities of a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bsyste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ystem that is part of a larger system, and which has a definite interfa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499E-D5CA-48EB-BA41-B4901F6349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esign Exa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"/>
          <p:cNvSpPr/>
          <p:nvPr/>
        </p:nvSpPr>
        <p:spPr>
          <a:xfrm>
            <a:off x="1143000" y="1066680"/>
            <a:ext cx="769608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152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D. Major design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Issue 1: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Where should we store information regarding the establishment of block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Option 1.1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: Store the information in the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ConnectionToClient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object associated with the client requesting the b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Option 1.2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: Store the information in the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ConnectionToClient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object associated with the client that is being block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Decision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: Point 2.2 of the specification requires that we be able to block a client even if that client is not logged on. This means that we must choose option 1.1 since no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ConnectionToClient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will exist for clients that are logged o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DE49-E6F9-412D-BA18-5F611C0E74C3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Design Exa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"/>
          <p:cNvSpPr/>
          <p:nvPr/>
        </p:nvSpPr>
        <p:spPr>
          <a:xfrm>
            <a:off x="1066680" y="1447920"/>
            <a:ext cx="784872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152280" anchor="t">
            <a:spAutoFit/>
          </a:bodyPr>
          <a:p>
            <a:pPr marL="295200" indent="-18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E. Details of the desig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Client si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•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The four new commands will be accepted by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handleMessageFromClientUI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and passed unchanged to the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•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Responses from the server will be displayed on the UI. There will be no need for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handleMessageFromServer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to understand that the responses are replies to the comm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A7FD-5670-4F21-B1B1-B7ACE65D726B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esign Exa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"/>
          <p:cNvSpPr/>
          <p:nvPr/>
        </p:nvSpPr>
        <p:spPr>
          <a:xfrm>
            <a:off x="1143000" y="685800"/>
            <a:ext cx="746748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Server si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Method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handleMessageFromClient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will interpret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#block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commands by adding a record of the block in the data associated with the originating cli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This method will modify the data in response to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#unblock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The information will be stored by calling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setValue("blockedUsers", a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where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arg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is a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Vector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containing the names of the blocked us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Method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handleMessageFromServerUI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will also have to have an implementation of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#block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#unblock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These will have to save the blocked users as elements of a new instance variable declared thus: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Vector blockedUsers</a:t>
            </a:r>
            <a:r>
              <a:rPr b="1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46E3-CCD3-44D4-9E91-355692735547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esign Exa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"/>
          <p:cNvSpPr/>
          <p:nvPr/>
        </p:nvSpPr>
        <p:spPr>
          <a:xfrm>
            <a:off x="1295280" y="1355760"/>
            <a:ext cx="762012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The implementations of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#whoiblock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in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handleMessageFromClient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handleMessageFromServerUI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will straightforwardly process the contents of the ve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For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#whoblocksme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, a new method will be created in the server class that will be called by both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handleMessageFromClient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handleMessageFromServerUI</a:t>
            </a:r>
            <a:r>
              <a:rPr b="1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This will take a single argument (the name of the initiating client, or else 'SERVER'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It will check all the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blockedUsers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vectors of the connected clients and also the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blockedUsers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instance variable for matching cli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122-945C-404A-8D0C-FAEE9D9BA8A2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esign exa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"/>
          <p:cNvSpPr/>
          <p:nvPr/>
        </p:nvSpPr>
        <p:spPr>
          <a:xfrm>
            <a:off x="1143000" y="1447920"/>
            <a:ext cx="6934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The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#forward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#msg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#private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commands will be modified as needed to reflect the specif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Each of these will each examine the relevant </a:t>
            </a:r>
            <a:r>
              <a:rPr b="1" lang="en-GB" sz="2000" spc="-1" strike="noStrike">
                <a:solidFill>
                  <a:srgbClr val="808080"/>
                </a:solidFill>
                <a:latin typeface="Courier New"/>
                <a:ea typeface="Times New Roman"/>
              </a:rPr>
              <a:t>blockedUsers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vectors and take appropriate 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3DAB-71C2-4BEE-86F8-3534D171779D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9.8 Difficulties and Risks in Desig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ke modelling, design is a skill that requires considerable experienc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ividual software engineers should not attempt the design of large system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piring software architects should actively study designs of other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or designs can lead to expensive maintenanc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sure you follow the principles discussed in this chap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D7FA-311F-4783-8DE5-8B7731CEEB5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fficulties and Risks in Desig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requires constant effort to ensure a software system’s design remains good throughout its lif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 the original design as flexible as possible so as to anticipate changes and extension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sure that the design documentation is usable and at the correct level of deta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sure that change is carefully manag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E0EC-BD7F-4CA7-992B-4AAC95844A0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ML diagram of system par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65160" y="2201760"/>
            <a:ext cx="8153280" cy="252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CE43-C677-4482-9E4E-CFFEF4EB958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KIVANCD</cp:lastModifiedBy>
  <dcterms:modified xsi:type="dcterms:W3CDTF">2004-12-19T19:42:04Z</dcterms:modified>
  <cp:revision>144</cp:revision>
  <dc:subject/>
  <dc:title>SEG 2100 Software Design II</dc:title>
</cp:coreProperties>
</file>