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A50-AEAC-49C3-B7EC-AF9C38A3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538B-90DB-427C-BEAB-6464FDBA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C525-C060-4722-9900-78AFBD8DB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1692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67880" y="13712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3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1692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67880" y="3878640"/>
            <a:ext cx="242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880-6472-4CD5-8D42-F53A2393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421-1E4D-4F72-ABD3-9290D189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927D-9281-44F2-8D15-DD534CCF3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5581-CDBD-4B98-96ED-56D00DAF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571B-696C-4047-ACEC-EF05369EC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D194-2A53-4EFF-B316-1F9C698B6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4989-1522-4A45-8B07-309D087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32000" y="38786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F68-1887-4731-89CC-118CD494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371240"/>
            <a:ext cx="3681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320" y="3878640"/>
            <a:ext cx="7543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B9B8-A7DF-4E53-A707-D3298102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llosengMaster" descr=""/>
          <p:cNvPicPr/>
          <p:nvPr/>
        </p:nvPicPr>
        <p:blipFill>
          <a:blip r:embed="rId2"/>
          <a:stretch/>
        </p:blipFill>
        <p:spPr>
          <a:xfrm>
            <a:off x="357120" y="1162080"/>
            <a:ext cx="8429760" cy="5619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385920" indent="-1954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80496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—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2240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164304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676160" y="647712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809880" y="640080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077320" y="6400800"/>
            <a:ext cx="457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BFB7F-12AC-4EB6-BB05-0C118DBEF2A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1676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Software Engineering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ctical Software Development using UML and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002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osing Lectur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ectations of students at the beginning of the semes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" name="cs319-StudentExpectations" descr=""/>
          <p:cNvPicPr/>
          <p:nvPr/>
        </p:nvPicPr>
        <p:blipFill>
          <a:blip r:embed="rId1"/>
          <a:stretch/>
        </p:blipFill>
        <p:spPr>
          <a:xfrm>
            <a:off x="1676520" y="1386000"/>
            <a:ext cx="6400800" cy="47098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681920" y="144792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5600" y="205740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81920" y="335268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00680" y="396252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81920" y="464832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605600" y="548640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44280" y="274320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956720" y="357336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(A bi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72880" y="411480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20000" y="2743200"/>
            <a:ext cx="3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FCBB-B8FA-460B-8E3D-199B110494A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problem with the text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document examples (requirements analysis document, design document, etc.) in the book are given according to the traditional/classical approach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 OOAD, they differ a little bit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ead of sentences, requirements are documented using use case diagrams and use case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stead of long descriptions, design in conveyed by using UML diagrams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D9436-9FE6-43D3-95AC-D094DD69EC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os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ou work in a large established company in the future, the things you have learnt in this course will play an important role in your career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f you don’t, then try to apply the same principles in your own work. You will see the difference.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ood luck!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apter 10: Testing and Inspecting for High Qua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8904-2EEC-4C6B-9FE3-F7FC06DAED8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© Lethbridge/Laganièr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30T16:59:35Z</dcterms:created>
  <dc:creator>KIVANCD</dc:creator>
  <dc:description/>
  <dc:language>en-US</dc:language>
  <cp:lastModifiedBy>KIVANCD</cp:lastModifiedBy>
  <dcterms:modified xsi:type="dcterms:W3CDTF">2004-12-30T16:42:33Z</dcterms:modified>
  <cp:revision>120</cp:revision>
  <dc:subject/>
  <dc:title>Object-Oriented Software Engineering</dc:title>
</cp:coreProperties>
</file>