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65E430A-2557-4953-B09E-864E9079E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ase – kullan</a:t>
            </a: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ım şek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2F39-04E3-4FC8-A0E3-78214230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57E-734B-4D45-81AA-E8D6624C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CD97-6406-4871-8847-E2E223BA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F241-210D-4E43-8D68-E39B9883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476E-092D-4554-8901-3FDC8A20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D165-99B8-4862-8CC7-6FA00B66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8ADB-E269-4587-85B7-01CB222A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2C52-18A7-4EB0-BB74-E5C394BA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E0C-90C0-4237-B7E2-F6409A7A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E465-E554-4D4C-8E22-5CD0517C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03F-7845-40E7-9987-F2C80F35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4E0-78F6-4860-96F7-5FA20C8E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7C78-7089-406C-8765-6E0ABCD67A5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apter 4: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eveloping Requiremen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 4.2. Medical Emergency Dispatch 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agine you are performing a domain analysis in order to develop a new and better telephone response and dispatch system for medical emergencie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ystem will be used by operators and paramedics who respond to calls to the emergency number 911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mmarize the info you would expect to learn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ructure your answer using the categories of info we suggest for a domain analysis docum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5A4A-5FE2-4642-AE69-808403292F8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2108160"/>
            <a:ext cx="6934320" cy="2997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2 The Starting Point for Software Proj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6576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fiel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53000" y="5146560"/>
            <a:ext cx="32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Comic Sans MS"/>
              </a:rPr>
              <a:t>Should be handled carefu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Comic Sans MS"/>
              </a:rPr>
              <a:t>(evaluate such reqs yoursel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8840" y="1981080"/>
            <a:ext cx="3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cc99"/>
                </a:solidFill>
                <a:latin typeface="Comic Sans MS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B73F-8EA1-4421-B1F0-BB85B87F495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3 Defining the Problem and the Scop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e you hav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earne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nough about the dom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, you can begin to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etermine the requireme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first step in this process is to work out an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itial definition of the probl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be solved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1" lang="en-GB" sz="20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problem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n be expressed as: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ficult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users or customers are facing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 as an 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portunit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at will result in some benefit such as improved productivity or sal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olution to the problem normally will entail developing software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lternatives: buy sw or develop non-sw solution)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good problem statement is short and succinct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321480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1480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5F04-8DBC-43A6-99FA-707C9603FC1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Statements for a New Student Registration 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oad Scope: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ystem will automate all the functions of the registrar’s office.”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arrow the 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ope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y defining a more precise problem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st all the things you might imagine the system do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clude some of these things if too bro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termine high-level goals if too narr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blem statement may need to be refined several times as requirements analysis continu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844-8B0E-436C-ABFC-9C26ABB7E4F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fining the Sco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rrowed Scope:  (more precise problem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ystem will allow students to register for courses, and change their registration, as simply and rapidly as possible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will help students achieve their personal goals of obtaining their degree in the shortest reasonable time while taking courses that they find most interesting and fulfilling.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447920" y="3886200"/>
          <a:ext cx="7162560" cy="207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886200"/>
                    <a:ext cx="716256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4840560" y="4952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cc99"/>
                </a:solidFill>
                <a:latin typeface="Comic Sans MS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6878-1D87-4240-897C-DA28F654A6C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narrow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times, an inappropriate choice of problem statement can result in a scope that is too narrow or completely wrong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nk ab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user’s ultimate high-level goal when they use the system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customer’s high-level goal for having it developed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ent’s goal: “completing the registration process”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ent’s high-level goal :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Obtaining their degree in the shortest reasonable time while taking courses that they find most interesting and fulfilling”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0605-1B54-44F5-8B12-B50B95ABE96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Tech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ques that Help Determining the Sco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req gathering and analysing techniques can help in defining the problem and hence the system’s scope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terviewing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an give you stakeholder’s personal perspective,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rainstorming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an generate list of ideas from which you can extract a suitable problem or problems,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se case analysi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an give you a list of the possible things the system could do,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totyping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an give everybody a better perspective about what might be possible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9204-09B0-443B-9DB3-56BAB808DDA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 4.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fine the problem and scope for a system that handles university degree requirements and registrations. Then develop a requirements statement from thi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e payments and related accounting and billing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pplications for admissio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diting and querying the list of available courses, including  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ir descriptions and lists of prerequisite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diting and querying requirements for obtaining a degre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diting and querying the list of courses to be taught in a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n semester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cheduling the times that courses will be offered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cating courses or exams to room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7137-BEB5-4D0E-9165-3A035AF5668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 4.3 (cont’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ping students determine which courses they could take  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analysing their degree reqs, the courses they have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viously taken, their schedule and their preference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istering students,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ording mark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rinting transcript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A4A0-0C6D-4B41-A169-4A83BEDF4EF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4 What is a Requirem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Requirement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tatement about the proposed system that all stakeholders agree must be made true in order for the customer’s problem to be adequately solved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hort and concise piece of inform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pressed as a fac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ys something about the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sks to accomplis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the stakeholders hav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at it is va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joint review is necessa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helps solve the customer’s probl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llection of requirement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</a:t>
            </a:r>
            <a:r>
              <a:rPr b="1" i="1" lang="en-GB" sz="20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requirements document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F92C-B113-409D-9578-19C1B7CCE64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hapter you will learn about the following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Domain analysi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learning background knowledge so you can communicate with users and make more intelligent decision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derstanding th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ustomer’s probl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setting th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cop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 the project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exactly is a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quirem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as well as the various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ypes of requireme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to go abou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gathering requirement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quirements docume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what should be put in them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to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view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set of requirement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B5E1-27E0-4AC5-A622-B34DB31CBDD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5 Types of Requiremen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ctional requirement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system should d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ould include everyt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at a user of the system would need to know regarding what the system do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at would concern any other system that has to interface to this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functional requirements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C</a:t>
            </a:r>
            <a:r>
              <a:rPr b="0" i="1" lang="en-GB" sz="20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nstraints</a:t>
            </a:r>
            <a:r>
              <a:rPr b="0" lang="en-GB" sz="20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at must be adhered to during develop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y limit what resources can be used and set bounds on aspects of sw’s quality – thus they tend to restrict the freedom of sw engs as they make design decisi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0908-A68E-41D8-AE02-226340B1544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ctional requiremen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</a:t>
            </a:r>
            <a:r>
              <a:rPr b="0" i="1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put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system should accep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ta and commands from users and other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</a:t>
            </a:r>
            <a:r>
              <a:rPr b="0" i="1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utput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system should produ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the screen, printed, or transmitted to other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at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system should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that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ther system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ight u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utation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system should per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 a level all readers can underst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0" i="1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ming and synchronizat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the abo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ortant in hard real-time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requirement often covers 1</a:t>
            </a: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the above categorie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365A-A845-4880-8D75-C99522C83E1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functional requiremen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must be verifiable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by measu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ment and comparison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ree main types: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egories reflecting: usability, efficiency, reliability, maintainability and reusabil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ponse time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user feedback tim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roughput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ompns or xactions per minut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ource usage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memory or bandwidth usag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liability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verage amount of time bw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ilu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in a given perio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vailability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mount of time that a server is running&amp;availa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overy from failur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max allowed impact of a failur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owances for maintainability and enhanc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owances for reus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274788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38DC-6530-4894-B667-76130531119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functional requir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egorie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training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vironment and technology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the syste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tform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.g., the least of hw and o/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chnology to be us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.g., PL or DBM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egorie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training th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ject plan and development metho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velopment process (methodology) to be us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nclude as references) (e.g., test process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t and delivery d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ften put in contract or project plan inste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1DF-ED56-4622-8225-14CD6F9A99A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 4.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lassify the following aspects of an airline reservation system into functional, non-functional or none. Categorize requirement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info about flights, passengers, and bookings are entered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What info appears on tickets and report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fares are calculated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What info must be stored in the db that travel agents and others acces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ystem should be designed so it can be extended to handle a frequent flier pla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he system must be available at all time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merge sort algorithm must be used to sort the flights by departure tim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CDED-3948-4379-8CA1-1696B279F4E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6 Some Techniques for Gathering and Analysing Requiremen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can gather requirements from the same sources as you need for domain analysis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e are some structured techniques that are particularly effective at gathering (eliciting) and analysing requirements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bserv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used to obtain subtle info that stakeholders may not think of telling you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viewing, brainstorm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and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otyp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complementary techniques for actively asking for the opinions and knowledge of stakeholders as well as forcing them to stretch their mind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se techniques help stakeholders to ge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sonally involv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project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8175-FFEC-45E8-A900-9FDCFAC923E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`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hadowing`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mportant potential users as they do their work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k the users to talk (and explain everyth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s they 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k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ideota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essions to ana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e later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servation is best done in development of large systems since it takes a great deal of time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E27-CA27-425A-8191-F5088EE8567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view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important skill for sw engine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d-hoc vs. well-conducted interview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uidel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es for effective interview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n to have as many members of the sw engineering team interview as many stakeholder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nd beyond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s possi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read out interviews over time, and allow yourself several hours for each interview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most im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stakeholders a series of interviews, going into more depth each tim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e an extensive list of ques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7A3-28F4-409F-97DE-B5F40E7790B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ortant Interview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k about specific details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x/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s, exceptions, possible/anticipated changes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ve Ws: who, what, when, where, and wh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k about the stakeholder’s vision for the futu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novative ideas,  the flexibility that should be built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k if they have alternative idea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k for the minimally acceptable solu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ry basic nee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k for other sources of informati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k them to draw diagram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low of info, chain of command, how some technology works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B3BB-A2D6-4633-8026-74C3D80AB28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viewing Ski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 interviewer should cultivate listening skills and empathy for users and customer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Empath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bility to reach into the mind of the interviewee and really feel what they are feeling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Listening skil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clude patiently absorbing what the interviewee is telling you, and then paraphrasing it back to them, seeking confirmation so as to avoid misconception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llowing the interview process, you should summarize the info you have found and share it with all the stakeholders, along with a request for comments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F43B-1E79-41DE-AD53-FCB1968C071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1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main Analys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 process by which a software engineer learns about the domain to better understand the problem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 </a:t>
            </a:r>
            <a:r>
              <a:rPr b="0" i="1" lang="en-GB" sz="20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domai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general field of business or technology in which the clients will use the softw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ad or Narrow doma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0" i="1" lang="en-GB" sz="20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domain exper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a person who has a deep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nowledge of the doma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gather info from sources of informa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main exper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oks about the doma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isting software and its documen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her documen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BC84-4D7B-4A7D-83D6-13E5E12B29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rainstorm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general ide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he group sits around a table and discusses some topic with the goal of generating idea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instorming is an effective way to gather info from a group of people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tructu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help elicit a larger amount of inf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ssion should be led or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derat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by somebody trained in the proce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028A-58C1-4260-928B-D629F53D94F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rainstorm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oint an experienced moderat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range the attendees around a table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cide on a ‘trigger question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k each participant to write an answer an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 the paper to its neighbour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fter a fixed time period, vote and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ioritiz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idea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47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47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7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7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386712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505320" y="4114800"/>
            <a:ext cx="1752480" cy="14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B2B4-3BB4-4E45-95A1-DC02CC34C02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igger Ques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Trigger ques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one for which the participants can provide simple one-line answers that are more than just numbers or yes/no respons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features are important for the system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futures sources of data should we anticipat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outputs should be produced by the system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classes do we need in our domain model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Joint Application Development (JAD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a technique based on intensive brainstorming ses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a secluded lo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ree to five days lo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12A2-1C2C-4DE4-88FB-5D7BE4A507F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oty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Prototyp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a program that is rapidly implemented and only contains a small part of the anticipated functionality of a complete sys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s purpose is to get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arly feedback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stakehold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implest kind: </a:t>
            </a:r>
            <a:r>
              <a:rPr b="0" i="1" lang="en-GB" sz="20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paper prototyp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et of pictures of the system that are shown to users in sequence to explain what would happe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deal for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llel develop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most common: a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ck-up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the system’s U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ritten in a rapid prototyping langu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es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ormally perform any computations, access any databases or interact with any other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y prototype a particular aspect of the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04DF-43F0-46A4-B3A4-F5C1346C4E4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formal Use C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Analy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is a systematic approach to working out what users should be able to do with the softwa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termine the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asses of user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 other syste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at will use the facilities of this system (</a:t>
            </a:r>
            <a:r>
              <a:rPr b="0" lang="en-GB" sz="20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actor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dist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ct job functions (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o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termine the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sk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at each actor will need to do with the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use cas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particular way the system will be us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re on use cases in Chapter 7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5E8-20CD-40E2-B012-BF9F8DB1618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 4.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a minimal set of use cases for the following actors in a library system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rrower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ckout Clerk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braria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ounting System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661-B269-427B-BAAF-DED28BCD2E2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7 Types of Requirements Docum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5280" y="3962160"/>
            <a:ext cx="4267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354960" indent="-17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quirements documents for large systems are normally arranged in a hierarch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4052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lemen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4052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t redunda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095880" y="3352680"/>
            <a:ext cx="2554200" cy="3063960"/>
            <a:chOff x="6095880" y="3352680"/>
            <a:chExt cx="2554200" cy="3063960"/>
          </a:xfrm>
        </p:grpSpPr>
        <p:sp>
          <p:nvSpPr>
            <p:cNvPr id="133" name=""/>
            <p:cNvSpPr/>
            <p:nvPr/>
          </p:nvSpPr>
          <p:spPr>
            <a:xfrm>
              <a:off x="6999120" y="3352680"/>
              <a:ext cx="695160" cy="871560"/>
            </a:xfrm>
            <a:custGeom>
              <a:avLst/>
              <a:gdLst/>
              <a:ahLst/>
              <a:rect l="l" t="t" r="r" b="b"/>
              <a:pathLst>
                <a:path w="438" h="549">
                  <a:moveTo>
                    <a:pt x="0" y="0"/>
                  </a:moveTo>
                  <a:lnTo>
                    <a:pt x="438" y="0"/>
                  </a:lnTo>
                  <a:lnTo>
                    <a:pt x="438" y="549"/>
                  </a:lnTo>
                  <a:lnTo>
                    <a:pt x="0" y="5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99120" y="3352680"/>
              <a:ext cx="695160" cy="87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03800" y="3357720"/>
              <a:ext cx="685800" cy="86184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54720" y="4452840"/>
              <a:ext cx="706320" cy="884520"/>
            </a:xfrm>
            <a:custGeom>
              <a:avLst/>
              <a:gdLst/>
              <a:ahLst/>
              <a:rect l="l" t="t" r="r" b="b"/>
              <a:pathLst>
                <a:path w="445" h="557">
                  <a:moveTo>
                    <a:pt x="0" y="0"/>
                  </a:moveTo>
                  <a:lnTo>
                    <a:pt x="445" y="0"/>
                  </a:lnTo>
                  <a:lnTo>
                    <a:pt x="445" y="55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54720" y="4452840"/>
              <a:ext cx="706320" cy="88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59400" y="4468680"/>
              <a:ext cx="696960" cy="87336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21800" y="3382920"/>
              <a:ext cx="54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18920" y="3497400"/>
              <a:ext cx="128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18560" y="355932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18920" y="362124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17840" y="3684600"/>
              <a:ext cx="352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18560" y="3746520"/>
              <a:ext cx="160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17840" y="380844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18560" y="387180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18920" y="393372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17480" y="3995640"/>
              <a:ext cx="480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71360" y="4329000"/>
              <a:ext cx="49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subsystem 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81040" y="4329000"/>
              <a:ext cx="49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subsystem 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77400" y="4484880"/>
              <a:ext cx="54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74520" y="4599000"/>
              <a:ext cx="128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74160" y="466092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74520" y="472284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73440" y="4786200"/>
              <a:ext cx="352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74160" y="4848120"/>
              <a:ext cx="160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73080" y="491004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74160" y="497196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74520" y="503568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73080" y="5097600"/>
              <a:ext cx="480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26320" y="4464000"/>
              <a:ext cx="706320" cy="873360"/>
            </a:xfrm>
            <a:custGeom>
              <a:avLst/>
              <a:gdLst/>
              <a:ahLst/>
              <a:rect l="l" t="t" r="r" b="b"/>
              <a:pathLst>
                <a:path w="445" h="550">
                  <a:moveTo>
                    <a:pt x="0" y="0"/>
                  </a:moveTo>
                  <a:lnTo>
                    <a:pt x="445" y="0"/>
                  </a:lnTo>
                  <a:lnTo>
                    <a:pt x="445" y="550"/>
                  </a:lnTo>
                  <a:lnTo>
                    <a:pt x="0" y="5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26320" y="4464000"/>
              <a:ext cx="706320" cy="87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31000" y="4468680"/>
              <a:ext cx="696960" cy="86364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49000" y="4484880"/>
              <a:ext cx="54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46840" y="4587840"/>
              <a:ext cx="36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46120" y="4702320"/>
              <a:ext cx="128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45760" y="476424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46120" y="482760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45040" y="4889520"/>
              <a:ext cx="352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45760" y="4951440"/>
              <a:ext cx="160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44680" y="501480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45760" y="507672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46120" y="513864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44680" y="5200560"/>
              <a:ext cx="480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43760" y="4754520"/>
              <a:ext cx="706320" cy="873360"/>
            </a:xfrm>
            <a:custGeom>
              <a:avLst/>
              <a:gdLst/>
              <a:ahLst/>
              <a:rect l="l" t="t" r="r" b="b"/>
              <a:pathLst>
                <a:path w="445" h="550">
                  <a:moveTo>
                    <a:pt x="0" y="0"/>
                  </a:moveTo>
                  <a:lnTo>
                    <a:pt x="445" y="0"/>
                  </a:lnTo>
                  <a:lnTo>
                    <a:pt x="445" y="550"/>
                  </a:lnTo>
                  <a:lnTo>
                    <a:pt x="0" y="55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48440" y="4759200"/>
              <a:ext cx="696960" cy="863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57080" y="4775040"/>
              <a:ext cx="54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55280" y="4880160"/>
              <a:ext cx="500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53840" y="4992840"/>
              <a:ext cx="128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53840" y="505620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54200" y="511812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53120" y="5180040"/>
              <a:ext cx="352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53840" y="5243400"/>
              <a:ext cx="160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52760" y="530532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53840" y="536724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54200" y="542916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52760" y="5492880"/>
              <a:ext cx="480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99000" y="5419800"/>
              <a:ext cx="636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sub-subsyst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91480" y="5668920"/>
              <a:ext cx="636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sub-subsyst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95880" y="5586480"/>
              <a:ext cx="352440" cy="436680"/>
            </a:xfrm>
            <a:custGeom>
              <a:avLst/>
              <a:gdLst/>
              <a:ahLst/>
              <a:rect l="l" t="t" r="r" b="b"/>
              <a:pathLst>
                <a:path w="222" h="275">
                  <a:moveTo>
                    <a:pt x="0" y="0"/>
                  </a:moveTo>
                  <a:lnTo>
                    <a:pt x="222" y="0"/>
                  </a:lnTo>
                  <a:lnTo>
                    <a:pt x="222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00560" y="5591160"/>
              <a:ext cx="34308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02000" y="560700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02000" y="5648400"/>
              <a:ext cx="162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03440" y="569916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02360" y="57308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03800" y="575136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00920" y="578340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03080" y="581328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00200" y="584532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02360" y="587700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03800" y="590724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99120" y="593892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98840" y="5730840"/>
              <a:ext cx="352440" cy="436680"/>
            </a:xfrm>
            <a:custGeom>
              <a:avLst/>
              <a:gdLst/>
              <a:ahLst/>
              <a:rect l="l" t="t" r="r" b="b"/>
              <a:pathLst>
                <a:path w="222" h="275">
                  <a:moveTo>
                    <a:pt x="0" y="0"/>
                  </a:moveTo>
                  <a:lnTo>
                    <a:pt x="222" y="0"/>
                  </a:lnTo>
                  <a:lnTo>
                    <a:pt x="222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03880" y="5735520"/>
              <a:ext cx="342720" cy="4273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06760" y="575316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05680" y="5803920"/>
              <a:ext cx="2217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08200" y="584532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07120" y="587700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08560" y="590724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05680" y="593892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07840" y="597060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4960" y="600084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07120" y="603252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08560" y="606420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3880" y="609444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54720" y="5565960"/>
              <a:ext cx="353880" cy="43632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0"/>
                  </a:moveTo>
                  <a:lnTo>
                    <a:pt x="223" y="0"/>
                  </a:lnTo>
                  <a:lnTo>
                    <a:pt x="223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59400" y="5570640"/>
              <a:ext cx="34452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62280" y="558648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62280" y="5638680"/>
              <a:ext cx="162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63720" y="567864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62640" y="571032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64080" y="574200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61200" y="577224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63360" y="580392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60480" y="583560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62640" y="58658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64080" y="589752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59400" y="592776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68840" y="5710320"/>
              <a:ext cx="353880" cy="43632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0"/>
                  </a:moveTo>
                  <a:lnTo>
                    <a:pt x="223" y="0"/>
                  </a:lnTo>
                  <a:lnTo>
                    <a:pt x="223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73520" y="5715000"/>
              <a:ext cx="34452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65600" y="573264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64520" y="5783400"/>
              <a:ext cx="2217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67040" y="582444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65960" y="585648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67400" y="588636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64520" y="591804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66680" y="595008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63800" y="597996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65960" y="601200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67400" y="604188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62720" y="607392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24360" y="5554800"/>
              <a:ext cx="354240" cy="43632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0"/>
                  </a:moveTo>
                  <a:lnTo>
                    <a:pt x="223" y="0"/>
                  </a:lnTo>
                  <a:lnTo>
                    <a:pt x="223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040" y="5559480"/>
              <a:ext cx="34452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32280" y="557532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2280" y="5618160"/>
              <a:ext cx="162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33720" y="566892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32640" y="569916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34080" y="572148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31200" y="575136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33360" y="578340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30480" y="581328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32640" y="584532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34080" y="587700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29400" y="590724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29120" y="5700600"/>
              <a:ext cx="352440" cy="436680"/>
            </a:xfrm>
            <a:custGeom>
              <a:avLst/>
              <a:gdLst/>
              <a:ahLst/>
              <a:rect l="l" t="t" r="r" b="b"/>
              <a:pathLst>
                <a:path w="222" h="275">
                  <a:moveTo>
                    <a:pt x="0" y="0"/>
                  </a:moveTo>
                  <a:lnTo>
                    <a:pt x="222" y="0"/>
                  </a:lnTo>
                  <a:lnTo>
                    <a:pt x="222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34160" y="5705640"/>
              <a:ext cx="34272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35600" y="572148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34520" y="5773680"/>
              <a:ext cx="2217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37040" y="581328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35960" y="584532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37400" y="587700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34520" y="590724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36680" y="593892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33800" y="597060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35960" y="60008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37400" y="603252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32720" y="606420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84640" y="5533920"/>
              <a:ext cx="352440" cy="436680"/>
            </a:xfrm>
            <a:custGeom>
              <a:avLst/>
              <a:gdLst/>
              <a:ahLst/>
              <a:rect l="l" t="t" r="r" b="b"/>
              <a:pathLst>
                <a:path w="222" h="275">
                  <a:moveTo>
                    <a:pt x="0" y="0"/>
                  </a:moveTo>
                  <a:lnTo>
                    <a:pt x="222" y="0"/>
                  </a:lnTo>
                  <a:lnTo>
                    <a:pt x="222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89680" y="5538960"/>
              <a:ext cx="34272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91120" y="555480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91120" y="5607000"/>
              <a:ext cx="162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92560" y="564840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91480" y="56786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92920" y="571032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90040" y="574200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92200" y="577224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89320" y="580392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91480" y="583560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92920" y="586584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88240" y="589752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99120" y="5680080"/>
              <a:ext cx="352440" cy="436680"/>
            </a:xfrm>
            <a:custGeom>
              <a:avLst/>
              <a:gdLst/>
              <a:ahLst/>
              <a:rect l="l" t="t" r="r" b="b"/>
              <a:pathLst>
                <a:path w="222" h="275">
                  <a:moveTo>
                    <a:pt x="0" y="0"/>
                  </a:moveTo>
                  <a:lnTo>
                    <a:pt x="222" y="0"/>
                  </a:lnTo>
                  <a:lnTo>
                    <a:pt x="222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03800" y="5684760"/>
              <a:ext cx="34308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95880" y="570060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94800" y="5753160"/>
              <a:ext cx="2217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997320" y="579276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96240" y="58244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97680" y="585648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94800" y="588636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996960" y="591804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94080" y="595008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96240" y="597996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97680" y="601200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93000" y="604188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49920" y="5835600"/>
              <a:ext cx="352440" cy="436680"/>
            </a:xfrm>
            <a:custGeom>
              <a:avLst/>
              <a:gdLst/>
              <a:ahLst/>
              <a:rect l="l" t="t" r="r" b="b"/>
              <a:pathLst>
                <a:path w="222" h="275">
                  <a:moveTo>
                    <a:pt x="0" y="0"/>
                  </a:moveTo>
                  <a:lnTo>
                    <a:pt x="222" y="0"/>
                  </a:lnTo>
                  <a:lnTo>
                    <a:pt x="222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54600" y="5840280"/>
              <a:ext cx="343080" cy="4273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56400" y="585648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56400" y="5897520"/>
              <a:ext cx="162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57840" y="595008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56760" y="597996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58200" y="600084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55320" y="603252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57480" y="606420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54240" y="609444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56760" y="612612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58200" y="615636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53520" y="618804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53240" y="5981760"/>
              <a:ext cx="353880" cy="434880"/>
            </a:xfrm>
            <a:custGeom>
              <a:avLst/>
              <a:gdLst/>
              <a:ahLst/>
              <a:rect l="l" t="t" r="r" b="b"/>
              <a:pathLst>
                <a:path w="223" h="274">
                  <a:moveTo>
                    <a:pt x="0" y="0"/>
                  </a:moveTo>
                  <a:lnTo>
                    <a:pt x="223" y="0"/>
                  </a:lnTo>
                  <a:lnTo>
                    <a:pt x="223" y="274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57920" y="5986440"/>
              <a:ext cx="344520" cy="4255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61160" y="600228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60080" y="6054840"/>
              <a:ext cx="2217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62600" y="609444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61520" y="612612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62960" y="615636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60080" y="618804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62240" y="621972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59360" y="624996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61520" y="62816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62960" y="631368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58280" y="634356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808760" y="5815080"/>
              <a:ext cx="353880" cy="43668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0"/>
                  </a:moveTo>
                  <a:lnTo>
                    <a:pt x="223" y="0"/>
                  </a:lnTo>
                  <a:lnTo>
                    <a:pt x="223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813440" y="5819760"/>
              <a:ext cx="34452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816680" y="583560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16680" y="5888160"/>
              <a:ext cx="162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818120" y="592776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17040" y="59594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18480" y="599112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815600" y="602136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817760" y="605304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814880" y="608508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817040" y="611496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818480" y="614664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13800" y="617868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7642080" y="5703840"/>
            <a:ext cx="354240" cy="436680"/>
          </a:xfrm>
          <a:custGeom>
            <a:avLst/>
            <a:gdLst/>
            <a:ahLst/>
            <a:rect l="l" t="t" r="r" b="b"/>
            <a:pathLst>
              <a:path w="223" h="275">
                <a:moveTo>
                  <a:pt x="0" y="0"/>
                </a:moveTo>
                <a:lnTo>
                  <a:pt x="223" y="0"/>
                </a:lnTo>
                <a:lnTo>
                  <a:pt x="223" y="275"/>
                </a:lnTo>
                <a:lnTo>
                  <a:pt x="0" y="27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47120" y="5708520"/>
            <a:ext cx="344520" cy="427320"/>
          </a:xfrm>
          <a:prstGeom prst="rect">
            <a:avLst/>
          </a:prstGeom>
          <a:solidFill>
            <a:srgbClr val="ffffff"/>
          </a:solidFill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4520" y="5726160"/>
            <a:ext cx="24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713000" y="5776920"/>
            <a:ext cx="2217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69440" y="5818320"/>
            <a:ext cx="799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70880" y="585000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69080" y="588024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73400" y="5911920"/>
            <a:ext cx="218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70160" y="5943600"/>
            <a:ext cx="9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74120" y="5973840"/>
            <a:ext cx="258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70880" y="600552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69080" y="603720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59000" y="6067440"/>
            <a:ext cx="298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797960" y="5548320"/>
            <a:ext cx="353880" cy="436680"/>
          </a:xfrm>
          <a:custGeom>
            <a:avLst/>
            <a:gdLst/>
            <a:ahLst/>
            <a:rect l="l" t="t" r="r" b="b"/>
            <a:pathLst>
              <a:path w="223" h="275">
                <a:moveTo>
                  <a:pt x="0" y="0"/>
                </a:moveTo>
                <a:lnTo>
                  <a:pt x="223" y="0"/>
                </a:lnTo>
                <a:lnTo>
                  <a:pt x="223" y="275"/>
                </a:lnTo>
                <a:lnTo>
                  <a:pt x="0" y="27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02640" y="5553000"/>
            <a:ext cx="344520" cy="426960"/>
          </a:xfrm>
          <a:prstGeom prst="rect">
            <a:avLst/>
          </a:prstGeom>
          <a:solidFill>
            <a:srgbClr val="ffffff"/>
          </a:solidFill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891200" y="5570640"/>
            <a:ext cx="24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868160" y="5611680"/>
            <a:ext cx="1623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36120" y="5662440"/>
            <a:ext cx="799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837560" y="569448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35760" y="571500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840080" y="5745240"/>
            <a:ext cx="218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36840" y="5776920"/>
            <a:ext cx="9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840800" y="5808600"/>
            <a:ext cx="258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37560" y="583884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35760" y="587052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25680" y="5900760"/>
            <a:ext cx="298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902720" y="5694480"/>
            <a:ext cx="352440" cy="436320"/>
          </a:xfrm>
          <a:custGeom>
            <a:avLst/>
            <a:gdLst/>
            <a:ahLst/>
            <a:rect l="l" t="t" r="r" b="b"/>
            <a:pathLst>
              <a:path w="222" h="275">
                <a:moveTo>
                  <a:pt x="0" y="0"/>
                </a:moveTo>
                <a:lnTo>
                  <a:pt x="222" y="0"/>
                </a:lnTo>
                <a:lnTo>
                  <a:pt x="222" y="275"/>
                </a:lnTo>
                <a:lnTo>
                  <a:pt x="0" y="27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907400" y="5699160"/>
            <a:ext cx="342720" cy="426960"/>
          </a:xfrm>
          <a:prstGeom prst="rect">
            <a:avLst/>
          </a:prstGeom>
          <a:solidFill>
            <a:srgbClr val="ffffff"/>
          </a:solidFill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94520" y="5715000"/>
            <a:ext cx="24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983000" y="5767560"/>
            <a:ext cx="2217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939440" y="5808600"/>
            <a:ext cx="799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940880" y="583884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939080" y="587052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943400" y="5900760"/>
            <a:ext cx="218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939800" y="5932440"/>
            <a:ext cx="9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44120" y="5964120"/>
            <a:ext cx="258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940880" y="599436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939080" y="602604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929000" y="6058080"/>
            <a:ext cx="298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058240" y="5527800"/>
            <a:ext cx="352440" cy="436320"/>
          </a:xfrm>
          <a:custGeom>
            <a:avLst/>
            <a:gdLst/>
            <a:ahLst/>
            <a:rect l="l" t="t" r="r" b="b"/>
            <a:pathLst>
              <a:path w="222" h="275">
                <a:moveTo>
                  <a:pt x="0" y="0"/>
                </a:moveTo>
                <a:lnTo>
                  <a:pt x="222" y="0"/>
                </a:lnTo>
                <a:lnTo>
                  <a:pt x="222" y="275"/>
                </a:lnTo>
                <a:lnTo>
                  <a:pt x="0" y="27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62920" y="5532480"/>
            <a:ext cx="342720" cy="426960"/>
          </a:xfrm>
          <a:prstGeom prst="rect">
            <a:avLst/>
          </a:prstGeom>
          <a:solidFill>
            <a:srgbClr val="ffffff"/>
          </a:solidFill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151480" y="5548320"/>
            <a:ext cx="24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128440" y="5600880"/>
            <a:ext cx="1623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096760" y="5641920"/>
            <a:ext cx="799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097840" y="567216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096400" y="570384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100360" y="5735520"/>
            <a:ext cx="218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097120" y="5765760"/>
            <a:ext cx="9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101440" y="5797440"/>
            <a:ext cx="258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097840" y="582948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96400" y="585936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085960" y="5891040"/>
            <a:ext cx="298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172360" y="5673600"/>
            <a:ext cx="352440" cy="436680"/>
          </a:xfrm>
          <a:custGeom>
            <a:avLst/>
            <a:gdLst/>
            <a:ahLst/>
            <a:rect l="l" t="t" r="r" b="b"/>
            <a:pathLst>
              <a:path w="222" h="275">
                <a:moveTo>
                  <a:pt x="0" y="0"/>
                </a:moveTo>
                <a:lnTo>
                  <a:pt x="222" y="0"/>
                </a:lnTo>
                <a:lnTo>
                  <a:pt x="222" y="275"/>
                </a:lnTo>
                <a:lnTo>
                  <a:pt x="0" y="27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177040" y="5678640"/>
            <a:ext cx="343080" cy="426960"/>
          </a:xfrm>
          <a:prstGeom prst="rect">
            <a:avLst/>
          </a:prstGeom>
          <a:solidFill>
            <a:srgbClr val="ffffff"/>
          </a:solidFill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254800" y="5694480"/>
            <a:ext cx="24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243280" y="5746680"/>
            <a:ext cx="2217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199720" y="5786280"/>
            <a:ext cx="799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201160" y="581832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199360" y="585000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203680" y="5880240"/>
            <a:ext cx="218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200080" y="5911920"/>
            <a:ext cx="9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04400" y="5943600"/>
            <a:ext cx="258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01160" y="597384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199360" y="600552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166240" y="6037200"/>
            <a:ext cx="298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193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wo extre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r>
              <a:rPr b="0" lang="tr-TR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equirements </a:t>
            </a:r>
            <a:r>
              <a:rPr b="0" lang="tr-TR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efinition</a:t>
            </a:r>
            <a:r>
              <a:rPr b="0" lang="tr-TR" sz="2400" spc="-1" strike="noStrike">
                <a:solidFill>
                  <a:srgbClr val="cc3300"/>
                </a:solidFill>
                <a:latin typeface="Times New Roman"/>
              </a:rPr>
              <a:t>: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informal outline of the requirements using a few paragraphs or simple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equirements </a:t>
            </a:r>
            <a:r>
              <a:rPr b="0" lang="tr-TR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pecification</a:t>
            </a:r>
            <a:r>
              <a:rPr b="0" lang="tr-TR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long list of specifications that contain thousands of pages of intricate 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B41-CB97-4251-B914-1654E2BFDFF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vel of detail required in a requirements docu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much detail should be provided depends 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ize of the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he need to interface to other system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readershi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target au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e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he contractu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tr-TR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arrangements for develop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tage in requirements gather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he level of experience with the domain and the technology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ost that would be incurred if the requirements were faul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B2F-9CC0-4314-B3DD-7A822F518FB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8 Reviewing Requiremen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formal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374040" indent="-18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individual requirement shoul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80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v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nefit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at outweigh the cost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developm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st-benefit analysis: detailed analysis vs. a rough esti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780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ortan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or the solution of the current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221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80-20 ru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Pareto Principle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80 of the user’s problem can often be solved with 20% of the wor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221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Gold plat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adillac System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Building a list of reqs that does more than neede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780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 expressed using a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ear and consistent no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Natural language and diagram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ent tense, active voi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, and express what the system is to do in response to various inpu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, “The pharmacist will enter the patient ID number and then the patient’s medication record will be displayed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. .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E86A-CCDB-4D0E-85B2-3390AA765F8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iewing Requirements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mbiguo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E.g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 “When the user selects an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rcraft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ystem assigns it to the flight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. .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”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gically consist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s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tandar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other  reqs in the document or in other sub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higher-level req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void duplicating requirements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ad to a system of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fficient qua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able, safe, efficient, reliable, and maintainable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alist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ith available resour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erience, technology, budget, and time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FA8B-7DBC-4828-9C9B-271FF0C4732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main Analysis (cont’d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chniques that help domain analysi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view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rainstor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 case analy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-O modeling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som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es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7411-2D72-4BDC-83E1-8B9CE1E1AB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iewing Requirements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rifi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s will be the basis for designing and testing the sys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p. for nonfunctional req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 uniquely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dentifi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cibility: In design docs to be able to say which reqs is being implemented by a given aspect of the desig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req should start a new paragraph with a unique numb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es not over-constrain the desig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th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but not how!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F62E-070C-4905-9435-09E6939D088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quirements documents should be …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fficiently complet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hould include all functionality plus non-funtional req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ll organize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ctured and titled for easy acces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a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ing should be c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ar fo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q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at involve large amounts of analy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at are contravers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which several alternatives are conside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reed to by all the stakeholder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gotiations may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cc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>
            <a:off x="333864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4114800" y="4876920"/>
            <a:ext cx="4724280" cy="18064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7381800" y="502920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Trace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82D7-8C6A-433C-A2A9-6E8F5D9D9A8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quirements document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47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764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ckground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33560" indent="-457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fs. to docs, stds, and other req doc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764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vironment and system mod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33560" indent="-4572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ext in which the system ru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33560" indent="-4572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s and interactions diagra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7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ctional Requirem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7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functional requirem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988C-AE13-4819-ADCB-F6E652EE1C1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 4.10 Reqs for a Restaurant Advisor 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system will allow people to choose a restaurant in a city.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Users enter one or more of the following criteria, and then the system searches its database for suitable restaurants: food type, price range, neighbourhood, size, service type (fast food, cafeteria, buffet, full service), smoking arrangements (none allowed, separately ventilated section, non-separately-ventilated section)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user can also specify a desired day and time period, and the number of people in their party.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he system will tap into the reservation database (of participating restaurants) and only display restaurants that have available space.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fter entering the criteria,, the user clicks on ‘search’ and the system displays a list of matching restaurants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or restaurants that participate in the automated reservation system, the user can click on ‘reserve’ next to a selection in order to make a reservation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4CDC-3E0A-4FE5-8191-85B62EBEB02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9 Managing Changing Requiremen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 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volv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r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quirements incrementally changes becau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usiness process chan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e to competence, gaining experience, change in laws, company growth/rearrang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chnology chang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w release of the o/s or an interacting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problem becomes better underst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248-7D2F-4691-8271-AB3056B06B6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quirements analysis never sto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inue to interact with the clients and user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anges to the reqs should be made when the benefits of changes must outweigh the cost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rtain small changes (e.g. look and feel of the UI) are usually quick and easy to make at relatively little cos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rger-scale changes have to be carefully assess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cing unexpected changes into a partially built system will probably result in a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or design and late deliver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void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quirements creep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ome changes are enhancements in disguis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void making the system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igge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only make it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t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 revision numbers to reqs documen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555E-8905-47B3-ADED-0A92DA9CCB6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13 Difficulties and Risks in Domain and Requirements Analys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ck of understanding of the domain or the real probl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 domain analysis and prototyp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quirements change rapid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form incremental development, build flexibility into the design, do regular review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ttempting to do too much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cument the problem boundaries at an early stage, carefully estimate the tim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may be hard to reconcile conflicting sets of requireme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rainstorming, JAD sessions, competing prototyp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t is hard to state requirements precisely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reak requirements down into simple sentences and review them carefully, look for potential ambiguity, make early prototypes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2D47-D32F-411D-9E58-F03154760B7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nefits of Performing Domain Analy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ster developmen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re effective communication w/stakehold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ablish reqs more rapid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cus on the most important issu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tter system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nowing the subtleties of the doma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re effective solu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ewer mistak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llowing of right procedures and standar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tter abstractions and hence improved desig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cipation of extension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main knowled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sights into emerging tren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portunities for future develop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re adaptable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56D-56C2-45EC-A0D6-59297CA728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main Analysis Docu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is useful to write a summary of the info fou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 during domain analys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process of organiz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g and writing a summary can help you gather a better grasp of knowled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resulting document can help educate other sw engs who join the team la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5F1-F99C-4255-B17A-C38E8632FF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main Analysis Docu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3356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 of doma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3356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tivation for performing the analy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loss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3356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anings of all terms used in the doma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3356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priate terminology is important for better comm and in user interfaces and document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 knowledge about the dom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3356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mmary (or references) of imp facts and rules that are widely known by domain experts and which would normally be learned as part of their educ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3356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ientific principles, business processes, analysis techniques, how any technology wor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0E02-7921-462B-A4E0-B2F0213B2D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main Analysis Docu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34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ustomers and us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1268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ople who will/might buy sw or work in the doma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1268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ckground, place in organization chart, relationshi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4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nviron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1268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equipment and systems us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468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sks and procedures currently perform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1268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s people 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1268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dures people have to follow with their shortc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468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eting softw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1268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software available (in use or in the marke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1268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vantages and disadvant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468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milarities to other domai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1268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generic vs. domain- or customer-specif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5C68-0E4E-45B7-ABD1-825AF6FF07C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rnin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 carefu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to write excessive amount of detailed inf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e a brief summary of info you have found along with references that will enable others to find that inf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ound domain analysis will increase your chances of succes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main analysis should never really end during the lifetime of the projec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xample 4.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utline in one paragraph the info you would need to gather in order to perform domain analysis for the airline reservation sys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753C-6873-4176-8DC1-47DE9AD782B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KIVANCD</cp:lastModifiedBy>
  <dcterms:modified xsi:type="dcterms:W3CDTF">2004-10-25T13:10:00Z</dcterms:modified>
  <cp:revision>72</cp:revision>
  <dc:subject/>
  <dc:title>SEG 2100 Software Design II</dc:title>
</cp:coreProperties>
</file>