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B85-B214-4D03-8864-517150C2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10D-70CE-4578-A480-1272C162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E04-CB50-4501-9D8F-2043CBF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7FB-1CC3-4C81-A5D8-A0AA7C94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29C-BADE-40A5-82E0-6E57AE2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A87-E34A-4473-BE4C-7BC464A0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99A-395C-4D15-AECF-2C842ABB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47A-DD33-4737-B4E5-21062B4D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11E-F3DC-4C02-BF9E-930852C8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AFE-3505-4263-B076-B542188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99A-D6A4-48AE-A890-FDE177C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CC6-9E81-4C36-9D92-1DE52A8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E12-AEF3-4FAF-9D3E-CE1A7DEB2A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pter 17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GRASP: DES</a:t>
            </a: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IGNI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G OBJECTS WITH RESPONSIBILIT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Learn to apply five of the GRASP principles or patterns for O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Understanding responsibilities is key to good OO design.”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- Martin Fow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3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Monopoly iteration-1 domain mod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5800" y="1079640"/>
            <a:ext cx="769608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A57-5036-4AB3-85D9-DC4A0D5106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4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pplying the Creator pattern in a dynamic mode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248520" cy="325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1676520" y="3733920"/>
            <a:ext cx="6095880" cy="2093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8580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5 In a DCD of the Design Model, Board has a composite aggregation association with squares. We are applying the Creator pattern in a static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733-1E33-4324-89AD-6FA9A270E7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nformation Expert Patter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roblem: What is the basic principle by which to assign responsibilities to object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lution: Assign a responsibility to the class that has the information needed to fulfill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8172360" cy="3060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62120" y="5867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6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pplying Exp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89A-89F0-4031-97CE-F9FF244139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Low Coupling Patter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roblem: How to reduce the impact of chang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lution: Assign responsibilities so that (unnecessary) coupling remains low. Use this principle to evaluate altern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oupling is a measure of how strongly one element is connected to, has knowledge of, or depends on other elemen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f there is a coupling or dependency, then when the depended-upon element changes, the dependant may be affec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A9F-8B7B-4B82-B9AD-D7C89FB39F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7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Evaluating the effect of coupling on this desig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85800" y="1581120"/>
            <a:ext cx="7772400" cy="415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49F-EB22-4375-AA40-B3BD3A6737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Controller Patter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roblem: What first object beyond the UI layer receives and coordinates (controls) a system oper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lution: Assign the responsibility to an object representing one of these choic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presents the overall system, a root object, a device that the software is running within, or a major subsystem (these are all variations of a facade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epresents a use case scenario within which the system operation occurs (a use case or session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FD6-39CF-4D2E-92CF-A958716FF3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8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SSD for the Monopoly game. Note the playGame operatio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990720" y="1065240"/>
            <a:ext cx="716256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E9A-F6EC-4859-AF79-636A0EC7C4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9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Who is the Controller for the playGame system operation?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7200" y="156384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9EA-AEBD-4787-BB35-1F458E4F32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10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pplying the Controller pattern – using MonopolyGame. Connecting the UI layer to the domain layer of software object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3FE-157A-4AEF-9B2A-D7DD49CACB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2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5&amp;17.26  Coupling of UI layer to domain layer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267080" cy="51228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4419720" cy="5246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968840" y="6081840"/>
            <a:ext cx="21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Less Desirable Cou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8F6-35AF-40E2-8E56-399A166F15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0600" y="42840"/>
            <a:ext cx="8476560" cy="6815160"/>
            <a:chOff x="300600" y="42840"/>
            <a:chExt cx="8476560" cy="6815160"/>
          </a:xfrm>
        </p:grpSpPr>
        <p:sp>
          <p:nvSpPr>
            <p:cNvPr id="45" name=""/>
            <p:cNvSpPr/>
            <p:nvPr/>
          </p:nvSpPr>
          <p:spPr>
            <a:xfrm>
              <a:off x="1388880" y="3865680"/>
              <a:ext cx="360360" cy="1022040"/>
            </a:xfrm>
            <a:custGeom>
              <a:avLst/>
              <a:gdLst/>
              <a:ahLst/>
              <a:rect l="l" t="t" r="r" b="b"/>
              <a:pathLst>
                <a:path w="455" h="1287">
                  <a:moveTo>
                    <a:pt x="455" y="0"/>
                  </a:moveTo>
                  <a:lnTo>
                    <a:pt x="415" y="48"/>
                  </a:lnTo>
                  <a:lnTo>
                    <a:pt x="378" y="96"/>
                  </a:lnTo>
                  <a:lnTo>
                    <a:pt x="342" y="146"/>
                  </a:lnTo>
                  <a:lnTo>
                    <a:pt x="309" y="194"/>
                  </a:lnTo>
                  <a:lnTo>
                    <a:pt x="276" y="242"/>
                  </a:lnTo>
                  <a:lnTo>
                    <a:pt x="244" y="290"/>
                  </a:lnTo>
                  <a:lnTo>
                    <a:pt x="215" y="337"/>
                  </a:lnTo>
                  <a:lnTo>
                    <a:pt x="189" y="386"/>
                  </a:lnTo>
                  <a:lnTo>
                    <a:pt x="164" y="433"/>
                  </a:lnTo>
                  <a:lnTo>
                    <a:pt x="140" y="480"/>
                  </a:lnTo>
                  <a:lnTo>
                    <a:pt x="118" y="525"/>
                  </a:lnTo>
                  <a:lnTo>
                    <a:pt x="98" y="571"/>
                  </a:lnTo>
                  <a:lnTo>
                    <a:pt x="79" y="617"/>
                  </a:lnTo>
                  <a:lnTo>
                    <a:pt x="63" y="662"/>
                  </a:lnTo>
                  <a:lnTo>
                    <a:pt x="48" y="705"/>
                  </a:lnTo>
                  <a:lnTo>
                    <a:pt x="35" y="748"/>
                  </a:lnTo>
                  <a:lnTo>
                    <a:pt x="26" y="790"/>
                  </a:lnTo>
                  <a:lnTo>
                    <a:pt x="17" y="831"/>
                  </a:lnTo>
                  <a:lnTo>
                    <a:pt x="9" y="872"/>
                  </a:lnTo>
                  <a:lnTo>
                    <a:pt x="4" y="911"/>
                  </a:lnTo>
                  <a:lnTo>
                    <a:pt x="2" y="950"/>
                  </a:lnTo>
                  <a:lnTo>
                    <a:pt x="0" y="987"/>
                  </a:lnTo>
                  <a:lnTo>
                    <a:pt x="2" y="1023"/>
                  </a:lnTo>
                  <a:lnTo>
                    <a:pt x="6" y="1058"/>
                  </a:lnTo>
                  <a:lnTo>
                    <a:pt x="9" y="1092"/>
                  </a:lnTo>
                  <a:lnTo>
                    <a:pt x="17" y="1124"/>
                  </a:lnTo>
                  <a:lnTo>
                    <a:pt x="26" y="1156"/>
                  </a:lnTo>
                  <a:lnTo>
                    <a:pt x="37" y="1185"/>
                  </a:lnTo>
                  <a:lnTo>
                    <a:pt x="52" y="1212"/>
                  </a:lnTo>
                  <a:lnTo>
                    <a:pt x="66" y="1239"/>
                  </a:lnTo>
                  <a:lnTo>
                    <a:pt x="85" y="1264"/>
                  </a:lnTo>
                  <a:lnTo>
                    <a:pt x="105" y="128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23800" y="4857840"/>
              <a:ext cx="150840" cy="98280"/>
            </a:xfrm>
            <a:custGeom>
              <a:avLst/>
              <a:gdLst/>
              <a:ahLst/>
              <a:rect l="l" t="t" r="r" b="b"/>
              <a:pathLst>
                <a:path w="191" h="126">
                  <a:moveTo>
                    <a:pt x="0" y="62"/>
                  </a:moveTo>
                  <a:lnTo>
                    <a:pt x="191" y="126"/>
                  </a:lnTo>
                  <a:lnTo>
                    <a:pt x="96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9360" y="3308400"/>
              <a:ext cx="1428480" cy="66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9360" y="3308400"/>
              <a:ext cx="1428480" cy="660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98200" y="333216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78960" y="3332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6400" y="3454200"/>
              <a:ext cx="54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I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25480" y="3454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77320" y="3454200"/>
              <a:ext cx="10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33200" y="3454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96400" y="369900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7800" y="3699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8920" y="3699000"/>
              <a:ext cx="46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58760" y="3699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6760" y="3822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8240" y="3822840"/>
              <a:ext cx="17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65800" y="4121280"/>
              <a:ext cx="113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 Contra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79680" y="417600"/>
              <a:ext cx="10270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79680" y="417600"/>
              <a:ext cx="1027080" cy="230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8600" y="47160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79680" y="647640"/>
              <a:ext cx="102708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9680" y="647640"/>
              <a:ext cx="1027080" cy="345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2200" y="696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70760" y="82080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7480" y="417600"/>
              <a:ext cx="102708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7480" y="417600"/>
              <a:ext cx="1027080" cy="345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4640" y="468360"/>
              <a:ext cx="25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11680" y="5904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I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7480" y="763560"/>
              <a:ext cx="10270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7480" y="763560"/>
              <a:ext cx="1027080" cy="230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87840" y="81756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6760" y="704880"/>
              <a:ext cx="990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7880" y="507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72840" y="5079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9240" y="48564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43200" y="50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07080" y="476280"/>
              <a:ext cx="10270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07080" y="476280"/>
              <a:ext cx="1027080" cy="228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1000" y="52848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07080" y="704880"/>
              <a:ext cx="10270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07080" y="704880"/>
              <a:ext cx="1027080" cy="230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96360" y="758880"/>
              <a:ext cx="14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24560" y="704880"/>
              <a:ext cx="1082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85800" y="191880"/>
              <a:ext cx="6923160" cy="862200"/>
            </a:xfrm>
            <a:custGeom>
              <a:avLst/>
              <a:gdLst/>
              <a:ahLst/>
              <a:rect l="l" t="t" r="r" b="b"/>
              <a:pathLst>
                <a:path w="8723" h="1085">
                  <a:moveTo>
                    <a:pt x="441" y="1085"/>
                  </a:moveTo>
                  <a:lnTo>
                    <a:pt x="8282" y="1085"/>
                  </a:lnTo>
                  <a:lnTo>
                    <a:pt x="8304" y="1085"/>
                  </a:lnTo>
                  <a:lnTo>
                    <a:pt x="8326" y="1083"/>
                  </a:lnTo>
                  <a:lnTo>
                    <a:pt x="8348" y="1081"/>
                  </a:lnTo>
                  <a:lnTo>
                    <a:pt x="8370" y="1079"/>
                  </a:lnTo>
                  <a:lnTo>
                    <a:pt x="8392" y="1075"/>
                  </a:lnTo>
                  <a:lnTo>
                    <a:pt x="8412" y="1071"/>
                  </a:lnTo>
                  <a:lnTo>
                    <a:pt x="8433" y="1067"/>
                  </a:lnTo>
                  <a:lnTo>
                    <a:pt x="8453" y="1062"/>
                  </a:lnTo>
                  <a:lnTo>
                    <a:pt x="8473" y="1056"/>
                  </a:lnTo>
                  <a:lnTo>
                    <a:pt x="8491" y="1050"/>
                  </a:lnTo>
                  <a:lnTo>
                    <a:pt x="8510" y="1042"/>
                  </a:lnTo>
                  <a:lnTo>
                    <a:pt x="8528" y="1035"/>
                  </a:lnTo>
                  <a:lnTo>
                    <a:pt x="8545" y="1027"/>
                  </a:lnTo>
                  <a:lnTo>
                    <a:pt x="8561" y="1018"/>
                  </a:lnTo>
                  <a:lnTo>
                    <a:pt x="8578" y="1010"/>
                  </a:lnTo>
                  <a:lnTo>
                    <a:pt x="8592" y="1000"/>
                  </a:lnTo>
                  <a:lnTo>
                    <a:pt x="8607" y="989"/>
                  </a:lnTo>
                  <a:lnTo>
                    <a:pt x="8622" y="980"/>
                  </a:lnTo>
                  <a:lnTo>
                    <a:pt x="8635" y="969"/>
                  </a:lnTo>
                  <a:lnTo>
                    <a:pt x="8647" y="957"/>
                  </a:lnTo>
                  <a:lnTo>
                    <a:pt x="8658" y="946"/>
                  </a:lnTo>
                  <a:lnTo>
                    <a:pt x="8669" y="934"/>
                  </a:lnTo>
                  <a:lnTo>
                    <a:pt x="8679" y="921"/>
                  </a:lnTo>
                  <a:lnTo>
                    <a:pt x="8688" y="909"/>
                  </a:lnTo>
                  <a:lnTo>
                    <a:pt x="8695" y="895"/>
                  </a:lnTo>
                  <a:lnTo>
                    <a:pt x="8702" y="881"/>
                  </a:lnTo>
                  <a:lnTo>
                    <a:pt x="8708" y="868"/>
                  </a:lnTo>
                  <a:lnTo>
                    <a:pt x="8713" y="853"/>
                  </a:lnTo>
                  <a:lnTo>
                    <a:pt x="8717" y="840"/>
                  </a:lnTo>
                  <a:lnTo>
                    <a:pt x="8719" y="826"/>
                  </a:lnTo>
                  <a:lnTo>
                    <a:pt x="8721" y="810"/>
                  </a:lnTo>
                  <a:lnTo>
                    <a:pt x="8723" y="795"/>
                  </a:lnTo>
                  <a:lnTo>
                    <a:pt x="8723" y="795"/>
                  </a:lnTo>
                  <a:lnTo>
                    <a:pt x="8723" y="795"/>
                  </a:lnTo>
                  <a:lnTo>
                    <a:pt x="8723" y="289"/>
                  </a:lnTo>
                  <a:lnTo>
                    <a:pt x="8721" y="275"/>
                  </a:lnTo>
                  <a:lnTo>
                    <a:pt x="8719" y="259"/>
                  </a:lnTo>
                  <a:lnTo>
                    <a:pt x="8717" y="245"/>
                  </a:lnTo>
                  <a:lnTo>
                    <a:pt x="8713" y="231"/>
                  </a:lnTo>
                  <a:lnTo>
                    <a:pt x="8708" y="217"/>
                  </a:lnTo>
                  <a:lnTo>
                    <a:pt x="8702" y="204"/>
                  </a:lnTo>
                  <a:lnTo>
                    <a:pt x="8695" y="190"/>
                  </a:lnTo>
                  <a:lnTo>
                    <a:pt x="8688" y="177"/>
                  </a:lnTo>
                  <a:lnTo>
                    <a:pt x="8679" y="164"/>
                  </a:lnTo>
                  <a:lnTo>
                    <a:pt x="8669" y="152"/>
                  </a:lnTo>
                  <a:lnTo>
                    <a:pt x="8658" y="140"/>
                  </a:lnTo>
                  <a:lnTo>
                    <a:pt x="8647" y="128"/>
                  </a:lnTo>
                  <a:lnTo>
                    <a:pt x="8635" y="116"/>
                  </a:lnTo>
                  <a:lnTo>
                    <a:pt x="8622" y="105"/>
                  </a:lnTo>
                  <a:lnTo>
                    <a:pt x="8607" y="95"/>
                  </a:lnTo>
                  <a:lnTo>
                    <a:pt x="8592" y="84"/>
                  </a:lnTo>
                  <a:lnTo>
                    <a:pt x="8578" y="75"/>
                  </a:lnTo>
                  <a:lnTo>
                    <a:pt x="8561" y="66"/>
                  </a:lnTo>
                  <a:lnTo>
                    <a:pt x="8545" y="58"/>
                  </a:lnTo>
                  <a:lnTo>
                    <a:pt x="8528" y="49"/>
                  </a:lnTo>
                  <a:lnTo>
                    <a:pt x="8510" y="42"/>
                  </a:lnTo>
                  <a:lnTo>
                    <a:pt x="8491" y="35"/>
                  </a:lnTo>
                  <a:lnTo>
                    <a:pt x="8473" y="29"/>
                  </a:lnTo>
                  <a:lnTo>
                    <a:pt x="8453" y="23"/>
                  </a:lnTo>
                  <a:lnTo>
                    <a:pt x="8433" y="18"/>
                  </a:lnTo>
                  <a:lnTo>
                    <a:pt x="8412" y="13"/>
                  </a:lnTo>
                  <a:lnTo>
                    <a:pt x="8392" y="10"/>
                  </a:lnTo>
                  <a:lnTo>
                    <a:pt x="8370" y="6"/>
                  </a:lnTo>
                  <a:lnTo>
                    <a:pt x="8348" y="4"/>
                  </a:lnTo>
                  <a:lnTo>
                    <a:pt x="8326" y="1"/>
                  </a:lnTo>
                  <a:lnTo>
                    <a:pt x="8304" y="0"/>
                  </a:lnTo>
                  <a:lnTo>
                    <a:pt x="8282" y="0"/>
                  </a:lnTo>
                  <a:lnTo>
                    <a:pt x="8282" y="0"/>
                  </a:lnTo>
                  <a:lnTo>
                    <a:pt x="441" y="0"/>
                  </a:lnTo>
                  <a:lnTo>
                    <a:pt x="417" y="0"/>
                  </a:lnTo>
                  <a:lnTo>
                    <a:pt x="395" y="1"/>
                  </a:lnTo>
                  <a:lnTo>
                    <a:pt x="373" y="4"/>
                  </a:lnTo>
                  <a:lnTo>
                    <a:pt x="351" y="6"/>
                  </a:lnTo>
                  <a:lnTo>
                    <a:pt x="330" y="10"/>
                  </a:lnTo>
                  <a:lnTo>
                    <a:pt x="308" y="13"/>
                  </a:lnTo>
                  <a:lnTo>
                    <a:pt x="288" y="18"/>
                  </a:lnTo>
                  <a:lnTo>
                    <a:pt x="268" y="23"/>
                  </a:lnTo>
                  <a:lnTo>
                    <a:pt x="248" y="29"/>
                  </a:lnTo>
                  <a:lnTo>
                    <a:pt x="230" y="35"/>
                  </a:lnTo>
                  <a:lnTo>
                    <a:pt x="211" y="42"/>
                  </a:lnTo>
                  <a:lnTo>
                    <a:pt x="193" y="49"/>
                  </a:lnTo>
                  <a:lnTo>
                    <a:pt x="176" y="58"/>
                  </a:lnTo>
                  <a:lnTo>
                    <a:pt x="160" y="66"/>
                  </a:lnTo>
                  <a:lnTo>
                    <a:pt x="143" y="75"/>
                  </a:lnTo>
                  <a:lnTo>
                    <a:pt x="129" y="84"/>
                  </a:lnTo>
                  <a:lnTo>
                    <a:pt x="114" y="95"/>
                  </a:lnTo>
                  <a:lnTo>
                    <a:pt x="99" y="105"/>
                  </a:lnTo>
                  <a:lnTo>
                    <a:pt x="86" y="116"/>
                  </a:lnTo>
                  <a:lnTo>
                    <a:pt x="75" y="128"/>
                  </a:lnTo>
                  <a:lnTo>
                    <a:pt x="62" y="140"/>
                  </a:lnTo>
                  <a:lnTo>
                    <a:pt x="51" y="152"/>
                  </a:lnTo>
                  <a:lnTo>
                    <a:pt x="42" y="164"/>
                  </a:lnTo>
                  <a:lnTo>
                    <a:pt x="33" y="177"/>
                  </a:lnTo>
                  <a:lnTo>
                    <a:pt x="26" y="190"/>
                  </a:lnTo>
                  <a:lnTo>
                    <a:pt x="18" y="204"/>
                  </a:lnTo>
                  <a:lnTo>
                    <a:pt x="13" y="217"/>
                  </a:lnTo>
                  <a:lnTo>
                    <a:pt x="7" y="231"/>
                  </a:lnTo>
                  <a:lnTo>
                    <a:pt x="4" y="245"/>
                  </a:lnTo>
                  <a:lnTo>
                    <a:pt x="2" y="259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795"/>
                  </a:lnTo>
                  <a:lnTo>
                    <a:pt x="0" y="810"/>
                  </a:lnTo>
                  <a:lnTo>
                    <a:pt x="2" y="826"/>
                  </a:lnTo>
                  <a:lnTo>
                    <a:pt x="4" y="840"/>
                  </a:lnTo>
                  <a:lnTo>
                    <a:pt x="7" y="853"/>
                  </a:lnTo>
                  <a:lnTo>
                    <a:pt x="13" y="868"/>
                  </a:lnTo>
                  <a:lnTo>
                    <a:pt x="18" y="881"/>
                  </a:lnTo>
                  <a:lnTo>
                    <a:pt x="26" y="895"/>
                  </a:lnTo>
                  <a:lnTo>
                    <a:pt x="33" y="909"/>
                  </a:lnTo>
                  <a:lnTo>
                    <a:pt x="42" y="921"/>
                  </a:lnTo>
                  <a:lnTo>
                    <a:pt x="51" y="934"/>
                  </a:lnTo>
                  <a:lnTo>
                    <a:pt x="62" y="946"/>
                  </a:lnTo>
                  <a:lnTo>
                    <a:pt x="75" y="957"/>
                  </a:lnTo>
                  <a:lnTo>
                    <a:pt x="86" y="969"/>
                  </a:lnTo>
                  <a:lnTo>
                    <a:pt x="99" y="980"/>
                  </a:lnTo>
                  <a:lnTo>
                    <a:pt x="114" y="989"/>
                  </a:lnTo>
                  <a:lnTo>
                    <a:pt x="129" y="1000"/>
                  </a:lnTo>
                  <a:lnTo>
                    <a:pt x="143" y="1010"/>
                  </a:lnTo>
                  <a:lnTo>
                    <a:pt x="160" y="1018"/>
                  </a:lnTo>
                  <a:lnTo>
                    <a:pt x="176" y="1027"/>
                  </a:lnTo>
                  <a:lnTo>
                    <a:pt x="193" y="1035"/>
                  </a:lnTo>
                  <a:lnTo>
                    <a:pt x="211" y="1042"/>
                  </a:lnTo>
                  <a:lnTo>
                    <a:pt x="230" y="1050"/>
                  </a:lnTo>
                  <a:lnTo>
                    <a:pt x="248" y="1056"/>
                  </a:lnTo>
                  <a:lnTo>
                    <a:pt x="268" y="1062"/>
                  </a:lnTo>
                  <a:lnTo>
                    <a:pt x="288" y="1067"/>
                  </a:lnTo>
                  <a:lnTo>
                    <a:pt x="308" y="1071"/>
                  </a:lnTo>
                  <a:lnTo>
                    <a:pt x="330" y="1075"/>
                  </a:lnTo>
                  <a:lnTo>
                    <a:pt x="351" y="1079"/>
                  </a:lnTo>
                  <a:lnTo>
                    <a:pt x="373" y="1081"/>
                  </a:lnTo>
                  <a:lnTo>
                    <a:pt x="395" y="1083"/>
                  </a:lnTo>
                  <a:lnTo>
                    <a:pt x="417" y="1085"/>
                  </a:lnTo>
                  <a:lnTo>
                    <a:pt x="441" y="1085"/>
                  </a:lnTo>
                  <a:lnTo>
                    <a:pt x="441" y="108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6440" y="24300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main 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87600" y="1184400"/>
              <a:ext cx="4546440" cy="3128760"/>
            </a:xfrm>
            <a:custGeom>
              <a:avLst/>
              <a:gdLst/>
              <a:ahLst/>
              <a:rect l="l" t="t" r="r" b="b"/>
              <a:pathLst>
                <a:path w="5727" h="3941">
                  <a:moveTo>
                    <a:pt x="440" y="3941"/>
                  </a:moveTo>
                  <a:lnTo>
                    <a:pt x="5286" y="3941"/>
                  </a:lnTo>
                  <a:lnTo>
                    <a:pt x="5308" y="3941"/>
                  </a:lnTo>
                  <a:lnTo>
                    <a:pt x="5332" y="3940"/>
                  </a:lnTo>
                  <a:lnTo>
                    <a:pt x="5354" y="3938"/>
                  </a:lnTo>
                  <a:lnTo>
                    <a:pt x="5374" y="3935"/>
                  </a:lnTo>
                  <a:lnTo>
                    <a:pt x="5396" y="3932"/>
                  </a:lnTo>
                  <a:lnTo>
                    <a:pt x="5416" y="3927"/>
                  </a:lnTo>
                  <a:lnTo>
                    <a:pt x="5439" y="3924"/>
                  </a:lnTo>
                  <a:lnTo>
                    <a:pt x="5457" y="3918"/>
                  </a:lnTo>
                  <a:lnTo>
                    <a:pt x="5477" y="3913"/>
                  </a:lnTo>
                  <a:lnTo>
                    <a:pt x="5495" y="3906"/>
                  </a:lnTo>
                  <a:lnTo>
                    <a:pt x="5514" y="3900"/>
                  </a:lnTo>
                  <a:lnTo>
                    <a:pt x="5532" y="3891"/>
                  </a:lnTo>
                  <a:lnTo>
                    <a:pt x="5550" y="3884"/>
                  </a:lnTo>
                  <a:lnTo>
                    <a:pt x="5567" y="3874"/>
                  </a:lnTo>
                  <a:lnTo>
                    <a:pt x="5582" y="3866"/>
                  </a:lnTo>
                  <a:lnTo>
                    <a:pt x="5598" y="3856"/>
                  </a:lnTo>
                  <a:lnTo>
                    <a:pt x="5613" y="3847"/>
                  </a:lnTo>
                  <a:lnTo>
                    <a:pt x="5626" y="3836"/>
                  </a:lnTo>
                  <a:lnTo>
                    <a:pt x="5639" y="3825"/>
                  </a:lnTo>
                  <a:lnTo>
                    <a:pt x="5651" y="3813"/>
                  </a:lnTo>
                  <a:lnTo>
                    <a:pt x="5662" y="3802"/>
                  </a:lnTo>
                  <a:lnTo>
                    <a:pt x="5673" y="3790"/>
                  </a:lnTo>
                  <a:lnTo>
                    <a:pt x="5683" y="3777"/>
                  </a:lnTo>
                  <a:lnTo>
                    <a:pt x="5692" y="3765"/>
                  </a:lnTo>
                  <a:lnTo>
                    <a:pt x="5699" y="3751"/>
                  </a:lnTo>
                  <a:lnTo>
                    <a:pt x="5707" y="3738"/>
                  </a:lnTo>
                  <a:lnTo>
                    <a:pt x="5712" y="3724"/>
                  </a:lnTo>
                  <a:lnTo>
                    <a:pt x="5718" y="3711"/>
                  </a:lnTo>
                  <a:lnTo>
                    <a:pt x="5721" y="3696"/>
                  </a:lnTo>
                  <a:lnTo>
                    <a:pt x="5725" y="3682"/>
                  </a:lnTo>
                  <a:lnTo>
                    <a:pt x="5727" y="3667"/>
                  </a:lnTo>
                  <a:lnTo>
                    <a:pt x="5727" y="3651"/>
                  </a:lnTo>
                  <a:lnTo>
                    <a:pt x="5727" y="3651"/>
                  </a:lnTo>
                  <a:lnTo>
                    <a:pt x="5727" y="289"/>
                  </a:lnTo>
                  <a:lnTo>
                    <a:pt x="5727" y="275"/>
                  </a:lnTo>
                  <a:lnTo>
                    <a:pt x="5725" y="260"/>
                  </a:lnTo>
                  <a:lnTo>
                    <a:pt x="5721" y="246"/>
                  </a:lnTo>
                  <a:lnTo>
                    <a:pt x="5718" y="231"/>
                  </a:lnTo>
                  <a:lnTo>
                    <a:pt x="5712" y="217"/>
                  </a:lnTo>
                  <a:lnTo>
                    <a:pt x="5707" y="203"/>
                  </a:lnTo>
                  <a:lnTo>
                    <a:pt x="5699" y="190"/>
                  </a:lnTo>
                  <a:lnTo>
                    <a:pt x="5692" y="177"/>
                  </a:lnTo>
                  <a:lnTo>
                    <a:pt x="5683" y="164"/>
                  </a:lnTo>
                  <a:lnTo>
                    <a:pt x="5673" y="152"/>
                  </a:lnTo>
                  <a:lnTo>
                    <a:pt x="5662" y="140"/>
                  </a:lnTo>
                  <a:lnTo>
                    <a:pt x="5651" y="127"/>
                  </a:lnTo>
                  <a:lnTo>
                    <a:pt x="5639" y="117"/>
                  </a:lnTo>
                  <a:lnTo>
                    <a:pt x="5626" y="106"/>
                  </a:lnTo>
                  <a:lnTo>
                    <a:pt x="5613" y="95"/>
                  </a:lnTo>
                  <a:lnTo>
                    <a:pt x="5598" y="85"/>
                  </a:lnTo>
                  <a:lnTo>
                    <a:pt x="5582" y="76"/>
                  </a:lnTo>
                  <a:lnTo>
                    <a:pt x="5567" y="66"/>
                  </a:lnTo>
                  <a:lnTo>
                    <a:pt x="5550" y="58"/>
                  </a:lnTo>
                  <a:lnTo>
                    <a:pt x="5532" y="49"/>
                  </a:lnTo>
                  <a:lnTo>
                    <a:pt x="5514" y="42"/>
                  </a:lnTo>
                  <a:lnTo>
                    <a:pt x="5495" y="35"/>
                  </a:lnTo>
                  <a:lnTo>
                    <a:pt x="5477" y="29"/>
                  </a:lnTo>
                  <a:lnTo>
                    <a:pt x="5457" y="23"/>
                  </a:lnTo>
                  <a:lnTo>
                    <a:pt x="5439" y="18"/>
                  </a:lnTo>
                  <a:lnTo>
                    <a:pt x="5416" y="13"/>
                  </a:lnTo>
                  <a:lnTo>
                    <a:pt x="5396" y="9"/>
                  </a:lnTo>
                  <a:lnTo>
                    <a:pt x="5374" y="6"/>
                  </a:lnTo>
                  <a:lnTo>
                    <a:pt x="5354" y="3"/>
                  </a:lnTo>
                  <a:lnTo>
                    <a:pt x="5332" y="2"/>
                  </a:lnTo>
                  <a:lnTo>
                    <a:pt x="5308" y="1"/>
                  </a:lnTo>
                  <a:lnTo>
                    <a:pt x="5286" y="0"/>
                  </a:lnTo>
                  <a:lnTo>
                    <a:pt x="440" y="0"/>
                  </a:lnTo>
                  <a:lnTo>
                    <a:pt x="418" y="1"/>
                  </a:lnTo>
                  <a:lnTo>
                    <a:pt x="394" y="2"/>
                  </a:lnTo>
                  <a:lnTo>
                    <a:pt x="372" y="3"/>
                  </a:lnTo>
                  <a:lnTo>
                    <a:pt x="352" y="6"/>
                  </a:lnTo>
                  <a:lnTo>
                    <a:pt x="330" y="9"/>
                  </a:lnTo>
                  <a:lnTo>
                    <a:pt x="310" y="13"/>
                  </a:lnTo>
                  <a:lnTo>
                    <a:pt x="290" y="18"/>
                  </a:lnTo>
                  <a:lnTo>
                    <a:pt x="270" y="23"/>
                  </a:lnTo>
                  <a:lnTo>
                    <a:pt x="249" y="29"/>
                  </a:lnTo>
                  <a:lnTo>
                    <a:pt x="231" y="35"/>
                  </a:lnTo>
                  <a:lnTo>
                    <a:pt x="213" y="42"/>
                  </a:lnTo>
                  <a:lnTo>
                    <a:pt x="194" y="49"/>
                  </a:lnTo>
                  <a:lnTo>
                    <a:pt x="176" y="58"/>
                  </a:lnTo>
                  <a:lnTo>
                    <a:pt x="159" y="66"/>
                  </a:lnTo>
                  <a:lnTo>
                    <a:pt x="145" y="76"/>
                  </a:lnTo>
                  <a:lnTo>
                    <a:pt x="128" y="85"/>
                  </a:lnTo>
                  <a:lnTo>
                    <a:pt x="114" y="95"/>
                  </a:lnTo>
                  <a:lnTo>
                    <a:pt x="101" y="106"/>
                  </a:lnTo>
                  <a:lnTo>
                    <a:pt x="88" y="117"/>
                  </a:lnTo>
                  <a:lnTo>
                    <a:pt x="75" y="127"/>
                  </a:lnTo>
                  <a:lnTo>
                    <a:pt x="64" y="140"/>
                  </a:lnTo>
                  <a:lnTo>
                    <a:pt x="53" y="152"/>
                  </a:lnTo>
                  <a:lnTo>
                    <a:pt x="44" y="164"/>
                  </a:lnTo>
                  <a:lnTo>
                    <a:pt x="35" y="177"/>
                  </a:lnTo>
                  <a:lnTo>
                    <a:pt x="27" y="190"/>
                  </a:lnTo>
                  <a:lnTo>
                    <a:pt x="20" y="203"/>
                  </a:lnTo>
                  <a:lnTo>
                    <a:pt x="14" y="217"/>
                  </a:lnTo>
                  <a:lnTo>
                    <a:pt x="9" y="231"/>
                  </a:lnTo>
                  <a:lnTo>
                    <a:pt x="5" y="246"/>
                  </a:lnTo>
                  <a:lnTo>
                    <a:pt x="2" y="260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3651"/>
                  </a:lnTo>
                  <a:lnTo>
                    <a:pt x="0" y="3667"/>
                  </a:lnTo>
                  <a:lnTo>
                    <a:pt x="2" y="3682"/>
                  </a:lnTo>
                  <a:lnTo>
                    <a:pt x="5" y="3696"/>
                  </a:lnTo>
                  <a:lnTo>
                    <a:pt x="9" y="3711"/>
                  </a:lnTo>
                  <a:lnTo>
                    <a:pt x="14" y="3724"/>
                  </a:lnTo>
                  <a:lnTo>
                    <a:pt x="20" y="3738"/>
                  </a:lnTo>
                  <a:lnTo>
                    <a:pt x="27" y="3751"/>
                  </a:lnTo>
                  <a:lnTo>
                    <a:pt x="35" y="3765"/>
                  </a:lnTo>
                  <a:lnTo>
                    <a:pt x="44" y="3777"/>
                  </a:lnTo>
                  <a:lnTo>
                    <a:pt x="53" y="3790"/>
                  </a:lnTo>
                  <a:lnTo>
                    <a:pt x="64" y="3802"/>
                  </a:lnTo>
                  <a:lnTo>
                    <a:pt x="75" y="3813"/>
                  </a:lnTo>
                  <a:lnTo>
                    <a:pt x="88" y="3825"/>
                  </a:lnTo>
                  <a:lnTo>
                    <a:pt x="101" y="3836"/>
                  </a:lnTo>
                  <a:lnTo>
                    <a:pt x="114" y="3847"/>
                  </a:lnTo>
                  <a:lnTo>
                    <a:pt x="128" y="3856"/>
                  </a:lnTo>
                  <a:lnTo>
                    <a:pt x="145" y="3866"/>
                  </a:lnTo>
                  <a:lnTo>
                    <a:pt x="159" y="3874"/>
                  </a:lnTo>
                  <a:lnTo>
                    <a:pt x="176" y="3884"/>
                  </a:lnTo>
                  <a:lnTo>
                    <a:pt x="194" y="3891"/>
                  </a:lnTo>
                  <a:lnTo>
                    <a:pt x="213" y="3900"/>
                  </a:lnTo>
                  <a:lnTo>
                    <a:pt x="231" y="3906"/>
                  </a:lnTo>
                  <a:lnTo>
                    <a:pt x="249" y="3913"/>
                  </a:lnTo>
                  <a:lnTo>
                    <a:pt x="270" y="3918"/>
                  </a:lnTo>
                  <a:lnTo>
                    <a:pt x="290" y="3924"/>
                  </a:lnTo>
                  <a:lnTo>
                    <a:pt x="310" y="3927"/>
                  </a:lnTo>
                  <a:lnTo>
                    <a:pt x="330" y="3932"/>
                  </a:lnTo>
                  <a:lnTo>
                    <a:pt x="352" y="3935"/>
                  </a:lnTo>
                  <a:lnTo>
                    <a:pt x="372" y="3938"/>
                  </a:lnTo>
                  <a:lnTo>
                    <a:pt x="394" y="3940"/>
                  </a:lnTo>
                  <a:lnTo>
                    <a:pt x="418" y="3941"/>
                  </a:lnTo>
                  <a:lnTo>
                    <a:pt x="440" y="3941"/>
                  </a:lnTo>
                  <a:lnTo>
                    <a:pt x="440" y="394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2480" y="123660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57160" y="12366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0080" y="123660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se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6440" y="4592520"/>
              <a:ext cx="7200720" cy="2265480"/>
            </a:xfrm>
            <a:custGeom>
              <a:avLst/>
              <a:gdLst/>
              <a:ahLst/>
              <a:rect l="l" t="t" r="r" b="b"/>
              <a:pathLst>
                <a:path w="9071" h="2855">
                  <a:moveTo>
                    <a:pt x="463" y="2835"/>
                  </a:moveTo>
                  <a:lnTo>
                    <a:pt x="903" y="2835"/>
                  </a:lnTo>
                  <a:lnTo>
                    <a:pt x="905" y="2835"/>
                  </a:lnTo>
                  <a:lnTo>
                    <a:pt x="909" y="2837"/>
                  </a:lnTo>
                  <a:lnTo>
                    <a:pt x="910" y="2837"/>
                  </a:lnTo>
                  <a:lnTo>
                    <a:pt x="912" y="2838"/>
                  </a:lnTo>
                  <a:lnTo>
                    <a:pt x="914" y="2840"/>
                  </a:lnTo>
                  <a:lnTo>
                    <a:pt x="916" y="2841"/>
                  </a:lnTo>
                  <a:lnTo>
                    <a:pt x="916" y="2843"/>
                  </a:lnTo>
                  <a:lnTo>
                    <a:pt x="918" y="2845"/>
                  </a:lnTo>
                  <a:lnTo>
                    <a:pt x="916" y="2847"/>
                  </a:lnTo>
                  <a:lnTo>
                    <a:pt x="916" y="2849"/>
                  </a:lnTo>
                  <a:lnTo>
                    <a:pt x="914" y="2851"/>
                  </a:lnTo>
                  <a:lnTo>
                    <a:pt x="912" y="2852"/>
                  </a:lnTo>
                  <a:lnTo>
                    <a:pt x="910" y="2854"/>
                  </a:lnTo>
                  <a:lnTo>
                    <a:pt x="909" y="2854"/>
                  </a:lnTo>
                  <a:lnTo>
                    <a:pt x="905" y="2855"/>
                  </a:lnTo>
                  <a:lnTo>
                    <a:pt x="903" y="2855"/>
                  </a:lnTo>
                  <a:lnTo>
                    <a:pt x="463" y="2855"/>
                  </a:lnTo>
                  <a:lnTo>
                    <a:pt x="459" y="2855"/>
                  </a:lnTo>
                  <a:lnTo>
                    <a:pt x="455" y="2854"/>
                  </a:lnTo>
                  <a:lnTo>
                    <a:pt x="453" y="2854"/>
                  </a:lnTo>
                  <a:lnTo>
                    <a:pt x="452" y="2852"/>
                  </a:lnTo>
                  <a:lnTo>
                    <a:pt x="450" y="2851"/>
                  </a:lnTo>
                  <a:lnTo>
                    <a:pt x="448" y="2849"/>
                  </a:lnTo>
                  <a:lnTo>
                    <a:pt x="448" y="2847"/>
                  </a:lnTo>
                  <a:lnTo>
                    <a:pt x="448" y="2845"/>
                  </a:lnTo>
                  <a:lnTo>
                    <a:pt x="448" y="2843"/>
                  </a:lnTo>
                  <a:lnTo>
                    <a:pt x="448" y="2841"/>
                  </a:lnTo>
                  <a:lnTo>
                    <a:pt x="450" y="2840"/>
                  </a:lnTo>
                  <a:lnTo>
                    <a:pt x="452" y="2838"/>
                  </a:lnTo>
                  <a:lnTo>
                    <a:pt x="453" y="2837"/>
                  </a:lnTo>
                  <a:lnTo>
                    <a:pt x="455" y="2837"/>
                  </a:lnTo>
                  <a:lnTo>
                    <a:pt x="459" y="2835"/>
                  </a:lnTo>
                  <a:lnTo>
                    <a:pt x="463" y="2835"/>
                  </a:lnTo>
                  <a:lnTo>
                    <a:pt x="463" y="2835"/>
                  </a:lnTo>
                  <a:close/>
                  <a:moveTo>
                    <a:pt x="1167" y="2835"/>
                  </a:moveTo>
                  <a:lnTo>
                    <a:pt x="1608" y="2835"/>
                  </a:lnTo>
                  <a:lnTo>
                    <a:pt x="1610" y="2835"/>
                  </a:lnTo>
                  <a:lnTo>
                    <a:pt x="1614" y="2837"/>
                  </a:lnTo>
                  <a:lnTo>
                    <a:pt x="1615" y="2837"/>
                  </a:lnTo>
                  <a:lnTo>
                    <a:pt x="1617" y="2838"/>
                  </a:lnTo>
                  <a:lnTo>
                    <a:pt x="1619" y="2840"/>
                  </a:lnTo>
                  <a:lnTo>
                    <a:pt x="1621" y="2841"/>
                  </a:lnTo>
                  <a:lnTo>
                    <a:pt x="1621" y="2843"/>
                  </a:lnTo>
                  <a:lnTo>
                    <a:pt x="1623" y="2845"/>
                  </a:lnTo>
                  <a:lnTo>
                    <a:pt x="1621" y="2847"/>
                  </a:lnTo>
                  <a:lnTo>
                    <a:pt x="1621" y="2849"/>
                  </a:lnTo>
                  <a:lnTo>
                    <a:pt x="1619" y="2851"/>
                  </a:lnTo>
                  <a:lnTo>
                    <a:pt x="1617" y="2852"/>
                  </a:lnTo>
                  <a:lnTo>
                    <a:pt x="1615" y="2854"/>
                  </a:lnTo>
                  <a:lnTo>
                    <a:pt x="1614" y="2854"/>
                  </a:lnTo>
                  <a:lnTo>
                    <a:pt x="1610" y="2855"/>
                  </a:lnTo>
                  <a:lnTo>
                    <a:pt x="1608" y="2855"/>
                  </a:lnTo>
                  <a:lnTo>
                    <a:pt x="1167" y="2855"/>
                  </a:lnTo>
                  <a:lnTo>
                    <a:pt x="1164" y="2855"/>
                  </a:lnTo>
                  <a:lnTo>
                    <a:pt x="1160" y="2854"/>
                  </a:lnTo>
                  <a:lnTo>
                    <a:pt x="1158" y="2854"/>
                  </a:lnTo>
                  <a:lnTo>
                    <a:pt x="1156" y="2852"/>
                  </a:lnTo>
                  <a:lnTo>
                    <a:pt x="1155" y="2851"/>
                  </a:lnTo>
                  <a:lnTo>
                    <a:pt x="1153" y="2849"/>
                  </a:lnTo>
                  <a:lnTo>
                    <a:pt x="1153" y="2847"/>
                  </a:lnTo>
                  <a:lnTo>
                    <a:pt x="1153" y="2845"/>
                  </a:lnTo>
                  <a:lnTo>
                    <a:pt x="1153" y="2843"/>
                  </a:lnTo>
                  <a:lnTo>
                    <a:pt x="1153" y="2841"/>
                  </a:lnTo>
                  <a:lnTo>
                    <a:pt x="1155" y="2840"/>
                  </a:lnTo>
                  <a:lnTo>
                    <a:pt x="1156" y="2838"/>
                  </a:lnTo>
                  <a:lnTo>
                    <a:pt x="1158" y="2837"/>
                  </a:lnTo>
                  <a:lnTo>
                    <a:pt x="1160" y="2837"/>
                  </a:lnTo>
                  <a:lnTo>
                    <a:pt x="1164" y="2835"/>
                  </a:lnTo>
                  <a:lnTo>
                    <a:pt x="1167" y="2835"/>
                  </a:lnTo>
                  <a:lnTo>
                    <a:pt x="1167" y="2835"/>
                  </a:lnTo>
                  <a:close/>
                  <a:moveTo>
                    <a:pt x="1872" y="2835"/>
                  </a:moveTo>
                  <a:lnTo>
                    <a:pt x="2313" y="2835"/>
                  </a:lnTo>
                  <a:lnTo>
                    <a:pt x="2315" y="2835"/>
                  </a:lnTo>
                  <a:lnTo>
                    <a:pt x="2318" y="2837"/>
                  </a:lnTo>
                  <a:lnTo>
                    <a:pt x="2320" y="2837"/>
                  </a:lnTo>
                  <a:lnTo>
                    <a:pt x="2322" y="2838"/>
                  </a:lnTo>
                  <a:lnTo>
                    <a:pt x="2324" y="2840"/>
                  </a:lnTo>
                  <a:lnTo>
                    <a:pt x="2326" y="2841"/>
                  </a:lnTo>
                  <a:lnTo>
                    <a:pt x="2326" y="2843"/>
                  </a:lnTo>
                  <a:lnTo>
                    <a:pt x="2328" y="2845"/>
                  </a:lnTo>
                  <a:lnTo>
                    <a:pt x="2326" y="2847"/>
                  </a:lnTo>
                  <a:lnTo>
                    <a:pt x="2326" y="2849"/>
                  </a:lnTo>
                  <a:lnTo>
                    <a:pt x="2324" y="2851"/>
                  </a:lnTo>
                  <a:lnTo>
                    <a:pt x="2322" y="2852"/>
                  </a:lnTo>
                  <a:lnTo>
                    <a:pt x="2320" y="2854"/>
                  </a:lnTo>
                  <a:lnTo>
                    <a:pt x="2318" y="2854"/>
                  </a:lnTo>
                  <a:lnTo>
                    <a:pt x="2315" y="2855"/>
                  </a:lnTo>
                  <a:lnTo>
                    <a:pt x="2313" y="2855"/>
                  </a:lnTo>
                  <a:lnTo>
                    <a:pt x="1872" y="2855"/>
                  </a:lnTo>
                  <a:lnTo>
                    <a:pt x="1869" y="2855"/>
                  </a:lnTo>
                  <a:lnTo>
                    <a:pt x="1865" y="2854"/>
                  </a:lnTo>
                  <a:lnTo>
                    <a:pt x="1863" y="2854"/>
                  </a:lnTo>
                  <a:lnTo>
                    <a:pt x="1861" y="2852"/>
                  </a:lnTo>
                  <a:lnTo>
                    <a:pt x="1859" y="2851"/>
                  </a:lnTo>
                  <a:lnTo>
                    <a:pt x="1858" y="2849"/>
                  </a:lnTo>
                  <a:lnTo>
                    <a:pt x="1858" y="2847"/>
                  </a:lnTo>
                  <a:lnTo>
                    <a:pt x="1858" y="2845"/>
                  </a:lnTo>
                  <a:lnTo>
                    <a:pt x="1858" y="2843"/>
                  </a:lnTo>
                  <a:lnTo>
                    <a:pt x="1858" y="2841"/>
                  </a:lnTo>
                  <a:lnTo>
                    <a:pt x="1859" y="2840"/>
                  </a:lnTo>
                  <a:lnTo>
                    <a:pt x="1861" y="2838"/>
                  </a:lnTo>
                  <a:lnTo>
                    <a:pt x="1863" y="2837"/>
                  </a:lnTo>
                  <a:lnTo>
                    <a:pt x="1865" y="2837"/>
                  </a:lnTo>
                  <a:lnTo>
                    <a:pt x="1869" y="2835"/>
                  </a:lnTo>
                  <a:lnTo>
                    <a:pt x="1872" y="2835"/>
                  </a:lnTo>
                  <a:lnTo>
                    <a:pt x="1872" y="2835"/>
                  </a:lnTo>
                  <a:close/>
                  <a:moveTo>
                    <a:pt x="2577" y="2835"/>
                  </a:moveTo>
                  <a:lnTo>
                    <a:pt x="3018" y="2835"/>
                  </a:lnTo>
                  <a:lnTo>
                    <a:pt x="3020" y="2835"/>
                  </a:lnTo>
                  <a:lnTo>
                    <a:pt x="3023" y="2837"/>
                  </a:lnTo>
                  <a:lnTo>
                    <a:pt x="3025" y="2837"/>
                  </a:lnTo>
                  <a:lnTo>
                    <a:pt x="3027" y="2838"/>
                  </a:lnTo>
                  <a:lnTo>
                    <a:pt x="3029" y="2840"/>
                  </a:lnTo>
                  <a:lnTo>
                    <a:pt x="3031" y="2841"/>
                  </a:lnTo>
                  <a:lnTo>
                    <a:pt x="3031" y="2843"/>
                  </a:lnTo>
                  <a:lnTo>
                    <a:pt x="3032" y="2845"/>
                  </a:lnTo>
                  <a:lnTo>
                    <a:pt x="3031" y="2847"/>
                  </a:lnTo>
                  <a:lnTo>
                    <a:pt x="3031" y="2849"/>
                  </a:lnTo>
                  <a:lnTo>
                    <a:pt x="3029" y="2851"/>
                  </a:lnTo>
                  <a:lnTo>
                    <a:pt x="3027" y="2852"/>
                  </a:lnTo>
                  <a:lnTo>
                    <a:pt x="3025" y="2854"/>
                  </a:lnTo>
                  <a:lnTo>
                    <a:pt x="3023" y="2854"/>
                  </a:lnTo>
                  <a:lnTo>
                    <a:pt x="3020" y="2855"/>
                  </a:lnTo>
                  <a:lnTo>
                    <a:pt x="3018" y="2855"/>
                  </a:lnTo>
                  <a:lnTo>
                    <a:pt x="2577" y="2855"/>
                  </a:lnTo>
                  <a:lnTo>
                    <a:pt x="2574" y="2855"/>
                  </a:lnTo>
                  <a:lnTo>
                    <a:pt x="2570" y="2854"/>
                  </a:lnTo>
                  <a:lnTo>
                    <a:pt x="2568" y="2854"/>
                  </a:lnTo>
                  <a:lnTo>
                    <a:pt x="2566" y="2852"/>
                  </a:lnTo>
                  <a:lnTo>
                    <a:pt x="2564" y="2851"/>
                  </a:lnTo>
                  <a:lnTo>
                    <a:pt x="2562" y="2849"/>
                  </a:lnTo>
                  <a:lnTo>
                    <a:pt x="2562" y="2847"/>
                  </a:lnTo>
                  <a:lnTo>
                    <a:pt x="2562" y="2845"/>
                  </a:lnTo>
                  <a:lnTo>
                    <a:pt x="2562" y="2843"/>
                  </a:lnTo>
                  <a:lnTo>
                    <a:pt x="2562" y="2841"/>
                  </a:lnTo>
                  <a:lnTo>
                    <a:pt x="2564" y="2840"/>
                  </a:lnTo>
                  <a:lnTo>
                    <a:pt x="2566" y="2838"/>
                  </a:lnTo>
                  <a:lnTo>
                    <a:pt x="2568" y="2837"/>
                  </a:lnTo>
                  <a:lnTo>
                    <a:pt x="2570" y="2837"/>
                  </a:lnTo>
                  <a:lnTo>
                    <a:pt x="2574" y="2835"/>
                  </a:lnTo>
                  <a:lnTo>
                    <a:pt x="2577" y="2835"/>
                  </a:lnTo>
                  <a:lnTo>
                    <a:pt x="2577" y="2835"/>
                  </a:lnTo>
                  <a:close/>
                  <a:moveTo>
                    <a:pt x="3282" y="2835"/>
                  </a:moveTo>
                  <a:lnTo>
                    <a:pt x="3723" y="2835"/>
                  </a:lnTo>
                  <a:lnTo>
                    <a:pt x="3724" y="2835"/>
                  </a:lnTo>
                  <a:lnTo>
                    <a:pt x="3728" y="2837"/>
                  </a:lnTo>
                  <a:lnTo>
                    <a:pt x="3730" y="2837"/>
                  </a:lnTo>
                  <a:lnTo>
                    <a:pt x="3732" y="2838"/>
                  </a:lnTo>
                  <a:lnTo>
                    <a:pt x="3734" y="2840"/>
                  </a:lnTo>
                  <a:lnTo>
                    <a:pt x="3735" y="2841"/>
                  </a:lnTo>
                  <a:lnTo>
                    <a:pt x="3735" y="2843"/>
                  </a:lnTo>
                  <a:lnTo>
                    <a:pt x="3737" y="2845"/>
                  </a:lnTo>
                  <a:lnTo>
                    <a:pt x="3735" y="2847"/>
                  </a:lnTo>
                  <a:lnTo>
                    <a:pt x="3735" y="2849"/>
                  </a:lnTo>
                  <a:lnTo>
                    <a:pt x="3734" y="2851"/>
                  </a:lnTo>
                  <a:lnTo>
                    <a:pt x="3732" y="2852"/>
                  </a:lnTo>
                  <a:lnTo>
                    <a:pt x="3730" y="2854"/>
                  </a:lnTo>
                  <a:lnTo>
                    <a:pt x="3728" y="2854"/>
                  </a:lnTo>
                  <a:lnTo>
                    <a:pt x="3724" y="2855"/>
                  </a:lnTo>
                  <a:lnTo>
                    <a:pt x="3723" y="2855"/>
                  </a:lnTo>
                  <a:lnTo>
                    <a:pt x="3282" y="2855"/>
                  </a:lnTo>
                  <a:lnTo>
                    <a:pt x="3278" y="2855"/>
                  </a:lnTo>
                  <a:lnTo>
                    <a:pt x="3275" y="2854"/>
                  </a:lnTo>
                  <a:lnTo>
                    <a:pt x="3273" y="2854"/>
                  </a:lnTo>
                  <a:lnTo>
                    <a:pt x="3271" y="2852"/>
                  </a:lnTo>
                  <a:lnTo>
                    <a:pt x="3269" y="2851"/>
                  </a:lnTo>
                  <a:lnTo>
                    <a:pt x="3267" y="2849"/>
                  </a:lnTo>
                  <a:lnTo>
                    <a:pt x="3267" y="2847"/>
                  </a:lnTo>
                  <a:lnTo>
                    <a:pt x="3267" y="2845"/>
                  </a:lnTo>
                  <a:lnTo>
                    <a:pt x="3267" y="2843"/>
                  </a:lnTo>
                  <a:lnTo>
                    <a:pt x="3267" y="2841"/>
                  </a:lnTo>
                  <a:lnTo>
                    <a:pt x="3269" y="2840"/>
                  </a:lnTo>
                  <a:lnTo>
                    <a:pt x="3271" y="2838"/>
                  </a:lnTo>
                  <a:lnTo>
                    <a:pt x="3273" y="2837"/>
                  </a:lnTo>
                  <a:lnTo>
                    <a:pt x="3275" y="2837"/>
                  </a:lnTo>
                  <a:lnTo>
                    <a:pt x="3278" y="2835"/>
                  </a:lnTo>
                  <a:lnTo>
                    <a:pt x="3282" y="2835"/>
                  </a:lnTo>
                  <a:lnTo>
                    <a:pt x="3282" y="2835"/>
                  </a:lnTo>
                  <a:close/>
                  <a:moveTo>
                    <a:pt x="3987" y="2835"/>
                  </a:moveTo>
                  <a:lnTo>
                    <a:pt x="4427" y="2835"/>
                  </a:lnTo>
                  <a:lnTo>
                    <a:pt x="4429" y="2835"/>
                  </a:lnTo>
                  <a:lnTo>
                    <a:pt x="4433" y="2837"/>
                  </a:lnTo>
                  <a:lnTo>
                    <a:pt x="4435" y="2837"/>
                  </a:lnTo>
                  <a:lnTo>
                    <a:pt x="4437" y="2838"/>
                  </a:lnTo>
                  <a:lnTo>
                    <a:pt x="4438" y="2840"/>
                  </a:lnTo>
                  <a:lnTo>
                    <a:pt x="4440" y="2841"/>
                  </a:lnTo>
                  <a:lnTo>
                    <a:pt x="4440" y="2843"/>
                  </a:lnTo>
                  <a:lnTo>
                    <a:pt x="4442" y="2845"/>
                  </a:lnTo>
                  <a:lnTo>
                    <a:pt x="4440" y="2847"/>
                  </a:lnTo>
                  <a:lnTo>
                    <a:pt x="4440" y="2849"/>
                  </a:lnTo>
                  <a:lnTo>
                    <a:pt x="4438" y="2851"/>
                  </a:lnTo>
                  <a:lnTo>
                    <a:pt x="4437" y="2852"/>
                  </a:lnTo>
                  <a:lnTo>
                    <a:pt x="4435" y="2854"/>
                  </a:lnTo>
                  <a:lnTo>
                    <a:pt x="4433" y="2854"/>
                  </a:lnTo>
                  <a:lnTo>
                    <a:pt x="4429" y="2855"/>
                  </a:lnTo>
                  <a:lnTo>
                    <a:pt x="4427" y="2855"/>
                  </a:lnTo>
                  <a:lnTo>
                    <a:pt x="3987" y="2855"/>
                  </a:lnTo>
                  <a:lnTo>
                    <a:pt x="3983" y="2855"/>
                  </a:lnTo>
                  <a:lnTo>
                    <a:pt x="3980" y="2854"/>
                  </a:lnTo>
                  <a:lnTo>
                    <a:pt x="3978" y="2854"/>
                  </a:lnTo>
                  <a:lnTo>
                    <a:pt x="3976" y="2852"/>
                  </a:lnTo>
                  <a:lnTo>
                    <a:pt x="3974" y="2851"/>
                  </a:lnTo>
                  <a:lnTo>
                    <a:pt x="3972" y="2849"/>
                  </a:lnTo>
                  <a:lnTo>
                    <a:pt x="3972" y="2847"/>
                  </a:lnTo>
                  <a:lnTo>
                    <a:pt x="3972" y="2845"/>
                  </a:lnTo>
                  <a:lnTo>
                    <a:pt x="3972" y="2843"/>
                  </a:lnTo>
                  <a:lnTo>
                    <a:pt x="3972" y="2841"/>
                  </a:lnTo>
                  <a:lnTo>
                    <a:pt x="3974" y="2840"/>
                  </a:lnTo>
                  <a:lnTo>
                    <a:pt x="3976" y="2838"/>
                  </a:lnTo>
                  <a:lnTo>
                    <a:pt x="3978" y="2837"/>
                  </a:lnTo>
                  <a:lnTo>
                    <a:pt x="3980" y="2837"/>
                  </a:lnTo>
                  <a:lnTo>
                    <a:pt x="3983" y="2835"/>
                  </a:lnTo>
                  <a:lnTo>
                    <a:pt x="3987" y="2835"/>
                  </a:lnTo>
                  <a:lnTo>
                    <a:pt x="3987" y="2835"/>
                  </a:lnTo>
                  <a:close/>
                  <a:moveTo>
                    <a:pt x="4692" y="2835"/>
                  </a:moveTo>
                  <a:lnTo>
                    <a:pt x="5132" y="2835"/>
                  </a:lnTo>
                  <a:lnTo>
                    <a:pt x="5134" y="2835"/>
                  </a:lnTo>
                  <a:lnTo>
                    <a:pt x="5138" y="2837"/>
                  </a:lnTo>
                  <a:lnTo>
                    <a:pt x="5140" y="2837"/>
                  </a:lnTo>
                  <a:lnTo>
                    <a:pt x="5141" y="2838"/>
                  </a:lnTo>
                  <a:lnTo>
                    <a:pt x="5143" y="2840"/>
                  </a:lnTo>
                  <a:lnTo>
                    <a:pt x="5145" y="2841"/>
                  </a:lnTo>
                  <a:lnTo>
                    <a:pt x="5145" y="2843"/>
                  </a:lnTo>
                  <a:lnTo>
                    <a:pt x="5147" y="2845"/>
                  </a:lnTo>
                  <a:lnTo>
                    <a:pt x="5145" y="2847"/>
                  </a:lnTo>
                  <a:lnTo>
                    <a:pt x="5145" y="2849"/>
                  </a:lnTo>
                  <a:lnTo>
                    <a:pt x="5143" y="2851"/>
                  </a:lnTo>
                  <a:lnTo>
                    <a:pt x="5141" y="2852"/>
                  </a:lnTo>
                  <a:lnTo>
                    <a:pt x="5140" y="2854"/>
                  </a:lnTo>
                  <a:lnTo>
                    <a:pt x="5138" y="2854"/>
                  </a:lnTo>
                  <a:lnTo>
                    <a:pt x="5134" y="2855"/>
                  </a:lnTo>
                  <a:lnTo>
                    <a:pt x="5132" y="2855"/>
                  </a:lnTo>
                  <a:lnTo>
                    <a:pt x="4692" y="2855"/>
                  </a:lnTo>
                  <a:lnTo>
                    <a:pt x="4688" y="2855"/>
                  </a:lnTo>
                  <a:lnTo>
                    <a:pt x="4684" y="2854"/>
                  </a:lnTo>
                  <a:lnTo>
                    <a:pt x="4683" y="2854"/>
                  </a:lnTo>
                  <a:lnTo>
                    <a:pt x="4681" y="2852"/>
                  </a:lnTo>
                  <a:lnTo>
                    <a:pt x="4679" y="2851"/>
                  </a:lnTo>
                  <a:lnTo>
                    <a:pt x="4677" y="2849"/>
                  </a:lnTo>
                  <a:lnTo>
                    <a:pt x="4677" y="2847"/>
                  </a:lnTo>
                  <a:lnTo>
                    <a:pt x="4677" y="2845"/>
                  </a:lnTo>
                  <a:lnTo>
                    <a:pt x="4677" y="2843"/>
                  </a:lnTo>
                  <a:lnTo>
                    <a:pt x="4677" y="2841"/>
                  </a:lnTo>
                  <a:lnTo>
                    <a:pt x="4679" y="2840"/>
                  </a:lnTo>
                  <a:lnTo>
                    <a:pt x="4681" y="2838"/>
                  </a:lnTo>
                  <a:lnTo>
                    <a:pt x="4683" y="2837"/>
                  </a:lnTo>
                  <a:lnTo>
                    <a:pt x="4684" y="2837"/>
                  </a:lnTo>
                  <a:lnTo>
                    <a:pt x="4688" y="2835"/>
                  </a:lnTo>
                  <a:lnTo>
                    <a:pt x="4692" y="2835"/>
                  </a:lnTo>
                  <a:lnTo>
                    <a:pt x="4692" y="2835"/>
                  </a:lnTo>
                  <a:close/>
                  <a:moveTo>
                    <a:pt x="5397" y="2835"/>
                  </a:moveTo>
                  <a:lnTo>
                    <a:pt x="5837" y="2835"/>
                  </a:lnTo>
                  <a:lnTo>
                    <a:pt x="5839" y="2835"/>
                  </a:lnTo>
                  <a:lnTo>
                    <a:pt x="5843" y="2837"/>
                  </a:lnTo>
                  <a:lnTo>
                    <a:pt x="5844" y="2837"/>
                  </a:lnTo>
                  <a:lnTo>
                    <a:pt x="5846" y="2838"/>
                  </a:lnTo>
                  <a:lnTo>
                    <a:pt x="5848" y="2840"/>
                  </a:lnTo>
                  <a:lnTo>
                    <a:pt x="5850" y="2841"/>
                  </a:lnTo>
                  <a:lnTo>
                    <a:pt x="5850" y="2843"/>
                  </a:lnTo>
                  <a:lnTo>
                    <a:pt x="5852" y="2845"/>
                  </a:lnTo>
                  <a:lnTo>
                    <a:pt x="5850" y="2847"/>
                  </a:lnTo>
                  <a:lnTo>
                    <a:pt x="5850" y="2849"/>
                  </a:lnTo>
                  <a:lnTo>
                    <a:pt x="5848" y="2851"/>
                  </a:lnTo>
                  <a:lnTo>
                    <a:pt x="5846" y="2852"/>
                  </a:lnTo>
                  <a:lnTo>
                    <a:pt x="5844" y="2854"/>
                  </a:lnTo>
                  <a:lnTo>
                    <a:pt x="5843" y="2854"/>
                  </a:lnTo>
                  <a:lnTo>
                    <a:pt x="5839" y="2855"/>
                  </a:lnTo>
                  <a:lnTo>
                    <a:pt x="5837" y="2855"/>
                  </a:lnTo>
                  <a:lnTo>
                    <a:pt x="5397" y="2855"/>
                  </a:lnTo>
                  <a:lnTo>
                    <a:pt x="5393" y="2855"/>
                  </a:lnTo>
                  <a:lnTo>
                    <a:pt x="5389" y="2854"/>
                  </a:lnTo>
                  <a:lnTo>
                    <a:pt x="5387" y="2854"/>
                  </a:lnTo>
                  <a:lnTo>
                    <a:pt x="5386" y="2852"/>
                  </a:lnTo>
                  <a:lnTo>
                    <a:pt x="5384" y="2851"/>
                  </a:lnTo>
                  <a:lnTo>
                    <a:pt x="5382" y="2849"/>
                  </a:lnTo>
                  <a:lnTo>
                    <a:pt x="5382" y="2847"/>
                  </a:lnTo>
                  <a:lnTo>
                    <a:pt x="5382" y="2845"/>
                  </a:lnTo>
                  <a:lnTo>
                    <a:pt x="5382" y="2843"/>
                  </a:lnTo>
                  <a:lnTo>
                    <a:pt x="5382" y="2841"/>
                  </a:lnTo>
                  <a:lnTo>
                    <a:pt x="5384" y="2840"/>
                  </a:lnTo>
                  <a:lnTo>
                    <a:pt x="5386" y="2838"/>
                  </a:lnTo>
                  <a:lnTo>
                    <a:pt x="5387" y="2837"/>
                  </a:lnTo>
                  <a:lnTo>
                    <a:pt x="5389" y="2837"/>
                  </a:lnTo>
                  <a:lnTo>
                    <a:pt x="5393" y="2835"/>
                  </a:lnTo>
                  <a:lnTo>
                    <a:pt x="5397" y="2835"/>
                  </a:lnTo>
                  <a:lnTo>
                    <a:pt x="5397" y="2835"/>
                  </a:lnTo>
                  <a:close/>
                  <a:moveTo>
                    <a:pt x="6101" y="2835"/>
                  </a:moveTo>
                  <a:lnTo>
                    <a:pt x="6542" y="2835"/>
                  </a:lnTo>
                  <a:lnTo>
                    <a:pt x="6544" y="2835"/>
                  </a:lnTo>
                  <a:lnTo>
                    <a:pt x="6548" y="2837"/>
                  </a:lnTo>
                  <a:lnTo>
                    <a:pt x="6549" y="2837"/>
                  </a:lnTo>
                  <a:lnTo>
                    <a:pt x="6551" y="2838"/>
                  </a:lnTo>
                  <a:lnTo>
                    <a:pt x="6553" y="2840"/>
                  </a:lnTo>
                  <a:lnTo>
                    <a:pt x="6555" y="2841"/>
                  </a:lnTo>
                  <a:lnTo>
                    <a:pt x="6555" y="2843"/>
                  </a:lnTo>
                  <a:lnTo>
                    <a:pt x="6557" y="2845"/>
                  </a:lnTo>
                  <a:lnTo>
                    <a:pt x="6555" y="2847"/>
                  </a:lnTo>
                  <a:lnTo>
                    <a:pt x="6555" y="2849"/>
                  </a:lnTo>
                  <a:lnTo>
                    <a:pt x="6553" y="2851"/>
                  </a:lnTo>
                  <a:lnTo>
                    <a:pt x="6551" y="2852"/>
                  </a:lnTo>
                  <a:lnTo>
                    <a:pt x="6549" y="2854"/>
                  </a:lnTo>
                  <a:lnTo>
                    <a:pt x="6548" y="2854"/>
                  </a:lnTo>
                  <a:lnTo>
                    <a:pt x="6544" y="2855"/>
                  </a:lnTo>
                  <a:lnTo>
                    <a:pt x="6542" y="2855"/>
                  </a:lnTo>
                  <a:lnTo>
                    <a:pt x="6101" y="2855"/>
                  </a:lnTo>
                  <a:lnTo>
                    <a:pt x="6098" y="2855"/>
                  </a:lnTo>
                  <a:lnTo>
                    <a:pt x="6094" y="2854"/>
                  </a:lnTo>
                  <a:lnTo>
                    <a:pt x="6092" y="2854"/>
                  </a:lnTo>
                  <a:lnTo>
                    <a:pt x="6090" y="2852"/>
                  </a:lnTo>
                  <a:lnTo>
                    <a:pt x="6089" y="2851"/>
                  </a:lnTo>
                  <a:lnTo>
                    <a:pt x="6087" y="2849"/>
                  </a:lnTo>
                  <a:lnTo>
                    <a:pt x="6087" y="2847"/>
                  </a:lnTo>
                  <a:lnTo>
                    <a:pt x="6087" y="2845"/>
                  </a:lnTo>
                  <a:lnTo>
                    <a:pt x="6087" y="2843"/>
                  </a:lnTo>
                  <a:lnTo>
                    <a:pt x="6087" y="2841"/>
                  </a:lnTo>
                  <a:lnTo>
                    <a:pt x="6089" y="2840"/>
                  </a:lnTo>
                  <a:lnTo>
                    <a:pt x="6090" y="2838"/>
                  </a:lnTo>
                  <a:lnTo>
                    <a:pt x="6092" y="2837"/>
                  </a:lnTo>
                  <a:lnTo>
                    <a:pt x="6094" y="2837"/>
                  </a:lnTo>
                  <a:lnTo>
                    <a:pt x="6098" y="2835"/>
                  </a:lnTo>
                  <a:lnTo>
                    <a:pt x="6101" y="2835"/>
                  </a:lnTo>
                  <a:lnTo>
                    <a:pt x="6101" y="2835"/>
                  </a:lnTo>
                  <a:close/>
                  <a:moveTo>
                    <a:pt x="6806" y="2835"/>
                  </a:moveTo>
                  <a:lnTo>
                    <a:pt x="7247" y="2835"/>
                  </a:lnTo>
                  <a:lnTo>
                    <a:pt x="7249" y="2835"/>
                  </a:lnTo>
                  <a:lnTo>
                    <a:pt x="7252" y="2837"/>
                  </a:lnTo>
                  <a:lnTo>
                    <a:pt x="7254" y="2837"/>
                  </a:lnTo>
                  <a:lnTo>
                    <a:pt x="7256" y="2838"/>
                  </a:lnTo>
                  <a:lnTo>
                    <a:pt x="7258" y="2840"/>
                  </a:lnTo>
                  <a:lnTo>
                    <a:pt x="7260" y="2841"/>
                  </a:lnTo>
                  <a:lnTo>
                    <a:pt x="7260" y="2843"/>
                  </a:lnTo>
                  <a:lnTo>
                    <a:pt x="7262" y="2845"/>
                  </a:lnTo>
                  <a:lnTo>
                    <a:pt x="7260" y="2847"/>
                  </a:lnTo>
                  <a:lnTo>
                    <a:pt x="7260" y="2849"/>
                  </a:lnTo>
                  <a:lnTo>
                    <a:pt x="7258" y="2851"/>
                  </a:lnTo>
                  <a:lnTo>
                    <a:pt x="7256" y="2852"/>
                  </a:lnTo>
                  <a:lnTo>
                    <a:pt x="7254" y="2854"/>
                  </a:lnTo>
                  <a:lnTo>
                    <a:pt x="7252" y="2854"/>
                  </a:lnTo>
                  <a:lnTo>
                    <a:pt x="7249" y="2855"/>
                  </a:lnTo>
                  <a:lnTo>
                    <a:pt x="7247" y="2855"/>
                  </a:lnTo>
                  <a:lnTo>
                    <a:pt x="6806" y="2855"/>
                  </a:lnTo>
                  <a:lnTo>
                    <a:pt x="6803" y="2855"/>
                  </a:lnTo>
                  <a:lnTo>
                    <a:pt x="6799" y="2854"/>
                  </a:lnTo>
                  <a:lnTo>
                    <a:pt x="6797" y="2854"/>
                  </a:lnTo>
                  <a:lnTo>
                    <a:pt x="6795" y="2852"/>
                  </a:lnTo>
                  <a:lnTo>
                    <a:pt x="6793" y="2851"/>
                  </a:lnTo>
                  <a:lnTo>
                    <a:pt x="6792" y="2849"/>
                  </a:lnTo>
                  <a:lnTo>
                    <a:pt x="6792" y="2847"/>
                  </a:lnTo>
                  <a:lnTo>
                    <a:pt x="6792" y="2845"/>
                  </a:lnTo>
                  <a:lnTo>
                    <a:pt x="6792" y="2843"/>
                  </a:lnTo>
                  <a:lnTo>
                    <a:pt x="6792" y="2841"/>
                  </a:lnTo>
                  <a:lnTo>
                    <a:pt x="6793" y="2840"/>
                  </a:lnTo>
                  <a:lnTo>
                    <a:pt x="6795" y="2838"/>
                  </a:lnTo>
                  <a:lnTo>
                    <a:pt x="6797" y="2837"/>
                  </a:lnTo>
                  <a:lnTo>
                    <a:pt x="6799" y="2837"/>
                  </a:lnTo>
                  <a:lnTo>
                    <a:pt x="6803" y="2835"/>
                  </a:lnTo>
                  <a:lnTo>
                    <a:pt x="6806" y="2835"/>
                  </a:lnTo>
                  <a:lnTo>
                    <a:pt x="6806" y="2835"/>
                  </a:lnTo>
                  <a:close/>
                  <a:moveTo>
                    <a:pt x="7511" y="2835"/>
                  </a:moveTo>
                  <a:lnTo>
                    <a:pt x="7952" y="2835"/>
                  </a:lnTo>
                  <a:lnTo>
                    <a:pt x="7954" y="2835"/>
                  </a:lnTo>
                  <a:lnTo>
                    <a:pt x="7957" y="2837"/>
                  </a:lnTo>
                  <a:lnTo>
                    <a:pt x="7959" y="2837"/>
                  </a:lnTo>
                  <a:lnTo>
                    <a:pt x="7961" y="2838"/>
                  </a:lnTo>
                  <a:lnTo>
                    <a:pt x="7963" y="2840"/>
                  </a:lnTo>
                  <a:lnTo>
                    <a:pt x="7965" y="2841"/>
                  </a:lnTo>
                  <a:lnTo>
                    <a:pt x="7965" y="2843"/>
                  </a:lnTo>
                  <a:lnTo>
                    <a:pt x="7966" y="2845"/>
                  </a:lnTo>
                  <a:lnTo>
                    <a:pt x="7965" y="2847"/>
                  </a:lnTo>
                  <a:lnTo>
                    <a:pt x="7965" y="2849"/>
                  </a:lnTo>
                  <a:lnTo>
                    <a:pt x="7963" y="2851"/>
                  </a:lnTo>
                  <a:lnTo>
                    <a:pt x="7961" y="2852"/>
                  </a:lnTo>
                  <a:lnTo>
                    <a:pt x="7959" y="2854"/>
                  </a:lnTo>
                  <a:lnTo>
                    <a:pt x="7957" y="2854"/>
                  </a:lnTo>
                  <a:lnTo>
                    <a:pt x="7954" y="2855"/>
                  </a:lnTo>
                  <a:lnTo>
                    <a:pt x="7952" y="2855"/>
                  </a:lnTo>
                  <a:lnTo>
                    <a:pt x="7511" y="2855"/>
                  </a:lnTo>
                  <a:lnTo>
                    <a:pt x="7508" y="2855"/>
                  </a:lnTo>
                  <a:lnTo>
                    <a:pt x="7504" y="2854"/>
                  </a:lnTo>
                  <a:lnTo>
                    <a:pt x="7502" y="2854"/>
                  </a:lnTo>
                  <a:lnTo>
                    <a:pt x="7500" y="2852"/>
                  </a:lnTo>
                  <a:lnTo>
                    <a:pt x="7498" y="2851"/>
                  </a:lnTo>
                  <a:lnTo>
                    <a:pt x="7496" y="2849"/>
                  </a:lnTo>
                  <a:lnTo>
                    <a:pt x="7496" y="2847"/>
                  </a:lnTo>
                  <a:lnTo>
                    <a:pt x="7496" y="2845"/>
                  </a:lnTo>
                  <a:lnTo>
                    <a:pt x="7496" y="2843"/>
                  </a:lnTo>
                  <a:lnTo>
                    <a:pt x="7496" y="2841"/>
                  </a:lnTo>
                  <a:lnTo>
                    <a:pt x="7498" y="2840"/>
                  </a:lnTo>
                  <a:lnTo>
                    <a:pt x="7500" y="2838"/>
                  </a:lnTo>
                  <a:lnTo>
                    <a:pt x="7502" y="2837"/>
                  </a:lnTo>
                  <a:lnTo>
                    <a:pt x="7504" y="2837"/>
                  </a:lnTo>
                  <a:lnTo>
                    <a:pt x="7508" y="2835"/>
                  </a:lnTo>
                  <a:lnTo>
                    <a:pt x="7511" y="2835"/>
                  </a:lnTo>
                  <a:lnTo>
                    <a:pt x="7511" y="2835"/>
                  </a:lnTo>
                  <a:close/>
                  <a:moveTo>
                    <a:pt x="8216" y="2835"/>
                  </a:moveTo>
                  <a:lnTo>
                    <a:pt x="8616" y="2835"/>
                  </a:lnTo>
                  <a:lnTo>
                    <a:pt x="8638" y="2835"/>
                  </a:lnTo>
                  <a:lnTo>
                    <a:pt x="8655" y="2834"/>
                  </a:lnTo>
                  <a:lnTo>
                    <a:pt x="8658" y="2834"/>
                  </a:lnTo>
                  <a:lnTo>
                    <a:pt x="8660" y="2834"/>
                  </a:lnTo>
                  <a:lnTo>
                    <a:pt x="8664" y="2835"/>
                  </a:lnTo>
                  <a:lnTo>
                    <a:pt x="8666" y="2837"/>
                  </a:lnTo>
                  <a:lnTo>
                    <a:pt x="8668" y="2838"/>
                  </a:lnTo>
                  <a:lnTo>
                    <a:pt x="8669" y="2839"/>
                  </a:lnTo>
                  <a:lnTo>
                    <a:pt x="8669" y="2841"/>
                  </a:lnTo>
                  <a:lnTo>
                    <a:pt x="8671" y="2844"/>
                  </a:lnTo>
                  <a:lnTo>
                    <a:pt x="8671" y="2845"/>
                  </a:lnTo>
                  <a:lnTo>
                    <a:pt x="8669" y="2847"/>
                  </a:lnTo>
                  <a:lnTo>
                    <a:pt x="8669" y="2849"/>
                  </a:lnTo>
                  <a:lnTo>
                    <a:pt x="8668" y="2850"/>
                  </a:lnTo>
                  <a:lnTo>
                    <a:pt x="8666" y="2851"/>
                  </a:lnTo>
                  <a:lnTo>
                    <a:pt x="8662" y="2852"/>
                  </a:lnTo>
                  <a:lnTo>
                    <a:pt x="8660" y="2854"/>
                  </a:lnTo>
                  <a:lnTo>
                    <a:pt x="8657" y="2854"/>
                  </a:lnTo>
                  <a:lnTo>
                    <a:pt x="8638" y="2855"/>
                  </a:lnTo>
                  <a:lnTo>
                    <a:pt x="8616" y="2855"/>
                  </a:lnTo>
                  <a:lnTo>
                    <a:pt x="8216" y="2855"/>
                  </a:lnTo>
                  <a:lnTo>
                    <a:pt x="8212" y="2855"/>
                  </a:lnTo>
                  <a:lnTo>
                    <a:pt x="8209" y="2854"/>
                  </a:lnTo>
                  <a:lnTo>
                    <a:pt x="8207" y="2854"/>
                  </a:lnTo>
                  <a:lnTo>
                    <a:pt x="8205" y="2852"/>
                  </a:lnTo>
                  <a:lnTo>
                    <a:pt x="8203" y="2851"/>
                  </a:lnTo>
                  <a:lnTo>
                    <a:pt x="8201" y="2849"/>
                  </a:lnTo>
                  <a:lnTo>
                    <a:pt x="8201" y="2847"/>
                  </a:lnTo>
                  <a:lnTo>
                    <a:pt x="8201" y="2845"/>
                  </a:lnTo>
                  <a:lnTo>
                    <a:pt x="8201" y="2843"/>
                  </a:lnTo>
                  <a:lnTo>
                    <a:pt x="8201" y="2841"/>
                  </a:lnTo>
                  <a:lnTo>
                    <a:pt x="8203" y="2840"/>
                  </a:lnTo>
                  <a:lnTo>
                    <a:pt x="8205" y="2838"/>
                  </a:lnTo>
                  <a:lnTo>
                    <a:pt x="8207" y="2837"/>
                  </a:lnTo>
                  <a:lnTo>
                    <a:pt x="8209" y="2837"/>
                  </a:lnTo>
                  <a:lnTo>
                    <a:pt x="8212" y="2835"/>
                  </a:lnTo>
                  <a:lnTo>
                    <a:pt x="8216" y="2835"/>
                  </a:lnTo>
                  <a:lnTo>
                    <a:pt x="8216" y="2835"/>
                  </a:lnTo>
                  <a:close/>
                  <a:moveTo>
                    <a:pt x="8888" y="2772"/>
                  </a:moveTo>
                  <a:lnTo>
                    <a:pt x="8903" y="2763"/>
                  </a:lnTo>
                  <a:lnTo>
                    <a:pt x="8917" y="2753"/>
                  </a:lnTo>
                  <a:lnTo>
                    <a:pt x="8932" y="2744"/>
                  </a:lnTo>
                  <a:lnTo>
                    <a:pt x="8945" y="2734"/>
                  </a:lnTo>
                  <a:lnTo>
                    <a:pt x="8958" y="2723"/>
                  </a:lnTo>
                  <a:lnTo>
                    <a:pt x="8969" y="2713"/>
                  </a:lnTo>
                  <a:lnTo>
                    <a:pt x="8980" y="2700"/>
                  </a:lnTo>
                  <a:lnTo>
                    <a:pt x="8991" y="2690"/>
                  </a:lnTo>
                  <a:lnTo>
                    <a:pt x="9000" y="2678"/>
                  </a:lnTo>
                  <a:lnTo>
                    <a:pt x="9009" y="2664"/>
                  </a:lnTo>
                  <a:lnTo>
                    <a:pt x="9016" y="2652"/>
                  </a:lnTo>
                  <a:lnTo>
                    <a:pt x="9022" y="2639"/>
                  </a:lnTo>
                  <a:lnTo>
                    <a:pt x="9027" y="2626"/>
                  </a:lnTo>
                  <a:lnTo>
                    <a:pt x="9033" y="2612"/>
                  </a:lnTo>
                  <a:lnTo>
                    <a:pt x="9037" y="2598"/>
                  </a:lnTo>
                  <a:lnTo>
                    <a:pt x="9040" y="2585"/>
                  </a:lnTo>
                  <a:lnTo>
                    <a:pt x="9040" y="2570"/>
                  </a:lnTo>
                  <a:lnTo>
                    <a:pt x="9042" y="2556"/>
                  </a:lnTo>
                  <a:lnTo>
                    <a:pt x="9042" y="2553"/>
                  </a:lnTo>
                  <a:lnTo>
                    <a:pt x="9042" y="2552"/>
                  </a:lnTo>
                  <a:lnTo>
                    <a:pt x="9044" y="2551"/>
                  </a:lnTo>
                  <a:lnTo>
                    <a:pt x="9046" y="2549"/>
                  </a:lnTo>
                  <a:lnTo>
                    <a:pt x="9048" y="2547"/>
                  </a:lnTo>
                  <a:lnTo>
                    <a:pt x="9051" y="2547"/>
                  </a:lnTo>
                  <a:lnTo>
                    <a:pt x="9053" y="2546"/>
                  </a:lnTo>
                  <a:lnTo>
                    <a:pt x="9057" y="2546"/>
                  </a:lnTo>
                  <a:lnTo>
                    <a:pt x="9059" y="2546"/>
                  </a:lnTo>
                  <a:lnTo>
                    <a:pt x="9062" y="2547"/>
                  </a:lnTo>
                  <a:lnTo>
                    <a:pt x="9064" y="2549"/>
                  </a:lnTo>
                  <a:lnTo>
                    <a:pt x="9066" y="2550"/>
                  </a:lnTo>
                  <a:lnTo>
                    <a:pt x="9068" y="2551"/>
                  </a:lnTo>
                  <a:lnTo>
                    <a:pt x="9070" y="2552"/>
                  </a:lnTo>
                  <a:lnTo>
                    <a:pt x="9070" y="2555"/>
                  </a:lnTo>
                  <a:lnTo>
                    <a:pt x="9071" y="2556"/>
                  </a:lnTo>
                  <a:lnTo>
                    <a:pt x="9070" y="2571"/>
                  </a:lnTo>
                  <a:lnTo>
                    <a:pt x="9068" y="2587"/>
                  </a:lnTo>
                  <a:lnTo>
                    <a:pt x="9066" y="2602"/>
                  </a:lnTo>
                  <a:lnTo>
                    <a:pt x="9062" y="2616"/>
                  </a:lnTo>
                  <a:lnTo>
                    <a:pt x="9057" y="2631"/>
                  </a:lnTo>
                  <a:lnTo>
                    <a:pt x="9051" y="2645"/>
                  </a:lnTo>
                  <a:lnTo>
                    <a:pt x="9044" y="2659"/>
                  </a:lnTo>
                  <a:lnTo>
                    <a:pt x="9035" y="2673"/>
                  </a:lnTo>
                  <a:lnTo>
                    <a:pt x="9026" y="2686"/>
                  </a:lnTo>
                  <a:lnTo>
                    <a:pt x="9016" y="2699"/>
                  </a:lnTo>
                  <a:lnTo>
                    <a:pt x="9005" y="2711"/>
                  </a:lnTo>
                  <a:lnTo>
                    <a:pt x="8992" y="2723"/>
                  </a:lnTo>
                  <a:lnTo>
                    <a:pt x="8980" y="2735"/>
                  </a:lnTo>
                  <a:lnTo>
                    <a:pt x="8967" y="2746"/>
                  </a:lnTo>
                  <a:lnTo>
                    <a:pt x="8952" y="2757"/>
                  </a:lnTo>
                  <a:lnTo>
                    <a:pt x="8937" y="2768"/>
                  </a:lnTo>
                  <a:lnTo>
                    <a:pt x="8921" y="2778"/>
                  </a:lnTo>
                  <a:lnTo>
                    <a:pt x="8906" y="2786"/>
                  </a:lnTo>
                  <a:lnTo>
                    <a:pt x="8904" y="2787"/>
                  </a:lnTo>
                  <a:lnTo>
                    <a:pt x="8901" y="2788"/>
                  </a:lnTo>
                  <a:lnTo>
                    <a:pt x="8899" y="2788"/>
                  </a:lnTo>
                  <a:lnTo>
                    <a:pt x="8895" y="2788"/>
                  </a:lnTo>
                  <a:lnTo>
                    <a:pt x="8893" y="2788"/>
                  </a:lnTo>
                  <a:lnTo>
                    <a:pt x="8890" y="2787"/>
                  </a:lnTo>
                  <a:lnTo>
                    <a:pt x="8888" y="2786"/>
                  </a:lnTo>
                  <a:lnTo>
                    <a:pt x="8886" y="2785"/>
                  </a:lnTo>
                  <a:lnTo>
                    <a:pt x="8884" y="2784"/>
                  </a:lnTo>
                  <a:lnTo>
                    <a:pt x="8882" y="2782"/>
                  </a:lnTo>
                  <a:lnTo>
                    <a:pt x="8882" y="2780"/>
                  </a:lnTo>
                  <a:lnTo>
                    <a:pt x="8882" y="2778"/>
                  </a:lnTo>
                  <a:lnTo>
                    <a:pt x="8882" y="2776"/>
                  </a:lnTo>
                  <a:lnTo>
                    <a:pt x="8884" y="2774"/>
                  </a:lnTo>
                  <a:lnTo>
                    <a:pt x="8884" y="2773"/>
                  </a:lnTo>
                  <a:lnTo>
                    <a:pt x="8888" y="2772"/>
                  </a:lnTo>
                  <a:lnTo>
                    <a:pt x="8888" y="2772"/>
                  </a:lnTo>
                  <a:close/>
                  <a:moveTo>
                    <a:pt x="9042" y="2556"/>
                  </a:moveTo>
                  <a:lnTo>
                    <a:pt x="9042" y="2521"/>
                  </a:lnTo>
                  <a:lnTo>
                    <a:pt x="9042" y="2518"/>
                  </a:lnTo>
                  <a:lnTo>
                    <a:pt x="9042" y="2517"/>
                  </a:lnTo>
                  <a:lnTo>
                    <a:pt x="9044" y="2516"/>
                  </a:lnTo>
                  <a:lnTo>
                    <a:pt x="9046" y="2514"/>
                  </a:lnTo>
                  <a:lnTo>
                    <a:pt x="9048" y="2512"/>
                  </a:lnTo>
                  <a:lnTo>
                    <a:pt x="9049" y="2512"/>
                  </a:lnTo>
                  <a:lnTo>
                    <a:pt x="9053" y="2511"/>
                  </a:lnTo>
                  <a:lnTo>
                    <a:pt x="9057" y="2511"/>
                  </a:lnTo>
                  <a:lnTo>
                    <a:pt x="9059" y="2511"/>
                  </a:lnTo>
                  <a:lnTo>
                    <a:pt x="9062" y="2512"/>
                  </a:lnTo>
                  <a:lnTo>
                    <a:pt x="9064" y="2512"/>
                  </a:lnTo>
                  <a:lnTo>
                    <a:pt x="9066" y="2514"/>
                  </a:lnTo>
                  <a:lnTo>
                    <a:pt x="9068" y="2516"/>
                  </a:lnTo>
                  <a:lnTo>
                    <a:pt x="9070" y="2517"/>
                  </a:lnTo>
                  <a:lnTo>
                    <a:pt x="9070" y="2518"/>
                  </a:lnTo>
                  <a:lnTo>
                    <a:pt x="9071" y="2521"/>
                  </a:lnTo>
                  <a:lnTo>
                    <a:pt x="9071" y="2556"/>
                  </a:lnTo>
                  <a:lnTo>
                    <a:pt x="9070" y="2558"/>
                  </a:lnTo>
                  <a:lnTo>
                    <a:pt x="9070" y="2559"/>
                  </a:lnTo>
                  <a:lnTo>
                    <a:pt x="9068" y="2562"/>
                  </a:lnTo>
                  <a:lnTo>
                    <a:pt x="9066" y="2563"/>
                  </a:lnTo>
                  <a:lnTo>
                    <a:pt x="9064" y="2564"/>
                  </a:lnTo>
                  <a:lnTo>
                    <a:pt x="9062" y="2564"/>
                  </a:lnTo>
                  <a:lnTo>
                    <a:pt x="9059" y="2565"/>
                  </a:lnTo>
                  <a:lnTo>
                    <a:pt x="9057" y="2565"/>
                  </a:lnTo>
                  <a:lnTo>
                    <a:pt x="9053" y="2565"/>
                  </a:lnTo>
                  <a:lnTo>
                    <a:pt x="9049" y="2564"/>
                  </a:lnTo>
                  <a:lnTo>
                    <a:pt x="9048" y="2564"/>
                  </a:lnTo>
                  <a:lnTo>
                    <a:pt x="9046" y="2563"/>
                  </a:lnTo>
                  <a:lnTo>
                    <a:pt x="9044" y="2562"/>
                  </a:lnTo>
                  <a:lnTo>
                    <a:pt x="9042" y="2559"/>
                  </a:lnTo>
                  <a:lnTo>
                    <a:pt x="9042" y="2558"/>
                  </a:lnTo>
                  <a:lnTo>
                    <a:pt x="9042" y="2556"/>
                  </a:lnTo>
                  <a:lnTo>
                    <a:pt x="9042" y="2556"/>
                  </a:lnTo>
                  <a:close/>
                  <a:moveTo>
                    <a:pt x="9042" y="2347"/>
                  </a:moveTo>
                  <a:lnTo>
                    <a:pt x="9042" y="2058"/>
                  </a:lnTo>
                  <a:lnTo>
                    <a:pt x="9042" y="2056"/>
                  </a:lnTo>
                  <a:lnTo>
                    <a:pt x="9042" y="2054"/>
                  </a:lnTo>
                  <a:lnTo>
                    <a:pt x="9044" y="2053"/>
                  </a:lnTo>
                  <a:lnTo>
                    <a:pt x="9046" y="2051"/>
                  </a:lnTo>
                  <a:lnTo>
                    <a:pt x="9048" y="2050"/>
                  </a:lnTo>
                  <a:lnTo>
                    <a:pt x="9049" y="2050"/>
                  </a:lnTo>
                  <a:lnTo>
                    <a:pt x="9053" y="2048"/>
                  </a:lnTo>
                  <a:lnTo>
                    <a:pt x="9057" y="2048"/>
                  </a:lnTo>
                  <a:lnTo>
                    <a:pt x="9059" y="2048"/>
                  </a:lnTo>
                  <a:lnTo>
                    <a:pt x="9062" y="2050"/>
                  </a:lnTo>
                  <a:lnTo>
                    <a:pt x="9064" y="2050"/>
                  </a:lnTo>
                  <a:lnTo>
                    <a:pt x="9066" y="2051"/>
                  </a:lnTo>
                  <a:lnTo>
                    <a:pt x="9068" y="2053"/>
                  </a:lnTo>
                  <a:lnTo>
                    <a:pt x="9070" y="2054"/>
                  </a:lnTo>
                  <a:lnTo>
                    <a:pt x="9070" y="2056"/>
                  </a:lnTo>
                  <a:lnTo>
                    <a:pt x="9071" y="2058"/>
                  </a:lnTo>
                  <a:lnTo>
                    <a:pt x="9071" y="2347"/>
                  </a:lnTo>
                  <a:lnTo>
                    <a:pt x="9070" y="2350"/>
                  </a:lnTo>
                  <a:lnTo>
                    <a:pt x="9070" y="2351"/>
                  </a:lnTo>
                  <a:lnTo>
                    <a:pt x="9068" y="2353"/>
                  </a:lnTo>
                  <a:lnTo>
                    <a:pt x="9066" y="2355"/>
                  </a:lnTo>
                  <a:lnTo>
                    <a:pt x="9064" y="2356"/>
                  </a:lnTo>
                  <a:lnTo>
                    <a:pt x="9062" y="2356"/>
                  </a:lnTo>
                  <a:lnTo>
                    <a:pt x="9059" y="2357"/>
                  </a:lnTo>
                  <a:lnTo>
                    <a:pt x="9057" y="2357"/>
                  </a:lnTo>
                  <a:lnTo>
                    <a:pt x="9053" y="2357"/>
                  </a:lnTo>
                  <a:lnTo>
                    <a:pt x="9049" y="2356"/>
                  </a:lnTo>
                  <a:lnTo>
                    <a:pt x="9048" y="2356"/>
                  </a:lnTo>
                  <a:lnTo>
                    <a:pt x="9046" y="2355"/>
                  </a:lnTo>
                  <a:lnTo>
                    <a:pt x="9044" y="2353"/>
                  </a:lnTo>
                  <a:lnTo>
                    <a:pt x="9042" y="2351"/>
                  </a:lnTo>
                  <a:lnTo>
                    <a:pt x="9042" y="2350"/>
                  </a:lnTo>
                  <a:lnTo>
                    <a:pt x="9042" y="2347"/>
                  </a:lnTo>
                  <a:lnTo>
                    <a:pt x="9042" y="2347"/>
                  </a:lnTo>
                  <a:close/>
                  <a:moveTo>
                    <a:pt x="9042" y="1885"/>
                  </a:moveTo>
                  <a:lnTo>
                    <a:pt x="9042" y="1595"/>
                  </a:lnTo>
                  <a:lnTo>
                    <a:pt x="9042" y="1593"/>
                  </a:lnTo>
                  <a:lnTo>
                    <a:pt x="9042" y="1592"/>
                  </a:lnTo>
                  <a:lnTo>
                    <a:pt x="9044" y="1590"/>
                  </a:lnTo>
                  <a:lnTo>
                    <a:pt x="9046" y="1588"/>
                  </a:lnTo>
                  <a:lnTo>
                    <a:pt x="9048" y="1587"/>
                  </a:lnTo>
                  <a:lnTo>
                    <a:pt x="9049" y="1587"/>
                  </a:lnTo>
                  <a:lnTo>
                    <a:pt x="9053" y="1586"/>
                  </a:lnTo>
                  <a:lnTo>
                    <a:pt x="9057" y="1586"/>
                  </a:lnTo>
                  <a:lnTo>
                    <a:pt x="9059" y="1586"/>
                  </a:lnTo>
                  <a:lnTo>
                    <a:pt x="9062" y="1587"/>
                  </a:lnTo>
                  <a:lnTo>
                    <a:pt x="9064" y="1587"/>
                  </a:lnTo>
                  <a:lnTo>
                    <a:pt x="9066" y="1588"/>
                  </a:lnTo>
                  <a:lnTo>
                    <a:pt x="9068" y="1590"/>
                  </a:lnTo>
                  <a:lnTo>
                    <a:pt x="9070" y="1592"/>
                  </a:lnTo>
                  <a:lnTo>
                    <a:pt x="9070" y="1593"/>
                  </a:lnTo>
                  <a:lnTo>
                    <a:pt x="9071" y="1595"/>
                  </a:lnTo>
                  <a:lnTo>
                    <a:pt x="9071" y="1885"/>
                  </a:lnTo>
                  <a:lnTo>
                    <a:pt x="9070" y="1887"/>
                  </a:lnTo>
                  <a:lnTo>
                    <a:pt x="9070" y="1888"/>
                  </a:lnTo>
                  <a:lnTo>
                    <a:pt x="9068" y="1891"/>
                  </a:lnTo>
                  <a:lnTo>
                    <a:pt x="9066" y="1892"/>
                  </a:lnTo>
                  <a:lnTo>
                    <a:pt x="9064" y="1893"/>
                  </a:lnTo>
                  <a:lnTo>
                    <a:pt x="9062" y="1893"/>
                  </a:lnTo>
                  <a:lnTo>
                    <a:pt x="9059" y="1894"/>
                  </a:lnTo>
                  <a:lnTo>
                    <a:pt x="9057" y="1894"/>
                  </a:lnTo>
                  <a:lnTo>
                    <a:pt x="9053" y="1894"/>
                  </a:lnTo>
                  <a:lnTo>
                    <a:pt x="9049" y="1893"/>
                  </a:lnTo>
                  <a:lnTo>
                    <a:pt x="9048" y="1893"/>
                  </a:lnTo>
                  <a:lnTo>
                    <a:pt x="9046" y="1892"/>
                  </a:lnTo>
                  <a:lnTo>
                    <a:pt x="9044" y="1891"/>
                  </a:lnTo>
                  <a:lnTo>
                    <a:pt x="9042" y="1888"/>
                  </a:lnTo>
                  <a:lnTo>
                    <a:pt x="9042" y="1887"/>
                  </a:lnTo>
                  <a:lnTo>
                    <a:pt x="9042" y="1885"/>
                  </a:lnTo>
                  <a:lnTo>
                    <a:pt x="9042" y="1885"/>
                  </a:lnTo>
                  <a:close/>
                  <a:moveTo>
                    <a:pt x="9042" y="1422"/>
                  </a:moveTo>
                  <a:lnTo>
                    <a:pt x="9042" y="1133"/>
                  </a:lnTo>
                  <a:lnTo>
                    <a:pt x="9042" y="1130"/>
                  </a:lnTo>
                  <a:lnTo>
                    <a:pt x="9042" y="1129"/>
                  </a:lnTo>
                  <a:lnTo>
                    <a:pt x="9044" y="1128"/>
                  </a:lnTo>
                  <a:lnTo>
                    <a:pt x="9046" y="1125"/>
                  </a:lnTo>
                  <a:lnTo>
                    <a:pt x="9048" y="1124"/>
                  </a:lnTo>
                  <a:lnTo>
                    <a:pt x="9049" y="1124"/>
                  </a:lnTo>
                  <a:lnTo>
                    <a:pt x="9053" y="1123"/>
                  </a:lnTo>
                  <a:lnTo>
                    <a:pt x="9057" y="1123"/>
                  </a:lnTo>
                  <a:lnTo>
                    <a:pt x="9059" y="1123"/>
                  </a:lnTo>
                  <a:lnTo>
                    <a:pt x="9062" y="1124"/>
                  </a:lnTo>
                  <a:lnTo>
                    <a:pt x="9064" y="1124"/>
                  </a:lnTo>
                  <a:lnTo>
                    <a:pt x="9066" y="1125"/>
                  </a:lnTo>
                  <a:lnTo>
                    <a:pt x="9068" y="1128"/>
                  </a:lnTo>
                  <a:lnTo>
                    <a:pt x="9070" y="1129"/>
                  </a:lnTo>
                  <a:lnTo>
                    <a:pt x="9070" y="1130"/>
                  </a:lnTo>
                  <a:lnTo>
                    <a:pt x="9071" y="1133"/>
                  </a:lnTo>
                  <a:lnTo>
                    <a:pt x="9071" y="1422"/>
                  </a:lnTo>
                  <a:lnTo>
                    <a:pt x="9070" y="1424"/>
                  </a:lnTo>
                  <a:lnTo>
                    <a:pt x="9070" y="1425"/>
                  </a:lnTo>
                  <a:lnTo>
                    <a:pt x="9068" y="1428"/>
                  </a:lnTo>
                  <a:lnTo>
                    <a:pt x="9066" y="1429"/>
                  </a:lnTo>
                  <a:lnTo>
                    <a:pt x="9064" y="1430"/>
                  </a:lnTo>
                  <a:lnTo>
                    <a:pt x="9062" y="1430"/>
                  </a:lnTo>
                  <a:lnTo>
                    <a:pt x="9059" y="1431"/>
                  </a:lnTo>
                  <a:lnTo>
                    <a:pt x="9057" y="1431"/>
                  </a:lnTo>
                  <a:lnTo>
                    <a:pt x="9053" y="1431"/>
                  </a:lnTo>
                  <a:lnTo>
                    <a:pt x="9049" y="1430"/>
                  </a:lnTo>
                  <a:lnTo>
                    <a:pt x="9048" y="1430"/>
                  </a:lnTo>
                  <a:lnTo>
                    <a:pt x="9046" y="1429"/>
                  </a:lnTo>
                  <a:lnTo>
                    <a:pt x="9044" y="1428"/>
                  </a:lnTo>
                  <a:lnTo>
                    <a:pt x="9042" y="1425"/>
                  </a:lnTo>
                  <a:lnTo>
                    <a:pt x="9042" y="1424"/>
                  </a:lnTo>
                  <a:lnTo>
                    <a:pt x="9042" y="1422"/>
                  </a:lnTo>
                  <a:lnTo>
                    <a:pt x="9042" y="1422"/>
                  </a:lnTo>
                  <a:close/>
                  <a:moveTo>
                    <a:pt x="9042" y="959"/>
                  </a:moveTo>
                  <a:lnTo>
                    <a:pt x="9042" y="670"/>
                  </a:lnTo>
                  <a:lnTo>
                    <a:pt x="9042" y="667"/>
                  </a:lnTo>
                  <a:lnTo>
                    <a:pt x="9042" y="666"/>
                  </a:lnTo>
                  <a:lnTo>
                    <a:pt x="9044" y="665"/>
                  </a:lnTo>
                  <a:lnTo>
                    <a:pt x="9046" y="662"/>
                  </a:lnTo>
                  <a:lnTo>
                    <a:pt x="9048" y="661"/>
                  </a:lnTo>
                  <a:lnTo>
                    <a:pt x="9049" y="661"/>
                  </a:lnTo>
                  <a:lnTo>
                    <a:pt x="9053" y="660"/>
                  </a:lnTo>
                  <a:lnTo>
                    <a:pt x="9057" y="660"/>
                  </a:lnTo>
                  <a:lnTo>
                    <a:pt x="9059" y="660"/>
                  </a:lnTo>
                  <a:lnTo>
                    <a:pt x="9062" y="661"/>
                  </a:lnTo>
                  <a:lnTo>
                    <a:pt x="9064" y="661"/>
                  </a:lnTo>
                  <a:lnTo>
                    <a:pt x="9066" y="662"/>
                  </a:lnTo>
                  <a:lnTo>
                    <a:pt x="9068" y="665"/>
                  </a:lnTo>
                  <a:lnTo>
                    <a:pt x="9070" y="666"/>
                  </a:lnTo>
                  <a:lnTo>
                    <a:pt x="9070" y="667"/>
                  </a:lnTo>
                  <a:lnTo>
                    <a:pt x="9071" y="670"/>
                  </a:lnTo>
                  <a:lnTo>
                    <a:pt x="9071" y="959"/>
                  </a:lnTo>
                  <a:lnTo>
                    <a:pt x="9070" y="961"/>
                  </a:lnTo>
                  <a:lnTo>
                    <a:pt x="9070" y="963"/>
                  </a:lnTo>
                  <a:lnTo>
                    <a:pt x="9068" y="965"/>
                  </a:lnTo>
                  <a:lnTo>
                    <a:pt x="9066" y="966"/>
                  </a:lnTo>
                  <a:lnTo>
                    <a:pt x="9064" y="967"/>
                  </a:lnTo>
                  <a:lnTo>
                    <a:pt x="9062" y="967"/>
                  </a:lnTo>
                  <a:lnTo>
                    <a:pt x="9059" y="969"/>
                  </a:lnTo>
                  <a:lnTo>
                    <a:pt x="9057" y="969"/>
                  </a:lnTo>
                  <a:lnTo>
                    <a:pt x="9053" y="969"/>
                  </a:lnTo>
                  <a:lnTo>
                    <a:pt x="9049" y="967"/>
                  </a:lnTo>
                  <a:lnTo>
                    <a:pt x="9048" y="967"/>
                  </a:lnTo>
                  <a:lnTo>
                    <a:pt x="9046" y="966"/>
                  </a:lnTo>
                  <a:lnTo>
                    <a:pt x="9044" y="965"/>
                  </a:lnTo>
                  <a:lnTo>
                    <a:pt x="9042" y="963"/>
                  </a:lnTo>
                  <a:lnTo>
                    <a:pt x="9042" y="961"/>
                  </a:lnTo>
                  <a:lnTo>
                    <a:pt x="9042" y="959"/>
                  </a:lnTo>
                  <a:lnTo>
                    <a:pt x="9042" y="959"/>
                  </a:lnTo>
                  <a:close/>
                  <a:moveTo>
                    <a:pt x="9042" y="496"/>
                  </a:moveTo>
                  <a:lnTo>
                    <a:pt x="9042" y="299"/>
                  </a:lnTo>
                  <a:lnTo>
                    <a:pt x="9040" y="284"/>
                  </a:lnTo>
                  <a:lnTo>
                    <a:pt x="9040" y="271"/>
                  </a:lnTo>
                  <a:lnTo>
                    <a:pt x="9037" y="256"/>
                  </a:lnTo>
                  <a:lnTo>
                    <a:pt x="9033" y="243"/>
                  </a:lnTo>
                  <a:lnTo>
                    <a:pt x="9027" y="229"/>
                  </a:lnTo>
                  <a:lnTo>
                    <a:pt x="9022" y="215"/>
                  </a:lnTo>
                  <a:lnTo>
                    <a:pt x="9020" y="212"/>
                  </a:lnTo>
                  <a:lnTo>
                    <a:pt x="9020" y="209"/>
                  </a:lnTo>
                  <a:lnTo>
                    <a:pt x="9020" y="208"/>
                  </a:lnTo>
                  <a:lnTo>
                    <a:pt x="9020" y="206"/>
                  </a:lnTo>
                  <a:lnTo>
                    <a:pt x="9020" y="205"/>
                  </a:lnTo>
                  <a:lnTo>
                    <a:pt x="9022" y="203"/>
                  </a:lnTo>
                  <a:lnTo>
                    <a:pt x="9024" y="201"/>
                  </a:lnTo>
                  <a:lnTo>
                    <a:pt x="9027" y="200"/>
                  </a:lnTo>
                  <a:lnTo>
                    <a:pt x="9029" y="200"/>
                  </a:lnTo>
                  <a:lnTo>
                    <a:pt x="9033" y="198"/>
                  </a:lnTo>
                  <a:lnTo>
                    <a:pt x="9035" y="198"/>
                  </a:lnTo>
                  <a:lnTo>
                    <a:pt x="9038" y="200"/>
                  </a:lnTo>
                  <a:lnTo>
                    <a:pt x="9040" y="200"/>
                  </a:lnTo>
                  <a:lnTo>
                    <a:pt x="9046" y="202"/>
                  </a:lnTo>
                  <a:lnTo>
                    <a:pt x="9048" y="203"/>
                  </a:lnTo>
                  <a:lnTo>
                    <a:pt x="9048" y="206"/>
                  </a:lnTo>
                  <a:lnTo>
                    <a:pt x="9051" y="211"/>
                  </a:lnTo>
                  <a:lnTo>
                    <a:pt x="9057" y="225"/>
                  </a:lnTo>
                  <a:lnTo>
                    <a:pt x="9062" y="239"/>
                  </a:lnTo>
                  <a:lnTo>
                    <a:pt x="9066" y="254"/>
                  </a:lnTo>
                  <a:lnTo>
                    <a:pt x="9068" y="268"/>
                  </a:lnTo>
                  <a:lnTo>
                    <a:pt x="9070" y="284"/>
                  </a:lnTo>
                  <a:lnTo>
                    <a:pt x="9071" y="299"/>
                  </a:lnTo>
                  <a:lnTo>
                    <a:pt x="9071" y="496"/>
                  </a:lnTo>
                  <a:lnTo>
                    <a:pt x="9070" y="499"/>
                  </a:lnTo>
                  <a:lnTo>
                    <a:pt x="9070" y="500"/>
                  </a:lnTo>
                  <a:lnTo>
                    <a:pt x="9068" y="502"/>
                  </a:lnTo>
                  <a:lnTo>
                    <a:pt x="9066" y="503"/>
                  </a:lnTo>
                  <a:lnTo>
                    <a:pt x="9064" y="505"/>
                  </a:lnTo>
                  <a:lnTo>
                    <a:pt x="9062" y="505"/>
                  </a:lnTo>
                  <a:lnTo>
                    <a:pt x="9059" y="506"/>
                  </a:lnTo>
                  <a:lnTo>
                    <a:pt x="9057" y="506"/>
                  </a:lnTo>
                  <a:lnTo>
                    <a:pt x="9053" y="506"/>
                  </a:lnTo>
                  <a:lnTo>
                    <a:pt x="9049" y="505"/>
                  </a:lnTo>
                  <a:lnTo>
                    <a:pt x="9048" y="505"/>
                  </a:lnTo>
                  <a:lnTo>
                    <a:pt x="9046" y="503"/>
                  </a:lnTo>
                  <a:lnTo>
                    <a:pt x="9044" y="502"/>
                  </a:lnTo>
                  <a:lnTo>
                    <a:pt x="9042" y="500"/>
                  </a:lnTo>
                  <a:lnTo>
                    <a:pt x="9042" y="499"/>
                  </a:lnTo>
                  <a:lnTo>
                    <a:pt x="9042" y="496"/>
                  </a:lnTo>
                  <a:lnTo>
                    <a:pt x="9042" y="496"/>
                  </a:lnTo>
                  <a:close/>
                  <a:moveTo>
                    <a:pt x="8875" y="77"/>
                  </a:moveTo>
                  <a:lnTo>
                    <a:pt x="8869" y="74"/>
                  </a:lnTo>
                  <a:lnTo>
                    <a:pt x="8853" y="67"/>
                  </a:lnTo>
                  <a:lnTo>
                    <a:pt x="8836" y="60"/>
                  </a:lnTo>
                  <a:lnTo>
                    <a:pt x="8818" y="53"/>
                  </a:lnTo>
                  <a:lnTo>
                    <a:pt x="8800" y="47"/>
                  </a:lnTo>
                  <a:lnTo>
                    <a:pt x="8781" y="42"/>
                  </a:lnTo>
                  <a:lnTo>
                    <a:pt x="8761" y="36"/>
                  </a:lnTo>
                  <a:lnTo>
                    <a:pt x="8743" y="32"/>
                  </a:lnTo>
                  <a:lnTo>
                    <a:pt x="8723" y="29"/>
                  </a:lnTo>
                  <a:lnTo>
                    <a:pt x="8701" y="25"/>
                  </a:lnTo>
                  <a:lnTo>
                    <a:pt x="8680" y="23"/>
                  </a:lnTo>
                  <a:lnTo>
                    <a:pt x="8658" y="21"/>
                  </a:lnTo>
                  <a:lnTo>
                    <a:pt x="8636" y="20"/>
                  </a:lnTo>
                  <a:lnTo>
                    <a:pt x="8616" y="19"/>
                  </a:lnTo>
                  <a:lnTo>
                    <a:pt x="8464" y="19"/>
                  </a:lnTo>
                  <a:lnTo>
                    <a:pt x="8460" y="19"/>
                  </a:lnTo>
                  <a:lnTo>
                    <a:pt x="8456" y="19"/>
                  </a:lnTo>
                  <a:lnTo>
                    <a:pt x="8455" y="18"/>
                  </a:lnTo>
                  <a:lnTo>
                    <a:pt x="8453" y="16"/>
                  </a:lnTo>
                  <a:lnTo>
                    <a:pt x="8451" y="15"/>
                  </a:lnTo>
                  <a:lnTo>
                    <a:pt x="8449" y="13"/>
                  </a:lnTo>
                  <a:lnTo>
                    <a:pt x="8449" y="12"/>
                  </a:lnTo>
                  <a:lnTo>
                    <a:pt x="8449" y="9"/>
                  </a:lnTo>
                  <a:lnTo>
                    <a:pt x="8449" y="8"/>
                  </a:lnTo>
                  <a:lnTo>
                    <a:pt x="8449" y="6"/>
                  </a:lnTo>
                  <a:lnTo>
                    <a:pt x="8451" y="4"/>
                  </a:lnTo>
                  <a:lnTo>
                    <a:pt x="8453" y="3"/>
                  </a:lnTo>
                  <a:lnTo>
                    <a:pt x="8455" y="2"/>
                  </a:lnTo>
                  <a:lnTo>
                    <a:pt x="8456" y="1"/>
                  </a:lnTo>
                  <a:lnTo>
                    <a:pt x="8460" y="0"/>
                  </a:lnTo>
                  <a:lnTo>
                    <a:pt x="8464" y="0"/>
                  </a:lnTo>
                  <a:lnTo>
                    <a:pt x="8616" y="0"/>
                  </a:lnTo>
                  <a:lnTo>
                    <a:pt x="8640" y="1"/>
                  </a:lnTo>
                  <a:lnTo>
                    <a:pt x="8662" y="2"/>
                  </a:lnTo>
                  <a:lnTo>
                    <a:pt x="8686" y="3"/>
                  </a:lnTo>
                  <a:lnTo>
                    <a:pt x="8708" y="7"/>
                  </a:lnTo>
                  <a:lnTo>
                    <a:pt x="8730" y="9"/>
                  </a:lnTo>
                  <a:lnTo>
                    <a:pt x="8752" y="14"/>
                  </a:lnTo>
                  <a:lnTo>
                    <a:pt x="8772" y="19"/>
                  </a:lnTo>
                  <a:lnTo>
                    <a:pt x="8792" y="24"/>
                  </a:lnTo>
                  <a:lnTo>
                    <a:pt x="8813" y="30"/>
                  </a:lnTo>
                  <a:lnTo>
                    <a:pt x="8833" y="37"/>
                  </a:lnTo>
                  <a:lnTo>
                    <a:pt x="8851" y="44"/>
                  </a:lnTo>
                  <a:lnTo>
                    <a:pt x="8871" y="51"/>
                  </a:lnTo>
                  <a:lnTo>
                    <a:pt x="8888" y="60"/>
                  </a:lnTo>
                  <a:lnTo>
                    <a:pt x="8893" y="62"/>
                  </a:lnTo>
                  <a:lnTo>
                    <a:pt x="8895" y="63"/>
                  </a:lnTo>
                  <a:lnTo>
                    <a:pt x="8895" y="65"/>
                  </a:lnTo>
                  <a:lnTo>
                    <a:pt x="8897" y="66"/>
                  </a:lnTo>
                  <a:lnTo>
                    <a:pt x="8897" y="68"/>
                  </a:lnTo>
                  <a:lnTo>
                    <a:pt x="8897" y="70"/>
                  </a:lnTo>
                  <a:lnTo>
                    <a:pt x="8897" y="72"/>
                  </a:lnTo>
                  <a:lnTo>
                    <a:pt x="8897" y="73"/>
                  </a:lnTo>
                  <a:lnTo>
                    <a:pt x="8895" y="76"/>
                  </a:lnTo>
                  <a:lnTo>
                    <a:pt x="8893" y="77"/>
                  </a:lnTo>
                  <a:lnTo>
                    <a:pt x="8890" y="78"/>
                  </a:lnTo>
                  <a:lnTo>
                    <a:pt x="8888" y="78"/>
                  </a:lnTo>
                  <a:lnTo>
                    <a:pt x="8884" y="79"/>
                  </a:lnTo>
                  <a:lnTo>
                    <a:pt x="8882" y="79"/>
                  </a:lnTo>
                  <a:lnTo>
                    <a:pt x="8879" y="78"/>
                  </a:lnTo>
                  <a:lnTo>
                    <a:pt x="8877" y="78"/>
                  </a:lnTo>
                  <a:lnTo>
                    <a:pt x="8875" y="77"/>
                  </a:lnTo>
                  <a:lnTo>
                    <a:pt x="8875" y="77"/>
                  </a:lnTo>
                  <a:close/>
                  <a:moveTo>
                    <a:pt x="8200" y="19"/>
                  </a:moveTo>
                  <a:lnTo>
                    <a:pt x="7759" y="19"/>
                  </a:lnTo>
                  <a:lnTo>
                    <a:pt x="7755" y="19"/>
                  </a:lnTo>
                  <a:lnTo>
                    <a:pt x="7752" y="19"/>
                  </a:lnTo>
                  <a:lnTo>
                    <a:pt x="7750" y="18"/>
                  </a:lnTo>
                  <a:lnTo>
                    <a:pt x="7748" y="16"/>
                  </a:lnTo>
                  <a:lnTo>
                    <a:pt x="7746" y="15"/>
                  </a:lnTo>
                  <a:lnTo>
                    <a:pt x="7744" y="13"/>
                  </a:lnTo>
                  <a:lnTo>
                    <a:pt x="7744" y="12"/>
                  </a:lnTo>
                  <a:lnTo>
                    <a:pt x="7744" y="9"/>
                  </a:lnTo>
                  <a:lnTo>
                    <a:pt x="7744" y="8"/>
                  </a:lnTo>
                  <a:lnTo>
                    <a:pt x="7744" y="6"/>
                  </a:lnTo>
                  <a:lnTo>
                    <a:pt x="7746" y="4"/>
                  </a:lnTo>
                  <a:lnTo>
                    <a:pt x="7748" y="3"/>
                  </a:lnTo>
                  <a:lnTo>
                    <a:pt x="7750" y="2"/>
                  </a:lnTo>
                  <a:lnTo>
                    <a:pt x="7752" y="1"/>
                  </a:lnTo>
                  <a:lnTo>
                    <a:pt x="7755" y="0"/>
                  </a:lnTo>
                  <a:lnTo>
                    <a:pt x="7759" y="0"/>
                  </a:lnTo>
                  <a:lnTo>
                    <a:pt x="8200" y="0"/>
                  </a:lnTo>
                  <a:lnTo>
                    <a:pt x="8201" y="0"/>
                  </a:lnTo>
                  <a:lnTo>
                    <a:pt x="8205" y="1"/>
                  </a:lnTo>
                  <a:lnTo>
                    <a:pt x="8207" y="2"/>
                  </a:lnTo>
                  <a:lnTo>
                    <a:pt x="8209" y="3"/>
                  </a:lnTo>
                  <a:lnTo>
                    <a:pt x="8211" y="4"/>
                  </a:lnTo>
                  <a:lnTo>
                    <a:pt x="8212" y="6"/>
                  </a:lnTo>
                  <a:lnTo>
                    <a:pt x="8212" y="8"/>
                  </a:lnTo>
                  <a:lnTo>
                    <a:pt x="8214" y="9"/>
                  </a:lnTo>
                  <a:lnTo>
                    <a:pt x="8212" y="12"/>
                  </a:lnTo>
                  <a:lnTo>
                    <a:pt x="8212" y="13"/>
                  </a:lnTo>
                  <a:lnTo>
                    <a:pt x="8211" y="15"/>
                  </a:lnTo>
                  <a:lnTo>
                    <a:pt x="8209" y="16"/>
                  </a:lnTo>
                  <a:lnTo>
                    <a:pt x="8207" y="18"/>
                  </a:lnTo>
                  <a:lnTo>
                    <a:pt x="8205" y="19"/>
                  </a:lnTo>
                  <a:lnTo>
                    <a:pt x="8201" y="19"/>
                  </a:lnTo>
                  <a:lnTo>
                    <a:pt x="8200" y="19"/>
                  </a:lnTo>
                  <a:lnTo>
                    <a:pt x="8200" y="19"/>
                  </a:lnTo>
                  <a:close/>
                  <a:moveTo>
                    <a:pt x="7495" y="19"/>
                  </a:moveTo>
                  <a:lnTo>
                    <a:pt x="7054" y="19"/>
                  </a:lnTo>
                  <a:lnTo>
                    <a:pt x="7050" y="19"/>
                  </a:lnTo>
                  <a:lnTo>
                    <a:pt x="7047" y="19"/>
                  </a:lnTo>
                  <a:lnTo>
                    <a:pt x="7045" y="18"/>
                  </a:lnTo>
                  <a:lnTo>
                    <a:pt x="7043" y="16"/>
                  </a:lnTo>
                  <a:lnTo>
                    <a:pt x="7041" y="15"/>
                  </a:lnTo>
                  <a:lnTo>
                    <a:pt x="7039" y="13"/>
                  </a:lnTo>
                  <a:lnTo>
                    <a:pt x="7039" y="12"/>
                  </a:lnTo>
                  <a:lnTo>
                    <a:pt x="7039" y="9"/>
                  </a:lnTo>
                  <a:lnTo>
                    <a:pt x="7039" y="8"/>
                  </a:lnTo>
                  <a:lnTo>
                    <a:pt x="7039" y="6"/>
                  </a:lnTo>
                  <a:lnTo>
                    <a:pt x="7041" y="4"/>
                  </a:lnTo>
                  <a:lnTo>
                    <a:pt x="7043" y="3"/>
                  </a:lnTo>
                  <a:lnTo>
                    <a:pt x="7045" y="2"/>
                  </a:lnTo>
                  <a:lnTo>
                    <a:pt x="7047" y="1"/>
                  </a:lnTo>
                  <a:lnTo>
                    <a:pt x="7050" y="0"/>
                  </a:lnTo>
                  <a:lnTo>
                    <a:pt x="7054" y="0"/>
                  </a:lnTo>
                  <a:lnTo>
                    <a:pt x="7495" y="0"/>
                  </a:lnTo>
                  <a:lnTo>
                    <a:pt x="7496" y="0"/>
                  </a:lnTo>
                  <a:lnTo>
                    <a:pt x="7500" y="1"/>
                  </a:lnTo>
                  <a:lnTo>
                    <a:pt x="7502" y="2"/>
                  </a:lnTo>
                  <a:lnTo>
                    <a:pt x="7504" y="3"/>
                  </a:lnTo>
                  <a:lnTo>
                    <a:pt x="7506" y="4"/>
                  </a:lnTo>
                  <a:lnTo>
                    <a:pt x="7508" y="6"/>
                  </a:lnTo>
                  <a:lnTo>
                    <a:pt x="7508" y="8"/>
                  </a:lnTo>
                  <a:lnTo>
                    <a:pt x="7509" y="9"/>
                  </a:lnTo>
                  <a:lnTo>
                    <a:pt x="7508" y="12"/>
                  </a:lnTo>
                  <a:lnTo>
                    <a:pt x="7508" y="13"/>
                  </a:lnTo>
                  <a:lnTo>
                    <a:pt x="7506" y="15"/>
                  </a:lnTo>
                  <a:lnTo>
                    <a:pt x="7504" y="16"/>
                  </a:lnTo>
                  <a:lnTo>
                    <a:pt x="7502" y="18"/>
                  </a:lnTo>
                  <a:lnTo>
                    <a:pt x="7500" y="19"/>
                  </a:lnTo>
                  <a:lnTo>
                    <a:pt x="7496" y="19"/>
                  </a:lnTo>
                  <a:lnTo>
                    <a:pt x="7495" y="19"/>
                  </a:lnTo>
                  <a:lnTo>
                    <a:pt x="7495" y="19"/>
                  </a:lnTo>
                  <a:close/>
                  <a:moveTo>
                    <a:pt x="6790" y="19"/>
                  </a:moveTo>
                  <a:lnTo>
                    <a:pt x="6349" y="19"/>
                  </a:lnTo>
                  <a:lnTo>
                    <a:pt x="6346" y="19"/>
                  </a:lnTo>
                  <a:lnTo>
                    <a:pt x="6342" y="19"/>
                  </a:lnTo>
                  <a:lnTo>
                    <a:pt x="6340" y="18"/>
                  </a:lnTo>
                  <a:lnTo>
                    <a:pt x="6338" y="16"/>
                  </a:lnTo>
                  <a:lnTo>
                    <a:pt x="6336" y="15"/>
                  </a:lnTo>
                  <a:lnTo>
                    <a:pt x="6335" y="13"/>
                  </a:lnTo>
                  <a:lnTo>
                    <a:pt x="6335" y="12"/>
                  </a:lnTo>
                  <a:lnTo>
                    <a:pt x="6335" y="9"/>
                  </a:lnTo>
                  <a:lnTo>
                    <a:pt x="6335" y="8"/>
                  </a:lnTo>
                  <a:lnTo>
                    <a:pt x="6335" y="6"/>
                  </a:lnTo>
                  <a:lnTo>
                    <a:pt x="6336" y="4"/>
                  </a:lnTo>
                  <a:lnTo>
                    <a:pt x="6338" y="3"/>
                  </a:lnTo>
                  <a:lnTo>
                    <a:pt x="6340" y="2"/>
                  </a:lnTo>
                  <a:lnTo>
                    <a:pt x="6342" y="1"/>
                  </a:lnTo>
                  <a:lnTo>
                    <a:pt x="6346" y="0"/>
                  </a:lnTo>
                  <a:lnTo>
                    <a:pt x="6349" y="0"/>
                  </a:lnTo>
                  <a:lnTo>
                    <a:pt x="6790" y="0"/>
                  </a:lnTo>
                  <a:lnTo>
                    <a:pt x="6792" y="0"/>
                  </a:lnTo>
                  <a:lnTo>
                    <a:pt x="6795" y="1"/>
                  </a:lnTo>
                  <a:lnTo>
                    <a:pt x="6797" y="2"/>
                  </a:lnTo>
                  <a:lnTo>
                    <a:pt x="6799" y="3"/>
                  </a:lnTo>
                  <a:lnTo>
                    <a:pt x="6801" y="4"/>
                  </a:lnTo>
                  <a:lnTo>
                    <a:pt x="6803" y="6"/>
                  </a:lnTo>
                  <a:lnTo>
                    <a:pt x="6803" y="8"/>
                  </a:lnTo>
                  <a:lnTo>
                    <a:pt x="6804" y="9"/>
                  </a:lnTo>
                  <a:lnTo>
                    <a:pt x="6803" y="12"/>
                  </a:lnTo>
                  <a:lnTo>
                    <a:pt x="6803" y="13"/>
                  </a:lnTo>
                  <a:lnTo>
                    <a:pt x="6801" y="15"/>
                  </a:lnTo>
                  <a:lnTo>
                    <a:pt x="6799" y="16"/>
                  </a:lnTo>
                  <a:lnTo>
                    <a:pt x="6797" y="18"/>
                  </a:lnTo>
                  <a:lnTo>
                    <a:pt x="6795" y="19"/>
                  </a:lnTo>
                  <a:lnTo>
                    <a:pt x="6792" y="19"/>
                  </a:lnTo>
                  <a:lnTo>
                    <a:pt x="6790" y="19"/>
                  </a:lnTo>
                  <a:lnTo>
                    <a:pt x="6790" y="19"/>
                  </a:lnTo>
                  <a:close/>
                  <a:moveTo>
                    <a:pt x="6085" y="19"/>
                  </a:moveTo>
                  <a:lnTo>
                    <a:pt x="5644" y="19"/>
                  </a:lnTo>
                  <a:lnTo>
                    <a:pt x="5641" y="19"/>
                  </a:lnTo>
                  <a:lnTo>
                    <a:pt x="5637" y="19"/>
                  </a:lnTo>
                  <a:lnTo>
                    <a:pt x="5635" y="18"/>
                  </a:lnTo>
                  <a:lnTo>
                    <a:pt x="5633" y="16"/>
                  </a:lnTo>
                  <a:lnTo>
                    <a:pt x="5632" y="15"/>
                  </a:lnTo>
                  <a:lnTo>
                    <a:pt x="5630" y="13"/>
                  </a:lnTo>
                  <a:lnTo>
                    <a:pt x="5630" y="12"/>
                  </a:lnTo>
                  <a:lnTo>
                    <a:pt x="5630" y="9"/>
                  </a:lnTo>
                  <a:lnTo>
                    <a:pt x="5630" y="8"/>
                  </a:lnTo>
                  <a:lnTo>
                    <a:pt x="5630" y="6"/>
                  </a:lnTo>
                  <a:lnTo>
                    <a:pt x="5632" y="4"/>
                  </a:lnTo>
                  <a:lnTo>
                    <a:pt x="5633" y="3"/>
                  </a:lnTo>
                  <a:lnTo>
                    <a:pt x="5635" y="2"/>
                  </a:lnTo>
                  <a:lnTo>
                    <a:pt x="5637" y="1"/>
                  </a:lnTo>
                  <a:lnTo>
                    <a:pt x="5641" y="0"/>
                  </a:lnTo>
                  <a:lnTo>
                    <a:pt x="5644" y="0"/>
                  </a:lnTo>
                  <a:lnTo>
                    <a:pt x="6085" y="0"/>
                  </a:lnTo>
                  <a:lnTo>
                    <a:pt x="6087" y="0"/>
                  </a:lnTo>
                  <a:lnTo>
                    <a:pt x="6090" y="1"/>
                  </a:lnTo>
                  <a:lnTo>
                    <a:pt x="6092" y="2"/>
                  </a:lnTo>
                  <a:lnTo>
                    <a:pt x="6094" y="3"/>
                  </a:lnTo>
                  <a:lnTo>
                    <a:pt x="6096" y="4"/>
                  </a:lnTo>
                  <a:lnTo>
                    <a:pt x="6098" y="6"/>
                  </a:lnTo>
                  <a:lnTo>
                    <a:pt x="6098" y="8"/>
                  </a:lnTo>
                  <a:lnTo>
                    <a:pt x="6100" y="9"/>
                  </a:lnTo>
                  <a:lnTo>
                    <a:pt x="6098" y="12"/>
                  </a:lnTo>
                  <a:lnTo>
                    <a:pt x="6098" y="13"/>
                  </a:lnTo>
                  <a:lnTo>
                    <a:pt x="6096" y="15"/>
                  </a:lnTo>
                  <a:lnTo>
                    <a:pt x="6094" y="16"/>
                  </a:lnTo>
                  <a:lnTo>
                    <a:pt x="6092" y="18"/>
                  </a:lnTo>
                  <a:lnTo>
                    <a:pt x="6090" y="19"/>
                  </a:lnTo>
                  <a:lnTo>
                    <a:pt x="6087" y="19"/>
                  </a:lnTo>
                  <a:lnTo>
                    <a:pt x="6085" y="19"/>
                  </a:lnTo>
                  <a:lnTo>
                    <a:pt x="6085" y="19"/>
                  </a:lnTo>
                  <a:close/>
                  <a:moveTo>
                    <a:pt x="5380" y="19"/>
                  </a:moveTo>
                  <a:lnTo>
                    <a:pt x="4940" y="19"/>
                  </a:lnTo>
                  <a:lnTo>
                    <a:pt x="4936" y="19"/>
                  </a:lnTo>
                  <a:lnTo>
                    <a:pt x="4932" y="19"/>
                  </a:lnTo>
                  <a:lnTo>
                    <a:pt x="4930" y="18"/>
                  </a:lnTo>
                  <a:lnTo>
                    <a:pt x="4929" y="16"/>
                  </a:lnTo>
                  <a:lnTo>
                    <a:pt x="4927" y="15"/>
                  </a:lnTo>
                  <a:lnTo>
                    <a:pt x="4925" y="13"/>
                  </a:lnTo>
                  <a:lnTo>
                    <a:pt x="4925" y="12"/>
                  </a:lnTo>
                  <a:lnTo>
                    <a:pt x="4925" y="9"/>
                  </a:lnTo>
                  <a:lnTo>
                    <a:pt x="4925" y="8"/>
                  </a:lnTo>
                  <a:lnTo>
                    <a:pt x="4925" y="6"/>
                  </a:lnTo>
                  <a:lnTo>
                    <a:pt x="4927" y="4"/>
                  </a:lnTo>
                  <a:lnTo>
                    <a:pt x="4929" y="3"/>
                  </a:lnTo>
                  <a:lnTo>
                    <a:pt x="4930" y="2"/>
                  </a:lnTo>
                  <a:lnTo>
                    <a:pt x="4932" y="1"/>
                  </a:lnTo>
                  <a:lnTo>
                    <a:pt x="4936" y="0"/>
                  </a:lnTo>
                  <a:lnTo>
                    <a:pt x="4940" y="0"/>
                  </a:lnTo>
                  <a:lnTo>
                    <a:pt x="5380" y="0"/>
                  </a:lnTo>
                  <a:lnTo>
                    <a:pt x="5382" y="0"/>
                  </a:lnTo>
                  <a:lnTo>
                    <a:pt x="5386" y="1"/>
                  </a:lnTo>
                  <a:lnTo>
                    <a:pt x="5387" y="2"/>
                  </a:lnTo>
                  <a:lnTo>
                    <a:pt x="5389" y="3"/>
                  </a:lnTo>
                  <a:lnTo>
                    <a:pt x="5391" y="4"/>
                  </a:lnTo>
                  <a:lnTo>
                    <a:pt x="5393" y="6"/>
                  </a:lnTo>
                  <a:lnTo>
                    <a:pt x="5393" y="8"/>
                  </a:lnTo>
                  <a:lnTo>
                    <a:pt x="5395" y="9"/>
                  </a:lnTo>
                  <a:lnTo>
                    <a:pt x="5393" y="12"/>
                  </a:lnTo>
                  <a:lnTo>
                    <a:pt x="5393" y="13"/>
                  </a:lnTo>
                  <a:lnTo>
                    <a:pt x="5391" y="15"/>
                  </a:lnTo>
                  <a:lnTo>
                    <a:pt x="5389" y="16"/>
                  </a:lnTo>
                  <a:lnTo>
                    <a:pt x="5387" y="18"/>
                  </a:lnTo>
                  <a:lnTo>
                    <a:pt x="5386" y="19"/>
                  </a:lnTo>
                  <a:lnTo>
                    <a:pt x="5382" y="19"/>
                  </a:lnTo>
                  <a:lnTo>
                    <a:pt x="5380" y="19"/>
                  </a:lnTo>
                  <a:lnTo>
                    <a:pt x="5380" y="19"/>
                  </a:lnTo>
                  <a:close/>
                  <a:moveTo>
                    <a:pt x="4675" y="19"/>
                  </a:moveTo>
                  <a:lnTo>
                    <a:pt x="4235" y="19"/>
                  </a:lnTo>
                  <a:lnTo>
                    <a:pt x="4231" y="19"/>
                  </a:lnTo>
                  <a:lnTo>
                    <a:pt x="4227" y="19"/>
                  </a:lnTo>
                  <a:lnTo>
                    <a:pt x="4226" y="18"/>
                  </a:lnTo>
                  <a:lnTo>
                    <a:pt x="4224" y="16"/>
                  </a:lnTo>
                  <a:lnTo>
                    <a:pt x="4222" y="15"/>
                  </a:lnTo>
                  <a:lnTo>
                    <a:pt x="4220" y="13"/>
                  </a:lnTo>
                  <a:lnTo>
                    <a:pt x="4220" y="12"/>
                  </a:lnTo>
                  <a:lnTo>
                    <a:pt x="4220" y="9"/>
                  </a:lnTo>
                  <a:lnTo>
                    <a:pt x="4220" y="8"/>
                  </a:lnTo>
                  <a:lnTo>
                    <a:pt x="4220" y="6"/>
                  </a:lnTo>
                  <a:lnTo>
                    <a:pt x="4222" y="4"/>
                  </a:lnTo>
                  <a:lnTo>
                    <a:pt x="4224" y="3"/>
                  </a:lnTo>
                  <a:lnTo>
                    <a:pt x="4226" y="2"/>
                  </a:lnTo>
                  <a:lnTo>
                    <a:pt x="4227" y="1"/>
                  </a:lnTo>
                  <a:lnTo>
                    <a:pt x="4231" y="0"/>
                  </a:lnTo>
                  <a:lnTo>
                    <a:pt x="4235" y="0"/>
                  </a:lnTo>
                  <a:lnTo>
                    <a:pt x="4675" y="0"/>
                  </a:lnTo>
                  <a:lnTo>
                    <a:pt x="4677" y="0"/>
                  </a:lnTo>
                  <a:lnTo>
                    <a:pt x="4681" y="1"/>
                  </a:lnTo>
                  <a:lnTo>
                    <a:pt x="4683" y="2"/>
                  </a:lnTo>
                  <a:lnTo>
                    <a:pt x="4684" y="3"/>
                  </a:lnTo>
                  <a:lnTo>
                    <a:pt x="4686" y="4"/>
                  </a:lnTo>
                  <a:lnTo>
                    <a:pt x="4688" y="6"/>
                  </a:lnTo>
                  <a:lnTo>
                    <a:pt x="4688" y="8"/>
                  </a:lnTo>
                  <a:lnTo>
                    <a:pt x="4690" y="9"/>
                  </a:lnTo>
                  <a:lnTo>
                    <a:pt x="4688" y="12"/>
                  </a:lnTo>
                  <a:lnTo>
                    <a:pt x="4688" y="13"/>
                  </a:lnTo>
                  <a:lnTo>
                    <a:pt x="4686" y="15"/>
                  </a:lnTo>
                  <a:lnTo>
                    <a:pt x="4684" y="16"/>
                  </a:lnTo>
                  <a:lnTo>
                    <a:pt x="4683" y="18"/>
                  </a:lnTo>
                  <a:lnTo>
                    <a:pt x="4681" y="19"/>
                  </a:lnTo>
                  <a:lnTo>
                    <a:pt x="4677" y="19"/>
                  </a:lnTo>
                  <a:lnTo>
                    <a:pt x="4675" y="19"/>
                  </a:lnTo>
                  <a:lnTo>
                    <a:pt x="4675" y="19"/>
                  </a:lnTo>
                  <a:close/>
                  <a:moveTo>
                    <a:pt x="3970" y="19"/>
                  </a:moveTo>
                  <a:lnTo>
                    <a:pt x="3530" y="19"/>
                  </a:lnTo>
                  <a:lnTo>
                    <a:pt x="3526" y="19"/>
                  </a:lnTo>
                  <a:lnTo>
                    <a:pt x="3522" y="19"/>
                  </a:lnTo>
                  <a:lnTo>
                    <a:pt x="3521" y="18"/>
                  </a:lnTo>
                  <a:lnTo>
                    <a:pt x="3519" y="16"/>
                  </a:lnTo>
                  <a:lnTo>
                    <a:pt x="3517" y="15"/>
                  </a:lnTo>
                  <a:lnTo>
                    <a:pt x="3515" y="13"/>
                  </a:lnTo>
                  <a:lnTo>
                    <a:pt x="3515" y="12"/>
                  </a:lnTo>
                  <a:lnTo>
                    <a:pt x="3515" y="9"/>
                  </a:lnTo>
                  <a:lnTo>
                    <a:pt x="3515" y="8"/>
                  </a:lnTo>
                  <a:lnTo>
                    <a:pt x="3515" y="6"/>
                  </a:lnTo>
                  <a:lnTo>
                    <a:pt x="3517" y="4"/>
                  </a:lnTo>
                  <a:lnTo>
                    <a:pt x="3519" y="3"/>
                  </a:lnTo>
                  <a:lnTo>
                    <a:pt x="3521" y="2"/>
                  </a:lnTo>
                  <a:lnTo>
                    <a:pt x="3522" y="1"/>
                  </a:lnTo>
                  <a:lnTo>
                    <a:pt x="3526" y="0"/>
                  </a:lnTo>
                  <a:lnTo>
                    <a:pt x="3530" y="0"/>
                  </a:lnTo>
                  <a:lnTo>
                    <a:pt x="3970" y="0"/>
                  </a:lnTo>
                  <a:lnTo>
                    <a:pt x="3972" y="0"/>
                  </a:lnTo>
                  <a:lnTo>
                    <a:pt x="3976" y="1"/>
                  </a:lnTo>
                  <a:lnTo>
                    <a:pt x="3978" y="2"/>
                  </a:lnTo>
                  <a:lnTo>
                    <a:pt x="3980" y="3"/>
                  </a:lnTo>
                  <a:lnTo>
                    <a:pt x="3981" y="4"/>
                  </a:lnTo>
                  <a:lnTo>
                    <a:pt x="3983" y="6"/>
                  </a:lnTo>
                  <a:lnTo>
                    <a:pt x="3983" y="8"/>
                  </a:lnTo>
                  <a:lnTo>
                    <a:pt x="3985" y="9"/>
                  </a:lnTo>
                  <a:lnTo>
                    <a:pt x="3983" y="12"/>
                  </a:lnTo>
                  <a:lnTo>
                    <a:pt x="3983" y="13"/>
                  </a:lnTo>
                  <a:lnTo>
                    <a:pt x="3981" y="15"/>
                  </a:lnTo>
                  <a:lnTo>
                    <a:pt x="3980" y="16"/>
                  </a:lnTo>
                  <a:lnTo>
                    <a:pt x="3978" y="18"/>
                  </a:lnTo>
                  <a:lnTo>
                    <a:pt x="3976" y="19"/>
                  </a:lnTo>
                  <a:lnTo>
                    <a:pt x="3972" y="19"/>
                  </a:lnTo>
                  <a:lnTo>
                    <a:pt x="3970" y="19"/>
                  </a:lnTo>
                  <a:lnTo>
                    <a:pt x="3970" y="19"/>
                  </a:lnTo>
                  <a:close/>
                  <a:moveTo>
                    <a:pt x="3266" y="19"/>
                  </a:moveTo>
                  <a:lnTo>
                    <a:pt x="2825" y="19"/>
                  </a:lnTo>
                  <a:lnTo>
                    <a:pt x="2821" y="19"/>
                  </a:lnTo>
                  <a:lnTo>
                    <a:pt x="2818" y="19"/>
                  </a:lnTo>
                  <a:lnTo>
                    <a:pt x="2816" y="18"/>
                  </a:lnTo>
                  <a:lnTo>
                    <a:pt x="2814" y="16"/>
                  </a:lnTo>
                  <a:lnTo>
                    <a:pt x="2812" y="15"/>
                  </a:lnTo>
                  <a:lnTo>
                    <a:pt x="2810" y="13"/>
                  </a:lnTo>
                  <a:lnTo>
                    <a:pt x="2810" y="12"/>
                  </a:lnTo>
                  <a:lnTo>
                    <a:pt x="2810" y="9"/>
                  </a:lnTo>
                  <a:lnTo>
                    <a:pt x="2810" y="8"/>
                  </a:lnTo>
                  <a:lnTo>
                    <a:pt x="2810" y="6"/>
                  </a:lnTo>
                  <a:lnTo>
                    <a:pt x="2812" y="4"/>
                  </a:lnTo>
                  <a:lnTo>
                    <a:pt x="2814" y="3"/>
                  </a:lnTo>
                  <a:lnTo>
                    <a:pt x="2816" y="2"/>
                  </a:lnTo>
                  <a:lnTo>
                    <a:pt x="2818" y="1"/>
                  </a:lnTo>
                  <a:lnTo>
                    <a:pt x="2821" y="0"/>
                  </a:lnTo>
                  <a:lnTo>
                    <a:pt x="2825" y="0"/>
                  </a:lnTo>
                  <a:lnTo>
                    <a:pt x="3266" y="0"/>
                  </a:lnTo>
                  <a:lnTo>
                    <a:pt x="3267" y="0"/>
                  </a:lnTo>
                  <a:lnTo>
                    <a:pt x="3271" y="1"/>
                  </a:lnTo>
                  <a:lnTo>
                    <a:pt x="3273" y="2"/>
                  </a:lnTo>
                  <a:lnTo>
                    <a:pt x="3275" y="3"/>
                  </a:lnTo>
                  <a:lnTo>
                    <a:pt x="3277" y="4"/>
                  </a:lnTo>
                  <a:lnTo>
                    <a:pt x="3278" y="6"/>
                  </a:lnTo>
                  <a:lnTo>
                    <a:pt x="3278" y="8"/>
                  </a:lnTo>
                  <a:lnTo>
                    <a:pt x="3280" y="9"/>
                  </a:lnTo>
                  <a:lnTo>
                    <a:pt x="3278" y="12"/>
                  </a:lnTo>
                  <a:lnTo>
                    <a:pt x="3278" y="13"/>
                  </a:lnTo>
                  <a:lnTo>
                    <a:pt x="3277" y="15"/>
                  </a:lnTo>
                  <a:lnTo>
                    <a:pt x="3275" y="16"/>
                  </a:lnTo>
                  <a:lnTo>
                    <a:pt x="3273" y="18"/>
                  </a:lnTo>
                  <a:lnTo>
                    <a:pt x="3271" y="19"/>
                  </a:lnTo>
                  <a:lnTo>
                    <a:pt x="3267" y="19"/>
                  </a:lnTo>
                  <a:lnTo>
                    <a:pt x="3266" y="19"/>
                  </a:lnTo>
                  <a:lnTo>
                    <a:pt x="3266" y="19"/>
                  </a:lnTo>
                  <a:close/>
                  <a:moveTo>
                    <a:pt x="2561" y="19"/>
                  </a:moveTo>
                  <a:lnTo>
                    <a:pt x="2120" y="19"/>
                  </a:lnTo>
                  <a:lnTo>
                    <a:pt x="2116" y="19"/>
                  </a:lnTo>
                  <a:lnTo>
                    <a:pt x="2113" y="19"/>
                  </a:lnTo>
                  <a:lnTo>
                    <a:pt x="2111" y="18"/>
                  </a:lnTo>
                  <a:lnTo>
                    <a:pt x="2109" y="16"/>
                  </a:lnTo>
                  <a:lnTo>
                    <a:pt x="2107" y="15"/>
                  </a:lnTo>
                  <a:lnTo>
                    <a:pt x="2105" y="13"/>
                  </a:lnTo>
                  <a:lnTo>
                    <a:pt x="2105" y="12"/>
                  </a:lnTo>
                  <a:lnTo>
                    <a:pt x="2105" y="9"/>
                  </a:lnTo>
                  <a:lnTo>
                    <a:pt x="2105" y="8"/>
                  </a:lnTo>
                  <a:lnTo>
                    <a:pt x="2105" y="6"/>
                  </a:lnTo>
                  <a:lnTo>
                    <a:pt x="2107" y="4"/>
                  </a:lnTo>
                  <a:lnTo>
                    <a:pt x="2109" y="3"/>
                  </a:lnTo>
                  <a:lnTo>
                    <a:pt x="2111" y="2"/>
                  </a:lnTo>
                  <a:lnTo>
                    <a:pt x="2113" y="1"/>
                  </a:lnTo>
                  <a:lnTo>
                    <a:pt x="2116" y="0"/>
                  </a:lnTo>
                  <a:lnTo>
                    <a:pt x="2120" y="0"/>
                  </a:lnTo>
                  <a:lnTo>
                    <a:pt x="2561" y="0"/>
                  </a:lnTo>
                  <a:lnTo>
                    <a:pt x="2562" y="0"/>
                  </a:lnTo>
                  <a:lnTo>
                    <a:pt x="2566" y="1"/>
                  </a:lnTo>
                  <a:lnTo>
                    <a:pt x="2568" y="2"/>
                  </a:lnTo>
                  <a:lnTo>
                    <a:pt x="2570" y="3"/>
                  </a:lnTo>
                  <a:lnTo>
                    <a:pt x="2572" y="4"/>
                  </a:lnTo>
                  <a:lnTo>
                    <a:pt x="2574" y="6"/>
                  </a:lnTo>
                  <a:lnTo>
                    <a:pt x="2574" y="8"/>
                  </a:lnTo>
                  <a:lnTo>
                    <a:pt x="2575" y="9"/>
                  </a:lnTo>
                  <a:lnTo>
                    <a:pt x="2574" y="12"/>
                  </a:lnTo>
                  <a:lnTo>
                    <a:pt x="2574" y="13"/>
                  </a:lnTo>
                  <a:lnTo>
                    <a:pt x="2572" y="15"/>
                  </a:lnTo>
                  <a:lnTo>
                    <a:pt x="2570" y="16"/>
                  </a:lnTo>
                  <a:lnTo>
                    <a:pt x="2568" y="18"/>
                  </a:lnTo>
                  <a:lnTo>
                    <a:pt x="2566" y="19"/>
                  </a:lnTo>
                  <a:lnTo>
                    <a:pt x="2562" y="19"/>
                  </a:lnTo>
                  <a:lnTo>
                    <a:pt x="2561" y="19"/>
                  </a:lnTo>
                  <a:lnTo>
                    <a:pt x="2561" y="19"/>
                  </a:lnTo>
                  <a:close/>
                  <a:moveTo>
                    <a:pt x="1856" y="19"/>
                  </a:moveTo>
                  <a:lnTo>
                    <a:pt x="1415" y="19"/>
                  </a:lnTo>
                  <a:lnTo>
                    <a:pt x="1412" y="19"/>
                  </a:lnTo>
                  <a:lnTo>
                    <a:pt x="1408" y="19"/>
                  </a:lnTo>
                  <a:lnTo>
                    <a:pt x="1406" y="18"/>
                  </a:lnTo>
                  <a:lnTo>
                    <a:pt x="1404" y="16"/>
                  </a:lnTo>
                  <a:lnTo>
                    <a:pt x="1402" y="15"/>
                  </a:lnTo>
                  <a:lnTo>
                    <a:pt x="1401" y="13"/>
                  </a:lnTo>
                  <a:lnTo>
                    <a:pt x="1401" y="12"/>
                  </a:lnTo>
                  <a:lnTo>
                    <a:pt x="1401" y="9"/>
                  </a:lnTo>
                  <a:lnTo>
                    <a:pt x="1401" y="8"/>
                  </a:lnTo>
                  <a:lnTo>
                    <a:pt x="1401" y="6"/>
                  </a:lnTo>
                  <a:lnTo>
                    <a:pt x="1402" y="4"/>
                  </a:lnTo>
                  <a:lnTo>
                    <a:pt x="1404" y="3"/>
                  </a:lnTo>
                  <a:lnTo>
                    <a:pt x="1406" y="2"/>
                  </a:lnTo>
                  <a:lnTo>
                    <a:pt x="1408" y="1"/>
                  </a:lnTo>
                  <a:lnTo>
                    <a:pt x="1412" y="0"/>
                  </a:lnTo>
                  <a:lnTo>
                    <a:pt x="1415" y="0"/>
                  </a:lnTo>
                  <a:lnTo>
                    <a:pt x="1856" y="0"/>
                  </a:lnTo>
                  <a:lnTo>
                    <a:pt x="1858" y="0"/>
                  </a:lnTo>
                  <a:lnTo>
                    <a:pt x="1861" y="1"/>
                  </a:lnTo>
                  <a:lnTo>
                    <a:pt x="1863" y="2"/>
                  </a:lnTo>
                  <a:lnTo>
                    <a:pt x="1865" y="3"/>
                  </a:lnTo>
                  <a:lnTo>
                    <a:pt x="1867" y="4"/>
                  </a:lnTo>
                  <a:lnTo>
                    <a:pt x="1869" y="6"/>
                  </a:lnTo>
                  <a:lnTo>
                    <a:pt x="1869" y="8"/>
                  </a:lnTo>
                  <a:lnTo>
                    <a:pt x="1870" y="9"/>
                  </a:lnTo>
                  <a:lnTo>
                    <a:pt x="1869" y="12"/>
                  </a:lnTo>
                  <a:lnTo>
                    <a:pt x="1869" y="13"/>
                  </a:lnTo>
                  <a:lnTo>
                    <a:pt x="1867" y="15"/>
                  </a:lnTo>
                  <a:lnTo>
                    <a:pt x="1865" y="16"/>
                  </a:lnTo>
                  <a:lnTo>
                    <a:pt x="1863" y="18"/>
                  </a:lnTo>
                  <a:lnTo>
                    <a:pt x="1861" y="19"/>
                  </a:lnTo>
                  <a:lnTo>
                    <a:pt x="1858" y="19"/>
                  </a:lnTo>
                  <a:lnTo>
                    <a:pt x="1856" y="19"/>
                  </a:lnTo>
                  <a:lnTo>
                    <a:pt x="1856" y="19"/>
                  </a:lnTo>
                  <a:close/>
                  <a:moveTo>
                    <a:pt x="1151" y="19"/>
                  </a:moveTo>
                  <a:lnTo>
                    <a:pt x="710" y="19"/>
                  </a:lnTo>
                  <a:lnTo>
                    <a:pt x="707" y="19"/>
                  </a:lnTo>
                  <a:lnTo>
                    <a:pt x="703" y="19"/>
                  </a:lnTo>
                  <a:lnTo>
                    <a:pt x="701" y="18"/>
                  </a:lnTo>
                  <a:lnTo>
                    <a:pt x="699" y="16"/>
                  </a:lnTo>
                  <a:lnTo>
                    <a:pt x="698" y="15"/>
                  </a:lnTo>
                  <a:lnTo>
                    <a:pt x="696" y="13"/>
                  </a:lnTo>
                  <a:lnTo>
                    <a:pt x="696" y="12"/>
                  </a:lnTo>
                  <a:lnTo>
                    <a:pt x="696" y="9"/>
                  </a:lnTo>
                  <a:lnTo>
                    <a:pt x="696" y="8"/>
                  </a:lnTo>
                  <a:lnTo>
                    <a:pt x="696" y="6"/>
                  </a:lnTo>
                  <a:lnTo>
                    <a:pt x="698" y="4"/>
                  </a:lnTo>
                  <a:lnTo>
                    <a:pt x="699" y="3"/>
                  </a:lnTo>
                  <a:lnTo>
                    <a:pt x="701" y="2"/>
                  </a:lnTo>
                  <a:lnTo>
                    <a:pt x="703" y="1"/>
                  </a:lnTo>
                  <a:lnTo>
                    <a:pt x="707" y="0"/>
                  </a:lnTo>
                  <a:lnTo>
                    <a:pt x="710" y="0"/>
                  </a:lnTo>
                  <a:lnTo>
                    <a:pt x="1151" y="0"/>
                  </a:lnTo>
                  <a:lnTo>
                    <a:pt x="1153" y="0"/>
                  </a:lnTo>
                  <a:lnTo>
                    <a:pt x="1156" y="1"/>
                  </a:lnTo>
                  <a:lnTo>
                    <a:pt x="1158" y="2"/>
                  </a:lnTo>
                  <a:lnTo>
                    <a:pt x="1160" y="3"/>
                  </a:lnTo>
                  <a:lnTo>
                    <a:pt x="1162" y="4"/>
                  </a:lnTo>
                  <a:lnTo>
                    <a:pt x="1164" y="6"/>
                  </a:lnTo>
                  <a:lnTo>
                    <a:pt x="1164" y="8"/>
                  </a:lnTo>
                  <a:lnTo>
                    <a:pt x="1166" y="9"/>
                  </a:lnTo>
                  <a:lnTo>
                    <a:pt x="1164" y="12"/>
                  </a:lnTo>
                  <a:lnTo>
                    <a:pt x="1164" y="13"/>
                  </a:lnTo>
                  <a:lnTo>
                    <a:pt x="1162" y="15"/>
                  </a:lnTo>
                  <a:lnTo>
                    <a:pt x="1160" y="16"/>
                  </a:lnTo>
                  <a:lnTo>
                    <a:pt x="1158" y="18"/>
                  </a:lnTo>
                  <a:lnTo>
                    <a:pt x="1156" y="19"/>
                  </a:lnTo>
                  <a:lnTo>
                    <a:pt x="1153" y="19"/>
                  </a:lnTo>
                  <a:lnTo>
                    <a:pt x="1151" y="19"/>
                  </a:lnTo>
                  <a:lnTo>
                    <a:pt x="1151" y="19"/>
                  </a:lnTo>
                  <a:close/>
                  <a:moveTo>
                    <a:pt x="446" y="20"/>
                  </a:moveTo>
                  <a:lnTo>
                    <a:pt x="433" y="20"/>
                  </a:lnTo>
                  <a:lnTo>
                    <a:pt x="411" y="21"/>
                  </a:lnTo>
                  <a:lnTo>
                    <a:pt x="391" y="23"/>
                  </a:lnTo>
                  <a:lnTo>
                    <a:pt x="369" y="25"/>
                  </a:lnTo>
                  <a:lnTo>
                    <a:pt x="349" y="29"/>
                  </a:lnTo>
                  <a:lnTo>
                    <a:pt x="329" y="32"/>
                  </a:lnTo>
                  <a:lnTo>
                    <a:pt x="308" y="37"/>
                  </a:lnTo>
                  <a:lnTo>
                    <a:pt x="290" y="42"/>
                  </a:lnTo>
                  <a:lnTo>
                    <a:pt x="270" y="47"/>
                  </a:lnTo>
                  <a:lnTo>
                    <a:pt x="252" y="54"/>
                  </a:lnTo>
                  <a:lnTo>
                    <a:pt x="235" y="60"/>
                  </a:lnTo>
                  <a:lnTo>
                    <a:pt x="217" y="67"/>
                  </a:lnTo>
                  <a:lnTo>
                    <a:pt x="200" y="76"/>
                  </a:lnTo>
                  <a:lnTo>
                    <a:pt x="184" y="84"/>
                  </a:lnTo>
                  <a:lnTo>
                    <a:pt x="169" y="92"/>
                  </a:lnTo>
                  <a:lnTo>
                    <a:pt x="154" y="102"/>
                  </a:lnTo>
                  <a:lnTo>
                    <a:pt x="140" y="112"/>
                  </a:lnTo>
                  <a:lnTo>
                    <a:pt x="127" y="121"/>
                  </a:lnTo>
                  <a:lnTo>
                    <a:pt x="114" y="132"/>
                  </a:lnTo>
                  <a:lnTo>
                    <a:pt x="103" y="143"/>
                  </a:lnTo>
                  <a:lnTo>
                    <a:pt x="92" y="154"/>
                  </a:lnTo>
                  <a:lnTo>
                    <a:pt x="90" y="155"/>
                  </a:lnTo>
                  <a:lnTo>
                    <a:pt x="88" y="156"/>
                  </a:lnTo>
                  <a:lnTo>
                    <a:pt x="84" y="158"/>
                  </a:lnTo>
                  <a:lnTo>
                    <a:pt x="83" y="158"/>
                  </a:lnTo>
                  <a:lnTo>
                    <a:pt x="79" y="158"/>
                  </a:lnTo>
                  <a:lnTo>
                    <a:pt x="77" y="158"/>
                  </a:lnTo>
                  <a:lnTo>
                    <a:pt x="73" y="158"/>
                  </a:lnTo>
                  <a:lnTo>
                    <a:pt x="72" y="156"/>
                  </a:lnTo>
                  <a:lnTo>
                    <a:pt x="68" y="155"/>
                  </a:lnTo>
                  <a:lnTo>
                    <a:pt x="66" y="154"/>
                  </a:lnTo>
                  <a:lnTo>
                    <a:pt x="66" y="153"/>
                  </a:lnTo>
                  <a:lnTo>
                    <a:pt x="64" y="150"/>
                  </a:lnTo>
                  <a:lnTo>
                    <a:pt x="64" y="149"/>
                  </a:lnTo>
                  <a:lnTo>
                    <a:pt x="64" y="147"/>
                  </a:lnTo>
                  <a:lnTo>
                    <a:pt x="66" y="145"/>
                  </a:lnTo>
                  <a:lnTo>
                    <a:pt x="66" y="143"/>
                  </a:lnTo>
                  <a:lnTo>
                    <a:pt x="79" y="132"/>
                  </a:lnTo>
                  <a:lnTo>
                    <a:pt x="92" y="120"/>
                  </a:lnTo>
                  <a:lnTo>
                    <a:pt x="105" y="109"/>
                  </a:lnTo>
                  <a:lnTo>
                    <a:pt x="119" y="98"/>
                  </a:lnTo>
                  <a:lnTo>
                    <a:pt x="134" y="88"/>
                  </a:lnTo>
                  <a:lnTo>
                    <a:pt x="151" y="78"/>
                  </a:lnTo>
                  <a:lnTo>
                    <a:pt x="167" y="68"/>
                  </a:lnTo>
                  <a:lnTo>
                    <a:pt x="184" y="60"/>
                  </a:lnTo>
                  <a:lnTo>
                    <a:pt x="202" y="51"/>
                  </a:lnTo>
                  <a:lnTo>
                    <a:pt x="220" y="43"/>
                  </a:lnTo>
                  <a:lnTo>
                    <a:pt x="239" y="36"/>
                  </a:lnTo>
                  <a:lnTo>
                    <a:pt x="259" y="30"/>
                  </a:lnTo>
                  <a:lnTo>
                    <a:pt x="279" y="24"/>
                  </a:lnTo>
                  <a:lnTo>
                    <a:pt x="299" y="18"/>
                  </a:lnTo>
                  <a:lnTo>
                    <a:pt x="321" y="14"/>
                  </a:lnTo>
                  <a:lnTo>
                    <a:pt x="341" y="9"/>
                  </a:lnTo>
                  <a:lnTo>
                    <a:pt x="363" y="6"/>
                  </a:lnTo>
                  <a:lnTo>
                    <a:pt x="387" y="3"/>
                  </a:lnTo>
                  <a:lnTo>
                    <a:pt x="409" y="2"/>
                  </a:lnTo>
                  <a:lnTo>
                    <a:pt x="433" y="1"/>
                  </a:lnTo>
                  <a:lnTo>
                    <a:pt x="444" y="1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3" y="2"/>
                  </a:lnTo>
                  <a:lnTo>
                    <a:pt x="455" y="3"/>
                  </a:lnTo>
                  <a:lnTo>
                    <a:pt x="457" y="4"/>
                  </a:lnTo>
                  <a:lnTo>
                    <a:pt x="459" y="6"/>
                  </a:lnTo>
                  <a:lnTo>
                    <a:pt x="459" y="8"/>
                  </a:lnTo>
                  <a:lnTo>
                    <a:pt x="459" y="9"/>
                  </a:lnTo>
                  <a:lnTo>
                    <a:pt x="459" y="12"/>
                  </a:lnTo>
                  <a:lnTo>
                    <a:pt x="459" y="13"/>
                  </a:lnTo>
                  <a:lnTo>
                    <a:pt x="457" y="15"/>
                  </a:lnTo>
                  <a:lnTo>
                    <a:pt x="455" y="16"/>
                  </a:lnTo>
                  <a:lnTo>
                    <a:pt x="453" y="18"/>
                  </a:lnTo>
                  <a:lnTo>
                    <a:pt x="452" y="19"/>
                  </a:lnTo>
                  <a:lnTo>
                    <a:pt x="448" y="19"/>
                  </a:lnTo>
                  <a:lnTo>
                    <a:pt x="446" y="20"/>
                  </a:lnTo>
                  <a:lnTo>
                    <a:pt x="446" y="20"/>
                  </a:lnTo>
                  <a:close/>
                  <a:moveTo>
                    <a:pt x="29" y="314"/>
                  </a:moveTo>
                  <a:lnTo>
                    <a:pt x="29" y="603"/>
                  </a:lnTo>
                  <a:lnTo>
                    <a:pt x="29" y="606"/>
                  </a:lnTo>
                  <a:lnTo>
                    <a:pt x="28" y="607"/>
                  </a:lnTo>
                  <a:lnTo>
                    <a:pt x="28" y="609"/>
                  </a:lnTo>
                  <a:lnTo>
                    <a:pt x="26" y="611"/>
                  </a:lnTo>
                  <a:lnTo>
                    <a:pt x="24" y="612"/>
                  </a:lnTo>
                  <a:lnTo>
                    <a:pt x="20" y="612"/>
                  </a:lnTo>
                  <a:lnTo>
                    <a:pt x="18" y="613"/>
                  </a:lnTo>
                  <a:lnTo>
                    <a:pt x="15" y="613"/>
                  </a:lnTo>
                  <a:lnTo>
                    <a:pt x="11" y="613"/>
                  </a:lnTo>
                  <a:lnTo>
                    <a:pt x="9" y="612"/>
                  </a:lnTo>
                  <a:lnTo>
                    <a:pt x="7" y="612"/>
                  </a:lnTo>
                  <a:lnTo>
                    <a:pt x="4" y="611"/>
                  </a:lnTo>
                  <a:lnTo>
                    <a:pt x="2" y="609"/>
                  </a:lnTo>
                  <a:lnTo>
                    <a:pt x="2" y="607"/>
                  </a:lnTo>
                  <a:lnTo>
                    <a:pt x="0" y="606"/>
                  </a:lnTo>
                  <a:lnTo>
                    <a:pt x="0" y="603"/>
                  </a:lnTo>
                  <a:lnTo>
                    <a:pt x="0" y="314"/>
                  </a:lnTo>
                  <a:lnTo>
                    <a:pt x="0" y="312"/>
                  </a:lnTo>
                  <a:lnTo>
                    <a:pt x="2" y="311"/>
                  </a:lnTo>
                  <a:lnTo>
                    <a:pt x="2" y="309"/>
                  </a:lnTo>
                  <a:lnTo>
                    <a:pt x="4" y="307"/>
                  </a:lnTo>
                  <a:lnTo>
                    <a:pt x="7" y="306"/>
                  </a:lnTo>
                  <a:lnTo>
                    <a:pt x="9" y="306"/>
                  </a:lnTo>
                  <a:lnTo>
                    <a:pt x="11" y="305"/>
                  </a:lnTo>
                  <a:lnTo>
                    <a:pt x="15" y="305"/>
                  </a:lnTo>
                  <a:lnTo>
                    <a:pt x="18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6" y="307"/>
                  </a:lnTo>
                  <a:lnTo>
                    <a:pt x="28" y="309"/>
                  </a:lnTo>
                  <a:lnTo>
                    <a:pt x="28" y="311"/>
                  </a:lnTo>
                  <a:lnTo>
                    <a:pt x="29" y="312"/>
                  </a:lnTo>
                  <a:lnTo>
                    <a:pt x="29" y="314"/>
                  </a:lnTo>
                  <a:lnTo>
                    <a:pt x="29" y="314"/>
                  </a:lnTo>
                  <a:close/>
                  <a:moveTo>
                    <a:pt x="29" y="777"/>
                  </a:moveTo>
                  <a:lnTo>
                    <a:pt x="29" y="1066"/>
                  </a:lnTo>
                  <a:lnTo>
                    <a:pt x="29" y="1069"/>
                  </a:lnTo>
                  <a:lnTo>
                    <a:pt x="28" y="1070"/>
                  </a:lnTo>
                  <a:lnTo>
                    <a:pt x="28" y="1072"/>
                  </a:lnTo>
                  <a:lnTo>
                    <a:pt x="26" y="1073"/>
                  </a:lnTo>
                  <a:lnTo>
                    <a:pt x="24" y="1075"/>
                  </a:lnTo>
                  <a:lnTo>
                    <a:pt x="20" y="1075"/>
                  </a:lnTo>
                  <a:lnTo>
                    <a:pt x="18" y="1076"/>
                  </a:lnTo>
                  <a:lnTo>
                    <a:pt x="15" y="1076"/>
                  </a:lnTo>
                  <a:lnTo>
                    <a:pt x="11" y="1076"/>
                  </a:lnTo>
                  <a:lnTo>
                    <a:pt x="9" y="1075"/>
                  </a:lnTo>
                  <a:lnTo>
                    <a:pt x="7" y="1075"/>
                  </a:lnTo>
                  <a:lnTo>
                    <a:pt x="4" y="1073"/>
                  </a:lnTo>
                  <a:lnTo>
                    <a:pt x="2" y="1072"/>
                  </a:lnTo>
                  <a:lnTo>
                    <a:pt x="2" y="1070"/>
                  </a:lnTo>
                  <a:lnTo>
                    <a:pt x="0" y="1069"/>
                  </a:lnTo>
                  <a:lnTo>
                    <a:pt x="0" y="1066"/>
                  </a:lnTo>
                  <a:lnTo>
                    <a:pt x="0" y="777"/>
                  </a:lnTo>
                  <a:lnTo>
                    <a:pt x="0" y="775"/>
                  </a:lnTo>
                  <a:lnTo>
                    <a:pt x="2" y="773"/>
                  </a:lnTo>
                  <a:lnTo>
                    <a:pt x="2" y="772"/>
                  </a:lnTo>
                  <a:lnTo>
                    <a:pt x="4" y="770"/>
                  </a:lnTo>
                  <a:lnTo>
                    <a:pt x="7" y="769"/>
                  </a:lnTo>
                  <a:lnTo>
                    <a:pt x="9" y="769"/>
                  </a:lnTo>
                  <a:lnTo>
                    <a:pt x="11" y="767"/>
                  </a:lnTo>
                  <a:lnTo>
                    <a:pt x="15" y="767"/>
                  </a:lnTo>
                  <a:lnTo>
                    <a:pt x="18" y="767"/>
                  </a:lnTo>
                  <a:lnTo>
                    <a:pt x="20" y="769"/>
                  </a:lnTo>
                  <a:lnTo>
                    <a:pt x="24" y="769"/>
                  </a:lnTo>
                  <a:lnTo>
                    <a:pt x="26" y="770"/>
                  </a:lnTo>
                  <a:lnTo>
                    <a:pt x="28" y="772"/>
                  </a:lnTo>
                  <a:lnTo>
                    <a:pt x="28" y="773"/>
                  </a:lnTo>
                  <a:lnTo>
                    <a:pt x="29" y="775"/>
                  </a:lnTo>
                  <a:lnTo>
                    <a:pt x="29" y="777"/>
                  </a:lnTo>
                  <a:lnTo>
                    <a:pt x="29" y="777"/>
                  </a:lnTo>
                  <a:close/>
                  <a:moveTo>
                    <a:pt x="29" y="1240"/>
                  </a:moveTo>
                  <a:lnTo>
                    <a:pt x="29" y="1529"/>
                  </a:lnTo>
                  <a:lnTo>
                    <a:pt x="29" y="1531"/>
                  </a:lnTo>
                  <a:lnTo>
                    <a:pt x="28" y="1533"/>
                  </a:lnTo>
                  <a:lnTo>
                    <a:pt x="28" y="1535"/>
                  </a:lnTo>
                  <a:lnTo>
                    <a:pt x="26" y="1536"/>
                  </a:lnTo>
                  <a:lnTo>
                    <a:pt x="24" y="1537"/>
                  </a:lnTo>
                  <a:lnTo>
                    <a:pt x="20" y="1537"/>
                  </a:lnTo>
                  <a:lnTo>
                    <a:pt x="18" y="1539"/>
                  </a:lnTo>
                  <a:lnTo>
                    <a:pt x="15" y="1539"/>
                  </a:lnTo>
                  <a:lnTo>
                    <a:pt x="11" y="1539"/>
                  </a:lnTo>
                  <a:lnTo>
                    <a:pt x="9" y="1537"/>
                  </a:lnTo>
                  <a:lnTo>
                    <a:pt x="7" y="1537"/>
                  </a:lnTo>
                  <a:lnTo>
                    <a:pt x="4" y="1536"/>
                  </a:lnTo>
                  <a:lnTo>
                    <a:pt x="2" y="1535"/>
                  </a:lnTo>
                  <a:lnTo>
                    <a:pt x="2" y="1533"/>
                  </a:lnTo>
                  <a:lnTo>
                    <a:pt x="0" y="1531"/>
                  </a:lnTo>
                  <a:lnTo>
                    <a:pt x="0" y="1529"/>
                  </a:lnTo>
                  <a:lnTo>
                    <a:pt x="0" y="1240"/>
                  </a:lnTo>
                  <a:lnTo>
                    <a:pt x="0" y="1237"/>
                  </a:lnTo>
                  <a:lnTo>
                    <a:pt x="2" y="1236"/>
                  </a:lnTo>
                  <a:lnTo>
                    <a:pt x="2" y="1235"/>
                  </a:lnTo>
                  <a:lnTo>
                    <a:pt x="4" y="1233"/>
                  </a:lnTo>
                  <a:lnTo>
                    <a:pt x="7" y="1231"/>
                  </a:lnTo>
                  <a:lnTo>
                    <a:pt x="9" y="1231"/>
                  </a:lnTo>
                  <a:lnTo>
                    <a:pt x="11" y="1230"/>
                  </a:lnTo>
                  <a:lnTo>
                    <a:pt x="15" y="1230"/>
                  </a:lnTo>
                  <a:lnTo>
                    <a:pt x="18" y="1230"/>
                  </a:lnTo>
                  <a:lnTo>
                    <a:pt x="20" y="1231"/>
                  </a:lnTo>
                  <a:lnTo>
                    <a:pt x="24" y="1231"/>
                  </a:lnTo>
                  <a:lnTo>
                    <a:pt x="26" y="1233"/>
                  </a:lnTo>
                  <a:lnTo>
                    <a:pt x="28" y="1235"/>
                  </a:lnTo>
                  <a:lnTo>
                    <a:pt x="28" y="1236"/>
                  </a:lnTo>
                  <a:lnTo>
                    <a:pt x="29" y="1237"/>
                  </a:lnTo>
                  <a:lnTo>
                    <a:pt x="29" y="1240"/>
                  </a:lnTo>
                  <a:lnTo>
                    <a:pt x="29" y="1240"/>
                  </a:lnTo>
                  <a:close/>
                  <a:moveTo>
                    <a:pt x="29" y="1703"/>
                  </a:moveTo>
                  <a:lnTo>
                    <a:pt x="29" y="1992"/>
                  </a:lnTo>
                  <a:lnTo>
                    <a:pt x="29" y="1994"/>
                  </a:lnTo>
                  <a:lnTo>
                    <a:pt x="28" y="1995"/>
                  </a:lnTo>
                  <a:lnTo>
                    <a:pt x="28" y="1998"/>
                  </a:lnTo>
                  <a:lnTo>
                    <a:pt x="26" y="1999"/>
                  </a:lnTo>
                  <a:lnTo>
                    <a:pt x="24" y="2000"/>
                  </a:lnTo>
                  <a:lnTo>
                    <a:pt x="20" y="2000"/>
                  </a:lnTo>
                  <a:lnTo>
                    <a:pt x="18" y="2001"/>
                  </a:lnTo>
                  <a:lnTo>
                    <a:pt x="15" y="2001"/>
                  </a:lnTo>
                  <a:lnTo>
                    <a:pt x="11" y="2001"/>
                  </a:lnTo>
                  <a:lnTo>
                    <a:pt x="9" y="2000"/>
                  </a:lnTo>
                  <a:lnTo>
                    <a:pt x="7" y="2000"/>
                  </a:lnTo>
                  <a:lnTo>
                    <a:pt x="4" y="1999"/>
                  </a:lnTo>
                  <a:lnTo>
                    <a:pt x="2" y="1998"/>
                  </a:lnTo>
                  <a:lnTo>
                    <a:pt x="2" y="1995"/>
                  </a:lnTo>
                  <a:lnTo>
                    <a:pt x="0" y="1994"/>
                  </a:lnTo>
                  <a:lnTo>
                    <a:pt x="0" y="1992"/>
                  </a:lnTo>
                  <a:lnTo>
                    <a:pt x="0" y="1703"/>
                  </a:lnTo>
                  <a:lnTo>
                    <a:pt x="0" y="1700"/>
                  </a:lnTo>
                  <a:lnTo>
                    <a:pt x="2" y="1699"/>
                  </a:lnTo>
                  <a:lnTo>
                    <a:pt x="2" y="1698"/>
                  </a:lnTo>
                  <a:lnTo>
                    <a:pt x="4" y="1695"/>
                  </a:lnTo>
                  <a:lnTo>
                    <a:pt x="7" y="1694"/>
                  </a:lnTo>
                  <a:lnTo>
                    <a:pt x="9" y="1694"/>
                  </a:lnTo>
                  <a:lnTo>
                    <a:pt x="11" y="1693"/>
                  </a:lnTo>
                  <a:lnTo>
                    <a:pt x="15" y="1693"/>
                  </a:lnTo>
                  <a:lnTo>
                    <a:pt x="18" y="1693"/>
                  </a:lnTo>
                  <a:lnTo>
                    <a:pt x="20" y="1694"/>
                  </a:lnTo>
                  <a:lnTo>
                    <a:pt x="24" y="1694"/>
                  </a:lnTo>
                  <a:lnTo>
                    <a:pt x="26" y="1695"/>
                  </a:lnTo>
                  <a:lnTo>
                    <a:pt x="28" y="1698"/>
                  </a:lnTo>
                  <a:lnTo>
                    <a:pt x="28" y="1699"/>
                  </a:lnTo>
                  <a:lnTo>
                    <a:pt x="29" y="1700"/>
                  </a:lnTo>
                  <a:lnTo>
                    <a:pt x="29" y="1703"/>
                  </a:lnTo>
                  <a:lnTo>
                    <a:pt x="29" y="1703"/>
                  </a:lnTo>
                  <a:close/>
                  <a:moveTo>
                    <a:pt x="29" y="2165"/>
                  </a:moveTo>
                  <a:lnTo>
                    <a:pt x="29" y="2455"/>
                  </a:lnTo>
                  <a:lnTo>
                    <a:pt x="29" y="2457"/>
                  </a:lnTo>
                  <a:lnTo>
                    <a:pt x="28" y="2458"/>
                  </a:lnTo>
                  <a:lnTo>
                    <a:pt x="28" y="2461"/>
                  </a:lnTo>
                  <a:lnTo>
                    <a:pt x="26" y="2462"/>
                  </a:lnTo>
                  <a:lnTo>
                    <a:pt x="24" y="2463"/>
                  </a:lnTo>
                  <a:lnTo>
                    <a:pt x="20" y="2463"/>
                  </a:lnTo>
                  <a:lnTo>
                    <a:pt x="18" y="2464"/>
                  </a:lnTo>
                  <a:lnTo>
                    <a:pt x="15" y="2464"/>
                  </a:lnTo>
                  <a:lnTo>
                    <a:pt x="11" y="2464"/>
                  </a:lnTo>
                  <a:lnTo>
                    <a:pt x="9" y="2463"/>
                  </a:lnTo>
                  <a:lnTo>
                    <a:pt x="7" y="2463"/>
                  </a:lnTo>
                  <a:lnTo>
                    <a:pt x="4" y="2462"/>
                  </a:lnTo>
                  <a:lnTo>
                    <a:pt x="2" y="2461"/>
                  </a:lnTo>
                  <a:lnTo>
                    <a:pt x="2" y="2458"/>
                  </a:lnTo>
                  <a:lnTo>
                    <a:pt x="0" y="2457"/>
                  </a:lnTo>
                  <a:lnTo>
                    <a:pt x="0" y="2455"/>
                  </a:lnTo>
                  <a:lnTo>
                    <a:pt x="0" y="2165"/>
                  </a:lnTo>
                  <a:lnTo>
                    <a:pt x="0" y="2163"/>
                  </a:lnTo>
                  <a:lnTo>
                    <a:pt x="2" y="2162"/>
                  </a:lnTo>
                  <a:lnTo>
                    <a:pt x="2" y="2161"/>
                  </a:lnTo>
                  <a:lnTo>
                    <a:pt x="4" y="2158"/>
                  </a:lnTo>
                  <a:lnTo>
                    <a:pt x="7" y="2157"/>
                  </a:lnTo>
                  <a:lnTo>
                    <a:pt x="9" y="2157"/>
                  </a:lnTo>
                  <a:lnTo>
                    <a:pt x="11" y="2156"/>
                  </a:lnTo>
                  <a:lnTo>
                    <a:pt x="15" y="2156"/>
                  </a:lnTo>
                  <a:lnTo>
                    <a:pt x="18" y="2156"/>
                  </a:lnTo>
                  <a:lnTo>
                    <a:pt x="20" y="2157"/>
                  </a:lnTo>
                  <a:lnTo>
                    <a:pt x="24" y="2157"/>
                  </a:lnTo>
                  <a:lnTo>
                    <a:pt x="26" y="2158"/>
                  </a:lnTo>
                  <a:lnTo>
                    <a:pt x="28" y="2161"/>
                  </a:lnTo>
                  <a:lnTo>
                    <a:pt x="28" y="2162"/>
                  </a:lnTo>
                  <a:lnTo>
                    <a:pt x="29" y="2163"/>
                  </a:lnTo>
                  <a:lnTo>
                    <a:pt x="29" y="2165"/>
                  </a:lnTo>
                  <a:lnTo>
                    <a:pt x="29" y="2165"/>
                  </a:lnTo>
                  <a:close/>
                  <a:moveTo>
                    <a:pt x="42" y="2626"/>
                  </a:moveTo>
                  <a:lnTo>
                    <a:pt x="42" y="2626"/>
                  </a:lnTo>
                  <a:lnTo>
                    <a:pt x="50" y="2639"/>
                  </a:lnTo>
                  <a:lnTo>
                    <a:pt x="55" y="2652"/>
                  </a:lnTo>
                  <a:lnTo>
                    <a:pt x="62" y="2666"/>
                  </a:lnTo>
                  <a:lnTo>
                    <a:pt x="72" y="2678"/>
                  </a:lnTo>
                  <a:lnTo>
                    <a:pt x="81" y="2690"/>
                  </a:lnTo>
                  <a:lnTo>
                    <a:pt x="92" y="2702"/>
                  </a:lnTo>
                  <a:lnTo>
                    <a:pt x="103" y="2713"/>
                  </a:lnTo>
                  <a:lnTo>
                    <a:pt x="114" y="2723"/>
                  </a:lnTo>
                  <a:lnTo>
                    <a:pt x="127" y="2734"/>
                  </a:lnTo>
                  <a:lnTo>
                    <a:pt x="141" y="2744"/>
                  </a:lnTo>
                  <a:lnTo>
                    <a:pt x="154" y="2753"/>
                  </a:lnTo>
                  <a:lnTo>
                    <a:pt x="169" y="2763"/>
                  </a:lnTo>
                  <a:lnTo>
                    <a:pt x="185" y="2772"/>
                  </a:lnTo>
                  <a:lnTo>
                    <a:pt x="200" y="2780"/>
                  </a:lnTo>
                  <a:lnTo>
                    <a:pt x="218" y="2788"/>
                  </a:lnTo>
                  <a:lnTo>
                    <a:pt x="235" y="2796"/>
                  </a:lnTo>
                  <a:lnTo>
                    <a:pt x="253" y="2802"/>
                  </a:lnTo>
                  <a:lnTo>
                    <a:pt x="272" y="2808"/>
                  </a:lnTo>
                  <a:lnTo>
                    <a:pt x="290" y="2814"/>
                  </a:lnTo>
                  <a:lnTo>
                    <a:pt x="310" y="2819"/>
                  </a:lnTo>
                  <a:lnTo>
                    <a:pt x="321" y="2821"/>
                  </a:lnTo>
                  <a:lnTo>
                    <a:pt x="323" y="2822"/>
                  </a:lnTo>
                  <a:lnTo>
                    <a:pt x="327" y="2823"/>
                  </a:lnTo>
                  <a:lnTo>
                    <a:pt x="329" y="2825"/>
                  </a:lnTo>
                  <a:lnTo>
                    <a:pt x="329" y="2826"/>
                  </a:lnTo>
                  <a:lnTo>
                    <a:pt x="330" y="2828"/>
                  </a:lnTo>
                  <a:lnTo>
                    <a:pt x="330" y="2829"/>
                  </a:lnTo>
                  <a:lnTo>
                    <a:pt x="330" y="2832"/>
                  </a:lnTo>
                  <a:lnTo>
                    <a:pt x="330" y="2833"/>
                  </a:lnTo>
                  <a:lnTo>
                    <a:pt x="329" y="2835"/>
                  </a:lnTo>
                  <a:lnTo>
                    <a:pt x="327" y="2837"/>
                  </a:lnTo>
                  <a:lnTo>
                    <a:pt x="325" y="2838"/>
                  </a:lnTo>
                  <a:lnTo>
                    <a:pt x="323" y="2839"/>
                  </a:lnTo>
                  <a:lnTo>
                    <a:pt x="319" y="2840"/>
                  </a:lnTo>
                  <a:lnTo>
                    <a:pt x="318" y="2840"/>
                  </a:lnTo>
                  <a:lnTo>
                    <a:pt x="314" y="2840"/>
                  </a:lnTo>
                  <a:lnTo>
                    <a:pt x="312" y="2840"/>
                  </a:lnTo>
                  <a:lnTo>
                    <a:pt x="299" y="2837"/>
                  </a:lnTo>
                  <a:lnTo>
                    <a:pt x="277" y="2832"/>
                  </a:lnTo>
                  <a:lnTo>
                    <a:pt x="257" y="2826"/>
                  </a:lnTo>
                  <a:lnTo>
                    <a:pt x="239" y="2819"/>
                  </a:lnTo>
                  <a:lnTo>
                    <a:pt x="218" y="2811"/>
                  </a:lnTo>
                  <a:lnTo>
                    <a:pt x="200" y="2804"/>
                  </a:lnTo>
                  <a:lnTo>
                    <a:pt x="184" y="2796"/>
                  </a:lnTo>
                  <a:lnTo>
                    <a:pt x="165" y="2786"/>
                  </a:lnTo>
                  <a:lnTo>
                    <a:pt x="149" y="2778"/>
                  </a:lnTo>
                  <a:lnTo>
                    <a:pt x="134" y="2767"/>
                  </a:lnTo>
                  <a:lnTo>
                    <a:pt x="118" y="2757"/>
                  </a:lnTo>
                  <a:lnTo>
                    <a:pt x="105" y="2746"/>
                  </a:lnTo>
                  <a:lnTo>
                    <a:pt x="90" y="2734"/>
                  </a:lnTo>
                  <a:lnTo>
                    <a:pt x="77" y="2723"/>
                  </a:lnTo>
                  <a:lnTo>
                    <a:pt x="66" y="2711"/>
                  </a:lnTo>
                  <a:lnTo>
                    <a:pt x="55" y="2698"/>
                  </a:lnTo>
                  <a:lnTo>
                    <a:pt x="46" y="2686"/>
                  </a:lnTo>
                  <a:lnTo>
                    <a:pt x="37" y="2673"/>
                  </a:lnTo>
                  <a:lnTo>
                    <a:pt x="28" y="2658"/>
                  </a:lnTo>
                  <a:lnTo>
                    <a:pt x="20" y="2645"/>
                  </a:lnTo>
                  <a:lnTo>
                    <a:pt x="15" y="2631"/>
                  </a:lnTo>
                  <a:lnTo>
                    <a:pt x="15" y="2629"/>
                  </a:lnTo>
                  <a:lnTo>
                    <a:pt x="13" y="2628"/>
                  </a:lnTo>
                  <a:lnTo>
                    <a:pt x="13" y="2626"/>
                  </a:lnTo>
                  <a:lnTo>
                    <a:pt x="15" y="2623"/>
                  </a:lnTo>
                  <a:lnTo>
                    <a:pt x="17" y="2622"/>
                  </a:lnTo>
                  <a:lnTo>
                    <a:pt x="20" y="2620"/>
                  </a:lnTo>
                  <a:lnTo>
                    <a:pt x="22" y="2618"/>
                  </a:lnTo>
                  <a:lnTo>
                    <a:pt x="26" y="2618"/>
                  </a:lnTo>
                  <a:lnTo>
                    <a:pt x="28" y="2617"/>
                  </a:lnTo>
                  <a:lnTo>
                    <a:pt x="31" y="2617"/>
                  </a:lnTo>
                  <a:lnTo>
                    <a:pt x="33" y="2618"/>
                  </a:lnTo>
                  <a:lnTo>
                    <a:pt x="37" y="2620"/>
                  </a:lnTo>
                  <a:lnTo>
                    <a:pt x="40" y="2622"/>
                  </a:lnTo>
                  <a:lnTo>
                    <a:pt x="42" y="2623"/>
                  </a:lnTo>
                  <a:lnTo>
                    <a:pt x="42" y="2626"/>
                  </a:lnTo>
                  <a:lnTo>
                    <a:pt x="42" y="26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70280" y="464832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ign 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7760" y="4898880"/>
              <a:ext cx="3240" cy="851040"/>
            </a:xfrm>
            <a:custGeom>
              <a:avLst/>
              <a:gdLst/>
              <a:ahLst/>
              <a:rect l="l" t="t" r="r" b="b"/>
              <a:pathLst>
                <a:path w="6" h="1073">
                  <a:moveTo>
                    <a:pt x="6" y="1"/>
                  </a:moveTo>
                  <a:lnTo>
                    <a:pt x="6" y="59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close/>
                  <a:moveTo>
                    <a:pt x="6" y="94"/>
                  </a:moveTo>
                  <a:lnTo>
                    <a:pt x="6" y="152"/>
                  </a:lnTo>
                  <a:lnTo>
                    <a:pt x="6" y="153"/>
                  </a:lnTo>
                  <a:lnTo>
                    <a:pt x="6" y="153"/>
                  </a:lnTo>
                  <a:lnTo>
                    <a:pt x="4" y="153"/>
                  </a:lnTo>
                  <a:lnTo>
                    <a:pt x="4" y="155"/>
                  </a:lnTo>
                  <a:lnTo>
                    <a:pt x="2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4"/>
                  </a:lnTo>
                  <a:close/>
                  <a:moveTo>
                    <a:pt x="6" y="187"/>
                  </a:moveTo>
                  <a:lnTo>
                    <a:pt x="6" y="245"/>
                  </a:lnTo>
                  <a:lnTo>
                    <a:pt x="6" y="245"/>
                  </a:lnTo>
                  <a:lnTo>
                    <a:pt x="6" y="246"/>
                  </a:lnTo>
                  <a:lnTo>
                    <a:pt x="4" y="246"/>
                  </a:lnTo>
                  <a:lnTo>
                    <a:pt x="4" y="246"/>
                  </a:lnTo>
                  <a:lnTo>
                    <a:pt x="2" y="246"/>
                  </a:lnTo>
                  <a:lnTo>
                    <a:pt x="0" y="246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85"/>
                  </a:lnTo>
                  <a:lnTo>
                    <a:pt x="4" y="185"/>
                  </a:lnTo>
                  <a:lnTo>
                    <a:pt x="4" y="185"/>
                  </a:lnTo>
                  <a:lnTo>
                    <a:pt x="6" y="186"/>
                  </a:lnTo>
                  <a:lnTo>
                    <a:pt x="6" y="186"/>
                  </a:lnTo>
                  <a:lnTo>
                    <a:pt x="6" y="187"/>
                  </a:lnTo>
                  <a:lnTo>
                    <a:pt x="6" y="187"/>
                  </a:lnTo>
                  <a:close/>
                  <a:moveTo>
                    <a:pt x="6" y="280"/>
                  </a:moveTo>
                  <a:lnTo>
                    <a:pt x="6" y="338"/>
                  </a:lnTo>
                  <a:lnTo>
                    <a:pt x="6" y="338"/>
                  </a:lnTo>
                  <a:lnTo>
                    <a:pt x="6" y="339"/>
                  </a:lnTo>
                  <a:lnTo>
                    <a:pt x="4" y="339"/>
                  </a:lnTo>
                  <a:lnTo>
                    <a:pt x="0" y="339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2" y="277"/>
                  </a:lnTo>
                  <a:lnTo>
                    <a:pt x="4" y="277"/>
                  </a:lnTo>
                  <a:lnTo>
                    <a:pt x="4" y="277"/>
                  </a:lnTo>
                  <a:lnTo>
                    <a:pt x="6" y="277"/>
                  </a:lnTo>
                  <a:lnTo>
                    <a:pt x="6" y="279"/>
                  </a:lnTo>
                  <a:lnTo>
                    <a:pt x="6" y="280"/>
                  </a:lnTo>
                  <a:lnTo>
                    <a:pt x="6" y="280"/>
                  </a:lnTo>
                  <a:close/>
                  <a:moveTo>
                    <a:pt x="6" y="371"/>
                  </a:moveTo>
                  <a:lnTo>
                    <a:pt x="6" y="429"/>
                  </a:lnTo>
                  <a:lnTo>
                    <a:pt x="6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2" y="432"/>
                  </a:lnTo>
                  <a:lnTo>
                    <a:pt x="0" y="432"/>
                  </a:lnTo>
                  <a:lnTo>
                    <a:pt x="0" y="431"/>
                  </a:lnTo>
                  <a:lnTo>
                    <a:pt x="0" y="429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0" y="370"/>
                  </a:lnTo>
                  <a:lnTo>
                    <a:pt x="2" y="370"/>
                  </a:lnTo>
                  <a:lnTo>
                    <a:pt x="4" y="370"/>
                  </a:lnTo>
                  <a:lnTo>
                    <a:pt x="4" y="370"/>
                  </a:lnTo>
                  <a:lnTo>
                    <a:pt x="6" y="370"/>
                  </a:lnTo>
                  <a:lnTo>
                    <a:pt x="6" y="371"/>
                  </a:lnTo>
                  <a:lnTo>
                    <a:pt x="6" y="371"/>
                  </a:lnTo>
                  <a:lnTo>
                    <a:pt x="6" y="371"/>
                  </a:lnTo>
                  <a:close/>
                  <a:moveTo>
                    <a:pt x="6" y="464"/>
                  </a:moveTo>
                  <a:lnTo>
                    <a:pt x="6" y="522"/>
                  </a:lnTo>
                  <a:lnTo>
                    <a:pt x="6" y="523"/>
                  </a:lnTo>
                  <a:lnTo>
                    <a:pt x="6" y="523"/>
                  </a:lnTo>
                  <a:lnTo>
                    <a:pt x="4" y="525"/>
                  </a:lnTo>
                  <a:lnTo>
                    <a:pt x="4" y="525"/>
                  </a:lnTo>
                  <a:lnTo>
                    <a:pt x="2" y="525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464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2" y="463"/>
                  </a:lnTo>
                  <a:lnTo>
                    <a:pt x="4" y="463"/>
                  </a:lnTo>
                  <a:lnTo>
                    <a:pt x="4" y="463"/>
                  </a:lnTo>
                  <a:lnTo>
                    <a:pt x="6" y="463"/>
                  </a:lnTo>
                  <a:lnTo>
                    <a:pt x="6" y="463"/>
                  </a:lnTo>
                  <a:lnTo>
                    <a:pt x="6" y="464"/>
                  </a:lnTo>
                  <a:lnTo>
                    <a:pt x="6" y="464"/>
                  </a:lnTo>
                  <a:close/>
                  <a:moveTo>
                    <a:pt x="6" y="557"/>
                  </a:moveTo>
                  <a:lnTo>
                    <a:pt x="6" y="615"/>
                  </a:lnTo>
                  <a:lnTo>
                    <a:pt x="6" y="616"/>
                  </a:lnTo>
                  <a:lnTo>
                    <a:pt x="6" y="616"/>
                  </a:lnTo>
                  <a:lnTo>
                    <a:pt x="4" y="616"/>
                  </a:lnTo>
                  <a:lnTo>
                    <a:pt x="4" y="617"/>
                  </a:lnTo>
                  <a:lnTo>
                    <a:pt x="2" y="616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15"/>
                  </a:lnTo>
                  <a:lnTo>
                    <a:pt x="0" y="557"/>
                  </a:lnTo>
                  <a:lnTo>
                    <a:pt x="0" y="556"/>
                  </a:lnTo>
                  <a:lnTo>
                    <a:pt x="0" y="556"/>
                  </a:lnTo>
                  <a:lnTo>
                    <a:pt x="2" y="555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6" y="556"/>
                  </a:lnTo>
                  <a:lnTo>
                    <a:pt x="6" y="556"/>
                  </a:lnTo>
                  <a:lnTo>
                    <a:pt x="6" y="557"/>
                  </a:lnTo>
                  <a:lnTo>
                    <a:pt x="6" y="557"/>
                  </a:lnTo>
                  <a:close/>
                  <a:moveTo>
                    <a:pt x="6" y="650"/>
                  </a:moveTo>
                  <a:lnTo>
                    <a:pt x="6" y="708"/>
                  </a:lnTo>
                  <a:lnTo>
                    <a:pt x="6" y="708"/>
                  </a:lnTo>
                  <a:lnTo>
                    <a:pt x="6" y="709"/>
                  </a:lnTo>
                  <a:lnTo>
                    <a:pt x="4" y="709"/>
                  </a:lnTo>
                  <a:lnTo>
                    <a:pt x="4" y="709"/>
                  </a:lnTo>
                  <a:lnTo>
                    <a:pt x="2" y="709"/>
                  </a:lnTo>
                  <a:lnTo>
                    <a:pt x="0" y="709"/>
                  </a:lnTo>
                  <a:lnTo>
                    <a:pt x="0" y="708"/>
                  </a:lnTo>
                  <a:lnTo>
                    <a:pt x="0" y="708"/>
                  </a:lnTo>
                  <a:lnTo>
                    <a:pt x="0" y="650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2" y="647"/>
                  </a:lnTo>
                  <a:lnTo>
                    <a:pt x="4" y="647"/>
                  </a:lnTo>
                  <a:lnTo>
                    <a:pt x="4" y="647"/>
                  </a:lnTo>
                  <a:lnTo>
                    <a:pt x="6" y="649"/>
                  </a:lnTo>
                  <a:lnTo>
                    <a:pt x="6" y="649"/>
                  </a:lnTo>
                  <a:lnTo>
                    <a:pt x="6" y="650"/>
                  </a:lnTo>
                  <a:lnTo>
                    <a:pt x="6" y="650"/>
                  </a:lnTo>
                  <a:close/>
                  <a:moveTo>
                    <a:pt x="6" y="743"/>
                  </a:moveTo>
                  <a:lnTo>
                    <a:pt x="6" y="801"/>
                  </a:lnTo>
                  <a:lnTo>
                    <a:pt x="6" y="801"/>
                  </a:lnTo>
                  <a:lnTo>
                    <a:pt x="6" y="802"/>
                  </a:lnTo>
                  <a:lnTo>
                    <a:pt x="4" y="802"/>
                  </a:lnTo>
                  <a:lnTo>
                    <a:pt x="0" y="8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0" y="743"/>
                  </a:lnTo>
                  <a:lnTo>
                    <a:pt x="0" y="741"/>
                  </a:lnTo>
                  <a:lnTo>
                    <a:pt x="0" y="740"/>
                  </a:lnTo>
                  <a:lnTo>
                    <a:pt x="2" y="740"/>
                  </a:lnTo>
                  <a:lnTo>
                    <a:pt x="4" y="740"/>
                  </a:lnTo>
                  <a:lnTo>
                    <a:pt x="4" y="740"/>
                  </a:lnTo>
                  <a:lnTo>
                    <a:pt x="6" y="740"/>
                  </a:lnTo>
                  <a:lnTo>
                    <a:pt x="6" y="741"/>
                  </a:lnTo>
                  <a:lnTo>
                    <a:pt x="6" y="743"/>
                  </a:lnTo>
                  <a:lnTo>
                    <a:pt x="6" y="743"/>
                  </a:lnTo>
                  <a:close/>
                  <a:moveTo>
                    <a:pt x="6" y="834"/>
                  </a:moveTo>
                  <a:lnTo>
                    <a:pt x="6" y="892"/>
                  </a:lnTo>
                  <a:lnTo>
                    <a:pt x="6" y="893"/>
                  </a:lnTo>
                  <a:lnTo>
                    <a:pt x="6" y="895"/>
                  </a:lnTo>
                  <a:lnTo>
                    <a:pt x="4" y="895"/>
                  </a:lnTo>
                  <a:lnTo>
                    <a:pt x="4" y="895"/>
                  </a:lnTo>
                  <a:lnTo>
                    <a:pt x="2" y="895"/>
                  </a:lnTo>
                  <a:lnTo>
                    <a:pt x="0" y="895"/>
                  </a:lnTo>
                  <a:lnTo>
                    <a:pt x="0" y="893"/>
                  </a:lnTo>
                  <a:lnTo>
                    <a:pt x="0" y="892"/>
                  </a:lnTo>
                  <a:lnTo>
                    <a:pt x="0" y="834"/>
                  </a:lnTo>
                  <a:lnTo>
                    <a:pt x="0" y="834"/>
                  </a:lnTo>
                  <a:lnTo>
                    <a:pt x="0" y="833"/>
                  </a:lnTo>
                  <a:lnTo>
                    <a:pt x="2" y="833"/>
                  </a:lnTo>
                  <a:lnTo>
                    <a:pt x="4" y="833"/>
                  </a:lnTo>
                  <a:lnTo>
                    <a:pt x="4" y="833"/>
                  </a:lnTo>
                  <a:lnTo>
                    <a:pt x="6" y="833"/>
                  </a:lnTo>
                  <a:lnTo>
                    <a:pt x="6" y="834"/>
                  </a:lnTo>
                  <a:lnTo>
                    <a:pt x="6" y="834"/>
                  </a:lnTo>
                  <a:lnTo>
                    <a:pt x="6" y="834"/>
                  </a:lnTo>
                  <a:close/>
                  <a:moveTo>
                    <a:pt x="6" y="927"/>
                  </a:moveTo>
                  <a:lnTo>
                    <a:pt x="6" y="985"/>
                  </a:lnTo>
                  <a:lnTo>
                    <a:pt x="6" y="986"/>
                  </a:lnTo>
                  <a:lnTo>
                    <a:pt x="6" y="986"/>
                  </a:lnTo>
                  <a:lnTo>
                    <a:pt x="4" y="987"/>
                  </a:lnTo>
                  <a:lnTo>
                    <a:pt x="4" y="987"/>
                  </a:lnTo>
                  <a:lnTo>
                    <a:pt x="2" y="987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0" y="985"/>
                  </a:lnTo>
                  <a:lnTo>
                    <a:pt x="0" y="927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2" y="926"/>
                  </a:lnTo>
                  <a:lnTo>
                    <a:pt x="4" y="926"/>
                  </a:lnTo>
                  <a:lnTo>
                    <a:pt x="4" y="926"/>
                  </a:lnTo>
                  <a:lnTo>
                    <a:pt x="6" y="926"/>
                  </a:lnTo>
                  <a:lnTo>
                    <a:pt x="6" y="926"/>
                  </a:lnTo>
                  <a:lnTo>
                    <a:pt x="6" y="927"/>
                  </a:lnTo>
                  <a:lnTo>
                    <a:pt x="6" y="927"/>
                  </a:lnTo>
                  <a:close/>
                  <a:moveTo>
                    <a:pt x="6" y="1020"/>
                  </a:moveTo>
                  <a:lnTo>
                    <a:pt x="6" y="1070"/>
                  </a:lnTo>
                  <a:lnTo>
                    <a:pt x="6" y="1072"/>
                  </a:lnTo>
                  <a:lnTo>
                    <a:pt x="6" y="1073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2" y="1073"/>
                  </a:lnTo>
                  <a:lnTo>
                    <a:pt x="0" y="1073"/>
                  </a:lnTo>
                  <a:lnTo>
                    <a:pt x="0" y="1072"/>
                  </a:lnTo>
                  <a:lnTo>
                    <a:pt x="0" y="1070"/>
                  </a:lnTo>
                  <a:lnTo>
                    <a:pt x="0" y="1020"/>
                  </a:lnTo>
                  <a:lnTo>
                    <a:pt x="0" y="1019"/>
                  </a:lnTo>
                  <a:lnTo>
                    <a:pt x="0" y="1019"/>
                  </a:lnTo>
                  <a:lnTo>
                    <a:pt x="2" y="1017"/>
                  </a:lnTo>
                  <a:lnTo>
                    <a:pt x="4" y="1017"/>
                  </a:lnTo>
                  <a:lnTo>
                    <a:pt x="4" y="1017"/>
                  </a:lnTo>
                  <a:lnTo>
                    <a:pt x="6" y="1019"/>
                  </a:lnTo>
                  <a:lnTo>
                    <a:pt x="6" y="1019"/>
                  </a:lnTo>
                  <a:lnTo>
                    <a:pt x="6" y="1020"/>
                  </a:lnTo>
                  <a:lnTo>
                    <a:pt x="6" y="10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52880" y="4686120"/>
              <a:ext cx="874440" cy="19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120" y="47228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2960" y="472284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46160" y="5254560"/>
              <a:ext cx="1544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5227560"/>
              <a:ext cx="81000" cy="5400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101" y="34"/>
                  </a:moveTo>
                  <a:lnTo>
                    <a:pt x="101" y="30"/>
                  </a:lnTo>
                  <a:lnTo>
                    <a:pt x="101" y="26"/>
                  </a:lnTo>
                  <a:lnTo>
                    <a:pt x="99" y="24"/>
                  </a:lnTo>
                  <a:lnTo>
                    <a:pt x="97" y="20"/>
                  </a:lnTo>
                  <a:lnTo>
                    <a:pt x="94" y="16"/>
                  </a:lnTo>
                  <a:lnTo>
                    <a:pt x="86" y="10"/>
                  </a:lnTo>
                  <a:lnTo>
                    <a:pt x="79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2" y="6"/>
                  </a:lnTo>
                  <a:lnTo>
                    <a:pt x="15" y="10"/>
                  </a:lnTo>
                  <a:lnTo>
                    <a:pt x="9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9" y="52"/>
                  </a:lnTo>
                  <a:lnTo>
                    <a:pt x="15" y="57"/>
                  </a:lnTo>
                  <a:lnTo>
                    <a:pt x="22" y="61"/>
                  </a:lnTo>
                  <a:lnTo>
                    <a:pt x="31" y="64"/>
                  </a:lnTo>
                  <a:lnTo>
                    <a:pt x="35" y="65"/>
                  </a:lnTo>
                  <a:lnTo>
                    <a:pt x="40" y="66"/>
                  </a:lnTo>
                  <a:lnTo>
                    <a:pt x="46" y="66"/>
                  </a:lnTo>
                  <a:lnTo>
                    <a:pt x="51" y="67"/>
                  </a:lnTo>
                  <a:lnTo>
                    <a:pt x="55" y="66"/>
                  </a:lnTo>
                  <a:lnTo>
                    <a:pt x="60" y="66"/>
                  </a:lnTo>
                  <a:lnTo>
                    <a:pt x="66" y="65"/>
                  </a:lnTo>
                  <a:lnTo>
                    <a:pt x="70" y="64"/>
                  </a:lnTo>
                  <a:lnTo>
                    <a:pt x="79" y="61"/>
                  </a:lnTo>
                  <a:lnTo>
                    <a:pt x="86" y="57"/>
                  </a:lnTo>
                  <a:lnTo>
                    <a:pt x="94" y="52"/>
                  </a:lnTo>
                  <a:lnTo>
                    <a:pt x="97" y="47"/>
                  </a:lnTo>
                  <a:lnTo>
                    <a:pt x="99" y="43"/>
                  </a:lnTo>
                  <a:lnTo>
                    <a:pt x="101" y="41"/>
                  </a:lnTo>
                  <a:lnTo>
                    <a:pt x="101" y="37"/>
                  </a:lnTo>
                  <a:lnTo>
                    <a:pt x="10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78320" y="5219640"/>
              <a:ext cx="108000" cy="6984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0" y="0"/>
                  </a:moveTo>
                  <a:lnTo>
                    <a:pt x="136" y="45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1280" y="501336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I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47400" y="5137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99240" y="5137200"/>
              <a:ext cx="29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em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48880" y="51372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5280" y="513720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9240" y="5137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75480" y="4686120"/>
              <a:ext cx="1485720" cy="19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38200" y="47228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25320" y="4722840"/>
              <a:ext cx="70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tCatalo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2080" y="4898880"/>
              <a:ext cx="5040" cy="85104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5" y="1"/>
                  </a:moveTo>
                  <a:lnTo>
                    <a:pt x="5" y="59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94"/>
                  </a:moveTo>
                  <a:lnTo>
                    <a:pt x="5" y="152"/>
                  </a:lnTo>
                  <a:lnTo>
                    <a:pt x="5" y="153"/>
                  </a:lnTo>
                  <a:lnTo>
                    <a:pt x="5" y="153"/>
                  </a:lnTo>
                  <a:lnTo>
                    <a:pt x="3" y="153"/>
                  </a:lnTo>
                  <a:lnTo>
                    <a:pt x="3" y="155"/>
                  </a:lnTo>
                  <a:lnTo>
                    <a:pt x="1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3" y="92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5" y="187"/>
                  </a:moveTo>
                  <a:lnTo>
                    <a:pt x="5" y="245"/>
                  </a:lnTo>
                  <a:lnTo>
                    <a:pt x="5" y="245"/>
                  </a:lnTo>
                  <a:lnTo>
                    <a:pt x="5" y="246"/>
                  </a:lnTo>
                  <a:lnTo>
                    <a:pt x="3" y="246"/>
                  </a:lnTo>
                  <a:lnTo>
                    <a:pt x="3" y="246"/>
                  </a:lnTo>
                  <a:lnTo>
                    <a:pt x="1" y="246"/>
                  </a:lnTo>
                  <a:lnTo>
                    <a:pt x="0" y="246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1" y="185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5" y="187"/>
                  </a:lnTo>
                  <a:lnTo>
                    <a:pt x="5" y="187"/>
                  </a:lnTo>
                  <a:close/>
                  <a:moveTo>
                    <a:pt x="5" y="280"/>
                  </a:moveTo>
                  <a:lnTo>
                    <a:pt x="5" y="338"/>
                  </a:lnTo>
                  <a:lnTo>
                    <a:pt x="5" y="338"/>
                  </a:lnTo>
                  <a:lnTo>
                    <a:pt x="5" y="339"/>
                  </a:lnTo>
                  <a:lnTo>
                    <a:pt x="3" y="339"/>
                  </a:lnTo>
                  <a:lnTo>
                    <a:pt x="0" y="339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1" y="277"/>
                  </a:lnTo>
                  <a:lnTo>
                    <a:pt x="3" y="277"/>
                  </a:lnTo>
                  <a:lnTo>
                    <a:pt x="3" y="277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5" y="280"/>
                  </a:lnTo>
                  <a:lnTo>
                    <a:pt x="5" y="280"/>
                  </a:lnTo>
                  <a:close/>
                  <a:moveTo>
                    <a:pt x="5" y="371"/>
                  </a:moveTo>
                  <a:lnTo>
                    <a:pt x="5" y="429"/>
                  </a:lnTo>
                  <a:lnTo>
                    <a:pt x="5" y="431"/>
                  </a:lnTo>
                  <a:lnTo>
                    <a:pt x="5" y="432"/>
                  </a:lnTo>
                  <a:lnTo>
                    <a:pt x="3" y="432"/>
                  </a:lnTo>
                  <a:lnTo>
                    <a:pt x="3" y="432"/>
                  </a:lnTo>
                  <a:lnTo>
                    <a:pt x="1" y="432"/>
                  </a:lnTo>
                  <a:lnTo>
                    <a:pt x="0" y="432"/>
                  </a:lnTo>
                  <a:lnTo>
                    <a:pt x="0" y="431"/>
                  </a:lnTo>
                  <a:lnTo>
                    <a:pt x="0" y="429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0" y="370"/>
                  </a:lnTo>
                  <a:lnTo>
                    <a:pt x="1" y="370"/>
                  </a:lnTo>
                  <a:lnTo>
                    <a:pt x="3" y="370"/>
                  </a:lnTo>
                  <a:lnTo>
                    <a:pt x="3" y="370"/>
                  </a:lnTo>
                  <a:lnTo>
                    <a:pt x="5" y="370"/>
                  </a:lnTo>
                  <a:lnTo>
                    <a:pt x="5" y="371"/>
                  </a:lnTo>
                  <a:lnTo>
                    <a:pt x="5" y="371"/>
                  </a:lnTo>
                  <a:lnTo>
                    <a:pt x="5" y="371"/>
                  </a:lnTo>
                  <a:close/>
                  <a:moveTo>
                    <a:pt x="5" y="464"/>
                  </a:moveTo>
                  <a:lnTo>
                    <a:pt x="5" y="522"/>
                  </a:lnTo>
                  <a:lnTo>
                    <a:pt x="5" y="523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1" y="525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464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1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5" y="463"/>
                  </a:lnTo>
                  <a:lnTo>
                    <a:pt x="5" y="463"/>
                  </a:lnTo>
                  <a:lnTo>
                    <a:pt x="5" y="464"/>
                  </a:lnTo>
                  <a:lnTo>
                    <a:pt x="5" y="464"/>
                  </a:lnTo>
                  <a:close/>
                  <a:moveTo>
                    <a:pt x="5" y="557"/>
                  </a:moveTo>
                  <a:lnTo>
                    <a:pt x="5" y="615"/>
                  </a:lnTo>
                  <a:lnTo>
                    <a:pt x="5" y="616"/>
                  </a:lnTo>
                  <a:lnTo>
                    <a:pt x="5" y="616"/>
                  </a:lnTo>
                  <a:lnTo>
                    <a:pt x="3" y="616"/>
                  </a:lnTo>
                  <a:lnTo>
                    <a:pt x="3" y="617"/>
                  </a:lnTo>
                  <a:lnTo>
                    <a:pt x="1" y="616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15"/>
                  </a:lnTo>
                  <a:lnTo>
                    <a:pt x="0" y="557"/>
                  </a:lnTo>
                  <a:lnTo>
                    <a:pt x="0" y="556"/>
                  </a:lnTo>
                  <a:lnTo>
                    <a:pt x="0" y="556"/>
                  </a:lnTo>
                  <a:lnTo>
                    <a:pt x="1" y="555"/>
                  </a:lnTo>
                  <a:lnTo>
                    <a:pt x="3" y="555"/>
                  </a:lnTo>
                  <a:lnTo>
                    <a:pt x="3" y="555"/>
                  </a:lnTo>
                  <a:lnTo>
                    <a:pt x="5" y="556"/>
                  </a:lnTo>
                  <a:lnTo>
                    <a:pt x="5" y="556"/>
                  </a:lnTo>
                  <a:lnTo>
                    <a:pt x="5" y="557"/>
                  </a:lnTo>
                  <a:lnTo>
                    <a:pt x="5" y="557"/>
                  </a:lnTo>
                  <a:close/>
                  <a:moveTo>
                    <a:pt x="5" y="650"/>
                  </a:moveTo>
                  <a:lnTo>
                    <a:pt x="5" y="708"/>
                  </a:lnTo>
                  <a:lnTo>
                    <a:pt x="5" y="708"/>
                  </a:lnTo>
                  <a:lnTo>
                    <a:pt x="5" y="709"/>
                  </a:lnTo>
                  <a:lnTo>
                    <a:pt x="3" y="709"/>
                  </a:lnTo>
                  <a:lnTo>
                    <a:pt x="3" y="709"/>
                  </a:lnTo>
                  <a:lnTo>
                    <a:pt x="1" y="709"/>
                  </a:lnTo>
                  <a:lnTo>
                    <a:pt x="0" y="709"/>
                  </a:lnTo>
                  <a:lnTo>
                    <a:pt x="0" y="708"/>
                  </a:lnTo>
                  <a:lnTo>
                    <a:pt x="0" y="708"/>
                  </a:lnTo>
                  <a:lnTo>
                    <a:pt x="0" y="650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1" y="647"/>
                  </a:lnTo>
                  <a:lnTo>
                    <a:pt x="3" y="647"/>
                  </a:lnTo>
                  <a:lnTo>
                    <a:pt x="3" y="647"/>
                  </a:lnTo>
                  <a:lnTo>
                    <a:pt x="5" y="649"/>
                  </a:lnTo>
                  <a:lnTo>
                    <a:pt x="5" y="649"/>
                  </a:lnTo>
                  <a:lnTo>
                    <a:pt x="5" y="650"/>
                  </a:lnTo>
                  <a:lnTo>
                    <a:pt x="5" y="650"/>
                  </a:lnTo>
                  <a:close/>
                  <a:moveTo>
                    <a:pt x="5" y="743"/>
                  </a:moveTo>
                  <a:lnTo>
                    <a:pt x="5" y="801"/>
                  </a:lnTo>
                  <a:lnTo>
                    <a:pt x="5" y="801"/>
                  </a:lnTo>
                  <a:lnTo>
                    <a:pt x="5" y="802"/>
                  </a:lnTo>
                  <a:lnTo>
                    <a:pt x="3" y="802"/>
                  </a:lnTo>
                  <a:lnTo>
                    <a:pt x="0" y="8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0" y="743"/>
                  </a:lnTo>
                  <a:lnTo>
                    <a:pt x="0" y="741"/>
                  </a:lnTo>
                  <a:lnTo>
                    <a:pt x="0" y="740"/>
                  </a:lnTo>
                  <a:lnTo>
                    <a:pt x="1" y="740"/>
                  </a:lnTo>
                  <a:lnTo>
                    <a:pt x="3" y="740"/>
                  </a:lnTo>
                  <a:lnTo>
                    <a:pt x="3" y="740"/>
                  </a:lnTo>
                  <a:lnTo>
                    <a:pt x="5" y="740"/>
                  </a:lnTo>
                  <a:lnTo>
                    <a:pt x="5" y="741"/>
                  </a:lnTo>
                  <a:lnTo>
                    <a:pt x="5" y="743"/>
                  </a:lnTo>
                  <a:lnTo>
                    <a:pt x="5" y="743"/>
                  </a:lnTo>
                  <a:close/>
                  <a:moveTo>
                    <a:pt x="5" y="834"/>
                  </a:moveTo>
                  <a:lnTo>
                    <a:pt x="5" y="892"/>
                  </a:lnTo>
                  <a:lnTo>
                    <a:pt x="5" y="893"/>
                  </a:lnTo>
                  <a:lnTo>
                    <a:pt x="5" y="895"/>
                  </a:lnTo>
                  <a:lnTo>
                    <a:pt x="3" y="895"/>
                  </a:lnTo>
                  <a:lnTo>
                    <a:pt x="3" y="895"/>
                  </a:lnTo>
                  <a:lnTo>
                    <a:pt x="1" y="895"/>
                  </a:lnTo>
                  <a:lnTo>
                    <a:pt x="0" y="895"/>
                  </a:lnTo>
                  <a:lnTo>
                    <a:pt x="0" y="893"/>
                  </a:lnTo>
                  <a:lnTo>
                    <a:pt x="0" y="892"/>
                  </a:lnTo>
                  <a:lnTo>
                    <a:pt x="0" y="834"/>
                  </a:lnTo>
                  <a:lnTo>
                    <a:pt x="0" y="834"/>
                  </a:lnTo>
                  <a:lnTo>
                    <a:pt x="0" y="833"/>
                  </a:lnTo>
                  <a:lnTo>
                    <a:pt x="1" y="833"/>
                  </a:lnTo>
                  <a:lnTo>
                    <a:pt x="3" y="833"/>
                  </a:lnTo>
                  <a:lnTo>
                    <a:pt x="3" y="833"/>
                  </a:lnTo>
                  <a:lnTo>
                    <a:pt x="5" y="833"/>
                  </a:lnTo>
                  <a:lnTo>
                    <a:pt x="5" y="834"/>
                  </a:lnTo>
                  <a:lnTo>
                    <a:pt x="5" y="834"/>
                  </a:lnTo>
                  <a:lnTo>
                    <a:pt x="5" y="834"/>
                  </a:lnTo>
                  <a:close/>
                  <a:moveTo>
                    <a:pt x="5" y="927"/>
                  </a:moveTo>
                  <a:lnTo>
                    <a:pt x="5" y="985"/>
                  </a:lnTo>
                  <a:lnTo>
                    <a:pt x="5" y="986"/>
                  </a:lnTo>
                  <a:lnTo>
                    <a:pt x="5" y="986"/>
                  </a:lnTo>
                  <a:lnTo>
                    <a:pt x="3" y="987"/>
                  </a:lnTo>
                  <a:lnTo>
                    <a:pt x="3" y="987"/>
                  </a:lnTo>
                  <a:lnTo>
                    <a:pt x="1" y="987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0" y="985"/>
                  </a:lnTo>
                  <a:lnTo>
                    <a:pt x="0" y="927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1" y="926"/>
                  </a:lnTo>
                  <a:lnTo>
                    <a:pt x="3" y="926"/>
                  </a:lnTo>
                  <a:lnTo>
                    <a:pt x="3" y="926"/>
                  </a:lnTo>
                  <a:lnTo>
                    <a:pt x="5" y="926"/>
                  </a:lnTo>
                  <a:lnTo>
                    <a:pt x="5" y="926"/>
                  </a:lnTo>
                  <a:lnTo>
                    <a:pt x="5" y="927"/>
                  </a:lnTo>
                  <a:lnTo>
                    <a:pt x="5" y="927"/>
                  </a:lnTo>
                  <a:close/>
                  <a:moveTo>
                    <a:pt x="5" y="1020"/>
                  </a:moveTo>
                  <a:lnTo>
                    <a:pt x="5" y="1070"/>
                  </a:lnTo>
                  <a:lnTo>
                    <a:pt x="5" y="1072"/>
                  </a:lnTo>
                  <a:lnTo>
                    <a:pt x="5" y="1073"/>
                  </a:lnTo>
                  <a:lnTo>
                    <a:pt x="3" y="1073"/>
                  </a:lnTo>
                  <a:lnTo>
                    <a:pt x="3" y="1073"/>
                  </a:lnTo>
                  <a:lnTo>
                    <a:pt x="1" y="1073"/>
                  </a:lnTo>
                  <a:lnTo>
                    <a:pt x="0" y="1073"/>
                  </a:lnTo>
                  <a:lnTo>
                    <a:pt x="0" y="1072"/>
                  </a:lnTo>
                  <a:lnTo>
                    <a:pt x="0" y="1070"/>
                  </a:lnTo>
                  <a:lnTo>
                    <a:pt x="0" y="1020"/>
                  </a:lnTo>
                  <a:lnTo>
                    <a:pt x="0" y="1019"/>
                  </a:lnTo>
                  <a:lnTo>
                    <a:pt x="0" y="1019"/>
                  </a:lnTo>
                  <a:lnTo>
                    <a:pt x="1" y="1017"/>
                  </a:lnTo>
                  <a:lnTo>
                    <a:pt x="3" y="1017"/>
                  </a:lnTo>
                  <a:lnTo>
                    <a:pt x="3" y="1017"/>
                  </a:lnTo>
                  <a:lnTo>
                    <a:pt x="5" y="1019"/>
                  </a:lnTo>
                  <a:lnTo>
                    <a:pt x="5" y="1019"/>
                  </a:lnTo>
                  <a:lnTo>
                    <a:pt x="5" y="1020"/>
                  </a:lnTo>
                  <a:lnTo>
                    <a:pt x="5" y="10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89200" y="5473800"/>
              <a:ext cx="2768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5360" y="5438880"/>
              <a:ext cx="107640" cy="6984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0" y="0"/>
                  </a:moveTo>
                  <a:lnTo>
                    <a:pt x="136" y="45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46600" y="535788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75840" y="5357880"/>
              <a:ext cx="89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0120" y="5357880"/>
              <a:ext cx="100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ProductDescri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40120" y="5357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90160" y="5357880"/>
              <a:ext cx="29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em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40160" y="53578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9200" y="5702400"/>
              <a:ext cx="445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5667480"/>
              <a:ext cx="108000" cy="71280"/>
            </a:xfrm>
            <a:custGeom>
              <a:avLst/>
              <a:gdLst/>
              <a:ahLst/>
              <a:rect l="l" t="t" r="r" b="b"/>
              <a:pathLst>
                <a:path w="136" h="89">
                  <a:moveTo>
                    <a:pt x="0" y="0"/>
                  </a:moveTo>
                  <a:lnTo>
                    <a:pt x="136" y="45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66440" y="558792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LineI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920" y="55879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15040" y="558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01440" y="558792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7840" y="5587920"/>
              <a:ext cx="38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antit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5000" y="55879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9840" y="4686120"/>
              <a:ext cx="811440" cy="19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7200" y="472284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13600" y="4722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2760" y="4898880"/>
              <a:ext cx="4680" cy="851040"/>
            </a:xfrm>
            <a:custGeom>
              <a:avLst/>
              <a:gdLst/>
              <a:ahLst/>
              <a:rect l="l" t="t" r="r" b="b"/>
              <a:pathLst>
                <a:path w="6" h="1073">
                  <a:moveTo>
                    <a:pt x="6" y="1"/>
                  </a:moveTo>
                  <a:lnTo>
                    <a:pt x="6" y="59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close/>
                  <a:moveTo>
                    <a:pt x="6" y="94"/>
                  </a:moveTo>
                  <a:lnTo>
                    <a:pt x="6" y="152"/>
                  </a:lnTo>
                  <a:lnTo>
                    <a:pt x="6" y="153"/>
                  </a:lnTo>
                  <a:lnTo>
                    <a:pt x="6" y="153"/>
                  </a:lnTo>
                  <a:lnTo>
                    <a:pt x="4" y="153"/>
                  </a:lnTo>
                  <a:lnTo>
                    <a:pt x="4" y="155"/>
                  </a:lnTo>
                  <a:lnTo>
                    <a:pt x="2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6" y="94"/>
                  </a:lnTo>
                  <a:close/>
                  <a:moveTo>
                    <a:pt x="6" y="187"/>
                  </a:moveTo>
                  <a:lnTo>
                    <a:pt x="6" y="245"/>
                  </a:lnTo>
                  <a:lnTo>
                    <a:pt x="6" y="245"/>
                  </a:lnTo>
                  <a:lnTo>
                    <a:pt x="6" y="246"/>
                  </a:lnTo>
                  <a:lnTo>
                    <a:pt x="4" y="246"/>
                  </a:lnTo>
                  <a:lnTo>
                    <a:pt x="4" y="246"/>
                  </a:lnTo>
                  <a:lnTo>
                    <a:pt x="2" y="246"/>
                  </a:lnTo>
                  <a:lnTo>
                    <a:pt x="0" y="246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85"/>
                  </a:lnTo>
                  <a:lnTo>
                    <a:pt x="4" y="185"/>
                  </a:lnTo>
                  <a:lnTo>
                    <a:pt x="4" y="185"/>
                  </a:lnTo>
                  <a:lnTo>
                    <a:pt x="6" y="186"/>
                  </a:lnTo>
                  <a:lnTo>
                    <a:pt x="6" y="186"/>
                  </a:lnTo>
                  <a:lnTo>
                    <a:pt x="6" y="187"/>
                  </a:lnTo>
                  <a:lnTo>
                    <a:pt x="6" y="187"/>
                  </a:lnTo>
                  <a:close/>
                  <a:moveTo>
                    <a:pt x="6" y="280"/>
                  </a:moveTo>
                  <a:lnTo>
                    <a:pt x="6" y="338"/>
                  </a:lnTo>
                  <a:lnTo>
                    <a:pt x="6" y="338"/>
                  </a:lnTo>
                  <a:lnTo>
                    <a:pt x="6" y="339"/>
                  </a:lnTo>
                  <a:lnTo>
                    <a:pt x="4" y="339"/>
                  </a:lnTo>
                  <a:lnTo>
                    <a:pt x="0" y="339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2" y="277"/>
                  </a:lnTo>
                  <a:lnTo>
                    <a:pt x="4" y="277"/>
                  </a:lnTo>
                  <a:lnTo>
                    <a:pt x="4" y="277"/>
                  </a:lnTo>
                  <a:lnTo>
                    <a:pt x="6" y="277"/>
                  </a:lnTo>
                  <a:lnTo>
                    <a:pt x="6" y="279"/>
                  </a:lnTo>
                  <a:lnTo>
                    <a:pt x="6" y="280"/>
                  </a:lnTo>
                  <a:lnTo>
                    <a:pt x="6" y="280"/>
                  </a:lnTo>
                  <a:close/>
                  <a:moveTo>
                    <a:pt x="6" y="371"/>
                  </a:moveTo>
                  <a:lnTo>
                    <a:pt x="6" y="429"/>
                  </a:lnTo>
                  <a:lnTo>
                    <a:pt x="6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2" y="432"/>
                  </a:lnTo>
                  <a:lnTo>
                    <a:pt x="0" y="432"/>
                  </a:lnTo>
                  <a:lnTo>
                    <a:pt x="0" y="431"/>
                  </a:lnTo>
                  <a:lnTo>
                    <a:pt x="0" y="429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0" y="370"/>
                  </a:lnTo>
                  <a:lnTo>
                    <a:pt x="2" y="370"/>
                  </a:lnTo>
                  <a:lnTo>
                    <a:pt x="4" y="370"/>
                  </a:lnTo>
                  <a:lnTo>
                    <a:pt x="4" y="370"/>
                  </a:lnTo>
                  <a:lnTo>
                    <a:pt x="6" y="370"/>
                  </a:lnTo>
                  <a:lnTo>
                    <a:pt x="6" y="371"/>
                  </a:lnTo>
                  <a:lnTo>
                    <a:pt x="6" y="371"/>
                  </a:lnTo>
                  <a:lnTo>
                    <a:pt x="6" y="371"/>
                  </a:lnTo>
                  <a:close/>
                  <a:moveTo>
                    <a:pt x="6" y="464"/>
                  </a:moveTo>
                  <a:lnTo>
                    <a:pt x="6" y="522"/>
                  </a:lnTo>
                  <a:lnTo>
                    <a:pt x="6" y="523"/>
                  </a:lnTo>
                  <a:lnTo>
                    <a:pt x="6" y="523"/>
                  </a:lnTo>
                  <a:lnTo>
                    <a:pt x="4" y="525"/>
                  </a:lnTo>
                  <a:lnTo>
                    <a:pt x="4" y="525"/>
                  </a:lnTo>
                  <a:lnTo>
                    <a:pt x="2" y="525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464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2" y="463"/>
                  </a:lnTo>
                  <a:lnTo>
                    <a:pt x="4" y="463"/>
                  </a:lnTo>
                  <a:lnTo>
                    <a:pt x="4" y="463"/>
                  </a:lnTo>
                  <a:lnTo>
                    <a:pt x="6" y="463"/>
                  </a:lnTo>
                  <a:lnTo>
                    <a:pt x="6" y="463"/>
                  </a:lnTo>
                  <a:lnTo>
                    <a:pt x="6" y="464"/>
                  </a:lnTo>
                  <a:lnTo>
                    <a:pt x="6" y="464"/>
                  </a:lnTo>
                  <a:close/>
                  <a:moveTo>
                    <a:pt x="6" y="557"/>
                  </a:moveTo>
                  <a:lnTo>
                    <a:pt x="6" y="615"/>
                  </a:lnTo>
                  <a:lnTo>
                    <a:pt x="6" y="616"/>
                  </a:lnTo>
                  <a:lnTo>
                    <a:pt x="6" y="616"/>
                  </a:lnTo>
                  <a:lnTo>
                    <a:pt x="4" y="616"/>
                  </a:lnTo>
                  <a:lnTo>
                    <a:pt x="4" y="617"/>
                  </a:lnTo>
                  <a:lnTo>
                    <a:pt x="2" y="616"/>
                  </a:lnTo>
                  <a:lnTo>
                    <a:pt x="0" y="616"/>
                  </a:lnTo>
                  <a:lnTo>
                    <a:pt x="0" y="616"/>
                  </a:lnTo>
                  <a:lnTo>
                    <a:pt x="0" y="615"/>
                  </a:lnTo>
                  <a:lnTo>
                    <a:pt x="0" y="557"/>
                  </a:lnTo>
                  <a:lnTo>
                    <a:pt x="0" y="556"/>
                  </a:lnTo>
                  <a:lnTo>
                    <a:pt x="0" y="556"/>
                  </a:lnTo>
                  <a:lnTo>
                    <a:pt x="2" y="555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6" y="556"/>
                  </a:lnTo>
                  <a:lnTo>
                    <a:pt x="6" y="556"/>
                  </a:lnTo>
                  <a:lnTo>
                    <a:pt x="6" y="557"/>
                  </a:lnTo>
                  <a:lnTo>
                    <a:pt x="6" y="557"/>
                  </a:lnTo>
                  <a:close/>
                  <a:moveTo>
                    <a:pt x="6" y="650"/>
                  </a:moveTo>
                  <a:lnTo>
                    <a:pt x="6" y="708"/>
                  </a:lnTo>
                  <a:lnTo>
                    <a:pt x="6" y="708"/>
                  </a:lnTo>
                  <a:lnTo>
                    <a:pt x="6" y="709"/>
                  </a:lnTo>
                  <a:lnTo>
                    <a:pt x="4" y="709"/>
                  </a:lnTo>
                  <a:lnTo>
                    <a:pt x="4" y="709"/>
                  </a:lnTo>
                  <a:lnTo>
                    <a:pt x="2" y="709"/>
                  </a:lnTo>
                  <a:lnTo>
                    <a:pt x="0" y="709"/>
                  </a:lnTo>
                  <a:lnTo>
                    <a:pt x="0" y="708"/>
                  </a:lnTo>
                  <a:lnTo>
                    <a:pt x="0" y="708"/>
                  </a:lnTo>
                  <a:lnTo>
                    <a:pt x="0" y="650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2" y="647"/>
                  </a:lnTo>
                  <a:lnTo>
                    <a:pt x="4" y="647"/>
                  </a:lnTo>
                  <a:lnTo>
                    <a:pt x="4" y="647"/>
                  </a:lnTo>
                  <a:lnTo>
                    <a:pt x="6" y="649"/>
                  </a:lnTo>
                  <a:lnTo>
                    <a:pt x="6" y="649"/>
                  </a:lnTo>
                  <a:lnTo>
                    <a:pt x="6" y="650"/>
                  </a:lnTo>
                  <a:lnTo>
                    <a:pt x="6" y="650"/>
                  </a:lnTo>
                  <a:close/>
                  <a:moveTo>
                    <a:pt x="6" y="743"/>
                  </a:moveTo>
                  <a:lnTo>
                    <a:pt x="6" y="801"/>
                  </a:lnTo>
                  <a:lnTo>
                    <a:pt x="6" y="801"/>
                  </a:lnTo>
                  <a:lnTo>
                    <a:pt x="6" y="802"/>
                  </a:lnTo>
                  <a:lnTo>
                    <a:pt x="4" y="802"/>
                  </a:lnTo>
                  <a:lnTo>
                    <a:pt x="0" y="8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0" y="743"/>
                  </a:lnTo>
                  <a:lnTo>
                    <a:pt x="0" y="741"/>
                  </a:lnTo>
                  <a:lnTo>
                    <a:pt x="0" y="740"/>
                  </a:lnTo>
                  <a:lnTo>
                    <a:pt x="2" y="740"/>
                  </a:lnTo>
                  <a:lnTo>
                    <a:pt x="4" y="740"/>
                  </a:lnTo>
                  <a:lnTo>
                    <a:pt x="4" y="740"/>
                  </a:lnTo>
                  <a:lnTo>
                    <a:pt x="6" y="740"/>
                  </a:lnTo>
                  <a:lnTo>
                    <a:pt x="6" y="741"/>
                  </a:lnTo>
                  <a:lnTo>
                    <a:pt x="6" y="743"/>
                  </a:lnTo>
                  <a:lnTo>
                    <a:pt x="6" y="743"/>
                  </a:lnTo>
                  <a:close/>
                  <a:moveTo>
                    <a:pt x="6" y="834"/>
                  </a:moveTo>
                  <a:lnTo>
                    <a:pt x="6" y="892"/>
                  </a:lnTo>
                  <a:lnTo>
                    <a:pt x="6" y="893"/>
                  </a:lnTo>
                  <a:lnTo>
                    <a:pt x="6" y="895"/>
                  </a:lnTo>
                  <a:lnTo>
                    <a:pt x="4" y="895"/>
                  </a:lnTo>
                  <a:lnTo>
                    <a:pt x="4" y="895"/>
                  </a:lnTo>
                  <a:lnTo>
                    <a:pt x="2" y="895"/>
                  </a:lnTo>
                  <a:lnTo>
                    <a:pt x="0" y="895"/>
                  </a:lnTo>
                  <a:lnTo>
                    <a:pt x="0" y="893"/>
                  </a:lnTo>
                  <a:lnTo>
                    <a:pt x="0" y="892"/>
                  </a:lnTo>
                  <a:lnTo>
                    <a:pt x="0" y="834"/>
                  </a:lnTo>
                  <a:lnTo>
                    <a:pt x="0" y="834"/>
                  </a:lnTo>
                  <a:lnTo>
                    <a:pt x="0" y="833"/>
                  </a:lnTo>
                  <a:lnTo>
                    <a:pt x="2" y="833"/>
                  </a:lnTo>
                  <a:lnTo>
                    <a:pt x="4" y="833"/>
                  </a:lnTo>
                  <a:lnTo>
                    <a:pt x="4" y="833"/>
                  </a:lnTo>
                  <a:lnTo>
                    <a:pt x="6" y="833"/>
                  </a:lnTo>
                  <a:lnTo>
                    <a:pt x="6" y="834"/>
                  </a:lnTo>
                  <a:lnTo>
                    <a:pt x="6" y="834"/>
                  </a:lnTo>
                  <a:lnTo>
                    <a:pt x="6" y="834"/>
                  </a:lnTo>
                  <a:close/>
                  <a:moveTo>
                    <a:pt x="6" y="927"/>
                  </a:moveTo>
                  <a:lnTo>
                    <a:pt x="6" y="985"/>
                  </a:lnTo>
                  <a:lnTo>
                    <a:pt x="6" y="986"/>
                  </a:lnTo>
                  <a:lnTo>
                    <a:pt x="6" y="986"/>
                  </a:lnTo>
                  <a:lnTo>
                    <a:pt x="4" y="987"/>
                  </a:lnTo>
                  <a:lnTo>
                    <a:pt x="4" y="987"/>
                  </a:lnTo>
                  <a:lnTo>
                    <a:pt x="2" y="987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0" y="985"/>
                  </a:lnTo>
                  <a:lnTo>
                    <a:pt x="0" y="927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2" y="926"/>
                  </a:lnTo>
                  <a:lnTo>
                    <a:pt x="4" y="926"/>
                  </a:lnTo>
                  <a:lnTo>
                    <a:pt x="4" y="926"/>
                  </a:lnTo>
                  <a:lnTo>
                    <a:pt x="6" y="926"/>
                  </a:lnTo>
                  <a:lnTo>
                    <a:pt x="6" y="926"/>
                  </a:lnTo>
                  <a:lnTo>
                    <a:pt x="6" y="927"/>
                  </a:lnTo>
                  <a:lnTo>
                    <a:pt x="6" y="927"/>
                  </a:lnTo>
                  <a:close/>
                  <a:moveTo>
                    <a:pt x="6" y="1020"/>
                  </a:moveTo>
                  <a:lnTo>
                    <a:pt x="6" y="1070"/>
                  </a:lnTo>
                  <a:lnTo>
                    <a:pt x="6" y="1072"/>
                  </a:lnTo>
                  <a:lnTo>
                    <a:pt x="6" y="1073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2" y="1073"/>
                  </a:lnTo>
                  <a:lnTo>
                    <a:pt x="0" y="1073"/>
                  </a:lnTo>
                  <a:lnTo>
                    <a:pt x="0" y="1072"/>
                  </a:lnTo>
                  <a:lnTo>
                    <a:pt x="0" y="1070"/>
                  </a:lnTo>
                  <a:lnTo>
                    <a:pt x="0" y="1020"/>
                  </a:lnTo>
                  <a:lnTo>
                    <a:pt x="0" y="1019"/>
                  </a:lnTo>
                  <a:lnTo>
                    <a:pt x="0" y="1019"/>
                  </a:lnTo>
                  <a:lnTo>
                    <a:pt x="2" y="1017"/>
                  </a:lnTo>
                  <a:lnTo>
                    <a:pt x="4" y="1017"/>
                  </a:lnTo>
                  <a:lnTo>
                    <a:pt x="4" y="1017"/>
                  </a:lnTo>
                  <a:lnTo>
                    <a:pt x="6" y="1019"/>
                  </a:lnTo>
                  <a:lnTo>
                    <a:pt x="6" y="1019"/>
                  </a:lnTo>
                  <a:lnTo>
                    <a:pt x="6" y="1020"/>
                  </a:lnTo>
                  <a:lnTo>
                    <a:pt x="6" y="10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84440" y="3981240"/>
              <a:ext cx="1438200" cy="824040"/>
            </a:xfrm>
            <a:custGeom>
              <a:avLst/>
              <a:gdLst/>
              <a:ahLst/>
              <a:rect l="l" t="t" r="r" b="b"/>
              <a:pathLst>
                <a:path w="1812" h="1038">
                  <a:moveTo>
                    <a:pt x="1812" y="0"/>
                  </a:moveTo>
                  <a:lnTo>
                    <a:pt x="1709" y="22"/>
                  </a:lnTo>
                  <a:lnTo>
                    <a:pt x="1610" y="45"/>
                  </a:lnTo>
                  <a:lnTo>
                    <a:pt x="1513" y="71"/>
                  </a:lnTo>
                  <a:lnTo>
                    <a:pt x="1417" y="96"/>
                  </a:lnTo>
                  <a:lnTo>
                    <a:pt x="1326" y="122"/>
                  </a:lnTo>
                  <a:lnTo>
                    <a:pt x="1236" y="151"/>
                  </a:lnTo>
                  <a:lnTo>
                    <a:pt x="1147" y="179"/>
                  </a:lnTo>
                  <a:lnTo>
                    <a:pt x="1061" y="209"/>
                  </a:lnTo>
                  <a:lnTo>
                    <a:pt x="979" y="239"/>
                  </a:lnTo>
                  <a:lnTo>
                    <a:pt x="898" y="271"/>
                  </a:lnTo>
                  <a:lnTo>
                    <a:pt x="821" y="302"/>
                  </a:lnTo>
                  <a:lnTo>
                    <a:pt x="747" y="335"/>
                  </a:lnTo>
                  <a:lnTo>
                    <a:pt x="676" y="367"/>
                  </a:lnTo>
                  <a:lnTo>
                    <a:pt x="606" y="401"/>
                  </a:lnTo>
                  <a:lnTo>
                    <a:pt x="542" y="435"/>
                  </a:lnTo>
                  <a:lnTo>
                    <a:pt x="479" y="470"/>
                  </a:lnTo>
                  <a:lnTo>
                    <a:pt x="421" y="504"/>
                  </a:lnTo>
                  <a:lnTo>
                    <a:pt x="366" y="539"/>
                  </a:lnTo>
                  <a:lnTo>
                    <a:pt x="314" y="574"/>
                  </a:lnTo>
                  <a:lnTo>
                    <a:pt x="266" y="611"/>
                  </a:lnTo>
                  <a:lnTo>
                    <a:pt x="222" y="647"/>
                  </a:lnTo>
                  <a:lnTo>
                    <a:pt x="180" y="683"/>
                  </a:lnTo>
                  <a:lnTo>
                    <a:pt x="143" y="719"/>
                  </a:lnTo>
                  <a:lnTo>
                    <a:pt x="112" y="755"/>
                  </a:lnTo>
                  <a:lnTo>
                    <a:pt x="83" y="791"/>
                  </a:lnTo>
                  <a:lnTo>
                    <a:pt x="57" y="827"/>
                  </a:lnTo>
                  <a:lnTo>
                    <a:pt x="37" y="862"/>
                  </a:lnTo>
                  <a:lnTo>
                    <a:pt x="22" y="899"/>
                  </a:lnTo>
                  <a:lnTo>
                    <a:pt x="9" y="934"/>
                  </a:lnTo>
                  <a:lnTo>
                    <a:pt x="2" y="970"/>
                  </a:lnTo>
                  <a:lnTo>
                    <a:pt x="0" y="1005"/>
                  </a:lnTo>
                  <a:lnTo>
                    <a:pt x="2" y="103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0440" y="4788000"/>
              <a:ext cx="103320" cy="110880"/>
            </a:xfrm>
            <a:custGeom>
              <a:avLst/>
              <a:gdLst/>
              <a:ahLst/>
              <a:rect l="l" t="t" r="r" b="b"/>
              <a:pathLst>
                <a:path w="131" h="139">
                  <a:moveTo>
                    <a:pt x="0" y="23"/>
                  </a:moveTo>
                  <a:lnTo>
                    <a:pt x="118" y="139"/>
                  </a:lnTo>
                  <a:lnTo>
                    <a:pt x="1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9240" y="2465280"/>
              <a:ext cx="8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quire</a:t>
              </a:r>
              <a:r>
                <a:rPr b="1" lang="tr-TR" sz="10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26680" y="24652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0600" y="2587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0720" y="51588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0800" y="63972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1800" y="51674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54520" y="42840"/>
              <a:ext cx="20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mple UP Artifact Relationsh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56320" y="3276720"/>
              <a:ext cx="4680" cy="784080"/>
            </a:xfrm>
            <a:custGeom>
              <a:avLst/>
              <a:gdLst/>
              <a:ahLst/>
              <a:rect l="l" t="t" r="r" b="b"/>
              <a:pathLst>
                <a:path w="5" h="988">
                  <a:moveTo>
                    <a:pt x="5" y="2"/>
                  </a:moveTo>
                  <a:lnTo>
                    <a:pt x="5" y="60"/>
                  </a:lnTo>
                  <a:lnTo>
                    <a:pt x="5" y="61"/>
                  </a:lnTo>
                  <a:lnTo>
                    <a:pt x="3" y="61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close/>
                  <a:moveTo>
                    <a:pt x="5" y="94"/>
                  </a:moveTo>
                  <a:lnTo>
                    <a:pt x="5" y="152"/>
                  </a:lnTo>
                  <a:lnTo>
                    <a:pt x="5" y="152"/>
                  </a:lnTo>
                  <a:lnTo>
                    <a:pt x="3" y="154"/>
                  </a:lnTo>
                  <a:lnTo>
                    <a:pt x="3" y="154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5" y="93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5" y="187"/>
                  </a:moveTo>
                  <a:lnTo>
                    <a:pt x="5" y="245"/>
                  </a:lnTo>
                  <a:lnTo>
                    <a:pt x="5" y="245"/>
                  </a:lnTo>
                  <a:lnTo>
                    <a:pt x="3" y="246"/>
                  </a:lnTo>
                  <a:lnTo>
                    <a:pt x="3" y="246"/>
                  </a:lnTo>
                  <a:lnTo>
                    <a:pt x="1" y="246"/>
                  </a:lnTo>
                  <a:lnTo>
                    <a:pt x="1" y="246"/>
                  </a:lnTo>
                  <a:lnTo>
                    <a:pt x="0" y="246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5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5" y="186"/>
                  </a:lnTo>
                  <a:lnTo>
                    <a:pt x="5" y="187"/>
                  </a:lnTo>
                  <a:lnTo>
                    <a:pt x="5" y="187"/>
                  </a:lnTo>
                  <a:close/>
                  <a:moveTo>
                    <a:pt x="5" y="280"/>
                  </a:moveTo>
                  <a:lnTo>
                    <a:pt x="5" y="338"/>
                  </a:lnTo>
                  <a:lnTo>
                    <a:pt x="5" y="338"/>
                  </a:lnTo>
                  <a:lnTo>
                    <a:pt x="3" y="339"/>
                  </a:lnTo>
                  <a:lnTo>
                    <a:pt x="3" y="339"/>
                  </a:lnTo>
                  <a:lnTo>
                    <a:pt x="1" y="339"/>
                  </a:lnTo>
                  <a:lnTo>
                    <a:pt x="1" y="339"/>
                  </a:lnTo>
                  <a:lnTo>
                    <a:pt x="0" y="339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1" y="278"/>
                  </a:lnTo>
                  <a:lnTo>
                    <a:pt x="3" y="278"/>
                  </a:lnTo>
                  <a:lnTo>
                    <a:pt x="3" y="278"/>
                  </a:lnTo>
                  <a:lnTo>
                    <a:pt x="5" y="279"/>
                  </a:lnTo>
                  <a:lnTo>
                    <a:pt x="5" y="280"/>
                  </a:lnTo>
                  <a:lnTo>
                    <a:pt x="5" y="280"/>
                  </a:lnTo>
                  <a:close/>
                  <a:moveTo>
                    <a:pt x="5" y="372"/>
                  </a:moveTo>
                  <a:lnTo>
                    <a:pt x="5" y="430"/>
                  </a:lnTo>
                  <a:lnTo>
                    <a:pt x="5" y="431"/>
                  </a:lnTo>
                  <a:lnTo>
                    <a:pt x="3" y="431"/>
                  </a:lnTo>
                  <a:lnTo>
                    <a:pt x="3" y="432"/>
                  </a:lnTo>
                  <a:lnTo>
                    <a:pt x="1" y="432"/>
                  </a:lnTo>
                  <a:lnTo>
                    <a:pt x="1" y="432"/>
                  </a:lnTo>
                  <a:lnTo>
                    <a:pt x="0" y="431"/>
                  </a:lnTo>
                  <a:lnTo>
                    <a:pt x="0" y="431"/>
                  </a:lnTo>
                  <a:lnTo>
                    <a:pt x="0" y="430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0" y="370"/>
                  </a:lnTo>
                  <a:lnTo>
                    <a:pt x="1" y="370"/>
                  </a:lnTo>
                  <a:lnTo>
                    <a:pt x="1" y="370"/>
                  </a:lnTo>
                  <a:lnTo>
                    <a:pt x="3" y="370"/>
                  </a:lnTo>
                  <a:lnTo>
                    <a:pt x="3" y="370"/>
                  </a:lnTo>
                  <a:lnTo>
                    <a:pt x="5" y="372"/>
                  </a:lnTo>
                  <a:lnTo>
                    <a:pt x="5" y="372"/>
                  </a:lnTo>
                  <a:lnTo>
                    <a:pt x="5" y="372"/>
                  </a:lnTo>
                  <a:close/>
                  <a:moveTo>
                    <a:pt x="5" y="464"/>
                  </a:moveTo>
                  <a:lnTo>
                    <a:pt x="5" y="522"/>
                  </a:lnTo>
                  <a:lnTo>
                    <a:pt x="5" y="524"/>
                  </a:lnTo>
                  <a:lnTo>
                    <a:pt x="3" y="524"/>
                  </a:lnTo>
                  <a:lnTo>
                    <a:pt x="1" y="525"/>
                  </a:lnTo>
                  <a:lnTo>
                    <a:pt x="0" y="524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0" y="464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1" y="463"/>
                  </a:lnTo>
                  <a:lnTo>
                    <a:pt x="3" y="463"/>
                  </a:lnTo>
                  <a:lnTo>
                    <a:pt x="5" y="463"/>
                  </a:lnTo>
                  <a:lnTo>
                    <a:pt x="5" y="464"/>
                  </a:lnTo>
                  <a:lnTo>
                    <a:pt x="5" y="464"/>
                  </a:lnTo>
                  <a:close/>
                  <a:moveTo>
                    <a:pt x="5" y="557"/>
                  </a:moveTo>
                  <a:lnTo>
                    <a:pt x="5" y="615"/>
                  </a:lnTo>
                  <a:lnTo>
                    <a:pt x="5" y="615"/>
                  </a:lnTo>
                  <a:lnTo>
                    <a:pt x="3" y="616"/>
                  </a:lnTo>
                  <a:lnTo>
                    <a:pt x="3" y="616"/>
                  </a:lnTo>
                  <a:lnTo>
                    <a:pt x="1" y="618"/>
                  </a:lnTo>
                  <a:lnTo>
                    <a:pt x="1" y="616"/>
                  </a:lnTo>
                  <a:lnTo>
                    <a:pt x="0" y="616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557"/>
                  </a:lnTo>
                  <a:lnTo>
                    <a:pt x="0" y="556"/>
                  </a:lnTo>
                  <a:lnTo>
                    <a:pt x="0" y="556"/>
                  </a:lnTo>
                  <a:lnTo>
                    <a:pt x="1" y="555"/>
                  </a:lnTo>
                  <a:lnTo>
                    <a:pt x="1" y="555"/>
                  </a:lnTo>
                  <a:lnTo>
                    <a:pt x="3" y="555"/>
                  </a:lnTo>
                  <a:lnTo>
                    <a:pt x="3" y="556"/>
                  </a:lnTo>
                  <a:lnTo>
                    <a:pt x="5" y="556"/>
                  </a:lnTo>
                  <a:lnTo>
                    <a:pt x="5" y="557"/>
                  </a:lnTo>
                  <a:lnTo>
                    <a:pt x="5" y="557"/>
                  </a:lnTo>
                  <a:close/>
                  <a:moveTo>
                    <a:pt x="5" y="650"/>
                  </a:moveTo>
                  <a:lnTo>
                    <a:pt x="5" y="708"/>
                  </a:lnTo>
                  <a:lnTo>
                    <a:pt x="5" y="708"/>
                  </a:lnTo>
                  <a:lnTo>
                    <a:pt x="3" y="709"/>
                  </a:lnTo>
                  <a:lnTo>
                    <a:pt x="3" y="709"/>
                  </a:lnTo>
                  <a:lnTo>
                    <a:pt x="1" y="709"/>
                  </a:lnTo>
                  <a:lnTo>
                    <a:pt x="1" y="709"/>
                  </a:lnTo>
                  <a:lnTo>
                    <a:pt x="0" y="709"/>
                  </a:lnTo>
                  <a:lnTo>
                    <a:pt x="0" y="708"/>
                  </a:lnTo>
                  <a:lnTo>
                    <a:pt x="0" y="708"/>
                  </a:lnTo>
                  <a:lnTo>
                    <a:pt x="0" y="650"/>
                  </a:lnTo>
                  <a:lnTo>
                    <a:pt x="0" y="649"/>
                  </a:lnTo>
                  <a:lnTo>
                    <a:pt x="0" y="648"/>
                  </a:lnTo>
                  <a:lnTo>
                    <a:pt x="1" y="648"/>
                  </a:lnTo>
                  <a:lnTo>
                    <a:pt x="1" y="648"/>
                  </a:lnTo>
                  <a:lnTo>
                    <a:pt x="3" y="648"/>
                  </a:lnTo>
                  <a:lnTo>
                    <a:pt x="3" y="648"/>
                  </a:lnTo>
                  <a:lnTo>
                    <a:pt x="5" y="649"/>
                  </a:lnTo>
                  <a:lnTo>
                    <a:pt x="5" y="650"/>
                  </a:lnTo>
                  <a:lnTo>
                    <a:pt x="5" y="650"/>
                  </a:lnTo>
                  <a:close/>
                  <a:moveTo>
                    <a:pt x="5" y="743"/>
                  </a:moveTo>
                  <a:lnTo>
                    <a:pt x="5" y="801"/>
                  </a:lnTo>
                  <a:lnTo>
                    <a:pt x="5" y="801"/>
                  </a:lnTo>
                  <a:lnTo>
                    <a:pt x="3" y="802"/>
                  </a:lnTo>
                  <a:lnTo>
                    <a:pt x="3" y="802"/>
                  </a:lnTo>
                  <a:lnTo>
                    <a:pt x="1" y="802"/>
                  </a:lnTo>
                  <a:lnTo>
                    <a:pt x="1" y="802"/>
                  </a:lnTo>
                  <a:lnTo>
                    <a:pt x="0" y="8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0" y="743"/>
                  </a:lnTo>
                  <a:lnTo>
                    <a:pt x="0" y="742"/>
                  </a:lnTo>
                  <a:lnTo>
                    <a:pt x="0" y="740"/>
                  </a:lnTo>
                  <a:lnTo>
                    <a:pt x="1" y="740"/>
                  </a:lnTo>
                  <a:lnTo>
                    <a:pt x="1" y="740"/>
                  </a:lnTo>
                  <a:lnTo>
                    <a:pt x="3" y="740"/>
                  </a:lnTo>
                  <a:lnTo>
                    <a:pt x="3" y="740"/>
                  </a:lnTo>
                  <a:lnTo>
                    <a:pt x="5" y="742"/>
                  </a:lnTo>
                  <a:lnTo>
                    <a:pt x="5" y="743"/>
                  </a:lnTo>
                  <a:lnTo>
                    <a:pt x="5" y="743"/>
                  </a:lnTo>
                  <a:close/>
                  <a:moveTo>
                    <a:pt x="5" y="834"/>
                  </a:moveTo>
                  <a:lnTo>
                    <a:pt x="5" y="892"/>
                  </a:lnTo>
                  <a:lnTo>
                    <a:pt x="5" y="894"/>
                  </a:lnTo>
                  <a:lnTo>
                    <a:pt x="3" y="894"/>
                  </a:lnTo>
                  <a:lnTo>
                    <a:pt x="3" y="895"/>
                  </a:lnTo>
                  <a:lnTo>
                    <a:pt x="1" y="895"/>
                  </a:lnTo>
                  <a:lnTo>
                    <a:pt x="1" y="895"/>
                  </a:lnTo>
                  <a:lnTo>
                    <a:pt x="0" y="894"/>
                  </a:lnTo>
                  <a:lnTo>
                    <a:pt x="0" y="894"/>
                  </a:lnTo>
                  <a:lnTo>
                    <a:pt x="0" y="892"/>
                  </a:lnTo>
                  <a:lnTo>
                    <a:pt x="0" y="834"/>
                  </a:lnTo>
                  <a:lnTo>
                    <a:pt x="0" y="834"/>
                  </a:lnTo>
                  <a:lnTo>
                    <a:pt x="0" y="833"/>
                  </a:lnTo>
                  <a:lnTo>
                    <a:pt x="1" y="833"/>
                  </a:lnTo>
                  <a:lnTo>
                    <a:pt x="1" y="833"/>
                  </a:lnTo>
                  <a:lnTo>
                    <a:pt x="3" y="833"/>
                  </a:lnTo>
                  <a:lnTo>
                    <a:pt x="3" y="833"/>
                  </a:lnTo>
                  <a:lnTo>
                    <a:pt x="5" y="834"/>
                  </a:lnTo>
                  <a:lnTo>
                    <a:pt x="5" y="834"/>
                  </a:lnTo>
                  <a:lnTo>
                    <a:pt x="5" y="834"/>
                  </a:lnTo>
                  <a:close/>
                  <a:moveTo>
                    <a:pt x="5" y="927"/>
                  </a:moveTo>
                  <a:lnTo>
                    <a:pt x="5" y="985"/>
                  </a:lnTo>
                  <a:lnTo>
                    <a:pt x="5" y="986"/>
                  </a:lnTo>
                  <a:lnTo>
                    <a:pt x="3" y="986"/>
                  </a:lnTo>
                  <a:lnTo>
                    <a:pt x="1" y="988"/>
                  </a:lnTo>
                  <a:lnTo>
                    <a:pt x="0" y="986"/>
                  </a:lnTo>
                  <a:lnTo>
                    <a:pt x="0" y="986"/>
                  </a:lnTo>
                  <a:lnTo>
                    <a:pt x="0" y="985"/>
                  </a:lnTo>
                  <a:lnTo>
                    <a:pt x="0" y="927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1" y="926"/>
                  </a:lnTo>
                  <a:lnTo>
                    <a:pt x="3" y="926"/>
                  </a:lnTo>
                  <a:lnTo>
                    <a:pt x="5" y="926"/>
                  </a:lnTo>
                  <a:lnTo>
                    <a:pt x="5" y="927"/>
                  </a:lnTo>
                  <a:lnTo>
                    <a:pt x="5" y="92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2120" y="3081240"/>
              <a:ext cx="874800" cy="19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06400" y="31194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92440" y="311940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9800" y="3984480"/>
              <a:ext cx="1305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1840" y="3949560"/>
              <a:ext cx="106560" cy="69840"/>
            </a:xfrm>
            <a:custGeom>
              <a:avLst/>
              <a:gdLst/>
              <a:ahLst/>
              <a:rect l="l" t="t" r="r" b="b"/>
              <a:pathLst>
                <a:path w="134" h="89">
                  <a:moveTo>
                    <a:pt x="0" y="0"/>
                  </a:moveTo>
                  <a:lnTo>
                    <a:pt x="134" y="44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94320" y="375444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I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3880" y="38782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4640" y="387828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6680" y="38782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53080" y="387828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97040" y="38782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8920" y="2527200"/>
              <a:ext cx="8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 Case 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24000" y="4113000"/>
              <a:ext cx="160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stem Sequence Diagra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080" y="3655800"/>
              <a:ext cx="1305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7680" y="3620880"/>
              <a:ext cx="108000" cy="70200"/>
            </a:xfrm>
            <a:custGeom>
              <a:avLst/>
              <a:gdLst/>
              <a:ahLst/>
              <a:rect l="l" t="t" r="r" b="b"/>
              <a:pathLst>
                <a:path w="135" h="89">
                  <a:moveTo>
                    <a:pt x="0" y="0"/>
                  </a:moveTo>
                  <a:lnTo>
                    <a:pt x="135" y="45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31840" y="34099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59400" y="353376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wS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1120" y="35337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2920" y="2735280"/>
              <a:ext cx="1440" cy="247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68920" y="2973240"/>
              <a:ext cx="108000" cy="1065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136" y="0"/>
                  </a:moveTo>
                  <a:lnTo>
                    <a:pt x="68" y="133"/>
                  </a:lnTo>
                  <a:lnTo>
                    <a:pt x="0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8800" y="272736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08240" y="2849400"/>
              <a:ext cx="30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4880" y="1603440"/>
              <a:ext cx="172800" cy="11268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0" y="72"/>
                  </a:moveTo>
                  <a:lnTo>
                    <a:pt x="0" y="64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9" y="32"/>
                  </a:lnTo>
                  <a:lnTo>
                    <a:pt x="26" y="27"/>
                  </a:lnTo>
                  <a:lnTo>
                    <a:pt x="32" y="22"/>
                  </a:lnTo>
                  <a:lnTo>
                    <a:pt x="41" y="17"/>
                  </a:lnTo>
                  <a:lnTo>
                    <a:pt x="48" y="12"/>
                  </a:lnTo>
                  <a:lnTo>
                    <a:pt x="57" y="9"/>
                  </a:lnTo>
                  <a:lnTo>
                    <a:pt x="66" y="6"/>
                  </a:lnTo>
                  <a:lnTo>
                    <a:pt x="77" y="4"/>
                  </a:lnTo>
                  <a:lnTo>
                    <a:pt x="87" y="3"/>
                  </a:lnTo>
                  <a:lnTo>
                    <a:pt x="98" y="2"/>
                  </a:lnTo>
                  <a:lnTo>
                    <a:pt x="109" y="0"/>
                  </a:lnTo>
                  <a:lnTo>
                    <a:pt x="120" y="2"/>
                  </a:lnTo>
                  <a:lnTo>
                    <a:pt x="131" y="3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69" y="12"/>
                  </a:lnTo>
                  <a:lnTo>
                    <a:pt x="178" y="17"/>
                  </a:lnTo>
                  <a:lnTo>
                    <a:pt x="186" y="22"/>
                  </a:lnTo>
                  <a:lnTo>
                    <a:pt x="193" y="27"/>
                  </a:lnTo>
                  <a:lnTo>
                    <a:pt x="199" y="32"/>
                  </a:lnTo>
                  <a:lnTo>
                    <a:pt x="204" y="38"/>
                  </a:lnTo>
                  <a:lnTo>
                    <a:pt x="210" y="44"/>
                  </a:lnTo>
                  <a:lnTo>
                    <a:pt x="213" y="51"/>
                  </a:lnTo>
                  <a:lnTo>
                    <a:pt x="215" y="58"/>
                  </a:lnTo>
                  <a:lnTo>
                    <a:pt x="217" y="64"/>
                  </a:lnTo>
                  <a:lnTo>
                    <a:pt x="219" y="72"/>
                  </a:lnTo>
                  <a:lnTo>
                    <a:pt x="219" y="72"/>
                  </a:lnTo>
                  <a:lnTo>
                    <a:pt x="217" y="80"/>
                  </a:lnTo>
                  <a:lnTo>
                    <a:pt x="215" y="86"/>
                  </a:lnTo>
                  <a:lnTo>
                    <a:pt x="213" y="93"/>
                  </a:lnTo>
                  <a:lnTo>
                    <a:pt x="210" y="100"/>
                  </a:lnTo>
                  <a:lnTo>
                    <a:pt x="204" y="106"/>
                  </a:lnTo>
                  <a:lnTo>
                    <a:pt x="199" y="112"/>
                  </a:lnTo>
                  <a:lnTo>
                    <a:pt x="193" y="117"/>
                  </a:lnTo>
                  <a:lnTo>
                    <a:pt x="186" y="122"/>
                  </a:lnTo>
                  <a:lnTo>
                    <a:pt x="178" y="127"/>
                  </a:lnTo>
                  <a:lnTo>
                    <a:pt x="169" y="132"/>
                  </a:lnTo>
                  <a:lnTo>
                    <a:pt x="162" y="135"/>
                  </a:lnTo>
                  <a:lnTo>
                    <a:pt x="151" y="138"/>
                  </a:lnTo>
                  <a:lnTo>
                    <a:pt x="142" y="140"/>
                  </a:lnTo>
                  <a:lnTo>
                    <a:pt x="131" y="141"/>
                  </a:lnTo>
                  <a:lnTo>
                    <a:pt x="120" y="143"/>
                  </a:lnTo>
                  <a:lnTo>
                    <a:pt x="109" y="144"/>
                  </a:lnTo>
                  <a:lnTo>
                    <a:pt x="98" y="143"/>
                  </a:lnTo>
                  <a:lnTo>
                    <a:pt x="87" y="141"/>
                  </a:lnTo>
                  <a:lnTo>
                    <a:pt x="77" y="140"/>
                  </a:lnTo>
                  <a:lnTo>
                    <a:pt x="66" y="138"/>
                  </a:lnTo>
                  <a:lnTo>
                    <a:pt x="57" y="135"/>
                  </a:lnTo>
                  <a:lnTo>
                    <a:pt x="48" y="132"/>
                  </a:lnTo>
                  <a:lnTo>
                    <a:pt x="41" y="127"/>
                  </a:lnTo>
                  <a:lnTo>
                    <a:pt x="32" y="122"/>
                  </a:lnTo>
                  <a:lnTo>
                    <a:pt x="26" y="117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10" y="100"/>
                  </a:lnTo>
                  <a:lnTo>
                    <a:pt x="6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74880" y="1603440"/>
              <a:ext cx="172800" cy="11268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0" y="72"/>
                  </a:moveTo>
                  <a:lnTo>
                    <a:pt x="0" y="64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10" y="44"/>
                  </a:lnTo>
                  <a:lnTo>
                    <a:pt x="13" y="38"/>
                  </a:lnTo>
                  <a:lnTo>
                    <a:pt x="19" y="32"/>
                  </a:lnTo>
                  <a:lnTo>
                    <a:pt x="26" y="27"/>
                  </a:lnTo>
                  <a:lnTo>
                    <a:pt x="32" y="22"/>
                  </a:lnTo>
                  <a:lnTo>
                    <a:pt x="41" y="17"/>
                  </a:lnTo>
                  <a:lnTo>
                    <a:pt x="48" y="12"/>
                  </a:lnTo>
                  <a:lnTo>
                    <a:pt x="57" y="9"/>
                  </a:lnTo>
                  <a:lnTo>
                    <a:pt x="66" y="6"/>
                  </a:lnTo>
                  <a:lnTo>
                    <a:pt x="77" y="4"/>
                  </a:lnTo>
                  <a:lnTo>
                    <a:pt x="87" y="3"/>
                  </a:lnTo>
                  <a:lnTo>
                    <a:pt x="98" y="2"/>
                  </a:lnTo>
                  <a:lnTo>
                    <a:pt x="109" y="0"/>
                  </a:lnTo>
                  <a:lnTo>
                    <a:pt x="120" y="2"/>
                  </a:lnTo>
                  <a:lnTo>
                    <a:pt x="131" y="3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62" y="9"/>
                  </a:lnTo>
                  <a:lnTo>
                    <a:pt x="169" y="12"/>
                  </a:lnTo>
                  <a:lnTo>
                    <a:pt x="178" y="17"/>
                  </a:lnTo>
                  <a:lnTo>
                    <a:pt x="186" y="22"/>
                  </a:lnTo>
                  <a:lnTo>
                    <a:pt x="193" y="27"/>
                  </a:lnTo>
                  <a:lnTo>
                    <a:pt x="199" y="32"/>
                  </a:lnTo>
                  <a:lnTo>
                    <a:pt x="204" y="38"/>
                  </a:lnTo>
                  <a:lnTo>
                    <a:pt x="210" y="44"/>
                  </a:lnTo>
                  <a:lnTo>
                    <a:pt x="213" y="51"/>
                  </a:lnTo>
                  <a:lnTo>
                    <a:pt x="215" y="58"/>
                  </a:lnTo>
                  <a:lnTo>
                    <a:pt x="217" y="64"/>
                  </a:lnTo>
                  <a:lnTo>
                    <a:pt x="219" y="72"/>
                  </a:lnTo>
                  <a:lnTo>
                    <a:pt x="219" y="72"/>
                  </a:lnTo>
                  <a:lnTo>
                    <a:pt x="217" y="80"/>
                  </a:lnTo>
                  <a:lnTo>
                    <a:pt x="215" y="86"/>
                  </a:lnTo>
                  <a:lnTo>
                    <a:pt x="213" y="93"/>
                  </a:lnTo>
                  <a:lnTo>
                    <a:pt x="210" y="100"/>
                  </a:lnTo>
                  <a:lnTo>
                    <a:pt x="204" y="106"/>
                  </a:lnTo>
                  <a:lnTo>
                    <a:pt x="199" y="112"/>
                  </a:lnTo>
                  <a:lnTo>
                    <a:pt x="193" y="117"/>
                  </a:lnTo>
                  <a:lnTo>
                    <a:pt x="186" y="122"/>
                  </a:lnTo>
                  <a:lnTo>
                    <a:pt x="178" y="127"/>
                  </a:lnTo>
                  <a:lnTo>
                    <a:pt x="169" y="132"/>
                  </a:lnTo>
                  <a:lnTo>
                    <a:pt x="162" y="135"/>
                  </a:lnTo>
                  <a:lnTo>
                    <a:pt x="151" y="138"/>
                  </a:lnTo>
                  <a:lnTo>
                    <a:pt x="142" y="140"/>
                  </a:lnTo>
                  <a:lnTo>
                    <a:pt x="131" y="141"/>
                  </a:lnTo>
                  <a:lnTo>
                    <a:pt x="120" y="143"/>
                  </a:lnTo>
                  <a:lnTo>
                    <a:pt x="109" y="144"/>
                  </a:lnTo>
                  <a:lnTo>
                    <a:pt x="98" y="143"/>
                  </a:lnTo>
                  <a:lnTo>
                    <a:pt x="87" y="141"/>
                  </a:lnTo>
                  <a:lnTo>
                    <a:pt x="77" y="140"/>
                  </a:lnTo>
                  <a:lnTo>
                    <a:pt x="66" y="138"/>
                  </a:lnTo>
                  <a:lnTo>
                    <a:pt x="57" y="135"/>
                  </a:lnTo>
                  <a:lnTo>
                    <a:pt x="48" y="132"/>
                  </a:lnTo>
                  <a:lnTo>
                    <a:pt x="41" y="127"/>
                  </a:lnTo>
                  <a:lnTo>
                    <a:pt x="32" y="122"/>
                  </a:lnTo>
                  <a:lnTo>
                    <a:pt x="26" y="117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10" y="100"/>
                  </a:lnTo>
                  <a:lnTo>
                    <a:pt x="6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46080" y="1735200"/>
              <a:ext cx="230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60560" y="1716120"/>
              <a:ext cx="1440" cy="75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846080" y="1792080"/>
              <a:ext cx="114480" cy="74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60560" y="1792080"/>
              <a:ext cx="115920" cy="74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93520" y="1874880"/>
              <a:ext cx="21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11440" y="1420920"/>
              <a:ext cx="1620720" cy="1063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74880" y="2030400"/>
              <a:ext cx="172800" cy="11412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0" y="72"/>
                  </a:moveTo>
                  <a:lnTo>
                    <a:pt x="0" y="64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10" y="45"/>
                  </a:lnTo>
                  <a:lnTo>
                    <a:pt x="13" y="37"/>
                  </a:lnTo>
                  <a:lnTo>
                    <a:pt x="19" y="31"/>
                  </a:lnTo>
                  <a:lnTo>
                    <a:pt x="26" y="27"/>
                  </a:lnTo>
                  <a:lnTo>
                    <a:pt x="32" y="22"/>
                  </a:lnTo>
                  <a:lnTo>
                    <a:pt x="41" y="17"/>
                  </a:lnTo>
                  <a:lnTo>
                    <a:pt x="48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7" y="4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9" y="0"/>
                  </a:lnTo>
                  <a:lnTo>
                    <a:pt x="120" y="1"/>
                  </a:lnTo>
                  <a:lnTo>
                    <a:pt x="131" y="3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69" y="13"/>
                  </a:lnTo>
                  <a:lnTo>
                    <a:pt x="178" y="17"/>
                  </a:lnTo>
                  <a:lnTo>
                    <a:pt x="186" y="22"/>
                  </a:lnTo>
                  <a:lnTo>
                    <a:pt x="193" y="27"/>
                  </a:lnTo>
                  <a:lnTo>
                    <a:pt x="199" y="31"/>
                  </a:lnTo>
                  <a:lnTo>
                    <a:pt x="204" y="37"/>
                  </a:lnTo>
                  <a:lnTo>
                    <a:pt x="210" y="45"/>
                  </a:lnTo>
                  <a:lnTo>
                    <a:pt x="213" y="51"/>
                  </a:lnTo>
                  <a:lnTo>
                    <a:pt x="215" y="58"/>
                  </a:lnTo>
                  <a:lnTo>
                    <a:pt x="217" y="64"/>
                  </a:lnTo>
                  <a:lnTo>
                    <a:pt x="219" y="72"/>
                  </a:lnTo>
                  <a:lnTo>
                    <a:pt x="219" y="72"/>
                  </a:lnTo>
                  <a:lnTo>
                    <a:pt x="217" y="80"/>
                  </a:lnTo>
                  <a:lnTo>
                    <a:pt x="215" y="86"/>
                  </a:lnTo>
                  <a:lnTo>
                    <a:pt x="213" y="93"/>
                  </a:lnTo>
                  <a:lnTo>
                    <a:pt x="210" y="100"/>
                  </a:lnTo>
                  <a:lnTo>
                    <a:pt x="204" y="106"/>
                  </a:lnTo>
                  <a:lnTo>
                    <a:pt x="199" y="112"/>
                  </a:lnTo>
                  <a:lnTo>
                    <a:pt x="193" y="117"/>
                  </a:lnTo>
                  <a:lnTo>
                    <a:pt x="186" y="122"/>
                  </a:lnTo>
                  <a:lnTo>
                    <a:pt x="178" y="127"/>
                  </a:lnTo>
                  <a:lnTo>
                    <a:pt x="169" y="131"/>
                  </a:lnTo>
                  <a:lnTo>
                    <a:pt x="162" y="135"/>
                  </a:lnTo>
                  <a:lnTo>
                    <a:pt x="151" y="138"/>
                  </a:lnTo>
                  <a:lnTo>
                    <a:pt x="142" y="140"/>
                  </a:lnTo>
                  <a:lnTo>
                    <a:pt x="131" y="142"/>
                  </a:lnTo>
                  <a:lnTo>
                    <a:pt x="120" y="142"/>
                  </a:lnTo>
                  <a:lnTo>
                    <a:pt x="109" y="144"/>
                  </a:lnTo>
                  <a:lnTo>
                    <a:pt x="98" y="142"/>
                  </a:lnTo>
                  <a:lnTo>
                    <a:pt x="87" y="142"/>
                  </a:lnTo>
                  <a:lnTo>
                    <a:pt x="77" y="140"/>
                  </a:lnTo>
                  <a:lnTo>
                    <a:pt x="66" y="138"/>
                  </a:lnTo>
                  <a:lnTo>
                    <a:pt x="57" y="135"/>
                  </a:lnTo>
                  <a:lnTo>
                    <a:pt x="48" y="131"/>
                  </a:lnTo>
                  <a:lnTo>
                    <a:pt x="41" y="127"/>
                  </a:lnTo>
                  <a:lnTo>
                    <a:pt x="32" y="122"/>
                  </a:lnTo>
                  <a:lnTo>
                    <a:pt x="26" y="117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10" y="100"/>
                  </a:lnTo>
                  <a:lnTo>
                    <a:pt x="6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4880" y="2030400"/>
              <a:ext cx="172800" cy="11412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0" y="72"/>
                  </a:moveTo>
                  <a:lnTo>
                    <a:pt x="0" y="64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10" y="45"/>
                  </a:lnTo>
                  <a:lnTo>
                    <a:pt x="13" y="37"/>
                  </a:lnTo>
                  <a:lnTo>
                    <a:pt x="19" y="31"/>
                  </a:lnTo>
                  <a:lnTo>
                    <a:pt x="26" y="27"/>
                  </a:lnTo>
                  <a:lnTo>
                    <a:pt x="32" y="22"/>
                  </a:lnTo>
                  <a:lnTo>
                    <a:pt x="41" y="17"/>
                  </a:lnTo>
                  <a:lnTo>
                    <a:pt x="48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7" y="4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9" y="0"/>
                  </a:lnTo>
                  <a:lnTo>
                    <a:pt x="120" y="1"/>
                  </a:lnTo>
                  <a:lnTo>
                    <a:pt x="131" y="3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69" y="13"/>
                  </a:lnTo>
                  <a:lnTo>
                    <a:pt x="178" y="17"/>
                  </a:lnTo>
                  <a:lnTo>
                    <a:pt x="186" y="22"/>
                  </a:lnTo>
                  <a:lnTo>
                    <a:pt x="193" y="27"/>
                  </a:lnTo>
                  <a:lnTo>
                    <a:pt x="199" y="31"/>
                  </a:lnTo>
                  <a:lnTo>
                    <a:pt x="204" y="37"/>
                  </a:lnTo>
                  <a:lnTo>
                    <a:pt x="210" y="45"/>
                  </a:lnTo>
                  <a:lnTo>
                    <a:pt x="213" y="51"/>
                  </a:lnTo>
                  <a:lnTo>
                    <a:pt x="215" y="58"/>
                  </a:lnTo>
                  <a:lnTo>
                    <a:pt x="217" y="64"/>
                  </a:lnTo>
                  <a:lnTo>
                    <a:pt x="219" y="72"/>
                  </a:lnTo>
                  <a:lnTo>
                    <a:pt x="219" y="72"/>
                  </a:lnTo>
                  <a:lnTo>
                    <a:pt x="217" y="80"/>
                  </a:lnTo>
                  <a:lnTo>
                    <a:pt x="215" y="86"/>
                  </a:lnTo>
                  <a:lnTo>
                    <a:pt x="213" y="93"/>
                  </a:lnTo>
                  <a:lnTo>
                    <a:pt x="210" y="100"/>
                  </a:lnTo>
                  <a:lnTo>
                    <a:pt x="204" y="106"/>
                  </a:lnTo>
                  <a:lnTo>
                    <a:pt x="199" y="112"/>
                  </a:lnTo>
                  <a:lnTo>
                    <a:pt x="193" y="117"/>
                  </a:lnTo>
                  <a:lnTo>
                    <a:pt x="186" y="122"/>
                  </a:lnTo>
                  <a:lnTo>
                    <a:pt x="178" y="127"/>
                  </a:lnTo>
                  <a:lnTo>
                    <a:pt x="169" y="131"/>
                  </a:lnTo>
                  <a:lnTo>
                    <a:pt x="162" y="135"/>
                  </a:lnTo>
                  <a:lnTo>
                    <a:pt x="151" y="138"/>
                  </a:lnTo>
                  <a:lnTo>
                    <a:pt x="142" y="140"/>
                  </a:lnTo>
                  <a:lnTo>
                    <a:pt x="131" y="142"/>
                  </a:lnTo>
                  <a:lnTo>
                    <a:pt x="120" y="142"/>
                  </a:lnTo>
                  <a:lnTo>
                    <a:pt x="109" y="144"/>
                  </a:lnTo>
                  <a:lnTo>
                    <a:pt x="98" y="142"/>
                  </a:lnTo>
                  <a:lnTo>
                    <a:pt x="87" y="142"/>
                  </a:lnTo>
                  <a:lnTo>
                    <a:pt x="77" y="140"/>
                  </a:lnTo>
                  <a:lnTo>
                    <a:pt x="66" y="138"/>
                  </a:lnTo>
                  <a:lnTo>
                    <a:pt x="57" y="135"/>
                  </a:lnTo>
                  <a:lnTo>
                    <a:pt x="48" y="131"/>
                  </a:lnTo>
                  <a:lnTo>
                    <a:pt x="41" y="127"/>
                  </a:lnTo>
                  <a:lnTo>
                    <a:pt x="32" y="122"/>
                  </a:lnTo>
                  <a:lnTo>
                    <a:pt x="26" y="117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10" y="100"/>
                  </a:lnTo>
                  <a:lnTo>
                    <a:pt x="6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47880" y="2163600"/>
              <a:ext cx="228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60560" y="2144520"/>
              <a:ext cx="1440" cy="74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847520" y="2219400"/>
              <a:ext cx="112680" cy="75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0560" y="2219400"/>
              <a:ext cx="115920" cy="75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9160" y="1625400"/>
              <a:ext cx="561960" cy="163800"/>
            </a:xfrm>
            <a:custGeom>
              <a:avLst/>
              <a:gdLst/>
              <a:ahLst/>
              <a:rect l="l" t="t" r="r" b="b"/>
              <a:pathLst>
                <a:path w="707" h="206">
                  <a:moveTo>
                    <a:pt x="0" y="104"/>
                  </a:moveTo>
                  <a:lnTo>
                    <a:pt x="2" y="98"/>
                  </a:lnTo>
                  <a:lnTo>
                    <a:pt x="2" y="93"/>
                  </a:lnTo>
                  <a:lnTo>
                    <a:pt x="4" y="88"/>
                  </a:lnTo>
                  <a:lnTo>
                    <a:pt x="8" y="83"/>
                  </a:lnTo>
                  <a:lnTo>
                    <a:pt x="11" y="77"/>
                  </a:lnTo>
                  <a:lnTo>
                    <a:pt x="17" y="72"/>
                  </a:lnTo>
                  <a:lnTo>
                    <a:pt x="22" y="68"/>
                  </a:lnTo>
                  <a:lnTo>
                    <a:pt x="28" y="64"/>
                  </a:lnTo>
                  <a:lnTo>
                    <a:pt x="35" y="59"/>
                  </a:lnTo>
                  <a:lnTo>
                    <a:pt x="43" y="54"/>
                  </a:lnTo>
                  <a:lnTo>
                    <a:pt x="52" y="51"/>
                  </a:lnTo>
                  <a:lnTo>
                    <a:pt x="61" y="46"/>
                  </a:lnTo>
                  <a:lnTo>
                    <a:pt x="70" y="42"/>
                  </a:lnTo>
                  <a:lnTo>
                    <a:pt x="81" y="37"/>
                  </a:lnTo>
                  <a:lnTo>
                    <a:pt x="92" y="34"/>
                  </a:lnTo>
                  <a:lnTo>
                    <a:pt x="105" y="30"/>
                  </a:lnTo>
                  <a:lnTo>
                    <a:pt x="116" y="28"/>
                  </a:lnTo>
                  <a:lnTo>
                    <a:pt x="129" y="24"/>
                  </a:lnTo>
                  <a:lnTo>
                    <a:pt x="144" y="21"/>
                  </a:lnTo>
                  <a:lnTo>
                    <a:pt x="156" y="18"/>
                  </a:lnTo>
                  <a:lnTo>
                    <a:pt x="171" y="16"/>
                  </a:lnTo>
                  <a:lnTo>
                    <a:pt x="186" y="13"/>
                  </a:lnTo>
                  <a:lnTo>
                    <a:pt x="217" y="9"/>
                  </a:lnTo>
                  <a:lnTo>
                    <a:pt x="248" y="5"/>
                  </a:lnTo>
                  <a:lnTo>
                    <a:pt x="283" y="3"/>
                  </a:lnTo>
                  <a:lnTo>
                    <a:pt x="318" y="1"/>
                  </a:lnTo>
                  <a:lnTo>
                    <a:pt x="355" y="0"/>
                  </a:lnTo>
                  <a:lnTo>
                    <a:pt x="390" y="1"/>
                  </a:lnTo>
                  <a:lnTo>
                    <a:pt x="424" y="3"/>
                  </a:lnTo>
                  <a:lnTo>
                    <a:pt x="459" y="5"/>
                  </a:lnTo>
                  <a:lnTo>
                    <a:pt x="490" y="9"/>
                  </a:lnTo>
                  <a:lnTo>
                    <a:pt x="522" y="13"/>
                  </a:lnTo>
                  <a:lnTo>
                    <a:pt x="536" y="16"/>
                  </a:lnTo>
                  <a:lnTo>
                    <a:pt x="551" y="18"/>
                  </a:lnTo>
                  <a:lnTo>
                    <a:pt x="566" y="21"/>
                  </a:lnTo>
                  <a:lnTo>
                    <a:pt x="579" y="24"/>
                  </a:lnTo>
                  <a:lnTo>
                    <a:pt x="591" y="28"/>
                  </a:lnTo>
                  <a:lnTo>
                    <a:pt x="604" y="30"/>
                  </a:lnTo>
                  <a:lnTo>
                    <a:pt x="615" y="34"/>
                  </a:lnTo>
                  <a:lnTo>
                    <a:pt x="626" y="37"/>
                  </a:lnTo>
                  <a:lnTo>
                    <a:pt x="637" y="42"/>
                  </a:lnTo>
                  <a:lnTo>
                    <a:pt x="647" y="46"/>
                  </a:lnTo>
                  <a:lnTo>
                    <a:pt x="656" y="51"/>
                  </a:lnTo>
                  <a:lnTo>
                    <a:pt x="665" y="54"/>
                  </a:lnTo>
                  <a:lnTo>
                    <a:pt x="672" y="59"/>
                  </a:lnTo>
                  <a:lnTo>
                    <a:pt x="680" y="64"/>
                  </a:lnTo>
                  <a:lnTo>
                    <a:pt x="685" y="68"/>
                  </a:lnTo>
                  <a:lnTo>
                    <a:pt x="691" y="72"/>
                  </a:lnTo>
                  <a:lnTo>
                    <a:pt x="696" y="77"/>
                  </a:lnTo>
                  <a:lnTo>
                    <a:pt x="700" y="83"/>
                  </a:lnTo>
                  <a:lnTo>
                    <a:pt x="703" y="88"/>
                  </a:lnTo>
                  <a:lnTo>
                    <a:pt x="705" y="93"/>
                  </a:lnTo>
                  <a:lnTo>
                    <a:pt x="707" y="98"/>
                  </a:lnTo>
                  <a:lnTo>
                    <a:pt x="707" y="104"/>
                  </a:lnTo>
                  <a:lnTo>
                    <a:pt x="707" y="104"/>
                  </a:lnTo>
                  <a:lnTo>
                    <a:pt x="707" y="109"/>
                  </a:lnTo>
                  <a:lnTo>
                    <a:pt x="705" y="115"/>
                  </a:lnTo>
                  <a:lnTo>
                    <a:pt x="703" y="119"/>
                  </a:lnTo>
                  <a:lnTo>
                    <a:pt x="700" y="124"/>
                  </a:lnTo>
                  <a:lnTo>
                    <a:pt x="696" y="129"/>
                  </a:lnTo>
                  <a:lnTo>
                    <a:pt x="691" y="134"/>
                  </a:lnTo>
                  <a:lnTo>
                    <a:pt x="685" y="139"/>
                  </a:lnTo>
                  <a:lnTo>
                    <a:pt x="680" y="144"/>
                  </a:lnTo>
                  <a:lnTo>
                    <a:pt x="672" y="148"/>
                  </a:lnTo>
                  <a:lnTo>
                    <a:pt x="665" y="153"/>
                  </a:lnTo>
                  <a:lnTo>
                    <a:pt x="656" y="157"/>
                  </a:lnTo>
                  <a:lnTo>
                    <a:pt x="647" y="162"/>
                  </a:lnTo>
                  <a:lnTo>
                    <a:pt x="637" y="165"/>
                  </a:lnTo>
                  <a:lnTo>
                    <a:pt x="626" y="169"/>
                  </a:lnTo>
                  <a:lnTo>
                    <a:pt x="615" y="172"/>
                  </a:lnTo>
                  <a:lnTo>
                    <a:pt x="604" y="176"/>
                  </a:lnTo>
                  <a:lnTo>
                    <a:pt x="591" y="180"/>
                  </a:lnTo>
                  <a:lnTo>
                    <a:pt x="579" y="183"/>
                  </a:lnTo>
                  <a:lnTo>
                    <a:pt x="566" y="186"/>
                  </a:lnTo>
                  <a:lnTo>
                    <a:pt x="551" y="189"/>
                  </a:lnTo>
                  <a:lnTo>
                    <a:pt x="536" y="192"/>
                  </a:lnTo>
                  <a:lnTo>
                    <a:pt x="522" y="194"/>
                  </a:lnTo>
                  <a:lnTo>
                    <a:pt x="490" y="199"/>
                  </a:lnTo>
                  <a:lnTo>
                    <a:pt x="459" y="201"/>
                  </a:lnTo>
                  <a:lnTo>
                    <a:pt x="424" y="205"/>
                  </a:lnTo>
                  <a:lnTo>
                    <a:pt x="390" y="206"/>
                  </a:lnTo>
                  <a:lnTo>
                    <a:pt x="355" y="206"/>
                  </a:lnTo>
                  <a:lnTo>
                    <a:pt x="318" y="206"/>
                  </a:lnTo>
                  <a:lnTo>
                    <a:pt x="283" y="205"/>
                  </a:lnTo>
                  <a:lnTo>
                    <a:pt x="248" y="201"/>
                  </a:lnTo>
                  <a:lnTo>
                    <a:pt x="217" y="199"/>
                  </a:lnTo>
                  <a:lnTo>
                    <a:pt x="186" y="194"/>
                  </a:lnTo>
                  <a:lnTo>
                    <a:pt x="171" y="192"/>
                  </a:lnTo>
                  <a:lnTo>
                    <a:pt x="156" y="189"/>
                  </a:lnTo>
                  <a:lnTo>
                    <a:pt x="144" y="186"/>
                  </a:lnTo>
                  <a:lnTo>
                    <a:pt x="129" y="183"/>
                  </a:lnTo>
                  <a:lnTo>
                    <a:pt x="116" y="180"/>
                  </a:lnTo>
                  <a:lnTo>
                    <a:pt x="105" y="176"/>
                  </a:lnTo>
                  <a:lnTo>
                    <a:pt x="92" y="172"/>
                  </a:lnTo>
                  <a:lnTo>
                    <a:pt x="81" y="169"/>
                  </a:lnTo>
                  <a:lnTo>
                    <a:pt x="70" y="165"/>
                  </a:lnTo>
                  <a:lnTo>
                    <a:pt x="61" y="162"/>
                  </a:lnTo>
                  <a:lnTo>
                    <a:pt x="52" y="157"/>
                  </a:lnTo>
                  <a:lnTo>
                    <a:pt x="43" y="153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2" y="139"/>
                  </a:lnTo>
                  <a:lnTo>
                    <a:pt x="17" y="134"/>
                  </a:lnTo>
                  <a:lnTo>
                    <a:pt x="11" y="129"/>
                  </a:lnTo>
                  <a:lnTo>
                    <a:pt x="8" y="124"/>
                  </a:lnTo>
                  <a:lnTo>
                    <a:pt x="4" y="119"/>
                  </a:lnTo>
                  <a:lnTo>
                    <a:pt x="2" y="115"/>
                  </a:lnTo>
                  <a:lnTo>
                    <a:pt x="2" y="109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59160" y="1625400"/>
              <a:ext cx="561960" cy="163800"/>
            </a:xfrm>
            <a:custGeom>
              <a:avLst/>
              <a:gdLst/>
              <a:ahLst/>
              <a:rect l="l" t="t" r="r" b="b"/>
              <a:pathLst>
                <a:path w="707" h="206">
                  <a:moveTo>
                    <a:pt x="0" y="104"/>
                  </a:moveTo>
                  <a:lnTo>
                    <a:pt x="2" y="98"/>
                  </a:lnTo>
                  <a:lnTo>
                    <a:pt x="2" y="93"/>
                  </a:lnTo>
                  <a:lnTo>
                    <a:pt x="4" y="88"/>
                  </a:lnTo>
                  <a:lnTo>
                    <a:pt x="8" y="83"/>
                  </a:lnTo>
                  <a:lnTo>
                    <a:pt x="11" y="77"/>
                  </a:lnTo>
                  <a:lnTo>
                    <a:pt x="17" y="72"/>
                  </a:lnTo>
                  <a:lnTo>
                    <a:pt x="22" y="68"/>
                  </a:lnTo>
                  <a:lnTo>
                    <a:pt x="28" y="64"/>
                  </a:lnTo>
                  <a:lnTo>
                    <a:pt x="35" y="59"/>
                  </a:lnTo>
                  <a:lnTo>
                    <a:pt x="43" y="54"/>
                  </a:lnTo>
                  <a:lnTo>
                    <a:pt x="52" y="51"/>
                  </a:lnTo>
                  <a:lnTo>
                    <a:pt x="61" y="46"/>
                  </a:lnTo>
                  <a:lnTo>
                    <a:pt x="70" y="42"/>
                  </a:lnTo>
                  <a:lnTo>
                    <a:pt x="81" y="37"/>
                  </a:lnTo>
                  <a:lnTo>
                    <a:pt x="92" y="34"/>
                  </a:lnTo>
                  <a:lnTo>
                    <a:pt x="105" y="30"/>
                  </a:lnTo>
                  <a:lnTo>
                    <a:pt x="116" y="28"/>
                  </a:lnTo>
                  <a:lnTo>
                    <a:pt x="129" y="24"/>
                  </a:lnTo>
                  <a:lnTo>
                    <a:pt x="144" y="21"/>
                  </a:lnTo>
                  <a:lnTo>
                    <a:pt x="156" y="18"/>
                  </a:lnTo>
                  <a:lnTo>
                    <a:pt x="171" y="16"/>
                  </a:lnTo>
                  <a:lnTo>
                    <a:pt x="186" y="13"/>
                  </a:lnTo>
                  <a:lnTo>
                    <a:pt x="217" y="9"/>
                  </a:lnTo>
                  <a:lnTo>
                    <a:pt x="248" y="5"/>
                  </a:lnTo>
                  <a:lnTo>
                    <a:pt x="283" y="3"/>
                  </a:lnTo>
                  <a:lnTo>
                    <a:pt x="318" y="1"/>
                  </a:lnTo>
                  <a:lnTo>
                    <a:pt x="355" y="0"/>
                  </a:lnTo>
                  <a:lnTo>
                    <a:pt x="390" y="1"/>
                  </a:lnTo>
                  <a:lnTo>
                    <a:pt x="424" y="3"/>
                  </a:lnTo>
                  <a:lnTo>
                    <a:pt x="459" y="5"/>
                  </a:lnTo>
                  <a:lnTo>
                    <a:pt x="490" y="9"/>
                  </a:lnTo>
                  <a:lnTo>
                    <a:pt x="522" y="13"/>
                  </a:lnTo>
                  <a:lnTo>
                    <a:pt x="536" y="16"/>
                  </a:lnTo>
                  <a:lnTo>
                    <a:pt x="551" y="18"/>
                  </a:lnTo>
                  <a:lnTo>
                    <a:pt x="566" y="21"/>
                  </a:lnTo>
                  <a:lnTo>
                    <a:pt x="579" y="24"/>
                  </a:lnTo>
                  <a:lnTo>
                    <a:pt x="591" y="28"/>
                  </a:lnTo>
                  <a:lnTo>
                    <a:pt x="604" y="30"/>
                  </a:lnTo>
                  <a:lnTo>
                    <a:pt x="615" y="34"/>
                  </a:lnTo>
                  <a:lnTo>
                    <a:pt x="626" y="37"/>
                  </a:lnTo>
                  <a:lnTo>
                    <a:pt x="637" y="42"/>
                  </a:lnTo>
                  <a:lnTo>
                    <a:pt x="647" y="46"/>
                  </a:lnTo>
                  <a:lnTo>
                    <a:pt x="656" y="51"/>
                  </a:lnTo>
                  <a:lnTo>
                    <a:pt x="665" y="54"/>
                  </a:lnTo>
                  <a:lnTo>
                    <a:pt x="672" y="59"/>
                  </a:lnTo>
                  <a:lnTo>
                    <a:pt x="680" y="64"/>
                  </a:lnTo>
                  <a:lnTo>
                    <a:pt x="685" y="68"/>
                  </a:lnTo>
                  <a:lnTo>
                    <a:pt x="691" y="72"/>
                  </a:lnTo>
                  <a:lnTo>
                    <a:pt x="696" y="77"/>
                  </a:lnTo>
                  <a:lnTo>
                    <a:pt x="700" y="83"/>
                  </a:lnTo>
                  <a:lnTo>
                    <a:pt x="703" y="88"/>
                  </a:lnTo>
                  <a:lnTo>
                    <a:pt x="705" y="93"/>
                  </a:lnTo>
                  <a:lnTo>
                    <a:pt x="707" y="98"/>
                  </a:lnTo>
                  <a:lnTo>
                    <a:pt x="707" y="104"/>
                  </a:lnTo>
                  <a:lnTo>
                    <a:pt x="707" y="104"/>
                  </a:lnTo>
                  <a:lnTo>
                    <a:pt x="707" y="109"/>
                  </a:lnTo>
                  <a:lnTo>
                    <a:pt x="705" y="115"/>
                  </a:lnTo>
                  <a:lnTo>
                    <a:pt x="703" y="119"/>
                  </a:lnTo>
                  <a:lnTo>
                    <a:pt x="700" y="124"/>
                  </a:lnTo>
                  <a:lnTo>
                    <a:pt x="696" y="129"/>
                  </a:lnTo>
                  <a:lnTo>
                    <a:pt x="691" y="134"/>
                  </a:lnTo>
                  <a:lnTo>
                    <a:pt x="685" y="139"/>
                  </a:lnTo>
                  <a:lnTo>
                    <a:pt x="680" y="144"/>
                  </a:lnTo>
                  <a:lnTo>
                    <a:pt x="672" y="148"/>
                  </a:lnTo>
                  <a:lnTo>
                    <a:pt x="665" y="153"/>
                  </a:lnTo>
                  <a:lnTo>
                    <a:pt x="656" y="157"/>
                  </a:lnTo>
                  <a:lnTo>
                    <a:pt x="647" y="162"/>
                  </a:lnTo>
                  <a:lnTo>
                    <a:pt x="637" y="165"/>
                  </a:lnTo>
                  <a:lnTo>
                    <a:pt x="626" y="169"/>
                  </a:lnTo>
                  <a:lnTo>
                    <a:pt x="615" y="172"/>
                  </a:lnTo>
                  <a:lnTo>
                    <a:pt x="604" y="176"/>
                  </a:lnTo>
                  <a:lnTo>
                    <a:pt x="591" y="180"/>
                  </a:lnTo>
                  <a:lnTo>
                    <a:pt x="579" y="183"/>
                  </a:lnTo>
                  <a:lnTo>
                    <a:pt x="566" y="186"/>
                  </a:lnTo>
                  <a:lnTo>
                    <a:pt x="551" y="189"/>
                  </a:lnTo>
                  <a:lnTo>
                    <a:pt x="536" y="192"/>
                  </a:lnTo>
                  <a:lnTo>
                    <a:pt x="522" y="194"/>
                  </a:lnTo>
                  <a:lnTo>
                    <a:pt x="490" y="199"/>
                  </a:lnTo>
                  <a:lnTo>
                    <a:pt x="459" y="201"/>
                  </a:lnTo>
                  <a:lnTo>
                    <a:pt x="424" y="205"/>
                  </a:lnTo>
                  <a:lnTo>
                    <a:pt x="390" y="206"/>
                  </a:lnTo>
                  <a:lnTo>
                    <a:pt x="355" y="206"/>
                  </a:lnTo>
                  <a:lnTo>
                    <a:pt x="318" y="206"/>
                  </a:lnTo>
                  <a:lnTo>
                    <a:pt x="283" y="205"/>
                  </a:lnTo>
                  <a:lnTo>
                    <a:pt x="248" y="201"/>
                  </a:lnTo>
                  <a:lnTo>
                    <a:pt x="217" y="199"/>
                  </a:lnTo>
                  <a:lnTo>
                    <a:pt x="186" y="194"/>
                  </a:lnTo>
                  <a:lnTo>
                    <a:pt x="171" y="192"/>
                  </a:lnTo>
                  <a:lnTo>
                    <a:pt x="156" y="189"/>
                  </a:lnTo>
                  <a:lnTo>
                    <a:pt x="144" y="186"/>
                  </a:lnTo>
                  <a:lnTo>
                    <a:pt x="129" y="183"/>
                  </a:lnTo>
                  <a:lnTo>
                    <a:pt x="116" y="180"/>
                  </a:lnTo>
                  <a:lnTo>
                    <a:pt x="105" y="176"/>
                  </a:lnTo>
                  <a:lnTo>
                    <a:pt x="92" y="172"/>
                  </a:lnTo>
                  <a:lnTo>
                    <a:pt x="81" y="169"/>
                  </a:lnTo>
                  <a:lnTo>
                    <a:pt x="70" y="165"/>
                  </a:lnTo>
                  <a:lnTo>
                    <a:pt x="61" y="162"/>
                  </a:lnTo>
                  <a:lnTo>
                    <a:pt x="52" y="157"/>
                  </a:lnTo>
                  <a:lnTo>
                    <a:pt x="43" y="153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2" y="139"/>
                  </a:lnTo>
                  <a:lnTo>
                    <a:pt x="17" y="134"/>
                  </a:lnTo>
                  <a:lnTo>
                    <a:pt x="11" y="129"/>
                  </a:lnTo>
                  <a:lnTo>
                    <a:pt x="8" y="124"/>
                  </a:lnTo>
                  <a:lnTo>
                    <a:pt x="4" y="119"/>
                  </a:lnTo>
                  <a:lnTo>
                    <a:pt x="2" y="115"/>
                  </a:lnTo>
                  <a:lnTo>
                    <a:pt x="2" y="109"/>
                  </a:lnTo>
                  <a:lnTo>
                    <a:pt x="0" y="10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62480" y="1630440"/>
              <a:ext cx="24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3120" y="1708200"/>
              <a:ext cx="12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98680" y="1911240"/>
              <a:ext cx="558720" cy="163440"/>
            </a:xfrm>
            <a:custGeom>
              <a:avLst/>
              <a:gdLst/>
              <a:ahLst/>
              <a:rect l="l" t="t" r="r" b="b"/>
              <a:pathLst>
                <a:path w="705" h="205">
                  <a:moveTo>
                    <a:pt x="0" y="102"/>
                  </a:moveTo>
                  <a:lnTo>
                    <a:pt x="0" y="97"/>
                  </a:lnTo>
                  <a:lnTo>
                    <a:pt x="2" y="91"/>
                  </a:lnTo>
                  <a:lnTo>
                    <a:pt x="4" y="86"/>
                  </a:lnTo>
                  <a:lnTo>
                    <a:pt x="6" y="82"/>
                  </a:lnTo>
                  <a:lnTo>
                    <a:pt x="11" y="77"/>
                  </a:lnTo>
                  <a:lnTo>
                    <a:pt x="15" y="72"/>
                  </a:lnTo>
                  <a:lnTo>
                    <a:pt x="20" y="67"/>
                  </a:lnTo>
                  <a:lnTo>
                    <a:pt x="28" y="62"/>
                  </a:lnTo>
                  <a:lnTo>
                    <a:pt x="33" y="58"/>
                  </a:lnTo>
                  <a:lnTo>
                    <a:pt x="43" y="53"/>
                  </a:lnTo>
                  <a:lnTo>
                    <a:pt x="50" y="49"/>
                  </a:lnTo>
                  <a:lnTo>
                    <a:pt x="59" y="44"/>
                  </a:lnTo>
                  <a:lnTo>
                    <a:pt x="70" y="41"/>
                  </a:lnTo>
                  <a:lnTo>
                    <a:pt x="79" y="37"/>
                  </a:lnTo>
                  <a:lnTo>
                    <a:pt x="90" y="33"/>
                  </a:lnTo>
                  <a:lnTo>
                    <a:pt x="103" y="30"/>
                  </a:lnTo>
                  <a:lnTo>
                    <a:pt x="116" y="26"/>
                  </a:lnTo>
                  <a:lnTo>
                    <a:pt x="129" y="23"/>
                  </a:lnTo>
                  <a:lnTo>
                    <a:pt x="142" y="19"/>
                  </a:lnTo>
                  <a:lnTo>
                    <a:pt x="154" y="17"/>
                  </a:lnTo>
                  <a:lnTo>
                    <a:pt x="169" y="14"/>
                  </a:lnTo>
                  <a:lnTo>
                    <a:pt x="184" y="12"/>
                  </a:lnTo>
                  <a:lnTo>
                    <a:pt x="215" y="7"/>
                  </a:lnTo>
                  <a:lnTo>
                    <a:pt x="248" y="3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3" y="0"/>
                  </a:lnTo>
                  <a:lnTo>
                    <a:pt x="388" y="0"/>
                  </a:lnTo>
                  <a:lnTo>
                    <a:pt x="424" y="1"/>
                  </a:lnTo>
                  <a:lnTo>
                    <a:pt x="457" y="3"/>
                  </a:lnTo>
                  <a:lnTo>
                    <a:pt x="490" y="7"/>
                  </a:lnTo>
                  <a:lnTo>
                    <a:pt x="520" y="12"/>
                  </a:lnTo>
                  <a:lnTo>
                    <a:pt x="536" y="14"/>
                  </a:lnTo>
                  <a:lnTo>
                    <a:pt x="549" y="17"/>
                  </a:lnTo>
                  <a:lnTo>
                    <a:pt x="564" y="19"/>
                  </a:lnTo>
                  <a:lnTo>
                    <a:pt x="577" y="23"/>
                  </a:lnTo>
                  <a:lnTo>
                    <a:pt x="590" y="26"/>
                  </a:lnTo>
                  <a:lnTo>
                    <a:pt x="602" y="30"/>
                  </a:lnTo>
                  <a:lnTo>
                    <a:pt x="613" y="33"/>
                  </a:lnTo>
                  <a:lnTo>
                    <a:pt x="624" y="37"/>
                  </a:lnTo>
                  <a:lnTo>
                    <a:pt x="635" y="41"/>
                  </a:lnTo>
                  <a:lnTo>
                    <a:pt x="645" y="44"/>
                  </a:lnTo>
                  <a:lnTo>
                    <a:pt x="654" y="49"/>
                  </a:lnTo>
                  <a:lnTo>
                    <a:pt x="663" y="53"/>
                  </a:lnTo>
                  <a:lnTo>
                    <a:pt x="670" y="58"/>
                  </a:lnTo>
                  <a:lnTo>
                    <a:pt x="678" y="62"/>
                  </a:lnTo>
                  <a:lnTo>
                    <a:pt x="683" y="67"/>
                  </a:lnTo>
                  <a:lnTo>
                    <a:pt x="689" y="72"/>
                  </a:lnTo>
                  <a:lnTo>
                    <a:pt x="694" y="77"/>
                  </a:lnTo>
                  <a:lnTo>
                    <a:pt x="698" y="82"/>
                  </a:lnTo>
                  <a:lnTo>
                    <a:pt x="701" y="86"/>
                  </a:lnTo>
                  <a:lnTo>
                    <a:pt x="703" y="91"/>
                  </a:lnTo>
                  <a:lnTo>
                    <a:pt x="705" y="97"/>
                  </a:lnTo>
                  <a:lnTo>
                    <a:pt x="705" y="102"/>
                  </a:lnTo>
                  <a:lnTo>
                    <a:pt x="705" y="102"/>
                  </a:lnTo>
                  <a:lnTo>
                    <a:pt x="705" y="107"/>
                  </a:lnTo>
                  <a:lnTo>
                    <a:pt x="703" y="113"/>
                  </a:lnTo>
                  <a:lnTo>
                    <a:pt x="701" y="118"/>
                  </a:lnTo>
                  <a:lnTo>
                    <a:pt x="698" y="123"/>
                  </a:lnTo>
                  <a:lnTo>
                    <a:pt x="694" y="127"/>
                  </a:lnTo>
                  <a:lnTo>
                    <a:pt x="689" y="132"/>
                  </a:lnTo>
                  <a:lnTo>
                    <a:pt x="683" y="137"/>
                  </a:lnTo>
                  <a:lnTo>
                    <a:pt x="678" y="142"/>
                  </a:lnTo>
                  <a:lnTo>
                    <a:pt x="670" y="147"/>
                  </a:lnTo>
                  <a:lnTo>
                    <a:pt x="663" y="152"/>
                  </a:lnTo>
                  <a:lnTo>
                    <a:pt x="654" y="155"/>
                  </a:lnTo>
                  <a:lnTo>
                    <a:pt x="645" y="160"/>
                  </a:lnTo>
                  <a:lnTo>
                    <a:pt x="635" y="164"/>
                  </a:lnTo>
                  <a:lnTo>
                    <a:pt x="624" y="167"/>
                  </a:lnTo>
                  <a:lnTo>
                    <a:pt x="613" y="171"/>
                  </a:lnTo>
                  <a:lnTo>
                    <a:pt x="602" y="174"/>
                  </a:lnTo>
                  <a:lnTo>
                    <a:pt x="590" y="178"/>
                  </a:lnTo>
                  <a:lnTo>
                    <a:pt x="577" y="182"/>
                  </a:lnTo>
                  <a:lnTo>
                    <a:pt x="564" y="184"/>
                  </a:lnTo>
                  <a:lnTo>
                    <a:pt x="549" y="188"/>
                  </a:lnTo>
                  <a:lnTo>
                    <a:pt x="536" y="190"/>
                  </a:lnTo>
                  <a:lnTo>
                    <a:pt x="520" y="193"/>
                  </a:lnTo>
                  <a:lnTo>
                    <a:pt x="490" y="197"/>
                  </a:lnTo>
                  <a:lnTo>
                    <a:pt x="457" y="201"/>
                  </a:lnTo>
                  <a:lnTo>
                    <a:pt x="424" y="203"/>
                  </a:lnTo>
                  <a:lnTo>
                    <a:pt x="388" y="205"/>
                  </a:lnTo>
                  <a:lnTo>
                    <a:pt x="353" y="205"/>
                  </a:lnTo>
                  <a:lnTo>
                    <a:pt x="316" y="205"/>
                  </a:lnTo>
                  <a:lnTo>
                    <a:pt x="281" y="203"/>
                  </a:lnTo>
                  <a:lnTo>
                    <a:pt x="248" y="201"/>
                  </a:lnTo>
                  <a:lnTo>
                    <a:pt x="215" y="197"/>
                  </a:lnTo>
                  <a:lnTo>
                    <a:pt x="184" y="193"/>
                  </a:lnTo>
                  <a:lnTo>
                    <a:pt x="169" y="190"/>
                  </a:lnTo>
                  <a:lnTo>
                    <a:pt x="154" y="188"/>
                  </a:lnTo>
                  <a:lnTo>
                    <a:pt x="142" y="184"/>
                  </a:lnTo>
                  <a:lnTo>
                    <a:pt x="129" y="182"/>
                  </a:lnTo>
                  <a:lnTo>
                    <a:pt x="116" y="178"/>
                  </a:lnTo>
                  <a:lnTo>
                    <a:pt x="103" y="174"/>
                  </a:lnTo>
                  <a:lnTo>
                    <a:pt x="90" y="171"/>
                  </a:lnTo>
                  <a:lnTo>
                    <a:pt x="79" y="167"/>
                  </a:lnTo>
                  <a:lnTo>
                    <a:pt x="70" y="164"/>
                  </a:lnTo>
                  <a:lnTo>
                    <a:pt x="59" y="160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3" y="147"/>
                  </a:lnTo>
                  <a:lnTo>
                    <a:pt x="28" y="142"/>
                  </a:lnTo>
                  <a:lnTo>
                    <a:pt x="20" y="137"/>
                  </a:lnTo>
                  <a:lnTo>
                    <a:pt x="15" y="132"/>
                  </a:lnTo>
                  <a:lnTo>
                    <a:pt x="11" y="127"/>
                  </a:lnTo>
                  <a:lnTo>
                    <a:pt x="6" y="123"/>
                  </a:lnTo>
                  <a:lnTo>
                    <a:pt x="4" y="118"/>
                  </a:lnTo>
                  <a:lnTo>
                    <a:pt x="2" y="113"/>
                  </a:lnTo>
                  <a:lnTo>
                    <a:pt x="0" y="10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98680" y="1911240"/>
              <a:ext cx="558720" cy="163440"/>
            </a:xfrm>
            <a:custGeom>
              <a:avLst/>
              <a:gdLst/>
              <a:ahLst/>
              <a:rect l="l" t="t" r="r" b="b"/>
              <a:pathLst>
                <a:path w="705" h="205">
                  <a:moveTo>
                    <a:pt x="0" y="102"/>
                  </a:moveTo>
                  <a:lnTo>
                    <a:pt x="0" y="97"/>
                  </a:lnTo>
                  <a:lnTo>
                    <a:pt x="2" y="91"/>
                  </a:lnTo>
                  <a:lnTo>
                    <a:pt x="4" y="86"/>
                  </a:lnTo>
                  <a:lnTo>
                    <a:pt x="6" y="82"/>
                  </a:lnTo>
                  <a:lnTo>
                    <a:pt x="11" y="77"/>
                  </a:lnTo>
                  <a:lnTo>
                    <a:pt x="15" y="72"/>
                  </a:lnTo>
                  <a:lnTo>
                    <a:pt x="20" y="67"/>
                  </a:lnTo>
                  <a:lnTo>
                    <a:pt x="28" y="62"/>
                  </a:lnTo>
                  <a:lnTo>
                    <a:pt x="33" y="58"/>
                  </a:lnTo>
                  <a:lnTo>
                    <a:pt x="43" y="53"/>
                  </a:lnTo>
                  <a:lnTo>
                    <a:pt x="50" y="49"/>
                  </a:lnTo>
                  <a:lnTo>
                    <a:pt x="59" y="44"/>
                  </a:lnTo>
                  <a:lnTo>
                    <a:pt x="70" y="41"/>
                  </a:lnTo>
                  <a:lnTo>
                    <a:pt x="79" y="37"/>
                  </a:lnTo>
                  <a:lnTo>
                    <a:pt x="90" y="33"/>
                  </a:lnTo>
                  <a:lnTo>
                    <a:pt x="103" y="30"/>
                  </a:lnTo>
                  <a:lnTo>
                    <a:pt x="116" y="26"/>
                  </a:lnTo>
                  <a:lnTo>
                    <a:pt x="129" y="23"/>
                  </a:lnTo>
                  <a:lnTo>
                    <a:pt x="142" y="19"/>
                  </a:lnTo>
                  <a:lnTo>
                    <a:pt x="154" y="17"/>
                  </a:lnTo>
                  <a:lnTo>
                    <a:pt x="169" y="14"/>
                  </a:lnTo>
                  <a:lnTo>
                    <a:pt x="184" y="12"/>
                  </a:lnTo>
                  <a:lnTo>
                    <a:pt x="215" y="7"/>
                  </a:lnTo>
                  <a:lnTo>
                    <a:pt x="248" y="3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3" y="0"/>
                  </a:lnTo>
                  <a:lnTo>
                    <a:pt x="388" y="0"/>
                  </a:lnTo>
                  <a:lnTo>
                    <a:pt x="424" y="1"/>
                  </a:lnTo>
                  <a:lnTo>
                    <a:pt x="457" y="3"/>
                  </a:lnTo>
                  <a:lnTo>
                    <a:pt x="490" y="7"/>
                  </a:lnTo>
                  <a:lnTo>
                    <a:pt x="520" y="12"/>
                  </a:lnTo>
                  <a:lnTo>
                    <a:pt x="536" y="14"/>
                  </a:lnTo>
                  <a:lnTo>
                    <a:pt x="549" y="17"/>
                  </a:lnTo>
                  <a:lnTo>
                    <a:pt x="564" y="19"/>
                  </a:lnTo>
                  <a:lnTo>
                    <a:pt x="577" y="23"/>
                  </a:lnTo>
                  <a:lnTo>
                    <a:pt x="590" y="26"/>
                  </a:lnTo>
                  <a:lnTo>
                    <a:pt x="602" y="30"/>
                  </a:lnTo>
                  <a:lnTo>
                    <a:pt x="613" y="33"/>
                  </a:lnTo>
                  <a:lnTo>
                    <a:pt x="624" y="37"/>
                  </a:lnTo>
                  <a:lnTo>
                    <a:pt x="635" y="41"/>
                  </a:lnTo>
                  <a:lnTo>
                    <a:pt x="645" y="44"/>
                  </a:lnTo>
                  <a:lnTo>
                    <a:pt x="654" y="49"/>
                  </a:lnTo>
                  <a:lnTo>
                    <a:pt x="663" y="53"/>
                  </a:lnTo>
                  <a:lnTo>
                    <a:pt x="670" y="58"/>
                  </a:lnTo>
                  <a:lnTo>
                    <a:pt x="678" y="62"/>
                  </a:lnTo>
                  <a:lnTo>
                    <a:pt x="683" y="67"/>
                  </a:lnTo>
                  <a:lnTo>
                    <a:pt x="689" y="72"/>
                  </a:lnTo>
                  <a:lnTo>
                    <a:pt x="694" y="77"/>
                  </a:lnTo>
                  <a:lnTo>
                    <a:pt x="698" y="82"/>
                  </a:lnTo>
                  <a:lnTo>
                    <a:pt x="701" y="86"/>
                  </a:lnTo>
                  <a:lnTo>
                    <a:pt x="703" y="91"/>
                  </a:lnTo>
                  <a:lnTo>
                    <a:pt x="705" y="97"/>
                  </a:lnTo>
                  <a:lnTo>
                    <a:pt x="705" y="102"/>
                  </a:lnTo>
                  <a:lnTo>
                    <a:pt x="705" y="102"/>
                  </a:lnTo>
                  <a:lnTo>
                    <a:pt x="705" y="107"/>
                  </a:lnTo>
                  <a:lnTo>
                    <a:pt x="703" y="113"/>
                  </a:lnTo>
                  <a:lnTo>
                    <a:pt x="701" y="118"/>
                  </a:lnTo>
                  <a:lnTo>
                    <a:pt x="698" y="123"/>
                  </a:lnTo>
                  <a:lnTo>
                    <a:pt x="694" y="127"/>
                  </a:lnTo>
                  <a:lnTo>
                    <a:pt x="689" y="132"/>
                  </a:lnTo>
                  <a:lnTo>
                    <a:pt x="683" y="137"/>
                  </a:lnTo>
                  <a:lnTo>
                    <a:pt x="678" y="142"/>
                  </a:lnTo>
                  <a:lnTo>
                    <a:pt x="670" y="147"/>
                  </a:lnTo>
                  <a:lnTo>
                    <a:pt x="663" y="152"/>
                  </a:lnTo>
                  <a:lnTo>
                    <a:pt x="654" y="155"/>
                  </a:lnTo>
                  <a:lnTo>
                    <a:pt x="645" y="160"/>
                  </a:lnTo>
                  <a:lnTo>
                    <a:pt x="635" y="164"/>
                  </a:lnTo>
                  <a:lnTo>
                    <a:pt x="624" y="167"/>
                  </a:lnTo>
                  <a:lnTo>
                    <a:pt x="613" y="171"/>
                  </a:lnTo>
                  <a:lnTo>
                    <a:pt x="602" y="174"/>
                  </a:lnTo>
                  <a:lnTo>
                    <a:pt x="590" y="178"/>
                  </a:lnTo>
                  <a:lnTo>
                    <a:pt x="577" y="182"/>
                  </a:lnTo>
                  <a:lnTo>
                    <a:pt x="564" y="184"/>
                  </a:lnTo>
                  <a:lnTo>
                    <a:pt x="549" y="188"/>
                  </a:lnTo>
                  <a:lnTo>
                    <a:pt x="536" y="190"/>
                  </a:lnTo>
                  <a:lnTo>
                    <a:pt x="520" y="193"/>
                  </a:lnTo>
                  <a:lnTo>
                    <a:pt x="490" y="197"/>
                  </a:lnTo>
                  <a:lnTo>
                    <a:pt x="457" y="201"/>
                  </a:lnTo>
                  <a:lnTo>
                    <a:pt x="424" y="203"/>
                  </a:lnTo>
                  <a:lnTo>
                    <a:pt x="388" y="205"/>
                  </a:lnTo>
                  <a:lnTo>
                    <a:pt x="353" y="205"/>
                  </a:lnTo>
                  <a:lnTo>
                    <a:pt x="316" y="205"/>
                  </a:lnTo>
                  <a:lnTo>
                    <a:pt x="281" y="203"/>
                  </a:lnTo>
                  <a:lnTo>
                    <a:pt x="248" y="201"/>
                  </a:lnTo>
                  <a:lnTo>
                    <a:pt x="215" y="197"/>
                  </a:lnTo>
                  <a:lnTo>
                    <a:pt x="184" y="193"/>
                  </a:lnTo>
                  <a:lnTo>
                    <a:pt x="169" y="190"/>
                  </a:lnTo>
                  <a:lnTo>
                    <a:pt x="154" y="188"/>
                  </a:lnTo>
                  <a:lnTo>
                    <a:pt x="142" y="184"/>
                  </a:lnTo>
                  <a:lnTo>
                    <a:pt x="129" y="182"/>
                  </a:lnTo>
                  <a:lnTo>
                    <a:pt x="116" y="178"/>
                  </a:lnTo>
                  <a:lnTo>
                    <a:pt x="103" y="174"/>
                  </a:lnTo>
                  <a:lnTo>
                    <a:pt x="90" y="171"/>
                  </a:lnTo>
                  <a:lnTo>
                    <a:pt x="79" y="167"/>
                  </a:lnTo>
                  <a:lnTo>
                    <a:pt x="70" y="164"/>
                  </a:lnTo>
                  <a:lnTo>
                    <a:pt x="59" y="160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3" y="147"/>
                  </a:lnTo>
                  <a:lnTo>
                    <a:pt x="28" y="142"/>
                  </a:lnTo>
                  <a:lnTo>
                    <a:pt x="20" y="137"/>
                  </a:lnTo>
                  <a:lnTo>
                    <a:pt x="15" y="132"/>
                  </a:lnTo>
                  <a:lnTo>
                    <a:pt x="11" y="127"/>
                  </a:lnTo>
                  <a:lnTo>
                    <a:pt x="6" y="123"/>
                  </a:lnTo>
                  <a:lnTo>
                    <a:pt x="4" y="118"/>
                  </a:lnTo>
                  <a:lnTo>
                    <a:pt x="2" y="113"/>
                  </a:lnTo>
                  <a:lnTo>
                    <a:pt x="0" y="107"/>
                  </a:lnTo>
                  <a:lnTo>
                    <a:pt x="0" y="10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4920" y="2195640"/>
              <a:ext cx="558720" cy="163440"/>
            </a:xfrm>
            <a:custGeom>
              <a:avLst/>
              <a:gdLst/>
              <a:ahLst/>
              <a:rect l="l" t="t" r="r" b="b"/>
              <a:pathLst>
                <a:path w="704" h="206">
                  <a:moveTo>
                    <a:pt x="0" y="102"/>
                  </a:moveTo>
                  <a:lnTo>
                    <a:pt x="0" y="97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5" y="82"/>
                  </a:lnTo>
                  <a:lnTo>
                    <a:pt x="11" y="77"/>
                  </a:lnTo>
                  <a:lnTo>
                    <a:pt x="14" y="72"/>
                  </a:lnTo>
                  <a:lnTo>
                    <a:pt x="20" y="67"/>
                  </a:lnTo>
                  <a:lnTo>
                    <a:pt x="27" y="62"/>
                  </a:lnTo>
                  <a:lnTo>
                    <a:pt x="33" y="57"/>
                  </a:lnTo>
                  <a:lnTo>
                    <a:pt x="42" y="53"/>
                  </a:lnTo>
                  <a:lnTo>
                    <a:pt x="49" y="49"/>
                  </a:lnTo>
                  <a:lnTo>
                    <a:pt x="58" y="44"/>
                  </a:lnTo>
                  <a:lnTo>
                    <a:pt x="69" y="41"/>
                  </a:lnTo>
                  <a:lnTo>
                    <a:pt x="78" y="37"/>
                  </a:lnTo>
                  <a:lnTo>
                    <a:pt x="89" y="33"/>
                  </a:lnTo>
                  <a:lnTo>
                    <a:pt x="102" y="30"/>
                  </a:lnTo>
                  <a:lnTo>
                    <a:pt x="115" y="26"/>
                  </a:lnTo>
                  <a:lnTo>
                    <a:pt x="128" y="23"/>
                  </a:lnTo>
                  <a:lnTo>
                    <a:pt x="141" y="20"/>
                  </a:lnTo>
                  <a:lnTo>
                    <a:pt x="154" y="16"/>
                  </a:lnTo>
                  <a:lnTo>
                    <a:pt x="168" y="14"/>
                  </a:lnTo>
                  <a:lnTo>
                    <a:pt x="183" y="12"/>
                  </a:lnTo>
                  <a:lnTo>
                    <a:pt x="214" y="7"/>
                  </a:lnTo>
                  <a:lnTo>
                    <a:pt x="247" y="3"/>
                  </a:lnTo>
                  <a:lnTo>
                    <a:pt x="280" y="1"/>
                  </a:lnTo>
                  <a:lnTo>
                    <a:pt x="315" y="0"/>
                  </a:lnTo>
                  <a:lnTo>
                    <a:pt x="352" y="0"/>
                  </a:lnTo>
                  <a:lnTo>
                    <a:pt x="387" y="0"/>
                  </a:lnTo>
                  <a:lnTo>
                    <a:pt x="424" y="1"/>
                  </a:lnTo>
                  <a:lnTo>
                    <a:pt x="457" y="3"/>
                  </a:lnTo>
                  <a:lnTo>
                    <a:pt x="490" y="7"/>
                  </a:lnTo>
                  <a:lnTo>
                    <a:pt x="519" y="12"/>
                  </a:lnTo>
                  <a:lnTo>
                    <a:pt x="536" y="14"/>
                  </a:lnTo>
                  <a:lnTo>
                    <a:pt x="548" y="16"/>
                  </a:lnTo>
                  <a:lnTo>
                    <a:pt x="563" y="20"/>
                  </a:lnTo>
                  <a:lnTo>
                    <a:pt x="576" y="23"/>
                  </a:lnTo>
                  <a:lnTo>
                    <a:pt x="589" y="26"/>
                  </a:lnTo>
                  <a:lnTo>
                    <a:pt x="602" y="30"/>
                  </a:lnTo>
                  <a:lnTo>
                    <a:pt x="613" y="33"/>
                  </a:lnTo>
                  <a:lnTo>
                    <a:pt x="624" y="37"/>
                  </a:lnTo>
                  <a:lnTo>
                    <a:pt x="635" y="41"/>
                  </a:lnTo>
                  <a:lnTo>
                    <a:pt x="644" y="44"/>
                  </a:lnTo>
                  <a:lnTo>
                    <a:pt x="653" y="49"/>
                  </a:lnTo>
                  <a:lnTo>
                    <a:pt x="662" y="53"/>
                  </a:lnTo>
                  <a:lnTo>
                    <a:pt x="669" y="57"/>
                  </a:lnTo>
                  <a:lnTo>
                    <a:pt x="677" y="62"/>
                  </a:lnTo>
                  <a:lnTo>
                    <a:pt x="682" y="67"/>
                  </a:lnTo>
                  <a:lnTo>
                    <a:pt x="688" y="72"/>
                  </a:lnTo>
                  <a:lnTo>
                    <a:pt x="693" y="77"/>
                  </a:lnTo>
                  <a:lnTo>
                    <a:pt x="697" y="82"/>
                  </a:lnTo>
                  <a:lnTo>
                    <a:pt x="701" y="86"/>
                  </a:lnTo>
                  <a:lnTo>
                    <a:pt x="703" y="91"/>
                  </a:lnTo>
                  <a:lnTo>
                    <a:pt x="704" y="97"/>
                  </a:lnTo>
                  <a:lnTo>
                    <a:pt x="704" y="102"/>
                  </a:lnTo>
                  <a:lnTo>
                    <a:pt x="704" y="102"/>
                  </a:lnTo>
                  <a:lnTo>
                    <a:pt x="704" y="108"/>
                  </a:lnTo>
                  <a:lnTo>
                    <a:pt x="703" y="113"/>
                  </a:lnTo>
                  <a:lnTo>
                    <a:pt x="701" y="118"/>
                  </a:lnTo>
                  <a:lnTo>
                    <a:pt x="697" y="123"/>
                  </a:lnTo>
                  <a:lnTo>
                    <a:pt x="693" y="129"/>
                  </a:lnTo>
                  <a:lnTo>
                    <a:pt x="688" y="133"/>
                  </a:lnTo>
                  <a:lnTo>
                    <a:pt x="682" y="138"/>
                  </a:lnTo>
                  <a:lnTo>
                    <a:pt x="677" y="142"/>
                  </a:lnTo>
                  <a:lnTo>
                    <a:pt x="669" y="147"/>
                  </a:lnTo>
                  <a:lnTo>
                    <a:pt x="662" y="151"/>
                  </a:lnTo>
                  <a:lnTo>
                    <a:pt x="653" y="155"/>
                  </a:lnTo>
                  <a:lnTo>
                    <a:pt x="644" y="160"/>
                  </a:lnTo>
                  <a:lnTo>
                    <a:pt x="635" y="164"/>
                  </a:lnTo>
                  <a:lnTo>
                    <a:pt x="624" y="168"/>
                  </a:lnTo>
                  <a:lnTo>
                    <a:pt x="613" y="172"/>
                  </a:lnTo>
                  <a:lnTo>
                    <a:pt x="602" y="176"/>
                  </a:lnTo>
                  <a:lnTo>
                    <a:pt x="589" y="178"/>
                  </a:lnTo>
                  <a:lnTo>
                    <a:pt x="576" y="182"/>
                  </a:lnTo>
                  <a:lnTo>
                    <a:pt x="563" y="185"/>
                  </a:lnTo>
                  <a:lnTo>
                    <a:pt x="548" y="188"/>
                  </a:lnTo>
                  <a:lnTo>
                    <a:pt x="536" y="190"/>
                  </a:lnTo>
                  <a:lnTo>
                    <a:pt x="519" y="192"/>
                  </a:lnTo>
                  <a:lnTo>
                    <a:pt x="490" y="197"/>
                  </a:lnTo>
                  <a:lnTo>
                    <a:pt x="457" y="201"/>
                  </a:lnTo>
                  <a:lnTo>
                    <a:pt x="424" y="203"/>
                  </a:lnTo>
                  <a:lnTo>
                    <a:pt x="387" y="205"/>
                  </a:lnTo>
                  <a:lnTo>
                    <a:pt x="352" y="206"/>
                  </a:lnTo>
                  <a:lnTo>
                    <a:pt x="315" y="205"/>
                  </a:lnTo>
                  <a:lnTo>
                    <a:pt x="280" y="203"/>
                  </a:lnTo>
                  <a:lnTo>
                    <a:pt x="247" y="201"/>
                  </a:lnTo>
                  <a:lnTo>
                    <a:pt x="214" y="197"/>
                  </a:lnTo>
                  <a:lnTo>
                    <a:pt x="183" y="192"/>
                  </a:lnTo>
                  <a:lnTo>
                    <a:pt x="168" y="190"/>
                  </a:lnTo>
                  <a:lnTo>
                    <a:pt x="154" y="188"/>
                  </a:lnTo>
                  <a:lnTo>
                    <a:pt x="141" y="185"/>
                  </a:lnTo>
                  <a:lnTo>
                    <a:pt x="128" y="182"/>
                  </a:lnTo>
                  <a:lnTo>
                    <a:pt x="115" y="178"/>
                  </a:lnTo>
                  <a:lnTo>
                    <a:pt x="102" y="176"/>
                  </a:lnTo>
                  <a:lnTo>
                    <a:pt x="89" y="172"/>
                  </a:lnTo>
                  <a:lnTo>
                    <a:pt x="78" y="168"/>
                  </a:lnTo>
                  <a:lnTo>
                    <a:pt x="69" y="164"/>
                  </a:lnTo>
                  <a:lnTo>
                    <a:pt x="58" y="160"/>
                  </a:lnTo>
                  <a:lnTo>
                    <a:pt x="49" y="155"/>
                  </a:lnTo>
                  <a:lnTo>
                    <a:pt x="42" y="151"/>
                  </a:lnTo>
                  <a:lnTo>
                    <a:pt x="33" y="147"/>
                  </a:lnTo>
                  <a:lnTo>
                    <a:pt x="27" y="142"/>
                  </a:lnTo>
                  <a:lnTo>
                    <a:pt x="20" y="138"/>
                  </a:lnTo>
                  <a:lnTo>
                    <a:pt x="14" y="133"/>
                  </a:lnTo>
                  <a:lnTo>
                    <a:pt x="11" y="129"/>
                  </a:lnTo>
                  <a:lnTo>
                    <a:pt x="5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44920" y="2195640"/>
              <a:ext cx="558720" cy="163440"/>
            </a:xfrm>
            <a:custGeom>
              <a:avLst/>
              <a:gdLst/>
              <a:ahLst/>
              <a:rect l="l" t="t" r="r" b="b"/>
              <a:pathLst>
                <a:path w="704" h="206">
                  <a:moveTo>
                    <a:pt x="0" y="102"/>
                  </a:moveTo>
                  <a:lnTo>
                    <a:pt x="0" y="97"/>
                  </a:lnTo>
                  <a:lnTo>
                    <a:pt x="1" y="91"/>
                  </a:lnTo>
                  <a:lnTo>
                    <a:pt x="3" y="86"/>
                  </a:lnTo>
                  <a:lnTo>
                    <a:pt x="5" y="82"/>
                  </a:lnTo>
                  <a:lnTo>
                    <a:pt x="11" y="77"/>
                  </a:lnTo>
                  <a:lnTo>
                    <a:pt x="14" y="72"/>
                  </a:lnTo>
                  <a:lnTo>
                    <a:pt x="20" y="67"/>
                  </a:lnTo>
                  <a:lnTo>
                    <a:pt x="27" y="62"/>
                  </a:lnTo>
                  <a:lnTo>
                    <a:pt x="33" y="57"/>
                  </a:lnTo>
                  <a:lnTo>
                    <a:pt x="42" y="53"/>
                  </a:lnTo>
                  <a:lnTo>
                    <a:pt x="49" y="49"/>
                  </a:lnTo>
                  <a:lnTo>
                    <a:pt x="58" y="44"/>
                  </a:lnTo>
                  <a:lnTo>
                    <a:pt x="69" y="41"/>
                  </a:lnTo>
                  <a:lnTo>
                    <a:pt x="78" y="37"/>
                  </a:lnTo>
                  <a:lnTo>
                    <a:pt x="89" y="33"/>
                  </a:lnTo>
                  <a:lnTo>
                    <a:pt x="102" y="30"/>
                  </a:lnTo>
                  <a:lnTo>
                    <a:pt x="115" y="26"/>
                  </a:lnTo>
                  <a:lnTo>
                    <a:pt x="128" y="23"/>
                  </a:lnTo>
                  <a:lnTo>
                    <a:pt x="141" y="20"/>
                  </a:lnTo>
                  <a:lnTo>
                    <a:pt x="154" y="16"/>
                  </a:lnTo>
                  <a:lnTo>
                    <a:pt x="168" y="14"/>
                  </a:lnTo>
                  <a:lnTo>
                    <a:pt x="183" y="12"/>
                  </a:lnTo>
                  <a:lnTo>
                    <a:pt x="214" y="7"/>
                  </a:lnTo>
                  <a:lnTo>
                    <a:pt x="247" y="3"/>
                  </a:lnTo>
                  <a:lnTo>
                    <a:pt x="280" y="1"/>
                  </a:lnTo>
                  <a:lnTo>
                    <a:pt x="315" y="0"/>
                  </a:lnTo>
                  <a:lnTo>
                    <a:pt x="352" y="0"/>
                  </a:lnTo>
                  <a:lnTo>
                    <a:pt x="387" y="0"/>
                  </a:lnTo>
                  <a:lnTo>
                    <a:pt x="424" y="1"/>
                  </a:lnTo>
                  <a:lnTo>
                    <a:pt x="457" y="3"/>
                  </a:lnTo>
                  <a:lnTo>
                    <a:pt x="490" y="7"/>
                  </a:lnTo>
                  <a:lnTo>
                    <a:pt x="519" y="12"/>
                  </a:lnTo>
                  <a:lnTo>
                    <a:pt x="536" y="14"/>
                  </a:lnTo>
                  <a:lnTo>
                    <a:pt x="548" y="16"/>
                  </a:lnTo>
                  <a:lnTo>
                    <a:pt x="563" y="20"/>
                  </a:lnTo>
                  <a:lnTo>
                    <a:pt x="576" y="23"/>
                  </a:lnTo>
                  <a:lnTo>
                    <a:pt x="589" y="26"/>
                  </a:lnTo>
                  <a:lnTo>
                    <a:pt x="602" y="30"/>
                  </a:lnTo>
                  <a:lnTo>
                    <a:pt x="613" y="33"/>
                  </a:lnTo>
                  <a:lnTo>
                    <a:pt x="624" y="37"/>
                  </a:lnTo>
                  <a:lnTo>
                    <a:pt x="635" y="41"/>
                  </a:lnTo>
                  <a:lnTo>
                    <a:pt x="644" y="44"/>
                  </a:lnTo>
                  <a:lnTo>
                    <a:pt x="653" y="49"/>
                  </a:lnTo>
                  <a:lnTo>
                    <a:pt x="662" y="53"/>
                  </a:lnTo>
                  <a:lnTo>
                    <a:pt x="669" y="57"/>
                  </a:lnTo>
                  <a:lnTo>
                    <a:pt x="677" y="62"/>
                  </a:lnTo>
                  <a:lnTo>
                    <a:pt x="682" y="67"/>
                  </a:lnTo>
                  <a:lnTo>
                    <a:pt x="688" y="72"/>
                  </a:lnTo>
                  <a:lnTo>
                    <a:pt x="693" y="77"/>
                  </a:lnTo>
                  <a:lnTo>
                    <a:pt x="697" y="82"/>
                  </a:lnTo>
                  <a:lnTo>
                    <a:pt x="701" y="86"/>
                  </a:lnTo>
                  <a:lnTo>
                    <a:pt x="703" y="91"/>
                  </a:lnTo>
                  <a:lnTo>
                    <a:pt x="704" y="97"/>
                  </a:lnTo>
                  <a:lnTo>
                    <a:pt x="704" y="102"/>
                  </a:lnTo>
                  <a:lnTo>
                    <a:pt x="704" y="102"/>
                  </a:lnTo>
                  <a:lnTo>
                    <a:pt x="704" y="108"/>
                  </a:lnTo>
                  <a:lnTo>
                    <a:pt x="703" y="113"/>
                  </a:lnTo>
                  <a:lnTo>
                    <a:pt x="701" y="118"/>
                  </a:lnTo>
                  <a:lnTo>
                    <a:pt x="697" y="123"/>
                  </a:lnTo>
                  <a:lnTo>
                    <a:pt x="693" y="129"/>
                  </a:lnTo>
                  <a:lnTo>
                    <a:pt x="688" y="133"/>
                  </a:lnTo>
                  <a:lnTo>
                    <a:pt x="682" y="138"/>
                  </a:lnTo>
                  <a:lnTo>
                    <a:pt x="677" y="142"/>
                  </a:lnTo>
                  <a:lnTo>
                    <a:pt x="669" y="147"/>
                  </a:lnTo>
                  <a:lnTo>
                    <a:pt x="662" y="151"/>
                  </a:lnTo>
                  <a:lnTo>
                    <a:pt x="653" y="155"/>
                  </a:lnTo>
                  <a:lnTo>
                    <a:pt x="644" y="160"/>
                  </a:lnTo>
                  <a:lnTo>
                    <a:pt x="635" y="164"/>
                  </a:lnTo>
                  <a:lnTo>
                    <a:pt x="624" y="168"/>
                  </a:lnTo>
                  <a:lnTo>
                    <a:pt x="613" y="172"/>
                  </a:lnTo>
                  <a:lnTo>
                    <a:pt x="602" y="176"/>
                  </a:lnTo>
                  <a:lnTo>
                    <a:pt x="589" y="178"/>
                  </a:lnTo>
                  <a:lnTo>
                    <a:pt x="576" y="182"/>
                  </a:lnTo>
                  <a:lnTo>
                    <a:pt x="563" y="185"/>
                  </a:lnTo>
                  <a:lnTo>
                    <a:pt x="548" y="188"/>
                  </a:lnTo>
                  <a:lnTo>
                    <a:pt x="536" y="190"/>
                  </a:lnTo>
                  <a:lnTo>
                    <a:pt x="519" y="192"/>
                  </a:lnTo>
                  <a:lnTo>
                    <a:pt x="490" y="197"/>
                  </a:lnTo>
                  <a:lnTo>
                    <a:pt x="457" y="201"/>
                  </a:lnTo>
                  <a:lnTo>
                    <a:pt x="424" y="203"/>
                  </a:lnTo>
                  <a:lnTo>
                    <a:pt x="387" y="205"/>
                  </a:lnTo>
                  <a:lnTo>
                    <a:pt x="352" y="206"/>
                  </a:lnTo>
                  <a:lnTo>
                    <a:pt x="315" y="205"/>
                  </a:lnTo>
                  <a:lnTo>
                    <a:pt x="280" y="203"/>
                  </a:lnTo>
                  <a:lnTo>
                    <a:pt x="247" y="201"/>
                  </a:lnTo>
                  <a:lnTo>
                    <a:pt x="214" y="197"/>
                  </a:lnTo>
                  <a:lnTo>
                    <a:pt x="183" y="192"/>
                  </a:lnTo>
                  <a:lnTo>
                    <a:pt x="168" y="190"/>
                  </a:lnTo>
                  <a:lnTo>
                    <a:pt x="154" y="188"/>
                  </a:lnTo>
                  <a:lnTo>
                    <a:pt x="141" y="185"/>
                  </a:lnTo>
                  <a:lnTo>
                    <a:pt x="128" y="182"/>
                  </a:lnTo>
                  <a:lnTo>
                    <a:pt x="115" y="178"/>
                  </a:lnTo>
                  <a:lnTo>
                    <a:pt x="102" y="176"/>
                  </a:lnTo>
                  <a:lnTo>
                    <a:pt x="89" y="172"/>
                  </a:lnTo>
                  <a:lnTo>
                    <a:pt x="78" y="168"/>
                  </a:lnTo>
                  <a:lnTo>
                    <a:pt x="69" y="164"/>
                  </a:lnTo>
                  <a:lnTo>
                    <a:pt x="58" y="160"/>
                  </a:lnTo>
                  <a:lnTo>
                    <a:pt x="49" y="155"/>
                  </a:lnTo>
                  <a:lnTo>
                    <a:pt x="42" y="151"/>
                  </a:lnTo>
                  <a:lnTo>
                    <a:pt x="33" y="147"/>
                  </a:lnTo>
                  <a:lnTo>
                    <a:pt x="27" y="142"/>
                  </a:lnTo>
                  <a:lnTo>
                    <a:pt x="20" y="138"/>
                  </a:lnTo>
                  <a:lnTo>
                    <a:pt x="14" y="133"/>
                  </a:lnTo>
                  <a:lnTo>
                    <a:pt x="11" y="129"/>
                  </a:lnTo>
                  <a:lnTo>
                    <a:pt x="5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0" y="10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149560" y="1706040"/>
              <a:ext cx="3096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17880" y="2157480"/>
              <a:ext cx="528480" cy="12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17880" y="2044440"/>
              <a:ext cx="341280" cy="112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9560" y="1747800"/>
              <a:ext cx="309600" cy="184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5120" y="3417840"/>
              <a:ext cx="4680" cy="636480"/>
            </a:xfrm>
            <a:custGeom>
              <a:avLst/>
              <a:gdLst/>
              <a:ahLst/>
              <a:rect l="l" t="t" r="r" b="b"/>
              <a:pathLst>
                <a:path w="5" h="801">
                  <a:moveTo>
                    <a:pt x="5" y="1"/>
                  </a:moveTo>
                  <a:lnTo>
                    <a:pt x="5" y="59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94"/>
                  </a:moveTo>
                  <a:lnTo>
                    <a:pt x="5" y="152"/>
                  </a:lnTo>
                  <a:lnTo>
                    <a:pt x="5" y="152"/>
                  </a:lnTo>
                  <a:lnTo>
                    <a:pt x="5" y="153"/>
                  </a:lnTo>
                  <a:lnTo>
                    <a:pt x="3" y="153"/>
                  </a:lnTo>
                  <a:lnTo>
                    <a:pt x="3" y="154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2" y="93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3" y="91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5" y="187"/>
                  </a:moveTo>
                  <a:lnTo>
                    <a:pt x="5" y="245"/>
                  </a:lnTo>
                  <a:lnTo>
                    <a:pt x="5" y="245"/>
                  </a:lnTo>
                  <a:lnTo>
                    <a:pt x="5" y="246"/>
                  </a:lnTo>
                  <a:lnTo>
                    <a:pt x="3" y="246"/>
                  </a:lnTo>
                  <a:lnTo>
                    <a:pt x="3" y="246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0" y="185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3" y="184"/>
                  </a:lnTo>
                  <a:lnTo>
                    <a:pt x="3" y="184"/>
                  </a:lnTo>
                  <a:lnTo>
                    <a:pt x="5" y="184"/>
                  </a:lnTo>
                  <a:lnTo>
                    <a:pt x="5" y="185"/>
                  </a:lnTo>
                  <a:lnTo>
                    <a:pt x="5" y="187"/>
                  </a:lnTo>
                  <a:lnTo>
                    <a:pt x="5" y="187"/>
                  </a:lnTo>
                  <a:close/>
                  <a:moveTo>
                    <a:pt x="5" y="279"/>
                  </a:moveTo>
                  <a:lnTo>
                    <a:pt x="5" y="337"/>
                  </a:lnTo>
                  <a:lnTo>
                    <a:pt x="5" y="337"/>
                  </a:lnTo>
                  <a:lnTo>
                    <a:pt x="5" y="339"/>
                  </a:lnTo>
                  <a:lnTo>
                    <a:pt x="3" y="339"/>
                  </a:lnTo>
                  <a:lnTo>
                    <a:pt x="3" y="339"/>
                  </a:lnTo>
                  <a:lnTo>
                    <a:pt x="2" y="339"/>
                  </a:lnTo>
                  <a:lnTo>
                    <a:pt x="2" y="339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0" y="279"/>
                  </a:lnTo>
                  <a:lnTo>
                    <a:pt x="0" y="278"/>
                  </a:lnTo>
                  <a:lnTo>
                    <a:pt x="2" y="277"/>
                  </a:lnTo>
                  <a:lnTo>
                    <a:pt x="2" y="277"/>
                  </a:lnTo>
                  <a:lnTo>
                    <a:pt x="3" y="277"/>
                  </a:lnTo>
                  <a:lnTo>
                    <a:pt x="3" y="277"/>
                  </a:lnTo>
                  <a:lnTo>
                    <a:pt x="5" y="277"/>
                  </a:lnTo>
                  <a:lnTo>
                    <a:pt x="5" y="278"/>
                  </a:lnTo>
                  <a:lnTo>
                    <a:pt x="5" y="279"/>
                  </a:lnTo>
                  <a:lnTo>
                    <a:pt x="5" y="279"/>
                  </a:lnTo>
                  <a:close/>
                  <a:moveTo>
                    <a:pt x="5" y="371"/>
                  </a:moveTo>
                  <a:lnTo>
                    <a:pt x="5" y="429"/>
                  </a:lnTo>
                  <a:lnTo>
                    <a:pt x="5" y="430"/>
                  </a:lnTo>
                  <a:lnTo>
                    <a:pt x="5" y="430"/>
                  </a:lnTo>
                  <a:lnTo>
                    <a:pt x="3" y="431"/>
                  </a:lnTo>
                  <a:lnTo>
                    <a:pt x="3" y="431"/>
                  </a:lnTo>
                  <a:lnTo>
                    <a:pt x="2" y="431"/>
                  </a:lnTo>
                  <a:lnTo>
                    <a:pt x="2" y="430"/>
                  </a:lnTo>
                  <a:lnTo>
                    <a:pt x="0" y="430"/>
                  </a:lnTo>
                  <a:lnTo>
                    <a:pt x="0" y="429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2" y="370"/>
                  </a:lnTo>
                  <a:lnTo>
                    <a:pt x="2" y="370"/>
                  </a:lnTo>
                  <a:lnTo>
                    <a:pt x="3" y="370"/>
                  </a:lnTo>
                  <a:lnTo>
                    <a:pt x="3" y="370"/>
                  </a:lnTo>
                  <a:lnTo>
                    <a:pt x="5" y="370"/>
                  </a:lnTo>
                  <a:lnTo>
                    <a:pt x="5" y="371"/>
                  </a:lnTo>
                  <a:lnTo>
                    <a:pt x="5" y="371"/>
                  </a:lnTo>
                  <a:lnTo>
                    <a:pt x="5" y="371"/>
                  </a:lnTo>
                  <a:close/>
                  <a:moveTo>
                    <a:pt x="5" y="464"/>
                  </a:moveTo>
                  <a:lnTo>
                    <a:pt x="5" y="522"/>
                  </a:lnTo>
                  <a:lnTo>
                    <a:pt x="5" y="523"/>
                  </a:lnTo>
                  <a:lnTo>
                    <a:pt x="5" y="523"/>
                  </a:lnTo>
                  <a:lnTo>
                    <a:pt x="3" y="524"/>
                  </a:lnTo>
                  <a:lnTo>
                    <a:pt x="2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464"/>
                  </a:lnTo>
                  <a:lnTo>
                    <a:pt x="0" y="463"/>
                  </a:lnTo>
                  <a:lnTo>
                    <a:pt x="2" y="463"/>
                  </a:lnTo>
                  <a:lnTo>
                    <a:pt x="2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5" y="463"/>
                  </a:lnTo>
                  <a:lnTo>
                    <a:pt x="5" y="463"/>
                  </a:lnTo>
                  <a:lnTo>
                    <a:pt x="5" y="464"/>
                  </a:lnTo>
                  <a:lnTo>
                    <a:pt x="5" y="464"/>
                  </a:lnTo>
                  <a:close/>
                  <a:moveTo>
                    <a:pt x="5" y="557"/>
                  </a:moveTo>
                  <a:lnTo>
                    <a:pt x="5" y="615"/>
                  </a:lnTo>
                  <a:lnTo>
                    <a:pt x="5" y="615"/>
                  </a:lnTo>
                  <a:lnTo>
                    <a:pt x="5" y="616"/>
                  </a:lnTo>
                  <a:lnTo>
                    <a:pt x="3" y="616"/>
                  </a:lnTo>
                  <a:lnTo>
                    <a:pt x="3" y="617"/>
                  </a:lnTo>
                  <a:lnTo>
                    <a:pt x="2" y="616"/>
                  </a:lnTo>
                  <a:lnTo>
                    <a:pt x="2" y="616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0" y="557"/>
                  </a:lnTo>
                  <a:lnTo>
                    <a:pt x="0" y="555"/>
                  </a:lnTo>
                  <a:lnTo>
                    <a:pt x="2" y="555"/>
                  </a:lnTo>
                  <a:lnTo>
                    <a:pt x="2" y="554"/>
                  </a:lnTo>
                  <a:lnTo>
                    <a:pt x="3" y="554"/>
                  </a:lnTo>
                  <a:lnTo>
                    <a:pt x="3" y="554"/>
                  </a:lnTo>
                  <a:lnTo>
                    <a:pt x="5" y="555"/>
                  </a:lnTo>
                  <a:lnTo>
                    <a:pt x="5" y="555"/>
                  </a:lnTo>
                  <a:lnTo>
                    <a:pt x="5" y="557"/>
                  </a:lnTo>
                  <a:lnTo>
                    <a:pt x="5" y="557"/>
                  </a:lnTo>
                  <a:close/>
                  <a:moveTo>
                    <a:pt x="5" y="649"/>
                  </a:moveTo>
                  <a:lnTo>
                    <a:pt x="5" y="707"/>
                  </a:lnTo>
                  <a:lnTo>
                    <a:pt x="5" y="707"/>
                  </a:lnTo>
                  <a:lnTo>
                    <a:pt x="5" y="709"/>
                  </a:lnTo>
                  <a:lnTo>
                    <a:pt x="3" y="709"/>
                  </a:lnTo>
                  <a:lnTo>
                    <a:pt x="3" y="709"/>
                  </a:lnTo>
                  <a:lnTo>
                    <a:pt x="2" y="709"/>
                  </a:lnTo>
                  <a:lnTo>
                    <a:pt x="2" y="709"/>
                  </a:lnTo>
                  <a:lnTo>
                    <a:pt x="0" y="707"/>
                  </a:lnTo>
                  <a:lnTo>
                    <a:pt x="0" y="707"/>
                  </a:lnTo>
                  <a:lnTo>
                    <a:pt x="0" y="649"/>
                  </a:lnTo>
                  <a:lnTo>
                    <a:pt x="0" y="648"/>
                  </a:lnTo>
                  <a:lnTo>
                    <a:pt x="2" y="647"/>
                  </a:lnTo>
                  <a:lnTo>
                    <a:pt x="2" y="647"/>
                  </a:lnTo>
                  <a:lnTo>
                    <a:pt x="3" y="647"/>
                  </a:lnTo>
                  <a:lnTo>
                    <a:pt x="3" y="647"/>
                  </a:lnTo>
                  <a:lnTo>
                    <a:pt x="5" y="647"/>
                  </a:lnTo>
                  <a:lnTo>
                    <a:pt x="5" y="648"/>
                  </a:lnTo>
                  <a:lnTo>
                    <a:pt x="5" y="649"/>
                  </a:lnTo>
                  <a:lnTo>
                    <a:pt x="5" y="649"/>
                  </a:lnTo>
                  <a:close/>
                  <a:moveTo>
                    <a:pt x="5" y="742"/>
                  </a:moveTo>
                  <a:lnTo>
                    <a:pt x="5" y="800"/>
                  </a:lnTo>
                  <a:lnTo>
                    <a:pt x="5" y="800"/>
                  </a:lnTo>
                  <a:lnTo>
                    <a:pt x="5" y="801"/>
                  </a:lnTo>
                  <a:lnTo>
                    <a:pt x="3" y="801"/>
                  </a:lnTo>
                  <a:lnTo>
                    <a:pt x="3" y="801"/>
                  </a:lnTo>
                  <a:lnTo>
                    <a:pt x="2" y="801"/>
                  </a:lnTo>
                  <a:lnTo>
                    <a:pt x="2" y="801"/>
                  </a:lnTo>
                  <a:lnTo>
                    <a:pt x="0" y="800"/>
                  </a:lnTo>
                  <a:lnTo>
                    <a:pt x="0" y="800"/>
                  </a:lnTo>
                  <a:lnTo>
                    <a:pt x="0" y="742"/>
                  </a:lnTo>
                  <a:lnTo>
                    <a:pt x="0" y="741"/>
                  </a:lnTo>
                  <a:lnTo>
                    <a:pt x="2" y="740"/>
                  </a:lnTo>
                  <a:lnTo>
                    <a:pt x="2" y="740"/>
                  </a:lnTo>
                  <a:lnTo>
                    <a:pt x="3" y="740"/>
                  </a:lnTo>
                  <a:lnTo>
                    <a:pt x="3" y="740"/>
                  </a:lnTo>
                  <a:lnTo>
                    <a:pt x="5" y="740"/>
                  </a:lnTo>
                  <a:lnTo>
                    <a:pt x="5" y="741"/>
                  </a:lnTo>
                  <a:lnTo>
                    <a:pt x="5" y="742"/>
                  </a:lnTo>
                  <a:lnTo>
                    <a:pt x="5" y="7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8040" y="3009960"/>
              <a:ext cx="174600" cy="11412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0" y="73"/>
                  </a:moveTo>
                  <a:lnTo>
                    <a:pt x="2" y="65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9" y="44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6"/>
                  </a:lnTo>
                  <a:lnTo>
                    <a:pt x="33" y="21"/>
                  </a:lnTo>
                  <a:lnTo>
                    <a:pt x="41" y="16"/>
                  </a:lnTo>
                  <a:lnTo>
                    <a:pt x="50" y="12"/>
                  </a:lnTo>
                  <a:lnTo>
                    <a:pt x="59" y="9"/>
                  </a:lnTo>
                  <a:lnTo>
                    <a:pt x="68" y="5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2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9"/>
                  </a:lnTo>
                  <a:lnTo>
                    <a:pt x="173" y="12"/>
                  </a:lnTo>
                  <a:lnTo>
                    <a:pt x="180" y="16"/>
                  </a:lnTo>
                  <a:lnTo>
                    <a:pt x="189" y="21"/>
                  </a:lnTo>
                  <a:lnTo>
                    <a:pt x="197" y="26"/>
                  </a:lnTo>
                  <a:lnTo>
                    <a:pt x="202" y="32"/>
                  </a:lnTo>
                  <a:lnTo>
                    <a:pt x="208" y="38"/>
                  </a:lnTo>
                  <a:lnTo>
                    <a:pt x="213" y="44"/>
                  </a:lnTo>
                  <a:lnTo>
                    <a:pt x="217" y="51"/>
                  </a:lnTo>
                  <a:lnTo>
                    <a:pt x="219" y="58"/>
                  </a:lnTo>
                  <a:lnTo>
                    <a:pt x="221" y="65"/>
                  </a:lnTo>
                  <a:lnTo>
                    <a:pt x="221" y="73"/>
                  </a:lnTo>
                  <a:lnTo>
                    <a:pt x="221" y="73"/>
                  </a:lnTo>
                  <a:lnTo>
                    <a:pt x="221" y="80"/>
                  </a:lnTo>
                  <a:lnTo>
                    <a:pt x="219" y="87"/>
                  </a:lnTo>
                  <a:lnTo>
                    <a:pt x="217" y="93"/>
                  </a:lnTo>
                  <a:lnTo>
                    <a:pt x="213" y="100"/>
                  </a:lnTo>
                  <a:lnTo>
                    <a:pt x="208" y="106"/>
                  </a:lnTo>
                  <a:lnTo>
                    <a:pt x="202" y="112"/>
                  </a:lnTo>
                  <a:lnTo>
                    <a:pt x="197" y="118"/>
                  </a:lnTo>
                  <a:lnTo>
                    <a:pt x="189" y="123"/>
                  </a:lnTo>
                  <a:lnTo>
                    <a:pt x="180" y="128"/>
                  </a:lnTo>
                  <a:lnTo>
                    <a:pt x="173" y="132"/>
                  </a:lnTo>
                  <a:lnTo>
                    <a:pt x="164" y="135"/>
                  </a:lnTo>
                  <a:lnTo>
                    <a:pt x="154" y="139"/>
                  </a:lnTo>
                  <a:lnTo>
                    <a:pt x="143" y="141"/>
                  </a:lnTo>
                  <a:lnTo>
                    <a:pt x="132" y="142"/>
                  </a:lnTo>
                  <a:lnTo>
                    <a:pt x="121" y="144"/>
                  </a:lnTo>
                  <a:lnTo>
                    <a:pt x="110" y="145"/>
                  </a:lnTo>
                  <a:lnTo>
                    <a:pt x="99" y="144"/>
                  </a:lnTo>
                  <a:lnTo>
                    <a:pt x="88" y="142"/>
                  </a:lnTo>
                  <a:lnTo>
                    <a:pt x="77" y="141"/>
                  </a:lnTo>
                  <a:lnTo>
                    <a:pt x="68" y="139"/>
                  </a:lnTo>
                  <a:lnTo>
                    <a:pt x="59" y="135"/>
                  </a:lnTo>
                  <a:lnTo>
                    <a:pt x="50" y="132"/>
                  </a:lnTo>
                  <a:lnTo>
                    <a:pt x="41" y="128"/>
                  </a:lnTo>
                  <a:lnTo>
                    <a:pt x="33" y="123"/>
                  </a:lnTo>
                  <a:lnTo>
                    <a:pt x="26" y="118"/>
                  </a:lnTo>
                  <a:lnTo>
                    <a:pt x="20" y="112"/>
                  </a:lnTo>
                  <a:lnTo>
                    <a:pt x="15" y="106"/>
                  </a:lnTo>
                  <a:lnTo>
                    <a:pt x="9" y="100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8040" y="3009960"/>
              <a:ext cx="174600" cy="11412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0" y="73"/>
                  </a:moveTo>
                  <a:lnTo>
                    <a:pt x="2" y="65"/>
                  </a:lnTo>
                  <a:lnTo>
                    <a:pt x="2" y="58"/>
                  </a:lnTo>
                  <a:lnTo>
                    <a:pt x="6" y="51"/>
                  </a:lnTo>
                  <a:lnTo>
                    <a:pt x="9" y="44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6"/>
                  </a:lnTo>
                  <a:lnTo>
                    <a:pt x="33" y="21"/>
                  </a:lnTo>
                  <a:lnTo>
                    <a:pt x="41" y="16"/>
                  </a:lnTo>
                  <a:lnTo>
                    <a:pt x="50" y="12"/>
                  </a:lnTo>
                  <a:lnTo>
                    <a:pt x="59" y="9"/>
                  </a:lnTo>
                  <a:lnTo>
                    <a:pt x="68" y="5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2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9"/>
                  </a:lnTo>
                  <a:lnTo>
                    <a:pt x="173" y="12"/>
                  </a:lnTo>
                  <a:lnTo>
                    <a:pt x="180" y="16"/>
                  </a:lnTo>
                  <a:lnTo>
                    <a:pt x="189" y="21"/>
                  </a:lnTo>
                  <a:lnTo>
                    <a:pt x="197" y="26"/>
                  </a:lnTo>
                  <a:lnTo>
                    <a:pt x="202" y="32"/>
                  </a:lnTo>
                  <a:lnTo>
                    <a:pt x="208" y="38"/>
                  </a:lnTo>
                  <a:lnTo>
                    <a:pt x="213" y="44"/>
                  </a:lnTo>
                  <a:lnTo>
                    <a:pt x="217" y="51"/>
                  </a:lnTo>
                  <a:lnTo>
                    <a:pt x="219" y="58"/>
                  </a:lnTo>
                  <a:lnTo>
                    <a:pt x="221" y="65"/>
                  </a:lnTo>
                  <a:lnTo>
                    <a:pt x="221" y="73"/>
                  </a:lnTo>
                  <a:lnTo>
                    <a:pt x="221" y="73"/>
                  </a:lnTo>
                  <a:lnTo>
                    <a:pt x="221" y="80"/>
                  </a:lnTo>
                  <a:lnTo>
                    <a:pt x="219" y="87"/>
                  </a:lnTo>
                  <a:lnTo>
                    <a:pt x="217" y="93"/>
                  </a:lnTo>
                  <a:lnTo>
                    <a:pt x="213" y="100"/>
                  </a:lnTo>
                  <a:lnTo>
                    <a:pt x="208" y="106"/>
                  </a:lnTo>
                  <a:lnTo>
                    <a:pt x="202" y="112"/>
                  </a:lnTo>
                  <a:lnTo>
                    <a:pt x="197" y="118"/>
                  </a:lnTo>
                  <a:lnTo>
                    <a:pt x="189" y="123"/>
                  </a:lnTo>
                  <a:lnTo>
                    <a:pt x="180" y="128"/>
                  </a:lnTo>
                  <a:lnTo>
                    <a:pt x="173" y="132"/>
                  </a:lnTo>
                  <a:lnTo>
                    <a:pt x="164" y="135"/>
                  </a:lnTo>
                  <a:lnTo>
                    <a:pt x="154" y="139"/>
                  </a:lnTo>
                  <a:lnTo>
                    <a:pt x="143" y="141"/>
                  </a:lnTo>
                  <a:lnTo>
                    <a:pt x="132" y="142"/>
                  </a:lnTo>
                  <a:lnTo>
                    <a:pt x="121" y="144"/>
                  </a:lnTo>
                  <a:lnTo>
                    <a:pt x="110" y="145"/>
                  </a:lnTo>
                  <a:lnTo>
                    <a:pt x="99" y="144"/>
                  </a:lnTo>
                  <a:lnTo>
                    <a:pt x="88" y="142"/>
                  </a:lnTo>
                  <a:lnTo>
                    <a:pt x="77" y="141"/>
                  </a:lnTo>
                  <a:lnTo>
                    <a:pt x="68" y="139"/>
                  </a:lnTo>
                  <a:lnTo>
                    <a:pt x="59" y="135"/>
                  </a:lnTo>
                  <a:lnTo>
                    <a:pt x="50" y="132"/>
                  </a:lnTo>
                  <a:lnTo>
                    <a:pt x="41" y="128"/>
                  </a:lnTo>
                  <a:lnTo>
                    <a:pt x="33" y="123"/>
                  </a:lnTo>
                  <a:lnTo>
                    <a:pt x="26" y="118"/>
                  </a:lnTo>
                  <a:lnTo>
                    <a:pt x="20" y="112"/>
                  </a:lnTo>
                  <a:lnTo>
                    <a:pt x="15" y="106"/>
                  </a:lnTo>
                  <a:lnTo>
                    <a:pt x="9" y="100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0" y="7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87800" y="3143160"/>
              <a:ext cx="2332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05160" y="3124080"/>
              <a:ext cx="1800" cy="77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087800" y="3201840"/>
              <a:ext cx="117360" cy="76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5160" y="3201840"/>
              <a:ext cx="115920" cy="76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25720" y="3316320"/>
              <a:ext cx="757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08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7400" y="334800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79280" y="163836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us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9320" y="176220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cas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1640" y="188424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na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54280" y="2052720"/>
              <a:ext cx="5526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4280" y="2017800"/>
              <a:ext cx="160200" cy="69840"/>
            </a:xfrm>
            <a:custGeom>
              <a:avLst/>
              <a:gdLst/>
              <a:ahLst/>
              <a:rect l="l" t="t" r="r" b="b"/>
              <a:pathLst>
                <a:path w="202" h="89">
                  <a:moveTo>
                    <a:pt x="0" y="0"/>
                  </a:moveTo>
                  <a:lnTo>
                    <a:pt x="202" y="45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360240" y="3855960"/>
              <a:ext cx="552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14800" y="3821040"/>
              <a:ext cx="160200" cy="6984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202" y="88"/>
                  </a:moveTo>
                  <a:lnTo>
                    <a:pt x="0" y="45"/>
                  </a:lnTo>
                  <a:lnTo>
                    <a:pt x="202" y="0"/>
                  </a:lnTo>
                  <a:lnTo>
                    <a:pt x="20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5600" y="3530520"/>
              <a:ext cx="35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1120" y="365292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68760" y="2527200"/>
              <a:ext cx="106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 Case Dia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35880" y="1901880"/>
              <a:ext cx="480960" cy="315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5880" y="1901880"/>
              <a:ext cx="480960" cy="315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9720" y="19018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0" y="0"/>
                  </a:moveTo>
                  <a:lnTo>
                    <a:pt x="110" y="73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9720" y="19018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0" y="0"/>
                  </a:moveTo>
                  <a:lnTo>
                    <a:pt x="110" y="73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29720" y="19018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110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10" y="7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29720" y="19018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3">
                  <a:moveTo>
                    <a:pt x="110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10" y="7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61080" y="2006640"/>
              <a:ext cx="424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66120" y="202896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61080" y="2055600"/>
              <a:ext cx="4240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6120" y="2077920"/>
              <a:ext cx="279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080" y="2111400"/>
              <a:ext cx="424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66120" y="213372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080" y="2160720"/>
              <a:ext cx="424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6120" y="2182680"/>
              <a:ext cx="279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18560" y="1887480"/>
              <a:ext cx="109440" cy="7164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0" y="10"/>
                  </a:moveTo>
                  <a:lnTo>
                    <a:pt x="123" y="91"/>
                  </a:lnTo>
                  <a:lnTo>
                    <a:pt x="13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08640" y="166860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emen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91800" y="1790640"/>
              <a:ext cx="71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51600" y="3394080"/>
              <a:ext cx="480960" cy="315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51600" y="3394080"/>
              <a:ext cx="480960" cy="315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33940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0" y="0"/>
                  </a:moveTo>
                  <a:lnTo>
                    <a:pt x="110" y="72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5440" y="33940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0" y="0"/>
                  </a:moveTo>
                  <a:lnTo>
                    <a:pt x="110" y="72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45440" y="33940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110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10" y="7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45440" y="3394080"/>
              <a:ext cx="87120" cy="57240"/>
            </a:xfrm>
            <a:custGeom>
              <a:avLst/>
              <a:gdLst/>
              <a:ahLst/>
              <a:rect l="l" t="t" r="r" b="b"/>
              <a:pathLst>
                <a:path w="110" h="72">
                  <a:moveTo>
                    <a:pt x="110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10" y="72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77160" y="349884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80040" y="3521160"/>
              <a:ext cx="425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77160" y="354816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0040" y="3570120"/>
              <a:ext cx="2811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77160" y="360360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0040" y="3625920"/>
              <a:ext cx="4255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77160" y="3652920"/>
              <a:ext cx="423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80040" y="3674880"/>
              <a:ext cx="2811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32480" y="3379680"/>
              <a:ext cx="109800" cy="7164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0" y="10"/>
                  </a:moveTo>
                  <a:lnTo>
                    <a:pt x="125" y="91"/>
                  </a:lnTo>
                  <a:lnTo>
                    <a:pt x="138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2760" y="3220920"/>
              <a:ext cx="50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oss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0600" y="4159080"/>
              <a:ext cx="910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ting events 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960" y="426564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74600" y="4265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59920" y="42656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3480" y="438948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ed 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74400" y="43894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3480" y="4511520"/>
            <a:ext cx="68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3120" y="46339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tis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95960" y="1405080"/>
            <a:ext cx="1223640" cy="10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95960" y="1405080"/>
            <a:ext cx="1223640" cy="1027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74080" y="142884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S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75160" y="167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60120" y="16732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5800" y="167328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4080" y="179532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riv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82400" y="179532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75160" y="1917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9760" y="1917720"/>
            <a:ext cx="14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75160" y="2039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0120" y="20397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6160" y="203976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shi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74080" y="2162160"/>
            <a:ext cx="53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s ite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75160" y="2284560"/>
            <a:ext cx="38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0520" y="2284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2920" y="1955880"/>
            <a:ext cx="1403640" cy="519120"/>
          </a:xfrm>
          <a:custGeom>
            <a:avLst/>
            <a:gdLst/>
            <a:ahLst/>
            <a:rect l="l" t="t" r="r" b="b"/>
            <a:pathLst>
              <a:path w="1767" h="655">
                <a:moveTo>
                  <a:pt x="0" y="340"/>
                </a:moveTo>
                <a:lnTo>
                  <a:pt x="0" y="327"/>
                </a:lnTo>
                <a:lnTo>
                  <a:pt x="0" y="313"/>
                </a:lnTo>
                <a:lnTo>
                  <a:pt x="1" y="311"/>
                </a:lnTo>
                <a:lnTo>
                  <a:pt x="3" y="311"/>
                </a:lnTo>
                <a:lnTo>
                  <a:pt x="5" y="311"/>
                </a:lnTo>
                <a:lnTo>
                  <a:pt x="5" y="311"/>
                </a:lnTo>
                <a:lnTo>
                  <a:pt x="7" y="313"/>
                </a:lnTo>
                <a:lnTo>
                  <a:pt x="5" y="327"/>
                </a:lnTo>
                <a:lnTo>
                  <a:pt x="7" y="340"/>
                </a:lnTo>
                <a:lnTo>
                  <a:pt x="5" y="340"/>
                </a:lnTo>
                <a:lnTo>
                  <a:pt x="5" y="341"/>
                </a:lnTo>
                <a:lnTo>
                  <a:pt x="3" y="341"/>
                </a:lnTo>
                <a:lnTo>
                  <a:pt x="1" y="341"/>
                </a:lnTo>
                <a:lnTo>
                  <a:pt x="0" y="340"/>
                </a:lnTo>
                <a:lnTo>
                  <a:pt x="0" y="340"/>
                </a:lnTo>
                <a:lnTo>
                  <a:pt x="0" y="340"/>
                </a:lnTo>
                <a:close/>
                <a:moveTo>
                  <a:pt x="3" y="293"/>
                </a:moveTo>
                <a:lnTo>
                  <a:pt x="3" y="293"/>
                </a:lnTo>
                <a:lnTo>
                  <a:pt x="9" y="278"/>
                </a:lnTo>
                <a:lnTo>
                  <a:pt x="14" y="267"/>
                </a:lnTo>
                <a:lnTo>
                  <a:pt x="16" y="266"/>
                </a:lnTo>
                <a:lnTo>
                  <a:pt x="16" y="266"/>
                </a:lnTo>
                <a:lnTo>
                  <a:pt x="18" y="266"/>
                </a:lnTo>
                <a:lnTo>
                  <a:pt x="20" y="267"/>
                </a:lnTo>
                <a:lnTo>
                  <a:pt x="20" y="268"/>
                </a:lnTo>
                <a:lnTo>
                  <a:pt x="20" y="268"/>
                </a:lnTo>
                <a:lnTo>
                  <a:pt x="14" y="278"/>
                </a:lnTo>
                <a:lnTo>
                  <a:pt x="11" y="294"/>
                </a:lnTo>
                <a:lnTo>
                  <a:pt x="11" y="294"/>
                </a:lnTo>
                <a:lnTo>
                  <a:pt x="9" y="294"/>
                </a:lnTo>
                <a:lnTo>
                  <a:pt x="9" y="296"/>
                </a:lnTo>
                <a:lnTo>
                  <a:pt x="7" y="296"/>
                </a:lnTo>
                <a:lnTo>
                  <a:pt x="7" y="296"/>
                </a:lnTo>
                <a:lnTo>
                  <a:pt x="5" y="296"/>
                </a:lnTo>
                <a:lnTo>
                  <a:pt x="5" y="294"/>
                </a:lnTo>
                <a:lnTo>
                  <a:pt x="3" y="294"/>
                </a:lnTo>
                <a:lnTo>
                  <a:pt x="3" y="293"/>
                </a:lnTo>
                <a:lnTo>
                  <a:pt x="3" y="293"/>
                </a:lnTo>
                <a:close/>
                <a:moveTo>
                  <a:pt x="25" y="249"/>
                </a:moveTo>
                <a:lnTo>
                  <a:pt x="27" y="245"/>
                </a:lnTo>
                <a:lnTo>
                  <a:pt x="40" y="229"/>
                </a:lnTo>
                <a:lnTo>
                  <a:pt x="44" y="225"/>
                </a:lnTo>
                <a:lnTo>
                  <a:pt x="45" y="223"/>
                </a:lnTo>
                <a:lnTo>
                  <a:pt x="47" y="225"/>
                </a:lnTo>
                <a:lnTo>
                  <a:pt x="49" y="226"/>
                </a:lnTo>
                <a:lnTo>
                  <a:pt x="49" y="226"/>
                </a:lnTo>
                <a:lnTo>
                  <a:pt x="49" y="227"/>
                </a:lnTo>
                <a:lnTo>
                  <a:pt x="44" y="232"/>
                </a:lnTo>
                <a:lnTo>
                  <a:pt x="33" y="246"/>
                </a:lnTo>
                <a:lnTo>
                  <a:pt x="31" y="251"/>
                </a:lnTo>
                <a:lnTo>
                  <a:pt x="29" y="251"/>
                </a:lnTo>
                <a:lnTo>
                  <a:pt x="27" y="252"/>
                </a:lnTo>
                <a:lnTo>
                  <a:pt x="27" y="251"/>
                </a:lnTo>
                <a:lnTo>
                  <a:pt x="25" y="251"/>
                </a:lnTo>
                <a:lnTo>
                  <a:pt x="25" y="249"/>
                </a:lnTo>
                <a:lnTo>
                  <a:pt x="25" y="249"/>
                </a:lnTo>
                <a:close/>
                <a:moveTo>
                  <a:pt x="60" y="209"/>
                </a:moveTo>
                <a:lnTo>
                  <a:pt x="69" y="199"/>
                </a:lnTo>
                <a:lnTo>
                  <a:pt x="84" y="187"/>
                </a:lnTo>
                <a:lnTo>
                  <a:pt x="86" y="186"/>
                </a:lnTo>
                <a:lnTo>
                  <a:pt x="86" y="186"/>
                </a:lnTo>
                <a:lnTo>
                  <a:pt x="88" y="186"/>
                </a:lnTo>
                <a:lnTo>
                  <a:pt x="88" y="186"/>
                </a:lnTo>
                <a:lnTo>
                  <a:pt x="90" y="187"/>
                </a:lnTo>
                <a:lnTo>
                  <a:pt x="90" y="187"/>
                </a:lnTo>
                <a:lnTo>
                  <a:pt x="90" y="188"/>
                </a:lnTo>
                <a:lnTo>
                  <a:pt x="90" y="190"/>
                </a:lnTo>
                <a:lnTo>
                  <a:pt x="73" y="202"/>
                </a:lnTo>
                <a:lnTo>
                  <a:pt x="64" y="210"/>
                </a:lnTo>
                <a:lnTo>
                  <a:pt x="62" y="211"/>
                </a:lnTo>
                <a:lnTo>
                  <a:pt x="60" y="211"/>
                </a:lnTo>
                <a:lnTo>
                  <a:pt x="58" y="210"/>
                </a:lnTo>
                <a:lnTo>
                  <a:pt x="58" y="209"/>
                </a:lnTo>
                <a:lnTo>
                  <a:pt x="60" y="209"/>
                </a:lnTo>
                <a:lnTo>
                  <a:pt x="60" y="209"/>
                </a:lnTo>
                <a:close/>
                <a:moveTo>
                  <a:pt x="104" y="173"/>
                </a:moveTo>
                <a:lnTo>
                  <a:pt x="106" y="170"/>
                </a:lnTo>
                <a:lnTo>
                  <a:pt x="128" y="157"/>
                </a:lnTo>
                <a:lnTo>
                  <a:pt x="134" y="153"/>
                </a:lnTo>
                <a:lnTo>
                  <a:pt x="135" y="153"/>
                </a:lnTo>
                <a:lnTo>
                  <a:pt x="135" y="153"/>
                </a:lnTo>
                <a:lnTo>
                  <a:pt x="137" y="153"/>
                </a:lnTo>
                <a:lnTo>
                  <a:pt x="137" y="153"/>
                </a:lnTo>
                <a:lnTo>
                  <a:pt x="139" y="155"/>
                </a:lnTo>
                <a:lnTo>
                  <a:pt x="139" y="155"/>
                </a:lnTo>
                <a:lnTo>
                  <a:pt x="137" y="156"/>
                </a:lnTo>
                <a:lnTo>
                  <a:pt x="132" y="159"/>
                </a:lnTo>
                <a:lnTo>
                  <a:pt x="112" y="174"/>
                </a:lnTo>
                <a:lnTo>
                  <a:pt x="108" y="175"/>
                </a:lnTo>
                <a:lnTo>
                  <a:pt x="106" y="175"/>
                </a:lnTo>
                <a:lnTo>
                  <a:pt x="106" y="175"/>
                </a:lnTo>
                <a:lnTo>
                  <a:pt x="104" y="175"/>
                </a:lnTo>
                <a:lnTo>
                  <a:pt x="104" y="174"/>
                </a:lnTo>
                <a:lnTo>
                  <a:pt x="104" y="173"/>
                </a:lnTo>
                <a:lnTo>
                  <a:pt x="104" y="173"/>
                </a:lnTo>
                <a:close/>
                <a:moveTo>
                  <a:pt x="156" y="141"/>
                </a:moveTo>
                <a:lnTo>
                  <a:pt x="176" y="131"/>
                </a:lnTo>
                <a:lnTo>
                  <a:pt x="189" y="125"/>
                </a:lnTo>
                <a:lnTo>
                  <a:pt x="190" y="125"/>
                </a:lnTo>
                <a:lnTo>
                  <a:pt x="194" y="125"/>
                </a:lnTo>
                <a:lnTo>
                  <a:pt x="194" y="126"/>
                </a:lnTo>
                <a:lnTo>
                  <a:pt x="192" y="128"/>
                </a:lnTo>
                <a:lnTo>
                  <a:pt x="179" y="134"/>
                </a:lnTo>
                <a:lnTo>
                  <a:pt x="159" y="144"/>
                </a:lnTo>
                <a:lnTo>
                  <a:pt x="157" y="144"/>
                </a:lnTo>
                <a:lnTo>
                  <a:pt x="156" y="144"/>
                </a:lnTo>
                <a:lnTo>
                  <a:pt x="156" y="143"/>
                </a:lnTo>
                <a:lnTo>
                  <a:pt x="156" y="143"/>
                </a:lnTo>
                <a:lnTo>
                  <a:pt x="156" y="141"/>
                </a:lnTo>
                <a:lnTo>
                  <a:pt x="156" y="141"/>
                </a:lnTo>
                <a:lnTo>
                  <a:pt x="156" y="141"/>
                </a:lnTo>
                <a:close/>
                <a:moveTo>
                  <a:pt x="214" y="114"/>
                </a:moveTo>
                <a:lnTo>
                  <a:pt x="229" y="106"/>
                </a:lnTo>
                <a:lnTo>
                  <a:pt x="249" y="99"/>
                </a:lnTo>
                <a:lnTo>
                  <a:pt x="251" y="99"/>
                </a:lnTo>
                <a:lnTo>
                  <a:pt x="253" y="100"/>
                </a:lnTo>
                <a:lnTo>
                  <a:pt x="253" y="102"/>
                </a:lnTo>
                <a:lnTo>
                  <a:pt x="251" y="103"/>
                </a:lnTo>
                <a:lnTo>
                  <a:pt x="233" y="110"/>
                </a:lnTo>
                <a:lnTo>
                  <a:pt x="216" y="117"/>
                </a:lnTo>
                <a:lnTo>
                  <a:pt x="216" y="117"/>
                </a:lnTo>
                <a:lnTo>
                  <a:pt x="214" y="117"/>
                </a:lnTo>
                <a:lnTo>
                  <a:pt x="212" y="116"/>
                </a:lnTo>
                <a:lnTo>
                  <a:pt x="212" y="115"/>
                </a:lnTo>
                <a:lnTo>
                  <a:pt x="212" y="115"/>
                </a:lnTo>
                <a:lnTo>
                  <a:pt x="214" y="114"/>
                </a:lnTo>
                <a:lnTo>
                  <a:pt x="214" y="114"/>
                </a:lnTo>
                <a:close/>
                <a:moveTo>
                  <a:pt x="275" y="90"/>
                </a:moveTo>
                <a:lnTo>
                  <a:pt x="290" y="85"/>
                </a:lnTo>
                <a:lnTo>
                  <a:pt x="312" y="78"/>
                </a:lnTo>
                <a:lnTo>
                  <a:pt x="312" y="78"/>
                </a:lnTo>
                <a:lnTo>
                  <a:pt x="313" y="78"/>
                </a:lnTo>
                <a:lnTo>
                  <a:pt x="315" y="79"/>
                </a:lnTo>
                <a:lnTo>
                  <a:pt x="315" y="79"/>
                </a:lnTo>
                <a:lnTo>
                  <a:pt x="315" y="80"/>
                </a:lnTo>
                <a:lnTo>
                  <a:pt x="313" y="81"/>
                </a:lnTo>
                <a:lnTo>
                  <a:pt x="291" y="88"/>
                </a:lnTo>
                <a:lnTo>
                  <a:pt x="277" y="93"/>
                </a:lnTo>
                <a:lnTo>
                  <a:pt x="277" y="93"/>
                </a:lnTo>
                <a:lnTo>
                  <a:pt x="275" y="93"/>
                </a:lnTo>
                <a:lnTo>
                  <a:pt x="273" y="92"/>
                </a:lnTo>
                <a:lnTo>
                  <a:pt x="273" y="91"/>
                </a:lnTo>
                <a:lnTo>
                  <a:pt x="275" y="90"/>
                </a:lnTo>
                <a:lnTo>
                  <a:pt x="275" y="90"/>
                </a:lnTo>
                <a:close/>
                <a:moveTo>
                  <a:pt x="337" y="69"/>
                </a:moveTo>
                <a:lnTo>
                  <a:pt x="356" y="64"/>
                </a:lnTo>
                <a:lnTo>
                  <a:pt x="376" y="59"/>
                </a:lnTo>
                <a:lnTo>
                  <a:pt x="378" y="59"/>
                </a:lnTo>
                <a:lnTo>
                  <a:pt x="380" y="61"/>
                </a:lnTo>
                <a:lnTo>
                  <a:pt x="380" y="62"/>
                </a:lnTo>
                <a:lnTo>
                  <a:pt x="378" y="63"/>
                </a:lnTo>
                <a:lnTo>
                  <a:pt x="357" y="68"/>
                </a:lnTo>
                <a:lnTo>
                  <a:pt x="341" y="73"/>
                </a:lnTo>
                <a:lnTo>
                  <a:pt x="339" y="73"/>
                </a:lnTo>
                <a:lnTo>
                  <a:pt x="337" y="73"/>
                </a:lnTo>
                <a:lnTo>
                  <a:pt x="337" y="73"/>
                </a:lnTo>
                <a:lnTo>
                  <a:pt x="335" y="72"/>
                </a:lnTo>
                <a:lnTo>
                  <a:pt x="335" y="70"/>
                </a:lnTo>
                <a:lnTo>
                  <a:pt x="337" y="69"/>
                </a:lnTo>
                <a:lnTo>
                  <a:pt x="337" y="69"/>
                </a:lnTo>
                <a:close/>
                <a:moveTo>
                  <a:pt x="403" y="52"/>
                </a:moveTo>
                <a:lnTo>
                  <a:pt x="425" y="47"/>
                </a:lnTo>
                <a:lnTo>
                  <a:pt x="442" y="44"/>
                </a:lnTo>
                <a:lnTo>
                  <a:pt x="444" y="44"/>
                </a:lnTo>
                <a:lnTo>
                  <a:pt x="444" y="44"/>
                </a:lnTo>
                <a:lnTo>
                  <a:pt x="446" y="44"/>
                </a:lnTo>
                <a:lnTo>
                  <a:pt x="446" y="45"/>
                </a:lnTo>
                <a:lnTo>
                  <a:pt x="446" y="45"/>
                </a:lnTo>
                <a:lnTo>
                  <a:pt x="446" y="46"/>
                </a:lnTo>
                <a:lnTo>
                  <a:pt x="444" y="47"/>
                </a:lnTo>
                <a:lnTo>
                  <a:pt x="427" y="51"/>
                </a:lnTo>
                <a:lnTo>
                  <a:pt x="405" y="56"/>
                </a:lnTo>
                <a:lnTo>
                  <a:pt x="403" y="56"/>
                </a:lnTo>
                <a:lnTo>
                  <a:pt x="402" y="55"/>
                </a:lnTo>
                <a:lnTo>
                  <a:pt x="402" y="53"/>
                </a:lnTo>
                <a:lnTo>
                  <a:pt x="403" y="52"/>
                </a:lnTo>
                <a:lnTo>
                  <a:pt x="403" y="52"/>
                </a:lnTo>
                <a:close/>
                <a:moveTo>
                  <a:pt x="471" y="38"/>
                </a:moveTo>
                <a:lnTo>
                  <a:pt x="501" y="32"/>
                </a:lnTo>
                <a:lnTo>
                  <a:pt x="510" y="31"/>
                </a:lnTo>
                <a:lnTo>
                  <a:pt x="512" y="31"/>
                </a:lnTo>
                <a:lnTo>
                  <a:pt x="512" y="31"/>
                </a:lnTo>
                <a:lnTo>
                  <a:pt x="514" y="32"/>
                </a:lnTo>
                <a:lnTo>
                  <a:pt x="514" y="33"/>
                </a:lnTo>
                <a:lnTo>
                  <a:pt x="512" y="34"/>
                </a:lnTo>
                <a:lnTo>
                  <a:pt x="503" y="35"/>
                </a:lnTo>
                <a:lnTo>
                  <a:pt x="471" y="41"/>
                </a:lnTo>
                <a:lnTo>
                  <a:pt x="471" y="41"/>
                </a:lnTo>
                <a:lnTo>
                  <a:pt x="469" y="41"/>
                </a:lnTo>
                <a:lnTo>
                  <a:pt x="468" y="40"/>
                </a:lnTo>
                <a:lnTo>
                  <a:pt x="468" y="39"/>
                </a:lnTo>
                <a:lnTo>
                  <a:pt x="469" y="39"/>
                </a:lnTo>
                <a:lnTo>
                  <a:pt x="469" y="38"/>
                </a:lnTo>
                <a:lnTo>
                  <a:pt x="471" y="38"/>
                </a:lnTo>
                <a:lnTo>
                  <a:pt x="471" y="38"/>
                </a:lnTo>
                <a:close/>
                <a:moveTo>
                  <a:pt x="539" y="26"/>
                </a:moveTo>
                <a:lnTo>
                  <a:pt x="539" y="26"/>
                </a:lnTo>
                <a:lnTo>
                  <a:pt x="580" y="20"/>
                </a:lnTo>
                <a:lnTo>
                  <a:pt x="580" y="20"/>
                </a:lnTo>
                <a:lnTo>
                  <a:pt x="581" y="20"/>
                </a:lnTo>
                <a:lnTo>
                  <a:pt x="583" y="21"/>
                </a:lnTo>
                <a:lnTo>
                  <a:pt x="581" y="22"/>
                </a:lnTo>
                <a:lnTo>
                  <a:pt x="580" y="23"/>
                </a:lnTo>
                <a:lnTo>
                  <a:pt x="541" y="29"/>
                </a:lnTo>
                <a:lnTo>
                  <a:pt x="539" y="29"/>
                </a:lnTo>
                <a:lnTo>
                  <a:pt x="539" y="29"/>
                </a:lnTo>
                <a:lnTo>
                  <a:pt x="537" y="29"/>
                </a:lnTo>
                <a:lnTo>
                  <a:pt x="537" y="28"/>
                </a:lnTo>
                <a:lnTo>
                  <a:pt x="536" y="27"/>
                </a:lnTo>
                <a:lnTo>
                  <a:pt x="537" y="27"/>
                </a:lnTo>
                <a:lnTo>
                  <a:pt x="537" y="26"/>
                </a:lnTo>
                <a:lnTo>
                  <a:pt x="539" y="26"/>
                </a:lnTo>
                <a:lnTo>
                  <a:pt x="539" y="26"/>
                </a:lnTo>
                <a:close/>
                <a:moveTo>
                  <a:pt x="607" y="16"/>
                </a:moveTo>
                <a:lnTo>
                  <a:pt x="620" y="15"/>
                </a:lnTo>
                <a:lnTo>
                  <a:pt x="649" y="11"/>
                </a:lnTo>
                <a:lnTo>
                  <a:pt x="649" y="11"/>
                </a:lnTo>
                <a:lnTo>
                  <a:pt x="651" y="11"/>
                </a:lnTo>
                <a:lnTo>
                  <a:pt x="651" y="14"/>
                </a:lnTo>
                <a:lnTo>
                  <a:pt x="651" y="15"/>
                </a:lnTo>
                <a:lnTo>
                  <a:pt x="651" y="15"/>
                </a:lnTo>
                <a:lnTo>
                  <a:pt x="649" y="15"/>
                </a:lnTo>
                <a:lnTo>
                  <a:pt x="622" y="18"/>
                </a:lnTo>
                <a:lnTo>
                  <a:pt x="609" y="20"/>
                </a:lnTo>
                <a:lnTo>
                  <a:pt x="607" y="20"/>
                </a:lnTo>
                <a:lnTo>
                  <a:pt x="607" y="20"/>
                </a:lnTo>
                <a:lnTo>
                  <a:pt x="605" y="18"/>
                </a:lnTo>
                <a:lnTo>
                  <a:pt x="605" y="17"/>
                </a:lnTo>
                <a:lnTo>
                  <a:pt x="605" y="17"/>
                </a:lnTo>
                <a:lnTo>
                  <a:pt x="607" y="16"/>
                </a:lnTo>
                <a:lnTo>
                  <a:pt x="607" y="16"/>
                </a:lnTo>
                <a:lnTo>
                  <a:pt x="607" y="16"/>
                </a:lnTo>
                <a:close/>
                <a:moveTo>
                  <a:pt x="677" y="9"/>
                </a:moveTo>
                <a:lnTo>
                  <a:pt x="704" y="6"/>
                </a:lnTo>
                <a:lnTo>
                  <a:pt x="719" y="5"/>
                </a:lnTo>
                <a:lnTo>
                  <a:pt x="719" y="5"/>
                </a:lnTo>
                <a:lnTo>
                  <a:pt x="721" y="6"/>
                </a:lnTo>
                <a:lnTo>
                  <a:pt x="721" y="8"/>
                </a:lnTo>
                <a:lnTo>
                  <a:pt x="721" y="8"/>
                </a:lnTo>
                <a:lnTo>
                  <a:pt x="721" y="9"/>
                </a:lnTo>
                <a:lnTo>
                  <a:pt x="721" y="9"/>
                </a:lnTo>
                <a:lnTo>
                  <a:pt x="719" y="9"/>
                </a:lnTo>
                <a:lnTo>
                  <a:pt x="706" y="10"/>
                </a:lnTo>
                <a:lnTo>
                  <a:pt x="679" y="12"/>
                </a:lnTo>
                <a:lnTo>
                  <a:pt x="677" y="12"/>
                </a:lnTo>
                <a:lnTo>
                  <a:pt x="677" y="12"/>
                </a:lnTo>
                <a:lnTo>
                  <a:pt x="675" y="11"/>
                </a:lnTo>
                <a:lnTo>
                  <a:pt x="675" y="10"/>
                </a:lnTo>
                <a:lnTo>
                  <a:pt x="675" y="10"/>
                </a:lnTo>
                <a:lnTo>
                  <a:pt x="677" y="9"/>
                </a:lnTo>
                <a:lnTo>
                  <a:pt x="677" y="9"/>
                </a:lnTo>
                <a:lnTo>
                  <a:pt x="677" y="9"/>
                </a:lnTo>
                <a:close/>
                <a:moveTo>
                  <a:pt x="748" y="4"/>
                </a:moveTo>
                <a:lnTo>
                  <a:pt x="748" y="4"/>
                </a:lnTo>
                <a:lnTo>
                  <a:pt x="789" y="2"/>
                </a:lnTo>
                <a:lnTo>
                  <a:pt x="791" y="2"/>
                </a:lnTo>
                <a:lnTo>
                  <a:pt x="791" y="3"/>
                </a:lnTo>
                <a:lnTo>
                  <a:pt x="793" y="4"/>
                </a:lnTo>
                <a:lnTo>
                  <a:pt x="793" y="4"/>
                </a:lnTo>
                <a:lnTo>
                  <a:pt x="791" y="5"/>
                </a:lnTo>
                <a:lnTo>
                  <a:pt x="789" y="5"/>
                </a:lnTo>
                <a:lnTo>
                  <a:pt x="748" y="8"/>
                </a:lnTo>
                <a:lnTo>
                  <a:pt x="748" y="8"/>
                </a:lnTo>
                <a:lnTo>
                  <a:pt x="747" y="6"/>
                </a:lnTo>
                <a:lnTo>
                  <a:pt x="745" y="5"/>
                </a:lnTo>
                <a:lnTo>
                  <a:pt x="745" y="5"/>
                </a:lnTo>
                <a:lnTo>
                  <a:pt x="745" y="4"/>
                </a:lnTo>
                <a:lnTo>
                  <a:pt x="748" y="4"/>
                </a:lnTo>
                <a:lnTo>
                  <a:pt x="748" y="4"/>
                </a:lnTo>
                <a:close/>
                <a:moveTo>
                  <a:pt x="818" y="0"/>
                </a:moveTo>
                <a:lnTo>
                  <a:pt x="838" y="0"/>
                </a:lnTo>
                <a:lnTo>
                  <a:pt x="859" y="0"/>
                </a:lnTo>
                <a:lnTo>
                  <a:pt x="860" y="0"/>
                </a:lnTo>
                <a:lnTo>
                  <a:pt x="862" y="0"/>
                </a:lnTo>
                <a:lnTo>
                  <a:pt x="862" y="2"/>
                </a:lnTo>
                <a:lnTo>
                  <a:pt x="862" y="2"/>
                </a:lnTo>
                <a:lnTo>
                  <a:pt x="862" y="3"/>
                </a:lnTo>
                <a:lnTo>
                  <a:pt x="859" y="4"/>
                </a:lnTo>
                <a:lnTo>
                  <a:pt x="838" y="4"/>
                </a:lnTo>
                <a:lnTo>
                  <a:pt x="818" y="4"/>
                </a:lnTo>
                <a:lnTo>
                  <a:pt x="818" y="4"/>
                </a:lnTo>
                <a:lnTo>
                  <a:pt x="816" y="4"/>
                </a:lnTo>
                <a:lnTo>
                  <a:pt x="815" y="3"/>
                </a:lnTo>
                <a:lnTo>
                  <a:pt x="816" y="2"/>
                </a:lnTo>
                <a:lnTo>
                  <a:pt x="816" y="2"/>
                </a:lnTo>
                <a:lnTo>
                  <a:pt x="816" y="0"/>
                </a:lnTo>
                <a:lnTo>
                  <a:pt x="818" y="0"/>
                </a:lnTo>
                <a:lnTo>
                  <a:pt x="818" y="0"/>
                </a:lnTo>
                <a:close/>
                <a:moveTo>
                  <a:pt x="888" y="0"/>
                </a:moveTo>
                <a:lnTo>
                  <a:pt x="928" y="0"/>
                </a:lnTo>
                <a:lnTo>
                  <a:pt x="930" y="0"/>
                </a:lnTo>
                <a:lnTo>
                  <a:pt x="932" y="0"/>
                </a:lnTo>
                <a:lnTo>
                  <a:pt x="932" y="0"/>
                </a:lnTo>
                <a:lnTo>
                  <a:pt x="932" y="2"/>
                </a:lnTo>
                <a:lnTo>
                  <a:pt x="932" y="3"/>
                </a:lnTo>
                <a:lnTo>
                  <a:pt x="932" y="3"/>
                </a:lnTo>
                <a:lnTo>
                  <a:pt x="932" y="4"/>
                </a:lnTo>
                <a:lnTo>
                  <a:pt x="930" y="4"/>
                </a:lnTo>
                <a:lnTo>
                  <a:pt x="930" y="4"/>
                </a:lnTo>
                <a:lnTo>
                  <a:pt x="928" y="4"/>
                </a:lnTo>
                <a:lnTo>
                  <a:pt x="888" y="4"/>
                </a:lnTo>
                <a:lnTo>
                  <a:pt x="888" y="4"/>
                </a:lnTo>
                <a:lnTo>
                  <a:pt x="886" y="3"/>
                </a:lnTo>
                <a:lnTo>
                  <a:pt x="886" y="3"/>
                </a:lnTo>
                <a:lnTo>
                  <a:pt x="886" y="2"/>
                </a:lnTo>
                <a:lnTo>
                  <a:pt x="886" y="0"/>
                </a:lnTo>
                <a:lnTo>
                  <a:pt x="888" y="0"/>
                </a:lnTo>
                <a:lnTo>
                  <a:pt x="888" y="0"/>
                </a:lnTo>
                <a:lnTo>
                  <a:pt x="888" y="0"/>
                </a:lnTo>
                <a:close/>
                <a:moveTo>
                  <a:pt x="960" y="2"/>
                </a:moveTo>
                <a:lnTo>
                  <a:pt x="974" y="2"/>
                </a:lnTo>
                <a:lnTo>
                  <a:pt x="1000" y="3"/>
                </a:lnTo>
                <a:lnTo>
                  <a:pt x="1002" y="3"/>
                </a:lnTo>
                <a:lnTo>
                  <a:pt x="1004" y="5"/>
                </a:lnTo>
                <a:lnTo>
                  <a:pt x="1002" y="6"/>
                </a:lnTo>
                <a:lnTo>
                  <a:pt x="1000" y="6"/>
                </a:lnTo>
                <a:lnTo>
                  <a:pt x="972" y="5"/>
                </a:lnTo>
                <a:lnTo>
                  <a:pt x="960" y="5"/>
                </a:lnTo>
                <a:lnTo>
                  <a:pt x="958" y="4"/>
                </a:lnTo>
                <a:lnTo>
                  <a:pt x="956" y="4"/>
                </a:lnTo>
                <a:lnTo>
                  <a:pt x="956" y="3"/>
                </a:lnTo>
                <a:lnTo>
                  <a:pt x="956" y="2"/>
                </a:lnTo>
                <a:lnTo>
                  <a:pt x="958" y="2"/>
                </a:lnTo>
                <a:lnTo>
                  <a:pt x="960" y="2"/>
                </a:lnTo>
                <a:lnTo>
                  <a:pt x="960" y="2"/>
                </a:lnTo>
                <a:close/>
                <a:moveTo>
                  <a:pt x="1029" y="4"/>
                </a:moveTo>
                <a:lnTo>
                  <a:pt x="1061" y="6"/>
                </a:lnTo>
                <a:lnTo>
                  <a:pt x="1072" y="8"/>
                </a:lnTo>
                <a:lnTo>
                  <a:pt x="1072" y="8"/>
                </a:lnTo>
                <a:lnTo>
                  <a:pt x="1073" y="8"/>
                </a:lnTo>
                <a:lnTo>
                  <a:pt x="1073" y="10"/>
                </a:lnTo>
                <a:lnTo>
                  <a:pt x="1073" y="10"/>
                </a:lnTo>
                <a:lnTo>
                  <a:pt x="1072" y="11"/>
                </a:lnTo>
                <a:lnTo>
                  <a:pt x="1070" y="11"/>
                </a:lnTo>
                <a:lnTo>
                  <a:pt x="1061" y="10"/>
                </a:lnTo>
                <a:lnTo>
                  <a:pt x="1029" y="9"/>
                </a:lnTo>
                <a:lnTo>
                  <a:pt x="1027" y="8"/>
                </a:lnTo>
                <a:lnTo>
                  <a:pt x="1027" y="6"/>
                </a:lnTo>
                <a:lnTo>
                  <a:pt x="1027" y="6"/>
                </a:lnTo>
                <a:lnTo>
                  <a:pt x="1027" y="5"/>
                </a:lnTo>
                <a:lnTo>
                  <a:pt x="1029" y="4"/>
                </a:lnTo>
                <a:lnTo>
                  <a:pt x="1029" y="4"/>
                </a:lnTo>
                <a:lnTo>
                  <a:pt x="1029" y="4"/>
                </a:lnTo>
                <a:close/>
                <a:moveTo>
                  <a:pt x="1099" y="10"/>
                </a:moveTo>
                <a:lnTo>
                  <a:pt x="1105" y="10"/>
                </a:lnTo>
                <a:lnTo>
                  <a:pt x="1141" y="14"/>
                </a:lnTo>
                <a:lnTo>
                  <a:pt x="1141" y="14"/>
                </a:lnTo>
                <a:lnTo>
                  <a:pt x="1143" y="15"/>
                </a:lnTo>
                <a:lnTo>
                  <a:pt x="1143" y="15"/>
                </a:lnTo>
                <a:lnTo>
                  <a:pt x="1143" y="16"/>
                </a:lnTo>
                <a:lnTo>
                  <a:pt x="1141" y="17"/>
                </a:lnTo>
                <a:lnTo>
                  <a:pt x="1141" y="17"/>
                </a:lnTo>
                <a:lnTo>
                  <a:pt x="1139" y="17"/>
                </a:lnTo>
                <a:lnTo>
                  <a:pt x="1103" y="14"/>
                </a:lnTo>
                <a:lnTo>
                  <a:pt x="1099" y="14"/>
                </a:lnTo>
                <a:lnTo>
                  <a:pt x="1097" y="12"/>
                </a:lnTo>
                <a:lnTo>
                  <a:pt x="1097" y="12"/>
                </a:lnTo>
                <a:lnTo>
                  <a:pt x="1097" y="11"/>
                </a:lnTo>
                <a:lnTo>
                  <a:pt x="1097" y="10"/>
                </a:lnTo>
                <a:lnTo>
                  <a:pt x="1099" y="10"/>
                </a:lnTo>
                <a:lnTo>
                  <a:pt x="1099" y="10"/>
                </a:lnTo>
                <a:lnTo>
                  <a:pt x="1099" y="10"/>
                </a:lnTo>
                <a:close/>
                <a:moveTo>
                  <a:pt x="1169" y="17"/>
                </a:moveTo>
                <a:lnTo>
                  <a:pt x="1187" y="20"/>
                </a:lnTo>
                <a:lnTo>
                  <a:pt x="1209" y="23"/>
                </a:lnTo>
                <a:lnTo>
                  <a:pt x="1211" y="23"/>
                </a:lnTo>
                <a:lnTo>
                  <a:pt x="1211" y="23"/>
                </a:lnTo>
                <a:lnTo>
                  <a:pt x="1213" y="26"/>
                </a:lnTo>
                <a:lnTo>
                  <a:pt x="1211" y="27"/>
                </a:lnTo>
                <a:lnTo>
                  <a:pt x="1209" y="27"/>
                </a:lnTo>
                <a:lnTo>
                  <a:pt x="1185" y="23"/>
                </a:lnTo>
                <a:lnTo>
                  <a:pt x="1169" y="21"/>
                </a:lnTo>
                <a:lnTo>
                  <a:pt x="1167" y="21"/>
                </a:lnTo>
                <a:lnTo>
                  <a:pt x="1167" y="21"/>
                </a:lnTo>
                <a:lnTo>
                  <a:pt x="1167" y="18"/>
                </a:lnTo>
                <a:lnTo>
                  <a:pt x="1167" y="18"/>
                </a:lnTo>
                <a:lnTo>
                  <a:pt x="1167" y="17"/>
                </a:lnTo>
                <a:lnTo>
                  <a:pt x="1169" y="17"/>
                </a:lnTo>
                <a:lnTo>
                  <a:pt x="1169" y="17"/>
                </a:lnTo>
                <a:lnTo>
                  <a:pt x="1169" y="17"/>
                </a:lnTo>
                <a:close/>
                <a:moveTo>
                  <a:pt x="1239" y="27"/>
                </a:moveTo>
                <a:lnTo>
                  <a:pt x="1266" y="32"/>
                </a:lnTo>
                <a:lnTo>
                  <a:pt x="1279" y="34"/>
                </a:lnTo>
                <a:lnTo>
                  <a:pt x="1281" y="35"/>
                </a:lnTo>
                <a:lnTo>
                  <a:pt x="1281" y="35"/>
                </a:lnTo>
                <a:lnTo>
                  <a:pt x="1281" y="37"/>
                </a:lnTo>
                <a:lnTo>
                  <a:pt x="1279" y="38"/>
                </a:lnTo>
                <a:lnTo>
                  <a:pt x="1277" y="38"/>
                </a:lnTo>
                <a:lnTo>
                  <a:pt x="1277" y="38"/>
                </a:lnTo>
                <a:lnTo>
                  <a:pt x="1264" y="35"/>
                </a:lnTo>
                <a:lnTo>
                  <a:pt x="1237" y="32"/>
                </a:lnTo>
                <a:lnTo>
                  <a:pt x="1235" y="31"/>
                </a:lnTo>
                <a:lnTo>
                  <a:pt x="1235" y="29"/>
                </a:lnTo>
                <a:lnTo>
                  <a:pt x="1237" y="28"/>
                </a:lnTo>
                <a:lnTo>
                  <a:pt x="1237" y="27"/>
                </a:lnTo>
                <a:lnTo>
                  <a:pt x="1239" y="27"/>
                </a:lnTo>
                <a:lnTo>
                  <a:pt x="1239" y="27"/>
                </a:lnTo>
                <a:close/>
                <a:moveTo>
                  <a:pt x="1306" y="40"/>
                </a:moveTo>
                <a:lnTo>
                  <a:pt x="1341" y="47"/>
                </a:lnTo>
                <a:lnTo>
                  <a:pt x="1345" y="49"/>
                </a:lnTo>
                <a:lnTo>
                  <a:pt x="1347" y="49"/>
                </a:lnTo>
                <a:lnTo>
                  <a:pt x="1347" y="49"/>
                </a:lnTo>
                <a:lnTo>
                  <a:pt x="1347" y="51"/>
                </a:lnTo>
                <a:lnTo>
                  <a:pt x="1347" y="51"/>
                </a:lnTo>
                <a:lnTo>
                  <a:pt x="1347" y="52"/>
                </a:lnTo>
                <a:lnTo>
                  <a:pt x="1343" y="52"/>
                </a:lnTo>
                <a:lnTo>
                  <a:pt x="1340" y="51"/>
                </a:lnTo>
                <a:lnTo>
                  <a:pt x="1305" y="44"/>
                </a:lnTo>
                <a:lnTo>
                  <a:pt x="1303" y="43"/>
                </a:lnTo>
                <a:lnTo>
                  <a:pt x="1303" y="41"/>
                </a:lnTo>
                <a:lnTo>
                  <a:pt x="1303" y="41"/>
                </a:lnTo>
                <a:lnTo>
                  <a:pt x="1305" y="40"/>
                </a:lnTo>
                <a:lnTo>
                  <a:pt x="1305" y="40"/>
                </a:lnTo>
                <a:lnTo>
                  <a:pt x="1306" y="40"/>
                </a:lnTo>
                <a:lnTo>
                  <a:pt x="1306" y="40"/>
                </a:lnTo>
                <a:close/>
                <a:moveTo>
                  <a:pt x="1374" y="55"/>
                </a:moveTo>
                <a:lnTo>
                  <a:pt x="1376" y="56"/>
                </a:lnTo>
                <a:lnTo>
                  <a:pt x="1411" y="64"/>
                </a:lnTo>
                <a:lnTo>
                  <a:pt x="1411" y="64"/>
                </a:lnTo>
                <a:lnTo>
                  <a:pt x="1413" y="65"/>
                </a:lnTo>
                <a:lnTo>
                  <a:pt x="1413" y="67"/>
                </a:lnTo>
                <a:lnTo>
                  <a:pt x="1413" y="67"/>
                </a:lnTo>
                <a:lnTo>
                  <a:pt x="1411" y="68"/>
                </a:lnTo>
                <a:lnTo>
                  <a:pt x="1411" y="68"/>
                </a:lnTo>
                <a:lnTo>
                  <a:pt x="1409" y="68"/>
                </a:lnTo>
                <a:lnTo>
                  <a:pt x="1409" y="68"/>
                </a:lnTo>
                <a:lnTo>
                  <a:pt x="1374" y="59"/>
                </a:lnTo>
                <a:lnTo>
                  <a:pt x="1371" y="58"/>
                </a:lnTo>
                <a:lnTo>
                  <a:pt x="1369" y="57"/>
                </a:lnTo>
                <a:lnTo>
                  <a:pt x="1369" y="56"/>
                </a:lnTo>
                <a:lnTo>
                  <a:pt x="1371" y="55"/>
                </a:lnTo>
                <a:lnTo>
                  <a:pt x="1374" y="55"/>
                </a:lnTo>
                <a:lnTo>
                  <a:pt x="1374" y="55"/>
                </a:lnTo>
                <a:close/>
                <a:moveTo>
                  <a:pt x="1439" y="73"/>
                </a:moveTo>
                <a:lnTo>
                  <a:pt x="1444" y="74"/>
                </a:lnTo>
                <a:lnTo>
                  <a:pt x="1475" y="85"/>
                </a:lnTo>
                <a:lnTo>
                  <a:pt x="1477" y="85"/>
                </a:lnTo>
                <a:lnTo>
                  <a:pt x="1477" y="87"/>
                </a:lnTo>
                <a:lnTo>
                  <a:pt x="1475" y="87"/>
                </a:lnTo>
                <a:lnTo>
                  <a:pt x="1474" y="87"/>
                </a:lnTo>
                <a:lnTo>
                  <a:pt x="1442" y="78"/>
                </a:lnTo>
                <a:lnTo>
                  <a:pt x="1437" y="76"/>
                </a:lnTo>
                <a:lnTo>
                  <a:pt x="1435" y="75"/>
                </a:lnTo>
                <a:lnTo>
                  <a:pt x="1435" y="74"/>
                </a:lnTo>
                <a:lnTo>
                  <a:pt x="1435" y="74"/>
                </a:lnTo>
                <a:lnTo>
                  <a:pt x="1437" y="73"/>
                </a:lnTo>
                <a:lnTo>
                  <a:pt x="1437" y="73"/>
                </a:lnTo>
                <a:lnTo>
                  <a:pt x="1439" y="73"/>
                </a:lnTo>
                <a:lnTo>
                  <a:pt x="1439" y="73"/>
                </a:lnTo>
                <a:close/>
                <a:moveTo>
                  <a:pt x="1501" y="93"/>
                </a:moveTo>
                <a:lnTo>
                  <a:pt x="1508" y="96"/>
                </a:lnTo>
                <a:lnTo>
                  <a:pt x="1538" y="106"/>
                </a:lnTo>
                <a:lnTo>
                  <a:pt x="1538" y="108"/>
                </a:lnTo>
                <a:lnTo>
                  <a:pt x="1540" y="108"/>
                </a:lnTo>
                <a:lnTo>
                  <a:pt x="1540" y="109"/>
                </a:lnTo>
                <a:lnTo>
                  <a:pt x="1538" y="110"/>
                </a:lnTo>
                <a:lnTo>
                  <a:pt x="1536" y="110"/>
                </a:lnTo>
                <a:lnTo>
                  <a:pt x="1536" y="110"/>
                </a:lnTo>
                <a:lnTo>
                  <a:pt x="1534" y="110"/>
                </a:lnTo>
                <a:lnTo>
                  <a:pt x="1534" y="110"/>
                </a:lnTo>
                <a:lnTo>
                  <a:pt x="1505" y="99"/>
                </a:lnTo>
                <a:lnTo>
                  <a:pt x="1499" y="97"/>
                </a:lnTo>
                <a:lnTo>
                  <a:pt x="1497" y="96"/>
                </a:lnTo>
                <a:lnTo>
                  <a:pt x="1497" y="94"/>
                </a:lnTo>
                <a:lnTo>
                  <a:pt x="1499" y="93"/>
                </a:lnTo>
                <a:lnTo>
                  <a:pt x="1501" y="93"/>
                </a:lnTo>
                <a:lnTo>
                  <a:pt x="1501" y="93"/>
                </a:lnTo>
                <a:close/>
                <a:moveTo>
                  <a:pt x="1562" y="117"/>
                </a:moveTo>
                <a:lnTo>
                  <a:pt x="1565" y="119"/>
                </a:lnTo>
                <a:lnTo>
                  <a:pt x="1591" y="131"/>
                </a:lnTo>
                <a:lnTo>
                  <a:pt x="1596" y="133"/>
                </a:lnTo>
                <a:lnTo>
                  <a:pt x="1596" y="134"/>
                </a:lnTo>
                <a:lnTo>
                  <a:pt x="1596" y="137"/>
                </a:lnTo>
                <a:lnTo>
                  <a:pt x="1595" y="137"/>
                </a:lnTo>
                <a:lnTo>
                  <a:pt x="1593" y="137"/>
                </a:lnTo>
                <a:lnTo>
                  <a:pt x="1587" y="134"/>
                </a:lnTo>
                <a:lnTo>
                  <a:pt x="1562" y="122"/>
                </a:lnTo>
                <a:lnTo>
                  <a:pt x="1560" y="121"/>
                </a:lnTo>
                <a:lnTo>
                  <a:pt x="1558" y="120"/>
                </a:lnTo>
                <a:lnTo>
                  <a:pt x="1558" y="119"/>
                </a:lnTo>
                <a:lnTo>
                  <a:pt x="1558" y="119"/>
                </a:lnTo>
                <a:lnTo>
                  <a:pt x="1560" y="117"/>
                </a:lnTo>
                <a:lnTo>
                  <a:pt x="1562" y="117"/>
                </a:lnTo>
                <a:lnTo>
                  <a:pt x="1562" y="117"/>
                </a:lnTo>
                <a:lnTo>
                  <a:pt x="1562" y="117"/>
                </a:lnTo>
                <a:close/>
                <a:moveTo>
                  <a:pt x="1619" y="145"/>
                </a:moveTo>
                <a:lnTo>
                  <a:pt x="1639" y="157"/>
                </a:lnTo>
                <a:lnTo>
                  <a:pt x="1650" y="164"/>
                </a:lnTo>
                <a:lnTo>
                  <a:pt x="1650" y="166"/>
                </a:lnTo>
                <a:lnTo>
                  <a:pt x="1650" y="167"/>
                </a:lnTo>
                <a:lnTo>
                  <a:pt x="1648" y="167"/>
                </a:lnTo>
                <a:lnTo>
                  <a:pt x="1646" y="167"/>
                </a:lnTo>
                <a:lnTo>
                  <a:pt x="1635" y="159"/>
                </a:lnTo>
                <a:lnTo>
                  <a:pt x="1615" y="149"/>
                </a:lnTo>
                <a:lnTo>
                  <a:pt x="1613" y="147"/>
                </a:lnTo>
                <a:lnTo>
                  <a:pt x="1615" y="146"/>
                </a:lnTo>
                <a:lnTo>
                  <a:pt x="1615" y="146"/>
                </a:lnTo>
                <a:lnTo>
                  <a:pt x="1615" y="145"/>
                </a:lnTo>
                <a:lnTo>
                  <a:pt x="1617" y="145"/>
                </a:lnTo>
                <a:lnTo>
                  <a:pt x="1619" y="145"/>
                </a:lnTo>
                <a:lnTo>
                  <a:pt x="1619" y="145"/>
                </a:lnTo>
                <a:close/>
                <a:moveTo>
                  <a:pt x="1670" y="178"/>
                </a:moveTo>
                <a:lnTo>
                  <a:pt x="1679" y="185"/>
                </a:lnTo>
                <a:lnTo>
                  <a:pt x="1696" y="198"/>
                </a:lnTo>
                <a:lnTo>
                  <a:pt x="1697" y="200"/>
                </a:lnTo>
                <a:lnTo>
                  <a:pt x="1697" y="200"/>
                </a:lnTo>
                <a:lnTo>
                  <a:pt x="1696" y="202"/>
                </a:lnTo>
                <a:lnTo>
                  <a:pt x="1694" y="202"/>
                </a:lnTo>
                <a:lnTo>
                  <a:pt x="1692" y="202"/>
                </a:lnTo>
                <a:lnTo>
                  <a:pt x="1692" y="200"/>
                </a:lnTo>
                <a:lnTo>
                  <a:pt x="1675" y="187"/>
                </a:lnTo>
                <a:lnTo>
                  <a:pt x="1666" y="180"/>
                </a:lnTo>
                <a:lnTo>
                  <a:pt x="1664" y="179"/>
                </a:lnTo>
                <a:lnTo>
                  <a:pt x="1666" y="178"/>
                </a:lnTo>
                <a:lnTo>
                  <a:pt x="1666" y="178"/>
                </a:lnTo>
                <a:lnTo>
                  <a:pt x="1668" y="178"/>
                </a:lnTo>
                <a:lnTo>
                  <a:pt x="1670" y="178"/>
                </a:lnTo>
                <a:lnTo>
                  <a:pt x="1670" y="178"/>
                </a:lnTo>
                <a:close/>
                <a:moveTo>
                  <a:pt x="1714" y="215"/>
                </a:moveTo>
                <a:lnTo>
                  <a:pt x="1727" y="229"/>
                </a:lnTo>
                <a:lnTo>
                  <a:pt x="1734" y="238"/>
                </a:lnTo>
                <a:lnTo>
                  <a:pt x="1734" y="239"/>
                </a:lnTo>
                <a:lnTo>
                  <a:pt x="1734" y="239"/>
                </a:lnTo>
                <a:lnTo>
                  <a:pt x="1732" y="240"/>
                </a:lnTo>
                <a:lnTo>
                  <a:pt x="1732" y="241"/>
                </a:lnTo>
                <a:lnTo>
                  <a:pt x="1730" y="240"/>
                </a:lnTo>
                <a:lnTo>
                  <a:pt x="1729" y="240"/>
                </a:lnTo>
                <a:lnTo>
                  <a:pt x="1723" y="232"/>
                </a:lnTo>
                <a:lnTo>
                  <a:pt x="1708" y="216"/>
                </a:lnTo>
                <a:lnTo>
                  <a:pt x="1708" y="216"/>
                </a:lnTo>
                <a:lnTo>
                  <a:pt x="1708" y="215"/>
                </a:lnTo>
                <a:lnTo>
                  <a:pt x="1710" y="214"/>
                </a:lnTo>
                <a:lnTo>
                  <a:pt x="1710" y="214"/>
                </a:lnTo>
                <a:lnTo>
                  <a:pt x="1712" y="214"/>
                </a:lnTo>
                <a:lnTo>
                  <a:pt x="1714" y="215"/>
                </a:lnTo>
                <a:lnTo>
                  <a:pt x="1714" y="215"/>
                </a:lnTo>
                <a:close/>
                <a:moveTo>
                  <a:pt x="1745" y="256"/>
                </a:moveTo>
                <a:lnTo>
                  <a:pt x="1749" y="261"/>
                </a:lnTo>
                <a:lnTo>
                  <a:pt x="1756" y="278"/>
                </a:lnTo>
                <a:lnTo>
                  <a:pt x="1758" y="282"/>
                </a:lnTo>
                <a:lnTo>
                  <a:pt x="1758" y="282"/>
                </a:lnTo>
                <a:lnTo>
                  <a:pt x="1758" y="284"/>
                </a:lnTo>
                <a:lnTo>
                  <a:pt x="1758" y="284"/>
                </a:lnTo>
                <a:lnTo>
                  <a:pt x="1756" y="284"/>
                </a:lnTo>
                <a:lnTo>
                  <a:pt x="1754" y="284"/>
                </a:lnTo>
                <a:lnTo>
                  <a:pt x="1754" y="284"/>
                </a:lnTo>
                <a:lnTo>
                  <a:pt x="1753" y="282"/>
                </a:lnTo>
                <a:lnTo>
                  <a:pt x="1751" y="278"/>
                </a:lnTo>
                <a:lnTo>
                  <a:pt x="1743" y="262"/>
                </a:lnTo>
                <a:lnTo>
                  <a:pt x="1742" y="257"/>
                </a:lnTo>
                <a:lnTo>
                  <a:pt x="1740" y="256"/>
                </a:lnTo>
                <a:lnTo>
                  <a:pt x="1740" y="256"/>
                </a:lnTo>
                <a:lnTo>
                  <a:pt x="1742" y="255"/>
                </a:lnTo>
                <a:lnTo>
                  <a:pt x="1745" y="255"/>
                </a:lnTo>
                <a:lnTo>
                  <a:pt x="1745" y="255"/>
                </a:lnTo>
                <a:lnTo>
                  <a:pt x="1745" y="256"/>
                </a:lnTo>
                <a:lnTo>
                  <a:pt x="1745" y="256"/>
                </a:lnTo>
                <a:close/>
                <a:moveTo>
                  <a:pt x="1764" y="300"/>
                </a:moveTo>
                <a:lnTo>
                  <a:pt x="1765" y="310"/>
                </a:lnTo>
                <a:lnTo>
                  <a:pt x="1767" y="327"/>
                </a:lnTo>
                <a:lnTo>
                  <a:pt x="1767" y="328"/>
                </a:lnTo>
                <a:lnTo>
                  <a:pt x="1765" y="329"/>
                </a:lnTo>
                <a:lnTo>
                  <a:pt x="1765" y="329"/>
                </a:lnTo>
                <a:lnTo>
                  <a:pt x="1764" y="329"/>
                </a:lnTo>
                <a:lnTo>
                  <a:pt x="1762" y="328"/>
                </a:lnTo>
                <a:lnTo>
                  <a:pt x="1762" y="328"/>
                </a:lnTo>
                <a:lnTo>
                  <a:pt x="1762" y="327"/>
                </a:lnTo>
                <a:lnTo>
                  <a:pt x="1760" y="310"/>
                </a:lnTo>
                <a:lnTo>
                  <a:pt x="1758" y="302"/>
                </a:lnTo>
                <a:lnTo>
                  <a:pt x="1758" y="300"/>
                </a:lnTo>
                <a:lnTo>
                  <a:pt x="1758" y="300"/>
                </a:lnTo>
                <a:lnTo>
                  <a:pt x="1762" y="299"/>
                </a:lnTo>
                <a:lnTo>
                  <a:pt x="1762" y="299"/>
                </a:lnTo>
                <a:lnTo>
                  <a:pt x="1764" y="299"/>
                </a:lnTo>
                <a:lnTo>
                  <a:pt x="1764" y="300"/>
                </a:lnTo>
                <a:lnTo>
                  <a:pt x="1764" y="300"/>
                </a:lnTo>
                <a:close/>
                <a:moveTo>
                  <a:pt x="1767" y="327"/>
                </a:moveTo>
                <a:lnTo>
                  <a:pt x="1767" y="328"/>
                </a:lnTo>
                <a:lnTo>
                  <a:pt x="1767" y="329"/>
                </a:lnTo>
                <a:lnTo>
                  <a:pt x="1765" y="329"/>
                </a:lnTo>
                <a:lnTo>
                  <a:pt x="1765" y="329"/>
                </a:lnTo>
                <a:lnTo>
                  <a:pt x="1764" y="331"/>
                </a:lnTo>
                <a:lnTo>
                  <a:pt x="1762" y="329"/>
                </a:lnTo>
                <a:lnTo>
                  <a:pt x="1762" y="328"/>
                </a:lnTo>
                <a:lnTo>
                  <a:pt x="1762" y="327"/>
                </a:lnTo>
                <a:lnTo>
                  <a:pt x="1762" y="326"/>
                </a:lnTo>
                <a:lnTo>
                  <a:pt x="1764" y="326"/>
                </a:lnTo>
                <a:lnTo>
                  <a:pt x="1765" y="326"/>
                </a:lnTo>
                <a:lnTo>
                  <a:pt x="1765" y="326"/>
                </a:lnTo>
                <a:lnTo>
                  <a:pt x="1767" y="326"/>
                </a:lnTo>
                <a:lnTo>
                  <a:pt x="1767" y="327"/>
                </a:lnTo>
                <a:lnTo>
                  <a:pt x="1767" y="327"/>
                </a:lnTo>
                <a:close/>
                <a:moveTo>
                  <a:pt x="1765" y="348"/>
                </a:moveTo>
                <a:lnTo>
                  <a:pt x="1764" y="361"/>
                </a:lnTo>
                <a:lnTo>
                  <a:pt x="1758" y="374"/>
                </a:lnTo>
                <a:lnTo>
                  <a:pt x="1758" y="375"/>
                </a:lnTo>
                <a:lnTo>
                  <a:pt x="1756" y="375"/>
                </a:lnTo>
                <a:lnTo>
                  <a:pt x="1756" y="375"/>
                </a:lnTo>
                <a:lnTo>
                  <a:pt x="1754" y="375"/>
                </a:lnTo>
                <a:lnTo>
                  <a:pt x="1753" y="375"/>
                </a:lnTo>
                <a:lnTo>
                  <a:pt x="1753" y="374"/>
                </a:lnTo>
                <a:lnTo>
                  <a:pt x="1756" y="361"/>
                </a:lnTo>
                <a:lnTo>
                  <a:pt x="1760" y="348"/>
                </a:lnTo>
                <a:lnTo>
                  <a:pt x="1760" y="346"/>
                </a:lnTo>
                <a:lnTo>
                  <a:pt x="1760" y="346"/>
                </a:lnTo>
                <a:lnTo>
                  <a:pt x="1762" y="345"/>
                </a:lnTo>
                <a:lnTo>
                  <a:pt x="1764" y="345"/>
                </a:lnTo>
                <a:lnTo>
                  <a:pt x="1765" y="346"/>
                </a:lnTo>
                <a:lnTo>
                  <a:pt x="1765" y="348"/>
                </a:lnTo>
                <a:lnTo>
                  <a:pt x="1765" y="348"/>
                </a:lnTo>
                <a:close/>
                <a:moveTo>
                  <a:pt x="1749" y="393"/>
                </a:moveTo>
                <a:lnTo>
                  <a:pt x="1749" y="393"/>
                </a:lnTo>
                <a:lnTo>
                  <a:pt x="1740" y="409"/>
                </a:lnTo>
                <a:lnTo>
                  <a:pt x="1732" y="417"/>
                </a:lnTo>
                <a:lnTo>
                  <a:pt x="1730" y="419"/>
                </a:lnTo>
                <a:lnTo>
                  <a:pt x="1730" y="419"/>
                </a:lnTo>
                <a:lnTo>
                  <a:pt x="1729" y="419"/>
                </a:lnTo>
                <a:lnTo>
                  <a:pt x="1727" y="417"/>
                </a:lnTo>
                <a:lnTo>
                  <a:pt x="1727" y="416"/>
                </a:lnTo>
                <a:lnTo>
                  <a:pt x="1727" y="416"/>
                </a:lnTo>
                <a:lnTo>
                  <a:pt x="1734" y="408"/>
                </a:lnTo>
                <a:lnTo>
                  <a:pt x="1743" y="392"/>
                </a:lnTo>
                <a:lnTo>
                  <a:pt x="1743" y="392"/>
                </a:lnTo>
                <a:lnTo>
                  <a:pt x="1745" y="391"/>
                </a:lnTo>
                <a:lnTo>
                  <a:pt x="1747" y="391"/>
                </a:lnTo>
                <a:lnTo>
                  <a:pt x="1747" y="391"/>
                </a:lnTo>
                <a:lnTo>
                  <a:pt x="1749" y="391"/>
                </a:lnTo>
                <a:lnTo>
                  <a:pt x="1749" y="392"/>
                </a:lnTo>
                <a:lnTo>
                  <a:pt x="1749" y="393"/>
                </a:lnTo>
                <a:lnTo>
                  <a:pt x="1749" y="393"/>
                </a:lnTo>
                <a:close/>
                <a:moveTo>
                  <a:pt x="1718" y="434"/>
                </a:moveTo>
                <a:lnTo>
                  <a:pt x="1714" y="440"/>
                </a:lnTo>
                <a:lnTo>
                  <a:pt x="1697" y="455"/>
                </a:lnTo>
                <a:lnTo>
                  <a:pt x="1694" y="457"/>
                </a:lnTo>
                <a:lnTo>
                  <a:pt x="1692" y="458"/>
                </a:lnTo>
                <a:lnTo>
                  <a:pt x="1690" y="457"/>
                </a:lnTo>
                <a:lnTo>
                  <a:pt x="1690" y="456"/>
                </a:lnTo>
                <a:lnTo>
                  <a:pt x="1690" y="455"/>
                </a:lnTo>
                <a:lnTo>
                  <a:pt x="1692" y="452"/>
                </a:lnTo>
                <a:lnTo>
                  <a:pt x="1708" y="438"/>
                </a:lnTo>
                <a:lnTo>
                  <a:pt x="1714" y="433"/>
                </a:lnTo>
                <a:lnTo>
                  <a:pt x="1716" y="432"/>
                </a:lnTo>
                <a:lnTo>
                  <a:pt x="1718" y="432"/>
                </a:lnTo>
                <a:lnTo>
                  <a:pt x="1718" y="433"/>
                </a:lnTo>
                <a:lnTo>
                  <a:pt x="1718" y="434"/>
                </a:lnTo>
                <a:lnTo>
                  <a:pt x="1718" y="434"/>
                </a:lnTo>
                <a:close/>
                <a:moveTo>
                  <a:pt x="1675" y="472"/>
                </a:moveTo>
                <a:lnTo>
                  <a:pt x="1661" y="484"/>
                </a:lnTo>
                <a:lnTo>
                  <a:pt x="1648" y="492"/>
                </a:lnTo>
                <a:lnTo>
                  <a:pt x="1646" y="492"/>
                </a:lnTo>
                <a:lnTo>
                  <a:pt x="1642" y="492"/>
                </a:lnTo>
                <a:lnTo>
                  <a:pt x="1642" y="491"/>
                </a:lnTo>
                <a:lnTo>
                  <a:pt x="1642" y="489"/>
                </a:lnTo>
                <a:lnTo>
                  <a:pt x="1655" y="481"/>
                </a:lnTo>
                <a:lnTo>
                  <a:pt x="1672" y="469"/>
                </a:lnTo>
                <a:lnTo>
                  <a:pt x="1674" y="469"/>
                </a:lnTo>
                <a:lnTo>
                  <a:pt x="1675" y="469"/>
                </a:lnTo>
                <a:lnTo>
                  <a:pt x="1677" y="470"/>
                </a:lnTo>
                <a:lnTo>
                  <a:pt x="1675" y="472"/>
                </a:lnTo>
                <a:lnTo>
                  <a:pt x="1675" y="472"/>
                </a:lnTo>
                <a:close/>
                <a:moveTo>
                  <a:pt x="1626" y="505"/>
                </a:moveTo>
                <a:lnTo>
                  <a:pt x="1615" y="510"/>
                </a:lnTo>
                <a:lnTo>
                  <a:pt x="1593" y="522"/>
                </a:lnTo>
                <a:lnTo>
                  <a:pt x="1591" y="522"/>
                </a:lnTo>
                <a:lnTo>
                  <a:pt x="1591" y="522"/>
                </a:lnTo>
                <a:lnTo>
                  <a:pt x="1589" y="522"/>
                </a:lnTo>
                <a:lnTo>
                  <a:pt x="1589" y="520"/>
                </a:lnTo>
                <a:lnTo>
                  <a:pt x="1589" y="519"/>
                </a:lnTo>
                <a:lnTo>
                  <a:pt x="1611" y="508"/>
                </a:lnTo>
                <a:lnTo>
                  <a:pt x="1622" y="502"/>
                </a:lnTo>
                <a:lnTo>
                  <a:pt x="1622" y="502"/>
                </a:lnTo>
                <a:lnTo>
                  <a:pt x="1624" y="502"/>
                </a:lnTo>
                <a:lnTo>
                  <a:pt x="1626" y="502"/>
                </a:lnTo>
                <a:lnTo>
                  <a:pt x="1626" y="503"/>
                </a:lnTo>
                <a:lnTo>
                  <a:pt x="1626" y="503"/>
                </a:lnTo>
                <a:lnTo>
                  <a:pt x="1626" y="504"/>
                </a:lnTo>
                <a:lnTo>
                  <a:pt x="1626" y="505"/>
                </a:lnTo>
                <a:lnTo>
                  <a:pt x="1626" y="505"/>
                </a:lnTo>
                <a:close/>
                <a:moveTo>
                  <a:pt x="1569" y="533"/>
                </a:moveTo>
                <a:lnTo>
                  <a:pt x="1565" y="536"/>
                </a:lnTo>
                <a:lnTo>
                  <a:pt x="1538" y="548"/>
                </a:lnTo>
                <a:lnTo>
                  <a:pt x="1536" y="549"/>
                </a:lnTo>
                <a:lnTo>
                  <a:pt x="1532" y="549"/>
                </a:lnTo>
                <a:lnTo>
                  <a:pt x="1530" y="548"/>
                </a:lnTo>
                <a:lnTo>
                  <a:pt x="1530" y="546"/>
                </a:lnTo>
                <a:lnTo>
                  <a:pt x="1530" y="546"/>
                </a:lnTo>
                <a:lnTo>
                  <a:pt x="1532" y="545"/>
                </a:lnTo>
                <a:lnTo>
                  <a:pt x="1534" y="544"/>
                </a:lnTo>
                <a:lnTo>
                  <a:pt x="1562" y="533"/>
                </a:lnTo>
                <a:lnTo>
                  <a:pt x="1567" y="531"/>
                </a:lnTo>
                <a:lnTo>
                  <a:pt x="1569" y="529"/>
                </a:lnTo>
                <a:lnTo>
                  <a:pt x="1571" y="531"/>
                </a:lnTo>
                <a:lnTo>
                  <a:pt x="1571" y="532"/>
                </a:lnTo>
                <a:lnTo>
                  <a:pt x="1569" y="533"/>
                </a:lnTo>
                <a:lnTo>
                  <a:pt x="1569" y="533"/>
                </a:lnTo>
                <a:close/>
                <a:moveTo>
                  <a:pt x="1510" y="558"/>
                </a:moveTo>
                <a:lnTo>
                  <a:pt x="1508" y="558"/>
                </a:lnTo>
                <a:lnTo>
                  <a:pt x="1477" y="569"/>
                </a:lnTo>
                <a:lnTo>
                  <a:pt x="1474" y="570"/>
                </a:lnTo>
                <a:lnTo>
                  <a:pt x="1472" y="570"/>
                </a:lnTo>
                <a:lnTo>
                  <a:pt x="1472" y="570"/>
                </a:lnTo>
                <a:lnTo>
                  <a:pt x="1470" y="570"/>
                </a:lnTo>
                <a:lnTo>
                  <a:pt x="1470" y="569"/>
                </a:lnTo>
                <a:lnTo>
                  <a:pt x="1470" y="568"/>
                </a:lnTo>
                <a:lnTo>
                  <a:pt x="1472" y="567"/>
                </a:lnTo>
                <a:lnTo>
                  <a:pt x="1474" y="567"/>
                </a:lnTo>
                <a:lnTo>
                  <a:pt x="1505" y="556"/>
                </a:lnTo>
                <a:lnTo>
                  <a:pt x="1507" y="555"/>
                </a:lnTo>
                <a:lnTo>
                  <a:pt x="1508" y="555"/>
                </a:lnTo>
                <a:lnTo>
                  <a:pt x="1510" y="556"/>
                </a:lnTo>
                <a:lnTo>
                  <a:pt x="1512" y="557"/>
                </a:lnTo>
                <a:lnTo>
                  <a:pt x="1510" y="558"/>
                </a:lnTo>
                <a:lnTo>
                  <a:pt x="1510" y="558"/>
                </a:lnTo>
                <a:close/>
                <a:moveTo>
                  <a:pt x="1448" y="579"/>
                </a:moveTo>
                <a:lnTo>
                  <a:pt x="1444" y="580"/>
                </a:lnTo>
                <a:lnTo>
                  <a:pt x="1411" y="590"/>
                </a:lnTo>
                <a:lnTo>
                  <a:pt x="1409" y="590"/>
                </a:lnTo>
                <a:lnTo>
                  <a:pt x="1407" y="591"/>
                </a:lnTo>
                <a:lnTo>
                  <a:pt x="1407" y="590"/>
                </a:lnTo>
                <a:lnTo>
                  <a:pt x="1406" y="590"/>
                </a:lnTo>
                <a:lnTo>
                  <a:pt x="1406" y="590"/>
                </a:lnTo>
                <a:lnTo>
                  <a:pt x="1406" y="589"/>
                </a:lnTo>
                <a:lnTo>
                  <a:pt x="1406" y="587"/>
                </a:lnTo>
                <a:lnTo>
                  <a:pt x="1406" y="587"/>
                </a:lnTo>
                <a:lnTo>
                  <a:pt x="1407" y="587"/>
                </a:lnTo>
                <a:lnTo>
                  <a:pt x="1409" y="586"/>
                </a:lnTo>
                <a:lnTo>
                  <a:pt x="1442" y="576"/>
                </a:lnTo>
                <a:lnTo>
                  <a:pt x="1444" y="576"/>
                </a:lnTo>
                <a:lnTo>
                  <a:pt x="1446" y="575"/>
                </a:lnTo>
                <a:lnTo>
                  <a:pt x="1446" y="575"/>
                </a:lnTo>
                <a:lnTo>
                  <a:pt x="1448" y="576"/>
                </a:lnTo>
                <a:lnTo>
                  <a:pt x="1448" y="578"/>
                </a:lnTo>
                <a:lnTo>
                  <a:pt x="1448" y="578"/>
                </a:lnTo>
                <a:lnTo>
                  <a:pt x="1448" y="579"/>
                </a:lnTo>
                <a:lnTo>
                  <a:pt x="1448" y="579"/>
                </a:lnTo>
                <a:close/>
                <a:moveTo>
                  <a:pt x="1382" y="597"/>
                </a:moveTo>
                <a:lnTo>
                  <a:pt x="1376" y="598"/>
                </a:lnTo>
                <a:lnTo>
                  <a:pt x="1343" y="607"/>
                </a:lnTo>
                <a:lnTo>
                  <a:pt x="1341" y="607"/>
                </a:lnTo>
                <a:lnTo>
                  <a:pt x="1340" y="605"/>
                </a:lnTo>
                <a:lnTo>
                  <a:pt x="1340" y="604"/>
                </a:lnTo>
                <a:lnTo>
                  <a:pt x="1341" y="603"/>
                </a:lnTo>
                <a:lnTo>
                  <a:pt x="1374" y="596"/>
                </a:lnTo>
                <a:lnTo>
                  <a:pt x="1380" y="593"/>
                </a:lnTo>
                <a:lnTo>
                  <a:pt x="1380" y="593"/>
                </a:lnTo>
                <a:lnTo>
                  <a:pt x="1382" y="593"/>
                </a:lnTo>
                <a:lnTo>
                  <a:pt x="1384" y="595"/>
                </a:lnTo>
                <a:lnTo>
                  <a:pt x="1384" y="597"/>
                </a:lnTo>
                <a:lnTo>
                  <a:pt x="1382" y="597"/>
                </a:lnTo>
                <a:lnTo>
                  <a:pt x="1382" y="597"/>
                </a:lnTo>
                <a:close/>
                <a:moveTo>
                  <a:pt x="1316" y="613"/>
                </a:moveTo>
                <a:lnTo>
                  <a:pt x="1305" y="615"/>
                </a:lnTo>
                <a:lnTo>
                  <a:pt x="1275" y="621"/>
                </a:lnTo>
                <a:lnTo>
                  <a:pt x="1275" y="621"/>
                </a:lnTo>
                <a:lnTo>
                  <a:pt x="1273" y="620"/>
                </a:lnTo>
                <a:lnTo>
                  <a:pt x="1272" y="619"/>
                </a:lnTo>
                <a:lnTo>
                  <a:pt x="1272" y="619"/>
                </a:lnTo>
                <a:lnTo>
                  <a:pt x="1272" y="617"/>
                </a:lnTo>
                <a:lnTo>
                  <a:pt x="1273" y="616"/>
                </a:lnTo>
                <a:lnTo>
                  <a:pt x="1303" y="611"/>
                </a:lnTo>
                <a:lnTo>
                  <a:pt x="1314" y="609"/>
                </a:lnTo>
                <a:lnTo>
                  <a:pt x="1314" y="609"/>
                </a:lnTo>
                <a:lnTo>
                  <a:pt x="1316" y="609"/>
                </a:lnTo>
                <a:lnTo>
                  <a:pt x="1317" y="610"/>
                </a:lnTo>
                <a:lnTo>
                  <a:pt x="1317" y="611"/>
                </a:lnTo>
                <a:lnTo>
                  <a:pt x="1317" y="611"/>
                </a:lnTo>
                <a:lnTo>
                  <a:pt x="1316" y="613"/>
                </a:lnTo>
                <a:lnTo>
                  <a:pt x="1316" y="613"/>
                </a:lnTo>
                <a:close/>
                <a:moveTo>
                  <a:pt x="1248" y="626"/>
                </a:moveTo>
                <a:lnTo>
                  <a:pt x="1228" y="628"/>
                </a:lnTo>
                <a:lnTo>
                  <a:pt x="1207" y="632"/>
                </a:lnTo>
                <a:lnTo>
                  <a:pt x="1206" y="632"/>
                </a:lnTo>
                <a:lnTo>
                  <a:pt x="1206" y="632"/>
                </a:lnTo>
                <a:lnTo>
                  <a:pt x="1204" y="631"/>
                </a:lnTo>
                <a:lnTo>
                  <a:pt x="1204" y="631"/>
                </a:lnTo>
                <a:lnTo>
                  <a:pt x="1204" y="630"/>
                </a:lnTo>
                <a:lnTo>
                  <a:pt x="1204" y="628"/>
                </a:lnTo>
                <a:lnTo>
                  <a:pt x="1206" y="628"/>
                </a:lnTo>
                <a:lnTo>
                  <a:pt x="1226" y="625"/>
                </a:lnTo>
                <a:lnTo>
                  <a:pt x="1246" y="622"/>
                </a:lnTo>
                <a:lnTo>
                  <a:pt x="1248" y="621"/>
                </a:lnTo>
                <a:lnTo>
                  <a:pt x="1248" y="622"/>
                </a:lnTo>
                <a:lnTo>
                  <a:pt x="1250" y="623"/>
                </a:lnTo>
                <a:lnTo>
                  <a:pt x="1250" y="625"/>
                </a:lnTo>
                <a:lnTo>
                  <a:pt x="1248" y="626"/>
                </a:lnTo>
                <a:lnTo>
                  <a:pt x="1248" y="626"/>
                </a:lnTo>
                <a:close/>
                <a:moveTo>
                  <a:pt x="1178" y="636"/>
                </a:moveTo>
                <a:lnTo>
                  <a:pt x="1145" y="640"/>
                </a:lnTo>
                <a:lnTo>
                  <a:pt x="1138" y="640"/>
                </a:lnTo>
                <a:lnTo>
                  <a:pt x="1138" y="640"/>
                </a:lnTo>
                <a:lnTo>
                  <a:pt x="1136" y="640"/>
                </a:lnTo>
                <a:lnTo>
                  <a:pt x="1134" y="639"/>
                </a:lnTo>
                <a:lnTo>
                  <a:pt x="1134" y="639"/>
                </a:lnTo>
                <a:lnTo>
                  <a:pt x="1134" y="638"/>
                </a:lnTo>
                <a:lnTo>
                  <a:pt x="1136" y="638"/>
                </a:lnTo>
                <a:lnTo>
                  <a:pt x="1136" y="637"/>
                </a:lnTo>
                <a:lnTo>
                  <a:pt x="1138" y="637"/>
                </a:lnTo>
                <a:lnTo>
                  <a:pt x="1145" y="636"/>
                </a:lnTo>
                <a:lnTo>
                  <a:pt x="1178" y="632"/>
                </a:lnTo>
                <a:lnTo>
                  <a:pt x="1178" y="632"/>
                </a:lnTo>
                <a:lnTo>
                  <a:pt x="1180" y="632"/>
                </a:lnTo>
                <a:lnTo>
                  <a:pt x="1180" y="633"/>
                </a:lnTo>
                <a:lnTo>
                  <a:pt x="1180" y="633"/>
                </a:lnTo>
                <a:lnTo>
                  <a:pt x="1180" y="634"/>
                </a:lnTo>
                <a:lnTo>
                  <a:pt x="1180" y="634"/>
                </a:lnTo>
                <a:lnTo>
                  <a:pt x="1180" y="636"/>
                </a:lnTo>
                <a:lnTo>
                  <a:pt x="1178" y="636"/>
                </a:lnTo>
                <a:lnTo>
                  <a:pt x="1178" y="636"/>
                </a:lnTo>
                <a:close/>
                <a:moveTo>
                  <a:pt x="1108" y="644"/>
                </a:moveTo>
                <a:lnTo>
                  <a:pt x="1105" y="644"/>
                </a:lnTo>
                <a:lnTo>
                  <a:pt x="1068" y="648"/>
                </a:lnTo>
                <a:lnTo>
                  <a:pt x="1066" y="648"/>
                </a:lnTo>
                <a:lnTo>
                  <a:pt x="1066" y="646"/>
                </a:lnTo>
                <a:lnTo>
                  <a:pt x="1064" y="645"/>
                </a:lnTo>
                <a:lnTo>
                  <a:pt x="1064" y="645"/>
                </a:lnTo>
                <a:lnTo>
                  <a:pt x="1066" y="644"/>
                </a:lnTo>
                <a:lnTo>
                  <a:pt x="1068" y="644"/>
                </a:lnTo>
                <a:lnTo>
                  <a:pt x="1103" y="640"/>
                </a:lnTo>
                <a:lnTo>
                  <a:pt x="1108" y="640"/>
                </a:lnTo>
                <a:lnTo>
                  <a:pt x="1108" y="640"/>
                </a:lnTo>
                <a:lnTo>
                  <a:pt x="1110" y="640"/>
                </a:lnTo>
                <a:lnTo>
                  <a:pt x="1110" y="640"/>
                </a:lnTo>
                <a:lnTo>
                  <a:pt x="1112" y="642"/>
                </a:lnTo>
                <a:lnTo>
                  <a:pt x="1112" y="643"/>
                </a:lnTo>
                <a:lnTo>
                  <a:pt x="1110" y="643"/>
                </a:lnTo>
                <a:lnTo>
                  <a:pt x="1110" y="644"/>
                </a:lnTo>
                <a:lnTo>
                  <a:pt x="1108" y="644"/>
                </a:lnTo>
                <a:lnTo>
                  <a:pt x="1108" y="644"/>
                </a:lnTo>
                <a:close/>
                <a:moveTo>
                  <a:pt x="1038" y="649"/>
                </a:moveTo>
                <a:lnTo>
                  <a:pt x="1018" y="651"/>
                </a:lnTo>
                <a:lnTo>
                  <a:pt x="998" y="651"/>
                </a:lnTo>
                <a:lnTo>
                  <a:pt x="996" y="651"/>
                </a:lnTo>
                <a:lnTo>
                  <a:pt x="994" y="650"/>
                </a:lnTo>
                <a:lnTo>
                  <a:pt x="994" y="649"/>
                </a:lnTo>
                <a:lnTo>
                  <a:pt x="998" y="648"/>
                </a:lnTo>
                <a:lnTo>
                  <a:pt x="1016" y="646"/>
                </a:lnTo>
                <a:lnTo>
                  <a:pt x="1038" y="645"/>
                </a:lnTo>
                <a:lnTo>
                  <a:pt x="1038" y="645"/>
                </a:lnTo>
                <a:lnTo>
                  <a:pt x="1040" y="646"/>
                </a:lnTo>
                <a:lnTo>
                  <a:pt x="1042" y="648"/>
                </a:lnTo>
                <a:lnTo>
                  <a:pt x="1040" y="648"/>
                </a:lnTo>
                <a:lnTo>
                  <a:pt x="1040" y="649"/>
                </a:lnTo>
                <a:lnTo>
                  <a:pt x="1038" y="649"/>
                </a:lnTo>
                <a:lnTo>
                  <a:pt x="1038" y="649"/>
                </a:lnTo>
                <a:close/>
                <a:moveTo>
                  <a:pt x="969" y="652"/>
                </a:moveTo>
                <a:lnTo>
                  <a:pt x="928" y="654"/>
                </a:lnTo>
                <a:lnTo>
                  <a:pt x="927" y="654"/>
                </a:lnTo>
                <a:lnTo>
                  <a:pt x="925" y="654"/>
                </a:lnTo>
                <a:lnTo>
                  <a:pt x="925" y="652"/>
                </a:lnTo>
                <a:lnTo>
                  <a:pt x="925" y="652"/>
                </a:lnTo>
                <a:lnTo>
                  <a:pt x="925" y="651"/>
                </a:lnTo>
                <a:lnTo>
                  <a:pt x="925" y="651"/>
                </a:lnTo>
                <a:lnTo>
                  <a:pt x="927" y="650"/>
                </a:lnTo>
                <a:lnTo>
                  <a:pt x="927" y="650"/>
                </a:lnTo>
                <a:lnTo>
                  <a:pt x="928" y="650"/>
                </a:lnTo>
                <a:lnTo>
                  <a:pt x="969" y="649"/>
                </a:lnTo>
                <a:lnTo>
                  <a:pt x="969" y="649"/>
                </a:lnTo>
                <a:lnTo>
                  <a:pt x="971" y="650"/>
                </a:lnTo>
                <a:lnTo>
                  <a:pt x="971" y="650"/>
                </a:lnTo>
                <a:lnTo>
                  <a:pt x="971" y="651"/>
                </a:lnTo>
                <a:lnTo>
                  <a:pt x="971" y="652"/>
                </a:lnTo>
                <a:lnTo>
                  <a:pt x="969" y="652"/>
                </a:lnTo>
                <a:lnTo>
                  <a:pt x="969" y="652"/>
                </a:lnTo>
                <a:lnTo>
                  <a:pt x="969" y="652"/>
                </a:lnTo>
                <a:close/>
                <a:moveTo>
                  <a:pt x="897" y="655"/>
                </a:moveTo>
                <a:lnTo>
                  <a:pt x="882" y="655"/>
                </a:lnTo>
                <a:lnTo>
                  <a:pt x="857" y="655"/>
                </a:lnTo>
                <a:lnTo>
                  <a:pt x="855" y="654"/>
                </a:lnTo>
                <a:lnTo>
                  <a:pt x="853" y="654"/>
                </a:lnTo>
                <a:lnTo>
                  <a:pt x="853" y="652"/>
                </a:lnTo>
                <a:lnTo>
                  <a:pt x="853" y="651"/>
                </a:lnTo>
                <a:lnTo>
                  <a:pt x="855" y="651"/>
                </a:lnTo>
                <a:lnTo>
                  <a:pt x="857" y="650"/>
                </a:lnTo>
                <a:lnTo>
                  <a:pt x="882" y="651"/>
                </a:lnTo>
                <a:lnTo>
                  <a:pt x="897" y="650"/>
                </a:lnTo>
                <a:lnTo>
                  <a:pt x="899" y="651"/>
                </a:lnTo>
                <a:lnTo>
                  <a:pt x="901" y="651"/>
                </a:lnTo>
                <a:lnTo>
                  <a:pt x="901" y="652"/>
                </a:lnTo>
                <a:lnTo>
                  <a:pt x="901" y="654"/>
                </a:lnTo>
                <a:lnTo>
                  <a:pt x="899" y="654"/>
                </a:lnTo>
                <a:lnTo>
                  <a:pt x="899" y="654"/>
                </a:lnTo>
                <a:lnTo>
                  <a:pt x="897" y="655"/>
                </a:lnTo>
                <a:lnTo>
                  <a:pt x="897" y="655"/>
                </a:lnTo>
                <a:close/>
                <a:moveTo>
                  <a:pt x="827" y="654"/>
                </a:moveTo>
                <a:lnTo>
                  <a:pt x="793" y="652"/>
                </a:lnTo>
                <a:lnTo>
                  <a:pt x="785" y="652"/>
                </a:lnTo>
                <a:lnTo>
                  <a:pt x="783" y="651"/>
                </a:lnTo>
                <a:lnTo>
                  <a:pt x="783" y="650"/>
                </a:lnTo>
                <a:lnTo>
                  <a:pt x="783" y="649"/>
                </a:lnTo>
                <a:lnTo>
                  <a:pt x="787" y="649"/>
                </a:lnTo>
                <a:lnTo>
                  <a:pt x="793" y="649"/>
                </a:lnTo>
                <a:lnTo>
                  <a:pt x="827" y="650"/>
                </a:lnTo>
                <a:lnTo>
                  <a:pt x="829" y="650"/>
                </a:lnTo>
                <a:lnTo>
                  <a:pt x="829" y="650"/>
                </a:lnTo>
                <a:lnTo>
                  <a:pt x="831" y="652"/>
                </a:lnTo>
                <a:lnTo>
                  <a:pt x="829" y="654"/>
                </a:lnTo>
                <a:lnTo>
                  <a:pt x="827" y="654"/>
                </a:lnTo>
                <a:lnTo>
                  <a:pt x="827" y="654"/>
                </a:lnTo>
                <a:lnTo>
                  <a:pt x="827" y="654"/>
                </a:lnTo>
                <a:close/>
                <a:moveTo>
                  <a:pt x="756" y="651"/>
                </a:moveTo>
                <a:lnTo>
                  <a:pt x="748" y="651"/>
                </a:lnTo>
                <a:lnTo>
                  <a:pt x="715" y="649"/>
                </a:lnTo>
                <a:lnTo>
                  <a:pt x="714" y="648"/>
                </a:lnTo>
                <a:lnTo>
                  <a:pt x="714" y="648"/>
                </a:lnTo>
                <a:lnTo>
                  <a:pt x="714" y="646"/>
                </a:lnTo>
                <a:lnTo>
                  <a:pt x="714" y="645"/>
                </a:lnTo>
                <a:lnTo>
                  <a:pt x="715" y="645"/>
                </a:lnTo>
                <a:lnTo>
                  <a:pt x="748" y="646"/>
                </a:lnTo>
                <a:lnTo>
                  <a:pt x="758" y="648"/>
                </a:lnTo>
                <a:lnTo>
                  <a:pt x="759" y="648"/>
                </a:lnTo>
                <a:lnTo>
                  <a:pt x="759" y="649"/>
                </a:lnTo>
                <a:lnTo>
                  <a:pt x="759" y="649"/>
                </a:lnTo>
                <a:lnTo>
                  <a:pt x="759" y="650"/>
                </a:lnTo>
                <a:lnTo>
                  <a:pt x="759" y="650"/>
                </a:lnTo>
                <a:lnTo>
                  <a:pt x="756" y="651"/>
                </a:lnTo>
                <a:lnTo>
                  <a:pt x="756" y="651"/>
                </a:lnTo>
                <a:close/>
                <a:moveTo>
                  <a:pt x="686" y="646"/>
                </a:moveTo>
                <a:lnTo>
                  <a:pt x="662" y="644"/>
                </a:lnTo>
                <a:lnTo>
                  <a:pt x="646" y="643"/>
                </a:lnTo>
                <a:lnTo>
                  <a:pt x="644" y="642"/>
                </a:lnTo>
                <a:lnTo>
                  <a:pt x="644" y="640"/>
                </a:lnTo>
                <a:lnTo>
                  <a:pt x="644" y="639"/>
                </a:lnTo>
                <a:lnTo>
                  <a:pt x="646" y="639"/>
                </a:lnTo>
                <a:lnTo>
                  <a:pt x="646" y="639"/>
                </a:lnTo>
                <a:lnTo>
                  <a:pt x="664" y="640"/>
                </a:lnTo>
                <a:lnTo>
                  <a:pt x="688" y="643"/>
                </a:lnTo>
                <a:lnTo>
                  <a:pt x="690" y="643"/>
                </a:lnTo>
                <a:lnTo>
                  <a:pt x="690" y="644"/>
                </a:lnTo>
                <a:lnTo>
                  <a:pt x="690" y="645"/>
                </a:lnTo>
                <a:lnTo>
                  <a:pt x="690" y="645"/>
                </a:lnTo>
                <a:lnTo>
                  <a:pt x="688" y="646"/>
                </a:lnTo>
                <a:lnTo>
                  <a:pt x="686" y="646"/>
                </a:lnTo>
                <a:lnTo>
                  <a:pt x="686" y="646"/>
                </a:lnTo>
                <a:close/>
                <a:moveTo>
                  <a:pt x="616" y="639"/>
                </a:moveTo>
                <a:lnTo>
                  <a:pt x="580" y="634"/>
                </a:lnTo>
                <a:lnTo>
                  <a:pt x="576" y="634"/>
                </a:lnTo>
                <a:lnTo>
                  <a:pt x="574" y="633"/>
                </a:lnTo>
                <a:lnTo>
                  <a:pt x="574" y="633"/>
                </a:lnTo>
                <a:lnTo>
                  <a:pt x="574" y="632"/>
                </a:lnTo>
                <a:lnTo>
                  <a:pt x="574" y="631"/>
                </a:lnTo>
                <a:lnTo>
                  <a:pt x="576" y="631"/>
                </a:lnTo>
                <a:lnTo>
                  <a:pt x="576" y="631"/>
                </a:lnTo>
                <a:lnTo>
                  <a:pt x="578" y="631"/>
                </a:lnTo>
                <a:lnTo>
                  <a:pt x="581" y="631"/>
                </a:lnTo>
                <a:lnTo>
                  <a:pt x="618" y="636"/>
                </a:lnTo>
                <a:lnTo>
                  <a:pt x="620" y="637"/>
                </a:lnTo>
                <a:lnTo>
                  <a:pt x="620" y="637"/>
                </a:lnTo>
                <a:lnTo>
                  <a:pt x="620" y="638"/>
                </a:lnTo>
                <a:lnTo>
                  <a:pt x="618" y="639"/>
                </a:lnTo>
                <a:lnTo>
                  <a:pt x="618" y="639"/>
                </a:lnTo>
                <a:lnTo>
                  <a:pt x="616" y="639"/>
                </a:lnTo>
                <a:lnTo>
                  <a:pt x="616" y="639"/>
                </a:lnTo>
                <a:close/>
                <a:moveTo>
                  <a:pt x="547" y="630"/>
                </a:moveTo>
                <a:lnTo>
                  <a:pt x="539" y="628"/>
                </a:lnTo>
                <a:lnTo>
                  <a:pt x="508" y="623"/>
                </a:lnTo>
                <a:lnTo>
                  <a:pt x="506" y="622"/>
                </a:lnTo>
                <a:lnTo>
                  <a:pt x="504" y="622"/>
                </a:lnTo>
                <a:lnTo>
                  <a:pt x="506" y="621"/>
                </a:lnTo>
                <a:lnTo>
                  <a:pt x="506" y="620"/>
                </a:lnTo>
                <a:lnTo>
                  <a:pt x="508" y="620"/>
                </a:lnTo>
                <a:lnTo>
                  <a:pt x="508" y="620"/>
                </a:lnTo>
                <a:lnTo>
                  <a:pt x="541" y="625"/>
                </a:lnTo>
                <a:lnTo>
                  <a:pt x="548" y="626"/>
                </a:lnTo>
                <a:lnTo>
                  <a:pt x="550" y="627"/>
                </a:lnTo>
                <a:lnTo>
                  <a:pt x="550" y="628"/>
                </a:lnTo>
                <a:lnTo>
                  <a:pt x="550" y="630"/>
                </a:lnTo>
                <a:lnTo>
                  <a:pt x="548" y="630"/>
                </a:lnTo>
                <a:lnTo>
                  <a:pt x="547" y="630"/>
                </a:lnTo>
                <a:lnTo>
                  <a:pt x="547" y="630"/>
                </a:lnTo>
                <a:close/>
                <a:moveTo>
                  <a:pt x="479" y="619"/>
                </a:moveTo>
                <a:lnTo>
                  <a:pt x="462" y="615"/>
                </a:lnTo>
                <a:lnTo>
                  <a:pt x="440" y="610"/>
                </a:lnTo>
                <a:lnTo>
                  <a:pt x="438" y="609"/>
                </a:lnTo>
                <a:lnTo>
                  <a:pt x="438" y="609"/>
                </a:lnTo>
                <a:lnTo>
                  <a:pt x="438" y="608"/>
                </a:lnTo>
                <a:lnTo>
                  <a:pt x="440" y="607"/>
                </a:lnTo>
                <a:lnTo>
                  <a:pt x="442" y="607"/>
                </a:lnTo>
                <a:lnTo>
                  <a:pt x="464" y="611"/>
                </a:lnTo>
                <a:lnTo>
                  <a:pt x="480" y="615"/>
                </a:lnTo>
                <a:lnTo>
                  <a:pt x="482" y="615"/>
                </a:lnTo>
                <a:lnTo>
                  <a:pt x="482" y="615"/>
                </a:lnTo>
                <a:lnTo>
                  <a:pt x="482" y="616"/>
                </a:lnTo>
                <a:lnTo>
                  <a:pt x="482" y="617"/>
                </a:lnTo>
                <a:lnTo>
                  <a:pt x="480" y="619"/>
                </a:lnTo>
                <a:lnTo>
                  <a:pt x="480" y="619"/>
                </a:lnTo>
                <a:lnTo>
                  <a:pt x="479" y="619"/>
                </a:lnTo>
                <a:lnTo>
                  <a:pt x="479" y="619"/>
                </a:lnTo>
                <a:close/>
                <a:moveTo>
                  <a:pt x="413" y="604"/>
                </a:moveTo>
                <a:lnTo>
                  <a:pt x="391" y="598"/>
                </a:lnTo>
                <a:lnTo>
                  <a:pt x="374" y="595"/>
                </a:lnTo>
                <a:lnTo>
                  <a:pt x="372" y="593"/>
                </a:lnTo>
                <a:lnTo>
                  <a:pt x="372" y="592"/>
                </a:lnTo>
                <a:lnTo>
                  <a:pt x="374" y="591"/>
                </a:lnTo>
                <a:lnTo>
                  <a:pt x="376" y="591"/>
                </a:lnTo>
                <a:lnTo>
                  <a:pt x="392" y="595"/>
                </a:lnTo>
                <a:lnTo>
                  <a:pt x="414" y="601"/>
                </a:lnTo>
                <a:lnTo>
                  <a:pt x="416" y="602"/>
                </a:lnTo>
                <a:lnTo>
                  <a:pt x="416" y="603"/>
                </a:lnTo>
                <a:lnTo>
                  <a:pt x="414" y="604"/>
                </a:lnTo>
                <a:lnTo>
                  <a:pt x="413" y="604"/>
                </a:lnTo>
                <a:lnTo>
                  <a:pt x="413" y="604"/>
                </a:lnTo>
                <a:close/>
                <a:moveTo>
                  <a:pt x="346" y="587"/>
                </a:moveTo>
                <a:lnTo>
                  <a:pt x="321" y="580"/>
                </a:lnTo>
                <a:lnTo>
                  <a:pt x="308" y="575"/>
                </a:lnTo>
                <a:lnTo>
                  <a:pt x="306" y="575"/>
                </a:lnTo>
                <a:lnTo>
                  <a:pt x="306" y="574"/>
                </a:lnTo>
                <a:lnTo>
                  <a:pt x="308" y="573"/>
                </a:lnTo>
                <a:lnTo>
                  <a:pt x="308" y="572"/>
                </a:lnTo>
                <a:lnTo>
                  <a:pt x="310" y="572"/>
                </a:lnTo>
                <a:lnTo>
                  <a:pt x="312" y="573"/>
                </a:lnTo>
                <a:lnTo>
                  <a:pt x="324" y="576"/>
                </a:lnTo>
                <a:lnTo>
                  <a:pt x="348" y="584"/>
                </a:lnTo>
                <a:lnTo>
                  <a:pt x="350" y="585"/>
                </a:lnTo>
                <a:lnTo>
                  <a:pt x="350" y="585"/>
                </a:lnTo>
                <a:lnTo>
                  <a:pt x="350" y="586"/>
                </a:lnTo>
                <a:lnTo>
                  <a:pt x="348" y="587"/>
                </a:lnTo>
                <a:lnTo>
                  <a:pt x="348" y="587"/>
                </a:lnTo>
                <a:lnTo>
                  <a:pt x="346" y="587"/>
                </a:lnTo>
                <a:lnTo>
                  <a:pt x="346" y="587"/>
                </a:lnTo>
                <a:lnTo>
                  <a:pt x="346" y="587"/>
                </a:lnTo>
                <a:close/>
                <a:moveTo>
                  <a:pt x="282" y="567"/>
                </a:moveTo>
                <a:lnTo>
                  <a:pt x="258" y="558"/>
                </a:lnTo>
                <a:lnTo>
                  <a:pt x="246" y="554"/>
                </a:lnTo>
                <a:lnTo>
                  <a:pt x="246" y="552"/>
                </a:lnTo>
                <a:lnTo>
                  <a:pt x="246" y="552"/>
                </a:lnTo>
                <a:lnTo>
                  <a:pt x="246" y="551"/>
                </a:lnTo>
                <a:lnTo>
                  <a:pt x="247" y="550"/>
                </a:lnTo>
                <a:lnTo>
                  <a:pt x="247" y="550"/>
                </a:lnTo>
                <a:lnTo>
                  <a:pt x="249" y="551"/>
                </a:lnTo>
                <a:lnTo>
                  <a:pt x="262" y="556"/>
                </a:lnTo>
                <a:lnTo>
                  <a:pt x="284" y="563"/>
                </a:lnTo>
                <a:lnTo>
                  <a:pt x="286" y="564"/>
                </a:lnTo>
                <a:lnTo>
                  <a:pt x="286" y="567"/>
                </a:lnTo>
                <a:lnTo>
                  <a:pt x="284" y="567"/>
                </a:lnTo>
                <a:lnTo>
                  <a:pt x="282" y="567"/>
                </a:lnTo>
                <a:lnTo>
                  <a:pt x="282" y="567"/>
                </a:lnTo>
                <a:close/>
                <a:moveTo>
                  <a:pt x="222" y="544"/>
                </a:moveTo>
                <a:lnTo>
                  <a:pt x="201" y="536"/>
                </a:lnTo>
                <a:lnTo>
                  <a:pt x="187" y="528"/>
                </a:lnTo>
                <a:lnTo>
                  <a:pt x="185" y="527"/>
                </a:lnTo>
                <a:lnTo>
                  <a:pt x="187" y="526"/>
                </a:lnTo>
                <a:lnTo>
                  <a:pt x="189" y="525"/>
                </a:lnTo>
                <a:lnTo>
                  <a:pt x="190" y="526"/>
                </a:lnTo>
                <a:lnTo>
                  <a:pt x="205" y="533"/>
                </a:lnTo>
                <a:lnTo>
                  <a:pt x="223" y="540"/>
                </a:lnTo>
                <a:lnTo>
                  <a:pt x="225" y="542"/>
                </a:lnTo>
                <a:lnTo>
                  <a:pt x="225" y="543"/>
                </a:lnTo>
                <a:lnTo>
                  <a:pt x="225" y="544"/>
                </a:lnTo>
                <a:lnTo>
                  <a:pt x="223" y="544"/>
                </a:lnTo>
                <a:lnTo>
                  <a:pt x="222" y="544"/>
                </a:lnTo>
                <a:lnTo>
                  <a:pt x="222" y="544"/>
                </a:lnTo>
                <a:close/>
                <a:moveTo>
                  <a:pt x="163" y="517"/>
                </a:moveTo>
                <a:lnTo>
                  <a:pt x="150" y="510"/>
                </a:lnTo>
                <a:lnTo>
                  <a:pt x="132" y="499"/>
                </a:lnTo>
                <a:lnTo>
                  <a:pt x="132" y="499"/>
                </a:lnTo>
                <a:lnTo>
                  <a:pt x="130" y="498"/>
                </a:lnTo>
                <a:lnTo>
                  <a:pt x="132" y="497"/>
                </a:lnTo>
                <a:lnTo>
                  <a:pt x="132" y="497"/>
                </a:lnTo>
                <a:lnTo>
                  <a:pt x="134" y="496"/>
                </a:lnTo>
                <a:lnTo>
                  <a:pt x="135" y="496"/>
                </a:lnTo>
                <a:lnTo>
                  <a:pt x="135" y="497"/>
                </a:lnTo>
                <a:lnTo>
                  <a:pt x="154" y="508"/>
                </a:lnTo>
                <a:lnTo>
                  <a:pt x="167" y="514"/>
                </a:lnTo>
                <a:lnTo>
                  <a:pt x="168" y="515"/>
                </a:lnTo>
                <a:lnTo>
                  <a:pt x="168" y="515"/>
                </a:lnTo>
                <a:lnTo>
                  <a:pt x="168" y="516"/>
                </a:lnTo>
                <a:lnTo>
                  <a:pt x="167" y="516"/>
                </a:lnTo>
                <a:lnTo>
                  <a:pt x="167" y="517"/>
                </a:lnTo>
                <a:lnTo>
                  <a:pt x="165" y="517"/>
                </a:lnTo>
                <a:lnTo>
                  <a:pt x="165" y="517"/>
                </a:lnTo>
                <a:lnTo>
                  <a:pt x="163" y="517"/>
                </a:lnTo>
                <a:lnTo>
                  <a:pt x="163" y="517"/>
                </a:lnTo>
                <a:close/>
                <a:moveTo>
                  <a:pt x="110" y="486"/>
                </a:moveTo>
                <a:lnTo>
                  <a:pt x="106" y="484"/>
                </a:lnTo>
                <a:lnTo>
                  <a:pt x="88" y="469"/>
                </a:lnTo>
                <a:lnTo>
                  <a:pt x="82" y="466"/>
                </a:lnTo>
                <a:lnTo>
                  <a:pt x="82" y="464"/>
                </a:lnTo>
                <a:lnTo>
                  <a:pt x="82" y="463"/>
                </a:lnTo>
                <a:lnTo>
                  <a:pt x="84" y="463"/>
                </a:lnTo>
                <a:lnTo>
                  <a:pt x="86" y="463"/>
                </a:lnTo>
                <a:lnTo>
                  <a:pt x="86" y="463"/>
                </a:lnTo>
                <a:lnTo>
                  <a:pt x="88" y="463"/>
                </a:lnTo>
                <a:lnTo>
                  <a:pt x="91" y="467"/>
                </a:lnTo>
                <a:lnTo>
                  <a:pt x="110" y="481"/>
                </a:lnTo>
                <a:lnTo>
                  <a:pt x="115" y="484"/>
                </a:lnTo>
                <a:lnTo>
                  <a:pt x="115" y="485"/>
                </a:lnTo>
                <a:lnTo>
                  <a:pt x="115" y="486"/>
                </a:lnTo>
                <a:lnTo>
                  <a:pt x="113" y="486"/>
                </a:lnTo>
                <a:lnTo>
                  <a:pt x="110" y="486"/>
                </a:lnTo>
                <a:lnTo>
                  <a:pt x="110" y="486"/>
                </a:lnTo>
                <a:close/>
                <a:moveTo>
                  <a:pt x="64" y="451"/>
                </a:moveTo>
                <a:lnTo>
                  <a:pt x="53" y="440"/>
                </a:lnTo>
                <a:lnTo>
                  <a:pt x="42" y="428"/>
                </a:lnTo>
                <a:lnTo>
                  <a:pt x="42" y="427"/>
                </a:lnTo>
                <a:lnTo>
                  <a:pt x="42" y="427"/>
                </a:lnTo>
                <a:lnTo>
                  <a:pt x="44" y="426"/>
                </a:lnTo>
                <a:lnTo>
                  <a:pt x="45" y="425"/>
                </a:lnTo>
                <a:lnTo>
                  <a:pt x="47" y="426"/>
                </a:lnTo>
                <a:lnTo>
                  <a:pt x="58" y="438"/>
                </a:lnTo>
                <a:lnTo>
                  <a:pt x="69" y="449"/>
                </a:lnTo>
                <a:lnTo>
                  <a:pt x="69" y="449"/>
                </a:lnTo>
                <a:lnTo>
                  <a:pt x="69" y="450"/>
                </a:lnTo>
                <a:lnTo>
                  <a:pt x="69" y="451"/>
                </a:lnTo>
                <a:lnTo>
                  <a:pt x="66" y="451"/>
                </a:lnTo>
                <a:lnTo>
                  <a:pt x="64" y="451"/>
                </a:lnTo>
                <a:lnTo>
                  <a:pt x="64" y="451"/>
                </a:lnTo>
                <a:close/>
                <a:moveTo>
                  <a:pt x="29" y="410"/>
                </a:moveTo>
                <a:lnTo>
                  <a:pt x="27" y="409"/>
                </a:lnTo>
                <a:lnTo>
                  <a:pt x="18" y="393"/>
                </a:lnTo>
                <a:lnTo>
                  <a:pt x="14" y="385"/>
                </a:lnTo>
                <a:lnTo>
                  <a:pt x="14" y="384"/>
                </a:lnTo>
                <a:lnTo>
                  <a:pt x="16" y="382"/>
                </a:lnTo>
                <a:lnTo>
                  <a:pt x="16" y="382"/>
                </a:lnTo>
                <a:lnTo>
                  <a:pt x="18" y="382"/>
                </a:lnTo>
                <a:lnTo>
                  <a:pt x="20" y="384"/>
                </a:lnTo>
                <a:lnTo>
                  <a:pt x="23" y="392"/>
                </a:lnTo>
                <a:lnTo>
                  <a:pt x="33" y="408"/>
                </a:lnTo>
                <a:lnTo>
                  <a:pt x="34" y="409"/>
                </a:lnTo>
                <a:lnTo>
                  <a:pt x="34" y="410"/>
                </a:lnTo>
                <a:lnTo>
                  <a:pt x="33" y="411"/>
                </a:lnTo>
                <a:lnTo>
                  <a:pt x="31" y="411"/>
                </a:lnTo>
                <a:lnTo>
                  <a:pt x="29" y="410"/>
                </a:lnTo>
                <a:lnTo>
                  <a:pt x="29" y="410"/>
                </a:lnTo>
                <a:close/>
                <a:moveTo>
                  <a:pt x="5" y="367"/>
                </a:moveTo>
                <a:lnTo>
                  <a:pt x="3" y="361"/>
                </a:lnTo>
                <a:lnTo>
                  <a:pt x="0" y="344"/>
                </a:lnTo>
                <a:lnTo>
                  <a:pt x="0" y="344"/>
                </a:lnTo>
                <a:lnTo>
                  <a:pt x="1" y="343"/>
                </a:lnTo>
                <a:lnTo>
                  <a:pt x="3" y="341"/>
                </a:lnTo>
                <a:lnTo>
                  <a:pt x="3" y="341"/>
                </a:lnTo>
                <a:lnTo>
                  <a:pt x="5" y="343"/>
                </a:lnTo>
                <a:lnTo>
                  <a:pt x="5" y="343"/>
                </a:lnTo>
                <a:lnTo>
                  <a:pt x="7" y="344"/>
                </a:lnTo>
                <a:lnTo>
                  <a:pt x="9" y="360"/>
                </a:lnTo>
                <a:lnTo>
                  <a:pt x="12" y="366"/>
                </a:lnTo>
                <a:lnTo>
                  <a:pt x="11" y="367"/>
                </a:lnTo>
                <a:lnTo>
                  <a:pt x="9" y="368"/>
                </a:lnTo>
                <a:lnTo>
                  <a:pt x="7" y="368"/>
                </a:lnTo>
                <a:lnTo>
                  <a:pt x="7" y="367"/>
                </a:lnTo>
                <a:lnTo>
                  <a:pt x="5" y="367"/>
                </a:lnTo>
                <a:lnTo>
                  <a:pt x="5" y="3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82920" y="3676680"/>
            <a:ext cx="1403640" cy="347760"/>
          </a:xfrm>
          <a:custGeom>
            <a:avLst/>
            <a:gdLst/>
            <a:ahLst/>
            <a:rect l="l" t="t" r="r" b="b"/>
            <a:pathLst>
              <a:path w="1767" h="437">
                <a:moveTo>
                  <a:pt x="0" y="225"/>
                </a:moveTo>
                <a:lnTo>
                  <a:pt x="0" y="218"/>
                </a:lnTo>
                <a:lnTo>
                  <a:pt x="1" y="207"/>
                </a:lnTo>
                <a:lnTo>
                  <a:pt x="3" y="199"/>
                </a:lnTo>
                <a:lnTo>
                  <a:pt x="3" y="197"/>
                </a:lnTo>
                <a:lnTo>
                  <a:pt x="5" y="197"/>
                </a:lnTo>
                <a:lnTo>
                  <a:pt x="5" y="196"/>
                </a:lnTo>
                <a:lnTo>
                  <a:pt x="7" y="197"/>
                </a:lnTo>
                <a:lnTo>
                  <a:pt x="7" y="197"/>
                </a:lnTo>
                <a:lnTo>
                  <a:pt x="9" y="197"/>
                </a:lnTo>
                <a:lnTo>
                  <a:pt x="9" y="199"/>
                </a:lnTo>
                <a:lnTo>
                  <a:pt x="9" y="199"/>
                </a:lnTo>
                <a:lnTo>
                  <a:pt x="7" y="207"/>
                </a:lnTo>
                <a:lnTo>
                  <a:pt x="5" y="218"/>
                </a:lnTo>
                <a:lnTo>
                  <a:pt x="7" y="225"/>
                </a:lnTo>
                <a:lnTo>
                  <a:pt x="5" y="226"/>
                </a:lnTo>
                <a:lnTo>
                  <a:pt x="5" y="226"/>
                </a:lnTo>
                <a:lnTo>
                  <a:pt x="5" y="228"/>
                </a:lnTo>
                <a:lnTo>
                  <a:pt x="3" y="228"/>
                </a:lnTo>
                <a:lnTo>
                  <a:pt x="1" y="226"/>
                </a:lnTo>
                <a:lnTo>
                  <a:pt x="0" y="226"/>
                </a:lnTo>
                <a:lnTo>
                  <a:pt x="0" y="225"/>
                </a:lnTo>
                <a:lnTo>
                  <a:pt x="0" y="225"/>
                </a:lnTo>
                <a:close/>
                <a:moveTo>
                  <a:pt x="12" y="179"/>
                </a:moveTo>
                <a:lnTo>
                  <a:pt x="18" y="173"/>
                </a:lnTo>
                <a:lnTo>
                  <a:pt x="27" y="162"/>
                </a:lnTo>
                <a:lnTo>
                  <a:pt x="34" y="156"/>
                </a:lnTo>
                <a:lnTo>
                  <a:pt x="36" y="155"/>
                </a:lnTo>
                <a:lnTo>
                  <a:pt x="38" y="155"/>
                </a:lnTo>
                <a:lnTo>
                  <a:pt x="40" y="156"/>
                </a:lnTo>
                <a:lnTo>
                  <a:pt x="40" y="156"/>
                </a:lnTo>
                <a:lnTo>
                  <a:pt x="40" y="158"/>
                </a:lnTo>
                <a:lnTo>
                  <a:pt x="40" y="159"/>
                </a:lnTo>
                <a:lnTo>
                  <a:pt x="33" y="165"/>
                </a:lnTo>
                <a:lnTo>
                  <a:pt x="23" y="176"/>
                </a:lnTo>
                <a:lnTo>
                  <a:pt x="18" y="182"/>
                </a:lnTo>
                <a:lnTo>
                  <a:pt x="18" y="182"/>
                </a:lnTo>
                <a:lnTo>
                  <a:pt x="16" y="182"/>
                </a:lnTo>
                <a:lnTo>
                  <a:pt x="16" y="183"/>
                </a:lnTo>
                <a:lnTo>
                  <a:pt x="14" y="182"/>
                </a:lnTo>
                <a:lnTo>
                  <a:pt x="14" y="182"/>
                </a:lnTo>
                <a:lnTo>
                  <a:pt x="12" y="181"/>
                </a:lnTo>
                <a:lnTo>
                  <a:pt x="12" y="179"/>
                </a:lnTo>
                <a:lnTo>
                  <a:pt x="12" y="179"/>
                </a:lnTo>
                <a:close/>
                <a:moveTo>
                  <a:pt x="55" y="142"/>
                </a:moveTo>
                <a:lnTo>
                  <a:pt x="69" y="132"/>
                </a:lnTo>
                <a:lnTo>
                  <a:pt x="86" y="124"/>
                </a:lnTo>
                <a:lnTo>
                  <a:pt x="88" y="123"/>
                </a:lnTo>
                <a:lnTo>
                  <a:pt x="90" y="124"/>
                </a:lnTo>
                <a:lnTo>
                  <a:pt x="90" y="124"/>
                </a:lnTo>
                <a:lnTo>
                  <a:pt x="90" y="125"/>
                </a:lnTo>
                <a:lnTo>
                  <a:pt x="90" y="125"/>
                </a:lnTo>
                <a:lnTo>
                  <a:pt x="90" y="126"/>
                </a:lnTo>
                <a:lnTo>
                  <a:pt x="90" y="126"/>
                </a:lnTo>
                <a:lnTo>
                  <a:pt x="73" y="135"/>
                </a:lnTo>
                <a:lnTo>
                  <a:pt x="58" y="144"/>
                </a:lnTo>
                <a:lnTo>
                  <a:pt x="56" y="144"/>
                </a:lnTo>
                <a:lnTo>
                  <a:pt x="55" y="144"/>
                </a:lnTo>
                <a:lnTo>
                  <a:pt x="53" y="143"/>
                </a:lnTo>
                <a:lnTo>
                  <a:pt x="55" y="142"/>
                </a:lnTo>
                <a:lnTo>
                  <a:pt x="55" y="142"/>
                </a:lnTo>
                <a:lnTo>
                  <a:pt x="55" y="142"/>
                </a:lnTo>
                <a:close/>
                <a:moveTo>
                  <a:pt x="110" y="112"/>
                </a:moveTo>
                <a:lnTo>
                  <a:pt x="128" y="105"/>
                </a:lnTo>
                <a:lnTo>
                  <a:pt x="145" y="97"/>
                </a:lnTo>
                <a:lnTo>
                  <a:pt x="145" y="97"/>
                </a:lnTo>
                <a:lnTo>
                  <a:pt x="146" y="97"/>
                </a:lnTo>
                <a:lnTo>
                  <a:pt x="148" y="99"/>
                </a:lnTo>
                <a:lnTo>
                  <a:pt x="148" y="99"/>
                </a:lnTo>
                <a:lnTo>
                  <a:pt x="148" y="100"/>
                </a:lnTo>
                <a:lnTo>
                  <a:pt x="148" y="101"/>
                </a:lnTo>
                <a:lnTo>
                  <a:pt x="132" y="107"/>
                </a:lnTo>
                <a:lnTo>
                  <a:pt x="113" y="115"/>
                </a:lnTo>
                <a:lnTo>
                  <a:pt x="112" y="115"/>
                </a:lnTo>
                <a:lnTo>
                  <a:pt x="110" y="115"/>
                </a:lnTo>
                <a:lnTo>
                  <a:pt x="108" y="114"/>
                </a:lnTo>
                <a:lnTo>
                  <a:pt x="108" y="114"/>
                </a:lnTo>
                <a:lnTo>
                  <a:pt x="108" y="113"/>
                </a:lnTo>
                <a:lnTo>
                  <a:pt x="110" y="112"/>
                </a:lnTo>
                <a:lnTo>
                  <a:pt x="110" y="112"/>
                </a:lnTo>
                <a:close/>
                <a:moveTo>
                  <a:pt x="170" y="89"/>
                </a:moveTo>
                <a:lnTo>
                  <a:pt x="176" y="87"/>
                </a:lnTo>
                <a:lnTo>
                  <a:pt x="201" y="78"/>
                </a:lnTo>
                <a:lnTo>
                  <a:pt x="207" y="77"/>
                </a:lnTo>
                <a:lnTo>
                  <a:pt x="209" y="77"/>
                </a:lnTo>
                <a:lnTo>
                  <a:pt x="209" y="77"/>
                </a:lnTo>
                <a:lnTo>
                  <a:pt x="211" y="77"/>
                </a:lnTo>
                <a:lnTo>
                  <a:pt x="211" y="78"/>
                </a:lnTo>
                <a:lnTo>
                  <a:pt x="211" y="78"/>
                </a:lnTo>
                <a:lnTo>
                  <a:pt x="211" y="79"/>
                </a:lnTo>
                <a:lnTo>
                  <a:pt x="211" y="79"/>
                </a:lnTo>
                <a:lnTo>
                  <a:pt x="211" y="80"/>
                </a:lnTo>
                <a:lnTo>
                  <a:pt x="205" y="82"/>
                </a:lnTo>
                <a:lnTo>
                  <a:pt x="179" y="90"/>
                </a:lnTo>
                <a:lnTo>
                  <a:pt x="174" y="93"/>
                </a:lnTo>
                <a:lnTo>
                  <a:pt x="172" y="93"/>
                </a:lnTo>
                <a:lnTo>
                  <a:pt x="170" y="93"/>
                </a:lnTo>
                <a:lnTo>
                  <a:pt x="168" y="91"/>
                </a:lnTo>
                <a:lnTo>
                  <a:pt x="168" y="90"/>
                </a:lnTo>
                <a:lnTo>
                  <a:pt x="170" y="89"/>
                </a:lnTo>
                <a:lnTo>
                  <a:pt x="170" y="89"/>
                </a:lnTo>
                <a:lnTo>
                  <a:pt x="170" y="89"/>
                </a:lnTo>
                <a:close/>
                <a:moveTo>
                  <a:pt x="235" y="70"/>
                </a:moveTo>
                <a:lnTo>
                  <a:pt x="260" y="64"/>
                </a:lnTo>
                <a:lnTo>
                  <a:pt x="273" y="60"/>
                </a:lnTo>
                <a:lnTo>
                  <a:pt x="275" y="60"/>
                </a:lnTo>
                <a:lnTo>
                  <a:pt x="275" y="60"/>
                </a:lnTo>
                <a:lnTo>
                  <a:pt x="277" y="60"/>
                </a:lnTo>
                <a:lnTo>
                  <a:pt x="277" y="61"/>
                </a:lnTo>
                <a:lnTo>
                  <a:pt x="277" y="62"/>
                </a:lnTo>
                <a:lnTo>
                  <a:pt x="277" y="62"/>
                </a:lnTo>
                <a:lnTo>
                  <a:pt x="275" y="64"/>
                </a:lnTo>
                <a:lnTo>
                  <a:pt x="262" y="66"/>
                </a:lnTo>
                <a:lnTo>
                  <a:pt x="236" y="73"/>
                </a:lnTo>
                <a:lnTo>
                  <a:pt x="236" y="73"/>
                </a:lnTo>
                <a:lnTo>
                  <a:pt x="235" y="73"/>
                </a:lnTo>
                <a:lnTo>
                  <a:pt x="235" y="72"/>
                </a:lnTo>
                <a:lnTo>
                  <a:pt x="233" y="72"/>
                </a:lnTo>
                <a:lnTo>
                  <a:pt x="233" y="71"/>
                </a:lnTo>
                <a:lnTo>
                  <a:pt x="233" y="71"/>
                </a:lnTo>
                <a:lnTo>
                  <a:pt x="235" y="70"/>
                </a:lnTo>
                <a:lnTo>
                  <a:pt x="235" y="70"/>
                </a:lnTo>
                <a:lnTo>
                  <a:pt x="235" y="70"/>
                </a:lnTo>
                <a:close/>
                <a:moveTo>
                  <a:pt x="301" y="54"/>
                </a:moveTo>
                <a:lnTo>
                  <a:pt x="323" y="49"/>
                </a:lnTo>
                <a:lnTo>
                  <a:pt x="341" y="46"/>
                </a:lnTo>
                <a:lnTo>
                  <a:pt x="341" y="46"/>
                </a:lnTo>
                <a:lnTo>
                  <a:pt x="343" y="46"/>
                </a:lnTo>
                <a:lnTo>
                  <a:pt x="345" y="47"/>
                </a:lnTo>
                <a:lnTo>
                  <a:pt x="345" y="47"/>
                </a:lnTo>
                <a:lnTo>
                  <a:pt x="343" y="48"/>
                </a:lnTo>
                <a:lnTo>
                  <a:pt x="343" y="49"/>
                </a:lnTo>
                <a:lnTo>
                  <a:pt x="324" y="53"/>
                </a:lnTo>
                <a:lnTo>
                  <a:pt x="302" y="58"/>
                </a:lnTo>
                <a:lnTo>
                  <a:pt x="302" y="58"/>
                </a:lnTo>
                <a:lnTo>
                  <a:pt x="301" y="56"/>
                </a:lnTo>
                <a:lnTo>
                  <a:pt x="299" y="56"/>
                </a:lnTo>
                <a:lnTo>
                  <a:pt x="299" y="54"/>
                </a:lnTo>
                <a:lnTo>
                  <a:pt x="301" y="54"/>
                </a:lnTo>
                <a:lnTo>
                  <a:pt x="301" y="54"/>
                </a:lnTo>
                <a:lnTo>
                  <a:pt x="301" y="54"/>
                </a:lnTo>
                <a:close/>
                <a:moveTo>
                  <a:pt x="369" y="41"/>
                </a:moveTo>
                <a:lnTo>
                  <a:pt x="391" y="36"/>
                </a:lnTo>
                <a:lnTo>
                  <a:pt x="409" y="33"/>
                </a:lnTo>
                <a:lnTo>
                  <a:pt x="411" y="33"/>
                </a:lnTo>
                <a:lnTo>
                  <a:pt x="413" y="35"/>
                </a:lnTo>
                <a:lnTo>
                  <a:pt x="413" y="36"/>
                </a:lnTo>
                <a:lnTo>
                  <a:pt x="413" y="36"/>
                </a:lnTo>
                <a:lnTo>
                  <a:pt x="411" y="37"/>
                </a:lnTo>
                <a:lnTo>
                  <a:pt x="392" y="41"/>
                </a:lnTo>
                <a:lnTo>
                  <a:pt x="370" y="44"/>
                </a:lnTo>
                <a:lnTo>
                  <a:pt x="369" y="44"/>
                </a:lnTo>
                <a:lnTo>
                  <a:pt x="369" y="43"/>
                </a:lnTo>
                <a:lnTo>
                  <a:pt x="367" y="42"/>
                </a:lnTo>
                <a:lnTo>
                  <a:pt x="367" y="42"/>
                </a:lnTo>
                <a:lnTo>
                  <a:pt x="367" y="41"/>
                </a:lnTo>
                <a:lnTo>
                  <a:pt x="369" y="41"/>
                </a:lnTo>
                <a:lnTo>
                  <a:pt x="369" y="41"/>
                </a:lnTo>
                <a:close/>
                <a:moveTo>
                  <a:pt x="438" y="29"/>
                </a:moveTo>
                <a:lnTo>
                  <a:pt x="462" y="25"/>
                </a:lnTo>
                <a:lnTo>
                  <a:pt x="479" y="24"/>
                </a:lnTo>
                <a:lnTo>
                  <a:pt x="479" y="24"/>
                </a:lnTo>
                <a:lnTo>
                  <a:pt x="480" y="24"/>
                </a:lnTo>
                <a:lnTo>
                  <a:pt x="480" y="25"/>
                </a:lnTo>
                <a:lnTo>
                  <a:pt x="480" y="26"/>
                </a:lnTo>
                <a:lnTo>
                  <a:pt x="480" y="26"/>
                </a:lnTo>
                <a:lnTo>
                  <a:pt x="480" y="27"/>
                </a:lnTo>
                <a:lnTo>
                  <a:pt x="479" y="27"/>
                </a:lnTo>
                <a:lnTo>
                  <a:pt x="464" y="30"/>
                </a:lnTo>
                <a:lnTo>
                  <a:pt x="438" y="33"/>
                </a:lnTo>
                <a:lnTo>
                  <a:pt x="436" y="32"/>
                </a:lnTo>
                <a:lnTo>
                  <a:pt x="435" y="31"/>
                </a:lnTo>
                <a:lnTo>
                  <a:pt x="435" y="31"/>
                </a:lnTo>
                <a:lnTo>
                  <a:pt x="435" y="30"/>
                </a:lnTo>
                <a:lnTo>
                  <a:pt x="438" y="29"/>
                </a:lnTo>
                <a:lnTo>
                  <a:pt x="438" y="29"/>
                </a:lnTo>
                <a:close/>
                <a:moveTo>
                  <a:pt x="506" y="20"/>
                </a:moveTo>
                <a:lnTo>
                  <a:pt x="539" y="17"/>
                </a:lnTo>
                <a:lnTo>
                  <a:pt x="547" y="15"/>
                </a:lnTo>
                <a:lnTo>
                  <a:pt x="550" y="15"/>
                </a:lnTo>
                <a:lnTo>
                  <a:pt x="550" y="17"/>
                </a:lnTo>
                <a:lnTo>
                  <a:pt x="550" y="18"/>
                </a:lnTo>
                <a:lnTo>
                  <a:pt x="550" y="18"/>
                </a:lnTo>
                <a:lnTo>
                  <a:pt x="550" y="19"/>
                </a:lnTo>
                <a:lnTo>
                  <a:pt x="548" y="19"/>
                </a:lnTo>
                <a:lnTo>
                  <a:pt x="541" y="20"/>
                </a:lnTo>
                <a:lnTo>
                  <a:pt x="508" y="24"/>
                </a:lnTo>
                <a:lnTo>
                  <a:pt x="504" y="24"/>
                </a:lnTo>
                <a:lnTo>
                  <a:pt x="504" y="23"/>
                </a:lnTo>
                <a:lnTo>
                  <a:pt x="504" y="20"/>
                </a:lnTo>
                <a:lnTo>
                  <a:pt x="506" y="20"/>
                </a:lnTo>
                <a:lnTo>
                  <a:pt x="506" y="20"/>
                </a:lnTo>
                <a:close/>
                <a:moveTo>
                  <a:pt x="576" y="13"/>
                </a:moveTo>
                <a:lnTo>
                  <a:pt x="580" y="13"/>
                </a:lnTo>
                <a:lnTo>
                  <a:pt x="616" y="9"/>
                </a:lnTo>
                <a:lnTo>
                  <a:pt x="618" y="9"/>
                </a:lnTo>
                <a:lnTo>
                  <a:pt x="620" y="9"/>
                </a:lnTo>
                <a:lnTo>
                  <a:pt x="620" y="11"/>
                </a:lnTo>
                <a:lnTo>
                  <a:pt x="620" y="13"/>
                </a:lnTo>
                <a:lnTo>
                  <a:pt x="618" y="13"/>
                </a:lnTo>
                <a:lnTo>
                  <a:pt x="618" y="13"/>
                </a:lnTo>
                <a:lnTo>
                  <a:pt x="581" y="17"/>
                </a:lnTo>
                <a:lnTo>
                  <a:pt x="578" y="17"/>
                </a:lnTo>
                <a:lnTo>
                  <a:pt x="574" y="17"/>
                </a:lnTo>
                <a:lnTo>
                  <a:pt x="574" y="15"/>
                </a:lnTo>
                <a:lnTo>
                  <a:pt x="574" y="13"/>
                </a:lnTo>
                <a:lnTo>
                  <a:pt x="576" y="13"/>
                </a:lnTo>
                <a:lnTo>
                  <a:pt x="576" y="13"/>
                </a:lnTo>
                <a:close/>
                <a:moveTo>
                  <a:pt x="646" y="7"/>
                </a:moveTo>
                <a:lnTo>
                  <a:pt x="662" y="6"/>
                </a:lnTo>
                <a:lnTo>
                  <a:pt x="688" y="5"/>
                </a:lnTo>
                <a:lnTo>
                  <a:pt x="688" y="5"/>
                </a:lnTo>
                <a:lnTo>
                  <a:pt x="690" y="5"/>
                </a:lnTo>
                <a:lnTo>
                  <a:pt x="690" y="6"/>
                </a:lnTo>
                <a:lnTo>
                  <a:pt x="690" y="7"/>
                </a:lnTo>
                <a:lnTo>
                  <a:pt x="690" y="7"/>
                </a:lnTo>
                <a:lnTo>
                  <a:pt x="690" y="8"/>
                </a:lnTo>
                <a:lnTo>
                  <a:pt x="690" y="8"/>
                </a:lnTo>
                <a:lnTo>
                  <a:pt x="688" y="8"/>
                </a:lnTo>
                <a:lnTo>
                  <a:pt x="664" y="11"/>
                </a:lnTo>
                <a:lnTo>
                  <a:pt x="648" y="11"/>
                </a:lnTo>
                <a:lnTo>
                  <a:pt x="646" y="11"/>
                </a:lnTo>
                <a:lnTo>
                  <a:pt x="646" y="11"/>
                </a:lnTo>
                <a:lnTo>
                  <a:pt x="644" y="11"/>
                </a:lnTo>
                <a:lnTo>
                  <a:pt x="644" y="9"/>
                </a:lnTo>
                <a:lnTo>
                  <a:pt x="644" y="8"/>
                </a:lnTo>
                <a:lnTo>
                  <a:pt x="644" y="8"/>
                </a:lnTo>
                <a:lnTo>
                  <a:pt x="646" y="7"/>
                </a:lnTo>
                <a:lnTo>
                  <a:pt x="646" y="7"/>
                </a:lnTo>
                <a:lnTo>
                  <a:pt x="646" y="7"/>
                </a:lnTo>
                <a:close/>
                <a:moveTo>
                  <a:pt x="717" y="3"/>
                </a:moveTo>
                <a:lnTo>
                  <a:pt x="748" y="2"/>
                </a:lnTo>
                <a:lnTo>
                  <a:pt x="758" y="1"/>
                </a:lnTo>
                <a:lnTo>
                  <a:pt x="759" y="1"/>
                </a:lnTo>
                <a:lnTo>
                  <a:pt x="759" y="2"/>
                </a:lnTo>
                <a:lnTo>
                  <a:pt x="761" y="2"/>
                </a:lnTo>
                <a:lnTo>
                  <a:pt x="761" y="3"/>
                </a:lnTo>
                <a:lnTo>
                  <a:pt x="761" y="5"/>
                </a:lnTo>
                <a:lnTo>
                  <a:pt x="759" y="5"/>
                </a:lnTo>
                <a:lnTo>
                  <a:pt x="759" y="5"/>
                </a:lnTo>
                <a:lnTo>
                  <a:pt x="758" y="6"/>
                </a:lnTo>
                <a:lnTo>
                  <a:pt x="750" y="6"/>
                </a:lnTo>
                <a:lnTo>
                  <a:pt x="717" y="7"/>
                </a:lnTo>
                <a:lnTo>
                  <a:pt x="715" y="7"/>
                </a:lnTo>
                <a:lnTo>
                  <a:pt x="714" y="6"/>
                </a:lnTo>
                <a:lnTo>
                  <a:pt x="714" y="6"/>
                </a:lnTo>
                <a:lnTo>
                  <a:pt x="714" y="5"/>
                </a:lnTo>
                <a:lnTo>
                  <a:pt x="715" y="3"/>
                </a:lnTo>
                <a:lnTo>
                  <a:pt x="715" y="3"/>
                </a:lnTo>
                <a:lnTo>
                  <a:pt x="717" y="3"/>
                </a:lnTo>
                <a:lnTo>
                  <a:pt x="717" y="3"/>
                </a:lnTo>
                <a:close/>
                <a:moveTo>
                  <a:pt x="787" y="1"/>
                </a:moveTo>
                <a:lnTo>
                  <a:pt x="793" y="1"/>
                </a:lnTo>
                <a:lnTo>
                  <a:pt x="829" y="0"/>
                </a:lnTo>
                <a:lnTo>
                  <a:pt x="831" y="0"/>
                </a:lnTo>
                <a:lnTo>
                  <a:pt x="831" y="1"/>
                </a:lnTo>
                <a:lnTo>
                  <a:pt x="831" y="2"/>
                </a:lnTo>
                <a:lnTo>
                  <a:pt x="831" y="3"/>
                </a:lnTo>
                <a:lnTo>
                  <a:pt x="829" y="3"/>
                </a:lnTo>
                <a:lnTo>
                  <a:pt x="829" y="3"/>
                </a:lnTo>
                <a:lnTo>
                  <a:pt x="794" y="5"/>
                </a:lnTo>
                <a:lnTo>
                  <a:pt x="787" y="5"/>
                </a:lnTo>
                <a:lnTo>
                  <a:pt x="785" y="3"/>
                </a:lnTo>
                <a:lnTo>
                  <a:pt x="785" y="3"/>
                </a:lnTo>
                <a:lnTo>
                  <a:pt x="785" y="2"/>
                </a:lnTo>
                <a:lnTo>
                  <a:pt x="785" y="1"/>
                </a:lnTo>
                <a:lnTo>
                  <a:pt x="787" y="1"/>
                </a:lnTo>
                <a:lnTo>
                  <a:pt x="787" y="1"/>
                </a:lnTo>
                <a:close/>
                <a:moveTo>
                  <a:pt x="859" y="0"/>
                </a:moveTo>
                <a:lnTo>
                  <a:pt x="884" y="0"/>
                </a:lnTo>
                <a:lnTo>
                  <a:pt x="899" y="0"/>
                </a:lnTo>
                <a:lnTo>
                  <a:pt x="899" y="0"/>
                </a:lnTo>
                <a:lnTo>
                  <a:pt x="901" y="0"/>
                </a:lnTo>
                <a:lnTo>
                  <a:pt x="901" y="1"/>
                </a:lnTo>
                <a:lnTo>
                  <a:pt x="903" y="1"/>
                </a:lnTo>
                <a:lnTo>
                  <a:pt x="901" y="2"/>
                </a:lnTo>
                <a:lnTo>
                  <a:pt x="901" y="2"/>
                </a:lnTo>
                <a:lnTo>
                  <a:pt x="899" y="3"/>
                </a:lnTo>
                <a:lnTo>
                  <a:pt x="899" y="3"/>
                </a:lnTo>
                <a:lnTo>
                  <a:pt x="884" y="3"/>
                </a:lnTo>
                <a:lnTo>
                  <a:pt x="859" y="3"/>
                </a:lnTo>
                <a:lnTo>
                  <a:pt x="855" y="2"/>
                </a:lnTo>
                <a:lnTo>
                  <a:pt x="855" y="2"/>
                </a:lnTo>
                <a:lnTo>
                  <a:pt x="855" y="1"/>
                </a:lnTo>
                <a:lnTo>
                  <a:pt x="855" y="1"/>
                </a:lnTo>
                <a:lnTo>
                  <a:pt x="855" y="0"/>
                </a:lnTo>
                <a:lnTo>
                  <a:pt x="857" y="0"/>
                </a:lnTo>
                <a:lnTo>
                  <a:pt x="859" y="0"/>
                </a:lnTo>
                <a:lnTo>
                  <a:pt x="859" y="0"/>
                </a:lnTo>
                <a:close/>
                <a:moveTo>
                  <a:pt x="928" y="0"/>
                </a:moveTo>
                <a:lnTo>
                  <a:pt x="928" y="0"/>
                </a:lnTo>
                <a:lnTo>
                  <a:pt x="969" y="1"/>
                </a:lnTo>
                <a:lnTo>
                  <a:pt x="971" y="1"/>
                </a:lnTo>
                <a:lnTo>
                  <a:pt x="971" y="1"/>
                </a:lnTo>
                <a:lnTo>
                  <a:pt x="972" y="2"/>
                </a:lnTo>
                <a:lnTo>
                  <a:pt x="972" y="3"/>
                </a:lnTo>
                <a:lnTo>
                  <a:pt x="971" y="3"/>
                </a:lnTo>
                <a:lnTo>
                  <a:pt x="969" y="5"/>
                </a:lnTo>
                <a:lnTo>
                  <a:pt x="928" y="3"/>
                </a:lnTo>
                <a:lnTo>
                  <a:pt x="928" y="3"/>
                </a:lnTo>
                <a:lnTo>
                  <a:pt x="927" y="3"/>
                </a:lnTo>
                <a:lnTo>
                  <a:pt x="927" y="3"/>
                </a:lnTo>
                <a:lnTo>
                  <a:pt x="925" y="2"/>
                </a:lnTo>
                <a:lnTo>
                  <a:pt x="925" y="1"/>
                </a:lnTo>
                <a:lnTo>
                  <a:pt x="925" y="1"/>
                </a:lnTo>
                <a:lnTo>
                  <a:pt x="927" y="0"/>
                </a:lnTo>
                <a:lnTo>
                  <a:pt x="927" y="0"/>
                </a:lnTo>
                <a:lnTo>
                  <a:pt x="928" y="0"/>
                </a:lnTo>
                <a:lnTo>
                  <a:pt x="928" y="0"/>
                </a:lnTo>
                <a:close/>
                <a:moveTo>
                  <a:pt x="998" y="1"/>
                </a:moveTo>
                <a:lnTo>
                  <a:pt x="1018" y="2"/>
                </a:lnTo>
                <a:lnTo>
                  <a:pt x="1040" y="3"/>
                </a:lnTo>
                <a:lnTo>
                  <a:pt x="1040" y="3"/>
                </a:lnTo>
                <a:lnTo>
                  <a:pt x="1042" y="3"/>
                </a:lnTo>
                <a:lnTo>
                  <a:pt x="1042" y="3"/>
                </a:lnTo>
                <a:lnTo>
                  <a:pt x="1042" y="5"/>
                </a:lnTo>
                <a:lnTo>
                  <a:pt x="1042" y="6"/>
                </a:lnTo>
                <a:lnTo>
                  <a:pt x="1040" y="7"/>
                </a:lnTo>
                <a:lnTo>
                  <a:pt x="1040" y="7"/>
                </a:lnTo>
                <a:lnTo>
                  <a:pt x="1018" y="6"/>
                </a:lnTo>
                <a:lnTo>
                  <a:pt x="998" y="5"/>
                </a:lnTo>
                <a:lnTo>
                  <a:pt x="998" y="5"/>
                </a:lnTo>
                <a:lnTo>
                  <a:pt x="996" y="5"/>
                </a:lnTo>
                <a:lnTo>
                  <a:pt x="996" y="3"/>
                </a:lnTo>
                <a:lnTo>
                  <a:pt x="996" y="3"/>
                </a:lnTo>
                <a:lnTo>
                  <a:pt x="996" y="1"/>
                </a:lnTo>
                <a:lnTo>
                  <a:pt x="998" y="1"/>
                </a:lnTo>
                <a:lnTo>
                  <a:pt x="998" y="1"/>
                </a:lnTo>
                <a:lnTo>
                  <a:pt x="998" y="1"/>
                </a:lnTo>
                <a:close/>
                <a:moveTo>
                  <a:pt x="1070" y="5"/>
                </a:moveTo>
                <a:lnTo>
                  <a:pt x="1105" y="6"/>
                </a:lnTo>
                <a:lnTo>
                  <a:pt x="1110" y="7"/>
                </a:lnTo>
                <a:lnTo>
                  <a:pt x="1112" y="7"/>
                </a:lnTo>
                <a:lnTo>
                  <a:pt x="1114" y="8"/>
                </a:lnTo>
                <a:lnTo>
                  <a:pt x="1112" y="9"/>
                </a:lnTo>
                <a:lnTo>
                  <a:pt x="1110" y="11"/>
                </a:lnTo>
                <a:lnTo>
                  <a:pt x="1103" y="11"/>
                </a:lnTo>
                <a:lnTo>
                  <a:pt x="1070" y="8"/>
                </a:lnTo>
                <a:lnTo>
                  <a:pt x="1068" y="8"/>
                </a:lnTo>
                <a:lnTo>
                  <a:pt x="1066" y="7"/>
                </a:lnTo>
                <a:lnTo>
                  <a:pt x="1066" y="7"/>
                </a:lnTo>
                <a:lnTo>
                  <a:pt x="1066" y="6"/>
                </a:lnTo>
                <a:lnTo>
                  <a:pt x="1066" y="5"/>
                </a:lnTo>
                <a:lnTo>
                  <a:pt x="1068" y="5"/>
                </a:lnTo>
                <a:lnTo>
                  <a:pt x="1068" y="5"/>
                </a:lnTo>
                <a:lnTo>
                  <a:pt x="1070" y="5"/>
                </a:lnTo>
                <a:lnTo>
                  <a:pt x="1070" y="5"/>
                </a:lnTo>
                <a:close/>
                <a:moveTo>
                  <a:pt x="1139" y="8"/>
                </a:moveTo>
                <a:lnTo>
                  <a:pt x="1145" y="9"/>
                </a:lnTo>
                <a:lnTo>
                  <a:pt x="1180" y="12"/>
                </a:lnTo>
                <a:lnTo>
                  <a:pt x="1182" y="13"/>
                </a:lnTo>
                <a:lnTo>
                  <a:pt x="1183" y="13"/>
                </a:lnTo>
                <a:lnTo>
                  <a:pt x="1183" y="14"/>
                </a:lnTo>
                <a:lnTo>
                  <a:pt x="1182" y="14"/>
                </a:lnTo>
                <a:lnTo>
                  <a:pt x="1182" y="15"/>
                </a:lnTo>
                <a:lnTo>
                  <a:pt x="1180" y="15"/>
                </a:lnTo>
                <a:lnTo>
                  <a:pt x="1145" y="13"/>
                </a:lnTo>
                <a:lnTo>
                  <a:pt x="1139" y="13"/>
                </a:lnTo>
                <a:lnTo>
                  <a:pt x="1138" y="12"/>
                </a:lnTo>
                <a:lnTo>
                  <a:pt x="1136" y="11"/>
                </a:lnTo>
                <a:lnTo>
                  <a:pt x="1136" y="11"/>
                </a:lnTo>
                <a:lnTo>
                  <a:pt x="1136" y="9"/>
                </a:lnTo>
                <a:lnTo>
                  <a:pt x="1138" y="9"/>
                </a:lnTo>
                <a:lnTo>
                  <a:pt x="1139" y="8"/>
                </a:lnTo>
                <a:lnTo>
                  <a:pt x="1139" y="8"/>
                </a:lnTo>
                <a:close/>
                <a:moveTo>
                  <a:pt x="1209" y="14"/>
                </a:moveTo>
                <a:lnTo>
                  <a:pt x="1228" y="17"/>
                </a:lnTo>
                <a:lnTo>
                  <a:pt x="1250" y="19"/>
                </a:lnTo>
                <a:lnTo>
                  <a:pt x="1251" y="19"/>
                </a:lnTo>
                <a:lnTo>
                  <a:pt x="1253" y="20"/>
                </a:lnTo>
                <a:lnTo>
                  <a:pt x="1253" y="21"/>
                </a:lnTo>
                <a:lnTo>
                  <a:pt x="1251" y="23"/>
                </a:lnTo>
                <a:lnTo>
                  <a:pt x="1250" y="23"/>
                </a:lnTo>
                <a:lnTo>
                  <a:pt x="1250" y="23"/>
                </a:lnTo>
                <a:lnTo>
                  <a:pt x="1226" y="20"/>
                </a:lnTo>
                <a:lnTo>
                  <a:pt x="1209" y="19"/>
                </a:lnTo>
                <a:lnTo>
                  <a:pt x="1207" y="18"/>
                </a:lnTo>
                <a:lnTo>
                  <a:pt x="1206" y="17"/>
                </a:lnTo>
                <a:lnTo>
                  <a:pt x="1206" y="17"/>
                </a:lnTo>
                <a:lnTo>
                  <a:pt x="1206" y="15"/>
                </a:lnTo>
                <a:lnTo>
                  <a:pt x="1207" y="15"/>
                </a:lnTo>
                <a:lnTo>
                  <a:pt x="1209" y="14"/>
                </a:lnTo>
                <a:lnTo>
                  <a:pt x="1209" y="14"/>
                </a:lnTo>
                <a:close/>
                <a:moveTo>
                  <a:pt x="1279" y="23"/>
                </a:moveTo>
                <a:lnTo>
                  <a:pt x="1305" y="25"/>
                </a:lnTo>
                <a:lnTo>
                  <a:pt x="1319" y="27"/>
                </a:lnTo>
                <a:lnTo>
                  <a:pt x="1321" y="27"/>
                </a:lnTo>
                <a:lnTo>
                  <a:pt x="1321" y="29"/>
                </a:lnTo>
                <a:lnTo>
                  <a:pt x="1321" y="29"/>
                </a:lnTo>
                <a:lnTo>
                  <a:pt x="1321" y="30"/>
                </a:lnTo>
                <a:lnTo>
                  <a:pt x="1321" y="31"/>
                </a:lnTo>
                <a:lnTo>
                  <a:pt x="1319" y="31"/>
                </a:lnTo>
                <a:lnTo>
                  <a:pt x="1317" y="31"/>
                </a:lnTo>
                <a:lnTo>
                  <a:pt x="1303" y="30"/>
                </a:lnTo>
                <a:lnTo>
                  <a:pt x="1279" y="26"/>
                </a:lnTo>
                <a:lnTo>
                  <a:pt x="1277" y="26"/>
                </a:lnTo>
                <a:lnTo>
                  <a:pt x="1275" y="25"/>
                </a:lnTo>
                <a:lnTo>
                  <a:pt x="1275" y="24"/>
                </a:lnTo>
                <a:lnTo>
                  <a:pt x="1277" y="23"/>
                </a:lnTo>
                <a:lnTo>
                  <a:pt x="1277" y="23"/>
                </a:lnTo>
                <a:lnTo>
                  <a:pt x="1279" y="23"/>
                </a:lnTo>
                <a:lnTo>
                  <a:pt x="1279" y="23"/>
                </a:lnTo>
                <a:close/>
                <a:moveTo>
                  <a:pt x="1349" y="32"/>
                </a:moveTo>
                <a:lnTo>
                  <a:pt x="1376" y="36"/>
                </a:lnTo>
                <a:lnTo>
                  <a:pt x="1389" y="38"/>
                </a:lnTo>
                <a:lnTo>
                  <a:pt x="1389" y="40"/>
                </a:lnTo>
                <a:lnTo>
                  <a:pt x="1391" y="40"/>
                </a:lnTo>
                <a:lnTo>
                  <a:pt x="1391" y="41"/>
                </a:lnTo>
                <a:lnTo>
                  <a:pt x="1389" y="42"/>
                </a:lnTo>
                <a:lnTo>
                  <a:pt x="1387" y="42"/>
                </a:lnTo>
                <a:lnTo>
                  <a:pt x="1387" y="42"/>
                </a:lnTo>
                <a:lnTo>
                  <a:pt x="1376" y="41"/>
                </a:lnTo>
                <a:lnTo>
                  <a:pt x="1347" y="36"/>
                </a:lnTo>
                <a:lnTo>
                  <a:pt x="1345" y="35"/>
                </a:lnTo>
                <a:lnTo>
                  <a:pt x="1345" y="35"/>
                </a:lnTo>
                <a:lnTo>
                  <a:pt x="1345" y="33"/>
                </a:lnTo>
                <a:lnTo>
                  <a:pt x="1345" y="33"/>
                </a:lnTo>
                <a:lnTo>
                  <a:pt x="1345" y="32"/>
                </a:lnTo>
                <a:lnTo>
                  <a:pt x="1347" y="32"/>
                </a:lnTo>
                <a:lnTo>
                  <a:pt x="1349" y="32"/>
                </a:lnTo>
                <a:lnTo>
                  <a:pt x="1349" y="32"/>
                </a:lnTo>
                <a:close/>
                <a:moveTo>
                  <a:pt x="1417" y="43"/>
                </a:moveTo>
                <a:lnTo>
                  <a:pt x="1444" y="49"/>
                </a:lnTo>
                <a:lnTo>
                  <a:pt x="1455" y="52"/>
                </a:lnTo>
                <a:lnTo>
                  <a:pt x="1457" y="52"/>
                </a:lnTo>
                <a:lnTo>
                  <a:pt x="1459" y="53"/>
                </a:lnTo>
                <a:lnTo>
                  <a:pt x="1459" y="54"/>
                </a:lnTo>
                <a:lnTo>
                  <a:pt x="1457" y="54"/>
                </a:lnTo>
                <a:lnTo>
                  <a:pt x="1457" y="55"/>
                </a:lnTo>
                <a:lnTo>
                  <a:pt x="1455" y="55"/>
                </a:lnTo>
                <a:lnTo>
                  <a:pt x="1455" y="55"/>
                </a:lnTo>
                <a:lnTo>
                  <a:pt x="1442" y="53"/>
                </a:lnTo>
                <a:lnTo>
                  <a:pt x="1415" y="47"/>
                </a:lnTo>
                <a:lnTo>
                  <a:pt x="1415" y="47"/>
                </a:lnTo>
                <a:lnTo>
                  <a:pt x="1413" y="46"/>
                </a:lnTo>
                <a:lnTo>
                  <a:pt x="1413" y="46"/>
                </a:lnTo>
                <a:lnTo>
                  <a:pt x="1413" y="44"/>
                </a:lnTo>
                <a:lnTo>
                  <a:pt x="1415" y="43"/>
                </a:lnTo>
                <a:lnTo>
                  <a:pt x="1415" y="43"/>
                </a:lnTo>
                <a:lnTo>
                  <a:pt x="1417" y="43"/>
                </a:lnTo>
                <a:lnTo>
                  <a:pt x="1417" y="43"/>
                </a:lnTo>
                <a:close/>
                <a:moveTo>
                  <a:pt x="1485" y="58"/>
                </a:moveTo>
                <a:lnTo>
                  <a:pt x="1507" y="62"/>
                </a:lnTo>
                <a:lnTo>
                  <a:pt x="1523" y="67"/>
                </a:lnTo>
                <a:lnTo>
                  <a:pt x="1525" y="67"/>
                </a:lnTo>
                <a:lnTo>
                  <a:pt x="1525" y="70"/>
                </a:lnTo>
                <a:lnTo>
                  <a:pt x="1523" y="70"/>
                </a:lnTo>
                <a:lnTo>
                  <a:pt x="1523" y="71"/>
                </a:lnTo>
                <a:lnTo>
                  <a:pt x="1521" y="71"/>
                </a:lnTo>
                <a:lnTo>
                  <a:pt x="1521" y="71"/>
                </a:lnTo>
                <a:lnTo>
                  <a:pt x="1505" y="66"/>
                </a:lnTo>
                <a:lnTo>
                  <a:pt x="1483" y="61"/>
                </a:lnTo>
                <a:lnTo>
                  <a:pt x="1481" y="60"/>
                </a:lnTo>
                <a:lnTo>
                  <a:pt x="1481" y="60"/>
                </a:lnTo>
                <a:lnTo>
                  <a:pt x="1479" y="59"/>
                </a:lnTo>
                <a:lnTo>
                  <a:pt x="1481" y="59"/>
                </a:lnTo>
                <a:lnTo>
                  <a:pt x="1481" y="58"/>
                </a:lnTo>
                <a:lnTo>
                  <a:pt x="1481" y="58"/>
                </a:lnTo>
                <a:lnTo>
                  <a:pt x="1483" y="58"/>
                </a:lnTo>
                <a:lnTo>
                  <a:pt x="1485" y="58"/>
                </a:lnTo>
                <a:lnTo>
                  <a:pt x="1485" y="58"/>
                </a:lnTo>
                <a:close/>
                <a:moveTo>
                  <a:pt x="1551" y="74"/>
                </a:moveTo>
                <a:lnTo>
                  <a:pt x="1565" y="78"/>
                </a:lnTo>
                <a:lnTo>
                  <a:pt x="1587" y="85"/>
                </a:lnTo>
                <a:lnTo>
                  <a:pt x="1589" y="87"/>
                </a:lnTo>
                <a:lnTo>
                  <a:pt x="1589" y="88"/>
                </a:lnTo>
                <a:lnTo>
                  <a:pt x="1587" y="89"/>
                </a:lnTo>
                <a:lnTo>
                  <a:pt x="1585" y="89"/>
                </a:lnTo>
                <a:lnTo>
                  <a:pt x="1562" y="82"/>
                </a:lnTo>
                <a:lnTo>
                  <a:pt x="1547" y="78"/>
                </a:lnTo>
                <a:lnTo>
                  <a:pt x="1545" y="77"/>
                </a:lnTo>
                <a:lnTo>
                  <a:pt x="1545" y="76"/>
                </a:lnTo>
                <a:lnTo>
                  <a:pt x="1545" y="76"/>
                </a:lnTo>
                <a:lnTo>
                  <a:pt x="1547" y="74"/>
                </a:lnTo>
                <a:lnTo>
                  <a:pt x="1549" y="74"/>
                </a:lnTo>
                <a:lnTo>
                  <a:pt x="1551" y="74"/>
                </a:lnTo>
                <a:lnTo>
                  <a:pt x="1551" y="74"/>
                </a:lnTo>
                <a:close/>
                <a:moveTo>
                  <a:pt x="1613" y="95"/>
                </a:moveTo>
                <a:lnTo>
                  <a:pt x="1615" y="95"/>
                </a:lnTo>
                <a:lnTo>
                  <a:pt x="1639" y="105"/>
                </a:lnTo>
                <a:lnTo>
                  <a:pt x="1650" y="108"/>
                </a:lnTo>
                <a:lnTo>
                  <a:pt x="1650" y="109"/>
                </a:lnTo>
                <a:lnTo>
                  <a:pt x="1650" y="111"/>
                </a:lnTo>
                <a:lnTo>
                  <a:pt x="1650" y="111"/>
                </a:lnTo>
                <a:lnTo>
                  <a:pt x="1648" y="112"/>
                </a:lnTo>
                <a:lnTo>
                  <a:pt x="1646" y="112"/>
                </a:lnTo>
                <a:lnTo>
                  <a:pt x="1646" y="112"/>
                </a:lnTo>
                <a:lnTo>
                  <a:pt x="1635" y="107"/>
                </a:lnTo>
                <a:lnTo>
                  <a:pt x="1613" y="99"/>
                </a:lnTo>
                <a:lnTo>
                  <a:pt x="1611" y="97"/>
                </a:lnTo>
                <a:lnTo>
                  <a:pt x="1609" y="97"/>
                </a:lnTo>
                <a:lnTo>
                  <a:pt x="1609" y="96"/>
                </a:lnTo>
                <a:lnTo>
                  <a:pt x="1609" y="96"/>
                </a:lnTo>
                <a:lnTo>
                  <a:pt x="1609" y="95"/>
                </a:lnTo>
                <a:lnTo>
                  <a:pt x="1609" y="95"/>
                </a:lnTo>
                <a:lnTo>
                  <a:pt x="1611" y="94"/>
                </a:lnTo>
                <a:lnTo>
                  <a:pt x="1611" y="94"/>
                </a:lnTo>
                <a:lnTo>
                  <a:pt x="1613" y="95"/>
                </a:lnTo>
                <a:lnTo>
                  <a:pt x="1613" y="95"/>
                </a:lnTo>
                <a:close/>
                <a:moveTo>
                  <a:pt x="1674" y="119"/>
                </a:moveTo>
                <a:lnTo>
                  <a:pt x="1679" y="123"/>
                </a:lnTo>
                <a:lnTo>
                  <a:pt x="1697" y="132"/>
                </a:lnTo>
                <a:lnTo>
                  <a:pt x="1705" y="137"/>
                </a:lnTo>
                <a:lnTo>
                  <a:pt x="1705" y="138"/>
                </a:lnTo>
                <a:lnTo>
                  <a:pt x="1705" y="140"/>
                </a:lnTo>
                <a:lnTo>
                  <a:pt x="1705" y="140"/>
                </a:lnTo>
                <a:lnTo>
                  <a:pt x="1703" y="141"/>
                </a:lnTo>
                <a:lnTo>
                  <a:pt x="1701" y="141"/>
                </a:lnTo>
                <a:lnTo>
                  <a:pt x="1701" y="140"/>
                </a:lnTo>
                <a:lnTo>
                  <a:pt x="1694" y="135"/>
                </a:lnTo>
                <a:lnTo>
                  <a:pt x="1675" y="126"/>
                </a:lnTo>
                <a:lnTo>
                  <a:pt x="1670" y="123"/>
                </a:lnTo>
                <a:lnTo>
                  <a:pt x="1668" y="123"/>
                </a:lnTo>
                <a:lnTo>
                  <a:pt x="1668" y="121"/>
                </a:lnTo>
                <a:lnTo>
                  <a:pt x="1668" y="120"/>
                </a:lnTo>
                <a:lnTo>
                  <a:pt x="1670" y="120"/>
                </a:lnTo>
                <a:lnTo>
                  <a:pt x="1672" y="119"/>
                </a:lnTo>
                <a:lnTo>
                  <a:pt x="1672" y="119"/>
                </a:lnTo>
                <a:lnTo>
                  <a:pt x="1674" y="119"/>
                </a:lnTo>
                <a:lnTo>
                  <a:pt x="1674" y="119"/>
                </a:lnTo>
                <a:close/>
                <a:moveTo>
                  <a:pt x="1725" y="152"/>
                </a:moveTo>
                <a:lnTo>
                  <a:pt x="1727" y="153"/>
                </a:lnTo>
                <a:lnTo>
                  <a:pt x="1740" y="162"/>
                </a:lnTo>
                <a:lnTo>
                  <a:pt x="1749" y="173"/>
                </a:lnTo>
                <a:lnTo>
                  <a:pt x="1749" y="173"/>
                </a:lnTo>
                <a:lnTo>
                  <a:pt x="1749" y="174"/>
                </a:lnTo>
                <a:lnTo>
                  <a:pt x="1749" y="176"/>
                </a:lnTo>
                <a:lnTo>
                  <a:pt x="1747" y="176"/>
                </a:lnTo>
                <a:lnTo>
                  <a:pt x="1747" y="176"/>
                </a:lnTo>
                <a:lnTo>
                  <a:pt x="1745" y="176"/>
                </a:lnTo>
                <a:lnTo>
                  <a:pt x="1745" y="176"/>
                </a:lnTo>
                <a:lnTo>
                  <a:pt x="1743" y="176"/>
                </a:lnTo>
                <a:lnTo>
                  <a:pt x="1743" y="176"/>
                </a:lnTo>
                <a:lnTo>
                  <a:pt x="1743" y="176"/>
                </a:lnTo>
                <a:lnTo>
                  <a:pt x="1734" y="165"/>
                </a:lnTo>
                <a:lnTo>
                  <a:pt x="1723" y="155"/>
                </a:lnTo>
                <a:lnTo>
                  <a:pt x="1721" y="154"/>
                </a:lnTo>
                <a:lnTo>
                  <a:pt x="1719" y="153"/>
                </a:lnTo>
                <a:lnTo>
                  <a:pt x="1719" y="152"/>
                </a:lnTo>
                <a:lnTo>
                  <a:pt x="1721" y="150"/>
                </a:lnTo>
                <a:lnTo>
                  <a:pt x="1723" y="150"/>
                </a:lnTo>
                <a:lnTo>
                  <a:pt x="1725" y="150"/>
                </a:lnTo>
                <a:lnTo>
                  <a:pt x="1725" y="152"/>
                </a:lnTo>
                <a:lnTo>
                  <a:pt x="1725" y="152"/>
                </a:lnTo>
                <a:close/>
                <a:moveTo>
                  <a:pt x="1762" y="191"/>
                </a:moveTo>
                <a:lnTo>
                  <a:pt x="1764" y="195"/>
                </a:lnTo>
                <a:lnTo>
                  <a:pt x="1765" y="207"/>
                </a:lnTo>
                <a:lnTo>
                  <a:pt x="1767" y="218"/>
                </a:lnTo>
                <a:lnTo>
                  <a:pt x="1767" y="219"/>
                </a:lnTo>
                <a:lnTo>
                  <a:pt x="1765" y="220"/>
                </a:lnTo>
                <a:lnTo>
                  <a:pt x="1765" y="220"/>
                </a:lnTo>
                <a:lnTo>
                  <a:pt x="1764" y="220"/>
                </a:lnTo>
                <a:lnTo>
                  <a:pt x="1762" y="219"/>
                </a:lnTo>
                <a:lnTo>
                  <a:pt x="1762" y="218"/>
                </a:lnTo>
                <a:lnTo>
                  <a:pt x="1760" y="207"/>
                </a:lnTo>
                <a:lnTo>
                  <a:pt x="1758" y="196"/>
                </a:lnTo>
                <a:lnTo>
                  <a:pt x="1754" y="193"/>
                </a:lnTo>
                <a:lnTo>
                  <a:pt x="1754" y="193"/>
                </a:lnTo>
                <a:lnTo>
                  <a:pt x="1754" y="191"/>
                </a:lnTo>
                <a:lnTo>
                  <a:pt x="1756" y="190"/>
                </a:lnTo>
                <a:lnTo>
                  <a:pt x="1758" y="190"/>
                </a:lnTo>
                <a:lnTo>
                  <a:pt x="1760" y="190"/>
                </a:lnTo>
                <a:lnTo>
                  <a:pt x="1762" y="191"/>
                </a:lnTo>
                <a:lnTo>
                  <a:pt x="1762" y="191"/>
                </a:lnTo>
                <a:close/>
                <a:moveTo>
                  <a:pt x="1767" y="218"/>
                </a:moveTo>
                <a:lnTo>
                  <a:pt x="1767" y="219"/>
                </a:lnTo>
                <a:lnTo>
                  <a:pt x="1767" y="219"/>
                </a:lnTo>
                <a:lnTo>
                  <a:pt x="1767" y="220"/>
                </a:lnTo>
                <a:lnTo>
                  <a:pt x="1765" y="220"/>
                </a:lnTo>
                <a:lnTo>
                  <a:pt x="1764" y="220"/>
                </a:lnTo>
                <a:lnTo>
                  <a:pt x="1764" y="220"/>
                </a:lnTo>
                <a:lnTo>
                  <a:pt x="1762" y="220"/>
                </a:lnTo>
                <a:lnTo>
                  <a:pt x="1762" y="219"/>
                </a:lnTo>
                <a:lnTo>
                  <a:pt x="1762" y="219"/>
                </a:lnTo>
                <a:lnTo>
                  <a:pt x="1762" y="218"/>
                </a:lnTo>
                <a:lnTo>
                  <a:pt x="1762" y="217"/>
                </a:lnTo>
                <a:lnTo>
                  <a:pt x="1764" y="217"/>
                </a:lnTo>
                <a:lnTo>
                  <a:pt x="1765" y="217"/>
                </a:lnTo>
                <a:lnTo>
                  <a:pt x="1765" y="217"/>
                </a:lnTo>
                <a:lnTo>
                  <a:pt x="1767" y="217"/>
                </a:lnTo>
                <a:lnTo>
                  <a:pt x="1767" y="218"/>
                </a:lnTo>
                <a:lnTo>
                  <a:pt x="1767" y="218"/>
                </a:lnTo>
                <a:close/>
                <a:moveTo>
                  <a:pt x="1764" y="238"/>
                </a:moveTo>
                <a:lnTo>
                  <a:pt x="1764" y="241"/>
                </a:lnTo>
                <a:lnTo>
                  <a:pt x="1758" y="252"/>
                </a:lnTo>
                <a:lnTo>
                  <a:pt x="1749" y="262"/>
                </a:lnTo>
                <a:lnTo>
                  <a:pt x="1749" y="264"/>
                </a:lnTo>
                <a:lnTo>
                  <a:pt x="1745" y="265"/>
                </a:lnTo>
                <a:lnTo>
                  <a:pt x="1745" y="265"/>
                </a:lnTo>
                <a:lnTo>
                  <a:pt x="1743" y="265"/>
                </a:lnTo>
                <a:lnTo>
                  <a:pt x="1743" y="264"/>
                </a:lnTo>
                <a:lnTo>
                  <a:pt x="1743" y="264"/>
                </a:lnTo>
                <a:lnTo>
                  <a:pt x="1743" y="262"/>
                </a:lnTo>
                <a:lnTo>
                  <a:pt x="1743" y="262"/>
                </a:lnTo>
                <a:lnTo>
                  <a:pt x="1743" y="261"/>
                </a:lnTo>
                <a:lnTo>
                  <a:pt x="1751" y="250"/>
                </a:lnTo>
                <a:lnTo>
                  <a:pt x="1756" y="240"/>
                </a:lnTo>
                <a:lnTo>
                  <a:pt x="1758" y="237"/>
                </a:lnTo>
                <a:lnTo>
                  <a:pt x="1758" y="236"/>
                </a:lnTo>
                <a:lnTo>
                  <a:pt x="1760" y="236"/>
                </a:lnTo>
                <a:lnTo>
                  <a:pt x="1762" y="236"/>
                </a:lnTo>
                <a:lnTo>
                  <a:pt x="1762" y="236"/>
                </a:lnTo>
                <a:lnTo>
                  <a:pt x="1764" y="237"/>
                </a:lnTo>
                <a:lnTo>
                  <a:pt x="1764" y="238"/>
                </a:lnTo>
                <a:lnTo>
                  <a:pt x="1764" y="238"/>
                </a:lnTo>
                <a:close/>
                <a:moveTo>
                  <a:pt x="1732" y="281"/>
                </a:moveTo>
                <a:lnTo>
                  <a:pt x="1727" y="284"/>
                </a:lnTo>
                <a:lnTo>
                  <a:pt x="1714" y="294"/>
                </a:lnTo>
                <a:lnTo>
                  <a:pt x="1703" y="300"/>
                </a:lnTo>
                <a:lnTo>
                  <a:pt x="1703" y="300"/>
                </a:lnTo>
                <a:lnTo>
                  <a:pt x="1701" y="301"/>
                </a:lnTo>
                <a:lnTo>
                  <a:pt x="1699" y="300"/>
                </a:lnTo>
                <a:lnTo>
                  <a:pt x="1699" y="300"/>
                </a:lnTo>
                <a:lnTo>
                  <a:pt x="1699" y="300"/>
                </a:lnTo>
                <a:lnTo>
                  <a:pt x="1697" y="299"/>
                </a:lnTo>
                <a:lnTo>
                  <a:pt x="1699" y="297"/>
                </a:lnTo>
                <a:lnTo>
                  <a:pt x="1699" y="297"/>
                </a:lnTo>
                <a:lnTo>
                  <a:pt x="1708" y="291"/>
                </a:lnTo>
                <a:lnTo>
                  <a:pt x="1723" y="282"/>
                </a:lnTo>
                <a:lnTo>
                  <a:pt x="1727" y="278"/>
                </a:lnTo>
                <a:lnTo>
                  <a:pt x="1727" y="277"/>
                </a:lnTo>
                <a:lnTo>
                  <a:pt x="1729" y="277"/>
                </a:lnTo>
                <a:lnTo>
                  <a:pt x="1730" y="277"/>
                </a:lnTo>
                <a:lnTo>
                  <a:pt x="1732" y="278"/>
                </a:lnTo>
                <a:lnTo>
                  <a:pt x="1732" y="278"/>
                </a:lnTo>
                <a:lnTo>
                  <a:pt x="1732" y="281"/>
                </a:lnTo>
                <a:lnTo>
                  <a:pt x="1732" y="281"/>
                </a:lnTo>
                <a:close/>
                <a:moveTo>
                  <a:pt x="1681" y="313"/>
                </a:moveTo>
                <a:lnTo>
                  <a:pt x="1679" y="314"/>
                </a:lnTo>
                <a:lnTo>
                  <a:pt x="1661" y="323"/>
                </a:lnTo>
                <a:lnTo>
                  <a:pt x="1648" y="329"/>
                </a:lnTo>
                <a:lnTo>
                  <a:pt x="1646" y="329"/>
                </a:lnTo>
                <a:lnTo>
                  <a:pt x="1644" y="329"/>
                </a:lnTo>
                <a:lnTo>
                  <a:pt x="1644" y="328"/>
                </a:lnTo>
                <a:lnTo>
                  <a:pt x="1642" y="326"/>
                </a:lnTo>
                <a:lnTo>
                  <a:pt x="1642" y="325"/>
                </a:lnTo>
                <a:lnTo>
                  <a:pt x="1644" y="325"/>
                </a:lnTo>
                <a:lnTo>
                  <a:pt x="1657" y="320"/>
                </a:lnTo>
                <a:lnTo>
                  <a:pt x="1675" y="311"/>
                </a:lnTo>
                <a:lnTo>
                  <a:pt x="1677" y="309"/>
                </a:lnTo>
                <a:lnTo>
                  <a:pt x="1679" y="309"/>
                </a:lnTo>
                <a:lnTo>
                  <a:pt x="1681" y="309"/>
                </a:lnTo>
                <a:lnTo>
                  <a:pt x="1681" y="311"/>
                </a:lnTo>
                <a:lnTo>
                  <a:pt x="1683" y="312"/>
                </a:lnTo>
                <a:lnTo>
                  <a:pt x="1681" y="312"/>
                </a:lnTo>
                <a:lnTo>
                  <a:pt x="1681" y="313"/>
                </a:lnTo>
                <a:lnTo>
                  <a:pt x="1681" y="313"/>
                </a:lnTo>
                <a:close/>
                <a:moveTo>
                  <a:pt x="1622" y="338"/>
                </a:moveTo>
                <a:lnTo>
                  <a:pt x="1615" y="341"/>
                </a:lnTo>
                <a:lnTo>
                  <a:pt x="1591" y="349"/>
                </a:lnTo>
                <a:lnTo>
                  <a:pt x="1585" y="352"/>
                </a:lnTo>
                <a:lnTo>
                  <a:pt x="1584" y="352"/>
                </a:lnTo>
                <a:lnTo>
                  <a:pt x="1584" y="352"/>
                </a:lnTo>
                <a:lnTo>
                  <a:pt x="1582" y="350"/>
                </a:lnTo>
                <a:lnTo>
                  <a:pt x="1582" y="349"/>
                </a:lnTo>
                <a:lnTo>
                  <a:pt x="1582" y="348"/>
                </a:lnTo>
                <a:lnTo>
                  <a:pt x="1584" y="348"/>
                </a:lnTo>
                <a:lnTo>
                  <a:pt x="1587" y="347"/>
                </a:lnTo>
                <a:lnTo>
                  <a:pt x="1613" y="337"/>
                </a:lnTo>
                <a:lnTo>
                  <a:pt x="1619" y="335"/>
                </a:lnTo>
                <a:lnTo>
                  <a:pt x="1620" y="335"/>
                </a:lnTo>
                <a:lnTo>
                  <a:pt x="1620" y="335"/>
                </a:lnTo>
                <a:lnTo>
                  <a:pt x="1624" y="336"/>
                </a:lnTo>
                <a:lnTo>
                  <a:pt x="1624" y="336"/>
                </a:lnTo>
                <a:lnTo>
                  <a:pt x="1624" y="337"/>
                </a:lnTo>
                <a:lnTo>
                  <a:pt x="1622" y="338"/>
                </a:lnTo>
                <a:lnTo>
                  <a:pt x="1622" y="338"/>
                </a:lnTo>
                <a:lnTo>
                  <a:pt x="1622" y="338"/>
                </a:lnTo>
                <a:close/>
                <a:moveTo>
                  <a:pt x="1560" y="360"/>
                </a:moveTo>
                <a:lnTo>
                  <a:pt x="1538" y="366"/>
                </a:lnTo>
                <a:lnTo>
                  <a:pt x="1521" y="370"/>
                </a:lnTo>
                <a:lnTo>
                  <a:pt x="1519" y="370"/>
                </a:lnTo>
                <a:lnTo>
                  <a:pt x="1518" y="370"/>
                </a:lnTo>
                <a:lnTo>
                  <a:pt x="1518" y="369"/>
                </a:lnTo>
                <a:lnTo>
                  <a:pt x="1518" y="369"/>
                </a:lnTo>
                <a:lnTo>
                  <a:pt x="1518" y="367"/>
                </a:lnTo>
                <a:lnTo>
                  <a:pt x="1519" y="366"/>
                </a:lnTo>
                <a:lnTo>
                  <a:pt x="1534" y="363"/>
                </a:lnTo>
                <a:lnTo>
                  <a:pt x="1556" y="356"/>
                </a:lnTo>
                <a:lnTo>
                  <a:pt x="1558" y="355"/>
                </a:lnTo>
                <a:lnTo>
                  <a:pt x="1558" y="355"/>
                </a:lnTo>
                <a:lnTo>
                  <a:pt x="1560" y="356"/>
                </a:lnTo>
                <a:lnTo>
                  <a:pt x="1560" y="356"/>
                </a:lnTo>
                <a:lnTo>
                  <a:pt x="1560" y="358"/>
                </a:lnTo>
                <a:lnTo>
                  <a:pt x="1560" y="360"/>
                </a:lnTo>
                <a:lnTo>
                  <a:pt x="1560" y="360"/>
                </a:lnTo>
                <a:close/>
                <a:moveTo>
                  <a:pt x="1494" y="377"/>
                </a:moveTo>
                <a:lnTo>
                  <a:pt x="1477" y="381"/>
                </a:lnTo>
                <a:lnTo>
                  <a:pt x="1455" y="385"/>
                </a:lnTo>
                <a:lnTo>
                  <a:pt x="1451" y="385"/>
                </a:lnTo>
                <a:lnTo>
                  <a:pt x="1451" y="384"/>
                </a:lnTo>
                <a:lnTo>
                  <a:pt x="1451" y="384"/>
                </a:lnTo>
                <a:lnTo>
                  <a:pt x="1451" y="383"/>
                </a:lnTo>
                <a:lnTo>
                  <a:pt x="1451" y="382"/>
                </a:lnTo>
                <a:lnTo>
                  <a:pt x="1453" y="382"/>
                </a:lnTo>
                <a:lnTo>
                  <a:pt x="1475" y="377"/>
                </a:lnTo>
                <a:lnTo>
                  <a:pt x="1492" y="373"/>
                </a:lnTo>
                <a:lnTo>
                  <a:pt x="1492" y="373"/>
                </a:lnTo>
                <a:lnTo>
                  <a:pt x="1494" y="373"/>
                </a:lnTo>
                <a:lnTo>
                  <a:pt x="1494" y="373"/>
                </a:lnTo>
                <a:lnTo>
                  <a:pt x="1496" y="375"/>
                </a:lnTo>
                <a:lnTo>
                  <a:pt x="1496" y="375"/>
                </a:lnTo>
                <a:lnTo>
                  <a:pt x="1496" y="376"/>
                </a:lnTo>
                <a:lnTo>
                  <a:pt x="1494" y="376"/>
                </a:lnTo>
                <a:lnTo>
                  <a:pt x="1494" y="377"/>
                </a:lnTo>
                <a:lnTo>
                  <a:pt x="1494" y="377"/>
                </a:lnTo>
                <a:close/>
                <a:moveTo>
                  <a:pt x="1426" y="391"/>
                </a:moveTo>
                <a:lnTo>
                  <a:pt x="1411" y="394"/>
                </a:lnTo>
                <a:lnTo>
                  <a:pt x="1387" y="399"/>
                </a:lnTo>
                <a:lnTo>
                  <a:pt x="1385" y="399"/>
                </a:lnTo>
                <a:lnTo>
                  <a:pt x="1384" y="397"/>
                </a:lnTo>
                <a:lnTo>
                  <a:pt x="1384" y="397"/>
                </a:lnTo>
                <a:lnTo>
                  <a:pt x="1382" y="396"/>
                </a:lnTo>
                <a:lnTo>
                  <a:pt x="1384" y="395"/>
                </a:lnTo>
                <a:lnTo>
                  <a:pt x="1385" y="395"/>
                </a:lnTo>
                <a:lnTo>
                  <a:pt x="1409" y="390"/>
                </a:lnTo>
                <a:lnTo>
                  <a:pt x="1424" y="388"/>
                </a:lnTo>
                <a:lnTo>
                  <a:pt x="1426" y="387"/>
                </a:lnTo>
                <a:lnTo>
                  <a:pt x="1426" y="388"/>
                </a:lnTo>
                <a:lnTo>
                  <a:pt x="1428" y="388"/>
                </a:lnTo>
                <a:lnTo>
                  <a:pt x="1428" y="389"/>
                </a:lnTo>
                <a:lnTo>
                  <a:pt x="1428" y="389"/>
                </a:lnTo>
                <a:lnTo>
                  <a:pt x="1428" y="390"/>
                </a:lnTo>
                <a:lnTo>
                  <a:pt x="1426" y="391"/>
                </a:lnTo>
                <a:lnTo>
                  <a:pt x="1426" y="391"/>
                </a:lnTo>
                <a:close/>
                <a:moveTo>
                  <a:pt x="1358" y="403"/>
                </a:moveTo>
                <a:lnTo>
                  <a:pt x="1341" y="406"/>
                </a:lnTo>
                <a:lnTo>
                  <a:pt x="1317" y="408"/>
                </a:lnTo>
                <a:lnTo>
                  <a:pt x="1316" y="408"/>
                </a:lnTo>
                <a:lnTo>
                  <a:pt x="1316" y="408"/>
                </a:lnTo>
                <a:lnTo>
                  <a:pt x="1314" y="408"/>
                </a:lnTo>
                <a:lnTo>
                  <a:pt x="1314" y="407"/>
                </a:lnTo>
                <a:lnTo>
                  <a:pt x="1314" y="406"/>
                </a:lnTo>
                <a:lnTo>
                  <a:pt x="1316" y="405"/>
                </a:lnTo>
                <a:lnTo>
                  <a:pt x="1340" y="402"/>
                </a:lnTo>
                <a:lnTo>
                  <a:pt x="1356" y="399"/>
                </a:lnTo>
                <a:lnTo>
                  <a:pt x="1358" y="399"/>
                </a:lnTo>
                <a:lnTo>
                  <a:pt x="1358" y="399"/>
                </a:lnTo>
                <a:lnTo>
                  <a:pt x="1360" y="401"/>
                </a:lnTo>
                <a:lnTo>
                  <a:pt x="1360" y="401"/>
                </a:lnTo>
                <a:lnTo>
                  <a:pt x="1360" y="402"/>
                </a:lnTo>
                <a:lnTo>
                  <a:pt x="1360" y="402"/>
                </a:lnTo>
                <a:lnTo>
                  <a:pt x="1358" y="403"/>
                </a:lnTo>
                <a:lnTo>
                  <a:pt x="1358" y="403"/>
                </a:lnTo>
                <a:close/>
                <a:moveTo>
                  <a:pt x="1288" y="413"/>
                </a:moveTo>
                <a:lnTo>
                  <a:pt x="1266" y="416"/>
                </a:lnTo>
                <a:lnTo>
                  <a:pt x="1248" y="418"/>
                </a:lnTo>
                <a:lnTo>
                  <a:pt x="1248" y="418"/>
                </a:lnTo>
                <a:lnTo>
                  <a:pt x="1246" y="417"/>
                </a:lnTo>
                <a:lnTo>
                  <a:pt x="1244" y="416"/>
                </a:lnTo>
                <a:lnTo>
                  <a:pt x="1246" y="414"/>
                </a:lnTo>
                <a:lnTo>
                  <a:pt x="1246" y="414"/>
                </a:lnTo>
                <a:lnTo>
                  <a:pt x="1248" y="414"/>
                </a:lnTo>
                <a:lnTo>
                  <a:pt x="1264" y="412"/>
                </a:lnTo>
                <a:lnTo>
                  <a:pt x="1288" y="410"/>
                </a:lnTo>
                <a:lnTo>
                  <a:pt x="1288" y="408"/>
                </a:lnTo>
                <a:lnTo>
                  <a:pt x="1290" y="410"/>
                </a:lnTo>
                <a:lnTo>
                  <a:pt x="1290" y="410"/>
                </a:lnTo>
                <a:lnTo>
                  <a:pt x="1292" y="411"/>
                </a:lnTo>
                <a:lnTo>
                  <a:pt x="1292" y="411"/>
                </a:lnTo>
                <a:lnTo>
                  <a:pt x="1290" y="412"/>
                </a:lnTo>
                <a:lnTo>
                  <a:pt x="1288" y="413"/>
                </a:lnTo>
                <a:lnTo>
                  <a:pt x="1288" y="413"/>
                </a:lnTo>
                <a:close/>
                <a:moveTo>
                  <a:pt x="1220" y="420"/>
                </a:moveTo>
                <a:lnTo>
                  <a:pt x="1187" y="424"/>
                </a:lnTo>
                <a:lnTo>
                  <a:pt x="1178" y="424"/>
                </a:lnTo>
                <a:lnTo>
                  <a:pt x="1178" y="424"/>
                </a:lnTo>
                <a:lnTo>
                  <a:pt x="1176" y="424"/>
                </a:lnTo>
                <a:lnTo>
                  <a:pt x="1176" y="424"/>
                </a:lnTo>
                <a:lnTo>
                  <a:pt x="1176" y="423"/>
                </a:lnTo>
                <a:lnTo>
                  <a:pt x="1176" y="422"/>
                </a:lnTo>
                <a:lnTo>
                  <a:pt x="1176" y="422"/>
                </a:lnTo>
                <a:lnTo>
                  <a:pt x="1176" y="420"/>
                </a:lnTo>
                <a:lnTo>
                  <a:pt x="1178" y="420"/>
                </a:lnTo>
                <a:lnTo>
                  <a:pt x="1185" y="420"/>
                </a:lnTo>
                <a:lnTo>
                  <a:pt x="1218" y="417"/>
                </a:lnTo>
                <a:lnTo>
                  <a:pt x="1220" y="417"/>
                </a:lnTo>
                <a:lnTo>
                  <a:pt x="1222" y="418"/>
                </a:lnTo>
                <a:lnTo>
                  <a:pt x="1220" y="420"/>
                </a:lnTo>
                <a:lnTo>
                  <a:pt x="1220" y="420"/>
                </a:lnTo>
                <a:lnTo>
                  <a:pt x="1220" y="420"/>
                </a:lnTo>
                <a:close/>
                <a:moveTo>
                  <a:pt x="1149" y="426"/>
                </a:moveTo>
                <a:lnTo>
                  <a:pt x="1145" y="428"/>
                </a:lnTo>
                <a:lnTo>
                  <a:pt x="1108" y="430"/>
                </a:lnTo>
                <a:lnTo>
                  <a:pt x="1106" y="429"/>
                </a:lnTo>
                <a:lnTo>
                  <a:pt x="1105" y="429"/>
                </a:lnTo>
                <a:lnTo>
                  <a:pt x="1105" y="428"/>
                </a:lnTo>
                <a:lnTo>
                  <a:pt x="1106" y="426"/>
                </a:lnTo>
                <a:lnTo>
                  <a:pt x="1108" y="426"/>
                </a:lnTo>
                <a:lnTo>
                  <a:pt x="1145" y="424"/>
                </a:lnTo>
                <a:lnTo>
                  <a:pt x="1149" y="423"/>
                </a:lnTo>
                <a:lnTo>
                  <a:pt x="1150" y="423"/>
                </a:lnTo>
                <a:lnTo>
                  <a:pt x="1150" y="424"/>
                </a:lnTo>
                <a:lnTo>
                  <a:pt x="1152" y="425"/>
                </a:lnTo>
                <a:lnTo>
                  <a:pt x="1150" y="426"/>
                </a:lnTo>
                <a:lnTo>
                  <a:pt x="1150" y="426"/>
                </a:lnTo>
                <a:lnTo>
                  <a:pt x="1149" y="426"/>
                </a:lnTo>
                <a:lnTo>
                  <a:pt x="1149" y="426"/>
                </a:lnTo>
                <a:close/>
                <a:moveTo>
                  <a:pt x="1079" y="431"/>
                </a:moveTo>
                <a:lnTo>
                  <a:pt x="1061" y="432"/>
                </a:lnTo>
                <a:lnTo>
                  <a:pt x="1038" y="434"/>
                </a:lnTo>
                <a:lnTo>
                  <a:pt x="1037" y="434"/>
                </a:lnTo>
                <a:lnTo>
                  <a:pt x="1037" y="434"/>
                </a:lnTo>
                <a:lnTo>
                  <a:pt x="1035" y="432"/>
                </a:lnTo>
                <a:lnTo>
                  <a:pt x="1035" y="432"/>
                </a:lnTo>
                <a:lnTo>
                  <a:pt x="1035" y="430"/>
                </a:lnTo>
                <a:lnTo>
                  <a:pt x="1037" y="430"/>
                </a:lnTo>
                <a:lnTo>
                  <a:pt x="1038" y="430"/>
                </a:lnTo>
                <a:lnTo>
                  <a:pt x="1061" y="429"/>
                </a:lnTo>
                <a:lnTo>
                  <a:pt x="1079" y="428"/>
                </a:lnTo>
                <a:lnTo>
                  <a:pt x="1081" y="428"/>
                </a:lnTo>
                <a:lnTo>
                  <a:pt x="1081" y="429"/>
                </a:lnTo>
                <a:lnTo>
                  <a:pt x="1083" y="430"/>
                </a:lnTo>
                <a:lnTo>
                  <a:pt x="1081" y="431"/>
                </a:lnTo>
                <a:lnTo>
                  <a:pt x="1079" y="431"/>
                </a:lnTo>
                <a:lnTo>
                  <a:pt x="1079" y="431"/>
                </a:lnTo>
                <a:close/>
                <a:moveTo>
                  <a:pt x="1009" y="435"/>
                </a:moveTo>
                <a:lnTo>
                  <a:pt x="974" y="436"/>
                </a:lnTo>
                <a:lnTo>
                  <a:pt x="967" y="436"/>
                </a:lnTo>
                <a:lnTo>
                  <a:pt x="967" y="436"/>
                </a:lnTo>
                <a:lnTo>
                  <a:pt x="965" y="435"/>
                </a:lnTo>
                <a:lnTo>
                  <a:pt x="965" y="435"/>
                </a:lnTo>
                <a:lnTo>
                  <a:pt x="965" y="434"/>
                </a:lnTo>
                <a:lnTo>
                  <a:pt x="965" y="434"/>
                </a:lnTo>
                <a:lnTo>
                  <a:pt x="965" y="432"/>
                </a:lnTo>
                <a:lnTo>
                  <a:pt x="967" y="432"/>
                </a:lnTo>
                <a:lnTo>
                  <a:pt x="967" y="432"/>
                </a:lnTo>
                <a:lnTo>
                  <a:pt x="974" y="432"/>
                </a:lnTo>
                <a:lnTo>
                  <a:pt x="1009" y="431"/>
                </a:lnTo>
                <a:lnTo>
                  <a:pt x="1011" y="431"/>
                </a:lnTo>
                <a:lnTo>
                  <a:pt x="1011" y="432"/>
                </a:lnTo>
                <a:lnTo>
                  <a:pt x="1011" y="432"/>
                </a:lnTo>
                <a:lnTo>
                  <a:pt x="1011" y="434"/>
                </a:lnTo>
                <a:lnTo>
                  <a:pt x="1011" y="434"/>
                </a:lnTo>
                <a:lnTo>
                  <a:pt x="1009" y="435"/>
                </a:lnTo>
                <a:lnTo>
                  <a:pt x="1009" y="435"/>
                </a:lnTo>
                <a:close/>
                <a:moveTo>
                  <a:pt x="938" y="436"/>
                </a:moveTo>
                <a:lnTo>
                  <a:pt x="928" y="437"/>
                </a:lnTo>
                <a:lnTo>
                  <a:pt x="897" y="437"/>
                </a:lnTo>
                <a:lnTo>
                  <a:pt x="895" y="437"/>
                </a:lnTo>
                <a:lnTo>
                  <a:pt x="895" y="436"/>
                </a:lnTo>
                <a:lnTo>
                  <a:pt x="893" y="436"/>
                </a:lnTo>
                <a:lnTo>
                  <a:pt x="893" y="435"/>
                </a:lnTo>
                <a:lnTo>
                  <a:pt x="893" y="434"/>
                </a:lnTo>
                <a:lnTo>
                  <a:pt x="895" y="434"/>
                </a:lnTo>
                <a:lnTo>
                  <a:pt x="895" y="434"/>
                </a:lnTo>
                <a:lnTo>
                  <a:pt x="897" y="434"/>
                </a:lnTo>
                <a:lnTo>
                  <a:pt x="928" y="432"/>
                </a:lnTo>
                <a:lnTo>
                  <a:pt x="938" y="432"/>
                </a:lnTo>
                <a:lnTo>
                  <a:pt x="939" y="432"/>
                </a:lnTo>
                <a:lnTo>
                  <a:pt x="939" y="434"/>
                </a:lnTo>
                <a:lnTo>
                  <a:pt x="941" y="434"/>
                </a:lnTo>
                <a:lnTo>
                  <a:pt x="941" y="435"/>
                </a:lnTo>
                <a:lnTo>
                  <a:pt x="939" y="436"/>
                </a:lnTo>
                <a:lnTo>
                  <a:pt x="939" y="436"/>
                </a:lnTo>
                <a:lnTo>
                  <a:pt x="938" y="436"/>
                </a:lnTo>
                <a:lnTo>
                  <a:pt x="938" y="436"/>
                </a:lnTo>
                <a:close/>
                <a:moveTo>
                  <a:pt x="868" y="437"/>
                </a:moveTo>
                <a:lnTo>
                  <a:pt x="838" y="437"/>
                </a:lnTo>
                <a:lnTo>
                  <a:pt x="827" y="436"/>
                </a:lnTo>
                <a:lnTo>
                  <a:pt x="826" y="436"/>
                </a:lnTo>
                <a:lnTo>
                  <a:pt x="824" y="436"/>
                </a:lnTo>
                <a:lnTo>
                  <a:pt x="824" y="435"/>
                </a:lnTo>
                <a:lnTo>
                  <a:pt x="824" y="435"/>
                </a:lnTo>
                <a:lnTo>
                  <a:pt x="824" y="434"/>
                </a:lnTo>
                <a:lnTo>
                  <a:pt x="824" y="434"/>
                </a:lnTo>
                <a:lnTo>
                  <a:pt x="826" y="432"/>
                </a:lnTo>
                <a:lnTo>
                  <a:pt x="827" y="432"/>
                </a:lnTo>
                <a:lnTo>
                  <a:pt x="838" y="432"/>
                </a:lnTo>
                <a:lnTo>
                  <a:pt x="868" y="434"/>
                </a:lnTo>
                <a:lnTo>
                  <a:pt x="868" y="434"/>
                </a:lnTo>
                <a:lnTo>
                  <a:pt x="870" y="434"/>
                </a:lnTo>
                <a:lnTo>
                  <a:pt x="870" y="434"/>
                </a:lnTo>
                <a:lnTo>
                  <a:pt x="871" y="435"/>
                </a:lnTo>
                <a:lnTo>
                  <a:pt x="870" y="436"/>
                </a:lnTo>
                <a:lnTo>
                  <a:pt x="870" y="436"/>
                </a:lnTo>
                <a:lnTo>
                  <a:pt x="868" y="437"/>
                </a:lnTo>
                <a:lnTo>
                  <a:pt x="868" y="437"/>
                </a:lnTo>
                <a:lnTo>
                  <a:pt x="868" y="437"/>
                </a:lnTo>
                <a:close/>
                <a:moveTo>
                  <a:pt x="798" y="436"/>
                </a:moveTo>
                <a:lnTo>
                  <a:pt x="793" y="436"/>
                </a:lnTo>
                <a:lnTo>
                  <a:pt x="756" y="435"/>
                </a:lnTo>
                <a:lnTo>
                  <a:pt x="754" y="435"/>
                </a:lnTo>
                <a:lnTo>
                  <a:pt x="754" y="434"/>
                </a:lnTo>
                <a:lnTo>
                  <a:pt x="754" y="432"/>
                </a:lnTo>
                <a:lnTo>
                  <a:pt x="754" y="432"/>
                </a:lnTo>
                <a:lnTo>
                  <a:pt x="754" y="431"/>
                </a:lnTo>
                <a:lnTo>
                  <a:pt x="756" y="431"/>
                </a:lnTo>
                <a:lnTo>
                  <a:pt x="756" y="431"/>
                </a:lnTo>
                <a:lnTo>
                  <a:pt x="794" y="432"/>
                </a:lnTo>
                <a:lnTo>
                  <a:pt x="798" y="432"/>
                </a:lnTo>
                <a:lnTo>
                  <a:pt x="798" y="432"/>
                </a:lnTo>
                <a:lnTo>
                  <a:pt x="800" y="432"/>
                </a:lnTo>
                <a:lnTo>
                  <a:pt x="800" y="434"/>
                </a:lnTo>
                <a:lnTo>
                  <a:pt x="800" y="434"/>
                </a:lnTo>
                <a:lnTo>
                  <a:pt x="800" y="435"/>
                </a:lnTo>
                <a:lnTo>
                  <a:pt x="800" y="435"/>
                </a:lnTo>
                <a:lnTo>
                  <a:pt x="798" y="436"/>
                </a:lnTo>
                <a:lnTo>
                  <a:pt x="798" y="436"/>
                </a:lnTo>
                <a:close/>
                <a:moveTo>
                  <a:pt x="726" y="434"/>
                </a:moveTo>
                <a:lnTo>
                  <a:pt x="706" y="432"/>
                </a:lnTo>
                <a:lnTo>
                  <a:pt x="686" y="431"/>
                </a:lnTo>
                <a:lnTo>
                  <a:pt x="684" y="431"/>
                </a:lnTo>
                <a:lnTo>
                  <a:pt x="684" y="431"/>
                </a:lnTo>
                <a:lnTo>
                  <a:pt x="682" y="430"/>
                </a:lnTo>
                <a:lnTo>
                  <a:pt x="682" y="430"/>
                </a:lnTo>
                <a:lnTo>
                  <a:pt x="682" y="429"/>
                </a:lnTo>
                <a:lnTo>
                  <a:pt x="684" y="428"/>
                </a:lnTo>
                <a:lnTo>
                  <a:pt x="684" y="428"/>
                </a:lnTo>
                <a:lnTo>
                  <a:pt x="686" y="428"/>
                </a:lnTo>
                <a:lnTo>
                  <a:pt x="706" y="429"/>
                </a:lnTo>
                <a:lnTo>
                  <a:pt x="726" y="430"/>
                </a:lnTo>
                <a:lnTo>
                  <a:pt x="728" y="430"/>
                </a:lnTo>
                <a:lnTo>
                  <a:pt x="728" y="430"/>
                </a:lnTo>
                <a:lnTo>
                  <a:pt x="730" y="431"/>
                </a:lnTo>
                <a:lnTo>
                  <a:pt x="730" y="431"/>
                </a:lnTo>
                <a:lnTo>
                  <a:pt x="730" y="432"/>
                </a:lnTo>
                <a:lnTo>
                  <a:pt x="728" y="432"/>
                </a:lnTo>
                <a:lnTo>
                  <a:pt x="728" y="434"/>
                </a:lnTo>
                <a:lnTo>
                  <a:pt x="726" y="434"/>
                </a:lnTo>
                <a:lnTo>
                  <a:pt x="726" y="434"/>
                </a:lnTo>
                <a:close/>
                <a:moveTo>
                  <a:pt x="657" y="430"/>
                </a:moveTo>
                <a:lnTo>
                  <a:pt x="622" y="428"/>
                </a:lnTo>
                <a:lnTo>
                  <a:pt x="614" y="426"/>
                </a:lnTo>
                <a:lnTo>
                  <a:pt x="614" y="426"/>
                </a:lnTo>
                <a:lnTo>
                  <a:pt x="613" y="426"/>
                </a:lnTo>
                <a:lnTo>
                  <a:pt x="613" y="425"/>
                </a:lnTo>
                <a:lnTo>
                  <a:pt x="613" y="425"/>
                </a:lnTo>
                <a:lnTo>
                  <a:pt x="613" y="424"/>
                </a:lnTo>
                <a:lnTo>
                  <a:pt x="614" y="423"/>
                </a:lnTo>
                <a:lnTo>
                  <a:pt x="616" y="423"/>
                </a:lnTo>
                <a:lnTo>
                  <a:pt x="622" y="424"/>
                </a:lnTo>
                <a:lnTo>
                  <a:pt x="657" y="426"/>
                </a:lnTo>
                <a:lnTo>
                  <a:pt x="659" y="426"/>
                </a:lnTo>
                <a:lnTo>
                  <a:pt x="659" y="426"/>
                </a:lnTo>
                <a:lnTo>
                  <a:pt x="660" y="428"/>
                </a:lnTo>
                <a:lnTo>
                  <a:pt x="659" y="429"/>
                </a:lnTo>
                <a:lnTo>
                  <a:pt x="657" y="430"/>
                </a:lnTo>
                <a:lnTo>
                  <a:pt x="657" y="430"/>
                </a:lnTo>
                <a:lnTo>
                  <a:pt x="657" y="430"/>
                </a:lnTo>
                <a:close/>
                <a:moveTo>
                  <a:pt x="587" y="424"/>
                </a:moveTo>
                <a:lnTo>
                  <a:pt x="580" y="424"/>
                </a:lnTo>
                <a:lnTo>
                  <a:pt x="545" y="420"/>
                </a:lnTo>
                <a:lnTo>
                  <a:pt x="545" y="420"/>
                </a:lnTo>
                <a:lnTo>
                  <a:pt x="543" y="419"/>
                </a:lnTo>
                <a:lnTo>
                  <a:pt x="543" y="419"/>
                </a:lnTo>
                <a:lnTo>
                  <a:pt x="543" y="418"/>
                </a:lnTo>
                <a:lnTo>
                  <a:pt x="543" y="418"/>
                </a:lnTo>
                <a:lnTo>
                  <a:pt x="545" y="417"/>
                </a:lnTo>
                <a:lnTo>
                  <a:pt x="547" y="417"/>
                </a:lnTo>
                <a:lnTo>
                  <a:pt x="581" y="420"/>
                </a:lnTo>
                <a:lnTo>
                  <a:pt x="587" y="420"/>
                </a:lnTo>
                <a:lnTo>
                  <a:pt x="589" y="422"/>
                </a:lnTo>
                <a:lnTo>
                  <a:pt x="589" y="422"/>
                </a:lnTo>
                <a:lnTo>
                  <a:pt x="589" y="423"/>
                </a:lnTo>
                <a:lnTo>
                  <a:pt x="589" y="423"/>
                </a:lnTo>
                <a:lnTo>
                  <a:pt x="589" y="424"/>
                </a:lnTo>
                <a:lnTo>
                  <a:pt x="587" y="424"/>
                </a:lnTo>
                <a:lnTo>
                  <a:pt x="587" y="424"/>
                </a:lnTo>
                <a:close/>
                <a:moveTo>
                  <a:pt x="517" y="418"/>
                </a:moveTo>
                <a:lnTo>
                  <a:pt x="501" y="416"/>
                </a:lnTo>
                <a:lnTo>
                  <a:pt x="477" y="412"/>
                </a:lnTo>
                <a:lnTo>
                  <a:pt x="475" y="412"/>
                </a:lnTo>
                <a:lnTo>
                  <a:pt x="473" y="412"/>
                </a:lnTo>
                <a:lnTo>
                  <a:pt x="473" y="411"/>
                </a:lnTo>
                <a:lnTo>
                  <a:pt x="473" y="411"/>
                </a:lnTo>
                <a:lnTo>
                  <a:pt x="473" y="410"/>
                </a:lnTo>
                <a:lnTo>
                  <a:pt x="475" y="408"/>
                </a:lnTo>
                <a:lnTo>
                  <a:pt x="475" y="408"/>
                </a:lnTo>
                <a:lnTo>
                  <a:pt x="477" y="408"/>
                </a:lnTo>
                <a:lnTo>
                  <a:pt x="503" y="412"/>
                </a:lnTo>
                <a:lnTo>
                  <a:pt x="517" y="413"/>
                </a:lnTo>
                <a:lnTo>
                  <a:pt x="519" y="414"/>
                </a:lnTo>
                <a:lnTo>
                  <a:pt x="519" y="414"/>
                </a:lnTo>
                <a:lnTo>
                  <a:pt x="519" y="416"/>
                </a:lnTo>
                <a:lnTo>
                  <a:pt x="519" y="417"/>
                </a:lnTo>
                <a:lnTo>
                  <a:pt x="519" y="417"/>
                </a:lnTo>
                <a:lnTo>
                  <a:pt x="517" y="418"/>
                </a:lnTo>
                <a:lnTo>
                  <a:pt x="517" y="418"/>
                </a:lnTo>
                <a:close/>
                <a:moveTo>
                  <a:pt x="447" y="408"/>
                </a:moveTo>
                <a:lnTo>
                  <a:pt x="425" y="406"/>
                </a:lnTo>
                <a:lnTo>
                  <a:pt x="407" y="402"/>
                </a:lnTo>
                <a:lnTo>
                  <a:pt x="405" y="402"/>
                </a:lnTo>
                <a:lnTo>
                  <a:pt x="405" y="401"/>
                </a:lnTo>
                <a:lnTo>
                  <a:pt x="405" y="401"/>
                </a:lnTo>
                <a:lnTo>
                  <a:pt x="405" y="400"/>
                </a:lnTo>
                <a:lnTo>
                  <a:pt x="405" y="400"/>
                </a:lnTo>
                <a:lnTo>
                  <a:pt x="405" y="399"/>
                </a:lnTo>
                <a:lnTo>
                  <a:pt x="407" y="399"/>
                </a:lnTo>
                <a:lnTo>
                  <a:pt x="409" y="399"/>
                </a:lnTo>
                <a:lnTo>
                  <a:pt x="427" y="402"/>
                </a:lnTo>
                <a:lnTo>
                  <a:pt x="449" y="405"/>
                </a:lnTo>
                <a:lnTo>
                  <a:pt x="449" y="406"/>
                </a:lnTo>
                <a:lnTo>
                  <a:pt x="451" y="406"/>
                </a:lnTo>
                <a:lnTo>
                  <a:pt x="451" y="407"/>
                </a:lnTo>
                <a:lnTo>
                  <a:pt x="449" y="407"/>
                </a:lnTo>
                <a:lnTo>
                  <a:pt x="449" y="408"/>
                </a:lnTo>
                <a:lnTo>
                  <a:pt x="447" y="408"/>
                </a:lnTo>
                <a:lnTo>
                  <a:pt x="447" y="408"/>
                </a:lnTo>
                <a:lnTo>
                  <a:pt x="447" y="408"/>
                </a:lnTo>
                <a:close/>
                <a:moveTo>
                  <a:pt x="378" y="397"/>
                </a:moveTo>
                <a:lnTo>
                  <a:pt x="356" y="394"/>
                </a:lnTo>
                <a:lnTo>
                  <a:pt x="339" y="390"/>
                </a:lnTo>
                <a:lnTo>
                  <a:pt x="337" y="390"/>
                </a:lnTo>
                <a:lnTo>
                  <a:pt x="337" y="389"/>
                </a:lnTo>
                <a:lnTo>
                  <a:pt x="335" y="389"/>
                </a:lnTo>
                <a:lnTo>
                  <a:pt x="337" y="388"/>
                </a:lnTo>
                <a:lnTo>
                  <a:pt x="337" y="388"/>
                </a:lnTo>
                <a:lnTo>
                  <a:pt x="337" y="387"/>
                </a:lnTo>
                <a:lnTo>
                  <a:pt x="339" y="387"/>
                </a:lnTo>
                <a:lnTo>
                  <a:pt x="341" y="387"/>
                </a:lnTo>
                <a:lnTo>
                  <a:pt x="357" y="390"/>
                </a:lnTo>
                <a:lnTo>
                  <a:pt x="380" y="394"/>
                </a:lnTo>
                <a:lnTo>
                  <a:pt x="381" y="394"/>
                </a:lnTo>
                <a:lnTo>
                  <a:pt x="381" y="395"/>
                </a:lnTo>
                <a:lnTo>
                  <a:pt x="381" y="395"/>
                </a:lnTo>
                <a:lnTo>
                  <a:pt x="381" y="396"/>
                </a:lnTo>
                <a:lnTo>
                  <a:pt x="381" y="397"/>
                </a:lnTo>
                <a:lnTo>
                  <a:pt x="380" y="397"/>
                </a:lnTo>
                <a:lnTo>
                  <a:pt x="380" y="397"/>
                </a:lnTo>
                <a:lnTo>
                  <a:pt x="378" y="397"/>
                </a:lnTo>
                <a:lnTo>
                  <a:pt x="378" y="397"/>
                </a:lnTo>
                <a:close/>
                <a:moveTo>
                  <a:pt x="310" y="385"/>
                </a:moveTo>
                <a:lnTo>
                  <a:pt x="290" y="381"/>
                </a:lnTo>
                <a:lnTo>
                  <a:pt x="271" y="376"/>
                </a:lnTo>
                <a:lnTo>
                  <a:pt x="271" y="376"/>
                </a:lnTo>
                <a:lnTo>
                  <a:pt x="269" y="375"/>
                </a:lnTo>
                <a:lnTo>
                  <a:pt x="269" y="375"/>
                </a:lnTo>
                <a:lnTo>
                  <a:pt x="269" y="373"/>
                </a:lnTo>
                <a:lnTo>
                  <a:pt x="271" y="372"/>
                </a:lnTo>
                <a:lnTo>
                  <a:pt x="273" y="372"/>
                </a:lnTo>
                <a:lnTo>
                  <a:pt x="273" y="372"/>
                </a:lnTo>
                <a:lnTo>
                  <a:pt x="291" y="377"/>
                </a:lnTo>
                <a:lnTo>
                  <a:pt x="312" y="382"/>
                </a:lnTo>
                <a:lnTo>
                  <a:pt x="313" y="382"/>
                </a:lnTo>
                <a:lnTo>
                  <a:pt x="313" y="382"/>
                </a:lnTo>
                <a:lnTo>
                  <a:pt x="313" y="384"/>
                </a:lnTo>
                <a:lnTo>
                  <a:pt x="313" y="384"/>
                </a:lnTo>
                <a:lnTo>
                  <a:pt x="312" y="385"/>
                </a:lnTo>
                <a:lnTo>
                  <a:pt x="310" y="385"/>
                </a:lnTo>
                <a:lnTo>
                  <a:pt x="310" y="385"/>
                </a:lnTo>
                <a:close/>
                <a:moveTo>
                  <a:pt x="244" y="370"/>
                </a:moveTo>
                <a:lnTo>
                  <a:pt x="231" y="366"/>
                </a:lnTo>
                <a:lnTo>
                  <a:pt x="205" y="359"/>
                </a:lnTo>
                <a:lnTo>
                  <a:pt x="205" y="358"/>
                </a:lnTo>
                <a:lnTo>
                  <a:pt x="205" y="356"/>
                </a:lnTo>
                <a:lnTo>
                  <a:pt x="205" y="355"/>
                </a:lnTo>
                <a:lnTo>
                  <a:pt x="205" y="355"/>
                </a:lnTo>
                <a:lnTo>
                  <a:pt x="209" y="355"/>
                </a:lnTo>
                <a:lnTo>
                  <a:pt x="233" y="363"/>
                </a:lnTo>
                <a:lnTo>
                  <a:pt x="246" y="366"/>
                </a:lnTo>
                <a:lnTo>
                  <a:pt x="247" y="366"/>
                </a:lnTo>
                <a:lnTo>
                  <a:pt x="247" y="367"/>
                </a:lnTo>
                <a:lnTo>
                  <a:pt x="247" y="367"/>
                </a:lnTo>
                <a:lnTo>
                  <a:pt x="247" y="369"/>
                </a:lnTo>
                <a:lnTo>
                  <a:pt x="247" y="369"/>
                </a:lnTo>
                <a:lnTo>
                  <a:pt x="246" y="370"/>
                </a:lnTo>
                <a:lnTo>
                  <a:pt x="246" y="370"/>
                </a:lnTo>
                <a:lnTo>
                  <a:pt x="244" y="370"/>
                </a:lnTo>
                <a:lnTo>
                  <a:pt x="244" y="370"/>
                </a:lnTo>
                <a:close/>
                <a:moveTo>
                  <a:pt x="179" y="350"/>
                </a:moveTo>
                <a:lnTo>
                  <a:pt x="176" y="349"/>
                </a:lnTo>
                <a:lnTo>
                  <a:pt x="152" y="341"/>
                </a:lnTo>
                <a:lnTo>
                  <a:pt x="143" y="338"/>
                </a:lnTo>
                <a:lnTo>
                  <a:pt x="141" y="336"/>
                </a:lnTo>
                <a:lnTo>
                  <a:pt x="141" y="336"/>
                </a:lnTo>
                <a:lnTo>
                  <a:pt x="143" y="335"/>
                </a:lnTo>
                <a:lnTo>
                  <a:pt x="143" y="335"/>
                </a:lnTo>
                <a:lnTo>
                  <a:pt x="143" y="335"/>
                </a:lnTo>
                <a:lnTo>
                  <a:pt x="145" y="335"/>
                </a:lnTo>
                <a:lnTo>
                  <a:pt x="146" y="335"/>
                </a:lnTo>
                <a:lnTo>
                  <a:pt x="154" y="337"/>
                </a:lnTo>
                <a:lnTo>
                  <a:pt x="179" y="346"/>
                </a:lnTo>
                <a:lnTo>
                  <a:pt x="181" y="347"/>
                </a:lnTo>
                <a:lnTo>
                  <a:pt x="183" y="348"/>
                </a:lnTo>
                <a:lnTo>
                  <a:pt x="183" y="348"/>
                </a:lnTo>
                <a:lnTo>
                  <a:pt x="183" y="349"/>
                </a:lnTo>
                <a:lnTo>
                  <a:pt x="181" y="350"/>
                </a:lnTo>
                <a:lnTo>
                  <a:pt x="179" y="350"/>
                </a:lnTo>
                <a:lnTo>
                  <a:pt x="179" y="350"/>
                </a:lnTo>
                <a:lnTo>
                  <a:pt x="179" y="350"/>
                </a:lnTo>
                <a:close/>
                <a:moveTo>
                  <a:pt x="117" y="328"/>
                </a:moveTo>
                <a:lnTo>
                  <a:pt x="108" y="323"/>
                </a:lnTo>
                <a:lnTo>
                  <a:pt x="88" y="314"/>
                </a:lnTo>
                <a:lnTo>
                  <a:pt x="84" y="312"/>
                </a:lnTo>
                <a:lnTo>
                  <a:pt x="84" y="311"/>
                </a:lnTo>
                <a:lnTo>
                  <a:pt x="82" y="311"/>
                </a:lnTo>
                <a:lnTo>
                  <a:pt x="84" y="309"/>
                </a:lnTo>
                <a:lnTo>
                  <a:pt x="84" y="308"/>
                </a:lnTo>
                <a:lnTo>
                  <a:pt x="86" y="308"/>
                </a:lnTo>
                <a:lnTo>
                  <a:pt x="86" y="308"/>
                </a:lnTo>
                <a:lnTo>
                  <a:pt x="88" y="309"/>
                </a:lnTo>
                <a:lnTo>
                  <a:pt x="91" y="311"/>
                </a:lnTo>
                <a:lnTo>
                  <a:pt x="110" y="320"/>
                </a:lnTo>
                <a:lnTo>
                  <a:pt x="121" y="324"/>
                </a:lnTo>
                <a:lnTo>
                  <a:pt x="123" y="325"/>
                </a:lnTo>
                <a:lnTo>
                  <a:pt x="123" y="326"/>
                </a:lnTo>
                <a:lnTo>
                  <a:pt x="123" y="328"/>
                </a:lnTo>
                <a:lnTo>
                  <a:pt x="119" y="328"/>
                </a:lnTo>
                <a:lnTo>
                  <a:pt x="119" y="328"/>
                </a:lnTo>
                <a:lnTo>
                  <a:pt x="117" y="328"/>
                </a:lnTo>
                <a:lnTo>
                  <a:pt x="117" y="328"/>
                </a:lnTo>
                <a:close/>
                <a:moveTo>
                  <a:pt x="62" y="299"/>
                </a:moveTo>
                <a:lnTo>
                  <a:pt x="55" y="294"/>
                </a:lnTo>
                <a:lnTo>
                  <a:pt x="40" y="284"/>
                </a:lnTo>
                <a:lnTo>
                  <a:pt x="34" y="279"/>
                </a:lnTo>
                <a:lnTo>
                  <a:pt x="33" y="278"/>
                </a:lnTo>
                <a:lnTo>
                  <a:pt x="33" y="277"/>
                </a:lnTo>
                <a:lnTo>
                  <a:pt x="34" y="277"/>
                </a:lnTo>
                <a:lnTo>
                  <a:pt x="34" y="276"/>
                </a:lnTo>
                <a:lnTo>
                  <a:pt x="36" y="276"/>
                </a:lnTo>
                <a:lnTo>
                  <a:pt x="38" y="276"/>
                </a:lnTo>
                <a:lnTo>
                  <a:pt x="38" y="277"/>
                </a:lnTo>
                <a:lnTo>
                  <a:pt x="44" y="282"/>
                </a:lnTo>
                <a:lnTo>
                  <a:pt x="58" y="291"/>
                </a:lnTo>
                <a:lnTo>
                  <a:pt x="66" y="296"/>
                </a:lnTo>
                <a:lnTo>
                  <a:pt x="66" y="296"/>
                </a:lnTo>
                <a:lnTo>
                  <a:pt x="67" y="297"/>
                </a:lnTo>
                <a:lnTo>
                  <a:pt x="66" y="299"/>
                </a:lnTo>
                <a:lnTo>
                  <a:pt x="66" y="299"/>
                </a:lnTo>
                <a:lnTo>
                  <a:pt x="66" y="300"/>
                </a:lnTo>
                <a:lnTo>
                  <a:pt x="64" y="300"/>
                </a:lnTo>
                <a:lnTo>
                  <a:pt x="62" y="300"/>
                </a:lnTo>
                <a:lnTo>
                  <a:pt x="62" y="299"/>
                </a:lnTo>
                <a:lnTo>
                  <a:pt x="62" y="299"/>
                </a:lnTo>
                <a:close/>
                <a:moveTo>
                  <a:pt x="18" y="262"/>
                </a:moveTo>
                <a:lnTo>
                  <a:pt x="11" y="252"/>
                </a:lnTo>
                <a:lnTo>
                  <a:pt x="5" y="241"/>
                </a:lnTo>
                <a:lnTo>
                  <a:pt x="3" y="237"/>
                </a:lnTo>
                <a:lnTo>
                  <a:pt x="3" y="236"/>
                </a:lnTo>
                <a:lnTo>
                  <a:pt x="3" y="235"/>
                </a:lnTo>
                <a:lnTo>
                  <a:pt x="5" y="235"/>
                </a:lnTo>
                <a:lnTo>
                  <a:pt x="7" y="235"/>
                </a:lnTo>
                <a:lnTo>
                  <a:pt x="7" y="235"/>
                </a:lnTo>
                <a:lnTo>
                  <a:pt x="9" y="235"/>
                </a:lnTo>
                <a:lnTo>
                  <a:pt x="9" y="236"/>
                </a:lnTo>
                <a:lnTo>
                  <a:pt x="11" y="240"/>
                </a:lnTo>
                <a:lnTo>
                  <a:pt x="14" y="250"/>
                </a:lnTo>
                <a:lnTo>
                  <a:pt x="23" y="261"/>
                </a:lnTo>
                <a:lnTo>
                  <a:pt x="23" y="261"/>
                </a:lnTo>
                <a:lnTo>
                  <a:pt x="23" y="262"/>
                </a:lnTo>
                <a:lnTo>
                  <a:pt x="22" y="264"/>
                </a:lnTo>
                <a:lnTo>
                  <a:pt x="20" y="264"/>
                </a:lnTo>
                <a:lnTo>
                  <a:pt x="18" y="262"/>
                </a:lnTo>
                <a:lnTo>
                  <a:pt x="18" y="262"/>
                </a:lnTo>
                <a:lnTo>
                  <a:pt x="18" y="26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22400" y="3390840"/>
            <a:ext cx="1228680" cy="281160"/>
          </a:xfrm>
          <a:custGeom>
            <a:avLst/>
            <a:gdLst/>
            <a:ahLst/>
            <a:rect l="l" t="t" r="r" b="b"/>
            <a:pathLst>
              <a:path w="1547" h="356">
                <a:moveTo>
                  <a:pt x="0" y="183"/>
                </a:moveTo>
                <a:lnTo>
                  <a:pt x="0" y="177"/>
                </a:lnTo>
                <a:lnTo>
                  <a:pt x="0" y="169"/>
                </a:lnTo>
                <a:lnTo>
                  <a:pt x="4" y="159"/>
                </a:lnTo>
                <a:lnTo>
                  <a:pt x="5" y="156"/>
                </a:lnTo>
                <a:lnTo>
                  <a:pt x="7" y="154"/>
                </a:lnTo>
                <a:lnTo>
                  <a:pt x="7" y="154"/>
                </a:lnTo>
                <a:lnTo>
                  <a:pt x="9" y="154"/>
                </a:lnTo>
                <a:lnTo>
                  <a:pt x="11" y="156"/>
                </a:lnTo>
                <a:lnTo>
                  <a:pt x="11" y="156"/>
                </a:lnTo>
                <a:lnTo>
                  <a:pt x="11" y="157"/>
                </a:lnTo>
                <a:lnTo>
                  <a:pt x="9" y="160"/>
                </a:lnTo>
                <a:lnTo>
                  <a:pt x="7" y="169"/>
                </a:lnTo>
                <a:lnTo>
                  <a:pt x="5" y="177"/>
                </a:lnTo>
                <a:lnTo>
                  <a:pt x="5" y="183"/>
                </a:lnTo>
                <a:lnTo>
                  <a:pt x="5" y="183"/>
                </a:lnTo>
                <a:lnTo>
                  <a:pt x="5" y="185"/>
                </a:lnTo>
                <a:lnTo>
                  <a:pt x="4" y="185"/>
                </a:lnTo>
                <a:lnTo>
                  <a:pt x="2" y="185"/>
                </a:lnTo>
                <a:lnTo>
                  <a:pt x="0" y="183"/>
                </a:lnTo>
                <a:lnTo>
                  <a:pt x="0" y="183"/>
                </a:lnTo>
                <a:close/>
                <a:moveTo>
                  <a:pt x="18" y="138"/>
                </a:moveTo>
                <a:lnTo>
                  <a:pt x="24" y="133"/>
                </a:lnTo>
                <a:lnTo>
                  <a:pt x="35" y="124"/>
                </a:lnTo>
                <a:lnTo>
                  <a:pt x="46" y="117"/>
                </a:lnTo>
                <a:lnTo>
                  <a:pt x="48" y="117"/>
                </a:lnTo>
                <a:lnTo>
                  <a:pt x="50" y="117"/>
                </a:lnTo>
                <a:lnTo>
                  <a:pt x="50" y="118"/>
                </a:lnTo>
                <a:lnTo>
                  <a:pt x="50" y="120"/>
                </a:lnTo>
                <a:lnTo>
                  <a:pt x="40" y="127"/>
                </a:lnTo>
                <a:lnTo>
                  <a:pt x="29" y="135"/>
                </a:lnTo>
                <a:lnTo>
                  <a:pt x="24" y="140"/>
                </a:lnTo>
                <a:lnTo>
                  <a:pt x="22" y="141"/>
                </a:lnTo>
                <a:lnTo>
                  <a:pt x="20" y="141"/>
                </a:lnTo>
                <a:lnTo>
                  <a:pt x="20" y="141"/>
                </a:lnTo>
                <a:lnTo>
                  <a:pt x="18" y="140"/>
                </a:lnTo>
                <a:lnTo>
                  <a:pt x="18" y="139"/>
                </a:lnTo>
                <a:lnTo>
                  <a:pt x="18" y="138"/>
                </a:lnTo>
                <a:lnTo>
                  <a:pt x="18" y="138"/>
                </a:lnTo>
                <a:close/>
                <a:moveTo>
                  <a:pt x="68" y="104"/>
                </a:moveTo>
                <a:lnTo>
                  <a:pt x="77" y="100"/>
                </a:lnTo>
                <a:lnTo>
                  <a:pt x="94" y="92"/>
                </a:lnTo>
                <a:lnTo>
                  <a:pt x="103" y="89"/>
                </a:lnTo>
                <a:lnTo>
                  <a:pt x="103" y="88"/>
                </a:lnTo>
                <a:lnTo>
                  <a:pt x="105" y="88"/>
                </a:lnTo>
                <a:lnTo>
                  <a:pt x="106" y="89"/>
                </a:lnTo>
                <a:lnTo>
                  <a:pt x="106" y="91"/>
                </a:lnTo>
                <a:lnTo>
                  <a:pt x="106" y="91"/>
                </a:lnTo>
                <a:lnTo>
                  <a:pt x="105" y="92"/>
                </a:lnTo>
                <a:lnTo>
                  <a:pt x="97" y="95"/>
                </a:lnTo>
                <a:lnTo>
                  <a:pt x="81" y="103"/>
                </a:lnTo>
                <a:lnTo>
                  <a:pt x="72" y="107"/>
                </a:lnTo>
                <a:lnTo>
                  <a:pt x="70" y="107"/>
                </a:lnTo>
                <a:lnTo>
                  <a:pt x="70" y="107"/>
                </a:lnTo>
                <a:lnTo>
                  <a:pt x="68" y="107"/>
                </a:lnTo>
                <a:lnTo>
                  <a:pt x="66" y="105"/>
                </a:lnTo>
                <a:lnTo>
                  <a:pt x="68" y="104"/>
                </a:lnTo>
                <a:lnTo>
                  <a:pt x="68" y="104"/>
                </a:lnTo>
                <a:close/>
                <a:moveTo>
                  <a:pt x="128" y="80"/>
                </a:moveTo>
                <a:lnTo>
                  <a:pt x="132" y="77"/>
                </a:lnTo>
                <a:lnTo>
                  <a:pt x="154" y="70"/>
                </a:lnTo>
                <a:lnTo>
                  <a:pt x="165" y="68"/>
                </a:lnTo>
                <a:lnTo>
                  <a:pt x="165" y="68"/>
                </a:lnTo>
                <a:lnTo>
                  <a:pt x="167" y="68"/>
                </a:lnTo>
                <a:lnTo>
                  <a:pt x="169" y="69"/>
                </a:lnTo>
                <a:lnTo>
                  <a:pt x="169" y="70"/>
                </a:lnTo>
                <a:lnTo>
                  <a:pt x="167" y="71"/>
                </a:lnTo>
                <a:lnTo>
                  <a:pt x="158" y="74"/>
                </a:lnTo>
                <a:lnTo>
                  <a:pt x="136" y="81"/>
                </a:lnTo>
                <a:lnTo>
                  <a:pt x="130" y="83"/>
                </a:lnTo>
                <a:lnTo>
                  <a:pt x="128" y="83"/>
                </a:lnTo>
                <a:lnTo>
                  <a:pt x="127" y="82"/>
                </a:lnTo>
                <a:lnTo>
                  <a:pt x="127" y="81"/>
                </a:lnTo>
                <a:lnTo>
                  <a:pt x="128" y="80"/>
                </a:lnTo>
                <a:lnTo>
                  <a:pt x="128" y="80"/>
                </a:lnTo>
                <a:close/>
                <a:moveTo>
                  <a:pt x="193" y="60"/>
                </a:moveTo>
                <a:lnTo>
                  <a:pt x="202" y="58"/>
                </a:lnTo>
                <a:lnTo>
                  <a:pt x="228" y="51"/>
                </a:lnTo>
                <a:lnTo>
                  <a:pt x="231" y="51"/>
                </a:lnTo>
                <a:lnTo>
                  <a:pt x="233" y="51"/>
                </a:lnTo>
                <a:lnTo>
                  <a:pt x="233" y="51"/>
                </a:lnTo>
                <a:lnTo>
                  <a:pt x="235" y="52"/>
                </a:lnTo>
                <a:lnTo>
                  <a:pt x="235" y="52"/>
                </a:lnTo>
                <a:lnTo>
                  <a:pt x="235" y="53"/>
                </a:lnTo>
                <a:lnTo>
                  <a:pt x="233" y="54"/>
                </a:lnTo>
                <a:lnTo>
                  <a:pt x="229" y="54"/>
                </a:lnTo>
                <a:lnTo>
                  <a:pt x="204" y="62"/>
                </a:lnTo>
                <a:lnTo>
                  <a:pt x="195" y="64"/>
                </a:lnTo>
                <a:lnTo>
                  <a:pt x="193" y="64"/>
                </a:lnTo>
                <a:lnTo>
                  <a:pt x="191" y="63"/>
                </a:lnTo>
                <a:lnTo>
                  <a:pt x="191" y="62"/>
                </a:lnTo>
                <a:lnTo>
                  <a:pt x="191" y="62"/>
                </a:lnTo>
                <a:lnTo>
                  <a:pt x="193" y="60"/>
                </a:lnTo>
                <a:lnTo>
                  <a:pt x="193" y="60"/>
                </a:lnTo>
                <a:close/>
                <a:moveTo>
                  <a:pt x="259" y="45"/>
                </a:moveTo>
                <a:lnTo>
                  <a:pt x="283" y="40"/>
                </a:lnTo>
                <a:lnTo>
                  <a:pt x="299" y="38"/>
                </a:lnTo>
                <a:lnTo>
                  <a:pt x="299" y="36"/>
                </a:lnTo>
                <a:lnTo>
                  <a:pt x="301" y="38"/>
                </a:lnTo>
                <a:lnTo>
                  <a:pt x="303" y="39"/>
                </a:lnTo>
                <a:lnTo>
                  <a:pt x="303" y="39"/>
                </a:lnTo>
                <a:lnTo>
                  <a:pt x="301" y="40"/>
                </a:lnTo>
                <a:lnTo>
                  <a:pt x="299" y="41"/>
                </a:lnTo>
                <a:lnTo>
                  <a:pt x="284" y="44"/>
                </a:lnTo>
                <a:lnTo>
                  <a:pt x="261" y="48"/>
                </a:lnTo>
                <a:lnTo>
                  <a:pt x="259" y="48"/>
                </a:lnTo>
                <a:lnTo>
                  <a:pt x="259" y="48"/>
                </a:lnTo>
                <a:lnTo>
                  <a:pt x="257" y="47"/>
                </a:lnTo>
                <a:lnTo>
                  <a:pt x="257" y="46"/>
                </a:lnTo>
                <a:lnTo>
                  <a:pt x="257" y="46"/>
                </a:lnTo>
                <a:lnTo>
                  <a:pt x="257" y="45"/>
                </a:lnTo>
                <a:lnTo>
                  <a:pt x="259" y="45"/>
                </a:lnTo>
                <a:lnTo>
                  <a:pt x="259" y="45"/>
                </a:lnTo>
                <a:close/>
                <a:moveTo>
                  <a:pt x="327" y="33"/>
                </a:moveTo>
                <a:lnTo>
                  <a:pt x="341" y="30"/>
                </a:lnTo>
                <a:lnTo>
                  <a:pt x="367" y="27"/>
                </a:lnTo>
                <a:lnTo>
                  <a:pt x="369" y="25"/>
                </a:lnTo>
                <a:lnTo>
                  <a:pt x="369" y="27"/>
                </a:lnTo>
                <a:lnTo>
                  <a:pt x="371" y="27"/>
                </a:lnTo>
                <a:lnTo>
                  <a:pt x="371" y="28"/>
                </a:lnTo>
                <a:lnTo>
                  <a:pt x="371" y="28"/>
                </a:lnTo>
                <a:lnTo>
                  <a:pt x="371" y="29"/>
                </a:lnTo>
                <a:lnTo>
                  <a:pt x="369" y="30"/>
                </a:lnTo>
                <a:lnTo>
                  <a:pt x="343" y="34"/>
                </a:lnTo>
                <a:lnTo>
                  <a:pt x="329" y="36"/>
                </a:lnTo>
                <a:lnTo>
                  <a:pt x="327" y="36"/>
                </a:lnTo>
                <a:lnTo>
                  <a:pt x="327" y="35"/>
                </a:lnTo>
                <a:lnTo>
                  <a:pt x="325" y="35"/>
                </a:lnTo>
                <a:lnTo>
                  <a:pt x="325" y="34"/>
                </a:lnTo>
                <a:lnTo>
                  <a:pt x="325" y="33"/>
                </a:lnTo>
                <a:lnTo>
                  <a:pt x="327" y="33"/>
                </a:lnTo>
                <a:lnTo>
                  <a:pt x="327" y="33"/>
                </a:lnTo>
                <a:close/>
                <a:moveTo>
                  <a:pt x="396" y="22"/>
                </a:moveTo>
                <a:lnTo>
                  <a:pt x="406" y="21"/>
                </a:lnTo>
                <a:lnTo>
                  <a:pt x="437" y="17"/>
                </a:lnTo>
                <a:lnTo>
                  <a:pt x="437" y="17"/>
                </a:lnTo>
                <a:lnTo>
                  <a:pt x="439" y="17"/>
                </a:lnTo>
                <a:lnTo>
                  <a:pt x="439" y="18"/>
                </a:lnTo>
                <a:lnTo>
                  <a:pt x="440" y="19"/>
                </a:lnTo>
                <a:lnTo>
                  <a:pt x="439" y="21"/>
                </a:lnTo>
                <a:lnTo>
                  <a:pt x="437" y="21"/>
                </a:lnTo>
                <a:lnTo>
                  <a:pt x="407" y="24"/>
                </a:lnTo>
                <a:lnTo>
                  <a:pt x="396" y="25"/>
                </a:lnTo>
                <a:lnTo>
                  <a:pt x="395" y="25"/>
                </a:lnTo>
                <a:lnTo>
                  <a:pt x="395" y="25"/>
                </a:lnTo>
                <a:lnTo>
                  <a:pt x="393" y="24"/>
                </a:lnTo>
                <a:lnTo>
                  <a:pt x="393" y="24"/>
                </a:lnTo>
                <a:lnTo>
                  <a:pt x="395" y="23"/>
                </a:lnTo>
                <a:lnTo>
                  <a:pt x="395" y="22"/>
                </a:lnTo>
                <a:lnTo>
                  <a:pt x="396" y="22"/>
                </a:lnTo>
                <a:lnTo>
                  <a:pt x="396" y="22"/>
                </a:lnTo>
                <a:close/>
                <a:moveTo>
                  <a:pt x="466" y="15"/>
                </a:moveTo>
                <a:lnTo>
                  <a:pt x="474" y="13"/>
                </a:lnTo>
                <a:lnTo>
                  <a:pt x="507" y="11"/>
                </a:lnTo>
                <a:lnTo>
                  <a:pt x="507" y="11"/>
                </a:lnTo>
                <a:lnTo>
                  <a:pt x="508" y="11"/>
                </a:lnTo>
                <a:lnTo>
                  <a:pt x="510" y="12"/>
                </a:lnTo>
                <a:lnTo>
                  <a:pt x="508" y="13"/>
                </a:lnTo>
                <a:lnTo>
                  <a:pt x="508" y="13"/>
                </a:lnTo>
                <a:lnTo>
                  <a:pt x="507" y="15"/>
                </a:lnTo>
                <a:lnTo>
                  <a:pt x="474" y="17"/>
                </a:lnTo>
                <a:lnTo>
                  <a:pt x="466" y="18"/>
                </a:lnTo>
                <a:lnTo>
                  <a:pt x="464" y="18"/>
                </a:lnTo>
                <a:lnTo>
                  <a:pt x="463" y="17"/>
                </a:lnTo>
                <a:lnTo>
                  <a:pt x="463" y="17"/>
                </a:lnTo>
                <a:lnTo>
                  <a:pt x="463" y="16"/>
                </a:lnTo>
                <a:lnTo>
                  <a:pt x="463" y="15"/>
                </a:lnTo>
                <a:lnTo>
                  <a:pt x="464" y="15"/>
                </a:lnTo>
                <a:lnTo>
                  <a:pt x="466" y="15"/>
                </a:lnTo>
                <a:lnTo>
                  <a:pt x="466" y="15"/>
                </a:lnTo>
                <a:close/>
                <a:moveTo>
                  <a:pt x="536" y="9"/>
                </a:moveTo>
                <a:lnTo>
                  <a:pt x="543" y="7"/>
                </a:lnTo>
                <a:lnTo>
                  <a:pt x="576" y="5"/>
                </a:lnTo>
                <a:lnTo>
                  <a:pt x="578" y="5"/>
                </a:lnTo>
                <a:lnTo>
                  <a:pt x="578" y="6"/>
                </a:lnTo>
                <a:lnTo>
                  <a:pt x="578" y="6"/>
                </a:lnTo>
                <a:lnTo>
                  <a:pt x="580" y="7"/>
                </a:lnTo>
                <a:lnTo>
                  <a:pt x="580" y="7"/>
                </a:lnTo>
                <a:lnTo>
                  <a:pt x="578" y="9"/>
                </a:lnTo>
                <a:lnTo>
                  <a:pt x="576" y="10"/>
                </a:lnTo>
                <a:lnTo>
                  <a:pt x="545" y="11"/>
                </a:lnTo>
                <a:lnTo>
                  <a:pt x="536" y="12"/>
                </a:lnTo>
                <a:lnTo>
                  <a:pt x="534" y="12"/>
                </a:lnTo>
                <a:lnTo>
                  <a:pt x="534" y="11"/>
                </a:lnTo>
                <a:lnTo>
                  <a:pt x="532" y="10"/>
                </a:lnTo>
                <a:lnTo>
                  <a:pt x="532" y="10"/>
                </a:lnTo>
                <a:lnTo>
                  <a:pt x="534" y="9"/>
                </a:lnTo>
                <a:lnTo>
                  <a:pt x="536" y="9"/>
                </a:lnTo>
                <a:lnTo>
                  <a:pt x="536" y="9"/>
                </a:lnTo>
                <a:close/>
                <a:moveTo>
                  <a:pt x="606" y="4"/>
                </a:moveTo>
                <a:lnTo>
                  <a:pt x="619" y="4"/>
                </a:lnTo>
                <a:lnTo>
                  <a:pt x="646" y="3"/>
                </a:lnTo>
                <a:lnTo>
                  <a:pt x="648" y="3"/>
                </a:lnTo>
                <a:lnTo>
                  <a:pt x="650" y="4"/>
                </a:lnTo>
                <a:lnTo>
                  <a:pt x="650" y="5"/>
                </a:lnTo>
                <a:lnTo>
                  <a:pt x="648" y="6"/>
                </a:lnTo>
                <a:lnTo>
                  <a:pt x="648" y="6"/>
                </a:lnTo>
                <a:lnTo>
                  <a:pt x="619" y="7"/>
                </a:lnTo>
                <a:lnTo>
                  <a:pt x="606" y="7"/>
                </a:lnTo>
                <a:lnTo>
                  <a:pt x="604" y="7"/>
                </a:lnTo>
                <a:lnTo>
                  <a:pt x="602" y="6"/>
                </a:lnTo>
                <a:lnTo>
                  <a:pt x="604" y="5"/>
                </a:lnTo>
                <a:lnTo>
                  <a:pt x="606" y="4"/>
                </a:lnTo>
                <a:lnTo>
                  <a:pt x="606" y="4"/>
                </a:lnTo>
                <a:close/>
                <a:moveTo>
                  <a:pt x="675" y="1"/>
                </a:moveTo>
                <a:lnTo>
                  <a:pt x="694" y="0"/>
                </a:lnTo>
                <a:lnTo>
                  <a:pt x="718" y="0"/>
                </a:lnTo>
                <a:lnTo>
                  <a:pt x="719" y="0"/>
                </a:lnTo>
                <a:lnTo>
                  <a:pt x="719" y="1"/>
                </a:lnTo>
                <a:lnTo>
                  <a:pt x="719" y="3"/>
                </a:lnTo>
                <a:lnTo>
                  <a:pt x="719" y="3"/>
                </a:lnTo>
                <a:lnTo>
                  <a:pt x="719" y="4"/>
                </a:lnTo>
                <a:lnTo>
                  <a:pt x="718" y="4"/>
                </a:lnTo>
                <a:lnTo>
                  <a:pt x="696" y="4"/>
                </a:lnTo>
                <a:lnTo>
                  <a:pt x="677" y="5"/>
                </a:lnTo>
                <a:lnTo>
                  <a:pt x="674" y="5"/>
                </a:lnTo>
                <a:lnTo>
                  <a:pt x="674" y="4"/>
                </a:lnTo>
                <a:lnTo>
                  <a:pt x="674" y="4"/>
                </a:lnTo>
                <a:lnTo>
                  <a:pt x="674" y="1"/>
                </a:lnTo>
                <a:lnTo>
                  <a:pt x="675" y="1"/>
                </a:lnTo>
                <a:lnTo>
                  <a:pt x="675" y="1"/>
                </a:lnTo>
                <a:lnTo>
                  <a:pt x="675" y="1"/>
                </a:lnTo>
                <a:close/>
                <a:moveTo>
                  <a:pt x="747" y="0"/>
                </a:moveTo>
                <a:lnTo>
                  <a:pt x="773" y="0"/>
                </a:lnTo>
                <a:lnTo>
                  <a:pt x="787" y="0"/>
                </a:lnTo>
                <a:lnTo>
                  <a:pt x="789" y="0"/>
                </a:lnTo>
                <a:lnTo>
                  <a:pt x="789" y="0"/>
                </a:lnTo>
                <a:lnTo>
                  <a:pt x="791" y="1"/>
                </a:lnTo>
                <a:lnTo>
                  <a:pt x="791" y="1"/>
                </a:lnTo>
                <a:lnTo>
                  <a:pt x="791" y="3"/>
                </a:lnTo>
                <a:lnTo>
                  <a:pt x="789" y="3"/>
                </a:lnTo>
                <a:lnTo>
                  <a:pt x="789" y="4"/>
                </a:lnTo>
                <a:lnTo>
                  <a:pt x="787" y="4"/>
                </a:lnTo>
                <a:lnTo>
                  <a:pt x="773" y="4"/>
                </a:lnTo>
                <a:lnTo>
                  <a:pt x="747" y="4"/>
                </a:lnTo>
                <a:lnTo>
                  <a:pt x="745" y="3"/>
                </a:lnTo>
                <a:lnTo>
                  <a:pt x="743" y="3"/>
                </a:lnTo>
                <a:lnTo>
                  <a:pt x="743" y="1"/>
                </a:lnTo>
                <a:lnTo>
                  <a:pt x="743" y="1"/>
                </a:lnTo>
                <a:lnTo>
                  <a:pt x="745" y="0"/>
                </a:lnTo>
                <a:lnTo>
                  <a:pt x="745" y="0"/>
                </a:lnTo>
                <a:lnTo>
                  <a:pt x="747" y="0"/>
                </a:lnTo>
                <a:lnTo>
                  <a:pt x="747" y="0"/>
                </a:lnTo>
                <a:close/>
                <a:moveTo>
                  <a:pt x="817" y="0"/>
                </a:moveTo>
                <a:lnTo>
                  <a:pt x="852" y="0"/>
                </a:lnTo>
                <a:lnTo>
                  <a:pt x="859" y="0"/>
                </a:lnTo>
                <a:lnTo>
                  <a:pt x="859" y="1"/>
                </a:lnTo>
                <a:lnTo>
                  <a:pt x="861" y="1"/>
                </a:lnTo>
                <a:lnTo>
                  <a:pt x="861" y="3"/>
                </a:lnTo>
                <a:lnTo>
                  <a:pt x="861" y="4"/>
                </a:lnTo>
                <a:lnTo>
                  <a:pt x="861" y="4"/>
                </a:lnTo>
                <a:lnTo>
                  <a:pt x="859" y="5"/>
                </a:lnTo>
                <a:lnTo>
                  <a:pt x="852" y="4"/>
                </a:lnTo>
                <a:lnTo>
                  <a:pt x="817" y="4"/>
                </a:lnTo>
                <a:lnTo>
                  <a:pt x="817" y="4"/>
                </a:lnTo>
                <a:lnTo>
                  <a:pt x="815" y="3"/>
                </a:lnTo>
                <a:lnTo>
                  <a:pt x="815" y="3"/>
                </a:lnTo>
                <a:lnTo>
                  <a:pt x="815" y="1"/>
                </a:lnTo>
                <a:lnTo>
                  <a:pt x="815" y="1"/>
                </a:lnTo>
                <a:lnTo>
                  <a:pt x="815" y="0"/>
                </a:lnTo>
                <a:lnTo>
                  <a:pt x="817" y="0"/>
                </a:lnTo>
                <a:lnTo>
                  <a:pt x="817" y="0"/>
                </a:lnTo>
                <a:lnTo>
                  <a:pt x="817" y="0"/>
                </a:lnTo>
                <a:close/>
                <a:moveTo>
                  <a:pt x="888" y="1"/>
                </a:moveTo>
                <a:lnTo>
                  <a:pt x="929" y="4"/>
                </a:lnTo>
                <a:lnTo>
                  <a:pt x="931" y="4"/>
                </a:lnTo>
                <a:lnTo>
                  <a:pt x="931" y="4"/>
                </a:lnTo>
                <a:lnTo>
                  <a:pt x="932" y="5"/>
                </a:lnTo>
                <a:lnTo>
                  <a:pt x="931" y="6"/>
                </a:lnTo>
                <a:lnTo>
                  <a:pt x="929" y="7"/>
                </a:lnTo>
                <a:lnTo>
                  <a:pt x="929" y="7"/>
                </a:lnTo>
                <a:lnTo>
                  <a:pt x="887" y="6"/>
                </a:lnTo>
                <a:lnTo>
                  <a:pt x="885" y="5"/>
                </a:lnTo>
                <a:lnTo>
                  <a:pt x="885" y="4"/>
                </a:lnTo>
                <a:lnTo>
                  <a:pt x="885" y="3"/>
                </a:lnTo>
                <a:lnTo>
                  <a:pt x="888" y="1"/>
                </a:lnTo>
                <a:lnTo>
                  <a:pt x="888" y="1"/>
                </a:lnTo>
                <a:close/>
                <a:moveTo>
                  <a:pt x="958" y="5"/>
                </a:moveTo>
                <a:lnTo>
                  <a:pt x="965" y="5"/>
                </a:lnTo>
                <a:lnTo>
                  <a:pt x="998" y="7"/>
                </a:lnTo>
                <a:lnTo>
                  <a:pt x="1000" y="7"/>
                </a:lnTo>
                <a:lnTo>
                  <a:pt x="1000" y="7"/>
                </a:lnTo>
                <a:lnTo>
                  <a:pt x="1002" y="10"/>
                </a:lnTo>
                <a:lnTo>
                  <a:pt x="1000" y="11"/>
                </a:lnTo>
                <a:lnTo>
                  <a:pt x="1000" y="11"/>
                </a:lnTo>
                <a:lnTo>
                  <a:pt x="998" y="11"/>
                </a:lnTo>
                <a:lnTo>
                  <a:pt x="965" y="9"/>
                </a:lnTo>
                <a:lnTo>
                  <a:pt x="958" y="9"/>
                </a:lnTo>
                <a:lnTo>
                  <a:pt x="956" y="9"/>
                </a:lnTo>
                <a:lnTo>
                  <a:pt x="956" y="7"/>
                </a:lnTo>
                <a:lnTo>
                  <a:pt x="954" y="7"/>
                </a:lnTo>
                <a:lnTo>
                  <a:pt x="954" y="6"/>
                </a:lnTo>
                <a:lnTo>
                  <a:pt x="954" y="6"/>
                </a:lnTo>
                <a:lnTo>
                  <a:pt x="956" y="5"/>
                </a:lnTo>
                <a:lnTo>
                  <a:pt x="956" y="5"/>
                </a:lnTo>
                <a:lnTo>
                  <a:pt x="958" y="5"/>
                </a:lnTo>
                <a:lnTo>
                  <a:pt x="958" y="5"/>
                </a:lnTo>
                <a:close/>
                <a:moveTo>
                  <a:pt x="1028" y="10"/>
                </a:moveTo>
                <a:lnTo>
                  <a:pt x="1039" y="10"/>
                </a:lnTo>
                <a:lnTo>
                  <a:pt x="1068" y="13"/>
                </a:lnTo>
                <a:lnTo>
                  <a:pt x="1070" y="13"/>
                </a:lnTo>
                <a:lnTo>
                  <a:pt x="1072" y="15"/>
                </a:lnTo>
                <a:lnTo>
                  <a:pt x="1072" y="15"/>
                </a:lnTo>
                <a:lnTo>
                  <a:pt x="1070" y="16"/>
                </a:lnTo>
                <a:lnTo>
                  <a:pt x="1070" y="17"/>
                </a:lnTo>
                <a:lnTo>
                  <a:pt x="1068" y="17"/>
                </a:lnTo>
                <a:lnTo>
                  <a:pt x="1039" y="15"/>
                </a:lnTo>
                <a:lnTo>
                  <a:pt x="1028" y="13"/>
                </a:lnTo>
                <a:lnTo>
                  <a:pt x="1026" y="12"/>
                </a:lnTo>
                <a:lnTo>
                  <a:pt x="1024" y="11"/>
                </a:lnTo>
                <a:lnTo>
                  <a:pt x="1026" y="11"/>
                </a:lnTo>
                <a:lnTo>
                  <a:pt x="1026" y="10"/>
                </a:lnTo>
                <a:lnTo>
                  <a:pt x="1028" y="10"/>
                </a:lnTo>
                <a:lnTo>
                  <a:pt x="1028" y="10"/>
                </a:lnTo>
                <a:lnTo>
                  <a:pt x="1028" y="10"/>
                </a:lnTo>
                <a:close/>
                <a:moveTo>
                  <a:pt x="1098" y="16"/>
                </a:moveTo>
                <a:lnTo>
                  <a:pt x="1109" y="17"/>
                </a:lnTo>
                <a:lnTo>
                  <a:pt x="1138" y="21"/>
                </a:lnTo>
                <a:lnTo>
                  <a:pt x="1140" y="21"/>
                </a:lnTo>
                <a:lnTo>
                  <a:pt x="1140" y="22"/>
                </a:lnTo>
                <a:lnTo>
                  <a:pt x="1142" y="22"/>
                </a:lnTo>
                <a:lnTo>
                  <a:pt x="1142" y="23"/>
                </a:lnTo>
                <a:lnTo>
                  <a:pt x="1140" y="24"/>
                </a:lnTo>
                <a:lnTo>
                  <a:pt x="1138" y="24"/>
                </a:lnTo>
                <a:lnTo>
                  <a:pt x="1107" y="21"/>
                </a:lnTo>
                <a:lnTo>
                  <a:pt x="1098" y="19"/>
                </a:lnTo>
                <a:lnTo>
                  <a:pt x="1096" y="19"/>
                </a:lnTo>
                <a:lnTo>
                  <a:pt x="1096" y="19"/>
                </a:lnTo>
                <a:lnTo>
                  <a:pt x="1094" y="18"/>
                </a:lnTo>
                <a:lnTo>
                  <a:pt x="1096" y="17"/>
                </a:lnTo>
                <a:lnTo>
                  <a:pt x="1096" y="16"/>
                </a:lnTo>
                <a:lnTo>
                  <a:pt x="1098" y="16"/>
                </a:lnTo>
                <a:lnTo>
                  <a:pt x="1098" y="16"/>
                </a:lnTo>
                <a:lnTo>
                  <a:pt x="1098" y="16"/>
                </a:lnTo>
                <a:close/>
                <a:moveTo>
                  <a:pt x="1167" y="24"/>
                </a:moveTo>
                <a:lnTo>
                  <a:pt x="1175" y="25"/>
                </a:lnTo>
                <a:lnTo>
                  <a:pt x="1206" y="30"/>
                </a:lnTo>
                <a:lnTo>
                  <a:pt x="1208" y="30"/>
                </a:lnTo>
                <a:lnTo>
                  <a:pt x="1210" y="32"/>
                </a:lnTo>
                <a:lnTo>
                  <a:pt x="1210" y="33"/>
                </a:lnTo>
                <a:lnTo>
                  <a:pt x="1210" y="34"/>
                </a:lnTo>
                <a:lnTo>
                  <a:pt x="1206" y="34"/>
                </a:lnTo>
                <a:lnTo>
                  <a:pt x="1204" y="34"/>
                </a:lnTo>
                <a:lnTo>
                  <a:pt x="1173" y="29"/>
                </a:lnTo>
                <a:lnTo>
                  <a:pt x="1167" y="28"/>
                </a:lnTo>
                <a:lnTo>
                  <a:pt x="1166" y="28"/>
                </a:lnTo>
                <a:lnTo>
                  <a:pt x="1164" y="27"/>
                </a:lnTo>
                <a:lnTo>
                  <a:pt x="1164" y="27"/>
                </a:lnTo>
                <a:lnTo>
                  <a:pt x="1164" y="25"/>
                </a:lnTo>
                <a:lnTo>
                  <a:pt x="1164" y="25"/>
                </a:lnTo>
                <a:lnTo>
                  <a:pt x="1166" y="24"/>
                </a:lnTo>
                <a:lnTo>
                  <a:pt x="1167" y="24"/>
                </a:lnTo>
                <a:lnTo>
                  <a:pt x="1167" y="24"/>
                </a:lnTo>
                <a:close/>
                <a:moveTo>
                  <a:pt x="1237" y="35"/>
                </a:moveTo>
                <a:lnTo>
                  <a:pt x="1265" y="40"/>
                </a:lnTo>
                <a:lnTo>
                  <a:pt x="1276" y="42"/>
                </a:lnTo>
                <a:lnTo>
                  <a:pt x="1277" y="42"/>
                </a:lnTo>
                <a:lnTo>
                  <a:pt x="1277" y="44"/>
                </a:lnTo>
                <a:lnTo>
                  <a:pt x="1277" y="45"/>
                </a:lnTo>
                <a:lnTo>
                  <a:pt x="1277" y="46"/>
                </a:lnTo>
                <a:lnTo>
                  <a:pt x="1276" y="46"/>
                </a:lnTo>
                <a:lnTo>
                  <a:pt x="1274" y="46"/>
                </a:lnTo>
                <a:lnTo>
                  <a:pt x="1263" y="44"/>
                </a:lnTo>
                <a:lnTo>
                  <a:pt x="1235" y="39"/>
                </a:lnTo>
                <a:lnTo>
                  <a:pt x="1233" y="39"/>
                </a:lnTo>
                <a:lnTo>
                  <a:pt x="1233" y="38"/>
                </a:lnTo>
                <a:lnTo>
                  <a:pt x="1233" y="38"/>
                </a:lnTo>
                <a:lnTo>
                  <a:pt x="1233" y="36"/>
                </a:lnTo>
                <a:lnTo>
                  <a:pt x="1233" y="35"/>
                </a:lnTo>
                <a:lnTo>
                  <a:pt x="1235" y="35"/>
                </a:lnTo>
                <a:lnTo>
                  <a:pt x="1237" y="35"/>
                </a:lnTo>
                <a:lnTo>
                  <a:pt x="1237" y="35"/>
                </a:lnTo>
                <a:close/>
                <a:moveTo>
                  <a:pt x="1305" y="48"/>
                </a:moveTo>
                <a:lnTo>
                  <a:pt x="1320" y="51"/>
                </a:lnTo>
                <a:lnTo>
                  <a:pt x="1344" y="57"/>
                </a:lnTo>
                <a:lnTo>
                  <a:pt x="1345" y="58"/>
                </a:lnTo>
                <a:lnTo>
                  <a:pt x="1345" y="58"/>
                </a:lnTo>
                <a:lnTo>
                  <a:pt x="1345" y="59"/>
                </a:lnTo>
                <a:lnTo>
                  <a:pt x="1344" y="60"/>
                </a:lnTo>
                <a:lnTo>
                  <a:pt x="1344" y="60"/>
                </a:lnTo>
                <a:lnTo>
                  <a:pt x="1342" y="60"/>
                </a:lnTo>
                <a:lnTo>
                  <a:pt x="1318" y="56"/>
                </a:lnTo>
                <a:lnTo>
                  <a:pt x="1303" y="52"/>
                </a:lnTo>
                <a:lnTo>
                  <a:pt x="1301" y="51"/>
                </a:lnTo>
                <a:lnTo>
                  <a:pt x="1301" y="50"/>
                </a:lnTo>
                <a:lnTo>
                  <a:pt x="1301" y="48"/>
                </a:lnTo>
                <a:lnTo>
                  <a:pt x="1305" y="48"/>
                </a:lnTo>
                <a:lnTo>
                  <a:pt x="1305" y="48"/>
                </a:lnTo>
                <a:close/>
                <a:moveTo>
                  <a:pt x="1371" y="64"/>
                </a:moveTo>
                <a:lnTo>
                  <a:pt x="1393" y="70"/>
                </a:lnTo>
                <a:lnTo>
                  <a:pt x="1408" y="76"/>
                </a:lnTo>
                <a:lnTo>
                  <a:pt x="1410" y="76"/>
                </a:lnTo>
                <a:lnTo>
                  <a:pt x="1410" y="79"/>
                </a:lnTo>
                <a:lnTo>
                  <a:pt x="1408" y="79"/>
                </a:lnTo>
                <a:lnTo>
                  <a:pt x="1406" y="80"/>
                </a:lnTo>
                <a:lnTo>
                  <a:pt x="1406" y="79"/>
                </a:lnTo>
                <a:lnTo>
                  <a:pt x="1389" y="74"/>
                </a:lnTo>
                <a:lnTo>
                  <a:pt x="1367" y="68"/>
                </a:lnTo>
                <a:lnTo>
                  <a:pt x="1366" y="66"/>
                </a:lnTo>
                <a:lnTo>
                  <a:pt x="1366" y="66"/>
                </a:lnTo>
                <a:lnTo>
                  <a:pt x="1367" y="65"/>
                </a:lnTo>
                <a:lnTo>
                  <a:pt x="1367" y="64"/>
                </a:lnTo>
                <a:lnTo>
                  <a:pt x="1369" y="64"/>
                </a:lnTo>
                <a:lnTo>
                  <a:pt x="1371" y="64"/>
                </a:lnTo>
                <a:lnTo>
                  <a:pt x="1371" y="64"/>
                </a:lnTo>
                <a:close/>
                <a:moveTo>
                  <a:pt x="1434" y="85"/>
                </a:moveTo>
                <a:lnTo>
                  <a:pt x="1434" y="85"/>
                </a:lnTo>
                <a:lnTo>
                  <a:pt x="1454" y="92"/>
                </a:lnTo>
                <a:lnTo>
                  <a:pt x="1468" y="99"/>
                </a:lnTo>
                <a:lnTo>
                  <a:pt x="1470" y="100"/>
                </a:lnTo>
                <a:lnTo>
                  <a:pt x="1470" y="101"/>
                </a:lnTo>
                <a:lnTo>
                  <a:pt x="1468" y="103"/>
                </a:lnTo>
                <a:lnTo>
                  <a:pt x="1467" y="103"/>
                </a:lnTo>
                <a:lnTo>
                  <a:pt x="1465" y="103"/>
                </a:lnTo>
                <a:lnTo>
                  <a:pt x="1450" y="95"/>
                </a:lnTo>
                <a:lnTo>
                  <a:pt x="1432" y="88"/>
                </a:lnTo>
                <a:lnTo>
                  <a:pt x="1432" y="88"/>
                </a:lnTo>
                <a:lnTo>
                  <a:pt x="1430" y="87"/>
                </a:lnTo>
                <a:lnTo>
                  <a:pt x="1430" y="86"/>
                </a:lnTo>
                <a:lnTo>
                  <a:pt x="1432" y="85"/>
                </a:lnTo>
                <a:lnTo>
                  <a:pt x="1434" y="85"/>
                </a:lnTo>
                <a:lnTo>
                  <a:pt x="1434" y="85"/>
                </a:lnTo>
                <a:close/>
                <a:moveTo>
                  <a:pt x="1492" y="111"/>
                </a:moveTo>
                <a:lnTo>
                  <a:pt x="1500" y="116"/>
                </a:lnTo>
                <a:lnTo>
                  <a:pt x="1512" y="124"/>
                </a:lnTo>
                <a:lnTo>
                  <a:pt x="1522" y="132"/>
                </a:lnTo>
                <a:lnTo>
                  <a:pt x="1522" y="133"/>
                </a:lnTo>
                <a:lnTo>
                  <a:pt x="1520" y="134"/>
                </a:lnTo>
                <a:lnTo>
                  <a:pt x="1520" y="134"/>
                </a:lnTo>
                <a:lnTo>
                  <a:pt x="1518" y="134"/>
                </a:lnTo>
                <a:lnTo>
                  <a:pt x="1516" y="134"/>
                </a:lnTo>
                <a:lnTo>
                  <a:pt x="1516" y="134"/>
                </a:lnTo>
                <a:lnTo>
                  <a:pt x="1507" y="127"/>
                </a:lnTo>
                <a:lnTo>
                  <a:pt x="1496" y="118"/>
                </a:lnTo>
                <a:lnTo>
                  <a:pt x="1489" y="115"/>
                </a:lnTo>
                <a:lnTo>
                  <a:pt x="1487" y="113"/>
                </a:lnTo>
                <a:lnTo>
                  <a:pt x="1487" y="112"/>
                </a:lnTo>
                <a:lnTo>
                  <a:pt x="1489" y="111"/>
                </a:lnTo>
                <a:lnTo>
                  <a:pt x="1490" y="111"/>
                </a:lnTo>
                <a:lnTo>
                  <a:pt x="1490" y="111"/>
                </a:lnTo>
                <a:lnTo>
                  <a:pt x="1492" y="111"/>
                </a:lnTo>
                <a:lnTo>
                  <a:pt x="1492" y="111"/>
                </a:lnTo>
                <a:close/>
                <a:moveTo>
                  <a:pt x="1536" y="148"/>
                </a:moveTo>
                <a:lnTo>
                  <a:pt x="1538" y="150"/>
                </a:lnTo>
                <a:lnTo>
                  <a:pt x="1544" y="159"/>
                </a:lnTo>
                <a:lnTo>
                  <a:pt x="1545" y="169"/>
                </a:lnTo>
                <a:lnTo>
                  <a:pt x="1547" y="175"/>
                </a:lnTo>
                <a:lnTo>
                  <a:pt x="1547" y="175"/>
                </a:lnTo>
                <a:lnTo>
                  <a:pt x="1545" y="176"/>
                </a:lnTo>
                <a:lnTo>
                  <a:pt x="1544" y="176"/>
                </a:lnTo>
                <a:lnTo>
                  <a:pt x="1542" y="176"/>
                </a:lnTo>
                <a:lnTo>
                  <a:pt x="1542" y="175"/>
                </a:lnTo>
                <a:lnTo>
                  <a:pt x="1542" y="175"/>
                </a:lnTo>
                <a:lnTo>
                  <a:pt x="1540" y="169"/>
                </a:lnTo>
                <a:lnTo>
                  <a:pt x="1538" y="160"/>
                </a:lnTo>
                <a:lnTo>
                  <a:pt x="1533" y="152"/>
                </a:lnTo>
                <a:lnTo>
                  <a:pt x="1531" y="150"/>
                </a:lnTo>
                <a:lnTo>
                  <a:pt x="1531" y="148"/>
                </a:lnTo>
                <a:lnTo>
                  <a:pt x="1533" y="147"/>
                </a:lnTo>
                <a:lnTo>
                  <a:pt x="1534" y="147"/>
                </a:lnTo>
                <a:lnTo>
                  <a:pt x="1536" y="148"/>
                </a:lnTo>
                <a:lnTo>
                  <a:pt x="1536" y="148"/>
                </a:lnTo>
                <a:close/>
                <a:moveTo>
                  <a:pt x="1544" y="194"/>
                </a:moveTo>
                <a:lnTo>
                  <a:pt x="1544" y="197"/>
                </a:lnTo>
                <a:lnTo>
                  <a:pt x="1538" y="205"/>
                </a:lnTo>
                <a:lnTo>
                  <a:pt x="1531" y="215"/>
                </a:lnTo>
                <a:lnTo>
                  <a:pt x="1527" y="220"/>
                </a:lnTo>
                <a:lnTo>
                  <a:pt x="1523" y="220"/>
                </a:lnTo>
                <a:lnTo>
                  <a:pt x="1523" y="220"/>
                </a:lnTo>
                <a:lnTo>
                  <a:pt x="1522" y="220"/>
                </a:lnTo>
                <a:lnTo>
                  <a:pt x="1522" y="218"/>
                </a:lnTo>
                <a:lnTo>
                  <a:pt x="1522" y="217"/>
                </a:lnTo>
                <a:lnTo>
                  <a:pt x="1525" y="212"/>
                </a:lnTo>
                <a:lnTo>
                  <a:pt x="1533" y="204"/>
                </a:lnTo>
                <a:lnTo>
                  <a:pt x="1538" y="195"/>
                </a:lnTo>
                <a:lnTo>
                  <a:pt x="1538" y="193"/>
                </a:lnTo>
                <a:lnTo>
                  <a:pt x="1538" y="193"/>
                </a:lnTo>
                <a:lnTo>
                  <a:pt x="1540" y="192"/>
                </a:lnTo>
                <a:lnTo>
                  <a:pt x="1542" y="192"/>
                </a:lnTo>
                <a:lnTo>
                  <a:pt x="1544" y="193"/>
                </a:lnTo>
                <a:lnTo>
                  <a:pt x="1544" y="194"/>
                </a:lnTo>
                <a:lnTo>
                  <a:pt x="1544" y="194"/>
                </a:lnTo>
                <a:close/>
                <a:moveTo>
                  <a:pt x="1507" y="234"/>
                </a:moveTo>
                <a:lnTo>
                  <a:pt x="1500" y="240"/>
                </a:lnTo>
                <a:lnTo>
                  <a:pt x="1485" y="248"/>
                </a:lnTo>
                <a:lnTo>
                  <a:pt x="1476" y="252"/>
                </a:lnTo>
                <a:lnTo>
                  <a:pt x="1474" y="253"/>
                </a:lnTo>
                <a:lnTo>
                  <a:pt x="1472" y="252"/>
                </a:lnTo>
                <a:lnTo>
                  <a:pt x="1472" y="251"/>
                </a:lnTo>
                <a:lnTo>
                  <a:pt x="1472" y="250"/>
                </a:lnTo>
                <a:lnTo>
                  <a:pt x="1481" y="245"/>
                </a:lnTo>
                <a:lnTo>
                  <a:pt x="1496" y="238"/>
                </a:lnTo>
                <a:lnTo>
                  <a:pt x="1503" y="232"/>
                </a:lnTo>
                <a:lnTo>
                  <a:pt x="1505" y="232"/>
                </a:lnTo>
                <a:lnTo>
                  <a:pt x="1507" y="232"/>
                </a:lnTo>
                <a:lnTo>
                  <a:pt x="1509" y="233"/>
                </a:lnTo>
                <a:lnTo>
                  <a:pt x="1507" y="234"/>
                </a:lnTo>
                <a:lnTo>
                  <a:pt x="1507" y="234"/>
                </a:lnTo>
                <a:close/>
                <a:moveTo>
                  <a:pt x="1452" y="264"/>
                </a:moveTo>
                <a:lnTo>
                  <a:pt x="1434" y="271"/>
                </a:lnTo>
                <a:lnTo>
                  <a:pt x="1417" y="277"/>
                </a:lnTo>
                <a:lnTo>
                  <a:pt x="1413" y="277"/>
                </a:lnTo>
                <a:lnTo>
                  <a:pt x="1413" y="276"/>
                </a:lnTo>
                <a:lnTo>
                  <a:pt x="1411" y="275"/>
                </a:lnTo>
                <a:lnTo>
                  <a:pt x="1413" y="274"/>
                </a:lnTo>
                <a:lnTo>
                  <a:pt x="1432" y="268"/>
                </a:lnTo>
                <a:lnTo>
                  <a:pt x="1450" y="261"/>
                </a:lnTo>
                <a:lnTo>
                  <a:pt x="1452" y="261"/>
                </a:lnTo>
                <a:lnTo>
                  <a:pt x="1454" y="262"/>
                </a:lnTo>
                <a:lnTo>
                  <a:pt x="1454" y="263"/>
                </a:lnTo>
                <a:lnTo>
                  <a:pt x="1452" y="264"/>
                </a:lnTo>
                <a:lnTo>
                  <a:pt x="1452" y="264"/>
                </a:lnTo>
                <a:close/>
                <a:moveTo>
                  <a:pt x="1389" y="286"/>
                </a:moveTo>
                <a:lnTo>
                  <a:pt x="1369" y="292"/>
                </a:lnTo>
                <a:lnTo>
                  <a:pt x="1353" y="297"/>
                </a:lnTo>
                <a:lnTo>
                  <a:pt x="1349" y="297"/>
                </a:lnTo>
                <a:lnTo>
                  <a:pt x="1347" y="295"/>
                </a:lnTo>
                <a:lnTo>
                  <a:pt x="1347" y="294"/>
                </a:lnTo>
                <a:lnTo>
                  <a:pt x="1349" y="293"/>
                </a:lnTo>
                <a:lnTo>
                  <a:pt x="1349" y="293"/>
                </a:lnTo>
                <a:lnTo>
                  <a:pt x="1367" y="288"/>
                </a:lnTo>
                <a:lnTo>
                  <a:pt x="1388" y="282"/>
                </a:lnTo>
                <a:lnTo>
                  <a:pt x="1388" y="282"/>
                </a:lnTo>
                <a:lnTo>
                  <a:pt x="1389" y="282"/>
                </a:lnTo>
                <a:lnTo>
                  <a:pt x="1391" y="283"/>
                </a:lnTo>
                <a:lnTo>
                  <a:pt x="1391" y="283"/>
                </a:lnTo>
                <a:lnTo>
                  <a:pt x="1391" y="285"/>
                </a:lnTo>
                <a:lnTo>
                  <a:pt x="1389" y="286"/>
                </a:lnTo>
                <a:lnTo>
                  <a:pt x="1389" y="286"/>
                </a:lnTo>
                <a:close/>
                <a:moveTo>
                  <a:pt x="1325" y="303"/>
                </a:moveTo>
                <a:lnTo>
                  <a:pt x="1320" y="304"/>
                </a:lnTo>
                <a:lnTo>
                  <a:pt x="1292" y="310"/>
                </a:lnTo>
                <a:lnTo>
                  <a:pt x="1285" y="311"/>
                </a:lnTo>
                <a:lnTo>
                  <a:pt x="1283" y="311"/>
                </a:lnTo>
                <a:lnTo>
                  <a:pt x="1283" y="311"/>
                </a:lnTo>
                <a:lnTo>
                  <a:pt x="1281" y="310"/>
                </a:lnTo>
                <a:lnTo>
                  <a:pt x="1281" y="310"/>
                </a:lnTo>
                <a:lnTo>
                  <a:pt x="1281" y="309"/>
                </a:lnTo>
                <a:lnTo>
                  <a:pt x="1283" y="308"/>
                </a:lnTo>
                <a:lnTo>
                  <a:pt x="1290" y="306"/>
                </a:lnTo>
                <a:lnTo>
                  <a:pt x="1318" y="300"/>
                </a:lnTo>
                <a:lnTo>
                  <a:pt x="1322" y="299"/>
                </a:lnTo>
                <a:lnTo>
                  <a:pt x="1325" y="299"/>
                </a:lnTo>
                <a:lnTo>
                  <a:pt x="1325" y="300"/>
                </a:lnTo>
                <a:lnTo>
                  <a:pt x="1327" y="301"/>
                </a:lnTo>
                <a:lnTo>
                  <a:pt x="1325" y="303"/>
                </a:lnTo>
                <a:lnTo>
                  <a:pt x="1325" y="303"/>
                </a:lnTo>
                <a:lnTo>
                  <a:pt x="1325" y="303"/>
                </a:lnTo>
                <a:close/>
                <a:moveTo>
                  <a:pt x="1257" y="317"/>
                </a:moveTo>
                <a:lnTo>
                  <a:pt x="1235" y="321"/>
                </a:lnTo>
                <a:lnTo>
                  <a:pt x="1217" y="324"/>
                </a:lnTo>
                <a:lnTo>
                  <a:pt x="1215" y="324"/>
                </a:lnTo>
                <a:lnTo>
                  <a:pt x="1215" y="323"/>
                </a:lnTo>
                <a:lnTo>
                  <a:pt x="1213" y="323"/>
                </a:lnTo>
                <a:lnTo>
                  <a:pt x="1213" y="322"/>
                </a:lnTo>
                <a:lnTo>
                  <a:pt x="1213" y="322"/>
                </a:lnTo>
                <a:lnTo>
                  <a:pt x="1213" y="321"/>
                </a:lnTo>
                <a:lnTo>
                  <a:pt x="1215" y="320"/>
                </a:lnTo>
                <a:lnTo>
                  <a:pt x="1233" y="317"/>
                </a:lnTo>
                <a:lnTo>
                  <a:pt x="1255" y="314"/>
                </a:lnTo>
                <a:lnTo>
                  <a:pt x="1257" y="314"/>
                </a:lnTo>
                <a:lnTo>
                  <a:pt x="1257" y="314"/>
                </a:lnTo>
                <a:lnTo>
                  <a:pt x="1259" y="315"/>
                </a:lnTo>
                <a:lnTo>
                  <a:pt x="1259" y="316"/>
                </a:lnTo>
                <a:lnTo>
                  <a:pt x="1259" y="316"/>
                </a:lnTo>
                <a:lnTo>
                  <a:pt x="1257" y="317"/>
                </a:lnTo>
                <a:lnTo>
                  <a:pt x="1257" y="317"/>
                </a:lnTo>
                <a:close/>
                <a:moveTo>
                  <a:pt x="1188" y="328"/>
                </a:moveTo>
                <a:lnTo>
                  <a:pt x="1175" y="330"/>
                </a:lnTo>
                <a:lnTo>
                  <a:pt x="1149" y="334"/>
                </a:lnTo>
                <a:lnTo>
                  <a:pt x="1147" y="334"/>
                </a:lnTo>
                <a:lnTo>
                  <a:pt x="1145" y="334"/>
                </a:lnTo>
                <a:lnTo>
                  <a:pt x="1145" y="333"/>
                </a:lnTo>
                <a:lnTo>
                  <a:pt x="1145" y="332"/>
                </a:lnTo>
                <a:lnTo>
                  <a:pt x="1145" y="330"/>
                </a:lnTo>
                <a:lnTo>
                  <a:pt x="1147" y="330"/>
                </a:lnTo>
                <a:lnTo>
                  <a:pt x="1173" y="327"/>
                </a:lnTo>
                <a:lnTo>
                  <a:pt x="1188" y="324"/>
                </a:lnTo>
                <a:lnTo>
                  <a:pt x="1189" y="324"/>
                </a:lnTo>
                <a:lnTo>
                  <a:pt x="1191" y="326"/>
                </a:lnTo>
                <a:lnTo>
                  <a:pt x="1189" y="327"/>
                </a:lnTo>
                <a:lnTo>
                  <a:pt x="1189" y="328"/>
                </a:lnTo>
                <a:lnTo>
                  <a:pt x="1188" y="328"/>
                </a:lnTo>
                <a:lnTo>
                  <a:pt x="1188" y="328"/>
                </a:lnTo>
                <a:close/>
                <a:moveTo>
                  <a:pt x="1120" y="338"/>
                </a:moveTo>
                <a:lnTo>
                  <a:pt x="1109" y="339"/>
                </a:lnTo>
                <a:lnTo>
                  <a:pt x="1079" y="341"/>
                </a:lnTo>
                <a:lnTo>
                  <a:pt x="1077" y="341"/>
                </a:lnTo>
                <a:lnTo>
                  <a:pt x="1076" y="341"/>
                </a:lnTo>
                <a:lnTo>
                  <a:pt x="1076" y="340"/>
                </a:lnTo>
                <a:lnTo>
                  <a:pt x="1076" y="339"/>
                </a:lnTo>
                <a:lnTo>
                  <a:pt x="1076" y="339"/>
                </a:lnTo>
                <a:lnTo>
                  <a:pt x="1077" y="338"/>
                </a:lnTo>
                <a:lnTo>
                  <a:pt x="1107" y="335"/>
                </a:lnTo>
                <a:lnTo>
                  <a:pt x="1118" y="334"/>
                </a:lnTo>
                <a:lnTo>
                  <a:pt x="1120" y="334"/>
                </a:lnTo>
                <a:lnTo>
                  <a:pt x="1121" y="335"/>
                </a:lnTo>
                <a:lnTo>
                  <a:pt x="1121" y="335"/>
                </a:lnTo>
                <a:lnTo>
                  <a:pt x="1121" y="336"/>
                </a:lnTo>
                <a:lnTo>
                  <a:pt x="1120" y="336"/>
                </a:lnTo>
                <a:lnTo>
                  <a:pt x="1120" y="338"/>
                </a:lnTo>
                <a:lnTo>
                  <a:pt x="1120" y="338"/>
                </a:lnTo>
                <a:close/>
                <a:moveTo>
                  <a:pt x="1050" y="345"/>
                </a:moveTo>
                <a:lnTo>
                  <a:pt x="1039" y="345"/>
                </a:lnTo>
                <a:lnTo>
                  <a:pt x="1008" y="347"/>
                </a:lnTo>
                <a:lnTo>
                  <a:pt x="1008" y="347"/>
                </a:lnTo>
                <a:lnTo>
                  <a:pt x="1006" y="347"/>
                </a:lnTo>
                <a:lnTo>
                  <a:pt x="1006" y="346"/>
                </a:lnTo>
                <a:lnTo>
                  <a:pt x="1006" y="345"/>
                </a:lnTo>
                <a:lnTo>
                  <a:pt x="1006" y="345"/>
                </a:lnTo>
                <a:lnTo>
                  <a:pt x="1006" y="344"/>
                </a:lnTo>
                <a:lnTo>
                  <a:pt x="1008" y="344"/>
                </a:lnTo>
                <a:lnTo>
                  <a:pt x="1039" y="341"/>
                </a:lnTo>
                <a:lnTo>
                  <a:pt x="1048" y="340"/>
                </a:lnTo>
                <a:lnTo>
                  <a:pt x="1050" y="341"/>
                </a:lnTo>
                <a:lnTo>
                  <a:pt x="1052" y="342"/>
                </a:lnTo>
                <a:lnTo>
                  <a:pt x="1052" y="342"/>
                </a:lnTo>
                <a:lnTo>
                  <a:pt x="1052" y="344"/>
                </a:lnTo>
                <a:lnTo>
                  <a:pt x="1050" y="344"/>
                </a:lnTo>
                <a:lnTo>
                  <a:pt x="1050" y="345"/>
                </a:lnTo>
                <a:lnTo>
                  <a:pt x="1050" y="345"/>
                </a:lnTo>
                <a:close/>
                <a:moveTo>
                  <a:pt x="980" y="350"/>
                </a:moveTo>
                <a:lnTo>
                  <a:pt x="967" y="351"/>
                </a:lnTo>
                <a:lnTo>
                  <a:pt x="938" y="352"/>
                </a:lnTo>
                <a:lnTo>
                  <a:pt x="938" y="352"/>
                </a:lnTo>
                <a:lnTo>
                  <a:pt x="936" y="351"/>
                </a:lnTo>
                <a:lnTo>
                  <a:pt x="934" y="350"/>
                </a:lnTo>
                <a:lnTo>
                  <a:pt x="934" y="350"/>
                </a:lnTo>
                <a:lnTo>
                  <a:pt x="936" y="348"/>
                </a:lnTo>
                <a:lnTo>
                  <a:pt x="936" y="348"/>
                </a:lnTo>
                <a:lnTo>
                  <a:pt x="938" y="348"/>
                </a:lnTo>
                <a:lnTo>
                  <a:pt x="965" y="346"/>
                </a:lnTo>
                <a:lnTo>
                  <a:pt x="978" y="346"/>
                </a:lnTo>
                <a:lnTo>
                  <a:pt x="980" y="346"/>
                </a:lnTo>
                <a:lnTo>
                  <a:pt x="982" y="347"/>
                </a:lnTo>
                <a:lnTo>
                  <a:pt x="982" y="348"/>
                </a:lnTo>
                <a:lnTo>
                  <a:pt x="982" y="348"/>
                </a:lnTo>
                <a:lnTo>
                  <a:pt x="980" y="350"/>
                </a:lnTo>
                <a:lnTo>
                  <a:pt x="980" y="350"/>
                </a:lnTo>
                <a:close/>
                <a:moveTo>
                  <a:pt x="909" y="353"/>
                </a:moveTo>
                <a:lnTo>
                  <a:pt x="868" y="355"/>
                </a:lnTo>
                <a:lnTo>
                  <a:pt x="866" y="355"/>
                </a:lnTo>
                <a:lnTo>
                  <a:pt x="864" y="353"/>
                </a:lnTo>
                <a:lnTo>
                  <a:pt x="864" y="351"/>
                </a:lnTo>
                <a:lnTo>
                  <a:pt x="866" y="351"/>
                </a:lnTo>
                <a:lnTo>
                  <a:pt x="868" y="351"/>
                </a:lnTo>
                <a:lnTo>
                  <a:pt x="909" y="350"/>
                </a:lnTo>
                <a:lnTo>
                  <a:pt x="910" y="350"/>
                </a:lnTo>
                <a:lnTo>
                  <a:pt x="912" y="351"/>
                </a:lnTo>
                <a:lnTo>
                  <a:pt x="910" y="352"/>
                </a:lnTo>
                <a:lnTo>
                  <a:pt x="910" y="353"/>
                </a:lnTo>
                <a:lnTo>
                  <a:pt x="909" y="353"/>
                </a:lnTo>
                <a:lnTo>
                  <a:pt x="909" y="353"/>
                </a:lnTo>
                <a:close/>
                <a:moveTo>
                  <a:pt x="839" y="356"/>
                </a:moveTo>
                <a:lnTo>
                  <a:pt x="813" y="356"/>
                </a:lnTo>
                <a:lnTo>
                  <a:pt x="797" y="356"/>
                </a:lnTo>
                <a:lnTo>
                  <a:pt x="795" y="356"/>
                </a:lnTo>
                <a:lnTo>
                  <a:pt x="795" y="355"/>
                </a:lnTo>
                <a:lnTo>
                  <a:pt x="795" y="355"/>
                </a:lnTo>
                <a:lnTo>
                  <a:pt x="795" y="353"/>
                </a:lnTo>
                <a:lnTo>
                  <a:pt x="795" y="352"/>
                </a:lnTo>
                <a:lnTo>
                  <a:pt x="797" y="352"/>
                </a:lnTo>
                <a:lnTo>
                  <a:pt x="797" y="352"/>
                </a:lnTo>
                <a:lnTo>
                  <a:pt x="813" y="352"/>
                </a:lnTo>
                <a:lnTo>
                  <a:pt x="839" y="351"/>
                </a:lnTo>
                <a:lnTo>
                  <a:pt x="839" y="352"/>
                </a:lnTo>
                <a:lnTo>
                  <a:pt x="841" y="352"/>
                </a:lnTo>
                <a:lnTo>
                  <a:pt x="841" y="352"/>
                </a:lnTo>
                <a:lnTo>
                  <a:pt x="841" y="353"/>
                </a:lnTo>
                <a:lnTo>
                  <a:pt x="841" y="355"/>
                </a:lnTo>
                <a:lnTo>
                  <a:pt x="839" y="356"/>
                </a:lnTo>
                <a:lnTo>
                  <a:pt x="839" y="356"/>
                </a:lnTo>
                <a:lnTo>
                  <a:pt x="839" y="356"/>
                </a:lnTo>
                <a:close/>
                <a:moveTo>
                  <a:pt x="767" y="356"/>
                </a:moveTo>
                <a:lnTo>
                  <a:pt x="734" y="356"/>
                </a:lnTo>
                <a:lnTo>
                  <a:pt x="727" y="356"/>
                </a:lnTo>
                <a:lnTo>
                  <a:pt x="725" y="356"/>
                </a:lnTo>
                <a:lnTo>
                  <a:pt x="725" y="355"/>
                </a:lnTo>
                <a:lnTo>
                  <a:pt x="723" y="353"/>
                </a:lnTo>
                <a:lnTo>
                  <a:pt x="723" y="353"/>
                </a:lnTo>
                <a:lnTo>
                  <a:pt x="725" y="352"/>
                </a:lnTo>
                <a:lnTo>
                  <a:pt x="725" y="352"/>
                </a:lnTo>
                <a:lnTo>
                  <a:pt x="727" y="352"/>
                </a:lnTo>
                <a:lnTo>
                  <a:pt x="734" y="352"/>
                </a:lnTo>
                <a:lnTo>
                  <a:pt x="767" y="352"/>
                </a:lnTo>
                <a:lnTo>
                  <a:pt x="769" y="352"/>
                </a:lnTo>
                <a:lnTo>
                  <a:pt x="771" y="353"/>
                </a:lnTo>
                <a:lnTo>
                  <a:pt x="771" y="355"/>
                </a:lnTo>
                <a:lnTo>
                  <a:pt x="771" y="355"/>
                </a:lnTo>
                <a:lnTo>
                  <a:pt x="769" y="356"/>
                </a:lnTo>
                <a:lnTo>
                  <a:pt x="769" y="356"/>
                </a:lnTo>
                <a:lnTo>
                  <a:pt x="767" y="356"/>
                </a:lnTo>
                <a:lnTo>
                  <a:pt x="767" y="356"/>
                </a:lnTo>
                <a:close/>
                <a:moveTo>
                  <a:pt x="697" y="356"/>
                </a:moveTo>
                <a:lnTo>
                  <a:pt x="694" y="355"/>
                </a:lnTo>
                <a:lnTo>
                  <a:pt x="655" y="353"/>
                </a:lnTo>
                <a:lnTo>
                  <a:pt x="655" y="353"/>
                </a:lnTo>
                <a:lnTo>
                  <a:pt x="653" y="353"/>
                </a:lnTo>
                <a:lnTo>
                  <a:pt x="653" y="352"/>
                </a:lnTo>
                <a:lnTo>
                  <a:pt x="653" y="351"/>
                </a:lnTo>
                <a:lnTo>
                  <a:pt x="655" y="350"/>
                </a:lnTo>
                <a:lnTo>
                  <a:pt x="657" y="350"/>
                </a:lnTo>
                <a:lnTo>
                  <a:pt x="696" y="351"/>
                </a:lnTo>
                <a:lnTo>
                  <a:pt x="697" y="351"/>
                </a:lnTo>
                <a:lnTo>
                  <a:pt x="699" y="351"/>
                </a:lnTo>
                <a:lnTo>
                  <a:pt x="699" y="352"/>
                </a:lnTo>
                <a:lnTo>
                  <a:pt x="699" y="352"/>
                </a:lnTo>
                <a:lnTo>
                  <a:pt x="701" y="353"/>
                </a:lnTo>
                <a:lnTo>
                  <a:pt x="699" y="355"/>
                </a:lnTo>
                <a:lnTo>
                  <a:pt x="699" y="355"/>
                </a:lnTo>
                <a:lnTo>
                  <a:pt x="697" y="356"/>
                </a:lnTo>
                <a:lnTo>
                  <a:pt x="697" y="356"/>
                </a:lnTo>
                <a:close/>
                <a:moveTo>
                  <a:pt x="626" y="352"/>
                </a:moveTo>
                <a:lnTo>
                  <a:pt x="619" y="352"/>
                </a:lnTo>
                <a:lnTo>
                  <a:pt x="585" y="351"/>
                </a:lnTo>
                <a:lnTo>
                  <a:pt x="584" y="350"/>
                </a:lnTo>
                <a:lnTo>
                  <a:pt x="584" y="350"/>
                </a:lnTo>
                <a:lnTo>
                  <a:pt x="584" y="348"/>
                </a:lnTo>
                <a:lnTo>
                  <a:pt x="584" y="347"/>
                </a:lnTo>
                <a:lnTo>
                  <a:pt x="584" y="347"/>
                </a:lnTo>
                <a:lnTo>
                  <a:pt x="585" y="347"/>
                </a:lnTo>
                <a:lnTo>
                  <a:pt x="619" y="348"/>
                </a:lnTo>
                <a:lnTo>
                  <a:pt x="628" y="348"/>
                </a:lnTo>
                <a:lnTo>
                  <a:pt x="628" y="348"/>
                </a:lnTo>
                <a:lnTo>
                  <a:pt x="630" y="350"/>
                </a:lnTo>
                <a:lnTo>
                  <a:pt x="630" y="351"/>
                </a:lnTo>
                <a:lnTo>
                  <a:pt x="630" y="352"/>
                </a:lnTo>
                <a:lnTo>
                  <a:pt x="630" y="352"/>
                </a:lnTo>
                <a:lnTo>
                  <a:pt x="628" y="352"/>
                </a:lnTo>
                <a:lnTo>
                  <a:pt x="626" y="352"/>
                </a:lnTo>
                <a:lnTo>
                  <a:pt x="626" y="352"/>
                </a:lnTo>
                <a:close/>
                <a:moveTo>
                  <a:pt x="556" y="348"/>
                </a:moveTo>
                <a:lnTo>
                  <a:pt x="543" y="348"/>
                </a:lnTo>
                <a:lnTo>
                  <a:pt x="516" y="346"/>
                </a:lnTo>
                <a:lnTo>
                  <a:pt x="514" y="345"/>
                </a:lnTo>
                <a:lnTo>
                  <a:pt x="512" y="345"/>
                </a:lnTo>
                <a:lnTo>
                  <a:pt x="512" y="344"/>
                </a:lnTo>
                <a:lnTo>
                  <a:pt x="514" y="342"/>
                </a:lnTo>
                <a:lnTo>
                  <a:pt x="516" y="342"/>
                </a:lnTo>
                <a:lnTo>
                  <a:pt x="516" y="342"/>
                </a:lnTo>
                <a:lnTo>
                  <a:pt x="545" y="344"/>
                </a:lnTo>
                <a:lnTo>
                  <a:pt x="556" y="345"/>
                </a:lnTo>
                <a:lnTo>
                  <a:pt x="558" y="346"/>
                </a:lnTo>
                <a:lnTo>
                  <a:pt x="560" y="347"/>
                </a:lnTo>
                <a:lnTo>
                  <a:pt x="558" y="348"/>
                </a:lnTo>
                <a:lnTo>
                  <a:pt x="558" y="348"/>
                </a:lnTo>
                <a:lnTo>
                  <a:pt x="556" y="348"/>
                </a:lnTo>
                <a:lnTo>
                  <a:pt x="556" y="348"/>
                </a:lnTo>
                <a:close/>
                <a:moveTo>
                  <a:pt x="486" y="344"/>
                </a:moveTo>
                <a:lnTo>
                  <a:pt x="474" y="342"/>
                </a:lnTo>
                <a:lnTo>
                  <a:pt x="446" y="339"/>
                </a:lnTo>
                <a:lnTo>
                  <a:pt x="444" y="339"/>
                </a:lnTo>
                <a:lnTo>
                  <a:pt x="442" y="338"/>
                </a:lnTo>
                <a:lnTo>
                  <a:pt x="442" y="338"/>
                </a:lnTo>
                <a:lnTo>
                  <a:pt x="444" y="336"/>
                </a:lnTo>
                <a:lnTo>
                  <a:pt x="444" y="335"/>
                </a:lnTo>
                <a:lnTo>
                  <a:pt x="446" y="335"/>
                </a:lnTo>
                <a:lnTo>
                  <a:pt x="446" y="335"/>
                </a:lnTo>
                <a:lnTo>
                  <a:pt x="474" y="339"/>
                </a:lnTo>
                <a:lnTo>
                  <a:pt x="486" y="340"/>
                </a:lnTo>
                <a:lnTo>
                  <a:pt x="488" y="340"/>
                </a:lnTo>
                <a:lnTo>
                  <a:pt x="490" y="341"/>
                </a:lnTo>
                <a:lnTo>
                  <a:pt x="490" y="341"/>
                </a:lnTo>
                <a:lnTo>
                  <a:pt x="490" y="342"/>
                </a:lnTo>
                <a:lnTo>
                  <a:pt x="488" y="342"/>
                </a:lnTo>
                <a:lnTo>
                  <a:pt x="488" y="344"/>
                </a:lnTo>
                <a:lnTo>
                  <a:pt x="486" y="344"/>
                </a:lnTo>
                <a:lnTo>
                  <a:pt x="486" y="344"/>
                </a:lnTo>
                <a:close/>
                <a:moveTo>
                  <a:pt x="417" y="336"/>
                </a:moveTo>
                <a:lnTo>
                  <a:pt x="406" y="335"/>
                </a:lnTo>
                <a:lnTo>
                  <a:pt x="376" y="330"/>
                </a:lnTo>
                <a:lnTo>
                  <a:pt x="374" y="330"/>
                </a:lnTo>
                <a:lnTo>
                  <a:pt x="374" y="330"/>
                </a:lnTo>
                <a:lnTo>
                  <a:pt x="374" y="328"/>
                </a:lnTo>
                <a:lnTo>
                  <a:pt x="374" y="327"/>
                </a:lnTo>
                <a:lnTo>
                  <a:pt x="378" y="327"/>
                </a:lnTo>
                <a:lnTo>
                  <a:pt x="407" y="330"/>
                </a:lnTo>
                <a:lnTo>
                  <a:pt x="418" y="332"/>
                </a:lnTo>
                <a:lnTo>
                  <a:pt x="420" y="333"/>
                </a:lnTo>
                <a:lnTo>
                  <a:pt x="420" y="334"/>
                </a:lnTo>
                <a:lnTo>
                  <a:pt x="420" y="334"/>
                </a:lnTo>
                <a:lnTo>
                  <a:pt x="420" y="335"/>
                </a:lnTo>
                <a:lnTo>
                  <a:pt x="418" y="335"/>
                </a:lnTo>
                <a:lnTo>
                  <a:pt x="418" y="336"/>
                </a:lnTo>
                <a:lnTo>
                  <a:pt x="417" y="336"/>
                </a:lnTo>
                <a:lnTo>
                  <a:pt x="417" y="336"/>
                </a:lnTo>
                <a:close/>
                <a:moveTo>
                  <a:pt x="347" y="327"/>
                </a:moveTo>
                <a:lnTo>
                  <a:pt x="341" y="326"/>
                </a:lnTo>
                <a:lnTo>
                  <a:pt x="312" y="321"/>
                </a:lnTo>
                <a:lnTo>
                  <a:pt x="306" y="321"/>
                </a:lnTo>
                <a:lnTo>
                  <a:pt x="306" y="320"/>
                </a:lnTo>
                <a:lnTo>
                  <a:pt x="305" y="318"/>
                </a:lnTo>
                <a:lnTo>
                  <a:pt x="305" y="318"/>
                </a:lnTo>
                <a:lnTo>
                  <a:pt x="306" y="317"/>
                </a:lnTo>
                <a:lnTo>
                  <a:pt x="306" y="317"/>
                </a:lnTo>
                <a:lnTo>
                  <a:pt x="308" y="316"/>
                </a:lnTo>
                <a:lnTo>
                  <a:pt x="308" y="316"/>
                </a:lnTo>
                <a:lnTo>
                  <a:pt x="314" y="317"/>
                </a:lnTo>
                <a:lnTo>
                  <a:pt x="343" y="322"/>
                </a:lnTo>
                <a:lnTo>
                  <a:pt x="349" y="323"/>
                </a:lnTo>
                <a:lnTo>
                  <a:pt x="351" y="323"/>
                </a:lnTo>
                <a:lnTo>
                  <a:pt x="351" y="323"/>
                </a:lnTo>
                <a:lnTo>
                  <a:pt x="351" y="324"/>
                </a:lnTo>
                <a:lnTo>
                  <a:pt x="351" y="326"/>
                </a:lnTo>
                <a:lnTo>
                  <a:pt x="351" y="326"/>
                </a:lnTo>
                <a:lnTo>
                  <a:pt x="349" y="327"/>
                </a:lnTo>
                <a:lnTo>
                  <a:pt x="347" y="327"/>
                </a:lnTo>
                <a:lnTo>
                  <a:pt x="347" y="327"/>
                </a:lnTo>
                <a:close/>
                <a:moveTo>
                  <a:pt x="279" y="315"/>
                </a:moveTo>
                <a:lnTo>
                  <a:pt x="255" y="310"/>
                </a:lnTo>
                <a:lnTo>
                  <a:pt x="240" y="308"/>
                </a:lnTo>
                <a:lnTo>
                  <a:pt x="239" y="306"/>
                </a:lnTo>
                <a:lnTo>
                  <a:pt x="239" y="306"/>
                </a:lnTo>
                <a:lnTo>
                  <a:pt x="237" y="305"/>
                </a:lnTo>
                <a:lnTo>
                  <a:pt x="239" y="305"/>
                </a:lnTo>
                <a:lnTo>
                  <a:pt x="239" y="304"/>
                </a:lnTo>
                <a:lnTo>
                  <a:pt x="240" y="303"/>
                </a:lnTo>
                <a:lnTo>
                  <a:pt x="242" y="303"/>
                </a:lnTo>
                <a:lnTo>
                  <a:pt x="257" y="306"/>
                </a:lnTo>
                <a:lnTo>
                  <a:pt x="281" y="311"/>
                </a:lnTo>
                <a:lnTo>
                  <a:pt x="283" y="312"/>
                </a:lnTo>
                <a:lnTo>
                  <a:pt x="283" y="312"/>
                </a:lnTo>
                <a:lnTo>
                  <a:pt x="283" y="314"/>
                </a:lnTo>
                <a:lnTo>
                  <a:pt x="281" y="315"/>
                </a:lnTo>
                <a:lnTo>
                  <a:pt x="279" y="315"/>
                </a:lnTo>
                <a:lnTo>
                  <a:pt x="279" y="315"/>
                </a:lnTo>
                <a:close/>
                <a:moveTo>
                  <a:pt x="211" y="300"/>
                </a:moveTo>
                <a:lnTo>
                  <a:pt x="202" y="298"/>
                </a:lnTo>
                <a:lnTo>
                  <a:pt x="178" y="292"/>
                </a:lnTo>
                <a:lnTo>
                  <a:pt x="174" y="291"/>
                </a:lnTo>
                <a:lnTo>
                  <a:pt x="172" y="289"/>
                </a:lnTo>
                <a:lnTo>
                  <a:pt x="172" y="288"/>
                </a:lnTo>
                <a:lnTo>
                  <a:pt x="174" y="287"/>
                </a:lnTo>
                <a:lnTo>
                  <a:pt x="174" y="287"/>
                </a:lnTo>
                <a:lnTo>
                  <a:pt x="176" y="287"/>
                </a:lnTo>
                <a:lnTo>
                  <a:pt x="180" y="288"/>
                </a:lnTo>
                <a:lnTo>
                  <a:pt x="204" y="294"/>
                </a:lnTo>
                <a:lnTo>
                  <a:pt x="215" y="297"/>
                </a:lnTo>
                <a:lnTo>
                  <a:pt x="215" y="298"/>
                </a:lnTo>
                <a:lnTo>
                  <a:pt x="217" y="299"/>
                </a:lnTo>
                <a:lnTo>
                  <a:pt x="215" y="300"/>
                </a:lnTo>
                <a:lnTo>
                  <a:pt x="213" y="300"/>
                </a:lnTo>
                <a:lnTo>
                  <a:pt x="211" y="300"/>
                </a:lnTo>
                <a:lnTo>
                  <a:pt x="211" y="300"/>
                </a:lnTo>
                <a:close/>
                <a:moveTo>
                  <a:pt x="147" y="282"/>
                </a:moveTo>
                <a:lnTo>
                  <a:pt x="132" y="279"/>
                </a:lnTo>
                <a:lnTo>
                  <a:pt x="112" y="271"/>
                </a:lnTo>
                <a:lnTo>
                  <a:pt x="110" y="270"/>
                </a:lnTo>
                <a:lnTo>
                  <a:pt x="108" y="269"/>
                </a:lnTo>
                <a:lnTo>
                  <a:pt x="108" y="268"/>
                </a:lnTo>
                <a:lnTo>
                  <a:pt x="110" y="267"/>
                </a:lnTo>
                <a:lnTo>
                  <a:pt x="112" y="267"/>
                </a:lnTo>
                <a:lnTo>
                  <a:pt x="114" y="267"/>
                </a:lnTo>
                <a:lnTo>
                  <a:pt x="116" y="268"/>
                </a:lnTo>
                <a:lnTo>
                  <a:pt x="136" y="275"/>
                </a:lnTo>
                <a:lnTo>
                  <a:pt x="149" y="279"/>
                </a:lnTo>
                <a:lnTo>
                  <a:pt x="150" y="280"/>
                </a:lnTo>
                <a:lnTo>
                  <a:pt x="150" y="282"/>
                </a:lnTo>
                <a:lnTo>
                  <a:pt x="149" y="282"/>
                </a:lnTo>
                <a:lnTo>
                  <a:pt x="147" y="282"/>
                </a:lnTo>
                <a:lnTo>
                  <a:pt x="147" y="282"/>
                </a:lnTo>
                <a:lnTo>
                  <a:pt x="147" y="282"/>
                </a:lnTo>
                <a:close/>
                <a:moveTo>
                  <a:pt x="84" y="259"/>
                </a:moveTo>
                <a:lnTo>
                  <a:pt x="77" y="256"/>
                </a:lnTo>
                <a:lnTo>
                  <a:pt x="61" y="248"/>
                </a:lnTo>
                <a:lnTo>
                  <a:pt x="53" y="242"/>
                </a:lnTo>
                <a:lnTo>
                  <a:pt x="51" y="241"/>
                </a:lnTo>
                <a:lnTo>
                  <a:pt x="51" y="240"/>
                </a:lnTo>
                <a:lnTo>
                  <a:pt x="53" y="240"/>
                </a:lnTo>
                <a:lnTo>
                  <a:pt x="55" y="239"/>
                </a:lnTo>
                <a:lnTo>
                  <a:pt x="55" y="240"/>
                </a:lnTo>
                <a:lnTo>
                  <a:pt x="57" y="240"/>
                </a:lnTo>
                <a:lnTo>
                  <a:pt x="64" y="245"/>
                </a:lnTo>
                <a:lnTo>
                  <a:pt x="81" y="252"/>
                </a:lnTo>
                <a:lnTo>
                  <a:pt x="88" y="257"/>
                </a:lnTo>
                <a:lnTo>
                  <a:pt x="90" y="258"/>
                </a:lnTo>
                <a:lnTo>
                  <a:pt x="90" y="258"/>
                </a:lnTo>
                <a:lnTo>
                  <a:pt x="90" y="259"/>
                </a:lnTo>
                <a:lnTo>
                  <a:pt x="88" y="259"/>
                </a:lnTo>
                <a:lnTo>
                  <a:pt x="86" y="259"/>
                </a:lnTo>
                <a:lnTo>
                  <a:pt x="84" y="259"/>
                </a:lnTo>
                <a:lnTo>
                  <a:pt x="84" y="259"/>
                </a:lnTo>
                <a:close/>
                <a:moveTo>
                  <a:pt x="31" y="229"/>
                </a:moveTo>
                <a:lnTo>
                  <a:pt x="24" y="223"/>
                </a:lnTo>
                <a:lnTo>
                  <a:pt x="16" y="215"/>
                </a:lnTo>
                <a:lnTo>
                  <a:pt x="9" y="206"/>
                </a:lnTo>
                <a:lnTo>
                  <a:pt x="9" y="205"/>
                </a:lnTo>
                <a:lnTo>
                  <a:pt x="9" y="204"/>
                </a:lnTo>
                <a:lnTo>
                  <a:pt x="11" y="203"/>
                </a:lnTo>
                <a:lnTo>
                  <a:pt x="11" y="203"/>
                </a:lnTo>
                <a:lnTo>
                  <a:pt x="13" y="203"/>
                </a:lnTo>
                <a:lnTo>
                  <a:pt x="15" y="204"/>
                </a:lnTo>
                <a:lnTo>
                  <a:pt x="20" y="212"/>
                </a:lnTo>
                <a:lnTo>
                  <a:pt x="29" y="221"/>
                </a:lnTo>
                <a:lnTo>
                  <a:pt x="37" y="227"/>
                </a:lnTo>
                <a:lnTo>
                  <a:pt x="37" y="227"/>
                </a:lnTo>
                <a:lnTo>
                  <a:pt x="37" y="228"/>
                </a:lnTo>
                <a:lnTo>
                  <a:pt x="37" y="229"/>
                </a:lnTo>
                <a:lnTo>
                  <a:pt x="33" y="229"/>
                </a:lnTo>
                <a:lnTo>
                  <a:pt x="31" y="229"/>
                </a:lnTo>
                <a:lnTo>
                  <a:pt x="31" y="2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98800" y="4940280"/>
            <a:ext cx="1401480" cy="461880"/>
          </a:xfrm>
          <a:custGeom>
            <a:avLst/>
            <a:gdLst/>
            <a:ahLst/>
            <a:rect l="l" t="t" r="r" b="b"/>
            <a:pathLst>
              <a:path w="1768" h="582">
                <a:moveTo>
                  <a:pt x="0" y="301"/>
                </a:moveTo>
                <a:lnTo>
                  <a:pt x="0" y="290"/>
                </a:lnTo>
                <a:lnTo>
                  <a:pt x="2" y="276"/>
                </a:lnTo>
                <a:lnTo>
                  <a:pt x="2" y="274"/>
                </a:lnTo>
                <a:lnTo>
                  <a:pt x="2" y="273"/>
                </a:lnTo>
                <a:lnTo>
                  <a:pt x="6" y="272"/>
                </a:lnTo>
                <a:lnTo>
                  <a:pt x="8" y="273"/>
                </a:lnTo>
                <a:lnTo>
                  <a:pt x="8" y="273"/>
                </a:lnTo>
                <a:lnTo>
                  <a:pt x="8" y="274"/>
                </a:lnTo>
                <a:lnTo>
                  <a:pt x="8" y="276"/>
                </a:lnTo>
                <a:lnTo>
                  <a:pt x="6" y="290"/>
                </a:lnTo>
                <a:lnTo>
                  <a:pt x="8" y="301"/>
                </a:lnTo>
                <a:lnTo>
                  <a:pt x="6" y="302"/>
                </a:lnTo>
                <a:lnTo>
                  <a:pt x="6" y="302"/>
                </a:lnTo>
                <a:lnTo>
                  <a:pt x="6" y="303"/>
                </a:lnTo>
                <a:lnTo>
                  <a:pt x="4" y="303"/>
                </a:lnTo>
                <a:lnTo>
                  <a:pt x="2" y="303"/>
                </a:lnTo>
                <a:lnTo>
                  <a:pt x="2" y="302"/>
                </a:lnTo>
                <a:lnTo>
                  <a:pt x="0" y="302"/>
                </a:lnTo>
                <a:lnTo>
                  <a:pt x="0" y="301"/>
                </a:lnTo>
                <a:lnTo>
                  <a:pt x="0" y="301"/>
                </a:lnTo>
                <a:close/>
                <a:moveTo>
                  <a:pt x="8" y="255"/>
                </a:moveTo>
                <a:lnTo>
                  <a:pt x="11" y="245"/>
                </a:lnTo>
                <a:lnTo>
                  <a:pt x="19" y="231"/>
                </a:lnTo>
                <a:lnTo>
                  <a:pt x="20" y="229"/>
                </a:lnTo>
                <a:lnTo>
                  <a:pt x="22" y="227"/>
                </a:lnTo>
                <a:lnTo>
                  <a:pt x="22" y="227"/>
                </a:lnTo>
                <a:lnTo>
                  <a:pt x="24" y="229"/>
                </a:lnTo>
                <a:lnTo>
                  <a:pt x="24" y="229"/>
                </a:lnTo>
                <a:lnTo>
                  <a:pt x="26" y="229"/>
                </a:lnTo>
                <a:lnTo>
                  <a:pt x="26" y="231"/>
                </a:lnTo>
                <a:lnTo>
                  <a:pt x="24" y="232"/>
                </a:lnTo>
                <a:lnTo>
                  <a:pt x="17" y="247"/>
                </a:lnTo>
                <a:lnTo>
                  <a:pt x="13" y="256"/>
                </a:lnTo>
                <a:lnTo>
                  <a:pt x="11" y="256"/>
                </a:lnTo>
                <a:lnTo>
                  <a:pt x="11" y="258"/>
                </a:lnTo>
                <a:lnTo>
                  <a:pt x="9" y="258"/>
                </a:lnTo>
                <a:lnTo>
                  <a:pt x="9" y="258"/>
                </a:lnTo>
                <a:lnTo>
                  <a:pt x="8" y="256"/>
                </a:lnTo>
                <a:lnTo>
                  <a:pt x="8" y="256"/>
                </a:lnTo>
                <a:lnTo>
                  <a:pt x="6" y="255"/>
                </a:lnTo>
                <a:lnTo>
                  <a:pt x="8" y="255"/>
                </a:lnTo>
                <a:lnTo>
                  <a:pt x="8" y="255"/>
                </a:lnTo>
                <a:close/>
                <a:moveTo>
                  <a:pt x="33" y="212"/>
                </a:moveTo>
                <a:lnTo>
                  <a:pt x="41" y="203"/>
                </a:lnTo>
                <a:lnTo>
                  <a:pt x="53" y="190"/>
                </a:lnTo>
                <a:lnTo>
                  <a:pt x="55" y="189"/>
                </a:lnTo>
                <a:lnTo>
                  <a:pt x="55" y="188"/>
                </a:lnTo>
                <a:lnTo>
                  <a:pt x="57" y="188"/>
                </a:lnTo>
                <a:lnTo>
                  <a:pt x="59" y="189"/>
                </a:lnTo>
                <a:lnTo>
                  <a:pt x="61" y="189"/>
                </a:lnTo>
                <a:lnTo>
                  <a:pt x="61" y="190"/>
                </a:lnTo>
                <a:lnTo>
                  <a:pt x="61" y="191"/>
                </a:lnTo>
                <a:lnTo>
                  <a:pt x="59" y="192"/>
                </a:lnTo>
                <a:lnTo>
                  <a:pt x="46" y="206"/>
                </a:lnTo>
                <a:lnTo>
                  <a:pt x="39" y="213"/>
                </a:lnTo>
                <a:lnTo>
                  <a:pt x="37" y="214"/>
                </a:lnTo>
                <a:lnTo>
                  <a:pt x="37" y="214"/>
                </a:lnTo>
                <a:lnTo>
                  <a:pt x="35" y="214"/>
                </a:lnTo>
                <a:lnTo>
                  <a:pt x="33" y="214"/>
                </a:lnTo>
                <a:lnTo>
                  <a:pt x="33" y="213"/>
                </a:lnTo>
                <a:lnTo>
                  <a:pt x="33" y="212"/>
                </a:lnTo>
                <a:lnTo>
                  <a:pt x="33" y="212"/>
                </a:lnTo>
                <a:lnTo>
                  <a:pt x="33" y="212"/>
                </a:lnTo>
                <a:close/>
                <a:moveTo>
                  <a:pt x="74" y="173"/>
                </a:moveTo>
                <a:lnTo>
                  <a:pt x="88" y="164"/>
                </a:lnTo>
                <a:lnTo>
                  <a:pt x="103" y="154"/>
                </a:lnTo>
                <a:lnTo>
                  <a:pt x="105" y="154"/>
                </a:lnTo>
                <a:lnTo>
                  <a:pt x="107" y="154"/>
                </a:lnTo>
                <a:lnTo>
                  <a:pt x="107" y="155"/>
                </a:lnTo>
                <a:lnTo>
                  <a:pt x="107" y="156"/>
                </a:lnTo>
                <a:lnTo>
                  <a:pt x="92" y="166"/>
                </a:lnTo>
                <a:lnTo>
                  <a:pt x="79" y="177"/>
                </a:lnTo>
                <a:lnTo>
                  <a:pt x="75" y="177"/>
                </a:lnTo>
                <a:lnTo>
                  <a:pt x="74" y="177"/>
                </a:lnTo>
                <a:lnTo>
                  <a:pt x="74" y="176"/>
                </a:lnTo>
                <a:lnTo>
                  <a:pt x="74" y="174"/>
                </a:lnTo>
                <a:lnTo>
                  <a:pt x="74" y="173"/>
                </a:lnTo>
                <a:lnTo>
                  <a:pt x="74" y="173"/>
                </a:lnTo>
                <a:close/>
                <a:moveTo>
                  <a:pt x="125" y="141"/>
                </a:moveTo>
                <a:lnTo>
                  <a:pt x="129" y="139"/>
                </a:lnTo>
                <a:lnTo>
                  <a:pt x="153" y="127"/>
                </a:lnTo>
                <a:lnTo>
                  <a:pt x="158" y="125"/>
                </a:lnTo>
                <a:lnTo>
                  <a:pt x="158" y="124"/>
                </a:lnTo>
                <a:lnTo>
                  <a:pt x="160" y="124"/>
                </a:lnTo>
                <a:lnTo>
                  <a:pt x="162" y="125"/>
                </a:lnTo>
                <a:lnTo>
                  <a:pt x="162" y="125"/>
                </a:lnTo>
                <a:lnTo>
                  <a:pt x="162" y="126"/>
                </a:lnTo>
                <a:lnTo>
                  <a:pt x="160" y="127"/>
                </a:lnTo>
                <a:lnTo>
                  <a:pt x="154" y="130"/>
                </a:lnTo>
                <a:lnTo>
                  <a:pt x="132" y="142"/>
                </a:lnTo>
                <a:lnTo>
                  <a:pt x="129" y="144"/>
                </a:lnTo>
                <a:lnTo>
                  <a:pt x="127" y="144"/>
                </a:lnTo>
                <a:lnTo>
                  <a:pt x="125" y="144"/>
                </a:lnTo>
                <a:lnTo>
                  <a:pt x="125" y="144"/>
                </a:lnTo>
                <a:lnTo>
                  <a:pt x="123" y="142"/>
                </a:lnTo>
                <a:lnTo>
                  <a:pt x="123" y="142"/>
                </a:lnTo>
                <a:lnTo>
                  <a:pt x="125" y="141"/>
                </a:lnTo>
                <a:lnTo>
                  <a:pt x="125" y="141"/>
                </a:lnTo>
                <a:close/>
                <a:moveTo>
                  <a:pt x="182" y="114"/>
                </a:moveTo>
                <a:lnTo>
                  <a:pt x="202" y="104"/>
                </a:lnTo>
                <a:lnTo>
                  <a:pt x="217" y="100"/>
                </a:lnTo>
                <a:lnTo>
                  <a:pt x="219" y="100"/>
                </a:lnTo>
                <a:lnTo>
                  <a:pt x="219" y="100"/>
                </a:lnTo>
                <a:lnTo>
                  <a:pt x="220" y="100"/>
                </a:lnTo>
                <a:lnTo>
                  <a:pt x="220" y="100"/>
                </a:lnTo>
                <a:lnTo>
                  <a:pt x="220" y="101"/>
                </a:lnTo>
                <a:lnTo>
                  <a:pt x="220" y="101"/>
                </a:lnTo>
                <a:lnTo>
                  <a:pt x="220" y="103"/>
                </a:lnTo>
                <a:lnTo>
                  <a:pt x="206" y="108"/>
                </a:lnTo>
                <a:lnTo>
                  <a:pt x="186" y="116"/>
                </a:lnTo>
                <a:lnTo>
                  <a:pt x="184" y="116"/>
                </a:lnTo>
                <a:lnTo>
                  <a:pt x="182" y="116"/>
                </a:lnTo>
                <a:lnTo>
                  <a:pt x="180" y="116"/>
                </a:lnTo>
                <a:lnTo>
                  <a:pt x="180" y="115"/>
                </a:lnTo>
                <a:lnTo>
                  <a:pt x="180" y="114"/>
                </a:lnTo>
                <a:lnTo>
                  <a:pt x="182" y="114"/>
                </a:lnTo>
                <a:lnTo>
                  <a:pt x="182" y="114"/>
                </a:lnTo>
                <a:close/>
                <a:moveTo>
                  <a:pt x="243" y="90"/>
                </a:moveTo>
                <a:lnTo>
                  <a:pt x="259" y="84"/>
                </a:lnTo>
                <a:lnTo>
                  <a:pt x="279" y="78"/>
                </a:lnTo>
                <a:lnTo>
                  <a:pt x="281" y="78"/>
                </a:lnTo>
                <a:lnTo>
                  <a:pt x="283" y="79"/>
                </a:lnTo>
                <a:lnTo>
                  <a:pt x="283" y="80"/>
                </a:lnTo>
                <a:lnTo>
                  <a:pt x="283" y="82"/>
                </a:lnTo>
                <a:lnTo>
                  <a:pt x="263" y="88"/>
                </a:lnTo>
                <a:lnTo>
                  <a:pt x="246" y="94"/>
                </a:lnTo>
                <a:lnTo>
                  <a:pt x="243" y="94"/>
                </a:lnTo>
                <a:lnTo>
                  <a:pt x="241" y="92"/>
                </a:lnTo>
                <a:lnTo>
                  <a:pt x="241" y="91"/>
                </a:lnTo>
                <a:lnTo>
                  <a:pt x="243" y="90"/>
                </a:lnTo>
                <a:lnTo>
                  <a:pt x="243" y="90"/>
                </a:lnTo>
                <a:close/>
                <a:moveTo>
                  <a:pt x="307" y="69"/>
                </a:moveTo>
                <a:lnTo>
                  <a:pt x="323" y="66"/>
                </a:lnTo>
                <a:lnTo>
                  <a:pt x="345" y="60"/>
                </a:lnTo>
                <a:lnTo>
                  <a:pt x="347" y="60"/>
                </a:lnTo>
                <a:lnTo>
                  <a:pt x="347" y="60"/>
                </a:lnTo>
                <a:lnTo>
                  <a:pt x="349" y="61"/>
                </a:lnTo>
                <a:lnTo>
                  <a:pt x="349" y="61"/>
                </a:lnTo>
                <a:lnTo>
                  <a:pt x="349" y="62"/>
                </a:lnTo>
                <a:lnTo>
                  <a:pt x="347" y="62"/>
                </a:lnTo>
                <a:lnTo>
                  <a:pt x="347" y="63"/>
                </a:lnTo>
                <a:lnTo>
                  <a:pt x="325" y="69"/>
                </a:lnTo>
                <a:lnTo>
                  <a:pt x="309" y="73"/>
                </a:lnTo>
                <a:lnTo>
                  <a:pt x="307" y="73"/>
                </a:lnTo>
                <a:lnTo>
                  <a:pt x="305" y="73"/>
                </a:lnTo>
                <a:lnTo>
                  <a:pt x="305" y="72"/>
                </a:lnTo>
                <a:lnTo>
                  <a:pt x="305" y="72"/>
                </a:lnTo>
                <a:lnTo>
                  <a:pt x="305" y="71"/>
                </a:lnTo>
                <a:lnTo>
                  <a:pt x="305" y="71"/>
                </a:lnTo>
                <a:lnTo>
                  <a:pt x="307" y="69"/>
                </a:lnTo>
                <a:lnTo>
                  <a:pt x="307" y="69"/>
                </a:lnTo>
                <a:close/>
                <a:moveTo>
                  <a:pt x="373" y="53"/>
                </a:moveTo>
                <a:lnTo>
                  <a:pt x="391" y="49"/>
                </a:lnTo>
                <a:lnTo>
                  <a:pt x="411" y="44"/>
                </a:lnTo>
                <a:lnTo>
                  <a:pt x="411" y="44"/>
                </a:lnTo>
                <a:lnTo>
                  <a:pt x="413" y="44"/>
                </a:lnTo>
                <a:lnTo>
                  <a:pt x="415" y="45"/>
                </a:lnTo>
                <a:lnTo>
                  <a:pt x="415" y="47"/>
                </a:lnTo>
                <a:lnTo>
                  <a:pt x="415" y="47"/>
                </a:lnTo>
                <a:lnTo>
                  <a:pt x="413" y="48"/>
                </a:lnTo>
                <a:lnTo>
                  <a:pt x="413" y="48"/>
                </a:lnTo>
                <a:lnTo>
                  <a:pt x="393" y="53"/>
                </a:lnTo>
                <a:lnTo>
                  <a:pt x="375" y="56"/>
                </a:lnTo>
                <a:lnTo>
                  <a:pt x="373" y="56"/>
                </a:lnTo>
                <a:lnTo>
                  <a:pt x="371" y="56"/>
                </a:lnTo>
                <a:lnTo>
                  <a:pt x="371" y="56"/>
                </a:lnTo>
                <a:lnTo>
                  <a:pt x="371" y="55"/>
                </a:lnTo>
                <a:lnTo>
                  <a:pt x="369" y="55"/>
                </a:lnTo>
                <a:lnTo>
                  <a:pt x="371" y="54"/>
                </a:lnTo>
                <a:lnTo>
                  <a:pt x="373" y="53"/>
                </a:lnTo>
                <a:lnTo>
                  <a:pt x="373" y="53"/>
                </a:lnTo>
                <a:close/>
                <a:moveTo>
                  <a:pt x="439" y="38"/>
                </a:moveTo>
                <a:lnTo>
                  <a:pt x="463" y="35"/>
                </a:lnTo>
                <a:lnTo>
                  <a:pt x="479" y="31"/>
                </a:lnTo>
                <a:lnTo>
                  <a:pt x="481" y="32"/>
                </a:lnTo>
                <a:lnTo>
                  <a:pt x="483" y="33"/>
                </a:lnTo>
                <a:lnTo>
                  <a:pt x="483" y="33"/>
                </a:lnTo>
                <a:lnTo>
                  <a:pt x="483" y="35"/>
                </a:lnTo>
                <a:lnTo>
                  <a:pt x="481" y="35"/>
                </a:lnTo>
                <a:lnTo>
                  <a:pt x="481" y="36"/>
                </a:lnTo>
                <a:lnTo>
                  <a:pt x="465" y="38"/>
                </a:lnTo>
                <a:lnTo>
                  <a:pt x="441" y="43"/>
                </a:lnTo>
                <a:lnTo>
                  <a:pt x="439" y="42"/>
                </a:lnTo>
                <a:lnTo>
                  <a:pt x="437" y="42"/>
                </a:lnTo>
                <a:lnTo>
                  <a:pt x="437" y="41"/>
                </a:lnTo>
                <a:lnTo>
                  <a:pt x="437" y="41"/>
                </a:lnTo>
                <a:lnTo>
                  <a:pt x="437" y="39"/>
                </a:lnTo>
                <a:lnTo>
                  <a:pt x="439" y="39"/>
                </a:lnTo>
                <a:lnTo>
                  <a:pt x="439" y="38"/>
                </a:lnTo>
                <a:lnTo>
                  <a:pt x="439" y="38"/>
                </a:lnTo>
                <a:close/>
                <a:moveTo>
                  <a:pt x="507" y="27"/>
                </a:moveTo>
                <a:lnTo>
                  <a:pt x="540" y="22"/>
                </a:lnTo>
                <a:lnTo>
                  <a:pt x="547" y="21"/>
                </a:lnTo>
                <a:lnTo>
                  <a:pt x="549" y="21"/>
                </a:lnTo>
                <a:lnTo>
                  <a:pt x="551" y="21"/>
                </a:lnTo>
                <a:lnTo>
                  <a:pt x="551" y="22"/>
                </a:lnTo>
                <a:lnTo>
                  <a:pt x="551" y="24"/>
                </a:lnTo>
                <a:lnTo>
                  <a:pt x="549" y="25"/>
                </a:lnTo>
                <a:lnTo>
                  <a:pt x="542" y="26"/>
                </a:lnTo>
                <a:lnTo>
                  <a:pt x="509" y="31"/>
                </a:lnTo>
                <a:lnTo>
                  <a:pt x="507" y="31"/>
                </a:lnTo>
                <a:lnTo>
                  <a:pt x="507" y="30"/>
                </a:lnTo>
                <a:lnTo>
                  <a:pt x="505" y="30"/>
                </a:lnTo>
                <a:lnTo>
                  <a:pt x="505" y="30"/>
                </a:lnTo>
                <a:lnTo>
                  <a:pt x="505" y="29"/>
                </a:lnTo>
                <a:lnTo>
                  <a:pt x="505" y="27"/>
                </a:lnTo>
                <a:lnTo>
                  <a:pt x="507" y="27"/>
                </a:lnTo>
                <a:lnTo>
                  <a:pt x="507" y="27"/>
                </a:lnTo>
                <a:close/>
                <a:moveTo>
                  <a:pt x="577" y="18"/>
                </a:moveTo>
                <a:lnTo>
                  <a:pt x="580" y="16"/>
                </a:lnTo>
                <a:lnTo>
                  <a:pt x="617" y="13"/>
                </a:lnTo>
                <a:lnTo>
                  <a:pt x="619" y="13"/>
                </a:lnTo>
                <a:lnTo>
                  <a:pt x="619" y="13"/>
                </a:lnTo>
                <a:lnTo>
                  <a:pt x="621" y="14"/>
                </a:lnTo>
                <a:lnTo>
                  <a:pt x="621" y="15"/>
                </a:lnTo>
                <a:lnTo>
                  <a:pt x="619" y="16"/>
                </a:lnTo>
                <a:lnTo>
                  <a:pt x="582" y="20"/>
                </a:lnTo>
                <a:lnTo>
                  <a:pt x="578" y="21"/>
                </a:lnTo>
                <a:lnTo>
                  <a:pt x="575" y="20"/>
                </a:lnTo>
                <a:lnTo>
                  <a:pt x="575" y="20"/>
                </a:lnTo>
                <a:lnTo>
                  <a:pt x="575" y="19"/>
                </a:lnTo>
                <a:lnTo>
                  <a:pt x="575" y="18"/>
                </a:lnTo>
                <a:lnTo>
                  <a:pt x="577" y="18"/>
                </a:lnTo>
                <a:lnTo>
                  <a:pt x="577" y="18"/>
                </a:lnTo>
                <a:close/>
                <a:moveTo>
                  <a:pt x="646" y="10"/>
                </a:moveTo>
                <a:lnTo>
                  <a:pt x="663" y="8"/>
                </a:lnTo>
                <a:lnTo>
                  <a:pt x="687" y="7"/>
                </a:lnTo>
                <a:lnTo>
                  <a:pt x="689" y="7"/>
                </a:lnTo>
                <a:lnTo>
                  <a:pt x="690" y="7"/>
                </a:lnTo>
                <a:lnTo>
                  <a:pt x="690" y="8"/>
                </a:lnTo>
                <a:lnTo>
                  <a:pt x="690" y="9"/>
                </a:lnTo>
                <a:lnTo>
                  <a:pt x="689" y="10"/>
                </a:lnTo>
                <a:lnTo>
                  <a:pt x="689" y="10"/>
                </a:lnTo>
                <a:lnTo>
                  <a:pt x="665" y="12"/>
                </a:lnTo>
                <a:lnTo>
                  <a:pt x="648" y="14"/>
                </a:lnTo>
                <a:lnTo>
                  <a:pt x="646" y="14"/>
                </a:lnTo>
                <a:lnTo>
                  <a:pt x="644" y="13"/>
                </a:lnTo>
                <a:lnTo>
                  <a:pt x="644" y="12"/>
                </a:lnTo>
                <a:lnTo>
                  <a:pt x="644" y="10"/>
                </a:lnTo>
                <a:lnTo>
                  <a:pt x="644" y="10"/>
                </a:lnTo>
                <a:lnTo>
                  <a:pt x="646" y="10"/>
                </a:lnTo>
                <a:lnTo>
                  <a:pt x="646" y="10"/>
                </a:lnTo>
                <a:close/>
                <a:moveTo>
                  <a:pt x="716" y="4"/>
                </a:moveTo>
                <a:lnTo>
                  <a:pt x="749" y="2"/>
                </a:lnTo>
                <a:lnTo>
                  <a:pt x="758" y="2"/>
                </a:lnTo>
                <a:lnTo>
                  <a:pt x="760" y="2"/>
                </a:lnTo>
                <a:lnTo>
                  <a:pt x="760" y="3"/>
                </a:lnTo>
                <a:lnTo>
                  <a:pt x="760" y="4"/>
                </a:lnTo>
                <a:lnTo>
                  <a:pt x="760" y="4"/>
                </a:lnTo>
                <a:lnTo>
                  <a:pt x="760" y="6"/>
                </a:lnTo>
                <a:lnTo>
                  <a:pt x="758" y="6"/>
                </a:lnTo>
                <a:lnTo>
                  <a:pt x="758" y="6"/>
                </a:lnTo>
                <a:lnTo>
                  <a:pt x="751" y="7"/>
                </a:lnTo>
                <a:lnTo>
                  <a:pt x="718" y="8"/>
                </a:lnTo>
                <a:lnTo>
                  <a:pt x="716" y="8"/>
                </a:lnTo>
                <a:lnTo>
                  <a:pt x="714" y="8"/>
                </a:lnTo>
                <a:lnTo>
                  <a:pt x="714" y="7"/>
                </a:lnTo>
                <a:lnTo>
                  <a:pt x="714" y="7"/>
                </a:lnTo>
                <a:lnTo>
                  <a:pt x="714" y="6"/>
                </a:lnTo>
                <a:lnTo>
                  <a:pt x="716" y="4"/>
                </a:lnTo>
                <a:lnTo>
                  <a:pt x="716" y="4"/>
                </a:lnTo>
                <a:lnTo>
                  <a:pt x="716" y="4"/>
                </a:lnTo>
                <a:close/>
                <a:moveTo>
                  <a:pt x="788" y="1"/>
                </a:moveTo>
                <a:lnTo>
                  <a:pt x="793" y="1"/>
                </a:lnTo>
                <a:lnTo>
                  <a:pt x="828" y="0"/>
                </a:lnTo>
                <a:lnTo>
                  <a:pt x="830" y="0"/>
                </a:lnTo>
                <a:lnTo>
                  <a:pt x="830" y="0"/>
                </a:lnTo>
                <a:lnTo>
                  <a:pt x="830" y="1"/>
                </a:lnTo>
                <a:lnTo>
                  <a:pt x="832" y="2"/>
                </a:lnTo>
                <a:lnTo>
                  <a:pt x="830" y="3"/>
                </a:lnTo>
                <a:lnTo>
                  <a:pt x="830" y="3"/>
                </a:lnTo>
                <a:lnTo>
                  <a:pt x="828" y="3"/>
                </a:lnTo>
                <a:lnTo>
                  <a:pt x="795" y="4"/>
                </a:lnTo>
                <a:lnTo>
                  <a:pt x="788" y="4"/>
                </a:lnTo>
                <a:lnTo>
                  <a:pt x="786" y="4"/>
                </a:lnTo>
                <a:lnTo>
                  <a:pt x="786" y="4"/>
                </a:lnTo>
                <a:lnTo>
                  <a:pt x="784" y="3"/>
                </a:lnTo>
                <a:lnTo>
                  <a:pt x="784" y="3"/>
                </a:lnTo>
                <a:lnTo>
                  <a:pt x="784" y="2"/>
                </a:lnTo>
                <a:lnTo>
                  <a:pt x="784" y="2"/>
                </a:lnTo>
                <a:lnTo>
                  <a:pt x="786" y="1"/>
                </a:lnTo>
                <a:lnTo>
                  <a:pt x="788" y="1"/>
                </a:lnTo>
                <a:lnTo>
                  <a:pt x="788" y="1"/>
                </a:lnTo>
                <a:close/>
                <a:moveTo>
                  <a:pt x="857" y="0"/>
                </a:moveTo>
                <a:lnTo>
                  <a:pt x="885" y="0"/>
                </a:lnTo>
                <a:lnTo>
                  <a:pt x="900" y="0"/>
                </a:lnTo>
                <a:lnTo>
                  <a:pt x="901" y="0"/>
                </a:lnTo>
                <a:lnTo>
                  <a:pt x="901" y="1"/>
                </a:lnTo>
                <a:lnTo>
                  <a:pt x="901" y="1"/>
                </a:lnTo>
                <a:lnTo>
                  <a:pt x="901" y="2"/>
                </a:lnTo>
                <a:lnTo>
                  <a:pt x="901" y="2"/>
                </a:lnTo>
                <a:lnTo>
                  <a:pt x="900" y="3"/>
                </a:lnTo>
                <a:lnTo>
                  <a:pt x="898" y="3"/>
                </a:lnTo>
                <a:lnTo>
                  <a:pt x="885" y="3"/>
                </a:lnTo>
                <a:lnTo>
                  <a:pt x="857" y="3"/>
                </a:lnTo>
                <a:lnTo>
                  <a:pt x="856" y="3"/>
                </a:lnTo>
                <a:lnTo>
                  <a:pt x="856" y="3"/>
                </a:lnTo>
                <a:lnTo>
                  <a:pt x="856" y="1"/>
                </a:lnTo>
                <a:lnTo>
                  <a:pt x="856" y="1"/>
                </a:lnTo>
                <a:lnTo>
                  <a:pt x="856" y="0"/>
                </a:lnTo>
                <a:lnTo>
                  <a:pt x="856" y="0"/>
                </a:lnTo>
                <a:lnTo>
                  <a:pt x="857" y="0"/>
                </a:lnTo>
                <a:lnTo>
                  <a:pt x="857" y="0"/>
                </a:lnTo>
                <a:close/>
                <a:moveTo>
                  <a:pt x="929" y="0"/>
                </a:moveTo>
                <a:lnTo>
                  <a:pt x="929" y="0"/>
                </a:lnTo>
                <a:lnTo>
                  <a:pt x="969" y="1"/>
                </a:lnTo>
                <a:lnTo>
                  <a:pt x="969" y="1"/>
                </a:lnTo>
                <a:lnTo>
                  <a:pt x="971" y="1"/>
                </a:lnTo>
                <a:lnTo>
                  <a:pt x="971" y="2"/>
                </a:lnTo>
                <a:lnTo>
                  <a:pt x="971" y="2"/>
                </a:lnTo>
                <a:lnTo>
                  <a:pt x="971" y="3"/>
                </a:lnTo>
                <a:lnTo>
                  <a:pt x="971" y="3"/>
                </a:lnTo>
                <a:lnTo>
                  <a:pt x="969" y="4"/>
                </a:lnTo>
                <a:lnTo>
                  <a:pt x="969" y="4"/>
                </a:lnTo>
                <a:lnTo>
                  <a:pt x="929" y="3"/>
                </a:lnTo>
                <a:lnTo>
                  <a:pt x="927" y="3"/>
                </a:lnTo>
                <a:lnTo>
                  <a:pt x="927" y="3"/>
                </a:lnTo>
                <a:lnTo>
                  <a:pt x="925" y="3"/>
                </a:lnTo>
                <a:lnTo>
                  <a:pt x="925" y="2"/>
                </a:lnTo>
                <a:lnTo>
                  <a:pt x="925" y="2"/>
                </a:lnTo>
                <a:lnTo>
                  <a:pt x="925" y="1"/>
                </a:lnTo>
                <a:lnTo>
                  <a:pt x="925" y="0"/>
                </a:lnTo>
                <a:lnTo>
                  <a:pt x="927" y="0"/>
                </a:lnTo>
                <a:lnTo>
                  <a:pt x="929" y="0"/>
                </a:lnTo>
                <a:lnTo>
                  <a:pt x="929" y="0"/>
                </a:lnTo>
                <a:close/>
                <a:moveTo>
                  <a:pt x="999" y="2"/>
                </a:moveTo>
                <a:lnTo>
                  <a:pt x="1019" y="2"/>
                </a:lnTo>
                <a:lnTo>
                  <a:pt x="1039" y="3"/>
                </a:lnTo>
                <a:lnTo>
                  <a:pt x="1041" y="4"/>
                </a:lnTo>
                <a:lnTo>
                  <a:pt x="1043" y="4"/>
                </a:lnTo>
                <a:lnTo>
                  <a:pt x="1043" y="6"/>
                </a:lnTo>
                <a:lnTo>
                  <a:pt x="1041" y="7"/>
                </a:lnTo>
                <a:lnTo>
                  <a:pt x="1039" y="8"/>
                </a:lnTo>
                <a:lnTo>
                  <a:pt x="1019" y="7"/>
                </a:lnTo>
                <a:lnTo>
                  <a:pt x="999" y="6"/>
                </a:lnTo>
                <a:lnTo>
                  <a:pt x="997" y="6"/>
                </a:lnTo>
                <a:lnTo>
                  <a:pt x="997" y="4"/>
                </a:lnTo>
                <a:lnTo>
                  <a:pt x="995" y="4"/>
                </a:lnTo>
                <a:lnTo>
                  <a:pt x="995" y="3"/>
                </a:lnTo>
                <a:lnTo>
                  <a:pt x="995" y="2"/>
                </a:lnTo>
                <a:lnTo>
                  <a:pt x="997" y="2"/>
                </a:lnTo>
                <a:lnTo>
                  <a:pt x="997" y="2"/>
                </a:lnTo>
                <a:lnTo>
                  <a:pt x="999" y="2"/>
                </a:lnTo>
                <a:lnTo>
                  <a:pt x="999" y="2"/>
                </a:lnTo>
                <a:close/>
                <a:moveTo>
                  <a:pt x="1069" y="6"/>
                </a:moveTo>
                <a:lnTo>
                  <a:pt x="1105" y="8"/>
                </a:lnTo>
                <a:lnTo>
                  <a:pt x="1111" y="9"/>
                </a:lnTo>
                <a:lnTo>
                  <a:pt x="1113" y="9"/>
                </a:lnTo>
                <a:lnTo>
                  <a:pt x="1113" y="10"/>
                </a:lnTo>
                <a:lnTo>
                  <a:pt x="1113" y="10"/>
                </a:lnTo>
                <a:lnTo>
                  <a:pt x="1113" y="12"/>
                </a:lnTo>
                <a:lnTo>
                  <a:pt x="1111" y="12"/>
                </a:lnTo>
                <a:lnTo>
                  <a:pt x="1109" y="13"/>
                </a:lnTo>
                <a:lnTo>
                  <a:pt x="1103" y="12"/>
                </a:lnTo>
                <a:lnTo>
                  <a:pt x="1069" y="9"/>
                </a:lnTo>
                <a:lnTo>
                  <a:pt x="1067" y="9"/>
                </a:lnTo>
                <a:lnTo>
                  <a:pt x="1067" y="9"/>
                </a:lnTo>
                <a:lnTo>
                  <a:pt x="1067" y="8"/>
                </a:lnTo>
                <a:lnTo>
                  <a:pt x="1067" y="7"/>
                </a:lnTo>
                <a:lnTo>
                  <a:pt x="1067" y="7"/>
                </a:lnTo>
                <a:lnTo>
                  <a:pt x="1067" y="6"/>
                </a:lnTo>
                <a:lnTo>
                  <a:pt x="1069" y="6"/>
                </a:lnTo>
                <a:lnTo>
                  <a:pt x="1069" y="6"/>
                </a:lnTo>
                <a:close/>
                <a:moveTo>
                  <a:pt x="1138" y="12"/>
                </a:moveTo>
                <a:lnTo>
                  <a:pt x="1147" y="12"/>
                </a:lnTo>
                <a:lnTo>
                  <a:pt x="1180" y="16"/>
                </a:lnTo>
                <a:lnTo>
                  <a:pt x="1180" y="16"/>
                </a:lnTo>
                <a:lnTo>
                  <a:pt x="1182" y="16"/>
                </a:lnTo>
                <a:lnTo>
                  <a:pt x="1182" y="18"/>
                </a:lnTo>
                <a:lnTo>
                  <a:pt x="1182" y="18"/>
                </a:lnTo>
                <a:lnTo>
                  <a:pt x="1180" y="19"/>
                </a:lnTo>
                <a:lnTo>
                  <a:pt x="1180" y="20"/>
                </a:lnTo>
                <a:lnTo>
                  <a:pt x="1179" y="20"/>
                </a:lnTo>
                <a:lnTo>
                  <a:pt x="1146" y="16"/>
                </a:lnTo>
                <a:lnTo>
                  <a:pt x="1138" y="15"/>
                </a:lnTo>
                <a:lnTo>
                  <a:pt x="1136" y="14"/>
                </a:lnTo>
                <a:lnTo>
                  <a:pt x="1136" y="14"/>
                </a:lnTo>
                <a:lnTo>
                  <a:pt x="1136" y="13"/>
                </a:lnTo>
                <a:lnTo>
                  <a:pt x="1136" y="13"/>
                </a:lnTo>
                <a:lnTo>
                  <a:pt x="1136" y="12"/>
                </a:lnTo>
                <a:lnTo>
                  <a:pt x="1138" y="12"/>
                </a:lnTo>
                <a:lnTo>
                  <a:pt x="1138" y="12"/>
                </a:lnTo>
                <a:close/>
                <a:moveTo>
                  <a:pt x="1208" y="20"/>
                </a:moveTo>
                <a:lnTo>
                  <a:pt x="1228" y="22"/>
                </a:lnTo>
                <a:lnTo>
                  <a:pt x="1248" y="25"/>
                </a:lnTo>
                <a:lnTo>
                  <a:pt x="1250" y="26"/>
                </a:lnTo>
                <a:lnTo>
                  <a:pt x="1250" y="26"/>
                </a:lnTo>
                <a:lnTo>
                  <a:pt x="1250" y="27"/>
                </a:lnTo>
                <a:lnTo>
                  <a:pt x="1250" y="29"/>
                </a:lnTo>
                <a:lnTo>
                  <a:pt x="1250" y="29"/>
                </a:lnTo>
                <a:lnTo>
                  <a:pt x="1248" y="29"/>
                </a:lnTo>
                <a:lnTo>
                  <a:pt x="1226" y="26"/>
                </a:lnTo>
                <a:lnTo>
                  <a:pt x="1208" y="24"/>
                </a:lnTo>
                <a:lnTo>
                  <a:pt x="1206" y="22"/>
                </a:lnTo>
                <a:lnTo>
                  <a:pt x="1204" y="21"/>
                </a:lnTo>
                <a:lnTo>
                  <a:pt x="1206" y="20"/>
                </a:lnTo>
                <a:lnTo>
                  <a:pt x="1208" y="19"/>
                </a:lnTo>
                <a:lnTo>
                  <a:pt x="1208" y="20"/>
                </a:lnTo>
                <a:lnTo>
                  <a:pt x="1208" y="20"/>
                </a:lnTo>
                <a:close/>
                <a:moveTo>
                  <a:pt x="1278" y="30"/>
                </a:moveTo>
                <a:lnTo>
                  <a:pt x="1305" y="35"/>
                </a:lnTo>
                <a:lnTo>
                  <a:pt x="1318" y="37"/>
                </a:lnTo>
                <a:lnTo>
                  <a:pt x="1318" y="37"/>
                </a:lnTo>
                <a:lnTo>
                  <a:pt x="1318" y="37"/>
                </a:lnTo>
                <a:lnTo>
                  <a:pt x="1320" y="38"/>
                </a:lnTo>
                <a:lnTo>
                  <a:pt x="1320" y="39"/>
                </a:lnTo>
                <a:lnTo>
                  <a:pt x="1318" y="39"/>
                </a:lnTo>
                <a:lnTo>
                  <a:pt x="1316" y="41"/>
                </a:lnTo>
                <a:lnTo>
                  <a:pt x="1316" y="41"/>
                </a:lnTo>
                <a:lnTo>
                  <a:pt x="1303" y="38"/>
                </a:lnTo>
                <a:lnTo>
                  <a:pt x="1276" y="33"/>
                </a:lnTo>
                <a:lnTo>
                  <a:pt x="1274" y="33"/>
                </a:lnTo>
                <a:lnTo>
                  <a:pt x="1274" y="32"/>
                </a:lnTo>
                <a:lnTo>
                  <a:pt x="1274" y="32"/>
                </a:lnTo>
                <a:lnTo>
                  <a:pt x="1274" y="31"/>
                </a:lnTo>
                <a:lnTo>
                  <a:pt x="1274" y="30"/>
                </a:lnTo>
                <a:lnTo>
                  <a:pt x="1276" y="30"/>
                </a:lnTo>
                <a:lnTo>
                  <a:pt x="1276" y="30"/>
                </a:lnTo>
                <a:lnTo>
                  <a:pt x="1278" y="30"/>
                </a:lnTo>
                <a:lnTo>
                  <a:pt x="1278" y="30"/>
                </a:lnTo>
                <a:close/>
                <a:moveTo>
                  <a:pt x="1346" y="42"/>
                </a:moveTo>
                <a:lnTo>
                  <a:pt x="1377" y="49"/>
                </a:lnTo>
                <a:lnTo>
                  <a:pt x="1384" y="50"/>
                </a:lnTo>
                <a:lnTo>
                  <a:pt x="1386" y="50"/>
                </a:lnTo>
                <a:lnTo>
                  <a:pt x="1386" y="51"/>
                </a:lnTo>
                <a:lnTo>
                  <a:pt x="1386" y="51"/>
                </a:lnTo>
                <a:lnTo>
                  <a:pt x="1386" y="53"/>
                </a:lnTo>
                <a:lnTo>
                  <a:pt x="1386" y="54"/>
                </a:lnTo>
                <a:lnTo>
                  <a:pt x="1384" y="54"/>
                </a:lnTo>
                <a:lnTo>
                  <a:pt x="1384" y="54"/>
                </a:lnTo>
                <a:lnTo>
                  <a:pt x="1382" y="54"/>
                </a:lnTo>
                <a:lnTo>
                  <a:pt x="1375" y="53"/>
                </a:lnTo>
                <a:lnTo>
                  <a:pt x="1344" y="45"/>
                </a:lnTo>
                <a:lnTo>
                  <a:pt x="1342" y="44"/>
                </a:lnTo>
                <a:lnTo>
                  <a:pt x="1342" y="44"/>
                </a:lnTo>
                <a:lnTo>
                  <a:pt x="1342" y="43"/>
                </a:lnTo>
                <a:lnTo>
                  <a:pt x="1342" y="43"/>
                </a:lnTo>
                <a:lnTo>
                  <a:pt x="1344" y="42"/>
                </a:lnTo>
                <a:lnTo>
                  <a:pt x="1344" y="42"/>
                </a:lnTo>
                <a:lnTo>
                  <a:pt x="1346" y="42"/>
                </a:lnTo>
                <a:lnTo>
                  <a:pt x="1346" y="42"/>
                </a:lnTo>
                <a:close/>
                <a:moveTo>
                  <a:pt x="1412" y="56"/>
                </a:moveTo>
                <a:lnTo>
                  <a:pt x="1445" y="66"/>
                </a:lnTo>
                <a:lnTo>
                  <a:pt x="1450" y="67"/>
                </a:lnTo>
                <a:lnTo>
                  <a:pt x="1452" y="67"/>
                </a:lnTo>
                <a:lnTo>
                  <a:pt x="1452" y="68"/>
                </a:lnTo>
                <a:lnTo>
                  <a:pt x="1452" y="69"/>
                </a:lnTo>
                <a:lnTo>
                  <a:pt x="1452" y="69"/>
                </a:lnTo>
                <a:lnTo>
                  <a:pt x="1450" y="71"/>
                </a:lnTo>
                <a:lnTo>
                  <a:pt x="1450" y="71"/>
                </a:lnTo>
                <a:lnTo>
                  <a:pt x="1448" y="71"/>
                </a:lnTo>
                <a:lnTo>
                  <a:pt x="1443" y="69"/>
                </a:lnTo>
                <a:lnTo>
                  <a:pt x="1410" y="60"/>
                </a:lnTo>
                <a:lnTo>
                  <a:pt x="1410" y="60"/>
                </a:lnTo>
                <a:lnTo>
                  <a:pt x="1408" y="59"/>
                </a:lnTo>
                <a:lnTo>
                  <a:pt x="1408" y="57"/>
                </a:lnTo>
                <a:lnTo>
                  <a:pt x="1410" y="57"/>
                </a:lnTo>
                <a:lnTo>
                  <a:pt x="1410" y="56"/>
                </a:lnTo>
                <a:lnTo>
                  <a:pt x="1412" y="56"/>
                </a:lnTo>
                <a:lnTo>
                  <a:pt x="1412" y="56"/>
                </a:lnTo>
                <a:lnTo>
                  <a:pt x="1412" y="56"/>
                </a:lnTo>
                <a:close/>
                <a:moveTo>
                  <a:pt x="1478" y="74"/>
                </a:moveTo>
                <a:lnTo>
                  <a:pt x="1509" y="84"/>
                </a:lnTo>
                <a:lnTo>
                  <a:pt x="1515" y="86"/>
                </a:lnTo>
                <a:lnTo>
                  <a:pt x="1516" y="86"/>
                </a:lnTo>
                <a:lnTo>
                  <a:pt x="1516" y="88"/>
                </a:lnTo>
                <a:lnTo>
                  <a:pt x="1516" y="88"/>
                </a:lnTo>
                <a:lnTo>
                  <a:pt x="1516" y="89"/>
                </a:lnTo>
                <a:lnTo>
                  <a:pt x="1515" y="89"/>
                </a:lnTo>
                <a:lnTo>
                  <a:pt x="1515" y="90"/>
                </a:lnTo>
                <a:lnTo>
                  <a:pt x="1513" y="90"/>
                </a:lnTo>
                <a:lnTo>
                  <a:pt x="1505" y="88"/>
                </a:lnTo>
                <a:lnTo>
                  <a:pt x="1476" y="78"/>
                </a:lnTo>
                <a:lnTo>
                  <a:pt x="1474" y="77"/>
                </a:lnTo>
                <a:lnTo>
                  <a:pt x="1474" y="76"/>
                </a:lnTo>
                <a:lnTo>
                  <a:pt x="1476" y="74"/>
                </a:lnTo>
                <a:lnTo>
                  <a:pt x="1478" y="74"/>
                </a:lnTo>
                <a:lnTo>
                  <a:pt x="1478" y="74"/>
                </a:lnTo>
                <a:close/>
                <a:moveTo>
                  <a:pt x="1540" y="96"/>
                </a:moveTo>
                <a:lnTo>
                  <a:pt x="1566" y="104"/>
                </a:lnTo>
                <a:lnTo>
                  <a:pt x="1577" y="109"/>
                </a:lnTo>
                <a:lnTo>
                  <a:pt x="1577" y="110"/>
                </a:lnTo>
                <a:lnTo>
                  <a:pt x="1577" y="112"/>
                </a:lnTo>
                <a:lnTo>
                  <a:pt x="1577" y="112"/>
                </a:lnTo>
                <a:lnTo>
                  <a:pt x="1575" y="113"/>
                </a:lnTo>
                <a:lnTo>
                  <a:pt x="1575" y="113"/>
                </a:lnTo>
                <a:lnTo>
                  <a:pt x="1573" y="113"/>
                </a:lnTo>
                <a:lnTo>
                  <a:pt x="1562" y="108"/>
                </a:lnTo>
                <a:lnTo>
                  <a:pt x="1538" y="98"/>
                </a:lnTo>
                <a:lnTo>
                  <a:pt x="1537" y="97"/>
                </a:lnTo>
                <a:lnTo>
                  <a:pt x="1537" y="97"/>
                </a:lnTo>
                <a:lnTo>
                  <a:pt x="1537" y="96"/>
                </a:lnTo>
                <a:lnTo>
                  <a:pt x="1538" y="96"/>
                </a:lnTo>
                <a:lnTo>
                  <a:pt x="1538" y="95"/>
                </a:lnTo>
                <a:lnTo>
                  <a:pt x="1540" y="95"/>
                </a:lnTo>
                <a:lnTo>
                  <a:pt x="1540" y="96"/>
                </a:lnTo>
                <a:lnTo>
                  <a:pt x="1540" y="96"/>
                </a:lnTo>
                <a:close/>
                <a:moveTo>
                  <a:pt x="1601" y="120"/>
                </a:moveTo>
                <a:lnTo>
                  <a:pt x="1616" y="127"/>
                </a:lnTo>
                <a:lnTo>
                  <a:pt x="1634" y="136"/>
                </a:lnTo>
                <a:lnTo>
                  <a:pt x="1634" y="137"/>
                </a:lnTo>
                <a:lnTo>
                  <a:pt x="1636" y="137"/>
                </a:lnTo>
                <a:lnTo>
                  <a:pt x="1634" y="139"/>
                </a:lnTo>
                <a:lnTo>
                  <a:pt x="1632" y="139"/>
                </a:lnTo>
                <a:lnTo>
                  <a:pt x="1632" y="139"/>
                </a:lnTo>
                <a:lnTo>
                  <a:pt x="1630" y="139"/>
                </a:lnTo>
                <a:lnTo>
                  <a:pt x="1614" y="130"/>
                </a:lnTo>
                <a:lnTo>
                  <a:pt x="1597" y="124"/>
                </a:lnTo>
                <a:lnTo>
                  <a:pt x="1597" y="121"/>
                </a:lnTo>
                <a:lnTo>
                  <a:pt x="1597" y="121"/>
                </a:lnTo>
                <a:lnTo>
                  <a:pt x="1597" y="120"/>
                </a:lnTo>
                <a:lnTo>
                  <a:pt x="1599" y="120"/>
                </a:lnTo>
                <a:lnTo>
                  <a:pt x="1599" y="120"/>
                </a:lnTo>
                <a:lnTo>
                  <a:pt x="1601" y="120"/>
                </a:lnTo>
                <a:lnTo>
                  <a:pt x="1601" y="120"/>
                </a:lnTo>
                <a:close/>
                <a:moveTo>
                  <a:pt x="1656" y="149"/>
                </a:moveTo>
                <a:lnTo>
                  <a:pt x="1661" y="151"/>
                </a:lnTo>
                <a:lnTo>
                  <a:pt x="1680" y="164"/>
                </a:lnTo>
                <a:lnTo>
                  <a:pt x="1685" y="168"/>
                </a:lnTo>
                <a:lnTo>
                  <a:pt x="1687" y="168"/>
                </a:lnTo>
                <a:lnTo>
                  <a:pt x="1687" y="170"/>
                </a:lnTo>
                <a:lnTo>
                  <a:pt x="1687" y="170"/>
                </a:lnTo>
                <a:lnTo>
                  <a:pt x="1685" y="171"/>
                </a:lnTo>
                <a:lnTo>
                  <a:pt x="1683" y="171"/>
                </a:lnTo>
                <a:lnTo>
                  <a:pt x="1682" y="171"/>
                </a:lnTo>
                <a:lnTo>
                  <a:pt x="1682" y="171"/>
                </a:lnTo>
                <a:lnTo>
                  <a:pt x="1676" y="166"/>
                </a:lnTo>
                <a:lnTo>
                  <a:pt x="1658" y="154"/>
                </a:lnTo>
                <a:lnTo>
                  <a:pt x="1652" y="151"/>
                </a:lnTo>
                <a:lnTo>
                  <a:pt x="1652" y="151"/>
                </a:lnTo>
                <a:lnTo>
                  <a:pt x="1652" y="150"/>
                </a:lnTo>
                <a:lnTo>
                  <a:pt x="1652" y="149"/>
                </a:lnTo>
                <a:lnTo>
                  <a:pt x="1654" y="148"/>
                </a:lnTo>
                <a:lnTo>
                  <a:pt x="1654" y="148"/>
                </a:lnTo>
                <a:lnTo>
                  <a:pt x="1656" y="149"/>
                </a:lnTo>
                <a:lnTo>
                  <a:pt x="1656" y="149"/>
                </a:lnTo>
                <a:close/>
                <a:moveTo>
                  <a:pt x="1705" y="183"/>
                </a:moveTo>
                <a:lnTo>
                  <a:pt x="1715" y="190"/>
                </a:lnTo>
                <a:lnTo>
                  <a:pt x="1727" y="203"/>
                </a:lnTo>
                <a:lnTo>
                  <a:pt x="1729" y="204"/>
                </a:lnTo>
                <a:lnTo>
                  <a:pt x="1729" y="206"/>
                </a:lnTo>
                <a:lnTo>
                  <a:pt x="1729" y="207"/>
                </a:lnTo>
                <a:lnTo>
                  <a:pt x="1727" y="207"/>
                </a:lnTo>
                <a:lnTo>
                  <a:pt x="1727" y="208"/>
                </a:lnTo>
                <a:lnTo>
                  <a:pt x="1726" y="207"/>
                </a:lnTo>
                <a:lnTo>
                  <a:pt x="1726" y="207"/>
                </a:lnTo>
                <a:lnTo>
                  <a:pt x="1724" y="207"/>
                </a:lnTo>
                <a:lnTo>
                  <a:pt x="1724" y="206"/>
                </a:lnTo>
                <a:lnTo>
                  <a:pt x="1709" y="192"/>
                </a:lnTo>
                <a:lnTo>
                  <a:pt x="1700" y="185"/>
                </a:lnTo>
                <a:lnTo>
                  <a:pt x="1700" y="184"/>
                </a:lnTo>
                <a:lnTo>
                  <a:pt x="1700" y="184"/>
                </a:lnTo>
                <a:lnTo>
                  <a:pt x="1702" y="183"/>
                </a:lnTo>
                <a:lnTo>
                  <a:pt x="1702" y="182"/>
                </a:lnTo>
                <a:lnTo>
                  <a:pt x="1704" y="182"/>
                </a:lnTo>
                <a:lnTo>
                  <a:pt x="1704" y="182"/>
                </a:lnTo>
                <a:lnTo>
                  <a:pt x="1705" y="183"/>
                </a:lnTo>
                <a:lnTo>
                  <a:pt x="1705" y="183"/>
                </a:lnTo>
                <a:close/>
                <a:moveTo>
                  <a:pt x="1744" y="221"/>
                </a:moveTo>
                <a:lnTo>
                  <a:pt x="1750" y="231"/>
                </a:lnTo>
                <a:lnTo>
                  <a:pt x="1759" y="245"/>
                </a:lnTo>
                <a:lnTo>
                  <a:pt x="1759" y="248"/>
                </a:lnTo>
                <a:lnTo>
                  <a:pt x="1759" y="248"/>
                </a:lnTo>
                <a:lnTo>
                  <a:pt x="1759" y="249"/>
                </a:lnTo>
                <a:lnTo>
                  <a:pt x="1757" y="249"/>
                </a:lnTo>
                <a:lnTo>
                  <a:pt x="1757" y="250"/>
                </a:lnTo>
                <a:lnTo>
                  <a:pt x="1755" y="250"/>
                </a:lnTo>
                <a:lnTo>
                  <a:pt x="1753" y="249"/>
                </a:lnTo>
                <a:lnTo>
                  <a:pt x="1753" y="249"/>
                </a:lnTo>
                <a:lnTo>
                  <a:pt x="1753" y="248"/>
                </a:lnTo>
                <a:lnTo>
                  <a:pt x="1751" y="247"/>
                </a:lnTo>
                <a:lnTo>
                  <a:pt x="1744" y="233"/>
                </a:lnTo>
                <a:lnTo>
                  <a:pt x="1738" y="224"/>
                </a:lnTo>
                <a:lnTo>
                  <a:pt x="1738" y="223"/>
                </a:lnTo>
                <a:lnTo>
                  <a:pt x="1738" y="223"/>
                </a:lnTo>
                <a:lnTo>
                  <a:pt x="1738" y="221"/>
                </a:lnTo>
                <a:lnTo>
                  <a:pt x="1740" y="221"/>
                </a:lnTo>
                <a:lnTo>
                  <a:pt x="1742" y="221"/>
                </a:lnTo>
                <a:lnTo>
                  <a:pt x="1742" y="221"/>
                </a:lnTo>
                <a:lnTo>
                  <a:pt x="1744" y="221"/>
                </a:lnTo>
                <a:lnTo>
                  <a:pt x="1744" y="221"/>
                </a:lnTo>
                <a:close/>
                <a:moveTo>
                  <a:pt x="1764" y="266"/>
                </a:moveTo>
                <a:lnTo>
                  <a:pt x="1768" y="276"/>
                </a:lnTo>
                <a:lnTo>
                  <a:pt x="1768" y="290"/>
                </a:lnTo>
                <a:lnTo>
                  <a:pt x="1768" y="291"/>
                </a:lnTo>
                <a:lnTo>
                  <a:pt x="1766" y="292"/>
                </a:lnTo>
                <a:lnTo>
                  <a:pt x="1766" y="292"/>
                </a:lnTo>
                <a:lnTo>
                  <a:pt x="1764" y="292"/>
                </a:lnTo>
                <a:lnTo>
                  <a:pt x="1762" y="291"/>
                </a:lnTo>
                <a:lnTo>
                  <a:pt x="1762" y="290"/>
                </a:lnTo>
                <a:lnTo>
                  <a:pt x="1761" y="276"/>
                </a:lnTo>
                <a:lnTo>
                  <a:pt x="1759" y="267"/>
                </a:lnTo>
                <a:lnTo>
                  <a:pt x="1759" y="266"/>
                </a:lnTo>
                <a:lnTo>
                  <a:pt x="1761" y="265"/>
                </a:lnTo>
                <a:lnTo>
                  <a:pt x="1762" y="265"/>
                </a:lnTo>
                <a:lnTo>
                  <a:pt x="1762" y="265"/>
                </a:lnTo>
                <a:lnTo>
                  <a:pt x="1764" y="265"/>
                </a:lnTo>
                <a:lnTo>
                  <a:pt x="1764" y="266"/>
                </a:lnTo>
                <a:lnTo>
                  <a:pt x="1764" y="266"/>
                </a:lnTo>
                <a:lnTo>
                  <a:pt x="1764" y="266"/>
                </a:lnTo>
                <a:close/>
                <a:moveTo>
                  <a:pt x="1768" y="290"/>
                </a:moveTo>
                <a:lnTo>
                  <a:pt x="1768" y="294"/>
                </a:lnTo>
                <a:lnTo>
                  <a:pt x="1766" y="295"/>
                </a:lnTo>
                <a:lnTo>
                  <a:pt x="1766" y="295"/>
                </a:lnTo>
                <a:lnTo>
                  <a:pt x="1764" y="295"/>
                </a:lnTo>
                <a:lnTo>
                  <a:pt x="1764" y="295"/>
                </a:lnTo>
                <a:lnTo>
                  <a:pt x="1762" y="295"/>
                </a:lnTo>
                <a:lnTo>
                  <a:pt x="1762" y="294"/>
                </a:lnTo>
                <a:lnTo>
                  <a:pt x="1762" y="290"/>
                </a:lnTo>
                <a:lnTo>
                  <a:pt x="1762" y="289"/>
                </a:lnTo>
                <a:lnTo>
                  <a:pt x="1764" y="289"/>
                </a:lnTo>
                <a:lnTo>
                  <a:pt x="1766" y="289"/>
                </a:lnTo>
                <a:lnTo>
                  <a:pt x="1766" y="289"/>
                </a:lnTo>
                <a:lnTo>
                  <a:pt x="1768" y="289"/>
                </a:lnTo>
                <a:lnTo>
                  <a:pt x="1768" y="290"/>
                </a:lnTo>
                <a:lnTo>
                  <a:pt x="1768" y="290"/>
                </a:lnTo>
                <a:close/>
                <a:moveTo>
                  <a:pt x="1766" y="313"/>
                </a:moveTo>
                <a:lnTo>
                  <a:pt x="1764" y="320"/>
                </a:lnTo>
                <a:lnTo>
                  <a:pt x="1759" y="335"/>
                </a:lnTo>
                <a:lnTo>
                  <a:pt x="1755" y="339"/>
                </a:lnTo>
                <a:lnTo>
                  <a:pt x="1755" y="341"/>
                </a:lnTo>
                <a:lnTo>
                  <a:pt x="1753" y="341"/>
                </a:lnTo>
                <a:lnTo>
                  <a:pt x="1753" y="341"/>
                </a:lnTo>
                <a:lnTo>
                  <a:pt x="1751" y="341"/>
                </a:lnTo>
                <a:lnTo>
                  <a:pt x="1750" y="339"/>
                </a:lnTo>
                <a:lnTo>
                  <a:pt x="1750" y="338"/>
                </a:lnTo>
                <a:lnTo>
                  <a:pt x="1750" y="338"/>
                </a:lnTo>
                <a:lnTo>
                  <a:pt x="1751" y="333"/>
                </a:lnTo>
                <a:lnTo>
                  <a:pt x="1757" y="320"/>
                </a:lnTo>
                <a:lnTo>
                  <a:pt x="1759" y="313"/>
                </a:lnTo>
                <a:lnTo>
                  <a:pt x="1761" y="311"/>
                </a:lnTo>
                <a:lnTo>
                  <a:pt x="1762" y="311"/>
                </a:lnTo>
                <a:lnTo>
                  <a:pt x="1764" y="312"/>
                </a:lnTo>
                <a:lnTo>
                  <a:pt x="1766" y="313"/>
                </a:lnTo>
                <a:lnTo>
                  <a:pt x="1766" y="313"/>
                </a:lnTo>
                <a:close/>
                <a:moveTo>
                  <a:pt x="1744" y="358"/>
                </a:moveTo>
                <a:lnTo>
                  <a:pt x="1740" y="364"/>
                </a:lnTo>
                <a:lnTo>
                  <a:pt x="1727" y="377"/>
                </a:lnTo>
                <a:lnTo>
                  <a:pt x="1724" y="382"/>
                </a:lnTo>
                <a:lnTo>
                  <a:pt x="1722" y="382"/>
                </a:lnTo>
                <a:lnTo>
                  <a:pt x="1720" y="382"/>
                </a:lnTo>
                <a:lnTo>
                  <a:pt x="1720" y="382"/>
                </a:lnTo>
                <a:lnTo>
                  <a:pt x="1718" y="380"/>
                </a:lnTo>
                <a:lnTo>
                  <a:pt x="1718" y="379"/>
                </a:lnTo>
                <a:lnTo>
                  <a:pt x="1718" y="379"/>
                </a:lnTo>
                <a:lnTo>
                  <a:pt x="1724" y="376"/>
                </a:lnTo>
                <a:lnTo>
                  <a:pt x="1735" y="362"/>
                </a:lnTo>
                <a:lnTo>
                  <a:pt x="1738" y="356"/>
                </a:lnTo>
                <a:lnTo>
                  <a:pt x="1740" y="355"/>
                </a:lnTo>
                <a:lnTo>
                  <a:pt x="1742" y="355"/>
                </a:lnTo>
                <a:lnTo>
                  <a:pt x="1744" y="356"/>
                </a:lnTo>
                <a:lnTo>
                  <a:pt x="1744" y="356"/>
                </a:lnTo>
                <a:lnTo>
                  <a:pt x="1744" y="358"/>
                </a:lnTo>
                <a:lnTo>
                  <a:pt x="1744" y="358"/>
                </a:lnTo>
                <a:close/>
                <a:moveTo>
                  <a:pt x="1707" y="397"/>
                </a:moveTo>
                <a:lnTo>
                  <a:pt x="1698" y="405"/>
                </a:lnTo>
                <a:lnTo>
                  <a:pt x="1680" y="417"/>
                </a:lnTo>
                <a:lnTo>
                  <a:pt x="1680" y="418"/>
                </a:lnTo>
                <a:lnTo>
                  <a:pt x="1678" y="418"/>
                </a:lnTo>
                <a:lnTo>
                  <a:pt x="1678" y="418"/>
                </a:lnTo>
                <a:lnTo>
                  <a:pt x="1676" y="418"/>
                </a:lnTo>
                <a:lnTo>
                  <a:pt x="1676" y="418"/>
                </a:lnTo>
                <a:lnTo>
                  <a:pt x="1674" y="417"/>
                </a:lnTo>
                <a:lnTo>
                  <a:pt x="1676" y="415"/>
                </a:lnTo>
                <a:lnTo>
                  <a:pt x="1676" y="414"/>
                </a:lnTo>
                <a:lnTo>
                  <a:pt x="1694" y="402"/>
                </a:lnTo>
                <a:lnTo>
                  <a:pt x="1702" y="395"/>
                </a:lnTo>
                <a:lnTo>
                  <a:pt x="1702" y="394"/>
                </a:lnTo>
                <a:lnTo>
                  <a:pt x="1704" y="394"/>
                </a:lnTo>
                <a:lnTo>
                  <a:pt x="1705" y="395"/>
                </a:lnTo>
                <a:lnTo>
                  <a:pt x="1707" y="395"/>
                </a:lnTo>
                <a:lnTo>
                  <a:pt x="1707" y="396"/>
                </a:lnTo>
                <a:lnTo>
                  <a:pt x="1707" y="397"/>
                </a:lnTo>
                <a:lnTo>
                  <a:pt x="1707" y="397"/>
                </a:lnTo>
                <a:close/>
                <a:moveTo>
                  <a:pt x="1658" y="431"/>
                </a:moveTo>
                <a:lnTo>
                  <a:pt x="1639" y="442"/>
                </a:lnTo>
                <a:lnTo>
                  <a:pt x="1627" y="448"/>
                </a:lnTo>
                <a:lnTo>
                  <a:pt x="1625" y="449"/>
                </a:lnTo>
                <a:lnTo>
                  <a:pt x="1623" y="448"/>
                </a:lnTo>
                <a:lnTo>
                  <a:pt x="1623" y="448"/>
                </a:lnTo>
                <a:lnTo>
                  <a:pt x="1621" y="447"/>
                </a:lnTo>
                <a:lnTo>
                  <a:pt x="1621" y="447"/>
                </a:lnTo>
                <a:lnTo>
                  <a:pt x="1623" y="446"/>
                </a:lnTo>
                <a:lnTo>
                  <a:pt x="1623" y="446"/>
                </a:lnTo>
                <a:lnTo>
                  <a:pt x="1636" y="438"/>
                </a:lnTo>
                <a:lnTo>
                  <a:pt x="1654" y="429"/>
                </a:lnTo>
                <a:lnTo>
                  <a:pt x="1656" y="427"/>
                </a:lnTo>
                <a:lnTo>
                  <a:pt x="1658" y="427"/>
                </a:lnTo>
                <a:lnTo>
                  <a:pt x="1658" y="429"/>
                </a:lnTo>
                <a:lnTo>
                  <a:pt x="1660" y="429"/>
                </a:lnTo>
                <a:lnTo>
                  <a:pt x="1660" y="430"/>
                </a:lnTo>
                <a:lnTo>
                  <a:pt x="1658" y="431"/>
                </a:lnTo>
                <a:lnTo>
                  <a:pt x="1658" y="431"/>
                </a:lnTo>
                <a:close/>
                <a:moveTo>
                  <a:pt x="1603" y="460"/>
                </a:moveTo>
                <a:lnTo>
                  <a:pt x="1592" y="465"/>
                </a:lnTo>
                <a:lnTo>
                  <a:pt x="1568" y="474"/>
                </a:lnTo>
                <a:lnTo>
                  <a:pt x="1568" y="476"/>
                </a:lnTo>
                <a:lnTo>
                  <a:pt x="1566" y="474"/>
                </a:lnTo>
                <a:lnTo>
                  <a:pt x="1564" y="474"/>
                </a:lnTo>
                <a:lnTo>
                  <a:pt x="1564" y="473"/>
                </a:lnTo>
                <a:lnTo>
                  <a:pt x="1564" y="473"/>
                </a:lnTo>
                <a:lnTo>
                  <a:pt x="1566" y="472"/>
                </a:lnTo>
                <a:lnTo>
                  <a:pt x="1588" y="462"/>
                </a:lnTo>
                <a:lnTo>
                  <a:pt x="1599" y="456"/>
                </a:lnTo>
                <a:lnTo>
                  <a:pt x="1601" y="456"/>
                </a:lnTo>
                <a:lnTo>
                  <a:pt x="1601" y="456"/>
                </a:lnTo>
                <a:lnTo>
                  <a:pt x="1603" y="458"/>
                </a:lnTo>
                <a:lnTo>
                  <a:pt x="1604" y="459"/>
                </a:lnTo>
                <a:lnTo>
                  <a:pt x="1603" y="459"/>
                </a:lnTo>
                <a:lnTo>
                  <a:pt x="1603" y="460"/>
                </a:lnTo>
                <a:lnTo>
                  <a:pt x="1603" y="460"/>
                </a:lnTo>
                <a:close/>
                <a:moveTo>
                  <a:pt x="1542" y="484"/>
                </a:moveTo>
                <a:lnTo>
                  <a:pt x="1538" y="486"/>
                </a:lnTo>
                <a:lnTo>
                  <a:pt x="1509" y="496"/>
                </a:lnTo>
                <a:lnTo>
                  <a:pt x="1505" y="497"/>
                </a:lnTo>
                <a:lnTo>
                  <a:pt x="1505" y="497"/>
                </a:lnTo>
                <a:lnTo>
                  <a:pt x="1504" y="497"/>
                </a:lnTo>
                <a:lnTo>
                  <a:pt x="1504" y="497"/>
                </a:lnTo>
                <a:lnTo>
                  <a:pt x="1502" y="496"/>
                </a:lnTo>
                <a:lnTo>
                  <a:pt x="1502" y="495"/>
                </a:lnTo>
                <a:lnTo>
                  <a:pt x="1502" y="495"/>
                </a:lnTo>
                <a:lnTo>
                  <a:pt x="1504" y="494"/>
                </a:lnTo>
                <a:lnTo>
                  <a:pt x="1504" y="494"/>
                </a:lnTo>
                <a:lnTo>
                  <a:pt x="1505" y="494"/>
                </a:lnTo>
                <a:lnTo>
                  <a:pt x="1535" y="483"/>
                </a:lnTo>
                <a:lnTo>
                  <a:pt x="1540" y="482"/>
                </a:lnTo>
                <a:lnTo>
                  <a:pt x="1540" y="480"/>
                </a:lnTo>
                <a:lnTo>
                  <a:pt x="1542" y="480"/>
                </a:lnTo>
                <a:lnTo>
                  <a:pt x="1544" y="482"/>
                </a:lnTo>
                <a:lnTo>
                  <a:pt x="1544" y="483"/>
                </a:lnTo>
                <a:lnTo>
                  <a:pt x="1542" y="484"/>
                </a:lnTo>
                <a:lnTo>
                  <a:pt x="1542" y="484"/>
                </a:lnTo>
                <a:close/>
                <a:moveTo>
                  <a:pt x="1480" y="506"/>
                </a:moveTo>
                <a:lnTo>
                  <a:pt x="1478" y="506"/>
                </a:lnTo>
                <a:lnTo>
                  <a:pt x="1447" y="515"/>
                </a:lnTo>
                <a:lnTo>
                  <a:pt x="1441" y="517"/>
                </a:lnTo>
                <a:lnTo>
                  <a:pt x="1441" y="517"/>
                </a:lnTo>
                <a:lnTo>
                  <a:pt x="1439" y="517"/>
                </a:lnTo>
                <a:lnTo>
                  <a:pt x="1439" y="515"/>
                </a:lnTo>
                <a:lnTo>
                  <a:pt x="1437" y="515"/>
                </a:lnTo>
                <a:lnTo>
                  <a:pt x="1437" y="514"/>
                </a:lnTo>
                <a:lnTo>
                  <a:pt x="1437" y="514"/>
                </a:lnTo>
                <a:lnTo>
                  <a:pt x="1439" y="513"/>
                </a:lnTo>
                <a:lnTo>
                  <a:pt x="1439" y="513"/>
                </a:lnTo>
                <a:lnTo>
                  <a:pt x="1443" y="512"/>
                </a:lnTo>
                <a:lnTo>
                  <a:pt x="1476" y="502"/>
                </a:lnTo>
                <a:lnTo>
                  <a:pt x="1478" y="502"/>
                </a:lnTo>
                <a:lnTo>
                  <a:pt x="1480" y="502"/>
                </a:lnTo>
                <a:lnTo>
                  <a:pt x="1482" y="503"/>
                </a:lnTo>
                <a:lnTo>
                  <a:pt x="1482" y="505"/>
                </a:lnTo>
                <a:lnTo>
                  <a:pt x="1480" y="506"/>
                </a:lnTo>
                <a:lnTo>
                  <a:pt x="1480" y="506"/>
                </a:lnTo>
                <a:close/>
                <a:moveTo>
                  <a:pt x="1414" y="524"/>
                </a:moveTo>
                <a:lnTo>
                  <a:pt x="1412" y="524"/>
                </a:lnTo>
                <a:lnTo>
                  <a:pt x="1377" y="532"/>
                </a:lnTo>
                <a:lnTo>
                  <a:pt x="1375" y="532"/>
                </a:lnTo>
                <a:lnTo>
                  <a:pt x="1375" y="532"/>
                </a:lnTo>
                <a:lnTo>
                  <a:pt x="1373" y="532"/>
                </a:lnTo>
                <a:lnTo>
                  <a:pt x="1371" y="531"/>
                </a:lnTo>
                <a:lnTo>
                  <a:pt x="1371" y="530"/>
                </a:lnTo>
                <a:lnTo>
                  <a:pt x="1373" y="529"/>
                </a:lnTo>
                <a:lnTo>
                  <a:pt x="1373" y="529"/>
                </a:lnTo>
                <a:lnTo>
                  <a:pt x="1375" y="529"/>
                </a:lnTo>
                <a:lnTo>
                  <a:pt x="1410" y="520"/>
                </a:lnTo>
                <a:lnTo>
                  <a:pt x="1412" y="520"/>
                </a:lnTo>
                <a:lnTo>
                  <a:pt x="1414" y="520"/>
                </a:lnTo>
                <a:lnTo>
                  <a:pt x="1415" y="520"/>
                </a:lnTo>
                <a:lnTo>
                  <a:pt x="1415" y="521"/>
                </a:lnTo>
                <a:lnTo>
                  <a:pt x="1415" y="523"/>
                </a:lnTo>
                <a:lnTo>
                  <a:pt x="1415" y="523"/>
                </a:lnTo>
                <a:lnTo>
                  <a:pt x="1414" y="524"/>
                </a:lnTo>
                <a:lnTo>
                  <a:pt x="1414" y="524"/>
                </a:lnTo>
                <a:close/>
                <a:moveTo>
                  <a:pt x="1348" y="538"/>
                </a:moveTo>
                <a:lnTo>
                  <a:pt x="1342" y="540"/>
                </a:lnTo>
                <a:lnTo>
                  <a:pt x="1309" y="546"/>
                </a:lnTo>
                <a:lnTo>
                  <a:pt x="1307" y="546"/>
                </a:lnTo>
                <a:lnTo>
                  <a:pt x="1305" y="546"/>
                </a:lnTo>
                <a:lnTo>
                  <a:pt x="1305" y="544"/>
                </a:lnTo>
                <a:lnTo>
                  <a:pt x="1303" y="543"/>
                </a:lnTo>
                <a:lnTo>
                  <a:pt x="1305" y="543"/>
                </a:lnTo>
                <a:lnTo>
                  <a:pt x="1305" y="542"/>
                </a:lnTo>
                <a:lnTo>
                  <a:pt x="1307" y="542"/>
                </a:lnTo>
                <a:lnTo>
                  <a:pt x="1340" y="536"/>
                </a:lnTo>
                <a:lnTo>
                  <a:pt x="1346" y="535"/>
                </a:lnTo>
                <a:lnTo>
                  <a:pt x="1348" y="535"/>
                </a:lnTo>
                <a:lnTo>
                  <a:pt x="1348" y="535"/>
                </a:lnTo>
                <a:lnTo>
                  <a:pt x="1349" y="535"/>
                </a:lnTo>
                <a:lnTo>
                  <a:pt x="1349" y="536"/>
                </a:lnTo>
                <a:lnTo>
                  <a:pt x="1349" y="536"/>
                </a:lnTo>
                <a:lnTo>
                  <a:pt x="1349" y="537"/>
                </a:lnTo>
                <a:lnTo>
                  <a:pt x="1348" y="538"/>
                </a:lnTo>
                <a:lnTo>
                  <a:pt x="1348" y="538"/>
                </a:lnTo>
                <a:close/>
                <a:moveTo>
                  <a:pt x="1280" y="550"/>
                </a:moveTo>
                <a:lnTo>
                  <a:pt x="1267" y="553"/>
                </a:lnTo>
                <a:lnTo>
                  <a:pt x="1239" y="556"/>
                </a:lnTo>
                <a:lnTo>
                  <a:pt x="1237" y="556"/>
                </a:lnTo>
                <a:lnTo>
                  <a:pt x="1237" y="556"/>
                </a:lnTo>
                <a:lnTo>
                  <a:pt x="1236" y="556"/>
                </a:lnTo>
                <a:lnTo>
                  <a:pt x="1236" y="555"/>
                </a:lnTo>
                <a:lnTo>
                  <a:pt x="1236" y="554"/>
                </a:lnTo>
                <a:lnTo>
                  <a:pt x="1237" y="553"/>
                </a:lnTo>
                <a:lnTo>
                  <a:pt x="1265" y="549"/>
                </a:lnTo>
                <a:lnTo>
                  <a:pt x="1278" y="547"/>
                </a:lnTo>
                <a:lnTo>
                  <a:pt x="1280" y="547"/>
                </a:lnTo>
                <a:lnTo>
                  <a:pt x="1280" y="547"/>
                </a:lnTo>
                <a:lnTo>
                  <a:pt x="1281" y="548"/>
                </a:lnTo>
                <a:lnTo>
                  <a:pt x="1281" y="549"/>
                </a:lnTo>
                <a:lnTo>
                  <a:pt x="1281" y="549"/>
                </a:lnTo>
                <a:lnTo>
                  <a:pt x="1280" y="550"/>
                </a:lnTo>
                <a:lnTo>
                  <a:pt x="1280" y="550"/>
                </a:lnTo>
                <a:lnTo>
                  <a:pt x="1280" y="550"/>
                </a:lnTo>
                <a:close/>
                <a:moveTo>
                  <a:pt x="1210" y="561"/>
                </a:moveTo>
                <a:lnTo>
                  <a:pt x="1188" y="564"/>
                </a:lnTo>
                <a:lnTo>
                  <a:pt x="1169" y="566"/>
                </a:lnTo>
                <a:lnTo>
                  <a:pt x="1168" y="565"/>
                </a:lnTo>
                <a:lnTo>
                  <a:pt x="1168" y="565"/>
                </a:lnTo>
                <a:lnTo>
                  <a:pt x="1168" y="565"/>
                </a:lnTo>
                <a:lnTo>
                  <a:pt x="1166" y="564"/>
                </a:lnTo>
                <a:lnTo>
                  <a:pt x="1168" y="562"/>
                </a:lnTo>
                <a:lnTo>
                  <a:pt x="1169" y="562"/>
                </a:lnTo>
                <a:lnTo>
                  <a:pt x="1186" y="560"/>
                </a:lnTo>
                <a:lnTo>
                  <a:pt x="1210" y="558"/>
                </a:lnTo>
                <a:lnTo>
                  <a:pt x="1210" y="558"/>
                </a:lnTo>
                <a:lnTo>
                  <a:pt x="1212" y="558"/>
                </a:lnTo>
                <a:lnTo>
                  <a:pt x="1212" y="558"/>
                </a:lnTo>
                <a:lnTo>
                  <a:pt x="1214" y="559"/>
                </a:lnTo>
                <a:lnTo>
                  <a:pt x="1214" y="559"/>
                </a:lnTo>
                <a:lnTo>
                  <a:pt x="1212" y="560"/>
                </a:lnTo>
                <a:lnTo>
                  <a:pt x="1210" y="561"/>
                </a:lnTo>
                <a:lnTo>
                  <a:pt x="1210" y="561"/>
                </a:lnTo>
                <a:close/>
                <a:moveTo>
                  <a:pt x="1142" y="568"/>
                </a:moveTo>
                <a:lnTo>
                  <a:pt x="1105" y="572"/>
                </a:lnTo>
                <a:lnTo>
                  <a:pt x="1100" y="573"/>
                </a:lnTo>
                <a:lnTo>
                  <a:pt x="1098" y="572"/>
                </a:lnTo>
                <a:lnTo>
                  <a:pt x="1098" y="572"/>
                </a:lnTo>
                <a:lnTo>
                  <a:pt x="1098" y="571"/>
                </a:lnTo>
                <a:lnTo>
                  <a:pt x="1098" y="570"/>
                </a:lnTo>
                <a:lnTo>
                  <a:pt x="1098" y="570"/>
                </a:lnTo>
                <a:lnTo>
                  <a:pt x="1098" y="568"/>
                </a:lnTo>
                <a:lnTo>
                  <a:pt x="1100" y="568"/>
                </a:lnTo>
                <a:lnTo>
                  <a:pt x="1103" y="568"/>
                </a:lnTo>
                <a:lnTo>
                  <a:pt x="1140" y="565"/>
                </a:lnTo>
                <a:lnTo>
                  <a:pt x="1142" y="565"/>
                </a:lnTo>
                <a:lnTo>
                  <a:pt x="1142" y="565"/>
                </a:lnTo>
                <a:lnTo>
                  <a:pt x="1144" y="566"/>
                </a:lnTo>
                <a:lnTo>
                  <a:pt x="1144" y="567"/>
                </a:lnTo>
                <a:lnTo>
                  <a:pt x="1144" y="567"/>
                </a:lnTo>
                <a:lnTo>
                  <a:pt x="1144" y="568"/>
                </a:lnTo>
                <a:lnTo>
                  <a:pt x="1142" y="568"/>
                </a:lnTo>
                <a:lnTo>
                  <a:pt x="1142" y="568"/>
                </a:lnTo>
                <a:lnTo>
                  <a:pt x="1142" y="568"/>
                </a:lnTo>
                <a:close/>
                <a:moveTo>
                  <a:pt x="1070" y="574"/>
                </a:moveTo>
                <a:lnTo>
                  <a:pt x="1061" y="576"/>
                </a:lnTo>
                <a:lnTo>
                  <a:pt x="1030" y="578"/>
                </a:lnTo>
                <a:lnTo>
                  <a:pt x="1028" y="577"/>
                </a:lnTo>
                <a:lnTo>
                  <a:pt x="1028" y="577"/>
                </a:lnTo>
                <a:lnTo>
                  <a:pt x="1026" y="577"/>
                </a:lnTo>
                <a:lnTo>
                  <a:pt x="1026" y="576"/>
                </a:lnTo>
                <a:lnTo>
                  <a:pt x="1028" y="574"/>
                </a:lnTo>
                <a:lnTo>
                  <a:pt x="1028" y="573"/>
                </a:lnTo>
                <a:lnTo>
                  <a:pt x="1030" y="573"/>
                </a:lnTo>
                <a:lnTo>
                  <a:pt x="1061" y="572"/>
                </a:lnTo>
                <a:lnTo>
                  <a:pt x="1070" y="571"/>
                </a:lnTo>
                <a:lnTo>
                  <a:pt x="1072" y="571"/>
                </a:lnTo>
                <a:lnTo>
                  <a:pt x="1074" y="573"/>
                </a:lnTo>
                <a:lnTo>
                  <a:pt x="1072" y="574"/>
                </a:lnTo>
                <a:lnTo>
                  <a:pt x="1072" y="574"/>
                </a:lnTo>
                <a:lnTo>
                  <a:pt x="1070" y="574"/>
                </a:lnTo>
                <a:lnTo>
                  <a:pt x="1070" y="574"/>
                </a:lnTo>
                <a:close/>
                <a:moveTo>
                  <a:pt x="1001" y="579"/>
                </a:moveTo>
                <a:lnTo>
                  <a:pt x="975" y="580"/>
                </a:lnTo>
                <a:lnTo>
                  <a:pt x="960" y="580"/>
                </a:lnTo>
                <a:lnTo>
                  <a:pt x="958" y="580"/>
                </a:lnTo>
                <a:lnTo>
                  <a:pt x="957" y="579"/>
                </a:lnTo>
                <a:lnTo>
                  <a:pt x="957" y="579"/>
                </a:lnTo>
                <a:lnTo>
                  <a:pt x="957" y="578"/>
                </a:lnTo>
                <a:lnTo>
                  <a:pt x="957" y="578"/>
                </a:lnTo>
                <a:lnTo>
                  <a:pt x="957" y="577"/>
                </a:lnTo>
                <a:lnTo>
                  <a:pt x="958" y="577"/>
                </a:lnTo>
                <a:lnTo>
                  <a:pt x="960" y="577"/>
                </a:lnTo>
                <a:lnTo>
                  <a:pt x="975" y="576"/>
                </a:lnTo>
                <a:lnTo>
                  <a:pt x="1001" y="574"/>
                </a:lnTo>
                <a:lnTo>
                  <a:pt x="1001" y="574"/>
                </a:lnTo>
                <a:lnTo>
                  <a:pt x="1002" y="576"/>
                </a:lnTo>
                <a:lnTo>
                  <a:pt x="1002" y="576"/>
                </a:lnTo>
                <a:lnTo>
                  <a:pt x="1004" y="577"/>
                </a:lnTo>
                <a:lnTo>
                  <a:pt x="1002" y="577"/>
                </a:lnTo>
                <a:lnTo>
                  <a:pt x="1002" y="578"/>
                </a:lnTo>
                <a:lnTo>
                  <a:pt x="1002" y="578"/>
                </a:lnTo>
                <a:lnTo>
                  <a:pt x="1001" y="579"/>
                </a:lnTo>
                <a:lnTo>
                  <a:pt x="1001" y="579"/>
                </a:lnTo>
                <a:close/>
                <a:moveTo>
                  <a:pt x="931" y="582"/>
                </a:moveTo>
                <a:lnTo>
                  <a:pt x="929" y="582"/>
                </a:lnTo>
                <a:lnTo>
                  <a:pt x="889" y="582"/>
                </a:lnTo>
                <a:lnTo>
                  <a:pt x="887" y="582"/>
                </a:lnTo>
                <a:lnTo>
                  <a:pt x="887" y="580"/>
                </a:lnTo>
                <a:lnTo>
                  <a:pt x="887" y="580"/>
                </a:lnTo>
                <a:lnTo>
                  <a:pt x="887" y="579"/>
                </a:lnTo>
                <a:lnTo>
                  <a:pt x="887" y="578"/>
                </a:lnTo>
                <a:lnTo>
                  <a:pt x="887" y="578"/>
                </a:lnTo>
                <a:lnTo>
                  <a:pt x="887" y="578"/>
                </a:lnTo>
                <a:lnTo>
                  <a:pt x="889" y="578"/>
                </a:lnTo>
                <a:lnTo>
                  <a:pt x="929" y="577"/>
                </a:lnTo>
                <a:lnTo>
                  <a:pt x="931" y="577"/>
                </a:lnTo>
                <a:lnTo>
                  <a:pt x="933" y="578"/>
                </a:lnTo>
                <a:lnTo>
                  <a:pt x="933" y="578"/>
                </a:lnTo>
                <a:lnTo>
                  <a:pt x="933" y="579"/>
                </a:lnTo>
                <a:lnTo>
                  <a:pt x="933" y="579"/>
                </a:lnTo>
                <a:lnTo>
                  <a:pt x="933" y="580"/>
                </a:lnTo>
                <a:lnTo>
                  <a:pt x="931" y="582"/>
                </a:lnTo>
                <a:lnTo>
                  <a:pt x="931" y="582"/>
                </a:lnTo>
                <a:close/>
                <a:moveTo>
                  <a:pt x="859" y="582"/>
                </a:moveTo>
                <a:lnTo>
                  <a:pt x="839" y="582"/>
                </a:lnTo>
                <a:lnTo>
                  <a:pt x="819" y="580"/>
                </a:lnTo>
                <a:lnTo>
                  <a:pt x="817" y="580"/>
                </a:lnTo>
                <a:lnTo>
                  <a:pt x="817" y="580"/>
                </a:lnTo>
                <a:lnTo>
                  <a:pt x="815" y="579"/>
                </a:lnTo>
                <a:lnTo>
                  <a:pt x="815" y="578"/>
                </a:lnTo>
                <a:lnTo>
                  <a:pt x="817" y="577"/>
                </a:lnTo>
                <a:lnTo>
                  <a:pt x="817" y="577"/>
                </a:lnTo>
                <a:lnTo>
                  <a:pt x="819" y="577"/>
                </a:lnTo>
                <a:lnTo>
                  <a:pt x="839" y="577"/>
                </a:lnTo>
                <a:lnTo>
                  <a:pt x="859" y="577"/>
                </a:lnTo>
                <a:lnTo>
                  <a:pt x="861" y="577"/>
                </a:lnTo>
                <a:lnTo>
                  <a:pt x="861" y="578"/>
                </a:lnTo>
                <a:lnTo>
                  <a:pt x="863" y="578"/>
                </a:lnTo>
                <a:lnTo>
                  <a:pt x="863" y="579"/>
                </a:lnTo>
                <a:lnTo>
                  <a:pt x="863" y="580"/>
                </a:lnTo>
                <a:lnTo>
                  <a:pt x="861" y="580"/>
                </a:lnTo>
                <a:lnTo>
                  <a:pt x="861" y="580"/>
                </a:lnTo>
                <a:lnTo>
                  <a:pt x="859" y="582"/>
                </a:lnTo>
                <a:lnTo>
                  <a:pt x="859" y="582"/>
                </a:lnTo>
                <a:close/>
                <a:moveTo>
                  <a:pt x="790" y="579"/>
                </a:moveTo>
                <a:lnTo>
                  <a:pt x="749" y="578"/>
                </a:lnTo>
                <a:lnTo>
                  <a:pt x="747" y="578"/>
                </a:lnTo>
                <a:lnTo>
                  <a:pt x="745" y="577"/>
                </a:lnTo>
                <a:lnTo>
                  <a:pt x="745" y="576"/>
                </a:lnTo>
                <a:lnTo>
                  <a:pt x="745" y="576"/>
                </a:lnTo>
                <a:lnTo>
                  <a:pt x="745" y="574"/>
                </a:lnTo>
                <a:lnTo>
                  <a:pt x="747" y="574"/>
                </a:lnTo>
                <a:lnTo>
                  <a:pt x="749" y="574"/>
                </a:lnTo>
                <a:lnTo>
                  <a:pt x="751" y="574"/>
                </a:lnTo>
                <a:lnTo>
                  <a:pt x="790" y="576"/>
                </a:lnTo>
                <a:lnTo>
                  <a:pt x="791" y="577"/>
                </a:lnTo>
                <a:lnTo>
                  <a:pt x="791" y="577"/>
                </a:lnTo>
                <a:lnTo>
                  <a:pt x="791" y="578"/>
                </a:lnTo>
                <a:lnTo>
                  <a:pt x="791" y="578"/>
                </a:lnTo>
                <a:lnTo>
                  <a:pt x="791" y="579"/>
                </a:lnTo>
                <a:lnTo>
                  <a:pt x="790" y="579"/>
                </a:lnTo>
                <a:lnTo>
                  <a:pt x="790" y="579"/>
                </a:lnTo>
                <a:close/>
                <a:moveTo>
                  <a:pt x="718" y="577"/>
                </a:moveTo>
                <a:lnTo>
                  <a:pt x="707" y="576"/>
                </a:lnTo>
                <a:lnTo>
                  <a:pt x="678" y="573"/>
                </a:lnTo>
                <a:lnTo>
                  <a:pt x="676" y="573"/>
                </a:lnTo>
                <a:lnTo>
                  <a:pt x="676" y="573"/>
                </a:lnTo>
                <a:lnTo>
                  <a:pt x="676" y="571"/>
                </a:lnTo>
                <a:lnTo>
                  <a:pt x="676" y="570"/>
                </a:lnTo>
                <a:lnTo>
                  <a:pt x="678" y="570"/>
                </a:lnTo>
                <a:lnTo>
                  <a:pt x="678" y="570"/>
                </a:lnTo>
                <a:lnTo>
                  <a:pt x="707" y="572"/>
                </a:lnTo>
                <a:lnTo>
                  <a:pt x="720" y="572"/>
                </a:lnTo>
                <a:lnTo>
                  <a:pt x="720" y="572"/>
                </a:lnTo>
                <a:lnTo>
                  <a:pt x="722" y="573"/>
                </a:lnTo>
                <a:lnTo>
                  <a:pt x="722" y="574"/>
                </a:lnTo>
                <a:lnTo>
                  <a:pt x="722" y="576"/>
                </a:lnTo>
                <a:lnTo>
                  <a:pt x="722" y="576"/>
                </a:lnTo>
                <a:lnTo>
                  <a:pt x="720" y="576"/>
                </a:lnTo>
                <a:lnTo>
                  <a:pt x="718" y="577"/>
                </a:lnTo>
                <a:lnTo>
                  <a:pt x="718" y="577"/>
                </a:lnTo>
                <a:close/>
                <a:moveTo>
                  <a:pt x="648" y="571"/>
                </a:moveTo>
                <a:lnTo>
                  <a:pt x="622" y="568"/>
                </a:lnTo>
                <a:lnTo>
                  <a:pt x="608" y="567"/>
                </a:lnTo>
                <a:lnTo>
                  <a:pt x="606" y="566"/>
                </a:lnTo>
                <a:lnTo>
                  <a:pt x="606" y="566"/>
                </a:lnTo>
                <a:lnTo>
                  <a:pt x="606" y="565"/>
                </a:lnTo>
                <a:lnTo>
                  <a:pt x="606" y="564"/>
                </a:lnTo>
                <a:lnTo>
                  <a:pt x="608" y="564"/>
                </a:lnTo>
                <a:lnTo>
                  <a:pt x="610" y="564"/>
                </a:lnTo>
                <a:lnTo>
                  <a:pt x="622" y="565"/>
                </a:lnTo>
                <a:lnTo>
                  <a:pt x="650" y="567"/>
                </a:lnTo>
                <a:lnTo>
                  <a:pt x="652" y="567"/>
                </a:lnTo>
                <a:lnTo>
                  <a:pt x="652" y="570"/>
                </a:lnTo>
                <a:lnTo>
                  <a:pt x="650" y="571"/>
                </a:lnTo>
                <a:lnTo>
                  <a:pt x="648" y="571"/>
                </a:lnTo>
                <a:lnTo>
                  <a:pt x="648" y="571"/>
                </a:lnTo>
                <a:close/>
                <a:moveTo>
                  <a:pt x="578" y="564"/>
                </a:moveTo>
                <a:lnTo>
                  <a:pt x="540" y="559"/>
                </a:lnTo>
                <a:lnTo>
                  <a:pt x="538" y="559"/>
                </a:lnTo>
                <a:lnTo>
                  <a:pt x="536" y="558"/>
                </a:lnTo>
                <a:lnTo>
                  <a:pt x="536" y="556"/>
                </a:lnTo>
                <a:lnTo>
                  <a:pt x="536" y="555"/>
                </a:lnTo>
                <a:lnTo>
                  <a:pt x="538" y="555"/>
                </a:lnTo>
                <a:lnTo>
                  <a:pt x="538" y="554"/>
                </a:lnTo>
                <a:lnTo>
                  <a:pt x="540" y="555"/>
                </a:lnTo>
                <a:lnTo>
                  <a:pt x="542" y="555"/>
                </a:lnTo>
                <a:lnTo>
                  <a:pt x="580" y="560"/>
                </a:lnTo>
                <a:lnTo>
                  <a:pt x="582" y="560"/>
                </a:lnTo>
                <a:lnTo>
                  <a:pt x="582" y="561"/>
                </a:lnTo>
                <a:lnTo>
                  <a:pt x="582" y="562"/>
                </a:lnTo>
                <a:lnTo>
                  <a:pt x="580" y="564"/>
                </a:lnTo>
                <a:lnTo>
                  <a:pt x="578" y="564"/>
                </a:lnTo>
                <a:lnTo>
                  <a:pt x="578" y="564"/>
                </a:lnTo>
                <a:close/>
                <a:moveTo>
                  <a:pt x="510" y="554"/>
                </a:moveTo>
                <a:lnTo>
                  <a:pt x="501" y="553"/>
                </a:lnTo>
                <a:lnTo>
                  <a:pt x="470" y="548"/>
                </a:lnTo>
                <a:lnTo>
                  <a:pt x="468" y="547"/>
                </a:lnTo>
                <a:lnTo>
                  <a:pt x="468" y="547"/>
                </a:lnTo>
                <a:lnTo>
                  <a:pt x="466" y="546"/>
                </a:lnTo>
                <a:lnTo>
                  <a:pt x="468" y="546"/>
                </a:lnTo>
                <a:lnTo>
                  <a:pt x="468" y="544"/>
                </a:lnTo>
                <a:lnTo>
                  <a:pt x="470" y="543"/>
                </a:lnTo>
                <a:lnTo>
                  <a:pt x="472" y="544"/>
                </a:lnTo>
                <a:lnTo>
                  <a:pt x="503" y="549"/>
                </a:lnTo>
                <a:lnTo>
                  <a:pt x="510" y="550"/>
                </a:lnTo>
                <a:lnTo>
                  <a:pt x="512" y="550"/>
                </a:lnTo>
                <a:lnTo>
                  <a:pt x="512" y="552"/>
                </a:lnTo>
                <a:lnTo>
                  <a:pt x="512" y="552"/>
                </a:lnTo>
                <a:lnTo>
                  <a:pt x="512" y="553"/>
                </a:lnTo>
                <a:lnTo>
                  <a:pt x="512" y="553"/>
                </a:lnTo>
                <a:lnTo>
                  <a:pt x="512" y="554"/>
                </a:lnTo>
                <a:lnTo>
                  <a:pt x="510" y="554"/>
                </a:lnTo>
                <a:lnTo>
                  <a:pt x="510" y="554"/>
                </a:lnTo>
                <a:lnTo>
                  <a:pt x="510" y="554"/>
                </a:lnTo>
                <a:close/>
                <a:moveTo>
                  <a:pt x="441" y="542"/>
                </a:moveTo>
                <a:lnTo>
                  <a:pt x="426" y="540"/>
                </a:lnTo>
                <a:lnTo>
                  <a:pt x="402" y="535"/>
                </a:lnTo>
                <a:lnTo>
                  <a:pt x="400" y="533"/>
                </a:lnTo>
                <a:lnTo>
                  <a:pt x="400" y="532"/>
                </a:lnTo>
                <a:lnTo>
                  <a:pt x="400" y="532"/>
                </a:lnTo>
                <a:lnTo>
                  <a:pt x="400" y="531"/>
                </a:lnTo>
                <a:lnTo>
                  <a:pt x="402" y="531"/>
                </a:lnTo>
                <a:lnTo>
                  <a:pt x="402" y="530"/>
                </a:lnTo>
                <a:lnTo>
                  <a:pt x="404" y="531"/>
                </a:lnTo>
                <a:lnTo>
                  <a:pt x="428" y="536"/>
                </a:lnTo>
                <a:lnTo>
                  <a:pt x="443" y="538"/>
                </a:lnTo>
                <a:lnTo>
                  <a:pt x="444" y="540"/>
                </a:lnTo>
                <a:lnTo>
                  <a:pt x="444" y="541"/>
                </a:lnTo>
                <a:lnTo>
                  <a:pt x="444" y="541"/>
                </a:lnTo>
                <a:lnTo>
                  <a:pt x="444" y="542"/>
                </a:lnTo>
                <a:lnTo>
                  <a:pt x="443" y="542"/>
                </a:lnTo>
                <a:lnTo>
                  <a:pt x="443" y="542"/>
                </a:lnTo>
                <a:lnTo>
                  <a:pt x="441" y="542"/>
                </a:lnTo>
                <a:lnTo>
                  <a:pt x="441" y="542"/>
                </a:lnTo>
                <a:close/>
                <a:moveTo>
                  <a:pt x="375" y="529"/>
                </a:moveTo>
                <a:lnTo>
                  <a:pt x="356" y="524"/>
                </a:lnTo>
                <a:lnTo>
                  <a:pt x="336" y="519"/>
                </a:lnTo>
                <a:lnTo>
                  <a:pt x="334" y="518"/>
                </a:lnTo>
                <a:lnTo>
                  <a:pt x="334" y="518"/>
                </a:lnTo>
                <a:lnTo>
                  <a:pt x="334" y="517"/>
                </a:lnTo>
                <a:lnTo>
                  <a:pt x="334" y="517"/>
                </a:lnTo>
                <a:lnTo>
                  <a:pt x="334" y="515"/>
                </a:lnTo>
                <a:lnTo>
                  <a:pt x="336" y="515"/>
                </a:lnTo>
                <a:lnTo>
                  <a:pt x="336" y="514"/>
                </a:lnTo>
                <a:lnTo>
                  <a:pt x="338" y="515"/>
                </a:lnTo>
                <a:lnTo>
                  <a:pt x="358" y="520"/>
                </a:lnTo>
                <a:lnTo>
                  <a:pt x="377" y="525"/>
                </a:lnTo>
                <a:lnTo>
                  <a:pt x="377" y="525"/>
                </a:lnTo>
                <a:lnTo>
                  <a:pt x="378" y="525"/>
                </a:lnTo>
                <a:lnTo>
                  <a:pt x="378" y="526"/>
                </a:lnTo>
                <a:lnTo>
                  <a:pt x="378" y="527"/>
                </a:lnTo>
                <a:lnTo>
                  <a:pt x="377" y="527"/>
                </a:lnTo>
                <a:lnTo>
                  <a:pt x="375" y="529"/>
                </a:lnTo>
                <a:lnTo>
                  <a:pt x="375" y="529"/>
                </a:lnTo>
                <a:lnTo>
                  <a:pt x="375" y="529"/>
                </a:lnTo>
                <a:close/>
                <a:moveTo>
                  <a:pt x="309" y="512"/>
                </a:moveTo>
                <a:lnTo>
                  <a:pt x="290" y="506"/>
                </a:lnTo>
                <a:lnTo>
                  <a:pt x="270" y="500"/>
                </a:lnTo>
                <a:lnTo>
                  <a:pt x="270" y="500"/>
                </a:lnTo>
                <a:lnTo>
                  <a:pt x="270" y="499"/>
                </a:lnTo>
                <a:lnTo>
                  <a:pt x="270" y="497"/>
                </a:lnTo>
                <a:lnTo>
                  <a:pt x="272" y="496"/>
                </a:lnTo>
                <a:lnTo>
                  <a:pt x="272" y="496"/>
                </a:lnTo>
                <a:lnTo>
                  <a:pt x="274" y="496"/>
                </a:lnTo>
                <a:lnTo>
                  <a:pt x="292" y="502"/>
                </a:lnTo>
                <a:lnTo>
                  <a:pt x="310" y="508"/>
                </a:lnTo>
                <a:lnTo>
                  <a:pt x="312" y="508"/>
                </a:lnTo>
                <a:lnTo>
                  <a:pt x="312" y="508"/>
                </a:lnTo>
                <a:lnTo>
                  <a:pt x="312" y="509"/>
                </a:lnTo>
                <a:lnTo>
                  <a:pt x="312" y="511"/>
                </a:lnTo>
                <a:lnTo>
                  <a:pt x="310" y="511"/>
                </a:lnTo>
                <a:lnTo>
                  <a:pt x="310" y="511"/>
                </a:lnTo>
                <a:lnTo>
                  <a:pt x="309" y="512"/>
                </a:lnTo>
                <a:lnTo>
                  <a:pt x="309" y="512"/>
                </a:lnTo>
                <a:close/>
                <a:moveTo>
                  <a:pt x="244" y="491"/>
                </a:moveTo>
                <a:lnTo>
                  <a:pt x="231" y="486"/>
                </a:lnTo>
                <a:lnTo>
                  <a:pt x="208" y="478"/>
                </a:lnTo>
                <a:lnTo>
                  <a:pt x="208" y="477"/>
                </a:lnTo>
                <a:lnTo>
                  <a:pt x="208" y="476"/>
                </a:lnTo>
                <a:lnTo>
                  <a:pt x="208" y="476"/>
                </a:lnTo>
                <a:lnTo>
                  <a:pt x="209" y="474"/>
                </a:lnTo>
                <a:lnTo>
                  <a:pt x="209" y="474"/>
                </a:lnTo>
                <a:lnTo>
                  <a:pt x="211" y="474"/>
                </a:lnTo>
                <a:lnTo>
                  <a:pt x="233" y="483"/>
                </a:lnTo>
                <a:lnTo>
                  <a:pt x="248" y="488"/>
                </a:lnTo>
                <a:lnTo>
                  <a:pt x="248" y="489"/>
                </a:lnTo>
                <a:lnTo>
                  <a:pt x="248" y="490"/>
                </a:lnTo>
                <a:lnTo>
                  <a:pt x="246" y="491"/>
                </a:lnTo>
                <a:lnTo>
                  <a:pt x="244" y="491"/>
                </a:lnTo>
                <a:lnTo>
                  <a:pt x="244" y="491"/>
                </a:lnTo>
                <a:close/>
                <a:moveTo>
                  <a:pt x="184" y="468"/>
                </a:moveTo>
                <a:lnTo>
                  <a:pt x="176" y="465"/>
                </a:lnTo>
                <a:lnTo>
                  <a:pt x="153" y="454"/>
                </a:lnTo>
                <a:lnTo>
                  <a:pt x="149" y="453"/>
                </a:lnTo>
                <a:lnTo>
                  <a:pt x="149" y="452"/>
                </a:lnTo>
                <a:lnTo>
                  <a:pt x="149" y="450"/>
                </a:lnTo>
                <a:lnTo>
                  <a:pt x="149" y="450"/>
                </a:lnTo>
                <a:lnTo>
                  <a:pt x="149" y="449"/>
                </a:lnTo>
                <a:lnTo>
                  <a:pt x="151" y="449"/>
                </a:lnTo>
                <a:lnTo>
                  <a:pt x="153" y="449"/>
                </a:lnTo>
                <a:lnTo>
                  <a:pt x="153" y="449"/>
                </a:lnTo>
                <a:lnTo>
                  <a:pt x="154" y="450"/>
                </a:lnTo>
                <a:lnTo>
                  <a:pt x="180" y="462"/>
                </a:lnTo>
                <a:lnTo>
                  <a:pt x="187" y="465"/>
                </a:lnTo>
                <a:lnTo>
                  <a:pt x="187" y="466"/>
                </a:lnTo>
                <a:lnTo>
                  <a:pt x="187" y="466"/>
                </a:lnTo>
                <a:lnTo>
                  <a:pt x="187" y="467"/>
                </a:lnTo>
                <a:lnTo>
                  <a:pt x="186" y="468"/>
                </a:lnTo>
                <a:lnTo>
                  <a:pt x="184" y="468"/>
                </a:lnTo>
                <a:lnTo>
                  <a:pt x="184" y="468"/>
                </a:lnTo>
                <a:lnTo>
                  <a:pt x="184" y="468"/>
                </a:lnTo>
                <a:close/>
                <a:moveTo>
                  <a:pt x="127" y="441"/>
                </a:moveTo>
                <a:lnTo>
                  <a:pt x="107" y="430"/>
                </a:lnTo>
                <a:lnTo>
                  <a:pt x="96" y="423"/>
                </a:lnTo>
                <a:lnTo>
                  <a:pt x="96" y="421"/>
                </a:lnTo>
                <a:lnTo>
                  <a:pt x="94" y="420"/>
                </a:lnTo>
                <a:lnTo>
                  <a:pt x="96" y="420"/>
                </a:lnTo>
                <a:lnTo>
                  <a:pt x="96" y="419"/>
                </a:lnTo>
                <a:lnTo>
                  <a:pt x="96" y="419"/>
                </a:lnTo>
                <a:lnTo>
                  <a:pt x="97" y="419"/>
                </a:lnTo>
                <a:lnTo>
                  <a:pt x="99" y="419"/>
                </a:lnTo>
                <a:lnTo>
                  <a:pt x="99" y="419"/>
                </a:lnTo>
                <a:lnTo>
                  <a:pt x="112" y="426"/>
                </a:lnTo>
                <a:lnTo>
                  <a:pt x="131" y="437"/>
                </a:lnTo>
                <a:lnTo>
                  <a:pt x="131" y="438"/>
                </a:lnTo>
                <a:lnTo>
                  <a:pt x="131" y="439"/>
                </a:lnTo>
                <a:lnTo>
                  <a:pt x="131" y="441"/>
                </a:lnTo>
                <a:lnTo>
                  <a:pt x="129" y="441"/>
                </a:lnTo>
                <a:lnTo>
                  <a:pt x="129" y="441"/>
                </a:lnTo>
                <a:lnTo>
                  <a:pt x="127" y="441"/>
                </a:lnTo>
                <a:lnTo>
                  <a:pt x="127" y="441"/>
                </a:lnTo>
                <a:close/>
                <a:moveTo>
                  <a:pt x="75" y="408"/>
                </a:moveTo>
                <a:lnTo>
                  <a:pt x="70" y="405"/>
                </a:lnTo>
                <a:lnTo>
                  <a:pt x="53" y="391"/>
                </a:lnTo>
                <a:lnTo>
                  <a:pt x="50" y="386"/>
                </a:lnTo>
                <a:lnTo>
                  <a:pt x="50" y="385"/>
                </a:lnTo>
                <a:lnTo>
                  <a:pt x="50" y="384"/>
                </a:lnTo>
                <a:lnTo>
                  <a:pt x="50" y="384"/>
                </a:lnTo>
                <a:lnTo>
                  <a:pt x="52" y="384"/>
                </a:lnTo>
                <a:lnTo>
                  <a:pt x="52" y="384"/>
                </a:lnTo>
                <a:lnTo>
                  <a:pt x="55" y="384"/>
                </a:lnTo>
                <a:lnTo>
                  <a:pt x="59" y="389"/>
                </a:lnTo>
                <a:lnTo>
                  <a:pt x="74" y="402"/>
                </a:lnTo>
                <a:lnTo>
                  <a:pt x="79" y="406"/>
                </a:lnTo>
                <a:lnTo>
                  <a:pt x="81" y="407"/>
                </a:lnTo>
                <a:lnTo>
                  <a:pt x="79" y="407"/>
                </a:lnTo>
                <a:lnTo>
                  <a:pt x="79" y="408"/>
                </a:lnTo>
                <a:lnTo>
                  <a:pt x="77" y="408"/>
                </a:lnTo>
                <a:lnTo>
                  <a:pt x="75" y="408"/>
                </a:lnTo>
                <a:lnTo>
                  <a:pt x="75" y="408"/>
                </a:lnTo>
                <a:lnTo>
                  <a:pt x="75" y="408"/>
                </a:lnTo>
                <a:close/>
                <a:moveTo>
                  <a:pt x="33" y="371"/>
                </a:moveTo>
                <a:lnTo>
                  <a:pt x="28" y="364"/>
                </a:lnTo>
                <a:lnTo>
                  <a:pt x="19" y="349"/>
                </a:lnTo>
                <a:lnTo>
                  <a:pt x="17" y="345"/>
                </a:lnTo>
                <a:lnTo>
                  <a:pt x="15" y="344"/>
                </a:lnTo>
                <a:lnTo>
                  <a:pt x="17" y="344"/>
                </a:lnTo>
                <a:lnTo>
                  <a:pt x="17" y="343"/>
                </a:lnTo>
                <a:lnTo>
                  <a:pt x="19" y="343"/>
                </a:lnTo>
                <a:lnTo>
                  <a:pt x="20" y="343"/>
                </a:lnTo>
                <a:lnTo>
                  <a:pt x="20" y="343"/>
                </a:lnTo>
                <a:lnTo>
                  <a:pt x="22" y="344"/>
                </a:lnTo>
                <a:lnTo>
                  <a:pt x="24" y="348"/>
                </a:lnTo>
                <a:lnTo>
                  <a:pt x="33" y="361"/>
                </a:lnTo>
                <a:lnTo>
                  <a:pt x="39" y="368"/>
                </a:lnTo>
                <a:lnTo>
                  <a:pt x="39" y="368"/>
                </a:lnTo>
                <a:lnTo>
                  <a:pt x="39" y="370"/>
                </a:lnTo>
                <a:lnTo>
                  <a:pt x="39" y="371"/>
                </a:lnTo>
                <a:lnTo>
                  <a:pt x="37" y="371"/>
                </a:lnTo>
                <a:lnTo>
                  <a:pt x="35" y="371"/>
                </a:lnTo>
                <a:lnTo>
                  <a:pt x="33" y="371"/>
                </a:lnTo>
                <a:lnTo>
                  <a:pt x="33" y="371"/>
                </a:lnTo>
                <a:close/>
                <a:moveTo>
                  <a:pt x="8" y="327"/>
                </a:moveTo>
                <a:lnTo>
                  <a:pt x="6" y="320"/>
                </a:lnTo>
                <a:lnTo>
                  <a:pt x="2" y="306"/>
                </a:lnTo>
                <a:lnTo>
                  <a:pt x="2" y="305"/>
                </a:lnTo>
                <a:lnTo>
                  <a:pt x="2" y="303"/>
                </a:lnTo>
                <a:lnTo>
                  <a:pt x="4" y="303"/>
                </a:lnTo>
                <a:lnTo>
                  <a:pt x="6" y="303"/>
                </a:lnTo>
                <a:lnTo>
                  <a:pt x="8" y="305"/>
                </a:lnTo>
                <a:lnTo>
                  <a:pt x="11" y="319"/>
                </a:lnTo>
                <a:lnTo>
                  <a:pt x="13" y="326"/>
                </a:lnTo>
                <a:lnTo>
                  <a:pt x="13" y="326"/>
                </a:lnTo>
                <a:lnTo>
                  <a:pt x="13" y="327"/>
                </a:lnTo>
                <a:lnTo>
                  <a:pt x="11" y="329"/>
                </a:lnTo>
                <a:lnTo>
                  <a:pt x="9" y="329"/>
                </a:lnTo>
                <a:lnTo>
                  <a:pt x="8" y="329"/>
                </a:lnTo>
                <a:lnTo>
                  <a:pt x="8" y="327"/>
                </a:lnTo>
                <a:lnTo>
                  <a:pt x="8" y="3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8400" y="3106800"/>
            <a:ext cx="79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iration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7320" y="3228840"/>
            <a:ext cx="55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s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7680" y="335124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7320" y="347328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8040" y="359712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7680" y="37195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560" y="808200"/>
            <a:ext cx="1638000" cy="5006880"/>
          </a:xfrm>
          <a:custGeom>
            <a:avLst/>
            <a:gdLst/>
            <a:ahLst/>
            <a:rect l="l" t="t" r="r" b="b"/>
            <a:pathLst>
              <a:path w="2065" h="6308">
                <a:moveTo>
                  <a:pt x="2065" y="0"/>
                </a:moveTo>
                <a:lnTo>
                  <a:pt x="1940" y="159"/>
                </a:lnTo>
                <a:lnTo>
                  <a:pt x="1821" y="317"/>
                </a:lnTo>
                <a:lnTo>
                  <a:pt x="1705" y="475"/>
                </a:lnTo>
                <a:lnTo>
                  <a:pt x="1592" y="632"/>
                </a:lnTo>
                <a:lnTo>
                  <a:pt x="1483" y="786"/>
                </a:lnTo>
                <a:lnTo>
                  <a:pt x="1379" y="940"/>
                </a:lnTo>
                <a:lnTo>
                  <a:pt x="1278" y="1093"/>
                </a:lnTo>
                <a:lnTo>
                  <a:pt x="1182" y="1245"/>
                </a:lnTo>
                <a:lnTo>
                  <a:pt x="1089" y="1395"/>
                </a:lnTo>
                <a:lnTo>
                  <a:pt x="999" y="1544"/>
                </a:lnTo>
                <a:lnTo>
                  <a:pt x="914" y="1692"/>
                </a:lnTo>
                <a:lnTo>
                  <a:pt x="832" y="1838"/>
                </a:lnTo>
                <a:lnTo>
                  <a:pt x="755" y="1983"/>
                </a:lnTo>
                <a:lnTo>
                  <a:pt x="679" y="2126"/>
                </a:lnTo>
                <a:lnTo>
                  <a:pt x="610" y="2267"/>
                </a:lnTo>
                <a:lnTo>
                  <a:pt x="544" y="2408"/>
                </a:lnTo>
                <a:lnTo>
                  <a:pt x="481" y="2546"/>
                </a:lnTo>
                <a:lnTo>
                  <a:pt x="422" y="2683"/>
                </a:lnTo>
                <a:lnTo>
                  <a:pt x="367" y="2818"/>
                </a:lnTo>
                <a:lnTo>
                  <a:pt x="316" y="2951"/>
                </a:lnTo>
                <a:lnTo>
                  <a:pt x="268" y="3082"/>
                </a:lnTo>
                <a:lnTo>
                  <a:pt x="224" y="3212"/>
                </a:lnTo>
                <a:lnTo>
                  <a:pt x="186" y="3339"/>
                </a:lnTo>
                <a:lnTo>
                  <a:pt x="149" y="3465"/>
                </a:lnTo>
                <a:lnTo>
                  <a:pt x="118" y="3588"/>
                </a:lnTo>
                <a:lnTo>
                  <a:pt x="88" y="3710"/>
                </a:lnTo>
                <a:lnTo>
                  <a:pt x="64" y="3829"/>
                </a:lnTo>
                <a:lnTo>
                  <a:pt x="44" y="3946"/>
                </a:lnTo>
                <a:lnTo>
                  <a:pt x="28" y="4061"/>
                </a:lnTo>
                <a:lnTo>
                  <a:pt x="15" y="4173"/>
                </a:lnTo>
                <a:lnTo>
                  <a:pt x="6" y="4284"/>
                </a:lnTo>
                <a:lnTo>
                  <a:pt x="0" y="4391"/>
                </a:lnTo>
                <a:lnTo>
                  <a:pt x="0" y="4497"/>
                </a:lnTo>
                <a:lnTo>
                  <a:pt x="2" y="4599"/>
                </a:lnTo>
                <a:lnTo>
                  <a:pt x="9" y="4701"/>
                </a:lnTo>
                <a:lnTo>
                  <a:pt x="19" y="4798"/>
                </a:lnTo>
                <a:lnTo>
                  <a:pt x="33" y="4893"/>
                </a:lnTo>
                <a:lnTo>
                  <a:pt x="52" y="4986"/>
                </a:lnTo>
                <a:lnTo>
                  <a:pt x="74" y="5077"/>
                </a:lnTo>
                <a:lnTo>
                  <a:pt x="99" y="5163"/>
                </a:lnTo>
                <a:lnTo>
                  <a:pt x="129" y="5248"/>
                </a:lnTo>
                <a:lnTo>
                  <a:pt x="162" y="5330"/>
                </a:lnTo>
                <a:lnTo>
                  <a:pt x="200" y="5408"/>
                </a:lnTo>
                <a:lnTo>
                  <a:pt x="241" y="5484"/>
                </a:lnTo>
                <a:lnTo>
                  <a:pt x="287" y="5556"/>
                </a:lnTo>
                <a:lnTo>
                  <a:pt x="334" y="5626"/>
                </a:lnTo>
                <a:lnTo>
                  <a:pt x="388" y="5692"/>
                </a:lnTo>
                <a:lnTo>
                  <a:pt x="444" y="5756"/>
                </a:lnTo>
                <a:lnTo>
                  <a:pt x="474" y="5786"/>
                </a:lnTo>
                <a:lnTo>
                  <a:pt x="505" y="5817"/>
                </a:lnTo>
                <a:lnTo>
                  <a:pt x="536" y="5846"/>
                </a:lnTo>
                <a:lnTo>
                  <a:pt x="569" y="5873"/>
                </a:lnTo>
                <a:lnTo>
                  <a:pt x="602" y="5901"/>
                </a:lnTo>
                <a:lnTo>
                  <a:pt x="637" y="5928"/>
                </a:lnTo>
                <a:lnTo>
                  <a:pt x="674" y="5953"/>
                </a:lnTo>
                <a:lnTo>
                  <a:pt x="711" y="5978"/>
                </a:lnTo>
                <a:lnTo>
                  <a:pt x="747" y="6002"/>
                </a:lnTo>
                <a:lnTo>
                  <a:pt x="786" y="6025"/>
                </a:lnTo>
                <a:lnTo>
                  <a:pt x="824" y="6048"/>
                </a:lnTo>
                <a:lnTo>
                  <a:pt x="867" y="6069"/>
                </a:lnTo>
                <a:lnTo>
                  <a:pt x="907" y="6089"/>
                </a:lnTo>
                <a:lnTo>
                  <a:pt x="949" y="6109"/>
                </a:lnTo>
                <a:lnTo>
                  <a:pt x="993" y="6128"/>
                </a:lnTo>
                <a:lnTo>
                  <a:pt x="1037" y="6146"/>
                </a:lnTo>
                <a:lnTo>
                  <a:pt x="1083" y="6163"/>
                </a:lnTo>
                <a:lnTo>
                  <a:pt x="1129" y="6179"/>
                </a:lnTo>
                <a:lnTo>
                  <a:pt x="1177" y="6194"/>
                </a:lnTo>
                <a:lnTo>
                  <a:pt x="1225" y="6208"/>
                </a:lnTo>
                <a:lnTo>
                  <a:pt x="1274" y="6223"/>
                </a:lnTo>
                <a:lnTo>
                  <a:pt x="1324" y="6235"/>
                </a:lnTo>
                <a:lnTo>
                  <a:pt x="1375" y="6247"/>
                </a:lnTo>
                <a:lnTo>
                  <a:pt x="1426" y="6257"/>
                </a:lnTo>
                <a:lnTo>
                  <a:pt x="1480" y="6266"/>
                </a:lnTo>
                <a:lnTo>
                  <a:pt x="1535" y="6276"/>
                </a:lnTo>
                <a:lnTo>
                  <a:pt x="1588" y="6283"/>
                </a:lnTo>
                <a:lnTo>
                  <a:pt x="1645" y="6290"/>
                </a:lnTo>
                <a:lnTo>
                  <a:pt x="1702" y="6296"/>
                </a:lnTo>
                <a:lnTo>
                  <a:pt x="1761" y="6301"/>
                </a:lnTo>
                <a:lnTo>
                  <a:pt x="1819" y="6305"/>
                </a:lnTo>
                <a:lnTo>
                  <a:pt x="1878" y="6308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00120" y="5780160"/>
            <a:ext cx="163440" cy="69840"/>
          </a:xfrm>
          <a:custGeom>
            <a:avLst/>
            <a:gdLst/>
            <a:ahLst/>
            <a:rect l="l" t="t" r="r" b="b"/>
            <a:pathLst>
              <a:path w="205" h="88">
                <a:moveTo>
                  <a:pt x="0" y="88"/>
                </a:moveTo>
                <a:lnTo>
                  <a:pt x="205" y="47"/>
                </a:lnTo>
                <a:lnTo>
                  <a:pt x="3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5760" y="238284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96120" y="250524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95040" y="262728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must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95760" y="274968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d b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95040" y="2871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ob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19600" y="1784520"/>
            <a:ext cx="1003320" cy="2678040"/>
          </a:xfrm>
          <a:custGeom>
            <a:avLst/>
            <a:gdLst/>
            <a:ahLst/>
            <a:rect l="l" t="t" r="r" b="b"/>
            <a:pathLst>
              <a:path w="1264" h="3373">
                <a:moveTo>
                  <a:pt x="0" y="0"/>
                </a:moveTo>
                <a:lnTo>
                  <a:pt x="97" y="131"/>
                </a:lnTo>
                <a:lnTo>
                  <a:pt x="193" y="264"/>
                </a:lnTo>
                <a:lnTo>
                  <a:pt x="282" y="395"/>
                </a:lnTo>
                <a:lnTo>
                  <a:pt x="371" y="526"/>
                </a:lnTo>
                <a:lnTo>
                  <a:pt x="455" y="658"/>
                </a:lnTo>
                <a:lnTo>
                  <a:pt x="534" y="788"/>
                </a:lnTo>
                <a:lnTo>
                  <a:pt x="611" y="917"/>
                </a:lnTo>
                <a:lnTo>
                  <a:pt x="683" y="1046"/>
                </a:lnTo>
                <a:lnTo>
                  <a:pt x="751" y="1174"/>
                </a:lnTo>
                <a:lnTo>
                  <a:pt x="815" y="1299"/>
                </a:lnTo>
                <a:lnTo>
                  <a:pt x="875" y="1424"/>
                </a:lnTo>
                <a:lnTo>
                  <a:pt x="932" y="1547"/>
                </a:lnTo>
                <a:lnTo>
                  <a:pt x="984" y="1668"/>
                </a:lnTo>
                <a:lnTo>
                  <a:pt x="1031" y="1787"/>
                </a:lnTo>
                <a:lnTo>
                  <a:pt x="1075" y="1904"/>
                </a:lnTo>
                <a:lnTo>
                  <a:pt x="1114" y="2018"/>
                </a:lnTo>
                <a:lnTo>
                  <a:pt x="1149" y="2130"/>
                </a:lnTo>
                <a:lnTo>
                  <a:pt x="1180" y="2239"/>
                </a:lnTo>
                <a:lnTo>
                  <a:pt x="1206" y="2345"/>
                </a:lnTo>
                <a:lnTo>
                  <a:pt x="1217" y="2397"/>
                </a:lnTo>
                <a:lnTo>
                  <a:pt x="1226" y="2447"/>
                </a:lnTo>
                <a:lnTo>
                  <a:pt x="1235" y="2498"/>
                </a:lnTo>
                <a:lnTo>
                  <a:pt x="1242" y="2547"/>
                </a:lnTo>
                <a:lnTo>
                  <a:pt x="1250" y="2596"/>
                </a:lnTo>
                <a:lnTo>
                  <a:pt x="1255" y="2644"/>
                </a:lnTo>
                <a:lnTo>
                  <a:pt x="1259" y="2690"/>
                </a:lnTo>
                <a:lnTo>
                  <a:pt x="1261" y="2735"/>
                </a:lnTo>
                <a:lnTo>
                  <a:pt x="1263" y="2781"/>
                </a:lnTo>
                <a:lnTo>
                  <a:pt x="1264" y="2825"/>
                </a:lnTo>
                <a:lnTo>
                  <a:pt x="1263" y="2867"/>
                </a:lnTo>
                <a:lnTo>
                  <a:pt x="1261" y="2909"/>
                </a:lnTo>
                <a:lnTo>
                  <a:pt x="1259" y="2950"/>
                </a:lnTo>
                <a:lnTo>
                  <a:pt x="1253" y="2990"/>
                </a:lnTo>
                <a:lnTo>
                  <a:pt x="1248" y="3028"/>
                </a:lnTo>
                <a:lnTo>
                  <a:pt x="1241" y="3066"/>
                </a:lnTo>
                <a:lnTo>
                  <a:pt x="1233" y="3102"/>
                </a:lnTo>
                <a:lnTo>
                  <a:pt x="1224" y="3137"/>
                </a:lnTo>
                <a:lnTo>
                  <a:pt x="1213" y="3171"/>
                </a:lnTo>
                <a:lnTo>
                  <a:pt x="1200" y="3203"/>
                </a:lnTo>
                <a:lnTo>
                  <a:pt x="1187" y="3234"/>
                </a:lnTo>
                <a:lnTo>
                  <a:pt x="1173" y="3265"/>
                </a:lnTo>
                <a:lnTo>
                  <a:pt x="1158" y="3293"/>
                </a:lnTo>
                <a:lnTo>
                  <a:pt x="1140" y="3321"/>
                </a:lnTo>
                <a:lnTo>
                  <a:pt x="1121" y="3348"/>
                </a:lnTo>
                <a:lnTo>
                  <a:pt x="1101" y="337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05480" y="4433760"/>
            <a:ext cx="139680" cy="104760"/>
          </a:xfrm>
          <a:custGeom>
            <a:avLst/>
            <a:gdLst/>
            <a:ahLst/>
            <a:rect l="l" t="t" r="r" b="b"/>
            <a:pathLst>
              <a:path w="174" h="133">
                <a:moveTo>
                  <a:pt x="174" y="53"/>
                </a:moveTo>
                <a:lnTo>
                  <a:pt x="0" y="133"/>
                </a:lnTo>
                <a:lnTo>
                  <a:pt x="66" y="0"/>
                </a:lnTo>
                <a:lnTo>
                  <a:pt x="174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82760" y="274788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as f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82760" y="287028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p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5000" y="28702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82760" y="299232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68600" y="2473200"/>
            <a:ext cx="903240" cy="898560"/>
          </a:xfrm>
          <a:custGeom>
            <a:avLst/>
            <a:gdLst/>
            <a:ahLst/>
            <a:rect l="l" t="t" r="r" b="b"/>
            <a:pathLst>
              <a:path w="1139" h="1133">
                <a:moveTo>
                  <a:pt x="1139" y="0"/>
                </a:moveTo>
                <a:lnTo>
                  <a:pt x="1082" y="103"/>
                </a:lnTo>
                <a:lnTo>
                  <a:pt x="1021" y="203"/>
                </a:lnTo>
                <a:lnTo>
                  <a:pt x="957" y="301"/>
                </a:lnTo>
                <a:lnTo>
                  <a:pt x="924" y="348"/>
                </a:lnTo>
                <a:lnTo>
                  <a:pt x="889" y="395"/>
                </a:lnTo>
                <a:lnTo>
                  <a:pt x="854" y="440"/>
                </a:lnTo>
                <a:lnTo>
                  <a:pt x="819" y="485"/>
                </a:lnTo>
                <a:lnTo>
                  <a:pt x="784" y="529"/>
                </a:lnTo>
                <a:lnTo>
                  <a:pt x="748" y="572"/>
                </a:lnTo>
                <a:lnTo>
                  <a:pt x="711" y="614"/>
                </a:lnTo>
                <a:lnTo>
                  <a:pt x="674" y="654"/>
                </a:lnTo>
                <a:lnTo>
                  <a:pt x="637" y="693"/>
                </a:lnTo>
                <a:lnTo>
                  <a:pt x="599" y="732"/>
                </a:lnTo>
                <a:lnTo>
                  <a:pt x="562" y="768"/>
                </a:lnTo>
                <a:lnTo>
                  <a:pt x="524" y="804"/>
                </a:lnTo>
                <a:lnTo>
                  <a:pt x="485" y="838"/>
                </a:lnTo>
                <a:lnTo>
                  <a:pt x="447" y="871"/>
                </a:lnTo>
                <a:lnTo>
                  <a:pt x="408" y="902"/>
                </a:lnTo>
                <a:lnTo>
                  <a:pt x="371" y="932"/>
                </a:lnTo>
                <a:lnTo>
                  <a:pt x="333" y="960"/>
                </a:lnTo>
                <a:lnTo>
                  <a:pt x="294" y="986"/>
                </a:lnTo>
                <a:lnTo>
                  <a:pt x="256" y="1012"/>
                </a:lnTo>
                <a:lnTo>
                  <a:pt x="219" y="1034"/>
                </a:lnTo>
                <a:lnTo>
                  <a:pt x="180" y="1055"/>
                </a:lnTo>
                <a:lnTo>
                  <a:pt x="144" y="1074"/>
                </a:lnTo>
                <a:lnTo>
                  <a:pt x="107" y="1092"/>
                </a:lnTo>
                <a:lnTo>
                  <a:pt x="70" y="1108"/>
                </a:lnTo>
                <a:lnTo>
                  <a:pt x="35" y="1121"/>
                </a:lnTo>
                <a:lnTo>
                  <a:pt x="0" y="113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22800" y="3335400"/>
            <a:ext cx="169560" cy="69840"/>
          </a:xfrm>
          <a:custGeom>
            <a:avLst/>
            <a:gdLst/>
            <a:ahLst/>
            <a:rect l="l" t="t" r="r" b="b"/>
            <a:pathLst>
              <a:path w="213" h="87">
                <a:moveTo>
                  <a:pt x="213" y="87"/>
                </a:moveTo>
                <a:lnTo>
                  <a:pt x="0" y="70"/>
                </a:lnTo>
                <a:lnTo>
                  <a:pt x="185" y="0"/>
                </a:lnTo>
                <a:lnTo>
                  <a:pt x="213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90640" y="5854680"/>
            <a:ext cx="170532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854680"/>
            <a:ext cx="1705320" cy="230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52960" y="590724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90640" y="6084720"/>
            <a:ext cx="1705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90640" y="6084720"/>
            <a:ext cx="1705320" cy="228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80640" y="61372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90640" y="6313320"/>
            <a:ext cx="1705320" cy="4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90640" y="6313320"/>
            <a:ext cx="1705320" cy="470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81000" y="6364440"/>
            <a:ext cx="65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NewS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82520" y="6364440"/>
            <a:ext cx="6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81360" y="648648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I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37280" y="6486480"/>
            <a:ext cx="15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0640" y="66088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8840" y="5915160"/>
            <a:ext cx="214452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8840" y="5915160"/>
            <a:ext cx="2144520" cy="230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74880" y="5969160"/>
            <a:ext cx="87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Cat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8840" y="6145200"/>
            <a:ext cx="214452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38840" y="6145200"/>
            <a:ext cx="2144520" cy="230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27040" y="619920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8840" y="6375240"/>
            <a:ext cx="21445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8840" y="6375240"/>
            <a:ext cx="2144520" cy="3463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27760" y="6424560"/>
            <a:ext cx="100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Product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57040" y="6424560"/>
            <a:ext cx="154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7040" y="654840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95960" y="6318360"/>
            <a:ext cx="14428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02400" y="6273720"/>
            <a:ext cx="136440" cy="88920"/>
          </a:xfrm>
          <a:custGeom>
            <a:avLst/>
            <a:gdLst/>
            <a:ahLst/>
            <a:rect l="l" t="t" r="r" b="b"/>
            <a:pathLst>
              <a:path w="171" h="112">
                <a:moveTo>
                  <a:pt x="0" y="112"/>
                </a:moveTo>
                <a:lnTo>
                  <a:pt x="8" y="105"/>
                </a:lnTo>
                <a:lnTo>
                  <a:pt x="17" y="99"/>
                </a:lnTo>
                <a:lnTo>
                  <a:pt x="26" y="93"/>
                </a:lnTo>
                <a:lnTo>
                  <a:pt x="35" y="88"/>
                </a:lnTo>
                <a:lnTo>
                  <a:pt x="44" y="83"/>
                </a:lnTo>
                <a:lnTo>
                  <a:pt x="54" y="78"/>
                </a:lnTo>
                <a:lnTo>
                  <a:pt x="65" y="73"/>
                </a:lnTo>
                <a:lnTo>
                  <a:pt x="76" y="70"/>
                </a:lnTo>
                <a:lnTo>
                  <a:pt x="87" y="66"/>
                </a:lnTo>
                <a:lnTo>
                  <a:pt x="98" y="64"/>
                </a:lnTo>
                <a:lnTo>
                  <a:pt x="109" y="61"/>
                </a:lnTo>
                <a:lnTo>
                  <a:pt x="122" y="59"/>
                </a:lnTo>
                <a:lnTo>
                  <a:pt x="134" y="58"/>
                </a:lnTo>
                <a:lnTo>
                  <a:pt x="145" y="56"/>
                </a:lnTo>
                <a:lnTo>
                  <a:pt x="158" y="55"/>
                </a:lnTo>
                <a:lnTo>
                  <a:pt x="171" y="55"/>
                </a:lnTo>
                <a:lnTo>
                  <a:pt x="158" y="55"/>
                </a:lnTo>
                <a:lnTo>
                  <a:pt x="145" y="54"/>
                </a:lnTo>
                <a:lnTo>
                  <a:pt x="134" y="53"/>
                </a:lnTo>
                <a:lnTo>
                  <a:pt x="122" y="52"/>
                </a:lnTo>
                <a:lnTo>
                  <a:pt x="109" y="49"/>
                </a:lnTo>
                <a:lnTo>
                  <a:pt x="98" y="47"/>
                </a:lnTo>
                <a:lnTo>
                  <a:pt x="87" y="44"/>
                </a:lnTo>
                <a:lnTo>
                  <a:pt x="76" y="41"/>
                </a:lnTo>
                <a:lnTo>
                  <a:pt x="65" y="37"/>
                </a:lnTo>
                <a:lnTo>
                  <a:pt x="54" y="32"/>
                </a:lnTo>
                <a:lnTo>
                  <a:pt x="44" y="28"/>
                </a:lnTo>
                <a:lnTo>
                  <a:pt x="35" y="23"/>
                </a:lnTo>
                <a:lnTo>
                  <a:pt x="26" y="18"/>
                </a:lnTo>
                <a:lnTo>
                  <a:pt x="17" y="12"/>
                </a:lnTo>
                <a:lnTo>
                  <a:pt x="8" y="6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32480" y="6357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60480" y="6327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00360" y="2243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59560" y="2243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10320" y="22431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01080" y="236520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01440" y="261000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93000" y="2259000"/>
            <a:ext cx="405000" cy="2209680"/>
          </a:xfrm>
          <a:custGeom>
            <a:avLst/>
            <a:gdLst/>
            <a:ahLst/>
            <a:rect l="l" t="t" r="r" b="b"/>
            <a:pathLst>
              <a:path w="511" h="2784">
                <a:moveTo>
                  <a:pt x="0" y="0"/>
                </a:moveTo>
                <a:lnTo>
                  <a:pt x="42" y="111"/>
                </a:lnTo>
                <a:lnTo>
                  <a:pt x="83" y="221"/>
                </a:lnTo>
                <a:lnTo>
                  <a:pt x="121" y="331"/>
                </a:lnTo>
                <a:lnTo>
                  <a:pt x="158" y="440"/>
                </a:lnTo>
                <a:lnTo>
                  <a:pt x="195" y="550"/>
                </a:lnTo>
                <a:lnTo>
                  <a:pt x="228" y="657"/>
                </a:lnTo>
                <a:lnTo>
                  <a:pt x="261" y="766"/>
                </a:lnTo>
                <a:lnTo>
                  <a:pt x="290" y="872"/>
                </a:lnTo>
                <a:lnTo>
                  <a:pt x="318" y="978"/>
                </a:lnTo>
                <a:lnTo>
                  <a:pt x="345" y="1082"/>
                </a:lnTo>
                <a:lnTo>
                  <a:pt x="369" y="1184"/>
                </a:lnTo>
                <a:lnTo>
                  <a:pt x="391" y="1286"/>
                </a:lnTo>
                <a:lnTo>
                  <a:pt x="413" y="1385"/>
                </a:lnTo>
                <a:lnTo>
                  <a:pt x="432" y="1484"/>
                </a:lnTo>
                <a:lnTo>
                  <a:pt x="448" y="1579"/>
                </a:lnTo>
                <a:lnTo>
                  <a:pt x="463" y="1673"/>
                </a:lnTo>
                <a:lnTo>
                  <a:pt x="476" y="1765"/>
                </a:lnTo>
                <a:lnTo>
                  <a:pt x="487" y="1855"/>
                </a:lnTo>
                <a:lnTo>
                  <a:pt x="496" y="1942"/>
                </a:lnTo>
                <a:lnTo>
                  <a:pt x="503" y="2026"/>
                </a:lnTo>
                <a:lnTo>
                  <a:pt x="507" y="2108"/>
                </a:lnTo>
                <a:lnTo>
                  <a:pt x="509" y="2187"/>
                </a:lnTo>
                <a:lnTo>
                  <a:pt x="511" y="2263"/>
                </a:lnTo>
                <a:lnTo>
                  <a:pt x="509" y="2299"/>
                </a:lnTo>
                <a:lnTo>
                  <a:pt x="509" y="2335"/>
                </a:lnTo>
                <a:lnTo>
                  <a:pt x="507" y="2370"/>
                </a:lnTo>
                <a:lnTo>
                  <a:pt x="505" y="2404"/>
                </a:lnTo>
                <a:lnTo>
                  <a:pt x="501" y="2437"/>
                </a:lnTo>
                <a:lnTo>
                  <a:pt x="498" y="2470"/>
                </a:lnTo>
                <a:lnTo>
                  <a:pt x="494" y="2501"/>
                </a:lnTo>
                <a:lnTo>
                  <a:pt x="490" y="2533"/>
                </a:lnTo>
                <a:lnTo>
                  <a:pt x="485" y="2561"/>
                </a:lnTo>
                <a:lnTo>
                  <a:pt x="479" y="2590"/>
                </a:lnTo>
                <a:lnTo>
                  <a:pt x="474" y="2618"/>
                </a:lnTo>
                <a:lnTo>
                  <a:pt x="466" y="2645"/>
                </a:lnTo>
                <a:lnTo>
                  <a:pt x="459" y="2671"/>
                </a:lnTo>
                <a:lnTo>
                  <a:pt x="452" y="2695"/>
                </a:lnTo>
                <a:lnTo>
                  <a:pt x="443" y="2719"/>
                </a:lnTo>
                <a:lnTo>
                  <a:pt x="433" y="2742"/>
                </a:lnTo>
                <a:lnTo>
                  <a:pt x="424" y="2764"/>
                </a:lnTo>
                <a:lnTo>
                  <a:pt x="415" y="278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55080" y="4444920"/>
            <a:ext cx="120600" cy="109440"/>
          </a:xfrm>
          <a:custGeom>
            <a:avLst/>
            <a:gdLst/>
            <a:ahLst/>
            <a:rect l="l" t="t" r="r" b="b"/>
            <a:pathLst>
              <a:path w="152" h="139">
                <a:moveTo>
                  <a:pt x="152" y="41"/>
                </a:moveTo>
                <a:lnTo>
                  <a:pt x="0" y="139"/>
                </a:lnTo>
                <a:lnTo>
                  <a:pt x="31" y="0"/>
                </a:lnTo>
                <a:lnTo>
                  <a:pt x="15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26200" y="3693960"/>
            <a:ext cx="168480" cy="793800"/>
          </a:xfrm>
          <a:custGeom>
            <a:avLst/>
            <a:gdLst/>
            <a:ahLst/>
            <a:rect l="l" t="t" r="r" b="b"/>
            <a:pathLst>
              <a:path w="213" h="1002">
                <a:moveTo>
                  <a:pt x="194" y="0"/>
                </a:moveTo>
                <a:lnTo>
                  <a:pt x="203" y="79"/>
                </a:lnTo>
                <a:lnTo>
                  <a:pt x="209" y="156"/>
                </a:lnTo>
                <a:lnTo>
                  <a:pt x="213" y="233"/>
                </a:lnTo>
                <a:lnTo>
                  <a:pt x="213" y="309"/>
                </a:lnTo>
                <a:lnTo>
                  <a:pt x="209" y="382"/>
                </a:lnTo>
                <a:lnTo>
                  <a:pt x="203" y="455"/>
                </a:lnTo>
                <a:lnTo>
                  <a:pt x="194" y="524"/>
                </a:lnTo>
                <a:lnTo>
                  <a:pt x="183" y="591"/>
                </a:lnTo>
                <a:lnTo>
                  <a:pt x="169" y="656"/>
                </a:lnTo>
                <a:lnTo>
                  <a:pt x="161" y="687"/>
                </a:lnTo>
                <a:lnTo>
                  <a:pt x="152" y="717"/>
                </a:lnTo>
                <a:lnTo>
                  <a:pt x="143" y="746"/>
                </a:lnTo>
                <a:lnTo>
                  <a:pt x="132" y="775"/>
                </a:lnTo>
                <a:lnTo>
                  <a:pt x="121" y="802"/>
                </a:lnTo>
                <a:lnTo>
                  <a:pt x="110" y="829"/>
                </a:lnTo>
                <a:lnTo>
                  <a:pt x="99" y="855"/>
                </a:lnTo>
                <a:lnTo>
                  <a:pt x="86" y="879"/>
                </a:lnTo>
                <a:lnTo>
                  <a:pt x="73" y="902"/>
                </a:lnTo>
                <a:lnTo>
                  <a:pt x="58" y="925"/>
                </a:lnTo>
                <a:lnTo>
                  <a:pt x="46" y="945"/>
                </a:lnTo>
                <a:lnTo>
                  <a:pt x="31" y="966"/>
                </a:lnTo>
                <a:lnTo>
                  <a:pt x="14" y="984"/>
                </a:lnTo>
                <a:lnTo>
                  <a:pt x="0" y="100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8200" y="4456080"/>
            <a:ext cx="154080" cy="98280"/>
          </a:xfrm>
          <a:custGeom>
            <a:avLst/>
            <a:gdLst/>
            <a:ahLst/>
            <a:rect l="l" t="t" r="r" b="b"/>
            <a:pathLst>
              <a:path w="194" h="123">
                <a:moveTo>
                  <a:pt x="194" y="65"/>
                </a:moveTo>
                <a:lnTo>
                  <a:pt x="0" y="123"/>
                </a:lnTo>
                <a:lnTo>
                  <a:pt x="101" y="0"/>
                </a:lnTo>
                <a:lnTo>
                  <a:pt x="194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56600" y="3825720"/>
            <a:ext cx="51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em detai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41400" y="382572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56960" y="3948120"/>
            <a:ext cx="34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76440" y="394812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58040" y="40705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1295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Artifact relationships emphasizing influence on OO desig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89F-0B0F-4CEB-AD41-2A8BDFA103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High Cohesion Patter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roblem: How to keep objects focused, understandable, and manageable, and as a side effect, support Low Coupl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lution: Assign responsibilities so that cohesion remains high. Use this to evaluate alternativ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ohesion measures how functionally related the operations of a software element are, and how much work a software element is do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016-168A-4F34-B85F-2FD93507AE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11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Contrasging the level of cohesion in different designs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57200" y="1324080"/>
            <a:ext cx="8229600" cy="42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B59-042C-4180-A088-B29E0AA104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Responsibilities and Responsibility-Driven Design (RDD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DD is a metaphor for thinking about OO software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n RDD, we think of software objects as having responsibilities – an abstraction of what they 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Doing responsibilitie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of an object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oing something itself, such as creating an object or doing a calcul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Initiating action in other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Controlling or coordinating activities in other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Knowing responsibilitie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of an object inclu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Knowing about private encapsulated da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Knowing about related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Knowing about things it can derive or calcul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D61-1582-4EEF-A54C-7D4B078E0F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Responsibilit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esponsibilities are assigned to classes of objects during object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 responsibility is not the same thing as a method – it’s an abstraction – but methods fulfill responsibili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esponsibilities are implemented by means of methods that either act alone or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collaborat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with other methods and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8E8-76DF-4CCC-9279-E52A114BEE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g. 17.2</a:t>
            </a: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 Responsibilies and methods are relate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4EB-055C-48D2-9C31-4F2F655DE4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GRAS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RASP is a learning aid for OO design with responsibilities and for applying design reasoning in a methodological, rational, explainable 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RASP is based on patterns of assigning responsibilit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Cre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nformation Expe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Low Coup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High Cohe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.. (4 mo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6AA-1768-4C11-9B21-16342581BC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hat are Pattern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Experienced OO developers build up a repertoire of both general principles and idiomatic solutions that guide them in the creation of softwar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hese principles and idioms, if codified in a structured format describing the problem and solutions and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Comic Sans MS"/>
              </a:rPr>
              <a:t>name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 may be called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patterns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attern Name: Information Expe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Problem: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Solution: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41B-03CC-478A-9F55-C65B21B96C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he Gang-of-Four Design Patterns Boo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Erich Gam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ichard 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Ralph John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John Vliss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Describes 23 patterns for OO desig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361-728D-4E65-87FF-3D960907EC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Creator  Patter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Problem: Who creates an 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Solution: Assign class B the responsibility to create an instance of class A if one (or more) of these is (are) tru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 contains or compositely aggregates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 records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 closely uses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 has the initializing data for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- Nov.27,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DC0-5457-4D4B-84EB-5AA6BF83D3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Kivanc Dinc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IVANCD</dc:creator>
  <dc:description>RLSD 61127 </dc:description>
  <dc:language>en-US</dc:language>
  <cp:lastModifiedBy>KIVANCD</cp:lastModifiedBy>
  <dcterms:modified xsi:type="dcterms:W3CDTF">2006-11-28T05:30:26Z</dcterms:modified>
  <cp:revision>21</cp:revision>
  <dc:subject/>
  <dc:title>Object Oriented Analysis and Design - Chapter 17</dc:title>
</cp:coreProperties>
</file>