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1.wmf" ContentType="image/x-wmf"/>
  <Override PartName="/ppt/media/image1.jpeg" ContentType="image/jpeg"/>
  <Override PartName="/ppt/media/image4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9EA-497F-469C-8CB3-FAA74894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1CA-6223-48F9-872C-2F3ED5FA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FF3-C78E-4DF2-8F13-4C7658F0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9B7-CE29-42A4-8064-987BDA91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8C8-8139-4DC2-8281-27495755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D91-5BE5-4F53-BD41-B447280C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52F-411E-4E51-8EC1-7AADA385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3E0-515D-4F27-AC78-C9800831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17E-304A-4ACA-BAC2-C6D34905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CD6-5A15-4EB6-A154-D2C12971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2DC-5F94-48EA-9FCA-7E722A2B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32C-20F9-4E9F-AEB1-B1BC52B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00440"/>
            <a:ext cx="359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47F7-4036-4FAB-A175-8B953A2E91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BJECT-ORIENTED ANALYSIS AND DESIG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escribe the book goals and scop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efine OOA/D (Object-Oriented Analysis and Desig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Illustrate a brief OOA/D examp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Overview UML and visual agile model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905120"/>
            <a:ext cx="6477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Time is a great teacher, but unfortunately it kills all its pupils.” </a:t>
            </a:r>
            <a:br>
              <a:rPr sz="1600"/>
            </a:b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- Hector Berlio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ign Patter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tain tried-and-true solutions to design problems have been expressed as principles of best practice, often in the form of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esign Patter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esign Patte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named problem solution formula that apply excellent design princip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699-E6F1-45E2-87E1-ABFDD6280D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Unified Process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(UP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ndardized approach to analysis and design helps to ensure that all necessary tasks are understood and completed in software develop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Requirements analysis and OOA/D needs to be presented and practiced in the context of some development proces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Here, an </a:t>
            </a:r>
            <a:r>
              <a:rPr b="0" lang="tr-TR" sz="2000" spc="-1" strike="noStrike">
                <a:solidFill>
                  <a:srgbClr val="ff9900"/>
                </a:solidFill>
                <a:latin typeface="Comic Sans MS"/>
              </a:rPr>
              <a:t>agile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(light, flexible) approach to well-known Unified Process (UP) is used as a sample iterative development pro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2F0-42BC-4729-9CB9-04070C4B3C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Unified Modeling Language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ML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L is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the de fac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tandar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ramming notation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for drawing or presenting pictures related to OO softw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ff0000"/>
                </a:solidFill>
                <a:uFillTx/>
                <a:latin typeface="Comic Sans MS"/>
              </a:rPr>
              <a:t>UML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is a visual language for specifying, constructing and documenting the artifacts of OO syste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ing UML helps you communicate with others in creating software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A2E-D3CE-4BD9-A345-0D40AE5E49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Three ways people apply UML are ..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UML as ske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Informal and incomplet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grams (often hand sketched on whiteboards) created to explore difficult parts of the problem or solution sp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Agile modeling emphasizes UML </a:t>
            </a:r>
            <a:r>
              <a:rPr b="0" i="1" lang="tr-TR" sz="1800" spc="-1" strike="noStrike">
                <a:solidFill>
                  <a:srgbClr val="000000"/>
                </a:solidFill>
                <a:latin typeface="Comic Sans MS"/>
              </a:rPr>
              <a:t>as sketch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UML as bluepr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relatively detailed design diagrams used either for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reverse engineering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visualize and better understand existing code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or for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forward engineering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guide for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cod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ion, either manually or automatically with a too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UML as a programming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te executable specification of a sw system in UM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057-B8B6-40A6-B327-FEF4D704D7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Thre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pective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apply UML are ..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Conceptual perspectiv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– the diagrams are interpreted as describing things in a situation of the real world or domain of inter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Specification (software) perspectiv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– the diagrams describe sw abstractions or components with specifications and interfaces, but no commitment to a particular language implemen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Implementation perspectiv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– the diagrams describe sw implementations in a particular technolog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2DD-C0B1-4E5B-89A0-7604FE01E6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566720"/>
          <a:ext cx="822960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66720"/>
                    <a:ext cx="822960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6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Different perspectives with U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360" y="562464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ractice, most software-oriented UML diagramming assumes an implementation perspective and the specification perspective is seldom used for desig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7A1-B856-4EFF-B410-C824D5EE9BB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meaning of 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n different persp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ceptual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real-world concept or thing. A conceptual or essential perspectiv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P Domain Model contains conceptual clas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ftware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class representing a specification or implementation perspective of a sw development, regardless of the process or meth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mplementation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class implemented in a specific OO language such as Jav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198-70D2-455D-9710-649FCCD8CF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A Short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OA/D steps of a small “Dice Game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Use C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 Domain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Interaction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Design Class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41A-59D0-4030-AA20-B77E6B27CB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Use Case: Play a Dice Ga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Player requests to roll the dice. System presents results. If the dice face value totals seven, player wins; otherwise, player lo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-67680" y="90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356-7F68-4986-A88B-27E722425B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649520"/>
          <a:ext cx="8229600" cy="38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49520"/>
                    <a:ext cx="8229600" cy="38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3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Partial domain model (conceptual object model) of the dice g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19160" y="9036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a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360" y="562464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omain model shows the </a:t>
            </a:r>
            <a:r>
              <a:rPr b="0" i="1" lang="tr-TR" sz="1800" spc="-1" strike="noStrike">
                <a:solidFill>
                  <a:srgbClr val="000000"/>
                </a:solidFill>
                <a:latin typeface="Times New Roman"/>
              </a:rPr>
              <a:t>noteworthy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domain concepts as objects, their attributes, and associ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47F-575B-40DC-8C0F-871E1E2D942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lying UML and Patter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6934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Larman’s book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s a tool to help developers/students learn core skills in OOA/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These skills are essential for the creation of well-designed, robust, and maintainable software using OO technologies and languages such as Java or C#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Knowing an object oriented language is necessary but insufficient first step to create object systems. Knowing how to “</a:t>
            </a:r>
            <a:r>
              <a:rPr b="0" lang="tr-TR" sz="1800" spc="-1" strike="noStrike">
                <a:solidFill>
                  <a:srgbClr val="cc00cc"/>
                </a:solidFill>
                <a:latin typeface="Comic Sans MS"/>
              </a:rPr>
              <a:t>think in objects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” is critic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 algn="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Comic Sans MS"/>
              </a:rPr>
              <a:t>Owning a hammer doesn’t make one an architect”  (Prover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585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798-8A28-4947-A6CD-4ACAD830E8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332000"/>
            <a:ext cx="84582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4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Sequence diagram illustrating messages between software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81520" y="90360"/>
            <a:ext cx="90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bject Responsibilities and 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6D1-2418-451D-8204-87F056129A4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065240"/>
            <a:ext cx="8229600" cy="4727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4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Sequence diagram illustrating messages between software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360" y="562464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 sequence diagram (a kind of UML interaction diagram) shows the flow of messages between software objects and thus the invocation of ob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4D6-DA20-42A4-93B0-404466240A8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2347920"/>
          <a:ext cx="822960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47920"/>
                    <a:ext cx="822960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5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Partial design class diagram (software clas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139680" y="9036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Design Class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360" y="562464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 static view of the class (including its attributes and methods) definitions is usefully shown with a UML class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21E-9371-4410-B3C2-EE61C66A98B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Chapter 2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ITERATIVE, EVOLUTIONARY, AND AG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Provide motivation for the content and order of the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efine an iterative and agil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efine fundamental concepts in the Unified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1905120"/>
            <a:ext cx="6477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You should use iterative development only on projects that you want to succeed.” </a:t>
            </a:r>
            <a:br>
              <a:rPr sz="1600"/>
            </a:b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- Martin Fow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56C-D2A3-40CE-9662-AE1E12378529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aterfall (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quential) Lifecyc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otes big up-front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peculativ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irements and design steps before programm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historically promoted due to belief or hearsay rather than statistically significant evidence.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/failure studies show that the waterfall is strongly associated with the highest failure rates   for software projec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On average, 45% of the features are never used, and early schedules and estimates vary up to 400% from the actua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We should approac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uthor’s such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claim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carefully!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D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D7C-46E8-4AFF-A3ED-4864E8B32B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Why the waterfall lifecycle fail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The key false assump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The specifications are predictable and stable and can be correctly defined at the start, with low change ra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change is a constant on soft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projec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A typical software project experienced a 25% change in requirement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ehm and Papaccio 198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32C-BABD-4804-A471-4958FF6CD4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3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Percentage of change on software projects of varying sizes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(Jones 199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2840" y="880920"/>
          <a:ext cx="668988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880920"/>
                    <a:ext cx="668988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4B1-E98E-4396-95CF-35416792CAD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terative and Evolutionary Develop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volves early programming and testing of a partial system, in repeating cyc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es on short quick development steps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(or </a:t>
            </a:r>
            <a:r>
              <a:rPr b="0" lang="tr-TR" sz="2000" spc="-1" strike="noStrike">
                <a:solidFill>
                  <a:srgbClr val="3333cc"/>
                </a:solidFill>
                <a:latin typeface="Comic Sans MS"/>
              </a:rPr>
              <a:t>iterations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larify the requirements and desig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s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ively enlarging and refining a system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ly assumes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that th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ment starts before all requirements are defined in detail, feedback is used to clarify and improve the evolving specifica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teration will include requirements, analysis, design, implementatio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, and t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Current 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earch demonstrates that iterative methods are associated with higher success and productivity rates, and lower defect levels.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F2A-7ECE-4A4F-8833-BE83274B1F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2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Iterative feedback and evolution leads towards the desired system. The requirements and design instability lowers over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42800" y="1719360"/>
          <a:ext cx="82296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719360"/>
                    <a:ext cx="82296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9DA-BC21-4481-B76F-9DBEC5CDDCE5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Timebox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A key idea is that iterations are </a:t>
            </a:r>
            <a:r>
              <a:rPr b="0" lang="tr-TR" sz="2400" spc="-1" strike="noStrike" u="sng">
                <a:solidFill>
                  <a:srgbClr val="ff0000"/>
                </a:solidFill>
                <a:uFillTx/>
                <a:latin typeface="Comic Sans MS"/>
              </a:rPr>
              <a:t>timeboxed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, or fixed in leng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Most iterative methods recommend in iteration length bw 2 – 6 week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If it seems that it will be difficult to meet the deadline, the recommended response is to de-scop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f0000"/>
                </a:solidFill>
                <a:uFillTx/>
                <a:latin typeface="Comic Sans MS"/>
              </a:rPr>
              <a:t>De-scoping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: removing tasks or requirements from the iteration, and including them in a future iteration, rather than slipping the completion d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82A-CE6F-4635-A60C-A061C2126E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403280" y="838080"/>
            <a:ext cx="6259680" cy="5022720"/>
            <a:chOff x="1403280" y="838080"/>
            <a:chExt cx="6259680" cy="5022720"/>
          </a:xfrm>
        </p:grpSpPr>
        <p:sp>
          <p:nvSpPr>
            <p:cNvPr id="48" name=""/>
            <p:cNvSpPr/>
            <p:nvPr/>
          </p:nvSpPr>
          <p:spPr>
            <a:xfrm>
              <a:off x="3603600" y="2849400"/>
              <a:ext cx="1989000" cy="968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03600" y="2849400"/>
              <a:ext cx="1989000" cy="968400"/>
            </a:xfrm>
            <a:prstGeom prst="rect">
              <a:avLst/>
            </a:prstGeom>
            <a:noFill/>
            <a:ln w="4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3280" y="2720880"/>
              <a:ext cx="1989360" cy="9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73280" y="2720880"/>
              <a:ext cx="1989360" cy="966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66320" y="3090600"/>
              <a:ext cx="155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Topics and Skil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26160" y="1774440"/>
              <a:ext cx="1936800" cy="966960"/>
            </a:xfrm>
            <a:custGeom>
              <a:avLst/>
              <a:gdLst/>
              <a:ahLst/>
              <a:rect l="l" t="t" r="r" b="b"/>
              <a:pathLst>
                <a:path w="1220" h="609">
                  <a:moveTo>
                    <a:pt x="0" y="304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3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8"/>
                  </a:lnTo>
                  <a:lnTo>
                    <a:pt x="10" y="250"/>
                  </a:lnTo>
                  <a:lnTo>
                    <a:pt x="13" y="243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1"/>
                  </a:lnTo>
                  <a:lnTo>
                    <a:pt x="29" y="214"/>
                  </a:lnTo>
                  <a:lnTo>
                    <a:pt x="33" y="207"/>
                  </a:lnTo>
                  <a:lnTo>
                    <a:pt x="38" y="199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4" y="179"/>
                  </a:lnTo>
                  <a:lnTo>
                    <a:pt x="61" y="172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2" y="153"/>
                  </a:lnTo>
                  <a:lnTo>
                    <a:pt x="88" y="146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8"/>
                  </a:lnTo>
                  <a:lnTo>
                    <a:pt x="122" y="123"/>
                  </a:lnTo>
                  <a:lnTo>
                    <a:pt x="140" y="111"/>
                  </a:lnTo>
                  <a:lnTo>
                    <a:pt x="159" y="100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0"/>
                  </a:lnTo>
                  <a:lnTo>
                    <a:pt x="373" y="23"/>
                  </a:lnTo>
                  <a:lnTo>
                    <a:pt x="401" y="19"/>
                  </a:lnTo>
                  <a:lnTo>
                    <a:pt x="429" y="13"/>
                  </a:lnTo>
                  <a:lnTo>
                    <a:pt x="458" y="10"/>
                  </a:lnTo>
                  <a:lnTo>
                    <a:pt x="487" y="6"/>
                  </a:lnTo>
                  <a:lnTo>
                    <a:pt x="517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2"/>
                  </a:lnTo>
                  <a:lnTo>
                    <a:pt x="704" y="3"/>
                  </a:lnTo>
                  <a:lnTo>
                    <a:pt x="733" y="6"/>
                  </a:lnTo>
                  <a:lnTo>
                    <a:pt x="762" y="10"/>
                  </a:lnTo>
                  <a:lnTo>
                    <a:pt x="792" y="13"/>
                  </a:lnTo>
                  <a:lnTo>
                    <a:pt x="820" y="19"/>
                  </a:lnTo>
                  <a:lnTo>
                    <a:pt x="847" y="23"/>
                  </a:lnTo>
                  <a:lnTo>
                    <a:pt x="874" y="30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1" y="100"/>
                  </a:lnTo>
                  <a:lnTo>
                    <a:pt x="1081" y="111"/>
                  </a:lnTo>
                  <a:lnTo>
                    <a:pt x="1099" y="123"/>
                  </a:lnTo>
                  <a:lnTo>
                    <a:pt x="1108" y="128"/>
                  </a:lnTo>
                  <a:lnTo>
                    <a:pt x="1116" y="134"/>
                  </a:lnTo>
                  <a:lnTo>
                    <a:pt x="1124" y="141"/>
                  </a:lnTo>
                  <a:lnTo>
                    <a:pt x="1131" y="146"/>
                  </a:lnTo>
                  <a:lnTo>
                    <a:pt x="1139" y="153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2"/>
                  </a:lnTo>
                  <a:lnTo>
                    <a:pt x="1166" y="179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3" y="199"/>
                  </a:lnTo>
                  <a:lnTo>
                    <a:pt x="1188" y="207"/>
                  </a:lnTo>
                  <a:lnTo>
                    <a:pt x="1192" y="214"/>
                  </a:lnTo>
                  <a:lnTo>
                    <a:pt x="1197" y="221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3"/>
                  </a:lnTo>
                  <a:lnTo>
                    <a:pt x="1211" y="250"/>
                  </a:lnTo>
                  <a:lnTo>
                    <a:pt x="1213" y="258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8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4"/>
                  </a:lnTo>
                  <a:lnTo>
                    <a:pt x="1220" y="304"/>
                  </a:lnTo>
                  <a:lnTo>
                    <a:pt x="1220" y="312"/>
                  </a:lnTo>
                  <a:lnTo>
                    <a:pt x="1220" y="320"/>
                  </a:lnTo>
                  <a:lnTo>
                    <a:pt x="1218" y="328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3"/>
                  </a:lnTo>
                  <a:lnTo>
                    <a:pt x="1200" y="381"/>
                  </a:lnTo>
                  <a:lnTo>
                    <a:pt x="1197" y="388"/>
                  </a:lnTo>
                  <a:lnTo>
                    <a:pt x="1192" y="396"/>
                  </a:lnTo>
                  <a:lnTo>
                    <a:pt x="1188" y="403"/>
                  </a:lnTo>
                  <a:lnTo>
                    <a:pt x="1183" y="409"/>
                  </a:lnTo>
                  <a:lnTo>
                    <a:pt x="1178" y="416"/>
                  </a:lnTo>
                  <a:lnTo>
                    <a:pt x="1172" y="423"/>
                  </a:lnTo>
                  <a:lnTo>
                    <a:pt x="1166" y="430"/>
                  </a:lnTo>
                  <a:lnTo>
                    <a:pt x="1160" y="437"/>
                  </a:lnTo>
                  <a:lnTo>
                    <a:pt x="1153" y="443"/>
                  </a:lnTo>
                  <a:lnTo>
                    <a:pt x="1146" y="450"/>
                  </a:lnTo>
                  <a:lnTo>
                    <a:pt x="1139" y="457"/>
                  </a:lnTo>
                  <a:lnTo>
                    <a:pt x="1131" y="462"/>
                  </a:lnTo>
                  <a:lnTo>
                    <a:pt x="1124" y="469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7"/>
                  </a:lnTo>
                  <a:lnTo>
                    <a:pt x="1081" y="499"/>
                  </a:lnTo>
                  <a:lnTo>
                    <a:pt x="1061" y="510"/>
                  </a:lnTo>
                  <a:lnTo>
                    <a:pt x="1041" y="520"/>
                  </a:lnTo>
                  <a:lnTo>
                    <a:pt x="1020" y="530"/>
                  </a:lnTo>
                  <a:lnTo>
                    <a:pt x="998" y="540"/>
                  </a:lnTo>
                  <a:lnTo>
                    <a:pt x="975" y="549"/>
                  </a:lnTo>
                  <a:lnTo>
                    <a:pt x="951" y="557"/>
                  </a:lnTo>
                  <a:lnTo>
                    <a:pt x="926" y="565"/>
                  </a:lnTo>
                  <a:lnTo>
                    <a:pt x="901" y="573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1"/>
                  </a:lnTo>
                  <a:lnTo>
                    <a:pt x="792" y="596"/>
                  </a:lnTo>
                  <a:lnTo>
                    <a:pt x="762" y="600"/>
                  </a:lnTo>
                  <a:lnTo>
                    <a:pt x="733" y="604"/>
                  </a:lnTo>
                  <a:lnTo>
                    <a:pt x="702" y="606"/>
                  </a:lnTo>
                  <a:lnTo>
                    <a:pt x="672" y="608"/>
                  </a:lnTo>
                  <a:lnTo>
                    <a:pt x="642" y="609"/>
                  </a:lnTo>
                  <a:lnTo>
                    <a:pt x="610" y="609"/>
                  </a:lnTo>
                  <a:lnTo>
                    <a:pt x="578" y="609"/>
                  </a:lnTo>
                  <a:lnTo>
                    <a:pt x="548" y="608"/>
                  </a:lnTo>
                  <a:lnTo>
                    <a:pt x="517" y="606"/>
                  </a:lnTo>
                  <a:lnTo>
                    <a:pt x="487" y="604"/>
                  </a:lnTo>
                  <a:lnTo>
                    <a:pt x="458" y="600"/>
                  </a:lnTo>
                  <a:lnTo>
                    <a:pt x="429" y="596"/>
                  </a:lnTo>
                  <a:lnTo>
                    <a:pt x="401" y="591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3"/>
                  </a:lnTo>
                  <a:lnTo>
                    <a:pt x="294" y="565"/>
                  </a:lnTo>
                  <a:lnTo>
                    <a:pt x="269" y="557"/>
                  </a:lnTo>
                  <a:lnTo>
                    <a:pt x="245" y="549"/>
                  </a:lnTo>
                  <a:lnTo>
                    <a:pt x="223" y="540"/>
                  </a:lnTo>
                  <a:lnTo>
                    <a:pt x="200" y="530"/>
                  </a:lnTo>
                  <a:lnTo>
                    <a:pt x="179" y="520"/>
                  </a:lnTo>
                  <a:lnTo>
                    <a:pt x="159" y="510"/>
                  </a:lnTo>
                  <a:lnTo>
                    <a:pt x="140" y="499"/>
                  </a:lnTo>
                  <a:lnTo>
                    <a:pt x="122" y="487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69"/>
                  </a:lnTo>
                  <a:lnTo>
                    <a:pt x="88" y="462"/>
                  </a:lnTo>
                  <a:lnTo>
                    <a:pt x="82" y="457"/>
                  </a:lnTo>
                  <a:lnTo>
                    <a:pt x="74" y="450"/>
                  </a:lnTo>
                  <a:lnTo>
                    <a:pt x="67" y="443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8" y="409"/>
                  </a:lnTo>
                  <a:lnTo>
                    <a:pt x="33" y="403"/>
                  </a:lnTo>
                  <a:lnTo>
                    <a:pt x="29" y="396"/>
                  </a:lnTo>
                  <a:lnTo>
                    <a:pt x="24" y="388"/>
                  </a:lnTo>
                  <a:lnTo>
                    <a:pt x="19" y="381"/>
                  </a:lnTo>
                  <a:lnTo>
                    <a:pt x="16" y="373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3" y="328"/>
                  </a:lnTo>
                  <a:lnTo>
                    <a:pt x="1" y="320"/>
                  </a:lnTo>
                  <a:lnTo>
                    <a:pt x="0" y="31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6160" y="1774440"/>
              <a:ext cx="1936800" cy="966960"/>
            </a:xfrm>
            <a:custGeom>
              <a:avLst/>
              <a:gdLst/>
              <a:ahLst/>
              <a:rect l="l" t="t" r="r" b="b"/>
              <a:pathLst>
                <a:path w="1220" h="609">
                  <a:moveTo>
                    <a:pt x="0" y="304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3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8"/>
                  </a:lnTo>
                  <a:lnTo>
                    <a:pt x="10" y="250"/>
                  </a:lnTo>
                  <a:lnTo>
                    <a:pt x="13" y="243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1"/>
                  </a:lnTo>
                  <a:lnTo>
                    <a:pt x="29" y="214"/>
                  </a:lnTo>
                  <a:lnTo>
                    <a:pt x="33" y="207"/>
                  </a:lnTo>
                  <a:lnTo>
                    <a:pt x="38" y="199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4" y="179"/>
                  </a:lnTo>
                  <a:lnTo>
                    <a:pt x="61" y="172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2" y="153"/>
                  </a:lnTo>
                  <a:lnTo>
                    <a:pt x="88" y="146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8"/>
                  </a:lnTo>
                  <a:lnTo>
                    <a:pt x="122" y="123"/>
                  </a:lnTo>
                  <a:lnTo>
                    <a:pt x="140" y="111"/>
                  </a:lnTo>
                  <a:lnTo>
                    <a:pt x="159" y="100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0"/>
                  </a:lnTo>
                  <a:lnTo>
                    <a:pt x="373" y="23"/>
                  </a:lnTo>
                  <a:lnTo>
                    <a:pt x="401" y="19"/>
                  </a:lnTo>
                  <a:lnTo>
                    <a:pt x="429" y="13"/>
                  </a:lnTo>
                  <a:lnTo>
                    <a:pt x="458" y="10"/>
                  </a:lnTo>
                  <a:lnTo>
                    <a:pt x="487" y="6"/>
                  </a:lnTo>
                  <a:lnTo>
                    <a:pt x="517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2"/>
                  </a:lnTo>
                  <a:lnTo>
                    <a:pt x="704" y="3"/>
                  </a:lnTo>
                  <a:lnTo>
                    <a:pt x="733" y="6"/>
                  </a:lnTo>
                  <a:lnTo>
                    <a:pt x="762" y="10"/>
                  </a:lnTo>
                  <a:lnTo>
                    <a:pt x="792" y="13"/>
                  </a:lnTo>
                  <a:lnTo>
                    <a:pt x="820" y="19"/>
                  </a:lnTo>
                  <a:lnTo>
                    <a:pt x="847" y="23"/>
                  </a:lnTo>
                  <a:lnTo>
                    <a:pt x="874" y="30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1" y="100"/>
                  </a:lnTo>
                  <a:lnTo>
                    <a:pt x="1081" y="111"/>
                  </a:lnTo>
                  <a:lnTo>
                    <a:pt x="1099" y="123"/>
                  </a:lnTo>
                  <a:lnTo>
                    <a:pt x="1108" y="128"/>
                  </a:lnTo>
                  <a:lnTo>
                    <a:pt x="1116" y="134"/>
                  </a:lnTo>
                  <a:lnTo>
                    <a:pt x="1124" y="141"/>
                  </a:lnTo>
                  <a:lnTo>
                    <a:pt x="1131" y="146"/>
                  </a:lnTo>
                  <a:lnTo>
                    <a:pt x="1139" y="153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2"/>
                  </a:lnTo>
                  <a:lnTo>
                    <a:pt x="1166" y="179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3" y="199"/>
                  </a:lnTo>
                  <a:lnTo>
                    <a:pt x="1188" y="207"/>
                  </a:lnTo>
                  <a:lnTo>
                    <a:pt x="1192" y="214"/>
                  </a:lnTo>
                  <a:lnTo>
                    <a:pt x="1197" y="221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3"/>
                  </a:lnTo>
                  <a:lnTo>
                    <a:pt x="1211" y="250"/>
                  </a:lnTo>
                  <a:lnTo>
                    <a:pt x="1213" y="258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8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4"/>
                  </a:lnTo>
                  <a:lnTo>
                    <a:pt x="1220" y="304"/>
                  </a:lnTo>
                  <a:lnTo>
                    <a:pt x="1220" y="312"/>
                  </a:lnTo>
                  <a:lnTo>
                    <a:pt x="1220" y="320"/>
                  </a:lnTo>
                  <a:lnTo>
                    <a:pt x="1218" y="328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3"/>
                  </a:lnTo>
                  <a:lnTo>
                    <a:pt x="1200" y="381"/>
                  </a:lnTo>
                  <a:lnTo>
                    <a:pt x="1197" y="388"/>
                  </a:lnTo>
                  <a:lnTo>
                    <a:pt x="1192" y="396"/>
                  </a:lnTo>
                  <a:lnTo>
                    <a:pt x="1188" y="403"/>
                  </a:lnTo>
                  <a:lnTo>
                    <a:pt x="1183" y="409"/>
                  </a:lnTo>
                  <a:lnTo>
                    <a:pt x="1178" y="416"/>
                  </a:lnTo>
                  <a:lnTo>
                    <a:pt x="1172" y="423"/>
                  </a:lnTo>
                  <a:lnTo>
                    <a:pt x="1166" y="430"/>
                  </a:lnTo>
                  <a:lnTo>
                    <a:pt x="1160" y="437"/>
                  </a:lnTo>
                  <a:lnTo>
                    <a:pt x="1153" y="443"/>
                  </a:lnTo>
                  <a:lnTo>
                    <a:pt x="1146" y="450"/>
                  </a:lnTo>
                  <a:lnTo>
                    <a:pt x="1139" y="457"/>
                  </a:lnTo>
                  <a:lnTo>
                    <a:pt x="1131" y="462"/>
                  </a:lnTo>
                  <a:lnTo>
                    <a:pt x="1124" y="469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7"/>
                  </a:lnTo>
                  <a:lnTo>
                    <a:pt x="1081" y="499"/>
                  </a:lnTo>
                  <a:lnTo>
                    <a:pt x="1061" y="510"/>
                  </a:lnTo>
                  <a:lnTo>
                    <a:pt x="1041" y="520"/>
                  </a:lnTo>
                  <a:lnTo>
                    <a:pt x="1020" y="530"/>
                  </a:lnTo>
                  <a:lnTo>
                    <a:pt x="998" y="540"/>
                  </a:lnTo>
                  <a:lnTo>
                    <a:pt x="975" y="549"/>
                  </a:lnTo>
                  <a:lnTo>
                    <a:pt x="951" y="557"/>
                  </a:lnTo>
                  <a:lnTo>
                    <a:pt x="926" y="565"/>
                  </a:lnTo>
                  <a:lnTo>
                    <a:pt x="901" y="573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1"/>
                  </a:lnTo>
                  <a:lnTo>
                    <a:pt x="792" y="596"/>
                  </a:lnTo>
                  <a:lnTo>
                    <a:pt x="762" y="600"/>
                  </a:lnTo>
                  <a:lnTo>
                    <a:pt x="733" y="604"/>
                  </a:lnTo>
                  <a:lnTo>
                    <a:pt x="702" y="606"/>
                  </a:lnTo>
                  <a:lnTo>
                    <a:pt x="672" y="608"/>
                  </a:lnTo>
                  <a:lnTo>
                    <a:pt x="642" y="609"/>
                  </a:lnTo>
                  <a:lnTo>
                    <a:pt x="610" y="609"/>
                  </a:lnTo>
                  <a:lnTo>
                    <a:pt x="578" y="609"/>
                  </a:lnTo>
                  <a:lnTo>
                    <a:pt x="548" y="608"/>
                  </a:lnTo>
                  <a:lnTo>
                    <a:pt x="517" y="606"/>
                  </a:lnTo>
                  <a:lnTo>
                    <a:pt x="487" y="604"/>
                  </a:lnTo>
                  <a:lnTo>
                    <a:pt x="458" y="600"/>
                  </a:lnTo>
                  <a:lnTo>
                    <a:pt x="429" y="596"/>
                  </a:lnTo>
                  <a:lnTo>
                    <a:pt x="401" y="591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3"/>
                  </a:lnTo>
                  <a:lnTo>
                    <a:pt x="294" y="565"/>
                  </a:lnTo>
                  <a:lnTo>
                    <a:pt x="269" y="557"/>
                  </a:lnTo>
                  <a:lnTo>
                    <a:pt x="245" y="549"/>
                  </a:lnTo>
                  <a:lnTo>
                    <a:pt x="223" y="540"/>
                  </a:lnTo>
                  <a:lnTo>
                    <a:pt x="200" y="530"/>
                  </a:lnTo>
                  <a:lnTo>
                    <a:pt x="179" y="520"/>
                  </a:lnTo>
                  <a:lnTo>
                    <a:pt x="159" y="510"/>
                  </a:lnTo>
                  <a:lnTo>
                    <a:pt x="140" y="499"/>
                  </a:lnTo>
                  <a:lnTo>
                    <a:pt x="122" y="487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69"/>
                  </a:lnTo>
                  <a:lnTo>
                    <a:pt x="88" y="462"/>
                  </a:lnTo>
                  <a:lnTo>
                    <a:pt x="82" y="457"/>
                  </a:lnTo>
                  <a:lnTo>
                    <a:pt x="74" y="450"/>
                  </a:lnTo>
                  <a:lnTo>
                    <a:pt x="67" y="443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8" y="409"/>
                  </a:lnTo>
                  <a:lnTo>
                    <a:pt x="33" y="403"/>
                  </a:lnTo>
                  <a:lnTo>
                    <a:pt x="29" y="396"/>
                  </a:lnTo>
                  <a:lnTo>
                    <a:pt x="24" y="388"/>
                  </a:lnTo>
                  <a:lnTo>
                    <a:pt x="19" y="381"/>
                  </a:lnTo>
                  <a:lnTo>
                    <a:pt x="16" y="373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3" y="328"/>
                  </a:lnTo>
                  <a:lnTo>
                    <a:pt x="1" y="320"/>
                  </a:lnTo>
                  <a:lnTo>
                    <a:pt x="0" y="312"/>
                  </a:lnTo>
                  <a:lnTo>
                    <a:pt x="0" y="304"/>
                  </a:lnTo>
                </a:path>
              </a:pathLst>
            </a:custGeom>
            <a:noFill/>
            <a:ln w="46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97640" y="1644480"/>
              <a:ext cx="1935000" cy="968400"/>
            </a:xfrm>
            <a:custGeom>
              <a:avLst/>
              <a:gdLst/>
              <a:ahLst/>
              <a:rect l="l" t="t" r="r" b="b"/>
              <a:pathLst>
                <a:path w="1219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3" y="275"/>
                  </a:lnTo>
                  <a:lnTo>
                    <a:pt x="6" y="267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2" y="244"/>
                  </a:lnTo>
                  <a:lnTo>
                    <a:pt x="16" y="236"/>
                  </a:lnTo>
                  <a:lnTo>
                    <a:pt x="19" y="230"/>
                  </a:lnTo>
                  <a:lnTo>
                    <a:pt x="24" y="222"/>
                  </a:lnTo>
                  <a:lnTo>
                    <a:pt x="28" y="215"/>
                  </a:lnTo>
                  <a:lnTo>
                    <a:pt x="33" y="208"/>
                  </a:lnTo>
                  <a:lnTo>
                    <a:pt x="37" y="200"/>
                  </a:lnTo>
                  <a:lnTo>
                    <a:pt x="43" y="193"/>
                  </a:lnTo>
                  <a:lnTo>
                    <a:pt x="49" y="187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3" y="161"/>
                  </a:lnTo>
                  <a:lnTo>
                    <a:pt x="81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5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8" y="90"/>
                  </a:lnTo>
                  <a:lnTo>
                    <a:pt x="200" y="79"/>
                  </a:lnTo>
                  <a:lnTo>
                    <a:pt x="222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8"/>
                  </a:lnTo>
                  <a:lnTo>
                    <a:pt x="345" y="31"/>
                  </a:lnTo>
                  <a:lnTo>
                    <a:pt x="373" y="24"/>
                  </a:lnTo>
                  <a:lnTo>
                    <a:pt x="401" y="20"/>
                  </a:lnTo>
                  <a:lnTo>
                    <a:pt x="429" y="14"/>
                  </a:lnTo>
                  <a:lnTo>
                    <a:pt x="457" y="10"/>
                  </a:lnTo>
                  <a:lnTo>
                    <a:pt x="487" y="7"/>
                  </a:lnTo>
                  <a:lnTo>
                    <a:pt x="517" y="4"/>
                  </a:lnTo>
                  <a:lnTo>
                    <a:pt x="548" y="3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1" y="1"/>
                  </a:lnTo>
                  <a:lnTo>
                    <a:pt x="672" y="3"/>
                  </a:lnTo>
                  <a:lnTo>
                    <a:pt x="703" y="4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1" y="14"/>
                  </a:lnTo>
                  <a:lnTo>
                    <a:pt x="820" y="20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8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19" y="79"/>
                  </a:lnTo>
                  <a:lnTo>
                    <a:pt x="1041" y="90"/>
                  </a:lnTo>
                  <a:lnTo>
                    <a:pt x="1061" y="101"/>
                  </a:lnTo>
                  <a:lnTo>
                    <a:pt x="1080" y="112"/>
                  </a:lnTo>
                  <a:lnTo>
                    <a:pt x="1098" y="123"/>
                  </a:lnTo>
                  <a:lnTo>
                    <a:pt x="1108" y="129"/>
                  </a:lnTo>
                  <a:lnTo>
                    <a:pt x="1115" y="135"/>
                  </a:lnTo>
                  <a:lnTo>
                    <a:pt x="1123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6" y="161"/>
                  </a:lnTo>
                  <a:lnTo>
                    <a:pt x="1153" y="166"/>
                  </a:lnTo>
                  <a:lnTo>
                    <a:pt x="1159" y="173"/>
                  </a:lnTo>
                  <a:lnTo>
                    <a:pt x="1166" y="180"/>
                  </a:lnTo>
                  <a:lnTo>
                    <a:pt x="1172" y="187"/>
                  </a:lnTo>
                  <a:lnTo>
                    <a:pt x="1177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2"/>
                  </a:lnTo>
                  <a:lnTo>
                    <a:pt x="1200" y="230"/>
                  </a:lnTo>
                  <a:lnTo>
                    <a:pt x="1203" y="236"/>
                  </a:lnTo>
                  <a:lnTo>
                    <a:pt x="1207" y="244"/>
                  </a:lnTo>
                  <a:lnTo>
                    <a:pt x="1210" y="251"/>
                  </a:lnTo>
                  <a:lnTo>
                    <a:pt x="1212" y="259"/>
                  </a:lnTo>
                  <a:lnTo>
                    <a:pt x="1215" y="267"/>
                  </a:lnTo>
                  <a:lnTo>
                    <a:pt x="1216" y="275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5"/>
                  </a:lnTo>
                  <a:lnTo>
                    <a:pt x="1219" y="305"/>
                  </a:lnTo>
                  <a:lnTo>
                    <a:pt x="1219" y="313"/>
                  </a:lnTo>
                  <a:lnTo>
                    <a:pt x="1219" y="321"/>
                  </a:lnTo>
                  <a:lnTo>
                    <a:pt x="1218" y="329"/>
                  </a:lnTo>
                  <a:lnTo>
                    <a:pt x="1216" y="337"/>
                  </a:lnTo>
                  <a:lnTo>
                    <a:pt x="1215" y="345"/>
                  </a:lnTo>
                  <a:lnTo>
                    <a:pt x="1212" y="351"/>
                  </a:lnTo>
                  <a:lnTo>
                    <a:pt x="1210" y="359"/>
                  </a:lnTo>
                  <a:lnTo>
                    <a:pt x="1207" y="367"/>
                  </a:lnTo>
                  <a:lnTo>
                    <a:pt x="1203" y="374"/>
                  </a:lnTo>
                  <a:lnTo>
                    <a:pt x="1200" y="382"/>
                  </a:lnTo>
                  <a:lnTo>
                    <a:pt x="1197" y="389"/>
                  </a:lnTo>
                  <a:lnTo>
                    <a:pt x="1192" y="397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7" y="417"/>
                  </a:lnTo>
                  <a:lnTo>
                    <a:pt x="1172" y="424"/>
                  </a:lnTo>
                  <a:lnTo>
                    <a:pt x="1166" y="430"/>
                  </a:lnTo>
                  <a:lnTo>
                    <a:pt x="1159" y="437"/>
                  </a:lnTo>
                  <a:lnTo>
                    <a:pt x="1153" y="444"/>
                  </a:lnTo>
                  <a:lnTo>
                    <a:pt x="1146" y="451"/>
                  </a:lnTo>
                  <a:lnTo>
                    <a:pt x="1139" y="458"/>
                  </a:lnTo>
                  <a:lnTo>
                    <a:pt x="1131" y="463"/>
                  </a:lnTo>
                  <a:lnTo>
                    <a:pt x="1123" y="470"/>
                  </a:lnTo>
                  <a:lnTo>
                    <a:pt x="1115" y="476"/>
                  </a:lnTo>
                  <a:lnTo>
                    <a:pt x="1108" y="482"/>
                  </a:lnTo>
                  <a:lnTo>
                    <a:pt x="1098" y="488"/>
                  </a:lnTo>
                  <a:lnTo>
                    <a:pt x="1080" y="499"/>
                  </a:lnTo>
                  <a:lnTo>
                    <a:pt x="1061" y="511"/>
                  </a:lnTo>
                  <a:lnTo>
                    <a:pt x="1041" y="521"/>
                  </a:lnTo>
                  <a:lnTo>
                    <a:pt x="1019" y="531"/>
                  </a:lnTo>
                  <a:lnTo>
                    <a:pt x="998" y="541"/>
                  </a:lnTo>
                  <a:lnTo>
                    <a:pt x="974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1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1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2" y="607"/>
                  </a:lnTo>
                  <a:lnTo>
                    <a:pt x="672" y="609"/>
                  </a:lnTo>
                  <a:lnTo>
                    <a:pt x="641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7"/>
                  </a:lnTo>
                  <a:lnTo>
                    <a:pt x="487" y="604"/>
                  </a:lnTo>
                  <a:lnTo>
                    <a:pt x="457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5" y="581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2" y="541"/>
                  </a:lnTo>
                  <a:lnTo>
                    <a:pt x="200" y="531"/>
                  </a:lnTo>
                  <a:lnTo>
                    <a:pt x="178" y="521"/>
                  </a:lnTo>
                  <a:lnTo>
                    <a:pt x="159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1" y="458"/>
                  </a:lnTo>
                  <a:lnTo>
                    <a:pt x="73" y="451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4"/>
                  </a:lnTo>
                  <a:lnTo>
                    <a:pt x="43" y="417"/>
                  </a:lnTo>
                  <a:lnTo>
                    <a:pt x="37" y="410"/>
                  </a:lnTo>
                  <a:lnTo>
                    <a:pt x="33" y="403"/>
                  </a:lnTo>
                  <a:lnTo>
                    <a:pt x="28" y="397"/>
                  </a:lnTo>
                  <a:lnTo>
                    <a:pt x="24" y="389"/>
                  </a:lnTo>
                  <a:lnTo>
                    <a:pt x="19" y="382"/>
                  </a:lnTo>
                  <a:lnTo>
                    <a:pt x="16" y="374"/>
                  </a:lnTo>
                  <a:lnTo>
                    <a:pt x="12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5"/>
                  </a:lnTo>
                  <a:lnTo>
                    <a:pt x="3" y="337"/>
                  </a:lnTo>
                  <a:lnTo>
                    <a:pt x="2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97640" y="1644480"/>
              <a:ext cx="1935000" cy="968400"/>
            </a:xfrm>
            <a:custGeom>
              <a:avLst/>
              <a:gdLst/>
              <a:ahLst/>
              <a:rect l="l" t="t" r="r" b="b"/>
              <a:pathLst>
                <a:path w="1219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3" y="275"/>
                  </a:lnTo>
                  <a:lnTo>
                    <a:pt x="6" y="267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2" y="244"/>
                  </a:lnTo>
                  <a:lnTo>
                    <a:pt x="16" y="236"/>
                  </a:lnTo>
                  <a:lnTo>
                    <a:pt x="19" y="230"/>
                  </a:lnTo>
                  <a:lnTo>
                    <a:pt x="24" y="222"/>
                  </a:lnTo>
                  <a:lnTo>
                    <a:pt x="28" y="215"/>
                  </a:lnTo>
                  <a:lnTo>
                    <a:pt x="33" y="208"/>
                  </a:lnTo>
                  <a:lnTo>
                    <a:pt x="37" y="200"/>
                  </a:lnTo>
                  <a:lnTo>
                    <a:pt x="43" y="193"/>
                  </a:lnTo>
                  <a:lnTo>
                    <a:pt x="49" y="187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3" y="161"/>
                  </a:lnTo>
                  <a:lnTo>
                    <a:pt x="81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5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8" y="90"/>
                  </a:lnTo>
                  <a:lnTo>
                    <a:pt x="200" y="79"/>
                  </a:lnTo>
                  <a:lnTo>
                    <a:pt x="222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8"/>
                  </a:lnTo>
                  <a:lnTo>
                    <a:pt x="345" y="31"/>
                  </a:lnTo>
                  <a:lnTo>
                    <a:pt x="373" y="24"/>
                  </a:lnTo>
                  <a:lnTo>
                    <a:pt x="401" y="20"/>
                  </a:lnTo>
                  <a:lnTo>
                    <a:pt x="429" y="14"/>
                  </a:lnTo>
                  <a:lnTo>
                    <a:pt x="457" y="10"/>
                  </a:lnTo>
                  <a:lnTo>
                    <a:pt x="487" y="7"/>
                  </a:lnTo>
                  <a:lnTo>
                    <a:pt x="517" y="4"/>
                  </a:lnTo>
                  <a:lnTo>
                    <a:pt x="548" y="3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1" y="1"/>
                  </a:lnTo>
                  <a:lnTo>
                    <a:pt x="672" y="3"/>
                  </a:lnTo>
                  <a:lnTo>
                    <a:pt x="703" y="4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1" y="14"/>
                  </a:lnTo>
                  <a:lnTo>
                    <a:pt x="820" y="20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8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19" y="79"/>
                  </a:lnTo>
                  <a:lnTo>
                    <a:pt x="1041" y="90"/>
                  </a:lnTo>
                  <a:lnTo>
                    <a:pt x="1061" y="101"/>
                  </a:lnTo>
                  <a:lnTo>
                    <a:pt x="1080" y="112"/>
                  </a:lnTo>
                  <a:lnTo>
                    <a:pt x="1098" y="123"/>
                  </a:lnTo>
                  <a:lnTo>
                    <a:pt x="1108" y="129"/>
                  </a:lnTo>
                  <a:lnTo>
                    <a:pt x="1115" y="135"/>
                  </a:lnTo>
                  <a:lnTo>
                    <a:pt x="1123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6" y="161"/>
                  </a:lnTo>
                  <a:lnTo>
                    <a:pt x="1153" y="166"/>
                  </a:lnTo>
                  <a:lnTo>
                    <a:pt x="1159" y="173"/>
                  </a:lnTo>
                  <a:lnTo>
                    <a:pt x="1166" y="180"/>
                  </a:lnTo>
                  <a:lnTo>
                    <a:pt x="1172" y="187"/>
                  </a:lnTo>
                  <a:lnTo>
                    <a:pt x="1177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2"/>
                  </a:lnTo>
                  <a:lnTo>
                    <a:pt x="1200" y="230"/>
                  </a:lnTo>
                  <a:lnTo>
                    <a:pt x="1203" y="236"/>
                  </a:lnTo>
                  <a:lnTo>
                    <a:pt x="1207" y="244"/>
                  </a:lnTo>
                  <a:lnTo>
                    <a:pt x="1210" y="251"/>
                  </a:lnTo>
                  <a:lnTo>
                    <a:pt x="1212" y="259"/>
                  </a:lnTo>
                  <a:lnTo>
                    <a:pt x="1215" y="267"/>
                  </a:lnTo>
                  <a:lnTo>
                    <a:pt x="1216" y="275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5"/>
                  </a:lnTo>
                  <a:lnTo>
                    <a:pt x="1219" y="305"/>
                  </a:lnTo>
                  <a:lnTo>
                    <a:pt x="1219" y="313"/>
                  </a:lnTo>
                  <a:lnTo>
                    <a:pt x="1219" y="321"/>
                  </a:lnTo>
                  <a:lnTo>
                    <a:pt x="1218" y="329"/>
                  </a:lnTo>
                  <a:lnTo>
                    <a:pt x="1216" y="337"/>
                  </a:lnTo>
                  <a:lnTo>
                    <a:pt x="1215" y="345"/>
                  </a:lnTo>
                  <a:lnTo>
                    <a:pt x="1212" y="351"/>
                  </a:lnTo>
                  <a:lnTo>
                    <a:pt x="1210" y="359"/>
                  </a:lnTo>
                  <a:lnTo>
                    <a:pt x="1207" y="367"/>
                  </a:lnTo>
                  <a:lnTo>
                    <a:pt x="1203" y="374"/>
                  </a:lnTo>
                  <a:lnTo>
                    <a:pt x="1200" y="382"/>
                  </a:lnTo>
                  <a:lnTo>
                    <a:pt x="1197" y="389"/>
                  </a:lnTo>
                  <a:lnTo>
                    <a:pt x="1192" y="397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7" y="417"/>
                  </a:lnTo>
                  <a:lnTo>
                    <a:pt x="1172" y="424"/>
                  </a:lnTo>
                  <a:lnTo>
                    <a:pt x="1166" y="430"/>
                  </a:lnTo>
                  <a:lnTo>
                    <a:pt x="1159" y="437"/>
                  </a:lnTo>
                  <a:lnTo>
                    <a:pt x="1153" y="444"/>
                  </a:lnTo>
                  <a:lnTo>
                    <a:pt x="1146" y="451"/>
                  </a:lnTo>
                  <a:lnTo>
                    <a:pt x="1139" y="458"/>
                  </a:lnTo>
                  <a:lnTo>
                    <a:pt x="1131" y="463"/>
                  </a:lnTo>
                  <a:lnTo>
                    <a:pt x="1123" y="470"/>
                  </a:lnTo>
                  <a:lnTo>
                    <a:pt x="1115" y="476"/>
                  </a:lnTo>
                  <a:lnTo>
                    <a:pt x="1108" y="482"/>
                  </a:lnTo>
                  <a:lnTo>
                    <a:pt x="1098" y="488"/>
                  </a:lnTo>
                  <a:lnTo>
                    <a:pt x="1080" y="499"/>
                  </a:lnTo>
                  <a:lnTo>
                    <a:pt x="1061" y="511"/>
                  </a:lnTo>
                  <a:lnTo>
                    <a:pt x="1041" y="521"/>
                  </a:lnTo>
                  <a:lnTo>
                    <a:pt x="1019" y="531"/>
                  </a:lnTo>
                  <a:lnTo>
                    <a:pt x="998" y="541"/>
                  </a:lnTo>
                  <a:lnTo>
                    <a:pt x="974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1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1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2" y="607"/>
                  </a:lnTo>
                  <a:lnTo>
                    <a:pt x="672" y="609"/>
                  </a:lnTo>
                  <a:lnTo>
                    <a:pt x="641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7"/>
                  </a:lnTo>
                  <a:lnTo>
                    <a:pt x="487" y="604"/>
                  </a:lnTo>
                  <a:lnTo>
                    <a:pt x="457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5" y="581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2" y="541"/>
                  </a:lnTo>
                  <a:lnTo>
                    <a:pt x="200" y="531"/>
                  </a:lnTo>
                  <a:lnTo>
                    <a:pt x="178" y="521"/>
                  </a:lnTo>
                  <a:lnTo>
                    <a:pt x="159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1" y="458"/>
                  </a:lnTo>
                  <a:lnTo>
                    <a:pt x="73" y="451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4"/>
                  </a:lnTo>
                  <a:lnTo>
                    <a:pt x="43" y="417"/>
                  </a:lnTo>
                  <a:lnTo>
                    <a:pt x="37" y="410"/>
                  </a:lnTo>
                  <a:lnTo>
                    <a:pt x="33" y="403"/>
                  </a:lnTo>
                  <a:lnTo>
                    <a:pt x="28" y="397"/>
                  </a:lnTo>
                  <a:lnTo>
                    <a:pt x="24" y="389"/>
                  </a:lnTo>
                  <a:lnTo>
                    <a:pt x="19" y="382"/>
                  </a:lnTo>
                  <a:lnTo>
                    <a:pt x="16" y="374"/>
                  </a:lnTo>
                  <a:lnTo>
                    <a:pt x="12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5"/>
                  </a:lnTo>
                  <a:lnTo>
                    <a:pt x="3" y="337"/>
                  </a:lnTo>
                  <a:lnTo>
                    <a:pt x="2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87160" y="2014200"/>
              <a:ext cx="130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UML not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26160" y="3924000"/>
              <a:ext cx="1936800" cy="968400"/>
            </a:xfrm>
            <a:custGeom>
              <a:avLst/>
              <a:gdLst/>
              <a:ahLst/>
              <a:rect l="l" t="t" r="r" b="b"/>
              <a:pathLst>
                <a:path w="1220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3" y="281"/>
                  </a:lnTo>
                  <a:lnTo>
                    <a:pt x="4" y="275"/>
                  </a:lnTo>
                  <a:lnTo>
                    <a:pt x="6" y="267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2"/>
                  </a:lnTo>
                  <a:lnTo>
                    <a:pt x="29" y="215"/>
                  </a:lnTo>
                  <a:lnTo>
                    <a:pt x="33" y="208"/>
                  </a:lnTo>
                  <a:lnTo>
                    <a:pt x="38" y="200"/>
                  </a:lnTo>
                  <a:lnTo>
                    <a:pt x="43" y="193"/>
                  </a:lnTo>
                  <a:lnTo>
                    <a:pt x="49" y="187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1"/>
                  </a:lnTo>
                  <a:lnTo>
                    <a:pt x="82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5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9" y="90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8"/>
                  </a:lnTo>
                  <a:lnTo>
                    <a:pt x="346" y="31"/>
                  </a:lnTo>
                  <a:lnTo>
                    <a:pt x="373" y="24"/>
                  </a:lnTo>
                  <a:lnTo>
                    <a:pt x="401" y="20"/>
                  </a:lnTo>
                  <a:lnTo>
                    <a:pt x="429" y="14"/>
                  </a:lnTo>
                  <a:lnTo>
                    <a:pt x="458" y="10"/>
                  </a:lnTo>
                  <a:lnTo>
                    <a:pt x="487" y="7"/>
                  </a:lnTo>
                  <a:lnTo>
                    <a:pt x="517" y="4"/>
                  </a:lnTo>
                  <a:lnTo>
                    <a:pt x="548" y="3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3"/>
                  </a:lnTo>
                  <a:lnTo>
                    <a:pt x="704" y="4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4"/>
                  </a:lnTo>
                  <a:lnTo>
                    <a:pt x="820" y="20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8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90"/>
                  </a:lnTo>
                  <a:lnTo>
                    <a:pt x="1061" y="101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5"/>
                  </a:lnTo>
                  <a:lnTo>
                    <a:pt x="1124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6" y="161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6" y="180"/>
                  </a:lnTo>
                  <a:lnTo>
                    <a:pt x="1172" y="187"/>
                  </a:lnTo>
                  <a:lnTo>
                    <a:pt x="1178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2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1" y="251"/>
                  </a:lnTo>
                  <a:lnTo>
                    <a:pt x="1213" y="259"/>
                  </a:lnTo>
                  <a:lnTo>
                    <a:pt x="1215" y="267"/>
                  </a:lnTo>
                  <a:lnTo>
                    <a:pt x="1216" y="275"/>
                  </a:lnTo>
                  <a:lnTo>
                    <a:pt x="1218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5"/>
                  </a:lnTo>
                  <a:lnTo>
                    <a:pt x="1220" y="305"/>
                  </a:lnTo>
                  <a:lnTo>
                    <a:pt x="1220" y="313"/>
                  </a:lnTo>
                  <a:lnTo>
                    <a:pt x="1220" y="321"/>
                  </a:lnTo>
                  <a:lnTo>
                    <a:pt x="1218" y="329"/>
                  </a:lnTo>
                  <a:lnTo>
                    <a:pt x="1216" y="337"/>
                  </a:lnTo>
                  <a:lnTo>
                    <a:pt x="1215" y="345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0" y="382"/>
                  </a:lnTo>
                  <a:lnTo>
                    <a:pt x="1197" y="389"/>
                  </a:lnTo>
                  <a:lnTo>
                    <a:pt x="1192" y="397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8" y="417"/>
                  </a:lnTo>
                  <a:lnTo>
                    <a:pt x="1172" y="424"/>
                  </a:lnTo>
                  <a:lnTo>
                    <a:pt x="1166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1"/>
                  </a:lnTo>
                  <a:lnTo>
                    <a:pt x="1139" y="458"/>
                  </a:lnTo>
                  <a:lnTo>
                    <a:pt x="1131" y="463"/>
                  </a:lnTo>
                  <a:lnTo>
                    <a:pt x="1124" y="470"/>
                  </a:lnTo>
                  <a:lnTo>
                    <a:pt x="1116" y="476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1" y="511"/>
                  </a:lnTo>
                  <a:lnTo>
                    <a:pt x="1041" y="521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5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1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2" y="607"/>
                  </a:lnTo>
                  <a:lnTo>
                    <a:pt x="672" y="609"/>
                  </a:lnTo>
                  <a:lnTo>
                    <a:pt x="642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7"/>
                  </a:lnTo>
                  <a:lnTo>
                    <a:pt x="487" y="604"/>
                  </a:lnTo>
                  <a:lnTo>
                    <a:pt x="458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6" y="581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1"/>
                  </a:lnTo>
                  <a:lnTo>
                    <a:pt x="159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2" y="458"/>
                  </a:lnTo>
                  <a:lnTo>
                    <a:pt x="74" y="451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4"/>
                  </a:lnTo>
                  <a:lnTo>
                    <a:pt x="43" y="417"/>
                  </a:lnTo>
                  <a:lnTo>
                    <a:pt x="38" y="410"/>
                  </a:lnTo>
                  <a:lnTo>
                    <a:pt x="33" y="403"/>
                  </a:lnTo>
                  <a:lnTo>
                    <a:pt x="29" y="397"/>
                  </a:lnTo>
                  <a:lnTo>
                    <a:pt x="24" y="389"/>
                  </a:lnTo>
                  <a:lnTo>
                    <a:pt x="19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5"/>
                  </a:lnTo>
                  <a:lnTo>
                    <a:pt x="4" y="337"/>
                  </a:lnTo>
                  <a:lnTo>
                    <a:pt x="3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26160" y="3924000"/>
              <a:ext cx="1936800" cy="968400"/>
            </a:xfrm>
            <a:custGeom>
              <a:avLst/>
              <a:gdLst/>
              <a:ahLst/>
              <a:rect l="l" t="t" r="r" b="b"/>
              <a:pathLst>
                <a:path w="1220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3" y="281"/>
                  </a:lnTo>
                  <a:lnTo>
                    <a:pt x="4" y="275"/>
                  </a:lnTo>
                  <a:lnTo>
                    <a:pt x="6" y="267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2"/>
                  </a:lnTo>
                  <a:lnTo>
                    <a:pt x="29" y="215"/>
                  </a:lnTo>
                  <a:lnTo>
                    <a:pt x="33" y="208"/>
                  </a:lnTo>
                  <a:lnTo>
                    <a:pt x="38" y="200"/>
                  </a:lnTo>
                  <a:lnTo>
                    <a:pt x="43" y="193"/>
                  </a:lnTo>
                  <a:lnTo>
                    <a:pt x="49" y="187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1"/>
                  </a:lnTo>
                  <a:lnTo>
                    <a:pt x="82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5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9" y="90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8"/>
                  </a:lnTo>
                  <a:lnTo>
                    <a:pt x="346" y="31"/>
                  </a:lnTo>
                  <a:lnTo>
                    <a:pt x="373" y="24"/>
                  </a:lnTo>
                  <a:lnTo>
                    <a:pt x="401" y="20"/>
                  </a:lnTo>
                  <a:lnTo>
                    <a:pt x="429" y="14"/>
                  </a:lnTo>
                  <a:lnTo>
                    <a:pt x="458" y="10"/>
                  </a:lnTo>
                  <a:lnTo>
                    <a:pt x="487" y="7"/>
                  </a:lnTo>
                  <a:lnTo>
                    <a:pt x="517" y="4"/>
                  </a:lnTo>
                  <a:lnTo>
                    <a:pt x="548" y="3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3"/>
                  </a:lnTo>
                  <a:lnTo>
                    <a:pt x="704" y="4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4"/>
                  </a:lnTo>
                  <a:lnTo>
                    <a:pt x="820" y="20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8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90"/>
                  </a:lnTo>
                  <a:lnTo>
                    <a:pt x="1061" y="101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5"/>
                  </a:lnTo>
                  <a:lnTo>
                    <a:pt x="1124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6" y="161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6" y="180"/>
                  </a:lnTo>
                  <a:lnTo>
                    <a:pt x="1172" y="187"/>
                  </a:lnTo>
                  <a:lnTo>
                    <a:pt x="1178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2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1" y="251"/>
                  </a:lnTo>
                  <a:lnTo>
                    <a:pt x="1213" y="259"/>
                  </a:lnTo>
                  <a:lnTo>
                    <a:pt x="1215" y="267"/>
                  </a:lnTo>
                  <a:lnTo>
                    <a:pt x="1216" y="275"/>
                  </a:lnTo>
                  <a:lnTo>
                    <a:pt x="1218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5"/>
                  </a:lnTo>
                  <a:lnTo>
                    <a:pt x="1220" y="305"/>
                  </a:lnTo>
                  <a:lnTo>
                    <a:pt x="1220" y="313"/>
                  </a:lnTo>
                  <a:lnTo>
                    <a:pt x="1220" y="321"/>
                  </a:lnTo>
                  <a:lnTo>
                    <a:pt x="1218" y="329"/>
                  </a:lnTo>
                  <a:lnTo>
                    <a:pt x="1216" y="337"/>
                  </a:lnTo>
                  <a:lnTo>
                    <a:pt x="1215" y="345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0" y="382"/>
                  </a:lnTo>
                  <a:lnTo>
                    <a:pt x="1197" y="389"/>
                  </a:lnTo>
                  <a:lnTo>
                    <a:pt x="1192" y="397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8" y="417"/>
                  </a:lnTo>
                  <a:lnTo>
                    <a:pt x="1172" y="424"/>
                  </a:lnTo>
                  <a:lnTo>
                    <a:pt x="1166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1"/>
                  </a:lnTo>
                  <a:lnTo>
                    <a:pt x="1139" y="458"/>
                  </a:lnTo>
                  <a:lnTo>
                    <a:pt x="1131" y="463"/>
                  </a:lnTo>
                  <a:lnTo>
                    <a:pt x="1124" y="470"/>
                  </a:lnTo>
                  <a:lnTo>
                    <a:pt x="1116" y="476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1" y="511"/>
                  </a:lnTo>
                  <a:lnTo>
                    <a:pt x="1041" y="521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5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1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2" y="607"/>
                  </a:lnTo>
                  <a:lnTo>
                    <a:pt x="672" y="609"/>
                  </a:lnTo>
                  <a:lnTo>
                    <a:pt x="642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7"/>
                  </a:lnTo>
                  <a:lnTo>
                    <a:pt x="487" y="604"/>
                  </a:lnTo>
                  <a:lnTo>
                    <a:pt x="458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6" y="581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1"/>
                  </a:lnTo>
                  <a:lnTo>
                    <a:pt x="159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2" y="458"/>
                  </a:lnTo>
                  <a:lnTo>
                    <a:pt x="74" y="451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4"/>
                  </a:lnTo>
                  <a:lnTo>
                    <a:pt x="43" y="417"/>
                  </a:lnTo>
                  <a:lnTo>
                    <a:pt x="38" y="410"/>
                  </a:lnTo>
                  <a:lnTo>
                    <a:pt x="33" y="403"/>
                  </a:lnTo>
                  <a:lnTo>
                    <a:pt x="29" y="397"/>
                  </a:lnTo>
                  <a:lnTo>
                    <a:pt x="24" y="389"/>
                  </a:lnTo>
                  <a:lnTo>
                    <a:pt x="19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5"/>
                  </a:lnTo>
                  <a:lnTo>
                    <a:pt x="4" y="337"/>
                  </a:lnTo>
                  <a:lnTo>
                    <a:pt x="3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</a:path>
              </a:pathLst>
            </a:custGeom>
            <a:noFill/>
            <a:ln w="46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97640" y="3795480"/>
              <a:ext cx="1935000" cy="968400"/>
            </a:xfrm>
            <a:custGeom>
              <a:avLst/>
              <a:gdLst/>
              <a:ahLst/>
              <a:rect l="l" t="t" r="r" b="b"/>
              <a:pathLst>
                <a:path w="1219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3" y="274"/>
                  </a:lnTo>
                  <a:lnTo>
                    <a:pt x="6" y="266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2" y="244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1"/>
                  </a:lnTo>
                  <a:lnTo>
                    <a:pt x="28" y="215"/>
                  </a:lnTo>
                  <a:lnTo>
                    <a:pt x="33" y="208"/>
                  </a:lnTo>
                  <a:lnTo>
                    <a:pt x="37" y="200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3" y="160"/>
                  </a:lnTo>
                  <a:lnTo>
                    <a:pt x="81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8" y="89"/>
                  </a:lnTo>
                  <a:lnTo>
                    <a:pt x="200" y="79"/>
                  </a:lnTo>
                  <a:lnTo>
                    <a:pt x="222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5" y="31"/>
                  </a:lnTo>
                  <a:lnTo>
                    <a:pt x="373" y="24"/>
                  </a:lnTo>
                  <a:lnTo>
                    <a:pt x="401" y="19"/>
                  </a:lnTo>
                  <a:lnTo>
                    <a:pt x="429" y="14"/>
                  </a:lnTo>
                  <a:lnTo>
                    <a:pt x="457" y="10"/>
                  </a:lnTo>
                  <a:lnTo>
                    <a:pt x="487" y="7"/>
                  </a:lnTo>
                  <a:lnTo>
                    <a:pt x="517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1" y="1"/>
                  </a:lnTo>
                  <a:lnTo>
                    <a:pt x="672" y="2"/>
                  </a:lnTo>
                  <a:lnTo>
                    <a:pt x="703" y="3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1" y="14"/>
                  </a:lnTo>
                  <a:lnTo>
                    <a:pt x="820" y="19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19" y="79"/>
                  </a:lnTo>
                  <a:lnTo>
                    <a:pt x="1041" y="89"/>
                  </a:lnTo>
                  <a:lnTo>
                    <a:pt x="1061" y="101"/>
                  </a:lnTo>
                  <a:lnTo>
                    <a:pt x="1080" y="112"/>
                  </a:lnTo>
                  <a:lnTo>
                    <a:pt x="1098" y="123"/>
                  </a:lnTo>
                  <a:lnTo>
                    <a:pt x="1108" y="129"/>
                  </a:lnTo>
                  <a:lnTo>
                    <a:pt x="1115" y="134"/>
                  </a:lnTo>
                  <a:lnTo>
                    <a:pt x="1123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59" y="173"/>
                  </a:lnTo>
                  <a:lnTo>
                    <a:pt x="1166" y="180"/>
                  </a:lnTo>
                  <a:lnTo>
                    <a:pt x="1172" y="186"/>
                  </a:lnTo>
                  <a:lnTo>
                    <a:pt x="1177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1"/>
                  </a:lnTo>
                  <a:lnTo>
                    <a:pt x="1200" y="229"/>
                  </a:lnTo>
                  <a:lnTo>
                    <a:pt x="1203" y="236"/>
                  </a:lnTo>
                  <a:lnTo>
                    <a:pt x="1207" y="244"/>
                  </a:lnTo>
                  <a:lnTo>
                    <a:pt x="1210" y="251"/>
                  </a:lnTo>
                  <a:lnTo>
                    <a:pt x="1212" y="259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5"/>
                  </a:lnTo>
                  <a:lnTo>
                    <a:pt x="1219" y="305"/>
                  </a:lnTo>
                  <a:lnTo>
                    <a:pt x="1219" y="313"/>
                  </a:lnTo>
                  <a:lnTo>
                    <a:pt x="1219" y="321"/>
                  </a:lnTo>
                  <a:lnTo>
                    <a:pt x="1218" y="329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2" y="351"/>
                  </a:lnTo>
                  <a:lnTo>
                    <a:pt x="1210" y="359"/>
                  </a:lnTo>
                  <a:lnTo>
                    <a:pt x="1207" y="367"/>
                  </a:lnTo>
                  <a:lnTo>
                    <a:pt x="1203" y="374"/>
                  </a:lnTo>
                  <a:lnTo>
                    <a:pt x="1200" y="382"/>
                  </a:lnTo>
                  <a:lnTo>
                    <a:pt x="1197" y="388"/>
                  </a:lnTo>
                  <a:lnTo>
                    <a:pt x="1192" y="396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7" y="417"/>
                  </a:lnTo>
                  <a:lnTo>
                    <a:pt x="1172" y="423"/>
                  </a:lnTo>
                  <a:lnTo>
                    <a:pt x="1166" y="430"/>
                  </a:lnTo>
                  <a:lnTo>
                    <a:pt x="1159" y="437"/>
                  </a:lnTo>
                  <a:lnTo>
                    <a:pt x="1153" y="444"/>
                  </a:lnTo>
                  <a:lnTo>
                    <a:pt x="1146" y="450"/>
                  </a:lnTo>
                  <a:lnTo>
                    <a:pt x="1139" y="457"/>
                  </a:lnTo>
                  <a:lnTo>
                    <a:pt x="1131" y="463"/>
                  </a:lnTo>
                  <a:lnTo>
                    <a:pt x="1123" y="470"/>
                  </a:lnTo>
                  <a:lnTo>
                    <a:pt x="1115" y="475"/>
                  </a:lnTo>
                  <a:lnTo>
                    <a:pt x="1108" y="482"/>
                  </a:lnTo>
                  <a:lnTo>
                    <a:pt x="1098" y="488"/>
                  </a:lnTo>
                  <a:lnTo>
                    <a:pt x="1080" y="499"/>
                  </a:lnTo>
                  <a:lnTo>
                    <a:pt x="1061" y="510"/>
                  </a:lnTo>
                  <a:lnTo>
                    <a:pt x="1041" y="520"/>
                  </a:lnTo>
                  <a:lnTo>
                    <a:pt x="1019" y="531"/>
                  </a:lnTo>
                  <a:lnTo>
                    <a:pt x="998" y="541"/>
                  </a:lnTo>
                  <a:lnTo>
                    <a:pt x="974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1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2" y="606"/>
                  </a:lnTo>
                  <a:lnTo>
                    <a:pt x="672" y="609"/>
                  </a:lnTo>
                  <a:lnTo>
                    <a:pt x="641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6"/>
                  </a:lnTo>
                  <a:lnTo>
                    <a:pt x="487" y="604"/>
                  </a:lnTo>
                  <a:lnTo>
                    <a:pt x="457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5" y="580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2" y="541"/>
                  </a:lnTo>
                  <a:lnTo>
                    <a:pt x="200" y="531"/>
                  </a:lnTo>
                  <a:lnTo>
                    <a:pt x="178" y="520"/>
                  </a:lnTo>
                  <a:lnTo>
                    <a:pt x="159" y="510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1" y="457"/>
                  </a:lnTo>
                  <a:lnTo>
                    <a:pt x="73" y="450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3"/>
                  </a:lnTo>
                  <a:lnTo>
                    <a:pt x="43" y="417"/>
                  </a:lnTo>
                  <a:lnTo>
                    <a:pt x="37" y="410"/>
                  </a:lnTo>
                  <a:lnTo>
                    <a:pt x="33" y="403"/>
                  </a:lnTo>
                  <a:lnTo>
                    <a:pt x="28" y="396"/>
                  </a:lnTo>
                  <a:lnTo>
                    <a:pt x="24" y="388"/>
                  </a:lnTo>
                  <a:lnTo>
                    <a:pt x="19" y="382"/>
                  </a:lnTo>
                  <a:lnTo>
                    <a:pt x="16" y="374"/>
                  </a:lnTo>
                  <a:lnTo>
                    <a:pt x="12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3" y="336"/>
                  </a:lnTo>
                  <a:lnTo>
                    <a:pt x="2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97640" y="3795480"/>
              <a:ext cx="1935000" cy="968400"/>
            </a:xfrm>
            <a:custGeom>
              <a:avLst/>
              <a:gdLst/>
              <a:ahLst/>
              <a:rect l="l" t="t" r="r" b="b"/>
              <a:pathLst>
                <a:path w="1219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3" y="274"/>
                  </a:lnTo>
                  <a:lnTo>
                    <a:pt x="6" y="266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2" y="244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1"/>
                  </a:lnTo>
                  <a:lnTo>
                    <a:pt x="28" y="215"/>
                  </a:lnTo>
                  <a:lnTo>
                    <a:pt x="33" y="208"/>
                  </a:lnTo>
                  <a:lnTo>
                    <a:pt x="37" y="200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3" y="160"/>
                  </a:lnTo>
                  <a:lnTo>
                    <a:pt x="81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8" y="89"/>
                  </a:lnTo>
                  <a:lnTo>
                    <a:pt x="200" y="79"/>
                  </a:lnTo>
                  <a:lnTo>
                    <a:pt x="222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5" y="31"/>
                  </a:lnTo>
                  <a:lnTo>
                    <a:pt x="373" y="24"/>
                  </a:lnTo>
                  <a:lnTo>
                    <a:pt x="401" y="19"/>
                  </a:lnTo>
                  <a:lnTo>
                    <a:pt x="429" y="14"/>
                  </a:lnTo>
                  <a:lnTo>
                    <a:pt x="457" y="10"/>
                  </a:lnTo>
                  <a:lnTo>
                    <a:pt x="487" y="7"/>
                  </a:lnTo>
                  <a:lnTo>
                    <a:pt x="517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1" y="1"/>
                  </a:lnTo>
                  <a:lnTo>
                    <a:pt x="672" y="2"/>
                  </a:lnTo>
                  <a:lnTo>
                    <a:pt x="703" y="3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1" y="14"/>
                  </a:lnTo>
                  <a:lnTo>
                    <a:pt x="820" y="19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19" y="79"/>
                  </a:lnTo>
                  <a:lnTo>
                    <a:pt x="1041" y="89"/>
                  </a:lnTo>
                  <a:lnTo>
                    <a:pt x="1061" y="101"/>
                  </a:lnTo>
                  <a:lnTo>
                    <a:pt x="1080" y="112"/>
                  </a:lnTo>
                  <a:lnTo>
                    <a:pt x="1098" y="123"/>
                  </a:lnTo>
                  <a:lnTo>
                    <a:pt x="1108" y="129"/>
                  </a:lnTo>
                  <a:lnTo>
                    <a:pt x="1115" y="134"/>
                  </a:lnTo>
                  <a:lnTo>
                    <a:pt x="1123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59" y="173"/>
                  </a:lnTo>
                  <a:lnTo>
                    <a:pt x="1166" y="180"/>
                  </a:lnTo>
                  <a:lnTo>
                    <a:pt x="1172" y="186"/>
                  </a:lnTo>
                  <a:lnTo>
                    <a:pt x="1177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1"/>
                  </a:lnTo>
                  <a:lnTo>
                    <a:pt x="1200" y="229"/>
                  </a:lnTo>
                  <a:lnTo>
                    <a:pt x="1203" y="236"/>
                  </a:lnTo>
                  <a:lnTo>
                    <a:pt x="1207" y="244"/>
                  </a:lnTo>
                  <a:lnTo>
                    <a:pt x="1210" y="251"/>
                  </a:lnTo>
                  <a:lnTo>
                    <a:pt x="1212" y="259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5"/>
                  </a:lnTo>
                  <a:lnTo>
                    <a:pt x="1219" y="305"/>
                  </a:lnTo>
                  <a:lnTo>
                    <a:pt x="1219" y="313"/>
                  </a:lnTo>
                  <a:lnTo>
                    <a:pt x="1219" y="321"/>
                  </a:lnTo>
                  <a:lnTo>
                    <a:pt x="1218" y="329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2" y="351"/>
                  </a:lnTo>
                  <a:lnTo>
                    <a:pt x="1210" y="359"/>
                  </a:lnTo>
                  <a:lnTo>
                    <a:pt x="1207" y="367"/>
                  </a:lnTo>
                  <a:lnTo>
                    <a:pt x="1203" y="374"/>
                  </a:lnTo>
                  <a:lnTo>
                    <a:pt x="1200" y="382"/>
                  </a:lnTo>
                  <a:lnTo>
                    <a:pt x="1197" y="388"/>
                  </a:lnTo>
                  <a:lnTo>
                    <a:pt x="1192" y="396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7" y="417"/>
                  </a:lnTo>
                  <a:lnTo>
                    <a:pt x="1172" y="423"/>
                  </a:lnTo>
                  <a:lnTo>
                    <a:pt x="1166" y="430"/>
                  </a:lnTo>
                  <a:lnTo>
                    <a:pt x="1159" y="437"/>
                  </a:lnTo>
                  <a:lnTo>
                    <a:pt x="1153" y="444"/>
                  </a:lnTo>
                  <a:lnTo>
                    <a:pt x="1146" y="450"/>
                  </a:lnTo>
                  <a:lnTo>
                    <a:pt x="1139" y="457"/>
                  </a:lnTo>
                  <a:lnTo>
                    <a:pt x="1131" y="463"/>
                  </a:lnTo>
                  <a:lnTo>
                    <a:pt x="1123" y="470"/>
                  </a:lnTo>
                  <a:lnTo>
                    <a:pt x="1115" y="475"/>
                  </a:lnTo>
                  <a:lnTo>
                    <a:pt x="1108" y="482"/>
                  </a:lnTo>
                  <a:lnTo>
                    <a:pt x="1098" y="488"/>
                  </a:lnTo>
                  <a:lnTo>
                    <a:pt x="1080" y="499"/>
                  </a:lnTo>
                  <a:lnTo>
                    <a:pt x="1061" y="510"/>
                  </a:lnTo>
                  <a:lnTo>
                    <a:pt x="1041" y="520"/>
                  </a:lnTo>
                  <a:lnTo>
                    <a:pt x="1019" y="531"/>
                  </a:lnTo>
                  <a:lnTo>
                    <a:pt x="998" y="541"/>
                  </a:lnTo>
                  <a:lnTo>
                    <a:pt x="974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1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2" y="606"/>
                  </a:lnTo>
                  <a:lnTo>
                    <a:pt x="672" y="609"/>
                  </a:lnTo>
                  <a:lnTo>
                    <a:pt x="641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6"/>
                  </a:lnTo>
                  <a:lnTo>
                    <a:pt x="487" y="604"/>
                  </a:lnTo>
                  <a:lnTo>
                    <a:pt x="457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5" y="580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2" y="541"/>
                  </a:lnTo>
                  <a:lnTo>
                    <a:pt x="200" y="531"/>
                  </a:lnTo>
                  <a:lnTo>
                    <a:pt x="178" y="520"/>
                  </a:lnTo>
                  <a:lnTo>
                    <a:pt x="159" y="510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1" y="457"/>
                  </a:lnTo>
                  <a:lnTo>
                    <a:pt x="73" y="450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3"/>
                  </a:lnTo>
                  <a:lnTo>
                    <a:pt x="43" y="417"/>
                  </a:lnTo>
                  <a:lnTo>
                    <a:pt x="37" y="410"/>
                  </a:lnTo>
                  <a:lnTo>
                    <a:pt x="33" y="403"/>
                  </a:lnTo>
                  <a:lnTo>
                    <a:pt x="28" y="396"/>
                  </a:lnTo>
                  <a:lnTo>
                    <a:pt x="24" y="388"/>
                  </a:lnTo>
                  <a:lnTo>
                    <a:pt x="19" y="382"/>
                  </a:lnTo>
                  <a:lnTo>
                    <a:pt x="16" y="374"/>
                  </a:lnTo>
                  <a:lnTo>
                    <a:pt x="12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3" y="336"/>
                  </a:lnTo>
                  <a:lnTo>
                    <a:pt x="2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70600" y="405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Requirement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1880" y="4279680"/>
              <a:ext cx="77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analys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33600" y="3924000"/>
              <a:ext cx="1935000" cy="968400"/>
            </a:xfrm>
            <a:custGeom>
              <a:avLst/>
              <a:gdLst/>
              <a:ahLst/>
              <a:rect l="l" t="t" r="r" b="b"/>
              <a:pathLst>
                <a:path w="1219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3" y="275"/>
                  </a:lnTo>
                  <a:lnTo>
                    <a:pt x="5" y="267"/>
                  </a:lnTo>
                  <a:lnTo>
                    <a:pt x="6" y="259"/>
                  </a:lnTo>
                  <a:lnTo>
                    <a:pt x="10" y="251"/>
                  </a:lnTo>
                  <a:lnTo>
                    <a:pt x="12" y="244"/>
                  </a:lnTo>
                  <a:lnTo>
                    <a:pt x="15" y="236"/>
                  </a:lnTo>
                  <a:lnTo>
                    <a:pt x="19" y="229"/>
                  </a:lnTo>
                  <a:lnTo>
                    <a:pt x="23" y="222"/>
                  </a:lnTo>
                  <a:lnTo>
                    <a:pt x="28" y="215"/>
                  </a:lnTo>
                  <a:lnTo>
                    <a:pt x="32" y="208"/>
                  </a:lnTo>
                  <a:lnTo>
                    <a:pt x="37" y="200"/>
                  </a:lnTo>
                  <a:lnTo>
                    <a:pt x="43" y="193"/>
                  </a:lnTo>
                  <a:lnTo>
                    <a:pt x="48" y="187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6" y="166"/>
                  </a:lnTo>
                  <a:lnTo>
                    <a:pt x="73" y="161"/>
                  </a:lnTo>
                  <a:lnTo>
                    <a:pt x="81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3" y="135"/>
                  </a:lnTo>
                  <a:lnTo>
                    <a:pt x="112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8" y="90"/>
                  </a:lnTo>
                  <a:lnTo>
                    <a:pt x="199" y="79"/>
                  </a:lnTo>
                  <a:lnTo>
                    <a:pt x="222" y="70"/>
                  </a:lnTo>
                  <a:lnTo>
                    <a:pt x="245" y="61"/>
                  </a:lnTo>
                  <a:lnTo>
                    <a:pt x="268" y="52"/>
                  </a:lnTo>
                  <a:lnTo>
                    <a:pt x="293" y="44"/>
                  </a:lnTo>
                  <a:lnTo>
                    <a:pt x="319" y="38"/>
                  </a:lnTo>
                  <a:lnTo>
                    <a:pt x="345" y="31"/>
                  </a:lnTo>
                  <a:lnTo>
                    <a:pt x="372" y="24"/>
                  </a:lnTo>
                  <a:lnTo>
                    <a:pt x="400" y="20"/>
                  </a:lnTo>
                  <a:lnTo>
                    <a:pt x="429" y="14"/>
                  </a:lnTo>
                  <a:lnTo>
                    <a:pt x="457" y="10"/>
                  </a:lnTo>
                  <a:lnTo>
                    <a:pt x="486" y="7"/>
                  </a:lnTo>
                  <a:lnTo>
                    <a:pt x="517" y="4"/>
                  </a:lnTo>
                  <a:lnTo>
                    <a:pt x="547" y="3"/>
                  </a:lnTo>
                  <a:lnTo>
                    <a:pt x="578" y="0"/>
                  </a:lnTo>
                  <a:lnTo>
                    <a:pt x="609" y="0"/>
                  </a:lnTo>
                  <a:lnTo>
                    <a:pt x="641" y="1"/>
                  </a:lnTo>
                  <a:lnTo>
                    <a:pt x="671" y="3"/>
                  </a:lnTo>
                  <a:lnTo>
                    <a:pt x="703" y="4"/>
                  </a:lnTo>
                  <a:lnTo>
                    <a:pt x="732" y="7"/>
                  </a:lnTo>
                  <a:lnTo>
                    <a:pt x="762" y="10"/>
                  </a:lnTo>
                  <a:lnTo>
                    <a:pt x="791" y="14"/>
                  </a:lnTo>
                  <a:lnTo>
                    <a:pt x="819" y="20"/>
                  </a:lnTo>
                  <a:lnTo>
                    <a:pt x="846" y="24"/>
                  </a:lnTo>
                  <a:lnTo>
                    <a:pt x="873" y="31"/>
                  </a:lnTo>
                  <a:lnTo>
                    <a:pt x="900" y="38"/>
                  </a:lnTo>
                  <a:lnTo>
                    <a:pt x="925" y="44"/>
                  </a:lnTo>
                  <a:lnTo>
                    <a:pt x="950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19" y="79"/>
                  </a:lnTo>
                  <a:lnTo>
                    <a:pt x="1040" y="90"/>
                  </a:lnTo>
                  <a:lnTo>
                    <a:pt x="1061" y="101"/>
                  </a:lnTo>
                  <a:lnTo>
                    <a:pt x="1080" y="112"/>
                  </a:lnTo>
                  <a:lnTo>
                    <a:pt x="1098" y="123"/>
                  </a:lnTo>
                  <a:lnTo>
                    <a:pt x="1107" y="129"/>
                  </a:lnTo>
                  <a:lnTo>
                    <a:pt x="1115" y="135"/>
                  </a:lnTo>
                  <a:lnTo>
                    <a:pt x="1123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5" y="161"/>
                  </a:lnTo>
                  <a:lnTo>
                    <a:pt x="1152" y="166"/>
                  </a:lnTo>
                  <a:lnTo>
                    <a:pt x="1159" y="173"/>
                  </a:lnTo>
                  <a:lnTo>
                    <a:pt x="1166" y="180"/>
                  </a:lnTo>
                  <a:lnTo>
                    <a:pt x="1171" y="187"/>
                  </a:lnTo>
                  <a:lnTo>
                    <a:pt x="1177" y="193"/>
                  </a:lnTo>
                  <a:lnTo>
                    <a:pt x="1183" y="200"/>
                  </a:lnTo>
                  <a:lnTo>
                    <a:pt x="1187" y="208"/>
                  </a:lnTo>
                  <a:lnTo>
                    <a:pt x="1192" y="215"/>
                  </a:lnTo>
                  <a:lnTo>
                    <a:pt x="1196" y="222"/>
                  </a:lnTo>
                  <a:lnTo>
                    <a:pt x="1200" y="229"/>
                  </a:lnTo>
                  <a:lnTo>
                    <a:pt x="1203" y="236"/>
                  </a:lnTo>
                  <a:lnTo>
                    <a:pt x="1206" y="244"/>
                  </a:lnTo>
                  <a:lnTo>
                    <a:pt x="1210" y="251"/>
                  </a:lnTo>
                  <a:lnTo>
                    <a:pt x="1212" y="259"/>
                  </a:lnTo>
                  <a:lnTo>
                    <a:pt x="1214" y="267"/>
                  </a:lnTo>
                  <a:lnTo>
                    <a:pt x="1215" y="275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5"/>
                  </a:lnTo>
                  <a:lnTo>
                    <a:pt x="1219" y="305"/>
                  </a:lnTo>
                  <a:lnTo>
                    <a:pt x="1219" y="313"/>
                  </a:lnTo>
                  <a:lnTo>
                    <a:pt x="1219" y="321"/>
                  </a:lnTo>
                  <a:lnTo>
                    <a:pt x="1218" y="329"/>
                  </a:lnTo>
                  <a:lnTo>
                    <a:pt x="1215" y="337"/>
                  </a:lnTo>
                  <a:lnTo>
                    <a:pt x="1214" y="345"/>
                  </a:lnTo>
                  <a:lnTo>
                    <a:pt x="1212" y="351"/>
                  </a:lnTo>
                  <a:lnTo>
                    <a:pt x="1210" y="359"/>
                  </a:lnTo>
                  <a:lnTo>
                    <a:pt x="1206" y="367"/>
                  </a:lnTo>
                  <a:lnTo>
                    <a:pt x="1203" y="374"/>
                  </a:lnTo>
                  <a:lnTo>
                    <a:pt x="1200" y="382"/>
                  </a:lnTo>
                  <a:lnTo>
                    <a:pt x="1196" y="389"/>
                  </a:lnTo>
                  <a:lnTo>
                    <a:pt x="1192" y="397"/>
                  </a:lnTo>
                  <a:lnTo>
                    <a:pt x="1187" y="403"/>
                  </a:lnTo>
                  <a:lnTo>
                    <a:pt x="1183" y="410"/>
                  </a:lnTo>
                  <a:lnTo>
                    <a:pt x="1177" y="417"/>
                  </a:lnTo>
                  <a:lnTo>
                    <a:pt x="1171" y="424"/>
                  </a:lnTo>
                  <a:lnTo>
                    <a:pt x="1166" y="430"/>
                  </a:lnTo>
                  <a:lnTo>
                    <a:pt x="1159" y="437"/>
                  </a:lnTo>
                  <a:lnTo>
                    <a:pt x="1152" y="444"/>
                  </a:lnTo>
                  <a:lnTo>
                    <a:pt x="1145" y="451"/>
                  </a:lnTo>
                  <a:lnTo>
                    <a:pt x="1139" y="458"/>
                  </a:lnTo>
                  <a:lnTo>
                    <a:pt x="1131" y="463"/>
                  </a:lnTo>
                  <a:lnTo>
                    <a:pt x="1123" y="470"/>
                  </a:lnTo>
                  <a:lnTo>
                    <a:pt x="1115" y="476"/>
                  </a:lnTo>
                  <a:lnTo>
                    <a:pt x="1107" y="482"/>
                  </a:lnTo>
                  <a:lnTo>
                    <a:pt x="1098" y="488"/>
                  </a:lnTo>
                  <a:lnTo>
                    <a:pt x="1080" y="499"/>
                  </a:lnTo>
                  <a:lnTo>
                    <a:pt x="1061" y="511"/>
                  </a:lnTo>
                  <a:lnTo>
                    <a:pt x="1040" y="521"/>
                  </a:lnTo>
                  <a:lnTo>
                    <a:pt x="1019" y="531"/>
                  </a:lnTo>
                  <a:lnTo>
                    <a:pt x="998" y="541"/>
                  </a:lnTo>
                  <a:lnTo>
                    <a:pt x="974" y="550"/>
                  </a:lnTo>
                  <a:lnTo>
                    <a:pt x="950" y="558"/>
                  </a:lnTo>
                  <a:lnTo>
                    <a:pt x="925" y="566"/>
                  </a:lnTo>
                  <a:lnTo>
                    <a:pt x="900" y="574"/>
                  </a:lnTo>
                  <a:lnTo>
                    <a:pt x="873" y="581"/>
                  </a:lnTo>
                  <a:lnTo>
                    <a:pt x="846" y="586"/>
                  </a:lnTo>
                  <a:lnTo>
                    <a:pt x="819" y="592"/>
                  </a:lnTo>
                  <a:lnTo>
                    <a:pt x="791" y="596"/>
                  </a:lnTo>
                  <a:lnTo>
                    <a:pt x="762" y="601"/>
                  </a:lnTo>
                  <a:lnTo>
                    <a:pt x="732" y="604"/>
                  </a:lnTo>
                  <a:lnTo>
                    <a:pt x="702" y="607"/>
                  </a:lnTo>
                  <a:lnTo>
                    <a:pt x="671" y="609"/>
                  </a:lnTo>
                  <a:lnTo>
                    <a:pt x="641" y="610"/>
                  </a:lnTo>
                  <a:lnTo>
                    <a:pt x="609" y="610"/>
                  </a:lnTo>
                  <a:lnTo>
                    <a:pt x="578" y="610"/>
                  </a:lnTo>
                  <a:lnTo>
                    <a:pt x="547" y="609"/>
                  </a:lnTo>
                  <a:lnTo>
                    <a:pt x="517" y="607"/>
                  </a:lnTo>
                  <a:lnTo>
                    <a:pt x="486" y="604"/>
                  </a:lnTo>
                  <a:lnTo>
                    <a:pt x="457" y="601"/>
                  </a:lnTo>
                  <a:lnTo>
                    <a:pt x="429" y="596"/>
                  </a:lnTo>
                  <a:lnTo>
                    <a:pt x="400" y="592"/>
                  </a:lnTo>
                  <a:lnTo>
                    <a:pt x="372" y="586"/>
                  </a:lnTo>
                  <a:lnTo>
                    <a:pt x="345" y="581"/>
                  </a:lnTo>
                  <a:lnTo>
                    <a:pt x="319" y="574"/>
                  </a:lnTo>
                  <a:lnTo>
                    <a:pt x="293" y="566"/>
                  </a:lnTo>
                  <a:lnTo>
                    <a:pt x="268" y="558"/>
                  </a:lnTo>
                  <a:lnTo>
                    <a:pt x="245" y="550"/>
                  </a:lnTo>
                  <a:lnTo>
                    <a:pt x="222" y="541"/>
                  </a:lnTo>
                  <a:lnTo>
                    <a:pt x="199" y="531"/>
                  </a:lnTo>
                  <a:lnTo>
                    <a:pt x="178" y="521"/>
                  </a:lnTo>
                  <a:lnTo>
                    <a:pt x="159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2" y="482"/>
                  </a:lnTo>
                  <a:lnTo>
                    <a:pt x="103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1" y="458"/>
                  </a:lnTo>
                  <a:lnTo>
                    <a:pt x="73" y="451"/>
                  </a:lnTo>
                  <a:lnTo>
                    <a:pt x="66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8" y="424"/>
                  </a:lnTo>
                  <a:lnTo>
                    <a:pt x="43" y="417"/>
                  </a:lnTo>
                  <a:lnTo>
                    <a:pt x="37" y="410"/>
                  </a:lnTo>
                  <a:lnTo>
                    <a:pt x="32" y="403"/>
                  </a:lnTo>
                  <a:lnTo>
                    <a:pt x="28" y="397"/>
                  </a:lnTo>
                  <a:lnTo>
                    <a:pt x="23" y="389"/>
                  </a:lnTo>
                  <a:lnTo>
                    <a:pt x="19" y="382"/>
                  </a:lnTo>
                  <a:lnTo>
                    <a:pt x="15" y="374"/>
                  </a:lnTo>
                  <a:lnTo>
                    <a:pt x="12" y="367"/>
                  </a:lnTo>
                  <a:lnTo>
                    <a:pt x="10" y="359"/>
                  </a:lnTo>
                  <a:lnTo>
                    <a:pt x="6" y="351"/>
                  </a:lnTo>
                  <a:lnTo>
                    <a:pt x="5" y="345"/>
                  </a:lnTo>
                  <a:lnTo>
                    <a:pt x="3" y="337"/>
                  </a:lnTo>
                  <a:lnTo>
                    <a:pt x="2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33600" y="3924000"/>
              <a:ext cx="1935000" cy="968400"/>
            </a:xfrm>
            <a:custGeom>
              <a:avLst/>
              <a:gdLst/>
              <a:ahLst/>
              <a:rect l="l" t="t" r="r" b="b"/>
              <a:pathLst>
                <a:path w="1219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3" y="275"/>
                  </a:lnTo>
                  <a:lnTo>
                    <a:pt x="5" y="267"/>
                  </a:lnTo>
                  <a:lnTo>
                    <a:pt x="6" y="259"/>
                  </a:lnTo>
                  <a:lnTo>
                    <a:pt x="10" y="251"/>
                  </a:lnTo>
                  <a:lnTo>
                    <a:pt x="12" y="244"/>
                  </a:lnTo>
                  <a:lnTo>
                    <a:pt x="15" y="236"/>
                  </a:lnTo>
                  <a:lnTo>
                    <a:pt x="19" y="229"/>
                  </a:lnTo>
                  <a:lnTo>
                    <a:pt x="23" y="222"/>
                  </a:lnTo>
                  <a:lnTo>
                    <a:pt x="28" y="215"/>
                  </a:lnTo>
                  <a:lnTo>
                    <a:pt x="32" y="208"/>
                  </a:lnTo>
                  <a:lnTo>
                    <a:pt x="37" y="200"/>
                  </a:lnTo>
                  <a:lnTo>
                    <a:pt x="43" y="193"/>
                  </a:lnTo>
                  <a:lnTo>
                    <a:pt x="48" y="187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6" y="166"/>
                  </a:lnTo>
                  <a:lnTo>
                    <a:pt x="73" y="161"/>
                  </a:lnTo>
                  <a:lnTo>
                    <a:pt x="81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3" y="135"/>
                  </a:lnTo>
                  <a:lnTo>
                    <a:pt x="112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8" y="90"/>
                  </a:lnTo>
                  <a:lnTo>
                    <a:pt x="199" y="79"/>
                  </a:lnTo>
                  <a:lnTo>
                    <a:pt x="222" y="70"/>
                  </a:lnTo>
                  <a:lnTo>
                    <a:pt x="245" y="61"/>
                  </a:lnTo>
                  <a:lnTo>
                    <a:pt x="268" y="52"/>
                  </a:lnTo>
                  <a:lnTo>
                    <a:pt x="293" y="44"/>
                  </a:lnTo>
                  <a:lnTo>
                    <a:pt x="319" y="38"/>
                  </a:lnTo>
                  <a:lnTo>
                    <a:pt x="345" y="31"/>
                  </a:lnTo>
                  <a:lnTo>
                    <a:pt x="372" y="24"/>
                  </a:lnTo>
                  <a:lnTo>
                    <a:pt x="400" y="20"/>
                  </a:lnTo>
                  <a:lnTo>
                    <a:pt x="429" y="14"/>
                  </a:lnTo>
                  <a:lnTo>
                    <a:pt x="457" y="10"/>
                  </a:lnTo>
                  <a:lnTo>
                    <a:pt x="486" y="7"/>
                  </a:lnTo>
                  <a:lnTo>
                    <a:pt x="517" y="4"/>
                  </a:lnTo>
                  <a:lnTo>
                    <a:pt x="547" y="3"/>
                  </a:lnTo>
                  <a:lnTo>
                    <a:pt x="578" y="0"/>
                  </a:lnTo>
                  <a:lnTo>
                    <a:pt x="609" y="0"/>
                  </a:lnTo>
                  <a:lnTo>
                    <a:pt x="641" y="1"/>
                  </a:lnTo>
                  <a:lnTo>
                    <a:pt x="671" y="3"/>
                  </a:lnTo>
                  <a:lnTo>
                    <a:pt x="703" y="4"/>
                  </a:lnTo>
                  <a:lnTo>
                    <a:pt x="732" y="7"/>
                  </a:lnTo>
                  <a:lnTo>
                    <a:pt x="762" y="10"/>
                  </a:lnTo>
                  <a:lnTo>
                    <a:pt x="791" y="14"/>
                  </a:lnTo>
                  <a:lnTo>
                    <a:pt x="819" y="20"/>
                  </a:lnTo>
                  <a:lnTo>
                    <a:pt x="846" y="24"/>
                  </a:lnTo>
                  <a:lnTo>
                    <a:pt x="873" y="31"/>
                  </a:lnTo>
                  <a:lnTo>
                    <a:pt x="900" y="38"/>
                  </a:lnTo>
                  <a:lnTo>
                    <a:pt x="925" y="44"/>
                  </a:lnTo>
                  <a:lnTo>
                    <a:pt x="950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19" y="79"/>
                  </a:lnTo>
                  <a:lnTo>
                    <a:pt x="1040" y="90"/>
                  </a:lnTo>
                  <a:lnTo>
                    <a:pt x="1061" y="101"/>
                  </a:lnTo>
                  <a:lnTo>
                    <a:pt x="1080" y="112"/>
                  </a:lnTo>
                  <a:lnTo>
                    <a:pt x="1098" y="123"/>
                  </a:lnTo>
                  <a:lnTo>
                    <a:pt x="1107" y="129"/>
                  </a:lnTo>
                  <a:lnTo>
                    <a:pt x="1115" y="135"/>
                  </a:lnTo>
                  <a:lnTo>
                    <a:pt x="1123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5" y="161"/>
                  </a:lnTo>
                  <a:lnTo>
                    <a:pt x="1152" y="166"/>
                  </a:lnTo>
                  <a:lnTo>
                    <a:pt x="1159" y="173"/>
                  </a:lnTo>
                  <a:lnTo>
                    <a:pt x="1166" y="180"/>
                  </a:lnTo>
                  <a:lnTo>
                    <a:pt x="1171" y="187"/>
                  </a:lnTo>
                  <a:lnTo>
                    <a:pt x="1177" y="193"/>
                  </a:lnTo>
                  <a:lnTo>
                    <a:pt x="1183" y="200"/>
                  </a:lnTo>
                  <a:lnTo>
                    <a:pt x="1187" y="208"/>
                  </a:lnTo>
                  <a:lnTo>
                    <a:pt x="1192" y="215"/>
                  </a:lnTo>
                  <a:lnTo>
                    <a:pt x="1196" y="222"/>
                  </a:lnTo>
                  <a:lnTo>
                    <a:pt x="1200" y="229"/>
                  </a:lnTo>
                  <a:lnTo>
                    <a:pt x="1203" y="236"/>
                  </a:lnTo>
                  <a:lnTo>
                    <a:pt x="1206" y="244"/>
                  </a:lnTo>
                  <a:lnTo>
                    <a:pt x="1210" y="251"/>
                  </a:lnTo>
                  <a:lnTo>
                    <a:pt x="1212" y="259"/>
                  </a:lnTo>
                  <a:lnTo>
                    <a:pt x="1214" y="267"/>
                  </a:lnTo>
                  <a:lnTo>
                    <a:pt x="1215" y="275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5"/>
                  </a:lnTo>
                  <a:lnTo>
                    <a:pt x="1219" y="305"/>
                  </a:lnTo>
                  <a:lnTo>
                    <a:pt x="1219" y="313"/>
                  </a:lnTo>
                  <a:lnTo>
                    <a:pt x="1219" y="321"/>
                  </a:lnTo>
                  <a:lnTo>
                    <a:pt x="1218" y="329"/>
                  </a:lnTo>
                  <a:lnTo>
                    <a:pt x="1215" y="337"/>
                  </a:lnTo>
                  <a:lnTo>
                    <a:pt x="1214" y="345"/>
                  </a:lnTo>
                  <a:lnTo>
                    <a:pt x="1212" y="351"/>
                  </a:lnTo>
                  <a:lnTo>
                    <a:pt x="1210" y="359"/>
                  </a:lnTo>
                  <a:lnTo>
                    <a:pt x="1206" y="367"/>
                  </a:lnTo>
                  <a:lnTo>
                    <a:pt x="1203" y="374"/>
                  </a:lnTo>
                  <a:lnTo>
                    <a:pt x="1200" y="382"/>
                  </a:lnTo>
                  <a:lnTo>
                    <a:pt x="1196" y="389"/>
                  </a:lnTo>
                  <a:lnTo>
                    <a:pt x="1192" y="397"/>
                  </a:lnTo>
                  <a:lnTo>
                    <a:pt x="1187" y="403"/>
                  </a:lnTo>
                  <a:lnTo>
                    <a:pt x="1183" y="410"/>
                  </a:lnTo>
                  <a:lnTo>
                    <a:pt x="1177" y="417"/>
                  </a:lnTo>
                  <a:lnTo>
                    <a:pt x="1171" y="424"/>
                  </a:lnTo>
                  <a:lnTo>
                    <a:pt x="1166" y="430"/>
                  </a:lnTo>
                  <a:lnTo>
                    <a:pt x="1159" y="437"/>
                  </a:lnTo>
                  <a:lnTo>
                    <a:pt x="1152" y="444"/>
                  </a:lnTo>
                  <a:lnTo>
                    <a:pt x="1145" y="451"/>
                  </a:lnTo>
                  <a:lnTo>
                    <a:pt x="1139" y="458"/>
                  </a:lnTo>
                  <a:lnTo>
                    <a:pt x="1131" y="463"/>
                  </a:lnTo>
                  <a:lnTo>
                    <a:pt x="1123" y="470"/>
                  </a:lnTo>
                  <a:lnTo>
                    <a:pt x="1115" y="476"/>
                  </a:lnTo>
                  <a:lnTo>
                    <a:pt x="1107" y="482"/>
                  </a:lnTo>
                  <a:lnTo>
                    <a:pt x="1098" y="488"/>
                  </a:lnTo>
                  <a:lnTo>
                    <a:pt x="1080" y="499"/>
                  </a:lnTo>
                  <a:lnTo>
                    <a:pt x="1061" y="511"/>
                  </a:lnTo>
                  <a:lnTo>
                    <a:pt x="1040" y="521"/>
                  </a:lnTo>
                  <a:lnTo>
                    <a:pt x="1019" y="531"/>
                  </a:lnTo>
                  <a:lnTo>
                    <a:pt x="998" y="541"/>
                  </a:lnTo>
                  <a:lnTo>
                    <a:pt x="974" y="550"/>
                  </a:lnTo>
                  <a:lnTo>
                    <a:pt x="950" y="558"/>
                  </a:lnTo>
                  <a:lnTo>
                    <a:pt x="925" y="566"/>
                  </a:lnTo>
                  <a:lnTo>
                    <a:pt x="900" y="574"/>
                  </a:lnTo>
                  <a:lnTo>
                    <a:pt x="873" y="581"/>
                  </a:lnTo>
                  <a:lnTo>
                    <a:pt x="846" y="586"/>
                  </a:lnTo>
                  <a:lnTo>
                    <a:pt x="819" y="592"/>
                  </a:lnTo>
                  <a:lnTo>
                    <a:pt x="791" y="596"/>
                  </a:lnTo>
                  <a:lnTo>
                    <a:pt x="762" y="601"/>
                  </a:lnTo>
                  <a:lnTo>
                    <a:pt x="732" y="604"/>
                  </a:lnTo>
                  <a:lnTo>
                    <a:pt x="702" y="607"/>
                  </a:lnTo>
                  <a:lnTo>
                    <a:pt x="671" y="609"/>
                  </a:lnTo>
                  <a:lnTo>
                    <a:pt x="641" y="610"/>
                  </a:lnTo>
                  <a:lnTo>
                    <a:pt x="609" y="610"/>
                  </a:lnTo>
                  <a:lnTo>
                    <a:pt x="578" y="610"/>
                  </a:lnTo>
                  <a:lnTo>
                    <a:pt x="547" y="609"/>
                  </a:lnTo>
                  <a:lnTo>
                    <a:pt x="517" y="607"/>
                  </a:lnTo>
                  <a:lnTo>
                    <a:pt x="486" y="604"/>
                  </a:lnTo>
                  <a:lnTo>
                    <a:pt x="457" y="601"/>
                  </a:lnTo>
                  <a:lnTo>
                    <a:pt x="429" y="596"/>
                  </a:lnTo>
                  <a:lnTo>
                    <a:pt x="400" y="592"/>
                  </a:lnTo>
                  <a:lnTo>
                    <a:pt x="372" y="586"/>
                  </a:lnTo>
                  <a:lnTo>
                    <a:pt x="345" y="581"/>
                  </a:lnTo>
                  <a:lnTo>
                    <a:pt x="319" y="574"/>
                  </a:lnTo>
                  <a:lnTo>
                    <a:pt x="293" y="566"/>
                  </a:lnTo>
                  <a:lnTo>
                    <a:pt x="268" y="558"/>
                  </a:lnTo>
                  <a:lnTo>
                    <a:pt x="245" y="550"/>
                  </a:lnTo>
                  <a:lnTo>
                    <a:pt x="222" y="541"/>
                  </a:lnTo>
                  <a:lnTo>
                    <a:pt x="199" y="531"/>
                  </a:lnTo>
                  <a:lnTo>
                    <a:pt x="178" y="521"/>
                  </a:lnTo>
                  <a:lnTo>
                    <a:pt x="159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2" y="482"/>
                  </a:lnTo>
                  <a:lnTo>
                    <a:pt x="103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1" y="458"/>
                  </a:lnTo>
                  <a:lnTo>
                    <a:pt x="73" y="451"/>
                  </a:lnTo>
                  <a:lnTo>
                    <a:pt x="66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8" y="424"/>
                  </a:lnTo>
                  <a:lnTo>
                    <a:pt x="43" y="417"/>
                  </a:lnTo>
                  <a:lnTo>
                    <a:pt x="37" y="410"/>
                  </a:lnTo>
                  <a:lnTo>
                    <a:pt x="32" y="403"/>
                  </a:lnTo>
                  <a:lnTo>
                    <a:pt x="28" y="397"/>
                  </a:lnTo>
                  <a:lnTo>
                    <a:pt x="23" y="389"/>
                  </a:lnTo>
                  <a:lnTo>
                    <a:pt x="19" y="382"/>
                  </a:lnTo>
                  <a:lnTo>
                    <a:pt x="15" y="374"/>
                  </a:lnTo>
                  <a:lnTo>
                    <a:pt x="12" y="367"/>
                  </a:lnTo>
                  <a:lnTo>
                    <a:pt x="10" y="359"/>
                  </a:lnTo>
                  <a:lnTo>
                    <a:pt x="6" y="351"/>
                  </a:lnTo>
                  <a:lnTo>
                    <a:pt x="5" y="345"/>
                  </a:lnTo>
                  <a:lnTo>
                    <a:pt x="3" y="337"/>
                  </a:lnTo>
                  <a:lnTo>
                    <a:pt x="2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</a:path>
              </a:pathLst>
            </a:custGeom>
            <a:noFill/>
            <a:ln w="46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3280" y="3795480"/>
              <a:ext cx="1936800" cy="968400"/>
            </a:xfrm>
            <a:custGeom>
              <a:avLst/>
              <a:gdLst/>
              <a:ahLst/>
              <a:rect l="l" t="t" r="r" b="b"/>
              <a:pathLst>
                <a:path w="1220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3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20" y="229"/>
                  </a:lnTo>
                  <a:lnTo>
                    <a:pt x="24" y="221"/>
                  </a:lnTo>
                  <a:lnTo>
                    <a:pt x="29" y="215"/>
                  </a:lnTo>
                  <a:lnTo>
                    <a:pt x="33" y="208"/>
                  </a:lnTo>
                  <a:lnTo>
                    <a:pt x="38" y="200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5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2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60" y="101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1"/>
                  </a:lnTo>
                  <a:lnTo>
                    <a:pt x="373" y="24"/>
                  </a:lnTo>
                  <a:lnTo>
                    <a:pt x="401" y="19"/>
                  </a:lnTo>
                  <a:lnTo>
                    <a:pt x="429" y="14"/>
                  </a:lnTo>
                  <a:lnTo>
                    <a:pt x="458" y="10"/>
                  </a:lnTo>
                  <a:lnTo>
                    <a:pt x="487" y="7"/>
                  </a:lnTo>
                  <a:lnTo>
                    <a:pt x="517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2"/>
                  </a:lnTo>
                  <a:lnTo>
                    <a:pt x="704" y="3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4"/>
                  </a:lnTo>
                  <a:lnTo>
                    <a:pt x="820" y="19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2" y="101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4"/>
                  </a:lnTo>
                  <a:lnTo>
                    <a:pt x="1124" y="141"/>
                  </a:lnTo>
                  <a:lnTo>
                    <a:pt x="1132" y="147"/>
                  </a:lnTo>
                  <a:lnTo>
                    <a:pt x="1139" y="154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7" y="180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1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1" y="251"/>
                  </a:lnTo>
                  <a:lnTo>
                    <a:pt x="1213" y="259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8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5"/>
                  </a:lnTo>
                  <a:lnTo>
                    <a:pt x="1220" y="305"/>
                  </a:lnTo>
                  <a:lnTo>
                    <a:pt x="1220" y="313"/>
                  </a:lnTo>
                  <a:lnTo>
                    <a:pt x="1220" y="321"/>
                  </a:lnTo>
                  <a:lnTo>
                    <a:pt x="1218" y="329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0" y="382"/>
                  </a:lnTo>
                  <a:lnTo>
                    <a:pt x="1197" y="388"/>
                  </a:lnTo>
                  <a:lnTo>
                    <a:pt x="1192" y="396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8" y="417"/>
                  </a:lnTo>
                  <a:lnTo>
                    <a:pt x="1172" y="423"/>
                  </a:lnTo>
                  <a:lnTo>
                    <a:pt x="1167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0"/>
                  </a:lnTo>
                  <a:lnTo>
                    <a:pt x="1139" y="457"/>
                  </a:lnTo>
                  <a:lnTo>
                    <a:pt x="1132" y="463"/>
                  </a:lnTo>
                  <a:lnTo>
                    <a:pt x="1124" y="470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2" y="510"/>
                  </a:lnTo>
                  <a:lnTo>
                    <a:pt x="1041" y="520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5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3" y="606"/>
                  </a:lnTo>
                  <a:lnTo>
                    <a:pt x="672" y="609"/>
                  </a:lnTo>
                  <a:lnTo>
                    <a:pt x="642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6"/>
                  </a:lnTo>
                  <a:lnTo>
                    <a:pt x="487" y="604"/>
                  </a:lnTo>
                  <a:lnTo>
                    <a:pt x="458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0"/>
                  </a:lnTo>
                  <a:lnTo>
                    <a:pt x="160" y="510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2" y="457"/>
                  </a:lnTo>
                  <a:lnTo>
                    <a:pt x="74" y="450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5" y="430"/>
                  </a:lnTo>
                  <a:lnTo>
                    <a:pt x="49" y="423"/>
                  </a:lnTo>
                  <a:lnTo>
                    <a:pt x="43" y="417"/>
                  </a:lnTo>
                  <a:lnTo>
                    <a:pt x="38" y="410"/>
                  </a:lnTo>
                  <a:lnTo>
                    <a:pt x="33" y="403"/>
                  </a:lnTo>
                  <a:lnTo>
                    <a:pt x="29" y="396"/>
                  </a:lnTo>
                  <a:lnTo>
                    <a:pt x="24" y="388"/>
                  </a:lnTo>
                  <a:lnTo>
                    <a:pt x="20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3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03280" y="3795480"/>
              <a:ext cx="1936800" cy="968400"/>
            </a:xfrm>
            <a:custGeom>
              <a:avLst/>
              <a:gdLst/>
              <a:ahLst/>
              <a:rect l="l" t="t" r="r" b="b"/>
              <a:pathLst>
                <a:path w="1220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3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20" y="229"/>
                  </a:lnTo>
                  <a:lnTo>
                    <a:pt x="24" y="221"/>
                  </a:lnTo>
                  <a:lnTo>
                    <a:pt x="29" y="215"/>
                  </a:lnTo>
                  <a:lnTo>
                    <a:pt x="33" y="208"/>
                  </a:lnTo>
                  <a:lnTo>
                    <a:pt x="38" y="200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5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2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60" y="101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1"/>
                  </a:lnTo>
                  <a:lnTo>
                    <a:pt x="373" y="24"/>
                  </a:lnTo>
                  <a:lnTo>
                    <a:pt x="401" y="19"/>
                  </a:lnTo>
                  <a:lnTo>
                    <a:pt x="429" y="14"/>
                  </a:lnTo>
                  <a:lnTo>
                    <a:pt x="458" y="10"/>
                  </a:lnTo>
                  <a:lnTo>
                    <a:pt x="487" y="7"/>
                  </a:lnTo>
                  <a:lnTo>
                    <a:pt x="517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2"/>
                  </a:lnTo>
                  <a:lnTo>
                    <a:pt x="704" y="3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4"/>
                  </a:lnTo>
                  <a:lnTo>
                    <a:pt x="820" y="19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2" y="101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4"/>
                  </a:lnTo>
                  <a:lnTo>
                    <a:pt x="1124" y="141"/>
                  </a:lnTo>
                  <a:lnTo>
                    <a:pt x="1132" y="147"/>
                  </a:lnTo>
                  <a:lnTo>
                    <a:pt x="1139" y="154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7" y="180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1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1" y="251"/>
                  </a:lnTo>
                  <a:lnTo>
                    <a:pt x="1213" y="259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8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5"/>
                  </a:lnTo>
                  <a:lnTo>
                    <a:pt x="1220" y="305"/>
                  </a:lnTo>
                  <a:lnTo>
                    <a:pt x="1220" y="313"/>
                  </a:lnTo>
                  <a:lnTo>
                    <a:pt x="1220" y="321"/>
                  </a:lnTo>
                  <a:lnTo>
                    <a:pt x="1218" y="329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0" y="382"/>
                  </a:lnTo>
                  <a:lnTo>
                    <a:pt x="1197" y="388"/>
                  </a:lnTo>
                  <a:lnTo>
                    <a:pt x="1192" y="396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8" y="417"/>
                  </a:lnTo>
                  <a:lnTo>
                    <a:pt x="1172" y="423"/>
                  </a:lnTo>
                  <a:lnTo>
                    <a:pt x="1167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0"/>
                  </a:lnTo>
                  <a:lnTo>
                    <a:pt x="1139" y="457"/>
                  </a:lnTo>
                  <a:lnTo>
                    <a:pt x="1132" y="463"/>
                  </a:lnTo>
                  <a:lnTo>
                    <a:pt x="1124" y="470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2" y="510"/>
                  </a:lnTo>
                  <a:lnTo>
                    <a:pt x="1041" y="520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5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3" y="606"/>
                  </a:lnTo>
                  <a:lnTo>
                    <a:pt x="672" y="609"/>
                  </a:lnTo>
                  <a:lnTo>
                    <a:pt x="642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6"/>
                  </a:lnTo>
                  <a:lnTo>
                    <a:pt x="487" y="604"/>
                  </a:lnTo>
                  <a:lnTo>
                    <a:pt x="458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0"/>
                  </a:lnTo>
                  <a:lnTo>
                    <a:pt x="160" y="510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2" y="457"/>
                  </a:lnTo>
                  <a:lnTo>
                    <a:pt x="74" y="450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5" y="430"/>
                  </a:lnTo>
                  <a:lnTo>
                    <a:pt x="49" y="423"/>
                  </a:lnTo>
                  <a:lnTo>
                    <a:pt x="43" y="417"/>
                  </a:lnTo>
                  <a:lnTo>
                    <a:pt x="38" y="410"/>
                  </a:lnTo>
                  <a:lnTo>
                    <a:pt x="33" y="403"/>
                  </a:lnTo>
                  <a:lnTo>
                    <a:pt x="29" y="396"/>
                  </a:lnTo>
                  <a:lnTo>
                    <a:pt x="24" y="388"/>
                  </a:lnTo>
                  <a:lnTo>
                    <a:pt x="20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3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75520" y="4051080"/>
              <a:ext cx="139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Principles an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39320" y="4279680"/>
              <a:ext cx="98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guideli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33600" y="1774440"/>
              <a:ext cx="1935000" cy="966960"/>
            </a:xfrm>
            <a:custGeom>
              <a:avLst/>
              <a:gdLst/>
              <a:ahLst/>
              <a:rect l="l" t="t" r="r" b="b"/>
              <a:pathLst>
                <a:path w="1219" h="609">
                  <a:moveTo>
                    <a:pt x="0" y="304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3" y="274"/>
                  </a:lnTo>
                  <a:lnTo>
                    <a:pt x="5" y="266"/>
                  </a:lnTo>
                  <a:lnTo>
                    <a:pt x="6" y="258"/>
                  </a:lnTo>
                  <a:lnTo>
                    <a:pt x="10" y="250"/>
                  </a:lnTo>
                  <a:lnTo>
                    <a:pt x="12" y="243"/>
                  </a:lnTo>
                  <a:lnTo>
                    <a:pt x="15" y="236"/>
                  </a:lnTo>
                  <a:lnTo>
                    <a:pt x="19" y="229"/>
                  </a:lnTo>
                  <a:lnTo>
                    <a:pt x="23" y="221"/>
                  </a:lnTo>
                  <a:lnTo>
                    <a:pt x="28" y="214"/>
                  </a:lnTo>
                  <a:lnTo>
                    <a:pt x="32" y="207"/>
                  </a:lnTo>
                  <a:lnTo>
                    <a:pt x="37" y="199"/>
                  </a:lnTo>
                  <a:lnTo>
                    <a:pt x="43" y="193"/>
                  </a:lnTo>
                  <a:lnTo>
                    <a:pt x="48" y="186"/>
                  </a:lnTo>
                  <a:lnTo>
                    <a:pt x="54" y="179"/>
                  </a:lnTo>
                  <a:lnTo>
                    <a:pt x="61" y="172"/>
                  </a:lnTo>
                  <a:lnTo>
                    <a:pt x="66" y="166"/>
                  </a:lnTo>
                  <a:lnTo>
                    <a:pt x="73" y="160"/>
                  </a:lnTo>
                  <a:lnTo>
                    <a:pt x="81" y="153"/>
                  </a:lnTo>
                  <a:lnTo>
                    <a:pt x="88" y="146"/>
                  </a:lnTo>
                  <a:lnTo>
                    <a:pt x="96" y="141"/>
                  </a:lnTo>
                  <a:lnTo>
                    <a:pt x="103" y="134"/>
                  </a:lnTo>
                  <a:lnTo>
                    <a:pt x="112" y="128"/>
                  </a:lnTo>
                  <a:lnTo>
                    <a:pt x="122" y="123"/>
                  </a:lnTo>
                  <a:lnTo>
                    <a:pt x="140" y="111"/>
                  </a:lnTo>
                  <a:lnTo>
                    <a:pt x="159" y="100"/>
                  </a:lnTo>
                  <a:lnTo>
                    <a:pt x="178" y="89"/>
                  </a:lnTo>
                  <a:lnTo>
                    <a:pt x="199" y="79"/>
                  </a:lnTo>
                  <a:lnTo>
                    <a:pt x="222" y="70"/>
                  </a:lnTo>
                  <a:lnTo>
                    <a:pt x="245" y="61"/>
                  </a:lnTo>
                  <a:lnTo>
                    <a:pt x="268" y="52"/>
                  </a:lnTo>
                  <a:lnTo>
                    <a:pt x="293" y="44"/>
                  </a:lnTo>
                  <a:lnTo>
                    <a:pt x="319" y="37"/>
                  </a:lnTo>
                  <a:lnTo>
                    <a:pt x="345" y="30"/>
                  </a:lnTo>
                  <a:lnTo>
                    <a:pt x="372" y="23"/>
                  </a:lnTo>
                  <a:lnTo>
                    <a:pt x="400" y="19"/>
                  </a:lnTo>
                  <a:lnTo>
                    <a:pt x="429" y="13"/>
                  </a:lnTo>
                  <a:lnTo>
                    <a:pt x="457" y="10"/>
                  </a:lnTo>
                  <a:lnTo>
                    <a:pt x="486" y="6"/>
                  </a:lnTo>
                  <a:lnTo>
                    <a:pt x="517" y="3"/>
                  </a:lnTo>
                  <a:lnTo>
                    <a:pt x="547" y="2"/>
                  </a:lnTo>
                  <a:lnTo>
                    <a:pt x="578" y="0"/>
                  </a:lnTo>
                  <a:lnTo>
                    <a:pt x="609" y="0"/>
                  </a:lnTo>
                  <a:lnTo>
                    <a:pt x="641" y="1"/>
                  </a:lnTo>
                  <a:lnTo>
                    <a:pt x="671" y="2"/>
                  </a:lnTo>
                  <a:lnTo>
                    <a:pt x="703" y="3"/>
                  </a:lnTo>
                  <a:lnTo>
                    <a:pt x="732" y="6"/>
                  </a:lnTo>
                  <a:lnTo>
                    <a:pt x="762" y="10"/>
                  </a:lnTo>
                  <a:lnTo>
                    <a:pt x="791" y="13"/>
                  </a:lnTo>
                  <a:lnTo>
                    <a:pt x="819" y="19"/>
                  </a:lnTo>
                  <a:lnTo>
                    <a:pt x="846" y="23"/>
                  </a:lnTo>
                  <a:lnTo>
                    <a:pt x="873" y="30"/>
                  </a:lnTo>
                  <a:lnTo>
                    <a:pt x="900" y="37"/>
                  </a:lnTo>
                  <a:lnTo>
                    <a:pt x="925" y="44"/>
                  </a:lnTo>
                  <a:lnTo>
                    <a:pt x="950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19" y="79"/>
                  </a:lnTo>
                  <a:lnTo>
                    <a:pt x="1040" y="89"/>
                  </a:lnTo>
                  <a:lnTo>
                    <a:pt x="1061" y="100"/>
                  </a:lnTo>
                  <a:lnTo>
                    <a:pt x="1080" y="111"/>
                  </a:lnTo>
                  <a:lnTo>
                    <a:pt x="1098" y="123"/>
                  </a:lnTo>
                  <a:lnTo>
                    <a:pt x="1107" y="128"/>
                  </a:lnTo>
                  <a:lnTo>
                    <a:pt x="1115" y="134"/>
                  </a:lnTo>
                  <a:lnTo>
                    <a:pt x="1123" y="141"/>
                  </a:lnTo>
                  <a:lnTo>
                    <a:pt x="1131" y="146"/>
                  </a:lnTo>
                  <a:lnTo>
                    <a:pt x="1139" y="153"/>
                  </a:lnTo>
                  <a:lnTo>
                    <a:pt x="1145" y="160"/>
                  </a:lnTo>
                  <a:lnTo>
                    <a:pt x="1152" y="166"/>
                  </a:lnTo>
                  <a:lnTo>
                    <a:pt x="1159" y="172"/>
                  </a:lnTo>
                  <a:lnTo>
                    <a:pt x="1166" y="179"/>
                  </a:lnTo>
                  <a:lnTo>
                    <a:pt x="1171" y="186"/>
                  </a:lnTo>
                  <a:lnTo>
                    <a:pt x="1177" y="193"/>
                  </a:lnTo>
                  <a:lnTo>
                    <a:pt x="1182" y="199"/>
                  </a:lnTo>
                  <a:lnTo>
                    <a:pt x="1187" y="207"/>
                  </a:lnTo>
                  <a:lnTo>
                    <a:pt x="1192" y="214"/>
                  </a:lnTo>
                  <a:lnTo>
                    <a:pt x="1196" y="221"/>
                  </a:lnTo>
                  <a:lnTo>
                    <a:pt x="1200" y="229"/>
                  </a:lnTo>
                  <a:lnTo>
                    <a:pt x="1203" y="236"/>
                  </a:lnTo>
                  <a:lnTo>
                    <a:pt x="1206" y="243"/>
                  </a:lnTo>
                  <a:lnTo>
                    <a:pt x="1210" y="250"/>
                  </a:lnTo>
                  <a:lnTo>
                    <a:pt x="1212" y="258"/>
                  </a:lnTo>
                  <a:lnTo>
                    <a:pt x="1214" y="266"/>
                  </a:lnTo>
                  <a:lnTo>
                    <a:pt x="1215" y="274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4"/>
                  </a:lnTo>
                  <a:lnTo>
                    <a:pt x="1219" y="304"/>
                  </a:lnTo>
                  <a:lnTo>
                    <a:pt x="1219" y="312"/>
                  </a:lnTo>
                  <a:lnTo>
                    <a:pt x="1219" y="320"/>
                  </a:lnTo>
                  <a:lnTo>
                    <a:pt x="1218" y="328"/>
                  </a:lnTo>
                  <a:lnTo>
                    <a:pt x="1215" y="336"/>
                  </a:lnTo>
                  <a:lnTo>
                    <a:pt x="1214" y="344"/>
                  </a:lnTo>
                  <a:lnTo>
                    <a:pt x="1212" y="351"/>
                  </a:lnTo>
                  <a:lnTo>
                    <a:pt x="1210" y="359"/>
                  </a:lnTo>
                  <a:lnTo>
                    <a:pt x="1206" y="367"/>
                  </a:lnTo>
                  <a:lnTo>
                    <a:pt x="1203" y="373"/>
                  </a:lnTo>
                  <a:lnTo>
                    <a:pt x="1200" y="381"/>
                  </a:lnTo>
                  <a:lnTo>
                    <a:pt x="1196" y="388"/>
                  </a:lnTo>
                  <a:lnTo>
                    <a:pt x="1192" y="396"/>
                  </a:lnTo>
                  <a:lnTo>
                    <a:pt x="1187" y="403"/>
                  </a:lnTo>
                  <a:lnTo>
                    <a:pt x="1183" y="409"/>
                  </a:lnTo>
                  <a:lnTo>
                    <a:pt x="1177" y="416"/>
                  </a:lnTo>
                  <a:lnTo>
                    <a:pt x="1171" y="423"/>
                  </a:lnTo>
                  <a:lnTo>
                    <a:pt x="1166" y="430"/>
                  </a:lnTo>
                  <a:lnTo>
                    <a:pt x="1159" y="437"/>
                  </a:lnTo>
                  <a:lnTo>
                    <a:pt x="1152" y="443"/>
                  </a:lnTo>
                  <a:lnTo>
                    <a:pt x="1145" y="450"/>
                  </a:lnTo>
                  <a:lnTo>
                    <a:pt x="1139" y="457"/>
                  </a:lnTo>
                  <a:lnTo>
                    <a:pt x="1131" y="462"/>
                  </a:lnTo>
                  <a:lnTo>
                    <a:pt x="1123" y="469"/>
                  </a:lnTo>
                  <a:lnTo>
                    <a:pt x="1115" y="475"/>
                  </a:lnTo>
                  <a:lnTo>
                    <a:pt x="1107" y="482"/>
                  </a:lnTo>
                  <a:lnTo>
                    <a:pt x="1098" y="487"/>
                  </a:lnTo>
                  <a:lnTo>
                    <a:pt x="1080" y="499"/>
                  </a:lnTo>
                  <a:lnTo>
                    <a:pt x="1061" y="510"/>
                  </a:lnTo>
                  <a:lnTo>
                    <a:pt x="1040" y="520"/>
                  </a:lnTo>
                  <a:lnTo>
                    <a:pt x="1019" y="530"/>
                  </a:lnTo>
                  <a:lnTo>
                    <a:pt x="998" y="540"/>
                  </a:lnTo>
                  <a:lnTo>
                    <a:pt x="974" y="549"/>
                  </a:lnTo>
                  <a:lnTo>
                    <a:pt x="950" y="557"/>
                  </a:lnTo>
                  <a:lnTo>
                    <a:pt x="925" y="565"/>
                  </a:lnTo>
                  <a:lnTo>
                    <a:pt x="900" y="573"/>
                  </a:lnTo>
                  <a:lnTo>
                    <a:pt x="873" y="580"/>
                  </a:lnTo>
                  <a:lnTo>
                    <a:pt x="846" y="586"/>
                  </a:lnTo>
                  <a:lnTo>
                    <a:pt x="819" y="591"/>
                  </a:lnTo>
                  <a:lnTo>
                    <a:pt x="791" y="596"/>
                  </a:lnTo>
                  <a:lnTo>
                    <a:pt x="762" y="600"/>
                  </a:lnTo>
                  <a:lnTo>
                    <a:pt x="732" y="604"/>
                  </a:lnTo>
                  <a:lnTo>
                    <a:pt x="702" y="606"/>
                  </a:lnTo>
                  <a:lnTo>
                    <a:pt x="671" y="608"/>
                  </a:lnTo>
                  <a:lnTo>
                    <a:pt x="641" y="609"/>
                  </a:lnTo>
                  <a:lnTo>
                    <a:pt x="609" y="609"/>
                  </a:lnTo>
                  <a:lnTo>
                    <a:pt x="578" y="609"/>
                  </a:lnTo>
                  <a:lnTo>
                    <a:pt x="547" y="608"/>
                  </a:lnTo>
                  <a:lnTo>
                    <a:pt x="517" y="606"/>
                  </a:lnTo>
                  <a:lnTo>
                    <a:pt x="486" y="604"/>
                  </a:lnTo>
                  <a:lnTo>
                    <a:pt x="457" y="600"/>
                  </a:lnTo>
                  <a:lnTo>
                    <a:pt x="429" y="596"/>
                  </a:lnTo>
                  <a:lnTo>
                    <a:pt x="400" y="591"/>
                  </a:lnTo>
                  <a:lnTo>
                    <a:pt x="372" y="586"/>
                  </a:lnTo>
                  <a:lnTo>
                    <a:pt x="345" y="580"/>
                  </a:lnTo>
                  <a:lnTo>
                    <a:pt x="319" y="573"/>
                  </a:lnTo>
                  <a:lnTo>
                    <a:pt x="293" y="565"/>
                  </a:lnTo>
                  <a:lnTo>
                    <a:pt x="268" y="557"/>
                  </a:lnTo>
                  <a:lnTo>
                    <a:pt x="245" y="549"/>
                  </a:lnTo>
                  <a:lnTo>
                    <a:pt x="222" y="540"/>
                  </a:lnTo>
                  <a:lnTo>
                    <a:pt x="199" y="530"/>
                  </a:lnTo>
                  <a:lnTo>
                    <a:pt x="178" y="520"/>
                  </a:lnTo>
                  <a:lnTo>
                    <a:pt x="159" y="510"/>
                  </a:lnTo>
                  <a:lnTo>
                    <a:pt x="140" y="499"/>
                  </a:lnTo>
                  <a:lnTo>
                    <a:pt x="122" y="487"/>
                  </a:lnTo>
                  <a:lnTo>
                    <a:pt x="112" y="482"/>
                  </a:lnTo>
                  <a:lnTo>
                    <a:pt x="103" y="475"/>
                  </a:lnTo>
                  <a:lnTo>
                    <a:pt x="96" y="469"/>
                  </a:lnTo>
                  <a:lnTo>
                    <a:pt x="88" y="462"/>
                  </a:lnTo>
                  <a:lnTo>
                    <a:pt x="81" y="457"/>
                  </a:lnTo>
                  <a:lnTo>
                    <a:pt x="73" y="450"/>
                  </a:lnTo>
                  <a:lnTo>
                    <a:pt x="66" y="443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8" y="423"/>
                  </a:lnTo>
                  <a:lnTo>
                    <a:pt x="43" y="416"/>
                  </a:lnTo>
                  <a:lnTo>
                    <a:pt x="37" y="409"/>
                  </a:lnTo>
                  <a:lnTo>
                    <a:pt x="32" y="403"/>
                  </a:lnTo>
                  <a:lnTo>
                    <a:pt x="28" y="396"/>
                  </a:lnTo>
                  <a:lnTo>
                    <a:pt x="23" y="388"/>
                  </a:lnTo>
                  <a:lnTo>
                    <a:pt x="19" y="381"/>
                  </a:lnTo>
                  <a:lnTo>
                    <a:pt x="15" y="373"/>
                  </a:lnTo>
                  <a:lnTo>
                    <a:pt x="12" y="367"/>
                  </a:lnTo>
                  <a:lnTo>
                    <a:pt x="10" y="359"/>
                  </a:lnTo>
                  <a:lnTo>
                    <a:pt x="6" y="351"/>
                  </a:lnTo>
                  <a:lnTo>
                    <a:pt x="5" y="344"/>
                  </a:lnTo>
                  <a:lnTo>
                    <a:pt x="3" y="336"/>
                  </a:lnTo>
                  <a:lnTo>
                    <a:pt x="2" y="328"/>
                  </a:lnTo>
                  <a:lnTo>
                    <a:pt x="1" y="320"/>
                  </a:lnTo>
                  <a:lnTo>
                    <a:pt x="0" y="31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33600" y="1774440"/>
              <a:ext cx="1935000" cy="966960"/>
            </a:xfrm>
            <a:custGeom>
              <a:avLst/>
              <a:gdLst/>
              <a:ahLst/>
              <a:rect l="l" t="t" r="r" b="b"/>
              <a:pathLst>
                <a:path w="1219" h="609">
                  <a:moveTo>
                    <a:pt x="0" y="304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3" y="274"/>
                  </a:lnTo>
                  <a:lnTo>
                    <a:pt x="5" y="266"/>
                  </a:lnTo>
                  <a:lnTo>
                    <a:pt x="6" y="258"/>
                  </a:lnTo>
                  <a:lnTo>
                    <a:pt x="10" y="250"/>
                  </a:lnTo>
                  <a:lnTo>
                    <a:pt x="12" y="243"/>
                  </a:lnTo>
                  <a:lnTo>
                    <a:pt x="15" y="236"/>
                  </a:lnTo>
                  <a:lnTo>
                    <a:pt x="19" y="229"/>
                  </a:lnTo>
                  <a:lnTo>
                    <a:pt x="23" y="221"/>
                  </a:lnTo>
                  <a:lnTo>
                    <a:pt x="28" y="214"/>
                  </a:lnTo>
                  <a:lnTo>
                    <a:pt x="32" y="207"/>
                  </a:lnTo>
                  <a:lnTo>
                    <a:pt x="37" y="199"/>
                  </a:lnTo>
                  <a:lnTo>
                    <a:pt x="43" y="193"/>
                  </a:lnTo>
                  <a:lnTo>
                    <a:pt x="48" y="186"/>
                  </a:lnTo>
                  <a:lnTo>
                    <a:pt x="54" y="179"/>
                  </a:lnTo>
                  <a:lnTo>
                    <a:pt x="61" y="172"/>
                  </a:lnTo>
                  <a:lnTo>
                    <a:pt x="66" y="166"/>
                  </a:lnTo>
                  <a:lnTo>
                    <a:pt x="73" y="160"/>
                  </a:lnTo>
                  <a:lnTo>
                    <a:pt x="81" y="153"/>
                  </a:lnTo>
                  <a:lnTo>
                    <a:pt x="88" y="146"/>
                  </a:lnTo>
                  <a:lnTo>
                    <a:pt x="96" y="141"/>
                  </a:lnTo>
                  <a:lnTo>
                    <a:pt x="103" y="134"/>
                  </a:lnTo>
                  <a:lnTo>
                    <a:pt x="112" y="128"/>
                  </a:lnTo>
                  <a:lnTo>
                    <a:pt x="122" y="123"/>
                  </a:lnTo>
                  <a:lnTo>
                    <a:pt x="140" y="111"/>
                  </a:lnTo>
                  <a:lnTo>
                    <a:pt x="159" y="100"/>
                  </a:lnTo>
                  <a:lnTo>
                    <a:pt x="178" y="89"/>
                  </a:lnTo>
                  <a:lnTo>
                    <a:pt x="199" y="79"/>
                  </a:lnTo>
                  <a:lnTo>
                    <a:pt x="222" y="70"/>
                  </a:lnTo>
                  <a:lnTo>
                    <a:pt x="245" y="61"/>
                  </a:lnTo>
                  <a:lnTo>
                    <a:pt x="268" y="52"/>
                  </a:lnTo>
                  <a:lnTo>
                    <a:pt x="293" y="44"/>
                  </a:lnTo>
                  <a:lnTo>
                    <a:pt x="319" y="37"/>
                  </a:lnTo>
                  <a:lnTo>
                    <a:pt x="345" y="30"/>
                  </a:lnTo>
                  <a:lnTo>
                    <a:pt x="372" y="23"/>
                  </a:lnTo>
                  <a:lnTo>
                    <a:pt x="400" y="19"/>
                  </a:lnTo>
                  <a:lnTo>
                    <a:pt x="429" y="13"/>
                  </a:lnTo>
                  <a:lnTo>
                    <a:pt x="457" y="10"/>
                  </a:lnTo>
                  <a:lnTo>
                    <a:pt x="486" y="6"/>
                  </a:lnTo>
                  <a:lnTo>
                    <a:pt x="517" y="3"/>
                  </a:lnTo>
                  <a:lnTo>
                    <a:pt x="547" y="2"/>
                  </a:lnTo>
                  <a:lnTo>
                    <a:pt x="578" y="0"/>
                  </a:lnTo>
                  <a:lnTo>
                    <a:pt x="609" y="0"/>
                  </a:lnTo>
                  <a:lnTo>
                    <a:pt x="641" y="1"/>
                  </a:lnTo>
                  <a:lnTo>
                    <a:pt x="671" y="2"/>
                  </a:lnTo>
                  <a:lnTo>
                    <a:pt x="703" y="3"/>
                  </a:lnTo>
                  <a:lnTo>
                    <a:pt x="732" y="6"/>
                  </a:lnTo>
                  <a:lnTo>
                    <a:pt x="762" y="10"/>
                  </a:lnTo>
                  <a:lnTo>
                    <a:pt x="791" y="13"/>
                  </a:lnTo>
                  <a:lnTo>
                    <a:pt x="819" y="19"/>
                  </a:lnTo>
                  <a:lnTo>
                    <a:pt x="846" y="23"/>
                  </a:lnTo>
                  <a:lnTo>
                    <a:pt x="873" y="30"/>
                  </a:lnTo>
                  <a:lnTo>
                    <a:pt x="900" y="37"/>
                  </a:lnTo>
                  <a:lnTo>
                    <a:pt x="925" y="44"/>
                  </a:lnTo>
                  <a:lnTo>
                    <a:pt x="950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19" y="79"/>
                  </a:lnTo>
                  <a:lnTo>
                    <a:pt x="1040" y="89"/>
                  </a:lnTo>
                  <a:lnTo>
                    <a:pt x="1061" y="100"/>
                  </a:lnTo>
                  <a:lnTo>
                    <a:pt x="1080" y="111"/>
                  </a:lnTo>
                  <a:lnTo>
                    <a:pt x="1098" y="123"/>
                  </a:lnTo>
                  <a:lnTo>
                    <a:pt x="1107" y="128"/>
                  </a:lnTo>
                  <a:lnTo>
                    <a:pt x="1115" y="134"/>
                  </a:lnTo>
                  <a:lnTo>
                    <a:pt x="1123" y="141"/>
                  </a:lnTo>
                  <a:lnTo>
                    <a:pt x="1131" y="146"/>
                  </a:lnTo>
                  <a:lnTo>
                    <a:pt x="1139" y="153"/>
                  </a:lnTo>
                  <a:lnTo>
                    <a:pt x="1145" y="160"/>
                  </a:lnTo>
                  <a:lnTo>
                    <a:pt x="1152" y="166"/>
                  </a:lnTo>
                  <a:lnTo>
                    <a:pt x="1159" y="172"/>
                  </a:lnTo>
                  <a:lnTo>
                    <a:pt x="1166" y="179"/>
                  </a:lnTo>
                  <a:lnTo>
                    <a:pt x="1171" y="186"/>
                  </a:lnTo>
                  <a:lnTo>
                    <a:pt x="1177" y="193"/>
                  </a:lnTo>
                  <a:lnTo>
                    <a:pt x="1182" y="199"/>
                  </a:lnTo>
                  <a:lnTo>
                    <a:pt x="1187" y="207"/>
                  </a:lnTo>
                  <a:lnTo>
                    <a:pt x="1192" y="214"/>
                  </a:lnTo>
                  <a:lnTo>
                    <a:pt x="1196" y="221"/>
                  </a:lnTo>
                  <a:lnTo>
                    <a:pt x="1200" y="229"/>
                  </a:lnTo>
                  <a:lnTo>
                    <a:pt x="1203" y="236"/>
                  </a:lnTo>
                  <a:lnTo>
                    <a:pt x="1206" y="243"/>
                  </a:lnTo>
                  <a:lnTo>
                    <a:pt x="1210" y="250"/>
                  </a:lnTo>
                  <a:lnTo>
                    <a:pt x="1212" y="258"/>
                  </a:lnTo>
                  <a:lnTo>
                    <a:pt x="1214" y="266"/>
                  </a:lnTo>
                  <a:lnTo>
                    <a:pt x="1215" y="274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4"/>
                  </a:lnTo>
                  <a:lnTo>
                    <a:pt x="1219" y="304"/>
                  </a:lnTo>
                  <a:lnTo>
                    <a:pt x="1219" y="312"/>
                  </a:lnTo>
                  <a:lnTo>
                    <a:pt x="1219" y="320"/>
                  </a:lnTo>
                  <a:lnTo>
                    <a:pt x="1218" y="328"/>
                  </a:lnTo>
                  <a:lnTo>
                    <a:pt x="1215" y="336"/>
                  </a:lnTo>
                  <a:lnTo>
                    <a:pt x="1214" y="344"/>
                  </a:lnTo>
                  <a:lnTo>
                    <a:pt x="1212" y="351"/>
                  </a:lnTo>
                  <a:lnTo>
                    <a:pt x="1210" y="359"/>
                  </a:lnTo>
                  <a:lnTo>
                    <a:pt x="1206" y="367"/>
                  </a:lnTo>
                  <a:lnTo>
                    <a:pt x="1203" y="373"/>
                  </a:lnTo>
                  <a:lnTo>
                    <a:pt x="1200" y="381"/>
                  </a:lnTo>
                  <a:lnTo>
                    <a:pt x="1196" y="388"/>
                  </a:lnTo>
                  <a:lnTo>
                    <a:pt x="1192" y="396"/>
                  </a:lnTo>
                  <a:lnTo>
                    <a:pt x="1187" y="403"/>
                  </a:lnTo>
                  <a:lnTo>
                    <a:pt x="1183" y="409"/>
                  </a:lnTo>
                  <a:lnTo>
                    <a:pt x="1177" y="416"/>
                  </a:lnTo>
                  <a:lnTo>
                    <a:pt x="1171" y="423"/>
                  </a:lnTo>
                  <a:lnTo>
                    <a:pt x="1166" y="430"/>
                  </a:lnTo>
                  <a:lnTo>
                    <a:pt x="1159" y="437"/>
                  </a:lnTo>
                  <a:lnTo>
                    <a:pt x="1152" y="443"/>
                  </a:lnTo>
                  <a:lnTo>
                    <a:pt x="1145" y="450"/>
                  </a:lnTo>
                  <a:lnTo>
                    <a:pt x="1139" y="457"/>
                  </a:lnTo>
                  <a:lnTo>
                    <a:pt x="1131" y="462"/>
                  </a:lnTo>
                  <a:lnTo>
                    <a:pt x="1123" y="469"/>
                  </a:lnTo>
                  <a:lnTo>
                    <a:pt x="1115" y="475"/>
                  </a:lnTo>
                  <a:lnTo>
                    <a:pt x="1107" y="482"/>
                  </a:lnTo>
                  <a:lnTo>
                    <a:pt x="1098" y="487"/>
                  </a:lnTo>
                  <a:lnTo>
                    <a:pt x="1080" y="499"/>
                  </a:lnTo>
                  <a:lnTo>
                    <a:pt x="1061" y="510"/>
                  </a:lnTo>
                  <a:lnTo>
                    <a:pt x="1040" y="520"/>
                  </a:lnTo>
                  <a:lnTo>
                    <a:pt x="1019" y="530"/>
                  </a:lnTo>
                  <a:lnTo>
                    <a:pt x="998" y="540"/>
                  </a:lnTo>
                  <a:lnTo>
                    <a:pt x="974" y="549"/>
                  </a:lnTo>
                  <a:lnTo>
                    <a:pt x="950" y="557"/>
                  </a:lnTo>
                  <a:lnTo>
                    <a:pt x="925" y="565"/>
                  </a:lnTo>
                  <a:lnTo>
                    <a:pt x="900" y="573"/>
                  </a:lnTo>
                  <a:lnTo>
                    <a:pt x="873" y="580"/>
                  </a:lnTo>
                  <a:lnTo>
                    <a:pt x="846" y="586"/>
                  </a:lnTo>
                  <a:lnTo>
                    <a:pt x="819" y="591"/>
                  </a:lnTo>
                  <a:lnTo>
                    <a:pt x="791" y="596"/>
                  </a:lnTo>
                  <a:lnTo>
                    <a:pt x="762" y="600"/>
                  </a:lnTo>
                  <a:lnTo>
                    <a:pt x="732" y="604"/>
                  </a:lnTo>
                  <a:lnTo>
                    <a:pt x="702" y="606"/>
                  </a:lnTo>
                  <a:lnTo>
                    <a:pt x="671" y="608"/>
                  </a:lnTo>
                  <a:lnTo>
                    <a:pt x="641" y="609"/>
                  </a:lnTo>
                  <a:lnTo>
                    <a:pt x="609" y="609"/>
                  </a:lnTo>
                  <a:lnTo>
                    <a:pt x="578" y="609"/>
                  </a:lnTo>
                  <a:lnTo>
                    <a:pt x="547" y="608"/>
                  </a:lnTo>
                  <a:lnTo>
                    <a:pt x="517" y="606"/>
                  </a:lnTo>
                  <a:lnTo>
                    <a:pt x="486" y="604"/>
                  </a:lnTo>
                  <a:lnTo>
                    <a:pt x="457" y="600"/>
                  </a:lnTo>
                  <a:lnTo>
                    <a:pt x="429" y="596"/>
                  </a:lnTo>
                  <a:lnTo>
                    <a:pt x="400" y="591"/>
                  </a:lnTo>
                  <a:lnTo>
                    <a:pt x="372" y="586"/>
                  </a:lnTo>
                  <a:lnTo>
                    <a:pt x="345" y="580"/>
                  </a:lnTo>
                  <a:lnTo>
                    <a:pt x="319" y="573"/>
                  </a:lnTo>
                  <a:lnTo>
                    <a:pt x="293" y="565"/>
                  </a:lnTo>
                  <a:lnTo>
                    <a:pt x="268" y="557"/>
                  </a:lnTo>
                  <a:lnTo>
                    <a:pt x="245" y="549"/>
                  </a:lnTo>
                  <a:lnTo>
                    <a:pt x="222" y="540"/>
                  </a:lnTo>
                  <a:lnTo>
                    <a:pt x="199" y="530"/>
                  </a:lnTo>
                  <a:lnTo>
                    <a:pt x="178" y="520"/>
                  </a:lnTo>
                  <a:lnTo>
                    <a:pt x="159" y="510"/>
                  </a:lnTo>
                  <a:lnTo>
                    <a:pt x="140" y="499"/>
                  </a:lnTo>
                  <a:lnTo>
                    <a:pt x="122" y="487"/>
                  </a:lnTo>
                  <a:lnTo>
                    <a:pt x="112" y="482"/>
                  </a:lnTo>
                  <a:lnTo>
                    <a:pt x="103" y="475"/>
                  </a:lnTo>
                  <a:lnTo>
                    <a:pt x="96" y="469"/>
                  </a:lnTo>
                  <a:lnTo>
                    <a:pt x="88" y="462"/>
                  </a:lnTo>
                  <a:lnTo>
                    <a:pt x="81" y="457"/>
                  </a:lnTo>
                  <a:lnTo>
                    <a:pt x="73" y="450"/>
                  </a:lnTo>
                  <a:lnTo>
                    <a:pt x="66" y="443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8" y="423"/>
                  </a:lnTo>
                  <a:lnTo>
                    <a:pt x="43" y="416"/>
                  </a:lnTo>
                  <a:lnTo>
                    <a:pt x="37" y="409"/>
                  </a:lnTo>
                  <a:lnTo>
                    <a:pt x="32" y="403"/>
                  </a:lnTo>
                  <a:lnTo>
                    <a:pt x="28" y="396"/>
                  </a:lnTo>
                  <a:lnTo>
                    <a:pt x="23" y="388"/>
                  </a:lnTo>
                  <a:lnTo>
                    <a:pt x="19" y="381"/>
                  </a:lnTo>
                  <a:lnTo>
                    <a:pt x="15" y="373"/>
                  </a:lnTo>
                  <a:lnTo>
                    <a:pt x="12" y="367"/>
                  </a:lnTo>
                  <a:lnTo>
                    <a:pt x="10" y="359"/>
                  </a:lnTo>
                  <a:lnTo>
                    <a:pt x="6" y="351"/>
                  </a:lnTo>
                  <a:lnTo>
                    <a:pt x="5" y="344"/>
                  </a:lnTo>
                  <a:lnTo>
                    <a:pt x="3" y="336"/>
                  </a:lnTo>
                  <a:lnTo>
                    <a:pt x="2" y="328"/>
                  </a:lnTo>
                  <a:lnTo>
                    <a:pt x="1" y="320"/>
                  </a:lnTo>
                  <a:lnTo>
                    <a:pt x="0" y="312"/>
                  </a:lnTo>
                  <a:lnTo>
                    <a:pt x="0" y="304"/>
                  </a:lnTo>
                </a:path>
              </a:pathLst>
            </a:custGeom>
            <a:noFill/>
            <a:ln w="46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03280" y="1644480"/>
              <a:ext cx="1936800" cy="968400"/>
            </a:xfrm>
            <a:custGeom>
              <a:avLst/>
              <a:gdLst/>
              <a:ahLst/>
              <a:rect l="l" t="t" r="r" b="b"/>
              <a:pathLst>
                <a:path w="1220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3" y="281"/>
                  </a:lnTo>
                  <a:lnTo>
                    <a:pt x="4" y="275"/>
                  </a:lnTo>
                  <a:lnTo>
                    <a:pt x="6" y="267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20" y="230"/>
                  </a:lnTo>
                  <a:lnTo>
                    <a:pt x="24" y="222"/>
                  </a:lnTo>
                  <a:lnTo>
                    <a:pt x="29" y="215"/>
                  </a:lnTo>
                  <a:lnTo>
                    <a:pt x="33" y="208"/>
                  </a:lnTo>
                  <a:lnTo>
                    <a:pt x="38" y="200"/>
                  </a:lnTo>
                  <a:lnTo>
                    <a:pt x="43" y="193"/>
                  </a:lnTo>
                  <a:lnTo>
                    <a:pt x="49" y="187"/>
                  </a:lnTo>
                  <a:lnTo>
                    <a:pt x="55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1"/>
                  </a:lnTo>
                  <a:lnTo>
                    <a:pt x="82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5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60" y="101"/>
                  </a:lnTo>
                  <a:lnTo>
                    <a:pt x="179" y="90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8"/>
                  </a:lnTo>
                  <a:lnTo>
                    <a:pt x="346" y="31"/>
                  </a:lnTo>
                  <a:lnTo>
                    <a:pt x="373" y="24"/>
                  </a:lnTo>
                  <a:lnTo>
                    <a:pt x="401" y="20"/>
                  </a:lnTo>
                  <a:lnTo>
                    <a:pt x="429" y="14"/>
                  </a:lnTo>
                  <a:lnTo>
                    <a:pt x="458" y="10"/>
                  </a:lnTo>
                  <a:lnTo>
                    <a:pt x="487" y="7"/>
                  </a:lnTo>
                  <a:lnTo>
                    <a:pt x="517" y="4"/>
                  </a:lnTo>
                  <a:lnTo>
                    <a:pt x="548" y="3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3"/>
                  </a:lnTo>
                  <a:lnTo>
                    <a:pt x="704" y="4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4"/>
                  </a:lnTo>
                  <a:lnTo>
                    <a:pt x="820" y="20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8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90"/>
                  </a:lnTo>
                  <a:lnTo>
                    <a:pt x="1062" y="101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5"/>
                  </a:lnTo>
                  <a:lnTo>
                    <a:pt x="1124" y="141"/>
                  </a:lnTo>
                  <a:lnTo>
                    <a:pt x="1132" y="147"/>
                  </a:lnTo>
                  <a:lnTo>
                    <a:pt x="1139" y="154"/>
                  </a:lnTo>
                  <a:lnTo>
                    <a:pt x="1146" y="161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7" y="180"/>
                  </a:lnTo>
                  <a:lnTo>
                    <a:pt x="1172" y="187"/>
                  </a:lnTo>
                  <a:lnTo>
                    <a:pt x="1178" y="193"/>
                  </a:lnTo>
                  <a:lnTo>
                    <a:pt x="1182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2"/>
                  </a:lnTo>
                  <a:lnTo>
                    <a:pt x="1200" y="230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1" y="251"/>
                  </a:lnTo>
                  <a:lnTo>
                    <a:pt x="1213" y="259"/>
                  </a:lnTo>
                  <a:lnTo>
                    <a:pt x="1215" y="267"/>
                  </a:lnTo>
                  <a:lnTo>
                    <a:pt x="1216" y="275"/>
                  </a:lnTo>
                  <a:lnTo>
                    <a:pt x="1218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5"/>
                  </a:lnTo>
                  <a:lnTo>
                    <a:pt x="1220" y="305"/>
                  </a:lnTo>
                  <a:lnTo>
                    <a:pt x="1220" y="313"/>
                  </a:lnTo>
                  <a:lnTo>
                    <a:pt x="1220" y="321"/>
                  </a:lnTo>
                  <a:lnTo>
                    <a:pt x="1218" y="329"/>
                  </a:lnTo>
                  <a:lnTo>
                    <a:pt x="1216" y="337"/>
                  </a:lnTo>
                  <a:lnTo>
                    <a:pt x="1215" y="345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0" y="382"/>
                  </a:lnTo>
                  <a:lnTo>
                    <a:pt x="1197" y="389"/>
                  </a:lnTo>
                  <a:lnTo>
                    <a:pt x="1192" y="397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8" y="417"/>
                  </a:lnTo>
                  <a:lnTo>
                    <a:pt x="1172" y="424"/>
                  </a:lnTo>
                  <a:lnTo>
                    <a:pt x="1167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1"/>
                  </a:lnTo>
                  <a:lnTo>
                    <a:pt x="1139" y="458"/>
                  </a:lnTo>
                  <a:lnTo>
                    <a:pt x="1132" y="463"/>
                  </a:lnTo>
                  <a:lnTo>
                    <a:pt x="1124" y="470"/>
                  </a:lnTo>
                  <a:lnTo>
                    <a:pt x="1116" y="476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2" y="511"/>
                  </a:lnTo>
                  <a:lnTo>
                    <a:pt x="1041" y="521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5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1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3" y="607"/>
                  </a:lnTo>
                  <a:lnTo>
                    <a:pt x="672" y="609"/>
                  </a:lnTo>
                  <a:lnTo>
                    <a:pt x="642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7"/>
                  </a:lnTo>
                  <a:lnTo>
                    <a:pt x="487" y="604"/>
                  </a:lnTo>
                  <a:lnTo>
                    <a:pt x="458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6" y="581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1"/>
                  </a:lnTo>
                  <a:lnTo>
                    <a:pt x="160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2" y="458"/>
                  </a:lnTo>
                  <a:lnTo>
                    <a:pt x="74" y="451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5" y="430"/>
                  </a:lnTo>
                  <a:lnTo>
                    <a:pt x="49" y="424"/>
                  </a:lnTo>
                  <a:lnTo>
                    <a:pt x="43" y="417"/>
                  </a:lnTo>
                  <a:lnTo>
                    <a:pt x="38" y="410"/>
                  </a:lnTo>
                  <a:lnTo>
                    <a:pt x="33" y="403"/>
                  </a:lnTo>
                  <a:lnTo>
                    <a:pt x="29" y="397"/>
                  </a:lnTo>
                  <a:lnTo>
                    <a:pt x="24" y="389"/>
                  </a:lnTo>
                  <a:lnTo>
                    <a:pt x="20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5"/>
                  </a:lnTo>
                  <a:lnTo>
                    <a:pt x="4" y="337"/>
                  </a:lnTo>
                  <a:lnTo>
                    <a:pt x="3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03280" y="1644480"/>
              <a:ext cx="1936800" cy="968400"/>
            </a:xfrm>
            <a:custGeom>
              <a:avLst/>
              <a:gdLst/>
              <a:ahLst/>
              <a:rect l="l" t="t" r="r" b="b"/>
              <a:pathLst>
                <a:path w="1220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3" y="281"/>
                  </a:lnTo>
                  <a:lnTo>
                    <a:pt x="4" y="275"/>
                  </a:lnTo>
                  <a:lnTo>
                    <a:pt x="6" y="267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20" y="230"/>
                  </a:lnTo>
                  <a:lnTo>
                    <a:pt x="24" y="222"/>
                  </a:lnTo>
                  <a:lnTo>
                    <a:pt x="29" y="215"/>
                  </a:lnTo>
                  <a:lnTo>
                    <a:pt x="33" y="208"/>
                  </a:lnTo>
                  <a:lnTo>
                    <a:pt x="38" y="200"/>
                  </a:lnTo>
                  <a:lnTo>
                    <a:pt x="43" y="193"/>
                  </a:lnTo>
                  <a:lnTo>
                    <a:pt x="49" y="187"/>
                  </a:lnTo>
                  <a:lnTo>
                    <a:pt x="55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1"/>
                  </a:lnTo>
                  <a:lnTo>
                    <a:pt x="82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5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60" y="101"/>
                  </a:lnTo>
                  <a:lnTo>
                    <a:pt x="179" y="90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8"/>
                  </a:lnTo>
                  <a:lnTo>
                    <a:pt x="346" y="31"/>
                  </a:lnTo>
                  <a:lnTo>
                    <a:pt x="373" y="24"/>
                  </a:lnTo>
                  <a:lnTo>
                    <a:pt x="401" y="20"/>
                  </a:lnTo>
                  <a:lnTo>
                    <a:pt x="429" y="14"/>
                  </a:lnTo>
                  <a:lnTo>
                    <a:pt x="458" y="10"/>
                  </a:lnTo>
                  <a:lnTo>
                    <a:pt x="487" y="7"/>
                  </a:lnTo>
                  <a:lnTo>
                    <a:pt x="517" y="4"/>
                  </a:lnTo>
                  <a:lnTo>
                    <a:pt x="548" y="3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3"/>
                  </a:lnTo>
                  <a:lnTo>
                    <a:pt x="704" y="4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4"/>
                  </a:lnTo>
                  <a:lnTo>
                    <a:pt x="820" y="20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8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90"/>
                  </a:lnTo>
                  <a:lnTo>
                    <a:pt x="1062" y="101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5"/>
                  </a:lnTo>
                  <a:lnTo>
                    <a:pt x="1124" y="141"/>
                  </a:lnTo>
                  <a:lnTo>
                    <a:pt x="1132" y="147"/>
                  </a:lnTo>
                  <a:lnTo>
                    <a:pt x="1139" y="154"/>
                  </a:lnTo>
                  <a:lnTo>
                    <a:pt x="1146" y="161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7" y="180"/>
                  </a:lnTo>
                  <a:lnTo>
                    <a:pt x="1172" y="187"/>
                  </a:lnTo>
                  <a:lnTo>
                    <a:pt x="1178" y="193"/>
                  </a:lnTo>
                  <a:lnTo>
                    <a:pt x="1182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2"/>
                  </a:lnTo>
                  <a:lnTo>
                    <a:pt x="1200" y="230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1" y="251"/>
                  </a:lnTo>
                  <a:lnTo>
                    <a:pt x="1213" y="259"/>
                  </a:lnTo>
                  <a:lnTo>
                    <a:pt x="1215" y="267"/>
                  </a:lnTo>
                  <a:lnTo>
                    <a:pt x="1216" y="275"/>
                  </a:lnTo>
                  <a:lnTo>
                    <a:pt x="1218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5"/>
                  </a:lnTo>
                  <a:lnTo>
                    <a:pt x="1220" y="305"/>
                  </a:lnTo>
                  <a:lnTo>
                    <a:pt x="1220" y="313"/>
                  </a:lnTo>
                  <a:lnTo>
                    <a:pt x="1220" y="321"/>
                  </a:lnTo>
                  <a:lnTo>
                    <a:pt x="1218" y="329"/>
                  </a:lnTo>
                  <a:lnTo>
                    <a:pt x="1216" y="337"/>
                  </a:lnTo>
                  <a:lnTo>
                    <a:pt x="1215" y="345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0" y="382"/>
                  </a:lnTo>
                  <a:lnTo>
                    <a:pt x="1197" y="389"/>
                  </a:lnTo>
                  <a:lnTo>
                    <a:pt x="1192" y="397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8" y="417"/>
                  </a:lnTo>
                  <a:lnTo>
                    <a:pt x="1172" y="424"/>
                  </a:lnTo>
                  <a:lnTo>
                    <a:pt x="1167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1"/>
                  </a:lnTo>
                  <a:lnTo>
                    <a:pt x="1139" y="458"/>
                  </a:lnTo>
                  <a:lnTo>
                    <a:pt x="1132" y="463"/>
                  </a:lnTo>
                  <a:lnTo>
                    <a:pt x="1124" y="470"/>
                  </a:lnTo>
                  <a:lnTo>
                    <a:pt x="1116" y="476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2" y="511"/>
                  </a:lnTo>
                  <a:lnTo>
                    <a:pt x="1041" y="521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5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1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3" y="607"/>
                  </a:lnTo>
                  <a:lnTo>
                    <a:pt x="672" y="609"/>
                  </a:lnTo>
                  <a:lnTo>
                    <a:pt x="642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7"/>
                  </a:lnTo>
                  <a:lnTo>
                    <a:pt x="487" y="604"/>
                  </a:lnTo>
                  <a:lnTo>
                    <a:pt x="458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6" y="581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1"/>
                  </a:lnTo>
                  <a:lnTo>
                    <a:pt x="160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2" y="458"/>
                  </a:lnTo>
                  <a:lnTo>
                    <a:pt x="74" y="451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5" y="430"/>
                  </a:lnTo>
                  <a:lnTo>
                    <a:pt x="49" y="424"/>
                  </a:lnTo>
                  <a:lnTo>
                    <a:pt x="43" y="417"/>
                  </a:lnTo>
                  <a:lnTo>
                    <a:pt x="38" y="410"/>
                  </a:lnTo>
                  <a:lnTo>
                    <a:pt x="33" y="403"/>
                  </a:lnTo>
                  <a:lnTo>
                    <a:pt x="29" y="397"/>
                  </a:lnTo>
                  <a:lnTo>
                    <a:pt x="24" y="389"/>
                  </a:lnTo>
                  <a:lnTo>
                    <a:pt x="20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5"/>
                  </a:lnTo>
                  <a:lnTo>
                    <a:pt x="4" y="337"/>
                  </a:lnTo>
                  <a:lnTo>
                    <a:pt x="3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13120" y="2014200"/>
              <a:ext cx="82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Patter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29160" y="4892400"/>
              <a:ext cx="1936440" cy="968400"/>
            </a:xfrm>
            <a:custGeom>
              <a:avLst/>
              <a:gdLst/>
              <a:ahLst/>
              <a:rect l="l" t="t" r="r" b="b"/>
              <a:pathLst>
                <a:path w="1220" h="610">
                  <a:moveTo>
                    <a:pt x="0" y="305"/>
                  </a:moveTo>
                  <a:lnTo>
                    <a:pt x="0" y="297"/>
                  </a:lnTo>
                  <a:lnTo>
                    <a:pt x="2" y="289"/>
                  </a:lnTo>
                  <a:lnTo>
                    <a:pt x="3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8"/>
                  </a:lnTo>
                  <a:lnTo>
                    <a:pt x="11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20" y="229"/>
                  </a:lnTo>
                  <a:lnTo>
                    <a:pt x="24" y="221"/>
                  </a:lnTo>
                  <a:lnTo>
                    <a:pt x="29" y="214"/>
                  </a:lnTo>
                  <a:lnTo>
                    <a:pt x="33" y="208"/>
                  </a:lnTo>
                  <a:lnTo>
                    <a:pt x="38" y="200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5" y="179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2" y="153"/>
                  </a:lnTo>
                  <a:lnTo>
                    <a:pt x="89" y="147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60" y="100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0"/>
                  </a:lnTo>
                  <a:lnTo>
                    <a:pt x="373" y="24"/>
                  </a:lnTo>
                  <a:lnTo>
                    <a:pt x="401" y="19"/>
                  </a:lnTo>
                  <a:lnTo>
                    <a:pt x="429" y="13"/>
                  </a:lnTo>
                  <a:lnTo>
                    <a:pt x="458" y="10"/>
                  </a:lnTo>
                  <a:lnTo>
                    <a:pt x="487" y="7"/>
                  </a:lnTo>
                  <a:lnTo>
                    <a:pt x="518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2"/>
                  </a:lnTo>
                  <a:lnTo>
                    <a:pt x="704" y="3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3"/>
                  </a:lnTo>
                  <a:lnTo>
                    <a:pt x="820" y="19"/>
                  </a:lnTo>
                  <a:lnTo>
                    <a:pt x="847" y="24"/>
                  </a:lnTo>
                  <a:lnTo>
                    <a:pt x="874" y="30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2" y="100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4"/>
                  </a:lnTo>
                  <a:lnTo>
                    <a:pt x="1124" y="141"/>
                  </a:lnTo>
                  <a:lnTo>
                    <a:pt x="1132" y="147"/>
                  </a:lnTo>
                  <a:lnTo>
                    <a:pt x="1140" y="153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7" y="179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4" y="200"/>
                  </a:lnTo>
                  <a:lnTo>
                    <a:pt x="1188" y="208"/>
                  </a:lnTo>
                  <a:lnTo>
                    <a:pt x="1193" y="214"/>
                  </a:lnTo>
                  <a:lnTo>
                    <a:pt x="1197" y="221"/>
                  </a:lnTo>
                  <a:lnTo>
                    <a:pt x="1201" y="229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1" y="251"/>
                  </a:lnTo>
                  <a:lnTo>
                    <a:pt x="1213" y="258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9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5"/>
                  </a:lnTo>
                  <a:lnTo>
                    <a:pt x="1220" y="305"/>
                  </a:lnTo>
                  <a:lnTo>
                    <a:pt x="1220" y="313"/>
                  </a:lnTo>
                  <a:lnTo>
                    <a:pt x="1220" y="321"/>
                  </a:lnTo>
                  <a:lnTo>
                    <a:pt x="1219" y="328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1" y="382"/>
                  </a:lnTo>
                  <a:lnTo>
                    <a:pt x="1197" y="388"/>
                  </a:lnTo>
                  <a:lnTo>
                    <a:pt x="1193" y="396"/>
                  </a:lnTo>
                  <a:lnTo>
                    <a:pt x="1188" y="403"/>
                  </a:lnTo>
                  <a:lnTo>
                    <a:pt x="1184" y="410"/>
                  </a:lnTo>
                  <a:lnTo>
                    <a:pt x="1178" y="417"/>
                  </a:lnTo>
                  <a:lnTo>
                    <a:pt x="1172" y="423"/>
                  </a:lnTo>
                  <a:lnTo>
                    <a:pt x="1167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0"/>
                  </a:lnTo>
                  <a:lnTo>
                    <a:pt x="1140" y="457"/>
                  </a:lnTo>
                  <a:lnTo>
                    <a:pt x="1132" y="463"/>
                  </a:lnTo>
                  <a:lnTo>
                    <a:pt x="1124" y="470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2" y="510"/>
                  </a:lnTo>
                  <a:lnTo>
                    <a:pt x="1041" y="520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5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3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1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3" y="606"/>
                  </a:lnTo>
                  <a:lnTo>
                    <a:pt x="672" y="608"/>
                  </a:lnTo>
                  <a:lnTo>
                    <a:pt x="642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8"/>
                  </a:lnTo>
                  <a:lnTo>
                    <a:pt x="518" y="606"/>
                  </a:lnTo>
                  <a:lnTo>
                    <a:pt x="487" y="604"/>
                  </a:lnTo>
                  <a:lnTo>
                    <a:pt x="458" y="601"/>
                  </a:lnTo>
                  <a:lnTo>
                    <a:pt x="429" y="596"/>
                  </a:lnTo>
                  <a:lnTo>
                    <a:pt x="401" y="591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3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0"/>
                  </a:lnTo>
                  <a:lnTo>
                    <a:pt x="160" y="510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70"/>
                  </a:lnTo>
                  <a:lnTo>
                    <a:pt x="89" y="463"/>
                  </a:lnTo>
                  <a:lnTo>
                    <a:pt x="82" y="457"/>
                  </a:lnTo>
                  <a:lnTo>
                    <a:pt x="74" y="450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5" y="430"/>
                  </a:lnTo>
                  <a:lnTo>
                    <a:pt x="49" y="423"/>
                  </a:lnTo>
                  <a:lnTo>
                    <a:pt x="43" y="417"/>
                  </a:lnTo>
                  <a:lnTo>
                    <a:pt x="38" y="410"/>
                  </a:lnTo>
                  <a:lnTo>
                    <a:pt x="33" y="403"/>
                  </a:lnTo>
                  <a:lnTo>
                    <a:pt x="29" y="396"/>
                  </a:lnTo>
                  <a:lnTo>
                    <a:pt x="24" y="388"/>
                  </a:lnTo>
                  <a:lnTo>
                    <a:pt x="20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1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3" y="328"/>
                  </a:lnTo>
                  <a:lnTo>
                    <a:pt x="2" y="321"/>
                  </a:lnTo>
                  <a:lnTo>
                    <a:pt x="0" y="31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29160" y="4892400"/>
              <a:ext cx="1936440" cy="968400"/>
            </a:xfrm>
            <a:custGeom>
              <a:avLst/>
              <a:gdLst/>
              <a:ahLst/>
              <a:rect l="l" t="t" r="r" b="b"/>
              <a:pathLst>
                <a:path w="1220" h="610">
                  <a:moveTo>
                    <a:pt x="0" y="305"/>
                  </a:moveTo>
                  <a:lnTo>
                    <a:pt x="0" y="297"/>
                  </a:lnTo>
                  <a:lnTo>
                    <a:pt x="2" y="289"/>
                  </a:lnTo>
                  <a:lnTo>
                    <a:pt x="3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8"/>
                  </a:lnTo>
                  <a:lnTo>
                    <a:pt x="11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20" y="229"/>
                  </a:lnTo>
                  <a:lnTo>
                    <a:pt x="24" y="221"/>
                  </a:lnTo>
                  <a:lnTo>
                    <a:pt x="29" y="214"/>
                  </a:lnTo>
                  <a:lnTo>
                    <a:pt x="33" y="208"/>
                  </a:lnTo>
                  <a:lnTo>
                    <a:pt x="38" y="200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5" y="179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2" y="153"/>
                  </a:lnTo>
                  <a:lnTo>
                    <a:pt x="89" y="147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60" y="100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0"/>
                  </a:lnTo>
                  <a:lnTo>
                    <a:pt x="373" y="24"/>
                  </a:lnTo>
                  <a:lnTo>
                    <a:pt x="401" y="19"/>
                  </a:lnTo>
                  <a:lnTo>
                    <a:pt x="429" y="13"/>
                  </a:lnTo>
                  <a:lnTo>
                    <a:pt x="458" y="10"/>
                  </a:lnTo>
                  <a:lnTo>
                    <a:pt x="487" y="7"/>
                  </a:lnTo>
                  <a:lnTo>
                    <a:pt x="518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2"/>
                  </a:lnTo>
                  <a:lnTo>
                    <a:pt x="704" y="3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3"/>
                  </a:lnTo>
                  <a:lnTo>
                    <a:pt x="820" y="19"/>
                  </a:lnTo>
                  <a:lnTo>
                    <a:pt x="847" y="24"/>
                  </a:lnTo>
                  <a:lnTo>
                    <a:pt x="874" y="30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2" y="100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4"/>
                  </a:lnTo>
                  <a:lnTo>
                    <a:pt x="1124" y="141"/>
                  </a:lnTo>
                  <a:lnTo>
                    <a:pt x="1132" y="147"/>
                  </a:lnTo>
                  <a:lnTo>
                    <a:pt x="1140" y="153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7" y="179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4" y="200"/>
                  </a:lnTo>
                  <a:lnTo>
                    <a:pt x="1188" y="208"/>
                  </a:lnTo>
                  <a:lnTo>
                    <a:pt x="1193" y="214"/>
                  </a:lnTo>
                  <a:lnTo>
                    <a:pt x="1197" y="221"/>
                  </a:lnTo>
                  <a:lnTo>
                    <a:pt x="1201" y="229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1" y="251"/>
                  </a:lnTo>
                  <a:lnTo>
                    <a:pt x="1213" y="258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9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5"/>
                  </a:lnTo>
                  <a:lnTo>
                    <a:pt x="1220" y="305"/>
                  </a:lnTo>
                  <a:lnTo>
                    <a:pt x="1220" y="313"/>
                  </a:lnTo>
                  <a:lnTo>
                    <a:pt x="1220" y="321"/>
                  </a:lnTo>
                  <a:lnTo>
                    <a:pt x="1219" y="328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1" y="382"/>
                  </a:lnTo>
                  <a:lnTo>
                    <a:pt x="1197" y="388"/>
                  </a:lnTo>
                  <a:lnTo>
                    <a:pt x="1193" y="396"/>
                  </a:lnTo>
                  <a:lnTo>
                    <a:pt x="1188" y="403"/>
                  </a:lnTo>
                  <a:lnTo>
                    <a:pt x="1184" y="410"/>
                  </a:lnTo>
                  <a:lnTo>
                    <a:pt x="1178" y="417"/>
                  </a:lnTo>
                  <a:lnTo>
                    <a:pt x="1172" y="423"/>
                  </a:lnTo>
                  <a:lnTo>
                    <a:pt x="1167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0"/>
                  </a:lnTo>
                  <a:lnTo>
                    <a:pt x="1140" y="457"/>
                  </a:lnTo>
                  <a:lnTo>
                    <a:pt x="1132" y="463"/>
                  </a:lnTo>
                  <a:lnTo>
                    <a:pt x="1124" y="470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2" y="510"/>
                  </a:lnTo>
                  <a:lnTo>
                    <a:pt x="1041" y="520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5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3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1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3" y="606"/>
                  </a:lnTo>
                  <a:lnTo>
                    <a:pt x="672" y="608"/>
                  </a:lnTo>
                  <a:lnTo>
                    <a:pt x="642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8"/>
                  </a:lnTo>
                  <a:lnTo>
                    <a:pt x="518" y="606"/>
                  </a:lnTo>
                  <a:lnTo>
                    <a:pt x="487" y="604"/>
                  </a:lnTo>
                  <a:lnTo>
                    <a:pt x="458" y="601"/>
                  </a:lnTo>
                  <a:lnTo>
                    <a:pt x="429" y="596"/>
                  </a:lnTo>
                  <a:lnTo>
                    <a:pt x="401" y="591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3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0"/>
                  </a:lnTo>
                  <a:lnTo>
                    <a:pt x="160" y="510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70"/>
                  </a:lnTo>
                  <a:lnTo>
                    <a:pt x="89" y="463"/>
                  </a:lnTo>
                  <a:lnTo>
                    <a:pt x="82" y="457"/>
                  </a:lnTo>
                  <a:lnTo>
                    <a:pt x="74" y="450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5" y="430"/>
                  </a:lnTo>
                  <a:lnTo>
                    <a:pt x="49" y="423"/>
                  </a:lnTo>
                  <a:lnTo>
                    <a:pt x="43" y="417"/>
                  </a:lnTo>
                  <a:lnTo>
                    <a:pt x="38" y="410"/>
                  </a:lnTo>
                  <a:lnTo>
                    <a:pt x="33" y="403"/>
                  </a:lnTo>
                  <a:lnTo>
                    <a:pt x="29" y="396"/>
                  </a:lnTo>
                  <a:lnTo>
                    <a:pt x="24" y="388"/>
                  </a:lnTo>
                  <a:lnTo>
                    <a:pt x="20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1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3" y="328"/>
                  </a:lnTo>
                  <a:lnTo>
                    <a:pt x="2" y="321"/>
                  </a:lnTo>
                  <a:lnTo>
                    <a:pt x="0" y="313"/>
                  </a:lnTo>
                  <a:lnTo>
                    <a:pt x="0" y="305"/>
                  </a:lnTo>
                </a:path>
              </a:pathLst>
            </a:custGeom>
            <a:noFill/>
            <a:ln w="46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763880"/>
              <a:ext cx="1935360" cy="966600"/>
            </a:xfrm>
            <a:custGeom>
              <a:avLst/>
              <a:gdLst/>
              <a:ahLst/>
              <a:rect l="l" t="t" r="r" b="b"/>
              <a:pathLst>
                <a:path w="1219" h="609">
                  <a:moveTo>
                    <a:pt x="0" y="304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8"/>
                  </a:lnTo>
                  <a:lnTo>
                    <a:pt x="10" y="250"/>
                  </a:lnTo>
                  <a:lnTo>
                    <a:pt x="13" y="243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1"/>
                  </a:lnTo>
                  <a:lnTo>
                    <a:pt x="28" y="214"/>
                  </a:lnTo>
                  <a:lnTo>
                    <a:pt x="33" y="207"/>
                  </a:lnTo>
                  <a:lnTo>
                    <a:pt x="37" y="199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4" y="179"/>
                  </a:lnTo>
                  <a:lnTo>
                    <a:pt x="61" y="172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1" y="153"/>
                  </a:lnTo>
                  <a:lnTo>
                    <a:pt x="88" y="146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8"/>
                  </a:lnTo>
                  <a:lnTo>
                    <a:pt x="122" y="123"/>
                  </a:lnTo>
                  <a:lnTo>
                    <a:pt x="140" y="111"/>
                  </a:lnTo>
                  <a:lnTo>
                    <a:pt x="159" y="100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0"/>
                  </a:lnTo>
                  <a:lnTo>
                    <a:pt x="373" y="23"/>
                  </a:lnTo>
                  <a:lnTo>
                    <a:pt x="401" y="19"/>
                  </a:lnTo>
                  <a:lnTo>
                    <a:pt x="429" y="13"/>
                  </a:lnTo>
                  <a:lnTo>
                    <a:pt x="457" y="10"/>
                  </a:lnTo>
                  <a:lnTo>
                    <a:pt x="487" y="6"/>
                  </a:lnTo>
                  <a:lnTo>
                    <a:pt x="517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1" y="1"/>
                  </a:lnTo>
                  <a:lnTo>
                    <a:pt x="672" y="2"/>
                  </a:lnTo>
                  <a:lnTo>
                    <a:pt x="703" y="3"/>
                  </a:lnTo>
                  <a:lnTo>
                    <a:pt x="733" y="6"/>
                  </a:lnTo>
                  <a:lnTo>
                    <a:pt x="762" y="10"/>
                  </a:lnTo>
                  <a:lnTo>
                    <a:pt x="792" y="13"/>
                  </a:lnTo>
                  <a:lnTo>
                    <a:pt x="820" y="19"/>
                  </a:lnTo>
                  <a:lnTo>
                    <a:pt x="847" y="23"/>
                  </a:lnTo>
                  <a:lnTo>
                    <a:pt x="874" y="30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1" y="100"/>
                  </a:lnTo>
                  <a:lnTo>
                    <a:pt x="1081" y="111"/>
                  </a:lnTo>
                  <a:lnTo>
                    <a:pt x="1099" y="123"/>
                  </a:lnTo>
                  <a:lnTo>
                    <a:pt x="1108" y="128"/>
                  </a:lnTo>
                  <a:lnTo>
                    <a:pt x="1116" y="134"/>
                  </a:lnTo>
                  <a:lnTo>
                    <a:pt x="1123" y="141"/>
                  </a:lnTo>
                  <a:lnTo>
                    <a:pt x="1131" y="146"/>
                  </a:lnTo>
                  <a:lnTo>
                    <a:pt x="1139" y="153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2"/>
                  </a:lnTo>
                  <a:lnTo>
                    <a:pt x="1166" y="179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3" y="199"/>
                  </a:lnTo>
                  <a:lnTo>
                    <a:pt x="1188" y="207"/>
                  </a:lnTo>
                  <a:lnTo>
                    <a:pt x="1192" y="214"/>
                  </a:lnTo>
                  <a:lnTo>
                    <a:pt x="1197" y="221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3"/>
                  </a:lnTo>
                  <a:lnTo>
                    <a:pt x="1210" y="250"/>
                  </a:lnTo>
                  <a:lnTo>
                    <a:pt x="1213" y="258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4"/>
                  </a:lnTo>
                  <a:lnTo>
                    <a:pt x="1219" y="304"/>
                  </a:lnTo>
                  <a:lnTo>
                    <a:pt x="1219" y="312"/>
                  </a:lnTo>
                  <a:lnTo>
                    <a:pt x="1219" y="320"/>
                  </a:lnTo>
                  <a:lnTo>
                    <a:pt x="1218" y="328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0" y="359"/>
                  </a:lnTo>
                  <a:lnTo>
                    <a:pt x="1207" y="367"/>
                  </a:lnTo>
                  <a:lnTo>
                    <a:pt x="1204" y="373"/>
                  </a:lnTo>
                  <a:lnTo>
                    <a:pt x="1200" y="381"/>
                  </a:lnTo>
                  <a:lnTo>
                    <a:pt x="1197" y="388"/>
                  </a:lnTo>
                  <a:lnTo>
                    <a:pt x="1192" y="396"/>
                  </a:lnTo>
                  <a:lnTo>
                    <a:pt x="1188" y="403"/>
                  </a:lnTo>
                  <a:lnTo>
                    <a:pt x="1183" y="409"/>
                  </a:lnTo>
                  <a:lnTo>
                    <a:pt x="1178" y="416"/>
                  </a:lnTo>
                  <a:lnTo>
                    <a:pt x="1172" y="423"/>
                  </a:lnTo>
                  <a:lnTo>
                    <a:pt x="1166" y="430"/>
                  </a:lnTo>
                  <a:lnTo>
                    <a:pt x="1160" y="437"/>
                  </a:lnTo>
                  <a:lnTo>
                    <a:pt x="1153" y="443"/>
                  </a:lnTo>
                  <a:lnTo>
                    <a:pt x="1146" y="450"/>
                  </a:lnTo>
                  <a:lnTo>
                    <a:pt x="1139" y="457"/>
                  </a:lnTo>
                  <a:lnTo>
                    <a:pt x="1131" y="463"/>
                  </a:lnTo>
                  <a:lnTo>
                    <a:pt x="1123" y="469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7"/>
                  </a:lnTo>
                  <a:lnTo>
                    <a:pt x="1081" y="499"/>
                  </a:lnTo>
                  <a:lnTo>
                    <a:pt x="1061" y="510"/>
                  </a:lnTo>
                  <a:lnTo>
                    <a:pt x="1041" y="520"/>
                  </a:lnTo>
                  <a:lnTo>
                    <a:pt x="1020" y="530"/>
                  </a:lnTo>
                  <a:lnTo>
                    <a:pt x="998" y="540"/>
                  </a:lnTo>
                  <a:lnTo>
                    <a:pt x="974" y="549"/>
                  </a:lnTo>
                  <a:lnTo>
                    <a:pt x="951" y="557"/>
                  </a:lnTo>
                  <a:lnTo>
                    <a:pt x="926" y="565"/>
                  </a:lnTo>
                  <a:lnTo>
                    <a:pt x="901" y="573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1"/>
                  </a:lnTo>
                  <a:lnTo>
                    <a:pt x="792" y="596"/>
                  </a:lnTo>
                  <a:lnTo>
                    <a:pt x="762" y="600"/>
                  </a:lnTo>
                  <a:lnTo>
                    <a:pt x="733" y="604"/>
                  </a:lnTo>
                  <a:lnTo>
                    <a:pt x="702" y="606"/>
                  </a:lnTo>
                  <a:lnTo>
                    <a:pt x="672" y="608"/>
                  </a:lnTo>
                  <a:lnTo>
                    <a:pt x="641" y="609"/>
                  </a:lnTo>
                  <a:lnTo>
                    <a:pt x="610" y="609"/>
                  </a:lnTo>
                  <a:lnTo>
                    <a:pt x="578" y="609"/>
                  </a:lnTo>
                  <a:lnTo>
                    <a:pt x="548" y="608"/>
                  </a:lnTo>
                  <a:lnTo>
                    <a:pt x="517" y="606"/>
                  </a:lnTo>
                  <a:lnTo>
                    <a:pt x="487" y="604"/>
                  </a:lnTo>
                  <a:lnTo>
                    <a:pt x="457" y="600"/>
                  </a:lnTo>
                  <a:lnTo>
                    <a:pt x="429" y="596"/>
                  </a:lnTo>
                  <a:lnTo>
                    <a:pt x="401" y="591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3"/>
                  </a:lnTo>
                  <a:lnTo>
                    <a:pt x="294" y="565"/>
                  </a:lnTo>
                  <a:lnTo>
                    <a:pt x="269" y="557"/>
                  </a:lnTo>
                  <a:lnTo>
                    <a:pt x="245" y="549"/>
                  </a:lnTo>
                  <a:lnTo>
                    <a:pt x="223" y="540"/>
                  </a:lnTo>
                  <a:lnTo>
                    <a:pt x="200" y="530"/>
                  </a:lnTo>
                  <a:lnTo>
                    <a:pt x="179" y="520"/>
                  </a:lnTo>
                  <a:lnTo>
                    <a:pt x="159" y="510"/>
                  </a:lnTo>
                  <a:lnTo>
                    <a:pt x="140" y="499"/>
                  </a:lnTo>
                  <a:lnTo>
                    <a:pt x="122" y="487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69"/>
                  </a:lnTo>
                  <a:lnTo>
                    <a:pt x="88" y="463"/>
                  </a:lnTo>
                  <a:lnTo>
                    <a:pt x="81" y="457"/>
                  </a:lnTo>
                  <a:lnTo>
                    <a:pt x="74" y="450"/>
                  </a:lnTo>
                  <a:lnTo>
                    <a:pt x="67" y="443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7" y="409"/>
                  </a:lnTo>
                  <a:lnTo>
                    <a:pt x="33" y="403"/>
                  </a:lnTo>
                  <a:lnTo>
                    <a:pt x="28" y="396"/>
                  </a:lnTo>
                  <a:lnTo>
                    <a:pt x="24" y="388"/>
                  </a:lnTo>
                  <a:lnTo>
                    <a:pt x="19" y="381"/>
                  </a:lnTo>
                  <a:lnTo>
                    <a:pt x="16" y="373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2" y="328"/>
                  </a:lnTo>
                  <a:lnTo>
                    <a:pt x="1" y="320"/>
                  </a:lnTo>
                  <a:lnTo>
                    <a:pt x="0" y="31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0280" y="4763880"/>
              <a:ext cx="1935360" cy="966600"/>
            </a:xfrm>
            <a:custGeom>
              <a:avLst/>
              <a:gdLst/>
              <a:ahLst/>
              <a:rect l="l" t="t" r="r" b="b"/>
              <a:pathLst>
                <a:path w="1219" h="609">
                  <a:moveTo>
                    <a:pt x="0" y="304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8"/>
                  </a:lnTo>
                  <a:lnTo>
                    <a:pt x="10" y="250"/>
                  </a:lnTo>
                  <a:lnTo>
                    <a:pt x="13" y="243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1"/>
                  </a:lnTo>
                  <a:lnTo>
                    <a:pt x="28" y="214"/>
                  </a:lnTo>
                  <a:lnTo>
                    <a:pt x="33" y="207"/>
                  </a:lnTo>
                  <a:lnTo>
                    <a:pt x="37" y="199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4" y="179"/>
                  </a:lnTo>
                  <a:lnTo>
                    <a:pt x="61" y="172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1" y="153"/>
                  </a:lnTo>
                  <a:lnTo>
                    <a:pt x="88" y="146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8"/>
                  </a:lnTo>
                  <a:lnTo>
                    <a:pt x="122" y="123"/>
                  </a:lnTo>
                  <a:lnTo>
                    <a:pt x="140" y="111"/>
                  </a:lnTo>
                  <a:lnTo>
                    <a:pt x="159" y="100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0"/>
                  </a:lnTo>
                  <a:lnTo>
                    <a:pt x="373" y="23"/>
                  </a:lnTo>
                  <a:lnTo>
                    <a:pt x="401" y="19"/>
                  </a:lnTo>
                  <a:lnTo>
                    <a:pt x="429" y="13"/>
                  </a:lnTo>
                  <a:lnTo>
                    <a:pt x="457" y="10"/>
                  </a:lnTo>
                  <a:lnTo>
                    <a:pt x="487" y="6"/>
                  </a:lnTo>
                  <a:lnTo>
                    <a:pt x="517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1" y="1"/>
                  </a:lnTo>
                  <a:lnTo>
                    <a:pt x="672" y="2"/>
                  </a:lnTo>
                  <a:lnTo>
                    <a:pt x="703" y="3"/>
                  </a:lnTo>
                  <a:lnTo>
                    <a:pt x="733" y="6"/>
                  </a:lnTo>
                  <a:lnTo>
                    <a:pt x="762" y="10"/>
                  </a:lnTo>
                  <a:lnTo>
                    <a:pt x="792" y="13"/>
                  </a:lnTo>
                  <a:lnTo>
                    <a:pt x="820" y="19"/>
                  </a:lnTo>
                  <a:lnTo>
                    <a:pt x="847" y="23"/>
                  </a:lnTo>
                  <a:lnTo>
                    <a:pt x="874" y="30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1" y="100"/>
                  </a:lnTo>
                  <a:lnTo>
                    <a:pt x="1081" y="111"/>
                  </a:lnTo>
                  <a:lnTo>
                    <a:pt x="1099" y="123"/>
                  </a:lnTo>
                  <a:lnTo>
                    <a:pt x="1108" y="128"/>
                  </a:lnTo>
                  <a:lnTo>
                    <a:pt x="1116" y="134"/>
                  </a:lnTo>
                  <a:lnTo>
                    <a:pt x="1123" y="141"/>
                  </a:lnTo>
                  <a:lnTo>
                    <a:pt x="1131" y="146"/>
                  </a:lnTo>
                  <a:lnTo>
                    <a:pt x="1139" y="153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2"/>
                  </a:lnTo>
                  <a:lnTo>
                    <a:pt x="1166" y="179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3" y="199"/>
                  </a:lnTo>
                  <a:lnTo>
                    <a:pt x="1188" y="207"/>
                  </a:lnTo>
                  <a:lnTo>
                    <a:pt x="1192" y="214"/>
                  </a:lnTo>
                  <a:lnTo>
                    <a:pt x="1197" y="221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3"/>
                  </a:lnTo>
                  <a:lnTo>
                    <a:pt x="1210" y="250"/>
                  </a:lnTo>
                  <a:lnTo>
                    <a:pt x="1213" y="258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4"/>
                  </a:lnTo>
                  <a:lnTo>
                    <a:pt x="1219" y="304"/>
                  </a:lnTo>
                  <a:lnTo>
                    <a:pt x="1219" y="312"/>
                  </a:lnTo>
                  <a:lnTo>
                    <a:pt x="1219" y="320"/>
                  </a:lnTo>
                  <a:lnTo>
                    <a:pt x="1218" y="328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0" y="359"/>
                  </a:lnTo>
                  <a:lnTo>
                    <a:pt x="1207" y="367"/>
                  </a:lnTo>
                  <a:lnTo>
                    <a:pt x="1204" y="373"/>
                  </a:lnTo>
                  <a:lnTo>
                    <a:pt x="1200" y="381"/>
                  </a:lnTo>
                  <a:lnTo>
                    <a:pt x="1197" y="388"/>
                  </a:lnTo>
                  <a:lnTo>
                    <a:pt x="1192" y="396"/>
                  </a:lnTo>
                  <a:lnTo>
                    <a:pt x="1188" y="403"/>
                  </a:lnTo>
                  <a:lnTo>
                    <a:pt x="1183" y="409"/>
                  </a:lnTo>
                  <a:lnTo>
                    <a:pt x="1178" y="416"/>
                  </a:lnTo>
                  <a:lnTo>
                    <a:pt x="1172" y="423"/>
                  </a:lnTo>
                  <a:lnTo>
                    <a:pt x="1166" y="430"/>
                  </a:lnTo>
                  <a:lnTo>
                    <a:pt x="1160" y="437"/>
                  </a:lnTo>
                  <a:lnTo>
                    <a:pt x="1153" y="443"/>
                  </a:lnTo>
                  <a:lnTo>
                    <a:pt x="1146" y="450"/>
                  </a:lnTo>
                  <a:lnTo>
                    <a:pt x="1139" y="457"/>
                  </a:lnTo>
                  <a:lnTo>
                    <a:pt x="1131" y="463"/>
                  </a:lnTo>
                  <a:lnTo>
                    <a:pt x="1123" y="469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7"/>
                  </a:lnTo>
                  <a:lnTo>
                    <a:pt x="1081" y="499"/>
                  </a:lnTo>
                  <a:lnTo>
                    <a:pt x="1061" y="510"/>
                  </a:lnTo>
                  <a:lnTo>
                    <a:pt x="1041" y="520"/>
                  </a:lnTo>
                  <a:lnTo>
                    <a:pt x="1020" y="530"/>
                  </a:lnTo>
                  <a:lnTo>
                    <a:pt x="998" y="540"/>
                  </a:lnTo>
                  <a:lnTo>
                    <a:pt x="974" y="549"/>
                  </a:lnTo>
                  <a:lnTo>
                    <a:pt x="951" y="557"/>
                  </a:lnTo>
                  <a:lnTo>
                    <a:pt x="926" y="565"/>
                  </a:lnTo>
                  <a:lnTo>
                    <a:pt x="901" y="573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1"/>
                  </a:lnTo>
                  <a:lnTo>
                    <a:pt x="792" y="596"/>
                  </a:lnTo>
                  <a:lnTo>
                    <a:pt x="762" y="600"/>
                  </a:lnTo>
                  <a:lnTo>
                    <a:pt x="733" y="604"/>
                  </a:lnTo>
                  <a:lnTo>
                    <a:pt x="702" y="606"/>
                  </a:lnTo>
                  <a:lnTo>
                    <a:pt x="672" y="608"/>
                  </a:lnTo>
                  <a:lnTo>
                    <a:pt x="641" y="609"/>
                  </a:lnTo>
                  <a:lnTo>
                    <a:pt x="610" y="609"/>
                  </a:lnTo>
                  <a:lnTo>
                    <a:pt x="578" y="609"/>
                  </a:lnTo>
                  <a:lnTo>
                    <a:pt x="548" y="608"/>
                  </a:lnTo>
                  <a:lnTo>
                    <a:pt x="517" y="606"/>
                  </a:lnTo>
                  <a:lnTo>
                    <a:pt x="487" y="604"/>
                  </a:lnTo>
                  <a:lnTo>
                    <a:pt x="457" y="600"/>
                  </a:lnTo>
                  <a:lnTo>
                    <a:pt x="429" y="596"/>
                  </a:lnTo>
                  <a:lnTo>
                    <a:pt x="401" y="591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3"/>
                  </a:lnTo>
                  <a:lnTo>
                    <a:pt x="294" y="565"/>
                  </a:lnTo>
                  <a:lnTo>
                    <a:pt x="269" y="557"/>
                  </a:lnTo>
                  <a:lnTo>
                    <a:pt x="245" y="549"/>
                  </a:lnTo>
                  <a:lnTo>
                    <a:pt x="223" y="540"/>
                  </a:lnTo>
                  <a:lnTo>
                    <a:pt x="200" y="530"/>
                  </a:lnTo>
                  <a:lnTo>
                    <a:pt x="179" y="520"/>
                  </a:lnTo>
                  <a:lnTo>
                    <a:pt x="159" y="510"/>
                  </a:lnTo>
                  <a:lnTo>
                    <a:pt x="140" y="499"/>
                  </a:lnTo>
                  <a:lnTo>
                    <a:pt x="122" y="487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69"/>
                  </a:lnTo>
                  <a:lnTo>
                    <a:pt x="88" y="463"/>
                  </a:lnTo>
                  <a:lnTo>
                    <a:pt x="81" y="457"/>
                  </a:lnTo>
                  <a:lnTo>
                    <a:pt x="74" y="450"/>
                  </a:lnTo>
                  <a:lnTo>
                    <a:pt x="67" y="443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7" y="409"/>
                  </a:lnTo>
                  <a:lnTo>
                    <a:pt x="33" y="403"/>
                  </a:lnTo>
                  <a:lnTo>
                    <a:pt x="28" y="396"/>
                  </a:lnTo>
                  <a:lnTo>
                    <a:pt x="24" y="388"/>
                  </a:lnTo>
                  <a:lnTo>
                    <a:pt x="19" y="381"/>
                  </a:lnTo>
                  <a:lnTo>
                    <a:pt x="16" y="373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2" y="328"/>
                  </a:lnTo>
                  <a:lnTo>
                    <a:pt x="1" y="320"/>
                  </a:lnTo>
                  <a:lnTo>
                    <a:pt x="0" y="312"/>
                  </a:lnTo>
                  <a:lnTo>
                    <a:pt x="0" y="30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34600" y="4789080"/>
              <a:ext cx="88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Iterativ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23840" y="5017680"/>
              <a:ext cx="178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development with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8880" y="5248080"/>
              <a:ext cx="153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an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ahoma"/>
                </a:rPr>
                <a:t>agile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Unifie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29200" y="5476680"/>
              <a:ext cx="72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9160" y="968040"/>
              <a:ext cx="1936440" cy="966960"/>
            </a:xfrm>
            <a:custGeom>
              <a:avLst/>
              <a:gdLst/>
              <a:ahLst/>
              <a:rect l="l" t="t" r="r" b="b"/>
              <a:pathLst>
                <a:path w="1220" h="609">
                  <a:moveTo>
                    <a:pt x="0" y="304"/>
                  </a:moveTo>
                  <a:lnTo>
                    <a:pt x="0" y="297"/>
                  </a:lnTo>
                  <a:lnTo>
                    <a:pt x="2" y="289"/>
                  </a:lnTo>
                  <a:lnTo>
                    <a:pt x="3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8"/>
                  </a:lnTo>
                  <a:lnTo>
                    <a:pt x="11" y="250"/>
                  </a:lnTo>
                  <a:lnTo>
                    <a:pt x="13" y="243"/>
                  </a:lnTo>
                  <a:lnTo>
                    <a:pt x="16" y="236"/>
                  </a:lnTo>
                  <a:lnTo>
                    <a:pt x="20" y="229"/>
                  </a:lnTo>
                  <a:lnTo>
                    <a:pt x="24" y="221"/>
                  </a:lnTo>
                  <a:lnTo>
                    <a:pt x="29" y="214"/>
                  </a:lnTo>
                  <a:lnTo>
                    <a:pt x="33" y="207"/>
                  </a:lnTo>
                  <a:lnTo>
                    <a:pt x="38" y="199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5" y="179"/>
                  </a:lnTo>
                  <a:lnTo>
                    <a:pt x="61" y="172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2" y="153"/>
                  </a:lnTo>
                  <a:lnTo>
                    <a:pt x="89" y="146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8"/>
                  </a:lnTo>
                  <a:lnTo>
                    <a:pt x="122" y="123"/>
                  </a:lnTo>
                  <a:lnTo>
                    <a:pt x="140" y="111"/>
                  </a:lnTo>
                  <a:lnTo>
                    <a:pt x="160" y="100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0"/>
                  </a:lnTo>
                  <a:lnTo>
                    <a:pt x="373" y="23"/>
                  </a:lnTo>
                  <a:lnTo>
                    <a:pt x="401" y="19"/>
                  </a:lnTo>
                  <a:lnTo>
                    <a:pt x="429" y="13"/>
                  </a:lnTo>
                  <a:lnTo>
                    <a:pt x="458" y="10"/>
                  </a:lnTo>
                  <a:lnTo>
                    <a:pt x="487" y="6"/>
                  </a:lnTo>
                  <a:lnTo>
                    <a:pt x="518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2"/>
                  </a:lnTo>
                  <a:lnTo>
                    <a:pt x="704" y="3"/>
                  </a:lnTo>
                  <a:lnTo>
                    <a:pt x="733" y="6"/>
                  </a:lnTo>
                  <a:lnTo>
                    <a:pt x="762" y="10"/>
                  </a:lnTo>
                  <a:lnTo>
                    <a:pt x="792" y="13"/>
                  </a:lnTo>
                  <a:lnTo>
                    <a:pt x="820" y="19"/>
                  </a:lnTo>
                  <a:lnTo>
                    <a:pt x="847" y="23"/>
                  </a:lnTo>
                  <a:lnTo>
                    <a:pt x="874" y="30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2" y="100"/>
                  </a:lnTo>
                  <a:lnTo>
                    <a:pt x="1081" y="111"/>
                  </a:lnTo>
                  <a:lnTo>
                    <a:pt x="1099" y="123"/>
                  </a:lnTo>
                  <a:lnTo>
                    <a:pt x="1108" y="128"/>
                  </a:lnTo>
                  <a:lnTo>
                    <a:pt x="1116" y="134"/>
                  </a:lnTo>
                  <a:lnTo>
                    <a:pt x="1124" y="141"/>
                  </a:lnTo>
                  <a:lnTo>
                    <a:pt x="1132" y="146"/>
                  </a:lnTo>
                  <a:lnTo>
                    <a:pt x="1140" y="153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2"/>
                  </a:lnTo>
                  <a:lnTo>
                    <a:pt x="1167" y="179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4" y="199"/>
                  </a:lnTo>
                  <a:lnTo>
                    <a:pt x="1188" y="207"/>
                  </a:lnTo>
                  <a:lnTo>
                    <a:pt x="1193" y="214"/>
                  </a:lnTo>
                  <a:lnTo>
                    <a:pt x="1197" y="221"/>
                  </a:lnTo>
                  <a:lnTo>
                    <a:pt x="1201" y="229"/>
                  </a:lnTo>
                  <a:lnTo>
                    <a:pt x="1204" y="236"/>
                  </a:lnTo>
                  <a:lnTo>
                    <a:pt x="1207" y="243"/>
                  </a:lnTo>
                  <a:lnTo>
                    <a:pt x="1211" y="250"/>
                  </a:lnTo>
                  <a:lnTo>
                    <a:pt x="1213" y="258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9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4"/>
                  </a:lnTo>
                  <a:lnTo>
                    <a:pt x="1220" y="304"/>
                  </a:lnTo>
                  <a:lnTo>
                    <a:pt x="1220" y="312"/>
                  </a:lnTo>
                  <a:lnTo>
                    <a:pt x="1220" y="320"/>
                  </a:lnTo>
                  <a:lnTo>
                    <a:pt x="1219" y="328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3"/>
                  </a:lnTo>
                  <a:lnTo>
                    <a:pt x="1201" y="381"/>
                  </a:lnTo>
                  <a:lnTo>
                    <a:pt x="1197" y="388"/>
                  </a:lnTo>
                  <a:lnTo>
                    <a:pt x="1193" y="396"/>
                  </a:lnTo>
                  <a:lnTo>
                    <a:pt x="1188" y="403"/>
                  </a:lnTo>
                  <a:lnTo>
                    <a:pt x="1184" y="409"/>
                  </a:lnTo>
                  <a:lnTo>
                    <a:pt x="1178" y="416"/>
                  </a:lnTo>
                  <a:lnTo>
                    <a:pt x="1172" y="423"/>
                  </a:lnTo>
                  <a:lnTo>
                    <a:pt x="1167" y="430"/>
                  </a:lnTo>
                  <a:lnTo>
                    <a:pt x="1160" y="436"/>
                  </a:lnTo>
                  <a:lnTo>
                    <a:pt x="1153" y="443"/>
                  </a:lnTo>
                  <a:lnTo>
                    <a:pt x="1146" y="450"/>
                  </a:lnTo>
                  <a:lnTo>
                    <a:pt x="1140" y="457"/>
                  </a:lnTo>
                  <a:lnTo>
                    <a:pt x="1132" y="462"/>
                  </a:lnTo>
                  <a:lnTo>
                    <a:pt x="1124" y="469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7"/>
                  </a:lnTo>
                  <a:lnTo>
                    <a:pt x="1081" y="499"/>
                  </a:lnTo>
                  <a:lnTo>
                    <a:pt x="1062" y="510"/>
                  </a:lnTo>
                  <a:lnTo>
                    <a:pt x="1041" y="520"/>
                  </a:lnTo>
                  <a:lnTo>
                    <a:pt x="1020" y="530"/>
                  </a:lnTo>
                  <a:lnTo>
                    <a:pt x="998" y="540"/>
                  </a:lnTo>
                  <a:lnTo>
                    <a:pt x="975" y="549"/>
                  </a:lnTo>
                  <a:lnTo>
                    <a:pt x="951" y="557"/>
                  </a:lnTo>
                  <a:lnTo>
                    <a:pt x="926" y="565"/>
                  </a:lnTo>
                  <a:lnTo>
                    <a:pt x="901" y="573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1"/>
                  </a:lnTo>
                  <a:lnTo>
                    <a:pt x="792" y="596"/>
                  </a:lnTo>
                  <a:lnTo>
                    <a:pt x="762" y="600"/>
                  </a:lnTo>
                  <a:lnTo>
                    <a:pt x="733" y="604"/>
                  </a:lnTo>
                  <a:lnTo>
                    <a:pt x="703" y="606"/>
                  </a:lnTo>
                  <a:lnTo>
                    <a:pt x="672" y="608"/>
                  </a:lnTo>
                  <a:lnTo>
                    <a:pt x="642" y="609"/>
                  </a:lnTo>
                  <a:lnTo>
                    <a:pt x="610" y="609"/>
                  </a:lnTo>
                  <a:lnTo>
                    <a:pt x="578" y="609"/>
                  </a:lnTo>
                  <a:lnTo>
                    <a:pt x="548" y="608"/>
                  </a:lnTo>
                  <a:lnTo>
                    <a:pt x="518" y="606"/>
                  </a:lnTo>
                  <a:lnTo>
                    <a:pt x="487" y="604"/>
                  </a:lnTo>
                  <a:lnTo>
                    <a:pt x="458" y="600"/>
                  </a:lnTo>
                  <a:lnTo>
                    <a:pt x="429" y="596"/>
                  </a:lnTo>
                  <a:lnTo>
                    <a:pt x="401" y="591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3"/>
                  </a:lnTo>
                  <a:lnTo>
                    <a:pt x="294" y="565"/>
                  </a:lnTo>
                  <a:lnTo>
                    <a:pt x="269" y="557"/>
                  </a:lnTo>
                  <a:lnTo>
                    <a:pt x="245" y="549"/>
                  </a:lnTo>
                  <a:lnTo>
                    <a:pt x="223" y="540"/>
                  </a:lnTo>
                  <a:lnTo>
                    <a:pt x="200" y="530"/>
                  </a:lnTo>
                  <a:lnTo>
                    <a:pt x="179" y="520"/>
                  </a:lnTo>
                  <a:lnTo>
                    <a:pt x="160" y="510"/>
                  </a:lnTo>
                  <a:lnTo>
                    <a:pt x="140" y="499"/>
                  </a:lnTo>
                  <a:lnTo>
                    <a:pt x="122" y="487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69"/>
                  </a:lnTo>
                  <a:lnTo>
                    <a:pt x="89" y="462"/>
                  </a:lnTo>
                  <a:lnTo>
                    <a:pt x="82" y="457"/>
                  </a:lnTo>
                  <a:lnTo>
                    <a:pt x="74" y="450"/>
                  </a:lnTo>
                  <a:lnTo>
                    <a:pt x="67" y="443"/>
                  </a:lnTo>
                  <a:lnTo>
                    <a:pt x="61" y="436"/>
                  </a:lnTo>
                  <a:lnTo>
                    <a:pt x="55" y="430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8" y="409"/>
                  </a:lnTo>
                  <a:lnTo>
                    <a:pt x="33" y="403"/>
                  </a:lnTo>
                  <a:lnTo>
                    <a:pt x="29" y="396"/>
                  </a:lnTo>
                  <a:lnTo>
                    <a:pt x="24" y="388"/>
                  </a:lnTo>
                  <a:lnTo>
                    <a:pt x="20" y="381"/>
                  </a:lnTo>
                  <a:lnTo>
                    <a:pt x="16" y="373"/>
                  </a:lnTo>
                  <a:lnTo>
                    <a:pt x="13" y="367"/>
                  </a:lnTo>
                  <a:lnTo>
                    <a:pt x="11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3" y="328"/>
                  </a:lnTo>
                  <a:lnTo>
                    <a:pt x="2" y="320"/>
                  </a:lnTo>
                  <a:lnTo>
                    <a:pt x="0" y="31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29160" y="968040"/>
              <a:ext cx="1936440" cy="966960"/>
            </a:xfrm>
            <a:custGeom>
              <a:avLst/>
              <a:gdLst/>
              <a:ahLst/>
              <a:rect l="l" t="t" r="r" b="b"/>
              <a:pathLst>
                <a:path w="1220" h="609">
                  <a:moveTo>
                    <a:pt x="0" y="304"/>
                  </a:moveTo>
                  <a:lnTo>
                    <a:pt x="0" y="297"/>
                  </a:lnTo>
                  <a:lnTo>
                    <a:pt x="2" y="289"/>
                  </a:lnTo>
                  <a:lnTo>
                    <a:pt x="3" y="281"/>
                  </a:lnTo>
                  <a:lnTo>
                    <a:pt x="4" y="274"/>
                  </a:lnTo>
                  <a:lnTo>
                    <a:pt x="6" y="266"/>
                  </a:lnTo>
                  <a:lnTo>
                    <a:pt x="7" y="258"/>
                  </a:lnTo>
                  <a:lnTo>
                    <a:pt x="11" y="250"/>
                  </a:lnTo>
                  <a:lnTo>
                    <a:pt x="13" y="243"/>
                  </a:lnTo>
                  <a:lnTo>
                    <a:pt x="16" y="236"/>
                  </a:lnTo>
                  <a:lnTo>
                    <a:pt x="20" y="229"/>
                  </a:lnTo>
                  <a:lnTo>
                    <a:pt x="24" y="221"/>
                  </a:lnTo>
                  <a:lnTo>
                    <a:pt x="29" y="214"/>
                  </a:lnTo>
                  <a:lnTo>
                    <a:pt x="33" y="207"/>
                  </a:lnTo>
                  <a:lnTo>
                    <a:pt x="38" y="199"/>
                  </a:lnTo>
                  <a:lnTo>
                    <a:pt x="43" y="193"/>
                  </a:lnTo>
                  <a:lnTo>
                    <a:pt x="49" y="186"/>
                  </a:lnTo>
                  <a:lnTo>
                    <a:pt x="55" y="179"/>
                  </a:lnTo>
                  <a:lnTo>
                    <a:pt x="61" y="172"/>
                  </a:lnTo>
                  <a:lnTo>
                    <a:pt x="67" y="166"/>
                  </a:lnTo>
                  <a:lnTo>
                    <a:pt x="74" y="160"/>
                  </a:lnTo>
                  <a:lnTo>
                    <a:pt x="82" y="153"/>
                  </a:lnTo>
                  <a:lnTo>
                    <a:pt x="89" y="146"/>
                  </a:lnTo>
                  <a:lnTo>
                    <a:pt x="96" y="141"/>
                  </a:lnTo>
                  <a:lnTo>
                    <a:pt x="104" y="134"/>
                  </a:lnTo>
                  <a:lnTo>
                    <a:pt x="113" y="128"/>
                  </a:lnTo>
                  <a:lnTo>
                    <a:pt x="122" y="123"/>
                  </a:lnTo>
                  <a:lnTo>
                    <a:pt x="140" y="111"/>
                  </a:lnTo>
                  <a:lnTo>
                    <a:pt x="160" y="100"/>
                  </a:lnTo>
                  <a:lnTo>
                    <a:pt x="179" y="89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7"/>
                  </a:lnTo>
                  <a:lnTo>
                    <a:pt x="346" y="30"/>
                  </a:lnTo>
                  <a:lnTo>
                    <a:pt x="373" y="23"/>
                  </a:lnTo>
                  <a:lnTo>
                    <a:pt x="401" y="19"/>
                  </a:lnTo>
                  <a:lnTo>
                    <a:pt x="429" y="13"/>
                  </a:lnTo>
                  <a:lnTo>
                    <a:pt x="458" y="10"/>
                  </a:lnTo>
                  <a:lnTo>
                    <a:pt x="487" y="6"/>
                  </a:lnTo>
                  <a:lnTo>
                    <a:pt x="518" y="3"/>
                  </a:lnTo>
                  <a:lnTo>
                    <a:pt x="548" y="2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2" y="1"/>
                  </a:lnTo>
                  <a:lnTo>
                    <a:pt x="672" y="2"/>
                  </a:lnTo>
                  <a:lnTo>
                    <a:pt x="704" y="3"/>
                  </a:lnTo>
                  <a:lnTo>
                    <a:pt x="733" y="6"/>
                  </a:lnTo>
                  <a:lnTo>
                    <a:pt x="762" y="10"/>
                  </a:lnTo>
                  <a:lnTo>
                    <a:pt x="792" y="13"/>
                  </a:lnTo>
                  <a:lnTo>
                    <a:pt x="820" y="19"/>
                  </a:lnTo>
                  <a:lnTo>
                    <a:pt x="847" y="23"/>
                  </a:lnTo>
                  <a:lnTo>
                    <a:pt x="874" y="30"/>
                  </a:lnTo>
                  <a:lnTo>
                    <a:pt x="901" y="37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5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89"/>
                  </a:lnTo>
                  <a:lnTo>
                    <a:pt x="1062" y="100"/>
                  </a:lnTo>
                  <a:lnTo>
                    <a:pt x="1081" y="111"/>
                  </a:lnTo>
                  <a:lnTo>
                    <a:pt x="1099" y="123"/>
                  </a:lnTo>
                  <a:lnTo>
                    <a:pt x="1108" y="128"/>
                  </a:lnTo>
                  <a:lnTo>
                    <a:pt x="1116" y="134"/>
                  </a:lnTo>
                  <a:lnTo>
                    <a:pt x="1124" y="141"/>
                  </a:lnTo>
                  <a:lnTo>
                    <a:pt x="1132" y="146"/>
                  </a:lnTo>
                  <a:lnTo>
                    <a:pt x="1140" y="153"/>
                  </a:lnTo>
                  <a:lnTo>
                    <a:pt x="1146" y="160"/>
                  </a:lnTo>
                  <a:lnTo>
                    <a:pt x="1153" y="166"/>
                  </a:lnTo>
                  <a:lnTo>
                    <a:pt x="1160" y="172"/>
                  </a:lnTo>
                  <a:lnTo>
                    <a:pt x="1167" y="179"/>
                  </a:lnTo>
                  <a:lnTo>
                    <a:pt x="1172" y="186"/>
                  </a:lnTo>
                  <a:lnTo>
                    <a:pt x="1178" y="193"/>
                  </a:lnTo>
                  <a:lnTo>
                    <a:pt x="1184" y="199"/>
                  </a:lnTo>
                  <a:lnTo>
                    <a:pt x="1188" y="207"/>
                  </a:lnTo>
                  <a:lnTo>
                    <a:pt x="1193" y="214"/>
                  </a:lnTo>
                  <a:lnTo>
                    <a:pt x="1197" y="221"/>
                  </a:lnTo>
                  <a:lnTo>
                    <a:pt x="1201" y="229"/>
                  </a:lnTo>
                  <a:lnTo>
                    <a:pt x="1204" y="236"/>
                  </a:lnTo>
                  <a:lnTo>
                    <a:pt x="1207" y="243"/>
                  </a:lnTo>
                  <a:lnTo>
                    <a:pt x="1211" y="250"/>
                  </a:lnTo>
                  <a:lnTo>
                    <a:pt x="1213" y="258"/>
                  </a:lnTo>
                  <a:lnTo>
                    <a:pt x="1215" y="266"/>
                  </a:lnTo>
                  <a:lnTo>
                    <a:pt x="1216" y="274"/>
                  </a:lnTo>
                  <a:lnTo>
                    <a:pt x="1219" y="281"/>
                  </a:lnTo>
                  <a:lnTo>
                    <a:pt x="1220" y="289"/>
                  </a:lnTo>
                  <a:lnTo>
                    <a:pt x="1220" y="297"/>
                  </a:lnTo>
                  <a:lnTo>
                    <a:pt x="1220" y="304"/>
                  </a:lnTo>
                  <a:lnTo>
                    <a:pt x="1220" y="304"/>
                  </a:lnTo>
                  <a:lnTo>
                    <a:pt x="1220" y="312"/>
                  </a:lnTo>
                  <a:lnTo>
                    <a:pt x="1220" y="320"/>
                  </a:lnTo>
                  <a:lnTo>
                    <a:pt x="1219" y="328"/>
                  </a:lnTo>
                  <a:lnTo>
                    <a:pt x="1216" y="336"/>
                  </a:lnTo>
                  <a:lnTo>
                    <a:pt x="1215" y="344"/>
                  </a:lnTo>
                  <a:lnTo>
                    <a:pt x="1213" y="351"/>
                  </a:lnTo>
                  <a:lnTo>
                    <a:pt x="1211" y="359"/>
                  </a:lnTo>
                  <a:lnTo>
                    <a:pt x="1207" y="367"/>
                  </a:lnTo>
                  <a:lnTo>
                    <a:pt x="1204" y="373"/>
                  </a:lnTo>
                  <a:lnTo>
                    <a:pt x="1201" y="381"/>
                  </a:lnTo>
                  <a:lnTo>
                    <a:pt x="1197" y="388"/>
                  </a:lnTo>
                  <a:lnTo>
                    <a:pt x="1193" y="396"/>
                  </a:lnTo>
                  <a:lnTo>
                    <a:pt x="1188" y="403"/>
                  </a:lnTo>
                  <a:lnTo>
                    <a:pt x="1184" y="409"/>
                  </a:lnTo>
                  <a:lnTo>
                    <a:pt x="1178" y="416"/>
                  </a:lnTo>
                  <a:lnTo>
                    <a:pt x="1172" y="423"/>
                  </a:lnTo>
                  <a:lnTo>
                    <a:pt x="1167" y="430"/>
                  </a:lnTo>
                  <a:lnTo>
                    <a:pt x="1160" y="436"/>
                  </a:lnTo>
                  <a:lnTo>
                    <a:pt x="1153" y="443"/>
                  </a:lnTo>
                  <a:lnTo>
                    <a:pt x="1146" y="450"/>
                  </a:lnTo>
                  <a:lnTo>
                    <a:pt x="1140" y="457"/>
                  </a:lnTo>
                  <a:lnTo>
                    <a:pt x="1132" y="462"/>
                  </a:lnTo>
                  <a:lnTo>
                    <a:pt x="1124" y="469"/>
                  </a:lnTo>
                  <a:lnTo>
                    <a:pt x="1116" y="475"/>
                  </a:lnTo>
                  <a:lnTo>
                    <a:pt x="1108" y="482"/>
                  </a:lnTo>
                  <a:lnTo>
                    <a:pt x="1099" y="487"/>
                  </a:lnTo>
                  <a:lnTo>
                    <a:pt x="1081" y="499"/>
                  </a:lnTo>
                  <a:lnTo>
                    <a:pt x="1062" y="510"/>
                  </a:lnTo>
                  <a:lnTo>
                    <a:pt x="1041" y="520"/>
                  </a:lnTo>
                  <a:lnTo>
                    <a:pt x="1020" y="530"/>
                  </a:lnTo>
                  <a:lnTo>
                    <a:pt x="998" y="540"/>
                  </a:lnTo>
                  <a:lnTo>
                    <a:pt x="975" y="549"/>
                  </a:lnTo>
                  <a:lnTo>
                    <a:pt x="951" y="557"/>
                  </a:lnTo>
                  <a:lnTo>
                    <a:pt x="926" y="565"/>
                  </a:lnTo>
                  <a:lnTo>
                    <a:pt x="901" y="573"/>
                  </a:lnTo>
                  <a:lnTo>
                    <a:pt x="874" y="580"/>
                  </a:lnTo>
                  <a:lnTo>
                    <a:pt x="847" y="586"/>
                  </a:lnTo>
                  <a:lnTo>
                    <a:pt x="820" y="591"/>
                  </a:lnTo>
                  <a:lnTo>
                    <a:pt x="792" y="596"/>
                  </a:lnTo>
                  <a:lnTo>
                    <a:pt x="762" y="600"/>
                  </a:lnTo>
                  <a:lnTo>
                    <a:pt x="733" y="604"/>
                  </a:lnTo>
                  <a:lnTo>
                    <a:pt x="703" y="606"/>
                  </a:lnTo>
                  <a:lnTo>
                    <a:pt x="672" y="608"/>
                  </a:lnTo>
                  <a:lnTo>
                    <a:pt x="642" y="609"/>
                  </a:lnTo>
                  <a:lnTo>
                    <a:pt x="610" y="609"/>
                  </a:lnTo>
                  <a:lnTo>
                    <a:pt x="578" y="609"/>
                  </a:lnTo>
                  <a:lnTo>
                    <a:pt x="548" y="608"/>
                  </a:lnTo>
                  <a:lnTo>
                    <a:pt x="518" y="606"/>
                  </a:lnTo>
                  <a:lnTo>
                    <a:pt x="487" y="604"/>
                  </a:lnTo>
                  <a:lnTo>
                    <a:pt x="458" y="600"/>
                  </a:lnTo>
                  <a:lnTo>
                    <a:pt x="429" y="596"/>
                  </a:lnTo>
                  <a:lnTo>
                    <a:pt x="401" y="591"/>
                  </a:lnTo>
                  <a:lnTo>
                    <a:pt x="373" y="586"/>
                  </a:lnTo>
                  <a:lnTo>
                    <a:pt x="346" y="580"/>
                  </a:lnTo>
                  <a:lnTo>
                    <a:pt x="320" y="573"/>
                  </a:lnTo>
                  <a:lnTo>
                    <a:pt x="294" y="565"/>
                  </a:lnTo>
                  <a:lnTo>
                    <a:pt x="269" y="557"/>
                  </a:lnTo>
                  <a:lnTo>
                    <a:pt x="245" y="549"/>
                  </a:lnTo>
                  <a:lnTo>
                    <a:pt x="223" y="540"/>
                  </a:lnTo>
                  <a:lnTo>
                    <a:pt x="200" y="530"/>
                  </a:lnTo>
                  <a:lnTo>
                    <a:pt x="179" y="520"/>
                  </a:lnTo>
                  <a:lnTo>
                    <a:pt x="160" y="510"/>
                  </a:lnTo>
                  <a:lnTo>
                    <a:pt x="140" y="499"/>
                  </a:lnTo>
                  <a:lnTo>
                    <a:pt x="122" y="487"/>
                  </a:lnTo>
                  <a:lnTo>
                    <a:pt x="113" y="482"/>
                  </a:lnTo>
                  <a:lnTo>
                    <a:pt x="104" y="475"/>
                  </a:lnTo>
                  <a:lnTo>
                    <a:pt x="96" y="469"/>
                  </a:lnTo>
                  <a:lnTo>
                    <a:pt x="89" y="462"/>
                  </a:lnTo>
                  <a:lnTo>
                    <a:pt x="82" y="457"/>
                  </a:lnTo>
                  <a:lnTo>
                    <a:pt x="74" y="450"/>
                  </a:lnTo>
                  <a:lnTo>
                    <a:pt x="67" y="443"/>
                  </a:lnTo>
                  <a:lnTo>
                    <a:pt x="61" y="436"/>
                  </a:lnTo>
                  <a:lnTo>
                    <a:pt x="55" y="430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8" y="409"/>
                  </a:lnTo>
                  <a:lnTo>
                    <a:pt x="33" y="403"/>
                  </a:lnTo>
                  <a:lnTo>
                    <a:pt x="29" y="396"/>
                  </a:lnTo>
                  <a:lnTo>
                    <a:pt x="24" y="388"/>
                  </a:lnTo>
                  <a:lnTo>
                    <a:pt x="20" y="381"/>
                  </a:lnTo>
                  <a:lnTo>
                    <a:pt x="16" y="373"/>
                  </a:lnTo>
                  <a:lnTo>
                    <a:pt x="13" y="367"/>
                  </a:lnTo>
                  <a:lnTo>
                    <a:pt x="11" y="359"/>
                  </a:lnTo>
                  <a:lnTo>
                    <a:pt x="7" y="351"/>
                  </a:lnTo>
                  <a:lnTo>
                    <a:pt x="6" y="344"/>
                  </a:lnTo>
                  <a:lnTo>
                    <a:pt x="4" y="336"/>
                  </a:lnTo>
                  <a:lnTo>
                    <a:pt x="3" y="328"/>
                  </a:lnTo>
                  <a:lnTo>
                    <a:pt x="2" y="320"/>
                  </a:lnTo>
                  <a:lnTo>
                    <a:pt x="0" y="312"/>
                  </a:lnTo>
                  <a:lnTo>
                    <a:pt x="0" y="304"/>
                  </a:lnTo>
                </a:path>
              </a:pathLst>
            </a:custGeom>
            <a:noFill/>
            <a:ln w="46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00280" y="838080"/>
              <a:ext cx="1935360" cy="968400"/>
            </a:xfrm>
            <a:custGeom>
              <a:avLst/>
              <a:gdLst/>
              <a:ahLst/>
              <a:rect l="l" t="t" r="r" b="b"/>
              <a:pathLst>
                <a:path w="1219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4" y="275"/>
                  </a:lnTo>
                  <a:lnTo>
                    <a:pt x="6" y="267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2"/>
                  </a:lnTo>
                  <a:lnTo>
                    <a:pt x="28" y="215"/>
                  </a:lnTo>
                  <a:lnTo>
                    <a:pt x="33" y="208"/>
                  </a:lnTo>
                  <a:lnTo>
                    <a:pt x="37" y="200"/>
                  </a:lnTo>
                  <a:lnTo>
                    <a:pt x="43" y="193"/>
                  </a:lnTo>
                  <a:lnTo>
                    <a:pt x="49" y="187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1"/>
                  </a:lnTo>
                  <a:lnTo>
                    <a:pt x="81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5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9" y="90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8"/>
                  </a:lnTo>
                  <a:lnTo>
                    <a:pt x="346" y="31"/>
                  </a:lnTo>
                  <a:lnTo>
                    <a:pt x="373" y="24"/>
                  </a:lnTo>
                  <a:lnTo>
                    <a:pt x="401" y="20"/>
                  </a:lnTo>
                  <a:lnTo>
                    <a:pt x="429" y="14"/>
                  </a:lnTo>
                  <a:lnTo>
                    <a:pt x="457" y="10"/>
                  </a:lnTo>
                  <a:lnTo>
                    <a:pt x="487" y="7"/>
                  </a:lnTo>
                  <a:lnTo>
                    <a:pt x="517" y="4"/>
                  </a:lnTo>
                  <a:lnTo>
                    <a:pt x="548" y="3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1" y="1"/>
                  </a:lnTo>
                  <a:lnTo>
                    <a:pt x="672" y="3"/>
                  </a:lnTo>
                  <a:lnTo>
                    <a:pt x="703" y="4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4"/>
                  </a:lnTo>
                  <a:lnTo>
                    <a:pt x="820" y="20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8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90"/>
                  </a:lnTo>
                  <a:lnTo>
                    <a:pt x="1061" y="101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5"/>
                  </a:lnTo>
                  <a:lnTo>
                    <a:pt x="1123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6" y="161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6" y="180"/>
                  </a:lnTo>
                  <a:lnTo>
                    <a:pt x="1172" y="187"/>
                  </a:lnTo>
                  <a:lnTo>
                    <a:pt x="1178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2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0" y="251"/>
                  </a:lnTo>
                  <a:lnTo>
                    <a:pt x="1213" y="259"/>
                  </a:lnTo>
                  <a:lnTo>
                    <a:pt x="1215" y="267"/>
                  </a:lnTo>
                  <a:lnTo>
                    <a:pt x="1216" y="275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5"/>
                  </a:lnTo>
                  <a:lnTo>
                    <a:pt x="1219" y="305"/>
                  </a:lnTo>
                  <a:lnTo>
                    <a:pt x="1219" y="313"/>
                  </a:lnTo>
                  <a:lnTo>
                    <a:pt x="1219" y="321"/>
                  </a:lnTo>
                  <a:lnTo>
                    <a:pt x="1218" y="329"/>
                  </a:lnTo>
                  <a:lnTo>
                    <a:pt x="1216" y="337"/>
                  </a:lnTo>
                  <a:lnTo>
                    <a:pt x="1215" y="345"/>
                  </a:lnTo>
                  <a:lnTo>
                    <a:pt x="1213" y="351"/>
                  </a:lnTo>
                  <a:lnTo>
                    <a:pt x="1210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0" y="382"/>
                  </a:lnTo>
                  <a:lnTo>
                    <a:pt x="1197" y="389"/>
                  </a:lnTo>
                  <a:lnTo>
                    <a:pt x="1192" y="397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8" y="417"/>
                  </a:lnTo>
                  <a:lnTo>
                    <a:pt x="1172" y="424"/>
                  </a:lnTo>
                  <a:lnTo>
                    <a:pt x="1166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1"/>
                  </a:lnTo>
                  <a:lnTo>
                    <a:pt x="1139" y="458"/>
                  </a:lnTo>
                  <a:lnTo>
                    <a:pt x="1131" y="463"/>
                  </a:lnTo>
                  <a:lnTo>
                    <a:pt x="1123" y="470"/>
                  </a:lnTo>
                  <a:lnTo>
                    <a:pt x="1116" y="476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1" y="511"/>
                  </a:lnTo>
                  <a:lnTo>
                    <a:pt x="1041" y="521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4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1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2" y="607"/>
                  </a:lnTo>
                  <a:lnTo>
                    <a:pt x="672" y="609"/>
                  </a:lnTo>
                  <a:lnTo>
                    <a:pt x="641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7"/>
                  </a:lnTo>
                  <a:lnTo>
                    <a:pt x="487" y="604"/>
                  </a:lnTo>
                  <a:lnTo>
                    <a:pt x="457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6" y="581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1"/>
                  </a:lnTo>
                  <a:lnTo>
                    <a:pt x="159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1" y="458"/>
                  </a:lnTo>
                  <a:lnTo>
                    <a:pt x="74" y="451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4"/>
                  </a:lnTo>
                  <a:lnTo>
                    <a:pt x="43" y="417"/>
                  </a:lnTo>
                  <a:lnTo>
                    <a:pt x="37" y="410"/>
                  </a:lnTo>
                  <a:lnTo>
                    <a:pt x="33" y="403"/>
                  </a:lnTo>
                  <a:lnTo>
                    <a:pt x="28" y="397"/>
                  </a:lnTo>
                  <a:lnTo>
                    <a:pt x="24" y="389"/>
                  </a:lnTo>
                  <a:lnTo>
                    <a:pt x="19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5"/>
                  </a:lnTo>
                  <a:lnTo>
                    <a:pt x="4" y="337"/>
                  </a:lnTo>
                  <a:lnTo>
                    <a:pt x="2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0280" y="838080"/>
              <a:ext cx="1935360" cy="968400"/>
            </a:xfrm>
            <a:custGeom>
              <a:avLst/>
              <a:gdLst/>
              <a:ahLst/>
              <a:rect l="l" t="t" r="r" b="b"/>
              <a:pathLst>
                <a:path w="1219" h="610">
                  <a:moveTo>
                    <a:pt x="0" y="305"/>
                  </a:moveTo>
                  <a:lnTo>
                    <a:pt x="0" y="297"/>
                  </a:lnTo>
                  <a:lnTo>
                    <a:pt x="1" y="289"/>
                  </a:lnTo>
                  <a:lnTo>
                    <a:pt x="2" y="281"/>
                  </a:lnTo>
                  <a:lnTo>
                    <a:pt x="4" y="275"/>
                  </a:lnTo>
                  <a:lnTo>
                    <a:pt x="6" y="267"/>
                  </a:lnTo>
                  <a:lnTo>
                    <a:pt x="7" y="259"/>
                  </a:lnTo>
                  <a:lnTo>
                    <a:pt x="10" y="251"/>
                  </a:lnTo>
                  <a:lnTo>
                    <a:pt x="13" y="244"/>
                  </a:lnTo>
                  <a:lnTo>
                    <a:pt x="16" y="236"/>
                  </a:lnTo>
                  <a:lnTo>
                    <a:pt x="19" y="229"/>
                  </a:lnTo>
                  <a:lnTo>
                    <a:pt x="24" y="222"/>
                  </a:lnTo>
                  <a:lnTo>
                    <a:pt x="28" y="215"/>
                  </a:lnTo>
                  <a:lnTo>
                    <a:pt x="33" y="208"/>
                  </a:lnTo>
                  <a:lnTo>
                    <a:pt x="37" y="200"/>
                  </a:lnTo>
                  <a:lnTo>
                    <a:pt x="43" y="193"/>
                  </a:lnTo>
                  <a:lnTo>
                    <a:pt x="49" y="187"/>
                  </a:lnTo>
                  <a:lnTo>
                    <a:pt x="54" y="180"/>
                  </a:lnTo>
                  <a:lnTo>
                    <a:pt x="61" y="173"/>
                  </a:lnTo>
                  <a:lnTo>
                    <a:pt x="67" y="166"/>
                  </a:lnTo>
                  <a:lnTo>
                    <a:pt x="74" y="161"/>
                  </a:lnTo>
                  <a:lnTo>
                    <a:pt x="81" y="154"/>
                  </a:lnTo>
                  <a:lnTo>
                    <a:pt x="88" y="147"/>
                  </a:lnTo>
                  <a:lnTo>
                    <a:pt x="96" y="141"/>
                  </a:lnTo>
                  <a:lnTo>
                    <a:pt x="104" y="135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40" y="112"/>
                  </a:lnTo>
                  <a:lnTo>
                    <a:pt x="159" y="101"/>
                  </a:lnTo>
                  <a:lnTo>
                    <a:pt x="179" y="90"/>
                  </a:lnTo>
                  <a:lnTo>
                    <a:pt x="200" y="79"/>
                  </a:lnTo>
                  <a:lnTo>
                    <a:pt x="223" y="70"/>
                  </a:lnTo>
                  <a:lnTo>
                    <a:pt x="245" y="61"/>
                  </a:lnTo>
                  <a:lnTo>
                    <a:pt x="269" y="52"/>
                  </a:lnTo>
                  <a:lnTo>
                    <a:pt x="294" y="44"/>
                  </a:lnTo>
                  <a:lnTo>
                    <a:pt x="320" y="38"/>
                  </a:lnTo>
                  <a:lnTo>
                    <a:pt x="346" y="31"/>
                  </a:lnTo>
                  <a:lnTo>
                    <a:pt x="373" y="24"/>
                  </a:lnTo>
                  <a:lnTo>
                    <a:pt x="401" y="20"/>
                  </a:lnTo>
                  <a:lnTo>
                    <a:pt x="429" y="14"/>
                  </a:lnTo>
                  <a:lnTo>
                    <a:pt x="457" y="10"/>
                  </a:lnTo>
                  <a:lnTo>
                    <a:pt x="487" y="7"/>
                  </a:lnTo>
                  <a:lnTo>
                    <a:pt x="517" y="4"/>
                  </a:lnTo>
                  <a:lnTo>
                    <a:pt x="548" y="3"/>
                  </a:lnTo>
                  <a:lnTo>
                    <a:pt x="578" y="0"/>
                  </a:lnTo>
                  <a:lnTo>
                    <a:pt x="610" y="0"/>
                  </a:lnTo>
                  <a:lnTo>
                    <a:pt x="641" y="1"/>
                  </a:lnTo>
                  <a:lnTo>
                    <a:pt x="672" y="3"/>
                  </a:lnTo>
                  <a:lnTo>
                    <a:pt x="703" y="4"/>
                  </a:lnTo>
                  <a:lnTo>
                    <a:pt x="733" y="7"/>
                  </a:lnTo>
                  <a:lnTo>
                    <a:pt x="762" y="10"/>
                  </a:lnTo>
                  <a:lnTo>
                    <a:pt x="792" y="14"/>
                  </a:lnTo>
                  <a:lnTo>
                    <a:pt x="820" y="20"/>
                  </a:lnTo>
                  <a:lnTo>
                    <a:pt x="847" y="24"/>
                  </a:lnTo>
                  <a:lnTo>
                    <a:pt x="874" y="31"/>
                  </a:lnTo>
                  <a:lnTo>
                    <a:pt x="901" y="38"/>
                  </a:lnTo>
                  <a:lnTo>
                    <a:pt x="926" y="44"/>
                  </a:lnTo>
                  <a:lnTo>
                    <a:pt x="951" y="52"/>
                  </a:lnTo>
                  <a:lnTo>
                    <a:pt x="974" y="61"/>
                  </a:lnTo>
                  <a:lnTo>
                    <a:pt x="998" y="70"/>
                  </a:lnTo>
                  <a:lnTo>
                    <a:pt x="1020" y="79"/>
                  </a:lnTo>
                  <a:lnTo>
                    <a:pt x="1041" y="90"/>
                  </a:lnTo>
                  <a:lnTo>
                    <a:pt x="1061" y="101"/>
                  </a:lnTo>
                  <a:lnTo>
                    <a:pt x="1081" y="112"/>
                  </a:lnTo>
                  <a:lnTo>
                    <a:pt x="1099" y="123"/>
                  </a:lnTo>
                  <a:lnTo>
                    <a:pt x="1108" y="129"/>
                  </a:lnTo>
                  <a:lnTo>
                    <a:pt x="1116" y="135"/>
                  </a:lnTo>
                  <a:lnTo>
                    <a:pt x="1123" y="141"/>
                  </a:lnTo>
                  <a:lnTo>
                    <a:pt x="1131" y="147"/>
                  </a:lnTo>
                  <a:lnTo>
                    <a:pt x="1139" y="154"/>
                  </a:lnTo>
                  <a:lnTo>
                    <a:pt x="1146" y="161"/>
                  </a:lnTo>
                  <a:lnTo>
                    <a:pt x="1153" y="166"/>
                  </a:lnTo>
                  <a:lnTo>
                    <a:pt x="1160" y="173"/>
                  </a:lnTo>
                  <a:lnTo>
                    <a:pt x="1166" y="180"/>
                  </a:lnTo>
                  <a:lnTo>
                    <a:pt x="1172" y="187"/>
                  </a:lnTo>
                  <a:lnTo>
                    <a:pt x="1178" y="193"/>
                  </a:lnTo>
                  <a:lnTo>
                    <a:pt x="1183" y="200"/>
                  </a:lnTo>
                  <a:lnTo>
                    <a:pt x="1188" y="208"/>
                  </a:lnTo>
                  <a:lnTo>
                    <a:pt x="1192" y="215"/>
                  </a:lnTo>
                  <a:lnTo>
                    <a:pt x="1197" y="222"/>
                  </a:lnTo>
                  <a:lnTo>
                    <a:pt x="1200" y="229"/>
                  </a:lnTo>
                  <a:lnTo>
                    <a:pt x="1204" y="236"/>
                  </a:lnTo>
                  <a:lnTo>
                    <a:pt x="1207" y="244"/>
                  </a:lnTo>
                  <a:lnTo>
                    <a:pt x="1210" y="251"/>
                  </a:lnTo>
                  <a:lnTo>
                    <a:pt x="1213" y="259"/>
                  </a:lnTo>
                  <a:lnTo>
                    <a:pt x="1215" y="267"/>
                  </a:lnTo>
                  <a:lnTo>
                    <a:pt x="1216" y="275"/>
                  </a:lnTo>
                  <a:lnTo>
                    <a:pt x="1218" y="281"/>
                  </a:lnTo>
                  <a:lnTo>
                    <a:pt x="1219" y="289"/>
                  </a:lnTo>
                  <a:lnTo>
                    <a:pt x="1219" y="297"/>
                  </a:lnTo>
                  <a:lnTo>
                    <a:pt x="1219" y="305"/>
                  </a:lnTo>
                  <a:lnTo>
                    <a:pt x="1219" y="305"/>
                  </a:lnTo>
                  <a:lnTo>
                    <a:pt x="1219" y="313"/>
                  </a:lnTo>
                  <a:lnTo>
                    <a:pt x="1219" y="321"/>
                  </a:lnTo>
                  <a:lnTo>
                    <a:pt x="1218" y="329"/>
                  </a:lnTo>
                  <a:lnTo>
                    <a:pt x="1216" y="337"/>
                  </a:lnTo>
                  <a:lnTo>
                    <a:pt x="1215" y="345"/>
                  </a:lnTo>
                  <a:lnTo>
                    <a:pt x="1213" y="351"/>
                  </a:lnTo>
                  <a:lnTo>
                    <a:pt x="1210" y="359"/>
                  </a:lnTo>
                  <a:lnTo>
                    <a:pt x="1207" y="367"/>
                  </a:lnTo>
                  <a:lnTo>
                    <a:pt x="1204" y="374"/>
                  </a:lnTo>
                  <a:lnTo>
                    <a:pt x="1200" y="382"/>
                  </a:lnTo>
                  <a:lnTo>
                    <a:pt x="1197" y="389"/>
                  </a:lnTo>
                  <a:lnTo>
                    <a:pt x="1192" y="397"/>
                  </a:lnTo>
                  <a:lnTo>
                    <a:pt x="1188" y="403"/>
                  </a:lnTo>
                  <a:lnTo>
                    <a:pt x="1183" y="410"/>
                  </a:lnTo>
                  <a:lnTo>
                    <a:pt x="1178" y="417"/>
                  </a:lnTo>
                  <a:lnTo>
                    <a:pt x="1172" y="424"/>
                  </a:lnTo>
                  <a:lnTo>
                    <a:pt x="1166" y="430"/>
                  </a:lnTo>
                  <a:lnTo>
                    <a:pt x="1160" y="437"/>
                  </a:lnTo>
                  <a:lnTo>
                    <a:pt x="1153" y="444"/>
                  </a:lnTo>
                  <a:lnTo>
                    <a:pt x="1146" y="451"/>
                  </a:lnTo>
                  <a:lnTo>
                    <a:pt x="1139" y="458"/>
                  </a:lnTo>
                  <a:lnTo>
                    <a:pt x="1131" y="463"/>
                  </a:lnTo>
                  <a:lnTo>
                    <a:pt x="1123" y="470"/>
                  </a:lnTo>
                  <a:lnTo>
                    <a:pt x="1116" y="476"/>
                  </a:lnTo>
                  <a:lnTo>
                    <a:pt x="1108" y="482"/>
                  </a:lnTo>
                  <a:lnTo>
                    <a:pt x="1099" y="488"/>
                  </a:lnTo>
                  <a:lnTo>
                    <a:pt x="1081" y="499"/>
                  </a:lnTo>
                  <a:lnTo>
                    <a:pt x="1061" y="511"/>
                  </a:lnTo>
                  <a:lnTo>
                    <a:pt x="1041" y="521"/>
                  </a:lnTo>
                  <a:lnTo>
                    <a:pt x="1020" y="531"/>
                  </a:lnTo>
                  <a:lnTo>
                    <a:pt x="998" y="541"/>
                  </a:lnTo>
                  <a:lnTo>
                    <a:pt x="974" y="550"/>
                  </a:lnTo>
                  <a:lnTo>
                    <a:pt x="951" y="558"/>
                  </a:lnTo>
                  <a:lnTo>
                    <a:pt x="926" y="566"/>
                  </a:lnTo>
                  <a:lnTo>
                    <a:pt x="901" y="574"/>
                  </a:lnTo>
                  <a:lnTo>
                    <a:pt x="874" y="581"/>
                  </a:lnTo>
                  <a:lnTo>
                    <a:pt x="847" y="586"/>
                  </a:lnTo>
                  <a:lnTo>
                    <a:pt x="820" y="592"/>
                  </a:lnTo>
                  <a:lnTo>
                    <a:pt x="792" y="596"/>
                  </a:lnTo>
                  <a:lnTo>
                    <a:pt x="762" y="601"/>
                  </a:lnTo>
                  <a:lnTo>
                    <a:pt x="733" y="604"/>
                  </a:lnTo>
                  <a:lnTo>
                    <a:pt x="702" y="607"/>
                  </a:lnTo>
                  <a:lnTo>
                    <a:pt x="672" y="609"/>
                  </a:lnTo>
                  <a:lnTo>
                    <a:pt x="641" y="610"/>
                  </a:lnTo>
                  <a:lnTo>
                    <a:pt x="610" y="610"/>
                  </a:lnTo>
                  <a:lnTo>
                    <a:pt x="578" y="610"/>
                  </a:lnTo>
                  <a:lnTo>
                    <a:pt x="548" y="609"/>
                  </a:lnTo>
                  <a:lnTo>
                    <a:pt x="517" y="607"/>
                  </a:lnTo>
                  <a:lnTo>
                    <a:pt x="487" y="604"/>
                  </a:lnTo>
                  <a:lnTo>
                    <a:pt x="457" y="601"/>
                  </a:lnTo>
                  <a:lnTo>
                    <a:pt x="429" y="596"/>
                  </a:lnTo>
                  <a:lnTo>
                    <a:pt x="401" y="592"/>
                  </a:lnTo>
                  <a:lnTo>
                    <a:pt x="373" y="586"/>
                  </a:lnTo>
                  <a:lnTo>
                    <a:pt x="346" y="581"/>
                  </a:lnTo>
                  <a:lnTo>
                    <a:pt x="320" y="574"/>
                  </a:lnTo>
                  <a:lnTo>
                    <a:pt x="294" y="566"/>
                  </a:lnTo>
                  <a:lnTo>
                    <a:pt x="269" y="558"/>
                  </a:lnTo>
                  <a:lnTo>
                    <a:pt x="245" y="550"/>
                  </a:lnTo>
                  <a:lnTo>
                    <a:pt x="223" y="541"/>
                  </a:lnTo>
                  <a:lnTo>
                    <a:pt x="200" y="531"/>
                  </a:lnTo>
                  <a:lnTo>
                    <a:pt x="179" y="521"/>
                  </a:lnTo>
                  <a:lnTo>
                    <a:pt x="159" y="511"/>
                  </a:lnTo>
                  <a:lnTo>
                    <a:pt x="140" y="499"/>
                  </a:lnTo>
                  <a:lnTo>
                    <a:pt x="122" y="488"/>
                  </a:lnTo>
                  <a:lnTo>
                    <a:pt x="113" y="482"/>
                  </a:lnTo>
                  <a:lnTo>
                    <a:pt x="104" y="476"/>
                  </a:lnTo>
                  <a:lnTo>
                    <a:pt x="96" y="470"/>
                  </a:lnTo>
                  <a:lnTo>
                    <a:pt x="88" y="463"/>
                  </a:lnTo>
                  <a:lnTo>
                    <a:pt x="81" y="458"/>
                  </a:lnTo>
                  <a:lnTo>
                    <a:pt x="74" y="451"/>
                  </a:lnTo>
                  <a:lnTo>
                    <a:pt x="67" y="444"/>
                  </a:lnTo>
                  <a:lnTo>
                    <a:pt x="61" y="437"/>
                  </a:lnTo>
                  <a:lnTo>
                    <a:pt x="54" y="430"/>
                  </a:lnTo>
                  <a:lnTo>
                    <a:pt x="49" y="424"/>
                  </a:lnTo>
                  <a:lnTo>
                    <a:pt x="43" y="417"/>
                  </a:lnTo>
                  <a:lnTo>
                    <a:pt x="37" y="410"/>
                  </a:lnTo>
                  <a:lnTo>
                    <a:pt x="33" y="403"/>
                  </a:lnTo>
                  <a:lnTo>
                    <a:pt x="28" y="397"/>
                  </a:lnTo>
                  <a:lnTo>
                    <a:pt x="24" y="389"/>
                  </a:lnTo>
                  <a:lnTo>
                    <a:pt x="19" y="382"/>
                  </a:lnTo>
                  <a:lnTo>
                    <a:pt x="16" y="374"/>
                  </a:lnTo>
                  <a:lnTo>
                    <a:pt x="13" y="367"/>
                  </a:lnTo>
                  <a:lnTo>
                    <a:pt x="10" y="359"/>
                  </a:lnTo>
                  <a:lnTo>
                    <a:pt x="7" y="351"/>
                  </a:lnTo>
                  <a:lnTo>
                    <a:pt x="6" y="345"/>
                  </a:lnTo>
                  <a:lnTo>
                    <a:pt x="4" y="337"/>
                  </a:lnTo>
                  <a:lnTo>
                    <a:pt x="2" y="329"/>
                  </a:lnTo>
                  <a:lnTo>
                    <a:pt x="1" y="321"/>
                  </a:lnTo>
                  <a:lnTo>
                    <a:pt x="0" y="313"/>
                  </a:lnTo>
                  <a:lnTo>
                    <a:pt x="0" y="30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3680" y="120780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OO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01160" y="120780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39320" y="120780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1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Topics and skills covered in the book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86728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ook illustrates this in the context of long-running case studies that evolve over several it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73F-3523-4D5A-913C-D12FEDFB9D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2000" y="1579680"/>
            <a:ext cx="152568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2000" y="1579680"/>
            <a:ext cx="1525680" cy="4474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3880" y="2027160"/>
            <a:ext cx="15242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3880" y="2027160"/>
            <a:ext cx="1524240" cy="446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4680" y="2473200"/>
            <a:ext cx="1817640" cy="727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Implementat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on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&amp; Test&amp;Integration&amp;More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960" y="3373560"/>
            <a:ext cx="15238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00400"/>
            <a:ext cx="1752480" cy="5335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Final Integration &amp;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486320"/>
            <a:ext cx="2095560" cy="446040"/>
          </a:xfrm>
          <a:custGeom>
            <a:avLst/>
            <a:gdLst/>
            <a:ahLst/>
            <a:rect l="l" t="t" r="r" b="b"/>
            <a:pathLst>
              <a:path w="2462" h="250">
                <a:moveTo>
                  <a:pt x="0" y="0"/>
                </a:moveTo>
                <a:lnTo>
                  <a:pt x="0" y="6"/>
                </a:lnTo>
                <a:lnTo>
                  <a:pt x="1" y="13"/>
                </a:lnTo>
                <a:lnTo>
                  <a:pt x="3" y="19"/>
                </a:lnTo>
                <a:lnTo>
                  <a:pt x="5" y="25"/>
                </a:lnTo>
                <a:lnTo>
                  <a:pt x="7" y="31"/>
                </a:lnTo>
                <a:lnTo>
                  <a:pt x="11" y="37"/>
                </a:lnTo>
                <a:lnTo>
                  <a:pt x="15" y="43"/>
                </a:lnTo>
                <a:lnTo>
                  <a:pt x="18" y="49"/>
                </a:lnTo>
                <a:lnTo>
                  <a:pt x="22" y="54"/>
                </a:lnTo>
                <a:lnTo>
                  <a:pt x="28" y="59"/>
                </a:lnTo>
                <a:lnTo>
                  <a:pt x="39" y="70"/>
                </a:lnTo>
                <a:lnTo>
                  <a:pt x="52" y="79"/>
                </a:lnTo>
                <a:lnTo>
                  <a:pt x="65" y="89"/>
                </a:lnTo>
                <a:lnTo>
                  <a:pt x="82" y="96"/>
                </a:lnTo>
                <a:lnTo>
                  <a:pt x="98" y="103"/>
                </a:lnTo>
                <a:lnTo>
                  <a:pt x="117" y="110"/>
                </a:lnTo>
                <a:lnTo>
                  <a:pt x="126" y="113"/>
                </a:lnTo>
                <a:lnTo>
                  <a:pt x="138" y="115"/>
                </a:lnTo>
                <a:lnTo>
                  <a:pt x="147" y="117"/>
                </a:lnTo>
                <a:lnTo>
                  <a:pt x="158" y="119"/>
                </a:lnTo>
                <a:lnTo>
                  <a:pt x="168" y="121"/>
                </a:lnTo>
                <a:lnTo>
                  <a:pt x="179" y="122"/>
                </a:lnTo>
                <a:lnTo>
                  <a:pt x="190" y="123"/>
                </a:lnTo>
                <a:lnTo>
                  <a:pt x="201" y="124"/>
                </a:lnTo>
                <a:lnTo>
                  <a:pt x="212" y="125"/>
                </a:lnTo>
                <a:lnTo>
                  <a:pt x="223" y="125"/>
                </a:lnTo>
                <a:lnTo>
                  <a:pt x="223" y="125"/>
                </a:lnTo>
                <a:lnTo>
                  <a:pt x="223" y="125"/>
                </a:lnTo>
                <a:lnTo>
                  <a:pt x="1007" y="125"/>
                </a:lnTo>
                <a:lnTo>
                  <a:pt x="1018" y="125"/>
                </a:lnTo>
                <a:lnTo>
                  <a:pt x="1031" y="125"/>
                </a:lnTo>
                <a:lnTo>
                  <a:pt x="1043" y="126"/>
                </a:lnTo>
                <a:lnTo>
                  <a:pt x="1052" y="127"/>
                </a:lnTo>
                <a:lnTo>
                  <a:pt x="1063" y="129"/>
                </a:lnTo>
                <a:lnTo>
                  <a:pt x="1074" y="130"/>
                </a:lnTo>
                <a:lnTo>
                  <a:pt x="1085" y="132"/>
                </a:lnTo>
                <a:lnTo>
                  <a:pt x="1095" y="135"/>
                </a:lnTo>
                <a:lnTo>
                  <a:pt x="1104" y="138"/>
                </a:lnTo>
                <a:lnTo>
                  <a:pt x="1113" y="140"/>
                </a:lnTo>
                <a:lnTo>
                  <a:pt x="1132" y="146"/>
                </a:lnTo>
                <a:lnTo>
                  <a:pt x="1151" y="153"/>
                </a:lnTo>
                <a:lnTo>
                  <a:pt x="1166" y="162"/>
                </a:lnTo>
                <a:lnTo>
                  <a:pt x="1181" y="170"/>
                </a:lnTo>
                <a:lnTo>
                  <a:pt x="1194" y="180"/>
                </a:lnTo>
                <a:lnTo>
                  <a:pt x="1205" y="191"/>
                </a:lnTo>
                <a:lnTo>
                  <a:pt x="1209" y="196"/>
                </a:lnTo>
                <a:lnTo>
                  <a:pt x="1214" y="201"/>
                </a:lnTo>
                <a:lnTo>
                  <a:pt x="1218" y="207"/>
                </a:lnTo>
                <a:lnTo>
                  <a:pt x="1222" y="213"/>
                </a:lnTo>
                <a:lnTo>
                  <a:pt x="1224" y="219"/>
                </a:lnTo>
                <a:lnTo>
                  <a:pt x="1227" y="225"/>
                </a:lnTo>
                <a:lnTo>
                  <a:pt x="1229" y="231"/>
                </a:lnTo>
                <a:lnTo>
                  <a:pt x="1231" y="238"/>
                </a:lnTo>
                <a:lnTo>
                  <a:pt x="1231" y="244"/>
                </a:lnTo>
                <a:lnTo>
                  <a:pt x="1231" y="250"/>
                </a:lnTo>
                <a:lnTo>
                  <a:pt x="1231" y="250"/>
                </a:lnTo>
                <a:lnTo>
                  <a:pt x="1231" y="244"/>
                </a:lnTo>
                <a:lnTo>
                  <a:pt x="1233" y="238"/>
                </a:lnTo>
                <a:lnTo>
                  <a:pt x="1235" y="231"/>
                </a:lnTo>
                <a:lnTo>
                  <a:pt x="1237" y="225"/>
                </a:lnTo>
                <a:lnTo>
                  <a:pt x="1238" y="219"/>
                </a:lnTo>
                <a:lnTo>
                  <a:pt x="1242" y="213"/>
                </a:lnTo>
                <a:lnTo>
                  <a:pt x="1246" y="207"/>
                </a:lnTo>
                <a:lnTo>
                  <a:pt x="1250" y="201"/>
                </a:lnTo>
                <a:lnTo>
                  <a:pt x="1253" y="196"/>
                </a:lnTo>
                <a:lnTo>
                  <a:pt x="1259" y="191"/>
                </a:lnTo>
                <a:lnTo>
                  <a:pt x="1270" y="180"/>
                </a:lnTo>
                <a:lnTo>
                  <a:pt x="1283" y="170"/>
                </a:lnTo>
                <a:lnTo>
                  <a:pt x="1296" y="162"/>
                </a:lnTo>
                <a:lnTo>
                  <a:pt x="1313" y="153"/>
                </a:lnTo>
                <a:lnTo>
                  <a:pt x="1330" y="146"/>
                </a:lnTo>
                <a:lnTo>
                  <a:pt x="1349" y="140"/>
                </a:lnTo>
                <a:lnTo>
                  <a:pt x="1358" y="138"/>
                </a:lnTo>
                <a:lnTo>
                  <a:pt x="1369" y="135"/>
                </a:lnTo>
                <a:lnTo>
                  <a:pt x="1378" y="132"/>
                </a:lnTo>
                <a:lnTo>
                  <a:pt x="1390" y="130"/>
                </a:lnTo>
                <a:lnTo>
                  <a:pt x="1399" y="129"/>
                </a:lnTo>
                <a:lnTo>
                  <a:pt x="1410" y="127"/>
                </a:lnTo>
                <a:lnTo>
                  <a:pt x="1421" y="126"/>
                </a:lnTo>
                <a:lnTo>
                  <a:pt x="1432" y="125"/>
                </a:lnTo>
                <a:lnTo>
                  <a:pt x="1444" y="125"/>
                </a:lnTo>
                <a:lnTo>
                  <a:pt x="1455" y="125"/>
                </a:lnTo>
                <a:lnTo>
                  <a:pt x="1455" y="125"/>
                </a:lnTo>
                <a:lnTo>
                  <a:pt x="1455" y="125"/>
                </a:lnTo>
                <a:lnTo>
                  <a:pt x="2238" y="125"/>
                </a:lnTo>
                <a:lnTo>
                  <a:pt x="2250" y="125"/>
                </a:lnTo>
                <a:lnTo>
                  <a:pt x="2263" y="124"/>
                </a:lnTo>
                <a:lnTo>
                  <a:pt x="2274" y="123"/>
                </a:lnTo>
                <a:lnTo>
                  <a:pt x="2283" y="122"/>
                </a:lnTo>
                <a:lnTo>
                  <a:pt x="2294" y="121"/>
                </a:lnTo>
                <a:lnTo>
                  <a:pt x="2306" y="119"/>
                </a:lnTo>
                <a:lnTo>
                  <a:pt x="2317" y="117"/>
                </a:lnTo>
                <a:lnTo>
                  <a:pt x="2326" y="115"/>
                </a:lnTo>
                <a:lnTo>
                  <a:pt x="2336" y="113"/>
                </a:lnTo>
                <a:lnTo>
                  <a:pt x="2345" y="110"/>
                </a:lnTo>
                <a:lnTo>
                  <a:pt x="2363" y="103"/>
                </a:lnTo>
                <a:lnTo>
                  <a:pt x="2382" y="96"/>
                </a:lnTo>
                <a:lnTo>
                  <a:pt x="2397" y="89"/>
                </a:lnTo>
                <a:lnTo>
                  <a:pt x="2412" y="79"/>
                </a:lnTo>
                <a:lnTo>
                  <a:pt x="2425" y="70"/>
                </a:lnTo>
                <a:lnTo>
                  <a:pt x="2436" y="59"/>
                </a:lnTo>
                <a:lnTo>
                  <a:pt x="2440" y="54"/>
                </a:lnTo>
                <a:lnTo>
                  <a:pt x="2446" y="49"/>
                </a:lnTo>
                <a:lnTo>
                  <a:pt x="2449" y="43"/>
                </a:lnTo>
                <a:lnTo>
                  <a:pt x="2453" y="37"/>
                </a:lnTo>
                <a:lnTo>
                  <a:pt x="2455" y="31"/>
                </a:lnTo>
                <a:lnTo>
                  <a:pt x="2459" y="25"/>
                </a:lnTo>
                <a:lnTo>
                  <a:pt x="2461" y="19"/>
                </a:lnTo>
                <a:lnTo>
                  <a:pt x="2462" y="13"/>
                </a:lnTo>
                <a:lnTo>
                  <a:pt x="2462" y="6"/>
                </a:lnTo>
                <a:lnTo>
                  <a:pt x="2462" y="0"/>
                </a:lnTo>
                <a:lnTo>
                  <a:pt x="246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8160" y="503244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00" y="503244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wee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46320" y="5032440"/>
            <a:ext cx="6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03560" y="5032440"/>
            <a:ext cx="113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for example</a:t>
            </a:r>
            <a:r>
              <a:rPr b="1" lang="tr-TR" sz="14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4043520"/>
            <a:ext cx="190440" cy="22356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0" y="63"/>
                </a:moveTo>
                <a:lnTo>
                  <a:pt x="2" y="56"/>
                </a:lnTo>
                <a:lnTo>
                  <a:pt x="2" y="50"/>
                </a:lnTo>
                <a:lnTo>
                  <a:pt x="6" y="44"/>
                </a:lnTo>
                <a:lnTo>
                  <a:pt x="9" y="39"/>
                </a:lnTo>
                <a:lnTo>
                  <a:pt x="15" y="33"/>
                </a:lnTo>
                <a:lnTo>
                  <a:pt x="21" y="28"/>
                </a:lnTo>
                <a:lnTo>
                  <a:pt x="26" y="23"/>
                </a:lnTo>
                <a:lnTo>
                  <a:pt x="34" y="19"/>
                </a:lnTo>
                <a:lnTo>
                  <a:pt x="41" y="15"/>
                </a:lnTo>
                <a:lnTo>
                  <a:pt x="50" y="12"/>
                </a:lnTo>
                <a:lnTo>
                  <a:pt x="60" y="8"/>
                </a:lnTo>
                <a:lnTo>
                  <a:pt x="69" y="5"/>
                </a:lnTo>
                <a:lnTo>
                  <a:pt x="78" y="3"/>
                </a:lnTo>
                <a:lnTo>
                  <a:pt x="90" y="1"/>
                </a:lnTo>
                <a:lnTo>
                  <a:pt x="101" y="1"/>
                </a:lnTo>
                <a:lnTo>
                  <a:pt x="112" y="0"/>
                </a:lnTo>
                <a:lnTo>
                  <a:pt x="123" y="1"/>
                </a:lnTo>
                <a:lnTo>
                  <a:pt x="134" y="1"/>
                </a:lnTo>
                <a:lnTo>
                  <a:pt x="146" y="3"/>
                </a:lnTo>
                <a:lnTo>
                  <a:pt x="157" y="5"/>
                </a:lnTo>
                <a:lnTo>
                  <a:pt x="166" y="8"/>
                </a:lnTo>
                <a:lnTo>
                  <a:pt x="175" y="12"/>
                </a:lnTo>
                <a:lnTo>
                  <a:pt x="183" y="15"/>
                </a:lnTo>
                <a:lnTo>
                  <a:pt x="192" y="19"/>
                </a:lnTo>
                <a:lnTo>
                  <a:pt x="200" y="23"/>
                </a:lnTo>
                <a:lnTo>
                  <a:pt x="205" y="28"/>
                </a:lnTo>
                <a:lnTo>
                  <a:pt x="211" y="33"/>
                </a:lnTo>
                <a:lnTo>
                  <a:pt x="216" y="39"/>
                </a:lnTo>
                <a:lnTo>
                  <a:pt x="220" y="44"/>
                </a:lnTo>
                <a:lnTo>
                  <a:pt x="222" y="50"/>
                </a:lnTo>
                <a:lnTo>
                  <a:pt x="224" y="56"/>
                </a:lnTo>
                <a:lnTo>
                  <a:pt x="224" y="63"/>
                </a:lnTo>
                <a:lnTo>
                  <a:pt x="224" y="63"/>
                </a:lnTo>
                <a:lnTo>
                  <a:pt x="224" y="69"/>
                </a:lnTo>
                <a:lnTo>
                  <a:pt x="222" y="75"/>
                </a:lnTo>
                <a:lnTo>
                  <a:pt x="220" y="81"/>
                </a:lnTo>
                <a:lnTo>
                  <a:pt x="216" y="88"/>
                </a:lnTo>
                <a:lnTo>
                  <a:pt x="211" y="93"/>
                </a:lnTo>
                <a:lnTo>
                  <a:pt x="205" y="98"/>
                </a:lnTo>
                <a:lnTo>
                  <a:pt x="200" y="102"/>
                </a:lnTo>
                <a:lnTo>
                  <a:pt x="192" y="107"/>
                </a:lnTo>
                <a:lnTo>
                  <a:pt x="183" y="112"/>
                </a:lnTo>
                <a:lnTo>
                  <a:pt x="175" y="115"/>
                </a:lnTo>
                <a:lnTo>
                  <a:pt x="166" y="118"/>
                </a:lnTo>
                <a:lnTo>
                  <a:pt x="157" y="121"/>
                </a:lnTo>
                <a:lnTo>
                  <a:pt x="146" y="123"/>
                </a:lnTo>
                <a:lnTo>
                  <a:pt x="134" y="124"/>
                </a:lnTo>
                <a:lnTo>
                  <a:pt x="123" y="125"/>
                </a:lnTo>
                <a:lnTo>
                  <a:pt x="112" y="125"/>
                </a:lnTo>
                <a:lnTo>
                  <a:pt x="101" y="125"/>
                </a:lnTo>
                <a:lnTo>
                  <a:pt x="90" y="124"/>
                </a:lnTo>
                <a:lnTo>
                  <a:pt x="78" y="123"/>
                </a:lnTo>
                <a:lnTo>
                  <a:pt x="69" y="121"/>
                </a:lnTo>
                <a:lnTo>
                  <a:pt x="60" y="118"/>
                </a:lnTo>
                <a:lnTo>
                  <a:pt x="50" y="115"/>
                </a:lnTo>
                <a:lnTo>
                  <a:pt x="41" y="112"/>
                </a:lnTo>
                <a:lnTo>
                  <a:pt x="34" y="107"/>
                </a:lnTo>
                <a:lnTo>
                  <a:pt x="26" y="102"/>
                </a:lnTo>
                <a:lnTo>
                  <a:pt x="21" y="98"/>
                </a:lnTo>
                <a:lnTo>
                  <a:pt x="15" y="93"/>
                </a:lnTo>
                <a:lnTo>
                  <a:pt x="9" y="88"/>
                </a:lnTo>
                <a:lnTo>
                  <a:pt x="6" y="81"/>
                </a:lnTo>
                <a:lnTo>
                  <a:pt x="2" y="75"/>
                </a:lnTo>
                <a:lnTo>
                  <a:pt x="2" y="69"/>
                </a:lnTo>
                <a:lnTo>
                  <a:pt x="0" y="63"/>
                </a:lnTo>
              </a:path>
            </a:pathLst>
          </a:custGeom>
          <a:solidFill>
            <a:srgbClr val="cccc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1080" y="5160960"/>
            <a:ext cx="1714320" cy="78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The system grows increment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1080" y="5160960"/>
            <a:ext cx="1714320" cy="782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5760" y="5551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70264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0" y="0"/>
                </a:moveTo>
                <a:lnTo>
                  <a:pt x="250" y="141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0264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0" y="0"/>
                </a:moveTo>
                <a:lnTo>
                  <a:pt x="250" y="141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70264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250" y="141"/>
                </a:moveTo>
                <a:lnTo>
                  <a:pt x="0" y="0"/>
                </a:lnTo>
                <a:lnTo>
                  <a:pt x="0" y="141"/>
                </a:lnTo>
                <a:lnTo>
                  <a:pt x="250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0264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250" y="141"/>
                </a:moveTo>
                <a:lnTo>
                  <a:pt x="0" y="0"/>
                </a:lnTo>
                <a:lnTo>
                  <a:pt x="0" y="141"/>
                </a:lnTo>
                <a:lnTo>
                  <a:pt x="250" y="141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66080" y="4381560"/>
            <a:ext cx="995400" cy="784080"/>
          </a:xfrm>
          <a:custGeom>
            <a:avLst/>
            <a:gdLst/>
            <a:ahLst/>
            <a:rect l="l" t="t" r="r" b="b"/>
            <a:pathLst>
              <a:path w="1170" h="439">
                <a:moveTo>
                  <a:pt x="1164" y="437"/>
                </a:moveTo>
                <a:lnTo>
                  <a:pt x="1164" y="437"/>
                </a:lnTo>
                <a:lnTo>
                  <a:pt x="1164" y="437"/>
                </a:lnTo>
                <a:lnTo>
                  <a:pt x="1164" y="436"/>
                </a:lnTo>
                <a:lnTo>
                  <a:pt x="1166" y="435"/>
                </a:lnTo>
                <a:lnTo>
                  <a:pt x="1166" y="435"/>
                </a:lnTo>
                <a:lnTo>
                  <a:pt x="1168" y="435"/>
                </a:lnTo>
                <a:lnTo>
                  <a:pt x="1170" y="436"/>
                </a:lnTo>
                <a:lnTo>
                  <a:pt x="1170" y="436"/>
                </a:lnTo>
                <a:lnTo>
                  <a:pt x="1170" y="436"/>
                </a:lnTo>
                <a:lnTo>
                  <a:pt x="1170" y="437"/>
                </a:lnTo>
                <a:lnTo>
                  <a:pt x="1168" y="439"/>
                </a:lnTo>
                <a:lnTo>
                  <a:pt x="1168" y="439"/>
                </a:lnTo>
                <a:lnTo>
                  <a:pt x="1166" y="439"/>
                </a:lnTo>
                <a:lnTo>
                  <a:pt x="1164" y="437"/>
                </a:lnTo>
                <a:lnTo>
                  <a:pt x="1164" y="437"/>
                </a:lnTo>
                <a:close/>
                <a:moveTo>
                  <a:pt x="1151" y="423"/>
                </a:moveTo>
                <a:lnTo>
                  <a:pt x="1151" y="423"/>
                </a:lnTo>
                <a:lnTo>
                  <a:pt x="1149" y="423"/>
                </a:lnTo>
                <a:lnTo>
                  <a:pt x="1149" y="422"/>
                </a:lnTo>
                <a:lnTo>
                  <a:pt x="1151" y="421"/>
                </a:lnTo>
                <a:lnTo>
                  <a:pt x="1153" y="421"/>
                </a:lnTo>
                <a:lnTo>
                  <a:pt x="1155" y="421"/>
                </a:lnTo>
                <a:lnTo>
                  <a:pt x="1155" y="421"/>
                </a:lnTo>
                <a:lnTo>
                  <a:pt x="1155" y="421"/>
                </a:lnTo>
                <a:lnTo>
                  <a:pt x="1157" y="422"/>
                </a:lnTo>
                <a:lnTo>
                  <a:pt x="1155" y="422"/>
                </a:lnTo>
                <a:lnTo>
                  <a:pt x="1155" y="424"/>
                </a:lnTo>
                <a:lnTo>
                  <a:pt x="1153" y="424"/>
                </a:lnTo>
                <a:lnTo>
                  <a:pt x="1153" y="424"/>
                </a:lnTo>
                <a:lnTo>
                  <a:pt x="1151" y="423"/>
                </a:lnTo>
                <a:lnTo>
                  <a:pt x="1151" y="423"/>
                </a:lnTo>
                <a:close/>
                <a:moveTo>
                  <a:pt x="1136" y="408"/>
                </a:moveTo>
                <a:lnTo>
                  <a:pt x="1136" y="408"/>
                </a:lnTo>
                <a:lnTo>
                  <a:pt x="1136" y="408"/>
                </a:lnTo>
                <a:lnTo>
                  <a:pt x="1136" y="407"/>
                </a:lnTo>
                <a:lnTo>
                  <a:pt x="1136" y="406"/>
                </a:lnTo>
                <a:lnTo>
                  <a:pt x="1138" y="406"/>
                </a:lnTo>
                <a:lnTo>
                  <a:pt x="1140" y="406"/>
                </a:lnTo>
                <a:lnTo>
                  <a:pt x="1142" y="406"/>
                </a:lnTo>
                <a:lnTo>
                  <a:pt x="1142" y="406"/>
                </a:lnTo>
                <a:lnTo>
                  <a:pt x="1142" y="407"/>
                </a:lnTo>
                <a:lnTo>
                  <a:pt x="1142" y="407"/>
                </a:lnTo>
                <a:lnTo>
                  <a:pt x="1140" y="409"/>
                </a:lnTo>
                <a:lnTo>
                  <a:pt x="1138" y="409"/>
                </a:lnTo>
                <a:lnTo>
                  <a:pt x="1138" y="409"/>
                </a:lnTo>
                <a:lnTo>
                  <a:pt x="1136" y="408"/>
                </a:lnTo>
                <a:lnTo>
                  <a:pt x="1136" y="408"/>
                </a:lnTo>
                <a:close/>
                <a:moveTo>
                  <a:pt x="1121" y="394"/>
                </a:moveTo>
                <a:lnTo>
                  <a:pt x="1121" y="394"/>
                </a:lnTo>
                <a:lnTo>
                  <a:pt x="1121" y="394"/>
                </a:lnTo>
                <a:lnTo>
                  <a:pt x="1121" y="393"/>
                </a:lnTo>
                <a:lnTo>
                  <a:pt x="1121" y="392"/>
                </a:lnTo>
                <a:lnTo>
                  <a:pt x="1123" y="392"/>
                </a:lnTo>
                <a:lnTo>
                  <a:pt x="1123" y="392"/>
                </a:lnTo>
                <a:lnTo>
                  <a:pt x="1127" y="393"/>
                </a:lnTo>
                <a:lnTo>
                  <a:pt x="1127" y="393"/>
                </a:lnTo>
                <a:lnTo>
                  <a:pt x="1127" y="393"/>
                </a:lnTo>
                <a:lnTo>
                  <a:pt x="1127" y="394"/>
                </a:lnTo>
                <a:lnTo>
                  <a:pt x="1125" y="395"/>
                </a:lnTo>
                <a:lnTo>
                  <a:pt x="1123" y="395"/>
                </a:lnTo>
                <a:lnTo>
                  <a:pt x="1123" y="395"/>
                </a:lnTo>
                <a:lnTo>
                  <a:pt x="1121" y="394"/>
                </a:lnTo>
                <a:lnTo>
                  <a:pt x="1121" y="394"/>
                </a:lnTo>
                <a:close/>
                <a:moveTo>
                  <a:pt x="1106" y="380"/>
                </a:moveTo>
                <a:lnTo>
                  <a:pt x="1106" y="380"/>
                </a:lnTo>
                <a:lnTo>
                  <a:pt x="1104" y="379"/>
                </a:lnTo>
                <a:lnTo>
                  <a:pt x="1104" y="378"/>
                </a:lnTo>
                <a:lnTo>
                  <a:pt x="1106" y="378"/>
                </a:lnTo>
                <a:lnTo>
                  <a:pt x="1108" y="377"/>
                </a:lnTo>
                <a:lnTo>
                  <a:pt x="1110" y="377"/>
                </a:lnTo>
                <a:lnTo>
                  <a:pt x="1110" y="378"/>
                </a:lnTo>
                <a:lnTo>
                  <a:pt x="1110" y="378"/>
                </a:lnTo>
                <a:lnTo>
                  <a:pt x="1110" y="378"/>
                </a:lnTo>
                <a:lnTo>
                  <a:pt x="1110" y="379"/>
                </a:lnTo>
                <a:lnTo>
                  <a:pt x="1110" y="380"/>
                </a:lnTo>
                <a:lnTo>
                  <a:pt x="1108" y="380"/>
                </a:lnTo>
                <a:lnTo>
                  <a:pt x="1106" y="380"/>
                </a:lnTo>
                <a:lnTo>
                  <a:pt x="1106" y="380"/>
                </a:lnTo>
                <a:lnTo>
                  <a:pt x="1106" y="380"/>
                </a:lnTo>
                <a:close/>
                <a:moveTo>
                  <a:pt x="1090" y="366"/>
                </a:moveTo>
                <a:lnTo>
                  <a:pt x="1090" y="366"/>
                </a:lnTo>
                <a:lnTo>
                  <a:pt x="1090" y="366"/>
                </a:lnTo>
                <a:lnTo>
                  <a:pt x="1090" y="365"/>
                </a:lnTo>
                <a:lnTo>
                  <a:pt x="1090" y="363"/>
                </a:lnTo>
                <a:lnTo>
                  <a:pt x="1091" y="363"/>
                </a:lnTo>
                <a:lnTo>
                  <a:pt x="1093" y="363"/>
                </a:lnTo>
                <a:lnTo>
                  <a:pt x="1095" y="363"/>
                </a:lnTo>
                <a:lnTo>
                  <a:pt x="1095" y="363"/>
                </a:lnTo>
                <a:lnTo>
                  <a:pt x="1095" y="365"/>
                </a:lnTo>
                <a:lnTo>
                  <a:pt x="1095" y="365"/>
                </a:lnTo>
                <a:lnTo>
                  <a:pt x="1093" y="367"/>
                </a:lnTo>
                <a:lnTo>
                  <a:pt x="1091" y="367"/>
                </a:lnTo>
                <a:lnTo>
                  <a:pt x="1090" y="367"/>
                </a:lnTo>
                <a:lnTo>
                  <a:pt x="1090" y="366"/>
                </a:lnTo>
                <a:lnTo>
                  <a:pt x="1090" y="366"/>
                </a:lnTo>
                <a:close/>
                <a:moveTo>
                  <a:pt x="1073" y="352"/>
                </a:moveTo>
                <a:lnTo>
                  <a:pt x="1073" y="352"/>
                </a:lnTo>
                <a:lnTo>
                  <a:pt x="1073" y="351"/>
                </a:lnTo>
                <a:lnTo>
                  <a:pt x="1073" y="351"/>
                </a:lnTo>
                <a:lnTo>
                  <a:pt x="1073" y="350"/>
                </a:lnTo>
                <a:lnTo>
                  <a:pt x="1075" y="349"/>
                </a:lnTo>
                <a:lnTo>
                  <a:pt x="1075" y="349"/>
                </a:lnTo>
                <a:lnTo>
                  <a:pt x="1078" y="350"/>
                </a:lnTo>
                <a:lnTo>
                  <a:pt x="1078" y="350"/>
                </a:lnTo>
                <a:lnTo>
                  <a:pt x="1078" y="351"/>
                </a:lnTo>
                <a:lnTo>
                  <a:pt x="1078" y="352"/>
                </a:lnTo>
                <a:lnTo>
                  <a:pt x="1076" y="352"/>
                </a:lnTo>
                <a:lnTo>
                  <a:pt x="1076" y="353"/>
                </a:lnTo>
                <a:lnTo>
                  <a:pt x="1075" y="352"/>
                </a:lnTo>
                <a:lnTo>
                  <a:pt x="1073" y="352"/>
                </a:lnTo>
                <a:lnTo>
                  <a:pt x="1073" y="352"/>
                </a:lnTo>
                <a:close/>
                <a:moveTo>
                  <a:pt x="1056" y="338"/>
                </a:moveTo>
                <a:lnTo>
                  <a:pt x="1056" y="338"/>
                </a:lnTo>
                <a:lnTo>
                  <a:pt x="1056" y="337"/>
                </a:lnTo>
                <a:lnTo>
                  <a:pt x="1056" y="337"/>
                </a:lnTo>
                <a:lnTo>
                  <a:pt x="1056" y="336"/>
                </a:lnTo>
                <a:lnTo>
                  <a:pt x="1058" y="335"/>
                </a:lnTo>
                <a:lnTo>
                  <a:pt x="1058" y="335"/>
                </a:lnTo>
                <a:lnTo>
                  <a:pt x="1062" y="336"/>
                </a:lnTo>
                <a:lnTo>
                  <a:pt x="1062" y="336"/>
                </a:lnTo>
                <a:lnTo>
                  <a:pt x="1062" y="336"/>
                </a:lnTo>
                <a:lnTo>
                  <a:pt x="1062" y="337"/>
                </a:lnTo>
                <a:lnTo>
                  <a:pt x="1060" y="338"/>
                </a:lnTo>
                <a:lnTo>
                  <a:pt x="1058" y="338"/>
                </a:lnTo>
                <a:lnTo>
                  <a:pt x="1056" y="338"/>
                </a:lnTo>
                <a:lnTo>
                  <a:pt x="1056" y="338"/>
                </a:lnTo>
                <a:lnTo>
                  <a:pt x="1056" y="338"/>
                </a:lnTo>
                <a:close/>
                <a:moveTo>
                  <a:pt x="1039" y="325"/>
                </a:moveTo>
                <a:lnTo>
                  <a:pt x="1039" y="325"/>
                </a:lnTo>
                <a:lnTo>
                  <a:pt x="1037" y="324"/>
                </a:lnTo>
                <a:lnTo>
                  <a:pt x="1037" y="323"/>
                </a:lnTo>
                <a:lnTo>
                  <a:pt x="1039" y="323"/>
                </a:lnTo>
                <a:lnTo>
                  <a:pt x="1039" y="322"/>
                </a:lnTo>
                <a:lnTo>
                  <a:pt x="1041" y="322"/>
                </a:lnTo>
                <a:lnTo>
                  <a:pt x="1043" y="323"/>
                </a:lnTo>
                <a:lnTo>
                  <a:pt x="1043" y="323"/>
                </a:lnTo>
                <a:lnTo>
                  <a:pt x="1043" y="324"/>
                </a:lnTo>
                <a:lnTo>
                  <a:pt x="1043" y="325"/>
                </a:lnTo>
                <a:lnTo>
                  <a:pt x="1043" y="325"/>
                </a:lnTo>
                <a:lnTo>
                  <a:pt x="1041" y="325"/>
                </a:lnTo>
                <a:lnTo>
                  <a:pt x="1041" y="325"/>
                </a:lnTo>
                <a:lnTo>
                  <a:pt x="1039" y="325"/>
                </a:lnTo>
                <a:lnTo>
                  <a:pt x="1039" y="325"/>
                </a:lnTo>
                <a:lnTo>
                  <a:pt x="1039" y="325"/>
                </a:lnTo>
                <a:close/>
                <a:moveTo>
                  <a:pt x="1021" y="311"/>
                </a:moveTo>
                <a:lnTo>
                  <a:pt x="1021" y="311"/>
                </a:lnTo>
                <a:lnTo>
                  <a:pt x="1019" y="310"/>
                </a:lnTo>
                <a:lnTo>
                  <a:pt x="1021" y="309"/>
                </a:lnTo>
                <a:lnTo>
                  <a:pt x="1021" y="309"/>
                </a:lnTo>
                <a:lnTo>
                  <a:pt x="1022" y="309"/>
                </a:lnTo>
                <a:lnTo>
                  <a:pt x="1022" y="309"/>
                </a:lnTo>
                <a:lnTo>
                  <a:pt x="1024" y="309"/>
                </a:lnTo>
                <a:lnTo>
                  <a:pt x="1024" y="309"/>
                </a:lnTo>
                <a:lnTo>
                  <a:pt x="1026" y="310"/>
                </a:lnTo>
                <a:lnTo>
                  <a:pt x="1024" y="311"/>
                </a:lnTo>
                <a:lnTo>
                  <a:pt x="1024" y="312"/>
                </a:lnTo>
                <a:lnTo>
                  <a:pt x="1022" y="312"/>
                </a:lnTo>
                <a:lnTo>
                  <a:pt x="1022" y="312"/>
                </a:lnTo>
                <a:lnTo>
                  <a:pt x="1021" y="311"/>
                </a:lnTo>
                <a:lnTo>
                  <a:pt x="1021" y="311"/>
                </a:lnTo>
                <a:close/>
                <a:moveTo>
                  <a:pt x="1002" y="299"/>
                </a:moveTo>
                <a:lnTo>
                  <a:pt x="1002" y="299"/>
                </a:lnTo>
                <a:lnTo>
                  <a:pt x="1002" y="298"/>
                </a:lnTo>
                <a:lnTo>
                  <a:pt x="1000" y="298"/>
                </a:lnTo>
                <a:lnTo>
                  <a:pt x="1002" y="297"/>
                </a:lnTo>
                <a:lnTo>
                  <a:pt x="1002" y="297"/>
                </a:lnTo>
                <a:lnTo>
                  <a:pt x="1002" y="296"/>
                </a:lnTo>
                <a:lnTo>
                  <a:pt x="1004" y="296"/>
                </a:lnTo>
                <a:lnTo>
                  <a:pt x="1006" y="296"/>
                </a:lnTo>
                <a:lnTo>
                  <a:pt x="1006" y="297"/>
                </a:lnTo>
                <a:lnTo>
                  <a:pt x="1006" y="297"/>
                </a:lnTo>
                <a:lnTo>
                  <a:pt x="1007" y="298"/>
                </a:lnTo>
                <a:lnTo>
                  <a:pt x="1006" y="299"/>
                </a:lnTo>
                <a:lnTo>
                  <a:pt x="1004" y="299"/>
                </a:lnTo>
                <a:lnTo>
                  <a:pt x="1002" y="299"/>
                </a:lnTo>
                <a:lnTo>
                  <a:pt x="1002" y="299"/>
                </a:lnTo>
                <a:close/>
                <a:moveTo>
                  <a:pt x="983" y="285"/>
                </a:moveTo>
                <a:lnTo>
                  <a:pt x="983" y="285"/>
                </a:lnTo>
                <a:lnTo>
                  <a:pt x="981" y="284"/>
                </a:lnTo>
                <a:lnTo>
                  <a:pt x="983" y="283"/>
                </a:lnTo>
                <a:lnTo>
                  <a:pt x="985" y="283"/>
                </a:lnTo>
                <a:lnTo>
                  <a:pt x="987" y="283"/>
                </a:lnTo>
                <a:lnTo>
                  <a:pt x="987" y="283"/>
                </a:lnTo>
                <a:lnTo>
                  <a:pt x="987" y="284"/>
                </a:lnTo>
                <a:lnTo>
                  <a:pt x="989" y="284"/>
                </a:lnTo>
                <a:lnTo>
                  <a:pt x="987" y="285"/>
                </a:lnTo>
                <a:lnTo>
                  <a:pt x="987" y="285"/>
                </a:lnTo>
                <a:lnTo>
                  <a:pt x="987" y="286"/>
                </a:lnTo>
                <a:lnTo>
                  <a:pt x="985" y="286"/>
                </a:lnTo>
                <a:lnTo>
                  <a:pt x="983" y="286"/>
                </a:lnTo>
                <a:lnTo>
                  <a:pt x="983" y="285"/>
                </a:lnTo>
                <a:lnTo>
                  <a:pt x="983" y="285"/>
                </a:lnTo>
                <a:close/>
                <a:moveTo>
                  <a:pt x="963" y="273"/>
                </a:moveTo>
                <a:lnTo>
                  <a:pt x="963" y="273"/>
                </a:lnTo>
                <a:lnTo>
                  <a:pt x="963" y="272"/>
                </a:lnTo>
                <a:lnTo>
                  <a:pt x="963" y="271"/>
                </a:lnTo>
                <a:lnTo>
                  <a:pt x="965" y="271"/>
                </a:lnTo>
                <a:lnTo>
                  <a:pt x="968" y="271"/>
                </a:lnTo>
                <a:lnTo>
                  <a:pt x="968" y="271"/>
                </a:lnTo>
                <a:lnTo>
                  <a:pt x="968" y="272"/>
                </a:lnTo>
                <a:lnTo>
                  <a:pt x="968" y="272"/>
                </a:lnTo>
                <a:lnTo>
                  <a:pt x="968" y="273"/>
                </a:lnTo>
                <a:lnTo>
                  <a:pt x="968" y="273"/>
                </a:lnTo>
                <a:lnTo>
                  <a:pt x="966" y="274"/>
                </a:lnTo>
                <a:lnTo>
                  <a:pt x="965" y="274"/>
                </a:lnTo>
                <a:lnTo>
                  <a:pt x="965" y="274"/>
                </a:lnTo>
                <a:lnTo>
                  <a:pt x="963" y="273"/>
                </a:lnTo>
                <a:lnTo>
                  <a:pt x="963" y="273"/>
                </a:lnTo>
                <a:close/>
                <a:moveTo>
                  <a:pt x="944" y="261"/>
                </a:moveTo>
                <a:lnTo>
                  <a:pt x="944" y="261"/>
                </a:lnTo>
                <a:lnTo>
                  <a:pt x="942" y="259"/>
                </a:lnTo>
                <a:lnTo>
                  <a:pt x="944" y="258"/>
                </a:lnTo>
                <a:lnTo>
                  <a:pt x="946" y="258"/>
                </a:lnTo>
                <a:lnTo>
                  <a:pt x="948" y="258"/>
                </a:lnTo>
                <a:lnTo>
                  <a:pt x="948" y="258"/>
                </a:lnTo>
                <a:lnTo>
                  <a:pt x="948" y="259"/>
                </a:lnTo>
                <a:lnTo>
                  <a:pt x="948" y="259"/>
                </a:lnTo>
                <a:lnTo>
                  <a:pt x="948" y="260"/>
                </a:lnTo>
                <a:lnTo>
                  <a:pt x="948" y="261"/>
                </a:lnTo>
                <a:lnTo>
                  <a:pt x="946" y="261"/>
                </a:lnTo>
                <a:lnTo>
                  <a:pt x="944" y="261"/>
                </a:lnTo>
                <a:lnTo>
                  <a:pt x="944" y="261"/>
                </a:lnTo>
                <a:close/>
                <a:moveTo>
                  <a:pt x="923" y="249"/>
                </a:moveTo>
                <a:lnTo>
                  <a:pt x="923" y="249"/>
                </a:lnTo>
                <a:lnTo>
                  <a:pt x="922" y="248"/>
                </a:lnTo>
                <a:lnTo>
                  <a:pt x="922" y="248"/>
                </a:lnTo>
                <a:lnTo>
                  <a:pt x="922" y="247"/>
                </a:lnTo>
                <a:lnTo>
                  <a:pt x="923" y="247"/>
                </a:lnTo>
                <a:lnTo>
                  <a:pt x="923" y="246"/>
                </a:lnTo>
                <a:lnTo>
                  <a:pt x="925" y="246"/>
                </a:lnTo>
                <a:lnTo>
                  <a:pt x="925" y="246"/>
                </a:lnTo>
                <a:lnTo>
                  <a:pt x="927" y="247"/>
                </a:lnTo>
                <a:lnTo>
                  <a:pt x="927" y="247"/>
                </a:lnTo>
                <a:lnTo>
                  <a:pt x="927" y="248"/>
                </a:lnTo>
                <a:lnTo>
                  <a:pt x="927" y="249"/>
                </a:lnTo>
                <a:lnTo>
                  <a:pt x="925" y="249"/>
                </a:lnTo>
                <a:lnTo>
                  <a:pt x="923" y="249"/>
                </a:lnTo>
                <a:lnTo>
                  <a:pt x="923" y="249"/>
                </a:lnTo>
                <a:close/>
                <a:moveTo>
                  <a:pt x="903" y="236"/>
                </a:moveTo>
                <a:lnTo>
                  <a:pt x="903" y="236"/>
                </a:lnTo>
                <a:lnTo>
                  <a:pt x="901" y="236"/>
                </a:lnTo>
                <a:lnTo>
                  <a:pt x="901" y="235"/>
                </a:lnTo>
                <a:lnTo>
                  <a:pt x="901" y="235"/>
                </a:lnTo>
                <a:lnTo>
                  <a:pt x="903" y="234"/>
                </a:lnTo>
                <a:lnTo>
                  <a:pt x="905" y="234"/>
                </a:lnTo>
                <a:lnTo>
                  <a:pt x="905" y="234"/>
                </a:lnTo>
                <a:lnTo>
                  <a:pt x="907" y="234"/>
                </a:lnTo>
                <a:lnTo>
                  <a:pt x="907" y="234"/>
                </a:lnTo>
                <a:lnTo>
                  <a:pt x="907" y="235"/>
                </a:lnTo>
                <a:lnTo>
                  <a:pt x="907" y="236"/>
                </a:lnTo>
                <a:lnTo>
                  <a:pt x="905" y="237"/>
                </a:lnTo>
                <a:lnTo>
                  <a:pt x="905" y="237"/>
                </a:lnTo>
                <a:lnTo>
                  <a:pt x="903" y="237"/>
                </a:lnTo>
                <a:lnTo>
                  <a:pt x="903" y="236"/>
                </a:lnTo>
                <a:lnTo>
                  <a:pt x="903" y="236"/>
                </a:lnTo>
                <a:close/>
                <a:moveTo>
                  <a:pt x="881" y="225"/>
                </a:moveTo>
                <a:lnTo>
                  <a:pt x="881" y="225"/>
                </a:lnTo>
                <a:lnTo>
                  <a:pt x="881" y="224"/>
                </a:lnTo>
                <a:lnTo>
                  <a:pt x="881" y="223"/>
                </a:lnTo>
                <a:lnTo>
                  <a:pt x="882" y="222"/>
                </a:lnTo>
                <a:lnTo>
                  <a:pt x="884" y="223"/>
                </a:lnTo>
                <a:lnTo>
                  <a:pt x="884" y="223"/>
                </a:lnTo>
                <a:lnTo>
                  <a:pt x="886" y="223"/>
                </a:lnTo>
                <a:lnTo>
                  <a:pt x="886" y="224"/>
                </a:lnTo>
                <a:lnTo>
                  <a:pt x="886" y="225"/>
                </a:lnTo>
                <a:lnTo>
                  <a:pt x="884" y="225"/>
                </a:lnTo>
                <a:lnTo>
                  <a:pt x="884" y="225"/>
                </a:lnTo>
                <a:lnTo>
                  <a:pt x="882" y="226"/>
                </a:lnTo>
                <a:lnTo>
                  <a:pt x="882" y="225"/>
                </a:lnTo>
                <a:lnTo>
                  <a:pt x="881" y="225"/>
                </a:lnTo>
                <a:lnTo>
                  <a:pt x="881" y="225"/>
                </a:lnTo>
                <a:close/>
                <a:moveTo>
                  <a:pt x="860" y="213"/>
                </a:moveTo>
                <a:lnTo>
                  <a:pt x="860" y="213"/>
                </a:lnTo>
                <a:lnTo>
                  <a:pt x="858" y="213"/>
                </a:lnTo>
                <a:lnTo>
                  <a:pt x="858" y="212"/>
                </a:lnTo>
                <a:lnTo>
                  <a:pt x="858" y="211"/>
                </a:lnTo>
                <a:lnTo>
                  <a:pt x="860" y="211"/>
                </a:lnTo>
                <a:lnTo>
                  <a:pt x="862" y="210"/>
                </a:lnTo>
                <a:lnTo>
                  <a:pt x="864" y="211"/>
                </a:lnTo>
                <a:lnTo>
                  <a:pt x="864" y="211"/>
                </a:lnTo>
                <a:lnTo>
                  <a:pt x="864" y="211"/>
                </a:lnTo>
                <a:lnTo>
                  <a:pt x="864" y="212"/>
                </a:lnTo>
                <a:lnTo>
                  <a:pt x="864" y="213"/>
                </a:lnTo>
                <a:lnTo>
                  <a:pt x="864" y="213"/>
                </a:lnTo>
                <a:lnTo>
                  <a:pt x="862" y="213"/>
                </a:lnTo>
                <a:lnTo>
                  <a:pt x="862" y="214"/>
                </a:lnTo>
                <a:lnTo>
                  <a:pt x="860" y="213"/>
                </a:lnTo>
                <a:lnTo>
                  <a:pt x="860" y="213"/>
                </a:lnTo>
                <a:lnTo>
                  <a:pt x="860" y="213"/>
                </a:lnTo>
                <a:close/>
                <a:moveTo>
                  <a:pt x="838" y="203"/>
                </a:moveTo>
                <a:lnTo>
                  <a:pt x="838" y="203"/>
                </a:lnTo>
                <a:lnTo>
                  <a:pt x="836" y="201"/>
                </a:lnTo>
                <a:lnTo>
                  <a:pt x="836" y="201"/>
                </a:lnTo>
                <a:lnTo>
                  <a:pt x="838" y="200"/>
                </a:lnTo>
                <a:lnTo>
                  <a:pt x="838" y="200"/>
                </a:lnTo>
                <a:lnTo>
                  <a:pt x="840" y="200"/>
                </a:lnTo>
                <a:lnTo>
                  <a:pt x="841" y="200"/>
                </a:lnTo>
                <a:lnTo>
                  <a:pt x="841" y="200"/>
                </a:lnTo>
                <a:lnTo>
                  <a:pt x="841" y="201"/>
                </a:lnTo>
                <a:lnTo>
                  <a:pt x="841" y="202"/>
                </a:lnTo>
                <a:lnTo>
                  <a:pt x="841" y="202"/>
                </a:lnTo>
                <a:lnTo>
                  <a:pt x="840" y="203"/>
                </a:lnTo>
                <a:lnTo>
                  <a:pt x="840" y="203"/>
                </a:lnTo>
                <a:lnTo>
                  <a:pt x="838" y="203"/>
                </a:lnTo>
                <a:lnTo>
                  <a:pt x="838" y="203"/>
                </a:lnTo>
                <a:close/>
                <a:moveTo>
                  <a:pt x="815" y="191"/>
                </a:moveTo>
                <a:lnTo>
                  <a:pt x="815" y="191"/>
                </a:lnTo>
                <a:lnTo>
                  <a:pt x="813" y="190"/>
                </a:lnTo>
                <a:lnTo>
                  <a:pt x="813" y="189"/>
                </a:lnTo>
                <a:lnTo>
                  <a:pt x="813" y="189"/>
                </a:lnTo>
                <a:lnTo>
                  <a:pt x="815" y="188"/>
                </a:lnTo>
                <a:lnTo>
                  <a:pt x="815" y="188"/>
                </a:lnTo>
                <a:lnTo>
                  <a:pt x="819" y="189"/>
                </a:lnTo>
                <a:lnTo>
                  <a:pt x="819" y="189"/>
                </a:lnTo>
                <a:lnTo>
                  <a:pt x="819" y="189"/>
                </a:lnTo>
                <a:lnTo>
                  <a:pt x="819" y="190"/>
                </a:lnTo>
                <a:lnTo>
                  <a:pt x="819" y="191"/>
                </a:lnTo>
                <a:lnTo>
                  <a:pt x="817" y="191"/>
                </a:lnTo>
                <a:lnTo>
                  <a:pt x="817" y="191"/>
                </a:lnTo>
                <a:lnTo>
                  <a:pt x="815" y="191"/>
                </a:lnTo>
                <a:lnTo>
                  <a:pt x="815" y="191"/>
                </a:lnTo>
                <a:close/>
                <a:moveTo>
                  <a:pt x="791" y="181"/>
                </a:moveTo>
                <a:lnTo>
                  <a:pt x="791" y="181"/>
                </a:lnTo>
                <a:lnTo>
                  <a:pt x="791" y="180"/>
                </a:lnTo>
                <a:lnTo>
                  <a:pt x="791" y="180"/>
                </a:lnTo>
                <a:lnTo>
                  <a:pt x="791" y="179"/>
                </a:lnTo>
                <a:lnTo>
                  <a:pt x="791" y="178"/>
                </a:lnTo>
                <a:lnTo>
                  <a:pt x="793" y="178"/>
                </a:lnTo>
                <a:lnTo>
                  <a:pt x="795" y="178"/>
                </a:lnTo>
                <a:lnTo>
                  <a:pt x="795" y="178"/>
                </a:lnTo>
                <a:lnTo>
                  <a:pt x="797" y="179"/>
                </a:lnTo>
                <a:lnTo>
                  <a:pt x="797" y="179"/>
                </a:lnTo>
                <a:lnTo>
                  <a:pt x="797" y="181"/>
                </a:lnTo>
                <a:lnTo>
                  <a:pt x="795" y="181"/>
                </a:lnTo>
                <a:lnTo>
                  <a:pt x="793" y="181"/>
                </a:lnTo>
                <a:lnTo>
                  <a:pt x="791" y="181"/>
                </a:lnTo>
                <a:lnTo>
                  <a:pt x="791" y="181"/>
                </a:lnTo>
                <a:close/>
                <a:moveTo>
                  <a:pt x="769" y="171"/>
                </a:moveTo>
                <a:lnTo>
                  <a:pt x="769" y="171"/>
                </a:lnTo>
                <a:lnTo>
                  <a:pt x="767" y="170"/>
                </a:lnTo>
                <a:lnTo>
                  <a:pt x="767" y="170"/>
                </a:lnTo>
                <a:lnTo>
                  <a:pt x="769" y="169"/>
                </a:lnTo>
                <a:lnTo>
                  <a:pt x="771" y="168"/>
                </a:lnTo>
                <a:lnTo>
                  <a:pt x="771" y="168"/>
                </a:lnTo>
                <a:lnTo>
                  <a:pt x="772" y="168"/>
                </a:lnTo>
                <a:lnTo>
                  <a:pt x="772" y="168"/>
                </a:lnTo>
                <a:lnTo>
                  <a:pt x="772" y="169"/>
                </a:lnTo>
                <a:lnTo>
                  <a:pt x="772" y="170"/>
                </a:lnTo>
                <a:lnTo>
                  <a:pt x="772" y="171"/>
                </a:lnTo>
                <a:lnTo>
                  <a:pt x="772" y="171"/>
                </a:lnTo>
                <a:lnTo>
                  <a:pt x="771" y="171"/>
                </a:lnTo>
                <a:lnTo>
                  <a:pt x="769" y="171"/>
                </a:lnTo>
                <a:lnTo>
                  <a:pt x="769" y="171"/>
                </a:lnTo>
                <a:close/>
                <a:moveTo>
                  <a:pt x="744" y="160"/>
                </a:moveTo>
                <a:lnTo>
                  <a:pt x="744" y="160"/>
                </a:lnTo>
                <a:lnTo>
                  <a:pt x="744" y="159"/>
                </a:lnTo>
                <a:lnTo>
                  <a:pt x="744" y="159"/>
                </a:lnTo>
                <a:lnTo>
                  <a:pt x="744" y="158"/>
                </a:lnTo>
                <a:lnTo>
                  <a:pt x="746" y="157"/>
                </a:lnTo>
                <a:lnTo>
                  <a:pt x="746" y="157"/>
                </a:lnTo>
                <a:lnTo>
                  <a:pt x="748" y="158"/>
                </a:lnTo>
                <a:lnTo>
                  <a:pt x="748" y="158"/>
                </a:lnTo>
                <a:lnTo>
                  <a:pt x="748" y="158"/>
                </a:lnTo>
                <a:lnTo>
                  <a:pt x="750" y="159"/>
                </a:lnTo>
                <a:lnTo>
                  <a:pt x="748" y="160"/>
                </a:lnTo>
                <a:lnTo>
                  <a:pt x="746" y="160"/>
                </a:lnTo>
                <a:lnTo>
                  <a:pt x="746" y="161"/>
                </a:lnTo>
                <a:lnTo>
                  <a:pt x="744" y="160"/>
                </a:lnTo>
                <a:lnTo>
                  <a:pt x="744" y="160"/>
                </a:lnTo>
                <a:close/>
                <a:moveTo>
                  <a:pt x="720" y="151"/>
                </a:moveTo>
                <a:lnTo>
                  <a:pt x="720" y="151"/>
                </a:lnTo>
                <a:lnTo>
                  <a:pt x="720" y="150"/>
                </a:lnTo>
                <a:lnTo>
                  <a:pt x="720" y="149"/>
                </a:lnTo>
                <a:lnTo>
                  <a:pt x="720" y="149"/>
                </a:lnTo>
                <a:lnTo>
                  <a:pt x="722" y="148"/>
                </a:lnTo>
                <a:lnTo>
                  <a:pt x="722" y="148"/>
                </a:lnTo>
                <a:lnTo>
                  <a:pt x="724" y="148"/>
                </a:lnTo>
                <a:lnTo>
                  <a:pt x="724" y="148"/>
                </a:lnTo>
                <a:lnTo>
                  <a:pt x="726" y="149"/>
                </a:lnTo>
                <a:lnTo>
                  <a:pt x="726" y="150"/>
                </a:lnTo>
                <a:lnTo>
                  <a:pt x="726" y="150"/>
                </a:lnTo>
                <a:lnTo>
                  <a:pt x="722" y="151"/>
                </a:lnTo>
                <a:lnTo>
                  <a:pt x="722" y="151"/>
                </a:lnTo>
                <a:lnTo>
                  <a:pt x="720" y="151"/>
                </a:lnTo>
                <a:lnTo>
                  <a:pt x="720" y="151"/>
                </a:lnTo>
                <a:close/>
                <a:moveTo>
                  <a:pt x="696" y="141"/>
                </a:moveTo>
                <a:lnTo>
                  <a:pt x="696" y="141"/>
                </a:lnTo>
                <a:lnTo>
                  <a:pt x="696" y="140"/>
                </a:lnTo>
                <a:lnTo>
                  <a:pt x="694" y="140"/>
                </a:lnTo>
                <a:lnTo>
                  <a:pt x="696" y="139"/>
                </a:lnTo>
                <a:lnTo>
                  <a:pt x="698" y="138"/>
                </a:lnTo>
                <a:lnTo>
                  <a:pt x="698" y="138"/>
                </a:lnTo>
                <a:lnTo>
                  <a:pt x="700" y="138"/>
                </a:lnTo>
                <a:lnTo>
                  <a:pt x="700" y="138"/>
                </a:lnTo>
                <a:lnTo>
                  <a:pt x="700" y="138"/>
                </a:lnTo>
                <a:lnTo>
                  <a:pt x="700" y="139"/>
                </a:lnTo>
                <a:lnTo>
                  <a:pt x="701" y="139"/>
                </a:lnTo>
                <a:lnTo>
                  <a:pt x="700" y="140"/>
                </a:lnTo>
                <a:lnTo>
                  <a:pt x="698" y="141"/>
                </a:lnTo>
                <a:lnTo>
                  <a:pt x="698" y="141"/>
                </a:lnTo>
                <a:lnTo>
                  <a:pt x="696" y="141"/>
                </a:lnTo>
                <a:lnTo>
                  <a:pt x="696" y="141"/>
                </a:lnTo>
                <a:close/>
                <a:moveTo>
                  <a:pt x="672" y="132"/>
                </a:moveTo>
                <a:lnTo>
                  <a:pt x="672" y="132"/>
                </a:lnTo>
                <a:lnTo>
                  <a:pt x="670" y="131"/>
                </a:lnTo>
                <a:lnTo>
                  <a:pt x="670" y="130"/>
                </a:lnTo>
                <a:lnTo>
                  <a:pt x="670" y="130"/>
                </a:lnTo>
                <a:lnTo>
                  <a:pt x="672" y="129"/>
                </a:lnTo>
                <a:lnTo>
                  <a:pt x="673" y="129"/>
                </a:lnTo>
                <a:lnTo>
                  <a:pt x="675" y="129"/>
                </a:lnTo>
                <a:lnTo>
                  <a:pt x="675" y="129"/>
                </a:lnTo>
                <a:lnTo>
                  <a:pt x="675" y="130"/>
                </a:lnTo>
                <a:lnTo>
                  <a:pt x="675" y="131"/>
                </a:lnTo>
                <a:lnTo>
                  <a:pt x="675" y="131"/>
                </a:lnTo>
                <a:lnTo>
                  <a:pt x="673" y="132"/>
                </a:lnTo>
                <a:lnTo>
                  <a:pt x="672" y="132"/>
                </a:lnTo>
                <a:lnTo>
                  <a:pt x="672" y="132"/>
                </a:lnTo>
                <a:lnTo>
                  <a:pt x="672" y="132"/>
                </a:lnTo>
                <a:close/>
                <a:moveTo>
                  <a:pt x="645" y="123"/>
                </a:moveTo>
                <a:lnTo>
                  <a:pt x="645" y="123"/>
                </a:lnTo>
                <a:lnTo>
                  <a:pt x="645" y="122"/>
                </a:lnTo>
                <a:lnTo>
                  <a:pt x="645" y="121"/>
                </a:lnTo>
                <a:lnTo>
                  <a:pt x="645" y="121"/>
                </a:lnTo>
                <a:lnTo>
                  <a:pt x="645" y="120"/>
                </a:lnTo>
                <a:lnTo>
                  <a:pt x="647" y="120"/>
                </a:lnTo>
                <a:lnTo>
                  <a:pt x="649" y="120"/>
                </a:lnTo>
                <a:lnTo>
                  <a:pt x="649" y="120"/>
                </a:lnTo>
                <a:lnTo>
                  <a:pt x="651" y="121"/>
                </a:lnTo>
                <a:lnTo>
                  <a:pt x="651" y="122"/>
                </a:lnTo>
                <a:lnTo>
                  <a:pt x="651" y="123"/>
                </a:lnTo>
                <a:lnTo>
                  <a:pt x="647" y="123"/>
                </a:lnTo>
                <a:lnTo>
                  <a:pt x="647" y="123"/>
                </a:lnTo>
                <a:lnTo>
                  <a:pt x="645" y="123"/>
                </a:lnTo>
                <a:lnTo>
                  <a:pt x="645" y="123"/>
                </a:lnTo>
                <a:close/>
                <a:moveTo>
                  <a:pt x="621" y="114"/>
                </a:moveTo>
                <a:lnTo>
                  <a:pt x="621" y="114"/>
                </a:lnTo>
                <a:lnTo>
                  <a:pt x="619" y="113"/>
                </a:lnTo>
                <a:lnTo>
                  <a:pt x="619" y="112"/>
                </a:lnTo>
                <a:lnTo>
                  <a:pt x="619" y="112"/>
                </a:lnTo>
                <a:lnTo>
                  <a:pt x="621" y="111"/>
                </a:lnTo>
                <a:lnTo>
                  <a:pt x="621" y="111"/>
                </a:lnTo>
                <a:lnTo>
                  <a:pt x="623" y="111"/>
                </a:lnTo>
                <a:lnTo>
                  <a:pt x="623" y="111"/>
                </a:lnTo>
                <a:lnTo>
                  <a:pt x="623" y="111"/>
                </a:lnTo>
                <a:lnTo>
                  <a:pt x="625" y="112"/>
                </a:lnTo>
                <a:lnTo>
                  <a:pt x="625" y="113"/>
                </a:lnTo>
                <a:lnTo>
                  <a:pt x="623" y="114"/>
                </a:lnTo>
                <a:lnTo>
                  <a:pt x="621" y="114"/>
                </a:lnTo>
                <a:lnTo>
                  <a:pt x="621" y="114"/>
                </a:lnTo>
                <a:lnTo>
                  <a:pt x="621" y="114"/>
                </a:lnTo>
                <a:close/>
                <a:moveTo>
                  <a:pt x="595" y="106"/>
                </a:moveTo>
                <a:lnTo>
                  <a:pt x="595" y="106"/>
                </a:lnTo>
                <a:lnTo>
                  <a:pt x="593" y="105"/>
                </a:lnTo>
                <a:lnTo>
                  <a:pt x="593" y="104"/>
                </a:lnTo>
                <a:lnTo>
                  <a:pt x="595" y="103"/>
                </a:lnTo>
                <a:lnTo>
                  <a:pt x="599" y="103"/>
                </a:lnTo>
                <a:lnTo>
                  <a:pt x="599" y="103"/>
                </a:lnTo>
                <a:lnTo>
                  <a:pt x="599" y="104"/>
                </a:lnTo>
                <a:lnTo>
                  <a:pt x="599" y="105"/>
                </a:lnTo>
                <a:lnTo>
                  <a:pt x="597" y="106"/>
                </a:lnTo>
                <a:lnTo>
                  <a:pt x="595" y="106"/>
                </a:lnTo>
                <a:lnTo>
                  <a:pt x="595" y="106"/>
                </a:lnTo>
                <a:close/>
                <a:moveTo>
                  <a:pt x="569" y="98"/>
                </a:moveTo>
                <a:lnTo>
                  <a:pt x="569" y="98"/>
                </a:lnTo>
                <a:lnTo>
                  <a:pt x="567" y="97"/>
                </a:lnTo>
                <a:lnTo>
                  <a:pt x="567" y="96"/>
                </a:lnTo>
                <a:lnTo>
                  <a:pt x="569" y="95"/>
                </a:lnTo>
                <a:lnTo>
                  <a:pt x="573" y="95"/>
                </a:lnTo>
                <a:lnTo>
                  <a:pt x="573" y="95"/>
                </a:lnTo>
                <a:lnTo>
                  <a:pt x="573" y="96"/>
                </a:lnTo>
                <a:lnTo>
                  <a:pt x="573" y="97"/>
                </a:lnTo>
                <a:lnTo>
                  <a:pt x="571" y="98"/>
                </a:lnTo>
                <a:lnTo>
                  <a:pt x="569" y="98"/>
                </a:lnTo>
                <a:lnTo>
                  <a:pt x="569" y="98"/>
                </a:lnTo>
                <a:close/>
                <a:moveTo>
                  <a:pt x="543" y="90"/>
                </a:moveTo>
                <a:lnTo>
                  <a:pt x="543" y="90"/>
                </a:lnTo>
                <a:lnTo>
                  <a:pt x="541" y="89"/>
                </a:lnTo>
                <a:lnTo>
                  <a:pt x="541" y="88"/>
                </a:lnTo>
                <a:lnTo>
                  <a:pt x="541" y="87"/>
                </a:lnTo>
                <a:lnTo>
                  <a:pt x="543" y="87"/>
                </a:lnTo>
                <a:lnTo>
                  <a:pt x="543" y="87"/>
                </a:lnTo>
                <a:lnTo>
                  <a:pt x="545" y="87"/>
                </a:lnTo>
                <a:lnTo>
                  <a:pt x="545" y="87"/>
                </a:lnTo>
                <a:lnTo>
                  <a:pt x="547" y="88"/>
                </a:lnTo>
                <a:lnTo>
                  <a:pt x="547" y="88"/>
                </a:lnTo>
                <a:lnTo>
                  <a:pt x="547" y="89"/>
                </a:lnTo>
                <a:lnTo>
                  <a:pt x="545" y="90"/>
                </a:lnTo>
                <a:lnTo>
                  <a:pt x="543" y="90"/>
                </a:lnTo>
                <a:lnTo>
                  <a:pt x="543" y="90"/>
                </a:lnTo>
                <a:lnTo>
                  <a:pt x="543" y="90"/>
                </a:lnTo>
                <a:close/>
                <a:moveTo>
                  <a:pt x="517" y="82"/>
                </a:moveTo>
                <a:lnTo>
                  <a:pt x="517" y="82"/>
                </a:lnTo>
                <a:lnTo>
                  <a:pt x="515" y="81"/>
                </a:lnTo>
                <a:lnTo>
                  <a:pt x="515" y="80"/>
                </a:lnTo>
                <a:lnTo>
                  <a:pt x="517" y="79"/>
                </a:lnTo>
                <a:lnTo>
                  <a:pt x="517" y="79"/>
                </a:lnTo>
                <a:lnTo>
                  <a:pt x="519" y="80"/>
                </a:lnTo>
                <a:lnTo>
                  <a:pt x="519" y="80"/>
                </a:lnTo>
                <a:lnTo>
                  <a:pt x="520" y="80"/>
                </a:lnTo>
                <a:lnTo>
                  <a:pt x="520" y="80"/>
                </a:lnTo>
                <a:lnTo>
                  <a:pt x="520" y="81"/>
                </a:lnTo>
                <a:lnTo>
                  <a:pt x="520" y="82"/>
                </a:lnTo>
                <a:lnTo>
                  <a:pt x="519" y="82"/>
                </a:lnTo>
                <a:lnTo>
                  <a:pt x="517" y="82"/>
                </a:lnTo>
                <a:lnTo>
                  <a:pt x="517" y="82"/>
                </a:lnTo>
                <a:lnTo>
                  <a:pt x="517" y="82"/>
                </a:lnTo>
                <a:close/>
                <a:moveTo>
                  <a:pt x="489" y="76"/>
                </a:moveTo>
                <a:lnTo>
                  <a:pt x="489" y="76"/>
                </a:lnTo>
                <a:lnTo>
                  <a:pt x="487" y="74"/>
                </a:lnTo>
                <a:lnTo>
                  <a:pt x="487" y="74"/>
                </a:lnTo>
                <a:lnTo>
                  <a:pt x="489" y="73"/>
                </a:lnTo>
                <a:lnTo>
                  <a:pt x="489" y="73"/>
                </a:lnTo>
                <a:lnTo>
                  <a:pt x="489" y="73"/>
                </a:lnTo>
                <a:lnTo>
                  <a:pt x="493" y="73"/>
                </a:lnTo>
                <a:lnTo>
                  <a:pt x="493" y="73"/>
                </a:lnTo>
                <a:lnTo>
                  <a:pt x="493" y="74"/>
                </a:lnTo>
                <a:lnTo>
                  <a:pt x="493" y="74"/>
                </a:lnTo>
                <a:lnTo>
                  <a:pt x="493" y="75"/>
                </a:lnTo>
                <a:lnTo>
                  <a:pt x="491" y="76"/>
                </a:lnTo>
                <a:lnTo>
                  <a:pt x="489" y="76"/>
                </a:lnTo>
                <a:lnTo>
                  <a:pt x="489" y="76"/>
                </a:lnTo>
                <a:close/>
                <a:moveTo>
                  <a:pt x="463" y="68"/>
                </a:moveTo>
                <a:lnTo>
                  <a:pt x="463" y="68"/>
                </a:lnTo>
                <a:lnTo>
                  <a:pt x="461" y="68"/>
                </a:lnTo>
                <a:lnTo>
                  <a:pt x="461" y="67"/>
                </a:lnTo>
                <a:lnTo>
                  <a:pt x="461" y="66"/>
                </a:lnTo>
                <a:lnTo>
                  <a:pt x="461" y="65"/>
                </a:lnTo>
                <a:lnTo>
                  <a:pt x="463" y="65"/>
                </a:lnTo>
                <a:lnTo>
                  <a:pt x="463" y="65"/>
                </a:lnTo>
                <a:lnTo>
                  <a:pt x="465" y="65"/>
                </a:lnTo>
                <a:lnTo>
                  <a:pt x="465" y="65"/>
                </a:lnTo>
                <a:lnTo>
                  <a:pt x="465" y="65"/>
                </a:lnTo>
                <a:lnTo>
                  <a:pt x="466" y="66"/>
                </a:lnTo>
                <a:lnTo>
                  <a:pt x="466" y="67"/>
                </a:lnTo>
                <a:lnTo>
                  <a:pt x="465" y="68"/>
                </a:lnTo>
                <a:lnTo>
                  <a:pt x="465" y="68"/>
                </a:lnTo>
                <a:lnTo>
                  <a:pt x="463" y="68"/>
                </a:lnTo>
                <a:lnTo>
                  <a:pt x="463" y="68"/>
                </a:lnTo>
                <a:lnTo>
                  <a:pt x="463" y="68"/>
                </a:lnTo>
                <a:close/>
                <a:moveTo>
                  <a:pt x="435" y="62"/>
                </a:moveTo>
                <a:lnTo>
                  <a:pt x="435" y="62"/>
                </a:lnTo>
                <a:lnTo>
                  <a:pt x="435" y="61"/>
                </a:lnTo>
                <a:lnTo>
                  <a:pt x="433" y="61"/>
                </a:lnTo>
                <a:lnTo>
                  <a:pt x="433" y="60"/>
                </a:lnTo>
                <a:lnTo>
                  <a:pt x="433" y="60"/>
                </a:lnTo>
                <a:lnTo>
                  <a:pt x="433" y="59"/>
                </a:lnTo>
                <a:lnTo>
                  <a:pt x="435" y="59"/>
                </a:lnTo>
                <a:lnTo>
                  <a:pt x="435" y="58"/>
                </a:lnTo>
                <a:lnTo>
                  <a:pt x="437" y="59"/>
                </a:lnTo>
                <a:lnTo>
                  <a:pt x="437" y="59"/>
                </a:lnTo>
                <a:lnTo>
                  <a:pt x="438" y="59"/>
                </a:lnTo>
                <a:lnTo>
                  <a:pt x="438" y="59"/>
                </a:lnTo>
                <a:lnTo>
                  <a:pt x="438" y="61"/>
                </a:lnTo>
                <a:lnTo>
                  <a:pt x="438" y="61"/>
                </a:lnTo>
                <a:lnTo>
                  <a:pt x="437" y="61"/>
                </a:lnTo>
                <a:lnTo>
                  <a:pt x="435" y="62"/>
                </a:lnTo>
                <a:lnTo>
                  <a:pt x="435" y="62"/>
                </a:lnTo>
                <a:close/>
                <a:moveTo>
                  <a:pt x="407" y="56"/>
                </a:moveTo>
                <a:lnTo>
                  <a:pt x="407" y="56"/>
                </a:lnTo>
                <a:lnTo>
                  <a:pt x="407" y="55"/>
                </a:lnTo>
                <a:lnTo>
                  <a:pt x="405" y="55"/>
                </a:lnTo>
                <a:lnTo>
                  <a:pt x="405" y="54"/>
                </a:lnTo>
                <a:lnTo>
                  <a:pt x="407" y="53"/>
                </a:lnTo>
                <a:lnTo>
                  <a:pt x="407" y="53"/>
                </a:lnTo>
                <a:lnTo>
                  <a:pt x="409" y="52"/>
                </a:lnTo>
                <a:lnTo>
                  <a:pt x="409" y="53"/>
                </a:lnTo>
                <a:lnTo>
                  <a:pt x="409" y="53"/>
                </a:lnTo>
                <a:lnTo>
                  <a:pt x="410" y="53"/>
                </a:lnTo>
                <a:lnTo>
                  <a:pt x="410" y="54"/>
                </a:lnTo>
                <a:lnTo>
                  <a:pt x="410" y="55"/>
                </a:lnTo>
                <a:lnTo>
                  <a:pt x="410" y="55"/>
                </a:lnTo>
                <a:lnTo>
                  <a:pt x="409" y="56"/>
                </a:lnTo>
                <a:lnTo>
                  <a:pt x="409" y="56"/>
                </a:lnTo>
                <a:lnTo>
                  <a:pt x="407" y="56"/>
                </a:lnTo>
                <a:lnTo>
                  <a:pt x="407" y="56"/>
                </a:lnTo>
                <a:close/>
                <a:moveTo>
                  <a:pt x="379" y="50"/>
                </a:moveTo>
                <a:lnTo>
                  <a:pt x="379" y="50"/>
                </a:lnTo>
                <a:lnTo>
                  <a:pt x="379" y="50"/>
                </a:lnTo>
                <a:lnTo>
                  <a:pt x="377" y="49"/>
                </a:lnTo>
                <a:lnTo>
                  <a:pt x="377" y="49"/>
                </a:lnTo>
                <a:lnTo>
                  <a:pt x="377" y="48"/>
                </a:lnTo>
                <a:lnTo>
                  <a:pt x="379" y="47"/>
                </a:lnTo>
                <a:lnTo>
                  <a:pt x="379" y="47"/>
                </a:lnTo>
                <a:lnTo>
                  <a:pt x="381" y="47"/>
                </a:lnTo>
                <a:lnTo>
                  <a:pt x="381" y="47"/>
                </a:lnTo>
                <a:lnTo>
                  <a:pt x="381" y="47"/>
                </a:lnTo>
                <a:lnTo>
                  <a:pt x="382" y="48"/>
                </a:lnTo>
                <a:lnTo>
                  <a:pt x="382" y="48"/>
                </a:lnTo>
                <a:lnTo>
                  <a:pt x="382" y="49"/>
                </a:lnTo>
                <a:lnTo>
                  <a:pt x="382" y="50"/>
                </a:lnTo>
                <a:lnTo>
                  <a:pt x="381" y="50"/>
                </a:lnTo>
                <a:lnTo>
                  <a:pt x="381" y="50"/>
                </a:lnTo>
                <a:lnTo>
                  <a:pt x="379" y="50"/>
                </a:lnTo>
                <a:lnTo>
                  <a:pt x="379" y="50"/>
                </a:lnTo>
                <a:close/>
                <a:moveTo>
                  <a:pt x="351" y="45"/>
                </a:moveTo>
                <a:lnTo>
                  <a:pt x="351" y="45"/>
                </a:lnTo>
                <a:lnTo>
                  <a:pt x="351" y="43"/>
                </a:lnTo>
                <a:lnTo>
                  <a:pt x="349" y="43"/>
                </a:lnTo>
                <a:lnTo>
                  <a:pt x="349" y="42"/>
                </a:lnTo>
                <a:lnTo>
                  <a:pt x="351" y="41"/>
                </a:lnTo>
                <a:lnTo>
                  <a:pt x="353" y="40"/>
                </a:lnTo>
                <a:lnTo>
                  <a:pt x="353" y="41"/>
                </a:lnTo>
                <a:lnTo>
                  <a:pt x="353" y="41"/>
                </a:lnTo>
                <a:lnTo>
                  <a:pt x="354" y="41"/>
                </a:lnTo>
                <a:lnTo>
                  <a:pt x="354" y="42"/>
                </a:lnTo>
                <a:lnTo>
                  <a:pt x="354" y="43"/>
                </a:lnTo>
                <a:lnTo>
                  <a:pt x="354" y="43"/>
                </a:lnTo>
                <a:lnTo>
                  <a:pt x="353" y="43"/>
                </a:lnTo>
                <a:lnTo>
                  <a:pt x="353" y="45"/>
                </a:lnTo>
                <a:lnTo>
                  <a:pt x="351" y="45"/>
                </a:lnTo>
                <a:lnTo>
                  <a:pt x="351" y="45"/>
                </a:lnTo>
                <a:close/>
                <a:moveTo>
                  <a:pt x="323" y="39"/>
                </a:moveTo>
                <a:lnTo>
                  <a:pt x="323" y="39"/>
                </a:lnTo>
                <a:lnTo>
                  <a:pt x="323" y="38"/>
                </a:lnTo>
                <a:lnTo>
                  <a:pt x="321" y="38"/>
                </a:lnTo>
                <a:lnTo>
                  <a:pt x="321" y="37"/>
                </a:lnTo>
                <a:lnTo>
                  <a:pt x="321" y="37"/>
                </a:lnTo>
                <a:lnTo>
                  <a:pt x="321" y="36"/>
                </a:lnTo>
                <a:lnTo>
                  <a:pt x="323" y="36"/>
                </a:lnTo>
                <a:lnTo>
                  <a:pt x="323" y="35"/>
                </a:lnTo>
                <a:lnTo>
                  <a:pt x="325" y="36"/>
                </a:lnTo>
                <a:lnTo>
                  <a:pt x="325" y="36"/>
                </a:lnTo>
                <a:lnTo>
                  <a:pt x="326" y="36"/>
                </a:lnTo>
                <a:lnTo>
                  <a:pt x="326" y="36"/>
                </a:lnTo>
                <a:lnTo>
                  <a:pt x="326" y="37"/>
                </a:lnTo>
                <a:lnTo>
                  <a:pt x="326" y="38"/>
                </a:lnTo>
                <a:lnTo>
                  <a:pt x="326" y="38"/>
                </a:lnTo>
                <a:lnTo>
                  <a:pt x="325" y="38"/>
                </a:lnTo>
                <a:lnTo>
                  <a:pt x="325" y="39"/>
                </a:lnTo>
                <a:lnTo>
                  <a:pt x="323" y="39"/>
                </a:lnTo>
                <a:lnTo>
                  <a:pt x="323" y="39"/>
                </a:lnTo>
                <a:close/>
                <a:moveTo>
                  <a:pt x="295" y="34"/>
                </a:moveTo>
                <a:lnTo>
                  <a:pt x="295" y="34"/>
                </a:lnTo>
                <a:lnTo>
                  <a:pt x="293" y="33"/>
                </a:lnTo>
                <a:lnTo>
                  <a:pt x="293" y="32"/>
                </a:lnTo>
                <a:lnTo>
                  <a:pt x="293" y="32"/>
                </a:lnTo>
                <a:lnTo>
                  <a:pt x="293" y="31"/>
                </a:lnTo>
                <a:lnTo>
                  <a:pt x="295" y="31"/>
                </a:lnTo>
                <a:lnTo>
                  <a:pt x="297" y="31"/>
                </a:lnTo>
                <a:lnTo>
                  <a:pt x="297" y="31"/>
                </a:lnTo>
                <a:lnTo>
                  <a:pt x="298" y="31"/>
                </a:lnTo>
                <a:lnTo>
                  <a:pt x="298" y="32"/>
                </a:lnTo>
                <a:lnTo>
                  <a:pt x="298" y="33"/>
                </a:lnTo>
                <a:lnTo>
                  <a:pt x="297" y="33"/>
                </a:lnTo>
                <a:lnTo>
                  <a:pt x="297" y="34"/>
                </a:lnTo>
                <a:lnTo>
                  <a:pt x="295" y="34"/>
                </a:lnTo>
                <a:lnTo>
                  <a:pt x="295" y="34"/>
                </a:lnTo>
                <a:lnTo>
                  <a:pt x="295" y="34"/>
                </a:lnTo>
                <a:close/>
                <a:moveTo>
                  <a:pt x="267" y="29"/>
                </a:moveTo>
                <a:lnTo>
                  <a:pt x="267" y="29"/>
                </a:lnTo>
                <a:lnTo>
                  <a:pt x="263" y="29"/>
                </a:lnTo>
                <a:lnTo>
                  <a:pt x="263" y="28"/>
                </a:lnTo>
                <a:lnTo>
                  <a:pt x="263" y="27"/>
                </a:lnTo>
                <a:lnTo>
                  <a:pt x="265" y="27"/>
                </a:lnTo>
                <a:lnTo>
                  <a:pt x="265" y="26"/>
                </a:lnTo>
                <a:lnTo>
                  <a:pt x="267" y="26"/>
                </a:lnTo>
                <a:lnTo>
                  <a:pt x="267" y="26"/>
                </a:lnTo>
                <a:lnTo>
                  <a:pt x="267" y="26"/>
                </a:lnTo>
                <a:lnTo>
                  <a:pt x="269" y="27"/>
                </a:lnTo>
                <a:lnTo>
                  <a:pt x="269" y="27"/>
                </a:lnTo>
                <a:lnTo>
                  <a:pt x="270" y="28"/>
                </a:lnTo>
                <a:lnTo>
                  <a:pt x="269" y="29"/>
                </a:lnTo>
                <a:lnTo>
                  <a:pt x="269" y="29"/>
                </a:lnTo>
                <a:lnTo>
                  <a:pt x="267" y="29"/>
                </a:lnTo>
                <a:lnTo>
                  <a:pt x="267" y="29"/>
                </a:lnTo>
                <a:lnTo>
                  <a:pt x="267" y="29"/>
                </a:lnTo>
                <a:close/>
                <a:moveTo>
                  <a:pt x="237" y="25"/>
                </a:moveTo>
                <a:lnTo>
                  <a:pt x="237" y="25"/>
                </a:lnTo>
                <a:lnTo>
                  <a:pt x="235" y="25"/>
                </a:lnTo>
                <a:lnTo>
                  <a:pt x="235" y="24"/>
                </a:lnTo>
                <a:lnTo>
                  <a:pt x="235" y="23"/>
                </a:lnTo>
                <a:lnTo>
                  <a:pt x="235" y="23"/>
                </a:lnTo>
                <a:lnTo>
                  <a:pt x="237" y="22"/>
                </a:lnTo>
                <a:lnTo>
                  <a:pt x="237" y="22"/>
                </a:lnTo>
                <a:lnTo>
                  <a:pt x="239" y="22"/>
                </a:lnTo>
                <a:lnTo>
                  <a:pt x="239" y="22"/>
                </a:lnTo>
                <a:lnTo>
                  <a:pt x="241" y="23"/>
                </a:lnTo>
                <a:lnTo>
                  <a:pt x="241" y="24"/>
                </a:lnTo>
                <a:lnTo>
                  <a:pt x="241" y="25"/>
                </a:lnTo>
                <a:lnTo>
                  <a:pt x="239" y="25"/>
                </a:lnTo>
                <a:lnTo>
                  <a:pt x="239" y="25"/>
                </a:lnTo>
                <a:lnTo>
                  <a:pt x="237" y="25"/>
                </a:lnTo>
                <a:lnTo>
                  <a:pt x="237" y="25"/>
                </a:lnTo>
                <a:close/>
                <a:moveTo>
                  <a:pt x="209" y="22"/>
                </a:moveTo>
                <a:lnTo>
                  <a:pt x="209" y="22"/>
                </a:lnTo>
                <a:lnTo>
                  <a:pt x="205" y="21"/>
                </a:lnTo>
                <a:lnTo>
                  <a:pt x="205" y="20"/>
                </a:lnTo>
                <a:lnTo>
                  <a:pt x="205" y="20"/>
                </a:lnTo>
                <a:lnTo>
                  <a:pt x="207" y="18"/>
                </a:lnTo>
                <a:lnTo>
                  <a:pt x="209" y="17"/>
                </a:lnTo>
                <a:lnTo>
                  <a:pt x="209" y="17"/>
                </a:lnTo>
                <a:lnTo>
                  <a:pt x="211" y="18"/>
                </a:lnTo>
                <a:lnTo>
                  <a:pt x="211" y="18"/>
                </a:lnTo>
                <a:lnTo>
                  <a:pt x="213" y="20"/>
                </a:lnTo>
                <a:lnTo>
                  <a:pt x="211" y="21"/>
                </a:lnTo>
                <a:lnTo>
                  <a:pt x="211" y="21"/>
                </a:lnTo>
                <a:lnTo>
                  <a:pt x="209" y="22"/>
                </a:lnTo>
                <a:lnTo>
                  <a:pt x="209" y="22"/>
                </a:lnTo>
                <a:lnTo>
                  <a:pt x="209" y="22"/>
                </a:lnTo>
                <a:close/>
                <a:moveTo>
                  <a:pt x="179" y="17"/>
                </a:moveTo>
                <a:lnTo>
                  <a:pt x="179" y="17"/>
                </a:lnTo>
                <a:lnTo>
                  <a:pt x="177" y="16"/>
                </a:lnTo>
                <a:lnTo>
                  <a:pt x="177" y="15"/>
                </a:lnTo>
                <a:lnTo>
                  <a:pt x="177" y="15"/>
                </a:lnTo>
                <a:lnTo>
                  <a:pt x="177" y="14"/>
                </a:lnTo>
                <a:lnTo>
                  <a:pt x="179" y="14"/>
                </a:lnTo>
                <a:lnTo>
                  <a:pt x="181" y="14"/>
                </a:lnTo>
                <a:lnTo>
                  <a:pt x="181" y="14"/>
                </a:lnTo>
                <a:lnTo>
                  <a:pt x="181" y="14"/>
                </a:lnTo>
                <a:lnTo>
                  <a:pt x="183" y="15"/>
                </a:lnTo>
                <a:lnTo>
                  <a:pt x="183" y="15"/>
                </a:lnTo>
                <a:lnTo>
                  <a:pt x="183" y="16"/>
                </a:lnTo>
                <a:lnTo>
                  <a:pt x="181" y="17"/>
                </a:lnTo>
                <a:lnTo>
                  <a:pt x="179" y="17"/>
                </a:lnTo>
                <a:lnTo>
                  <a:pt x="179" y="17"/>
                </a:lnTo>
                <a:lnTo>
                  <a:pt x="179" y="17"/>
                </a:lnTo>
                <a:close/>
                <a:moveTo>
                  <a:pt x="149" y="14"/>
                </a:moveTo>
                <a:lnTo>
                  <a:pt x="149" y="14"/>
                </a:lnTo>
                <a:lnTo>
                  <a:pt x="147" y="13"/>
                </a:lnTo>
                <a:lnTo>
                  <a:pt x="147" y="13"/>
                </a:lnTo>
                <a:lnTo>
                  <a:pt x="147" y="12"/>
                </a:lnTo>
                <a:lnTo>
                  <a:pt x="147" y="12"/>
                </a:lnTo>
                <a:lnTo>
                  <a:pt x="149" y="11"/>
                </a:lnTo>
                <a:lnTo>
                  <a:pt x="151" y="11"/>
                </a:lnTo>
                <a:lnTo>
                  <a:pt x="151" y="11"/>
                </a:lnTo>
                <a:lnTo>
                  <a:pt x="153" y="11"/>
                </a:lnTo>
                <a:lnTo>
                  <a:pt x="153" y="12"/>
                </a:lnTo>
                <a:lnTo>
                  <a:pt x="153" y="13"/>
                </a:lnTo>
                <a:lnTo>
                  <a:pt x="153" y="13"/>
                </a:lnTo>
                <a:lnTo>
                  <a:pt x="151" y="14"/>
                </a:lnTo>
                <a:lnTo>
                  <a:pt x="149" y="14"/>
                </a:lnTo>
                <a:lnTo>
                  <a:pt x="149" y="14"/>
                </a:lnTo>
                <a:close/>
                <a:moveTo>
                  <a:pt x="121" y="11"/>
                </a:moveTo>
                <a:lnTo>
                  <a:pt x="121" y="11"/>
                </a:lnTo>
                <a:lnTo>
                  <a:pt x="119" y="11"/>
                </a:lnTo>
                <a:lnTo>
                  <a:pt x="117" y="10"/>
                </a:lnTo>
                <a:lnTo>
                  <a:pt x="117" y="10"/>
                </a:lnTo>
                <a:lnTo>
                  <a:pt x="117" y="9"/>
                </a:lnTo>
                <a:lnTo>
                  <a:pt x="117" y="9"/>
                </a:lnTo>
                <a:lnTo>
                  <a:pt x="119" y="8"/>
                </a:lnTo>
                <a:lnTo>
                  <a:pt x="119" y="8"/>
                </a:lnTo>
                <a:lnTo>
                  <a:pt x="121" y="8"/>
                </a:lnTo>
                <a:lnTo>
                  <a:pt x="121" y="8"/>
                </a:lnTo>
                <a:lnTo>
                  <a:pt x="123" y="8"/>
                </a:lnTo>
                <a:lnTo>
                  <a:pt x="123" y="9"/>
                </a:lnTo>
                <a:lnTo>
                  <a:pt x="123" y="9"/>
                </a:lnTo>
                <a:lnTo>
                  <a:pt x="123" y="10"/>
                </a:lnTo>
                <a:lnTo>
                  <a:pt x="123" y="10"/>
                </a:lnTo>
                <a:lnTo>
                  <a:pt x="123" y="11"/>
                </a:lnTo>
                <a:lnTo>
                  <a:pt x="121" y="11"/>
                </a:lnTo>
                <a:lnTo>
                  <a:pt x="121" y="11"/>
                </a:lnTo>
                <a:lnTo>
                  <a:pt x="121" y="11"/>
                </a:lnTo>
                <a:close/>
                <a:moveTo>
                  <a:pt x="91" y="9"/>
                </a:moveTo>
                <a:lnTo>
                  <a:pt x="91" y="9"/>
                </a:lnTo>
                <a:lnTo>
                  <a:pt x="90" y="8"/>
                </a:lnTo>
                <a:lnTo>
                  <a:pt x="90" y="8"/>
                </a:lnTo>
                <a:lnTo>
                  <a:pt x="88" y="7"/>
                </a:lnTo>
                <a:lnTo>
                  <a:pt x="90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3" y="6"/>
                </a:lnTo>
                <a:lnTo>
                  <a:pt x="93" y="6"/>
                </a:lnTo>
                <a:lnTo>
                  <a:pt x="95" y="7"/>
                </a:lnTo>
                <a:lnTo>
                  <a:pt x="95" y="7"/>
                </a:lnTo>
                <a:lnTo>
                  <a:pt x="93" y="8"/>
                </a:lnTo>
                <a:lnTo>
                  <a:pt x="91" y="9"/>
                </a:lnTo>
                <a:lnTo>
                  <a:pt x="91" y="9"/>
                </a:lnTo>
                <a:lnTo>
                  <a:pt x="91" y="9"/>
                </a:lnTo>
                <a:close/>
                <a:moveTo>
                  <a:pt x="62" y="7"/>
                </a:moveTo>
                <a:lnTo>
                  <a:pt x="62" y="7"/>
                </a:lnTo>
                <a:lnTo>
                  <a:pt x="60" y="6"/>
                </a:lnTo>
                <a:lnTo>
                  <a:pt x="60" y="6"/>
                </a:lnTo>
                <a:lnTo>
                  <a:pt x="60" y="5"/>
                </a:lnTo>
                <a:lnTo>
                  <a:pt x="60" y="5"/>
                </a:lnTo>
                <a:lnTo>
                  <a:pt x="60" y="4"/>
                </a:lnTo>
                <a:lnTo>
                  <a:pt x="60" y="4"/>
                </a:lnTo>
                <a:lnTo>
                  <a:pt x="62" y="3"/>
                </a:lnTo>
                <a:lnTo>
                  <a:pt x="62" y="3"/>
                </a:lnTo>
                <a:lnTo>
                  <a:pt x="63" y="4"/>
                </a:lnTo>
                <a:lnTo>
                  <a:pt x="65" y="5"/>
                </a:lnTo>
                <a:lnTo>
                  <a:pt x="63" y="6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close/>
                <a:moveTo>
                  <a:pt x="32" y="5"/>
                </a:moveTo>
                <a:lnTo>
                  <a:pt x="32" y="5"/>
                </a:lnTo>
                <a:lnTo>
                  <a:pt x="30" y="4"/>
                </a:lnTo>
                <a:lnTo>
                  <a:pt x="30" y="4"/>
                </a:lnTo>
                <a:lnTo>
                  <a:pt x="30" y="3"/>
                </a:lnTo>
                <a:lnTo>
                  <a:pt x="30" y="3"/>
                </a:lnTo>
                <a:lnTo>
                  <a:pt x="30" y="2"/>
                </a:lnTo>
                <a:lnTo>
                  <a:pt x="32" y="2"/>
                </a:lnTo>
                <a:lnTo>
                  <a:pt x="32" y="2"/>
                </a:lnTo>
                <a:lnTo>
                  <a:pt x="32" y="2"/>
                </a:lnTo>
                <a:lnTo>
                  <a:pt x="34" y="2"/>
                </a:lnTo>
                <a:lnTo>
                  <a:pt x="34" y="2"/>
                </a:lnTo>
                <a:lnTo>
                  <a:pt x="35" y="3"/>
                </a:lnTo>
                <a:lnTo>
                  <a:pt x="35" y="4"/>
                </a:lnTo>
                <a:lnTo>
                  <a:pt x="34" y="4"/>
                </a:lnTo>
                <a:lnTo>
                  <a:pt x="34" y="5"/>
                </a:lnTo>
                <a:lnTo>
                  <a:pt x="32" y="5"/>
                </a:lnTo>
                <a:lnTo>
                  <a:pt x="32" y="5"/>
                </a:lnTo>
                <a:close/>
                <a:moveTo>
                  <a:pt x="2" y="3"/>
                </a:move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6" y="1"/>
                </a:lnTo>
                <a:lnTo>
                  <a:pt x="6" y="1"/>
                </a:lnTo>
                <a:lnTo>
                  <a:pt x="6" y="2"/>
                </a:lnTo>
                <a:lnTo>
                  <a:pt x="6" y="2"/>
                </a:ln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69240" y="4330800"/>
            <a:ext cx="85680" cy="101520"/>
          </a:xfrm>
          <a:custGeom>
            <a:avLst/>
            <a:gdLst/>
            <a:ahLst/>
            <a:rect l="l" t="t" r="r" b="b"/>
            <a:pathLst>
              <a:path w="103" h="57">
                <a:moveTo>
                  <a:pt x="103" y="30"/>
                </a:moveTo>
                <a:lnTo>
                  <a:pt x="103" y="27"/>
                </a:lnTo>
                <a:lnTo>
                  <a:pt x="103" y="23"/>
                </a:lnTo>
                <a:lnTo>
                  <a:pt x="101" y="20"/>
                </a:lnTo>
                <a:lnTo>
                  <a:pt x="99" y="18"/>
                </a:lnTo>
                <a:lnTo>
                  <a:pt x="95" y="13"/>
                </a:lnTo>
                <a:lnTo>
                  <a:pt x="90" y="9"/>
                </a:lnTo>
                <a:lnTo>
                  <a:pt x="82" y="5"/>
                </a:lnTo>
                <a:lnTo>
                  <a:pt x="73" y="2"/>
                </a:lnTo>
                <a:lnTo>
                  <a:pt x="69" y="1"/>
                </a:lnTo>
                <a:lnTo>
                  <a:pt x="64" y="1"/>
                </a:lnTo>
                <a:lnTo>
                  <a:pt x="60" y="0"/>
                </a:lnTo>
                <a:lnTo>
                  <a:pt x="54" y="0"/>
                </a:lnTo>
                <a:lnTo>
                  <a:pt x="49" y="0"/>
                </a:lnTo>
                <a:lnTo>
                  <a:pt x="43" y="0"/>
                </a:lnTo>
                <a:lnTo>
                  <a:pt x="38" y="1"/>
                </a:lnTo>
                <a:lnTo>
                  <a:pt x="34" y="1"/>
                </a:lnTo>
                <a:lnTo>
                  <a:pt x="25" y="4"/>
                </a:lnTo>
                <a:lnTo>
                  <a:pt x="17" y="7"/>
                </a:lnTo>
                <a:lnTo>
                  <a:pt x="10" y="11"/>
                </a:lnTo>
                <a:lnTo>
                  <a:pt x="4" y="15"/>
                </a:lnTo>
                <a:lnTo>
                  <a:pt x="2" y="18"/>
                </a:lnTo>
                <a:lnTo>
                  <a:pt x="2" y="20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2"/>
                </a:lnTo>
                <a:lnTo>
                  <a:pt x="2" y="35"/>
                </a:lnTo>
                <a:lnTo>
                  <a:pt x="2" y="38"/>
                </a:lnTo>
                <a:lnTo>
                  <a:pt x="8" y="42"/>
                </a:lnTo>
                <a:lnTo>
                  <a:pt x="13" y="47"/>
                </a:lnTo>
                <a:lnTo>
                  <a:pt x="21" y="51"/>
                </a:lnTo>
                <a:lnTo>
                  <a:pt x="28" y="54"/>
                </a:lnTo>
                <a:lnTo>
                  <a:pt x="34" y="55"/>
                </a:lnTo>
                <a:lnTo>
                  <a:pt x="38" y="56"/>
                </a:lnTo>
                <a:lnTo>
                  <a:pt x="43" y="57"/>
                </a:lnTo>
                <a:lnTo>
                  <a:pt x="49" y="57"/>
                </a:lnTo>
                <a:lnTo>
                  <a:pt x="54" y="57"/>
                </a:lnTo>
                <a:lnTo>
                  <a:pt x="58" y="57"/>
                </a:lnTo>
                <a:lnTo>
                  <a:pt x="64" y="56"/>
                </a:lnTo>
                <a:lnTo>
                  <a:pt x="69" y="55"/>
                </a:lnTo>
                <a:lnTo>
                  <a:pt x="77" y="53"/>
                </a:lnTo>
                <a:lnTo>
                  <a:pt x="86" y="50"/>
                </a:lnTo>
                <a:lnTo>
                  <a:pt x="92" y="45"/>
                </a:lnTo>
                <a:lnTo>
                  <a:pt x="97" y="40"/>
                </a:lnTo>
                <a:lnTo>
                  <a:pt x="99" y="38"/>
                </a:lnTo>
                <a:lnTo>
                  <a:pt x="101" y="35"/>
                </a:lnTo>
                <a:lnTo>
                  <a:pt x="103" y="33"/>
                </a:lnTo>
                <a:lnTo>
                  <a:pt x="103" y="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702640" y="1390680"/>
            <a:ext cx="212760" cy="250920"/>
          </a:xfrm>
          <a:custGeom>
            <a:avLst/>
            <a:gdLst/>
            <a:ahLst/>
            <a:rect l="l" t="t" r="r" b="b"/>
            <a:pathLst>
              <a:path w="250" h="140">
                <a:moveTo>
                  <a:pt x="0" y="0"/>
                </a:moveTo>
                <a:lnTo>
                  <a:pt x="250" y="140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702640" y="1390680"/>
            <a:ext cx="212760" cy="250920"/>
          </a:xfrm>
          <a:custGeom>
            <a:avLst/>
            <a:gdLst/>
            <a:ahLst/>
            <a:rect l="l" t="t" r="r" b="b"/>
            <a:pathLst>
              <a:path w="250" h="140">
                <a:moveTo>
                  <a:pt x="0" y="0"/>
                </a:moveTo>
                <a:lnTo>
                  <a:pt x="250" y="140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8320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0" y="0"/>
                </a:moveTo>
                <a:lnTo>
                  <a:pt x="250" y="141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8320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0" y="0"/>
                </a:moveTo>
                <a:lnTo>
                  <a:pt x="250" y="141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59480" y="4033800"/>
            <a:ext cx="380880" cy="446040"/>
          </a:xfrm>
          <a:custGeom>
            <a:avLst/>
            <a:gdLst/>
            <a:ahLst/>
            <a:rect l="l" t="t" r="r" b="b"/>
            <a:pathLst>
              <a:path w="448" h="250">
                <a:moveTo>
                  <a:pt x="0" y="125"/>
                </a:moveTo>
                <a:lnTo>
                  <a:pt x="0" y="118"/>
                </a:lnTo>
                <a:lnTo>
                  <a:pt x="2" y="111"/>
                </a:lnTo>
                <a:lnTo>
                  <a:pt x="2" y="105"/>
                </a:lnTo>
                <a:lnTo>
                  <a:pt x="4" y="99"/>
                </a:lnTo>
                <a:lnTo>
                  <a:pt x="8" y="93"/>
                </a:lnTo>
                <a:lnTo>
                  <a:pt x="10" y="87"/>
                </a:lnTo>
                <a:lnTo>
                  <a:pt x="13" y="81"/>
                </a:lnTo>
                <a:lnTo>
                  <a:pt x="17" y="76"/>
                </a:lnTo>
                <a:lnTo>
                  <a:pt x="23" y="70"/>
                </a:lnTo>
                <a:lnTo>
                  <a:pt x="28" y="64"/>
                </a:lnTo>
                <a:lnTo>
                  <a:pt x="39" y="54"/>
                </a:lnTo>
                <a:lnTo>
                  <a:pt x="51" y="45"/>
                </a:lnTo>
                <a:lnTo>
                  <a:pt x="66" y="36"/>
                </a:lnTo>
                <a:lnTo>
                  <a:pt x="82" y="28"/>
                </a:lnTo>
                <a:lnTo>
                  <a:pt x="99" y="21"/>
                </a:lnTo>
                <a:lnTo>
                  <a:pt x="118" y="14"/>
                </a:lnTo>
                <a:lnTo>
                  <a:pt x="127" y="11"/>
                </a:lnTo>
                <a:lnTo>
                  <a:pt x="136" y="9"/>
                </a:lnTo>
                <a:lnTo>
                  <a:pt x="148" y="7"/>
                </a:lnTo>
                <a:lnTo>
                  <a:pt x="157" y="5"/>
                </a:lnTo>
                <a:lnTo>
                  <a:pt x="168" y="3"/>
                </a:lnTo>
                <a:lnTo>
                  <a:pt x="179" y="2"/>
                </a:lnTo>
                <a:lnTo>
                  <a:pt x="191" y="1"/>
                </a:lnTo>
                <a:lnTo>
                  <a:pt x="202" y="0"/>
                </a:lnTo>
                <a:lnTo>
                  <a:pt x="213" y="0"/>
                </a:lnTo>
                <a:lnTo>
                  <a:pt x="224" y="0"/>
                </a:lnTo>
                <a:lnTo>
                  <a:pt x="235" y="0"/>
                </a:lnTo>
                <a:lnTo>
                  <a:pt x="247" y="0"/>
                </a:lnTo>
                <a:lnTo>
                  <a:pt x="258" y="1"/>
                </a:lnTo>
                <a:lnTo>
                  <a:pt x="269" y="2"/>
                </a:lnTo>
                <a:lnTo>
                  <a:pt x="280" y="3"/>
                </a:lnTo>
                <a:lnTo>
                  <a:pt x="291" y="5"/>
                </a:lnTo>
                <a:lnTo>
                  <a:pt x="301" y="7"/>
                </a:lnTo>
                <a:lnTo>
                  <a:pt x="312" y="9"/>
                </a:lnTo>
                <a:lnTo>
                  <a:pt x="321" y="11"/>
                </a:lnTo>
                <a:lnTo>
                  <a:pt x="330" y="14"/>
                </a:lnTo>
                <a:lnTo>
                  <a:pt x="349" y="21"/>
                </a:lnTo>
                <a:lnTo>
                  <a:pt x="366" y="28"/>
                </a:lnTo>
                <a:lnTo>
                  <a:pt x="383" y="36"/>
                </a:lnTo>
                <a:lnTo>
                  <a:pt x="398" y="45"/>
                </a:lnTo>
                <a:lnTo>
                  <a:pt x="411" y="54"/>
                </a:lnTo>
                <a:lnTo>
                  <a:pt x="422" y="64"/>
                </a:lnTo>
                <a:lnTo>
                  <a:pt x="426" y="70"/>
                </a:lnTo>
                <a:lnTo>
                  <a:pt x="431" y="76"/>
                </a:lnTo>
                <a:lnTo>
                  <a:pt x="435" y="81"/>
                </a:lnTo>
                <a:lnTo>
                  <a:pt x="439" y="87"/>
                </a:lnTo>
                <a:lnTo>
                  <a:pt x="441" y="93"/>
                </a:lnTo>
                <a:lnTo>
                  <a:pt x="444" y="99"/>
                </a:lnTo>
                <a:lnTo>
                  <a:pt x="446" y="105"/>
                </a:lnTo>
                <a:lnTo>
                  <a:pt x="446" y="111"/>
                </a:lnTo>
                <a:lnTo>
                  <a:pt x="448" y="118"/>
                </a:lnTo>
                <a:lnTo>
                  <a:pt x="448" y="125"/>
                </a:lnTo>
                <a:lnTo>
                  <a:pt x="448" y="125"/>
                </a:lnTo>
                <a:lnTo>
                  <a:pt x="448" y="131"/>
                </a:lnTo>
                <a:lnTo>
                  <a:pt x="446" y="137"/>
                </a:lnTo>
                <a:lnTo>
                  <a:pt x="446" y="144"/>
                </a:lnTo>
                <a:lnTo>
                  <a:pt x="444" y="150"/>
                </a:lnTo>
                <a:lnTo>
                  <a:pt x="441" y="156"/>
                </a:lnTo>
                <a:lnTo>
                  <a:pt x="439" y="161"/>
                </a:lnTo>
                <a:lnTo>
                  <a:pt x="435" y="168"/>
                </a:lnTo>
                <a:lnTo>
                  <a:pt x="431" y="173"/>
                </a:lnTo>
                <a:lnTo>
                  <a:pt x="426" y="179"/>
                </a:lnTo>
                <a:lnTo>
                  <a:pt x="422" y="184"/>
                </a:lnTo>
                <a:lnTo>
                  <a:pt x="411" y="195"/>
                </a:lnTo>
                <a:lnTo>
                  <a:pt x="398" y="204"/>
                </a:lnTo>
                <a:lnTo>
                  <a:pt x="383" y="212"/>
                </a:lnTo>
                <a:lnTo>
                  <a:pt x="366" y="221"/>
                </a:lnTo>
                <a:lnTo>
                  <a:pt x="349" y="228"/>
                </a:lnTo>
                <a:lnTo>
                  <a:pt x="330" y="234"/>
                </a:lnTo>
                <a:lnTo>
                  <a:pt x="321" y="237"/>
                </a:lnTo>
                <a:lnTo>
                  <a:pt x="312" y="240"/>
                </a:lnTo>
                <a:lnTo>
                  <a:pt x="301" y="242"/>
                </a:lnTo>
                <a:lnTo>
                  <a:pt x="291" y="244"/>
                </a:lnTo>
                <a:lnTo>
                  <a:pt x="280" y="246"/>
                </a:lnTo>
                <a:lnTo>
                  <a:pt x="269" y="247"/>
                </a:lnTo>
                <a:lnTo>
                  <a:pt x="258" y="248"/>
                </a:lnTo>
                <a:lnTo>
                  <a:pt x="247" y="249"/>
                </a:lnTo>
                <a:lnTo>
                  <a:pt x="235" y="249"/>
                </a:lnTo>
                <a:lnTo>
                  <a:pt x="224" y="250"/>
                </a:lnTo>
                <a:lnTo>
                  <a:pt x="213" y="249"/>
                </a:lnTo>
                <a:lnTo>
                  <a:pt x="202" y="249"/>
                </a:lnTo>
                <a:lnTo>
                  <a:pt x="191" y="248"/>
                </a:lnTo>
                <a:lnTo>
                  <a:pt x="179" y="247"/>
                </a:lnTo>
                <a:lnTo>
                  <a:pt x="168" y="246"/>
                </a:lnTo>
                <a:lnTo>
                  <a:pt x="157" y="244"/>
                </a:lnTo>
                <a:lnTo>
                  <a:pt x="148" y="242"/>
                </a:lnTo>
                <a:lnTo>
                  <a:pt x="136" y="240"/>
                </a:lnTo>
                <a:lnTo>
                  <a:pt x="127" y="237"/>
                </a:lnTo>
                <a:lnTo>
                  <a:pt x="118" y="234"/>
                </a:lnTo>
                <a:lnTo>
                  <a:pt x="99" y="228"/>
                </a:lnTo>
                <a:lnTo>
                  <a:pt x="82" y="221"/>
                </a:lnTo>
                <a:lnTo>
                  <a:pt x="66" y="212"/>
                </a:lnTo>
                <a:lnTo>
                  <a:pt x="51" y="204"/>
                </a:lnTo>
                <a:lnTo>
                  <a:pt x="39" y="195"/>
                </a:lnTo>
                <a:lnTo>
                  <a:pt x="28" y="184"/>
                </a:lnTo>
                <a:lnTo>
                  <a:pt x="23" y="179"/>
                </a:lnTo>
                <a:lnTo>
                  <a:pt x="17" y="173"/>
                </a:lnTo>
                <a:lnTo>
                  <a:pt x="13" y="168"/>
                </a:lnTo>
                <a:lnTo>
                  <a:pt x="10" y="161"/>
                </a:lnTo>
                <a:lnTo>
                  <a:pt x="8" y="156"/>
                </a:lnTo>
                <a:lnTo>
                  <a:pt x="4" y="150"/>
                </a:lnTo>
                <a:lnTo>
                  <a:pt x="2" y="144"/>
                </a:lnTo>
                <a:lnTo>
                  <a:pt x="2" y="137"/>
                </a:lnTo>
                <a:lnTo>
                  <a:pt x="0" y="131"/>
                </a:lnTo>
                <a:lnTo>
                  <a:pt x="0" y="125"/>
                </a:lnTo>
              </a:path>
            </a:pathLst>
          </a:custGeom>
          <a:solidFill>
            <a:srgbClr val="cccc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51160" y="3562200"/>
            <a:ext cx="584280" cy="352440"/>
          </a:xfrm>
          <a:custGeom>
            <a:avLst/>
            <a:gdLst/>
            <a:ahLst/>
            <a:rect l="l" t="t" r="r" b="b"/>
            <a:pathLst>
              <a:path w="686" h="198">
                <a:moveTo>
                  <a:pt x="2" y="15"/>
                </a:moveTo>
                <a:lnTo>
                  <a:pt x="2" y="15"/>
                </a:lnTo>
                <a:lnTo>
                  <a:pt x="3" y="15"/>
                </a:lnTo>
                <a:lnTo>
                  <a:pt x="5" y="15"/>
                </a:lnTo>
                <a:lnTo>
                  <a:pt x="5" y="16"/>
                </a:lnTo>
                <a:lnTo>
                  <a:pt x="5" y="17"/>
                </a:lnTo>
                <a:lnTo>
                  <a:pt x="5" y="18"/>
                </a:lnTo>
                <a:lnTo>
                  <a:pt x="3" y="18"/>
                </a:lnTo>
                <a:lnTo>
                  <a:pt x="3" y="18"/>
                </a:lnTo>
                <a:lnTo>
                  <a:pt x="2" y="18"/>
                </a:lnTo>
                <a:lnTo>
                  <a:pt x="2" y="18"/>
                </a:lnTo>
                <a:lnTo>
                  <a:pt x="0" y="17"/>
                </a:lnTo>
                <a:lnTo>
                  <a:pt x="0" y="17"/>
                </a:lnTo>
                <a:lnTo>
                  <a:pt x="0" y="16"/>
                </a:lnTo>
                <a:lnTo>
                  <a:pt x="2" y="15"/>
                </a:lnTo>
                <a:lnTo>
                  <a:pt x="2" y="15"/>
                </a:lnTo>
                <a:close/>
                <a:moveTo>
                  <a:pt x="31" y="12"/>
                </a:moveTo>
                <a:lnTo>
                  <a:pt x="31" y="12"/>
                </a:lnTo>
                <a:lnTo>
                  <a:pt x="33" y="12"/>
                </a:lnTo>
                <a:lnTo>
                  <a:pt x="33" y="12"/>
                </a:lnTo>
                <a:lnTo>
                  <a:pt x="35" y="13"/>
                </a:lnTo>
                <a:lnTo>
                  <a:pt x="35" y="14"/>
                </a:lnTo>
                <a:lnTo>
                  <a:pt x="35" y="14"/>
                </a:lnTo>
                <a:lnTo>
                  <a:pt x="33" y="15"/>
                </a:lnTo>
                <a:lnTo>
                  <a:pt x="33" y="15"/>
                </a:lnTo>
                <a:lnTo>
                  <a:pt x="33" y="15"/>
                </a:lnTo>
                <a:lnTo>
                  <a:pt x="31" y="15"/>
                </a:lnTo>
                <a:lnTo>
                  <a:pt x="31" y="15"/>
                </a:lnTo>
                <a:lnTo>
                  <a:pt x="30" y="14"/>
                </a:lnTo>
                <a:lnTo>
                  <a:pt x="30" y="13"/>
                </a:lnTo>
                <a:lnTo>
                  <a:pt x="30" y="13"/>
                </a:lnTo>
                <a:lnTo>
                  <a:pt x="30" y="12"/>
                </a:lnTo>
                <a:lnTo>
                  <a:pt x="31" y="12"/>
                </a:lnTo>
                <a:lnTo>
                  <a:pt x="31" y="12"/>
                </a:lnTo>
                <a:close/>
                <a:moveTo>
                  <a:pt x="61" y="8"/>
                </a:moveTo>
                <a:lnTo>
                  <a:pt x="61" y="8"/>
                </a:lnTo>
                <a:lnTo>
                  <a:pt x="61" y="8"/>
                </a:lnTo>
                <a:lnTo>
                  <a:pt x="63" y="8"/>
                </a:lnTo>
                <a:lnTo>
                  <a:pt x="65" y="9"/>
                </a:lnTo>
                <a:lnTo>
                  <a:pt x="65" y="11"/>
                </a:lnTo>
                <a:lnTo>
                  <a:pt x="63" y="11"/>
                </a:lnTo>
                <a:lnTo>
                  <a:pt x="63" y="12"/>
                </a:lnTo>
                <a:lnTo>
                  <a:pt x="61" y="12"/>
                </a:lnTo>
                <a:lnTo>
                  <a:pt x="61" y="12"/>
                </a:lnTo>
                <a:lnTo>
                  <a:pt x="61" y="12"/>
                </a:lnTo>
                <a:lnTo>
                  <a:pt x="59" y="12"/>
                </a:lnTo>
                <a:lnTo>
                  <a:pt x="57" y="11"/>
                </a:lnTo>
                <a:lnTo>
                  <a:pt x="57" y="9"/>
                </a:lnTo>
                <a:lnTo>
                  <a:pt x="59" y="8"/>
                </a:lnTo>
                <a:lnTo>
                  <a:pt x="61" y="8"/>
                </a:lnTo>
                <a:lnTo>
                  <a:pt x="61" y="8"/>
                </a:lnTo>
                <a:close/>
                <a:moveTo>
                  <a:pt x="91" y="5"/>
                </a:moveTo>
                <a:lnTo>
                  <a:pt x="91" y="5"/>
                </a:lnTo>
                <a:lnTo>
                  <a:pt x="91" y="5"/>
                </a:lnTo>
                <a:lnTo>
                  <a:pt x="93" y="5"/>
                </a:lnTo>
                <a:lnTo>
                  <a:pt x="93" y="7"/>
                </a:lnTo>
                <a:lnTo>
                  <a:pt x="93" y="8"/>
                </a:lnTo>
                <a:lnTo>
                  <a:pt x="93" y="8"/>
                </a:lnTo>
                <a:lnTo>
                  <a:pt x="91" y="8"/>
                </a:lnTo>
                <a:lnTo>
                  <a:pt x="91" y="8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7" y="6"/>
                </a:lnTo>
                <a:lnTo>
                  <a:pt x="89" y="6"/>
                </a:lnTo>
                <a:lnTo>
                  <a:pt x="91" y="5"/>
                </a:lnTo>
                <a:lnTo>
                  <a:pt x="91" y="5"/>
                </a:lnTo>
                <a:close/>
                <a:moveTo>
                  <a:pt x="119" y="3"/>
                </a:moveTo>
                <a:lnTo>
                  <a:pt x="119" y="3"/>
                </a:lnTo>
                <a:lnTo>
                  <a:pt x="121" y="3"/>
                </a:lnTo>
                <a:lnTo>
                  <a:pt x="123" y="3"/>
                </a:lnTo>
                <a:lnTo>
                  <a:pt x="123" y="4"/>
                </a:lnTo>
                <a:lnTo>
                  <a:pt x="123" y="5"/>
                </a:lnTo>
                <a:lnTo>
                  <a:pt x="123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19" y="6"/>
                </a:lnTo>
                <a:lnTo>
                  <a:pt x="119" y="6"/>
                </a:lnTo>
                <a:lnTo>
                  <a:pt x="117" y="5"/>
                </a:lnTo>
                <a:lnTo>
                  <a:pt x="117" y="5"/>
                </a:lnTo>
                <a:lnTo>
                  <a:pt x="117" y="4"/>
                </a:lnTo>
                <a:lnTo>
                  <a:pt x="117" y="4"/>
                </a:lnTo>
                <a:lnTo>
                  <a:pt x="119" y="3"/>
                </a:lnTo>
                <a:lnTo>
                  <a:pt x="119" y="3"/>
                </a:lnTo>
                <a:lnTo>
                  <a:pt x="119" y="3"/>
                </a:lnTo>
                <a:close/>
                <a:moveTo>
                  <a:pt x="149" y="1"/>
                </a:moveTo>
                <a:lnTo>
                  <a:pt x="149" y="1"/>
                </a:lnTo>
                <a:lnTo>
                  <a:pt x="151" y="1"/>
                </a:lnTo>
                <a:lnTo>
                  <a:pt x="153" y="2"/>
                </a:lnTo>
                <a:lnTo>
                  <a:pt x="153" y="2"/>
                </a:lnTo>
                <a:lnTo>
                  <a:pt x="153" y="3"/>
                </a:lnTo>
                <a:lnTo>
                  <a:pt x="153" y="3"/>
                </a:lnTo>
                <a:lnTo>
                  <a:pt x="153" y="4"/>
                </a:lnTo>
                <a:lnTo>
                  <a:pt x="151" y="5"/>
                </a:lnTo>
                <a:lnTo>
                  <a:pt x="151" y="5"/>
                </a:lnTo>
                <a:lnTo>
                  <a:pt x="149" y="4"/>
                </a:lnTo>
                <a:lnTo>
                  <a:pt x="149" y="4"/>
                </a:lnTo>
                <a:lnTo>
                  <a:pt x="147" y="3"/>
                </a:lnTo>
                <a:lnTo>
                  <a:pt x="147" y="2"/>
                </a:lnTo>
                <a:lnTo>
                  <a:pt x="147" y="2"/>
                </a:lnTo>
                <a:lnTo>
                  <a:pt x="149" y="2"/>
                </a:lnTo>
                <a:lnTo>
                  <a:pt x="149" y="1"/>
                </a:lnTo>
                <a:lnTo>
                  <a:pt x="149" y="1"/>
                </a:lnTo>
                <a:close/>
                <a:moveTo>
                  <a:pt x="179" y="0"/>
                </a:moveTo>
                <a:lnTo>
                  <a:pt x="179" y="0"/>
                </a:lnTo>
                <a:lnTo>
                  <a:pt x="181" y="0"/>
                </a:lnTo>
                <a:lnTo>
                  <a:pt x="182" y="1"/>
                </a:lnTo>
                <a:lnTo>
                  <a:pt x="182" y="1"/>
                </a:lnTo>
                <a:lnTo>
                  <a:pt x="182" y="2"/>
                </a:lnTo>
                <a:lnTo>
                  <a:pt x="182" y="2"/>
                </a:lnTo>
                <a:lnTo>
                  <a:pt x="182" y="3"/>
                </a:lnTo>
                <a:lnTo>
                  <a:pt x="181" y="3"/>
                </a:lnTo>
                <a:lnTo>
                  <a:pt x="181" y="3"/>
                </a:lnTo>
                <a:lnTo>
                  <a:pt x="179" y="3"/>
                </a:lnTo>
                <a:lnTo>
                  <a:pt x="177" y="2"/>
                </a:lnTo>
                <a:lnTo>
                  <a:pt x="177" y="2"/>
                </a:lnTo>
                <a:lnTo>
                  <a:pt x="177" y="1"/>
                </a:lnTo>
                <a:lnTo>
                  <a:pt x="177" y="1"/>
                </a:lnTo>
                <a:lnTo>
                  <a:pt x="179" y="0"/>
                </a:lnTo>
                <a:lnTo>
                  <a:pt x="179" y="0"/>
                </a:lnTo>
                <a:close/>
                <a:moveTo>
                  <a:pt x="209" y="0"/>
                </a:moveTo>
                <a:lnTo>
                  <a:pt x="209" y="0"/>
                </a:lnTo>
                <a:lnTo>
                  <a:pt x="212" y="0"/>
                </a:lnTo>
                <a:lnTo>
                  <a:pt x="212" y="0"/>
                </a:lnTo>
                <a:lnTo>
                  <a:pt x="212" y="1"/>
                </a:lnTo>
                <a:lnTo>
                  <a:pt x="212" y="2"/>
                </a:lnTo>
                <a:lnTo>
                  <a:pt x="212" y="2"/>
                </a:lnTo>
                <a:lnTo>
                  <a:pt x="210" y="3"/>
                </a:lnTo>
                <a:lnTo>
                  <a:pt x="210" y="3"/>
                </a:lnTo>
                <a:lnTo>
                  <a:pt x="209" y="2"/>
                </a:lnTo>
                <a:lnTo>
                  <a:pt x="207" y="2"/>
                </a:lnTo>
                <a:lnTo>
                  <a:pt x="207" y="1"/>
                </a:lnTo>
                <a:lnTo>
                  <a:pt x="207" y="1"/>
                </a:lnTo>
                <a:lnTo>
                  <a:pt x="207" y="0"/>
                </a:lnTo>
                <a:lnTo>
                  <a:pt x="209" y="0"/>
                </a:lnTo>
                <a:lnTo>
                  <a:pt x="209" y="0"/>
                </a:lnTo>
                <a:close/>
                <a:moveTo>
                  <a:pt x="240" y="0"/>
                </a:moveTo>
                <a:lnTo>
                  <a:pt x="240" y="0"/>
                </a:lnTo>
                <a:lnTo>
                  <a:pt x="242" y="0"/>
                </a:lnTo>
                <a:lnTo>
                  <a:pt x="242" y="1"/>
                </a:lnTo>
                <a:lnTo>
                  <a:pt x="242" y="1"/>
                </a:lnTo>
                <a:lnTo>
                  <a:pt x="242" y="2"/>
                </a:lnTo>
                <a:lnTo>
                  <a:pt x="242" y="2"/>
                </a:lnTo>
                <a:lnTo>
                  <a:pt x="240" y="3"/>
                </a:lnTo>
                <a:lnTo>
                  <a:pt x="240" y="3"/>
                </a:lnTo>
                <a:lnTo>
                  <a:pt x="237" y="2"/>
                </a:lnTo>
                <a:lnTo>
                  <a:pt x="237" y="1"/>
                </a:lnTo>
                <a:lnTo>
                  <a:pt x="237" y="0"/>
                </a:lnTo>
                <a:lnTo>
                  <a:pt x="240" y="0"/>
                </a:lnTo>
                <a:lnTo>
                  <a:pt x="240" y="0"/>
                </a:lnTo>
                <a:close/>
                <a:moveTo>
                  <a:pt x="270" y="0"/>
                </a:moveTo>
                <a:lnTo>
                  <a:pt x="270" y="0"/>
                </a:lnTo>
                <a:lnTo>
                  <a:pt x="270" y="0"/>
                </a:lnTo>
                <a:lnTo>
                  <a:pt x="272" y="1"/>
                </a:lnTo>
                <a:lnTo>
                  <a:pt x="272" y="2"/>
                </a:lnTo>
                <a:lnTo>
                  <a:pt x="272" y="2"/>
                </a:lnTo>
                <a:lnTo>
                  <a:pt x="272" y="3"/>
                </a:lnTo>
                <a:lnTo>
                  <a:pt x="268" y="3"/>
                </a:lnTo>
                <a:lnTo>
                  <a:pt x="268" y="3"/>
                </a:lnTo>
                <a:lnTo>
                  <a:pt x="268" y="3"/>
                </a:lnTo>
                <a:lnTo>
                  <a:pt x="266" y="3"/>
                </a:lnTo>
                <a:lnTo>
                  <a:pt x="266" y="2"/>
                </a:lnTo>
                <a:lnTo>
                  <a:pt x="266" y="2"/>
                </a:lnTo>
                <a:lnTo>
                  <a:pt x="266" y="1"/>
                </a:lnTo>
                <a:lnTo>
                  <a:pt x="268" y="0"/>
                </a:lnTo>
                <a:lnTo>
                  <a:pt x="270" y="0"/>
                </a:lnTo>
                <a:lnTo>
                  <a:pt x="270" y="0"/>
                </a:lnTo>
                <a:close/>
                <a:moveTo>
                  <a:pt x="300" y="1"/>
                </a:moveTo>
                <a:lnTo>
                  <a:pt x="300" y="1"/>
                </a:lnTo>
                <a:lnTo>
                  <a:pt x="300" y="2"/>
                </a:lnTo>
                <a:lnTo>
                  <a:pt x="302" y="2"/>
                </a:lnTo>
                <a:lnTo>
                  <a:pt x="302" y="3"/>
                </a:lnTo>
                <a:lnTo>
                  <a:pt x="302" y="3"/>
                </a:lnTo>
                <a:lnTo>
                  <a:pt x="302" y="4"/>
                </a:lnTo>
                <a:lnTo>
                  <a:pt x="302" y="4"/>
                </a:lnTo>
                <a:lnTo>
                  <a:pt x="300" y="5"/>
                </a:lnTo>
                <a:lnTo>
                  <a:pt x="298" y="5"/>
                </a:lnTo>
                <a:lnTo>
                  <a:pt x="298" y="5"/>
                </a:lnTo>
                <a:lnTo>
                  <a:pt x="298" y="4"/>
                </a:lnTo>
                <a:lnTo>
                  <a:pt x="296" y="4"/>
                </a:lnTo>
                <a:lnTo>
                  <a:pt x="296" y="3"/>
                </a:lnTo>
                <a:lnTo>
                  <a:pt x="296" y="2"/>
                </a:lnTo>
                <a:lnTo>
                  <a:pt x="298" y="2"/>
                </a:lnTo>
                <a:lnTo>
                  <a:pt x="300" y="1"/>
                </a:lnTo>
                <a:lnTo>
                  <a:pt x="300" y="1"/>
                </a:lnTo>
                <a:close/>
                <a:moveTo>
                  <a:pt x="330" y="3"/>
                </a:moveTo>
                <a:lnTo>
                  <a:pt x="330" y="3"/>
                </a:lnTo>
                <a:lnTo>
                  <a:pt x="332" y="4"/>
                </a:lnTo>
                <a:lnTo>
                  <a:pt x="332" y="5"/>
                </a:lnTo>
                <a:lnTo>
                  <a:pt x="332" y="6"/>
                </a:lnTo>
                <a:lnTo>
                  <a:pt x="330" y="6"/>
                </a:lnTo>
                <a:lnTo>
                  <a:pt x="330" y="7"/>
                </a:lnTo>
                <a:lnTo>
                  <a:pt x="328" y="7"/>
                </a:lnTo>
                <a:lnTo>
                  <a:pt x="328" y="7"/>
                </a:lnTo>
                <a:lnTo>
                  <a:pt x="326" y="6"/>
                </a:lnTo>
                <a:lnTo>
                  <a:pt x="326" y="5"/>
                </a:lnTo>
                <a:lnTo>
                  <a:pt x="326" y="5"/>
                </a:lnTo>
                <a:lnTo>
                  <a:pt x="326" y="4"/>
                </a:lnTo>
                <a:lnTo>
                  <a:pt x="328" y="4"/>
                </a:lnTo>
                <a:lnTo>
                  <a:pt x="330" y="3"/>
                </a:lnTo>
                <a:lnTo>
                  <a:pt x="330" y="3"/>
                </a:lnTo>
                <a:close/>
                <a:moveTo>
                  <a:pt x="358" y="6"/>
                </a:moveTo>
                <a:lnTo>
                  <a:pt x="358" y="6"/>
                </a:lnTo>
                <a:lnTo>
                  <a:pt x="360" y="6"/>
                </a:lnTo>
                <a:lnTo>
                  <a:pt x="360" y="7"/>
                </a:lnTo>
                <a:lnTo>
                  <a:pt x="362" y="7"/>
                </a:lnTo>
                <a:lnTo>
                  <a:pt x="362" y="8"/>
                </a:lnTo>
                <a:lnTo>
                  <a:pt x="362" y="9"/>
                </a:lnTo>
                <a:lnTo>
                  <a:pt x="360" y="9"/>
                </a:lnTo>
                <a:lnTo>
                  <a:pt x="360" y="9"/>
                </a:lnTo>
                <a:lnTo>
                  <a:pt x="358" y="9"/>
                </a:lnTo>
                <a:lnTo>
                  <a:pt x="358" y="9"/>
                </a:lnTo>
                <a:lnTo>
                  <a:pt x="356" y="9"/>
                </a:lnTo>
                <a:lnTo>
                  <a:pt x="356" y="8"/>
                </a:lnTo>
                <a:lnTo>
                  <a:pt x="356" y="7"/>
                </a:lnTo>
                <a:lnTo>
                  <a:pt x="356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close/>
                <a:moveTo>
                  <a:pt x="388" y="11"/>
                </a:moveTo>
                <a:lnTo>
                  <a:pt x="388" y="11"/>
                </a:lnTo>
                <a:lnTo>
                  <a:pt x="390" y="11"/>
                </a:lnTo>
                <a:lnTo>
                  <a:pt x="390" y="12"/>
                </a:lnTo>
                <a:lnTo>
                  <a:pt x="390" y="13"/>
                </a:lnTo>
                <a:lnTo>
                  <a:pt x="390" y="14"/>
                </a:lnTo>
                <a:lnTo>
                  <a:pt x="388" y="14"/>
                </a:lnTo>
                <a:lnTo>
                  <a:pt x="386" y="14"/>
                </a:lnTo>
                <a:lnTo>
                  <a:pt x="386" y="14"/>
                </a:lnTo>
                <a:lnTo>
                  <a:pt x="386" y="14"/>
                </a:lnTo>
                <a:lnTo>
                  <a:pt x="384" y="13"/>
                </a:lnTo>
                <a:lnTo>
                  <a:pt x="384" y="13"/>
                </a:lnTo>
                <a:lnTo>
                  <a:pt x="384" y="12"/>
                </a:lnTo>
                <a:lnTo>
                  <a:pt x="386" y="11"/>
                </a:lnTo>
                <a:lnTo>
                  <a:pt x="386" y="11"/>
                </a:lnTo>
                <a:lnTo>
                  <a:pt x="388" y="11"/>
                </a:lnTo>
                <a:lnTo>
                  <a:pt x="388" y="11"/>
                </a:lnTo>
                <a:close/>
                <a:moveTo>
                  <a:pt x="418" y="15"/>
                </a:moveTo>
                <a:lnTo>
                  <a:pt x="418" y="15"/>
                </a:lnTo>
                <a:lnTo>
                  <a:pt x="419" y="16"/>
                </a:lnTo>
                <a:lnTo>
                  <a:pt x="419" y="16"/>
                </a:lnTo>
                <a:lnTo>
                  <a:pt x="419" y="17"/>
                </a:lnTo>
                <a:lnTo>
                  <a:pt x="418" y="18"/>
                </a:lnTo>
                <a:lnTo>
                  <a:pt x="416" y="18"/>
                </a:lnTo>
                <a:lnTo>
                  <a:pt x="416" y="18"/>
                </a:lnTo>
                <a:lnTo>
                  <a:pt x="416" y="18"/>
                </a:lnTo>
                <a:lnTo>
                  <a:pt x="414" y="18"/>
                </a:lnTo>
                <a:lnTo>
                  <a:pt x="414" y="17"/>
                </a:lnTo>
                <a:lnTo>
                  <a:pt x="414" y="17"/>
                </a:lnTo>
                <a:lnTo>
                  <a:pt x="414" y="16"/>
                </a:lnTo>
                <a:lnTo>
                  <a:pt x="414" y="16"/>
                </a:lnTo>
                <a:lnTo>
                  <a:pt x="414" y="15"/>
                </a:lnTo>
                <a:lnTo>
                  <a:pt x="416" y="15"/>
                </a:lnTo>
                <a:lnTo>
                  <a:pt x="418" y="15"/>
                </a:lnTo>
                <a:lnTo>
                  <a:pt x="418" y="15"/>
                </a:lnTo>
                <a:close/>
                <a:moveTo>
                  <a:pt x="446" y="20"/>
                </a:moveTo>
                <a:lnTo>
                  <a:pt x="446" y="20"/>
                </a:lnTo>
                <a:lnTo>
                  <a:pt x="447" y="21"/>
                </a:lnTo>
                <a:lnTo>
                  <a:pt x="447" y="22"/>
                </a:lnTo>
                <a:lnTo>
                  <a:pt x="447" y="22"/>
                </a:lnTo>
                <a:lnTo>
                  <a:pt x="446" y="23"/>
                </a:lnTo>
                <a:lnTo>
                  <a:pt x="444" y="23"/>
                </a:lnTo>
                <a:lnTo>
                  <a:pt x="444" y="23"/>
                </a:lnTo>
                <a:lnTo>
                  <a:pt x="444" y="23"/>
                </a:lnTo>
                <a:lnTo>
                  <a:pt x="442" y="23"/>
                </a:lnTo>
                <a:lnTo>
                  <a:pt x="442" y="21"/>
                </a:lnTo>
                <a:lnTo>
                  <a:pt x="444" y="20"/>
                </a:lnTo>
                <a:lnTo>
                  <a:pt x="444" y="20"/>
                </a:lnTo>
                <a:lnTo>
                  <a:pt x="446" y="20"/>
                </a:lnTo>
                <a:lnTo>
                  <a:pt x="446" y="20"/>
                </a:lnTo>
                <a:close/>
                <a:moveTo>
                  <a:pt x="474" y="27"/>
                </a:moveTo>
                <a:lnTo>
                  <a:pt x="474" y="27"/>
                </a:lnTo>
                <a:lnTo>
                  <a:pt x="475" y="27"/>
                </a:lnTo>
                <a:lnTo>
                  <a:pt x="475" y="28"/>
                </a:lnTo>
                <a:lnTo>
                  <a:pt x="474" y="29"/>
                </a:lnTo>
                <a:lnTo>
                  <a:pt x="474" y="30"/>
                </a:lnTo>
                <a:lnTo>
                  <a:pt x="472" y="30"/>
                </a:lnTo>
                <a:lnTo>
                  <a:pt x="470" y="29"/>
                </a:lnTo>
                <a:lnTo>
                  <a:pt x="470" y="29"/>
                </a:lnTo>
                <a:lnTo>
                  <a:pt x="470" y="29"/>
                </a:lnTo>
                <a:lnTo>
                  <a:pt x="470" y="27"/>
                </a:lnTo>
                <a:lnTo>
                  <a:pt x="470" y="26"/>
                </a:lnTo>
                <a:lnTo>
                  <a:pt x="472" y="26"/>
                </a:lnTo>
                <a:lnTo>
                  <a:pt x="474" y="27"/>
                </a:lnTo>
                <a:lnTo>
                  <a:pt x="474" y="27"/>
                </a:lnTo>
                <a:close/>
                <a:moveTo>
                  <a:pt x="500" y="34"/>
                </a:moveTo>
                <a:lnTo>
                  <a:pt x="500" y="34"/>
                </a:lnTo>
                <a:lnTo>
                  <a:pt x="502" y="36"/>
                </a:lnTo>
                <a:lnTo>
                  <a:pt x="502" y="37"/>
                </a:lnTo>
                <a:lnTo>
                  <a:pt x="500" y="38"/>
                </a:lnTo>
                <a:lnTo>
                  <a:pt x="498" y="38"/>
                </a:lnTo>
                <a:lnTo>
                  <a:pt x="498" y="38"/>
                </a:lnTo>
                <a:lnTo>
                  <a:pt x="498" y="38"/>
                </a:lnTo>
                <a:lnTo>
                  <a:pt x="496" y="37"/>
                </a:lnTo>
                <a:lnTo>
                  <a:pt x="496" y="36"/>
                </a:lnTo>
                <a:lnTo>
                  <a:pt x="496" y="34"/>
                </a:lnTo>
                <a:lnTo>
                  <a:pt x="498" y="34"/>
                </a:lnTo>
                <a:lnTo>
                  <a:pt x="498" y="34"/>
                </a:lnTo>
                <a:lnTo>
                  <a:pt x="500" y="34"/>
                </a:lnTo>
                <a:lnTo>
                  <a:pt x="500" y="34"/>
                </a:lnTo>
                <a:close/>
                <a:moveTo>
                  <a:pt x="526" y="43"/>
                </a:moveTo>
                <a:lnTo>
                  <a:pt x="526" y="43"/>
                </a:lnTo>
                <a:lnTo>
                  <a:pt x="528" y="44"/>
                </a:lnTo>
                <a:lnTo>
                  <a:pt x="528" y="44"/>
                </a:lnTo>
                <a:lnTo>
                  <a:pt x="528" y="45"/>
                </a:lnTo>
                <a:lnTo>
                  <a:pt x="526" y="46"/>
                </a:lnTo>
                <a:lnTo>
                  <a:pt x="524" y="46"/>
                </a:lnTo>
                <a:lnTo>
                  <a:pt x="522" y="46"/>
                </a:lnTo>
                <a:lnTo>
                  <a:pt x="522" y="46"/>
                </a:lnTo>
                <a:lnTo>
                  <a:pt x="522" y="45"/>
                </a:lnTo>
                <a:lnTo>
                  <a:pt x="522" y="44"/>
                </a:lnTo>
                <a:lnTo>
                  <a:pt x="522" y="43"/>
                </a:lnTo>
                <a:lnTo>
                  <a:pt x="524" y="43"/>
                </a:lnTo>
                <a:lnTo>
                  <a:pt x="524" y="43"/>
                </a:lnTo>
                <a:lnTo>
                  <a:pt x="526" y="43"/>
                </a:lnTo>
                <a:lnTo>
                  <a:pt x="526" y="43"/>
                </a:lnTo>
                <a:close/>
                <a:moveTo>
                  <a:pt x="550" y="52"/>
                </a:moveTo>
                <a:lnTo>
                  <a:pt x="550" y="52"/>
                </a:lnTo>
                <a:lnTo>
                  <a:pt x="552" y="53"/>
                </a:lnTo>
                <a:lnTo>
                  <a:pt x="552" y="54"/>
                </a:lnTo>
                <a:lnTo>
                  <a:pt x="552" y="54"/>
                </a:lnTo>
                <a:lnTo>
                  <a:pt x="550" y="55"/>
                </a:lnTo>
                <a:lnTo>
                  <a:pt x="546" y="55"/>
                </a:lnTo>
                <a:lnTo>
                  <a:pt x="546" y="55"/>
                </a:lnTo>
                <a:lnTo>
                  <a:pt x="546" y="54"/>
                </a:lnTo>
                <a:lnTo>
                  <a:pt x="546" y="52"/>
                </a:lnTo>
                <a:lnTo>
                  <a:pt x="548" y="52"/>
                </a:lnTo>
                <a:lnTo>
                  <a:pt x="550" y="52"/>
                </a:lnTo>
                <a:lnTo>
                  <a:pt x="550" y="52"/>
                </a:lnTo>
                <a:lnTo>
                  <a:pt x="550" y="52"/>
                </a:lnTo>
                <a:close/>
                <a:moveTo>
                  <a:pt x="574" y="63"/>
                </a:moveTo>
                <a:lnTo>
                  <a:pt x="574" y="63"/>
                </a:lnTo>
                <a:lnTo>
                  <a:pt x="574" y="65"/>
                </a:lnTo>
                <a:lnTo>
                  <a:pt x="574" y="66"/>
                </a:lnTo>
                <a:lnTo>
                  <a:pt x="572" y="66"/>
                </a:lnTo>
                <a:lnTo>
                  <a:pt x="571" y="66"/>
                </a:lnTo>
                <a:lnTo>
                  <a:pt x="571" y="66"/>
                </a:lnTo>
                <a:lnTo>
                  <a:pt x="571" y="66"/>
                </a:lnTo>
                <a:lnTo>
                  <a:pt x="569" y="65"/>
                </a:lnTo>
                <a:lnTo>
                  <a:pt x="569" y="63"/>
                </a:lnTo>
                <a:lnTo>
                  <a:pt x="571" y="63"/>
                </a:lnTo>
                <a:lnTo>
                  <a:pt x="572" y="63"/>
                </a:lnTo>
                <a:lnTo>
                  <a:pt x="574" y="63"/>
                </a:lnTo>
                <a:lnTo>
                  <a:pt x="574" y="63"/>
                </a:lnTo>
                <a:close/>
                <a:moveTo>
                  <a:pt x="595" y="75"/>
                </a:moveTo>
                <a:lnTo>
                  <a:pt x="595" y="75"/>
                </a:lnTo>
                <a:lnTo>
                  <a:pt x="597" y="76"/>
                </a:lnTo>
                <a:lnTo>
                  <a:pt x="595" y="77"/>
                </a:lnTo>
                <a:lnTo>
                  <a:pt x="593" y="77"/>
                </a:lnTo>
                <a:lnTo>
                  <a:pt x="593" y="77"/>
                </a:lnTo>
                <a:lnTo>
                  <a:pt x="591" y="77"/>
                </a:lnTo>
                <a:lnTo>
                  <a:pt x="591" y="77"/>
                </a:lnTo>
                <a:lnTo>
                  <a:pt x="589" y="76"/>
                </a:lnTo>
                <a:lnTo>
                  <a:pt x="591" y="75"/>
                </a:lnTo>
                <a:lnTo>
                  <a:pt x="593" y="74"/>
                </a:lnTo>
                <a:lnTo>
                  <a:pt x="595" y="74"/>
                </a:lnTo>
                <a:lnTo>
                  <a:pt x="595" y="75"/>
                </a:lnTo>
                <a:lnTo>
                  <a:pt x="595" y="75"/>
                </a:lnTo>
                <a:close/>
                <a:moveTo>
                  <a:pt x="615" y="88"/>
                </a:moveTo>
                <a:lnTo>
                  <a:pt x="615" y="88"/>
                </a:lnTo>
                <a:lnTo>
                  <a:pt x="615" y="89"/>
                </a:lnTo>
                <a:lnTo>
                  <a:pt x="615" y="89"/>
                </a:lnTo>
                <a:lnTo>
                  <a:pt x="613" y="90"/>
                </a:lnTo>
                <a:lnTo>
                  <a:pt x="612" y="91"/>
                </a:lnTo>
                <a:lnTo>
                  <a:pt x="610" y="90"/>
                </a:lnTo>
                <a:lnTo>
                  <a:pt x="610" y="90"/>
                </a:lnTo>
                <a:lnTo>
                  <a:pt x="610" y="89"/>
                </a:lnTo>
                <a:lnTo>
                  <a:pt x="610" y="88"/>
                </a:lnTo>
                <a:lnTo>
                  <a:pt x="613" y="87"/>
                </a:lnTo>
                <a:lnTo>
                  <a:pt x="615" y="88"/>
                </a:lnTo>
                <a:lnTo>
                  <a:pt x="615" y="88"/>
                </a:lnTo>
                <a:close/>
                <a:moveTo>
                  <a:pt x="632" y="101"/>
                </a:moveTo>
                <a:lnTo>
                  <a:pt x="632" y="101"/>
                </a:lnTo>
                <a:lnTo>
                  <a:pt x="632" y="102"/>
                </a:lnTo>
                <a:lnTo>
                  <a:pt x="632" y="103"/>
                </a:lnTo>
                <a:lnTo>
                  <a:pt x="628" y="104"/>
                </a:lnTo>
                <a:lnTo>
                  <a:pt x="627" y="103"/>
                </a:lnTo>
                <a:lnTo>
                  <a:pt x="627" y="103"/>
                </a:lnTo>
                <a:lnTo>
                  <a:pt x="627" y="102"/>
                </a:lnTo>
                <a:lnTo>
                  <a:pt x="627" y="102"/>
                </a:lnTo>
                <a:lnTo>
                  <a:pt x="628" y="101"/>
                </a:lnTo>
                <a:lnTo>
                  <a:pt x="628" y="100"/>
                </a:lnTo>
                <a:lnTo>
                  <a:pt x="630" y="100"/>
                </a:lnTo>
                <a:lnTo>
                  <a:pt x="632" y="101"/>
                </a:lnTo>
                <a:lnTo>
                  <a:pt x="632" y="101"/>
                </a:lnTo>
                <a:close/>
                <a:moveTo>
                  <a:pt x="647" y="116"/>
                </a:moveTo>
                <a:lnTo>
                  <a:pt x="647" y="116"/>
                </a:lnTo>
                <a:lnTo>
                  <a:pt x="647" y="117"/>
                </a:lnTo>
                <a:lnTo>
                  <a:pt x="647" y="117"/>
                </a:lnTo>
                <a:lnTo>
                  <a:pt x="645" y="118"/>
                </a:lnTo>
                <a:lnTo>
                  <a:pt x="643" y="118"/>
                </a:lnTo>
                <a:lnTo>
                  <a:pt x="641" y="118"/>
                </a:lnTo>
                <a:lnTo>
                  <a:pt x="641" y="118"/>
                </a:lnTo>
                <a:lnTo>
                  <a:pt x="641" y="116"/>
                </a:lnTo>
                <a:lnTo>
                  <a:pt x="643" y="115"/>
                </a:lnTo>
                <a:lnTo>
                  <a:pt x="645" y="115"/>
                </a:lnTo>
                <a:lnTo>
                  <a:pt x="645" y="115"/>
                </a:lnTo>
                <a:lnTo>
                  <a:pt x="647" y="116"/>
                </a:lnTo>
                <a:lnTo>
                  <a:pt x="647" y="116"/>
                </a:lnTo>
                <a:close/>
                <a:moveTo>
                  <a:pt x="660" y="131"/>
                </a:moveTo>
                <a:lnTo>
                  <a:pt x="660" y="131"/>
                </a:lnTo>
                <a:lnTo>
                  <a:pt x="660" y="131"/>
                </a:lnTo>
                <a:lnTo>
                  <a:pt x="660" y="132"/>
                </a:lnTo>
                <a:lnTo>
                  <a:pt x="658" y="134"/>
                </a:lnTo>
                <a:lnTo>
                  <a:pt x="656" y="134"/>
                </a:lnTo>
                <a:lnTo>
                  <a:pt x="656" y="134"/>
                </a:lnTo>
                <a:lnTo>
                  <a:pt x="655" y="132"/>
                </a:lnTo>
                <a:lnTo>
                  <a:pt x="655" y="132"/>
                </a:lnTo>
                <a:lnTo>
                  <a:pt x="655" y="131"/>
                </a:lnTo>
                <a:lnTo>
                  <a:pt x="655" y="131"/>
                </a:lnTo>
                <a:lnTo>
                  <a:pt x="656" y="130"/>
                </a:lnTo>
                <a:lnTo>
                  <a:pt x="656" y="130"/>
                </a:lnTo>
                <a:lnTo>
                  <a:pt x="658" y="130"/>
                </a:lnTo>
                <a:lnTo>
                  <a:pt x="660" y="131"/>
                </a:lnTo>
                <a:lnTo>
                  <a:pt x="660" y="131"/>
                </a:lnTo>
                <a:close/>
                <a:moveTo>
                  <a:pt x="669" y="147"/>
                </a:moveTo>
                <a:lnTo>
                  <a:pt x="669" y="147"/>
                </a:lnTo>
                <a:lnTo>
                  <a:pt x="669" y="148"/>
                </a:lnTo>
                <a:lnTo>
                  <a:pt x="668" y="149"/>
                </a:lnTo>
                <a:lnTo>
                  <a:pt x="666" y="149"/>
                </a:lnTo>
                <a:lnTo>
                  <a:pt x="664" y="148"/>
                </a:lnTo>
                <a:lnTo>
                  <a:pt x="664" y="148"/>
                </a:lnTo>
                <a:lnTo>
                  <a:pt x="664" y="147"/>
                </a:lnTo>
                <a:lnTo>
                  <a:pt x="664" y="147"/>
                </a:lnTo>
                <a:lnTo>
                  <a:pt x="666" y="146"/>
                </a:lnTo>
                <a:lnTo>
                  <a:pt x="668" y="146"/>
                </a:lnTo>
                <a:lnTo>
                  <a:pt x="669" y="146"/>
                </a:lnTo>
                <a:lnTo>
                  <a:pt x="669" y="147"/>
                </a:lnTo>
                <a:lnTo>
                  <a:pt x="669" y="147"/>
                </a:lnTo>
                <a:close/>
                <a:moveTo>
                  <a:pt x="677" y="163"/>
                </a:moveTo>
                <a:lnTo>
                  <a:pt x="677" y="163"/>
                </a:lnTo>
                <a:lnTo>
                  <a:pt x="679" y="164"/>
                </a:lnTo>
                <a:lnTo>
                  <a:pt x="677" y="165"/>
                </a:lnTo>
                <a:lnTo>
                  <a:pt x="677" y="165"/>
                </a:lnTo>
                <a:lnTo>
                  <a:pt x="675" y="165"/>
                </a:lnTo>
                <a:lnTo>
                  <a:pt x="675" y="165"/>
                </a:lnTo>
                <a:lnTo>
                  <a:pt x="673" y="165"/>
                </a:lnTo>
                <a:lnTo>
                  <a:pt x="671" y="164"/>
                </a:lnTo>
                <a:lnTo>
                  <a:pt x="671" y="164"/>
                </a:lnTo>
                <a:lnTo>
                  <a:pt x="671" y="164"/>
                </a:lnTo>
                <a:lnTo>
                  <a:pt x="673" y="163"/>
                </a:lnTo>
                <a:lnTo>
                  <a:pt x="675" y="162"/>
                </a:lnTo>
                <a:lnTo>
                  <a:pt x="677" y="162"/>
                </a:lnTo>
                <a:lnTo>
                  <a:pt x="677" y="163"/>
                </a:lnTo>
                <a:lnTo>
                  <a:pt x="677" y="163"/>
                </a:lnTo>
                <a:close/>
                <a:moveTo>
                  <a:pt x="683" y="179"/>
                </a:moveTo>
                <a:lnTo>
                  <a:pt x="683" y="179"/>
                </a:lnTo>
                <a:lnTo>
                  <a:pt x="683" y="180"/>
                </a:lnTo>
                <a:lnTo>
                  <a:pt x="683" y="181"/>
                </a:lnTo>
                <a:lnTo>
                  <a:pt x="683" y="181"/>
                </a:lnTo>
                <a:lnTo>
                  <a:pt x="681" y="181"/>
                </a:lnTo>
                <a:lnTo>
                  <a:pt x="679" y="181"/>
                </a:lnTo>
                <a:lnTo>
                  <a:pt x="679" y="181"/>
                </a:lnTo>
                <a:lnTo>
                  <a:pt x="677" y="180"/>
                </a:lnTo>
                <a:lnTo>
                  <a:pt x="677" y="180"/>
                </a:lnTo>
                <a:lnTo>
                  <a:pt x="677" y="180"/>
                </a:lnTo>
                <a:lnTo>
                  <a:pt x="677" y="179"/>
                </a:lnTo>
                <a:lnTo>
                  <a:pt x="679" y="179"/>
                </a:lnTo>
                <a:lnTo>
                  <a:pt x="679" y="178"/>
                </a:lnTo>
                <a:lnTo>
                  <a:pt x="681" y="178"/>
                </a:lnTo>
                <a:lnTo>
                  <a:pt x="681" y="178"/>
                </a:lnTo>
                <a:lnTo>
                  <a:pt x="683" y="178"/>
                </a:lnTo>
                <a:lnTo>
                  <a:pt x="683" y="179"/>
                </a:lnTo>
                <a:lnTo>
                  <a:pt x="683" y="179"/>
                </a:lnTo>
                <a:lnTo>
                  <a:pt x="683" y="179"/>
                </a:lnTo>
                <a:close/>
                <a:moveTo>
                  <a:pt x="686" y="196"/>
                </a:moveTo>
                <a:lnTo>
                  <a:pt x="686" y="196"/>
                </a:lnTo>
                <a:lnTo>
                  <a:pt x="686" y="198"/>
                </a:lnTo>
                <a:lnTo>
                  <a:pt x="683" y="198"/>
                </a:lnTo>
                <a:lnTo>
                  <a:pt x="683" y="198"/>
                </a:lnTo>
                <a:lnTo>
                  <a:pt x="681" y="198"/>
                </a:lnTo>
                <a:lnTo>
                  <a:pt x="681" y="197"/>
                </a:lnTo>
                <a:lnTo>
                  <a:pt x="681" y="197"/>
                </a:lnTo>
                <a:lnTo>
                  <a:pt x="681" y="197"/>
                </a:lnTo>
                <a:lnTo>
                  <a:pt x="681" y="196"/>
                </a:lnTo>
                <a:lnTo>
                  <a:pt x="681" y="195"/>
                </a:lnTo>
                <a:lnTo>
                  <a:pt x="683" y="195"/>
                </a:lnTo>
                <a:lnTo>
                  <a:pt x="683" y="195"/>
                </a:lnTo>
                <a:lnTo>
                  <a:pt x="684" y="195"/>
                </a:lnTo>
                <a:lnTo>
                  <a:pt x="686" y="195"/>
                </a:lnTo>
                <a:lnTo>
                  <a:pt x="686" y="196"/>
                </a:lnTo>
                <a:lnTo>
                  <a:pt x="686" y="196"/>
                </a:lnTo>
                <a:lnTo>
                  <a:pt x="686" y="1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8200" y="3895560"/>
            <a:ext cx="115920" cy="142920"/>
          </a:xfrm>
          <a:custGeom>
            <a:avLst/>
            <a:gdLst/>
            <a:ahLst/>
            <a:rect l="l" t="t" r="r" b="b"/>
            <a:pathLst>
              <a:path w="136" h="80">
                <a:moveTo>
                  <a:pt x="56" y="80"/>
                </a:moveTo>
                <a:lnTo>
                  <a:pt x="0" y="0"/>
                </a:lnTo>
                <a:lnTo>
                  <a:pt x="8" y="2"/>
                </a:lnTo>
                <a:lnTo>
                  <a:pt x="15" y="5"/>
                </a:lnTo>
                <a:lnTo>
                  <a:pt x="24" y="7"/>
                </a:lnTo>
                <a:lnTo>
                  <a:pt x="32" y="8"/>
                </a:lnTo>
                <a:lnTo>
                  <a:pt x="41" y="10"/>
                </a:lnTo>
                <a:lnTo>
                  <a:pt x="49" y="11"/>
                </a:lnTo>
                <a:lnTo>
                  <a:pt x="58" y="12"/>
                </a:lnTo>
                <a:lnTo>
                  <a:pt x="67" y="12"/>
                </a:lnTo>
                <a:lnTo>
                  <a:pt x="77" y="12"/>
                </a:lnTo>
                <a:lnTo>
                  <a:pt x="84" y="13"/>
                </a:lnTo>
                <a:lnTo>
                  <a:pt x="93" y="12"/>
                </a:lnTo>
                <a:lnTo>
                  <a:pt x="103" y="12"/>
                </a:lnTo>
                <a:lnTo>
                  <a:pt x="110" y="11"/>
                </a:lnTo>
                <a:lnTo>
                  <a:pt x="119" y="10"/>
                </a:lnTo>
                <a:lnTo>
                  <a:pt x="129" y="9"/>
                </a:lnTo>
                <a:lnTo>
                  <a:pt x="136" y="7"/>
                </a:lnTo>
                <a:lnTo>
                  <a:pt x="56" y="80"/>
                </a:lnTo>
                <a:lnTo>
                  <a:pt x="56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75360" y="3554280"/>
            <a:ext cx="587520" cy="355680"/>
          </a:xfrm>
          <a:custGeom>
            <a:avLst/>
            <a:gdLst/>
            <a:ahLst/>
            <a:rect l="l" t="t" r="r" b="b"/>
            <a:pathLst>
              <a:path w="688" h="199">
                <a:moveTo>
                  <a:pt x="3" y="16"/>
                </a:moveTo>
                <a:lnTo>
                  <a:pt x="3" y="16"/>
                </a:lnTo>
                <a:lnTo>
                  <a:pt x="3" y="16"/>
                </a:lnTo>
                <a:lnTo>
                  <a:pt x="5" y="16"/>
                </a:lnTo>
                <a:lnTo>
                  <a:pt x="5" y="17"/>
                </a:lnTo>
                <a:lnTo>
                  <a:pt x="7" y="17"/>
                </a:lnTo>
                <a:lnTo>
                  <a:pt x="7" y="18"/>
                </a:lnTo>
                <a:lnTo>
                  <a:pt x="7" y="18"/>
                </a:lnTo>
                <a:lnTo>
                  <a:pt x="5" y="19"/>
                </a:lnTo>
                <a:lnTo>
                  <a:pt x="5" y="19"/>
                </a:lnTo>
                <a:lnTo>
                  <a:pt x="3" y="19"/>
                </a:lnTo>
                <a:lnTo>
                  <a:pt x="2" y="19"/>
                </a:lnTo>
                <a:lnTo>
                  <a:pt x="2" y="18"/>
                </a:lnTo>
                <a:lnTo>
                  <a:pt x="2" y="18"/>
                </a:lnTo>
                <a:lnTo>
                  <a:pt x="0" y="17"/>
                </a:lnTo>
                <a:lnTo>
                  <a:pt x="2" y="17"/>
                </a:lnTo>
                <a:lnTo>
                  <a:pt x="2" y="16"/>
                </a:lnTo>
                <a:lnTo>
                  <a:pt x="3" y="16"/>
                </a:lnTo>
                <a:lnTo>
                  <a:pt x="3" y="16"/>
                </a:lnTo>
                <a:close/>
                <a:moveTo>
                  <a:pt x="31" y="12"/>
                </a:moveTo>
                <a:lnTo>
                  <a:pt x="31" y="12"/>
                </a:lnTo>
                <a:lnTo>
                  <a:pt x="33" y="11"/>
                </a:lnTo>
                <a:lnTo>
                  <a:pt x="35" y="12"/>
                </a:lnTo>
                <a:lnTo>
                  <a:pt x="35" y="13"/>
                </a:lnTo>
                <a:lnTo>
                  <a:pt x="35" y="13"/>
                </a:lnTo>
                <a:lnTo>
                  <a:pt x="35" y="15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1" y="15"/>
                </a:lnTo>
                <a:lnTo>
                  <a:pt x="30" y="15"/>
                </a:lnTo>
                <a:lnTo>
                  <a:pt x="30" y="13"/>
                </a:lnTo>
                <a:lnTo>
                  <a:pt x="30" y="12"/>
                </a:lnTo>
                <a:lnTo>
                  <a:pt x="31" y="12"/>
                </a:lnTo>
                <a:lnTo>
                  <a:pt x="31" y="12"/>
                </a:lnTo>
                <a:close/>
                <a:moveTo>
                  <a:pt x="61" y="9"/>
                </a:moveTo>
                <a:lnTo>
                  <a:pt x="61" y="9"/>
                </a:lnTo>
                <a:lnTo>
                  <a:pt x="63" y="8"/>
                </a:lnTo>
                <a:lnTo>
                  <a:pt x="63" y="9"/>
                </a:lnTo>
                <a:lnTo>
                  <a:pt x="65" y="10"/>
                </a:lnTo>
                <a:lnTo>
                  <a:pt x="65" y="10"/>
                </a:lnTo>
                <a:lnTo>
                  <a:pt x="65" y="11"/>
                </a:lnTo>
                <a:lnTo>
                  <a:pt x="63" y="12"/>
                </a:lnTo>
                <a:lnTo>
                  <a:pt x="63" y="12"/>
                </a:lnTo>
                <a:lnTo>
                  <a:pt x="61" y="12"/>
                </a:lnTo>
                <a:lnTo>
                  <a:pt x="61" y="11"/>
                </a:lnTo>
                <a:lnTo>
                  <a:pt x="59" y="11"/>
                </a:lnTo>
                <a:lnTo>
                  <a:pt x="59" y="10"/>
                </a:lnTo>
                <a:lnTo>
                  <a:pt x="59" y="10"/>
                </a:lnTo>
                <a:lnTo>
                  <a:pt x="59" y="9"/>
                </a:lnTo>
                <a:lnTo>
                  <a:pt x="61" y="9"/>
                </a:lnTo>
                <a:lnTo>
                  <a:pt x="61" y="9"/>
                </a:lnTo>
                <a:lnTo>
                  <a:pt x="61" y="9"/>
                </a:lnTo>
                <a:close/>
                <a:moveTo>
                  <a:pt x="91" y="6"/>
                </a:moveTo>
                <a:lnTo>
                  <a:pt x="91" y="6"/>
                </a:lnTo>
                <a:lnTo>
                  <a:pt x="93" y="6"/>
                </a:lnTo>
                <a:lnTo>
                  <a:pt x="93" y="6"/>
                </a:lnTo>
                <a:lnTo>
                  <a:pt x="95" y="6"/>
                </a:lnTo>
                <a:lnTo>
                  <a:pt x="95" y="7"/>
                </a:lnTo>
                <a:lnTo>
                  <a:pt x="95" y="8"/>
                </a:lnTo>
                <a:lnTo>
                  <a:pt x="95" y="8"/>
                </a:lnTo>
                <a:lnTo>
                  <a:pt x="93" y="9"/>
                </a:lnTo>
                <a:lnTo>
                  <a:pt x="93" y="9"/>
                </a:lnTo>
                <a:lnTo>
                  <a:pt x="89" y="9"/>
                </a:lnTo>
                <a:lnTo>
                  <a:pt x="89" y="8"/>
                </a:lnTo>
                <a:lnTo>
                  <a:pt x="89" y="8"/>
                </a:lnTo>
                <a:lnTo>
                  <a:pt x="89" y="7"/>
                </a:lnTo>
                <a:lnTo>
                  <a:pt x="89" y="6"/>
                </a:lnTo>
                <a:lnTo>
                  <a:pt x="91" y="6"/>
                </a:lnTo>
                <a:lnTo>
                  <a:pt x="91" y="6"/>
                </a:lnTo>
                <a:close/>
                <a:moveTo>
                  <a:pt x="121" y="4"/>
                </a:moveTo>
                <a:lnTo>
                  <a:pt x="121" y="4"/>
                </a:lnTo>
                <a:lnTo>
                  <a:pt x="123" y="4"/>
                </a:lnTo>
                <a:lnTo>
                  <a:pt x="125" y="5"/>
                </a:lnTo>
                <a:lnTo>
                  <a:pt x="123" y="6"/>
                </a:lnTo>
                <a:lnTo>
                  <a:pt x="123" y="7"/>
                </a:lnTo>
                <a:lnTo>
                  <a:pt x="121" y="7"/>
                </a:lnTo>
                <a:lnTo>
                  <a:pt x="121" y="7"/>
                </a:lnTo>
                <a:lnTo>
                  <a:pt x="121" y="7"/>
                </a:lnTo>
                <a:lnTo>
                  <a:pt x="119" y="7"/>
                </a:lnTo>
                <a:lnTo>
                  <a:pt x="119" y="6"/>
                </a:lnTo>
                <a:lnTo>
                  <a:pt x="119" y="4"/>
                </a:lnTo>
                <a:lnTo>
                  <a:pt x="121" y="4"/>
                </a:lnTo>
                <a:lnTo>
                  <a:pt x="121" y="4"/>
                </a:lnTo>
                <a:close/>
                <a:moveTo>
                  <a:pt x="151" y="2"/>
                </a:moveTo>
                <a:lnTo>
                  <a:pt x="151" y="2"/>
                </a:lnTo>
                <a:lnTo>
                  <a:pt x="153" y="2"/>
                </a:lnTo>
                <a:lnTo>
                  <a:pt x="153" y="2"/>
                </a:lnTo>
                <a:lnTo>
                  <a:pt x="153" y="3"/>
                </a:lnTo>
                <a:lnTo>
                  <a:pt x="155" y="3"/>
                </a:lnTo>
                <a:lnTo>
                  <a:pt x="155" y="4"/>
                </a:lnTo>
                <a:lnTo>
                  <a:pt x="153" y="5"/>
                </a:lnTo>
                <a:lnTo>
                  <a:pt x="153" y="5"/>
                </a:lnTo>
                <a:lnTo>
                  <a:pt x="151" y="5"/>
                </a:lnTo>
                <a:lnTo>
                  <a:pt x="151" y="5"/>
                </a:lnTo>
                <a:lnTo>
                  <a:pt x="151" y="5"/>
                </a:lnTo>
                <a:lnTo>
                  <a:pt x="149" y="5"/>
                </a:lnTo>
                <a:lnTo>
                  <a:pt x="149" y="4"/>
                </a:lnTo>
                <a:lnTo>
                  <a:pt x="149" y="4"/>
                </a:lnTo>
                <a:lnTo>
                  <a:pt x="149" y="3"/>
                </a:lnTo>
                <a:lnTo>
                  <a:pt x="149" y="2"/>
                </a:lnTo>
                <a:lnTo>
                  <a:pt x="149" y="2"/>
                </a:lnTo>
                <a:lnTo>
                  <a:pt x="151" y="2"/>
                </a:lnTo>
                <a:lnTo>
                  <a:pt x="151" y="2"/>
                </a:lnTo>
                <a:close/>
                <a:moveTo>
                  <a:pt x="181" y="1"/>
                </a:moveTo>
                <a:lnTo>
                  <a:pt x="181" y="1"/>
                </a:lnTo>
                <a:lnTo>
                  <a:pt x="183" y="1"/>
                </a:lnTo>
                <a:lnTo>
                  <a:pt x="183" y="2"/>
                </a:lnTo>
                <a:lnTo>
                  <a:pt x="184" y="2"/>
                </a:lnTo>
                <a:lnTo>
                  <a:pt x="184" y="3"/>
                </a:lnTo>
                <a:lnTo>
                  <a:pt x="183" y="4"/>
                </a:lnTo>
                <a:lnTo>
                  <a:pt x="183" y="4"/>
                </a:lnTo>
                <a:lnTo>
                  <a:pt x="181" y="4"/>
                </a:lnTo>
                <a:lnTo>
                  <a:pt x="181" y="4"/>
                </a:lnTo>
                <a:lnTo>
                  <a:pt x="179" y="4"/>
                </a:lnTo>
                <a:lnTo>
                  <a:pt x="179" y="3"/>
                </a:lnTo>
                <a:lnTo>
                  <a:pt x="179" y="3"/>
                </a:lnTo>
                <a:lnTo>
                  <a:pt x="179" y="2"/>
                </a:lnTo>
                <a:lnTo>
                  <a:pt x="179" y="1"/>
                </a:lnTo>
                <a:lnTo>
                  <a:pt x="179" y="1"/>
                </a:lnTo>
                <a:lnTo>
                  <a:pt x="181" y="1"/>
                </a:lnTo>
                <a:lnTo>
                  <a:pt x="181" y="1"/>
                </a:lnTo>
                <a:close/>
                <a:moveTo>
                  <a:pt x="211" y="0"/>
                </a:moveTo>
                <a:lnTo>
                  <a:pt x="211" y="0"/>
                </a:lnTo>
                <a:lnTo>
                  <a:pt x="211" y="0"/>
                </a:lnTo>
                <a:lnTo>
                  <a:pt x="212" y="1"/>
                </a:lnTo>
                <a:lnTo>
                  <a:pt x="212" y="1"/>
                </a:lnTo>
                <a:lnTo>
                  <a:pt x="214" y="2"/>
                </a:lnTo>
                <a:lnTo>
                  <a:pt x="214" y="2"/>
                </a:lnTo>
                <a:lnTo>
                  <a:pt x="212" y="3"/>
                </a:lnTo>
                <a:lnTo>
                  <a:pt x="212" y="3"/>
                </a:lnTo>
                <a:lnTo>
                  <a:pt x="211" y="3"/>
                </a:lnTo>
                <a:lnTo>
                  <a:pt x="211" y="3"/>
                </a:lnTo>
                <a:lnTo>
                  <a:pt x="209" y="3"/>
                </a:lnTo>
                <a:lnTo>
                  <a:pt x="209" y="3"/>
                </a:lnTo>
                <a:lnTo>
                  <a:pt x="207" y="2"/>
                </a:lnTo>
                <a:lnTo>
                  <a:pt x="207" y="1"/>
                </a:lnTo>
                <a:lnTo>
                  <a:pt x="209" y="1"/>
                </a:lnTo>
                <a:lnTo>
                  <a:pt x="209" y="0"/>
                </a:lnTo>
                <a:lnTo>
                  <a:pt x="211" y="0"/>
                </a:lnTo>
                <a:lnTo>
                  <a:pt x="211" y="0"/>
                </a:lnTo>
                <a:close/>
                <a:moveTo>
                  <a:pt x="240" y="0"/>
                </a:moveTo>
                <a:lnTo>
                  <a:pt x="240" y="0"/>
                </a:lnTo>
                <a:lnTo>
                  <a:pt x="242" y="1"/>
                </a:lnTo>
                <a:lnTo>
                  <a:pt x="242" y="1"/>
                </a:lnTo>
                <a:lnTo>
                  <a:pt x="244" y="2"/>
                </a:lnTo>
                <a:lnTo>
                  <a:pt x="242" y="2"/>
                </a:lnTo>
                <a:lnTo>
                  <a:pt x="242" y="3"/>
                </a:lnTo>
                <a:lnTo>
                  <a:pt x="240" y="3"/>
                </a:lnTo>
                <a:lnTo>
                  <a:pt x="240" y="3"/>
                </a:lnTo>
                <a:lnTo>
                  <a:pt x="239" y="3"/>
                </a:lnTo>
                <a:lnTo>
                  <a:pt x="237" y="2"/>
                </a:lnTo>
                <a:lnTo>
                  <a:pt x="237" y="2"/>
                </a:lnTo>
                <a:lnTo>
                  <a:pt x="237" y="1"/>
                </a:lnTo>
                <a:lnTo>
                  <a:pt x="239" y="1"/>
                </a:lnTo>
                <a:lnTo>
                  <a:pt x="240" y="0"/>
                </a:lnTo>
                <a:lnTo>
                  <a:pt x="240" y="0"/>
                </a:lnTo>
                <a:close/>
                <a:moveTo>
                  <a:pt x="270" y="1"/>
                </a:moveTo>
                <a:lnTo>
                  <a:pt x="270" y="1"/>
                </a:lnTo>
                <a:lnTo>
                  <a:pt x="272" y="1"/>
                </a:lnTo>
                <a:lnTo>
                  <a:pt x="272" y="1"/>
                </a:lnTo>
                <a:lnTo>
                  <a:pt x="274" y="3"/>
                </a:lnTo>
                <a:lnTo>
                  <a:pt x="272" y="3"/>
                </a:lnTo>
                <a:lnTo>
                  <a:pt x="272" y="4"/>
                </a:lnTo>
                <a:lnTo>
                  <a:pt x="272" y="4"/>
                </a:lnTo>
                <a:lnTo>
                  <a:pt x="270" y="4"/>
                </a:lnTo>
                <a:lnTo>
                  <a:pt x="270" y="4"/>
                </a:lnTo>
                <a:lnTo>
                  <a:pt x="268" y="4"/>
                </a:lnTo>
                <a:lnTo>
                  <a:pt x="268" y="4"/>
                </a:lnTo>
                <a:lnTo>
                  <a:pt x="267" y="3"/>
                </a:lnTo>
                <a:lnTo>
                  <a:pt x="267" y="2"/>
                </a:lnTo>
                <a:lnTo>
                  <a:pt x="268" y="1"/>
                </a:lnTo>
                <a:lnTo>
                  <a:pt x="268" y="1"/>
                </a:lnTo>
                <a:lnTo>
                  <a:pt x="270" y="1"/>
                </a:lnTo>
                <a:lnTo>
                  <a:pt x="270" y="1"/>
                </a:lnTo>
                <a:close/>
                <a:moveTo>
                  <a:pt x="300" y="2"/>
                </a:moveTo>
                <a:lnTo>
                  <a:pt x="300" y="2"/>
                </a:lnTo>
                <a:lnTo>
                  <a:pt x="302" y="3"/>
                </a:lnTo>
                <a:lnTo>
                  <a:pt x="304" y="4"/>
                </a:lnTo>
                <a:lnTo>
                  <a:pt x="302" y="4"/>
                </a:lnTo>
                <a:lnTo>
                  <a:pt x="302" y="5"/>
                </a:lnTo>
                <a:lnTo>
                  <a:pt x="300" y="5"/>
                </a:lnTo>
                <a:lnTo>
                  <a:pt x="300" y="5"/>
                </a:lnTo>
                <a:lnTo>
                  <a:pt x="298" y="5"/>
                </a:lnTo>
                <a:lnTo>
                  <a:pt x="298" y="5"/>
                </a:lnTo>
                <a:lnTo>
                  <a:pt x="296" y="4"/>
                </a:lnTo>
                <a:lnTo>
                  <a:pt x="296" y="4"/>
                </a:lnTo>
                <a:lnTo>
                  <a:pt x="298" y="2"/>
                </a:lnTo>
                <a:lnTo>
                  <a:pt x="298" y="2"/>
                </a:lnTo>
                <a:lnTo>
                  <a:pt x="300" y="2"/>
                </a:lnTo>
                <a:lnTo>
                  <a:pt x="300" y="2"/>
                </a:lnTo>
                <a:close/>
                <a:moveTo>
                  <a:pt x="330" y="4"/>
                </a:moveTo>
                <a:lnTo>
                  <a:pt x="330" y="4"/>
                </a:lnTo>
                <a:lnTo>
                  <a:pt x="332" y="5"/>
                </a:lnTo>
                <a:lnTo>
                  <a:pt x="332" y="5"/>
                </a:lnTo>
                <a:lnTo>
                  <a:pt x="332" y="6"/>
                </a:lnTo>
                <a:lnTo>
                  <a:pt x="332" y="6"/>
                </a:lnTo>
                <a:lnTo>
                  <a:pt x="332" y="7"/>
                </a:lnTo>
                <a:lnTo>
                  <a:pt x="330" y="7"/>
                </a:lnTo>
                <a:lnTo>
                  <a:pt x="330" y="7"/>
                </a:lnTo>
                <a:lnTo>
                  <a:pt x="328" y="7"/>
                </a:lnTo>
                <a:lnTo>
                  <a:pt x="328" y="7"/>
                </a:lnTo>
                <a:lnTo>
                  <a:pt x="326" y="6"/>
                </a:lnTo>
                <a:lnTo>
                  <a:pt x="326" y="6"/>
                </a:lnTo>
                <a:lnTo>
                  <a:pt x="326" y="5"/>
                </a:lnTo>
                <a:lnTo>
                  <a:pt x="328" y="4"/>
                </a:lnTo>
                <a:lnTo>
                  <a:pt x="330" y="4"/>
                </a:lnTo>
                <a:lnTo>
                  <a:pt x="330" y="4"/>
                </a:lnTo>
                <a:close/>
                <a:moveTo>
                  <a:pt x="360" y="7"/>
                </a:moveTo>
                <a:lnTo>
                  <a:pt x="360" y="7"/>
                </a:lnTo>
                <a:lnTo>
                  <a:pt x="362" y="7"/>
                </a:lnTo>
                <a:lnTo>
                  <a:pt x="362" y="9"/>
                </a:lnTo>
                <a:lnTo>
                  <a:pt x="362" y="10"/>
                </a:lnTo>
                <a:lnTo>
                  <a:pt x="358" y="10"/>
                </a:lnTo>
                <a:lnTo>
                  <a:pt x="358" y="10"/>
                </a:lnTo>
                <a:lnTo>
                  <a:pt x="356" y="9"/>
                </a:lnTo>
                <a:lnTo>
                  <a:pt x="356" y="9"/>
                </a:lnTo>
                <a:lnTo>
                  <a:pt x="356" y="8"/>
                </a:lnTo>
                <a:lnTo>
                  <a:pt x="358" y="7"/>
                </a:lnTo>
                <a:lnTo>
                  <a:pt x="360" y="7"/>
                </a:lnTo>
                <a:lnTo>
                  <a:pt x="360" y="7"/>
                </a:lnTo>
                <a:close/>
                <a:moveTo>
                  <a:pt x="390" y="10"/>
                </a:moveTo>
                <a:lnTo>
                  <a:pt x="390" y="10"/>
                </a:lnTo>
                <a:lnTo>
                  <a:pt x="392" y="11"/>
                </a:lnTo>
                <a:lnTo>
                  <a:pt x="392" y="12"/>
                </a:lnTo>
                <a:lnTo>
                  <a:pt x="392" y="12"/>
                </a:lnTo>
                <a:lnTo>
                  <a:pt x="390" y="13"/>
                </a:lnTo>
                <a:lnTo>
                  <a:pt x="388" y="15"/>
                </a:lnTo>
                <a:lnTo>
                  <a:pt x="388" y="15"/>
                </a:lnTo>
                <a:lnTo>
                  <a:pt x="386" y="13"/>
                </a:lnTo>
                <a:lnTo>
                  <a:pt x="386" y="12"/>
                </a:lnTo>
                <a:lnTo>
                  <a:pt x="386" y="11"/>
                </a:lnTo>
                <a:lnTo>
                  <a:pt x="386" y="11"/>
                </a:lnTo>
                <a:lnTo>
                  <a:pt x="388" y="10"/>
                </a:lnTo>
                <a:lnTo>
                  <a:pt x="390" y="10"/>
                </a:lnTo>
                <a:lnTo>
                  <a:pt x="390" y="10"/>
                </a:lnTo>
                <a:close/>
                <a:moveTo>
                  <a:pt x="418" y="16"/>
                </a:moveTo>
                <a:lnTo>
                  <a:pt x="418" y="16"/>
                </a:lnTo>
                <a:lnTo>
                  <a:pt x="420" y="16"/>
                </a:lnTo>
                <a:lnTo>
                  <a:pt x="420" y="16"/>
                </a:lnTo>
                <a:lnTo>
                  <a:pt x="420" y="17"/>
                </a:lnTo>
                <a:lnTo>
                  <a:pt x="420" y="18"/>
                </a:lnTo>
                <a:lnTo>
                  <a:pt x="418" y="19"/>
                </a:lnTo>
                <a:lnTo>
                  <a:pt x="418" y="19"/>
                </a:lnTo>
                <a:lnTo>
                  <a:pt x="416" y="19"/>
                </a:lnTo>
                <a:lnTo>
                  <a:pt x="416" y="19"/>
                </a:lnTo>
                <a:lnTo>
                  <a:pt x="416" y="18"/>
                </a:lnTo>
                <a:lnTo>
                  <a:pt x="414" y="18"/>
                </a:lnTo>
                <a:lnTo>
                  <a:pt x="414" y="17"/>
                </a:lnTo>
                <a:lnTo>
                  <a:pt x="414" y="17"/>
                </a:lnTo>
                <a:lnTo>
                  <a:pt x="414" y="16"/>
                </a:lnTo>
                <a:lnTo>
                  <a:pt x="416" y="16"/>
                </a:lnTo>
                <a:lnTo>
                  <a:pt x="416" y="16"/>
                </a:lnTo>
                <a:lnTo>
                  <a:pt x="418" y="16"/>
                </a:lnTo>
                <a:lnTo>
                  <a:pt x="418" y="16"/>
                </a:lnTo>
                <a:close/>
                <a:moveTo>
                  <a:pt x="446" y="21"/>
                </a:moveTo>
                <a:lnTo>
                  <a:pt x="446" y="21"/>
                </a:lnTo>
                <a:lnTo>
                  <a:pt x="447" y="21"/>
                </a:lnTo>
                <a:lnTo>
                  <a:pt x="447" y="22"/>
                </a:lnTo>
                <a:lnTo>
                  <a:pt x="447" y="22"/>
                </a:lnTo>
                <a:lnTo>
                  <a:pt x="447" y="23"/>
                </a:lnTo>
                <a:lnTo>
                  <a:pt x="447" y="24"/>
                </a:lnTo>
                <a:lnTo>
                  <a:pt x="446" y="24"/>
                </a:lnTo>
                <a:lnTo>
                  <a:pt x="446" y="24"/>
                </a:lnTo>
                <a:lnTo>
                  <a:pt x="444" y="24"/>
                </a:lnTo>
                <a:lnTo>
                  <a:pt x="444" y="24"/>
                </a:lnTo>
                <a:lnTo>
                  <a:pt x="444" y="24"/>
                </a:lnTo>
                <a:lnTo>
                  <a:pt x="442" y="23"/>
                </a:lnTo>
                <a:lnTo>
                  <a:pt x="442" y="22"/>
                </a:lnTo>
                <a:lnTo>
                  <a:pt x="444" y="21"/>
                </a:lnTo>
                <a:lnTo>
                  <a:pt x="444" y="21"/>
                </a:lnTo>
                <a:lnTo>
                  <a:pt x="446" y="21"/>
                </a:lnTo>
                <a:lnTo>
                  <a:pt x="446" y="21"/>
                </a:lnTo>
                <a:lnTo>
                  <a:pt x="446" y="21"/>
                </a:lnTo>
                <a:close/>
                <a:moveTo>
                  <a:pt x="474" y="27"/>
                </a:moveTo>
                <a:lnTo>
                  <a:pt x="474" y="27"/>
                </a:lnTo>
                <a:lnTo>
                  <a:pt x="475" y="28"/>
                </a:lnTo>
                <a:lnTo>
                  <a:pt x="475" y="28"/>
                </a:lnTo>
                <a:lnTo>
                  <a:pt x="475" y="29"/>
                </a:lnTo>
                <a:lnTo>
                  <a:pt x="474" y="30"/>
                </a:lnTo>
                <a:lnTo>
                  <a:pt x="472" y="30"/>
                </a:lnTo>
                <a:lnTo>
                  <a:pt x="472" y="30"/>
                </a:lnTo>
                <a:lnTo>
                  <a:pt x="472" y="30"/>
                </a:lnTo>
                <a:lnTo>
                  <a:pt x="470" y="29"/>
                </a:lnTo>
                <a:lnTo>
                  <a:pt x="470" y="28"/>
                </a:lnTo>
                <a:lnTo>
                  <a:pt x="472" y="27"/>
                </a:lnTo>
                <a:lnTo>
                  <a:pt x="474" y="27"/>
                </a:lnTo>
                <a:lnTo>
                  <a:pt x="474" y="27"/>
                </a:lnTo>
                <a:lnTo>
                  <a:pt x="474" y="27"/>
                </a:lnTo>
                <a:close/>
                <a:moveTo>
                  <a:pt x="502" y="34"/>
                </a:moveTo>
                <a:lnTo>
                  <a:pt x="502" y="34"/>
                </a:lnTo>
                <a:lnTo>
                  <a:pt x="502" y="35"/>
                </a:lnTo>
                <a:lnTo>
                  <a:pt x="502" y="37"/>
                </a:lnTo>
                <a:lnTo>
                  <a:pt x="500" y="37"/>
                </a:lnTo>
                <a:lnTo>
                  <a:pt x="498" y="37"/>
                </a:lnTo>
                <a:lnTo>
                  <a:pt x="498" y="37"/>
                </a:lnTo>
                <a:lnTo>
                  <a:pt x="496" y="36"/>
                </a:lnTo>
                <a:lnTo>
                  <a:pt x="496" y="35"/>
                </a:lnTo>
                <a:lnTo>
                  <a:pt x="498" y="34"/>
                </a:lnTo>
                <a:lnTo>
                  <a:pt x="502" y="34"/>
                </a:lnTo>
                <a:lnTo>
                  <a:pt x="502" y="34"/>
                </a:lnTo>
                <a:close/>
                <a:moveTo>
                  <a:pt x="526" y="44"/>
                </a:moveTo>
                <a:lnTo>
                  <a:pt x="526" y="44"/>
                </a:lnTo>
                <a:lnTo>
                  <a:pt x="528" y="45"/>
                </a:lnTo>
                <a:lnTo>
                  <a:pt x="528" y="46"/>
                </a:lnTo>
                <a:lnTo>
                  <a:pt x="526" y="46"/>
                </a:lnTo>
                <a:lnTo>
                  <a:pt x="524" y="47"/>
                </a:lnTo>
                <a:lnTo>
                  <a:pt x="524" y="46"/>
                </a:lnTo>
                <a:lnTo>
                  <a:pt x="524" y="46"/>
                </a:lnTo>
                <a:lnTo>
                  <a:pt x="522" y="45"/>
                </a:lnTo>
                <a:lnTo>
                  <a:pt x="522" y="45"/>
                </a:lnTo>
                <a:lnTo>
                  <a:pt x="522" y="44"/>
                </a:lnTo>
                <a:lnTo>
                  <a:pt x="524" y="44"/>
                </a:lnTo>
                <a:lnTo>
                  <a:pt x="524" y="43"/>
                </a:lnTo>
                <a:lnTo>
                  <a:pt x="526" y="43"/>
                </a:lnTo>
                <a:lnTo>
                  <a:pt x="526" y="44"/>
                </a:lnTo>
                <a:lnTo>
                  <a:pt x="526" y="44"/>
                </a:lnTo>
                <a:close/>
                <a:moveTo>
                  <a:pt x="552" y="53"/>
                </a:moveTo>
                <a:lnTo>
                  <a:pt x="552" y="53"/>
                </a:lnTo>
                <a:lnTo>
                  <a:pt x="552" y="54"/>
                </a:lnTo>
                <a:lnTo>
                  <a:pt x="552" y="54"/>
                </a:lnTo>
                <a:lnTo>
                  <a:pt x="552" y="55"/>
                </a:lnTo>
                <a:lnTo>
                  <a:pt x="552" y="55"/>
                </a:lnTo>
                <a:lnTo>
                  <a:pt x="550" y="56"/>
                </a:lnTo>
                <a:lnTo>
                  <a:pt x="548" y="55"/>
                </a:lnTo>
                <a:lnTo>
                  <a:pt x="548" y="55"/>
                </a:lnTo>
                <a:lnTo>
                  <a:pt x="546" y="55"/>
                </a:lnTo>
                <a:lnTo>
                  <a:pt x="546" y="54"/>
                </a:lnTo>
                <a:lnTo>
                  <a:pt x="548" y="53"/>
                </a:lnTo>
                <a:lnTo>
                  <a:pt x="548" y="53"/>
                </a:lnTo>
                <a:lnTo>
                  <a:pt x="550" y="52"/>
                </a:lnTo>
                <a:lnTo>
                  <a:pt x="552" y="53"/>
                </a:lnTo>
                <a:lnTo>
                  <a:pt x="552" y="53"/>
                </a:lnTo>
                <a:close/>
                <a:moveTo>
                  <a:pt x="574" y="64"/>
                </a:moveTo>
                <a:lnTo>
                  <a:pt x="574" y="64"/>
                </a:lnTo>
                <a:lnTo>
                  <a:pt x="576" y="65"/>
                </a:lnTo>
                <a:lnTo>
                  <a:pt x="574" y="66"/>
                </a:lnTo>
                <a:lnTo>
                  <a:pt x="574" y="67"/>
                </a:lnTo>
                <a:lnTo>
                  <a:pt x="573" y="67"/>
                </a:lnTo>
                <a:lnTo>
                  <a:pt x="571" y="67"/>
                </a:lnTo>
                <a:lnTo>
                  <a:pt x="571" y="66"/>
                </a:lnTo>
                <a:lnTo>
                  <a:pt x="571" y="66"/>
                </a:lnTo>
                <a:lnTo>
                  <a:pt x="571" y="66"/>
                </a:lnTo>
                <a:lnTo>
                  <a:pt x="569" y="65"/>
                </a:lnTo>
                <a:lnTo>
                  <a:pt x="571" y="64"/>
                </a:lnTo>
                <a:lnTo>
                  <a:pt x="573" y="64"/>
                </a:lnTo>
                <a:lnTo>
                  <a:pt x="574" y="64"/>
                </a:lnTo>
                <a:lnTo>
                  <a:pt x="574" y="64"/>
                </a:lnTo>
                <a:close/>
                <a:moveTo>
                  <a:pt x="597" y="75"/>
                </a:moveTo>
                <a:lnTo>
                  <a:pt x="597" y="75"/>
                </a:lnTo>
                <a:lnTo>
                  <a:pt x="597" y="76"/>
                </a:lnTo>
                <a:lnTo>
                  <a:pt x="597" y="77"/>
                </a:lnTo>
                <a:lnTo>
                  <a:pt x="597" y="78"/>
                </a:lnTo>
                <a:lnTo>
                  <a:pt x="595" y="78"/>
                </a:lnTo>
                <a:lnTo>
                  <a:pt x="593" y="78"/>
                </a:lnTo>
                <a:lnTo>
                  <a:pt x="591" y="78"/>
                </a:lnTo>
                <a:lnTo>
                  <a:pt x="591" y="78"/>
                </a:lnTo>
                <a:lnTo>
                  <a:pt x="591" y="76"/>
                </a:lnTo>
                <a:lnTo>
                  <a:pt x="591" y="76"/>
                </a:lnTo>
                <a:lnTo>
                  <a:pt x="593" y="75"/>
                </a:lnTo>
                <a:lnTo>
                  <a:pt x="593" y="75"/>
                </a:lnTo>
                <a:lnTo>
                  <a:pt x="595" y="75"/>
                </a:lnTo>
                <a:lnTo>
                  <a:pt x="597" y="75"/>
                </a:lnTo>
                <a:lnTo>
                  <a:pt x="597" y="75"/>
                </a:lnTo>
                <a:close/>
                <a:moveTo>
                  <a:pt x="615" y="89"/>
                </a:moveTo>
                <a:lnTo>
                  <a:pt x="615" y="89"/>
                </a:lnTo>
                <a:lnTo>
                  <a:pt x="615" y="90"/>
                </a:lnTo>
                <a:lnTo>
                  <a:pt x="615" y="90"/>
                </a:lnTo>
                <a:lnTo>
                  <a:pt x="615" y="91"/>
                </a:lnTo>
                <a:lnTo>
                  <a:pt x="614" y="91"/>
                </a:lnTo>
                <a:lnTo>
                  <a:pt x="612" y="91"/>
                </a:lnTo>
                <a:lnTo>
                  <a:pt x="612" y="91"/>
                </a:lnTo>
                <a:lnTo>
                  <a:pt x="612" y="91"/>
                </a:lnTo>
                <a:lnTo>
                  <a:pt x="610" y="89"/>
                </a:lnTo>
                <a:lnTo>
                  <a:pt x="610" y="89"/>
                </a:lnTo>
                <a:lnTo>
                  <a:pt x="612" y="87"/>
                </a:lnTo>
                <a:lnTo>
                  <a:pt x="614" y="87"/>
                </a:lnTo>
                <a:lnTo>
                  <a:pt x="615" y="87"/>
                </a:lnTo>
                <a:lnTo>
                  <a:pt x="615" y="89"/>
                </a:lnTo>
                <a:lnTo>
                  <a:pt x="615" y="89"/>
                </a:lnTo>
                <a:close/>
                <a:moveTo>
                  <a:pt x="634" y="102"/>
                </a:moveTo>
                <a:lnTo>
                  <a:pt x="634" y="102"/>
                </a:lnTo>
                <a:lnTo>
                  <a:pt x="634" y="102"/>
                </a:lnTo>
                <a:lnTo>
                  <a:pt x="634" y="103"/>
                </a:lnTo>
                <a:lnTo>
                  <a:pt x="632" y="104"/>
                </a:lnTo>
                <a:lnTo>
                  <a:pt x="630" y="104"/>
                </a:lnTo>
                <a:lnTo>
                  <a:pt x="628" y="104"/>
                </a:lnTo>
                <a:lnTo>
                  <a:pt x="628" y="104"/>
                </a:lnTo>
                <a:lnTo>
                  <a:pt x="628" y="104"/>
                </a:lnTo>
                <a:lnTo>
                  <a:pt x="628" y="103"/>
                </a:lnTo>
                <a:lnTo>
                  <a:pt x="628" y="102"/>
                </a:lnTo>
                <a:lnTo>
                  <a:pt x="628" y="101"/>
                </a:lnTo>
                <a:lnTo>
                  <a:pt x="630" y="101"/>
                </a:lnTo>
                <a:lnTo>
                  <a:pt x="630" y="101"/>
                </a:lnTo>
                <a:lnTo>
                  <a:pt x="634" y="102"/>
                </a:lnTo>
                <a:lnTo>
                  <a:pt x="634" y="102"/>
                </a:lnTo>
                <a:close/>
                <a:moveTo>
                  <a:pt x="649" y="117"/>
                </a:moveTo>
                <a:lnTo>
                  <a:pt x="649" y="117"/>
                </a:lnTo>
                <a:lnTo>
                  <a:pt x="649" y="117"/>
                </a:lnTo>
                <a:lnTo>
                  <a:pt x="649" y="118"/>
                </a:lnTo>
                <a:lnTo>
                  <a:pt x="647" y="118"/>
                </a:lnTo>
                <a:lnTo>
                  <a:pt x="647" y="119"/>
                </a:lnTo>
                <a:lnTo>
                  <a:pt x="645" y="119"/>
                </a:lnTo>
                <a:lnTo>
                  <a:pt x="645" y="119"/>
                </a:lnTo>
                <a:lnTo>
                  <a:pt x="643" y="119"/>
                </a:lnTo>
                <a:lnTo>
                  <a:pt x="643" y="118"/>
                </a:lnTo>
                <a:lnTo>
                  <a:pt x="643" y="118"/>
                </a:lnTo>
                <a:lnTo>
                  <a:pt x="643" y="117"/>
                </a:lnTo>
                <a:lnTo>
                  <a:pt x="643" y="117"/>
                </a:lnTo>
                <a:lnTo>
                  <a:pt x="643" y="116"/>
                </a:lnTo>
                <a:lnTo>
                  <a:pt x="645" y="116"/>
                </a:lnTo>
                <a:lnTo>
                  <a:pt x="645" y="116"/>
                </a:lnTo>
                <a:lnTo>
                  <a:pt x="647" y="116"/>
                </a:lnTo>
                <a:lnTo>
                  <a:pt x="647" y="116"/>
                </a:lnTo>
                <a:lnTo>
                  <a:pt x="649" y="117"/>
                </a:lnTo>
                <a:lnTo>
                  <a:pt x="649" y="117"/>
                </a:lnTo>
                <a:close/>
                <a:moveTo>
                  <a:pt x="660" y="132"/>
                </a:moveTo>
                <a:lnTo>
                  <a:pt x="660" y="132"/>
                </a:lnTo>
                <a:lnTo>
                  <a:pt x="660" y="133"/>
                </a:lnTo>
                <a:lnTo>
                  <a:pt x="660" y="133"/>
                </a:lnTo>
                <a:lnTo>
                  <a:pt x="658" y="134"/>
                </a:lnTo>
                <a:lnTo>
                  <a:pt x="658" y="134"/>
                </a:lnTo>
                <a:lnTo>
                  <a:pt x="656" y="133"/>
                </a:lnTo>
                <a:lnTo>
                  <a:pt x="656" y="133"/>
                </a:lnTo>
                <a:lnTo>
                  <a:pt x="655" y="133"/>
                </a:lnTo>
                <a:lnTo>
                  <a:pt x="655" y="133"/>
                </a:lnTo>
                <a:lnTo>
                  <a:pt x="655" y="132"/>
                </a:lnTo>
                <a:lnTo>
                  <a:pt x="655" y="131"/>
                </a:lnTo>
                <a:lnTo>
                  <a:pt x="656" y="131"/>
                </a:lnTo>
                <a:lnTo>
                  <a:pt x="658" y="130"/>
                </a:lnTo>
                <a:lnTo>
                  <a:pt x="660" y="130"/>
                </a:lnTo>
                <a:lnTo>
                  <a:pt x="660" y="131"/>
                </a:lnTo>
                <a:lnTo>
                  <a:pt x="660" y="132"/>
                </a:lnTo>
                <a:lnTo>
                  <a:pt x="660" y="132"/>
                </a:lnTo>
                <a:close/>
                <a:moveTo>
                  <a:pt x="671" y="148"/>
                </a:moveTo>
                <a:lnTo>
                  <a:pt x="671" y="148"/>
                </a:lnTo>
                <a:lnTo>
                  <a:pt x="671" y="148"/>
                </a:lnTo>
                <a:lnTo>
                  <a:pt x="671" y="149"/>
                </a:lnTo>
                <a:lnTo>
                  <a:pt x="670" y="149"/>
                </a:lnTo>
                <a:lnTo>
                  <a:pt x="670" y="150"/>
                </a:lnTo>
                <a:lnTo>
                  <a:pt x="668" y="150"/>
                </a:lnTo>
                <a:lnTo>
                  <a:pt x="668" y="149"/>
                </a:lnTo>
                <a:lnTo>
                  <a:pt x="666" y="149"/>
                </a:lnTo>
                <a:lnTo>
                  <a:pt x="666" y="149"/>
                </a:lnTo>
                <a:lnTo>
                  <a:pt x="666" y="149"/>
                </a:lnTo>
                <a:lnTo>
                  <a:pt x="666" y="148"/>
                </a:lnTo>
                <a:lnTo>
                  <a:pt x="666" y="147"/>
                </a:lnTo>
                <a:lnTo>
                  <a:pt x="666" y="147"/>
                </a:lnTo>
                <a:lnTo>
                  <a:pt x="668" y="147"/>
                </a:lnTo>
                <a:lnTo>
                  <a:pt x="670" y="147"/>
                </a:lnTo>
                <a:lnTo>
                  <a:pt x="670" y="147"/>
                </a:lnTo>
                <a:lnTo>
                  <a:pt x="671" y="148"/>
                </a:lnTo>
                <a:lnTo>
                  <a:pt x="671" y="148"/>
                </a:lnTo>
                <a:close/>
                <a:moveTo>
                  <a:pt x="679" y="164"/>
                </a:moveTo>
                <a:lnTo>
                  <a:pt x="679" y="164"/>
                </a:lnTo>
                <a:lnTo>
                  <a:pt x="679" y="165"/>
                </a:lnTo>
                <a:lnTo>
                  <a:pt x="677" y="166"/>
                </a:lnTo>
                <a:lnTo>
                  <a:pt x="675" y="166"/>
                </a:lnTo>
                <a:lnTo>
                  <a:pt x="673" y="166"/>
                </a:lnTo>
                <a:lnTo>
                  <a:pt x="673" y="165"/>
                </a:lnTo>
                <a:lnTo>
                  <a:pt x="673" y="165"/>
                </a:lnTo>
                <a:lnTo>
                  <a:pt x="673" y="163"/>
                </a:lnTo>
                <a:lnTo>
                  <a:pt x="675" y="163"/>
                </a:lnTo>
                <a:lnTo>
                  <a:pt x="677" y="163"/>
                </a:lnTo>
                <a:lnTo>
                  <a:pt x="679" y="164"/>
                </a:lnTo>
                <a:lnTo>
                  <a:pt x="679" y="164"/>
                </a:lnTo>
                <a:close/>
                <a:moveTo>
                  <a:pt x="684" y="180"/>
                </a:moveTo>
                <a:lnTo>
                  <a:pt x="684" y="180"/>
                </a:lnTo>
                <a:lnTo>
                  <a:pt x="684" y="181"/>
                </a:lnTo>
                <a:lnTo>
                  <a:pt x="684" y="181"/>
                </a:lnTo>
                <a:lnTo>
                  <a:pt x="683" y="182"/>
                </a:lnTo>
                <a:lnTo>
                  <a:pt x="681" y="182"/>
                </a:lnTo>
                <a:lnTo>
                  <a:pt x="681" y="182"/>
                </a:lnTo>
                <a:lnTo>
                  <a:pt x="679" y="181"/>
                </a:lnTo>
                <a:lnTo>
                  <a:pt x="679" y="181"/>
                </a:lnTo>
                <a:lnTo>
                  <a:pt x="679" y="180"/>
                </a:lnTo>
                <a:lnTo>
                  <a:pt x="679" y="180"/>
                </a:lnTo>
                <a:lnTo>
                  <a:pt x="679" y="180"/>
                </a:lnTo>
                <a:lnTo>
                  <a:pt x="679" y="179"/>
                </a:lnTo>
                <a:lnTo>
                  <a:pt x="681" y="179"/>
                </a:lnTo>
                <a:lnTo>
                  <a:pt x="681" y="179"/>
                </a:lnTo>
                <a:lnTo>
                  <a:pt x="683" y="179"/>
                </a:lnTo>
                <a:lnTo>
                  <a:pt x="684" y="179"/>
                </a:lnTo>
                <a:lnTo>
                  <a:pt x="684" y="180"/>
                </a:lnTo>
                <a:lnTo>
                  <a:pt x="684" y="180"/>
                </a:lnTo>
                <a:lnTo>
                  <a:pt x="684" y="180"/>
                </a:lnTo>
                <a:close/>
                <a:moveTo>
                  <a:pt x="688" y="197"/>
                </a:moveTo>
                <a:lnTo>
                  <a:pt x="688" y="197"/>
                </a:lnTo>
                <a:lnTo>
                  <a:pt x="686" y="198"/>
                </a:lnTo>
                <a:lnTo>
                  <a:pt x="686" y="198"/>
                </a:lnTo>
                <a:lnTo>
                  <a:pt x="684" y="199"/>
                </a:lnTo>
                <a:lnTo>
                  <a:pt x="684" y="199"/>
                </a:lnTo>
                <a:lnTo>
                  <a:pt x="683" y="199"/>
                </a:lnTo>
                <a:lnTo>
                  <a:pt x="683" y="198"/>
                </a:lnTo>
                <a:lnTo>
                  <a:pt x="681" y="198"/>
                </a:lnTo>
                <a:lnTo>
                  <a:pt x="681" y="197"/>
                </a:lnTo>
                <a:lnTo>
                  <a:pt x="681" y="197"/>
                </a:lnTo>
                <a:lnTo>
                  <a:pt x="681" y="196"/>
                </a:lnTo>
                <a:lnTo>
                  <a:pt x="683" y="196"/>
                </a:lnTo>
                <a:lnTo>
                  <a:pt x="683" y="196"/>
                </a:lnTo>
                <a:lnTo>
                  <a:pt x="684" y="196"/>
                </a:lnTo>
                <a:lnTo>
                  <a:pt x="684" y="196"/>
                </a:lnTo>
                <a:lnTo>
                  <a:pt x="686" y="196"/>
                </a:lnTo>
                <a:lnTo>
                  <a:pt x="686" y="196"/>
                </a:lnTo>
                <a:lnTo>
                  <a:pt x="688" y="197"/>
                </a:lnTo>
                <a:lnTo>
                  <a:pt x="688" y="19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03840" y="3890880"/>
            <a:ext cx="115920" cy="142920"/>
          </a:xfrm>
          <a:custGeom>
            <a:avLst/>
            <a:gdLst/>
            <a:ahLst/>
            <a:rect l="l" t="t" r="r" b="b"/>
            <a:pathLst>
              <a:path w="136" h="80">
                <a:moveTo>
                  <a:pt x="54" y="80"/>
                </a:moveTo>
                <a:lnTo>
                  <a:pt x="0" y="0"/>
                </a:lnTo>
                <a:lnTo>
                  <a:pt x="7" y="2"/>
                </a:lnTo>
                <a:lnTo>
                  <a:pt x="15" y="4"/>
                </a:lnTo>
                <a:lnTo>
                  <a:pt x="22" y="6"/>
                </a:lnTo>
                <a:lnTo>
                  <a:pt x="32" y="8"/>
                </a:lnTo>
                <a:lnTo>
                  <a:pt x="39" y="9"/>
                </a:lnTo>
                <a:lnTo>
                  <a:pt x="49" y="10"/>
                </a:lnTo>
                <a:lnTo>
                  <a:pt x="58" y="11"/>
                </a:lnTo>
                <a:lnTo>
                  <a:pt x="65" y="12"/>
                </a:lnTo>
                <a:lnTo>
                  <a:pt x="75" y="12"/>
                </a:lnTo>
                <a:lnTo>
                  <a:pt x="84" y="12"/>
                </a:lnTo>
                <a:lnTo>
                  <a:pt x="91" y="12"/>
                </a:lnTo>
                <a:lnTo>
                  <a:pt x="101" y="11"/>
                </a:lnTo>
                <a:lnTo>
                  <a:pt x="110" y="11"/>
                </a:lnTo>
                <a:lnTo>
                  <a:pt x="119" y="10"/>
                </a:lnTo>
                <a:lnTo>
                  <a:pt x="127" y="8"/>
                </a:lnTo>
                <a:lnTo>
                  <a:pt x="136" y="7"/>
                </a:lnTo>
                <a:lnTo>
                  <a:pt x="54" y="80"/>
                </a:lnTo>
                <a:lnTo>
                  <a:pt x="54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47840" y="2590920"/>
            <a:ext cx="136368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7120" y="2525760"/>
            <a:ext cx="174960" cy="135000"/>
          </a:xfrm>
          <a:custGeom>
            <a:avLst/>
            <a:gdLst/>
            <a:ahLst/>
            <a:rect l="l" t="t" r="r" b="b"/>
            <a:pathLst>
              <a:path w="206" h="76">
                <a:moveTo>
                  <a:pt x="0" y="0"/>
                </a:moveTo>
                <a:lnTo>
                  <a:pt x="206" y="37"/>
                </a:lnTo>
                <a:lnTo>
                  <a:pt x="0" y="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2400" y="2254320"/>
            <a:ext cx="43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2057400"/>
            <a:ext cx="1140120" cy="179280"/>
          </a:xfrm>
          <a:custGeom>
            <a:avLst/>
            <a:gdLst/>
            <a:ahLst/>
            <a:rect l="l" t="t" r="r" b="b"/>
            <a:pathLst>
              <a:path w="1337" h="100">
                <a:moveTo>
                  <a:pt x="1334" y="100"/>
                </a:moveTo>
                <a:lnTo>
                  <a:pt x="1334" y="100"/>
                </a:lnTo>
                <a:lnTo>
                  <a:pt x="1332" y="99"/>
                </a:lnTo>
                <a:lnTo>
                  <a:pt x="1332" y="98"/>
                </a:lnTo>
                <a:lnTo>
                  <a:pt x="1332" y="98"/>
                </a:lnTo>
                <a:lnTo>
                  <a:pt x="1332" y="97"/>
                </a:lnTo>
                <a:lnTo>
                  <a:pt x="1332" y="97"/>
                </a:lnTo>
                <a:lnTo>
                  <a:pt x="1334" y="95"/>
                </a:lnTo>
                <a:lnTo>
                  <a:pt x="1335" y="95"/>
                </a:lnTo>
                <a:lnTo>
                  <a:pt x="1335" y="95"/>
                </a:lnTo>
                <a:lnTo>
                  <a:pt x="1335" y="95"/>
                </a:lnTo>
                <a:lnTo>
                  <a:pt x="1337" y="97"/>
                </a:lnTo>
                <a:lnTo>
                  <a:pt x="1337" y="98"/>
                </a:lnTo>
                <a:lnTo>
                  <a:pt x="1335" y="99"/>
                </a:lnTo>
                <a:lnTo>
                  <a:pt x="1334" y="100"/>
                </a:lnTo>
                <a:lnTo>
                  <a:pt x="1334" y="100"/>
                </a:lnTo>
                <a:close/>
                <a:moveTo>
                  <a:pt x="1304" y="97"/>
                </a:moveTo>
                <a:lnTo>
                  <a:pt x="1304" y="97"/>
                </a:lnTo>
                <a:lnTo>
                  <a:pt x="1304" y="97"/>
                </a:lnTo>
                <a:lnTo>
                  <a:pt x="1302" y="97"/>
                </a:lnTo>
                <a:lnTo>
                  <a:pt x="1302" y="95"/>
                </a:lnTo>
                <a:lnTo>
                  <a:pt x="1302" y="94"/>
                </a:lnTo>
                <a:lnTo>
                  <a:pt x="1304" y="93"/>
                </a:lnTo>
                <a:lnTo>
                  <a:pt x="1306" y="93"/>
                </a:lnTo>
                <a:lnTo>
                  <a:pt x="1306" y="93"/>
                </a:lnTo>
                <a:lnTo>
                  <a:pt x="1306" y="93"/>
                </a:lnTo>
                <a:lnTo>
                  <a:pt x="1307" y="94"/>
                </a:lnTo>
                <a:lnTo>
                  <a:pt x="1307" y="94"/>
                </a:lnTo>
                <a:lnTo>
                  <a:pt x="1307" y="95"/>
                </a:lnTo>
                <a:lnTo>
                  <a:pt x="1307" y="97"/>
                </a:lnTo>
                <a:lnTo>
                  <a:pt x="1307" y="97"/>
                </a:lnTo>
                <a:lnTo>
                  <a:pt x="1306" y="97"/>
                </a:lnTo>
                <a:lnTo>
                  <a:pt x="1304" y="97"/>
                </a:lnTo>
                <a:lnTo>
                  <a:pt x="1304" y="97"/>
                </a:lnTo>
                <a:close/>
                <a:moveTo>
                  <a:pt x="1276" y="94"/>
                </a:moveTo>
                <a:lnTo>
                  <a:pt x="1276" y="94"/>
                </a:lnTo>
                <a:lnTo>
                  <a:pt x="1274" y="94"/>
                </a:lnTo>
                <a:lnTo>
                  <a:pt x="1272" y="94"/>
                </a:lnTo>
                <a:lnTo>
                  <a:pt x="1272" y="93"/>
                </a:lnTo>
                <a:lnTo>
                  <a:pt x="1272" y="92"/>
                </a:lnTo>
                <a:lnTo>
                  <a:pt x="1274" y="91"/>
                </a:lnTo>
                <a:lnTo>
                  <a:pt x="1276" y="91"/>
                </a:lnTo>
                <a:lnTo>
                  <a:pt x="1276" y="91"/>
                </a:lnTo>
                <a:lnTo>
                  <a:pt x="1278" y="92"/>
                </a:lnTo>
                <a:lnTo>
                  <a:pt x="1278" y="93"/>
                </a:lnTo>
                <a:lnTo>
                  <a:pt x="1278" y="94"/>
                </a:lnTo>
                <a:lnTo>
                  <a:pt x="1276" y="94"/>
                </a:lnTo>
                <a:lnTo>
                  <a:pt x="1276" y="94"/>
                </a:lnTo>
                <a:lnTo>
                  <a:pt x="1276" y="94"/>
                </a:lnTo>
                <a:close/>
                <a:moveTo>
                  <a:pt x="1246" y="92"/>
                </a:moveTo>
                <a:lnTo>
                  <a:pt x="1246" y="92"/>
                </a:lnTo>
                <a:lnTo>
                  <a:pt x="1242" y="92"/>
                </a:lnTo>
                <a:lnTo>
                  <a:pt x="1242" y="91"/>
                </a:lnTo>
                <a:lnTo>
                  <a:pt x="1242" y="91"/>
                </a:lnTo>
                <a:lnTo>
                  <a:pt x="1244" y="89"/>
                </a:lnTo>
                <a:lnTo>
                  <a:pt x="1246" y="89"/>
                </a:lnTo>
                <a:lnTo>
                  <a:pt x="1246" y="89"/>
                </a:lnTo>
                <a:lnTo>
                  <a:pt x="1248" y="90"/>
                </a:lnTo>
                <a:lnTo>
                  <a:pt x="1248" y="90"/>
                </a:lnTo>
                <a:lnTo>
                  <a:pt x="1248" y="91"/>
                </a:lnTo>
                <a:lnTo>
                  <a:pt x="1248" y="91"/>
                </a:lnTo>
                <a:lnTo>
                  <a:pt x="1248" y="92"/>
                </a:lnTo>
                <a:lnTo>
                  <a:pt x="1246" y="92"/>
                </a:lnTo>
                <a:lnTo>
                  <a:pt x="1246" y="92"/>
                </a:lnTo>
                <a:close/>
                <a:moveTo>
                  <a:pt x="1216" y="90"/>
                </a:moveTo>
                <a:lnTo>
                  <a:pt x="1216" y="90"/>
                </a:lnTo>
                <a:lnTo>
                  <a:pt x="1214" y="90"/>
                </a:lnTo>
                <a:lnTo>
                  <a:pt x="1212" y="88"/>
                </a:lnTo>
                <a:lnTo>
                  <a:pt x="1212" y="88"/>
                </a:lnTo>
                <a:lnTo>
                  <a:pt x="1214" y="87"/>
                </a:lnTo>
                <a:lnTo>
                  <a:pt x="1214" y="87"/>
                </a:lnTo>
                <a:lnTo>
                  <a:pt x="1216" y="87"/>
                </a:lnTo>
                <a:lnTo>
                  <a:pt x="1216" y="87"/>
                </a:lnTo>
                <a:lnTo>
                  <a:pt x="1218" y="87"/>
                </a:lnTo>
                <a:lnTo>
                  <a:pt x="1218" y="88"/>
                </a:lnTo>
                <a:lnTo>
                  <a:pt x="1220" y="89"/>
                </a:lnTo>
                <a:lnTo>
                  <a:pt x="1218" y="90"/>
                </a:lnTo>
                <a:lnTo>
                  <a:pt x="1216" y="90"/>
                </a:lnTo>
                <a:lnTo>
                  <a:pt x="1216" y="90"/>
                </a:lnTo>
                <a:close/>
                <a:moveTo>
                  <a:pt x="1186" y="88"/>
                </a:moveTo>
                <a:lnTo>
                  <a:pt x="1186" y="88"/>
                </a:lnTo>
                <a:lnTo>
                  <a:pt x="1184" y="88"/>
                </a:lnTo>
                <a:lnTo>
                  <a:pt x="1184" y="88"/>
                </a:lnTo>
                <a:lnTo>
                  <a:pt x="1184" y="87"/>
                </a:lnTo>
                <a:lnTo>
                  <a:pt x="1184" y="86"/>
                </a:lnTo>
                <a:lnTo>
                  <a:pt x="1184" y="86"/>
                </a:lnTo>
                <a:lnTo>
                  <a:pt x="1184" y="85"/>
                </a:lnTo>
                <a:lnTo>
                  <a:pt x="1186" y="85"/>
                </a:lnTo>
                <a:lnTo>
                  <a:pt x="1186" y="85"/>
                </a:lnTo>
                <a:lnTo>
                  <a:pt x="1186" y="85"/>
                </a:lnTo>
                <a:lnTo>
                  <a:pt x="1188" y="85"/>
                </a:lnTo>
                <a:lnTo>
                  <a:pt x="1188" y="86"/>
                </a:lnTo>
                <a:lnTo>
                  <a:pt x="1190" y="86"/>
                </a:lnTo>
                <a:lnTo>
                  <a:pt x="1190" y="87"/>
                </a:lnTo>
                <a:lnTo>
                  <a:pt x="1188" y="87"/>
                </a:lnTo>
                <a:lnTo>
                  <a:pt x="1188" y="88"/>
                </a:lnTo>
                <a:lnTo>
                  <a:pt x="1186" y="88"/>
                </a:lnTo>
                <a:lnTo>
                  <a:pt x="1186" y="88"/>
                </a:lnTo>
                <a:lnTo>
                  <a:pt x="1186" y="88"/>
                </a:lnTo>
                <a:close/>
                <a:moveTo>
                  <a:pt x="1156" y="86"/>
                </a:moveTo>
                <a:lnTo>
                  <a:pt x="1156" y="86"/>
                </a:lnTo>
                <a:lnTo>
                  <a:pt x="1154" y="86"/>
                </a:lnTo>
                <a:lnTo>
                  <a:pt x="1154" y="85"/>
                </a:lnTo>
                <a:lnTo>
                  <a:pt x="1154" y="84"/>
                </a:lnTo>
                <a:lnTo>
                  <a:pt x="1154" y="84"/>
                </a:lnTo>
                <a:lnTo>
                  <a:pt x="1154" y="83"/>
                </a:lnTo>
                <a:lnTo>
                  <a:pt x="1156" y="83"/>
                </a:lnTo>
                <a:lnTo>
                  <a:pt x="1156" y="83"/>
                </a:lnTo>
                <a:lnTo>
                  <a:pt x="1158" y="83"/>
                </a:lnTo>
                <a:lnTo>
                  <a:pt x="1160" y="85"/>
                </a:lnTo>
                <a:lnTo>
                  <a:pt x="1158" y="86"/>
                </a:lnTo>
                <a:lnTo>
                  <a:pt x="1158" y="86"/>
                </a:lnTo>
                <a:lnTo>
                  <a:pt x="1156" y="86"/>
                </a:lnTo>
                <a:lnTo>
                  <a:pt x="1156" y="86"/>
                </a:lnTo>
                <a:close/>
                <a:moveTo>
                  <a:pt x="1126" y="84"/>
                </a:moveTo>
                <a:lnTo>
                  <a:pt x="1126" y="84"/>
                </a:lnTo>
                <a:lnTo>
                  <a:pt x="1125" y="83"/>
                </a:lnTo>
                <a:lnTo>
                  <a:pt x="1125" y="83"/>
                </a:lnTo>
                <a:lnTo>
                  <a:pt x="1125" y="82"/>
                </a:lnTo>
                <a:lnTo>
                  <a:pt x="1125" y="82"/>
                </a:lnTo>
                <a:lnTo>
                  <a:pt x="1125" y="81"/>
                </a:lnTo>
                <a:lnTo>
                  <a:pt x="1128" y="81"/>
                </a:lnTo>
                <a:lnTo>
                  <a:pt x="1128" y="81"/>
                </a:lnTo>
                <a:lnTo>
                  <a:pt x="1130" y="81"/>
                </a:lnTo>
                <a:lnTo>
                  <a:pt x="1130" y="82"/>
                </a:lnTo>
                <a:lnTo>
                  <a:pt x="1130" y="83"/>
                </a:lnTo>
                <a:lnTo>
                  <a:pt x="1130" y="83"/>
                </a:lnTo>
                <a:lnTo>
                  <a:pt x="1128" y="84"/>
                </a:lnTo>
                <a:lnTo>
                  <a:pt x="1126" y="84"/>
                </a:lnTo>
                <a:lnTo>
                  <a:pt x="1126" y="84"/>
                </a:lnTo>
                <a:close/>
                <a:moveTo>
                  <a:pt x="1097" y="82"/>
                </a:moveTo>
                <a:lnTo>
                  <a:pt x="1097" y="82"/>
                </a:lnTo>
                <a:lnTo>
                  <a:pt x="1095" y="81"/>
                </a:lnTo>
                <a:lnTo>
                  <a:pt x="1095" y="80"/>
                </a:lnTo>
                <a:lnTo>
                  <a:pt x="1095" y="79"/>
                </a:lnTo>
                <a:lnTo>
                  <a:pt x="1095" y="79"/>
                </a:lnTo>
                <a:lnTo>
                  <a:pt x="1097" y="79"/>
                </a:lnTo>
                <a:lnTo>
                  <a:pt x="1098" y="79"/>
                </a:lnTo>
                <a:lnTo>
                  <a:pt x="1098" y="79"/>
                </a:lnTo>
                <a:lnTo>
                  <a:pt x="1098" y="79"/>
                </a:lnTo>
                <a:lnTo>
                  <a:pt x="1100" y="79"/>
                </a:lnTo>
                <a:lnTo>
                  <a:pt x="1100" y="81"/>
                </a:lnTo>
                <a:lnTo>
                  <a:pt x="1098" y="82"/>
                </a:lnTo>
                <a:lnTo>
                  <a:pt x="1097" y="82"/>
                </a:lnTo>
                <a:lnTo>
                  <a:pt x="1097" y="82"/>
                </a:lnTo>
                <a:close/>
                <a:moveTo>
                  <a:pt x="1067" y="80"/>
                </a:moveTo>
                <a:lnTo>
                  <a:pt x="1067" y="80"/>
                </a:lnTo>
                <a:lnTo>
                  <a:pt x="1067" y="80"/>
                </a:lnTo>
                <a:lnTo>
                  <a:pt x="1065" y="79"/>
                </a:lnTo>
                <a:lnTo>
                  <a:pt x="1065" y="79"/>
                </a:lnTo>
                <a:lnTo>
                  <a:pt x="1065" y="78"/>
                </a:lnTo>
                <a:lnTo>
                  <a:pt x="1065" y="77"/>
                </a:lnTo>
                <a:lnTo>
                  <a:pt x="1067" y="77"/>
                </a:lnTo>
                <a:lnTo>
                  <a:pt x="1067" y="77"/>
                </a:lnTo>
                <a:lnTo>
                  <a:pt x="1069" y="77"/>
                </a:lnTo>
                <a:lnTo>
                  <a:pt x="1069" y="77"/>
                </a:lnTo>
                <a:lnTo>
                  <a:pt x="1069" y="77"/>
                </a:lnTo>
                <a:lnTo>
                  <a:pt x="1070" y="77"/>
                </a:lnTo>
                <a:lnTo>
                  <a:pt x="1070" y="78"/>
                </a:lnTo>
                <a:lnTo>
                  <a:pt x="1070" y="79"/>
                </a:lnTo>
                <a:lnTo>
                  <a:pt x="1070" y="79"/>
                </a:lnTo>
                <a:lnTo>
                  <a:pt x="1070" y="80"/>
                </a:lnTo>
                <a:lnTo>
                  <a:pt x="1069" y="80"/>
                </a:lnTo>
                <a:lnTo>
                  <a:pt x="1067" y="80"/>
                </a:lnTo>
                <a:lnTo>
                  <a:pt x="1067" y="80"/>
                </a:lnTo>
                <a:close/>
                <a:moveTo>
                  <a:pt x="1039" y="78"/>
                </a:moveTo>
                <a:lnTo>
                  <a:pt x="1039" y="78"/>
                </a:lnTo>
                <a:lnTo>
                  <a:pt x="1037" y="78"/>
                </a:lnTo>
                <a:lnTo>
                  <a:pt x="1035" y="77"/>
                </a:lnTo>
                <a:lnTo>
                  <a:pt x="1035" y="76"/>
                </a:lnTo>
                <a:lnTo>
                  <a:pt x="1037" y="75"/>
                </a:lnTo>
                <a:lnTo>
                  <a:pt x="1039" y="75"/>
                </a:lnTo>
                <a:lnTo>
                  <a:pt x="1039" y="75"/>
                </a:lnTo>
                <a:lnTo>
                  <a:pt x="1041" y="75"/>
                </a:lnTo>
                <a:lnTo>
                  <a:pt x="1041" y="77"/>
                </a:lnTo>
                <a:lnTo>
                  <a:pt x="1041" y="78"/>
                </a:lnTo>
                <a:lnTo>
                  <a:pt x="1039" y="78"/>
                </a:lnTo>
                <a:lnTo>
                  <a:pt x="1039" y="78"/>
                </a:lnTo>
                <a:lnTo>
                  <a:pt x="1039" y="78"/>
                </a:lnTo>
                <a:close/>
                <a:moveTo>
                  <a:pt x="1009" y="76"/>
                </a:moveTo>
                <a:lnTo>
                  <a:pt x="1009" y="76"/>
                </a:lnTo>
                <a:lnTo>
                  <a:pt x="1007" y="75"/>
                </a:lnTo>
                <a:lnTo>
                  <a:pt x="1005" y="75"/>
                </a:lnTo>
                <a:lnTo>
                  <a:pt x="1005" y="74"/>
                </a:lnTo>
                <a:lnTo>
                  <a:pt x="1005" y="73"/>
                </a:lnTo>
                <a:lnTo>
                  <a:pt x="1007" y="73"/>
                </a:lnTo>
                <a:lnTo>
                  <a:pt x="1009" y="73"/>
                </a:lnTo>
                <a:lnTo>
                  <a:pt x="1009" y="73"/>
                </a:lnTo>
                <a:lnTo>
                  <a:pt x="1011" y="73"/>
                </a:lnTo>
                <a:lnTo>
                  <a:pt x="1011" y="74"/>
                </a:lnTo>
                <a:lnTo>
                  <a:pt x="1011" y="74"/>
                </a:lnTo>
                <a:lnTo>
                  <a:pt x="1011" y="75"/>
                </a:lnTo>
                <a:lnTo>
                  <a:pt x="1011" y="75"/>
                </a:lnTo>
                <a:lnTo>
                  <a:pt x="1009" y="76"/>
                </a:lnTo>
                <a:lnTo>
                  <a:pt x="1009" y="76"/>
                </a:lnTo>
                <a:close/>
                <a:moveTo>
                  <a:pt x="979" y="74"/>
                </a:moveTo>
                <a:lnTo>
                  <a:pt x="979" y="74"/>
                </a:lnTo>
                <a:lnTo>
                  <a:pt x="977" y="73"/>
                </a:lnTo>
                <a:lnTo>
                  <a:pt x="975" y="72"/>
                </a:lnTo>
                <a:lnTo>
                  <a:pt x="977" y="70"/>
                </a:lnTo>
                <a:lnTo>
                  <a:pt x="977" y="70"/>
                </a:lnTo>
                <a:lnTo>
                  <a:pt x="979" y="70"/>
                </a:lnTo>
                <a:lnTo>
                  <a:pt x="979" y="70"/>
                </a:lnTo>
                <a:lnTo>
                  <a:pt x="981" y="70"/>
                </a:lnTo>
                <a:lnTo>
                  <a:pt x="981" y="70"/>
                </a:lnTo>
                <a:lnTo>
                  <a:pt x="983" y="72"/>
                </a:lnTo>
                <a:lnTo>
                  <a:pt x="981" y="73"/>
                </a:lnTo>
                <a:lnTo>
                  <a:pt x="979" y="74"/>
                </a:lnTo>
                <a:lnTo>
                  <a:pt x="979" y="74"/>
                </a:lnTo>
                <a:close/>
                <a:moveTo>
                  <a:pt x="949" y="72"/>
                </a:moveTo>
                <a:lnTo>
                  <a:pt x="949" y="72"/>
                </a:lnTo>
                <a:lnTo>
                  <a:pt x="947" y="70"/>
                </a:lnTo>
                <a:lnTo>
                  <a:pt x="947" y="70"/>
                </a:lnTo>
                <a:lnTo>
                  <a:pt x="947" y="69"/>
                </a:lnTo>
                <a:lnTo>
                  <a:pt x="947" y="69"/>
                </a:lnTo>
                <a:lnTo>
                  <a:pt x="947" y="68"/>
                </a:lnTo>
                <a:lnTo>
                  <a:pt x="947" y="68"/>
                </a:lnTo>
                <a:lnTo>
                  <a:pt x="949" y="68"/>
                </a:lnTo>
                <a:lnTo>
                  <a:pt x="949" y="68"/>
                </a:lnTo>
                <a:lnTo>
                  <a:pt x="949" y="68"/>
                </a:lnTo>
                <a:lnTo>
                  <a:pt x="951" y="68"/>
                </a:lnTo>
                <a:lnTo>
                  <a:pt x="951" y="68"/>
                </a:lnTo>
                <a:lnTo>
                  <a:pt x="953" y="69"/>
                </a:lnTo>
                <a:lnTo>
                  <a:pt x="953" y="69"/>
                </a:lnTo>
                <a:lnTo>
                  <a:pt x="951" y="70"/>
                </a:lnTo>
                <a:lnTo>
                  <a:pt x="951" y="70"/>
                </a:lnTo>
                <a:lnTo>
                  <a:pt x="949" y="72"/>
                </a:lnTo>
                <a:lnTo>
                  <a:pt x="949" y="72"/>
                </a:lnTo>
                <a:lnTo>
                  <a:pt x="949" y="72"/>
                </a:lnTo>
                <a:close/>
                <a:moveTo>
                  <a:pt x="919" y="69"/>
                </a:moveTo>
                <a:lnTo>
                  <a:pt x="919" y="69"/>
                </a:lnTo>
                <a:lnTo>
                  <a:pt x="917" y="68"/>
                </a:lnTo>
                <a:lnTo>
                  <a:pt x="917" y="68"/>
                </a:lnTo>
                <a:lnTo>
                  <a:pt x="917" y="67"/>
                </a:lnTo>
                <a:lnTo>
                  <a:pt x="917" y="66"/>
                </a:lnTo>
                <a:lnTo>
                  <a:pt x="919" y="65"/>
                </a:lnTo>
                <a:lnTo>
                  <a:pt x="919" y="65"/>
                </a:lnTo>
                <a:lnTo>
                  <a:pt x="921" y="66"/>
                </a:lnTo>
                <a:lnTo>
                  <a:pt x="923" y="67"/>
                </a:lnTo>
                <a:lnTo>
                  <a:pt x="921" y="68"/>
                </a:lnTo>
                <a:lnTo>
                  <a:pt x="921" y="69"/>
                </a:lnTo>
                <a:lnTo>
                  <a:pt x="919" y="69"/>
                </a:lnTo>
                <a:lnTo>
                  <a:pt x="919" y="69"/>
                </a:lnTo>
                <a:close/>
                <a:moveTo>
                  <a:pt x="889" y="67"/>
                </a:moveTo>
                <a:lnTo>
                  <a:pt x="889" y="67"/>
                </a:lnTo>
                <a:lnTo>
                  <a:pt x="888" y="66"/>
                </a:lnTo>
                <a:lnTo>
                  <a:pt x="888" y="65"/>
                </a:lnTo>
                <a:lnTo>
                  <a:pt x="888" y="65"/>
                </a:lnTo>
                <a:lnTo>
                  <a:pt x="888" y="64"/>
                </a:lnTo>
                <a:lnTo>
                  <a:pt x="888" y="64"/>
                </a:lnTo>
                <a:lnTo>
                  <a:pt x="891" y="63"/>
                </a:lnTo>
                <a:lnTo>
                  <a:pt x="891" y="63"/>
                </a:lnTo>
                <a:lnTo>
                  <a:pt x="893" y="64"/>
                </a:lnTo>
                <a:lnTo>
                  <a:pt x="893" y="64"/>
                </a:lnTo>
                <a:lnTo>
                  <a:pt x="893" y="65"/>
                </a:lnTo>
                <a:lnTo>
                  <a:pt x="893" y="66"/>
                </a:lnTo>
                <a:lnTo>
                  <a:pt x="891" y="66"/>
                </a:lnTo>
                <a:lnTo>
                  <a:pt x="889" y="67"/>
                </a:lnTo>
                <a:lnTo>
                  <a:pt x="889" y="67"/>
                </a:lnTo>
                <a:close/>
                <a:moveTo>
                  <a:pt x="860" y="65"/>
                </a:moveTo>
                <a:lnTo>
                  <a:pt x="860" y="65"/>
                </a:lnTo>
                <a:lnTo>
                  <a:pt x="858" y="64"/>
                </a:lnTo>
                <a:lnTo>
                  <a:pt x="858" y="63"/>
                </a:lnTo>
                <a:lnTo>
                  <a:pt x="858" y="62"/>
                </a:lnTo>
                <a:lnTo>
                  <a:pt x="860" y="61"/>
                </a:lnTo>
                <a:lnTo>
                  <a:pt x="861" y="61"/>
                </a:lnTo>
                <a:lnTo>
                  <a:pt x="861" y="61"/>
                </a:lnTo>
                <a:lnTo>
                  <a:pt x="861" y="61"/>
                </a:lnTo>
                <a:lnTo>
                  <a:pt x="863" y="62"/>
                </a:lnTo>
                <a:lnTo>
                  <a:pt x="863" y="63"/>
                </a:lnTo>
                <a:lnTo>
                  <a:pt x="861" y="64"/>
                </a:lnTo>
                <a:lnTo>
                  <a:pt x="860" y="65"/>
                </a:lnTo>
                <a:lnTo>
                  <a:pt x="860" y="65"/>
                </a:lnTo>
                <a:close/>
                <a:moveTo>
                  <a:pt x="830" y="62"/>
                </a:moveTo>
                <a:lnTo>
                  <a:pt x="830" y="62"/>
                </a:lnTo>
                <a:lnTo>
                  <a:pt x="830" y="62"/>
                </a:lnTo>
                <a:lnTo>
                  <a:pt x="828" y="62"/>
                </a:lnTo>
                <a:lnTo>
                  <a:pt x="828" y="61"/>
                </a:lnTo>
                <a:lnTo>
                  <a:pt x="828" y="61"/>
                </a:lnTo>
                <a:lnTo>
                  <a:pt x="828" y="60"/>
                </a:lnTo>
                <a:lnTo>
                  <a:pt x="830" y="60"/>
                </a:lnTo>
                <a:lnTo>
                  <a:pt x="830" y="59"/>
                </a:lnTo>
                <a:lnTo>
                  <a:pt x="832" y="59"/>
                </a:lnTo>
                <a:lnTo>
                  <a:pt x="832" y="59"/>
                </a:lnTo>
                <a:lnTo>
                  <a:pt x="832" y="59"/>
                </a:lnTo>
                <a:lnTo>
                  <a:pt x="834" y="60"/>
                </a:lnTo>
                <a:lnTo>
                  <a:pt x="834" y="60"/>
                </a:lnTo>
                <a:lnTo>
                  <a:pt x="834" y="61"/>
                </a:lnTo>
                <a:lnTo>
                  <a:pt x="834" y="62"/>
                </a:lnTo>
                <a:lnTo>
                  <a:pt x="834" y="62"/>
                </a:lnTo>
                <a:lnTo>
                  <a:pt x="832" y="62"/>
                </a:lnTo>
                <a:lnTo>
                  <a:pt x="830" y="62"/>
                </a:lnTo>
                <a:lnTo>
                  <a:pt x="830" y="62"/>
                </a:lnTo>
                <a:close/>
                <a:moveTo>
                  <a:pt x="802" y="60"/>
                </a:moveTo>
                <a:lnTo>
                  <a:pt x="802" y="60"/>
                </a:lnTo>
                <a:lnTo>
                  <a:pt x="800" y="60"/>
                </a:lnTo>
                <a:lnTo>
                  <a:pt x="798" y="60"/>
                </a:lnTo>
                <a:lnTo>
                  <a:pt x="798" y="59"/>
                </a:lnTo>
                <a:lnTo>
                  <a:pt x="800" y="57"/>
                </a:lnTo>
                <a:lnTo>
                  <a:pt x="802" y="57"/>
                </a:lnTo>
                <a:lnTo>
                  <a:pt x="802" y="57"/>
                </a:lnTo>
                <a:lnTo>
                  <a:pt x="804" y="58"/>
                </a:lnTo>
                <a:lnTo>
                  <a:pt x="804" y="59"/>
                </a:lnTo>
                <a:lnTo>
                  <a:pt x="804" y="60"/>
                </a:lnTo>
                <a:lnTo>
                  <a:pt x="804" y="60"/>
                </a:lnTo>
                <a:lnTo>
                  <a:pt x="802" y="60"/>
                </a:lnTo>
                <a:lnTo>
                  <a:pt x="802" y="60"/>
                </a:lnTo>
                <a:lnTo>
                  <a:pt x="802" y="60"/>
                </a:lnTo>
                <a:close/>
                <a:moveTo>
                  <a:pt x="772" y="58"/>
                </a:moveTo>
                <a:lnTo>
                  <a:pt x="772" y="58"/>
                </a:lnTo>
                <a:lnTo>
                  <a:pt x="770" y="58"/>
                </a:lnTo>
                <a:lnTo>
                  <a:pt x="768" y="57"/>
                </a:lnTo>
                <a:lnTo>
                  <a:pt x="768" y="57"/>
                </a:lnTo>
                <a:lnTo>
                  <a:pt x="768" y="56"/>
                </a:lnTo>
                <a:lnTo>
                  <a:pt x="770" y="55"/>
                </a:lnTo>
                <a:lnTo>
                  <a:pt x="772" y="55"/>
                </a:lnTo>
                <a:lnTo>
                  <a:pt x="772" y="55"/>
                </a:lnTo>
                <a:lnTo>
                  <a:pt x="774" y="56"/>
                </a:lnTo>
                <a:lnTo>
                  <a:pt x="774" y="56"/>
                </a:lnTo>
                <a:lnTo>
                  <a:pt x="774" y="57"/>
                </a:lnTo>
                <a:lnTo>
                  <a:pt x="774" y="57"/>
                </a:lnTo>
                <a:lnTo>
                  <a:pt x="774" y="58"/>
                </a:lnTo>
                <a:lnTo>
                  <a:pt x="772" y="58"/>
                </a:lnTo>
                <a:lnTo>
                  <a:pt x="772" y="58"/>
                </a:lnTo>
                <a:close/>
                <a:moveTo>
                  <a:pt x="742" y="56"/>
                </a:moveTo>
                <a:lnTo>
                  <a:pt x="742" y="56"/>
                </a:lnTo>
                <a:lnTo>
                  <a:pt x="740" y="56"/>
                </a:lnTo>
                <a:lnTo>
                  <a:pt x="738" y="54"/>
                </a:lnTo>
                <a:lnTo>
                  <a:pt x="740" y="53"/>
                </a:lnTo>
                <a:lnTo>
                  <a:pt x="740" y="53"/>
                </a:lnTo>
                <a:lnTo>
                  <a:pt x="742" y="53"/>
                </a:lnTo>
                <a:lnTo>
                  <a:pt x="742" y="53"/>
                </a:lnTo>
                <a:lnTo>
                  <a:pt x="744" y="53"/>
                </a:lnTo>
                <a:lnTo>
                  <a:pt x="744" y="54"/>
                </a:lnTo>
                <a:lnTo>
                  <a:pt x="746" y="55"/>
                </a:lnTo>
                <a:lnTo>
                  <a:pt x="744" y="55"/>
                </a:lnTo>
                <a:lnTo>
                  <a:pt x="744" y="56"/>
                </a:lnTo>
                <a:lnTo>
                  <a:pt x="742" y="56"/>
                </a:lnTo>
                <a:lnTo>
                  <a:pt x="742" y="56"/>
                </a:lnTo>
                <a:close/>
                <a:moveTo>
                  <a:pt x="712" y="54"/>
                </a:moveTo>
                <a:lnTo>
                  <a:pt x="712" y="54"/>
                </a:lnTo>
                <a:lnTo>
                  <a:pt x="710" y="54"/>
                </a:lnTo>
                <a:lnTo>
                  <a:pt x="710" y="54"/>
                </a:lnTo>
                <a:lnTo>
                  <a:pt x="710" y="53"/>
                </a:lnTo>
                <a:lnTo>
                  <a:pt x="710" y="52"/>
                </a:lnTo>
                <a:lnTo>
                  <a:pt x="710" y="52"/>
                </a:lnTo>
                <a:lnTo>
                  <a:pt x="710" y="51"/>
                </a:lnTo>
                <a:lnTo>
                  <a:pt x="712" y="51"/>
                </a:lnTo>
                <a:lnTo>
                  <a:pt x="712" y="51"/>
                </a:lnTo>
                <a:lnTo>
                  <a:pt x="712" y="51"/>
                </a:lnTo>
                <a:lnTo>
                  <a:pt x="714" y="51"/>
                </a:lnTo>
                <a:lnTo>
                  <a:pt x="714" y="52"/>
                </a:lnTo>
                <a:lnTo>
                  <a:pt x="716" y="52"/>
                </a:lnTo>
                <a:lnTo>
                  <a:pt x="716" y="53"/>
                </a:lnTo>
                <a:lnTo>
                  <a:pt x="714" y="54"/>
                </a:lnTo>
                <a:lnTo>
                  <a:pt x="712" y="54"/>
                </a:lnTo>
                <a:lnTo>
                  <a:pt x="712" y="54"/>
                </a:lnTo>
                <a:lnTo>
                  <a:pt x="712" y="54"/>
                </a:lnTo>
                <a:close/>
                <a:moveTo>
                  <a:pt x="682" y="52"/>
                </a:moveTo>
                <a:lnTo>
                  <a:pt x="682" y="52"/>
                </a:lnTo>
                <a:lnTo>
                  <a:pt x="681" y="52"/>
                </a:lnTo>
                <a:lnTo>
                  <a:pt x="681" y="51"/>
                </a:lnTo>
                <a:lnTo>
                  <a:pt x="681" y="50"/>
                </a:lnTo>
                <a:lnTo>
                  <a:pt x="681" y="49"/>
                </a:lnTo>
                <a:lnTo>
                  <a:pt x="682" y="49"/>
                </a:lnTo>
                <a:lnTo>
                  <a:pt x="684" y="49"/>
                </a:lnTo>
                <a:lnTo>
                  <a:pt x="684" y="49"/>
                </a:lnTo>
                <a:lnTo>
                  <a:pt x="686" y="51"/>
                </a:lnTo>
                <a:lnTo>
                  <a:pt x="686" y="51"/>
                </a:lnTo>
                <a:lnTo>
                  <a:pt x="684" y="52"/>
                </a:lnTo>
                <a:lnTo>
                  <a:pt x="684" y="52"/>
                </a:lnTo>
                <a:lnTo>
                  <a:pt x="682" y="52"/>
                </a:lnTo>
                <a:lnTo>
                  <a:pt x="682" y="52"/>
                </a:lnTo>
                <a:close/>
                <a:moveTo>
                  <a:pt x="653" y="50"/>
                </a:moveTo>
                <a:lnTo>
                  <a:pt x="653" y="50"/>
                </a:lnTo>
                <a:lnTo>
                  <a:pt x="651" y="49"/>
                </a:lnTo>
                <a:lnTo>
                  <a:pt x="651" y="49"/>
                </a:lnTo>
                <a:lnTo>
                  <a:pt x="651" y="48"/>
                </a:lnTo>
                <a:lnTo>
                  <a:pt x="651" y="48"/>
                </a:lnTo>
                <a:lnTo>
                  <a:pt x="651" y="47"/>
                </a:lnTo>
                <a:lnTo>
                  <a:pt x="654" y="47"/>
                </a:lnTo>
                <a:lnTo>
                  <a:pt x="654" y="47"/>
                </a:lnTo>
                <a:lnTo>
                  <a:pt x="656" y="47"/>
                </a:lnTo>
                <a:lnTo>
                  <a:pt x="656" y="49"/>
                </a:lnTo>
                <a:lnTo>
                  <a:pt x="654" y="50"/>
                </a:lnTo>
                <a:lnTo>
                  <a:pt x="653" y="50"/>
                </a:lnTo>
                <a:lnTo>
                  <a:pt x="653" y="50"/>
                </a:lnTo>
                <a:close/>
                <a:moveTo>
                  <a:pt x="623" y="48"/>
                </a:moveTo>
                <a:lnTo>
                  <a:pt x="623" y="48"/>
                </a:lnTo>
                <a:lnTo>
                  <a:pt x="621" y="47"/>
                </a:lnTo>
                <a:lnTo>
                  <a:pt x="621" y="45"/>
                </a:lnTo>
                <a:lnTo>
                  <a:pt x="621" y="44"/>
                </a:lnTo>
                <a:lnTo>
                  <a:pt x="623" y="44"/>
                </a:lnTo>
                <a:lnTo>
                  <a:pt x="625" y="44"/>
                </a:lnTo>
                <a:lnTo>
                  <a:pt x="625" y="44"/>
                </a:lnTo>
                <a:lnTo>
                  <a:pt x="625" y="44"/>
                </a:lnTo>
                <a:lnTo>
                  <a:pt x="626" y="44"/>
                </a:lnTo>
                <a:lnTo>
                  <a:pt x="626" y="45"/>
                </a:lnTo>
                <a:lnTo>
                  <a:pt x="626" y="47"/>
                </a:lnTo>
                <a:lnTo>
                  <a:pt x="626" y="47"/>
                </a:lnTo>
                <a:lnTo>
                  <a:pt x="625" y="48"/>
                </a:lnTo>
                <a:lnTo>
                  <a:pt x="623" y="48"/>
                </a:lnTo>
                <a:lnTo>
                  <a:pt x="623" y="48"/>
                </a:lnTo>
                <a:close/>
                <a:moveTo>
                  <a:pt x="593" y="45"/>
                </a:moveTo>
                <a:lnTo>
                  <a:pt x="593" y="45"/>
                </a:lnTo>
                <a:lnTo>
                  <a:pt x="593" y="45"/>
                </a:lnTo>
                <a:lnTo>
                  <a:pt x="591" y="44"/>
                </a:lnTo>
                <a:lnTo>
                  <a:pt x="591" y="44"/>
                </a:lnTo>
                <a:lnTo>
                  <a:pt x="591" y="43"/>
                </a:lnTo>
                <a:lnTo>
                  <a:pt x="591" y="42"/>
                </a:lnTo>
                <a:lnTo>
                  <a:pt x="593" y="42"/>
                </a:lnTo>
                <a:lnTo>
                  <a:pt x="593" y="42"/>
                </a:lnTo>
                <a:lnTo>
                  <a:pt x="595" y="42"/>
                </a:lnTo>
                <a:lnTo>
                  <a:pt x="595" y="42"/>
                </a:lnTo>
                <a:lnTo>
                  <a:pt x="595" y="42"/>
                </a:lnTo>
                <a:lnTo>
                  <a:pt x="597" y="42"/>
                </a:lnTo>
                <a:lnTo>
                  <a:pt x="597" y="44"/>
                </a:lnTo>
                <a:lnTo>
                  <a:pt x="597" y="45"/>
                </a:lnTo>
                <a:lnTo>
                  <a:pt x="595" y="45"/>
                </a:lnTo>
                <a:lnTo>
                  <a:pt x="593" y="45"/>
                </a:lnTo>
                <a:lnTo>
                  <a:pt x="593" y="45"/>
                </a:lnTo>
                <a:close/>
                <a:moveTo>
                  <a:pt x="565" y="43"/>
                </a:moveTo>
                <a:lnTo>
                  <a:pt x="565" y="43"/>
                </a:lnTo>
                <a:lnTo>
                  <a:pt x="563" y="43"/>
                </a:lnTo>
                <a:lnTo>
                  <a:pt x="561" y="42"/>
                </a:lnTo>
                <a:lnTo>
                  <a:pt x="561" y="41"/>
                </a:lnTo>
                <a:lnTo>
                  <a:pt x="563" y="40"/>
                </a:lnTo>
                <a:lnTo>
                  <a:pt x="565" y="40"/>
                </a:lnTo>
                <a:lnTo>
                  <a:pt x="565" y="40"/>
                </a:lnTo>
                <a:lnTo>
                  <a:pt x="567" y="40"/>
                </a:lnTo>
                <a:lnTo>
                  <a:pt x="567" y="41"/>
                </a:lnTo>
                <a:lnTo>
                  <a:pt x="567" y="42"/>
                </a:lnTo>
                <a:lnTo>
                  <a:pt x="567" y="42"/>
                </a:lnTo>
                <a:lnTo>
                  <a:pt x="567" y="43"/>
                </a:lnTo>
                <a:lnTo>
                  <a:pt x="565" y="43"/>
                </a:lnTo>
                <a:lnTo>
                  <a:pt x="565" y="43"/>
                </a:lnTo>
                <a:lnTo>
                  <a:pt x="565" y="43"/>
                </a:lnTo>
                <a:close/>
                <a:moveTo>
                  <a:pt x="535" y="41"/>
                </a:moveTo>
                <a:lnTo>
                  <a:pt x="535" y="41"/>
                </a:lnTo>
                <a:lnTo>
                  <a:pt x="533" y="40"/>
                </a:lnTo>
                <a:lnTo>
                  <a:pt x="531" y="40"/>
                </a:lnTo>
                <a:lnTo>
                  <a:pt x="531" y="39"/>
                </a:lnTo>
                <a:lnTo>
                  <a:pt x="531" y="38"/>
                </a:lnTo>
                <a:lnTo>
                  <a:pt x="533" y="38"/>
                </a:lnTo>
                <a:lnTo>
                  <a:pt x="535" y="38"/>
                </a:lnTo>
                <a:lnTo>
                  <a:pt x="535" y="38"/>
                </a:lnTo>
                <a:lnTo>
                  <a:pt x="537" y="38"/>
                </a:lnTo>
                <a:lnTo>
                  <a:pt x="539" y="39"/>
                </a:lnTo>
                <a:lnTo>
                  <a:pt x="537" y="40"/>
                </a:lnTo>
                <a:lnTo>
                  <a:pt x="535" y="41"/>
                </a:lnTo>
                <a:lnTo>
                  <a:pt x="535" y="41"/>
                </a:lnTo>
                <a:close/>
                <a:moveTo>
                  <a:pt x="505" y="39"/>
                </a:moveTo>
                <a:lnTo>
                  <a:pt x="505" y="39"/>
                </a:lnTo>
                <a:lnTo>
                  <a:pt x="503" y="38"/>
                </a:lnTo>
                <a:lnTo>
                  <a:pt x="501" y="37"/>
                </a:lnTo>
                <a:lnTo>
                  <a:pt x="503" y="36"/>
                </a:lnTo>
                <a:lnTo>
                  <a:pt x="505" y="36"/>
                </a:lnTo>
                <a:lnTo>
                  <a:pt x="505" y="36"/>
                </a:lnTo>
                <a:lnTo>
                  <a:pt x="505" y="36"/>
                </a:lnTo>
                <a:lnTo>
                  <a:pt x="507" y="36"/>
                </a:lnTo>
                <a:lnTo>
                  <a:pt x="507" y="36"/>
                </a:lnTo>
                <a:lnTo>
                  <a:pt x="509" y="37"/>
                </a:lnTo>
                <a:lnTo>
                  <a:pt x="509" y="37"/>
                </a:lnTo>
                <a:lnTo>
                  <a:pt x="507" y="38"/>
                </a:lnTo>
                <a:lnTo>
                  <a:pt x="507" y="38"/>
                </a:lnTo>
                <a:lnTo>
                  <a:pt x="505" y="39"/>
                </a:lnTo>
                <a:lnTo>
                  <a:pt x="505" y="39"/>
                </a:lnTo>
                <a:close/>
                <a:moveTo>
                  <a:pt x="475" y="37"/>
                </a:moveTo>
                <a:lnTo>
                  <a:pt x="475" y="37"/>
                </a:lnTo>
                <a:lnTo>
                  <a:pt x="473" y="36"/>
                </a:lnTo>
                <a:lnTo>
                  <a:pt x="473" y="36"/>
                </a:lnTo>
                <a:lnTo>
                  <a:pt x="473" y="35"/>
                </a:lnTo>
                <a:lnTo>
                  <a:pt x="473" y="34"/>
                </a:lnTo>
                <a:lnTo>
                  <a:pt x="473" y="34"/>
                </a:lnTo>
                <a:lnTo>
                  <a:pt x="475" y="34"/>
                </a:lnTo>
                <a:lnTo>
                  <a:pt x="475" y="34"/>
                </a:lnTo>
                <a:lnTo>
                  <a:pt x="475" y="34"/>
                </a:lnTo>
                <a:lnTo>
                  <a:pt x="477" y="34"/>
                </a:lnTo>
                <a:lnTo>
                  <a:pt x="477" y="34"/>
                </a:lnTo>
                <a:lnTo>
                  <a:pt x="479" y="35"/>
                </a:lnTo>
                <a:lnTo>
                  <a:pt x="477" y="36"/>
                </a:lnTo>
                <a:lnTo>
                  <a:pt x="477" y="37"/>
                </a:lnTo>
                <a:lnTo>
                  <a:pt x="475" y="37"/>
                </a:lnTo>
                <a:lnTo>
                  <a:pt x="475" y="37"/>
                </a:lnTo>
                <a:close/>
                <a:moveTo>
                  <a:pt x="445" y="35"/>
                </a:moveTo>
                <a:lnTo>
                  <a:pt x="445" y="35"/>
                </a:lnTo>
                <a:lnTo>
                  <a:pt x="444" y="34"/>
                </a:lnTo>
                <a:lnTo>
                  <a:pt x="444" y="34"/>
                </a:lnTo>
                <a:lnTo>
                  <a:pt x="444" y="33"/>
                </a:lnTo>
                <a:lnTo>
                  <a:pt x="444" y="33"/>
                </a:lnTo>
                <a:lnTo>
                  <a:pt x="444" y="32"/>
                </a:lnTo>
                <a:lnTo>
                  <a:pt x="444" y="32"/>
                </a:lnTo>
                <a:lnTo>
                  <a:pt x="447" y="31"/>
                </a:lnTo>
                <a:lnTo>
                  <a:pt x="447" y="31"/>
                </a:lnTo>
                <a:lnTo>
                  <a:pt x="449" y="32"/>
                </a:lnTo>
                <a:lnTo>
                  <a:pt x="449" y="33"/>
                </a:lnTo>
                <a:lnTo>
                  <a:pt x="449" y="33"/>
                </a:lnTo>
                <a:lnTo>
                  <a:pt x="449" y="34"/>
                </a:lnTo>
                <a:lnTo>
                  <a:pt x="447" y="34"/>
                </a:lnTo>
                <a:lnTo>
                  <a:pt x="447" y="35"/>
                </a:lnTo>
                <a:lnTo>
                  <a:pt x="445" y="35"/>
                </a:lnTo>
                <a:lnTo>
                  <a:pt x="445" y="35"/>
                </a:lnTo>
                <a:close/>
                <a:moveTo>
                  <a:pt x="416" y="33"/>
                </a:moveTo>
                <a:lnTo>
                  <a:pt x="416" y="33"/>
                </a:lnTo>
                <a:lnTo>
                  <a:pt x="414" y="32"/>
                </a:lnTo>
                <a:lnTo>
                  <a:pt x="414" y="31"/>
                </a:lnTo>
                <a:lnTo>
                  <a:pt x="414" y="30"/>
                </a:lnTo>
                <a:lnTo>
                  <a:pt x="417" y="29"/>
                </a:lnTo>
                <a:lnTo>
                  <a:pt x="417" y="29"/>
                </a:lnTo>
                <a:lnTo>
                  <a:pt x="419" y="30"/>
                </a:lnTo>
                <a:lnTo>
                  <a:pt x="419" y="31"/>
                </a:lnTo>
                <a:lnTo>
                  <a:pt x="417" y="32"/>
                </a:lnTo>
                <a:lnTo>
                  <a:pt x="416" y="33"/>
                </a:lnTo>
                <a:lnTo>
                  <a:pt x="416" y="33"/>
                </a:lnTo>
                <a:close/>
                <a:moveTo>
                  <a:pt x="386" y="31"/>
                </a:moveTo>
                <a:lnTo>
                  <a:pt x="386" y="31"/>
                </a:lnTo>
                <a:lnTo>
                  <a:pt x="384" y="30"/>
                </a:lnTo>
                <a:lnTo>
                  <a:pt x="384" y="29"/>
                </a:lnTo>
                <a:lnTo>
                  <a:pt x="384" y="29"/>
                </a:lnTo>
                <a:lnTo>
                  <a:pt x="384" y="28"/>
                </a:lnTo>
                <a:lnTo>
                  <a:pt x="386" y="28"/>
                </a:lnTo>
                <a:lnTo>
                  <a:pt x="386" y="27"/>
                </a:lnTo>
                <a:lnTo>
                  <a:pt x="388" y="27"/>
                </a:lnTo>
                <a:lnTo>
                  <a:pt x="388" y="27"/>
                </a:lnTo>
                <a:lnTo>
                  <a:pt x="388" y="27"/>
                </a:lnTo>
                <a:lnTo>
                  <a:pt x="389" y="28"/>
                </a:lnTo>
                <a:lnTo>
                  <a:pt x="389" y="28"/>
                </a:lnTo>
                <a:lnTo>
                  <a:pt x="389" y="29"/>
                </a:lnTo>
                <a:lnTo>
                  <a:pt x="389" y="30"/>
                </a:lnTo>
                <a:lnTo>
                  <a:pt x="389" y="30"/>
                </a:lnTo>
                <a:lnTo>
                  <a:pt x="386" y="31"/>
                </a:lnTo>
                <a:lnTo>
                  <a:pt x="386" y="31"/>
                </a:lnTo>
                <a:close/>
                <a:moveTo>
                  <a:pt x="358" y="28"/>
                </a:moveTo>
                <a:lnTo>
                  <a:pt x="358" y="28"/>
                </a:lnTo>
                <a:lnTo>
                  <a:pt x="356" y="28"/>
                </a:lnTo>
                <a:lnTo>
                  <a:pt x="354" y="28"/>
                </a:lnTo>
                <a:lnTo>
                  <a:pt x="354" y="27"/>
                </a:lnTo>
                <a:lnTo>
                  <a:pt x="356" y="26"/>
                </a:lnTo>
                <a:lnTo>
                  <a:pt x="356" y="25"/>
                </a:lnTo>
                <a:lnTo>
                  <a:pt x="358" y="25"/>
                </a:lnTo>
                <a:lnTo>
                  <a:pt x="358" y="25"/>
                </a:lnTo>
                <a:lnTo>
                  <a:pt x="358" y="25"/>
                </a:lnTo>
                <a:lnTo>
                  <a:pt x="360" y="26"/>
                </a:lnTo>
                <a:lnTo>
                  <a:pt x="360" y="27"/>
                </a:lnTo>
                <a:lnTo>
                  <a:pt x="360" y="28"/>
                </a:lnTo>
                <a:lnTo>
                  <a:pt x="358" y="28"/>
                </a:lnTo>
                <a:lnTo>
                  <a:pt x="358" y="28"/>
                </a:lnTo>
                <a:lnTo>
                  <a:pt x="358" y="28"/>
                </a:lnTo>
                <a:close/>
                <a:moveTo>
                  <a:pt x="328" y="26"/>
                </a:moveTo>
                <a:lnTo>
                  <a:pt x="328" y="26"/>
                </a:lnTo>
                <a:lnTo>
                  <a:pt x="326" y="26"/>
                </a:lnTo>
                <a:lnTo>
                  <a:pt x="326" y="26"/>
                </a:lnTo>
                <a:lnTo>
                  <a:pt x="324" y="25"/>
                </a:lnTo>
                <a:lnTo>
                  <a:pt x="324" y="25"/>
                </a:lnTo>
                <a:lnTo>
                  <a:pt x="324" y="24"/>
                </a:lnTo>
                <a:lnTo>
                  <a:pt x="326" y="23"/>
                </a:lnTo>
                <a:lnTo>
                  <a:pt x="328" y="23"/>
                </a:lnTo>
                <a:lnTo>
                  <a:pt x="328" y="23"/>
                </a:lnTo>
                <a:lnTo>
                  <a:pt x="330" y="24"/>
                </a:lnTo>
                <a:lnTo>
                  <a:pt x="330" y="24"/>
                </a:lnTo>
                <a:lnTo>
                  <a:pt x="330" y="25"/>
                </a:lnTo>
                <a:lnTo>
                  <a:pt x="330" y="26"/>
                </a:lnTo>
                <a:lnTo>
                  <a:pt x="330" y="26"/>
                </a:lnTo>
                <a:lnTo>
                  <a:pt x="328" y="26"/>
                </a:lnTo>
                <a:lnTo>
                  <a:pt x="328" y="26"/>
                </a:lnTo>
                <a:lnTo>
                  <a:pt x="328" y="26"/>
                </a:lnTo>
                <a:close/>
                <a:moveTo>
                  <a:pt x="298" y="24"/>
                </a:moveTo>
                <a:lnTo>
                  <a:pt x="298" y="24"/>
                </a:lnTo>
                <a:lnTo>
                  <a:pt x="296" y="24"/>
                </a:lnTo>
                <a:lnTo>
                  <a:pt x="294" y="23"/>
                </a:lnTo>
                <a:lnTo>
                  <a:pt x="296" y="20"/>
                </a:lnTo>
                <a:lnTo>
                  <a:pt x="298" y="20"/>
                </a:lnTo>
                <a:lnTo>
                  <a:pt x="298" y="20"/>
                </a:lnTo>
                <a:lnTo>
                  <a:pt x="300" y="21"/>
                </a:lnTo>
                <a:lnTo>
                  <a:pt x="302" y="23"/>
                </a:lnTo>
                <a:lnTo>
                  <a:pt x="300" y="24"/>
                </a:lnTo>
                <a:lnTo>
                  <a:pt x="298" y="24"/>
                </a:lnTo>
                <a:lnTo>
                  <a:pt x="298" y="24"/>
                </a:lnTo>
                <a:close/>
                <a:moveTo>
                  <a:pt x="268" y="21"/>
                </a:moveTo>
                <a:lnTo>
                  <a:pt x="268" y="21"/>
                </a:lnTo>
                <a:lnTo>
                  <a:pt x="266" y="21"/>
                </a:lnTo>
                <a:lnTo>
                  <a:pt x="266" y="20"/>
                </a:lnTo>
                <a:lnTo>
                  <a:pt x="266" y="19"/>
                </a:lnTo>
                <a:lnTo>
                  <a:pt x="266" y="19"/>
                </a:lnTo>
                <a:lnTo>
                  <a:pt x="266" y="18"/>
                </a:lnTo>
                <a:lnTo>
                  <a:pt x="268" y="18"/>
                </a:lnTo>
                <a:lnTo>
                  <a:pt x="268" y="18"/>
                </a:lnTo>
                <a:lnTo>
                  <a:pt x="268" y="18"/>
                </a:lnTo>
                <a:lnTo>
                  <a:pt x="270" y="18"/>
                </a:lnTo>
                <a:lnTo>
                  <a:pt x="270" y="19"/>
                </a:lnTo>
                <a:lnTo>
                  <a:pt x="272" y="19"/>
                </a:lnTo>
                <a:lnTo>
                  <a:pt x="272" y="20"/>
                </a:lnTo>
                <a:lnTo>
                  <a:pt x="270" y="20"/>
                </a:lnTo>
                <a:lnTo>
                  <a:pt x="270" y="21"/>
                </a:lnTo>
                <a:lnTo>
                  <a:pt x="268" y="21"/>
                </a:lnTo>
                <a:lnTo>
                  <a:pt x="268" y="21"/>
                </a:lnTo>
                <a:close/>
                <a:moveTo>
                  <a:pt x="238" y="19"/>
                </a:moveTo>
                <a:lnTo>
                  <a:pt x="238" y="19"/>
                </a:lnTo>
                <a:lnTo>
                  <a:pt x="236" y="19"/>
                </a:lnTo>
                <a:lnTo>
                  <a:pt x="236" y="19"/>
                </a:lnTo>
                <a:lnTo>
                  <a:pt x="236" y="17"/>
                </a:lnTo>
                <a:lnTo>
                  <a:pt x="236" y="16"/>
                </a:lnTo>
                <a:lnTo>
                  <a:pt x="238" y="16"/>
                </a:lnTo>
                <a:lnTo>
                  <a:pt x="238" y="16"/>
                </a:lnTo>
                <a:lnTo>
                  <a:pt x="238" y="16"/>
                </a:lnTo>
                <a:lnTo>
                  <a:pt x="240" y="16"/>
                </a:lnTo>
                <a:lnTo>
                  <a:pt x="240" y="17"/>
                </a:lnTo>
                <a:lnTo>
                  <a:pt x="242" y="18"/>
                </a:lnTo>
                <a:lnTo>
                  <a:pt x="240" y="19"/>
                </a:lnTo>
                <a:lnTo>
                  <a:pt x="240" y="19"/>
                </a:lnTo>
                <a:lnTo>
                  <a:pt x="238" y="19"/>
                </a:lnTo>
                <a:lnTo>
                  <a:pt x="238" y="19"/>
                </a:lnTo>
                <a:close/>
                <a:moveTo>
                  <a:pt x="208" y="17"/>
                </a:moveTo>
                <a:lnTo>
                  <a:pt x="208" y="17"/>
                </a:lnTo>
                <a:lnTo>
                  <a:pt x="207" y="17"/>
                </a:lnTo>
                <a:lnTo>
                  <a:pt x="207" y="16"/>
                </a:lnTo>
                <a:lnTo>
                  <a:pt x="207" y="16"/>
                </a:lnTo>
                <a:lnTo>
                  <a:pt x="207" y="15"/>
                </a:lnTo>
                <a:lnTo>
                  <a:pt x="207" y="15"/>
                </a:lnTo>
                <a:lnTo>
                  <a:pt x="207" y="14"/>
                </a:lnTo>
                <a:lnTo>
                  <a:pt x="210" y="14"/>
                </a:lnTo>
                <a:lnTo>
                  <a:pt x="210" y="14"/>
                </a:lnTo>
                <a:lnTo>
                  <a:pt x="212" y="14"/>
                </a:lnTo>
                <a:lnTo>
                  <a:pt x="212" y="15"/>
                </a:lnTo>
                <a:lnTo>
                  <a:pt x="212" y="16"/>
                </a:lnTo>
                <a:lnTo>
                  <a:pt x="212" y="16"/>
                </a:lnTo>
                <a:lnTo>
                  <a:pt x="210" y="17"/>
                </a:lnTo>
                <a:lnTo>
                  <a:pt x="208" y="17"/>
                </a:lnTo>
                <a:lnTo>
                  <a:pt x="208" y="17"/>
                </a:lnTo>
                <a:close/>
                <a:moveTo>
                  <a:pt x="179" y="15"/>
                </a:moveTo>
                <a:lnTo>
                  <a:pt x="179" y="15"/>
                </a:lnTo>
                <a:lnTo>
                  <a:pt x="177" y="14"/>
                </a:lnTo>
                <a:lnTo>
                  <a:pt x="177" y="13"/>
                </a:lnTo>
                <a:lnTo>
                  <a:pt x="177" y="12"/>
                </a:lnTo>
                <a:lnTo>
                  <a:pt x="180" y="12"/>
                </a:lnTo>
                <a:lnTo>
                  <a:pt x="180" y="12"/>
                </a:lnTo>
                <a:lnTo>
                  <a:pt x="182" y="12"/>
                </a:lnTo>
                <a:lnTo>
                  <a:pt x="182" y="14"/>
                </a:lnTo>
                <a:lnTo>
                  <a:pt x="180" y="15"/>
                </a:lnTo>
                <a:lnTo>
                  <a:pt x="179" y="15"/>
                </a:lnTo>
                <a:lnTo>
                  <a:pt x="179" y="15"/>
                </a:lnTo>
                <a:close/>
                <a:moveTo>
                  <a:pt x="149" y="13"/>
                </a:moveTo>
                <a:lnTo>
                  <a:pt x="149" y="13"/>
                </a:lnTo>
                <a:lnTo>
                  <a:pt x="147" y="12"/>
                </a:lnTo>
                <a:lnTo>
                  <a:pt x="147" y="12"/>
                </a:lnTo>
                <a:lnTo>
                  <a:pt x="147" y="11"/>
                </a:lnTo>
                <a:lnTo>
                  <a:pt x="147" y="10"/>
                </a:lnTo>
                <a:lnTo>
                  <a:pt x="149" y="10"/>
                </a:lnTo>
                <a:lnTo>
                  <a:pt x="149" y="10"/>
                </a:lnTo>
                <a:lnTo>
                  <a:pt x="151" y="10"/>
                </a:lnTo>
                <a:lnTo>
                  <a:pt x="151" y="10"/>
                </a:lnTo>
                <a:lnTo>
                  <a:pt x="151" y="10"/>
                </a:lnTo>
                <a:lnTo>
                  <a:pt x="153" y="10"/>
                </a:lnTo>
                <a:lnTo>
                  <a:pt x="153" y="11"/>
                </a:lnTo>
                <a:lnTo>
                  <a:pt x="153" y="12"/>
                </a:lnTo>
                <a:lnTo>
                  <a:pt x="153" y="12"/>
                </a:lnTo>
                <a:lnTo>
                  <a:pt x="153" y="13"/>
                </a:lnTo>
                <a:lnTo>
                  <a:pt x="149" y="13"/>
                </a:lnTo>
                <a:lnTo>
                  <a:pt x="149" y="13"/>
                </a:lnTo>
                <a:close/>
                <a:moveTo>
                  <a:pt x="121" y="11"/>
                </a:moveTo>
                <a:lnTo>
                  <a:pt x="121" y="11"/>
                </a:lnTo>
                <a:lnTo>
                  <a:pt x="119" y="11"/>
                </a:lnTo>
                <a:lnTo>
                  <a:pt x="117" y="10"/>
                </a:lnTo>
                <a:lnTo>
                  <a:pt x="117" y="9"/>
                </a:lnTo>
                <a:lnTo>
                  <a:pt x="119" y="8"/>
                </a:lnTo>
                <a:lnTo>
                  <a:pt x="119" y="8"/>
                </a:lnTo>
                <a:lnTo>
                  <a:pt x="121" y="8"/>
                </a:lnTo>
                <a:lnTo>
                  <a:pt x="121" y="8"/>
                </a:lnTo>
                <a:lnTo>
                  <a:pt x="121" y="8"/>
                </a:lnTo>
                <a:lnTo>
                  <a:pt x="123" y="8"/>
                </a:lnTo>
                <a:lnTo>
                  <a:pt x="123" y="10"/>
                </a:lnTo>
                <a:lnTo>
                  <a:pt x="123" y="10"/>
                </a:lnTo>
                <a:lnTo>
                  <a:pt x="123" y="11"/>
                </a:lnTo>
                <a:lnTo>
                  <a:pt x="121" y="11"/>
                </a:lnTo>
                <a:lnTo>
                  <a:pt x="121" y="11"/>
                </a:lnTo>
                <a:lnTo>
                  <a:pt x="121" y="11"/>
                </a:lnTo>
                <a:close/>
                <a:moveTo>
                  <a:pt x="91" y="9"/>
                </a:moveTo>
                <a:lnTo>
                  <a:pt x="91" y="9"/>
                </a:lnTo>
                <a:lnTo>
                  <a:pt x="89" y="9"/>
                </a:lnTo>
                <a:lnTo>
                  <a:pt x="89" y="8"/>
                </a:lnTo>
                <a:lnTo>
                  <a:pt x="87" y="8"/>
                </a:lnTo>
                <a:lnTo>
                  <a:pt x="87" y="7"/>
                </a:lnTo>
                <a:lnTo>
                  <a:pt x="87" y="6"/>
                </a:lnTo>
                <a:lnTo>
                  <a:pt x="89" y="6"/>
                </a:lnTo>
                <a:lnTo>
                  <a:pt x="91" y="6"/>
                </a:lnTo>
                <a:lnTo>
                  <a:pt x="91" y="6"/>
                </a:lnTo>
                <a:lnTo>
                  <a:pt x="93" y="6"/>
                </a:lnTo>
                <a:lnTo>
                  <a:pt x="93" y="7"/>
                </a:lnTo>
                <a:lnTo>
                  <a:pt x="93" y="8"/>
                </a:lnTo>
                <a:lnTo>
                  <a:pt x="93" y="8"/>
                </a:lnTo>
                <a:lnTo>
                  <a:pt x="93" y="8"/>
                </a:lnTo>
                <a:lnTo>
                  <a:pt x="91" y="9"/>
                </a:lnTo>
                <a:lnTo>
                  <a:pt x="91" y="9"/>
                </a:lnTo>
                <a:close/>
                <a:moveTo>
                  <a:pt x="61" y="7"/>
                </a:moveTo>
                <a:lnTo>
                  <a:pt x="61" y="7"/>
                </a:lnTo>
                <a:lnTo>
                  <a:pt x="59" y="6"/>
                </a:lnTo>
                <a:lnTo>
                  <a:pt x="57" y="5"/>
                </a:lnTo>
                <a:lnTo>
                  <a:pt x="59" y="4"/>
                </a:lnTo>
                <a:lnTo>
                  <a:pt x="61" y="4"/>
                </a:lnTo>
                <a:lnTo>
                  <a:pt x="61" y="4"/>
                </a:lnTo>
                <a:lnTo>
                  <a:pt x="63" y="4"/>
                </a:lnTo>
                <a:lnTo>
                  <a:pt x="65" y="5"/>
                </a:lnTo>
                <a:lnTo>
                  <a:pt x="63" y="6"/>
                </a:lnTo>
                <a:lnTo>
                  <a:pt x="63" y="6"/>
                </a:lnTo>
                <a:lnTo>
                  <a:pt x="61" y="7"/>
                </a:lnTo>
                <a:lnTo>
                  <a:pt x="61" y="7"/>
                </a:lnTo>
                <a:close/>
                <a:moveTo>
                  <a:pt x="31" y="5"/>
                </a:moveTo>
                <a:lnTo>
                  <a:pt x="31" y="5"/>
                </a:lnTo>
                <a:lnTo>
                  <a:pt x="29" y="4"/>
                </a:lnTo>
                <a:lnTo>
                  <a:pt x="29" y="3"/>
                </a:lnTo>
                <a:lnTo>
                  <a:pt x="29" y="3"/>
                </a:lnTo>
                <a:lnTo>
                  <a:pt x="29" y="2"/>
                </a:lnTo>
                <a:lnTo>
                  <a:pt x="29" y="2"/>
                </a:lnTo>
                <a:lnTo>
                  <a:pt x="31" y="2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3" y="2"/>
                </a:lnTo>
                <a:lnTo>
                  <a:pt x="35" y="3"/>
                </a:lnTo>
                <a:lnTo>
                  <a:pt x="33" y="4"/>
                </a:lnTo>
                <a:lnTo>
                  <a:pt x="31" y="5"/>
                </a:lnTo>
                <a:lnTo>
                  <a:pt x="31" y="5"/>
                </a:lnTo>
                <a:close/>
                <a:moveTo>
                  <a:pt x="1" y="3"/>
                </a:moveTo>
                <a:lnTo>
                  <a:pt x="1" y="3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3" y="2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90760" y="5286240"/>
            <a:ext cx="812880" cy="270000"/>
          </a:xfrm>
          <a:custGeom>
            <a:avLst/>
            <a:gdLst/>
            <a:ahLst/>
            <a:rect l="l" t="t" r="r" b="b"/>
            <a:pathLst>
              <a:path w="956" h="151">
                <a:moveTo>
                  <a:pt x="952" y="151"/>
                </a:moveTo>
                <a:lnTo>
                  <a:pt x="952" y="151"/>
                </a:lnTo>
                <a:lnTo>
                  <a:pt x="950" y="150"/>
                </a:lnTo>
                <a:lnTo>
                  <a:pt x="950" y="149"/>
                </a:lnTo>
                <a:lnTo>
                  <a:pt x="950" y="149"/>
                </a:lnTo>
                <a:lnTo>
                  <a:pt x="952" y="148"/>
                </a:lnTo>
                <a:lnTo>
                  <a:pt x="952" y="148"/>
                </a:lnTo>
                <a:lnTo>
                  <a:pt x="954" y="148"/>
                </a:lnTo>
                <a:lnTo>
                  <a:pt x="954" y="148"/>
                </a:lnTo>
                <a:lnTo>
                  <a:pt x="956" y="149"/>
                </a:lnTo>
                <a:lnTo>
                  <a:pt x="956" y="150"/>
                </a:lnTo>
                <a:lnTo>
                  <a:pt x="954" y="151"/>
                </a:lnTo>
                <a:lnTo>
                  <a:pt x="952" y="151"/>
                </a:lnTo>
                <a:lnTo>
                  <a:pt x="952" y="151"/>
                </a:lnTo>
                <a:close/>
                <a:moveTo>
                  <a:pt x="922" y="147"/>
                </a:moveTo>
                <a:lnTo>
                  <a:pt x="922" y="147"/>
                </a:lnTo>
                <a:lnTo>
                  <a:pt x="920" y="146"/>
                </a:lnTo>
                <a:lnTo>
                  <a:pt x="920" y="145"/>
                </a:lnTo>
                <a:lnTo>
                  <a:pt x="920" y="145"/>
                </a:lnTo>
                <a:lnTo>
                  <a:pt x="922" y="144"/>
                </a:lnTo>
                <a:lnTo>
                  <a:pt x="924" y="143"/>
                </a:lnTo>
                <a:lnTo>
                  <a:pt x="924" y="144"/>
                </a:lnTo>
                <a:lnTo>
                  <a:pt x="924" y="144"/>
                </a:lnTo>
                <a:lnTo>
                  <a:pt x="926" y="144"/>
                </a:lnTo>
                <a:lnTo>
                  <a:pt x="926" y="145"/>
                </a:lnTo>
                <a:lnTo>
                  <a:pt x="926" y="146"/>
                </a:lnTo>
                <a:lnTo>
                  <a:pt x="926" y="146"/>
                </a:lnTo>
                <a:lnTo>
                  <a:pt x="924" y="147"/>
                </a:lnTo>
                <a:lnTo>
                  <a:pt x="922" y="147"/>
                </a:lnTo>
                <a:lnTo>
                  <a:pt x="922" y="147"/>
                </a:lnTo>
                <a:close/>
                <a:moveTo>
                  <a:pt x="894" y="142"/>
                </a:moveTo>
                <a:lnTo>
                  <a:pt x="894" y="142"/>
                </a:lnTo>
                <a:lnTo>
                  <a:pt x="892" y="142"/>
                </a:lnTo>
                <a:lnTo>
                  <a:pt x="892" y="141"/>
                </a:lnTo>
                <a:lnTo>
                  <a:pt x="892" y="140"/>
                </a:lnTo>
                <a:lnTo>
                  <a:pt x="894" y="139"/>
                </a:lnTo>
                <a:lnTo>
                  <a:pt x="894" y="139"/>
                </a:lnTo>
                <a:lnTo>
                  <a:pt x="896" y="139"/>
                </a:lnTo>
                <a:lnTo>
                  <a:pt x="896" y="139"/>
                </a:lnTo>
                <a:lnTo>
                  <a:pt x="896" y="139"/>
                </a:lnTo>
                <a:lnTo>
                  <a:pt x="898" y="140"/>
                </a:lnTo>
                <a:lnTo>
                  <a:pt x="898" y="141"/>
                </a:lnTo>
                <a:lnTo>
                  <a:pt x="898" y="141"/>
                </a:lnTo>
                <a:lnTo>
                  <a:pt x="898" y="142"/>
                </a:lnTo>
                <a:lnTo>
                  <a:pt x="896" y="142"/>
                </a:lnTo>
                <a:lnTo>
                  <a:pt x="896" y="142"/>
                </a:lnTo>
                <a:lnTo>
                  <a:pt x="894" y="142"/>
                </a:lnTo>
                <a:lnTo>
                  <a:pt x="894" y="142"/>
                </a:lnTo>
                <a:close/>
                <a:moveTo>
                  <a:pt x="866" y="138"/>
                </a:moveTo>
                <a:lnTo>
                  <a:pt x="866" y="138"/>
                </a:lnTo>
                <a:lnTo>
                  <a:pt x="864" y="137"/>
                </a:lnTo>
                <a:lnTo>
                  <a:pt x="864" y="136"/>
                </a:lnTo>
                <a:lnTo>
                  <a:pt x="864" y="135"/>
                </a:lnTo>
                <a:lnTo>
                  <a:pt x="866" y="135"/>
                </a:lnTo>
                <a:lnTo>
                  <a:pt x="868" y="135"/>
                </a:lnTo>
                <a:lnTo>
                  <a:pt x="868" y="135"/>
                </a:lnTo>
                <a:lnTo>
                  <a:pt x="868" y="136"/>
                </a:lnTo>
                <a:lnTo>
                  <a:pt x="870" y="137"/>
                </a:lnTo>
                <a:lnTo>
                  <a:pt x="868" y="138"/>
                </a:lnTo>
                <a:lnTo>
                  <a:pt x="866" y="138"/>
                </a:lnTo>
                <a:lnTo>
                  <a:pt x="866" y="138"/>
                </a:lnTo>
                <a:lnTo>
                  <a:pt x="866" y="138"/>
                </a:lnTo>
                <a:close/>
                <a:moveTo>
                  <a:pt x="836" y="134"/>
                </a:moveTo>
                <a:lnTo>
                  <a:pt x="836" y="134"/>
                </a:lnTo>
                <a:lnTo>
                  <a:pt x="834" y="133"/>
                </a:lnTo>
                <a:lnTo>
                  <a:pt x="834" y="132"/>
                </a:lnTo>
                <a:lnTo>
                  <a:pt x="834" y="132"/>
                </a:lnTo>
                <a:lnTo>
                  <a:pt x="834" y="131"/>
                </a:lnTo>
                <a:lnTo>
                  <a:pt x="836" y="131"/>
                </a:lnTo>
                <a:lnTo>
                  <a:pt x="838" y="131"/>
                </a:lnTo>
                <a:lnTo>
                  <a:pt x="838" y="131"/>
                </a:lnTo>
                <a:lnTo>
                  <a:pt x="840" y="131"/>
                </a:lnTo>
                <a:lnTo>
                  <a:pt x="840" y="132"/>
                </a:lnTo>
                <a:lnTo>
                  <a:pt x="840" y="133"/>
                </a:lnTo>
                <a:lnTo>
                  <a:pt x="838" y="134"/>
                </a:lnTo>
                <a:lnTo>
                  <a:pt x="836" y="134"/>
                </a:lnTo>
                <a:lnTo>
                  <a:pt x="836" y="134"/>
                </a:lnTo>
                <a:close/>
                <a:moveTo>
                  <a:pt x="808" y="128"/>
                </a:moveTo>
                <a:lnTo>
                  <a:pt x="808" y="128"/>
                </a:lnTo>
                <a:lnTo>
                  <a:pt x="806" y="128"/>
                </a:lnTo>
                <a:lnTo>
                  <a:pt x="806" y="127"/>
                </a:lnTo>
                <a:lnTo>
                  <a:pt x="806" y="126"/>
                </a:lnTo>
                <a:lnTo>
                  <a:pt x="806" y="125"/>
                </a:lnTo>
                <a:lnTo>
                  <a:pt x="808" y="125"/>
                </a:lnTo>
                <a:lnTo>
                  <a:pt x="810" y="125"/>
                </a:lnTo>
                <a:lnTo>
                  <a:pt x="810" y="125"/>
                </a:lnTo>
                <a:lnTo>
                  <a:pt x="812" y="126"/>
                </a:lnTo>
                <a:lnTo>
                  <a:pt x="812" y="127"/>
                </a:lnTo>
                <a:lnTo>
                  <a:pt x="812" y="127"/>
                </a:lnTo>
                <a:lnTo>
                  <a:pt x="810" y="128"/>
                </a:lnTo>
                <a:lnTo>
                  <a:pt x="808" y="128"/>
                </a:lnTo>
                <a:lnTo>
                  <a:pt x="808" y="128"/>
                </a:lnTo>
                <a:lnTo>
                  <a:pt x="808" y="128"/>
                </a:lnTo>
                <a:close/>
                <a:moveTo>
                  <a:pt x="778" y="124"/>
                </a:moveTo>
                <a:lnTo>
                  <a:pt x="778" y="124"/>
                </a:lnTo>
                <a:lnTo>
                  <a:pt x="778" y="124"/>
                </a:lnTo>
                <a:lnTo>
                  <a:pt x="776" y="123"/>
                </a:lnTo>
                <a:lnTo>
                  <a:pt x="776" y="122"/>
                </a:lnTo>
                <a:lnTo>
                  <a:pt x="778" y="121"/>
                </a:lnTo>
                <a:lnTo>
                  <a:pt x="780" y="121"/>
                </a:lnTo>
                <a:lnTo>
                  <a:pt x="780" y="121"/>
                </a:lnTo>
                <a:lnTo>
                  <a:pt x="780" y="121"/>
                </a:lnTo>
                <a:lnTo>
                  <a:pt x="782" y="122"/>
                </a:lnTo>
                <a:lnTo>
                  <a:pt x="782" y="122"/>
                </a:lnTo>
                <a:lnTo>
                  <a:pt x="782" y="123"/>
                </a:lnTo>
                <a:lnTo>
                  <a:pt x="782" y="124"/>
                </a:lnTo>
                <a:lnTo>
                  <a:pt x="780" y="124"/>
                </a:lnTo>
                <a:lnTo>
                  <a:pt x="778" y="124"/>
                </a:lnTo>
                <a:lnTo>
                  <a:pt x="778" y="124"/>
                </a:lnTo>
                <a:close/>
                <a:moveTo>
                  <a:pt x="750" y="120"/>
                </a:moveTo>
                <a:lnTo>
                  <a:pt x="750" y="120"/>
                </a:lnTo>
                <a:lnTo>
                  <a:pt x="748" y="119"/>
                </a:lnTo>
                <a:lnTo>
                  <a:pt x="748" y="118"/>
                </a:lnTo>
                <a:lnTo>
                  <a:pt x="748" y="118"/>
                </a:lnTo>
                <a:lnTo>
                  <a:pt x="748" y="117"/>
                </a:lnTo>
                <a:lnTo>
                  <a:pt x="750" y="117"/>
                </a:lnTo>
                <a:lnTo>
                  <a:pt x="750" y="117"/>
                </a:lnTo>
                <a:lnTo>
                  <a:pt x="752" y="117"/>
                </a:lnTo>
                <a:lnTo>
                  <a:pt x="752" y="117"/>
                </a:lnTo>
                <a:lnTo>
                  <a:pt x="754" y="118"/>
                </a:lnTo>
                <a:lnTo>
                  <a:pt x="754" y="118"/>
                </a:lnTo>
                <a:lnTo>
                  <a:pt x="754" y="119"/>
                </a:lnTo>
                <a:lnTo>
                  <a:pt x="752" y="120"/>
                </a:lnTo>
                <a:lnTo>
                  <a:pt x="752" y="120"/>
                </a:lnTo>
                <a:lnTo>
                  <a:pt x="750" y="120"/>
                </a:lnTo>
                <a:lnTo>
                  <a:pt x="750" y="120"/>
                </a:lnTo>
                <a:close/>
                <a:moveTo>
                  <a:pt x="720" y="116"/>
                </a:moveTo>
                <a:lnTo>
                  <a:pt x="720" y="116"/>
                </a:lnTo>
                <a:lnTo>
                  <a:pt x="720" y="115"/>
                </a:lnTo>
                <a:lnTo>
                  <a:pt x="719" y="114"/>
                </a:lnTo>
                <a:lnTo>
                  <a:pt x="719" y="114"/>
                </a:lnTo>
                <a:lnTo>
                  <a:pt x="720" y="113"/>
                </a:lnTo>
                <a:lnTo>
                  <a:pt x="722" y="113"/>
                </a:lnTo>
                <a:lnTo>
                  <a:pt x="722" y="113"/>
                </a:lnTo>
                <a:lnTo>
                  <a:pt x="724" y="113"/>
                </a:lnTo>
                <a:lnTo>
                  <a:pt x="726" y="114"/>
                </a:lnTo>
                <a:lnTo>
                  <a:pt x="724" y="115"/>
                </a:lnTo>
                <a:lnTo>
                  <a:pt x="724" y="115"/>
                </a:lnTo>
                <a:lnTo>
                  <a:pt x="722" y="116"/>
                </a:lnTo>
                <a:lnTo>
                  <a:pt x="720" y="116"/>
                </a:lnTo>
                <a:lnTo>
                  <a:pt x="720" y="116"/>
                </a:lnTo>
                <a:close/>
                <a:moveTo>
                  <a:pt x="692" y="111"/>
                </a:moveTo>
                <a:lnTo>
                  <a:pt x="692" y="111"/>
                </a:lnTo>
                <a:lnTo>
                  <a:pt x="691" y="111"/>
                </a:lnTo>
                <a:lnTo>
                  <a:pt x="691" y="109"/>
                </a:lnTo>
                <a:lnTo>
                  <a:pt x="692" y="108"/>
                </a:lnTo>
                <a:lnTo>
                  <a:pt x="692" y="108"/>
                </a:lnTo>
                <a:lnTo>
                  <a:pt x="694" y="108"/>
                </a:lnTo>
                <a:lnTo>
                  <a:pt x="694" y="108"/>
                </a:lnTo>
                <a:lnTo>
                  <a:pt x="696" y="109"/>
                </a:lnTo>
                <a:lnTo>
                  <a:pt x="696" y="110"/>
                </a:lnTo>
                <a:lnTo>
                  <a:pt x="696" y="110"/>
                </a:lnTo>
                <a:lnTo>
                  <a:pt x="694" y="111"/>
                </a:lnTo>
                <a:lnTo>
                  <a:pt x="694" y="111"/>
                </a:lnTo>
                <a:lnTo>
                  <a:pt x="692" y="111"/>
                </a:lnTo>
                <a:lnTo>
                  <a:pt x="692" y="111"/>
                </a:lnTo>
                <a:close/>
                <a:moveTo>
                  <a:pt x="665" y="107"/>
                </a:moveTo>
                <a:lnTo>
                  <a:pt x="665" y="107"/>
                </a:lnTo>
                <a:lnTo>
                  <a:pt x="663" y="107"/>
                </a:lnTo>
                <a:lnTo>
                  <a:pt x="663" y="106"/>
                </a:lnTo>
                <a:lnTo>
                  <a:pt x="661" y="106"/>
                </a:lnTo>
                <a:lnTo>
                  <a:pt x="663" y="104"/>
                </a:lnTo>
                <a:lnTo>
                  <a:pt x="663" y="103"/>
                </a:lnTo>
                <a:lnTo>
                  <a:pt x="665" y="103"/>
                </a:lnTo>
                <a:lnTo>
                  <a:pt x="666" y="103"/>
                </a:lnTo>
                <a:lnTo>
                  <a:pt x="666" y="103"/>
                </a:lnTo>
                <a:lnTo>
                  <a:pt x="668" y="104"/>
                </a:lnTo>
                <a:lnTo>
                  <a:pt x="668" y="104"/>
                </a:lnTo>
                <a:lnTo>
                  <a:pt x="668" y="106"/>
                </a:lnTo>
                <a:lnTo>
                  <a:pt x="666" y="107"/>
                </a:lnTo>
                <a:lnTo>
                  <a:pt x="665" y="107"/>
                </a:lnTo>
                <a:lnTo>
                  <a:pt x="665" y="107"/>
                </a:lnTo>
                <a:lnTo>
                  <a:pt x="665" y="107"/>
                </a:lnTo>
                <a:close/>
                <a:moveTo>
                  <a:pt x="635" y="102"/>
                </a:moveTo>
                <a:lnTo>
                  <a:pt x="635" y="102"/>
                </a:lnTo>
                <a:lnTo>
                  <a:pt x="633" y="101"/>
                </a:lnTo>
                <a:lnTo>
                  <a:pt x="633" y="100"/>
                </a:lnTo>
                <a:lnTo>
                  <a:pt x="633" y="100"/>
                </a:lnTo>
                <a:lnTo>
                  <a:pt x="635" y="99"/>
                </a:lnTo>
                <a:lnTo>
                  <a:pt x="635" y="99"/>
                </a:lnTo>
                <a:lnTo>
                  <a:pt x="637" y="99"/>
                </a:lnTo>
                <a:lnTo>
                  <a:pt x="637" y="99"/>
                </a:lnTo>
                <a:lnTo>
                  <a:pt x="638" y="99"/>
                </a:lnTo>
                <a:lnTo>
                  <a:pt x="638" y="101"/>
                </a:lnTo>
                <a:lnTo>
                  <a:pt x="637" y="102"/>
                </a:lnTo>
                <a:lnTo>
                  <a:pt x="635" y="102"/>
                </a:lnTo>
                <a:lnTo>
                  <a:pt x="635" y="102"/>
                </a:lnTo>
                <a:close/>
                <a:moveTo>
                  <a:pt x="607" y="97"/>
                </a:moveTo>
                <a:lnTo>
                  <a:pt x="607" y="97"/>
                </a:lnTo>
                <a:lnTo>
                  <a:pt x="605" y="97"/>
                </a:lnTo>
                <a:lnTo>
                  <a:pt x="605" y="96"/>
                </a:lnTo>
                <a:lnTo>
                  <a:pt x="605" y="95"/>
                </a:lnTo>
                <a:lnTo>
                  <a:pt x="607" y="94"/>
                </a:lnTo>
                <a:lnTo>
                  <a:pt x="609" y="94"/>
                </a:lnTo>
                <a:lnTo>
                  <a:pt x="609" y="94"/>
                </a:lnTo>
                <a:lnTo>
                  <a:pt x="610" y="95"/>
                </a:lnTo>
                <a:lnTo>
                  <a:pt x="610" y="96"/>
                </a:lnTo>
                <a:lnTo>
                  <a:pt x="610" y="96"/>
                </a:lnTo>
                <a:lnTo>
                  <a:pt x="609" y="97"/>
                </a:lnTo>
                <a:lnTo>
                  <a:pt x="607" y="97"/>
                </a:lnTo>
                <a:lnTo>
                  <a:pt x="607" y="97"/>
                </a:lnTo>
                <a:lnTo>
                  <a:pt x="607" y="97"/>
                </a:lnTo>
                <a:close/>
                <a:moveTo>
                  <a:pt x="577" y="93"/>
                </a:moveTo>
                <a:lnTo>
                  <a:pt x="577" y="93"/>
                </a:lnTo>
                <a:lnTo>
                  <a:pt x="575" y="92"/>
                </a:lnTo>
                <a:lnTo>
                  <a:pt x="575" y="92"/>
                </a:lnTo>
                <a:lnTo>
                  <a:pt x="575" y="91"/>
                </a:lnTo>
                <a:lnTo>
                  <a:pt x="577" y="90"/>
                </a:lnTo>
                <a:lnTo>
                  <a:pt x="579" y="90"/>
                </a:lnTo>
                <a:lnTo>
                  <a:pt x="579" y="90"/>
                </a:lnTo>
                <a:lnTo>
                  <a:pt x="579" y="90"/>
                </a:lnTo>
                <a:lnTo>
                  <a:pt x="581" y="90"/>
                </a:lnTo>
                <a:lnTo>
                  <a:pt x="581" y="91"/>
                </a:lnTo>
                <a:lnTo>
                  <a:pt x="581" y="91"/>
                </a:lnTo>
                <a:lnTo>
                  <a:pt x="581" y="92"/>
                </a:lnTo>
                <a:lnTo>
                  <a:pt x="581" y="93"/>
                </a:lnTo>
                <a:lnTo>
                  <a:pt x="581" y="93"/>
                </a:lnTo>
                <a:lnTo>
                  <a:pt x="579" y="93"/>
                </a:lnTo>
                <a:lnTo>
                  <a:pt x="577" y="93"/>
                </a:lnTo>
                <a:lnTo>
                  <a:pt x="577" y="93"/>
                </a:lnTo>
                <a:close/>
                <a:moveTo>
                  <a:pt x="549" y="89"/>
                </a:moveTo>
                <a:lnTo>
                  <a:pt x="549" y="89"/>
                </a:lnTo>
                <a:lnTo>
                  <a:pt x="547" y="88"/>
                </a:lnTo>
                <a:lnTo>
                  <a:pt x="547" y="87"/>
                </a:lnTo>
                <a:lnTo>
                  <a:pt x="547" y="87"/>
                </a:lnTo>
                <a:lnTo>
                  <a:pt x="549" y="86"/>
                </a:lnTo>
                <a:lnTo>
                  <a:pt x="549" y="86"/>
                </a:lnTo>
                <a:lnTo>
                  <a:pt x="551" y="86"/>
                </a:lnTo>
                <a:lnTo>
                  <a:pt x="551" y="86"/>
                </a:lnTo>
                <a:lnTo>
                  <a:pt x="553" y="87"/>
                </a:lnTo>
                <a:lnTo>
                  <a:pt x="553" y="88"/>
                </a:lnTo>
                <a:lnTo>
                  <a:pt x="551" y="89"/>
                </a:lnTo>
                <a:lnTo>
                  <a:pt x="551" y="89"/>
                </a:lnTo>
                <a:lnTo>
                  <a:pt x="549" y="89"/>
                </a:lnTo>
                <a:lnTo>
                  <a:pt x="549" y="89"/>
                </a:lnTo>
                <a:close/>
                <a:moveTo>
                  <a:pt x="521" y="85"/>
                </a:moveTo>
                <a:lnTo>
                  <a:pt x="521" y="85"/>
                </a:lnTo>
                <a:lnTo>
                  <a:pt x="519" y="84"/>
                </a:lnTo>
                <a:lnTo>
                  <a:pt x="517" y="83"/>
                </a:lnTo>
                <a:lnTo>
                  <a:pt x="517" y="83"/>
                </a:lnTo>
                <a:lnTo>
                  <a:pt x="519" y="82"/>
                </a:lnTo>
                <a:lnTo>
                  <a:pt x="521" y="81"/>
                </a:lnTo>
                <a:lnTo>
                  <a:pt x="521" y="82"/>
                </a:lnTo>
                <a:lnTo>
                  <a:pt x="521" y="82"/>
                </a:lnTo>
                <a:lnTo>
                  <a:pt x="523" y="82"/>
                </a:lnTo>
                <a:lnTo>
                  <a:pt x="525" y="83"/>
                </a:lnTo>
                <a:lnTo>
                  <a:pt x="525" y="84"/>
                </a:lnTo>
                <a:lnTo>
                  <a:pt x="523" y="84"/>
                </a:lnTo>
                <a:lnTo>
                  <a:pt x="521" y="85"/>
                </a:lnTo>
                <a:lnTo>
                  <a:pt x="521" y="85"/>
                </a:lnTo>
                <a:close/>
                <a:moveTo>
                  <a:pt x="491" y="79"/>
                </a:moveTo>
                <a:lnTo>
                  <a:pt x="491" y="79"/>
                </a:lnTo>
                <a:lnTo>
                  <a:pt x="489" y="79"/>
                </a:lnTo>
                <a:lnTo>
                  <a:pt x="489" y="78"/>
                </a:lnTo>
                <a:lnTo>
                  <a:pt x="489" y="77"/>
                </a:lnTo>
                <a:lnTo>
                  <a:pt x="491" y="76"/>
                </a:lnTo>
                <a:lnTo>
                  <a:pt x="491" y="76"/>
                </a:lnTo>
                <a:lnTo>
                  <a:pt x="493" y="76"/>
                </a:lnTo>
                <a:lnTo>
                  <a:pt x="493" y="76"/>
                </a:lnTo>
                <a:lnTo>
                  <a:pt x="495" y="77"/>
                </a:lnTo>
                <a:lnTo>
                  <a:pt x="495" y="78"/>
                </a:lnTo>
                <a:lnTo>
                  <a:pt x="495" y="78"/>
                </a:lnTo>
                <a:lnTo>
                  <a:pt x="495" y="79"/>
                </a:lnTo>
                <a:lnTo>
                  <a:pt x="493" y="79"/>
                </a:lnTo>
                <a:lnTo>
                  <a:pt x="493" y="79"/>
                </a:lnTo>
                <a:lnTo>
                  <a:pt x="491" y="79"/>
                </a:lnTo>
                <a:lnTo>
                  <a:pt x="491" y="79"/>
                </a:lnTo>
                <a:close/>
                <a:moveTo>
                  <a:pt x="463" y="75"/>
                </a:moveTo>
                <a:lnTo>
                  <a:pt x="463" y="75"/>
                </a:lnTo>
                <a:lnTo>
                  <a:pt x="461" y="74"/>
                </a:lnTo>
                <a:lnTo>
                  <a:pt x="461" y="73"/>
                </a:lnTo>
                <a:lnTo>
                  <a:pt x="461" y="72"/>
                </a:lnTo>
                <a:lnTo>
                  <a:pt x="463" y="72"/>
                </a:lnTo>
                <a:lnTo>
                  <a:pt x="465" y="72"/>
                </a:lnTo>
                <a:lnTo>
                  <a:pt x="465" y="72"/>
                </a:lnTo>
                <a:lnTo>
                  <a:pt x="465" y="72"/>
                </a:lnTo>
                <a:lnTo>
                  <a:pt x="467" y="73"/>
                </a:lnTo>
                <a:lnTo>
                  <a:pt x="467" y="74"/>
                </a:lnTo>
                <a:lnTo>
                  <a:pt x="465" y="75"/>
                </a:lnTo>
                <a:lnTo>
                  <a:pt x="463" y="75"/>
                </a:lnTo>
                <a:lnTo>
                  <a:pt x="463" y="75"/>
                </a:lnTo>
                <a:lnTo>
                  <a:pt x="463" y="75"/>
                </a:lnTo>
                <a:close/>
                <a:moveTo>
                  <a:pt x="433" y="71"/>
                </a:moveTo>
                <a:lnTo>
                  <a:pt x="433" y="71"/>
                </a:lnTo>
                <a:lnTo>
                  <a:pt x="431" y="70"/>
                </a:lnTo>
                <a:lnTo>
                  <a:pt x="431" y="69"/>
                </a:lnTo>
                <a:lnTo>
                  <a:pt x="431" y="69"/>
                </a:lnTo>
                <a:lnTo>
                  <a:pt x="431" y="68"/>
                </a:lnTo>
                <a:lnTo>
                  <a:pt x="433" y="68"/>
                </a:lnTo>
                <a:lnTo>
                  <a:pt x="435" y="68"/>
                </a:lnTo>
                <a:lnTo>
                  <a:pt x="435" y="68"/>
                </a:lnTo>
                <a:lnTo>
                  <a:pt x="435" y="68"/>
                </a:lnTo>
                <a:lnTo>
                  <a:pt x="437" y="68"/>
                </a:lnTo>
                <a:lnTo>
                  <a:pt x="437" y="69"/>
                </a:lnTo>
                <a:lnTo>
                  <a:pt x="437" y="70"/>
                </a:lnTo>
                <a:lnTo>
                  <a:pt x="437" y="71"/>
                </a:lnTo>
                <a:lnTo>
                  <a:pt x="435" y="71"/>
                </a:lnTo>
                <a:lnTo>
                  <a:pt x="433" y="71"/>
                </a:lnTo>
                <a:lnTo>
                  <a:pt x="433" y="71"/>
                </a:lnTo>
                <a:close/>
                <a:moveTo>
                  <a:pt x="405" y="66"/>
                </a:moveTo>
                <a:lnTo>
                  <a:pt x="405" y="66"/>
                </a:lnTo>
                <a:lnTo>
                  <a:pt x="403" y="66"/>
                </a:lnTo>
                <a:lnTo>
                  <a:pt x="403" y="65"/>
                </a:lnTo>
                <a:lnTo>
                  <a:pt x="403" y="64"/>
                </a:lnTo>
                <a:lnTo>
                  <a:pt x="405" y="63"/>
                </a:lnTo>
                <a:lnTo>
                  <a:pt x="407" y="63"/>
                </a:lnTo>
                <a:lnTo>
                  <a:pt x="407" y="63"/>
                </a:lnTo>
                <a:lnTo>
                  <a:pt x="409" y="64"/>
                </a:lnTo>
                <a:lnTo>
                  <a:pt x="409" y="65"/>
                </a:lnTo>
                <a:lnTo>
                  <a:pt x="409" y="65"/>
                </a:lnTo>
                <a:lnTo>
                  <a:pt x="407" y="66"/>
                </a:lnTo>
                <a:lnTo>
                  <a:pt x="405" y="66"/>
                </a:lnTo>
                <a:lnTo>
                  <a:pt x="405" y="66"/>
                </a:lnTo>
                <a:close/>
                <a:moveTo>
                  <a:pt x="375" y="62"/>
                </a:moveTo>
                <a:lnTo>
                  <a:pt x="375" y="62"/>
                </a:lnTo>
                <a:lnTo>
                  <a:pt x="373" y="61"/>
                </a:lnTo>
                <a:lnTo>
                  <a:pt x="373" y="60"/>
                </a:lnTo>
                <a:lnTo>
                  <a:pt x="375" y="59"/>
                </a:lnTo>
                <a:lnTo>
                  <a:pt x="377" y="59"/>
                </a:lnTo>
                <a:lnTo>
                  <a:pt x="377" y="59"/>
                </a:lnTo>
                <a:lnTo>
                  <a:pt x="377" y="59"/>
                </a:lnTo>
                <a:lnTo>
                  <a:pt x="379" y="60"/>
                </a:lnTo>
                <a:lnTo>
                  <a:pt x="379" y="60"/>
                </a:lnTo>
                <a:lnTo>
                  <a:pt x="379" y="61"/>
                </a:lnTo>
                <a:lnTo>
                  <a:pt x="379" y="62"/>
                </a:lnTo>
                <a:lnTo>
                  <a:pt x="377" y="62"/>
                </a:lnTo>
                <a:lnTo>
                  <a:pt x="375" y="62"/>
                </a:lnTo>
                <a:lnTo>
                  <a:pt x="375" y="62"/>
                </a:lnTo>
                <a:close/>
                <a:moveTo>
                  <a:pt x="347" y="58"/>
                </a:moveTo>
                <a:lnTo>
                  <a:pt x="347" y="58"/>
                </a:lnTo>
                <a:lnTo>
                  <a:pt x="345" y="58"/>
                </a:lnTo>
                <a:lnTo>
                  <a:pt x="345" y="57"/>
                </a:lnTo>
                <a:lnTo>
                  <a:pt x="345" y="56"/>
                </a:lnTo>
                <a:lnTo>
                  <a:pt x="345" y="56"/>
                </a:lnTo>
                <a:lnTo>
                  <a:pt x="345" y="54"/>
                </a:lnTo>
                <a:lnTo>
                  <a:pt x="347" y="54"/>
                </a:lnTo>
                <a:lnTo>
                  <a:pt x="347" y="54"/>
                </a:lnTo>
                <a:lnTo>
                  <a:pt x="349" y="54"/>
                </a:lnTo>
                <a:lnTo>
                  <a:pt x="349" y="54"/>
                </a:lnTo>
                <a:lnTo>
                  <a:pt x="351" y="56"/>
                </a:lnTo>
                <a:lnTo>
                  <a:pt x="351" y="56"/>
                </a:lnTo>
                <a:lnTo>
                  <a:pt x="351" y="57"/>
                </a:lnTo>
                <a:lnTo>
                  <a:pt x="349" y="58"/>
                </a:lnTo>
                <a:lnTo>
                  <a:pt x="349" y="58"/>
                </a:lnTo>
                <a:lnTo>
                  <a:pt x="347" y="58"/>
                </a:lnTo>
                <a:lnTo>
                  <a:pt x="347" y="58"/>
                </a:lnTo>
                <a:close/>
                <a:moveTo>
                  <a:pt x="319" y="53"/>
                </a:moveTo>
                <a:lnTo>
                  <a:pt x="319" y="53"/>
                </a:lnTo>
                <a:lnTo>
                  <a:pt x="317" y="52"/>
                </a:lnTo>
                <a:lnTo>
                  <a:pt x="316" y="51"/>
                </a:lnTo>
                <a:lnTo>
                  <a:pt x="317" y="51"/>
                </a:lnTo>
                <a:lnTo>
                  <a:pt x="317" y="50"/>
                </a:lnTo>
                <a:lnTo>
                  <a:pt x="319" y="49"/>
                </a:lnTo>
                <a:lnTo>
                  <a:pt x="321" y="50"/>
                </a:lnTo>
                <a:lnTo>
                  <a:pt x="321" y="50"/>
                </a:lnTo>
                <a:lnTo>
                  <a:pt x="321" y="50"/>
                </a:lnTo>
                <a:lnTo>
                  <a:pt x="323" y="51"/>
                </a:lnTo>
                <a:lnTo>
                  <a:pt x="323" y="52"/>
                </a:lnTo>
                <a:lnTo>
                  <a:pt x="321" y="52"/>
                </a:lnTo>
                <a:lnTo>
                  <a:pt x="319" y="53"/>
                </a:lnTo>
                <a:lnTo>
                  <a:pt x="319" y="53"/>
                </a:lnTo>
                <a:lnTo>
                  <a:pt x="319" y="53"/>
                </a:lnTo>
                <a:close/>
                <a:moveTo>
                  <a:pt x="289" y="48"/>
                </a:moveTo>
                <a:lnTo>
                  <a:pt x="289" y="48"/>
                </a:lnTo>
                <a:lnTo>
                  <a:pt x="288" y="48"/>
                </a:lnTo>
                <a:lnTo>
                  <a:pt x="288" y="46"/>
                </a:lnTo>
                <a:lnTo>
                  <a:pt x="289" y="45"/>
                </a:lnTo>
                <a:lnTo>
                  <a:pt x="291" y="45"/>
                </a:lnTo>
                <a:lnTo>
                  <a:pt x="291" y="45"/>
                </a:lnTo>
                <a:lnTo>
                  <a:pt x="293" y="46"/>
                </a:lnTo>
                <a:lnTo>
                  <a:pt x="293" y="47"/>
                </a:lnTo>
                <a:lnTo>
                  <a:pt x="293" y="47"/>
                </a:lnTo>
                <a:lnTo>
                  <a:pt x="291" y="48"/>
                </a:lnTo>
                <a:lnTo>
                  <a:pt x="291" y="48"/>
                </a:lnTo>
                <a:lnTo>
                  <a:pt x="289" y="48"/>
                </a:lnTo>
                <a:lnTo>
                  <a:pt x="289" y="48"/>
                </a:lnTo>
                <a:close/>
                <a:moveTo>
                  <a:pt x="262" y="44"/>
                </a:moveTo>
                <a:lnTo>
                  <a:pt x="262" y="44"/>
                </a:lnTo>
                <a:lnTo>
                  <a:pt x="260" y="43"/>
                </a:lnTo>
                <a:lnTo>
                  <a:pt x="260" y="43"/>
                </a:lnTo>
                <a:lnTo>
                  <a:pt x="260" y="42"/>
                </a:lnTo>
                <a:lnTo>
                  <a:pt x="260" y="41"/>
                </a:lnTo>
                <a:lnTo>
                  <a:pt x="260" y="41"/>
                </a:lnTo>
                <a:lnTo>
                  <a:pt x="262" y="41"/>
                </a:lnTo>
                <a:lnTo>
                  <a:pt x="263" y="41"/>
                </a:lnTo>
                <a:lnTo>
                  <a:pt x="263" y="41"/>
                </a:lnTo>
                <a:lnTo>
                  <a:pt x="265" y="42"/>
                </a:lnTo>
                <a:lnTo>
                  <a:pt x="265" y="42"/>
                </a:lnTo>
                <a:lnTo>
                  <a:pt x="265" y="43"/>
                </a:lnTo>
                <a:lnTo>
                  <a:pt x="263" y="44"/>
                </a:lnTo>
                <a:lnTo>
                  <a:pt x="262" y="44"/>
                </a:lnTo>
                <a:lnTo>
                  <a:pt x="262" y="44"/>
                </a:lnTo>
                <a:lnTo>
                  <a:pt x="262" y="44"/>
                </a:lnTo>
                <a:close/>
                <a:moveTo>
                  <a:pt x="232" y="40"/>
                </a:moveTo>
                <a:lnTo>
                  <a:pt x="232" y="40"/>
                </a:lnTo>
                <a:lnTo>
                  <a:pt x="232" y="39"/>
                </a:lnTo>
                <a:lnTo>
                  <a:pt x="230" y="39"/>
                </a:lnTo>
                <a:lnTo>
                  <a:pt x="230" y="38"/>
                </a:lnTo>
                <a:lnTo>
                  <a:pt x="230" y="38"/>
                </a:lnTo>
                <a:lnTo>
                  <a:pt x="232" y="37"/>
                </a:lnTo>
                <a:lnTo>
                  <a:pt x="234" y="37"/>
                </a:lnTo>
                <a:lnTo>
                  <a:pt x="234" y="37"/>
                </a:lnTo>
                <a:lnTo>
                  <a:pt x="234" y="37"/>
                </a:lnTo>
                <a:lnTo>
                  <a:pt x="235" y="37"/>
                </a:lnTo>
                <a:lnTo>
                  <a:pt x="235" y="39"/>
                </a:lnTo>
                <a:lnTo>
                  <a:pt x="235" y="40"/>
                </a:lnTo>
                <a:lnTo>
                  <a:pt x="234" y="40"/>
                </a:lnTo>
                <a:lnTo>
                  <a:pt x="232" y="40"/>
                </a:lnTo>
                <a:lnTo>
                  <a:pt x="232" y="40"/>
                </a:lnTo>
                <a:close/>
                <a:moveTo>
                  <a:pt x="204" y="35"/>
                </a:moveTo>
                <a:lnTo>
                  <a:pt x="204" y="35"/>
                </a:lnTo>
                <a:lnTo>
                  <a:pt x="202" y="35"/>
                </a:lnTo>
                <a:lnTo>
                  <a:pt x="202" y="34"/>
                </a:lnTo>
                <a:lnTo>
                  <a:pt x="202" y="33"/>
                </a:lnTo>
                <a:lnTo>
                  <a:pt x="204" y="33"/>
                </a:lnTo>
                <a:lnTo>
                  <a:pt x="204" y="32"/>
                </a:lnTo>
                <a:lnTo>
                  <a:pt x="206" y="32"/>
                </a:lnTo>
                <a:lnTo>
                  <a:pt x="206" y="32"/>
                </a:lnTo>
                <a:lnTo>
                  <a:pt x="207" y="33"/>
                </a:lnTo>
                <a:lnTo>
                  <a:pt x="207" y="34"/>
                </a:lnTo>
                <a:lnTo>
                  <a:pt x="207" y="34"/>
                </a:lnTo>
                <a:lnTo>
                  <a:pt x="206" y="35"/>
                </a:lnTo>
                <a:lnTo>
                  <a:pt x="204" y="35"/>
                </a:lnTo>
                <a:lnTo>
                  <a:pt x="204" y="35"/>
                </a:lnTo>
                <a:close/>
                <a:moveTo>
                  <a:pt x="176" y="30"/>
                </a:moveTo>
                <a:lnTo>
                  <a:pt x="176" y="30"/>
                </a:lnTo>
                <a:lnTo>
                  <a:pt x="174" y="29"/>
                </a:lnTo>
                <a:lnTo>
                  <a:pt x="172" y="29"/>
                </a:lnTo>
                <a:lnTo>
                  <a:pt x="172" y="28"/>
                </a:lnTo>
                <a:lnTo>
                  <a:pt x="174" y="27"/>
                </a:lnTo>
                <a:lnTo>
                  <a:pt x="176" y="27"/>
                </a:lnTo>
                <a:lnTo>
                  <a:pt x="176" y="27"/>
                </a:lnTo>
                <a:lnTo>
                  <a:pt x="178" y="28"/>
                </a:lnTo>
                <a:lnTo>
                  <a:pt x="179" y="28"/>
                </a:lnTo>
                <a:lnTo>
                  <a:pt x="179" y="29"/>
                </a:lnTo>
                <a:lnTo>
                  <a:pt x="178" y="30"/>
                </a:lnTo>
                <a:lnTo>
                  <a:pt x="178" y="30"/>
                </a:lnTo>
                <a:lnTo>
                  <a:pt x="176" y="30"/>
                </a:lnTo>
                <a:lnTo>
                  <a:pt x="176" y="30"/>
                </a:lnTo>
                <a:lnTo>
                  <a:pt x="176" y="30"/>
                </a:lnTo>
                <a:close/>
                <a:moveTo>
                  <a:pt x="146" y="26"/>
                </a:moveTo>
                <a:lnTo>
                  <a:pt x="146" y="26"/>
                </a:lnTo>
                <a:lnTo>
                  <a:pt x="144" y="25"/>
                </a:lnTo>
                <a:lnTo>
                  <a:pt x="144" y="25"/>
                </a:lnTo>
                <a:lnTo>
                  <a:pt x="144" y="24"/>
                </a:lnTo>
                <a:lnTo>
                  <a:pt x="146" y="23"/>
                </a:lnTo>
                <a:lnTo>
                  <a:pt x="146" y="23"/>
                </a:lnTo>
                <a:lnTo>
                  <a:pt x="148" y="23"/>
                </a:lnTo>
                <a:lnTo>
                  <a:pt x="148" y="23"/>
                </a:lnTo>
                <a:lnTo>
                  <a:pt x="150" y="23"/>
                </a:lnTo>
                <a:lnTo>
                  <a:pt x="150" y="24"/>
                </a:lnTo>
                <a:lnTo>
                  <a:pt x="150" y="25"/>
                </a:lnTo>
                <a:lnTo>
                  <a:pt x="148" y="26"/>
                </a:lnTo>
                <a:lnTo>
                  <a:pt x="148" y="26"/>
                </a:lnTo>
                <a:lnTo>
                  <a:pt x="146" y="26"/>
                </a:lnTo>
                <a:lnTo>
                  <a:pt x="146" y="26"/>
                </a:lnTo>
                <a:close/>
                <a:moveTo>
                  <a:pt x="118" y="22"/>
                </a:moveTo>
                <a:lnTo>
                  <a:pt x="118" y="22"/>
                </a:lnTo>
                <a:lnTo>
                  <a:pt x="116" y="21"/>
                </a:lnTo>
                <a:lnTo>
                  <a:pt x="116" y="21"/>
                </a:lnTo>
                <a:lnTo>
                  <a:pt x="116" y="20"/>
                </a:lnTo>
                <a:lnTo>
                  <a:pt x="116" y="20"/>
                </a:lnTo>
                <a:lnTo>
                  <a:pt x="116" y="19"/>
                </a:lnTo>
                <a:lnTo>
                  <a:pt x="118" y="18"/>
                </a:lnTo>
                <a:lnTo>
                  <a:pt x="120" y="19"/>
                </a:lnTo>
                <a:lnTo>
                  <a:pt x="120" y="19"/>
                </a:lnTo>
                <a:lnTo>
                  <a:pt x="122" y="19"/>
                </a:lnTo>
                <a:lnTo>
                  <a:pt x="122" y="20"/>
                </a:lnTo>
                <a:lnTo>
                  <a:pt x="122" y="21"/>
                </a:lnTo>
                <a:lnTo>
                  <a:pt x="120" y="22"/>
                </a:lnTo>
                <a:lnTo>
                  <a:pt x="118" y="22"/>
                </a:lnTo>
                <a:lnTo>
                  <a:pt x="118" y="22"/>
                </a:lnTo>
                <a:lnTo>
                  <a:pt x="118" y="22"/>
                </a:lnTo>
                <a:close/>
                <a:moveTo>
                  <a:pt x="88" y="17"/>
                </a:moveTo>
                <a:lnTo>
                  <a:pt x="88" y="17"/>
                </a:lnTo>
                <a:lnTo>
                  <a:pt x="86" y="17"/>
                </a:lnTo>
                <a:lnTo>
                  <a:pt x="86" y="16"/>
                </a:lnTo>
                <a:lnTo>
                  <a:pt x="86" y="15"/>
                </a:lnTo>
                <a:lnTo>
                  <a:pt x="88" y="14"/>
                </a:lnTo>
                <a:lnTo>
                  <a:pt x="88" y="14"/>
                </a:lnTo>
                <a:lnTo>
                  <a:pt x="90" y="14"/>
                </a:lnTo>
                <a:lnTo>
                  <a:pt x="90" y="14"/>
                </a:lnTo>
                <a:lnTo>
                  <a:pt x="92" y="15"/>
                </a:lnTo>
                <a:lnTo>
                  <a:pt x="92" y="16"/>
                </a:lnTo>
                <a:lnTo>
                  <a:pt x="92" y="16"/>
                </a:lnTo>
                <a:lnTo>
                  <a:pt x="92" y="17"/>
                </a:lnTo>
                <a:lnTo>
                  <a:pt x="90" y="17"/>
                </a:lnTo>
                <a:lnTo>
                  <a:pt x="88" y="17"/>
                </a:lnTo>
                <a:lnTo>
                  <a:pt x="88" y="17"/>
                </a:lnTo>
                <a:close/>
                <a:moveTo>
                  <a:pt x="60" y="13"/>
                </a:moveTo>
                <a:lnTo>
                  <a:pt x="60" y="13"/>
                </a:lnTo>
                <a:lnTo>
                  <a:pt x="58" y="12"/>
                </a:lnTo>
                <a:lnTo>
                  <a:pt x="58" y="12"/>
                </a:lnTo>
                <a:lnTo>
                  <a:pt x="58" y="11"/>
                </a:lnTo>
                <a:lnTo>
                  <a:pt x="60" y="10"/>
                </a:lnTo>
                <a:lnTo>
                  <a:pt x="62" y="10"/>
                </a:lnTo>
                <a:lnTo>
                  <a:pt x="62" y="10"/>
                </a:lnTo>
                <a:lnTo>
                  <a:pt x="64" y="11"/>
                </a:lnTo>
                <a:lnTo>
                  <a:pt x="64" y="12"/>
                </a:lnTo>
                <a:lnTo>
                  <a:pt x="62" y="13"/>
                </a:lnTo>
                <a:lnTo>
                  <a:pt x="60" y="13"/>
                </a:lnTo>
                <a:lnTo>
                  <a:pt x="60" y="13"/>
                </a:lnTo>
                <a:lnTo>
                  <a:pt x="60" y="13"/>
                </a:lnTo>
                <a:close/>
                <a:moveTo>
                  <a:pt x="30" y="9"/>
                </a:moveTo>
                <a:lnTo>
                  <a:pt x="30" y="9"/>
                </a:lnTo>
                <a:lnTo>
                  <a:pt x="28" y="8"/>
                </a:lnTo>
                <a:lnTo>
                  <a:pt x="28" y="7"/>
                </a:lnTo>
                <a:lnTo>
                  <a:pt x="28" y="7"/>
                </a:lnTo>
                <a:lnTo>
                  <a:pt x="30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4" y="5"/>
                </a:lnTo>
                <a:lnTo>
                  <a:pt x="34" y="5"/>
                </a:lnTo>
                <a:lnTo>
                  <a:pt x="34" y="7"/>
                </a:lnTo>
                <a:lnTo>
                  <a:pt x="34" y="8"/>
                </a:lnTo>
                <a:lnTo>
                  <a:pt x="34" y="9"/>
                </a:lnTo>
                <a:lnTo>
                  <a:pt x="32" y="9"/>
                </a:lnTo>
                <a:lnTo>
                  <a:pt x="30" y="9"/>
                </a:lnTo>
                <a:lnTo>
                  <a:pt x="30" y="9"/>
                </a:lnTo>
                <a:close/>
                <a:moveTo>
                  <a:pt x="2" y="4"/>
                </a:moveTo>
                <a:lnTo>
                  <a:pt x="2" y="4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2" y="1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6" y="1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4" y="3"/>
                </a:lnTo>
                <a:lnTo>
                  <a:pt x="4" y="4"/>
                </a:lnTo>
                <a:lnTo>
                  <a:pt x="2" y="4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00400" y="5222880"/>
            <a:ext cx="87120" cy="103320"/>
          </a:xfrm>
          <a:custGeom>
            <a:avLst/>
            <a:gdLst/>
            <a:ahLst/>
            <a:rect l="l" t="t" r="r" b="b"/>
            <a:pathLst>
              <a:path w="103" h="57">
                <a:moveTo>
                  <a:pt x="101" y="36"/>
                </a:moveTo>
                <a:lnTo>
                  <a:pt x="103" y="33"/>
                </a:lnTo>
                <a:lnTo>
                  <a:pt x="103" y="30"/>
                </a:lnTo>
                <a:lnTo>
                  <a:pt x="103" y="27"/>
                </a:lnTo>
                <a:lnTo>
                  <a:pt x="103" y="25"/>
                </a:lnTo>
                <a:lnTo>
                  <a:pt x="101" y="22"/>
                </a:lnTo>
                <a:lnTo>
                  <a:pt x="99" y="20"/>
                </a:lnTo>
                <a:lnTo>
                  <a:pt x="95" y="14"/>
                </a:lnTo>
                <a:lnTo>
                  <a:pt x="90" y="9"/>
                </a:lnTo>
                <a:lnTo>
                  <a:pt x="82" y="6"/>
                </a:lnTo>
                <a:lnTo>
                  <a:pt x="75" y="3"/>
                </a:lnTo>
                <a:lnTo>
                  <a:pt x="69" y="2"/>
                </a:lnTo>
                <a:lnTo>
                  <a:pt x="65" y="1"/>
                </a:lnTo>
                <a:lnTo>
                  <a:pt x="60" y="0"/>
                </a:lnTo>
                <a:lnTo>
                  <a:pt x="54" y="0"/>
                </a:lnTo>
                <a:lnTo>
                  <a:pt x="48" y="0"/>
                </a:lnTo>
                <a:lnTo>
                  <a:pt x="45" y="0"/>
                </a:lnTo>
                <a:lnTo>
                  <a:pt x="39" y="0"/>
                </a:lnTo>
                <a:lnTo>
                  <a:pt x="35" y="1"/>
                </a:lnTo>
                <a:lnTo>
                  <a:pt x="26" y="3"/>
                </a:lnTo>
                <a:lnTo>
                  <a:pt x="17" y="6"/>
                </a:lnTo>
                <a:lnTo>
                  <a:pt x="11" y="10"/>
                </a:lnTo>
                <a:lnTo>
                  <a:pt x="6" y="15"/>
                </a:lnTo>
                <a:lnTo>
                  <a:pt x="4" y="18"/>
                </a:lnTo>
                <a:lnTo>
                  <a:pt x="2" y="21"/>
                </a:lnTo>
                <a:lnTo>
                  <a:pt x="2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0" y="32"/>
                </a:lnTo>
                <a:lnTo>
                  <a:pt x="0" y="34"/>
                </a:lnTo>
                <a:lnTo>
                  <a:pt x="2" y="37"/>
                </a:lnTo>
                <a:lnTo>
                  <a:pt x="6" y="43"/>
                </a:lnTo>
                <a:lnTo>
                  <a:pt x="11" y="47"/>
                </a:lnTo>
                <a:lnTo>
                  <a:pt x="19" y="51"/>
                </a:lnTo>
                <a:lnTo>
                  <a:pt x="28" y="54"/>
                </a:lnTo>
                <a:lnTo>
                  <a:pt x="32" y="55"/>
                </a:lnTo>
                <a:lnTo>
                  <a:pt x="37" y="56"/>
                </a:lnTo>
                <a:lnTo>
                  <a:pt x="43" y="57"/>
                </a:lnTo>
                <a:lnTo>
                  <a:pt x="47" y="57"/>
                </a:lnTo>
                <a:lnTo>
                  <a:pt x="52" y="57"/>
                </a:lnTo>
                <a:lnTo>
                  <a:pt x="58" y="57"/>
                </a:lnTo>
                <a:lnTo>
                  <a:pt x="62" y="56"/>
                </a:lnTo>
                <a:lnTo>
                  <a:pt x="67" y="55"/>
                </a:lnTo>
                <a:lnTo>
                  <a:pt x="76" y="53"/>
                </a:lnTo>
                <a:lnTo>
                  <a:pt x="84" y="50"/>
                </a:lnTo>
                <a:lnTo>
                  <a:pt x="91" y="46"/>
                </a:lnTo>
                <a:lnTo>
                  <a:pt x="97" y="42"/>
                </a:lnTo>
                <a:lnTo>
                  <a:pt x="99" y="38"/>
                </a:lnTo>
                <a:lnTo>
                  <a:pt x="101" y="3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1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Iterative and Evolutionary Development (also known as iterative and inceremental development; spiral development and evolutionary development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591000" y="1655640"/>
            <a:ext cx="152568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91000" y="1655640"/>
            <a:ext cx="1525680" cy="447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82880" y="2103480"/>
            <a:ext cx="15242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82880" y="2103480"/>
            <a:ext cx="1524240" cy="446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73680" y="2549520"/>
            <a:ext cx="1817640" cy="727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Implementat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on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&amp; Test&amp;Integration&amp;More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276720"/>
            <a:ext cx="1752480" cy="533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Final Integration &amp;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3962520"/>
            <a:ext cx="289548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b2b2b2"/>
                </a:solidFill>
                <a:latin typeface="Tahoma"/>
              </a:rPr>
              <a:t>Each iteration is an execu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b2b2b2"/>
                </a:solidFill>
                <a:latin typeface="Tahoma"/>
              </a:rPr>
              <a:t>but incomplete system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b2b2b2"/>
                </a:solidFill>
                <a:latin typeface="Tahoma"/>
              </a:rPr>
              <a:t>A subset of the final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b2b2b2"/>
                </a:solidFill>
                <a:latin typeface="Tahoma"/>
              </a:rPr>
              <a:t>(but not a throw-away prototype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5486400"/>
            <a:ext cx="2133720" cy="5335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Iterations are fix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length or </a:t>
            </a:r>
            <a:r>
              <a:rPr b="1" i="1" lang="tr-TR" sz="1400" spc="-1" strike="noStrike">
                <a:solidFill>
                  <a:srgbClr val="b2b2b2"/>
                </a:solidFill>
                <a:latin typeface="Tahoma"/>
              </a:rPr>
              <a:t>timeboxed</a:t>
            </a: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1676520"/>
            <a:ext cx="2361960" cy="16002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Feedback from iteratio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Leads to refinement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adaptatio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The requirement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design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İteration 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C54-A6AD-4A50-B09B-0E0B6806FE6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4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Evolutionary analysis and design – the majority in early iter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4280" y="609480"/>
            <a:ext cx="8233560" cy="4571640"/>
            <a:chOff x="224280" y="609480"/>
            <a:chExt cx="8233560" cy="4571640"/>
          </a:xfrm>
        </p:grpSpPr>
        <p:sp>
          <p:nvSpPr>
            <p:cNvPr id="209" name=""/>
            <p:cNvSpPr/>
            <p:nvPr/>
          </p:nvSpPr>
          <p:spPr>
            <a:xfrm>
              <a:off x="1741320" y="1569240"/>
              <a:ext cx="6364080" cy="259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0168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5464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5720" y="1567080"/>
              <a:ext cx="5760" cy="2595600"/>
            </a:xfrm>
            <a:custGeom>
              <a:avLst/>
              <a:gdLst/>
              <a:ahLst/>
              <a:rect l="l" t="t" r="r" b="b"/>
              <a:pathLst>
                <a:path w="5" h="3105">
                  <a:moveTo>
                    <a:pt x="5" y="1"/>
                  </a:move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close/>
                  <a:moveTo>
                    <a:pt x="5" y="54"/>
                  </a:moveTo>
                  <a:lnTo>
                    <a:pt x="5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3" y="87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4"/>
                  </a:lnTo>
                  <a:close/>
                  <a:moveTo>
                    <a:pt x="5" y="106"/>
                  </a:moveTo>
                  <a:lnTo>
                    <a:pt x="5" y="136"/>
                  </a:lnTo>
                  <a:lnTo>
                    <a:pt x="4" y="137"/>
                  </a:lnTo>
                  <a:lnTo>
                    <a:pt x="4" y="137"/>
                  </a:lnTo>
                  <a:lnTo>
                    <a:pt x="4" y="139"/>
                  </a:lnTo>
                  <a:lnTo>
                    <a:pt x="3" y="139"/>
                  </a:lnTo>
                  <a:lnTo>
                    <a:pt x="1" y="139"/>
                  </a:lnTo>
                  <a:lnTo>
                    <a:pt x="1" y="137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5" y="106"/>
                  </a:lnTo>
                  <a:close/>
                  <a:moveTo>
                    <a:pt x="5" y="158"/>
                  </a:moveTo>
                  <a:lnTo>
                    <a:pt x="5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3" y="190"/>
                  </a:lnTo>
                  <a:lnTo>
                    <a:pt x="1" y="190"/>
                  </a:lnTo>
                  <a:lnTo>
                    <a:pt x="1" y="190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3" y="156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5" y="158"/>
                  </a:lnTo>
                  <a:lnTo>
                    <a:pt x="5" y="158"/>
                  </a:lnTo>
                  <a:close/>
                  <a:moveTo>
                    <a:pt x="5" y="211"/>
                  </a:moveTo>
                  <a:lnTo>
                    <a:pt x="5" y="241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3" y="243"/>
                  </a:lnTo>
                  <a:lnTo>
                    <a:pt x="1" y="242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1" y="209"/>
                  </a:lnTo>
                  <a:lnTo>
                    <a:pt x="1" y="208"/>
                  </a:lnTo>
                  <a:lnTo>
                    <a:pt x="3" y="208"/>
                  </a:lnTo>
                  <a:lnTo>
                    <a:pt x="4" y="208"/>
                  </a:lnTo>
                  <a:lnTo>
                    <a:pt x="4" y="209"/>
                  </a:lnTo>
                  <a:lnTo>
                    <a:pt x="4" y="209"/>
                  </a:lnTo>
                  <a:lnTo>
                    <a:pt x="5" y="211"/>
                  </a:lnTo>
                  <a:lnTo>
                    <a:pt x="5" y="211"/>
                  </a:lnTo>
                  <a:close/>
                  <a:moveTo>
                    <a:pt x="5" y="262"/>
                  </a:moveTo>
                  <a:lnTo>
                    <a:pt x="5" y="294"/>
                  </a:lnTo>
                  <a:lnTo>
                    <a:pt x="4" y="294"/>
                  </a:lnTo>
                  <a:lnTo>
                    <a:pt x="4" y="295"/>
                  </a:lnTo>
                  <a:lnTo>
                    <a:pt x="3" y="295"/>
                  </a:lnTo>
                  <a:lnTo>
                    <a:pt x="1" y="295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62"/>
                  </a:lnTo>
                  <a:lnTo>
                    <a:pt x="0" y="261"/>
                  </a:lnTo>
                  <a:lnTo>
                    <a:pt x="1" y="261"/>
                  </a:lnTo>
                  <a:lnTo>
                    <a:pt x="3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5" y="262"/>
                  </a:lnTo>
                  <a:lnTo>
                    <a:pt x="5" y="262"/>
                  </a:lnTo>
                  <a:close/>
                  <a:moveTo>
                    <a:pt x="5" y="315"/>
                  </a:moveTo>
                  <a:lnTo>
                    <a:pt x="5" y="345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3" y="348"/>
                  </a:lnTo>
                  <a:lnTo>
                    <a:pt x="1" y="347"/>
                  </a:lnTo>
                  <a:lnTo>
                    <a:pt x="1" y="347"/>
                  </a:lnTo>
                  <a:lnTo>
                    <a:pt x="0" y="347"/>
                  </a:lnTo>
                  <a:lnTo>
                    <a:pt x="0" y="345"/>
                  </a:lnTo>
                  <a:lnTo>
                    <a:pt x="0" y="315"/>
                  </a:lnTo>
                  <a:lnTo>
                    <a:pt x="0" y="314"/>
                  </a:lnTo>
                  <a:lnTo>
                    <a:pt x="1" y="313"/>
                  </a:lnTo>
                  <a:lnTo>
                    <a:pt x="1" y="313"/>
                  </a:lnTo>
                  <a:lnTo>
                    <a:pt x="3" y="313"/>
                  </a:lnTo>
                  <a:lnTo>
                    <a:pt x="4" y="313"/>
                  </a:lnTo>
                  <a:lnTo>
                    <a:pt x="4" y="313"/>
                  </a:lnTo>
                  <a:lnTo>
                    <a:pt x="4" y="314"/>
                  </a:lnTo>
                  <a:lnTo>
                    <a:pt x="5" y="315"/>
                  </a:lnTo>
                  <a:lnTo>
                    <a:pt x="5" y="315"/>
                  </a:lnTo>
                  <a:close/>
                  <a:moveTo>
                    <a:pt x="5" y="367"/>
                  </a:moveTo>
                  <a:lnTo>
                    <a:pt x="5" y="397"/>
                  </a:lnTo>
                  <a:lnTo>
                    <a:pt x="4" y="398"/>
                  </a:lnTo>
                  <a:lnTo>
                    <a:pt x="4" y="398"/>
                  </a:lnTo>
                  <a:lnTo>
                    <a:pt x="4" y="400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8"/>
                  </a:lnTo>
                  <a:lnTo>
                    <a:pt x="0" y="398"/>
                  </a:lnTo>
                  <a:lnTo>
                    <a:pt x="0" y="397"/>
                  </a:lnTo>
                  <a:lnTo>
                    <a:pt x="0" y="367"/>
                  </a:lnTo>
                  <a:lnTo>
                    <a:pt x="0" y="366"/>
                  </a:lnTo>
                  <a:lnTo>
                    <a:pt x="1" y="366"/>
                  </a:lnTo>
                  <a:lnTo>
                    <a:pt x="1" y="364"/>
                  </a:lnTo>
                  <a:lnTo>
                    <a:pt x="3" y="364"/>
                  </a:lnTo>
                  <a:lnTo>
                    <a:pt x="4" y="364"/>
                  </a:lnTo>
                  <a:lnTo>
                    <a:pt x="4" y="366"/>
                  </a:lnTo>
                  <a:lnTo>
                    <a:pt x="4" y="366"/>
                  </a:lnTo>
                  <a:lnTo>
                    <a:pt x="5" y="367"/>
                  </a:lnTo>
                  <a:lnTo>
                    <a:pt x="5" y="367"/>
                  </a:lnTo>
                  <a:close/>
                  <a:moveTo>
                    <a:pt x="5" y="419"/>
                  </a:moveTo>
                  <a:lnTo>
                    <a:pt x="5" y="450"/>
                  </a:lnTo>
                  <a:lnTo>
                    <a:pt x="4" y="450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3" y="452"/>
                  </a:lnTo>
                  <a:lnTo>
                    <a:pt x="1" y="452"/>
                  </a:lnTo>
                  <a:lnTo>
                    <a:pt x="1" y="452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1" y="418"/>
                  </a:lnTo>
                  <a:lnTo>
                    <a:pt x="1" y="418"/>
                  </a:lnTo>
                  <a:lnTo>
                    <a:pt x="3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9"/>
                  </a:lnTo>
                  <a:lnTo>
                    <a:pt x="5" y="419"/>
                  </a:lnTo>
                  <a:lnTo>
                    <a:pt x="5" y="419"/>
                  </a:lnTo>
                  <a:close/>
                  <a:moveTo>
                    <a:pt x="5" y="472"/>
                  </a:moveTo>
                  <a:lnTo>
                    <a:pt x="5" y="502"/>
                  </a:lnTo>
                  <a:lnTo>
                    <a:pt x="4" y="503"/>
                  </a:lnTo>
                  <a:lnTo>
                    <a:pt x="4" y="503"/>
                  </a:lnTo>
                  <a:lnTo>
                    <a:pt x="3" y="505"/>
                  </a:lnTo>
                  <a:lnTo>
                    <a:pt x="1" y="503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472"/>
                  </a:lnTo>
                  <a:lnTo>
                    <a:pt x="0" y="471"/>
                  </a:lnTo>
                  <a:lnTo>
                    <a:pt x="1" y="471"/>
                  </a:lnTo>
                  <a:lnTo>
                    <a:pt x="1" y="469"/>
                  </a:lnTo>
                  <a:lnTo>
                    <a:pt x="3" y="469"/>
                  </a:lnTo>
                  <a:lnTo>
                    <a:pt x="4" y="469"/>
                  </a:lnTo>
                  <a:lnTo>
                    <a:pt x="4" y="471"/>
                  </a:lnTo>
                  <a:lnTo>
                    <a:pt x="4" y="471"/>
                  </a:lnTo>
                  <a:lnTo>
                    <a:pt x="5" y="472"/>
                  </a:lnTo>
                  <a:lnTo>
                    <a:pt x="5" y="472"/>
                  </a:lnTo>
                  <a:close/>
                  <a:moveTo>
                    <a:pt x="5" y="524"/>
                  </a:moveTo>
                  <a:lnTo>
                    <a:pt x="5" y="555"/>
                  </a:lnTo>
                  <a:lnTo>
                    <a:pt x="4" y="555"/>
                  </a:lnTo>
                  <a:lnTo>
                    <a:pt x="4" y="556"/>
                  </a:lnTo>
                  <a:lnTo>
                    <a:pt x="3" y="556"/>
                  </a:lnTo>
                  <a:lnTo>
                    <a:pt x="1" y="556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24"/>
                  </a:lnTo>
                  <a:lnTo>
                    <a:pt x="0" y="522"/>
                  </a:lnTo>
                  <a:lnTo>
                    <a:pt x="1" y="522"/>
                  </a:lnTo>
                  <a:lnTo>
                    <a:pt x="3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5" y="524"/>
                  </a:lnTo>
                  <a:lnTo>
                    <a:pt x="5" y="524"/>
                  </a:lnTo>
                  <a:close/>
                  <a:moveTo>
                    <a:pt x="5" y="577"/>
                  </a:moveTo>
                  <a:lnTo>
                    <a:pt x="5" y="607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3" y="609"/>
                  </a:lnTo>
                  <a:lnTo>
                    <a:pt x="1" y="608"/>
                  </a:lnTo>
                  <a:lnTo>
                    <a:pt x="1" y="608"/>
                  </a:lnTo>
                  <a:lnTo>
                    <a:pt x="0" y="608"/>
                  </a:lnTo>
                  <a:lnTo>
                    <a:pt x="0" y="607"/>
                  </a:lnTo>
                  <a:lnTo>
                    <a:pt x="0" y="577"/>
                  </a:lnTo>
                  <a:lnTo>
                    <a:pt x="0" y="575"/>
                  </a:lnTo>
                  <a:lnTo>
                    <a:pt x="1" y="574"/>
                  </a:lnTo>
                  <a:lnTo>
                    <a:pt x="1" y="574"/>
                  </a:lnTo>
                  <a:lnTo>
                    <a:pt x="3" y="574"/>
                  </a:lnTo>
                  <a:lnTo>
                    <a:pt x="4" y="574"/>
                  </a:lnTo>
                  <a:lnTo>
                    <a:pt x="4" y="574"/>
                  </a:lnTo>
                  <a:lnTo>
                    <a:pt x="4" y="575"/>
                  </a:lnTo>
                  <a:lnTo>
                    <a:pt x="5" y="577"/>
                  </a:lnTo>
                  <a:lnTo>
                    <a:pt x="5" y="577"/>
                  </a:lnTo>
                  <a:close/>
                  <a:moveTo>
                    <a:pt x="5" y="628"/>
                  </a:moveTo>
                  <a:lnTo>
                    <a:pt x="5" y="658"/>
                  </a:lnTo>
                  <a:lnTo>
                    <a:pt x="4" y="660"/>
                  </a:lnTo>
                  <a:lnTo>
                    <a:pt x="4" y="660"/>
                  </a:lnTo>
                  <a:lnTo>
                    <a:pt x="4" y="661"/>
                  </a:lnTo>
                  <a:lnTo>
                    <a:pt x="3" y="661"/>
                  </a:lnTo>
                  <a:lnTo>
                    <a:pt x="1" y="661"/>
                  </a:lnTo>
                  <a:lnTo>
                    <a:pt x="1" y="660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28"/>
                  </a:lnTo>
                  <a:lnTo>
                    <a:pt x="0" y="627"/>
                  </a:lnTo>
                  <a:lnTo>
                    <a:pt x="1" y="627"/>
                  </a:lnTo>
                  <a:lnTo>
                    <a:pt x="1" y="626"/>
                  </a:lnTo>
                  <a:lnTo>
                    <a:pt x="3" y="626"/>
                  </a:lnTo>
                  <a:lnTo>
                    <a:pt x="4" y="626"/>
                  </a:lnTo>
                  <a:lnTo>
                    <a:pt x="4" y="627"/>
                  </a:lnTo>
                  <a:lnTo>
                    <a:pt x="4" y="627"/>
                  </a:lnTo>
                  <a:lnTo>
                    <a:pt x="5" y="628"/>
                  </a:lnTo>
                  <a:lnTo>
                    <a:pt x="5" y="628"/>
                  </a:lnTo>
                  <a:close/>
                  <a:moveTo>
                    <a:pt x="5" y="680"/>
                  </a:moveTo>
                  <a:lnTo>
                    <a:pt x="5" y="711"/>
                  </a:lnTo>
                  <a:lnTo>
                    <a:pt x="4" y="711"/>
                  </a:lnTo>
                  <a:lnTo>
                    <a:pt x="4" y="713"/>
                  </a:lnTo>
                  <a:lnTo>
                    <a:pt x="4" y="713"/>
                  </a:lnTo>
                  <a:lnTo>
                    <a:pt x="3" y="713"/>
                  </a:lnTo>
                  <a:lnTo>
                    <a:pt x="1" y="713"/>
                  </a:lnTo>
                  <a:lnTo>
                    <a:pt x="1" y="7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680"/>
                  </a:lnTo>
                  <a:lnTo>
                    <a:pt x="0" y="680"/>
                  </a:lnTo>
                  <a:lnTo>
                    <a:pt x="1" y="679"/>
                  </a:lnTo>
                  <a:lnTo>
                    <a:pt x="1" y="679"/>
                  </a:lnTo>
                  <a:lnTo>
                    <a:pt x="3" y="679"/>
                  </a:lnTo>
                  <a:lnTo>
                    <a:pt x="4" y="679"/>
                  </a:lnTo>
                  <a:lnTo>
                    <a:pt x="4" y="679"/>
                  </a:lnTo>
                  <a:lnTo>
                    <a:pt x="4" y="680"/>
                  </a:lnTo>
                  <a:lnTo>
                    <a:pt x="5" y="680"/>
                  </a:lnTo>
                  <a:lnTo>
                    <a:pt x="5" y="680"/>
                  </a:lnTo>
                  <a:close/>
                  <a:moveTo>
                    <a:pt x="5" y="733"/>
                  </a:moveTo>
                  <a:lnTo>
                    <a:pt x="5" y="763"/>
                  </a:lnTo>
                  <a:lnTo>
                    <a:pt x="4" y="764"/>
                  </a:lnTo>
                  <a:lnTo>
                    <a:pt x="4" y="764"/>
                  </a:lnTo>
                  <a:lnTo>
                    <a:pt x="3" y="766"/>
                  </a:lnTo>
                  <a:lnTo>
                    <a:pt x="1" y="764"/>
                  </a:lnTo>
                  <a:lnTo>
                    <a:pt x="0" y="764"/>
                  </a:lnTo>
                  <a:lnTo>
                    <a:pt x="0" y="763"/>
                  </a:lnTo>
                  <a:lnTo>
                    <a:pt x="0" y="733"/>
                  </a:lnTo>
                  <a:lnTo>
                    <a:pt x="0" y="732"/>
                  </a:lnTo>
                  <a:lnTo>
                    <a:pt x="1" y="732"/>
                  </a:lnTo>
                  <a:lnTo>
                    <a:pt x="1" y="730"/>
                  </a:lnTo>
                  <a:lnTo>
                    <a:pt x="3" y="730"/>
                  </a:lnTo>
                  <a:lnTo>
                    <a:pt x="4" y="730"/>
                  </a:lnTo>
                  <a:lnTo>
                    <a:pt x="4" y="732"/>
                  </a:lnTo>
                  <a:lnTo>
                    <a:pt x="4" y="732"/>
                  </a:lnTo>
                  <a:lnTo>
                    <a:pt x="5" y="733"/>
                  </a:lnTo>
                  <a:lnTo>
                    <a:pt x="5" y="733"/>
                  </a:lnTo>
                  <a:close/>
                  <a:moveTo>
                    <a:pt x="5" y="785"/>
                  </a:moveTo>
                  <a:lnTo>
                    <a:pt x="5" y="816"/>
                  </a:lnTo>
                  <a:lnTo>
                    <a:pt x="4" y="816"/>
                  </a:lnTo>
                  <a:lnTo>
                    <a:pt x="4" y="817"/>
                  </a:lnTo>
                  <a:lnTo>
                    <a:pt x="3" y="817"/>
                  </a:lnTo>
                  <a:lnTo>
                    <a:pt x="1" y="817"/>
                  </a:lnTo>
                  <a:lnTo>
                    <a:pt x="0" y="816"/>
                  </a:lnTo>
                  <a:lnTo>
                    <a:pt x="0" y="816"/>
                  </a:lnTo>
                  <a:lnTo>
                    <a:pt x="0" y="785"/>
                  </a:lnTo>
                  <a:lnTo>
                    <a:pt x="0" y="783"/>
                  </a:lnTo>
                  <a:lnTo>
                    <a:pt x="1" y="783"/>
                  </a:lnTo>
                  <a:lnTo>
                    <a:pt x="3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5" y="785"/>
                  </a:lnTo>
                  <a:lnTo>
                    <a:pt x="5" y="785"/>
                  </a:lnTo>
                  <a:close/>
                  <a:moveTo>
                    <a:pt x="5" y="838"/>
                  </a:moveTo>
                  <a:lnTo>
                    <a:pt x="5" y="868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3" y="870"/>
                  </a:lnTo>
                  <a:lnTo>
                    <a:pt x="1" y="869"/>
                  </a:lnTo>
                  <a:lnTo>
                    <a:pt x="1" y="869"/>
                  </a:lnTo>
                  <a:lnTo>
                    <a:pt x="0" y="869"/>
                  </a:lnTo>
                  <a:lnTo>
                    <a:pt x="0" y="868"/>
                  </a:lnTo>
                  <a:lnTo>
                    <a:pt x="0" y="838"/>
                  </a:lnTo>
                  <a:lnTo>
                    <a:pt x="0" y="836"/>
                  </a:lnTo>
                  <a:lnTo>
                    <a:pt x="1" y="835"/>
                  </a:lnTo>
                  <a:lnTo>
                    <a:pt x="1" y="835"/>
                  </a:lnTo>
                  <a:lnTo>
                    <a:pt x="3" y="835"/>
                  </a:lnTo>
                  <a:lnTo>
                    <a:pt x="4" y="835"/>
                  </a:lnTo>
                  <a:lnTo>
                    <a:pt x="4" y="835"/>
                  </a:lnTo>
                  <a:lnTo>
                    <a:pt x="4" y="836"/>
                  </a:lnTo>
                  <a:lnTo>
                    <a:pt x="5" y="838"/>
                  </a:lnTo>
                  <a:lnTo>
                    <a:pt x="5" y="838"/>
                  </a:lnTo>
                  <a:close/>
                  <a:moveTo>
                    <a:pt x="5" y="889"/>
                  </a:moveTo>
                  <a:lnTo>
                    <a:pt x="5" y="919"/>
                  </a:lnTo>
                  <a:lnTo>
                    <a:pt x="4" y="921"/>
                  </a:lnTo>
                  <a:lnTo>
                    <a:pt x="4" y="921"/>
                  </a:lnTo>
                  <a:lnTo>
                    <a:pt x="4" y="922"/>
                  </a:lnTo>
                  <a:lnTo>
                    <a:pt x="3" y="922"/>
                  </a:lnTo>
                  <a:lnTo>
                    <a:pt x="1" y="922"/>
                  </a:lnTo>
                  <a:lnTo>
                    <a:pt x="1" y="921"/>
                  </a:lnTo>
                  <a:lnTo>
                    <a:pt x="0" y="921"/>
                  </a:lnTo>
                  <a:lnTo>
                    <a:pt x="0" y="919"/>
                  </a:lnTo>
                  <a:lnTo>
                    <a:pt x="0" y="889"/>
                  </a:lnTo>
                  <a:lnTo>
                    <a:pt x="0" y="888"/>
                  </a:lnTo>
                  <a:lnTo>
                    <a:pt x="1" y="888"/>
                  </a:lnTo>
                  <a:lnTo>
                    <a:pt x="1" y="887"/>
                  </a:lnTo>
                  <a:lnTo>
                    <a:pt x="3" y="887"/>
                  </a:lnTo>
                  <a:lnTo>
                    <a:pt x="4" y="887"/>
                  </a:lnTo>
                  <a:lnTo>
                    <a:pt x="4" y="888"/>
                  </a:lnTo>
                  <a:lnTo>
                    <a:pt x="4" y="888"/>
                  </a:lnTo>
                  <a:lnTo>
                    <a:pt x="5" y="889"/>
                  </a:lnTo>
                  <a:lnTo>
                    <a:pt x="5" y="889"/>
                  </a:lnTo>
                  <a:close/>
                  <a:moveTo>
                    <a:pt x="5" y="941"/>
                  </a:moveTo>
                  <a:lnTo>
                    <a:pt x="5" y="972"/>
                  </a:lnTo>
                  <a:lnTo>
                    <a:pt x="4" y="972"/>
                  </a:lnTo>
                  <a:lnTo>
                    <a:pt x="4" y="974"/>
                  </a:lnTo>
                  <a:lnTo>
                    <a:pt x="4" y="974"/>
                  </a:lnTo>
                  <a:lnTo>
                    <a:pt x="3" y="974"/>
                  </a:lnTo>
                  <a:lnTo>
                    <a:pt x="1" y="974"/>
                  </a:lnTo>
                  <a:lnTo>
                    <a:pt x="1" y="974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41"/>
                  </a:lnTo>
                  <a:lnTo>
                    <a:pt x="0" y="941"/>
                  </a:lnTo>
                  <a:lnTo>
                    <a:pt x="1" y="940"/>
                  </a:lnTo>
                  <a:lnTo>
                    <a:pt x="1" y="940"/>
                  </a:lnTo>
                  <a:lnTo>
                    <a:pt x="3" y="940"/>
                  </a:lnTo>
                  <a:lnTo>
                    <a:pt x="4" y="940"/>
                  </a:lnTo>
                  <a:lnTo>
                    <a:pt x="4" y="940"/>
                  </a:lnTo>
                  <a:lnTo>
                    <a:pt x="4" y="941"/>
                  </a:lnTo>
                  <a:lnTo>
                    <a:pt x="5" y="941"/>
                  </a:lnTo>
                  <a:lnTo>
                    <a:pt x="5" y="941"/>
                  </a:lnTo>
                  <a:close/>
                  <a:moveTo>
                    <a:pt x="5" y="994"/>
                  </a:moveTo>
                  <a:lnTo>
                    <a:pt x="5" y="1024"/>
                  </a:lnTo>
                  <a:lnTo>
                    <a:pt x="4" y="1025"/>
                  </a:lnTo>
                  <a:lnTo>
                    <a:pt x="4" y="1025"/>
                  </a:lnTo>
                  <a:lnTo>
                    <a:pt x="3" y="1027"/>
                  </a:lnTo>
                  <a:lnTo>
                    <a:pt x="1" y="1025"/>
                  </a:lnTo>
                  <a:lnTo>
                    <a:pt x="0" y="1025"/>
                  </a:lnTo>
                  <a:lnTo>
                    <a:pt x="0" y="1024"/>
                  </a:lnTo>
                  <a:lnTo>
                    <a:pt x="0" y="994"/>
                  </a:lnTo>
                  <a:lnTo>
                    <a:pt x="0" y="993"/>
                  </a:lnTo>
                  <a:lnTo>
                    <a:pt x="1" y="993"/>
                  </a:lnTo>
                  <a:lnTo>
                    <a:pt x="1" y="991"/>
                  </a:lnTo>
                  <a:lnTo>
                    <a:pt x="3" y="991"/>
                  </a:lnTo>
                  <a:lnTo>
                    <a:pt x="4" y="991"/>
                  </a:lnTo>
                  <a:lnTo>
                    <a:pt x="4" y="993"/>
                  </a:lnTo>
                  <a:lnTo>
                    <a:pt x="4" y="993"/>
                  </a:lnTo>
                  <a:lnTo>
                    <a:pt x="5" y="994"/>
                  </a:lnTo>
                  <a:lnTo>
                    <a:pt x="5" y="994"/>
                  </a:lnTo>
                  <a:close/>
                  <a:moveTo>
                    <a:pt x="5" y="1046"/>
                  </a:moveTo>
                  <a:lnTo>
                    <a:pt x="5" y="1077"/>
                  </a:lnTo>
                  <a:lnTo>
                    <a:pt x="4" y="1077"/>
                  </a:lnTo>
                  <a:lnTo>
                    <a:pt x="4" y="1079"/>
                  </a:lnTo>
                  <a:lnTo>
                    <a:pt x="3" y="1079"/>
                  </a:lnTo>
                  <a:lnTo>
                    <a:pt x="1" y="1079"/>
                  </a:lnTo>
                  <a:lnTo>
                    <a:pt x="0" y="1077"/>
                  </a:lnTo>
                  <a:lnTo>
                    <a:pt x="0" y="1077"/>
                  </a:lnTo>
                  <a:lnTo>
                    <a:pt x="0" y="1046"/>
                  </a:lnTo>
                  <a:lnTo>
                    <a:pt x="0" y="1045"/>
                  </a:lnTo>
                  <a:lnTo>
                    <a:pt x="1" y="1045"/>
                  </a:lnTo>
                  <a:lnTo>
                    <a:pt x="3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5" y="1046"/>
                  </a:lnTo>
                  <a:lnTo>
                    <a:pt x="5" y="1046"/>
                  </a:lnTo>
                  <a:close/>
                  <a:moveTo>
                    <a:pt x="5" y="1099"/>
                  </a:moveTo>
                  <a:lnTo>
                    <a:pt x="5" y="1129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3" y="1132"/>
                  </a:lnTo>
                  <a:lnTo>
                    <a:pt x="1" y="1130"/>
                  </a:lnTo>
                  <a:lnTo>
                    <a:pt x="1" y="1130"/>
                  </a:lnTo>
                  <a:lnTo>
                    <a:pt x="0" y="1130"/>
                  </a:lnTo>
                  <a:lnTo>
                    <a:pt x="0" y="1129"/>
                  </a:lnTo>
                  <a:lnTo>
                    <a:pt x="0" y="1099"/>
                  </a:lnTo>
                  <a:lnTo>
                    <a:pt x="0" y="1098"/>
                  </a:lnTo>
                  <a:lnTo>
                    <a:pt x="1" y="1096"/>
                  </a:lnTo>
                  <a:lnTo>
                    <a:pt x="1" y="1096"/>
                  </a:lnTo>
                  <a:lnTo>
                    <a:pt x="3" y="1096"/>
                  </a:lnTo>
                  <a:lnTo>
                    <a:pt x="4" y="1096"/>
                  </a:lnTo>
                  <a:lnTo>
                    <a:pt x="4" y="1096"/>
                  </a:lnTo>
                  <a:lnTo>
                    <a:pt x="4" y="1098"/>
                  </a:lnTo>
                  <a:lnTo>
                    <a:pt x="5" y="1099"/>
                  </a:lnTo>
                  <a:lnTo>
                    <a:pt x="5" y="1099"/>
                  </a:lnTo>
                  <a:close/>
                  <a:moveTo>
                    <a:pt x="5" y="1151"/>
                  </a:moveTo>
                  <a:lnTo>
                    <a:pt x="5" y="1181"/>
                  </a:lnTo>
                  <a:lnTo>
                    <a:pt x="4" y="1182"/>
                  </a:lnTo>
                  <a:lnTo>
                    <a:pt x="4" y="1182"/>
                  </a:lnTo>
                  <a:lnTo>
                    <a:pt x="4" y="1183"/>
                  </a:lnTo>
                  <a:lnTo>
                    <a:pt x="3" y="1183"/>
                  </a:lnTo>
                  <a:lnTo>
                    <a:pt x="1" y="1183"/>
                  </a:lnTo>
                  <a:lnTo>
                    <a:pt x="1" y="1182"/>
                  </a:lnTo>
                  <a:lnTo>
                    <a:pt x="0" y="1182"/>
                  </a:lnTo>
                  <a:lnTo>
                    <a:pt x="0" y="1181"/>
                  </a:lnTo>
                  <a:lnTo>
                    <a:pt x="0" y="1151"/>
                  </a:lnTo>
                  <a:lnTo>
                    <a:pt x="0" y="1149"/>
                  </a:lnTo>
                  <a:lnTo>
                    <a:pt x="1" y="1149"/>
                  </a:lnTo>
                  <a:lnTo>
                    <a:pt x="1" y="1148"/>
                  </a:lnTo>
                  <a:lnTo>
                    <a:pt x="3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4" y="1149"/>
                  </a:lnTo>
                  <a:lnTo>
                    <a:pt x="5" y="1151"/>
                  </a:lnTo>
                  <a:lnTo>
                    <a:pt x="5" y="1151"/>
                  </a:lnTo>
                  <a:close/>
                  <a:moveTo>
                    <a:pt x="5" y="1202"/>
                  </a:moveTo>
                  <a:lnTo>
                    <a:pt x="5" y="1234"/>
                  </a:lnTo>
                  <a:lnTo>
                    <a:pt x="4" y="1234"/>
                  </a:lnTo>
                  <a:lnTo>
                    <a:pt x="4" y="1235"/>
                  </a:lnTo>
                  <a:lnTo>
                    <a:pt x="4" y="1235"/>
                  </a:lnTo>
                  <a:lnTo>
                    <a:pt x="3" y="1235"/>
                  </a:lnTo>
                  <a:lnTo>
                    <a:pt x="1" y="1235"/>
                  </a:lnTo>
                  <a:lnTo>
                    <a:pt x="1" y="1235"/>
                  </a:lnTo>
                  <a:lnTo>
                    <a:pt x="0" y="1234"/>
                  </a:lnTo>
                  <a:lnTo>
                    <a:pt x="0" y="1234"/>
                  </a:lnTo>
                  <a:lnTo>
                    <a:pt x="0" y="1202"/>
                  </a:lnTo>
                  <a:lnTo>
                    <a:pt x="0" y="1202"/>
                  </a:lnTo>
                  <a:lnTo>
                    <a:pt x="1" y="1201"/>
                  </a:lnTo>
                  <a:lnTo>
                    <a:pt x="1" y="1201"/>
                  </a:lnTo>
                  <a:lnTo>
                    <a:pt x="3" y="1201"/>
                  </a:lnTo>
                  <a:lnTo>
                    <a:pt x="4" y="1201"/>
                  </a:lnTo>
                  <a:lnTo>
                    <a:pt x="4" y="1201"/>
                  </a:lnTo>
                  <a:lnTo>
                    <a:pt x="4" y="1202"/>
                  </a:lnTo>
                  <a:lnTo>
                    <a:pt x="5" y="1202"/>
                  </a:lnTo>
                  <a:lnTo>
                    <a:pt x="5" y="1202"/>
                  </a:lnTo>
                  <a:close/>
                  <a:moveTo>
                    <a:pt x="5" y="1255"/>
                  </a:moveTo>
                  <a:lnTo>
                    <a:pt x="5" y="1285"/>
                  </a:lnTo>
                  <a:lnTo>
                    <a:pt x="4" y="1287"/>
                  </a:lnTo>
                  <a:lnTo>
                    <a:pt x="4" y="1287"/>
                  </a:lnTo>
                  <a:lnTo>
                    <a:pt x="3" y="1288"/>
                  </a:lnTo>
                  <a:lnTo>
                    <a:pt x="1" y="1287"/>
                  </a:lnTo>
                  <a:lnTo>
                    <a:pt x="0" y="1287"/>
                  </a:lnTo>
                  <a:lnTo>
                    <a:pt x="0" y="1285"/>
                  </a:lnTo>
                  <a:lnTo>
                    <a:pt x="0" y="1255"/>
                  </a:lnTo>
                  <a:lnTo>
                    <a:pt x="0" y="1254"/>
                  </a:lnTo>
                  <a:lnTo>
                    <a:pt x="1" y="1254"/>
                  </a:lnTo>
                  <a:lnTo>
                    <a:pt x="1" y="1253"/>
                  </a:lnTo>
                  <a:lnTo>
                    <a:pt x="3" y="1253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4" y="1254"/>
                  </a:lnTo>
                  <a:lnTo>
                    <a:pt x="5" y="1255"/>
                  </a:lnTo>
                  <a:lnTo>
                    <a:pt x="5" y="1255"/>
                  </a:lnTo>
                  <a:close/>
                  <a:moveTo>
                    <a:pt x="5" y="1307"/>
                  </a:moveTo>
                  <a:lnTo>
                    <a:pt x="5" y="1338"/>
                  </a:lnTo>
                  <a:lnTo>
                    <a:pt x="4" y="1338"/>
                  </a:lnTo>
                  <a:lnTo>
                    <a:pt x="4" y="1340"/>
                  </a:lnTo>
                  <a:lnTo>
                    <a:pt x="3" y="1340"/>
                  </a:lnTo>
                  <a:lnTo>
                    <a:pt x="1" y="1340"/>
                  </a:lnTo>
                  <a:lnTo>
                    <a:pt x="0" y="1338"/>
                  </a:lnTo>
                  <a:lnTo>
                    <a:pt x="0" y="1338"/>
                  </a:lnTo>
                  <a:lnTo>
                    <a:pt x="0" y="1307"/>
                  </a:lnTo>
                  <a:lnTo>
                    <a:pt x="0" y="1306"/>
                  </a:lnTo>
                  <a:lnTo>
                    <a:pt x="1" y="1306"/>
                  </a:lnTo>
                  <a:lnTo>
                    <a:pt x="3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5" y="1307"/>
                  </a:lnTo>
                  <a:lnTo>
                    <a:pt x="5" y="1307"/>
                  </a:lnTo>
                  <a:close/>
                  <a:moveTo>
                    <a:pt x="5" y="1360"/>
                  </a:moveTo>
                  <a:lnTo>
                    <a:pt x="5" y="1390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3" y="1393"/>
                  </a:lnTo>
                  <a:lnTo>
                    <a:pt x="1" y="1391"/>
                  </a:lnTo>
                  <a:lnTo>
                    <a:pt x="1" y="1391"/>
                  </a:lnTo>
                  <a:lnTo>
                    <a:pt x="0" y="1391"/>
                  </a:lnTo>
                  <a:lnTo>
                    <a:pt x="0" y="1390"/>
                  </a:lnTo>
                  <a:lnTo>
                    <a:pt x="0" y="1360"/>
                  </a:lnTo>
                  <a:lnTo>
                    <a:pt x="0" y="1359"/>
                  </a:lnTo>
                  <a:lnTo>
                    <a:pt x="1" y="1357"/>
                  </a:lnTo>
                  <a:lnTo>
                    <a:pt x="1" y="1357"/>
                  </a:lnTo>
                  <a:lnTo>
                    <a:pt x="3" y="1357"/>
                  </a:lnTo>
                  <a:lnTo>
                    <a:pt x="4" y="1357"/>
                  </a:lnTo>
                  <a:lnTo>
                    <a:pt x="4" y="1357"/>
                  </a:lnTo>
                  <a:lnTo>
                    <a:pt x="4" y="1359"/>
                  </a:lnTo>
                  <a:lnTo>
                    <a:pt x="5" y="1360"/>
                  </a:lnTo>
                  <a:lnTo>
                    <a:pt x="5" y="1360"/>
                  </a:lnTo>
                  <a:close/>
                  <a:moveTo>
                    <a:pt x="5" y="1412"/>
                  </a:moveTo>
                  <a:lnTo>
                    <a:pt x="5" y="1442"/>
                  </a:lnTo>
                  <a:lnTo>
                    <a:pt x="4" y="1443"/>
                  </a:lnTo>
                  <a:lnTo>
                    <a:pt x="4" y="1443"/>
                  </a:lnTo>
                  <a:lnTo>
                    <a:pt x="4" y="1444"/>
                  </a:lnTo>
                  <a:lnTo>
                    <a:pt x="3" y="1444"/>
                  </a:lnTo>
                  <a:lnTo>
                    <a:pt x="1" y="1444"/>
                  </a:lnTo>
                  <a:lnTo>
                    <a:pt x="1" y="1443"/>
                  </a:lnTo>
                  <a:lnTo>
                    <a:pt x="0" y="1443"/>
                  </a:lnTo>
                  <a:lnTo>
                    <a:pt x="0" y="1442"/>
                  </a:lnTo>
                  <a:lnTo>
                    <a:pt x="0" y="1412"/>
                  </a:lnTo>
                  <a:lnTo>
                    <a:pt x="0" y="1410"/>
                  </a:lnTo>
                  <a:lnTo>
                    <a:pt x="1" y="1410"/>
                  </a:lnTo>
                  <a:lnTo>
                    <a:pt x="1" y="1409"/>
                  </a:lnTo>
                  <a:lnTo>
                    <a:pt x="3" y="1409"/>
                  </a:lnTo>
                  <a:lnTo>
                    <a:pt x="4" y="1409"/>
                  </a:lnTo>
                  <a:lnTo>
                    <a:pt x="4" y="1410"/>
                  </a:lnTo>
                  <a:lnTo>
                    <a:pt x="4" y="1410"/>
                  </a:lnTo>
                  <a:lnTo>
                    <a:pt x="5" y="1412"/>
                  </a:lnTo>
                  <a:lnTo>
                    <a:pt x="5" y="1412"/>
                  </a:lnTo>
                  <a:close/>
                  <a:moveTo>
                    <a:pt x="5" y="1463"/>
                  </a:moveTo>
                  <a:lnTo>
                    <a:pt x="5" y="1495"/>
                  </a:lnTo>
                  <a:lnTo>
                    <a:pt x="4" y="1495"/>
                  </a:lnTo>
                  <a:lnTo>
                    <a:pt x="4" y="1496"/>
                  </a:lnTo>
                  <a:lnTo>
                    <a:pt x="4" y="1496"/>
                  </a:lnTo>
                  <a:lnTo>
                    <a:pt x="3" y="1496"/>
                  </a:lnTo>
                  <a:lnTo>
                    <a:pt x="1" y="1496"/>
                  </a:lnTo>
                  <a:lnTo>
                    <a:pt x="1" y="1496"/>
                  </a:lnTo>
                  <a:lnTo>
                    <a:pt x="0" y="1495"/>
                  </a:lnTo>
                  <a:lnTo>
                    <a:pt x="0" y="1495"/>
                  </a:lnTo>
                  <a:lnTo>
                    <a:pt x="0" y="1463"/>
                  </a:lnTo>
                  <a:lnTo>
                    <a:pt x="0" y="1463"/>
                  </a:lnTo>
                  <a:lnTo>
                    <a:pt x="1" y="1462"/>
                  </a:lnTo>
                  <a:lnTo>
                    <a:pt x="1" y="1462"/>
                  </a:lnTo>
                  <a:lnTo>
                    <a:pt x="3" y="1462"/>
                  </a:lnTo>
                  <a:lnTo>
                    <a:pt x="4" y="1462"/>
                  </a:lnTo>
                  <a:lnTo>
                    <a:pt x="4" y="1462"/>
                  </a:lnTo>
                  <a:lnTo>
                    <a:pt x="4" y="1463"/>
                  </a:lnTo>
                  <a:lnTo>
                    <a:pt x="5" y="1463"/>
                  </a:lnTo>
                  <a:lnTo>
                    <a:pt x="5" y="1463"/>
                  </a:lnTo>
                  <a:close/>
                  <a:moveTo>
                    <a:pt x="5" y="1516"/>
                  </a:moveTo>
                  <a:lnTo>
                    <a:pt x="5" y="1546"/>
                  </a:lnTo>
                  <a:lnTo>
                    <a:pt x="4" y="1548"/>
                  </a:lnTo>
                  <a:lnTo>
                    <a:pt x="4" y="1548"/>
                  </a:lnTo>
                  <a:lnTo>
                    <a:pt x="3" y="1549"/>
                  </a:lnTo>
                  <a:lnTo>
                    <a:pt x="1" y="1548"/>
                  </a:lnTo>
                  <a:lnTo>
                    <a:pt x="0" y="1548"/>
                  </a:lnTo>
                  <a:lnTo>
                    <a:pt x="0" y="1546"/>
                  </a:lnTo>
                  <a:lnTo>
                    <a:pt x="0" y="1516"/>
                  </a:lnTo>
                  <a:lnTo>
                    <a:pt x="0" y="1515"/>
                  </a:lnTo>
                  <a:lnTo>
                    <a:pt x="1" y="1515"/>
                  </a:lnTo>
                  <a:lnTo>
                    <a:pt x="1" y="1514"/>
                  </a:lnTo>
                  <a:lnTo>
                    <a:pt x="3" y="1514"/>
                  </a:lnTo>
                  <a:lnTo>
                    <a:pt x="4" y="1514"/>
                  </a:lnTo>
                  <a:lnTo>
                    <a:pt x="4" y="1515"/>
                  </a:lnTo>
                  <a:lnTo>
                    <a:pt x="4" y="1515"/>
                  </a:lnTo>
                  <a:lnTo>
                    <a:pt x="5" y="1516"/>
                  </a:lnTo>
                  <a:lnTo>
                    <a:pt x="5" y="1516"/>
                  </a:lnTo>
                  <a:close/>
                  <a:moveTo>
                    <a:pt x="5" y="1568"/>
                  </a:moveTo>
                  <a:lnTo>
                    <a:pt x="5" y="1599"/>
                  </a:lnTo>
                  <a:lnTo>
                    <a:pt x="4" y="1599"/>
                  </a:lnTo>
                  <a:lnTo>
                    <a:pt x="4" y="1601"/>
                  </a:lnTo>
                  <a:lnTo>
                    <a:pt x="3" y="1601"/>
                  </a:lnTo>
                  <a:lnTo>
                    <a:pt x="1" y="1601"/>
                  </a:lnTo>
                  <a:lnTo>
                    <a:pt x="0" y="1599"/>
                  </a:lnTo>
                  <a:lnTo>
                    <a:pt x="0" y="1599"/>
                  </a:lnTo>
                  <a:lnTo>
                    <a:pt x="0" y="1568"/>
                  </a:lnTo>
                  <a:lnTo>
                    <a:pt x="0" y="1567"/>
                  </a:lnTo>
                  <a:lnTo>
                    <a:pt x="1" y="1567"/>
                  </a:lnTo>
                  <a:lnTo>
                    <a:pt x="3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5" y="1568"/>
                  </a:lnTo>
                  <a:lnTo>
                    <a:pt x="5" y="1568"/>
                  </a:lnTo>
                  <a:close/>
                  <a:moveTo>
                    <a:pt x="5" y="1621"/>
                  </a:moveTo>
                  <a:lnTo>
                    <a:pt x="5" y="1651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3" y="1654"/>
                  </a:lnTo>
                  <a:lnTo>
                    <a:pt x="1" y="1652"/>
                  </a:lnTo>
                  <a:lnTo>
                    <a:pt x="1" y="1652"/>
                  </a:lnTo>
                  <a:lnTo>
                    <a:pt x="0" y="1652"/>
                  </a:lnTo>
                  <a:lnTo>
                    <a:pt x="0" y="1651"/>
                  </a:lnTo>
                  <a:lnTo>
                    <a:pt x="0" y="1621"/>
                  </a:lnTo>
                  <a:lnTo>
                    <a:pt x="0" y="1620"/>
                  </a:lnTo>
                  <a:lnTo>
                    <a:pt x="1" y="1618"/>
                  </a:lnTo>
                  <a:lnTo>
                    <a:pt x="1" y="1618"/>
                  </a:lnTo>
                  <a:lnTo>
                    <a:pt x="3" y="1618"/>
                  </a:lnTo>
                  <a:lnTo>
                    <a:pt x="4" y="1618"/>
                  </a:lnTo>
                  <a:lnTo>
                    <a:pt x="4" y="1618"/>
                  </a:lnTo>
                  <a:lnTo>
                    <a:pt x="4" y="1620"/>
                  </a:lnTo>
                  <a:lnTo>
                    <a:pt x="5" y="1621"/>
                  </a:lnTo>
                  <a:lnTo>
                    <a:pt x="5" y="1621"/>
                  </a:lnTo>
                  <a:close/>
                  <a:moveTo>
                    <a:pt x="5" y="1673"/>
                  </a:moveTo>
                  <a:lnTo>
                    <a:pt x="5" y="1703"/>
                  </a:lnTo>
                  <a:lnTo>
                    <a:pt x="4" y="1704"/>
                  </a:lnTo>
                  <a:lnTo>
                    <a:pt x="4" y="1704"/>
                  </a:lnTo>
                  <a:lnTo>
                    <a:pt x="4" y="1706"/>
                  </a:lnTo>
                  <a:lnTo>
                    <a:pt x="3" y="1706"/>
                  </a:lnTo>
                  <a:lnTo>
                    <a:pt x="1" y="1706"/>
                  </a:lnTo>
                  <a:lnTo>
                    <a:pt x="1" y="1704"/>
                  </a:lnTo>
                  <a:lnTo>
                    <a:pt x="0" y="1704"/>
                  </a:lnTo>
                  <a:lnTo>
                    <a:pt x="0" y="1703"/>
                  </a:lnTo>
                  <a:lnTo>
                    <a:pt x="0" y="1673"/>
                  </a:lnTo>
                  <a:lnTo>
                    <a:pt x="0" y="1672"/>
                  </a:lnTo>
                  <a:lnTo>
                    <a:pt x="1" y="1672"/>
                  </a:lnTo>
                  <a:lnTo>
                    <a:pt x="1" y="1670"/>
                  </a:lnTo>
                  <a:lnTo>
                    <a:pt x="3" y="1670"/>
                  </a:lnTo>
                  <a:lnTo>
                    <a:pt x="4" y="1670"/>
                  </a:lnTo>
                  <a:lnTo>
                    <a:pt x="4" y="1672"/>
                  </a:lnTo>
                  <a:lnTo>
                    <a:pt x="4" y="1672"/>
                  </a:lnTo>
                  <a:lnTo>
                    <a:pt x="5" y="1673"/>
                  </a:lnTo>
                  <a:lnTo>
                    <a:pt x="5" y="1673"/>
                  </a:lnTo>
                  <a:close/>
                  <a:moveTo>
                    <a:pt x="5" y="1725"/>
                  </a:moveTo>
                  <a:lnTo>
                    <a:pt x="5" y="1756"/>
                  </a:lnTo>
                  <a:lnTo>
                    <a:pt x="4" y="1756"/>
                  </a:lnTo>
                  <a:lnTo>
                    <a:pt x="4" y="1757"/>
                  </a:lnTo>
                  <a:lnTo>
                    <a:pt x="4" y="1757"/>
                  </a:lnTo>
                  <a:lnTo>
                    <a:pt x="3" y="1757"/>
                  </a:lnTo>
                  <a:lnTo>
                    <a:pt x="1" y="1757"/>
                  </a:lnTo>
                  <a:lnTo>
                    <a:pt x="1" y="1757"/>
                  </a:lnTo>
                  <a:lnTo>
                    <a:pt x="0" y="1756"/>
                  </a:lnTo>
                  <a:lnTo>
                    <a:pt x="0" y="1756"/>
                  </a:lnTo>
                  <a:lnTo>
                    <a:pt x="0" y="1725"/>
                  </a:lnTo>
                  <a:lnTo>
                    <a:pt x="0" y="1725"/>
                  </a:lnTo>
                  <a:lnTo>
                    <a:pt x="1" y="1723"/>
                  </a:lnTo>
                  <a:lnTo>
                    <a:pt x="1" y="1723"/>
                  </a:lnTo>
                  <a:lnTo>
                    <a:pt x="3" y="1723"/>
                  </a:lnTo>
                  <a:lnTo>
                    <a:pt x="4" y="1723"/>
                  </a:lnTo>
                  <a:lnTo>
                    <a:pt x="4" y="1723"/>
                  </a:lnTo>
                  <a:lnTo>
                    <a:pt x="4" y="1725"/>
                  </a:lnTo>
                  <a:lnTo>
                    <a:pt x="5" y="1725"/>
                  </a:lnTo>
                  <a:lnTo>
                    <a:pt x="5" y="1725"/>
                  </a:lnTo>
                  <a:close/>
                  <a:moveTo>
                    <a:pt x="5" y="1778"/>
                  </a:moveTo>
                  <a:lnTo>
                    <a:pt x="5" y="1808"/>
                  </a:lnTo>
                  <a:lnTo>
                    <a:pt x="4" y="1809"/>
                  </a:lnTo>
                  <a:lnTo>
                    <a:pt x="4" y="1809"/>
                  </a:lnTo>
                  <a:lnTo>
                    <a:pt x="3" y="1810"/>
                  </a:lnTo>
                  <a:lnTo>
                    <a:pt x="1" y="1809"/>
                  </a:lnTo>
                  <a:lnTo>
                    <a:pt x="0" y="1809"/>
                  </a:lnTo>
                  <a:lnTo>
                    <a:pt x="0" y="1808"/>
                  </a:lnTo>
                  <a:lnTo>
                    <a:pt x="0" y="1778"/>
                  </a:lnTo>
                  <a:lnTo>
                    <a:pt x="0" y="1776"/>
                  </a:lnTo>
                  <a:lnTo>
                    <a:pt x="1" y="1776"/>
                  </a:lnTo>
                  <a:lnTo>
                    <a:pt x="1" y="1775"/>
                  </a:lnTo>
                  <a:lnTo>
                    <a:pt x="3" y="1775"/>
                  </a:lnTo>
                  <a:lnTo>
                    <a:pt x="4" y="1775"/>
                  </a:lnTo>
                  <a:lnTo>
                    <a:pt x="4" y="1776"/>
                  </a:lnTo>
                  <a:lnTo>
                    <a:pt x="4" y="1776"/>
                  </a:lnTo>
                  <a:lnTo>
                    <a:pt x="5" y="1778"/>
                  </a:lnTo>
                  <a:lnTo>
                    <a:pt x="5" y="1778"/>
                  </a:lnTo>
                  <a:close/>
                  <a:moveTo>
                    <a:pt x="5" y="1829"/>
                  </a:moveTo>
                  <a:lnTo>
                    <a:pt x="5" y="1861"/>
                  </a:lnTo>
                  <a:lnTo>
                    <a:pt x="4" y="1861"/>
                  </a:lnTo>
                  <a:lnTo>
                    <a:pt x="4" y="1862"/>
                  </a:lnTo>
                  <a:lnTo>
                    <a:pt x="3" y="1862"/>
                  </a:lnTo>
                  <a:lnTo>
                    <a:pt x="1" y="1862"/>
                  </a:lnTo>
                  <a:lnTo>
                    <a:pt x="0" y="1861"/>
                  </a:lnTo>
                  <a:lnTo>
                    <a:pt x="0" y="1861"/>
                  </a:lnTo>
                  <a:lnTo>
                    <a:pt x="0" y="1829"/>
                  </a:lnTo>
                  <a:lnTo>
                    <a:pt x="0" y="1828"/>
                  </a:lnTo>
                  <a:lnTo>
                    <a:pt x="1" y="1828"/>
                  </a:lnTo>
                  <a:lnTo>
                    <a:pt x="3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5" y="1829"/>
                  </a:lnTo>
                  <a:lnTo>
                    <a:pt x="5" y="1829"/>
                  </a:lnTo>
                  <a:close/>
                  <a:moveTo>
                    <a:pt x="5" y="1882"/>
                  </a:moveTo>
                  <a:lnTo>
                    <a:pt x="5" y="1912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3" y="1915"/>
                  </a:lnTo>
                  <a:lnTo>
                    <a:pt x="1" y="1914"/>
                  </a:lnTo>
                  <a:lnTo>
                    <a:pt x="1" y="1914"/>
                  </a:lnTo>
                  <a:lnTo>
                    <a:pt x="0" y="1914"/>
                  </a:lnTo>
                  <a:lnTo>
                    <a:pt x="0" y="1912"/>
                  </a:lnTo>
                  <a:lnTo>
                    <a:pt x="0" y="1882"/>
                  </a:lnTo>
                  <a:lnTo>
                    <a:pt x="0" y="1881"/>
                  </a:lnTo>
                  <a:lnTo>
                    <a:pt x="1" y="1880"/>
                  </a:lnTo>
                  <a:lnTo>
                    <a:pt x="1" y="1880"/>
                  </a:lnTo>
                  <a:lnTo>
                    <a:pt x="3" y="1880"/>
                  </a:lnTo>
                  <a:lnTo>
                    <a:pt x="4" y="1880"/>
                  </a:lnTo>
                  <a:lnTo>
                    <a:pt x="4" y="1880"/>
                  </a:lnTo>
                  <a:lnTo>
                    <a:pt x="4" y="1881"/>
                  </a:lnTo>
                  <a:lnTo>
                    <a:pt x="5" y="1882"/>
                  </a:lnTo>
                  <a:lnTo>
                    <a:pt x="5" y="1882"/>
                  </a:lnTo>
                  <a:close/>
                  <a:moveTo>
                    <a:pt x="5" y="1934"/>
                  </a:moveTo>
                  <a:lnTo>
                    <a:pt x="5" y="1964"/>
                  </a:lnTo>
                  <a:lnTo>
                    <a:pt x="4" y="1965"/>
                  </a:lnTo>
                  <a:lnTo>
                    <a:pt x="4" y="1965"/>
                  </a:lnTo>
                  <a:lnTo>
                    <a:pt x="4" y="1967"/>
                  </a:lnTo>
                  <a:lnTo>
                    <a:pt x="3" y="1967"/>
                  </a:lnTo>
                  <a:lnTo>
                    <a:pt x="1" y="1967"/>
                  </a:lnTo>
                  <a:lnTo>
                    <a:pt x="1" y="1965"/>
                  </a:lnTo>
                  <a:lnTo>
                    <a:pt x="0" y="1965"/>
                  </a:lnTo>
                  <a:lnTo>
                    <a:pt x="0" y="1964"/>
                  </a:lnTo>
                  <a:lnTo>
                    <a:pt x="0" y="1934"/>
                  </a:lnTo>
                  <a:lnTo>
                    <a:pt x="0" y="1933"/>
                  </a:lnTo>
                  <a:lnTo>
                    <a:pt x="1" y="1933"/>
                  </a:lnTo>
                  <a:lnTo>
                    <a:pt x="1" y="1931"/>
                  </a:lnTo>
                  <a:lnTo>
                    <a:pt x="3" y="1931"/>
                  </a:lnTo>
                  <a:lnTo>
                    <a:pt x="4" y="1931"/>
                  </a:lnTo>
                  <a:lnTo>
                    <a:pt x="4" y="1933"/>
                  </a:lnTo>
                  <a:lnTo>
                    <a:pt x="4" y="1933"/>
                  </a:lnTo>
                  <a:lnTo>
                    <a:pt x="5" y="1934"/>
                  </a:lnTo>
                  <a:lnTo>
                    <a:pt x="5" y="1934"/>
                  </a:lnTo>
                  <a:close/>
                  <a:moveTo>
                    <a:pt x="5" y="1986"/>
                  </a:moveTo>
                  <a:lnTo>
                    <a:pt x="5" y="2017"/>
                  </a:lnTo>
                  <a:lnTo>
                    <a:pt x="4" y="2017"/>
                  </a:lnTo>
                  <a:lnTo>
                    <a:pt x="4" y="2018"/>
                  </a:lnTo>
                  <a:lnTo>
                    <a:pt x="4" y="2018"/>
                  </a:lnTo>
                  <a:lnTo>
                    <a:pt x="3" y="2018"/>
                  </a:lnTo>
                  <a:lnTo>
                    <a:pt x="1" y="2018"/>
                  </a:lnTo>
                  <a:lnTo>
                    <a:pt x="1" y="2018"/>
                  </a:lnTo>
                  <a:lnTo>
                    <a:pt x="0" y="2017"/>
                  </a:lnTo>
                  <a:lnTo>
                    <a:pt x="0" y="2017"/>
                  </a:lnTo>
                  <a:lnTo>
                    <a:pt x="0" y="1986"/>
                  </a:lnTo>
                  <a:lnTo>
                    <a:pt x="0" y="1986"/>
                  </a:lnTo>
                  <a:lnTo>
                    <a:pt x="1" y="1984"/>
                  </a:lnTo>
                  <a:lnTo>
                    <a:pt x="1" y="1984"/>
                  </a:lnTo>
                  <a:lnTo>
                    <a:pt x="3" y="1984"/>
                  </a:lnTo>
                  <a:lnTo>
                    <a:pt x="4" y="1984"/>
                  </a:lnTo>
                  <a:lnTo>
                    <a:pt x="4" y="1984"/>
                  </a:lnTo>
                  <a:lnTo>
                    <a:pt x="4" y="1986"/>
                  </a:lnTo>
                  <a:lnTo>
                    <a:pt x="5" y="1986"/>
                  </a:lnTo>
                  <a:lnTo>
                    <a:pt x="5" y="1986"/>
                  </a:lnTo>
                  <a:close/>
                  <a:moveTo>
                    <a:pt x="5" y="2039"/>
                  </a:moveTo>
                  <a:lnTo>
                    <a:pt x="5" y="2069"/>
                  </a:lnTo>
                  <a:lnTo>
                    <a:pt x="4" y="2070"/>
                  </a:lnTo>
                  <a:lnTo>
                    <a:pt x="4" y="2070"/>
                  </a:lnTo>
                  <a:lnTo>
                    <a:pt x="3" y="2071"/>
                  </a:lnTo>
                  <a:lnTo>
                    <a:pt x="1" y="2070"/>
                  </a:lnTo>
                  <a:lnTo>
                    <a:pt x="0" y="2070"/>
                  </a:lnTo>
                  <a:lnTo>
                    <a:pt x="0" y="2069"/>
                  </a:lnTo>
                  <a:lnTo>
                    <a:pt x="0" y="2039"/>
                  </a:lnTo>
                  <a:lnTo>
                    <a:pt x="0" y="2037"/>
                  </a:lnTo>
                  <a:lnTo>
                    <a:pt x="1" y="2037"/>
                  </a:lnTo>
                  <a:lnTo>
                    <a:pt x="1" y="2036"/>
                  </a:lnTo>
                  <a:lnTo>
                    <a:pt x="3" y="2036"/>
                  </a:lnTo>
                  <a:lnTo>
                    <a:pt x="4" y="2036"/>
                  </a:lnTo>
                  <a:lnTo>
                    <a:pt x="4" y="2037"/>
                  </a:lnTo>
                  <a:lnTo>
                    <a:pt x="4" y="2037"/>
                  </a:lnTo>
                  <a:lnTo>
                    <a:pt x="5" y="2039"/>
                  </a:lnTo>
                  <a:lnTo>
                    <a:pt x="5" y="2039"/>
                  </a:lnTo>
                  <a:close/>
                  <a:moveTo>
                    <a:pt x="5" y="2090"/>
                  </a:moveTo>
                  <a:lnTo>
                    <a:pt x="5" y="2122"/>
                  </a:lnTo>
                  <a:lnTo>
                    <a:pt x="4" y="2122"/>
                  </a:lnTo>
                  <a:lnTo>
                    <a:pt x="4" y="2123"/>
                  </a:lnTo>
                  <a:lnTo>
                    <a:pt x="3" y="2123"/>
                  </a:lnTo>
                  <a:lnTo>
                    <a:pt x="1" y="2123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090"/>
                  </a:lnTo>
                  <a:lnTo>
                    <a:pt x="0" y="2089"/>
                  </a:lnTo>
                  <a:lnTo>
                    <a:pt x="1" y="2089"/>
                  </a:lnTo>
                  <a:lnTo>
                    <a:pt x="3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5" y="2090"/>
                  </a:lnTo>
                  <a:lnTo>
                    <a:pt x="5" y="2090"/>
                  </a:lnTo>
                  <a:close/>
                  <a:moveTo>
                    <a:pt x="5" y="2143"/>
                  </a:moveTo>
                  <a:lnTo>
                    <a:pt x="5" y="2173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3" y="2176"/>
                  </a:lnTo>
                  <a:lnTo>
                    <a:pt x="1" y="2175"/>
                  </a:lnTo>
                  <a:lnTo>
                    <a:pt x="1" y="2175"/>
                  </a:lnTo>
                  <a:lnTo>
                    <a:pt x="0" y="2175"/>
                  </a:lnTo>
                  <a:lnTo>
                    <a:pt x="0" y="2173"/>
                  </a:lnTo>
                  <a:lnTo>
                    <a:pt x="0" y="2143"/>
                  </a:lnTo>
                  <a:lnTo>
                    <a:pt x="0" y="2142"/>
                  </a:lnTo>
                  <a:lnTo>
                    <a:pt x="1" y="2141"/>
                  </a:lnTo>
                  <a:lnTo>
                    <a:pt x="1" y="2141"/>
                  </a:lnTo>
                  <a:lnTo>
                    <a:pt x="3" y="2141"/>
                  </a:lnTo>
                  <a:lnTo>
                    <a:pt x="4" y="2141"/>
                  </a:lnTo>
                  <a:lnTo>
                    <a:pt x="4" y="2141"/>
                  </a:lnTo>
                  <a:lnTo>
                    <a:pt x="4" y="2142"/>
                  </a:lnTo>
                  <a:lnTo>
                    <a:pt x="5" y="2143"/>
                  </a:lnTo>
                  <a:lnTo>
                    <a:pt x="5" y="2143"/>
                  </a:lnTo>
                  <a:close/>
                  <a:moveTo>
                    <a:pt x="5" y="2195"/>
                  </a:moveTo>
                  <a:lnTo>
                    <a:pt x="5" y="2225"/>
                  </a:lnTo>
                  <a:lnTo>
                    <a:pt x="4" y="2226"/>
                  </a:lnTo>
                  <a:lnTo>
                    <a:pt x="4" y="2226"/>
                  </a:lnTo>
                  <a:lnTo>
                    <a:pt x="4" y="2228"/>
                  </a:lnTo>
                  <a:lnTo>
                    <a:pt x="3" y="2228"/>
                  </a:lnTo>
                  <a:lnTo>
                    <a:pt x="1" y="2228"/>
                  </a:lnTo>
                  <a:lnTo>
                    <a:pt x="1" y="2226"/>
                  </a:lnTo>
                  <a:lnTo>
                    <a:pt x="0" y="2226"/>
                  </a:lnTo>
                  <a:lnTo>
                    <a:pt x="0" y="2225"/>
                  </a:lnTo>
                  <a:lnTo>
                    <a:pt x="0" y="2195"/>
                  </a:lnTo>
                  <a:lnTo>
                    <a:pt x="0" y="2194"/>
                  </a:lnTo>
                  <a:lnTo>
                    <a:pt x="1" y="2194"/>
                  </a:lnTo>
                  <a:lnTo>
                    <a:pt x="1" y="2192"/>
                  </a:lnTo>
                  <a:lnTo>
                    <a:pt x="3" y="2192"/>
                  </a:lnTo>
                  <a:lnTo>
                    <a:pt x="4" y="2192"/>
                  </a:lnTo>
                  <a:lnTo>
                    <a:pt x="4" y="2194"/>
                  </a:lnTo>
                  <a:lnTo>
                    <a:pt x="4" y="2194"/>
                  </a:lnTo>
                  <a:lnTo>
                    <a:pt x="5" y="2195"/>
                  </a:lnTo>
                  <a:lnTo>
                    <a:pt x="5" y="2195"/>
                  </a:lnTo>
                  <a:close/>
                  <a:moveTo>
                    <a:pt x="5" y="2247"/>
                  </a:moveTo>
                  <a:lnTo>
                    <a:pt x="5" y="2278"/>
                  </a:lnTo>
                  <a:lnTo>
                    <a:pt x="4" y="2278"/>
                  </a:lnTo>
                  <a:lnTo>
                    <a:pt x="4" y="2279"/>
                  </a:lnTo>
                  <a:lnTo>
                    <a:pt x="4" y="2279"/>
                  </a:lnTo>
                  <a:lnTo>
                    <a:pt x="3" y="2279"/>
                  </a:lnTo>
                  <a:lnTo>
                    <a:pt x="1" y="2279"/>
                  </a:lnTo>
                  <a:lnTo>
                    <a:pt x="1" y="2279"/>
                  </a:lnTo>
                  <a:lnTo>
                    <a:pt x="0" y="2278"/>
                  </a:lnTo>
                  <a:lnTo>
                    <a:pt x="0" y="2278"/>
                  </a:lnTo>
                  <a:lnTo>
                    <a:pt x="0" y="2247"/>
                  </a:lnTo>
                  <a:lnTo>
                    <a:pt x="0" y="2247"/>
                  </a:lnTo>
                  <a:lnTo>
                    <a:pt x="1" y="2245"/>
                  </a:lnTo>
                  <a:lnTo>
                    <a:pt x="1" y="2245"/>
                  </a:lnTo>
                  <a:lnTo>
                    <a:pt x="3" y="2245"/>
                  </a:lnTo>
                  <a:lnTo>
                    <a:pt x="4" y="2245"/>
                  </a:lnTo>
                  <a:lnTo>
                    <a:pt x="4" y="2245"/>
                  </a:lnTo>
                  <a:lnTo>
                    <a:pt x="4" y="2247"/>
                  </a:lnTo>
                  <a:lnTo>
                    <a:pt x="5" y="2247"/>
                  </a:lnTo>
                  <a:lnTo>
                    <a:pt x="5" y="2247"/>
                  </a:lnTo>
                  <a:close/>
                  <a:moveTo>
                    <a:pt x="5" y="2300"/>
                  </a:moveTo>
                  <a:lnTo>
                    <a:pt x="5" y="2330"/>
                  </a:lnTo>
                  <a:lnTo>
                    <a:pt x="4" y="2331"/>
                  </a:lnTo>
                  <a:lnTo>
                    <a:pt x="4" y="2331"/>
                  </a:lnTo>
                  <a:lnTo>
                    <a:pt x="3" y="2333"/>
                  </a:lnTo>
                  <a:lnTo>
                    <a:pt x="1" y="2331"/>
                  </a:lnTo>
                  <a:lnTo>
                    <a:pt x="0" y="2331"/>
                  </a:lnTo>
                  <a:lnTo>
                    <a:pt x="0" y="2330"/>
                  </a:lnTo>
                  <a:lnTo>
                    <a:pt x="0" y="2300"/>
                  </a:lnTo>
                  <a:lnTo>
                    <a:pt x="0" y="2299"/>
                  </a:lnTo>
                  <a:lnTo>
                    <a:pt x="1" y="2299"/>
                  </a:lnTo>
                  <a:lnTo>
                    <a:pt x="1" y="2297"/>
                  </a:lnTo>
                  <a:lnTo>
                    <a:pt x="3" y="2297"/>
                  </a:lnTo>
                  <a:lnTo>
                    <a:pt x="4" y="2297"/>
                  </a:lnTo>
                  <a:lnTo>
                    <a:pt x="4" y="2299"/>
                  </a:lnTo>
                  <a:lnTo>
                    <a:pt x="4" y="2299"/>
                  </a:lnTo>
                  <a:lnTo>
                    <a:pt x="5" y="2300"/>
                  </a:lnTo>
                  <a:lnTo>
                    <a:pt x="5" y="2300"/>
                  </a:lnTo>
                  <a:close/>
                  <a:moveTo>
                    <a:pt x="5" y="2352"/>
                  </a:moveTo>
                  <a:lnTo>
                    <a:pt x="5" y="2383"/>
                  </a:lnTo>
                  <a:lnTo>
                    <a:pt x="4" y="2383"/>
                  </a:lnTo>
                  <a:lnTo>
                    <a:pt x="4" y="2384"/>
                  </a:lnTo>
                  <a:lnTo>
                    <a:pt x="3" y="2384"/>
                  </a:lnTo>
                  <a:lnTo>
                    <a:pt x="1" y="2384"/>
                  </a:lnTo>
                  <a:lnTo>
                    <a:pt x="0" y="2383"/>
                  </a:lnTo>
                  <a:lnTo>
                    <a:pt x="0" y="2383"/>
                  </a:lnTo>
                  <a:lnTo>
                    <a:pt x="0" y="2352"/>
                  </a:lnTo>
                  <a:lnTo>
                    <a:pt x="0" y="2350"/>
                  </a:lnTo>
                  <a:lnTo>
                    <a:pt x="1" y="2350"/>
                  </a:lnTo>
                  <a:lnTo>
                    <a:pt x="3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5" y="2352"/>
                  </a:lnTo>
                  <a:lnTo>
                    <a:pt x="5" y="2352"/>
                  </a:lnTo>
                  <a:close/>
                  <a:moveTo>
                    <a:pt x="5" y="2405"/>
                  </a:moveTo>
                  <a:lnTo>
                    <a:pt x="5" y="2435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3" y="2437"/>
                  </a:lnTo>
                  <a:lnTo>
                    <a:pt x="1" y="2436"/>
                  </a:lnTo>
                  <a:lnTo>
                    <a:pt x="1" y="2436"/>
                  </a:lnTo>
                  <a:lnTo>
                    <a:pt x="0" y="2436"/>
                  </a:lnTo>
                  <a:lnTo>
                    <a:pt x="0" y="2435"/>
                  </a:lnTo>
                  <a:lnTo>
                    <a:pt x="0" y="2405"/>
                  </a:lnTo>
                  <a:lnTo>
                    <a:pt x="0" y="2403"/>
                  </a:lnTo>
                  <a:lnTo>
                    <a:pt x="1" y="2402"/>
                  </a:lnTo>
                  <a:lnTo>
                    <a:pt x="1" y="2402"/>
                  </a:lnTo>
                  <a:lnTo>
                    <a:pt x="3" y="2402"/>
                  </a:lnTo>
                  <a:lnTo>
                    <a:pt x="4" y="2402"/>
                  </a:lnTo>
                  <a:lnTo>
                    <a:pt x="4" y="2402"/>
                  </a:lnTo>
                  <a:lnTo>
                    <a:pt x="4" y="2403"/>
                  </a:lnTo>
                  <a:lnTo>
                    <a:pt x="5" y="2405"/>
                  </a:lnTo>
                  <a:lnTo>
                    <a:pt x="5" y="2405"/>
                  </a:lnTo>
                  <a:close/>
                  <a:moveTo>
                    <a:pt x="5" y="2456"/>
                  </a:moveTo>
                  <a:lnTo>
                    <a:pt x="5" y="2486"/>
                  </a:lnTo>
                  <a:lnTo>
                    <a:pt x="4" y="2488"/>
                  </a:lnTo>
                  <a:lnTo>
                    <a:pt x="4" y="2488"/>
                  </a:lnTo>
                  <a:lnTo>
                    <a:pt x="4" y="2489"/>
                  </a:lnTo>
                  <a:lnTo>
                    <a:pt x="3" y="2489"/>
                  </a:lnTo>
                  <a:lnTo>
                    <a:pt x="1" y="2489"/>
                  </a:lnTo>
                  <a:lnTo>
                    <a:pt x="1" y="2488"/>
                  </a:lnTo>
                  <a:lnTo>
                    <a:pt x="0" y="2488"/>
                  </a:lnTo>
                  <a:lnTo>
                    <a:pt x="0" y="2486"/>
                  </a:lnTo>
                  <a:lnTo>
                    <a:pt x="0" y="2456"/>
                  </a:lnTo>
                  <a:lnTo>
                    <a:pt x="0" y="2455"/>
                  </a:lnTo>
                  <a:lnTo>
                    <a:pt x="1" y="2455"/>
                  </a:lnTo>
                  <a:lnTo>
                    <a:pt x="1" y="2454"/>
                  </a:lnTo>
                  <a:lnTo>
                    <a:pt x="3" y="2454"/>
                  </a:lnTo>
                  <a:lnTo>
                    <a:pt x="4" y="2454"/>
                  </a:lnTo>
                  <a:lnTo>
                    <a:pt x="4" y="2455"/>
                  </a:lnTo>
                  <a:lnTo>
                    <a:pt x="4" y="2455"/>
                  </a:lnTo>
                  <a:lnTo>
                    <a:pt x="5" y="2456"/>
                  </a:lnTo>
                  <a:lnTo>
                    <a:pt x="5" y="2456"/>
                  </a:lnTo>
                  <a:close/>
                  <a:moveTo>
                    <a:pt x="5" y="2508"/>
                  </a:moveTo>
                  <a:lnTo>
                    <a:pt x="5" y="2539"/>
                  </a:lnTo>
                  <a:lnTo>
                    <a:pt x="4" y="2539"/>
                  </a:lnTo>
                  <a:lnTo>
                    <a:pt x="4" y="2541"/>
                  </a:lnTo>
                  <a:lnTo>
                    <a:pt x="4" y="2541"/>
                  </a:lnTo>
                  <a:lnTo>
                    <a:pt x="3" y="2541"/>
                  </a:lnTo>
                  <a:lnTo>
                    <a:pt x="1" y="2541"/>
                  </a:lnTo>
                  <a:lnTo>
                    <a:pt x="1" y="2541"/>
                  </a:lnTo>
                  <a:lnTo>
                    <a:pt x="0" y="2539"/>
                  </a:lnTo>
                  <a:lnTo>
                    <a:pt x="0" y="2539"/>
                  </a:lnTo>
                  <a:lnTo>
                    <a:pt x="0" y="2508"/>
                  </a:lnTo>
                  <a:lnTo>
                    <a:pt x="0" y="2508"/>
                  </a:lnTo>
                  <a:lnTo>
                    <a:pt x="1" y="2507"/>
                  </a:lnTo>
                  <a:lnTo>
                    <a:pt x="1" y="2507"/>
                  </a:lnTo>
                  <a:lnTo>
                    <a:pt x="3" y="2507"/>
                  </a:lnTo>
                  <a:lnTo>
                    <a:pt x="4" y="2507"/>
                  </a:lnTo>
                  <a:lnTo>
                    <a:pt x="4" y="2507"/>
                  </a:lnTo>
                  <a:lnTo>
                    <a:pt x="4" y="2508"/>
                  </a:lnTo>
                  <a:lnTo>
                    <a:pt x="5" y="2508"/>
                  </a:lnTo>
                  <a:lnTo>
                    <a:pt x="5" y="2508"/>
                  </a:lnTo>
                  <a:close/>
                  <a:moveTo>
                    <a:pt x="5" y="2561"/>
                  </a:moveTo>
                  <a:lnTo>
                    <a:pt x="5" y="2591"/>
                  </a:lnTo>
                  <a:lnTo>
                    <a:pt x="4" y="2592"/>
                  </a:lnTo>
                  <a:lnTo>
                    <a:pt x="4" y="2592"/>
                  </a:lnTo>
                  <a:lnTo>
                    <a:pt x="3" y="2594"/>
                  </a:lnTo>
                  <a:lnTo>
                    <a:pt x="1" y="2592"/>
                  </a:lnTo>
                  <a:lnTo>
                    <a:pt x="0" y="2592"/>
                  </a:lnTo>
                  <a:lnTo>
                    <a:pt x="0" y="2591"/>
                  </a:lnTo>
                  <a:lnTo>
                    <a:pt x="0" y="2561"/>
                  </a:lnTo>
                  <a:lnTo>
                    <a:pt x="0" y="2560"/>
                  </a:lnTo>
                  <a:lnTo>
                    <a:pt x="1" y="2560"/>
                  </a:lnTo>
                  <a:lnTo>
                    <a:pt x="1" y="2558"/>
                  </a:lnTo>
                  <a:lnTo>
                    <a:pt x="3" y="2558"/>
                  </a:lnTo>
                  <a:lnTo>
                    <a:pt x="4" y="2558"/>
                  </a:lnTo>
                  <a:lnTo>
                    <a:pt x="4" y="2560"/>
                  </a:lnTo>
                  <a:lnTo>
                    <a:pt x="4" y="2560"/>
                  </a:lnTo>
                  <a:lnTo>
                    <a:pt x="5" y="2561"/>
                  </a:lnTo>
                  <a:lnTo>
                    <a:pt x="5" y="2561"/>
                  </a:lnTo>
                  <a:close/>
                  <a:moveTo>
                    <a:pt x="5" y="2613"/>
                  </a:moveTo>
                  <a:lnTo>
                    <a:pt x="5" y="2644"/>
                  </a:lnTo>
                  <a:lnTo>
                    <a:pt x="4" y="2644"/>
                  </a:lnTo>
                  <a:lnTo>
                    <a:pt x="4" y="2645"/>
                  </a:lnTo>
                  <a:lnTo>
                    <a:pt x="3" y="2645"/>
                  </a:lnTo>
                  <a:lnTo>
                    <a:pt x="1" y="2645"/>
                  </a:lnTo>
                  <a:lnTo>
                    <a:pt x="0" y="2644"/>
                  </a:lnTo>
                  <a:lnTo>
                    <a:pt x="0" y="2644"/>
                  </a:lnTo>
                  <a:lnTo>
                    <a:pt x="0" y="2613"/>
                  </a:lnTo>
                  <a:lnTo>
                    <a:pt x="0" y="2611"/>
                  </a:lnTo>
                  <a:lnTo>
                    <a:pt x="1" y="2611"/>
                  </a:lnTo>
                  <a:lnTo>
                    <a:pt x="3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5" y="2613"/>
                  </a:lnTo>
                  <a:lnTo>
                    <a:pt x="5" y="2613"/>
                  </a:lnTo>
                  <a:close/>
                  <a:moveTo>
                    <a:pt x="5" y="2666"/>
                  </a:moveTo>
                  <a:lnTo>
                    <a:pt x="5" y="2696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3" y="2698"/>
                  </a:lnTo>
                  <a:lnTo>
                    <a:pt x="1" y="2697"/>
                  </a:lnTo>
                  <a:lnTo>
                    <a:pt x="1" y="2697"/>
                  </a:lnTo>
                  <a:lnTo>
                    <a:pt x="0" y="2697"/>
                  </a:lnTo>
                  <a:lnTo>
                    <a:pt x="0" y="2696"/>
                  </a:lnTo>
                  <a:lnTo>
                    <a:pt x="0" y="2666"/>
                  </a:lnTo>
                  <a:lnTo>
                    <a:pt x="0" y="2664"/>
                  </a:lnTo>
                  <a:lnTo>
                    <a:pt x="1" y="2663"/>
                  </a:lnTo>
                  <a:lnTo>
                    <a:pt x="1" y="2663"/>
                  </a:lnTo>
                  <a:lnTo>
                    <a:pt x="3" y="2663"/>
                  </a:lnTo>
                  <a:lnTo>
                    <a:pt x="4" y="2663"/>
                  </a:lnTo>
                  <a:lnTo>
                    <a:pt x="4" y="2663"/>
                  </a:lnTo>
                  <a:lnTo>
                    <a:pt x="4" y="2664"/>
                  </a:lnTo>
                  <a:lnTo>
                    <a:pt x="5" y="2666"/>
                  </a:lnTo>
                  <a:lnTo>
                    <a:pt x="5" y="2666"/>
                  </a:lnTo>
                  <a:close/>
                  <a:moveTo>
                    <a:pt x="5" y="2717"/>
                  </a:moveTo>
                  <a:lnTo>
                    <a:pt x="5" y="2747"/>
                  </a:lnTo>
                  <a:lnTo>
                    <a:pt x="4" y="2749"/>
                  </a:lnTo>
                  <a:lnTo>
                    <a:pt x="4" y="2749"/>
                  </a:lnTo>
                  <a:lnTo>
                    <a:pt x="4" y="2750"/>
                  </a:lnTo>
                  <a:lnTo>
                    <a:pt x="3" y="2750"/>
                  </a:lnTo>
                  <a:lnTo>
                    <a:pt x="1" y="2750"/>
                  </a:lnTo>
                  <a:lnTo>
                    <a:pt x="1" y="2749"/>
                  </a:lnTo>
                  <a:lnTo>
                    <a:pt x="0" y="2749"/>
                  </a:lnTo>
                  <a:lnTo>
                    <a:pt x="0" y="2747"/>
                  </a:lnTo>
                  <a:lnTo>
                    <a:pt x="0" y="2717"/>
                  </a:lnTo>
                  <a:lnTo>
                    <a:pt x="0" y="2716"/>
                  </a:lnTo>
                  <a:lnTo>
                    <a:pt x="1" y="2716"/>
                  </a:lnTo>
                  <a:lnTo>
                    <a:pt x="1" y="2715"/>
                  </a:lnTo>
                  <a:lnTo>
                    <a:pt x="3" y="2715"/>
                  </a:lnTo>
                  <a:lnTo>
                    <a:pt x="4" y="2715"/>
                  </a:lnTo>
                  <a:lnTo>
                    <a:pt x="4" y="2716"/>
                  </a:lnTo>
                  <a:lnTo>
                    <a:pt x="4" y="2716"/>
                  </a:lnTo>
                  <a:lnTo>
                    <a:pt x="5" y="2717"/>
                  </a:lnTo>
                  <a:lnTo>
                    <a:pt x="5" y="2717"/>
                  </a:lnTo>
                  <a:close/>
                  <a:moveTo>
                    <a:pt x="5" y="2769"/>
                  </a:moveTo>
                  <a:lnTo>
                    <a:pt x="5" y="2800"/>
                  </a:lnTo>
                  <a:lnTo>
                    <a:pt x="4" y="2800"/>
                  </a:lnTo>
                  <a:lnTo>
                    <a:pt x="4" y="2802"/>
                  </a:lnTo>
                  <a:lnTo>
                    <a:pt x="4" y="2802"/>
                  </a:lnTo>
                  <a:lnTo>
                    <a:pt x="3" y="2802"/>
                  </a:lnTo>
                  <a:lnTo>
                    <a:pt x="1" y="2802"/>
                  </a:lnTo>
                  <a:lnTo>
                    <a:pt x="1" y="2802"/>
                  </a:lnTo>
                  <a:lnTo>
                    <a:pt x="0" y="2800"/>
                  </a:lnTo>
                  <a:lnTo>
                    <a:pt x="0" y="2800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1" y="2768"/>
                  </a:lnTo>
                  <a:lnTo>
                    <a:pt x="1" y="2768"/>
                  </a:lnTo>
                  <a:lnTo>
                    <a:pt x="3" y="2768"/>
                  </a:lnTo>
                  <a:lnTo>
                    <a:pt x="4" y="2768"/>
                  </a:lnTo>
                  <a:lnTo>
                    <a:pt x="4" y="2768"/>
                  </a:lnTo>
                  <a:lnTo>
                    <a:pt x="4" y="2769"/>
                  </a:lnTo>
                  <a:lnTo>
                    <a:pt x="5" y="2769"/>
                  </a:lnTo>
                  <a:lnTo>
                    <a:pt x="5" y="2769"/>
                  </a:lnTo>
                  <a:close/>
                  <a:moveTo>
                    <a:pt x="5" y="2822"/>
                  </a:moveTo>
                  <a:lnTo>
                    <a:pt x="5" y="2852"/>
                  </a:lnTo>
                  <a:lnTo>
                    <a:pt x="4" y="2853"/>
                  </a:lnTo>
                  <a:lnTo>
                    <a:pt x="4" y="2853"/>
                  </a:lnTo>
                  <a:lnTo>
                    <a:pt x="3" y="2855"/>
                  </a:lnTo>
                  <a:lnTo>
                    <a:pt x="1" y="2853"/>
                  </a:lnTo>
                  <a:lnTo>
                    <a:pt x="0" y="2853"/>
                  </a:lnTo>
                  <a:lnTo>
                    <a:pt x="0" y="2852"/>
                  </a:lnTo>
                  <a:lnTo>
                    <a:pt x="0" y="2822"/>
                  </a:lnTo>
                  <a:lnTo>
                    <a:pt x="0" y="2821"/>
                  </a:lnTo>
                  <a:lnTo>
                    <a:pt x="1" y="2821"/>
                  </a:lnTo>
                  <a:lnTo>
                    <a:pt x="1" y="2819"/>
                  </a:lnTo>
                  <a:lnTo>
                    <a:pt x="3" y="2819"/>
                  </a:lnTo>
                  <a:lnTo>
                    <a:pt x="4" y="2819"/>
                  </a:lnTo>
                  <a:lnTo>
                    <a:pt x="4" y="2821"/>
                  </a:lnTo>
                  <a:lnTo>
                    <a:pt x="4" y="2821"/>
                  </a:lnTo>
                  <a:lnTo>
                    <a:pt x="5" y="2822"/>
                  </a:lnTo>
                  <a:lnTo>
                    <a:pt x="5" y="2822"/>
                  </a:lnTo>
                  <a:close/>
                  <a:moveTo>
                    <a:pt x="5" y="2874"/>
                  </a:moveTo>
                  <a:lnTo>
                    <a:pt x="5" y="2905"/>
                  </a:lnTo>
                  <a:lnTo>
                    <a:pt x="4" y="2905"/>
                  </a:lnTo>
                  <a:lnTo>
                    <a:pt x="4" y="2906"/>
                  </a:lnTo>
                  <a:lnTo>
                    <a:pt x="3" y="2906"/>
                  </a:lnTo>
                  <a:lnTo>
                    <a:pt x="1" y="2906"/>
                  </a:lnTo>
                  <a:lnTo>
                    <a:pt x="0" y="2905"/>
                  </a:lnTo>
                  <a:lnTo>
                    <a:pt x="0" y="2905"/>
                  </a:lnTo>
                  <a:lnTo>
                    <a:pt x="0" y="2874"/>
                  </a:lnTo>
                  <a:lnTo>
                    <a:pt x="0" y="2872"/>
                  </a:lnTo>
                  <a:lnTo>
                    <a:pt x="1" y="2872"/>
                  </a:lnTo>
                  <a:lnTo>
                    <a:pt x="3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5" y="2874"/>
                  </a:lnTo>
                  <a:lnTo>
                    <a:pt x="5" y="2874"/>
                  </a:lnTo>
                  <a:close/>
                  <a:moveTo>
                    <a:pt x="5" y="2927"/>
                  </a:moveTo>
                  <a:lnTo>
                    <a:pt x="5" y="2957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3" y="2960"/>
                  </a:lnTo>
                  <a:lnTo>
                    <a:pt x="1" y="2958"/>
                  </a:lnTo>
                  <a:lnTo>
                    <a:pt x="1" y="2958"/>
                  </a:lnTo>
                  <a:lnTo>
                    <a:pt x="0" y="2958"/>
                  </a:lnTo>
                  <a:lnTo>
                    <a:pt x="0" y="2957"/>
                  </a:lnTo>
                  <a:lnTo>
                    <a:pt x="0" y="2927"/>
                  </a:lnTo>
                  <a:lnTo>
                    <a:pt x="0" y="2926"/>
                  </a:lnTo>
                  <a:lnTo>
                    <a:pt x="1" y="2924"/>
                  </a:lnTo>
                  <a:lnTo>
                    <a:pt x="1" y="2924"/>
                  </a:lnTo>
                  <a:lnTo>
                    <a:pt x="3" y="2924"/>
                  </a:lnTo>
                  <a:lnTo>
                    <a:pt x="4" y="2924"/>
                  </a:lnTo>
                  <a:lnTo>
                    <a:pt x="4" y="2924"/>
                  </a:lnTo>
                  <a:lnTo>
                    <a:pt x="4" y="2926"/>
                  </a:lnTo>
                  <a:lnTo>
                    <a:pt x="5" y="2927"/>
                  </a:lnTo>
                  <a:lnTo>
                    <a:pt x="5" y="2927"/>
                  </a:lnTo>
                  <a:close/>
                  <a:moveTo>
                    <a:pt x="5" y="2979"/>
                  </a:moveTo>
                  <a:lnTo>
                    <a:pt x="5" y="3008"/>
                  </a:lnTo>
                  <a:lnTo>
                    <a:pt x="4" y="3010"/>
                  </a:lnTo>
                  <a:lnTo>
                    <a:pt x="4" y="3010"/>
                  </a:lnTo>
                  <a:lnTo>
                    <a:pt x="4" y="3011"/>
                  </a:lnTo>
                  <a:lnTo>
                    <a:pt x="3" y="3011"/>
                  </a:lnTo>
                  <a:lnTo>
                    <a:pt x="1" y="3011"/>
                  </a:lnTo>
                  <a:lnTo>
                    <a:pt x="1" y="3010"/>
                  </a:lnTo>
                  <a:lnTo>
                    <a:pt x="0" y="3010"/>
                  </a:lnTo>
                  <a:lnTo>
                    <a:pt x="0" y="3008"/>
                  </a:lnTo>
                  <a:lnTo>
                    <a:pt x="0" y="2979"/>
                  </a:lnTo>
                  <a:lnTo>
                    <a:pt x="0" y="2977"/>
                  </a:lnTo>
                  <a:lnTo>
                    <a:pt x="1" y="2977"/>
                  </a:lnTo>
                  <a:lnTo>
                    <a:pt x="1" y="2976"/>
                  </a:lnTo>
                  <a:lnTo>
                    <a:pt x="3" y="2976"/>
                  </a:lnTo>
                  <a:lnTo>
                    <a:pt x="4" y="2976"/>
                  </a:lnTo>
                  <a:lnTo>
                    <a:pt x="4" y="2977"/>
                  </a:lnTo>
                  <a:lnTo>
                    <a:pt x="4" y="2977"/>
                  </a:lnTo>
                  <a:lnTo>
                    <a:pt x="5" y="2979"/>
                  </a:lnTo>
                  <a:lnTo>
                    <a:pt x="5" y="2979"/>
                  </a:lnTo>
                  <a:close/>
                  <a:moveTo>
                    <a:pt x="5" y="3030"/>
                  </a:moveTo>
                  <a:lnTo>
                    <a:pt x="5" y="3062"/>
                  </a:lnTo>
                  <a:lnTo>
                    <a:pt x="4" y="3062"/>
                  </a:lnTo>
                  <a:lnTo>
                    <a:pt x="4" y="3063"/>
                  </a:lnTo>
                  <a:lnTo>
                    <a:pt x="4" y="3063"/>
                  </a:lnTo>
                  <a:lnTo>
                    <a:pt x="3" y="3063"/>
                  </a:lnTo>
                  <a:lnTo>
                    <a:pt x="1" y="3063"/>
                  </a:lnTo>
                  <a:lnTo>
                    <a:pt x="1" y="3063"/>
                  </a:lnTo>
                  <a:lnTo>
                    <a:pt x="0" y="3062"/>
                  </a:lnTo>
                  <a:lnTo>
                    <a:pt x="0" y="3062"/>
                  </a:lnTo>
                  <a:lnTo>
                    <a:pt x="0" y="3030"/>
                  </a:lnTo>
                  <a:lnTo>
                    <a:pt x="0" y="3030"/>
                  </a:lnTo>
                  <a:lnTo>
                    <a:pt x="1" y="3029"/>
                  </a:lnTo>
                  <a:lnTo>
                    <a:pt x="1" y="3029"/>
                  </a:lnTo>
                  <a:lnTo>
                    <a:pt x="3" y="3029"/>
                  </a:lnTo>
                  <a:lnTo>
                    <a:pt x="4" y="3029"/>
                  </a:lnTo>
                  <a:lnTo>
                    <a:pt x="4" y="3029"/>
                  </a:lnTo>
                  <a:lnTo>
                    <a:pt x="4" y="3030"/>
                  </a:lnTo>
                  <a:lnTo>
                    <a:pt x="5" y="3030"/>
                  </a:lnTo>
                  <a:lnTo>
                    <a:pt x="5" y="3030"/>
                  </a:lnTo>
                  <a:close/>
                  <a:moveTo>
                    <a:pt x="5" y="3083"/>
                  </a:moveTo>
                  <a:lnTo>
                    <a:pt x="5" y="3102"/>
                  </a:lnTo>
                  <a:lnTo>
                    <a:pt x="4" y="3104"/>
                  </a:lnTo>
                  <a:lnTo>
                    <a:pt x="4" y="3104"/>
                  </a:lnTo>
                  <a:lnTo>
                    <a:pt x="3" y="3105"/>
                  </a:lnTo>
                  <a:lnTo>
                    <a:pt x="1" y="3104"/>
                  </a:lnTo>
                  <a:lnTo>
                    <a:pt x="0" y="3104"/>
                  </a:lnTo>
                  <a:lnTo>
                    <a:pt x="0" y="3102"/>
                  </a:lnTo>
                  <a:lnTo>
                    <a:pt x="0" y="3083"/>
                  </a:lnTo>
                  <a:lnTo>
                    <a:pt x="0" y="3082"/>
                  </a:lnTo>
                  <a:lnTo>
                    <a:pt x="1" y="3082"/>
                  </a:lnTo>
                  <a:lnTo>
                    <a:pt x="1" y="3081"/>
                  </a:lnTo>
                  <a:lnTo>
                    <a:pt x="3" y="3081"/>
                  </a:lnTo>
                  <a:lnTo>
                    <a:pt x="4" y="3081"/>
                  </a:lnTo>
                  <a:lnTo>
                    <a:pt x="4" y="3082"/>
                  </a:lnTo>
                  <a:lnTo>
                    <a:pt x="4" y="3082"/>
                  </a:lnTo>
                  <a:lnTo>
                    <a:pt x="5" y="3083"/>
                  </a:lnTo>
                  <a:lnTo>
                    <a:pt x="5" y="30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94440" y="1567080"/>
              <a:ext cx="5760" cy="2595600"/>
            </a:xfrm>
            <a:custGeom>
              <a:avLst/>
              <a:gdLst/>
              <a:ahLst/>
              <a:rect l="l" t="t" r="r" b="b"/>
              <a:pathLst>
                <a:path w="5" h="3105">
                  <a:moveTo>
                    <a:pt x="5" y="1"/>
                  </a:move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close/>
                  <a:moveTo>
                    <a:pt x="5" y="54"/>
                  </a:moveTo>
                  <a:lnTo>
                    <a:pt x="5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2" y="87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4"/>
                  </a:lnTo>
                  <a:close/>
                  <a:moveTo>
                    <a:pt x="5" y="106"/>
                  </a:moveTo>
                  <a:lnTo>
                    <a:pt x="5" y="136"/>
                  </a:lnTo>
                  <a:lnTo>
                    <a:pt x="4" y="137"/>
                  </a:lnTo>
                  <a:lnTo>
                    <a:pt x="4" y="137"/>
                  </a:lnTo>
                  <a:lnTo>
                    <a:pt x="4" y="139"/>
                  </a:lnTo>
                  <a:lnTo>
                    <a:pt x="2" y="139"/>
                  </a:lnTo>
                  <a:lnTo>
                    <a:pt x="1" y="139"/>
                  </a:lnTo>
                  <a:lnTo>
                    <a:pt x="1" y="137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2" y="103"/>
                  </a:lnTo>
                  <a:lnTo>
                    <a:pt x="4" y="103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5" y="106"/>
                  </a:lnTo>
                  <a:close/>
                  <a:moveTo>
                    <a:pt x="5" y="158"/>
                  </a:moveTo>
                  <a:lnTo>
                    <a:pt x="5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1" y="190"/>
                  </a:lnTo>
                  <a:lnTo>
                    <a:pt x="1" y="190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2" y="156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5" y="158"/>
                  </a:lnTo>
                  <a:lnTo>
                    <a:pt x="5" y="158"/>
                  </a:lnTo>
                  <a:close/>
                  <a:moveTo>
                    <a:pt x="5" y="211"/>
                  </a:moveTo>
                  <a:lnTo>
                    <a:pt x="5" y="241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2" y="243"/>
                  </a:lnTo>
                  <a:lnTo>
                    <a:pt x="1" y="242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1" y="209"/>
                  </a:lnTo>
                  <a:lnTo>
                    <a:pt x="1" y="208"/>
                  </a:lnTo>
                  <a:lnTo>
                    <a:pt x="2" y="208"/>
                  </a:lnTo>
                  <a:lnTo>
                    <a:pt x="4" y="208"/>
                  </a:lnTo>
                  <a:lnTo>
                    <a:pt x="4" y="209"/>
                  </a:lnTo>
                  <a:lnTo>
                    <a:pt x="4" y="209"/>
                  </a:lnTo>
                  <a:lnTo>
                    <a:pt x="5" y="211"/>
                  </a:lnTo>
                  <a:lnTo>
                    <a:pt x="5" y="211"/>
                  </a:lnTo>
                  <a:close/>
                  <a:moveTo>
                    <a:pt x="5" y="262"/>
                  </a:moveTo>
                  <a:lnTo>
                    <a:pt x="5" y="294"/>
                  </a:lnTo>
                  <a:lnTo>
                    <a:pt x="4" y="294"/>
                  </a:lnTo>
                  <a:lnTo>
                    <a:pt x="4" y="295"/>
                  </a:lnTo>
                  <a:lnTo>
                    <a:pt x="2" y="295"/>
                  </a:lnTo>
                  <a:lnTo>
                    <a:pt x="1" y="295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62"/>
                  </a:lnTo>
                  <a:lnTo>
                    <a:pt x="0" y="261"/>
                  </a:lnTo>
                  <a:lnTo>
                    <a:pt x="1" y="261"/>
                  </a:lnTo>
                  <a:lnTo>
                    <a:pt x="2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5" y="262"/>
                  </a:lnTo>
                  <a:lnTo>
                    <a:pt x="5" y="262"/>
                  </a:lnTo>
                  <a:close/>
                  <a:moveTo>
                    <a:pt x="5" y="315"/>
                  </a:moveTo>
                  <a:lnTo>
                    <a:pt x="5" y="345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2" y="348"/>
                  </a:lnTo>
                  <a:lnTo>
                    <a:pt x="1" y="347"/>
                  </a:lnTo>
                  <a:lnTo>
                    <a:pt x="1" y="347"/>
                  </a:lnTo>
                  <a:lnTo>
                    <a:pt x="0" y="347"/>
                  </a:lnTo>
                  <a:lnTo>
                    <a:pt x="0" y="345"/>
                  </a:lnTo>
                  <a:lnTo>
                    <a:pt x="0" y="315"/>
                  </a:lnTo>
                  <a:lnTo>
                    <a:pt x="0" y="314"/>
                  </a:lnTo>
                  <a:lnTo>
                    <a:pt x="1" y="313"/>
                  </a:lnTo>
                  <a:lnTo>
                    <a:pt x="1" y="313"/>
                  </a:lnTo>
                  <a:lnTo>
                    <a:pt x="2" y="313"/>
                  </a:lnTo>
                  <a:lnTo>
                    <a:pt x="4" y="313"/>
                  </a:lnTo>
                  <a:lnTo>
                    <a:pt x="4" y="313"/>
                  </a:lnTo>
                  <a:lnTo>
                    <a:pt x="4" y="314"/>
                  </a:lnTo>
                  <a:lnTo>
                    <a:pt x="5" y="315"/>
                  </a:lnTo>
                  <a:lnTo>
                    <a:pt x="5" y="315"/>
                  </a:lnTo>
                  <a:close/>
                  <a:moveTo>
                    <a:pt x="5" y="367"/>
                  </a:moveTo>
                  <a:lnTo>
                    <a:pt x="5" y="397"/>
                  </a:lnTo>
                  <a:lnTo>
                    <a:pt x="4" y="398"/>
                  </a:lnTo>
                  <a:lnTo>
                    <a:pt x="4" y="398"/>
                  </a:lnTo>
                  <a:lnTo>
                    <a:pt x="4" y="400"/>
                  </a:lnTo>
                  <a:lnTo>
                    <a:pt x="2" y="400"/>
                  </a:lnTo>
                  <a:lnTo>
                    <a:pt x="1" y="400"/>
                  </a:lnTo>
                  <a:lnTo>
                    <a:pt x="1" y="398"/>
                  </a:lnTo>
                  <a:lnTo>
                    <a:pt x="0" y="398"/>
                  </a:lnTo>
                  <a:lnTo>
                    <a:pt x="0" y="397"/>
                  </a:lnTo>
                  <a:lnTo>
                    <a:pt x="0" y="367"/>
                  </a:lnTo>
                  <a:lnTo>
                    <a:pt x="0" y="366"/>
                  </a:lnTo>
                  <a:lnTo>
                    <a:pt x="1" y="366"/>
                  </a:lnTo>
                  <a:lnTo>
                    <a:pt x="1" y="364"/>
                  </a:lnTo>
                  <a:lnTo>
                    <a:pt x="2" y="364"/>
                  </a:lnTo>
                  <a:lnTo>
                    <a:pt x="4" y="364"/>
                  </a:lnTo>
                  <a:lnTo>
                    <a:pt x="4" y="366"/>
                  </a:lnTo>
                  <a:lnTo>
                    <a:pt x="4" y="366"/>
                  </a:lnTo>
                  <a:lnTo>
                    <a:pt x="5" y="367"/>
                  </a:lnTo>
                  <a:lnTo>
                    <a:pt x="5" y="367"/>
                  </a:lnTo>
                  <a:close/>
                  <a:moveTo>
                    <a:pt x="5" y="419"/>
                  </a:moveTo>
                  <a:lnTo>
                    <a:pt x="5" y="450"/>
                  </a:lnTo>
                  <a:lnTo>
                    <a:pt x="4" y="450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2" y="452"/>
                  </a:lnTo>
                  <a:lnTo>
                    <a:pt x="1" y="452"/>
                  </a:lnTo>
                  <a:lnTo>
                    <a:pt x="1" y="452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1" y="418"/>
                  </a:lnTo>
                  <a:lnTo>
                    <a:pt x="1" y="418"/>
                  </a:lnTo>
                  <a:lnTo>
                    <a:pt x="2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9"/>
                  </a:lnTo>
                  <a:lnTo>
                    <a:pt x="5" y="419"/>
                  </a:lnTo>
                  <a:lnTo>
                    <a:pt x="5" y="419"/>
                  </a:lnTo>
                  <a:close/>
                  <a:moveTo>
                    <a:pt x="5" y="472"/>
                  </a:moveTo>
                  <a:lnTo>
                    <a:pt x="5" y="502"/>
                  </a:lnTo>
                  <a:lnTo>
                    <a:pt x="4" y="503"/>
                  </a:lnTo>
                  <a:lnTo>
                    <a:pt x="4" y="503"/>
                  </a:lnTo>
                  <a:lnTo>
                    <a:pt x="2" y="505"/>
                  </a:lnTo>
                  <a:lnTo>
                    <a:pt x="1" y="503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472"/>
                  </a:lnTo>
                  <a:lnTo>
                    <a:pt x="0" y="471"/>
                  </a:lnTo>
                  <a:lnTo>
                    <a:pt x="1" y="471"/>
                  </a:lnTo>
                  <a:lnTo>
                    <a:pt x="1" y="469"/>
                  </a:lnTo>
                  <a:lnTo>
                    <a:pt x="2" y="469"/>
                  </a:lnTo>
                  <a:lnTo>
                    <a:pt x="4" y="469"/>
                  </a:lnTo>
                  <a:lnTo>
                    <a:pt x="4" y="471"/>
                  </a:lnTo>
                  <a:lnTo>
                    <a:pt x="4" y="471"/>
                  </a:lnTo>
                  <a:lnTo>
                    <a:pt x="5" y="472"/>
                  </a:lnTo>
                  <a:lnTo>
                    <a:pt x="5" y="472"/>
                  </a:lnTo>
                  <a:close/>
                  <a:moveTo>
                    <a:pt x="5" y="524"/>
                  </a:moveTo>
                  <a:lnTo>
                    <a:pt x="5" y="555"/>
                  </a:lnTo>
                  <a:lnTo>
                    <a:pt x="4" y="555"/>
                  </a:lnTo>
                  <a:lnTo>
                    <a:pt x="4" y="556"/>
                  </a:lnTo>
                  <a:lnTo>
                    <a:pt x="2" y="556"/>
                  </a:lnTo>
                  <a:lnTo>
                    <a:pt x="1" y="556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24"/>
                  </a:lnTo>
                  <a:lnTo>
                    <a:pt x="0" y="522"/>
                  </a:lnTo>
                  <a:lnTo>
                    <a:pt x="1" y="522"/>
                  </a:lnTo>
                  <a:lnTo>
                    <a:pt x="2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5" y="524"/>
                  </a:lnTo>
                  <a:lnTo>
                    <a:pt x="5" y="524"/>
                  </a:lnTo>
                  <a:close/>
                  <a:moveTo>
                    <a:pt x="5" y="577"/>
                  </a:moveTo>
                  <a:lnTo>
                    <a:pt x="5" y="607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2" y="609"/>
                  </a:lnTo>
                  <a:lnTo>
                    <a:pt x="1" y="608"/>
                  </a:lnTo>
                  <a:lnTo>
                    <a:pt x="1" y="608"/>
                  </a:lnTo>
                  <a:lnTo>
                    <a:pt x="0" y="608"/>
                  </a:lnTo>
                  <a:lnTo>
                    <a:pt x="0" y="607"/>
                  </a:lnTo>
                  <a:lnTo>
                    <a:pt x="0" y="577"/>
                  </a:lnTo>
                  <a:lnTo>
                    <a:pt x="0" y="575"/>
                  </a:lnTo>
                  <a:lnTo>
                    <a:pt x="1" y="574"/>
                  </a:lnTo>
                  <a:lnTo>
                    <a:pt x="1" y="574"/>
                  </a:lnTo>
                  <a:lnTo>
                    <a:pt x="2" y="574"/>
                  </a:lnTo>
                  <a:lnTo>
                    <a:pt x="4" y="574"/>
                  </a:lnTo>
                  <a:lnTo>
                    <a:pt x="4" y="574"/>
                  </a:lnTo>
                  <a:lnTo>
                    <a:pt x="4" y="575"/>
                  </a:lnTo>
                  <a:lnTo>
                    <a:pt x="5" y="577"/>
                  </a:lnTo>
                  <a:lnTo>
                    <a:pt x="5" y="577"/>
                  </a:lnTo>
                  <a:close/>
                  <a:moveTo>
                    <a:pt x="5" y="628"/>
                  </a:moveTo>
                  <a:lnTo>
                    <a:pt x="5" y="658"/>
                  </a:lnTo>
                  <a:lnTo>
                    <a:pt x="4" y="660"/>
                  </a:lnTo>
                  <a:lnTo>
                    <a:pt x="4" y="660"/>
                  </a:lnTo>
                  <a:lnTo>
                    <a:pt x="4" y="661"/>
                  </a:lnTo>
                  <a:lnTo>
                    <a:pt x="2" y="661"/>
                  </a:lnTo>
                  <a:lnTo>
                    <a:pt x="1" y="661"/>
                  </a:lnTo>
                  <a:lnTo>
                    <a:pt x="1" y="660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28"/>
                  </a:lnTo>
                  <a:lnTo>
                    <a:pt x="0" y="627"/>
                  </a:lnTo>
                  <a:lnTo>
                    <a:pt x="1" y="627"/>
                  </a:lnTo>
                  <a:lnTo>
                    <a:pt x="1" y="626"/>
                  </a:lnTo>
                  <a:lnTo>
                    <a:pt x="2" y="626"/>
                  </a:lnTo>
                  <a:lnTo>
                    <a:pt x="4" y="626"/>
                  </a:lnTo>
                  <a:lnTo>
                    <a:pt x="4" y="627"/>
                  </a:lnTo>
                  <a:lnTo>
                    <a:pt x="4" y="627"/>
                  </a:lnTo>
                  <a:lnTo>
                    <a:pt x="5" y="628"/>
                  </a:lnTo>
                  <a:lnTo>
                    <a:pt x="5" y="628"/>
                  </a:lnTo>
                  <a:close/>
                  <a:moveTo>
                    <a:pt x="5" y="680"/>
                  </a:moveTo>
                  <a:lnTo>
                    <a:pt x="5" y="711"/>
                  </a:lnTo>
                  <a:lnTo>
                    <a:pt x="4" y="711"/>
                  </a:lnTo>
                  <a:lnTo>
                    <a:pt x="4" y="713"/>
                  </a:lnTo>
                  <a:lnTo>
                    <a:pt x="4" y="713"/>
                  </a:lnTo>
                  <a:lnTo>
                    <a:pt x="2" y="713"/>
                  </a:lnTo>
                  <a:lnTo>
                    <a:pt x="1" y="713"/>
                  </a:lnTo>
                  <a:lnTo>
                    <a:pt x="1" y="7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680"/>
                  </a:lnTo>
                  <a:lnTo>
                    <a:pt x="0" y="680"/>
                  </a:lnTo>
                  <a:lnTo>
                    <a:pt x="1" y="679"/>
                  </a:lnTo>
                  <a:lnTo>
                    <a:pt x="1" y="679"/>
                  </a:lnTo>
                  <a:lnTo>
                    <a:pt x="2" y="679"/>
                  </a:lnTo>
                  <a:lnTo>
                    <a:pt x="4" y="679"/>
                  </a:lnTo>
                  <a:lnTo>
                    <a:pt x="4" y="679"/>
                  </a:lnTo>
                  <a:lnTo>
                    <a:pt x="4" y="680"/>
                  </a:lnTo>
                  <a:lnTo>
                    <a:pt x="5" y="680"/>
                  </a:lnTo>
                  <a:lnTo>
                    <a:pt x="5" y="680"/>
                  </a:lnTo>
                  <a:close/>
                  <a:moveTo>
                    <a:pt x="5" y="733"/>
                  </a:moveTo>
                  <a:lnTo>
                    <a:pt x="5" y="763"/>
                  </a:lnTo>
                  <a:lnTo>
                    <a:pt x="4" y="764"/>
                  </a:lnTo>
                  <a:lnTo>
                    <a:pt x="4" y="764"/>
                  </a:lnTo>
                  <a:lnTo>
                    <a:pt x="2" y="766"/>
                  </a:lnTo>
                  <a:lnTo>
                    <a:pt x="1" y="764"/>
                  </a:lnTo>
                  <a:lnTo>
                    <a:pt x="0" y="764"/>
                  </a:lnTo>
                  <a:lnTo>
                    <a:pt x="0" y="763"/>
                  </a:lnTo>
                  <a:lnTo>
                    <a:pt x="0" y="733"/>
                  </a:lnTo>
                  <a:lnTo>
                    <a:pt x="0" y="732"/>
                  </a:lnTo>
                  <a:lnTo>
                    <a:pt x="1" y="732"/>
                  </a:lnTo>
                  <a:lnTo>
                    <a:pt x="1" y="730"/>
                  </a:lnTo>
                  <a:lnTo>
                    <a:pt x="2" y="730"/>
                  </a:lnTo>
                  <a:lnTo>
                    <a:pt x="4" y="730"/>
                  </a:lnTo>
                  <a:lnTo>
                    <a:pt x="4" y="732"/>
                  </a:lnTo>
                  <a:lnTo>
                    <a:pt x="4" y="732"/>
                  </a:lnTo>
                  <a:lnTo>
                    <a:pt x="5" y="733"/>
                  </a:lnTo>
                  <a:lnTo>
                    <a:pt x="5" y="733"/>
                  </a:lnTo>
                  <a:close/>
                  <a:moveTo>
                    <a:pt x="5" y="785"/>
                  </a:moveTo>
                  <a:lnTo>
                    <a:pt x="5" y="816"/>
                  </a:lnTo>
                  <a:lnTo>
                    <a:pt x="4" y="816"/>
                  </a:lnTo>
                  <a:lnTo>
                    <a:pt x="4" y="817"/>
                  </a:lnTo>
                  <a:lnTo>
                    <a:pt x="2" y="817"/>
                  </a:lnTo>
                  <a:lnTo>
                    <a:pt x="1" y="817"/>
                  </a:lnTo>
                  <a:lnTo>
                    <a:pt x="0" y="816"/>
                  </a:lnTo>
                  <a:lnTo>
                    <a:pt x="0" y="816"/>
                  </a:lnTo>
                  <a:lnTo>
                    <a:pt x="0" y="785"/>
                  </a:lnTo>
                  <a:lnTo>
                    <a:pt x="0" y="783"/>
                  </a:lnTo>
                  <a:lnTo>
                    <a:pt x="1" y="783"/>
                  </a:lnTo>
                  <a:lnTo>
                    <a:pt x="2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5" y="785"/>
                  </a:lnTo>
                  <a:lnTo>
                    <a:pt x="5" y="785"/>
                  </a:lnTo>
                  <a:close/>
                  <a:moveTo>
                    <a:pt x="5" y="838"/>
                  </a:moveTo>
                  <a:lnTo>
                    <a:pt x="5" y="868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2" y="870"/>
                  </a:lnTo>
                  <a:lnTo>
                    <a:pt x="1" y="869"/>
                  </a:lnTo>
                  <a:lnTo>
                    <a:pt x="1" y="869"/>
                  </a:lnTo>
                  <a:lnTo>
                    <a:pt x="0" y="869"/>
                  </a:lnTo>
                  <a:lnTo>
                    <a:pt x="0" y="868"/>
                  </a:lnTo>
                  <a:lnTo>
                    <a:pt x="0" y="838"/>
                  </a:lnTo>
                  <a:lnTo>
                    <a:pt x="0" y="836"/>
                  </a:lnTo>
                  <a:lnTo>
                    <a:pt x="1" y="835"/>
                  </a:lnTo>
                  <a:lnTo>
                    <a:pt x="1" y="835"/>
                  </a:lnTo>
                  <a:lnTo>
                    <a:pt x="2" y="835"/>
                  </a:lnTo>
                  <a:lnTo>
                    <a:pt x="4" y="835"/>
                  </a:lnTo>
                  <a:lnTo>
                    <a:pt x="4" y="835"/>
                  </a:lnTo>
                  <a:lnTo>
                    <a:pt x="4" y="836"/>
                  </a:lnTo>
                  <a:lnTo>
                    <a:pt x="5" y="838"/>
                  </a:lnTo>
                  <a:lnTo>
                    <a:pt x="5" y="838"/>
                  </a:lnTo>
                  <a:close/>
                  <a:moveTo>
                    <a:pt x="5" y="889"/>
                  </a:moveTo>
                  <a:lnTo>
                    <a:pt x="5" y="919"/>
                  </a:lnTo>
                  <a:lnTo>
                    <a:pt x="4" y="921"/>
                  </a:lnTo>
                  <a:lnTo>
                    <a:pt x="4" y="921"/>
                  </a:lnTo>
                  <a:lnTo>
                    <a:pt x="4" y="922"/>
                  </a:lnTo>
                  <a:lnTo>
                    <a:pt x="2" y="922"/>
                  </a:lnTo>
                  <a:lnTo>
                    <a:pt x="1" y="922"/>
                  </a:lnTo>
                  <a:lnTo>
                    <a:pt x="1" y="921"/>
                  </a:lnTo>
                  <a:lnTo>
                    <a:pt x="0" y="921"/>
                  </a:lnTo>
                  <a:lnTo>
                    <a:pt x="0" y="919"/>
                  </a:lnTo>
                  <a:lnTo>
                    <a:pt x="0" y="889"/>
                  </a:lnTo>
                  <a:lnTo>
                    <a:pt x="0" y="888"/>
                  </a:lnTo>
                  <a:lnTo>
                    <a:pt x="1" y="888"/>
                  </a:lnTo>
                  <a:lnTo>
                    <a:pt x="1" y="887"/>
                  </a:lnTo>
                  <a:lnTo>
                    <a:pt x="2" y="887"/>
                  </a:lnTo>
                  <a:lnTo>
                    <a:pt x="4" y="887"/>
                  </a:lnTo>
                  <a:lnTo>
                    <a:pt x="4" y="888"/>
                  </a:lnTo>
                  <a:lnTo>
                    <a:pt x="4" y="888"/>
                  </a:lnTo>
                  <a:lnTo>
                    <a:pt x="5" y="889"/>
                  </a:lnTo>
                  <a:lnTo>
                    <a:pt x="5" y="889"/>
                  </a:lnTo>
                  <a:close/>
                  <a:moveTo>
                    <a:pt x="5" y="941"/>
                  </a:moveTo>
                  <a:lnTo>
                    <a:pt x="5" y="972"/>
                  </a:lnTo>
                  <a:lnTo>
                    <a:pt x="4" y="972"/>
                  </a:lnTo>
                  <a:lnTo>
                    <a:pt x="4" y="974"/>
                  </a:lnTo>
                  <a:lnTo>
                    <a:pt x="4" y="974"/>
                  </a:lnTo>
                  <a:lnTo>
                    <a:pt x="2" y="974"/>
                  </a:lnTo>
                  <a:lnTo>
                    <a:pt x="1" y="974"/>
                  </a:lnTo>
                  <a:lnTo>
                    <a:pt x="1" y="974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41"/>
                  </a:lnTo>
                  <a:lnTo>
                    <a:pt x="0" y="941"/>
                  </a:lnTo>
                  <a:lnTo>
                    <a:pt x="1" y="940"/>
                  </a:lnTo>
                  <a:lnTo>
                    <a:pt x="1" y="940"/>
                  </a:lnTo>
                  <a:lnTo>
                    <a:pt x="2" y="940"/>
                  </a:lnTo>
                  <a:lnTo>
                    <a:pt x="4" y="940"/>
                  </a:lnTo>
                  <a:lnTo>
                    <a:pt x="4" y="940"/>
                  </a:lnTo>
                  <a:lnTo>
                    <a:pt x="4" y="941"/>
                  </a:lnTo>
                  <a:lnTo>
                    <a:pt x="5" y="941"/>
                  </a:lnTo>
                  <a:lnTo>
                    <a:pt x="5" y="941"/>
                  </a:lnTo>
                  <a:close/>
                  <a:moveTo>
                    <a:pt x="5" y="994"/>
                  </a:moveTo>
                  <a:lnTo>
                    <a:pt x="5" y="1024"/>
                  </a:lnTo>
                  <a:lnTo>
                    <a:pt x="4" y="1025"/>
                  </a:lnTo>
                  <a:lnTo>
                    <a:pt x="4" y="1025"/>
                  </a:lnTo>
                  <a:lnTo>
                    <a:pt x="2" y="1027"/>
                  </a:lnTo>
                  <a:lnTo>
                    <a:pt x="1" y="1025"/>
                  </a:lnTo>
                  <a:lnTo>
                    <a:pt x="0" y="1025"/>
                  </a:lnTo>
                  <a:lnTo>
                    <a:pt x="0" y="1024"/>
                  </a:lnTo>
                  <a:lnTo>
                    <a:pt x="0" y="994"/>
                  </a:lnTo>
                  <a:lnTo>
                    <a:pt x="0" y="993"/>
                  </a:lnTo>
                  <a:lnTo>
                    <a:pt x="1" y="993"/>
                  </a:lnTo>
                  <a:lnTo>
                    <a:pt x="1" y="991"/>
                  </a:lnTo>
                  <a:lnTo>
                    <a:pt x="2" y="991"/>
                  </a:lnTo>
                  <a:lnTo>
                    <a:pt x="4" y="991"/>
                  </a:lnTo>
                  <a:lnTo>
                    <a:pt x="4" y="993"/>
                  </a:lnTo>
                  <a:lnTo>
                    <a:pt x="4" y="993"/>
                  </a:lnTo>
                  <a:lnTo>
                    <a:pt x="5" y="994"/>
                  </a:lnTo>
                  <a:lnTo>
                    <a:pt x="5" y="994"/>
                  </a:lnTo>
                  <a:close/>
                  <a:moveTo>
                    <a:pt x="5" y="1046"/>
                  </a:moveTo>
                  <a:lnTo>
                    <a:pt x="5" y="1077"/>
                  </a:lnTo>
                  <a:lnTo>
                    <a:pt x="4" y="1077"/>
                  </a:lnTo>
                  <a:lnTo>
                    <a:pt x="4" y="1079"/>
                  </a:lnTo>
                  <a:lnTo>
                    <a:pt x="2" y="1079"/>
                  </a:lnTo>
                  <a:lnTo>
                    <a:pt x="1" y="1079"/>
                  </a:lnTo>
                  <a:lnTo>
                    <a:pt x="0" y="1077"/>
                  </a:lnTo>
                  <a:lnTo>
                    <a:pt x="0" y="1077"/>
                  </a:lnTo>
                  <a:lnTo>
                    <a:pt x="0" y="1046"/>
                  </a:lnTo>
                  <a:lnTo>
                    <a:pt x="0" y="1045"/>
                  </a:lnTo>
                  <a:lnTo>
                    <a:pt x="1" y="1045"/>
                  </a:lnTo>
                  <a:lnTo>
                    <a:pt x="2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5" y="1046"/>
                  </a:lnTo>
                  <a:lnTo>
                    <a:pt x="5" y="1046"/>
                  </a:lnTo>
                  <a:close/>
                  <a:moveTo>
                    <a:pt x="5" y="1099"/>
                  </a:moveTo>
                  <a:lnTo>
                    <a:pt x="5" y="1129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2" y="1132"/>
                  </a:lnTo>
                  <a:lnTo>
                    <a:pt x="1" y="1130"/>
                  </a:lnTo>
                  <a:lnTo>
                    <a:pt x="1" y="1130"/>
                  </a:lnTo>
                  <a:lnTo>
                    <a:pt x="0" y="1130"/>
                  </a:lnTo>
                  <a:lnTo>
                    <a:pt x="0" y="1129"/>
                  </a:lnTo>
                  <a:lnTo>
                    <a:pt x="0" y="1099"/>
                  </a:lnTo>
                  <a:lnTo>
                    <a:pt x="0" y="1098"/>
                  </a:lnTo>
                  <a:lnTo>
                    <a:pt x="1" y="1096"/>
                  </a:lnTo>
                  <a:lnTo>
                    <a:pt x="1" y="1096"/>
                  </a:lnTo>
                  <a:lnTo>
                    <a:pt x="2" y="1096"/>
                  </a:lnTo>
                  <a:lnTo>
                    <a:pt x="4" y="1096"/>
                  </a:lnTo>
                  <a:lnTo>
                    <a:pt x="4" y="1096"/>
                  </a:lnTo>
                  <a:lnTo>
                    <a:pt x="4" y="1098"/>
                  </a:lnTo>
                  <a:lnTo>
                    <a:pt x="5" y="1099"/>
                  </a:lnTo>
                  <a:lnTo>
                    <a:pt x="5" y="1099"/>
                  </a:lnTo>
                  <a:close/>
                  <a:moveTo>
                    <a:pt x="5" y="1151"/>
                  </a:moveTo>
                  <a:lnTo>
                    <a:pt x="5" y="1181"/>
                  </a:lnTo>
                  <a:lnTo>
                    <a:pt x="4" y="1182"/>
                  </a:lnTo>
                  <a:lnTo>
                    <a:pt x="4" y="1182"/>
                  </a:lnTo>
                  <a:lnTo>
                    <a:pt x="4" y="1183"/>
                  </a:lnTo>
                  <a:lnTo>
                    <a:pt x="2" y="1183"/>
                  </a:lnTo>
                  <a:lnTo>
                    <a:pt x="1" y="1183"/>
                  </a:lnTo>
                  <a:lnTo>
                    <a:pt x="1" y="1182"/>
                  </a:lnTo>
                  <a:lnTo>
                    <a:pt x="0" y="1182"/>
                  </a:lnTo>
                  <a:lnTo>
                    <a:pt x="0" y="1181"/>
                  </a:lnTo>
                  <a:lnTo>
                    <a:pt x="0" y="1151"/>
                  </a:lnTo>
                  <a:lnTo>
                    <a:pt x="0" y="1149"/>
                  </a:lnTo>
                  <a:lnTo>
                    <a:pt x="1" y="1149"/>
                  </a:lnTo>
                  <a:lnTo>
                    <a:pt x="1" y="1148"/>
                  </a:lnTo>
                  <a:lnTo>
                    <a:pt x="2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4" y="1149"/>
                  </a:lnTo>
                  <a:lnTo>
                    <a:pt x="5" y="1151"/>
                  </a:lnTo>
                  <a:lnTo>
                    <a:pt x="5" y="1151"/>
                  </a:lnTo>
                  <a:close/>
                  <a:moveTo>
                    <a:pt x="5" y="1202"/>
                  </a:moveTo>
                  <a:lnTo>
                    <a:pt x="5" y="1234"/>
                  </a:lnTo>
                  <a:lnTo>
                    <a:pt x="4" y="1234"/>
                  </a:lnTo>
                  <a:lnTo>
                    <a:pt x="4" y="1235"/>
                  </a:lnTo>
                  <a:lnTo>
                    <a:pt x="4" y="1235"/>
                  </a:lnTo>
                  <a:lnTo>
                    <a:pt x="2" y="1235"/>
                  </a:lnTo>
                  <a:lnTo>
                    <a:pt x="1" y="1235"/>
                  </a:lnTo>
                  <a:lnTo>
                    <a:pt x="1" y="1235"/>
                  </a:lnTo>
                  <a:lnTo>
                    <a:pt x="0" y="1234"/>
                  </a:lnTo>
                  <a:lnTo>
                    <a:pt x="0" y="1234"/>
                  </a:lnTo>
                  <a:lnTo>
                    <a:pt x="0" y="1202"/>
                  </a:lnTo>
                  <a:lnTo>
                    <a:pt x="0" y="1202"/>
                  </a:lnTo>
                  <a:lnTo>
                    <a:pt x="1" y="1201"/>
                  </a:lnTo>
                  <a:lnTo>
                    <a:pt x="1" y="1201"/>
                  </a:lnTo>
                  <a:lnTo>
                    <a:pt x="2" y="1201"/>
                  </a:lnTo>
                  <a:lnTo>
                    <a:pt x="4" y="1201"/>
                  </a:lnTo>
                  <a:lnTo>
                    <a:pt x="4" y="1201"/>
                  </a:lnTo>
                  <a:lnTo>
                    <a:pt x="4" y="1202"/>
                  </a:lnTo>
                  <a:lnTo>
                    <a:pt x="5" y="1202"/>
                  </a:lnTo>
                  <a:lnTo>
                    <a:pt x="5" y="1202"/>
                  </a:lnTo>
                  <a:close/>
                  <a:moveTo>
                    <a:pt x="5" y="1255"/>
                  </a:moveTo>
                  <a:lnTo>
                    <a:pt x="5" y="1285"/>
                  </a:lnTo>
                  <a:lnTo>
                    <a:pt x="4" y="1287"/>
                  </a:lnTo>
                  <a:lnTo>
                    <a:pt x="4" y="1287"/>
                  </a:lnTo>
                  <a:lnTo>
                    <a:pt x="2" y="1288"/>
                  </a:lnTo>
                  <a:lnTo>
                    <a:pt x="1" y="1287"/>
                  </a:lnTo>
                  <a:lnTo>
                    <a:pt x="0" y="1287"/>
                  </a:lnTo>
                  <a:lnTo>
                    <a:pt x="0" y="1285"/>
                  </a:lnTo>
                  <a:lnTo>
                    <a:pt x="0" y="1255"/>
                  </a:lnTo>
                  <a:lnTo>
                    <a:pt x="0" y="1254"/>
                  </a:lnTo>
                  <a:lnTo>
                    <a:pt x="1" y="1254"/>
                  </a:lnTo>
                  <a:lnTo>
                    <a:pt x="1" y="1253"/>
                  </a:lnTo>
                  <a:lnTo>
                    <a:pt x="2" y="1253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4" y="1254"/>
                  </a:lnTo>
                  <a:lnTo>
                    <a:pt x="5" y="1255"/>
                  </a:lnTo>
                  <a:lnTo>
                    <a:pt x="5" y="1255"/>
                  </a:lnTo>
                  <a:close/>
                  <a:moveTo>
                    <a:pt x="5" y="1307"/>
                  </a:moveTo>
                  <a:lnTo>
                    <a:pt x="5" y="1338"/>
                  </a:lnTo>
                  <a:lnTo>
                    <a:pt x="4" y="1338"/>
                  </a:lnTo>
                  <a:lnTo>
                    <a:pt x="4" y="1340"/>
                  </a:lnTo>
                  <a:lnTo>
                    <a:pt x="2" y="1340"/>
                  </a:lnTo>
                  <a:lnTo>
                    <a:pt x="1" y="1340"/>
                  </a:lnTo>
                  <a:lnTo>
                    <a:pt x="0" y="1338"/>
                  </a:lnTo>
                  <a:lnTo>
                    <a:pt x="0" y="1338"/>
                  </a:lnTo>
                  <a:lnTo>
                    <a:pt x="0" y="1307"/>
                  </a:lnTo>
                  <a:lnTo>
                    <a:pt x="0" y="1306"/>
                  </a:lnTo>
                  <a:lnTo>
                    <a:pt x="1" y="1306"/>
                  </a:lnTo>
                  <a:lnTo>
                    <a:pt x="2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5" y="1307"/>
                  </a:lnTo>
                  <a:lnTo>
                    <a:pt x="5" y="1307"/>
                  </a:lnTo>
                  <a:close/>
                  <a:moveTo>
                    <a:pt x="5" y="1360"/>
                  </a:moveTo>
                  <a:lnTo>
                    <a:pt x="5" y="1390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2" y="1393"/>
                  </a:lnTo>
                  <a:lnTo>
                    <a:pt x="1" y="1391"/>
                  </a:lnTo>
                  <a:lnTo>
                    <a:pt x="1" y="1391"/>
                  </a:lnTo>
                  <a:lnTo>
                    <a:pt x="0" y="1391"/>
                  </a:lnTo>
                  <a:lnTo>
                    <a:pt x="0" y="1390"/>
                  </a:lnTo>
                  <a:lnTo>
                    <a:pt x="0" y="1360"/>
                  </a:lnTo>
                  <a:lnTo>
                    <a:pt x="0" y="1359"/>
                  </a:lnTo>
                  <a:lnTo>
                    <a:pt x="1" y="1357"/>
                  </a:lnTo>
                  <a:lnTo>
                    <a:pt x="1" y="1357"/>
                  </a:lnTo>
                  <a:lnTo>
                    <a:pt x="2" y="1357"/>
                  </a:lnTo>
                  <a:lnTo>
                    <a:pt x="4" y="1357"/>
                  </a:lnTo>
                  <a:lnTo>
                    <a:pt x="4" y="1357"/>
                  </a:lnTo>
                  <a:lnTo>
                    <a:pt x="4" y="1359"/>
                  </a:lnTo>
                  <a:lnTo>
                    <a:pt x="5" y="1360"/>
                  </a:lnTo>
                  <a:lnTo>
                    <a:pt x="5" y="1360"/>
                  </a:lnTo>
                  <a:close/>
                  <a:moveTo>
                    <a:pt x="5" y="1412"/>
                  </a:moveTo>
                  <a:lnTo>
                    <a:pt x="5" y="1442"/>
                  </a:lnTo>
                  <a:lnTo>
                    <a:pt x="4" y="1443"/>
                  </a:lnTo>
                  <a:lnTo>
                    <a:pt x="4" y="1443"/>
                  </a:lnTo>
                  <a:lnTo>
                    <a:pt x="4" y="1444"/>
                  </a:lnTo>
                  <a:lnTo>
                    <a:pt x="2" y="1444"/>
                  </a:lnTo>
                  <a:lnTo>
                    <a:pt x="1" y="1444"/>
                  </a:lnTo>
                  <a:lnTo>
                    <a:pt x="1" y="1443"/>
                  </a:lnTo>
                  <a:lnTo>
                    <a:pt x="0" y="1443"/>
                  </a:lnTo>
                  <a:lnTo>
                    <a:pt x="0" y="1442"/>
                  </a:lnTo>
                  <a:lnTo>
                    <a:pt x="0" y="1412"/>
                  </a:lnTo>
                  <a:lnTo>
                    <a:pt x="0" y="1410"/>
                  </a:lnTo>
                  <a:lnTo>
                    <a:pt x="1" y="1410"/>
                  </a:lnTo>
                  <a:lnTo>
                    <a:pt x="1" y="1409"/>
                  </a:lnTo>
                  <a:lnTo>
                    <a:pt x="2" y="1409"/>
                  </a:lnTo>
                  <a:lnTo>
                    <a:pt x="4" y="1409"/>
                  </a:lnTo>
                  <a:lnTo>
                    <a:pt x="4" y="1410"/>
                  </a:lnTo>
                  <a:lnTo>
                    <a:pt x="4" y="1410"/>
                  </a:lnTo>
                  <a:lnTo>
                    <a:pt x="5" y="1412"/>
                  </a:lnTo>
                  <a:lnTo>
                    <a:pt x="5" y="1412"/>
                  </a:lnTo>
                  <a:close/>
                  <a:moveTo>
                    <a:pt x="5" y="1463"/>
                  </a:moveTo>
                  <a:lnTo>
                    <a:pt x="5" y="1495"/>
                  </a:lnTo>
                  <a:lnTo>
                    <a:pt x="4" y="1495"/>
                  </a:lnTo>
                  <a:lnTo>
                    <a:pt x="4" y="1496"/>
                  </a:lnTo>
                  <a:lnTo>
                    <a:pt x="4" y="1496"/>
                  </a:lnTo>
                  <a:lnTo>
                    <a:pt x="2" y="1496"/>
                  </a:lnTo>
                  <a:lnTo>
                    <a:pt x="1" y="1496"/>
                  </a:lnTo>
                  <a:lnTo>
                    <a:pt x="1" y="1496"/>
                  </a:lnTo>
                  <a:lnTo>
                    <a:pt x="0" y="1495"/>
                  </a:lnTo>
                  <a:lnTo>
                    <a:pt x="0" y="1495"/>
                  </a:lnTo>
                  <a:lnTo>
                    <a:pt x="0" y="1463"/>
                  </a:lnTo>
                  <a:lnTo>
                    <a:pt x="0" y="1463"/>
                  </a:lnTo>
                  <a:lnTo>
                    <a:pt x="1" y="1462"/>
                  </a:lnTo>
                  <a:lnTo>
                    <a:pt x="1" y="1462"/>
                  </a:lnTo>
                  <a:lnTo>
                    <a:pt x="2" y="1462"/>
                  </a:lnTo>
                  <a:lnTo>
                    <a:pt x="4" y="1462"/>
                  </a:lnTo>
                  <a:lnTo>
                    <a:pt x="4" y="1462"/>
                  </a:lnTo>
                  <a:lnTo>
                    <a:pt x="4" y="1463"/>
                  </a:lnTo>
                  <a:lnTo>
                    <a:pt x="5" y="1463"/>
                  </a:lnTo>
                  <a:lnTo>
                    <a:pt x="5" y="1463"/>
                  </a:lnTo>
                  <a:close/>
                  <a:moveTo>
                    <a:pt x="5" y="1516"/>
                  </a:moveTo>
                  <a:lnTo>
                    <a:pt x="5" y="1546"/>
                  </a:lnTo>
                  <a:lnTo>
                    <a:pt x="4" y="1548"/>
                  </a:lnTo>
                  <a:lnTo>
                    <a:pt x="4" y="1548"/>
                  </a:lnTo>
                  <a:lnTo>
                    <a:pt x="2" y="1549"/>
                  </a:lnTo>
                  <a:lnTo>
                    <a:pt x="1" y="1548"/>
                  </a:lnTo>
                  <a:lnTo>
                    <a:pt x="0" y="1548"/>
                  </a:lnTo>
                  <a:lnTo>
                    <a:pt x="0" y="1546"/>
                  </a:lnTo>
                  <a:lnTo>
                    <a:pt x="0" y="1516"/>
                  </a:lnTo>
                  <a:lnTo>
                    <a:pt x="0" y="1515"/>
                  </a:lnTo>
                  <a:lnTo>
                    <a:pt x="1" y="1515"/>
                  </a:lnTo>
                  <a:lnTo>
                    <a:pt x="1" y="1514"/>
                  </a:lnTo>
                  <a:lnTo>
                    <a:pt x="2" y="1514"/>
                  </a:lnTo>
                  <a:lnTo>
                    <a:pt x="4" y="1514"/>
                  </a:lnTo>
                  <a:lnTo>
                    <a:pt x="4" y="1515"/>
                  </a:lnTo>
                  <a:lnTo>
                    <a:pt x="4" y="1515"/>
                  </a:lnTo>
                  <a:lnTo>
                    <a:pt x="5" y="1516"/>
                  </a:lnTo>
                  <a:lnTo>
                    <a:pt x="5" y="1516"/>
                  </a:lnTo>
                  <a:close/>
                  <a:moveTo>
                    <a:pt x="5" y="1568"/>
                  </a:moveTo>
                  <a:lnTo>
                    <a:pt x="5" y="1599"/>
                  </a:lnTo>
                  <a:lnTo>
                    <a:pt x="4" y="1599"/>
                  </a:lnTo>
                  <a:lnTo>
                    <a:pt x="4" y="1601"/>
                  </a:lnTo>
                  <a:lnTo>
                    <a:pt x="2" y="1601"/>
                  </a:lnTo>
                  <a:lnTo>
                    <a:pt x="1" y="1601"/>
                  </a:lnTo>
                  <a:lnTo>
                    <a:pt x="0" y="1599"/>
                  </a:lnTo>
                  <a:lnTo>
                    <a:pt x="0" y="1599"/>
                  </a:lnTo>
                  <a:lnTo>
                    <a:pt x="0" y="1568"/>
                  </a:lnTo>
                  <a:lnTo>
                    <a:pt x="0" y="1567"/>
                  </a:lnTo>
                  <a:lnTo>
                    <a:pt x="1" y="1567"/>
                  </a:lnTo>
                  <a:lnTo>
                    <a:pt x="2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5" y="1568"/>
                  </a:lnTo>
                  <a:lnTo>
                    <a:pt x="5" y="1568"/>
                  </a:lnTo>
                  <a:close/>
                  <a:moveTo>
                    <a:pt x="5" y="1621"/>
                  </a:moveTo>
                  <a:lnTo>
                    <a:pt x="5" y="1651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2" y="1654"/>
                  </a:lnTo>
                  <a:lnTo>
                    <a:pt x="1" y="1652"/>
                  </a:lnTo>
                  <a:lnTo>
                    <a:pt x="1" y="1652"/>
                  </a:lnTo>
                  <a:lnTo>
                    <a:pt x="0" y="1652"/>
                  </a:lnTo>
                  <a:lnTo>
                    <a:pt x="0" y="1651"/>
                  </a:lnTo>
                  <a:lnTo>
                    <a:pt x="0" y="1621"/>
                  </a:lnTo>
                  <a:lnTo>
                    <a:pt x="0" y="1620"/>
                  </a:lnTo>
                  <a:lnTo>
                    <a:pt x="1" y="1618"/>
                  </a:lnTo>
                  <a:lnTo>
                    <a:pt x="1" y="1618"/>
                  </a:lnTo>
                  <a:lnTo>
                    <a:pt x="2" y="1618"/>
                  </a:lnTo>
                  <a:lnTo>
                    <a:pt x="4" y="1618"/>
                  </a:lnTo>
                  <a:lnTo>
                    <a:pt x="4" y="1618"/>
                  </a:lnTo>
                  <a:lnTo>
                    <a:pt x="4" y="1620"/>
                  </a:lnTo>
                  <a:lnTo>
                    <a:pt x="5" y="1621"/>
                  </a:lnTo>
                  <a:lnTo>
                    <a:pt x="5" y="1621"/>
                  </a:lnTo>
                  <a:close/>
                  <a:moveTo>
                    <a:pt x="5" y="1673"/>
                  </a:moveTo>
                  <a:lnTo>
                    <a:pt x="5" y="1703"/>
                  </a:lnTo>
                  <a:lnTo>
                    <a:pt x="4" y="1704"/>
                  </a:lnTo>
                  <a:lnTo>
                    <a:pt x="4" y="1704"/>
                  </a:lnTo>
                  <a:lnTo>
                    <a:pt x="4" y="1706"/>
                  </a:lnTo>
                  <a:lnTo>
                    <a:pt x="2" y="1706"/>
                  </a:lnTo>
                  <a:lnTo>
                    <a:pt x="1" y="1706"/>
                  </a:lnTo>
                  <a:lnTo>
                    <a:pt x="1" y="1704"/>
                  </a:lnTo>
                  <a:lnTo>
                    <a:pt x="0" y="1704"/>
                  </a:lnTo>
                  <a:lnTo>
                    <a:pt x="0" y="1703"/>
                  </a:lnTo>
                  <a:lnTo>
                    <a:pt x="0" y="1673"/>
                  </a:lnTo>
                  <a:lnTo>
                    <a:pt x="0" y="1672"/>
                  </a:lnTo>
                  <a:lnTo>
                    <a:pt x="1" y="1672"/>
                  </a:lnTo>
                  <a:lnTo>
                    <a:pt x="1" y="1670"/>
                  </a:lnTo>
                  <a:lnTo>
                    <a:pt x="2" y="1670"/>
                  </a:lnTo>
                  <a:lnTo>
                    <a:pt x="4" y="1670"/>
                  </a:lnTo>
                  <a:lnTo>
                    <a:pt x="4" y="1672"/>
                  </a:lnTo>
                  <a:lnTo>
                    <a:pt x="4" y="1672"/>
                  </a:lnTo>
                  <a:lnTo>
                    <a:pt x="5" y="1673"/>
                  </a:lnTo>
                  <a:lnTo>
                    <a:pt x="5" y="1673"/>
                  </a:lnTo>
                  <a:close/>
                  <a:moveTo>
                    <a:pt x="5" y="1725"/>
                  </a:moveTo>
                  <a:lnTo>
                    <a:pt x="5" y="1756"/>
                  </a:lnTo>
                  <a:lnTo>
                    <a:pt x="4" y="1756"/>
                  </a:lnTo>
                  <a:lnTo>
                    <a:pt x="4" y="1757"/>
                  </a:lnTo>
                  <a:lnTo>
                    <a:pt x="4" y="1757"/>
                  </a:lnTo>
                  <a:lnTo>
                    <a:pt x="2" y="1757"/>
                  </a:lnTo>
                  <a:lnTo>
                    <a:pt x="1" y="1757"/>
                  </a:lnTo>
                  <a:lnTo>
                    <a:pt x="1" y="1757"/>
                  </a:lnTo>
                  <a:lnTo>
                    <a:pt x="0" y="1756"/>
                  </a:lnTo>
                  <a:lnTo>
                    <a:pt x="0" y="1756"/>
                  </a:lnTo>
                  <a:lnTo>
                    <a:pt x="0" y="1725"/>
                  </a:lnTo>
                  <a:lnTo>
                    <a:pt x="0" y="1725"/>
                  </a:lnTo>
                  <a:lnTo>
                    <a:pt x="1" y="1723"/>
                  </a:lnTo>
                  <a:lnTo>
                    <a:pt x="1" y="1723"/>
                  </a:lnTo>
                  <a:lnTo>
                    <a:pt x="2" y="1723"/>
                  </a:lnTo>
                  <a:lnTo>
                    <a:pt x="4" y="1723"/>
                  </a:lnTo>
                  <a:lnTo>
                    <a:pt x="4" y="1723"/>
                  </a:lnTo>
                  <a:lnTo>
                    <a:pt x="4" y="1725"/>
                  </a:lnTo>
                  <a:lnTo>
                    <a:pt x="5" y="1725"/>
                  </a:lnTo>
                  <a:lnTo>
                    <a:pt x="5" y="1725"/>
                  </a:lnTo>
                  <a:close/>
                  <a:moveTo>
                    <a:pt x="5" y="1778"/>
                  </a:moveTo>
                  <a:lnTo>
                    <a:pt x="5" y="1808"/>
                  </a:lnTo>
                  <a:lnTo>
                    <a:pt x="4" y="1809"/>
                  </a:lnTo>
                  <a:lnTo>
                    <a:pt x="4" y="1809"/>
                  </a:lnTo>
                  <a:lnTo>
                    <a:pt x="2" y="1810"/>
                  </a:lnTo>
                  <a:lnTo>
                    <a:pt x="1" y="1809"/>
                  </a:lnTo>
                  <a:lnTo>
                    <a:pt x="0" y="1809"/>
                  </a:lnTo>
                  <a:lnTo>
                    <a:pt x="0" y="1808"/>
                  </a:lnTo>
                  <a:lnTo>
                    <a:pt x="0" y="1778"/>
                  </a:lnTo>
                  <a:lnTo>
                    <a:pt x="0" y="1776"/>
                  </a:lnTo>
                  <a:lnTo>
                    <a:pt x="1" y="1776"/>
                  </a:lnTo>
                  <a:lnTo>
                    <a:pt x="1" y="1775"/>
                  </a:lnTo>
                  <a:lnTo>
                    <a:pt x="2" y="1775"/>
                  </a:lnTo>
                  <a:lnTo>
                    <a:pt x="4" y="1775"/>
                  </a:lnTo>
                  <a:lnTo>
                    <a:pt x="4" y="1776"/>
                  </a:lnTo>
                  <a:lnTo>
                    <a:pt x="4" y="1776"/>
                  </a:lnTo>
                  <a:lnTo>
                    <a:pt x="5" y="1778"/>
                  </a:lnTo>
                  <a:lnTo>
                    <a:pt x="5" y="1778"/>
                  </a:lnTo>
                  <a:close/>
                  <a:moveTo>
                    <a:pt x="5" y="1829"/>
                  </a:moveTo>
                  <a:lnTo>
                    <a:pt x="5" y="1861"/>
                  </a:lnTo>
                  <a:lnTo>
                    <a:pt x="4" y="1861"/>
                  </a:lnTo>
                  <a:lnTo>
                    <a:pt x="4" y="1862"/>
                  </a:lnTo>
                  <a:lnTo>
                    <a:pt x="2" y="1862"/>
                  </a:lnTo>
                  <a:lnTo>
                    <a:pt x="1" y="1862"/>
                  </a:lnTo>
                  <a:lnTo>
                    <a:pt x="0" y="1861"/>
                  </a:lnTo>
                  <a:lnTo>
                    <a:pt x="0" y="1861"/>
                  </a:lnTo>
                  <a:lnTo>
                    <a:pt x="0" y="1829"/>
                  </a:lnTo>
                  <a:lnTo>
                    <a:pt x="0" y="1828"/>
                  </a:lnTo>
                  <a:lnTo>
                    <a:pt x="1" y="1828"/>
                  </a:lnTo>
                  <a:lnTo>
                    <a:pt x="2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5" y="1829"/>
                  </a:lnTo>
                  <a:lnTo>
                    <a:pt x="5" y="1829"/>
                  </a:lnTo>
                  <a:close/>
                  <a:moveTo>
                    <a:pt x="5" y="1882"/>
                  </a:moveTo>
                  <a:lnTo>
                    <a:pt x="5" y="1912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2" y="1915"/>
                  </a:lnTo>
                  <a:lnTo>
                    <a:pt x="1" y="1914"/>
                  </a:lnTo>
                  <a:lnTo>
                    <a:pt x="1" y="1914"/>
                  </a:lnTo>
                  <a:lnTo>
                    <a:pt x="0" y="1914"/>
                  </a:lnTo>
                  <a:lnTo>
                    <a:pt x="0" y="1912"/>
                  </a:lnTo>
                  <a:lnTo>
                    <a:pt x="0" y="1882"/>
                  </a:lnTo>
                  <a:lnTo>
                    <a:pt x="0" y="1881"/>
                  </a:lnTo>
                  <a:lnTo>
                    <a:pt x="1" y="1880"/>
                  </a:lnTo>
                  <a:lnTo>
                    <a:pt x="1" y="1880"/>
                  </a:lnTo>
                  <a:lnTo>
                    <a:pt x="2" y="1880"/>
                  </a:lnTo>
                  <a:lnTo>
                    <a:pt x="4" y="1880"/>
                  </a:lnTo>
                  <a:lnTo>
                    <a:pt x="4" y="1880"/>
                  </a:lnTo>
                  <a:lnTo>
                    <a:pt x="4" y="1881"/>
                  </a:lnTo>
                  <a:lnTo>
                    <a:pt x="5" y="1882"/>
                  </a:lnTo>
                  <a:lnTo>
                    <a:pt x="5" y="1882"/>
                  </a:lnTo>
                  <a:close/>
                  <a:moveTo>
                    <a:pt x="5" y="1934"/>
                  </a:moveTo>
                  <a:lnTo>
                    <a:pt x="5" y="1964"/>
                  </a:lnTo>
                  <a:lnTo>
                    <a:pt x="4" y="1965"/>
                  </a:lnTo>
                  <a:lnTo>
                    <a:pt x="4" y="1965"/>
                  </a:lnTo>
                  <a:lnTo>
                    <a:pt x="4" y="1967"/>
                  </a:lnTo>
                  <a:lnTo>
                    <a:pt x="2" y="1967"/>
                  </a:lnTo>
                  <a:lnTo>
                    <a:pt x="1" y="1967"/>
                  </a:lnTo>
                  <a:lnTo>
                    <a:pt x="1" y="1965"/>
                  </a:lnTo>
                  <a:lnTo>
                    <a:pt x="0" y="1965"/>
                  </a:lnTo>
                  <a:lnTo>
                    <a:pt x="0" y="1964"/>
                  </a:lnTo>
                  <a:lnTo>
                    <a:pt x="0" y="1934"/>
                  </a:lnTo>
                  <a:lnTo>
                    <a:pt x="0" y="1933"/>
                  </a:lnTo>
                  <a:lnTo>
                    <a:pt x="1" y="1933"/>
                  </a:lnTo>
                  <a:lnTo>
                    <a:pt x="1" y="1931"/>
                  </a:lnTo>
                  <a:lnTo>
                    <a:pt x="2" y="1931"/>
                  </a:lnTo>
                  <a:lnTo>
                    <a:pt x="4" y="1931"/>
                  </a:lnTo>
                  <a:lnTo>
                    <a:pt x="4" y="1933"/>
                  </a:lnTo>
                  <a:lnTo>
                    <a:pt x="4" y="1933"/>
                  </a:lnTo>
                  <a:lnTo>
                    <a:pt x="5" y="1934"/>
                  </a:lnTo>
                  <a:lnTo>
                    <a:pt x="5" y="1934"/>
                  </a:lnTo>
                  <a:close/>
                  <a:moveTo>
                    <a:pt x="5" y="1986"/>
                  </a:moveTo>
                  <a:lnTo>
                    <a:pt x="5" y="2017"/>
                  </a:lnTo>
                  <a:lnTo>
                    <a:pt x="4" y="2017"/>
                  </a:lnTo>
                  <a:lnTo>
                    <a:pt x="4" y="2018"/>
                  </a:lnTo>
                  <a:lnTo>
                    <a:pt x="4" y="2018"/>
                  </a:lnTo>
                  <a:lnTo>
                    <a:pt x="2" y="2018"/>
                  </a:lnTo>
                  <a:lnTo>
                    <a:pt x="1" y="2018"/>
                  </a:lnTo>
                  <a:lnTo>
                    <a:pt x="1" y="2018"/>
                  </a:lnTo>
                  <a:lnTo>
                    <a:pt x="0" y="2017"/>
                  </a:lnTo>
                  <a:lnTo>
                    <a:pt x="0" y="2017"/>
                  </a:lnTo>
                  <a:lnTo>
                    <a:pt x="0" y="1986"/>
                  </a:lnTo>
                  <a:lnTo>
                    <a:pt x="0" y="1986"/>
                  </a:lnTo>
                  <a:lnTo>
                    <a:pt x="1" y="1984"/>
                  </a:lnTo>
                  <a:lnTo>
                    <a:pt x="1" y="1984"/>
                  </a:lnTo>
                  <a:lnTo>
                    <a:pt x="2" y="1984"/>
                  </a:lnTo>
                  <a:lnTo>
                    <a:pt x="4" y="1984"/>
                  </a:lnTo>
                  <a:lnTo>
                    <a:pt x="4" y="1984"/>
                  </a:lnTo>
                  <a:lnTo>
                    <a:pt x="4" y="1986"/>
                  </a:lnTo>
                  <a:lnTo>
                    <a:pt x="5" y="1986"/>
                  </a:lnTo>
                  <a:lnTo>
                    <a:pt x="5" y="1986"/>
                  </a:lnTo>
                  <a:close/>
                  <a:moveTo>
                    <a:pt x="5" y="2039"/>
                  </a:moveTo>
                  <a:lnTo>
                    <a:pt x="5" y="2069"/>
                  </a:lnTo>
                  <a:lnTo>
                    <a:pt x="4" y="2070"/>
                  </a:lnTo>
                  <a:lnTo>
                    <a:pt x="4" y="2070"/>
                  </a:lnTo>
                  <a:lnTo>
                    <a:pt x="2" y="2071"/>
                  </a:lnTo>
                  <a:lnTo>
                    <a:pt x="1" y="2070"/>
                  </a:lnTo>
                  <a:lnTo>
                    <a:pt x="0" y="2070"/>
                  </a:lnTo>
                  <a:lnTo>
                    <a:pt x="0" y="2069"/>
                  </a:lnTo>
                  <a:lnTo>
                    <a:pt x="0" y="2039"/>
                  </a:lnTo>
                  <a:lnTo>
                    <a:pt x="0" y="2037"/>
                  </a:lnTo>
                  <a:lnTo>
                    <a:pt x="1" y="2037"/>
                  </a:lnTo>
                  <a:lnTo>
                    <a:pt x="1" y="2036"/>
                  </a:lnTo>
                  <a:lnTo>
                    <a:pt x="2" y="2036"/>
                  </a:lnTo>
                  <a:lnTo>
                    <a:pt x="4" y="2036"/>
                  </a:lnTo>
                  <a:lnTo>
                    <a:pt x="4" y="2037"/>
                  </a:lnTo>
                  <a:lnTo>
                    <a:pt x="4" y="2037"/>
                  </a:lnTo>
                  <a:lnTo>
                    <a:pt x="5" y="2039"/>
                  </a:lnTo>
                  <a:lnTo>
                    <a:pt x="5" y="2039"/>
                  </a:lnTo>
                  <a:close/>
                  <a:moveTo>
                    <a:pt x="5" y="2090"/>
                  </a:moveTo>
                  <a:lnTo>
                    <a:pt x="5" y="2122"/>
                  </a:lnTo>
                  <a:lnTo>
                    <a:pt x="4" y="2122"/>
                  </a:lnTo>
                  <a:lnTo>
                    <a:pt x="4" y="2123"/>
                  </a:lnTo>
                  <a:lnTo>
                    <a:pt x="2" y="2123"/>
                  </a:lnTo>
                  <a:lnTo>
                    <a:pt x="1" y="2123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090"/>
                  </a:lnTo>
                  <a:lnTo>
                    <a:pt x="0" y="2089"/>
                  </a:lnTo>
                  <a:lnTo>
                    <a:pt x="1" y="2089"/>
                  </a:lnTo>
                  <a:lnTo>
                    <a:pt x="2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5" y="2090"/>
                  </a:lnTo>
                  <a:lnTo>
                    <a:pt x="5" y="2090"/>
                  </a:lnTo>
                  <a:close/>
                  <a:moveTo>
                    <a:pt x="5" y="2143"/>
                  </a:moveTo>
                  <a:lnTo>
                    <a:pt x="5" y="2173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2" y="2176"/>
                  </a:lnTo>
                  <a:lnTo>
                    <a:pt x="1" y="2175"/>
                  </a:lnTo>
                  <a:lnTo>
                    <a:pt x="1" y="2175"/>
                  </a:lnTo>
                  <a:lnTo>
                    <a:pt x="0" y="2175"/>
                  </a:lnTo>
                  <a:lnTo>
                    <a:pt x="0" y="2173"/>
                  </a:lnTo>
                  <a:lnTo>
                    <a:pt x="0" y="2143"/>
                  </a:lnTo>
                  <a:lnTo>
                    <a:pt x="0" y="2142"/>
                  </a:lnTo>
                  <a:lnTo>
                    <a:pt x="1" y="2141"/>
                  </a:lnTo>
                  <a:lnTo>
                    <a:pt x="1" y="2141"/>
                  </a:lnTo>
                  <a:lnTo>
                    <a:pt x="2" y="2141"/>
                  </a:lnTo>
                  <a:lnTo>
                    <a:pt x="4" y="2141"/>
                  </a:lnTo>
                  <a:lnTo>
                    <a:pt x="4" y="2141"/>
                  </a:lnTo>
                  <a:lnTo>
                    <a:pt x="4" y="2142"/>
                  </a:lnTo>
                  <a:lnTo>
                    <a:pt x="5" y="2143"/>
                  </a:lnTo>
                  <a:lnTo>
                    <a:pt x="5" y="2143"/>
                  </a:lnTo>
                  <a:close/>
                  <a:moveTo>
                    <a:pt x="5" y="2195"/>
                  </a:moveTo>
                  <a:lnTo>
                    <a:pt x="5" y="2225"/>
                  </a:lnTo>
                  <a:lnTo>
                    <a:pt x="4" y="2226"/>
                  </a:lnTo>
                  <a:lnTo>
                    <a:pt x="4" y="2226"/>
                  </a:lnTo>
                  <a:lnTo>
                    <a:pt x="4" y="2228"/>
                  </a:lnTo>
                  <a:lnTo>
                    <a:pt x="2" y="2228"/>
                  </a:lnTo>
                  <a:lnTo>
                    <a:pt x="1" y="2228"/>
                  </a:lnTo>
                  <a:lnTo>
                    <a:pt x="1" y="2226"/>
                  </a:lnTo>
                  <a:lnTo>
                    <a:pt x="0" y="2226"/>
                  </a:lnTo>
                  <a:lnTo>
                    <a:pt x="0" y="2225"/>
                  </a:lnTo>
                  <a:lnTo>
                    <a:pt x="0" y="2195"/>
                  </a:lnTo>
                  <a:lnTo>
                    <a:pt x="0" y="2194"/>
                  </a:lnTo>
                  <a:lnTo>
                    <a:pt x="1" y="2194"/>
                  </a:lnTo>
                  <a:lnTo>
                    <a:pt x="1" y="2192"/>
                  </a:lnTo>
                  <a:lnTo>
                    <a:pt x="2" y="2192"/>
                  </a:lnTo>
                  <a:lnTo>
                    <a:pt x="4" y="2192"/>
                  </a:lnTo>
                  <a:lnTo>
                    <a:pt x="4" y="2194"/>
                  </a:lnTo>
                  <a:lnTo>
                    <a:pt x="4" y="2194"/>
                  </a:lnTo>
                  <a:lnTo>
                    <a:pt x="5" y="2195"/>
                  </a:lnTo>
                  <a:lnTo>
                    <a:pt x="5" y="2195"/>
                  </a:lnTo>
                  <a:close/>
                  <a:moveTo>
                    <a:pt x="5" y="2247"/>
                  </a:moveTo>
                  <a:lnTo>
                    <a:pt x="5" y="2278"/>
                  </a:lnTo>
                  <a:lnTo>
                    <a:pt x="4" y="2278"/>
                  </a:lnTo>
                  <a:lnTo>
                    <a:pt x="4" y="2279"/>
                  </a:lnTo>
                  <a:lnTo>
                    <a:pt x="4" y="2279"/>
                  </a:lnTo>
                  <a:lnTo>
                    <a:pt x="2" y="2279"/>
                  </a:lnTo>
                  <a:lnTo>
                    <a:pt x="1" y="2279"/>
                  </a:lnTo>
                  <a:lnTo>
                    <a:pt x="1" y="2279"/>
                  </a:lnTo>
                  <a:lnTo>
                    <a:pt x="0" y="2278"/>
                  </a:lnTo>
                  <a:lnTo>
                    <a:pt x="0" y="2278"/>
                  </a:lnTo>
                  <a:lnTo>
                    <a:pt x="0" y="2247"/>
                  </a:lnTo>
                  <a:lnTo>
                    <a:pt x="0" y="2247"/>
                  </a:lnTo>
                  <a:lnTo>
                    <a:pt x="1" y="2245"/>
                  </a:lnTo>
                  <a:lnTo>
                    <a:pt x="1" y="2245"/>
                  </a:lnTo>
                  <a:lnTo>
                    <a:pt x="2" y="2245"/>
                  </a:lnTo>
                  <a:lnTo>
                    <a:pt x="4" y="2245"/>
                  </a:lnTo>
                  <a:lnTo>
                    <a:pt x="4" y="2245"/>
                  </a:lnTo>
                  <a:lnTo>
                    <a:pt x="4" y="2247"/>
                  </a:lnTo>
                  <a:lnTo>
                    <a:pt x="5" y="2247"/>
                  </a:lnTo>
                  <a:lnTo>
                    <a:pt x="5" y="2247"/>
                  </a:lnTo>
                  <a:close/>
                  <a:moveTo>
                    <a:pt x="5" y="2300"/>
                  </a:moveTo>
                  <a:lnTo>
                    <a:pt x="5" y="2330"/>
                  </a:lnTo>
                  <a:lnTo>
                    <a:pt x="4" y="2331"/>
                  </a:lnTo>
                  <a:lnTo>
                    <a:pt x="4" y="2331"/>
                  </a:lnTo>
                  <a:lnTo>
                    <a:pt x="2" y="2333"/>
                  </a:lnTo>
                  <a:lnTo>
                    <a:pt x="1" y="2331"/>
                  </a:lnTo>
                  <a:lnTo>
                    <a:pt x="0" y="2331"/>
                  </a:lnTo>
                  <a:lnTo>
                    <a:pt x="0" y="2330"/>
                  </a:lnTo>
                  <a:lnTo>
                    <a:pt x="0" y="2300"/>
                  </a:lnTo>
                  <a:lnTo>
                    <a:pt x="0" y="2299"/>
                  </a:lnTo>
                  <a:lnTo>
                    <a:pt x="1" y="2299"/>
                  </a:lnTo>
                  <a:lnTo>
                    <a:pt x="1" y="2297"/>
                  </a:lnTo>
                  <a:lnTo>
                    <a:pt x="2" y="2297"/>
                  </a:lnTo>
                  <a:lnTo>
                    <a:pt x="4" y="2297"/>
                  </a:lnTo>
                  <a:lnTo>
                    <a:pt x="4" y="2299"/>
                  </a:lnTo>
                  <a:lnTo>
                    <a:pt x="4" y="2299"/>
                  </a:lnTo>
                  <a:lnTo>
                    <a:pt x="5" y="2300"/>
                  </a:lnTo>
                  <a:lnTo>
                    <a:pt x="5" y="2300"/>
                  </a:lnTo>
                  <a:close/>
                  <a:moveTo>
                    <a:pt x="5" y="2352"/>
                  </a:moveTo>
                  <a:lnTo>
                    <a:pt x="5" y="2383"/>
                  </a:lnTo>
                  <a:lnTo>
                    <a:pt x="4" y="2383"/>
                  </a:lnTo>
                  <a:lnTo>
                    <a:pt x="4" y="2384"/>
                  </a:lnTo>
                  <a:lnTo>
                    <a:pt x="2" y="2384"/>
                  </a:lnTo>
                  <a:lnTo>
                    <a:pt x="1" y="2384"/>
                  </a:lnTo>
                  <a:lnTo>
                    <a:pt x="0" y="2383"/>
                  </a:lnTo>
                  <a:lnTo>
                    <a:pt x="0" y="2383"/>
                  </a:lnTo>
                  <a:lnTo>
                    <a:pt x="0" y="2352"/>
                  </a:lnTo>
                  <a:lnTo>
                    <a:pt x="0" y="2350"/>
                  </a:lnTo>
                  <a:lnTo>
                    <a:pt x="1" y="2350"/>
                  </a:lnTo>
                  <a:lnTo>
                    <a:pt x="2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5" y="2352"/>
                  </a:lnTo>
                  <a:lnTo>
                    <a:pt x="5" y="2352"/>
                  </a:lnTo>
                  <a:close/>
                  <a:moveTo>
                    <a:pt x="5" y="2405"/>
                  </a:moveTo>
                  <a:lnTo>
                    <a:pt x="5" y="2435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2" y="2437"/>
                  </a:lnTo>
                  <a:lnTo>
                    <a:pt x="1" y="2436"/>
                  </a:lnTo>
                  <a:lnTo>
                    <a:pt x="1" y="2436"/>
                  </a:lnTo>
                  <a:lnTo>
                    <a:pt x="0" y="2436"/>
                  </a:lnTo>
                  <a:lnTo>
                    <a:pt x="0" y="2435"/>
                  </a:lnTo>
                  <a:lnTo>
                    <a:pt x="0" y="2405"/>
                  </a:lnTo>
                  <a:lnTo>
                    <a:pt x="0" y="2403"/>
                  </a:lnTo>
                  <a:lnTo>
                    <a:pt x="1" y="2402"/>
                  </a:lnTo>
                  <a:lnTo>
                    <a:pt x="1" y="2402"/>
                  </a:lnTo>
                  <a:lnTo>
                    <a:pt x="2" y="2402"/>
                  </a:lnTo>
                  <a:lnTo>
                    <a:pt x="4" y="2402"/>
                  </a:lnTo>
                  <a:lnTo>
                    <a:pt x="4" y="2402"/>
                  </a:lnTo>
                  <a:lnTo>
                    <a:pt x="4" y="2403"/>
                  </a:lnTo>
                  <a:lnTo>
                    <a:pt x="5" y="2405"/>
                  </a:lnTo>
                  <a:lnTo>
                    <a:pt x="5" y="2405"/>
                  </a:lnTo>
                  <a:close/>
                  <a:moveTo>
                    <a:pt x="5" y="2456"/>
                  </a:moveTo>
                  <a:lnTo>
                    <a:pt x="5" y="2486"/>
                  </a:lnTo>
                  <a:lnTo>
                    <a:pt x="4" y="2488"/>
                  </a:lnTo>
                  <a:lnTo>
                    <a:pt x="4" y="2488"/>
                  </a:lnTo>
                  <a:lnTo>
                    <a:pt x="4" y="2489"/>
                  </a:lnTo>
                  <a:lnTo>
                    <a:pt x="2" y="2489"/>
                  </a:lnTo>
                  <a:lnTo>
                    <a:pt x="1" y="2489"/>
                  </a:lnTo>
                  <a:lnTo>
                    <a:pt x="1" y="2488"/>
                  </a:lnTo>
                  <a:lnTo>
                    <a:pt x="0" y="2488"/>
                  </a:lnTo>
                  <a:lnTo>
                    <a:pt x="0" y="2486"/>
                  </a:lnTo>
                  <a:lnTo>
                    <a:pt x="0" y="2456"/>
                  </a:lnTo>
                  <a:lnTo>
                    <a:pt x="0" y="2455"/>
                  </a:lnTo>
                  <a:lnTo>
                    <a:pt x="1" y="2455"/>
                  </a:lnTo>
                  <a:lnTo>
                    <a:pt x="1" y="2454"/>
                  </a:lnTo>
                  <a:lnTo>
                    <a:pt x="2" y="2454"/>
                  </a:lnTo>
                  <a:lnTo>
                    <a:pt x="4" y="2454"/>
                  </a:lnTo>
                  <a:lnTo>
                    <a:pt x="4" y="2455"/>
                  </a:lnTo>
                  <a:lnTo>
                    <a:pt x="4" y="2455"/>
                  </a:lnTo>
                  <a:lnTo>
                    <a:pt x="5" y="2456"/>
                  </a:lnTo>
                  <a:lnTo>
                    <a:pt x="5" y="2456"/>
                  </a:lnTo>
                  <a:close/>
                  <a:moveTo>
                    <a:pt x="5" y="2508"/>
                  </a:moveTo>
                  <a:lnTo>
                    <a:pt x="5" y="2539"/>
                  </a:lnTo>
                  <a:lnTo>
                    <a:pt x="4" y="2539"/>
                  </a:lnTo>
                  <a:lnTo>
                    <a:pt x="4" y="2541"/>
                  </a:lnTo>
                  <a:lnTo>
                    <a:pt x="4" y="2541"/>
                  </a:lnTo>
                  <a:lnTo>
                    <a:pt x="2" y="2541"/>
                  </a:lnTo>
                  <a:lnTo>
                    <a:pt x="1" y="2541"/>
                  </a:lnTo>
                  <a:lnTo>
                    <a:pt x="1" y="2541"/>
                  </a:lnTo>
                  <a:lnTo>
                    <a:pt x="0" y="2539"/>
                  </a:lnTo>
                  <a:lnTo>
                    <a:pt x="0" y="2539"/>
                  </a:lnTo>
                  <a:lnTo>
                    <a:pt x="0" y="2508"/>
                  </a:lnTo>
                  <a:lnTo>
                    <a:pt x="0" y="2508"/>
                  </a:lnTo>
                  <a:lnTo>
                    <a:pt x="1" y="2507"/>
                  </a:lnTo>
                  <a:lnTo>
                    <a:pt x="1" y="2507"/>
                  </a:lnTo>
                  <a:lnTo>
                    <a:pt x="2" y="2507"/>
                  </a:lnTo>
                  <a:lnTo>
                    <a:pt x="4" y="2507"/>
                  </a:lnTo>
                  <a:lnTo>
                    <a:pt x="4" y="2507"/>
                  </a:lnTo>
                  <a:lnTo>
                    <a:pt x="4" y="2508"/>
                  </a:lnTo>
                  <a:lnTo>
                    <a:pt x="5" y="2508"/>
                  </a:lnTo>
                  <a:lnTo>
                    <a:pt x="5" y="2508"/>
                  </a:lnTo>
                  <a:close/>
                  <a:moveTo>
                    <a:pt x="5" y="2561"/>
                  </a:moveTo>
                  <a:lnTo>
                    <a:pt x="5" y="2591"/>
                  </a:lnTo>
                  <a:lnTo>
                    <a:pt x="4" y="2592"/>
                  </a:lnTo>
                  <a:lnTo>
                    <a:pt x="4" y="2592"/>
                  </a:lnTo>
                  <a:lnTo>
                    <a:pt x="2" y="2594"/>
                  </a:lnTo>
                  <a:lnTo>
                    <a:pt x="1" y="2592"/>
                  </a:lnTo>
                  <a:lnTo>
                    <a:pt x="0" y="2592"/>
                  </a:lnTo>
                  <a:lnTo>
                    <a:pt x="0" y="2591"/>
                  </a:lnTo>
                  <a:lnTo>
                    <a:pt x="0" y="2561"/>
                  </a:lnTo>
                  <a:lnTo>
                    <a:pt x="0" y="2560"/>
                  </a:lnTo>
                  <a:lnTo>
                    <a:pt x="1" y="2560"/>
                  </a:lnTo>
                  <a:lnTo>
                    <a:pt x="1" y="2558"/>
                  </a:lnTo>
                  <a:lnTo>
                    <a:pt x="2" y="2558"/>
                  </a:lnTo>
                  <a:lnTo>
                    <a:pt x="4" y="2558"/>
                  </a:lnTo>
                  <a:lnTo>
                    <a:pt x="4" y="2560"/>
                  </a:lnTo>
                  <a:lnTo>
                    <a:pt x="4" y="2560"/>
                  </a:lnTo>
                  <a:lnTo>
                    <a:pt x="5" y="2561"/>
                  </a:lnTo>
                  <a:lnTo>
                    <a:pt x="5" y="2561"/>
                  </a:lnTo>
                  <a:close/>
                  <a:moveTo>
                    <a:pt x="5" y="2613"/>
                  </a:moveTo>
                  <a:lnTo>
                    <a:pt x="5" y="2644"/>
                  </a:lnTo>
                  <a:lnTo>
                    <a:pt x="4" y="2644"/>
                  </a:lnTo>
                  <a:lnTo>
                    <a:pt x="4" y="2645"/>
                  </a:lnTo>
                  <a:lnTo>
                    <a:pt x="2" y="2645"/>
                  </a:lnTo>
                  <a:lnTo>
                    <a:pt x="1" y="2645"/>
                  </a:lnTo>
                  <a:lnTo>
                    <a:pt x="0" y="2644"/>
                  </a:lnTo>
                  <a:lnTo>
                    <a:pt x="0" y="2644"/>
                  </a:lnTo>
                  <a:lnTo>
                    <a:pt x="0" y="2613"/>
                  </a:lnTo>
                  <a:lnTo>
                    <a:pt x="0" y="2611"/>
                  </a:lnTo>
                  <a:lnTo>
                    <a:pt x="1" y="2611"/>
                  </a:lnTo>
                  <a:lnTo>
                    <a:pt x="2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5" y="2613"/>
                  </a:lnTo>
                  <a:lnTo>
                    <a:pt x="5" y="2613"/>
                  </a:lnTo>
                  <a:close/>
                  <a:moveTo>
                    <a:pt x="5" y="2666"/>
                  </a:moveTo>
                  <a:lnTo>
                    <a:pt x="5" y="2696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2" y="2698"/>
                  </a:lnTo>
                  <a:lnTo>
                    <a:pt x="1" y="2697"/>
                  </a:lnTo>
                  <a:lnTo>
                    <a:pt x="1" y="2697"/>
                  </a:lnTo>
                  <a:lnTo>
                    <a:pt x="0" y="2697"/>
                  </a:lnTo>
                  <a:lnTo>
                    <a:pt x="0" y="2696"/>
                  </a:lnTo>
                  <a:lnTo>
                    <a:pt x="0" y="2666"/>
                  </a:lnTo>
                  <a:lnTo>
                    <a:pt x="0" y="2664"/>
                  </a:lnTo>
                  <a:lnTo>
                    <a:pt x="1" y="2663"/>
                  </a:lnTo>
                  <a:lnTo>
                    <a:pt x="1" y="2663"/>
                  </a:lnTo>
                  <a:lnTo>
                    <a:pt x="2" y="2663"/>
                  </a:lnTo>
                  <a:lnTo>
                    <a:pt x="4" y="2663"/>
                  </a:lnTo>
                  <a:lnTo>
                    <a:pt x="4" y="2663"/>
                  </a:lnTo>
                  <a:lnTo>
                    <a:pt x="4" y="2664"/>
                  </a:lnTo>
                  <a:lnTo>
                    <a:pt x="5" y="2666"/>
                  </a:lnTo>
                  <a:lnTo>
                    <a:pt x="5" y="2666"/>
                  </a:lnTo>
                  <a:close/>
                  <a:moveTo>
                    <a:pt x="5" y="2717"/>
                  </a:moveTo>
                  <a:lnTo>
                    <a:pt x="5" y="2747"/>
                  </a:lnTo>
                  <a:lnTo>
                    <a:pt x="4" y="2749"/>
                  </a:lnTo>
                  <a:lnTo>
                    <a:pt x="4" y="2749"/>
                  </a:lnTo>
                  <a:lnTo>
                    <a:pt x="4" y="2750"/>
                  </a:lnTo>
                  <a:lnTo>
                    <a:pt x="2" y="2750"/>
                  </a:lnTo>
                  <a:lnTo>
                    <a:pt x="1" y="2750"/>
                  </a:lnTo>
                  <a:lnTo>
                    <a:pt x="1" y="2749"/>
                  </a:lnTo>
                  <a:lnTo>
                    <a:pt x="0" y="2749"/>
                  </a:lnTo>
                  <a:lnTo>
                    <a:pt x="0" y="2747"/>
                  </a:lnTo>
                  <a:lnTo>
                    <a:pt x="0" y="2717"/>
                  </a:lnTo>
                  <a:lnTo>
                    <a:pt x="0" y="2716"/>
                  </a:lnTo>
                  <a:lnTo>
                    <a:pt x="1" y="2716"/>
                  </a:lnTo>
                  <a:lnTo>
                    <a:pt x="1" y="2715"/>
                  </a:lnTo>
                  <a:lnTo>
                    <a:pt x="2" y="2715"/>
                  </a:lnTo>
                  <a:lnTo>
                    <a:pt x="4" y="2715"/>
                  </a:lnTo>
                  <a:lnTo>
                    <a:pt x="4" y="2716"/>
                  </a:lnTo>
                  <a:lnTo>
                    <a:pt x="4" y="2716"/>
                  </a:lnTo>
                  <a:lnTo>
                    <a:pt x="5" y="2717"/>
                  </a:lnTo>
                  <a:lnTo>
                    <a:pt x="5" y="2717"/>
                  </a:lnTo>
                  <a:close/>
                  <a:moveTo>
                    <a:pt x="5" y="2769"/>
                  </a:moveTo>
                  <a:lnTo>
                    <a:pt x="5" y="2800"/>
                  </a:lnTo>
                  <a:lnTo>
                    <a:pt x="4" y="2800"/>
                  </a:lnTo>
                  <a:lnTo>
                    <a:pt x="4" y="2802"/>
                  </a:lnTo>
                  <a:lnTo>
                    <a:pt x="4" y="2802"/>
                  </a:lnTo>
                  <a:lnTo>
                    <a:pt x="2" y="2802"/>
                  </a:lnTo>
                  <a:lnTo>
                    <a:pt x="1" y="2802"/>
                  </a:lnTo>
                  <a:lnTo>
                    <a:pt x="1" y="2802"/>
                  </a:lnTo>
                  <a:lnTo>
                    <a:pt x="0" y="2800"/>
                  </a:lnTo>
                  <a:lnTo>
                    <a:pt x="0" y="2800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1" y="2768"/>
                  </a:lnTo>
                  <a:lnTo>
                    <a:pt x="1" y="2768"/>
                  </a:lnTo>
                  <a:lnTo>
                    <a:pt x="2" y="2768"/>
                  </a:lnTo>
                  <a:lnTo>
                    <a:pt x="4" y="2768"/>
                  </a:lnTo>
                  <a:lnTo>
                    <a:pt x="4" y="2768"/>
                  </a:lnTo>
                  <a:lnTo>
                    <a:pt x="4" y="2769"/>
                  </a:lnTo>
                  <a:lnTo>
                    <a:pt x="5" y="2769"/>
                  </a:lnTo>
                  <a:lnTo>
                    <a:pt x="5" y="2769"/>
                  </a:lnTo>
                  <a:close/>
                  <a:moveTo>
                    <a:pt x="5" y="2822"/>
                  </a:moveTo>
                  <a:lnTo>
                    <a:pt x="5" y="2852"/>
                  </a:lnTo>
                  <a:lnTo>
                    <a:pt x="4" y="2853"/>
                  </a:lnTo>
                  <a:lnTo>
                    <a:pt x="4" y="2853"/>
                  </a:lnTo>
                  <a:lnTo>
                    <a:pt x="2" y="2855"/>
                  </a:lnTo>
                  <a:lnTo>
                    <a:pt x="1" y="2853"/>
                  </a:lnTo>
                  <a:lnTo>
                    <a:pt x="0" y="2853"/>
                  </a:lnTo>
                  <a:lnTo>
                    <a:pt x="0" y="2852"/>
                  </a:lnTo>
                  <a:lnTo>
                    <a:pt x="0" y="2822"/>
                  </a:lnTo>
                  <a:lnTo>
                    <a:pt x="0" y="2821"/>
                  </a:lnTo>
                  <a:lnTo>
                    <a:pt x="1" y="2821"/>
                  </a:lnTo>
                  <a:lnTo>
                    <a:pt x="1" y="2819"/>
                  </a:lnTo>
                  <a:lnTo>
                    <a:pt x="2" y="2819"/>
                  </a:lnTo>
                  <a:lnTo>
                    <a:pt x="4" y="2819"/>
                  </a:lnTo>
                  <a:lnTo>
                    <a:pt x="4" y="2821"/>
                  </a:lnTo>
                  <a:lnTo>
                    <a:pt x="4" y="2821"/>
                  </a:lnTo>
                  <a:lnTo>
                    <a:pt x="5" y="2822"/>
                  </a:lnTo>
                  <a:lnTo>
                    <a:pt x="5" y="2822"/>
                  </a:lnTo>
                  <a:close/>
                  <a:moveTo>
                    <a:pt x="5" y="2874"/>
                  </a:moveTo>
                  <a:lnTo>
                    <a:pt x="5" y="2905"/>
                  </a:lnTo>
                  <a:lnTo>
                    <a:pt x="4" y="2905"/>
                  </a:lnTo>
                  <a:lnTo>
                    <a:pt x="4" y="2906"/>
                  </a:lnTo>
                  <a:lnTo>
                    <a:pt x="2" y="2906"/>
                  </a:lnTo>
                  <a:lnTo>
                    <a:pt x="1" y="2906"/>
                  </a:lnTo>
                  <a:lnTo>
                    <a:pt x="0" y="2905"/>
                  </a:lnTo>
                  <a:lnTo>
                    <a:pt x="0" y="2905"/>
                  </a:lnTo>
                  <a:lnTo>
                    <a:pt x="0" y="2874"/>
                  </a:lnTo>
                  <a:lnTo>
                    <a:pt x="0" y="2872"/>
                  </a:lnTo>
                  <a:lnTo>
                    <a:pt x="1" y="2872"/>
                  </a:lnTo>
                  <a:lnTo>
                    <a:pt x="2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5" y="2874"/>
                  </a:lnTo>
                  <a:lnTo>
                    <a:pt x="5" y="2874"/>
                  </a:lnTo>
                  <a:close/>
                  <a:moveTo>
                    <a:pt x="5" y="2927"/>
                  </a:moveTo>
                  <a:lnTo>
                    <a:pt x="5" y="2957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2" y="2960"/>
                  </a:lnTo>
                  <a:lnTo>
                    <a:pt x="1" y="2958"/>
                  </a:lnTo>
                  <a:lnTo>
                    <a:pt x="1" y="2958"/>
                  </a:lnTo>
                  <a:lnTo>
                    <a:pt x="0" y="2958"/>
                  </a:lnTo>
                  <a:lnTo>
                    <a:pt x="0" y="2957"/>
                  </a:lnTo>
                  <a:lnTo>
                    <a:pt x="0" y="2927"/>
                  </a:lnTo>
                  <a:lnTo>
                    <a:pt x="0" y="2926"/>
                  </a:lnTo>
                  <a:lnTo>
                    <a:pt x="1" y="2924"/>
                  </a:lnTo>
                  <a:lnTo>
                    <a:pt x="1" y="2924"/>
                  </a:lnTo>
                  <a:lnTo>
                    <a:pt x="2" y="2924"/>
                  </a:lnTo>
                  <a:lnTo>
                    <a:pt x="4" y="2924"/>
                  </a:lnTo>
                  <a:lnTo>
                    <a:pt x="4" y="2924"/>
                  </a:lnTo>
                  <a:lnTo>
                    <a:pt x="4" y="2926"/>
                  </a:lnTo>
                  <a:lnTo>
                    <a:pt x="5" y="2927"/>
                  </a:lnTo>
                  <a:lnTo>
                    <a:pt x="5" y="2927"/>
                  </a:lnTo>
                  <a:close/>
                  <a:moveTo>
                    <a:pt x="5" y="2979"/>
                  </a:moveTo>
                  <a:lnTo>
                    <a:pt x="5" y="3008"/>
                  </a:lnTo>
                  <a:lnTo>
                    <a:pt x="4" y="3010"/>
                  </a:lnTo>
                  <a:lnTo>
                    <a:pt x="4" y="3010"/>
                  </a:lnTo>
                  <a:lnTo>
                    <a:pt x="4" y="3011"/>
                  </a:lnTo>
                  <a:lnTo>
                    <a:pt x="2" y="3011"/>
                  </a:lnTo>
                  <a:lnTo>
                    <a:pt x="1" y="3011"/>
                  </a:lnTo>
                  <a:lnTo>
                    <a:pt x="1" y="3010"/>
                  </a:lnTo>
                  <a:lnTo>
                    <a:pt x="0" y="3010"/>
                  </a:lnTo>
                  <a:lnTo>
                    <a:pt x="0" y="3008"/>
                  </a:lnTo>
                  <a:lnTo>
                    <a:pt x="0" y="2979"/>
                  </a:lnTo>
                  <a:lnTo>
                    <a:pt x="0" y="2977"/>
                  </a:lnTo>
                  <a:lnTo>
                    <a:pt x="1" y="2977"/>
                  </a:lnTo>
                  <a:lnTo>
                    <a:pt x="1" y="2976"/>
                  </a:lnTo>
                  <a:lnTo>
                    <a:pt x="2" y="2976"/>
                  </a:lnTo>
                  <a:lnTo>
                    <a:pt x="4" y="2976"/>
                  </a:lnTo>
                  <a:lnTo>
                    <a:pt x="4" y="2977"/>
                  </a:lnTo>
                  <a:lnTo>
                    <a:pt x="4" y="2977"/>
                  </a:lnTo>
                  <a:lnTo>
                    <a:pt x="5" y="2979"/>
                  </a:lnTo>
                  <a:lnTo>
                    <a:pt x="5" y="2979"/>
                  </a:lnTo>
                  <a:close/>
                  <a:moveTo>
                    <a:pt x="5" y="3030"/>
                  </a:moveTo>
                  <a:lnTo>
                    <a:pt x="5" y="3062"/>
                  </a:lnTo>
                  <a:lnTo>
                    <a:pt x="4" y="3062"/>
                  </a:lnTo>
                  <a:lnTo>
                    <a:pt x="4" y="3063"/>
                  </a:lnTo>
                  <a:lnTo>
                    <a:pt x="4" y="3063"/>
                  </a:lnTo>
                  <a:lnTo>
                    <a:pt x="2" y="3063"/>
                  </a:lnTo>
                  <a:lnTo>
                    <a:pt x="1" y="3063"/>
                  </a:lnTo>
                  <a:lnTo>
                    <a:pt x="1" y="3063"/>
                  </a:lnTo>
                  <a:lnTo>
                    <a:pt x="0" y="3062"/>
                  </a:lnTo>
                  <a:lnTo>
                    <a:pt x="0" y="3062"/>
                  </a:lnTo>
                  <a:lnTo>
                    <a:pt x="0" y="3030"/>
                  </a:lnTo>
                  <a:lnTo>
                    <a:pt x="0" y="3030"/>
                  </a:lnTo>
                  <a:lnTo>
                    <a:pt x="1" y="3029"/>
                  </a:lnTo>
                  <a:lnTo>
                    <a:pt x="1" y="3029"/>
                  </a:lnTo>
                  <a:lnTo>
                    <a:pt x="2" y="3029"/>
                  </a:lnTo>
                  <a:lnTo>
                    <a:pt x="4" y="3029"/>
                  </a:lnTo>
                  <a:lnTo>
                    <a:pt x="4" y="3029"/>
                  </a:lnTo>
                  <a:lnTo>
                    <a:pt x="4" y="3030"/>
                  </a:lnTo>
                  <a:lnTo>
                    <a:pt x="5" y="3030"/>
                  </a:lnTo>
                  <a:lnTo>
                    <a:pt x="5" y="3030"/>
                  </a:lnTo>
                  <a:close/>
                  <a:moveTo>
                    <a:pt x="5" y="3083"/>
                  </a:moveTo>
                  <a:lnTo>
                    <a:pt x="5" y="3102"/>
                  </a:lnTo>
                  <a:lnTo>
                    <a:pt x="4" y="3104"/>
                  </a:lnTo>
                  <a:lnTo>
                    <a:pt x="4" y="3104"/>
                  </a:lnTo>
                  <a:lnTo>
                    <a:pt x="2" y="3105"/>
                  </a:lnTo>
                  <a:lnTo>
                    <a:pt x="1" y="3104"/>
                  </a:lnTo>
                  <a:lnTo>
                    <a:pt x="0" y="3104"/>
                  </a:lnTo>
                  <a:lnTo>
                    <a:pt x="0" y="3102"/>
                  </a:lnTo>
                  <a:lnTo>
                    <a:pt x="0" y="3083"/>
                  </a:lnTo>
                  <a:lnTo>
                    <a:pt x="0" y="3082"/>
                  </a:lnTo>
                  <a:lnTo>
                    <a:pt x="1" y="3082"/>
                  </a:lnTo>
                  <a:lnTo>
                    <a:pt x="1" y="3081"/>
                  </a:lnTo>
                  <a:lnTo>
                    <a:pt x="2" y="3081"/>
                  </a:lnTo>
                  <a:lnTo>
                    <a:pt x="4" y="3081"/>
                  </a:lnTo>
                  <a:lnTo>
                    <a:pt x="4" y="3082"/>
                  </a:lnTo>
                  <a:lnTo>
                    <a:pt x="4" y="3082"/>
                  </a:lnTo>
                  <a:lnTo>
                    <a:pt x="5" y="3083"/>
                  </a:lnTo>
                  <a:lnTo>
                    <a:pt x="5" y="30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72440" y="1567080"/>
              <a:ext cx="3960" cy="2595600"/>
            </a:xfrm>
            <a:custGeom>
              <a:avLst/>
              <a:gdLst/>
              <a:ahLst/>
              <a:rect l="l" t="t" r="r" b="b"/>
              <a:pathLst>
                <a:path w="6" h="3105">
                  <a:moveTo>
                    <a:pt x="6" y="1"/>
                  </a:moveTo>
                  <a:lnTo>
                    <a:pt x="6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close/>
                  <a:moveTo>
                    <a:pt x="6" y="54"/>
                  </a:moveTo>
                  <a:lnTo>
                    <a:pt x="6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3" y="87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6" y="54"/>
                  </a:lnTo>
                  <a:lnTo>
                    <a:pt x="6" y="54"/>
                  </a:lnTo>
                  <a:close/>
                  <a:moveTo>
                    <a:pt x="6" y="106"/>
                  </a:moveTo>
                  <a:lnTo>
                    <a:pt x="6" y="136"/>
                  </a:lnTo>
                  <a:lnTo>
                    <a:pt x="4" y="137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3" y="139"/>
                  </a:lnTo>
                  <a:lnTo>
                    <a:pt x="2" y="139"/>
                  </a:lnTo>
                  <a:lnTo>
                    <a:pt x="2" y="139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6" y="106"/>
                  </a:lnTo>
                  <a:lnTo>
                    <a:pt x="6" y="106"/>
                  </a:lnTo>
                  <a:close/>
                  <a:moveTo>
                    <a:pt x="6" y="158"/>
                  </a:moveTo>
                  <a:lnTo>
                    <a:pt x="6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3" y="190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3" y="156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6" y="158"/>
                  </a:lnTo>
                  <a:lnTo>
                    <a:pt x="6" y="158"/>
                  </a:lnTo>
                  <a:close/>
                  <a:moveTo>
                    <a:pt x="6" y="211"/>
                  </a:moveTo>
                  <a:lnTo>
                    <a:pt x="6" y="241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4" y="243"/>
                  </a:lnTo>
                  <a:lnTo>
                    <a:pt x="3" y="243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" y="209"/>
                  </a:lnTo>
                  <a:lnTo>
                    <a:pt x="2" y="208"/>
                  </a:lnTo>
                  <a:lnTo>
                    <a:pt x="3" y="208"/>
                  </a:lnTo>
                  <a:lnTo>
                    <a:pt x="4" y="208"/>
                  </a:lnTo>
                  <a:lnTo>
                    <a:pt x="4" y="209"/>
                  </a:lnTo>
                  <a:lnTo>
                    <a:pt x="4" y="209"/>
                  </a:lnTo>
                  <a:lnTo>
                    <a:pt x="6" y="211"/>
                  </a:lnTo>
                  <a:lnTo>
                    <a:pt x="6" y="211"/>
                  </a:lnTo>
                  <a:close/>
                  <a:moveTo>
                    <a:pt x="6" y="262"/>
                  </a:moveTo>
                  <a:lnTo>
                    <a:pt x="6" y="294"/>
                  </a:lnTo>
                  <a:lnTo>
                    <a:pt x="4" y="294"/>
                  </a:lnTo>
                  <a:lnTo>
                    <a:pt x="4" y="295"/>
                  </a:lnTo>
                  <a:lnTo>
                    <a:pt x="3" y="295"/>
                  </a:lnTo>
                  <a:lnTo>
                    <a:pt x="2" y="295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62"/>
                  </a:lnTo>
                  <a:lnTo>
                    <a:pt x="0" y="261"/>
                  </a:lnTo>
                  <a:lnTo>
                    <a:pt x="2" y="261"/>
                  </a:lnTo>
                  <a:lnTo>
                    <a:pt x="2" y="261"/>
                  </a:lnTo>
                  <a:lnTo>
                    <a:pt x="3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6" y="262"/>
                  </a:lnTo>
                  <a:lnTo>
                    <a:pt x="6" y="262"/>
                  </a:lnTo>
                  <a:close/>
                  <a:moveTo>
                    <a:pt x="6" y="315"/>
                  </a:moveTo>
                  <a:lnTo>
                    <a:pt x="6" y="345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3" y="348"/>
                  </a:lnTo>
                  <a:lnTo>
                    <a:pt x="2" y="347"/>
                  </a:lnTo>
                  <a:lnTo>
                    <a:pt x="2" y="347"/>
                  </a:lnTo>
                  <a:lnTo>
                    <a:pt x="0" y="347"/>
                  </a:lnTo>
                  <a:lnTo>
                    <a:pt x="0" y="345"/>
                  </a:lnTo>
                  <a:lnTo>
                    <a:pt x="0" y="315"/>
                  </a:lnTo>
                  <a:lnTo>
                    <a:pt x="0" y="314"/>
                  </a:lnTo>
                  <a:lnTo>
                    <a:pt x="2" y="313"/>
                  </a:lnTo>
                  <a:lnTo>
                    <a:pt x="2" y="313"/>
                  </a:lnTo>
                  <a:lnTo>
                    <a:pt x="3" y="313"/>
                  </a:lnTo>
                  <a:lnTo>
                    <a:pt x="4" y="313"/>
                  </a:lnTo>
                  <a:lnTo>
                    <a:pt x="4" y="313"/>
                  </a:lnTo>
                  <a:lnTo>
                    <a:pt x="4" y="314"/>
                  </a:lnTo>
                  <a:lnTo>
                    <a:pt x="6" y="315"/>
                  </a:lnTo>
                  <a:lnTo>
                    <a:pt x="6" y="315"/>
                  </a:lnTo>
                  <a:close/>
                  <a:moveTo>
                    <a:pt x="6" y="367"/>
                  </a:moveTo>
                  <a:lnTo>
                    <a:pt x="6" y="397"/>
                  </a:lnTo>
                  <a:lnTo>
                    <a:pt x="4" y="398"/>
                  </a:lnTo>
                  <a:lnTo>
                    <a:pt x="4" y="400"/>
                  </a:lnTo>
                  <a:lnTo>
                    <a:pt x="4" y="400"/>
                  </a:lnTo>
                  <a:lnTo>
                    <a:pt x="3" y="400"/>
                  </a:lnTo>
                  <a:lnTo>
                    <a:pt x="2" y="400"/>
                  </a:lnTo>
                  <a:lnTo>
                    <a:pt x="2" y="400"/>
                  </a:lnTo>
                  <a:lnTo>
                    <a:pt x="0" y="398"/>
                  </a:lnTo>
                  <a:lnTo>
                    <a:pt x="0" y="397"/>
                  </a:lnTo>
                  <a:lnTo>
                    <a:pt x="0" y="367"/>
                  </a:lnTo>
                  <a:lnTo>
                    <a:pt x="0" y="366"/>
                  </a:lnTo>
                  <a:lnTo>
                    <a:pt x="2" y="366"/>
                  </a:lnTo>
                  <a:lnTo>
                    <a:pt x="2" y="364"/>
                  </a:lnTo>
                  <a:lnTo>
                    <a:pt x="3" y="364"/>
                  </a:lnTo>
                  <a:lnTo>
                    <a:pt x="4" y="364"/>
                  </a:lnTo>
                  <a:lnTo>
                    <a:pt x="4" y="366"/>
                  </a:lnTo>
                  <a:lnTo>
                    <a:pt x="4" y="366"/>
                  </a:lnTo>
                  <a:lnTo>
                    <a:pt x="6" y="367"/>
                  </a:lnTo>
                  <a:lnTo>
                    <a:pt x="6" y="367"/>
                  </a:lnTo>
                  <a:close/>
                  <a:moveTo>
                    <a:pt x="6" y="419"/>
                  </a:moveTo>
                  <a:lnTo>
                    <a:pt x="6" y="450"/>
                  </a:lnTo>
                  <a:lnTo>
                    <a:pt x="4" y="450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3" y="452"/>
                  </a:lnTo>
                  <a:lnTo>
                    <a:pt x="2" y="452"/>
                  </a:lnTo>
                  <a:lnTo>
                    <a:pt x="2" y="452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2" y="418"/>
                  </a:lnTo>
                  <a:lnTo>
                    <a:pt x="2" y="418"/>
                  </a:lnTo>
                  <a:lnTo>
                    <a:pt x="3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9"/>
                  </a:lnTo>
                  <a:lnTo>
                    <a:pt x="6" y="419"/>
                  </a:lnTo>
                  <a:lnTo>
                    <a:pt x="6" y="419"/>
                  </a:lnTo>
                  <a:close/>
                  <a:moveTo>
                    <a:pt x="6" y="472"/>
                  </a:moveTo>
                  <a:lnTo>
                    <a:pt x="6" y="502"/>
                  </a:lnTo>
                  <a:lnTo>
                    <a:pt x="4" y="503"/>
                  </a:lnTo>
                  <a:lnTo>
                    <a:pt x="4" y="503"/>
                  </a:lnTo>
                  <a:lnTo>
                    <a:pt x="4" y="505"/>
                  </a:lnTo>
                  <a:lnTo>
                    <a:pt x="3" y="505"/>
                  </a:lnTo>
                  <a:lnTo>
                    <a:pt x="2" y="505"/>
                  </a:lnTo>
                  <a:lnTo>
                    <a:pt x="2" y="503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472"/>
                  </a:lnTo>
                  <a:lnTo>
                    <a:pt x="0" y="471"/>
                  </a:lnTo>
                  <a:lnTo>
                    <a:pt x="2" y="471"/>
                  </a:lnTo>
                  <a:lnTo>
                    <a:pt x="2" y="469"/>
                  </a:lnTo>
                  <a:lnTo>
                    <a:pt x="3" y="469"/>
                  </a:lnTo>
                  <a:lnTo>
                    <a:pt x="4" y="469"/>
                  </a:lnTo>
                  <a:lnTo>
                    <a:pt x="4" y="471"/>
                  </a:lnTo>
                  <a:lnTo>
                    <a:pt x="4" y="471"/>
                  </a:lnTo>
                  <a:lnTo>
                    <a:pt x="6" y="472"/>
                  </a:lnTo>
                  <a:lnTo>
                    <a:pt x="6" y="472"/>
                  </a:lnTo>
                  <a:close/>
                  <a:moveTo>
                    <a:pt x="6" y="524"/>
                  </a:moveTo>
                  <a:lnTo>
                    <a:pt x="6" y="555"/>
                  </a:lnTo>
                  <a:lnTo>
                    <a:pt x="4" y="555"/>
                  </a:lnTo>
                  <a:lnTo>
                    <a:pt x="4" y="556"/>
                  </a:lnTo>
                  <a:lnTo>
                    <a:pt x="3" y="556"/>
                  </a:lnTo>
                  <a:lnTo>
                    <a:pt x="2" y="556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24"/>
                  </a:lnTo>
                  <a:lnTo>
                    <a:pt x="0" y="522"/>
                  </a:lnTo>
                  <a:lnTo>
                    <a:pt x="2" y="522"/>
                  </a:lnTo>
                  <a:lnTo>
                    <a:pt x="2" y="522"/>
                  </a:lnTo>
                  <a:lnTo>
                    <a:pt x="3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6" y="524"/>
                  </a:lnTo>
                  <a:lnTo>
                    <a:pt x="6" y="524"/>
                  </a:lnTo>
                  <a:close/>
                  <a:moveTo>
                    <a:pt x="6" y="577"/>
                  </a:moveTo>
                  <a:lnTo>
                    <a:pt x="6" y="607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3" y="609"/>
                  </a:lnTo>
                  <a:lnTo>
                    <a:pt x="2" y="608"/>
                  </a:lnTo>
                  <a:lnTo>
                    <a:pt x="2" y="608"/>
                  </a:lnTo>
                  <a:lnTo>
                    <a:pt x="0" y="608"/>
                  </a:lnTo>
                  <a:lnTo>
                    <a:pt x="0" y="607"/>
                  </a:lnTo>
                  <a:lnTo>
                    <a:pt x="0" y="577"/>
                  </a:lnTo>
                  <a:lnTo>
                    <a:pt x="0" y="575"/>
                  </a:lnTo>
                  <a:lnTo>
                    <a:pt x="2" y="574"/>
                  </a:lnTo>
                  <a:lnTo>
                    <a:pt x="2" y="574"/>
                  </a:lnTo>
                  <a:lnTo>
                    <a:pt x="3" y="574"/>
                  </a:lnTo>
                  <a:lnTo>
                    <a:pt x="4" y="574"/>
                  </a:lnTo>
                  <a:lnTo>
                    <a:pt x="4" y="574"/>
                  </a:lnTo>
                  <a:lnTo>
                    <a:pt x="4" y="575"/>
                  </a:lnTo>
                  <a:lnTo>
                    <a:pt x="6" y="577"/>
                  </a:lnTo>
                  <a:lnTo>
                    <a:pt x="6" y="577"/>
                  </a:lnTo>
                  <a:close/>
                  <a:moveTo>
                    <a:pt x="6" y="628"/>
                  </a:moveTo>
                  <a:lnTo>
                    <a:pt x="6" y="658"/>
                  </a:lnTo>
                  <a:lnTo>
                    <a:pt x="4" y="660"/>
                  </a:lnTo>
                  <a:lnTo>
                    <a:pt x="4" y="661"/>
                  </a:lnTo>
                  <a:lnTo>
                    <a:pt x="4" y="661"/>
                  </a:lnTo>
                  <a:lnTo>
                    <a:pt x="3" y="661"/>
                  </a:lnTo>
                  <a:lnTo>
                    <a:pt x="2" y="661"/>
                  </a:lnTo>
                  <a:lnTo>
                    <a:pt x="2" y="661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28"/>
                  </a:lnTo>
                  <a:lnTo>
                    <a:pt x="0" y="627"/>
                  </a:lnTo>
                  <a:lnTo>
                    <a:pt x="2" y="627"/>
                  </a:lnTo>
                  <a:lnTo>
                    <a:pt x="2" y="626"/>
                  </a:lnTo>
                  <a:lnTo>
                    <a:pt x="3" y="626"/>
                  </a:lnTo>
                  <a:lnTo>
                    <a:pt x="4" y="626"/>
                  </a:lnTo>
                  <a:lnTo>
                    <a:pt x="4" y="627"/>
                  </a:lnTo>
                  <a:lnTo>
                    <a:pt x="4" y="627"/>
                  </a:lnTo>
                  <a:lnTo>
                    <a:pt x="6" y="628"/>
                  </a:lnTo>
                  <a:lnTo>
                    <a:pt x="6" y="628"/>
                  </a:lnTo>
                  <a:close/>
                  <a:moveTo>
                    <a:pt x="6" y="680"/>
                  </a:moveTo>
                  <a:lnTo>
                    <a:pt x="6" y="711"/>
                  </a:lnTo>
                  <a:lnTo>
                    <a:pt x="4" y="711"/>
                  </a:lnTo>
                  <a:lnTo>
                    <a:pt x="4" y="713"/>
                  </a:lnTo>
                  <a:lnTo>
                    <a:pt x="4" y="713"/>
                  </a:lnTo>
                  <a:lnTo>
                    <a:pt x="3" y="713"/>
                  </a:lnTo>
                  <a:lnTo>
                    <a:pt x="2" y="713"/>
                  </a:lnTo>
                  <a:lnTo>
                    <a:pt x="2" y="7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680"/>
                  </a:lnTo>
                  <a:lnTo>
                    <a:pt x="0" y="680"/>
                  </a:lnTo>
                  <a:lnTo>
                    <a:pt x="2" y="679"/>
                  </a:lnTo>
                  <a:lnTo>
                    <a:pt x="2" y="679"/>
                  </a:lnTo>
                  <a:lnTo>
                    <a:pt x="3" y="679"/>
                  </a:lnTo>
                  <a:lnTo>
                    <a:pt x="4" y="679"/>
                  </a:lnTo>
                  <a:lnTo>
                    <a:pt x="4" y="679"/>
                  </a:lnTo>
                  <a:lnTo>
                    <a:pt x="4" y="680"/>
                  </a:lnTo>
                  <a:lnTo>
                    <a:pt x="6" y="680"/>
                  </a:lnTo>
                  <a:lnTo>
                    <a:pt x="6" y="680"/>
                  </a:lnTo>
                  <a:close/>
                  <a:moveTo>
                    <a:pt x="6" y="733"/>
                  </a:moveTo>
                  <a:lnTo>
                    <a:pt x="6" y="763"/>
                  </a:lnTo>
                  <a:lnTo>
                    <a:pt x="4" y="764"/>
                  </a:lnTo>
                  <a:lnTo>
                    <a:pt x="4" y="764"/>
                  </a:lnTo>
                  <a:lnTo>
                    <a:pt x="4" y="766"/>
                  </a:lnTo>
                  <a:lnTo>
                    <a:pt x="3" y="766"/>
                  </a:lnTo>
                  <a:lnTo>
                    <a:pt x="2" y="766"/>
                  </a:lnTo>
                  <a:lnTo>
                    <a:pt x="2" y="764"/>
                  </a:lnTo>
                  <a:lnTo>
                    <a:pt x="0" y="764"/>
                  </a:lnTo>
                  <a:lnTo>
                    <a:pt x="0" y="763"/>
                  </a:lnTo>
                  <a:lnTo>
                    <a:pt x="0" y="733"/>
                  </a:lnTo>
                  <a:lnTo>
                    <a:pt x="0" y="732"/>
                  </a:lnTo>
                  <a:lnTo>
                    <a:pt x="2" y="732"/>
                  </a:lnTo>
                  <a:lnTo>
                    <a:pt x="2" y="730"/>
                  </a:lnTo>
                  <a:lnTo>
                    <a:pt x="3" y="730"/>
                  </a:lnTo>
                  <a:lnTo>
                    <a:pt x="4" y="730"/>
                  </a:lnTo>
                  <a:lnTo>
                    <a:pt x="4" y="732"/>
                  </a:lnTo>
                  <a:lnTo>
                    <a:pt x="4" y="732"/>
                  </a:lnTo>
                  <a:lnTo>
                    <a:pt x="6" y="733"/>
                  </a:lnTo>
                  <a:lnTo>
                    <a:pt x="6" y="733"/>
                  </a:lnTo>
                  <a:close/>
                  <a:moveTo>
                    <a:pt x="6" y="785"/>
                  </a:moveTo>
                  <a:lnTo>
                    <a:pt x="6" y="816"/>
                  </a:lnTo>
                  <a:lnTo>
                    <a:pt x="4" y="816"/>
                  </a:lnTo>
                  <a:lnTo>
                    <a:pt x="4" y="817"/>
                  </a:lnTo>
                  <a:lnTo>
                    <a:pt x="3" y="817"/>
                  </a:lnTo>
                  <a:lnTo>
                    <a:pt x="2" y="817"/>
                  </a:lnTo>
                  <a:lnTo>
                    <a:pt x="0" y="816"/>
                  </a:lnTo>
                  <a:lnTo>
                    <a:pt x="0" y="816"/>
                  </a:lnTo>
                  <a:lnTo>
                    <a:pt x="0" y="785"/>
                  </a:lnTo>
                  <a:lnTo>
                    <a:pt x="0" y="783"/>
                  </a:lnTo>
                  <a:lnTo>
                    <a:pt x="2" y="783"/>
                  </a:lnTo>
                  <a:lnTo>
                    <a:pt x="2" y="783"/>
                  </a:lnTo>
                  <a:lnTo>
                    <a:pt x="3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6" y="785"/>
                  </a:lnTo>
                  <a:lnTo>
                    <a:pt x="6" y="785"/>
                  </a:lnTo>
                  <a:close/>
                  <a:moveTo>
                    <a:pt x="6" y="838"/>
                  </a:moveTo>
                  <a:lnTo>
                    <a:pt x="6" y="868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3" y="870"/>
                  </a:lnTo>
                  <a:lnTo>
                    <a:pt x="2" y="869"/>
                  </a:lnTo>
                  <a:lnTo>
                    <a:pt x="2" y="869"/>
                  </a:lnTo>
                  <a:lnTo>
                    <a:pt x="0" y="869"/>
                  </a:lnTo>
                  <a:lnTo>
                    <a:pt x="0" y="868"/>
                  </a:lnTo>
                  <a:lnTo>
                    <a:pt x="0" y="838"/>
                  </a:lnTo>
                  <a:lnTo>
                    <a:pt x="0" y="836"/>
                  </a:lnTo>
                  <a:lnTo>
                    <a:pt x="2" y="835"/>
                  </a:lnTo>
                  <a:lnTo>
                    <a:pt x="2" y="835"/>
                  </a:lnTo>
                  <a:lnTo>
                    <a:pt x="3" y="835"/>
                  </a:lnTo>
                  <a:lnTo>
                    <a:pt x="4" y="835"/>
                  </a:lnTo>
                  <a:lnTo>
                    <a:pt x="4" y="835"/>
                  </a:lnTo>
                  <a:lnTo>
                    <a:pt x="4" y="836"/>
                  </a:lnTo>
                  <a:lnTo>
                    <a:pt x="6" y="838"/>
                  </a:lnTo>
                  <a:lnTo>
                    <a:pt x="6" y="838"/>
                  </a:lnTo>
                  <a:close/>
                  <a:moveTo>
                    <a:pt x="6" y="889"/>
                  </a:moveTo>
                  <a:lnTo>
                    <a:pt x="6" y="919"/>
                  </a:lnTo>
                  <a:lnTo>
                    <a:pt x="4" y="921"/>
                  </a:lnTo>
                  <a:lnTo>
                    <a:pt x="4" y="922"/>
                  </a:lnTo>
                  <a:lnTo>
                    <a:pt x="4" y="922"/>
                  </a:lnTo>
                  <a:lnTo>
                    <a:pt x="3" y="922"/>
                  </a:lnTo>
                  <a:lnTo>
                    <a:pt x="2" y="922"/>
                  </a:lnTo>
                  <a:lnTo>
                    <a:pt x="2" y="922"/>
                  </a:lnTo>
                  <a:lnTo>
                    <a:pt x="0" y="921"/>
                  </a:lnTo>
                  <a:lnTo>
                    <a:pt x="0" y="919"/>
                  </a:lnTo>
                  <a:lnTo>
                    <a:pt x="0" y="889"/>
                  </a:lnTo>
                  <a:lnTo>
                    <a:pt x="0" y="888"/>
                  </a:lnTo>
                  <a:lnTo>
                    <a:pt x="2" y="888"/>
                  </a:lnTo>
                  <a:lnTo>
                    <a:pt x="2" y="887"/>
                  </a:lnTo>
                  <a:lnTo>
                    <a:pt x="3" y="887"/>
                  </a:lnTo>
                  <a:lnTo>
                    <a:pt x="4" y="887"/>
                  </a:lnTo>
                  <a:lnTo>
                    <a:pt x="4" y="888"/>
                  </a:lnTo>
                  <a:lnTo>
                    <a:pt x="4" y="888"/>
                  </a:lnTo>
                  <a:lnTo>
                    <a:pt x="6" y="889"/>
                  </a:lnTo>
                  <a:lnTo>
                    <a:pt x="6" y="889"/>
                  </a:lnTo>
                  <a:close/>
                  <a:moveTo>
                    <a:pt x="6" y="941"/>
                  </a:moveTo>
                  <a:lnTo>
                    <a:pt x="6" y="972"/>
                  </a:lnTo>
                  <a:lnTo>
                    <a:pt x="4" y="972"/>
                  </a:lnTo>
                  <a:lnTo>
                    <a:pt x="4" y="974"/>
                  </a:lnTo>
                  <a:lnTo>
                    <a:pt x="4" y="974"/>
                  </a:lnTo>
                  <a:lnTo>
                    <a:pt x="3" y="974"/>
                  </a:lnTo>
                  <a:lnTo>
                    <a:pt x="2" y="974"/>
                  </a:lnTo>
                  <a:lnTo>
                    <a:pt x="2" y="974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41"/>
                  </a:lnTo>
                  <a:lnTo>
                    <a:pt x="0" y="941"/>
                  </a:lnTo>
                  <a:lnTo>
                    <a:pt x="2" y="940"/>
                  </a:lnTo>
                  <a:lnTo>
                    <a:pt x="2" y="940"/>
                  </a:lnTo>
                  <a:lnTo>
                    <a:pt x="3" y="940"/>
                  </a:lnTo>
                  <a:lnTo>
                    <a:pt x="4" y="940"/>
                  </a:lnTo>
                  <a:lnTo>
                    <a:pt x="4" y="940"/>
                  </a:lnTo>
                  <a:lnTo>
                    <a:pt x="4" y="941"/>
                  </a:lnTo>
                  <a:lnTo>
                    <a:pt x="6" y="941"/>
                  </a:lnTo>
                  <a:lnTo>
                    <a:pt x="6" y="941"/>
                  </a:lnTo>
                  <a:close/>
                  <a:moveTo>
                    <a:pt x="6" y="994"/>
                  </a:moveTo>
                  <a:lnTo>
                    <a:pt x="6" y="1024"/>
                  </a:lnTo>
                  <a:lnTo>
                    <a:pt x="4" y="1025"/>
                  </a:lnTo>
                  <a:lnTo>
                    <a:pt x="4" y="1025"/>
                  </a:lnTo>
                  <a:lnTo>
                    <a:pt x="4" y="1027"/>
                  </a:lnTo>
                  <a:lnTo>
                    <a:pt x="3" y="1027"/>
                  </a:lnTo>
                  <a:lnTo>
                    <a:pt x="2" y="1027"/>
                  </a:lnTo>
                  <a:lnTo>
                    <a:pt x="2" y="1025"/>
                  </a:lnTo>
                  <a:lnTo>
                    <a:pt x="0" y="1025"/>
                  </a:lnTo>
                  <a:lnTo>
                    <a:pt x="0" y="1024"/>
                  </a:lnTo>
                  <a:lnTo>
                    <a:pt x="0" y="994"/>
                  </a:lnTo>
                  <a:lnTo>
                    <a:pt x="0" y="993"/>
                  </a:lnTo>
                  <a:lnTo>
                    <a:pt x="2" y="993"/>
                  </a:lnTo>
                  <a:lnTo>
                    <a:pt x="2" y="991"/>
                  </a:lnTo>
                  <a:lnTo>
                    <a:pt x="3" y="991"/>
                  </a:lnTo>
                  <a:lnTo>
                    <a:pt x="4" y="991"/>
                  </a:lnTo>
                  <a:lnTo>
                    <a:pt x="4" y="993"/>
                  </a:lnTo>
                  <a:lnTo>
                    <a:pt x="4" y="993"/>
                  </a:lnTo>
                  <a:lnTo>
                    <a:pt x="6" y="994"/>
                  </a:lnTo>
                  <a:lnTo>
                    <a:pt x="6" y="994"/>
                  </a:lnTo>
                  <a:close/>
                  <a:moveTo>
                    <a:pt x="6" y="1046"/>
                  </a:moveTo>
                  <a:lnTo>
                    <a:pt x="6" y="1077"/>
                  </a:lnTo>
                  <a:lnTo>
                    <a:pt x="4" y="1077"/>
                  </a:lnTo>
                  <a:lnTo>
                    <a:pt x="4" y="1079"/>
                  </a:lnTo>
                  <a:lnTo>
                    <a:pt x="3" y="1079"/>
                  </a:lnTo>
                  <a:lnTo>
                    <a:pt x="2" y="1079"/>
                  </a:lnTo>
                  <a:lnTo>
                    <a:pt x="0" y="1077"/>
                  </a:lnTo>
                  <a:lnTo>
                    <a:pt x="0" y="1077"/>
                  </a:lnTo>
                  <a:lnTo>
                    <a:pt x="0" y="1046"/>
                  </a:lnTo>
                  <a:lnTo>
                    <a:pt x="0" y="1045"/>
                  </a:lnTo>
                  <a:lnTo>
                    <a:pt x="2" y="1045"/>
                  </a:lnTo>
                  <a:lnTo>
                    <a:pt x="2" y="1045"/>
                  </a:lnTo>
                  <a:lnTo>
                    <a:pt x="3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6" y="1046"/>
                  </a:lnTo>
                  <a:lnTo>
                    <a:pt x="6" y="1046"/>
                  </a:lnTo>
                  <a:close/>
                  <a:moveTo>
                    <a:pt x="6" y="1099"/>
                  </a:moveTo>
                  <a:lnTo>
                    <a:pt x="6" y="1129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3" y="1132"/>
                  </a:lnTo>
                  <a:lnTo>
                    <a:pt x="2" y="1130"/>
                  </a:lnTo>
                  <a:lnTo>
                    <a:pt x="2" y="1130"/>
                  </a:lnTo>
                  <a:lnTo>
                    <a:pt x="0" y="1130"/>
                  </a:lnTo>
                  <a:lnTo>
                    <a:pt x="0" y="1129"/>
                  </a:lnTo>
                  <a:lnTo>
                    <a:pt x="0" y="1099"/>
                  </a:lnTo>
                  <a:lnTo>
                    <a:pt x="0" y="1098"/>
                  </a:lnTo>
                  <a:lnTo>
                    <a:pt x="2" y="1096"/>
                  </a:lnTo>
                  <a:lnTo>
                    <a:pt x="2" y="1096"/>
                  </a:lnTo>
                  <a:lnTo>
                    <a:pt x="3" y="1096"/>
                  </a:lnTo>
                  <a:lnTo>
                    <a:pt x="4" y="1096"/>
                  </a:lnTo>
                  <a:lnTo>
                    <a:pt x="4" y="1096"/>
                  </a:lnTo>
                  <a:lnTo>
                    <a:pt x="4" y="1098"/>
                  </a:lnTo>
                  <a:lnTo>
                    <a:pt x="6" y="1099"/>
                  </a:lnTo>
                  <a:lnTo>
                    <a:pt x="6" y="1099"/>
                  </a:lnTo>
                  <a:close/>
                  <a:moveTo>
                    <a:pt x="6" y="1151"/>
                  </a:moveTo>
                  <a:lnTo>
                    <a:pt x="6" y="1181"/>
                  </a:lnTo>
                  <a:lnTo>
                    <a:pt x="4" y="1182"/>
                  </a:lnTo>
                  <a:lnTo>
                    <a:pt x="4" y="1183"/>
                  </a:lnTo>
                  <a:lnTo>
                    <a:pt x="4" y="1183"/>
                  </a:lnTo>
                  <a:lnTo>
                    <a:pt x="3" y="1183"/>
                  </a:lnTo>
                  <a:lnTo>
                    <a:pt x="2" y="1183"/>
                  </a:lnTo>
                  <a:lnTo>
                    <a:pt x="2" y="1183"/>
                  </a:lnTo>
                  <a:lnTo>
                    <a:pt x="0" y="1182"/>
                  </a:lnTo>
                  <a:lnTo>
                    <a:pt x="0" y="1181"/>
                  </a:lnTo>
                  <a:lnTo>
                    <a:pt x="0" y="1151"/>
                  </a:lnTo>
                  <a:lnTo>
                    <a:pt x="0" y="1149"/>
                  </a:lnTo>
                  <a:lnTo>
                    <a:pt x="2" y="1149"/>
                  </a:lnTo>
                  <a:lnTo>
                    <a:pt x="2" y="1148"/>
                  </a:lnTo>
                  <a:lnTo>
                    <a:pt x="3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4" y="1149"/>
                  </a:lnTo>
                  <a:lnTo>
                    <a:pt x="6" y="1151"/>
                  </a:lnTo>
                  <a:lnTo>
                    <a:pt x="6" y="1151"/>
                  </a:lnTo>
                  <a:close/>
                  <a:moveTo>
                    <a:pt x="6" y="1202"/>
                  </a:moveTo>
                  <a:lnTo>
                    <a:pt x="6" y="1234"/>
                  </a:lnTo>
                  <a:lnTo>
                    <a:pt x="4" y="1234"/>
                  </a:lnTo>
                  <a:lnTo>
                    <a:pt x="4" y="1235"/>
                  </a:lnTo>
                  <a:lnTo>
                    <a:pt x="4" y="1235"/>
                  </a:lnTo>
                  <a:lnTo>
                    <a:pt x="3" y="1235"/>
                  </a:lnTo>
                  <a:lnTo>
                    <a:pt x="2" y="1235"/>
                  </a:lnTo>
                  <a:lnTo>
                    <a:pt x="2" y="1235"/>
                  </a:lnTo>
                  <a:lnTo>
                    <a:pt x="0" y="1234"/>
                  </a:lnTo>
                  <a:lnTo>
                    <a:pt x="0" y="1234"/>
                  </a:lnTo>
                  <a:lnTo>
                    <a:pt x="0" y="1202"/>
                  </a:lnTo>
                  <a:lnTo>
                    <a:pt x="0" y="1202"/>
                  </a:lnTo>
                  <a:lnTo>
                    <a:pt x="2" y="1201"/>
                  </a:lnTo>
                  <a:lnTo>
                    <a:pt x="2" y="1201"/>
                  </a:lnTo>
                  <a:lnTo>
                    <a:pt x="3" y="1201"/>
                  </a:lnTo>
                  <a:lnTo>
                    <a:pt x="4" y="1201"/>
                  </a:lnTo>
                  <a:lnTo>
                    <a:pt x="4" y="1201"/>
                  </a:lnTo>
                  <a:lnTo>
                    <a:pt x="4" y="1202"/>
                  </a:lnTo>
                  <a:lnTo>
                    <a:pt x="6" y="1202"/>
                  </a:lnTo>
                  <a:lnTo>
                    <a:pt x="6" y="1202"/>
                  </a:lnTo>
                  <a:close/>
                  <a:moveTo>
                    <a:pt x="6" y="1255"/>
                  </a:moveTo>
                  <a:lnTo>
                    <a:pt x="6" y="1285"/>
                  </a:lnTo>
                  <a:lnTo>
                    <a:pt x="4" y="1287"/>
                  </a:lnTo>
                  <a:lnTo>
                    <a:pt x="4" y="1287"/>
                  </a:lnTo>
                  <a:lnTo>
                    <a:pt x="4" y="1288"/>
                  </a:lnTo>
                  <a:lnTo>
                    <a:pt x="3" y="1288"/>
                  </a:lnTo>
                  <a:lnTo>
                    <a:pt x="2" y="1288"/>
                  </a:lnTo>
                  <a:lnTo>
                    <a:pt x="2" y="1287"/>
                  </a:lnTo>
                  <a:lnTo>
                    <a:pt x="0" y="1287"/>
                  </a:lnTo>
                  <a:lnTo>
                    <a:pt x="0" y="1285"/>
                  </a:lnTo>
                  <a:lnTo>
                    <a:pt x="0" y="1255"/>
                  </a:lnTo>
                  <a:lnTo>
                    <a:pt x="0" y="1254"/>
                  </a:lnTo>
                  <a:lnTo>
                    <a:pt x="2" y="1254"/>
                  </a:lnTo>
                  <a:lnTo>
                    <a:pt x="2" y="1253"/>
                  </a:lnTo>
                  <a:lnTo>
                    <a:pt x="3" y="1253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4" y="1254"/>
                  </a:lnTo>
                  <a:lnTo>
                    <a:pt x="6" y="1255"/>
                  </a:lnTo>
                  <a:lnTo>
                    <a:pt x="6" y="1255"/>
                  </a:lnTo>
                  <a:close/>
                  <a:moveTo>
                    <a:pt x="6" y="1307"/>
                  </a:moveTo>
                  <a:lnTo>
                    <a:pt x="6" y="1338"/>
                  </a:lnTo>
                  <a:lnTo>
                    <a:pt x="4" y="1338"/>
                  </a:lnTo>
                  <a:lnTo>
                    <a:pt x="4" y="1340"/>
                  </a:lnTo>
                  <a:lnTo>
                    <a:pt x="3" y="1340"/>
                  </a:lnTo>
                  <a:lnTo>
                    <a:pt x="2" y="1340"/>
                  </a:lnTo>
                  <a:lnTo>
                    <a:pt x="0" y="1338"/>
                  </a:lnTo>
                  <a:lnTo>
                    <a:pt x="0" y="1338"/>
                  </a:lnTo>
                  <a:lnTo>
                    <a:pt x="0" y="1307"/>
                  </a:lnTo>
                  <a:lnTo>
                    <a:pt x="0" y="1306"/>
                  </a:lnTo>
                  <a:lnTo>
                    <a:pt x="2" y="1306"/>
                  </a:lnTo>
                  <a:lnTo>
                    <a:pt x="2" y="1306"/>
                  </a:lnTo>
                  <a:lnTo>
                    <a:pt x="3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6" y="1307"/>
                  </a:lnTo>
                  <a:lnTo>
                    <a:pt x="6" y="1307"/>
                  </a:lnTo>
                  <a:close/>
                  <a:moveTo>
                    <a:pt x="6" y="1360"/>
                  </a:moveTo>
                  <a:lnTo>
                    <a:pt x="6" y="1390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3" y="1393"/>
                  </a:lnTo>
                  <a:lnTo>
                    <a:pt x="2" y="1391"/>
                  </a:lnTo>
                  <a:lnTo>
                    <a:pt x="2" y="1391"/>
                  </a:lnTo>
                  <a:lnTo>
                    <a:pt x="0" y="1391"/>
                  </a:lnTo>
                  <a:lnTo>
                    <a:pt x="0" y="1390"/>
                  </a:lnTo>
                  <a:lnTo>
                    <a:pt x="0" y="1360"/>
                  </a:lnTo>
                  <a:lnTo>
                    <a:pt x="0" y="1359"/>
                  </a:lnTo>
                  <a:lnTo>
                    <a:pt x="2" y="1357"/>
                  </a:lnTo>
                  <a:lnTo>
                    <a:pt x="2" y="1357"/>
                  </a:lnTo>
                  <a:lnTo>
                    <a:pt x="3" y="1357"/>
                  </a:lnTo>
                  <a:lnTo>
                    <a:pt x="4" y="1357"/>
                  </a:lnTo>
                  <a:lnTo>
                    <a:pt x="4" y="1357"/>
                  </a:lnTo>
                  <a:lnTo>
                    <a:pt x="4" y="1359"/>
                  </a:lnTo>
                  <a:lnTo>
                    <a:pt x="6" y="1360"/>
                  </a:lnTo>
                  <a:lnTo>
                    <a:pt x="6" y="1360"/>
                  </a:lnTo>
                  <a:close/>
                  <a:moveTo>
                    <a:pt x="6" y="1412"/>
                  </a:moveTo>
                  <a:lnTo>
                    <a:pt x="6" y="1442"/>
                  </a:lnTo>
                  <a:lnTo>
                    <a:pt x="4" y="1443"/>
                  </a:lnTo>
                  <a:lnTo>
                    <a:pt x="4" y="1444"/>
                  </a:lnTo>
                  <a:lnTo>
                    <a:pt x="4" y="1444"/>
                  </a:lnTo>
                  <a:lnTo>
                    <a:pt x="3" y="1444"/>
                  </a:lnTo>
                  <a:lnTo>
                    <a:pt x="2" y="1444"/>
                  </a:lnTo>
                  <a:lnTo>
                    <a:pt x="2" y="1444"/>
                  </a:lnTo>
                  <a:lnTo>
                    <a:pt x="0" y="1443"/>
                  </a:lnTo>
                  <a:lnTo>
                    <a:pt x="0" y="1442"/>
                  </a:lnTo>
                  <a:lnTo>
                    <a:pt x="0" y="1412"/>
                  </a:lnTo>
                  <a:lnTo>
                    <a:pt x="0" y="1410"/>
                  </a:lnTo>
                  <a:lnTo>
                    <a:pt x="2" y="1410"/>
                  </a:lnTo>
                  <a:lnTo>
                    <a:pt x="2" y="1409"/>
                  </a:lnTo>
                  <a:lnTo>
                    <a:pt x="3" y="1409"/>
                  </a:lnTo>
                  <a:lnTo>
                    <a:pt x="4" y="1409"/>
                  </a:lnTo>
                  <a:lnTo>
                    <a:pt x="4" y="1410"/>
                  </a:lnTo>
                  <a:lnTo>
                    <a:pt x="4" y="1410"/>
                  </a:lnTo>
                  <a:lnTo>
                    <a:pt x="6" y="1412"/>
                  </a:lnTo>
                  <a:lnTo>
                    <a:pt x="6" y="1412"/>
                  </a:lnTo>
                  <a:close/>
                  <a:moveTo>
                    <a:pt x="6" y="1463"/>
                  </a:moveTo>
                  <a:lnTo>
                    <a:pt x="6" y="1495"/>
                  </a:lnTo>
                  <a:lnTo>
                    <a:pt x="4" y="1495"/>
                  </a:lnTo>
                  <a:lnTo>
                    <a:pt x="4" y="1496"/>
                  </a:lnTo>
                  <a:lnTo>
                    <a:pt x="4" y="1496"/>
                  </a:lnTo>
                  <a:lnTo>
                    <a:pt x="3" y="1496"/>
                  </a:lnTo>
                  <a:lnTo>
                    <a:pt x="2" y="1496"/>
                  </a:lnTo>
                  <a:lnTo>
                    <a:pt x="2" y="1496"/>
                  </a:lnTo>
                  <a:lnTo>
                    <a:pt x="0" y="1495"/>
                  </a:lnTo>
                  <a:lnTo>
                    <a:pt x="0" y="1495"/>
                  </a:lnTo>
                  <a:lnTo>
                    <a:pt x="0" y="1463"/>
                  </a:lnTo>
                  <a:lnTo>
                    <a:pt x="0" y="1463"/>
                  </a:lnTo>
                  <a:lnTo>
                    <a:pt x="2" y="1462"/>
                  </a:lnTo>
                  <a:lnTo>
                    <a:pt x="2" y="1462"/>
                  </a:lnTo>
                  <a:lnTo>
                    <a:pt x="3" y="1462"/>
                  </a:lnTo>
                  <a:lnTo>
                    <a:pt x="4" y="1462"/>
                  </a:lnTo>
                  <a:lnTo>
                    <a:pt x="4" y="1462"/>
                  </a:lnTo>
                  <a:lnTo>
                    <a:pt x="4" y="1463"/>
                  </a:lnTo>
                  <a:lnTo>
                    <a:pt x="6" y="1463"/>
                  </a:lnTo>
                  <a:lnTo>
                    <a:pt x="6" y="1463"/>
                  </a:lnTo>
                  <a:close/>
                  <a:moveTo>
                    <a:pt x="6" y="1516"/>
                  </a:moveTo>
                  <a:lnTo>
                    <a:pt x="6" y="1546"/>
                  </a:lnTo>
                  <a:lnTo>
                    <a:pt x="4" y="1548"/>
                  </a:lnTo>
                  <a:lnTo>
                    <a:pt x="4" y="1548"/>
                  </a:lnTo>
                  <a:lnTo>
                    <a:pt x="4" y="1549"/>
                  </a:lnTo>
                  <a:lnTo>
                    <a:pt x="3" y="1549"/>
                  </a:lnTo>
                  <a:lnTo>
                    <a:pt x="2" y="1549"/>
                  </a:lnTo>
                  <a:lnTo>
                    <a:pt x="2" y="1548"/>
                  </a:lnTo>
                  <a:lnTo>
                    <a:pt x="0" y="1548"/>
                  </a:lnTo>
                  <a:lnTo>
                    <a:pt x="0" y="1546"/>
                  </a:lnTo>
                  <a:lnTo>
                    <a:pt x="0" y="1516"/>
                  </a:lnTo>
                  <a:lnTo>
                    <a:pt x="0" y="1515"/>
                  </a:lnTo>
                  <a:lnTo>
                    <a:pt x="2" y="1515"/>
                  </a:lnTo>
                  <a:lnTo>
                    <a:pt x="2" y="1514"/>
                  </a:lnTo>
                  <a:lnTo>
                    <a:pt x="3" y="1514"/>
                  </a:lnTo>
                  <a:lnTo>
                    <a:pt x="4" y="1514"/>
                  </a:lnTo>
                  <a:lnTo>
                    <a:pt x="4" y="1515"/>
                  </a:lnTo>
                  <a:lnTo>
                    <a:pt x="4" y="1515"/>
                  </a:lnTo>
                  <a:lnTo>
                    <a:pt x="6" y="1516"/>
                  </a:lnTo>
                  <a:lnTo>
                    <a:pt x="6" y="1516"/>
                  </a:lnTo>
                  <a:close/>
                  <a:moveTo>
                    <a:pt x="6" y="1568"/>
                  </a:moveTo>
                  <a:lnTo>
                    <a:pt x="6" y="1599"/>
                  </a:lnTo>
                  <a:lnTo>
                    <a:pt x="4" y="1599"/>
                  </a:lnTo>
                  <a:lnTo>
                    <a:pt x="4" y="1601"/>
                  </a:lnTo>
                  <a:lnTo>
                    <a:pt x="3" y="1601"/>
                  </a:lnTo>
                  <a:lnTo>
                    <a:pt x="2" y="1601"/>
                  </a:lnTo>
                  <a:lnTo>
                    <a:pt x="0" y="1599"/>
                  </a:lnTo>
                  <a:lnTo>
                    <a:pt x="0" y="1599"/>
                  </a:lnTo>
                  <a:lnTo>
                    <a:pt x="0" y="1568"/>
                  </a:lnTo>
                  <a:lnTo>
                    <a:pt x="0" y="1567"/>
                  </a:lnTo>
                  <a:lnTo>
                    <a:pt x="2" y="1567"/>
                  </a:lnTo>
                  <a:lnTo>
                    <a:pt x="2" y="1567"/>
                  </a:lnTo>
                  <a:lnTo>
                    <a:pt x="3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6" y="1568"/>
                  </a:lnTo>
                  <a:lnTo>
                    <a:pt x="6" y="1568"/>
                  </a:lnTo>
                  <a:close/>
                  <a:moveTo>
                    <a:pt x="6" y="1621"/>
                  </a:moveTo>
                  <a:lnTo>
                    <a:pt x="6" y="1651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3" y="1654"/>
                  </a:lnTo>
                  <a:lnTo>
                    <a:pt x="2" y="1652"/>
                  </a:lnTo>
                  <a:lnTo>
                    <a:pt x="2" y="1652"/>
                  </a:lnTo>
                  <a:lnTo>
                    <a:pt x="0" y="1652"/>
                  </a:lnTo>
                  <a:lnTo>
                    <a:pt x="0" y="1651"/>
                  </a:lnTo>
                  <a:lnTo>
                    <a:pt x="0" y="1621"/>
                  </a:lnTo>
                  <a:lnTo>
                    <a:pt x="0" y="1620"/>
                  </a:lnTo>
                  <a:lnTo>
                    <a:pt x="2" y="1618"/>
                  </a:lnTo>
                  <a:lnTo>
                    <a:pt x="2" y="1618"/>
                  </a:lnTo>
                  <a:lnTo>
                    <a:pt x="3" y="1618"/>
                  </a:lnTo>
                  <a:lnTo>
                    <a:pt x="4" y="1618"/>
                  </a:lnTo>
                  <a:lnTo>
                    <a:pt x="4" y="1618"/>
                  </a:lnTo>
                  <a:lnTo>
                    <a:pt x="4" y="1620"/>
                  </a:lnTo>
                  <a:lnTo>
                    <a:pt x="6" y="1621"/>
                  </a:lnTo>
                  <a:lnTo>
                    <a:pt x="6" y="1621"/>
                  </a:lnTo>
                  <a:close/>
                  <a:moveTo>
                    <a:pt x="6" y="1673"/>
                  </a:moveTo>
                  <a:lnTo>
                    <a:pt x="6" y="1703"/>
                  </a:lnTo>
                  <a:lnTo>
                    <a:pt x="4" y="1704"/>
                  </a:lnTo>
                  <a:lnTo>
                    <a:pt x="4" y="1706"/>
                  </a:lnTo>
                  <a:lnTo>
                    <a:pt x="4" y="1706"/>
                  </a:lnTo>
                  <a:lnTo>
                    <a:pt x="3" y="1706"/>
                  </a:lnTo>
                  <a:lnTo>
                    <a:pt x="2" y="1706"/>
                  </a:lnTo>
                  <a:lnTo>
                    <a:pt x="2" y="1706"/>
                  </a:lnTo>
                  <a:lnTo>
                    <a:pt x="0" y="1704"/>
                  </a:lnTo>
                  <a:lnTo>
                    <a:pt x="0" y="1703"/>
                  </a:lnTo>
                  <a:lnTo>
                    <a:pt x="0" y="1673"/>
                  </a:lnTo>
                  <a:lnTo>
                    <a:pt x="0" y="1672"/>
                  </a:lnTo>
                  <a:lnTo>
                    <a:pt x="2" y="1672"/>
                  </a:lnTo>
                  <a:lnTo>
                    <a:pt x="2" y="1670"/>
                  </a:lnTo>
                  <a:lnTo>
                    <a:pt x="3" y="1670"/>
                  </a:lnTo>
                  <a:lnTo>
                    <a:pt x="4" y="1670"/>
                  </a:lnTo>
                  <a:lnTo>
                    <a:pt x="4" y="1672"/>
                  </a:lnTo>
                  <a:lnTo>
                    <a:pt x="4" y="1672"/>
                  </a:lnTo>
                  <a:lnTo>
                    <a:pt x="6" y="1673"/>
                  </a:lnTo>
                  <a:lnTo>
                    <a:pt x="6" y="1673"/>
                  </a:lnTo>
                  <a:close/>
                  <a:moveTo>
                    <a:pt x="6" y="1725"/>
                  </a:moveTo>
                  <a:lnTo>
                    <a:pt x="6" y="1756"/>
                  </a:lnTo>
                  <a:lnTo>
                    <a:pt x="4" y="1756"/>
                  </a:lnTo>
                  <a:lnTo>
                    <a:pt x="4" y="1757"/>
                  </a:lnTo>
                  <a:lnTo>
                    <a:pt x="4" y="1757"/>
                  </a:lnTo>
                  <a:lnTo>
                    <a:pt x="3" y="1757"/>
                  </a:lnTo>
                  <a:lnTo>
                    <a:pt x="2" y="1757"/>
                  </a:lnTo>
                  <a:lnTo>
                    <a:pt x="2" y="1757"/>
                  </a:lnTo>
                  <a:lnTo>
                    <a:pt x="0" y="1756"/>
                  </a:lnTo>
                  <a:lnTo>
                    <a:pt x="0" y="1756"/>
                  </a:lnTo>
                  <a:lnTo>
                    <a:pt x="0" y="1725"/>
                  </a:lnTo>
                  <a:lnTo>
                    <a:pt x="0" y="1725"/>
                  </a:lnTo>
                  <a:lnTo>
                    <a:pt x="2" y="1723"/>
                  </a:lnTo>
                  <a:lnTo>
                    <a:pt x="2" y="1723"/>
                  </a:lnTo>
                  <a:lnTo>
                    <a:pt x="3" y="1723"/>
                  </a:lnTo>
                  <a:lnTo>
                    <a:pt x="4" y="1723"/>
                  </a:lnTo>
                  <a:lnTo>
                    <a:pt x="4" y="1723"/>
                  </a:lnTo>
                  <a:lnTo>
                    <a:pt x="4" y="1725"/>
                  </a:lnTo>
                  <a:lnTo>
                    <a:pt x="6" y="1725"/>
                  </a:lnTo>
                  <a:lnTo>
                    <a:pt x="6" y="1725"/>
                  </a:lnTo>
                  <a:close/>
                  <a:moveTo>
                    <a:pt x="6" y="1778"/>
                  </a:moveTo>
                  <a:lnTo>
                    <a:pt x="6" y="1808"/>
                  </a:lnTo>
                  <a:lnTo>
                    <a:pt x="4" y="1809"/>
                  </a:lnTo>
                  <a:lnTo>
                    <a:pt x="4" y="1809"/>
                  </a:lnTo>
                  <a:lnTo>
                    <a:pt x="4" y="1810"/>
                  </a:lnTo>
                  <a:lnTo>
                    <a:pt x="3" y="1810"/>
                  </a:lnTo>
                  <a:lnTo>
                    <a:pt x="2" y="1810"/>
                  </a:lnTo>
                  <a:lnTo>
                    <a:pt x="2" y="1809"/>
                  </a:lnTo>
                  <a:lnTo>
                    <a:pt x="0" y="1809"/>
                  </a:lnTo>
                  <a:lnTo>
                    <a:pt x="0" y="1808"/>
                  </a:lnTo>
                  <a:lnTo>
                    <a:pt x="0" y="1778"/>
                  </a:lnTo>
                  <a:lnTo>
                    <a:pt x="0" y="1776"/>
                  </a:lnTo>
                  <a:lnTo>
                    <a:pt x="2" y="1776"/>
                  </a:lnTo>
                  <a:lnTo>
                    <a:pt x="2" y="1775"/>
                  </a:lnTo>
                  <a:lnTo>
                    <a:pt x="3" y="1775"/>
                  </a:lnTo>
                  <a:lnTo>
                    <a:pt x="4" y="1775"/>
                  </a:lnTo>
                  <a:lnTo>
                    <a:pt x="4" y="1776"/>
                  </a:lnTo>
                  <a:lnTo>
                    <a:pt x="4" y="1776"/>
                  </a:lnTo>
                  <a:lnTo>
                    <a:pt x="6" y="1778"/>
                  </a:lnTo>
                  <a:lnTo>
                    <a:pt x="6" y="1778"/>
                  </a:lnTo>
                  <a:close/>
                  <a:moveTo>
                    <a:pt x="6" y="1829"/>
                  </a:moveTo>
                  <a:lnTo>
                    <a:pt x="6" y="1861"/>
                  </a:lnTo>
                  <a:lnTo>
                    <a:pt x="4" y="1861"/>
                  </a:lnTo>
                  <a:lnTo>
                    <a:pt x="4" y="1862"/>
                  </a:lnTo>
                  <a:lnTo>
                    <a:pt x="3" y="1862"/>
                  </a:lnTo>
                  <a:lnTo>
                    <a:pt x="2" y="1862"/>
                  </a:lnTo>
                  <a:lnTo>
                    <a:pt x="0" y="1861"/>
                  </a:lnTo>
                  <a:lnTo>
                    <a:pt x="0" y="1861"/>
                  </a:lnTo>
                  <a:lnTo>
                    <a:pt x="0" y="1829"/>
                  </a:lnTo>
                  <a:lnTo>
                    <a:pt x="0" y="1828"/>
                  </a:lnTo>
                  <a:lnTo>
                    <a:pt x="2" y="1828"/>
                  </a:lnTo>
                  <a:lnTo>
                    <a:pt x="2" y="1828"/>
                  </a:lnTo>
                  <a:lnTo>
                    <a:pt x="3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6" y="1829"/>
                  </a:lnTo>
                  <a:lnTo>
                    <a:pt x="6" y="1829"/>
                  </a:lnTo>
                  <a:close/>
                  <a:moveTo>
                    <a:pt x="6" y="1882"/>
                  </a:moveTo>
                  <a:lnTo>
                    <a:pt x="6" y="1912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3" y="1915"/>
                  </a:lnTo>
                  <a:lnTo>
                    <a:pt x="2" y="1914"/>
                  </a:lnTo>
                  <a:lnTo>
                    <a:pt x="2" y="1914"/>
                  </a:lnTo>
                  <a:lnTo>
                    <a:pt x="0" y="1914"/>
                  </a:lnTo>
                  <a:lnTo>
                    <a:pt x="0" y="1912"/>
                  </a:lnTo>
                  <a:lnTo>
                    <a:pt x="0" y="1882"/>
                  </a:lnTo>
                  <a:lnTo>
                    <a:pt x="0" y="1881"/>
                  </a:lnTo>
                  <a:lnTo>
                    <a:pt x="2" y="1880"/>
                  </a:lnTo>
                  <a:lnTo>
                    <a:pt x="2" y="1880"/>
                  </a:lnTo>
                  <a:lnTo>
                    <a:pt x="3" y="1880"/>
                  </a:lnTo>
                  <a:lnTo>
                    <a:pt x="4" y="1880"/>
                  </a:lnTo>
                  <a:lnTo>
                    <a:pt x="4" y="1880"/>
                  </a:lnTo>
                  <a:lnTo>
                    <a:pt x="4" y="1881"/>
                  </a:lnTo>
                  <a:lnTo>
                    <a:pt x="6" y="1882"/>
                  </a:lnTo>
                  <a:lnTo>
                    <a:pt x="6" y="1882"/>
                  </a:lnTo>
                  <a:close/>
                  <a:moveTo>
                    <a:pt x="6" y="1934"/>
                  </a:moveTo>
                  <a:lnTo>
                    <a:pt x="6" y="1964"/>
                  </a:lnTo>
                  <a:lnTo>
                    <a:pt x="4" y="1965"/>
                  </a:lnTo>
                  <a:lnTo>
                    <a:pt x="4" y="1967"/>
                  </a:lnTo>
                  <a:lnTo>
                    <a:pt x="4" y="1967"/>
                  </a:lnTo>
                  <a:lnTo>
                    <a:pt x="3" y="1967"/>
                  </a:lnTo>
                  <a:lnTo>
                    <a:pt x="2" y="1967"/>
                  </a:lnTo>
                  <a:lnTo>
                    <a:pt x="2" y="1967"/>
                  </a:lnTo>
                  <a:lnTo>
                    <a:pt x="0" y="1965"/>
                  </a:lnTo>
                  <a:lnTo>
                    <a:pt x="0" y="1964"/>
                  </a:lnTo>
                  <a:lnTo>
                    <a:pt x="0" y="1934"/>
                  </a:lnTo>
                  <a:lnTo>
                    <a:pt x="0" y="1933"/>
                  </a:lnTo>
                  <a:lnTo>
                    <a:pt x="2" y="1933"/>
                  </a:lnTo>
                  <a:lnTo>
                    <a:pt x="2" y="1931"/>
                  </a:lnTo>
                  <a:lnTo>
                    <a:pt x="3" y="1931"/>
                  </a:lnTo>
                  <a:lnTo>
                    <a:pt x="4" y="1931"/>
                  </a:lnTo>
                  <a:lnTo>
                    <a:pt x="4" y="1933"/>
                  </a:lnTo>
                  <a:lnTo>
                    <a:pt x="4" y="1933"/>
                  </a:lnTo>
                  <a:lnTo>
                    <a:pt x="6" y="1934"/>
                  </a:lnTo>
                  <a:lnTo>
                    <a:pt x="6" y="1934"/>
                  </a:lnTo>
                  <a:close/>
                  <a:moveTo>
                    <a:pt x="6" y="1986"/>
                  </a:moveTo>
                  <a:lnTo>
                    <a:pt x="6" y="2017"/>
                  </a:lnTo>
                  <a:lnTo>
                    <a:pt x="4" y="2017"/>
                  </a:lnTo>
                  <a:lnTo>
                    <a:pt x="4" y="2018"/>
                  </a:lnTo>
                  <a:lnTo>
                    <a:pt x="4" y="2018"/>
                  </a:lnTo>
                  <a:lnTo>
                    <a:pt x="3" y="2018"/>
                  </a:lnTo>
                  <a:lnTo>
                    <a:pt x="2" y="2018"/>
                  </a:lnTo>
                  <a:lnTo>
                    <a:pt x="2" y="2018"/>
                  </a:lnTo>
                  <a:lnTo>
                    <a:pt x="0" y="2017"/>
                  </a:lnTo>
                  <a:lnTo>
                    <a:pt x="0" y="2017"/>
                  </a:lnTo>
                  <a:lnTo>
                    <a:pt x="0" y="1986"/>
                  </a:lnTo>
                  <a:lnTo>
                    <a:pt x="0" y="1986"/>
                  </a:lnTo>
                  <a:lnTo>
                    <a:pt x="2" y="1984"/>
                  </a:lnTo>
                  <a:lnTo>
                    <a:pt x="2" y="1984"/>
                  </a:lnTo>
                  <a:lnTo>
                    <a:pt x="3" y="1984"/>
                  </a:lnTo>
                  <a:lnTo>
                    <a:pt x="4" y="1984"/>
                  </a:lnTo>
                  <a:lnTo>
                    <a:pt x="4" y="1984"/>
                  </a:lnTo>
                  <a:lnTo>
                    <a:pt x="4" y="1986"/>
                  </a:lnTo>
                  <a:lnTo>
                    <a:pt x="6" y="1986"/>
                  </a:lnTo>
                  <a:lnTo>
                    <a:pt x="6" y="1986"/>
                  </a:lnTo>
                  <a:close/>
                  <a:moveTo>
                    <a:pt x="6" y="2039"/>
                  </a:moveTo>
                  <a:lnTo>
                    <a:pt x="6" y="2069"/>
                  </a:lnTo>
                  <a:lnTo>
                    <a:pt x="4" y="2070"/>
                  </a:lnTo>
                  <a:lnTo>
                    <a:pt x="4" y="2070"/>
                  </a:lnTo>
                  <a:lnTo>
                    <a:pt x="4" y="2071"/>
                  </a:lnTo>
                  <a:lnTo>
                    <a:pt x="3" y="2071"/>
                  </a:lnTo>
                  <a:lnTo>
                    <a:pt x="2" y="2071"/>
                  </a:lnTo>
                  <a:lnTo>
                    <a:pt x="2" y="2070"/>
                  </a:lnTo>
                  <a:lnTo>
                    <a:pt x="0" y="2070"/>
                  </a:lnTo>
                  <a:lnTo>
                    <a:pt x="0" y="2069"/>
                  </a:lnTo>
                  <a:lnTo>
                    <a:pt x="0" y="2039"/>
                  </a:lnTo>
                  <a:lnTo>
                    <a:pt x="0" y="2037"/>
                  </a:lnTo>
                  <a:lnTo>
                    <a:pt x="2" y="2037"/>
                  </a:lnTo>
                  <a:lnTo>
                    <a:pt x="2" y="2036"/>
                  </a:lnTo>
                  <a:lnTo>
                    <a:pt x="3" y="2036"/>
                  </a:lnTo>
                  <a:lnTo>
                    <a:pt x="4" y="2036"/>
                  </a:lnTo>
                  <a:lnTo>
                    <a:pt x="4" y="2037"/>
                  </a:lnTo>
                  <a:lnTo>
                    <a:pt x="4" y="2037"/>
                  </a:lnTo>
                  <a:lnTo>
                    <a:pt x="6" y="2039"/>
                  </a:lnTo>
                  <a:lnTo>
                    <a:pt x="6" y="2039"/>
                  </a:lnTo>
                  <a:close/>
                  <a:moveTo>
                    <a:pt x="6" y="2090"/>
                  </a:moveTo>
                  <a:lnTo>
                    <a:pt x="6" y="2122"/>
                  </a:lnTo>
                  <a:lnTo>
                    <a:pt x="4" y="2122"/>
                  </a:lnTo>
                  <a:lnTo>
                    <a:pt x="4" y="2123"/>
                  </a:lnTo>
                  <a:lnTo>
                    <a:pt x="3" y="2123"/>
                  </a:lnTo>
                  <a:lnTo>
                    <a:pt x="2" y="2123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090"/>
                  </a:lnTo>
                  <a:lnTo>
                    <a:pt x="0" y="2089"/>
                  </a:lnTo>
                  <a:lnTo>
                    <a:pt x="2" y="2089"/>
                  </a:lnTo>
                  <a:lnTo>
                    <a:pt x="2" y="2089"/>
                  </a:lnTo>
                  <a:lnTo>
                    <a:pt x="3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6" y="2090"/>
                  </a:lnTo>
                  <a:lnTo>
                    <a:pt x="6" y="2090"/>
                  </a:lnTo>
                  <a:close/>
                  <a:moveTo>
                    <a:pt x="6" y="2143"/>
                  </a:moveTo>
                  <a:lnTo>
                    <a:pt x="6" y="2173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3" y="2176"/>
                  </a:lnTo>
                  <a:lnTo>
                    <a:pt x="2" y="2175"/>
                  </a:lnTo>
                  <a:lnTo>
                    <a:pt x="2" y="2175"/>
                  </a:lnTo>
                  <a:lnTo>
                    <a:pt x="0" y="2175"/>
                  </a:lnTo>
                  <a:lnTo>
                    <a:pt x="0" y="2173"/>
                  </a:lnTo>
                  <a:lnTo>
                    <a:pt x="0" y="2143"/>
                  </a:lnTo>
                  <a:lnTo>
                    <a:pt x="0" y="2142"/>
                  </a:lnTo>
                  <a:lnTo>
                    <a:pt x="2" y="2141"/>
                  </a:lnTo>
                  <a:lnTo>
                    <a:pt x="2" y="2141"/>
                  </a:lnTo>
                  <a:lnTo>
                    <a:pt x="3" y="2141"/>
                  </a:lnTo>
                  <a:lnTo>
                    <a:pt x="4" y="2141"/>
                  </a:lnTo>
                  <a:lnTo>
                    <a:pt x="4" y="2141"/>
                  </a:lnTo>
                  <a:lnTo>
                    <a:pt x="4" y="2142"/>
                  </a:lnTo>
                  <a:lnTo>
                    <a:pt x="6" y="2143"/>
                  </a:lnTo>
                  <a:lnTo>
                    <a:pt x="6" y="2143"/>
                  </a:lnTo>
                  <a:close/>
                  <a:moveTo>
                    <a:pt x="6" y="2195"/>
                  </a:moveTo>
                  <a:lnTo>
                    <a:pt x="6" y="2225"/>
                  </a:lnTo>
                  <a:lnTo>
                    <a:pt x="4" y="2226"/>
                  </a:lnTo>
                  <a:lnTo>
                    <a:pt x="4" y="2228"/>
                  </a:lnTo>
                  <a:lnTo>
                    <a:pt x="4" y="2228"/>
                  </a:lnTo>
                  <a:lnTo>
                    <a:pt x="3" y="2228"/>
                  </a:lnTo>
                  <a:lnTo>
                    <a:pt x="2" y="2228"/>
                  </a:lnTo>
                  <a:lnTo>
                    <a:pt x="2" y="2228"/>
                  </a:lnTo>
                  <a:lnTo>
                    <a:pt x="0" y="2226"/>
                  </a:lnTo>
                  <a:lnTo>
                    <a:pt x="0" y="2225"/>
                  </a:lnTo>
                  <a:lnTo>
                    <a:pt x="0" y="2195"/>
                  </a:lnTo>
                  <a:lnTo>
                    <a:pt x="0" y="2194"/>
                  </a:lnTo>
                  <a:lnTo>
                    <a:pt x="2" y="2194"/>
                  </a:lnTo>
                  <a:lnTo>
                    <a:pt x="2" y="2192"/>
                  </a:lnTo>
                  <a:lnTo>
                    <a:pt x="3" y="2192"/>
                  </a:lnTo>
                  <a:lnTo>
                    <a:pt x="4" y="2192"/>
                  </a:lnTo>
                  <a:lnTo>
                    <a:pt x="4" y="2194"/>
                  </a:lnTo>
                  <a:lnTo>
                    <a:pt x="4" y="2194"/>
                  </a:lnTo>
                  <a:lnTo>
                    <a:pt x="6" y="2195"/>
                  </a:lnTo>
                  <a:lnTo>
                    <a:pt x="6" y="2195"/>
                  </a:lnTo>
                  <a:close/>
                  <a:moveTo>
                    <a:pt x="6" y="2247"/>
                  </a:moveTo>
                  <a:lnTo>
                    <a:pt x="6" y="2278"/>
                  </a:lnTo>
                  <a:lnTo>
                    <a:pt x="4" y="2278"/>
                  </a:lnTo>
                  <a:lnTo>
                    <a:pt x="4" y="2279"/>
                  </a:lnTo>
                  <a:lnTo>
                    <a:pt x="4" y="2279"/>
                  </a:lnTo>
                  <a:lnTo>
                    <a:pt x="3" y="2279"/>
                  </a:lnTo>
                  <a:lnTo>
                    <a:pt x="2" y="2279"/>
                  </a:lnTo>
                  <a:lnTo>
                    <a:pt x="2" y="2279"/>
                  </a:lnTo>
                  <a:lnTo>
                    <a:pt x="0" y="2278"/>
                  </a:lnTo>
                  <a:lnTo>
                    <a:pt x="0" y="2278"/>
                  </a:lnTo>
                  <a:lnTo>
                    <a:pt x="0" y="2247"/>
                  </a:lnTo>
                  <a:lnTo>
                    <a:pt x="0" y="2247"/>
                  </a:lnTo>
                  <a:lnTo>
                    <a:pt x="2" y="2245"/>
                  </a:lnTo>
                  <a:lnTo>
                    <a:pt x="2" y="2245"/>
                  </a:lnTo>
                  <a:lnTo>
                    <a:pt x="3" y="2245"/>
                  </a:lnTo>
                  <a:lnTo>
                    <a:pt x="4" y="2245"/>
                  </a:lnTo>
                  <a:lnTo>
                    <a:pt x="4" y="2245"/>
                  </a:lnTo>
                  <a:lnTo>
                    <a:pt x="4" y="2247"/>
                  </a:lnTo>
                  <a:lnTo>
                    <a:pt x="6" y="2247"/>
                  </a:lnTo>
                  <a:lnTo>
                    <a:pt x="6" y="2247"/>
                  </a:lnTo>
                  <a:close/>
                  <a:moveTo>
                    <a:pt x="6" y="2300"/>
                  </a:moveTo>
                  <a:lnTo>
                    <a:pt x="6" y="2330"/>
                  </a:lnTo>
                  <a:lnTo>
                    <a:pt x="4" y="2331"/>
                  </a:lnTo>
                  <a:lnTo>
                    <a:pt x="4" y="2331"/>
                  </a:lnTo>
                  <a:lnTo>
                    <a:pt x="4" y="2333"/>
                  </a:lnTo>
                  <a:lnTo>
                    <a:pt x="3" y="2333"/>
                  </a:lnTo>
                  <a:lnTo>
                    <a:pt x="2" y="2333"/>
                  </a:lnTo>
                  <a:lnTo>
                    <a:pt x="2" y="2331"/>
                  </a:lnTo>
                  <a:lnTo>
                    <a:pt x="0" y="2331"/>
                  </a:lnTo>
                  <a:lnTo>
                    <a:pt x="0" y="2330"/>
                  </a:lnTo>
                  <a:lnTo>
                    <a:pt x="0" y="2300"/>
                  </a:lnTo>
                  <a:lnTo>
                    <a:pt x="0" y="2299"/>
                  </a:lnTo>
                  <a:lnTo>
                    <a:pt x="2" y="2299"/>
                  </a:lnTo>
                  <a:lnTo>
                    <a:pt x="2" y="2297"/>
                  </a:lnTo>
                  <a:lnTo>
                    <a:pt x="3" y="2297"/>
                  </a:lnTo>
                  <a:lnTo>
                    <a:pt x="4" y="2297"/>
                  </a:lnTo>
                  <a:lnTo>
                    <a:pt x="4" y="2299"/>
                  </a:lnTo>
                  <a:lnTo>
                    <a:pt x="4" y="2299"/>
                  </a:lnTo>
                  <a:lnTo>
                    <a:pt x="6" y="2300"/>
                  </a:lnTo>
                  <a:lnTo>
                    <a:pt x="6" y="2300"/>
                  </a:lnTo>
                  <a:close/>
                  <a:moveTo>
                    <a:pt x="6" y="2352"/>
                  </a:moveTo>
                  <a:lnTo>
                    <a:pt x="6" y="2383"/>
                  </a:lnTo>
                  <a:lnTo>
                    <a:pt x="4" y="2383"/>
                  </a:lnTo>
                  <a:lnTo>
                    <a:pt x="4" y="2384"/>
                  </a:lnTo>
                  <a:lnTo>
                    <a:pt x="3" y="2384"/>
                  </a:lnTo>
                  <a:lnTo>
                    <a:pt x="2" y="2384"/>
                  </a:lnTo>
                  <a:lnTo>
                    <a:pt x="0" y="2383"/>
                  </a:lnTo>
                  <a:lnTo>
                    <a:pt x="0" y="2383"/>
                  </a:lnTo>
                  <a:lnTo>
                    <a:pt x="0" y="2352"/>
                  </a:lnTo>
                  <a:lnTo>
                    <a:pt x="0" y="2350"/>
                  </a:lnTo>
                  <a:lnTo>
                    <a:pt x="2" y="2350"/>
                  </a:lnTo>
                  <a:lnTo>
                    <a:pt x="2" y="2350"/>
                  </a:lnTo>
                  <a:lnTo>
                    <a:pt x="3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6" y="2352"/>
                  </a:lnTo>
                  <a:lnTo>
                    <a:pt x="6" y="2352"/>
                  </a:lnTo>
                  <a:close/>
                  <a:moveTo>
                    <a:pt x="6" y="2405"/>
                  </a:moveTo>
                  <a:lnTo>
                    <a:pt x="6" y="2435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3" y="2437"/>
                  </a:lnTo>
                  <a:lnTo>
                    <a:pt x="2" y="2436"/>
                  </a:lnTo>
                  <a:lnTo>
                    <a:pt x="2" y="2436"/>
                  </a:lnTo>
                  <a:lnTo>
                    <a:pt x="0" y="2436"/>
                  </a:lnTo>
                  <a:lnTo>
                    <a:pt x="0" y="2435"/>
                  </a:lnTo>
                  <a:lnTo>
                    <a:pt x="0" y="2405"/>
                  </a:lnTo>
                  <a:lnTo>
                    <a:pt x="0" y="2403"/>
                  </a:lnTo>
                  <a:lnTo>
                    <a:pt x="2" y="2402"/>
                  </a:lnTo>
                  <a:lnTo>
                    <a:pt x="2" y="2402"/>
                  </a:lnTo>
                  <a:lnTo>
                    <a:pt x="3" y="2402"/>
                  </a:lnTo>
                  <a:lnTo>
                    <a:pt x="4" y="2402"/>
                  </a:lnTo>
                  <a:lnTo>
                    <a:pt x="4" y="2402"/>
                  </a:lnTo>
                  <a:lnTo>
                    <a:pt x="4" y="2403"/>
                  </a:lnTo>
                  <a:lnTo>
                    <a:pt x="6" y="2405"/>
                  </a:lnTo>
                  <a:lnTo>
                    <a:pt x="6" y="2405"/>
                  </a:lnTo>
                  <a:close/>
                  <a:moveTo>
                    <a:pt x="6" y="2456"/>
                  </a:moveTo>
                  <a:lnTo>
                    <a:pt x="6" y="2486"/>
                  </a:lnTo>
                  <a:lnTo>
                    <a:pt x="4" y="2488"/>
                  </a:lnTo>
                  <a:lnTo>
                    <a:pt x="4" y="2489"/>
                  </a:lnTo>
                  <a:lnTo>
                    <a:pt x="4" y="2489"/>
                  </a:lnTo>
                  <a:lnTo>
                    <a:pt x="3" y="2489"/>
                  </a:lnTo>
                  <a:lnTo>
                    <a:pt x="2" y="2489"/>
                  </a:lnTo>
                  <a:lnTo>
                    <a:pt x="2" y="2489"/>
                  </a:lnTo>
                  <a:lnTo>
                    <a:pt x="0" y="2488"/>
                  </a:lnTo>
                  <a:lnTo>
                    <a:pt x="0" y="2486"/>
                  </a:lnTo>
                  <a:lnTo>
                    <a:pt x="0" y="2456"/>
                  </a:lnTo>
                  <a:lnTo>
                    <a:pt x="0" y="2455"/>
                  </a:lnTo>
                  <a:lnTo>
                    <a:pt x="2" y="2455"/>
                  </a:lnTo>
                  <a:lnTo>
                    <a:pt x="2" y="2454"/>
                  </a:lnTo>
                  <a:lnTo>
                    <a:pt x="3" y="2454"/>
                  </a:lnTo>
                  <a:lnTo>
                    <a:pt x="4" y="2454"/>
                  </a:lnTo>
                  <a:lnTo>
                    <a:pt x="4" y="2455"/>
                  </a:lnTo>
                  <a:lnTo>
                    <a:pt x="4" y="2455"/>
                  </a:lnTo>
                  <a:lnTo>
                    <a:pt x="6" y="2456"/>
                  </a:lnTo>
                  <a:lnTo>
                    <a:pt x="6" y="2456"/>
                  </a:lnTo>
                  <a:close/>
                  <a:moveTo>
                    <a:pt x="6" y="2508"/>
                  </a:moveTo>
                  <a:lnTo>
                    <a:pt x="6" y="2539"/>
                  </a:lnTo>
                  <a:lnTo>
                    <a:pt x="4" y="2539"/>
                  </a:lnTo>
                  <a:lnTo>
                    <a:pt x="4" y="2541"/>
                  </a:lnTo>
                  <a:lnTo>
                    <a:pt x="4" y="2541"/>
                  </a:lnTo>
                  <a:lnTo>
                    <a:pt x="3" y="2541"/>
                  </a:lnTo>
                  <a:lnTo>
                    <a:pt x="2" y="2541"/>
                  </a:lnTo>
                  <a:lnTo>
                    <a:pt x="2" y="2541"/>
                  </a:lnTo>
                  <a:lnTo>
                    <a:pt x="0" y="2539"/>
                  </a:lnTo>
                  <a:lnTo>
                    <a:pt x="0" y="2539"/>
                  </a:lnTo>
                  <a:lnTo>
                    <a:pt x="0" y="2508"/>
                  </a:lnTo>
                  <a:lnTo>
                    <a:pt x="0" y="2508"/>
                  </a:lnTo>
                  <a:lnTo>
                    <a:pt x="2" y="2507"/>
                  </a:lnTo>
                  <a:lnTo>
                    <a:pt x="2" y="2507"/>
                  </a:lnTo>
                  <a:lnTo>
                    <a:pt x="3" y="2507"/>
                  </a:lnTo>
                  <a:lnTo>
                    <a:pt x="4" y="2507"/>
                  </a:lnTo>
                  <a:lnTo>
                    <a:pt x="4" y="2507"/>
                  </a:lnTo>
                  <a:lnTo>
                    <a:pt x="4" y="2508"/>
                  </a:lnTo>
                  <a:lnTo>
                    <a:pt x="6" y="2508"/>
                  </a:lnTo>
                  <a:lnTo>
                    <a:pt x="6" y="2508"/>
                  </a:lnTo>
                  <a:close/>
                  <a:moveTo>
                    <a:pt x="6" y="2561"/>
                  </a:moveTo>
                  <a:lnTo>
                    <a:pt x="6" y="2591"/>
                  </a:lnTo>
                  <a:lnTo>
                    <a:pt x="4" y="2592"/>
                  </a:lnTo>
                  <a:lnTo>
                    <a:pt x="4" y="2592"/>
                  </a:lnTo>
                  <a:lnTo>
                    <a:pt x="4" y="2594"/>
                  </a:lnTo>
                  <a:lnTo>
                    <a:pt x="3" y="2594"/>
                  </a:lnTo>
                  <a:lnTo>
                    <a:pt x="2" y="2594"/>
                  </a:lnTo>
                  <a:lnTo>
                    <a:pt x="2" y="2592"/>
                  </a:lnTo>
                  <a:lnTo>
                    <a:pt x="0" y="2592"/>
                  </a:lnTo>
                  <a:lnTo>
                    <a:pt x="0" y="2591"/>
                  </a:lnTo>
                  <a:lnTo>
                    <a:pt x="0" y="2561"/>
                  </a:lnTo>
                  <a:lnTo>
                    <a:pt x="0" y="2560"/>
                  </a:lnTo>
                  <a:lnTo>
                    <a:pt x="2" y="2560"/>
                  </a:lnTo>
                  <a:lnTo>
                    <a:pt x="2" y="2558"/>
                  </a:lnTo>
                  <a:lnTo>
                    <a:pt x="3" y="2558"/>
                  </a:lnTo>
                  <a:lnTo>
                    <a:pt x="4" y="2558"/>
                  </a:lnTo>
                  <a:lnTo>
                    <a:pt x="4" y="2560"/>
                  </a:lnTo>
                  <a:lnTo>
                    <a:pt x="4" y="2560"/>
                  </a:lnTo>
                  <a:lnTo>
                    <a:pt x="6" y="2561"/>
                  </a:lnTo>
                  <a:lnTo>
                    <a:pt x="6" y="2561"/>
                  </a:lnTo>
                  <a:close/>
                  <a:moveTo>
                    <a:pt x="6" y="2613"/>
                  </a:moveTo>
                  <a:lnTo>
                    <a:pt x="6" y="2644"/>
                  </a:lnTo>
                  <a:lnTo>
                    <a:pt x="4" y="2644"/>
                  </a:lnTo>
                  <a:lnTo>
                    <a:pt x="4" y="2645"/>
                  </a:lnTo>
                  <a:lnTo>
                    <a:pt x="3" y="2645"/>
                  </a:lnTo>
                  <a:lnTo>
                    <a:pt x="2" y="2645"/>
                  </a:lnTo>
                  <a:lnTo>
                    <a:pt x="0" y="2644"/>
                  </a:lnTo>
                  <a:lnTo>
                    <a:pt x="0" y="2644"/>
                  </a:lnTo>
                  <a:lnTo>
                    <a:pt x="0" y="2613"/>
                  </a:lnTo>
                  <a:lnTo>
                    <a:pt x="0" y="2611"/>
                  </a:lnTo>
                  <a:lnTo>
                    <a:pt x="2" y="2611"/>
                  </a:lnTo>
                  <a:lnTo>
                    <a:pt x="2" y="2611"/>
                  </a:lnTo>
                  <a:lnTo>
                    <a:pt x="3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6" y="2613"/>
                  </a:lnTo>
                  <a:lnTo>
                    <a:pt x="6" y="2613"/>
                  </a:lnTo>
                  <a:close/>
                  <a:moveTo>
                    <a:pt x="6" y="2666"/>
                  </a:moveTo>
                  <a:lnTo>
                    <a:pt x="6" y="2696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3" y="2698"/>
                  </a:lnTo>
                  <a:lnTo>
                    <a:pt x="2" y="2697"/>
                  </a:lnTo>
                  <a:lnTo>
                    <a:pt x="2" y="2697"/>
                  </a:lnTo>
                  <a:lnTo>
                    <a:pt x="0" y="2697"/>
                  </a:lnTo>
                  <a:lnTo>
                    <a:pt x="0" y="2696"/>
                  </a:lnTo>
                  <a:lnTo>
                    <a:pt x="0" y="2666"/>
                  </a:lnTo>
                  <a:lnTo>
                    <a:pt x="0" y="2664"/>
                  </a:lnTo>
                  <a:lnTo>
                    <a:pt x="2" y="2663"/>
                  </a:lnTo>
                  <a:lnTo>
                    <a:pt x="2" y="2663"/>
                  </a:lnTo>
                  <a:lnTo>
                    <a:pt x="3" y="2663"/>
                  </a:lnTo>
                  <a:lnTo>
                    <a:pt x="4" y="2663"/>
                  </a:lnTo>
                  <a:lnTo>
                    <a:pt x="4" y="2663"/>
                  </a:lnTo>
                  <a:lnTo>
                    <a:pt x="4" y="2664"/>
                  </a:lnTo>
                  <a:lnTo>
                    <a:pt x="6" y="2666"/>
                  </a:lnTo>
                  <a:lnTo>
                    <a:pt x="6" y="2666"/>
                  </a:lnTo>
                  <a:close/>
                  <a:moveTo>
                    <a:pt x="6" y="2717"/>
                  </a:moveTo>
                  <a:lnTo>
                    <a:pt x="6" y="2747"/>
                  </a:lnTo>
                  <a:lnTo>
                    <a:pt x="4" y="2749"/>
                  </a:lnTo>
                  <a:lnTo>
                    <a:pt x="4" y="2750"/>
                  </a:lnTo>
                  <a:lnTo>
                    <a:pt x="4" y="2750"/>
                  </a:lnTo>
                  <a:lnTo>
                    <a:pt x="3" y="2750"/>
                  </a:lnTo>
                  <a:lnTo>
                    <a:pt x="2" y="2750"/>
                  </a:lnTo>
                  <a:lnTo>
                    <a:pt x="2" y="2750"/>
                  </a:lnTo>
                  <a:lnTo>
                    <a:pt x="0" y="2749"/>
                  </a:lnTo>
                  <a:lnTo>
                    <a:pt x="0" y="2747"/>
                  </a:lnTo>
                  <a:lnTo>
                    <a:pt x="0" y="2717"/>
                  </a:lnTo>
                  <a:lnTo>
                    <a:pt x="0" y="2716"/>
                  </a:lnTo>
                  <a:lnTo>
                    <a:pt x="2" y="2716"/>
                  </a:lnTo>
                  <a:lnTo>
                    <a:pt x="2" y="2715"/>
                  </a:lnTo>
                  <a:lnTo>
                    <a:pt x="3" y="2715"/>
                  </a:lnTo>
                  <a:lnTo>
                    <a:pt x="4" y="2715"/>
                  </a:lnTo>
                  <a:lnTo>
                    <a:pt x="4" y="2716"/>
                  </a:lnTo>
                  <a:lnTo>
                    <a:pt x="4" y="2716"/>
                  </a:lnTo>
                  <a:lnTo>
                    <a:pt x="6" y="2717"/>
                  </a:lnTo>
                  <a:lnTo>
                    <a:pt x="6" y="2717"/>
                  </a:lnTo>
                  <a:close/>
                  <a:moveTo>
                    <a:pt x="6" y="2769"/>
                  </a:moveTo>
                  <a:lnTo>
                    <a:pt x="6" y="2800"/>
                  </a:lnTo>
                  <a:lnTo>
                    <a:pt x="4" y="2800"/>
                  </a:lnTo>
                  <a:lnTo>
                    <a:pt x="4" y="2802"/>
                  </a:lnTo>
                  <a:lnTo>
                    <a:pt x="4" y="2802"/>
                  </a:lnTo>
                  <a:lnTo>
                    <a:pt x="3" y="2802"/>
                  </a:lnTo>
                  <a:lnTo>
                    <a:pt x="2" y="2802"/>
                  </a:lnTo>
                  <a:lnTo>
                    <a:pt x="2" y="2802"/>
                  </a:lnTo>
                  <a:lnTo>
                    <a:pt x="0" y="2800"/>
                  </a:lnTo>
                  <a:lnTo>
                    <a:pt x="0" y="2800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2" y="2768"/>
                  </a:lnTo>
                  <a:lnTo>
                    <a:pt x="2" y="2768"/>
                  </a:lnTo>
                  <a:lnTo>
                    <a:pt x="3" y="2768"/>
                  </a:lnTo>
                  <a:lnTo>
                    <a:pt x="4" y="2768"/>
                  </a:lnTo>
                  <a:lnTo>
                    <a:pt x="4" y="2768"/>
                  </a:lnTo>
                  <a:lnTo>
                    <a:pt x="4" y="2769"/>
                  </a:lnTo>
                  <a:lnTo>
                    <a:pt x="6" y="2769"/>
                  </a:lnTo>
                  <a:lnTo>
                    <a:pt x="6" y="2769"/>
                  </a:lnTo>
                  <a:close/>
                  <a:moveTo>
                    <a:pt x="6" y="2822"/>
                  </a:moveTo>
                  <a:lnTo>
                    <a:pt x="6" y="2852"/>
                  </a:lnTo>
                  <a:lnTo>
                    <a:pt x="4" y="2853"/>
                  </a:lnTo>
                  <a:lnTo>
                    <a:pt x="4" y="2853"/>
                  </a:lnTo>
                  <a:lnTo>
                    <a:pt x="4" y="2855"/>
                  </a:lnTo>
                  <a:lnTo>
                    <a:pt x="3" y="2855"/>
                  </a:lnTo>
                  <a:lnTo>
                    <a:pt x="2" y="2855"/>
                  </a:lnTo>
                  <a:lnTo>
                    <a:pt x="2" y="2853"/>
                  </a:lnTo>
                  <a:lnTo>
                    <a:pt x="0" y="2853"/>
                  </a:lnTo>
                  <a:lnTo>
                    <a:pt x="0" y="2852"/>
                  </a:lnTo>
                  <a:lnTo>
                    <a:pt x="0" y="2822"/>
                  </a:lnTo>
                  <a:lnTo>
                    <a:pt x="0" y="2821"/>
                  </a:lnTo>
                  <a:lnTo>
                    <a:pt x="2" y="2821"/>
                  </a:lnTo>
                  <a:lnTo>
                    <a:pt x="2" y="2819"/>
                  </a:lnTo>
                  <a:lnTo>
                    <a:pt x="3" y="2819"/>
                  </a:lnTo>
                  <a:lnTo>
                    <a:pt x="4" y="2819"/>
                  </a:lnTo>
                  <a:lnTo>
                    <a:pt x="4" y="2821"/>
                  </a:lnTo>
                  <a:lnTo>
                    <a:pt x="4" y="2821"/>
                  </a:lnTo>
                  <a:lnTo>
                    <a:pt x="6" y="2822"/>
                  </a:lnTo>
                  <a:lnTo>
                    <a:pt x="6" y="2822"/>
                  </a:lnTo>
                  <a:close/>
                  <a:moveTo>
                    <a:pt x="6" y="2874"/>
                  </a:moveTo>
                  <a:lnTo>
                    <a:pt x="6" y="2905"/>
                  </a:lnTo>
                  <a:lnTo>
                    <a:pt x="4" y="2905"/>
                  </a:lnTo>
                  <a:lnTo>
                    <a:pt x="4" y="2906"/>
                  </a:lnTo>
                  <a:lnTo>
                    <a:pt x="3" y="2906"/>
                  </a:lnTo>
                  <a:lnTo>
                    <a:pt x="2" y="2906"/>
                  </a:lnTo>
                  <a:lnTo>
                    <a:pt x="0" y="2905"/>
                  </a:lnTo>
                  <a:lnTo>
                    <a:pt x="0" y="2905"/>
                  </a:lnTo>
                  <a:lnTo>
                    <a:pt x="0" y="2874"/>
                  </a:lnTo>
                  <a:lnTo>
                    <a:pt x="0" y="2872"/>
                  </a:lnTo>
                  <a:lnTo>
                    <a:pt x="2" y="2872"/>
                  </a:lnTo>
                  <a:lnTo>
                    <a:pt x="2" y="2872"/>
                  </a:lnTo>
                  <a:lnTo>
                    <a:pt x="3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6" y="2874"/>
                  </a:lnTo>
                  <a:lnTo>
                    <a:pt x="6" y="2874"/>
                  </a:lnTo>
                  <a:close/>
                  <a:moveTo>
                    <a:pt x="6" y="2927"/>
                  </a:moveTo>
                  <a:lnTo>
                    <a:pt x="6" y="2957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3" y="2960"/>
                  </a:lnTo>
                  <a:lnTo>
                    <a:pt x="2" y="2958"/>
                  </a:lnTo>
                  <a:lnTo>
                    <a:pt x="2" y="2958"/>
                  </a:lnTo>
                  <a:lnTo>
                    <a:pt x="0" y="2958"/>
                  </a:lnTo>
                  <a:lnTo>
                    <a:pt x="0" y="2957"/>
                  </a:lnTo>
                  <a:lnTo>
                    <a:pt x="0" y="2927"/>
                  </a:lnTo>
                  <a:lnTo>
                    <a:pt x="0" y="2926"/>
                  </a:lnTo>
                  <a:lnTo>
                    <a:pt x="2" y="2924"/>
                  </a:lnTo>
                  <a:lnTo>
                    <a:pt x="2" y="2924"/>
                  </a:lnTo>
                  <a:lnTo>
                    <a:pt x="3" y="2924"/>
                  </a:lnTo>
                  <a:lnTo>
                    <a:pt x="4" y="2924"/>
                  </a:lnTo>
                  <a:lnTo>
                    <a:pt x="4" y="2924"/>
                  </a:lnTo>
                  <a:lnTo>
                    <a:pt x="4" y="2926"/>
                  </a:lnTo>
                  <a:lnTo>
                    <a:pt x="6" y="2927"/>
                  </a:lnTo>
                  <a:lnTo>
                    <a:pt x="6" y="2927"/>
                  </a:lnTo>
                  <a:close/>
                  <a:moveTo>
                    <a:pt x="6" y="2979"/>
                  </a:moveTo>
                  <a:lnTo>
                    <a:pt x="6" y="3008"/>
                  </a:lnTo>
                  <a:lnTo>
                    <a:pt x="4" y="3010"/>
                  </a:lnTo>
                  <a:lnTo>
                    <a:pt x="4" y="3011"/>
                  </a:lnTo>
                  <a:lnTo>
                    <a:pt x="4" y="3011"/>
                  </a:lnTo>
                  <a:lnTo>
                    <a:pt x="3" y="3011"/>
                  </a:lnTo>
                  <a:lnTo>
                    <a:pt x="2" y="3011"/>
                  </a:lnTo>
                  <a:lnTo>
                    <a:pt x="2" y="3011"/>
                  </a:lnTo>
                  <a:lnTo>
                    <a:pt x="0" y="3010"/>
                  </a:lnTo>
                  <a:lnTo>
                    <a:pt x="0" y="3008"/>
                  </a:lnTo>
                  <a:lnTo>
                    <a:pt x="0" y="2979"/>
                  </a:lnTo>
                  <a:lnTo>
                    <a:pt x="0" y="2977"/>
                  </a:lnTo>
                  <a:lnTo>
                    <a:pt x="2" y="2977"/>
                  </a:lnTo>
                  <a:lnTo>
                    <a:pt x="2" y="2976"/>
                  </a:lnTo>
                  <a:lnTo>
                    <a:pt x="3" y="2976"/>
                  </a:lnTo>
                  <a:lnTo>
                    <a:pt x="4" y="2976"/>
                  </a:lnTo>
                  <a:lnTo>
                    <a:pt x="4" y="2977"/>
                  </a:lnTo>
                  <a:lnTo>
                    <a:pt x="4" y="2977"/>
                  </a:lnTo>
                  <a:lnTo>
                    <a:pt x="6" y="2979"/>
                  </a:lnTo>
                  <a:lnTo>
                    <a:pt x="6" y="2979"/>
                  </a:lnTo>
                  <a:close/>
                  <a:moveTo>
                    <a:pt x="6" y="3030"/>
                  </a:moveTo>
                  <a:lnTo>
                    <a:pt x="6" y="3062"/>
                  </a:lnTo>
                  <a:lnTo>
                    <a:pt x="4" y="3062"/>
                  </a:lnTo>
                  <a:lnTo>
                    <a:pt x="4" y="3063"/>
                  </a:lnTo>
                  <a:lnTo>
                    <a:pt x="4" y="3063"/>
                  </a:lnTo>
                  <a:lnTo>
                    <a:pt x="3" y="3063"/>
                  </a:lnTo>
                  <a:lnTo>
                    <a:pt x="2" y="3063"/>
                  </a:lnTo>
                  <a:lnTo>
                    <a:pt x="2" y="3063"/>
                  </a:lnTo>
                  <a:lnTo>
                    <a:pt x="0" y="3062"/>
                  </a:lnTo>
                  <a:lnTo>
                    <a:pt x="0" y="3062"/>
                  </a:lnTo>
                  <a:lnTo>
                    <a:pt x="0" y="3030"/>
                  </a:lnTo>
                  <a:lnTo>
                    <a:pt x="0" y="3030"/>
                  </a:lnTo>
                  <a:lnTo>
                    <a:pt x="2" y="3029"/>
                  </a:lnTo>
                  <a:lnTo>
                    <a:pt x="2" y="3029"/>
                  </a:lnTo>
                  <a:lnTo>
                    <a:pt x="3" y="3029"/>
                  </a:lnTo>
                  <a:lnTo>
                    <a:pt x="4" y="3029"/>
                  </a:lnTo>
                  <a:lnTo>
                    <a:pt x="4" y="3029"/>
                  </a:lnTo>
                  <a:lnTo>
                    <a:pt x="4" y="3030"/>
                  </a:lnTo>
                  <a:lnTo>
                    <a:pt x="6" y="3030"/>
                  </a:lnTo>
                  <a:lnTo>
                    <a:pt x="6" y="3030"/>
                  </a:lnTo>
                  <a:close/>
                  <a:moveTo>
                    <a:pt x="6" y="3083"/>
                  </a:moveTo>
                  <a:lnTo>
                    <a:pt x="6" y="3102"/>
                  </a:lnTo>
                  <a:lnTo>
                    <a:pt x="4" y="3104"/>
                  </a:lnTo>
                  <a:lnTo>
                    <a:pt x="4" y="3104"/>
                  </a:lnTo>
                  <a:lnTo>
                    <a:pt x="4" y="3105"/>
                  </a:lnTo>
                  <a:lnTo>
                    <a:pt x="3" y="3105"/>
                  </a:lnTo>
                  <a:lnTo>
                    <a:pt x="2" y="3105"/>
                  </a:lnTo>
                  <a:lnTo>
                    <a:pt x="2" y="3104"/>
                  </a:lnTo>
                  <a:lnTo>
                    <a:pt x="0" y="3104"/>
                  </a:lnTo>
                  <a:lnTo>
                    <a:pt x="0" y="3102"/>
                  </a:lnTo>
                  <a:lnTo>
                    <a:pt x="0" y="3083"/>
                  </a:lnTo>
                  <a:lnTo>
                    <a:pt x="0" y="3082"/>
                  </a:lnTo>
                  <a:lnTo>
                    <a:pt x="2" y="3082"/>
                  </a:lnTo>
                  <a:lnTo>
                    <a:pt x="2" y="3081"/>
                  </a:lnTo>
                  <a:lnTo>
                    <a:pt x="3" y="3081"/>
                  </a:lnTo>
                  <a:lnTo>
                    <a:pt x="4" y="3081"/>
                  </a:lnTo>
                  <a:lnTo>
                    <a:pt x="4" y="3082"/>
                  </a:lnTo>
                  <a:lnTo>
                    <a:pt x="4" y="3082"/>
                  </a:lnTo>
                  <a:lnTo>
                    <a:pt x="6" y="3083"/>
                  </a:lnTo>
                  <a:lnTo>
                    <a:pt x="6" y="30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48640" y="1567080"/>
              <a:ext cx="6120" cy="2595600"/>
            </a:xfrm>
            <a:custGeom>
              <a:avLst/>
              <a:gdLst/>
              <a:ahLst/>
              <a:rect l="l" t="t" r="r" b="b"/>
              <a:pathLst>
                <a:path w="5" h="3105">
                  <a:moveTo>
                    <a:pt x="5" y="1"/>
                  </a:move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close/>
                  <a:moveTo>
                    <a:pt x="5" y="54"/>
                  </a:moveTo>
                  <a:lnTo>
                    <a:pt x="5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3" y="87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4"/>
                  </a:lnTo>
                  <a:close/>
                  <a:moveTo>
                    <a:pt x="5" y="106"/>
                  </a:moveTo>
                  <a:lnTo>
                    <a:pt x="5" y="136"/>
                  </a:lnTo>
                  <a:lnTo>
                    <a:pt x="4" y="137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3" y="139"/>
                  </a:lnTo>
                  <a:lnTo>
                    <a:pt x="1" y="139"/>
                  </a:lnTo>
                  <a:lnTo>
                    <a:pt x="1" y="139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5" y="106"/>
                  </a:lnTo>
                  <a:close/>
                  <a:moveTo>
                    <a:pt x="5" y="158"/>
                  </a:moveTo>
                  <a:lnTo>
                    <a:pt x="5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3" y="190"/>
                  </a:lnTo>
                  <a:lnTo>
                    <a:pt x="1" y="190"/>
                  </a:lnTo>
                  <a:lnTo>
                    <a:pt x="1" y="190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3" y="156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5" y="158"/>
                  </a:lnTo>
                  <a:lnTo>
                    <a:pt x="5" y="158"/>
                  </a:lnTo>
                  <a:close/>
                  <a:moveTo>
                    <a:pt x="5" y="211"/>
                  </a:moveTo>
                  <a:lnTo>
                    <a:pt x="5" y="241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4" y="243"/>
                  </a:lnTo>
                  <a:lnTo>
                    <a:pt x="3" y="243"/>
                  </a:lnTo>
                  <a:lnTo>
                    <a:pt x="1" y="243"/>
                  </a:lnTo>
                  <a:lnTo>
                    <a:pt x="1" y="242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1" y="209"/>
                  </a:lnTo>
                  <a:lnTo>
                    <a:pt x="1" y="208"/>
                  </a:lnTo>
                  <a:lnTo>
                    <a:pt x="3" y="208"/>
                  </a:lnTo>
                  <a:lnTo>
                    <a:pt x="4" y="208"/>
                  </a:lnTo>
                  <a:lnTo>
                    <a:pt x="4" y="209"/>
                  </a:lnTo>
                  <a:lnTo>
                    <a:pt x="4" y="209"/>
                  </a:lnTo>
                  <a:lnTo>
                    <a:pt x="5" y="211"/>
                  </a:lnTo>
                  <a:lnTo>
                    <a:pt x="5" y="211"/>
                  </a:lnTo>
                  <a:close/>
                  <a:moveTo>
                    <a:pt x="5" y="262"/>
                  </a:moveTo>
                  <a:lnTo>
                    <a:pt x="5" y="294"/>
                  </a:lnTo>
                  <a:lnTo>
                    <a:pt x="4" y="294"/>
                  </a:lnTo>
                  <a:lnTo>
                    <a:pt x="4" y="295"/>
                  </a:lnTo>
                  <a:lnTo>
                    <a:pt x="3" y="295"/>
                  </a:lnTo>
                  <a:lnTo>
                    <a:pt x="1" y="295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62"/>
                  </a:lnTo>
                  <a:lnTo>
                    <a:pt x="0" y="261"/>
                  </a:lnTo>
                  <a:lnTo>
                    <a:pt x="1" y="261"/>
                  </a:lnTo>
                  <a:lnTo>
                    <a:pt x="1" y="261"/>
                  </a:lnTo>
                  <a:lnTo>
                    <a:pt x="3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5" y="262"/>
                  </a:lnTo>
                  <a:lnTo>
                    <a:pt x="5" y="262"/>
                  </a:lnTo>
                  <a:close/>
                  <a:moveTo>
                    <a:pt x="5" y="315"/>
                  </a:moveTo>
                  <a:lnTo>
                    <a:pt x="5" y="345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3" y="348"/>
                  </a:lnTo>
                  <a:lnTo>
                    <a:pt x="1" y="347"/>
                  </a:lnTo>
                  <a:lnTo>
                    <a:pt x="1" y="347"/>
                  </a:lnTo>
                  <a:lnTo>
                    <a:pt x="0" y="347"/>
                  </a:lnTo>
                  <a:lnTo>
                    <a:pt x="0" y="345"/>
                  </a:lnTo>
                  <a:lnTo>
                    <a:pt x="0" y="315"/>
                  </a:lnTo>
                  <a:lnTo>
                    <a:pt x="0" y="314"/>
                  </a:lnTo>
                  <a:lnTo>
                    <a:pt x="1" y="313"/>
                  </a:lnTo>
                  <a:lnTo>
                    <a:pt x="1" y="313"/>
                  </a:lnTo>
                  <a:lnTo>
                    <a:pt x="3" y="313"/>
                  </a:lnTo>
                  <a:lnTo>
                    <a:pt x="4" y="313"/>
                  </a:lnTo>
                  <a:lnTo>
                    <a:pt x="4" y="313"/>
                  </a:lnTo>
                  <a:lnTo>
                    <a:pt x="4" y="314"/>
                  </a:lnTo>
                  <a:lnTo>
                    <a:pt x="5" y="315"/>
                  </a:lnTo>
                  <a:lnTo>
                    <a:pt x="5" y="315"/>
                  </a:lnTo>
                  <a:close/>
                  <a:moveTo>
                    <a:pt x="5" y="367"/>
                  </a:moveTo>
                  <a:lnTo>
                    <a:pt x="5" y="397"/>
                  </a:lnTo>
                  <a:lnTo>
                    <a:pt x="4" y="398"/>
                  </a:lnTo>
                  <a:lnTo>
                    <a:pt x="4" y="400"/>
                  </a:lnTo>
                  <a:lnTo>
                    <a:pt x="4" y="400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400"/>
                  </a:lnTo>
                  <a:lnTo>
                    <a:pt x="0" y="398"/>
                  </a:lnTo>
                  <a:lnTo>
                    <a:pt x="0" y="397"/>
                  </a:lnTo>
                  <a:lnTo>
                    <a:pt x="0" y="367"/>
                  </a:lnTo>
                  <a:lnTo>
                    <a:pt x="0" y="366"/>
                  </a:lnTo>
                  <a:lnTo>
                    <a:pt x="1" y="366"/>
                  </a:lnTo>
                  <a:lnTo>
                    <a:pt x="1" y="364"/>
                  </a:lnTo>
                  <a:lnTo>
                    <a:pt x="3" y="364"/>
                  </a:lnTo>
                  <a:lnTo>
                    <a:pt x="4" y="364"/>
                  </a:lnTo>
                  <a:lnTo>
                    <a:pt x="4" y="366"/>
                  </a:lnTo>
                  <a:lnTo>
                    <a:pt x="4" y="366"/>
                  </a:lnTo>
                  <a:lnTo>
                    <a:pt x="5" y="367"/>
                  </a:lnTo>
                  <a:lnTo>
                    <a:pt x="5" y="367"/>
                  </a:lnTo>
                  <a:close/>
                  <a:moveTo>
                    <a:pt x="5" y="419"/>
                  </a:moveTo>
                  <a:lnTo>
                    <a:pt x="5" y="450"/>
                  </a:lnTo>
                  <a:lnTo>
                    <a:pt x="4" y="450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3" y="452"/>
                  </a:lnTo>
                  <a:lnTo>
                    <a:pt x="1" y="452"/>
                  </a:lnTo>
                  <a:lnTo>
                    <a:pt x="1" y="452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1" y="418"/>
                  </a:lnTo>
                  <a:lnTo>
                    <a:pt x="1" y="418"/>
                  </a:lnTo>
                  <a:lnTo>
                    <a:pt x="3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9"/>
                  </a:lnTo>
                  <a:lnTo>
                    <a:pt x="5" y="419"/>
                  </a:lnTo>
                  <a:lnTo>
                    <a:pt x="5" y="419"/>
                  </a:lnTo>
                  <a:close/>
                  <a:moveTo>
                    <a:pt x="5" y="472"/>
                  </a:moveTo>
                  <a:lnTo>
                    <a:pt x="5" y="502"/>
                  </a:lnTo>
                  <a:lnTo>
                    <a:pt x="4" y="503"/>
                  </a:lnTo>
                  <a:lnTo>
                    <a:pt x="4" y="503"/>
                  </a:lnTo>
                  <a:lnTo>
                    <a:pt x="4" y="505"/>
                  </a:lnTo>
                  <a:lnTo>
                    <a:pt x="3" y="505"/>
                  </a:lnTo>
                  <a:lnTo>
                    <a:pt x="1" y="505"/>
                  </a:lnTo>
                  <a:lnTo>
                    <a:pt x="1" y="503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472"/>
                  </a:lnTo>
                  <a:lnTo>
                    <a:pt x="0" y="471"/>
                  </a:lnTo>
                  <a:lnTo>
                    <a:pt x="1" y="471"/>
                  </a:lnTo>
                  <a:lnTo>
                    <a:pt x="1" y="469"/>
                  </a:lnTo>
                  <a:lnTo>
                    <a:pt x="3" y="469"/>
                  </a:lnTo>
                  <a:lnTo>
                    <a:pt x="4" y="469"/>
                  </a:lnTo>
                  <a:lnTo>
                    <a:pt x="4" y="471"/>
                  </a:lnTo>
                  <a:lnTo>
                    <a:pt x="4" y="471"/>
                  </a:lnTo>
                  <a:lnTo>
                    <a:pt x="5" y="472"/>
                  </a:lnTo>
                  <a:lnTo>
                    <a:pt x="5" y="472"/>
                  </a:lnTo>
                  <a:close/>
                  <a:moveTo>
                    <a:pt x="5" y="524"/>
                  </a:moveTo>
                  <a:lnTo>
                    <a:pt x="5" y="555"/>
                  </a:lnTo>
                  <a:lnTo>
                    <a:pt x="4" y="555"/>
                  </a:lnTo>
                  <a:lnTo>
                    <a:pt x="4" y="556"/>
                  </a:lnTo>
                  <a:lnTo>
                    <a:pt x="3" y="556"/>
                  </a:lnTo>
                  <a:lnTo>
                    <a:pt x="1" y="556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24"/>
                  </a:lnTo>
                  <a:lnTo>
                    <a:pt x="0" y="522"/>
                  </a:lnTo>
                  <a:lnTo>
                    <a:pt x="1" y="522"/>
                  </a:lnTo>
                  <a:lnTo>
                    <a:pt x="1" y="522"/>
                  </a:lnTo>
                  <a:lnTo>
                    <a:pt x="3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5" y="524"/>
                  </a:lnTo>
                  <a:lnTo>
                    <a:pt x="5" y="524"/>
                  </a:lnTo>
                  <a:close/>
                  <a:moveTo>
                    <a:pt x="5" y="577"/>
                  </a:moveTo>
                  <a:lnTo>
                    <a:pt x="5" y="607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3" y="609"/>
                  </a:lnTo>
                  <a:lnTo>
                    <a:pt x="1" y="608"/>
                  </a:lnTo>
                  <a:lnTo>
                    <a:pt x="1" y="608"/>
                  </a:lnTo>
                  <a:lnTo>
                    <a:pt x="0" y="608"/>
                  </a:lnTo>
                  <a:lnTo>
                    <a:pt x="0" y="607"/>
                  </a:lnTo>
                  <a:lnTo>
                    <a:pt x="0" y="577"/>
                  </a:lnTo>
                  <a:lnTo>
                    <a:pt x="0" y="575"/>
                  </a:lnTo>
                  <a:lnTo>
                    <a:pt x="1" y="574"/>
                  </a:lnTo>
                  <a:lnTo>
                    <a:pt x="1" y="574"/>
                  </a:lnTo>
                  <a:lnTo>
                    <a:pt x="3" y="574"/>
                  </a:lnTo>
                  <a:lnTo>
                    <a:pt x="4" y="574"/>
                  </a:lnTo>
                  <a:lnTo>
                    <a:pt x="4" y="574"/>
                  </a:lnTo>
                  <a:lnTo>
                    <a:pt x="4" y="575"/>
                  </a:lnTo>
                  <a:lnTo>
                    <a:pt x="5" y="577"/>
                  </a:lnTo>
                  <a:lnTo>
                    <a:pt x="5" y="577"/>
                  </a:lnTo>
                  <a:close/>
                  <a:moveTo>
                    <a:pt x="5" y="628"/>
                  </a:moveTo>
                  <a:lnTo>
                    <a:pt x="5" y="658"/>
                  </a:lnTo>
                  <a:lnTo>
                    <a:pt x="4" y="660"/>
                  </a:lnTo>
                  <a:lnTo>
                    <a:pt x="4" y="661"/>
                  </a:lnTo>
                  <a:lnTo>
                    <a:pt x="4" y="661"/>
                  </a:lnTo>
                  <a:lnTo>
                    <a:pt x="3" y="661"/>
                  </a:lnTo>
                  <a:lnTo>
                    <a:pt x="1" y="661"/>
                  </a:lnTo>
                  <a:lnTo>
                    <a:pt x="1" y="661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28"/>
                  </a:lnTo>
                  <a:lnTo>
                    <a:pt x="0" y="627"/>
                  </a:lnTo>
                  <a:lnTo>
                    <a:pt x="1" y="627"/>
                  </a:lnTo>
                  <a:lnTo>
                    <a:pt x="1" y="626"/>
                  </a:lnTo>
                  <a:lnTo>
                    <a:pt x="3" y="626"/>
                  </a:lnTo>
                  <a:lnTo>
                    <a:pt x="4" y="626"/>
                  </a:lnTo>
                  <a:lnTo>
                    <a:pt x="4" y="627"/>
                  </a:lnTo>
                  <a:lnTo>
                    <a:pt x="4" y="627"/>
                  </a:lnTo>
                  <a:lnTo>
                    <a:pt x="5" y="628"/>
                  </a:lnTo>
                  <a:lnTo>
                    <a:pt x="5" y="628"/>
                  </a:lnTo>
                  <a:close/>
                  <a:moveTo>
                    <a:pt x="5" y="680"/>
                  </a:moveTo>
                  <a:lnTo>
                    <a:pt x="5" y="711"/>
                  </a:lnTo>
                  <a:lnTo>
                    <a:pt x="4" y="711"/>
                  </a:lnTo>
                  <a:lnTo>
                    <a:pt x="4" y="713"/>
                  </a:lnTo>
                  <a:lnTo>
                    <a:pt x="4" y="713"/>
                  </a:lnTo>
                  <a:lnTo>
                    <a:pt x="3" y="713"/>
                  </a:lnTo>
                  <a:lnTo>
                    <a:pt x="1" y="713"/>
                  </a:lnTo>
                  <a:lnTo>
                    <a:pt x="1" y="7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680"/>
                  </a:lnTo>
                  <a:lnTo>
                    <a:pt x="0" y="680"/>
                  </a:lnTo>
                  <a:lnTo>
                    <a:pt x="1" y="679"/>
                  </a:lnTo>
                  <a:lnTo>
                    <a:pt x="1" y="679"/>
                  </a:lnTo>
                  <a:lnTo>
                    <a:pt x="3" y="679"/>
                  </a:lnTo>
                  <a:lnTo>
                    <a:pt x="4" y="679"/>
                  </a:lnTo>
                  <a:lnTo>
                    <a:pt x="4" y="679"/>
                  </a:lnTo>
                  <a:lnTo>
                    <a:pt x="4" y="680"/>
                  </a:lnTo>
                  <a:lnTo>
                    <a:pt x="5" y="680"/>
                  </a:lnTo>
                  <a:lnTo>
                    <a:pt x="5" y="680"/>
                  </a:lnTo>
                  <a:close/>
                  <a:moveTo>
                    <a:pt x="5" y="733"/>
                  </a:moveTo>
                  <a:lnTo>
                    <a:pt x="5" y="763"/>
                  </a:lnTo>
                  <a:lnTo>
                    <a:pt x="4" y="764"/>
                  </a:lnTo>
                  <a:lnTo>
                    <a:pt x="4" y="764"/>
                  </a:lnTo>
                  <a:lnTo>
                    <a:pt x="4" y="766"/>
                  </a:lnTo>
                  <a:lnTo>
                    <a:pt x="3" y="766"/>
                  </a:lnTo>
                  <a:lnTo>
                    <a:pt x="1" y="766"/>
                  </a:lnTo>
                  <a:lnTo>
                    <a:pt x="1" y="764"/>
                  </a:lnTo>
                  <a:lnTo>
                    <a:pt x="0" y="764"/>
                  </a:lnTo>
                  <a:lnTo>
                    <a:pt x="0" y="763"/>
                  </a:lnTo>
                  <a:lnTo>
                    <a:pt x="0" y="733"/>
                  </a:lnTo>
                  <a:lnTo>
                    <a:pt x="0" y="732"/>
                  </a:lnTo>
                  <a:lnTo>
                    <a:pt x="1" y="732"/>
                  </a:lnTo>
                  <a:lnTo>
                    <a:pt x="1" y="730"/>
                  </a:lnTo>
                  <a:lnTo>
                    <a:pt x="3" y="730"/>
                  </a:lnTo>
                  <a:lnTo>
                    <a:pt x="4" y="730"/>
                  </a:lnTo>
                  <a:lnTo>
                    <a:pt x="4" y="732"/>
                  </a:lnTo>
                  <a:lnTo>
                    <a:pt x="4" y="732"/>
                  </a:lnTo>
                  <a:lnTo>
                    <a:pt x="5" y="733"/>
                  </a:lnTo>
                  <a:lnTo>
                    <a:pt x="5" y="733"/>
                  </a:lnTo>
                  <a:close/>
                  <a:moveTo>
                    <a:pt x="5" y="785"/>
                  </a:moveTo>
                  <a:lnTo>
                    <a:pt x="5" y="816"/>
                  </a:lnTo>
                  <a:lnTo>
                    <a:pt x="4" y="816"/>
                  </a:lnTo>
                  <a:lnTo>
                    <a:pt x="4" y="817"/>
                  </a:lnTo>
                  <a:lnTo>
                    <a:pt x="3" y="817"/>
                  </a:lnTo>
                  <a:lnTo>
                    <a:pt x="1" y="817"/>
                  </a:lnTo>
                  <a:lnTo>
                    <a:pt x="0" y="816"/>
                  </a:lnTo>
                  <a:lnTo>
                    <a:pt x="0" y="816"/>
                  </a:lnTo>
                  <a:lnTo>
                    <a:pt x="0" y="785"/>
                  </a:lnTo>
                  <a:lnTo>
                    <a:pt x="0" y="783"/>
                  </a:lnTo>
                  <a:lnTo>
                    <a:pt x="1" y="783"/>
                  </a:lnTo>
                  <a:lnTo>
                    <a:pt x="1" y="783"/>
                  </a:lnTo>
                  <a:lnTo>
                    <a:pt x="3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5" y="785"/>
                  </a:lnTo>
                  <a:lnTo>
                    <a:pt x="5" y="785"/>
                  </a:lnTo>
                  <a:close/>
                  <a:moveTo>
                    <a:pt x="5" y="838"/>
                  </a:moveTo>
                  <a:lnTo>
                    <a:pt x="5" y="868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3" y="870"/>
                  </a:lnTo>
                  <a:lnTo>
                    <a:pt x="1" y="869"/>
                  </a:lnTo>
                  <a:lnTo>
                    <a:pt x="1" y="869"/>
                  </a:lnTo>
                  <a:lnTo>
                    <a:pt x="0" y="869"/>
                  </a:lnTo>
                  <a:lnTo>
                    <a:pt x="0" y="868"/>
                  </a:lnTo>
                  <a:lnTo>
                    <a:pt x="0" y="838"/>
                  </a:lnTo>
                  <a:lnTo>
                    <a:pt x="0" y="836"/>
                  </a:lnTo>
                  <a:lnTo>
                    <a:pt x="1" y="835"/>
                  </a:lnTo>
                  <a:lnTo>
                    <a:pt x="1" y="835"/>
                  </a:lnTo>
                  <a:lnTo>
                    <a:pt x="3" y="835"/>
                  </a:lnTo>
                  <a:lnTo>
                    <a:pt x="4" y="835"/>
                  </a:lnTo>
                  <a:lnTo>
                    <a:pt x="4" y="835"/>
                  </a:lnTo>
                  <a:lnTo>
                    <a:pt x="4" y="836"/>
                  </a:lnTo>
                  <a:lnTo>
                    <a:pt x="5" y="838"/>
                  </a:lnTo>
                  <a:lnTo>
                    <a:pt x="5" y="838"/>
                  </a:lnTo>
                  <a:close/>
                  <a:moveTo>
                    <a:pt x="5" y="889"/>
                  </a:moveTo>
                  <a:lnTo>
                    <a:pt x="5" y="919"/>
                  </a:lnTo>
                  <a:lnTo>
                    <a:pt x="4" y="921"/>
                  </a:lnTo>
                  <a:lnTo>
                    <a:pt x="4" y="922"/>
                  </a:lnTo>
                  <a:lnTo>
                    <a:pt x="4" y="922"/>
                  </a:lnTo>
                  <a:lnTo>
                    <a:pt x="3" y="922"/>
                  </a:lnTo>
                  <a:lnTo>
                    <a:pt x="1" y="922"/>
                  </a:lnTo>
                  <a:lnTo>
                    <a:pt x="1" y="922"/>
                  </a:lnTo>
                  <a:lnTo>
                    <a:pt x="0" y="921"/>
                  </a:lnTo>
                  <a:lnTo>
                    <a:pt x="0" y="919"/>
                  </a:lnTo>
                  <a:lnTo>
                    <a:pt x="0" y="889"/>
                  </a:lnTo>
                  <a:lnTo>
                    <a:pt x="0" y="888"/>
                  </a:lnTo>
                  <a:lnTo>
                    <a:pt x="1" y="888"/>
                  </a:lnTo>
                  <a:lnTo>
                    <a:pt x="1" y="887"/>
                  </a:lnTo>
                  <a:lnTo>
                    <a:pt x="3" y="887"/>
                  </a:lnTo>
                  <a:lnTo>
                    <a:pt x="4" y="887"/>
                  </a:lnTo>
                  <a:lnTo>
                    <a:pt x="4" y="888"/>
                  </a:lnTo>
                  <a:lnTo>
                    <a:pt x="4" y="888"/>
                  </a:lnTo>
                  <a:lnTo>
                    <a:pt x="5" y="889"/>
                  </a:lnTo>
                  <a:lnTo>
                    <a:pt x="5" y="889"/>
                  </a:lnTo>
                  <a:close/>
                  <a:moveTo>
                    <a:pt x="5" y="941"/>
                  </a:moveTo>
                  <a:lnTo>
                    <a:pt x="5" y="972"/>
                  </a:lnTo>
                  <a:lnTo>
                    <a:pt x="4" y="972"/>
                  </a:lnTo>
                  <a:lnTo>
                    <a:pt x="4" y="974"/>
                  </a:lnTo>
                  <a:lnTo>
                    <a:pt x="4" y="974"/>
                  </a:lnTo>
                  <a:lnTo>
                    <a:pt x="3" y="974"/>
                  </a:lnTo>
                  <a:lnTo>
                    <a:pt x="1" y="974"/>
                  </a:lnTo>
                  <a:lnTo>
                    <a:pt x="1" y="974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41"/>
                  </a:lnTo>
                  <a:lnTo>
                    <a:pt x="0" y="941"/>
                  </a:lnTo>
                  <a:lnTo>
                    <a:pt x="1" y="940"/>
                  </a:lnTo>
                  <a:lnTo>
                    <a:pt x="1" y="940"/>
                  </a:lnTo>
                  <a:lnTo>
                    <a:pt x="3" y="940"/>
                  </a:lnTo>
                  <a:lnTo>
                    <a:pt x="4" y="940"/>
                  </a:lnTo>
                  <a:lnTo>
                    <a:pt x="4" y="940"/>
                  </a:lnTo>
                  <a:lnTo>
                    <a:pt x="4" y="941"/>
                  </a:lnTo>
                  <a:lnTo>
                    <a:pt x="5" y="941"/>
                  </a:lnTo>
                  <a:lnTo>
                    <a:pt x="5" y="941"/>
                  </a:lnTo>
                  <a:close/>
                  <a:moveTo>
                    <a:pt x="5" y="994"/>
                  </a:moveTo>
                  <a:lnTo>
                    <a:pt x="5" y="1024"/>
                  </a:lnTo>
                  <a:lnTo>
                    <a:pt x="4" y="1025"/>
                  </a:lnTo>
                  <a:lnTo>
                    <a:pt x="4" y="1025"/>
                  </a:lnTo>
                  <a:lnTo>
                    <a:pt x="4" y="1027"/>
                  </a:lnTo>
                  <a:lnTo>
                    <a:pt x="3" y="1027"/>
                  </a:lnTo>
                  <a:lnTo>
                    <a:pt x="1" y="1027"/>
                  </a:lnTo>
                  <a:lnTo>
                    <a:pt x="1" y="1025"/>
                  </a:lnTo>
                  <a:lnTo>
                    <a:pt x="0" y="1025"/>
                  </a:lnTo>
                  <a:lnTo>
                    <a:pt x="0" y="1024"/>
                  </a:lnTo>
                  <a:lnTo>
                    <a:pt x="0" y="994"/>
                  </a:lnTo>
                  <a:lnTo>
                    <a:pt x="0" y="993"/>
                  </a:lnTo>
                  <a:lnTo>
                    <a:pt x="1" y="993"/>
                  </a:lnTo>
                  <a:lnTo>
                    <a:pt x="1" y="991"/>
                  </a:lnTo>
                  <a:lnTo>
                    <a:pt x="3" y="991"/>
                  </a:lnTo>
                  <a:lnTo>
                    <a:pt x="4" y="991"/>
                  </a:lnTo>
                  <a:lnTo>
                    <a:pt x="4" y="993"/>
                  </a:lnTo>
                  <a:lnTo>
                    <a:pt x="4" y="993"/>
                  </a:lnTo>
                  <a:lnTo>
                    <a:pt x="5" y="994"/>
                  </a:lnTo>
                  <a:lnTo>
                    <a:pt x="5" y="994"/>
                  </a:lnTo>
                  <a:close/>
                  <a:moveTo>
                    <a:pt x="5" y="1046"/>
                  </a:moveTo>
                  <a:lnTo>
                    <a:pt x="5" y="1077"/>
                  </a:lnTo>
                  <a:lnTo>
                    <a:pt x="4" y="1077"/>
                  </a:lnTo>
                  <a:lnTo>
                    <a:pt x="4" y="1079"/>
                  </a:lnTo>
                  <a:lnTo>
                    <a:pt x="3" y="1079"/>
                  </a:lnTo>
                  <a:lnTo>
                    <a:pt x="1" y="1079"/>
                  </a:lnTo>
                  <a:lnTo>
                    <a:pt x="0" y="1077"/>
                  </a:lnTo>
                  <a:lnTo>
                    <a:pt x="0" y="1077"/>
                  </a:lnTo>
                  <a:lnTo>
                    <a:pt x="0" y="1046"/>
                  </a:lnTo>
                  <a:lnTo>
                    <a:pt x="0" y="1045"/>
                  </a:lnTo>
                  <a:lnTo>
                    <a:pt x="1" y="1045"/>
                  </a:lnTo>
                  <a:lnTo>
                    <a:pt x="1" y="1045"/>
                  </a:lnTo>
                  <a:lnTo>
                    <a:pt x="3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5" y="1046"/>
                  </a:lnTo>
                  <a:lnTo>
                    <a:pt x="5" y="1046"/>
                  </a:lnTo>
                  <a:close/>
                  <a:moveTo>
                    <a:pt x="5" y="1099"/>
                  </a:moveTo>
                  <a:lnTo>
                    <a:pt x="5" y="1129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3" y="1132"/>
                  </a:lnTo>
                  <a:lnTo>
                    <a:pt x="1" y="1130"/>
                  </a:lnTo>
                  <a:lnTo>
                    <a:pt x="1" y="1130"/>
                  </a:lnTo>
                  <a:lnTo>
                    <a:pt x="0" y="1130"/>
                  </a:lnTo>
                  <a:lnTo>
                    <a:pt x="0" y="1129"/>
                  </a:lnTo>
                  <a:lnTo>
                    <a:pt x="0" y="1099"/>
                  </a:lnTo>
                  <a:lnTo>
                    <a:pt x="0" y="1098"/>
                  </a:lnTo>
                  <a:lnTo>
                    <a:pt x="1" y="1096"/>
                  </a:lnTo>
                  <a:lnTo>
                    <a:pt x="1" y="1096"/>
                  </a:lnTo>
                  <a:lnTo>
                    <a:pt x="3" y="1096"/>
                  </a:lnTo>
                  <a:lnTo>
                    <a:pt x="4" y="1096"/>
                  </a:lnTo>
                  <a:lnTo>
                    <a:pt x="4" y="1096"/>
                  </a:lnTo>
                  <a:lnTo>
                    <a:pt x="4" y="1098"/>
                  </a:lnTo>
                  <a:lnTo>
                    <a:pt x="5" y="1099"/>
                  </a:lnTo>
                  <a:lnTo>
                    <a:pt x="5" y="1099"/>
                  </a:lnTo>
                  <a:close/>
                  <a:moveTo>
                    <a:pt x="5" y="1151"/>
                  </a:moveTo>
                  <a:lnTo>
                    <a:pt x="5" y="1181"/>
                  </a:lnTo>
                  <a:lnTo>
                    <a:pt x="4" y="1182"/>
                  </a:lnTo>
                  <a:lnTo>
                    <a:pt x="4" y="1183"/>
                  </a:lnTo>
                  <a:lnTo>
                    <a:pt x="4" y="1183"/>
                  </a:lnTo>
                  <a:lnTo>
                    <a:pt x="3" y="1183"/>
                  </a:lnTo>
                  <a:lnTo>
                    <a:pt x="1" y="1183"/>
                  </a:lnTo>
                  <a:lnTo>
                    <a:pt x="1" y="1183"/>
                  </a:lnTo>
                  <a:lnTo>
                    <a:pt x="0" y="1182"/>
                  </a:lnTo>
                  <a:lnTo>
                    <a:pt x="0" y="1181"/>
                  </a:lnTo>
                  <a:lnTo>
                    <a:pt x="0" y="1151"/>
                  </a:lnTo>
                  <a:lnTo>
                    <a:pt x="0" y="1149"/>
                  </a:lnTo>
                  <a:lnTo>
                    <a:pt x="1" y="1149"/>
                  </a:lnTo>
                  <a:lnTo>
                    <a:pt x="1" y="1148"/>
                  </a:lnTo>
                  <a:lnTo>
                    <a:pt x="3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4" y="1149"/>
                  </a:lnTo>
                  <a:lnTo>
                    <a:pt x="5" y="1151"/>
                  </a:lnTo>
                  <a:lnTo>
                    <a:pt x="5" y="1151"/>
                  </a:lnTo>
                  <a:close/>
                  <a:moveTo>
                    <a:pt x="5" y="1202"/>
                  </a:moveTo>
                  <a:lnTo>
                    <a:pt x="5" y="1234"/>
                  </a:lnTo>
                  <a:lnTo>
                    <a:pt x="4" y="1234"/>
                  </a:lnTo>
                  <a:lnTo>
                    <a:pt x="4" y="1235"/>
                  </a:lnTo>
                  <a:lnTo>
                    <a:pt x="4" y="1235"/>
                  </a:lnTo>
                  <a:lnTo>
                    <a:pt x="3" y="1235"/>
                  </a:lnTo>
                  <a:lnTo>
                    <a:pt x="1" y="1235"/>
                  </a:lnTo>
                  <a:lnTo>
                    <a:pt x="1" y="1235"/>
                  </a:lnTo>
                  <a:lnTo>
                    <a:pt x="0" y="1234"/>
                  </a:lnTo>
                  <a:lnTo>
                    <a:pt x="0" y="1234"/>
                  </a:lnTo>
                  <a:lnTo>
                    <a:pt x="0" y="1202"/>
                  </a:lnTo>
                  <a:lnTo>
                    <a:pt x="0" y="1202"/>
                  </a:lnTo>
                  <a:lnTo>
                    <a:pt x="1" y="1201"/>
                  </a:lnTo>
                  <a:lnTo>
                    <a:pt x="1" y="1201"/>
                  </a:lnTo>
                  <a:lnTo>
                    <a:pt x="3" y="1201"/>
                  </a:lnTo>
                  <a:lnTo>
                    <a:pt x="4" y="1201"/>
                  </a:lnTo>
                  <a:lnTo>
                    <a:pt x="4" y="1201"/>
                  </a:lnTo>
                  <a:lnTo>
                    <a:pt x="4" y="1202"/>
                  </a:lnTo>
                  <a:lnTo>
                    <a:pt x="5" y="1202"/>
                  </a:lnTo>
                  <a:lnTo>
                    <a:pt x="5" y="1202"/>
                  </a:lnTo>
                  <a:close/>
                  <a:moveTo>
                    <a:pt x="5" y="1255"/>
                  </a:moveTo>
                  <a:lnTo>
                    <a:pt x="5" y="1285"/>
                  </a:lnTo>
                  <a:lnTo>
                    <a:pt x="4" y="1287"/>
                  </a:lnTo>
                  <a:lnTo>
                    <a:pt x="4" y="1287"/>
                  </a:lnTo>
                  <a:lnTo>
                    <a:pt x="4" y="1288"/>
                  </a:lnTo>
                  <a:lnTo>
                    <a:pt x="3" y="1288"/>
                  </a:lnTo>
                  <a:lnTo>
                    <a:pt x="1" y="1288"/>
                  </a:lnTo>
                  <a:lnTo>
                    <a:pt x="1" y="1287"/>
                  </a:lnTo>
                  <a:lnTo>
                    <a:pt x="0" y="1287"/>
                  </a:lnTo>
                  <a:lnTo>
                    <a:pt x="0" y="1285"/>
                  </a:lnTo>
                  <a:lnTo>
                    <a:pt x="0" y="1255"/>
                  </a:lnTo>
                  <a:lnTo>
                    <a:pt x="0" y="1254"/>
                  </a:lnTo>
                  <a:lnTo>
                    <a:pt x="1" y="1254"/>
                  </a:lnTo>
                  <a:lnTo>
                    <a:pt x="1" y="1253"/>
                  </a:lnTo>
                  <a:lnTo>
                    <a:pt x="3" y="1253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4" y="1254"/>
                  </a:lnTo>
                  <a:lnTo>
                    <a:pt x="5" y="1255"/>
                  </a:lnTo>
                  <a:lnTo>
                    <a:pt x="5" y="1255"/>
                  </a:lnTo>
                  <a:close/>
                  <a:moveTo>
                    <a:pt x="5" y="1307"/>
                  </a:moveTo>
                  <a:lnTo>
                    <a:pt x="5" y="1338"/>
                  </a:lnTo>
                  <a:lnTo>
                    <a:pt x="4" y="1338"/>
                  </a:lnTo>
                  <a:lnTo>
                    <a:pt x="4" y="1340"/>
                  </a:lnTo>
                  <a:lnTo>
                    <a:pt x="3" y="1340"/>
                  </a:lnTo>
                  <a:lnTo>
                    <a:pt x="1" y="1340"/>
                  </a:lnTo>
                  <a:lnTo>
                    <a:pt x="0" y="1338"/>
                  </a:lnTo>
                  <a:lnTo>
                    <a:pt x="0" y="1338"/>
                  </a:lnTo>
                  <a:lnTo>
                    <a:pt x="0" y="1307"/>
                  </a:lnTo>
                  <a:lnTo>
                    <a:pt x="0" y="1306"/>
                  </a:lnTo>
                  <a:lnTo>
                    <a:pt x="1" y="1306"/>
                  </a:lnTo>
                  <a:lnTo>
                    <a:pt x="1" y="1306"/>
                  </a:lnTo>
                  <a:lnTo>
                    <a:pt x="3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5" y="1307"/>
                  </a:lnTo>
                  <a:lnTo>
                    <a:pt x="5" y="1307"/>
                  </a:lnTo>
                  <a:close/>
                  <a:moveTo>
                    <a:pt x="5" y="1360"/>
                  </a:moveTo>
                  <a:lnTo>
                    <a:pt x="5" y="1390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3" y="1393"/>
                  </a:lnTo>
                  <a:lnTo>
                    <a:pt x="1" y="1391"/>
                  </a:lnTo>
                  <a:lnTo>
                    <a:pt x="1" y="1391"/>
                  </a:lnTo>
                  <a:lnTo>
                    <a:pt x="0" y="1391"/>
                  </a:lnTo>
                  <a:lnTo>
                    <a:pt x="0" y="1390"/>
                  </a:lnTo>
                  <a:lnTo>
                    <a:pt x="0" y="1360"/>
                  </a:lnTo>
                  <a:lnTo>
                    <a:pt x="0" y="1359"/>
                  </a:lnTo>
                  <a:lnTo>
                    <a:pt x="1" y="1357"/>
                  </a:lnTo>
                  <a:lnTo>
                    <a:pt x="1" y="1357"/>
                  </a:lnTo>
                  <a:lnTo>
                    <a:pt x="3" y="1357"/>
                  </a:lnTo>
                  <a:lnTo>
                    <a:pt x="4" y="1357"/>
                  </a:lnTo>
                  <a:lnTo>
                    <a:pt x="4" y="1357"/>
                  </a:lnTo>
                  <a:lnTo>
                    <a:pt x="4" y="1359"/>
                  </a:lnTo>
                  <a:lnTo>
                    <a:pt x="5" y="1360"/>
                  </a:lnTo>
                  <a:lnTo>
                    <a:pt x="5" y="1360"/>
                  </a:lnTo>
                  <a:close/>
                  <a:moveTo>
                    <a:pt x="5" y="1412"/>
                  </a:moveTo>
                  <a:lnTo>
                    <a:pt x="5" y="1442"/>
                  </a:lnTo>
                  <a:lnTo>
                    <a:pt x="4" y="1443"/>
                  </a:lnTo>
                  <a:lnTo>
                    <a:pt x="4" y="1444"/>
                  </a:lnTo>
                  <a:lnTo>
                    <a:pt x="4" y="1444"/>
                  </a:lnTo>
                  <a:lnTo>
                    <a:pt x="3" y="1444"/>
                  </a:lnTo>
                  <a:lnTo>
                    <a:pt x="1" y="1444"/>
                  </a:lnTo>
                  <a:lnTo>
                    <a:pt x="1" y="1444"/>
                  </a:lnTo>
                  <a:lnTo>
                    <a:pt x="0" y="1443"/>
                  </a:lnTo>
                  <a:lnTo>
                    <a:pt x="0" y="1442"/>
                  </a:lnTo>
                  <a:lnTo>
                    <a:pt x="0" y="1412"/>
                  </a:lnTo>
                  <a:lnTo>
                    <a:pt x="0" y="1410"/>
                  </a:lnTo>
                  <a:lnTo>
                    <a:pt x="1" y="1410"/>
                  </a:lnTo>
                  <a:lnTo>
                    <a:pt x="1" y="1409"/>
                  </a:lnTo>
                  <a:lnTo>
                    <a:pt x="3" y="1409"/>
                  </a:lnTo>
                  <a:lnTo>
                    <a:pt x="4" y="1409"/>
                  </a:lnTo>
                  <a:lnTo>
                    <a:pt x="4" y="1410"/>
                  </a:lnTo>
                  <a:lnTo>
                    <a:pt x="4" y="1410"/>
                  </a:lnTo>
                  <a:lnTo>
                    <a:pt x="5" y="1412"/>
                  </a:lnTo>
                  <a:lnTo>
                    <a:pt x="5" y="1412"/>
                  </a:lnTo>
                  <a:close/>
                  <a:moveTo>
                    <a:pt x="5" y="1463"/>
                  </a:moveTo>
                  <a:lnTo>
                    <a:pt x="5" y="1495"/>
                  </a:lnTo>
                  <a:lnTo>
                    <a:pt x="4" y="1495"/>
                  </a:lnTo>
                  <a:lnTo>
                    <a:pt x="4" y="1496"/>
                  </a:lnTo>
                  <a:lnTo>
                    <a:pt x="4" y="1496"/>
                  </a:lnTo>
                  <a:lnTo>
                    <a:pt x="3" y="1496"/>
                  </a:lnTo>
                  <a:lnTo>
                    <a:pt x="1" y="1496"/>
                  </a:lnTo>
                  <a:lnTo>
                    <a:pt x="1" y="1496"/>
                  </a:lnTo>
                  <a:lnTo>
                    <a:pt x="0" y="1495"/>
                  </a:lnTo>
                  <a:lnTo>
                    <a:pt x="0" y="1495"/>
                  </a:lnTo>
                  <a:lnTo>
                    <a:pt x="0" y="1463"/>
                  </a:lnTo>
                  <a:lnTo>
                    <a:pt x="0" y="1463"/>
                  </a:lnTo>
                  <a:lnTo>
                    <a:pt x="1" y="1462"/>
                  </a:lnTo>
                  <a:lnTo>
                    <a:pt x="1" y="1462"/>
                  </a:lnTo>
                  <a:lnTo>
                    <a:pt x="3" y="1462"/>
                  </a:lnTo>
                  <a:lnTo>
                    <a:pt x="4" y="1462"/>
                  </a:lnTo>
                  <a:lnTo>
                    <a:pt x="4" y="1462"/>
                  </a:lnTo>
                  <a:lnTo>
                    <a:pt x="4" y="1463"/>
                  </a:lnTo>
                  <a:lnTo>
                    <a:pt x="5" y="1463"/>
                  </a:lnTo>
                  <a:lnTo>
                    <a:pt x="5" y="1463"/>
                  </a:lnTo>
                  <a:close/>
                  <a:moveTo>
                    <a:pt x="5" y="1516"/>
                  </a:moveTo>
                  <a:lnTo>
                    <a:pt x="5" y="1546"/>
                  </a:lnTo>
                  <a:lnTo>
                    <a:pt x="4" y="1548"/>
                  </a:lnTo>
                  <a:lnTo>
                    <a:pt x="4" y="1548"/>
                  </a:lnTo>
                  <a:lnTo>
                    <a:pt x="4" y="1549"/>
                  </a:lnTo>
                  <a:lnTo>
                    <a:pt x="3" y="1549"/>
                  </a:lnTo>
                  <a:lnTo>
                    <a:pt x="1" y="1549"/>
                  </a:lnTo>
                  <a:lnTo>
                    <a:pt x="1" y="1548"/>
                  </a:lnTo>
                  <a:lnTo>
                    <a:pt x="0" y="1548"/>
                  </a:lnTo>
                  <a:lnTo>
                    <a:pt x="0" y="1546"/>
                  </a:lnTo>
                  <a:lnTo>
                    <a:pt x="0" y="1516"/>
                  </a:lnTo>
                  <a:lnTo>
                    <a:pt x="0" y="1515"/>
                  </a:lnTo>
                  <a:lnTo>
                    <a:pt x="1" y="1515"/>
                  </a:lnTo>
                  <a:lnTo>
                    <a:pt x="1" y="1514"/>
                  </a:lnTo>
                  <a:lnTo>
                    <a:pt x="3" y="1514"/>
                  </a:lnTo>
                  <a:lnTo>
                    <a:pt x="4" y="1514"/>
                  </a:lnTo>
                  <a:lnTo>
                    <a:pt x="4" y="1515"/>
                  </a:lnTo>
                  <a:lnTo>
                    <a:pt x="4" y="1515"/>
                  </a:lnTo>
                  <a:lnTo>
                    <a:pt x="5" y="1516"/>
                  </a:lnTo>
                  <a:lnTo>
                    <a:pt x="5" y="1516"/>
                  </a:lnTo>
                  <a:close/>
                  <a:moveTo>
                    <a:pt x="5" y="1568"/>
                  </a:moveTo>
                  <a:lnTo>
                    <a:pt x="5" y="1599"/>
                  </a:lnTo>
                  <a:lnTo>
                    <a:pt x="4" y="1599"/>
                  </a:lnTo>
                  <a:lnTo>
                    <a:pt x="4" y="1601"/>
                  </a:lnTo>
                  <a:lnTo>
                    <a:pt x="3" y="1601"/>
                  </a:lnTo>
                  <a:lnTo>
                    <a:pt x="1" y="1601"/>
                  </a:lnTo>
                  <a:lnTo>
                    <a:pt x="0" y="1599"/>
                  </a:lnTo>
                  <a:lnTo>
                    <a:pt x="0" y="1599"/>
                  </a:lnTo>
                  <a:lnTo>
                    <a:pt x="0" y="1568"/>
                  </a:lnTo>
                  <a:lnTo>
                    <a:pt x="0" y="1567"/>
                  </a:lnTo>
                  <a:lnTo>
                    <a:pt x="1" y="1567"/>
                  </a:lnTo>
                  <a:lnTo>
                    <a:pt x="1" y="1567"/>
                  </a:lnTo>
                  <a:lnTo>
                    <a:pt x="3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5" y="1568"/>
                  </a:lnTo>
                  <a:lnTo>
                    <a:pt x="5" y="1568"/>
                  </a:lnTo>
                  <a:close/>
                  <a:moveTo>
                    <a:pt x="5" y="1621"/>
                  </a:moveTo>
                  <a:lnTo>
                    <a:pt x="5" y="1651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3" y="1654"/>
                  </a:lnTo>
                  <a:lnTo>
                    <a:pt x="1" y="1652"/>
                  </a:lnTo>
                  <a:lnTo>
                    <a:pt x="1" y="1652"/>
                  </a:lnTo>
                  <a:lnTo>
                    <a:pt x="0" y="1652"/>
                  </a:lnTo>
                  <a:lnTo>
                    <a:pt x="0" y="1651"/>
                  </a:lnTo>
                  <a:lnTo>
                    <a:pt x="0" y="1621"/>
                  </a:lnTo>
                  <a:lnTo>
                    <a:pt x="0" y="1620"/>
                  </a:lnTo>
                  <a:lnTo>
                    <a:pt x="1" y="1618"/>
                  </a:lnTo>
                  <a:lnTo>
                    <a:pt x="1" y="1618"/>
                  </a:lnTo>
                  <a:lnTo>
                    <a:pt x="3" y="1618"/>
                  </a:lnTo>
                  <a:lnTo>
                    <a:pt x="4" y="1618"/>
                  </a:lnTo>
                  <a:lnTo>
                    <a:pt x="4" y="1618"/>
                  </a:lnTo>
                  <a:lnTo>
                    <a:pt x="4" y="1620"/>
                  </a:lnTo>
                  <a:lnTo>
                    <a:pt x="5" y="1621"/>
                  </a:lnTo>
                  <a:lnTo>
                    <a:pt x="5" y="1621"/>
                  </a:lnTo>
                  <a:close/>
                  <a:moveTo>
                    <a:pt x="5" y="1673"/>
                  </a:moveTo>
                  <a:lnTo>
                    <a:pt x="5" y="1703"/>
                  </a:lnTo>
                  <a:lnTo>
                    <a:pt x="4" y="1704"/>
                  </a:lnTo>
                  <a:lnTo>
                    <a:pt x="4" y="1706"/>
                  </a:lnTo>
                  <a:lnTo>
                    <a:pt x="4" y="1706"/>
                  </a:lnTo>
                  <a:lnTo>
                    <a:pt x="3" y="1706"/>
                  </a:lnTo>
                  <a:lnTo>
                    <a:pt x="1" y="1706"/>
                  </a:lnTo>
                  <a:lnTo>
                    <a:pt x="1" y="1706"/>
                  </a:lnTo>
                  <a:lnTo>
                    <a:pt x="0" y="1704"/>
                  </a:lnTo>
                  <a:lnTo>
                    <a:pt x="0" y="1703"/>
                  </a:lnTo>
                  <a:lnTo>
                    <a:pt x="0" y="1673"/>
                  </a:lnTo>
                  <a:lnTo>
                    <a:pt x="0" y="1672"/>
                  </a:lnTo>
                  <a:lnTo>
                    <a:pt x="1" y="1672"/>
                  </a:lnTo>
                  <a:lnTo>
                    <a:pt x="1" y="1670"/>
                  </a:lnTo>
                  <a:lnTo>
                    <a:pt x="3" y="1670"/>
                  </a:lnTo>
                  <a:lnTo>
                    <a:pt x="4" y="1670"/>
                  </a:lnTo>
                  <a:lnTo>
                    <a:pt x="4" y="1672"/>
                  </a:lnTo>
                  <a:lnTo>
                    <a:pt x="4" y="1672"/>
                  </a:lnTo>
                  <a:lnTo>
                    <a:pt x="5" y="1673"/>
                  </a:lnTo>
                  <a:lnTo>
                    <a:pt x="5" y="1673"/>
                  </a:lnTo>
                  <a:close/>
                  <a:moveTo>
                    <a:pt x="5" y="1725"/>
                  </a:moveTo>
                  <a:lnTo>
                    <a:pt x="5" y="1756"/>
                  </a:lnTo>
                  <a:lnTo>
                    <a:pt x="4" y="1756"/>
                  </a:lnTo>
                  <a:lnTo>
                    <a:pt x="4" y="1757"/>
                  </a:lnTo>
                  <a:lnTo>
                    <a:pt x="4" y="1757"/>
                  </a:lnTo>
                  <a:lnTo>
                    <a:pt x="3" y="1757"/>
                  </a:lnTo>
                  <a:lnTo>
                    <a:pt x="1" y="1757"/>
                  </a:lnTo>
                  <a:lnTo>
                    <a:pt x="1" y="1757"/>
                  </a:lnTo>
                  <a:lnTo>
                    <a:pt x="0" y="1756"/>
                  </a:lnTo>
                  <a:lnTo>
                    <a:pt x="0" y="1756"/>
                  </a:lnTo>
                  <a:lnTo>
                    <a:pt x="0" y="1725"/>
                  </a:lnTo>
                  <a:lnTo>
                    <a:pt x="0" y="1725"/>
                  </a:lnTo>
                  <a:lnTo>
                    <a:pt x="1" y="1723"/>
                  </a:lnTo>
                  <a:lnTo>
                    <a:pt x="1" y="1723"/>
                  </a:lnTo>
                  <a:lnTo>
                    <a:pt x="3" y="1723"/>
                  </a:lnTo>
                  <a:lnTo>
                    <a:pt x="4" y="1723"/>
                  </a:lnTo>
                  <a:lnTo>
                    <a:pt x="4" y="1723"/>
                  </a:lnTo>
                  <a:lnTo>
                    <a:pt x="4" y="1725"/>
                  </a:lnTo>
                  <a:lnTo>
                    <a:pt x="5" y="1725"/>
                  </a:lnTo>
                  <a:lnTo>
                    <a:pt x="5" y="1725"/>
                  </a:lnTo>
                  <a:close/>
                  <a:moveTo>
                    <a:pt x="5" y="1778"/>
                  </a:moveTo>
                  <a:lnTo>
                    <a:pt x="5" y="1808"/>
                  </a:lnTo>
                  <a:lnTo>
                    <a:pt x="4" y="1809"/>
                  </a:lnTo>
                  <a:lnTo>
                    <a:pt x="4" y="1809"/>
                  </a:lnTo>
                  <a:lnTo>
                    <a:pt x="4" y="1810"/>
                  </a:lnTo>
                  <a:lnTo>
                    <a:pt x="3" y="1810"/>
                  </a:lnTo>
                  <a:lnTo>
                    <a:pt x="1" y="1810"/>
                  </a:lnTo>
                  <a:lnTo>
                    <a:pt x="1" y="1809"/>
                  </a:lnTo>
                  <a:lnTo>
                    <a:pt x="0" y="1809"/>
                  </a:lnTo>
                  <a:lnTo>
                    <a:pt x="0" y="1808"/>
                  </a:lnTo>
                  <a:lnTo>
                    <a:pt x="0" y="1778"/>
                  </a:lnTo>
                  <a:lnTo>
                    <a:pt x="0" y="1776"/>
                  </a:lnTo>
                  <a:lnTo>
                    <a:pt x="1" y="1776"/>
                  </a:lnTo>
                  <a:lnTo>
                    <a:pt x="1" y="1775"/>
                  </a:lnTo>
                  <a:lnTo>
                    <a:pt x="3" y="1775"/>
                  </a:lnTo>
                  <a:lnTo>
                    <a:pt x="4" y="1775"/>
                  </a:lnTo>
                  <a:lnTo>
                    <a:pt x="4" y="1776"/>
                  </a:lnTo>
                  <a:lnTo>
                    <a:pt x="4" y="1776"/>
                  </a:lnTo>
                  <a:lnTo>
                    <a:pt x="5" y="1778"/>
                  </a:lnTo>
                  <a:lnTo>
                    <a:pt x="5" y="1778"/>
                  </a:lnTo>
                  <a:close/>
                  <a:moveTo>
                    <a:pt x="5" y="1829"/>
                  </a:moveTo>
                  <a:lnTo>
                    <a:pt x="5" y="1861"/>
                  </a:lnTo>
                  <a:lnTo>
                    <a:pt x="4" y="1861"/>
                  </a:lnTo>
                  <a:lnTo>
                    <a:pt x="4" y="1862"/>
                  </a:lnTo>
                  <a:lnTo>
                    <a:pt x="3" y="1862"/>
                  </a:lnTo>
                  <a:lnTo>
                    <a:pt x="1" y="1862"/>
                  </a:lnTo>
                  <a:lnTo>
                    <a:pt x="0" y="1861"/>
                  </a:lnTo>
                  <a:lnTo>
                    <a:pt x="0" y="1861"/>
                  </a:lnTo>
                  <a:lnTo>
                    <a:pt x="0" y="1829"/>
                  </a:lnTo>
                  <a:lnTo>
                    <a:pt x="0" y="1828"/>
                  </a:lnTo>
                  <a:lnTo>
                    <a:pt x="1" y="1828"/>
                  </a:lnTo>
                  <a:lnTo>
                    <a:pt x="1" y="1828"/>
                  </a:lnTo>
                  <a:lnTo>
                    <a:pt x="3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5" y="1829"/>
                  </a:lnTo>
                  <a:lnTo>
                    <a:pt x="5" y="1829"/>
                  </a:lnTo>
                  <a:close/>
                  <a:moveTo>
                    <a:pt x="5" y="1882"/>
                  </a:moveTo>
                  <a:lnTo>
                    <a:pt x="5" y="1912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3" y="1915"/>
                  </a:lnTo>
                  <a:lnTo>
                    <a:pt x="1" y="1914"/>
                  </a:lnTo>
                  <a:lnTo>
                    <a:pt x="1" y="1914"/>
                  </a:lnTo>
                  <a:lnTo>
                    <a:pt x="0" y="1914"/>
                  </a:lnTo>
                  <a:lnTo>
                    <a:pt x="0" y="1912"/>
                  </a:lnTo>
                  <a:lnTo>
                    <a:pt x="0" y="1882"/>
                  </a:lnTo>
                  <a:lnTo>
                    <a:pt x="0" y="1881"/>
                  </a:lnTo>
                  <a:lnTo>
                    <a:pt x="1" y="1880"/>
                  </a:lnTo>
                  <a:lnTo>
                    <a:pt x="1" y="1880"/>
                  </a:lnTo>
                  <a:lnTo>
                    <a:pt x="3" y="1880"/>
                  </a:lnTo>
                  <a:lnTo>
                    <a:pt x="4" y="1880"/>
                  </a:lnTo>
                  <a:lnTo>
                    <a:pt x="4" y="1880"/>
                  </a:lnTo>
                  <a:lnTo>
                    <a:pt x="4" y="1881"/>
                  </a:lnTo>
                  <a:lnTo>
                    <a:pt x="5" y="1882"/>
                  </a:lnTo>
                  <a:lnTo>
                    <a:pt x="5" y="1882"/>
                  </a:lnTo>
                  <a:close/>
                  <a:moveTo>
                    <a:pt x="5" y="1934"/>
                  </a:moveTo>
                  <a:lnTo>
                    <a:pt x="5" y="1964"/>
                  </a:lnTo>
                  <a:lnTo>
                    <a:pt x="4" y="1965"/>
                  </a:lnTo>
                  <a:lnTo>
                    <a:pt x="4" y="1967"/>
                  </a:lnTo>
                  <a:lnTo>
                    <a:pt x="4" y="1967"/>
                  </a:lnTo>
                  <a:lnTo>
                    <a:pt x="3" y="1967"/>
                  </a:lnTo>
                  <a:lnTo>
                    <a:pt x="1" y="1967"/>
                  </a:lnTo>
                  <a:lnTo>
                    <a:pt x="1" y="1967"/>
                  </a:lnTo>
                  <a:lnTo>
                    <a:pt x="0" y="1965"/>
                  </a:lnTo>
                  <a:lnTo>
                    <a:pt x="0" y="1964"/>
                  </a:lnTo>
                  <a:lnTo>
                    <a:pt x="0" y="1934"/>
                  </a:lnTo>
                  <a:lnTo>
                    <a:pt x="0" y="1933"/>
                  </a:lnTo>
                  <a:lnTo>
                    <a:pt x="1" y="1933"/>
                  </a:lnTo>
                  <a:lnTo>
                    <a:pt x="1" y="1931"/>
                  </a:lnTo>
                  <a:lnTo>
                    <a:pt x="3" y="1931"/>
                  </a:lnTo>
                  <a:lnTo>
                    <a:pt x="4" y="1931"/>
                  </a:lnTo>
                  <a:lnTo>
                    <a:pt x="4" y="1933"/>
                  </a:lnTo>
                  <a:lnTo>
                    <a:pt x="4" y="1933"/>
                  </a:lnTo>
                  <a:lnTo>
                    <a:pt x="5" y="1934"/>
                  </a:lnTo>
                  <a:lnTo>
                    <a:pt x="5" y="1934"/>
                  </a:lnTo>
                  <a:close/>
                  <a:moveTo>
                    <a:pt x="5" y="1986"/>
                  </a:moveTo>
                  <a:lnTo>
                    <a:pt x="5" y="2017"/>
                  </a:lnTo>
                  <a:lnTo>
                    <a:pt x="4" y="2017"/>
                  </a:lnTo>
                  <a:lnTo>
                    <a:pt x="4" y="2018"/>
                  </a:lnTo>
                  <a:lnTo>
                    <a:pt x="4" y="2018"/>
                  </a:lnTo>
                  <a:lnTo>
                    <a:pt x="3" y="2018"/>
                  </a:lnTo>
                  <a:lnTo>
                    <a:pt x="1" y="2018"/>
                  </a:lnTo>
                  <a:lnTo>
                    <a:pt x="1" y="2018"/>
                  </a:lnTo>
                  <a:lnTo>
                    <a:pt x="0" y="2017"/>
                  </a:lnTo>
                  <a:lnTo>
                    <a:pt x="0" y="2017"/>
                  </a:lnTo>
                  <a:lnTo>
                    <a:pt x="0" y="1986"/>
                  </a:lnTo>
                  <a:lnTo>
                    <a:pt x="0" y="1986"/>
                  </a:lnTo>
                  <a:lnTo>
                    <a:pt x="1" y="1984"/>
                  </a:lnTo>
                  <a:lnTo>
                    <a:pt x="1" y="1984"/>
                  </a:lnTo>
                  <a:lnTo>
                    <a:pt x="3" y="1984"/>
                  </a:lnTo>
                  <a:lnTo>
                    <a:pt x="4" y="1984"/>
                  </a:lnTo>
                  <a:lnTo>
                    <a:pt x="4" y="1984"/>
                  </a:lnTo>
                  <a:lnTo>
                    <a:pt x="4" y="1986"/>
                  </a:lnTo>
                  <a:lnTo>
                    <a:pt x="5" y="1986"/>
                  </a:lnTo>
                  <a:lnTo>
                    <a:pt x="5" y="1986"/>
                  </a:lnTo>
                  <a:close/>
                  <a:moveTo>
                    <a:pt x="5" y="2039"/>
                  </a:moveTo>
                  <a:lnTo>
                    <a:pt x="5" y="2069"/>
                  </a:lnTo>
                  <a:lnTo>
                    <a:pt x="4" y="2070"/>
                  </a:lnTo>
                  <a:lnTo>
                    <a:pt x="4" y="2070"/>
                  </a:lnTo>
                  <a:lnTo>
                    <a:pt x="4" y="2071"/>
                  </a:lnTo>
                  <a:lnTo>
                    <a:pt x="3" y="2071"/>
                  </a:lnTo>
                  <a:lnTo>
                    <a:pt x="1" y="2071"/>
                  </a:lnTo>
                  <a:lnTo>
                    <a:pt x="1" y="2070"/>
                  </a:lnTo>
                  <a:lnTo>
                    <a:pt x="0" y="2070"/>
                  </a:lnTo>
                  <a:lnTo>
                    <a:pt x="0" y="2069"/>
                  </a:lnTo>
                  <a:lnTo>
                    <a:pt x="0" y="2039"/>
                  </a:lnTo>
                  <a:lnTo>
                    <a:pt x="0" y="2037"/>
                  </a:lnTo>
                  <a:lnTo>
                    <a:pt x="1" y="2037"/>
                  </a:lnTo>
                  <a:lnTo>
                    <a:pt x="1" y="2036"/>
                  </a:lnTo>
                  <a:lnTo>
                    <a:pt x="3" y="2036"/>
                  </a:lnTo>
                  <a:lnTo>
                    <a:pt x="4" y="2036"/>
                  </a:lnTo>
                  <a:lnTo>
                    <a:pt x="4" y="2037"/>
                  </a:lnTo>
                  <a:lnTo>
                    <a:pt x="4" y="2037"/>
                  </a:lnTo>
                  <a:lnTo>
                    <a:pt x="5" y="2039"/>
                  </a:lnTo>
                  <a:lnTo>
                    <a:pt x="5" y="2039"/>
                  </a:lnTo>
                  <a:close/>
                  <a:moveTo>
                    <a:pt x="5" y="2090"/>
                  </a:moveTo>
                  <a:lnTo>
                    <a:pt x="5" y="2122"/>
                  </a:lnTo>
                  <a:lnTo>
                    <a:pt x="4" y="2122"/>
                  </a:lnTo>
                  <a:lnTo>
                    <a:pt x="4" y="2123"/>
                  </a:lnTo>
                  <a:lnTo>
                    <a:pt x="3" y="2123"/>
                  </a:lnTo>
                  <a:lnTo>
                    <a:pt x="1" y="2123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090"/>
                  </a:lnTo>
                  <a:lnTo>
                    <a:pt x="0" y="2089"/>
                  </a:lnTo>
                  <a:lnTo>
                    <a:pt x="1" y="2089"/>
                  </a:lnTo>
                  <a:lnTo>
                    <a:pt x="1" y="2089"/>
                  </a:lnTo>
                  <a:lnTo>
                    <a:pt x="3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5" y="2090"/>
                  </a:lnTo>
                  <a:lnTo>
                    <a:pt x="5" y="2090"/>
                  </a:lnTo>
                  <a:close/>
                  <a:moveTo>
                    <a:pt x="5" y="2143"/>
                  </a:moveTo>
                  <a:lnTo>
                    <a:pt x="5" y="2173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3" y="2176"/>
                  </a:lnTo>
                  <a:lnTo>
                    <a:pt x="1" y="2175"/>
                  </a:lnTo>
                  <a:lnTo>
                    <a:pt x="1" y="2175"/>
                  </a:lnTo>
                  <a:lnTo>
                    <a:pt x="0" y="2175"/>
                  </a:lnTo>
                  <a:lnTo>
                    <a:pt x="0" y="2173"/>
                  </a:lnTo>
                  <a:lnTo>
                    <a:pt x="0" y="2143"/>
                  </a:lnTo>
                  <a:lnTo>
                    <a:pt x="0" y="2142"/>
                  </a:lnTo>
                  <a:lnTo>
                    <a:pt x="1" y="2141"/>
                  </a:lnTo>
                  <a:lnTo>
                    <a:pt x="1" y="2141"/>
                  </a:lnTo>
                  <a:lnTo>
                    <a:pt x="3" y="2141"/>
                  </a:lnTo>
                  <a:lnTo>
                    <a:pt x="4" y="2141"/>
                  </a:lnTo>
                  <a:lnTo>
                    <a:pt x="4" y="2141"/>
                  </a:lnTo>
                  <a:lnTo>
                    <a:pt x="4" y="2142"/>
                  </a:lnTo>
                  <a:lnTo>
                    <a:pt x="5" y="2143"/>
                  </a:lnTo>
                  <a:lnTo>
                    <a:pt x="5" y="2143"/>
                  </a:lnTo>
                  <a:close/>
                  <a:moveTo>
                    <a:pt x="5" y="2195"/>
                  </a:moveTo>
                  <a:lnTo>
                    <a:pt x="5" y="2225"/>
                  </a:lnTo>
                  <a:lnTo>
                    <a:pt x="4" y="2226"/>
                  </a:lnTo>
                  <a:lnTo>
                    <a:pt x="4" y="2228"/>
                  </a:lnTo>
                  <a:lnTo>
                    <a:pt x="4" y="2228"/>
                  </a:lnTo>
                  <a:lnTo>
                    <a:pt x="3" y="2228"/>
                  </a:lnTo>
                  <a:lnTo>
                    <a:pt x="1" y="2228"/>
                  </a:lnTo>
                  <a:lnTo>
                    <a:pt x="1" y="2228"/>
                  </a:lnTo>
                  <a:lnTo>
                    <a:pt x="0" y="2226"/>
                  </a:lnTo>
                  <a:lnTo>
                    <a:pt x="0" y="2225"/>
                  </a:lnTo>
                  <a:lnTo>
                    <a:pt x="0" y="2195"/>
                  </a:lnTo>
                  <a:lnTo>
                    <a:pt x="0" y="2194"/>
                  </a:lnTo>
                  <a:lnTo>
                    <a:pt x="1" y="2194"/>
                  </a:lnTo>
                  <a:lnTo>
                    <a:pt x="1" y="2192"/>
                  </a:lnTo>
                  <a:lnTo>
                    <a:pt x="3" y="2192"/>
                  </a:lnTo>
                  <a:lnTo>
                    <a:pt x="4" y="2192"/>
                  </a:lnTo>
                  <a:lnTo>
                    <a:pt x="4" y="2194"/>
                  </a:lnTo>
                  <a:lnTo>
                    <a:pt x="4" y="2194"/>
                  </a:lnTo>
                  <a:lnTo>
                    <a:pt x="5" y="2195"/>
                  </a:lnTo>
                  <a:lnTo>
                    <a:pt x="5" y="2195"/>
                  </a:lnTo>
                  <a:close/>
                  <a:moveTo>
                    <a:pt x="5" y="2247"/>
                  </a:moveTo>
                  <a:lnTo>
                    <a:pt x="5" y="2278"/>
                  </a:lnTo>
                  <a:lnTo>
                    <a:pt x="4" y="2278"/>
                  </a:lnTo>
                  <a:lnTo>
                    <a:pt x="4" y="2279"/>
                  </a:lnTo>
                  <a:lnTo>
                    <a:pt x="4" y="2279"/>
                  </a:lnTo>
                  <a:lnTo>
                    <a:pt x="3" y="2279"/>
                  </a:lnTo>
                  <a:lnTo>
                    <a:pt x="1" y="2279"/>
                  </a:lnTo>
                  <a:lnTo>
                    <a:pt x="1" y="2279"/>
                  </a:lnTo>
                  <a:lnTo>
                    <a:pt x="0" y="2278"/>
                  </a:lnTo>
                  <a:lnTo>
                    <a:pt x="0" y="2278"/>
                  </a:lnTo>
                  <a:lnTo>
                    <a:pt x="0" y="2247"/>
                  </a:lnTo>
                  <a:lnTo>
                    <a:pt x="0" y="2247"/>
                  </a:lnTo>
                  <a:lnTo>
                    <a:pt x="1" y="2245"/>
                  </a:lnTo>
                  <a:lnTo>
                    <a:pt x="1" y="2245"/>
                  </a:lnTo>
                  <a:lnTo>
                    <a:pt x="3" y="2245"/>
                  </a:lnTo>
                  <a:lnTo>
                    <a:pt x="4" y="2245"/>
                  </a:lnTo>
                  <a:lnTo>
                    <a:pt x="4" y="2245"/>
                  </a:lnTo>
                  <a:lnTo>
                    <a:pt x="4" y="2247"/>
                  </a:lnTo>
                  <a:lnTo>
                    <a:pt x="5" y="2247"/>
                  </a:lnTo>
                  <a:lnTo>
                    <a:pt x="5" y="2247"/>
                  </a:lnTo>
                  <a:close/>
                  <a:moveTo>
                    <a:pt x="5" y="2300"/>
                  </a:moveTo>
                  <a:lnTo>
                    <a:pt x="5" y="2330"/>
                  </a:lnTo>
                  <a:lnTo>
                    <a:pt x="4" y="2331"/>
                  </a:lnTo>
                  <a:lnTo>
                    <a:pt x="4" y="2331"/>
                  </a:lnTo>
                  <a:lnTo>
                    <a:pt x="4" y="2333"/>
                  </a:lnTo>
                  <a:lnTo>
                    <a:pt x="3" y="2333"/>
                  </a:lnTo>
                  <a:lnTo>
                    <a:pt x="1" y="2333"/>
                  </a:lnTo>
                  <a:lnTo>
                    <a:pt x="1" y="2331"/>
                  </a:lnTo>
                  <a:lnTo>
                    <a:pt x="0" y="2331"/>
                  </a:lnTo>
                  <a:lnTo>
                    <a:pt x="0" y="2330"/>
                  </a:lnTo>
                  <a:lnTo>
                    <a:pt x="0" y="2300"/>
                  </a:lnTo>
                  <a:lnTo>
                    <a:pt x="0" y="2299"/>
                  </a:lnTo>
                  <a:lnTo>
                    <a:pt x="1" y="2299"/>
                  </a:lnTo>
                  <a:lnTo>
                    <a:pt x="1" y="2297"/>
                  </a:lnTo>
                  <a:lnTo>
                    <a:pt x="3" y="2297"/>
                  </a:lnTo>
                  <a:lnTo>
                    <a:pt x="4" y="2297"/>
                  </a:lnTo>
                  <a:lnTo>
                    <a:pt x="4" y="2299"/>
                  </a:lnTo>
                  <a:lnTo>
                    <a:pt x="4" y="2299"/>
                  </a:lnTo>
                  <a:lnTo>
                    <a:pt x="5" y="2300"/>
                  </a:lnTo>
                  <a:lnTo>
                    <a:pt x="5" y="2300"/>
                  </a:lnTo>
                  <a:close/>
                  <a:moveTo>
                    <a:pt x="5" y="2352"/>
                  </a:moveTo>
                  <a:lnTo>
                    <a:pt x="5" y="2383"/>
                  </a:lnTo>
                  <a:lnTo>
                    <a:pt x="4" y="2383"/>
                  </a:lnTo>
                  <a:lnTo>
                    <a:pt x="4" y="2384"/>
                  </a:lnTo>
                  <a:lnTo>
                    <a:pt x="3" y="2384"/>
                  </a:lnTo>
                  <a:lnTo>
                    <a:pt x="1" y="2384"/>
                  </a:lnTo>
                  <a:lnTo>
                    <a:pt x="0" y="2383"/>
                  </a:lnTo>
                  <a:lnTo>
                    <a:pt x="0" y="2383"/>
                  </a:lnTo>
                  <a:lnTo>
                    <a:pt x="0" y="2352"/>
                  </a:lnTo>
                  <a:lnTo>
                    <a:pt x="0" y="2350"/>
                  </a:lnTo>
                  <a:lnTo>
                    <a:pt x="1" y="2350"/>
                  </a:lnTo>
                  <a:lnTo>
                    <a:pt x="1" y="2350"/>
                  </a:lnTo>
                  <a:lnTo>
                    <a:pt x="3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5" y="2352"/>
                  </a:lnTo>
                  <a:lnTo>
                    <a:pt x="5" y="2352"/>
                  </a:lnTo>
                  <a:close/>
                  <a:moveTo>
                    <a:pt x="5" y="2405"/>
                  </a:moveTo>
                  <a:lnTo>
                    <a:pt x="5" y="2435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3" y="2437"/>
                  </a:lnTo>
                  <a:lnTo>
                    <a:pt x="1" y="2436"/>
                  </a:lnTo>
                  <a:lnTo>
                    <a:pt x="1" y="2436"/>
                  </a:lnTo>
                  <a:lnTo>
                    <a:pt x="0" y="2436"/>
                  </a:lnTo>
                  <a:lnTo>
                    <a:pt x="0" y="2435"/>
                  </a:lnTo>
                  <a:lnTo>
                    <a:pt x="0" y="2405"/>
                  </a:lnTo>
                  <a:lnTo>
                    <a:pt x="0" y="2403"/>
                  </a:lnTo>
                  <a:lnTo>
                    <a:pt x="1" y="2402"/>
                  </a:lnTo>
                  <a:lnTo>
                    <a:pt x="1" y="2402"/>
                  </a:lnTo>
                  <a:lnTo>
                    <a:pt x="3" y="2402"/>
                  </a:lnTo>
                  <a:lnTo>
                    <a:pt x="4" y="2402"/>
                  </a:lnTo>
                  <a:lnTo>
                    <a:pt x="4" y="2402"/>
                  </a:lnTo>
                  <a:lnTo>
                    <a:pt x="4" y="2403"/>
                  </a:lnTo>
                  <a:lnTo>
                    <a:pt x="5" y="2405"/>
                  </a:lnTo>
                  <a:lnTo>
                    <a:pt x="5" y="2405"/>
                  </a:lnTo>
                  <a:close/>
                  <a:moveTo>
                    <a:pt x="5" y="2456"/>
                  </a:moveTo>
                  <a:lnTo>
                    <a:pt x="5" y="2486"/>
                  </a:lnTo>
                  <a:lnTo>
                    <a:pt x="4" y="2488"/>
                  </a:lnTo>
                  <a:lnTo>
                    <a:pt x="4" y="2489"/>
                  </a:lnTo>
                  <a:lnTo>
                    <a:pt x="4" y="2489"/>
                  </a:lnTo>
                  <a:lnTo>
                    <a:pt x="3" y="2489"/>
                  </a:lnTo>
                  <a:lnTo>
                    <a:pt x="1" y="2489"/>
                  </a:lnTo>
                  <a:lnTo>
                    <a:pt x="1" y="2489"/>
                  </a:lnTo>
                  <a:lnTo>
                    <a:pt x="0" y="2488"/>
                  </a:lnTo>
                  <a:lnTo>
                    <a:pt x="0" y="2486"/>
                  </a:lnTo>
                  <a:lnTo>
                    <a:pt x="0" y="2456"/>
                  </a:lnTo>
                  <a:lnTo>
                    <a:pt x="0" y="2455"/>
                  </a:lnTo>
                  <a:lnTo>
                    <a:pt x="1" y="2455"/>
                  </a:lnTo>
                  <a:lnTo>
                    <a:pt x="1" y="2454"/>
                  </a:lnTo>
                  <a:lnTo>
                    <a:pt x="3" y="2454"/>
                  </a:lnTo>
                  <a:lnTo>
                    <a:pt x="4" y="2454"/>
                  </a:lnTo>
                  <a:lnTo>
                    <a:pt x="4" y="2455"/>
                  </a:lnTo>
                  <a:lnTo>
                    <a:pt x="4" y="2455"/>
                  </a:lnTo>
                  <a:lnTo>
                    <a:pt x="5" y="2456"/>
                  </a:lnTo>
                  <a:lnTo>
                    <a:pt x="5" y="2456"/>
                  </a:lnTo>
                  <a:close/>
                  <a:moveTo>
                    <a:pt x="5" y="2508"/>
                  </a:moveTo>
                  <a:lnTo>
                    <a:pt x="5" y="2539"/>
                  </a:lnTo>
                  <a:lnTo>
                    <a:pt x="4" y="2539"/>
                  </a:lnTo>
                  <a:lnTo>
                    <a:pt x="4" y="2541"/>
                  </a:lnTo>
                  <a:lnTo>
                    <a:pt x="4" y="2541"/>
                  </a:lnTo>
                  <a:lnTo>
                    <a:pt x="3" y="2541"/>
                  </a:lnTo>
                  <a:lnTo>
                    <a:pt x="1" y="2541"/>
                  </a:lnTo>
                  <a:lnTo>
                    <a:pt x="1" y="2541"/>
                  </a:lnTo>
                  <a:lnTo>
                    <a:pt x="0" y="2539"/>
                  </a:lnTo>
                  <a:lnTo>
                    <a:pt x="0" y="2539"/>
                  </a:lnTo>
                  <a:lnTo>
                    <a:pt x="0" y="2508"/>
                  </a:lnTo>
                  <a:lnTo>
                    <a:pt x="0" y="2508"/>
                  </a:lnTo>
                  <a:lnTo>
                    <a:pt x="1" y="2507"/>
                  </a:lnTo>
                  <a:lnTo>
                    <a:pt x="1" y="2507"/>
                  </a:lnTo>
                  <a:lnTo>
                    <a:pt x="3" y="2507"/>
                  </a:lnTo>
                  <a:lnTo>
                    <a:pt x="4" y="2507"/>
                  </a:lnTo>
                  <a:lnTo>
                    <a:pt x="4" y="2507"/>
                  </a:lnTo>
                  <a:lnTo>
                    <a:pt x="4" y="2508"/>
                  </a:lnTo>
                  <a:lnTo>
                    <a:pt x="5" y="2508"/>
                  </a:lnTo>
                  <a:lnTo>
                    <a:pt x="5" y="2508"/>
                  </a:lnTo>
                  <a:close/>
                  <a:moveTo>
                    <a:pt x="5" y="2561"/>
                  </a:moveTo>
                  <a:lnTo>
                    <a:pt x="5" y="2591"/>
                  </a:lnTo>
                  <a:lnTo>
                    <a:pt x="4" y="2592"/>
                  </a:lnTo>
                  <a:lnTo>
                    <a:pt x="4" y="2592"/>
                  </a:lnTo>
                  <a:lnTo>
                    <a:pt x="4" y="2594"/>
                  </a:lnTo>
                  <a:lnTo>
                    <a:pt x="3" y="2594"/>
                  </a:lnTo>
                  <a:lnTo>
                    <a:pt x="1" y="2594"/>
                  </a:lnTo>
                  <a:lnTo>
                    <a:pt x="1" y="2592"/>
                  </a:lnTo>
                  <a:lnTo>
                    <a:pt x="0" y="2592"/>
                  </a:lnTo>
                  <a:lnTo>
                    <a:pt x="0" y="2591"/>
                  </a:lnTo>
                  <a:lnTo>
                    <a:pt x="0" y="2561"/>
                  </a:lnTo>
                  <a:lnTo>
                    <a:pt x="0" y="2560"/>
                  </a:lnTo>
                  <a:lnTo>
                    <a:pt x="1" y="2560"/>
                  </a:lnTo>
                  <a:lnTo>
                    <a:pt x="1" y="2558"/>
                  </a:lnTo>
                  <a:lnTo>
                    <a:pt x="3" y="2558"/>
                  </a:lnTo>
                  <a:lnTo>
                    <a:pt x="4" y="2558"/>
                  </a:lnTo>
                  <a:lnTo>
                    <a:pt x="4" y="2560"/>
                  </a:lnTo>
                  <a:lnTo>
                    <a:pt x="4" y="2560"/>
                  </a:lnTo>
                  <a:lnTo>
                    <a:pt x="5" y="2561"/>
                  </a:lnTo>
                  <a:lnTo>
                    <a:pt x="5" y="2561"/>
                  </a:lnTo>
                  <a:close/>
                  <a:moveTo>
                    <a:pt x="5" y="2613"/>
                  </a:moveTo>
                  <a:lnTo>
                    <a:pt x="5" y="2644"/>
                  </a:lnTo>
                  <a:lnTo>
                    <a:pt x="4" y="2644"/>
                  </a:lnTo>
                  <a:lnTo>
                    <a:pt x="4" y="2645"/>
                  </a:lnTo>
                  <a:lnTo>
                    <a:pt x="3" y="2645"/>
                  </a:lnTo>
                  <a:lnTo>
                    <a:pt x="1" y="2645"/>
                  </a:lnTo>
                  <a:lnTo>
                    <a:pt x="0" y="2644"/>
                  </a:lnTo>
                  <a:lnTo>
                    <a:pt x="0" y="2644"/>
                  </a:lnTo>
                  <a:lnTo>
                    <a:pt x="0" y="2613"/>
                  </a:lnTo>
                  <a:lnTo>
                    <a:pt x="0" y="2611"/>
                  </a:lnTo>
                  <a:lnTo>
                    <a:pt x="1" y="2611"/>
                  </a:lnTo>
                  <a:lnTo>
                    <a:pt x="1" y="2611"/>
                  </a:lnTo>
                  <a:lnTo>
                    <a:pt x="3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5" y="2613"/>
                  </a:lnTo>
                  <a:lnTo>
                    <a:pt x="5" y="2613"/>
                  </a:lnTo>
                  <a:close/>
                  <a:moveTo>
                    <a:pt x="5" y="2666"/>
                  </a:moveTo>
                  <a:lnTo>
                    <a:pt x="5" y="2696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3" y="2698"/>
                  </a:lnTo>
                  <a:lnTo>
                    <a:pt x="1" y="2697"/>
                  </a:lnTo>
                  <a:lnTo>
                    <a:pt x="1" y="2697"/>
                  </a:lnTo>
                  <a:lnTo>
                    <a:pt x="0" y="2697"/>
                  </a:lnTo>
                  <a:lnTo>
                    <a:pt x="0" y="2696"/>
                  </a:lnTo>
                  <a:lnTo>
                    <a:pt x="0" y="2666"/>
                  </a:lnTo>
                  <a:lnTo>
                    <a:pt x="0" y="2664"/>
                  </a:lnTo>
                  <a:lnTo>
                    <a:pt x="1" y="2663"/>
                  </a:lnTo>
                  <a:lnTo>
                    <a:pt x="1" y="2663"/>
                  </a:lnTo>
                  <a:lnTo>
                    <a:pt x="3" y="2663"/>
                  </a:lnTo>
                  <a:lnTo>
                    <a:pt x="4" y="2663"/>
                  </a:lnTo>
                  <a:lnTo>
                    <a:pt x="4" y="2663"/>
                  </a:lnTo>
                  <a:lnTo>
                    <a:pt x="4" y="2664"/>
                  </a:lnTo>
                  <a:lnTo>
                    <a:pt x="5" y="2666"/>
                  </a:lnTo>
                  <a:lnTo>
                    <a:pt x="5" y="2666"/>
                  </a:lnTo>
                  <a:close/>
                  <a:moveTo>
                    <a:pt x="5" y="2717"/>
                  </a:moveTo>
                  <a:lnTo>
                    <a:pt x="5" y="2747"/>
                  </a:lnTo>
                  <a:lnTo>
                    <a:pt x="4" y="2749"/>
                  </a:lnTo>
                  <a:lnTo>
                    <a:pt x="4" y="2750"/>
                  </a:lnTo>
                  <a:lnTo>
                    <a:pt x="4" y="2750"/>
                  </a:lnTo>
                  <a:lnTo>
                    <a:pt x="3" y="2750"/>
                  </a:lnTo>
                  <a:lnTo>
                    <a:pt x="1" y="2750"/>
                  </a:lnTo>
                  <a:lnTo>
                    <a:pt x="1" y="2750"/>
                  </a:lnTo>
                  <a:lnTo>
                    <a:pt x="0" y="2749"/>
                  </a:lnTo>
                  <a:lnTo>
                    <a:pt x="0" y="2747"/>
                  </a:lnTo>
                  <a:lnTo>
                    <a:pt x="0" y="2717"/>
                  </a:lnTo>
                  <a:lnTo>
                    <a:pt x="0" y="2716"/>
                  </a:lnTo>
                  <a:lnTo>
                    <a:pt x="1" y="2716"/>
                  </a:lnTo>
                  <a:lnTo>
                    <a:pt x="1" y="2715"/>
                  </a:lnTo>
                  <a:lnTo>
                    <a:pt x="3" y="2715"/>
                  </a:lnTo>
                  <a:lnTo>
                    <a:pt x="4" y="2715"/>
                  </a:lnTo>
                  <a:lnTo>
                    <a:pt x="4" y="2716"/>
                  </a:lnTo>
                  <a:lnTo>
                    <a:pt x="4" y="2716"/>
                  </a:lnTo>
                  <a:lnTo>
                    <a:pt x="5" y="2717"/>
                  </a:lnTo>
                  <a:lnTo>
                    <a:pt x="5" y="2717"/>
                  </a:lnTo>
                  <a:close/>
                  <a:moveTo>
                    <a:pt x="5" y="2769"/>
                  </a:moveTo>
                  <a:lnTo>
                    <a:pt x="5" y="2800"/>
                  </a:lnTo>
                  <a:lnTo>
                    <a:pt x="4" y="2800"/>
                  </a:lnTo>
                  <a:lnTo>
                    <a:pt x="4" y="2802"/>
                  </a:lnTo>
                  <a:lnTo>
                    <a:pt x="4" y="2802"/>
                  </a:lnTo>
                  <a:lnTo>
                    <a:pt x="3" y="2802"/>
                  </a:lnTo>
                  <a:lnTo>
                    <a:pt x="1" y="2802"/>
                  </a:lnTo>
                  <a:lnTo>
                    <a:pt x="1" y="2802"/>
                  </a:lnTo>
                  <a:lnTo>
                    <a:pt x="0" y="2800"/>
                  </a:lnTo>
                  <a:lnTo>
                    <a:pt x="0" y="2800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1" y="2768"/>
                  </a:lnTo>
                  <a:lnTo>
                    <a:pt x="1" y="2768"/>
                  </a:lnTo>
                  <a:lnTo>
                    <a:pt x="3" y="2768"/>
                  </a:lnTo>
                  <a:lnTo>
                    <a:pt x="4" y="2768"/>
                  </a:lnTo>
                  <a:lnTo>
                    <a:pt x="4" y="2768"/>
                  </a:lnTo>
                  <a:lnTo>
                    <a:pt x="4" y="2769"/>
                  </a:lnTo>
                  <a:lnTo>
                    <a:pt x="5" y="2769"/>
                  </a:lnTo>
                  <a:lnTo>
                    <a:pt x="5" y="2769"/>
                  </a:lnTo>
                  <a:close/>
                  <a:moveTo>
                    <a:pt x="5" y="2822"/>
                  </a:moveTo>
                  <a:lnTo>
                    <a:pt x="5" y="2852"/>
                  </a:lnTo>
                  <a:lnTo>
                    <a:pt x="4" y="2853"/>
                  </a:lnTo>
                  <a:lnTo>
                    <a:pt x="4" y="2853"/>
                  </a:lnTo>
                  <a:lnTo>
                    <a:pt x="4" y="2855"/>
                  </a:lnTo>
                  <a:lnTo>
                    <a:pt x="3" y="2855"/>
                  </a:lnTo>
                  <a:lnTo>
                    <a:pt x="1" y="2855"/>
                  </a:lnTo>
                  <a:lnTo>
                    <a:pt x="1" y="2853"/>
                  </a:lnTo>
                  <a:lnTo>
                    <a:pt x="0" y="2853"/>
                  </a:lnTo>
                  <a:lnTo>
                    <a:pt x="0" y="2852"/>
                  </a:lnTo>
                  <a:lnTo>
                    <a:pt x="0" y="2822"/>
                  </a:lnTo>
                  <a:lnTo>
                    <a:pt x="0" y="2821"/>
                  </a:lnTo>
                  <a:lnTo>
                    <a:pt x="1" y="2821"/>
                  </a:lnTo>
                  <a:lnTo>
                    <a:pt x="1" y="2819"/>
                  </a:lnTo>
                  <a:lnTo>
                    <a:pt x="3" y="2819"/>
                  </a:lnTo>
                  <a:lnTo>
                    <a:pt x="4" y="2819"/>
                  </a:lnTo>
                  <a:lnTo>
                    <a:pt x="4" y="2821"/>
                  </a:lnTo>
                  <a:lnTo>
                    <a:pt x="4" y="2821"/>
                  </a:lnTo>
                  <a:lnTo>
                    <a:pt x="5" y="2822"/>
                  </a:lnTo>
                  <a:lnTo>
                    <a:pt x="5" y="2822"/>
                  </a:lnTo>
                  <a:close/>
                  <a:moveTo>
                    <a:pt x="5" y="2874"/>
                  </a:moveTo>
                  <a:lnTo>
                    <a:pt x="5" y="2905"/>
                  </a:lnTo>
                  <a:lnTo>
                    <a:pt x="4" y="2905"/>
                  </a:lnTo>
                  <a:lnTo>
                    <a:pt x="4" y="2906"/>
                  </a:lnTo>
                  <a:lnTo>
                    <a:pt x="3" y="2906"/>
                  </a:lnTo>
                  <a:lnTo>
                    <a:pt x="1" y="2906"/>
                  </a:lnTo>
                  <a:lnTo>
                    <a:pt x="0" y="2905"/>
                  </a:lnTo>
                  <a:lnTo>
                    <a:pt x="0" y="2905"/>
                  </a:lnTo>
                  <a:lnTo>
                    <a:pt x="0" y="2874"/>
                  </a:lnTo>
                  <a:lnTo>
                    <a:pt x="0" y="2872"/>
                  </a:lnTo>
                  <a:lnTo>
                    <a:pt x="1" y="2872"/>
                  </a:lnTo>
                  <a:lnTo>
                    <a:pt x="1" y="2872"/>
                  </a:lnTo>
                  <a:lnTo>
                    <a:pt x="3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5" y="2874"/>
                  </a:lnTo>
                  <a:lnTo>
                    <a:pt x="5" y="2874"/>
                  </a:lnTo>
                  <a:close/>
                  <a:moveTo>
                    <a:pt x="5" y="2927"/>
                  </a:moveTo>
                  <a:lnTo>
                    <a:pt x="5" y="2957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3" y="2960"/>
                  </a:lnTo>
                  <a:lnTo>
                    <a:pt x="1" y="2958"/>
                  </a:lnTo>
                  <a:lnTo>
                    <a:pt x="1" y="2958"/>
                  </a:lnTo>
                  <a:lnTo>
                    <a:pt x="0" y="2958"/>
                  </a:lnTo>
                  <a:lnTo>
                    <a:pt x="0" y="2957"/>
                  </a:lnTo>
                  <a:lnTo>
                    <a:pt x="0" y="2927"/>
                  </a:lnTo>
                  <a:lnTo>
                    <a:pt x="0" y="2926"/>
                  </a:lnTo>
                  <a:lnTo>
                    <a:pt x="1" y="2924"/>
                  </a:lnTo>
                  <a:lnTo>
                    <a:pt x="1" y="2924"/>
                  </a:lnTo>
                  <a:lnTo>
                    <a:pt x="3" y="2924"/>
                  </a:lnTo>
                  <a:lnTo>
                    <a:pt x="4" y="2924"/>
                  </a:lnTo>
                  <a:lnTo>
                    <a:pt x="4" y="2924"/>
                  </a:lnTo>
                  <a:lnTo>
                    <a:pt x="4" y="2926"/>
                  </a:lnTo>
                  <a:lnTo>
                    <a:pt x="5" y="2927"/>
                  </a:lnTo>
                  <a:lnTo>
                    <a:pt x="5" y="2927"/>
                  </a:lnTo>
                  <a:close/>
                  <a:moveTo>
                    <a:pt x="5" y="2979"/>
                  </a:moveTo>
                  <a:lnTo>
                    <a:pt x="5" y="3008"/>
                  </a:lnTo>
                  <a:lnTo>
                    <a:pt x="4" y="3010"/>
                  </a:lnTo>
                  <a:lnTo>
                    <a:pt x="4" y="3011"/>
                  </a:lnTo>
                  <a:lnTo>
                    <a:pt x="4" y="3011"/>
                  </a:lnTo>
                  <a:lnTo>
                    <a:pt x="3" y="3011"/>
                  </a:lnTo>
                  <a:lnTo>
                    <a:pt x="1" y="3011"/>
                  </a:lnTo>
                  <a:lnTo>
                    <a:pt x="1" y="3011"/>
                  </a:lnTo>
                  <a:lnTo>
                    <a:pt x="0" y="3010"/>
                  </a:lnTo>
                  <a:lnTo>
                    <a:pt x="0" y="3008"/>
                  </a:lnTo>
                  <a:lnTo>
                    <a:pt x="0" y="2979"/>
                  </a:lnTo>
                  <a:lnTo>
                    <a:pt x="0" y="2977"/>
                  </a:lnTo>
                  <a:lnTo>
                    <a:pt x="1" y="2977"/>
                  </a:lnTo>
                  <a:lnTo>
                    <a:pt x="1" y="2976"/>
                  </a:lnTo>
                  <a:lnTo>
                    <a:pt x="3" y="2976"/>
                  </a:lnTo>
                  <a:lnTo>
                    <a:pt x="4" y="2976"/>
                  </a:lnTo>
                  <a:lnTo>
                    <a:pt x="4" y="2977"/>
                  </a:lnTo>
                  <a:lnTo>
                    <a:pt x="4" y="2977"/>
                  </a:lnTo>
                  <a:lnTo>
                    <a:pt x="5" y="2979"/>
                  </a:lnTo>
                  <a:lnTo>
                    <a:pt x="5" y="2979"/>
                  </a:lnTo>
                  <a:close/>
                  <a:moveTo>
                    <a:pt x="5" y="3030"/>
                  </a:moveTo>
                  <a:lnTo>
                    <a:pt x="5" y="3062"/>
                  </a:lnTo>
                  <a:lnTo>
                    <a:pt x="4" y="3062"/>
                  </a:lnTo>
                  <a:lnTo>
                    <a:pt x="4" y="3063"/>
                  </a:lnTo>
                  <a:lnTo>
                    <a:pt x="4" y="3063"/>
                  </a:lnTo>
                  <a:lnTo>
                    <a:pt x="3" y="3063"/>
                  </a:lnTo>
                  <a:lnTo>
                    <a:pt x="1" y="3063"/>
                  </a:lnTo>
                  <a:lnTo>
                    <a:pt x="1" y="3063"/>
                  </a:lnTo>
                  <a:lnTo>
                    <a:pt x="0" y="3062"/>
                  </a:lnTo>
                  <a:lnTo>
                    <a:pt x="0" y="3062"/>
                  </a:lnTo>
                  <a:lnTo>
                    <a:pt x="0" y="3030"/>
                  </a:lnTo>
                  <a:lnTo>
                    <a:pt x="0" y="3030"/>
                  </a:lnTo>
                  <a:lnTo>
                    <a:pt x="1" y="3029"/>
                  </a:lnTo>
                  <a:lnTo>
                    <a:pt x="1" y="3029"/>
                  </a:lnTo>
                  <a:lnTo>
                    <a:pt x="3" y="3029"/>
                  </a:lnTo>
                  <a:lnTo>
                    <a:pt x="4" y="3029"/>
                  </a:lnTo>
                  <a:lnTo>
                    <a:pt x="4" y="3029"/>
                  </a:lnTo>
                  <a:lnTo>
                    <a:pt x="4" y="3030"/>
                  </a:lnTo>
                  <a:lnTo>
                    <a:pt x="5" y="3030"/>
                  </a:lnTo>
                  <a:lnTo>
                    <a:pt x="5" y="3030"/>
                  </a:lnTo>
                  <a:close/>
                  <a:moveTo>
                    <a:pt x="5" y="3083"/>
                  </a:moveTo>
                  <a:lnTo>
                    <a:pt x="5" y="3102"/>
                  </a:lnTo>
                  <a:lnTo>
                    <a:pt x="4" y="3104"/>
                  </a:lnTo>
                  <a:lnTo>
                    <a:pt x="4" y="3104"/>
                  </a:lnTo>
                  <a:lnTo>
                    <a:pt x="4" y="3105"/>
                  </a:lnTo>
                  <a:lnTo>
                    <a:pt x="3" y="3105"/>
                  </a:lnTo>
                  <a:lnTo>
                    <a:pt x="1" y="3105"/>
                  </a:lnTo>
                  <a:lnTo>
                    <a:pt x="1" y="3104"/>
                  </a:lnTo>
                  <a:lnTo>
                    <a:pt x="0" y="3104"/>
                  </a:lnTo>
                  <a:lnTo>
                    <a:pt x="0" y="3102"/>
                  </a:lnTo>
                  <a:lnTo>
                    <a:pt x="0" y="3083"/>
                  </a:lnTo>
                  <a:lnTo>
                    <a:pt x="0" y="3082"/>
                  </a:lnTo>
                  <a:lnTo>
                    <a:pt x="1" y="3082"/>
                  </a:lnTo>
                  <a:lnTo>
                    <a:pt x="1" y="3081"/>
                  </a:lnTo>
                  <a:lnTo>
                    <a:pt x="3" y="3081"/>
                  </a:lnTo>
                  <a:lnTo>
                    <a:pt x="4" y="3081"/>
                  </a:lnTo>
                  <a:lnTo>
                    <a:pt x="4" y="3082"/>
                  </a:lnTo>
                  <a:lnTo>
                    <a:pt x="4" y="3082"/>
                  </a:lnTo>
                  <a:lnTo>
                    <a:pt x="5" y="3083"/>
                  </a:lnTo>
                  <a:lnTo>
                    <a:pt x="5" y="30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4188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9484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1808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7284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9572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4940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9452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676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41320" y="3887640"/>
              <a:ext cx="6364080" cy="1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60840" y="1706040"/>
              <a:ext cx="47988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60840" y="1706040"/>
              <a:ext cx="47988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5988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5988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60840" y="3411000"/>
              <a:ext cx="479880" cy="476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60840" y="3411000"/>
              <a:ext cx="47988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55880" y="3576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5000" y="35766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59880" y="3752280"/>
              <a:ext cx="479160" cy="135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9880" y="3752280"/>
              <a:ext cx="479160" cy="135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5960" y="3746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4800" y="37468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2053800" y="23403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2044080" y="2290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2040840" y="22183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2040840" y="2151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2062080" y="2103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2055960" y="207108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2044080" y="201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2025000" y="19332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2044080" y="1852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2040840" y="178200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2059200" y="1730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6200000">
              <a:off x="2044080" y="168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2643480" y="2113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2640240" y="2051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2658240" y="2001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2658240" y="1966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2631240" y="19054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2643480" y="183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2653200" y="177372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2643480" y="1725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17600" y="1706040"/>
              <a:ext cx="47988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17600" y="1706040"/>
              <a:ext cx="47988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1664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1664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17600" y="3273840"/>
              <a:ext cx="479880" cy="613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17600" y="3273840"/>
              <a:ext cx="479880" cy="613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14800" y="3509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73200" y="350964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16640" y="3683520"/>
              <a:ext cx="479160" cy="203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16640" y="3683520"/>
              <a:ext cx="479160" cy="20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53440" y="3713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33360" y="37134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3312720" y="23403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3303000" y="2290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3299760" y="22183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3299760" y="2151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320640" y="2103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314520" y="207108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303000" y="201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3283920" y="19332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3303000" y="1852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3299760" y="178200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3317760" y="1730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3303000" y="168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3907800" y="2113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3904560" y="2051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3920760" y="2000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3920760" y="1965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3895560" y="19054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3907800" y="183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3917520" y="177372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3907800" y="1725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9596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9596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95000" y="1706040"/>
              <a:ext cx="47988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5000" y="1706040"/>
              <a:ext cx="47988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95960" y="2729160"/>
              <a:ext cx="479160" cy="1158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95960" y="2729160"/>
              <a:ext cx="479160" cy="1158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93160" y="3235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1920" y="32356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95000" y="3683520"/>
              <a:ext cx="479880" cy="203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95000" y="3683520"/>
              <a:ext cx="479880" cy="20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31080" y="3713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09920" y="37134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7468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7468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7336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7336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74680" y="1841400"/>
              <a:ext cx="479160" cy="2045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74680" y="1841400"/>
              <a:ext cx="479160" cy="2045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71520" y="2792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30280" y="2792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2880" y="1706040"/>
              <a:ext cx="4773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2880" y="1706040"/>
              <a:ext cx="4773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31920" y="1706040"/>
              <a:ext cx="4773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31920" y="1706040"/>
              <a:ext cx="4773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2880" y="1841400"/>
              <a:ext cx="477360" cy="2045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32880" y="1841400"/>
              <a:ext cx="477360" cy="2045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8280" y="2792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87040" y="2792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31920" y="3411000"/>
              <a:ext cx="477360" cy="476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31920" y="3411000"/>
              <a:ext cx="47736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26960" y="3576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86080" y="35766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73360" y="3615120"/>
              <a:ext cx="479160" cy="272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73360" y="3615120"/>
              <a:ext cx="479160" cy="272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0200" y="3680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29320" y="36802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82200" y="1155960"/>
              <a:ext cx="1364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quirements worksho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95920" y="1294560"/>
              <a:ext cx="285120" cy="379440"/>
            </a:xfrm>
            <a:custGeom>
              <a:avLst/>
              <a:gdLst/>
              <a:ahLst/>
              <a:rect l="l" t="t" r="r" b="b"/>
              <a:pathLst>
                <a:path w="291" h="454">
                  <a:moveTo>
                    <a:pt x="44" y="453"/>
                  </a:moveTo>
                  <a:lnTo>
                    <a:pt x="34" y="445"/>
                  </a:lnTo>
                  <a:lnTo>
                    <a:pt x="26" y="437"/>
                  </a:lnTo>
                  <a:lnTo>
                    <a:pt x="22" y="431"/>
                  </a:lnTo>
                  <a:lnTo>
                    <a:pt x="21" y="430"/>
                  </a:lnTo>
                  <a:lnTo>
                    <a:pt x="22" y="429"/>
                  </a:lnTo>
                  <a:lnTo>
                    <a:pt x="23" y="429"/>
                  </a:lnTo>
                  <a:lnTo>
                    <a:pt x="25" y="429"/>
                  </a:lnTo>
                  <a:lnTo>
                    <a:pt x="29" y="434"/>
                  </a:lnTo>
                  <a:lnTo>
                    <a:pt x="37" y="442"/>
                  </a:lnTo>
                  <a:lnTo>
                    <a:pt x="46" y="450"/>
                  </a:lnTo>
                  <a:lnTo>
                    <a:pt x="46" y="452"/>
                  </a:lnTo>
                  <a:lnTo>
                    <a:pt x="46" y="453"/>
                  </a:lnTo>
                  <a:lnTo>
                    <a:pt x="45" y="454"/>
                  </a:lnTo>
                  <a:lnTo>
                    <a:pt x="44" y="453"/>
                  </a:lnTo>
                  <a:lnTo>
                    <a:pt x="44" y="453"/>
                  </a:lnTo>
                  <a:close/>
                  <a:moveTo>
                    <a:pt x="10" y="412"/>
                  </a:moveTo>
                  <a:lnTo>
                    <a:pt x="7" y="407"/>
                  </a:lnTo>
                  <a:lnTo>
                    <a:pt x="4" y="395"/>
                  </a:lnTo>
                  <a:lnTo>
                    <a:pt x="2" y="384"/>
                  </a:lnTo>
                  <a:lnTo>
                    <a:pt x="2" y="382"/>
                  </a:lnTo>
                  <a:lnTo>
                    <a:pt x="2" y="382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4" y="381"/>
                  </a:lnTo>
                  <a:lnTo>
                    <a:pt x="6" y="381"/>
                  </a:lnTo>
                  <a:lnTo>
                    <a:pt x="6" y="382"/>
                  </a:lnTo>
                  <a:lnTo>
                    <a:pt x="6" y="382"/>
                  </a:lnTo>
                  <a:lnTo>
                    <a:pt x="6" y="382"/>
                  </a:lnTo>
                  <a:lnTo>
                    <a:pt x="8" y="393"/>
                  </a:lnTo>
                  <a:lnTo>
                    <a:pt x="11" y="404"/>
                  </a:lnTo>
                  <a:lnTo>
                    <a:pt x="14" y="411"/>
                  </a:lnTo>
                  <a:lnTo>
                    <a:pt x="15" y="412"/>
                  </a:lnTo>
                  <a:lnTo>
                    <a:pt x="14" y="412"/>
                  </a:lnTo>
                  <a:lnTo>
                    <a:pt x="14" y="414"/>
                  </a:lnTo>
                  <a:lnTo>
                    <a:pt x="12" y="414"/>
                  </a:lnTo>
                  <a:lnTo>
                    <a:pt x="11" y="414"/>
                  </a:lnTo>
                  <a:lnTo>
                    <a:pt x="10" y="412"/>
                  </a:lnTo>
                  <a:lnTo>
                    <a:pt x="10" y="412"/>
                  </a:lnTo>
                  <a:close/>
                  <a:moveTo>
                    <a:pt x="0" y="361"/>
                  </a:moveTo>
                  <a:lnTo>
                    <a:pt x="2" y="358"/>
                  </a:lnTo>
                  <a:lnTo>
                    <a:pt x="2" y="344"/>
                  </a:lnTo>
                  <a:lnTo>
                    <a:pt x="4" y="331"/>
                  </a:lnTo>
                  <a:lnTo>
                    <a:pt x="4" y="331"/>
                  </a:lnTo>
                  <a:lnTo>
                    <a:pt x="6" y="329"/>
                  </a:lnTo>
                  <a:lnTo>
                    <a:pt x="7" y="328"/>
                  </a:lnTo>
                  <a:lnTo>
                    <a:pt x="8" y="329"/>
                  </a:lnTo>
                  <a:lnTo>
                    <a:pt x="10" y="331"/>
                  </a:lnTo>
                  <a:lnTo>
                    <a:pt x="10" y="331"/>
                  </a:lnTo>
                  <a:lnTo>
                    <a:pt x="8" y="332"/>
                  </a:lnTo>
                  <a:lnTo>
                    <a:pt x="7" y="346"/>
                  </a:lnTo>
                  <a:lnTo>
                    <a:pt x="6" y="358"/>
                  </a:lnTo>
                  <a:lnTo>
                    <a:pt x="6" y="361"/>
                  </a:lnTo>
                  <a:lnTo>
                    <a:pt x="4" y="362"/>
                  </a:lnTo>
                  <a:lnTo>
                    <a:pt x="3" y="363"/>
                  </a:lnTo>
                  <a:lnTo>
                    <a:pt x="2" y="363"/>
                  </a:lnTo>
                  <a:lnTo>
                    <a:pt x="2" y="362"/>
                  </a:lnTo>
                  <a:lnTo>
                    <a:pt x="2" y="362"/>
                  </a:lnTo>
                  <a:lnTo>
                    <a:pt x="0" y="361"/>
                  </a:lnTo>
                  <a:lnTo>
                    <a:pt x="0" y="361"/>
                  </a:lnTo>
                  <a:close/>
                  <a:moveTo>
                    <a:pt x="11" y="309"/>
                  </a:moveTo>
                  <a:lnTo>
                    <a:pt x="12" y="303"/>
                  </a:lnTo>
                  <a:lnTo>
                    <a:pt x="18" y="289"/>
                  </a:lnTo>
                  <a:lnTo>
                    <a:pt x="22" y="280"/>
                  </a:lnTo>
                  <a:lnTo>
                    <a:pt x="23" y="279"/>
                  </a:lnTo>
                  <a:lnTo>
                    <a:pt x="25" y="279"/>
                  </a:lnTo>
                  <a:lnTo>
                    <a:pt x="25" y="279"/>
                  </a:lnTo>
                  <a:lnTo>
                    <a:pt x="26" y="280"/>
                  </a:lnTo>
                  <a:lnTo>
                    <a:pt x="26" y="282"/>
                  </a:lnTo>
                  <a:lnTo>
                    <a:pt x="26" y="282"/>
                  </a:lnTo>
                  <a:lnTo>
                    <a:pt x="22" y="290"/>
                  </a:lnTo>
                  <a:lnTo>
                    <a:pt x="17" y="305"/>
                  </a:lnTo>
                  <a:lnTo>
                    <a:pt x="15" y="310"/>
                  </a:lnTo>
                  <a:lnTo>
                    <a:pt x="14" y="312"/>
                  </a:lnTo>
                  <a:lnTo>
                    <a:pt x="12" y="312"/>
                  </a:lnTo>
                  <a:lnTo>
                    <a:pt x="12" y="312"/>
                  </a:lnTo>
                  <a:lnTo>
                    <a:pt x="11" y="312"/>
                  </a:lnTo>
                  <a:lnTo>
                    <a:pt x="11" y="310"/>
                  </a:lnTo>
                  <a:lnTo>
                    <a:pt x="11" y="310"/>
                  </a:lnTo>
                  <a:lnTo>
                    <a:pt x="11" y="309"/>
                  </a:lnTo>
                  <a:lnTo>
                    <a:pt x="11" y="309"/>
                  </a:lnTo>
                  <a:close/>
                  <a:moveTo>
                    <a:pt x="31" y="261"/>
                  </a:moveTo>
                  <a:lnTo>
                    <a:pt x="33" y="259"/>
                  </a:lnTo>
                  <a:lnTo>
                    <a:pt x="42" y="242"/>
                  </a:lnTo>
                  <a:lnTo>
                    <a:pt x="48" y="234"/>
                  </a:lnTo>
                  <a:lnTo>
                    <a:pt x="49" y="234"/>
                  </a:lnTo>
                  <a:lnTo>
                    <a:pt x="49" y="234"/>
                  </a:lnTo>
                  <a:lnTo>
                    <a:pt x="51" y="234"/>
                  </a:lnTo>
                  <a:lnTo>
                    <a:pt x="51" y="235"/>
                  </a:lnTo>
                  <a:lnTo>
                    <a:pt x="51" y="237"/>
                  </a:lnTo>
                  <a:lnTo>
                    <a:pt x="46" y="245"/>
                  </a:lnTo>
                  <a:lnTo>
                    <a:pt x="37" y="260"/>
                  </a:lnTo>
                  <a:lnTo>
                    <a:pt x="36" y="263"/>
                  </a:lnTo>
                  <a:lnTo>
                    <a:pt x="34" y="264"/>
                  </a:lnTo>
                  <a:lnTo>
                    <a:pt x="33" y="264"/>
                  </a:lnTo>
                  <a:lnTo>
                    <a:pt x="31" y="263"/>
                  </a:lnTo>
                  <a:lnTo>
                    <a:pt x="31" y="261"/>
                  </a:lnTo>
                  <a:lnTo>
                    <a:pt x="31" y="261"/>
                  </a:lnTo>
                  <a:lnTo>
                    <a:pt x="31" y="261"/>
                  </a:lnTo>
                  <a:close/>
                  <a:moveTo>
                    <a:pt x="59" y="216"/>
                  </a:moveTo>
                  <a:lnTo>
                    <a:pt x="63" y="211"/>
                  </a:lnTo>
                  <a:lnTo>
                    <a:pt x="75" y="195"/>
                  </a:lnTo>
                  <a:lnTo>
                    <a:pt x="78" y="192"/>
                  </a:lnTo>
                  <a:lnTo>
                    <a:pt x="79" y="191"/>
                  </a:lnTo>
                  <a:lnTo>
                    <a:pt x="80" y="192"/>
                  </a:lnTo>
                  <a:lnTo>
                    <a:pt x="82" y="193"/>
                  </a:lnTo>
                  <a:lnTo>
                    <a:pt x="80" y="195"/>
                  </a:lnTo>
                  <a:lnTo>
                    <a:pt x="78" y="197"/>
                  </a:lnTo>
                  <a:lnTo>
                    <a:pt x="67" y="214"/>
                  </a:lnTo>
                  <a:lnTo>
                    <a:pt x="63" y="219"/>
                  </a:lnTo>
                  <a:lnTo>
                    <a:pt x="61" y="219"/>
                  </a:lnTo>
                  <a:lnTo>
                    <a:pt x="60" y="219"/>
                  </a:lnTo>
                  <a:lnTo>
                    <a:pt x="60" y="219"/>
                  </a:lnTo>
                  <a:lnTo>
                    <a:pt x="59" y="218"/>
                  </a:lnTo>
                  <a:lnTo>
                    <a:pt x="59" y="216"/>
                  </a:lnTo>
                  <a:lnTo>
                    <a:pt x="59" y="216"/>
                  </a:lnTo>
                  <a:lnTo>
                    <a:pt x="59" y="216"/>
                  </a:lnTo>
                  <a:close/>
                  <a:moveTo>
                    <a:pt x="91" y="174"/>
                  </a:moveTo>
                  <a:lnTo>
                    <a:pt x="101" y="163"/>
                  </a:lnTo>
                  <a:lnTo>
                    <a:pt x="112" y="151"/>
                  </a:lnTo>
                  <a:lnTo>
                    <a:pt x="113" y="151"/>
                  </a:lnTo>
                  <a:lnTo>
                    <a:pt x="114" y="151"/>
                  </a:lnTo>
                  <a:lnTo>
                    <a:pt x="116" y="153"/>
                  </a:lnTo>
                  <a:lnTo>
                    <a:pt x="114" y="154"/>
                  </a:lnTo>
                  <a:lnTo>
                    <a:pt x="114" y="155"/>
                  </a:lnTo>
                  <a:lnTo>
                    <a:pt x="105" y="166"/>
                  </a:lnTo>
                  <a:lnTo>
                    <a:pt x="94" y="177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91" y="176"/>
                  </a:lnTo>
                  <a:lnTo>
                    <a:pt x="91" y="174"/>
                  </a:lnTo>
                  <a:lnTo>
                    <a:pt x="91" y="174"/>
                  </a:lnTo>
                  <a:close/>
                  <a:moveTo>
                    <a:pt x="127" y="136"/>
                  </a:moveTo>
                  <a:lnTo>
                    <a:pt x="132" y="131"/>
                  </a:lnTo>
                  <a:lnTo>
                    <a:pt x="148" y="114"/>
                  </a:lnTo>
                  <a:lnTo>
                    <a:pt x="150" y="113"/>
                  </a:lnTo>
                  <a:lnTo>
                    <a:pt x="151" y="114"/>
                  </a:lnTo>
                  <a:lnTo>
                    <a:pt x="151" y="116"/>
                  </a:lnTo>
                  <a:lnTo>
                    <a:pt x="151" y="117"/>
                  </a:lnTo>
                  <a:lnTo>
                    <a:pt x="135" y="133"/>
                  </a:lnTo>
                  <a:lnTo>
                    <a:pt x="129" y="139"/>
                  </a:lnTo>
                  <a:lnTo>
                    <a:pt x="128" y="139"/>
                  </a:lnTo>
                  <a:lnTo>
                    <a:pt x="127" y="139"/>
                  </a:lnTo>
                  <a:lnTo>
                    <a:pt x="125" y="138"/>
                  </a:lnTo>
                  <a:lnTo>
                    <a:pt x="127" y="136"/>
                  </a:lnTo>
                  <a:lnTo>
                    <a:pt x="127" y="136"/>
                  </a:lnTo>
                  <a:close/>
                  <a:moveTo>
                    <a:pt x="163" y="99"/>
                  </a:moveTo>
                  <a:lnTo>
                    <a:pt x="166" y="98"/>
                  </a:lnTo>
                  <a:lnTo>
                    <a:pt x="184" y="82"/>
                  </a:lnTo>
                  <a:lnTo>
                    <a:pt x="187" y="79"/>
                  </a:lnTo>
                  <a:lnTo>
                    <a:pt x="188" y="79"/>
                  </a:lnTo>
                  <a:lnTo>
                    <a:pt x="189" y="79"/>
                  </a:lnTo>
                  <a:lnTo>
                    <a:pt x="191" y="80"/>
                  </a:lnTo>
                  <a:lnTo>
                    <a:pt x="191" y="80"/>
                  </a:lnTo>
                  <a:lnTo>
                    <a:pt x="189" y="82"/>
                  </a:lnTo>
                  <a:lnTo>
                    <a:pt x="187" y="84"/>
                  </a:lnTo>
                  <a:lnTo>
                    <a:pt x="169" y="101"/>
                  </a:lnTo>
                  <a:lnTo>
                    <a:pt x="166" y="102"/>
                  </a:lnTo>
                  <a:lnTo>
                    <a:pt x="166" y="104"/>
                  </a:lnTo>
                  <a:lnTo>
                    <a:pt x="165" y="104"/>
                  </a:lnTo>
                  <a:lnTo>
                    <a:pt x="163" y="102"/>
                  </a:lnTo>
                  <a:lnTo>
                    <a:pt x="163" y="101"/>
                  </a:lnTo>
                  <a:lnTo>
                    <a:pt x="163" y="99"/>
                  </a:lnTo>
                  <a:lnTo>
                    <a:pt x="163" y="99"/>
                  </a:lnTo>
                  <a:close/>
                  <a:moveTo>
                    <a:pt x="203" y="65"/>
                  </a:moveTo>
                  <a:lnTo>
                    <a:pt x="203" y="65"/>
                  </a:lnTo>
                  <a:lnTo>
                    <a:pt x="223" y="49"/>
                  </a:lnTo>
                  <a:lnTo>
                    <a:pt x="227" y="46"/>
                  </a:lnTo>
                  <a:lnTo>
                    <a:pt x="227" y="45"/>
                  </a:lnTo>
                  <a:lnTo>
                    <a:pt x="229" y="45"/>
                  </a:lnTo>
                  <a:lnTo>
                    <a:pt x="230" y="46"/>
                  </a:lnTo>
                  <a:lnTo>
                    <a:pt x="230" y="48"/>
                  </a:lnTo>
                  <a:lnTo>
                    <a:pt x="230" y="49"/>
                  </a:lnTo>
                  <a:lnTo>
                    <a:pt x="226" y="52"/>
                  </a:lnTo>
                  <a:lnTo>
                    <a:pt x="206" y="68"/>
                  </a:lnTo>
                  <a:lnTo>
                    <a:pt x="206" y="68"/>
                  </a:lnTo>
                  <a:lnTo>
                    <a:pt x="204" y="68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3" y="65"/>
                  </a:lnTo>
                  <a:lnTo>
                    <a:pt x="203" y="65"/>
                  </a:lnTo>
                  <a:close/>
                  <a:moveTo>
                    <a:pt x="245" y="33"/>
                  </a:moveTo>
                  <a:lnTo>
                    <a:pt x="265" y="16"/>
                  </a:lnTo>
                  <a:lnTo>
                    <a:pt x="269" y="15"/>
                  </a:lnTo>
                  <a:lnTo>
                    <a:pt x="269" y="14"/>
                  </a:lnTo>
                  <a:lnTo>
                    <a:pt x="271" y="14"/>
                  </a:lnTo>
                  <a:lnTo>
                    <a:pt x="272" y="15"/>
                  </a:lnTo>
                  <a:lnTo>
                    <a:pt x="272" y="16"/>
                  </a:lnTo>
                  <a:lnTo>
                    <a:pt x="272" y="16"/>
                  </a:lnTo>
                  <a:lnTo>
                    <a:pt x="272" y="18"/>
                  </a:lnTo>
                  <a:lnTo>
                    <a:pt x="268" y="21"/>
                  </a:lnTo>
                  <a:lnTo>
                    <a:pt x="248" y="36"/>
                  </a:lnTo>
                  <a:lnTo>
                    <a:pt x="245" y="37"/>
                  </a:lnTo>
                  <a:lnTo>
                    <a:pt x="244" y="36"/>
                  </a:lnTo>
                  <a:lnTo>
                    <a:pt x="244" y="36"/>
                  </a:lnTo>
                  <a:lnTo>
                    <a:pt x="244" y="34"/>
                  </a:lnTo>
                  <a:lnTo>
                    <a:pt x="245" y="33"/>
                  </a:lnTo>
                  <a:lnTo>
                    <a:pt x="245" y="33"/>
                  </a:lnTo>
                  <a:close/>
                  <a:moveTo>
                    <a:pt x="287" y="3"/>
                  </a:moveTo>
                  <a:lnTo>
                    <a:pt x="289" y="2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6"/>
                  </a:lnTo>
                  <a:lnTo>
                    <a:pt x="289" y="6"/>
                  </a:lnTo>
                  <a:lnTo>
                    <a:pt x="286" y="6"/>
                  </a:lnTo>
                  <a:lnTo>
                    <a:pt x="286" y="4"/>
                  </a:lnTo>
                  <a:lnTo>
                    <a:pt x="287" y="3"/>
                  </a:lnTo>
                  <a:lnTo>
                    <a:pt x="28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01680" y="1639080"/>
              <a:ext cx="73800" cy="630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8" y="15"/>
                  </a:moveTo>
                  <a:lnTo>
                    <a:pt x="5" y="19"/>
                  </a:lnTo>
                  <a:lnTo>
                    <a:pt x="4" y="21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50"/>
                  </a:lnTo>
                  <a:lnTo>
                    <a:pt x="5" y="57"/>
                  </a:lnTo>
                  <a:lnTo>
                    <a:pt x="10" y="62"/>
                  </a:lnTo>
                  <a:lnTo>
                    <a:pt x="15" y="68"/>
                  </a:lnTo>
                  <a:lnTo>
                    <a:pt x="19" y="70"/>
                  </a:lnTo>
                  <a:lnTo>
                    <a:pt x="22" y="72"/>
                  </a:lnTo>
                  <a:lnTo>
                    <a:pt x="26" y="73"/>
                  </a:lnTo>
                  <a:lnTo>
                    <a:pt x="29" y="74"/>
                  </a:lnTo>
                  <a:lnTo>
                    <a:pt x="33" y="74"/>
                  </a:lnTo>
                  <a:lnTo>
                    <a:pt x="35" y="76"/>
                  </a:lnTo>
                  <a:lnTo>
                    <a:pt x="39" y="76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50" y="73"/>
                  </a:lnTo>
                  <a:lnTo>
                    <a:pt x="57" y="70"/>
                  </a:lnTo>
                  <a:lnTo>
                    <a:pt x="63" y="66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71" y="57"/>
                  </a:lnTo>
                  <a:lnTo>
                    <a:pt x="72" y="54"/>
                  </a:lnTo>
                  <a:lnTo>
                    <a:pt x="73" y="50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9"/>
                  </a:lnTo>
                  <a:lnTo>
                    <a:pt x="75" y="36"/>
                  </a:lnTo>
                  <a:lnTo>
                    <a:pt x="75" y="32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7" y="13"/>
                  </a:lnTo>
                  <a:lnTo>
                    <a:pt x="60" y="8"/>
                  </a:lnTo>
                  <a:lnTo>
                    <a:pt x="57" y="5"/>
                  </a:lnTo>
                  <a:lnTo>
                    <a:pt x="54" y="4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6" y="2"/>
                  </a:lnTo>
                  <a:lnTo>
                    <a:pt x="19" y="5"/>
                  </a:lnTo>
                  <a:lnTo>
                    <a:pt x="14" y="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4760" y="1338120"/>
              <a:ext cx="86040" cy="335520"/>
            </a:xfrm>
            <a:custGeom>
              <a:avLst/>
              <a:gdLst/>
              <a:ahLst/>
              <a:rect l="l" t="t" r="r" b="b"/>
              <a:pathLst>
                <a:path w="87" h="401">
                  <a:moveTo>
                    <a:pt x="84" y="401"/>
                  </a:moveTo>
                  <a:lnTo>
                    <a:pt x="73" y="399"/>
                  </a:lnTo>
                  <a:lnTo>
                    <a:pt x="64" y="396"/>
                  </a:lnTo>
                  <a:lnTo>
                    <a:pt x="56" y="392"/>
                  </a:lnTo>
                  <a:lnTo>
                    <a:pt x="54" y="392"/>
                  </a:lnTo>
                  <a:lnTo>
                    <a:pt x="53" y="391"/>
                  </a:lnTo>
                  <a:lnTo>
                    <a:pt x="53" y="388"/>
                  </a:lnTo>
                  <a:lnTo>
                    <a:pt x="54" y="388"/>
                  </a:lnTo>
                  <a:lnTo>
                    <a:pt x="56" y="388"/>
                  </a:lnTo>
                  <a:lnTo>
                    <a:pt x="57" y="388"/>
                  </a:lnTo>
                  <a:lnTo>
                    <a:pt x="57" y="388"/>
                  </a:lnTo>
                  <a:lnTo>
                    <a:pt x="65" y="392"/>
                  </a:lnTo>
                  <a:lnTo>
                    <a:pt x="75" y="395"/>
                  </a:lnTo>
                  <a:lnTo>
                    <a:pt x="84" y="397"/>
                  </a:lnTo>
                  <a:lnTo>
                    <a:pt x="85" y="397"/>
                  </a:lnTo>
                  <a:lnTo>
                    <a:pt x="85" y="397"/>
                  </a:lnTo>
                  <a:lnTo>
                    <a:pt x="85" y="399"/>
                  </a:lnTo>
                  <a:lnTo>
                    <a:pt x="87" y="399"/>
                  </a:lnTo>
                  <a:lnTo>
                    <a:pt x="85" y="400"/>
                  </a:lnTo>
                  <a:lnTo>
                    <a:pt x="84" y="401"/>
                  </a:lnTo>
                  <a:lnTo>
                    <a:pt x="84" y="401"/>
                  </a:lnTo>
                  <a:close/>
                  <a:moveTo>
                    <a:pt x="36" y="378"/>
                  </a:moveTo>
                  <a:lnTo>
                    <a:pt x="32" y="376"/>
                  </a:lnTo>
                  <a:lnTo>
                    <a:pt x="27" y="367"/>
                  </a:lnTo>
                  <a:lnTo>
                    <a:pt x="22" y="359"/>
                  </a:lnTo>
                  <a:lnTo>
                    <a:pt x="17" y="354"/>
                  </a:lnTo>
                  <a:lnTo>
                    <a:pt x="17" y="351"/>
                  </a:lnTo>
                  <a:lnTo>
                    <a:pt x="19" y="350"/>
                  </a:lnTo>
                  <a:lnTo>
                    <a:pt x="20" y="350"/>
                  </a:lnTo>
                  <a:lnTo>
                    <a:pt x="22" y="351"/>
                  </a:lnTo>
                  <a:lnTo>
                    <a:pt x="24" y="357"/>
                  </a:lnTo>
                  <a:lnTo>
                    <a:pt x="30" y="365"/>
                  </a:lnTo>
                  <a:lnTo>
                    <a:pt x="35" y="372"/>
                  </a:lnTo>
                  <a:lnTo>
                    <a:pt x="39" y="376"/>
                  </a:lnTo>
                  <a:lnTo>
                    <a:pt x="39" y="377"/>
                  </a:lnTo>
                  <a:lnTo>
                    <a:pt x="39" y="377"/>
                  </a:lnTo>
                  <a:lnTo>
                    <a:pt x="39" y="378"/>
                  </a:lnTo>
                  <a:lnTo>
                    <a:pt x="38" y="378"/>
                  </a:lnTo>
                  <a:lnTo>
                    <a:pt x="36" y="378"/>
                  </a:lnTo>
                  <a:lnTo>
                    <a:pt x="36" y="378"/>
                  </a:lnTo>
                  <a:close/>
                  <a:moveTo>
                    <a:pt x="9" y="333"/>
                  </a:moveTo>
                  <a:lnTo>
                    <a:pt x="8" y="329"/>
                  </a:lnTo>
                  <a:lnTo>
                    <a:pt x="5" y="318"/>
                  </a:lnTo>
                  <a:lnTo>
                    <a:pt x="2" y="308"/>
                  </a:lnTo>
                  <a:lnTo>
                    <a:pt x="2" y="304"/>
                  </a:lnTo>
                  <a:lnTo>
                    <a:pt x="2" y="302"/>
                  </a:lnTo>
                  <a:lnTo>
                    <a:pt x="2" y="301"/>
                  </a:lnTo>
                  <a:lnTo>
                    <a:pt x="4" y="301"/>
                  </a:lnTo>
                  <a:lnTo>
                    <a:pt x="4" y="301"/>
                  </a:lnTo>
                  <a:lnTo>
                    <a:pt x="5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2"/>
                  </a:lnTo>
                  <a:lnTo>
                    <a:pt x="8" y="306"/>
                  </a:lnTo>
                  <a:lnTo>
                    <a:pt x="9" y="317"/>
                  </a:lnTo>
                  <a:lnTo>
                    <a:pt x="12" y="328"/>
                  </a:lnTo>
                  <a:lnTo>
                    <a:pt x="13" y="332"/>
                  </a:lnTo>
                  <a:lnTo>
                    <a:pt x="13" y="333"/>
                  </a:lnTo>
                  <a:lnTo>
                    <a:pt x="12" y="335"/>
                  </a:lnTo>
                  <a:lnTo>
                    <a:pt x="11" y="335"/>
                  </a:lnTo>
                  <a:lnTo>
                    <a:pt x="11" y="335"/>
                  </a:lnTo>
                  <a:lnTo>
                    <a:pt x="9" y="333"/>
                  </a:lnTo>
                  <a:lnTo>
                    <a:pt x="9" y="333"/>
                  </a:lnTo>
                  <a:close/>
                  <a:moveTo>
                    <a:pt x="1" y="280"/>
                  </a:moveTo>
                  <a:lnTo>
                    <a:pt x="0" y="268"/>
                  </a:lnTo>
                  <a:lnTo>
                    <a:pt x="1" y="253"/>
                  </a:lnTo>
                  <a:lnTo>
                    <a:pt x="1" y="250"/>
                  </a:lnTo>
                  <a:lnTo>
                    <a:pt x="1" y="249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4" y="249"/>
                  </a:lnTo>
                  <a:lnTo>
                    <a:pt x="4" y="249"/>
                  </a:lnTo>
                  <a:lnTo>
                    <a:pt x="5" y="250"/>
                  </a:lnTo>
                  <a:lnTo>
                    <a:pt x="5" y="253"/>
                  </a:lnTo>
                  <a:lnTo>
                    <a:pt x="5" y="268"/>
                  </a:lnTo>
                  <a:lnTo>
                    <a:pt x="5" y="280"/>
                  </a:lnTo>
                  <a:lnTo>
                    <a:pt x="5" y="282"/>
                  </a:lnTo>
                  <a:lnTo>
                    <a:pt x="4" y="282"/>
                  </a:lnTo>
                  <a:lnTo>
                    <a:pt x="4" y="283"/>
                  </a:lnTo>
                  <a:lnTo>
                    <a:pt x="2" y="283"/>
                  </a:lnTo>
                  <a:lnTo>
                    <a:pt x="2" y="283"/>
                  </a:lnTo>
                  <a:lnTo>
                    <a:pt x="1" y="283"/>
                  </a:lnTo>
                  <a:lnTo>
                    <a:pt x="1" y="282"/>
                  </a:lnTo>
                  <a:lnTo>
                    <a:pt x="1" y="280"/>
                  </a:lnTo>
                  <a:lnTo>
                    <a:pt x="1" y="280"/>
                  </a:lnTo>
                  <a:close/>
                  <a:moveTo>
                    <a:pt x="2" y="229"/>
                  </a:moveTo>
                  <a:lnTo>
                    <a:pt x="2" y="223"/>
                  </a:lnTo>
                  <a:lnTo>
                    <a:pt x="5" y="208"/>
                  </a:lnTo>
                  <a:lnTo>
                    <a:pt x="7" y="199"/>
                  </a:lnTo>
                  <a:lnTo>
                    <a:pt x="8" y="197"/>
                  </a:lnTo>
                  <a:lnTo>
                    <a:pt x="9" y="196"/>
                  </a:lnTo>
                  <a:lnTo>
                    <a:pt x="11" y="196"/>
                  </a:lnTo>
                  <a:lnTo>
                    <a:pt x="11" y="197"/>
                  </a:lnTo>
                  <a:lnTo>
                    <a:pt x="11" y="199"/>
                  </a:lnTo>
                  <a:lnTo>
                    <a:pt x="11" y="199"/>
                  </a:lnTo>
                  <a:lnTo>
                    <a:pt x="9" y="208"/>
                  </a:lnTo>
                  <a:lnTo>
                    <a:pt x="8" y="223"/>
                  </a:lnTo>
                  <a:lnTo>
                    <a:pt x="7" y="229"/>
                  </a:lnTo>
                  <a:lnTo>
                    <a:pt x="7" y="230"/>
                  </a:lnTo>
                  <a:lnTo>
                    <a:pt x="7" y="230"/>
                  </a:lnTo>
                  <a:lnTo>
                    <a:pt x="4" y="231"/>
                  </a:lnTo>
                  <a:lnTo>
                    <a:pt x="2" y="230"/>
                  </a:lnTo>
                  <a:lnTo>
                    <a:pt x="2" y="230"/>
                  </a:lnTo>
                  <a:lnTo>
                    <a:pt x="2" y="229"/>
                  </a:lnTo>
                  <a:lnTo>
                    <a:pt x="2" y="229"/>
                  </a:lnTo>
                  <a:close/>
                  <a:moveTo>
                    <a:pt x="11" y="177"/>
                  </a:moveTo>
                  <a:lnTo>
                    <a:pt x="12" y="174"/>
                  </a:lnTo>
                  <a:lnTo>
                    <a:pt x="16" y="158"/>
                  </a:lnTo>
                  <a:lnTo>
                    <a:pt x="19" y="147"/>
                  </a:lnTo>
                  <a:lnTo>
                    <a:pt x="19" y="146"/>
                  </a:lnTo>
                  <a:lnTo>
                    <a:pt x="20" y="146"/>
                  </a:lnTo>
                  <a:lnTo>
                    <a:pt x="20" y="146"/>
                  </a:lnTo>
                  <a:lnTo>
                    <a:pt x="22" y="146"/>
                  </a:lnTo>
                  <a:lnTo>
                    <a:pt x="23" y="147"/>
                  </a:lnTo>
                  <a:lnTo>
                    <a:pt x="23" y="147"/>
                  </a:lnTo>
                  <a:lnTo>
                    <a:pt x="23" y="148"/>
                  </a:lnTo>
                  <a:lnTo>
                    <a:pt x="20" y="159"/>
                  </a:lnTo>
                  <a:lnTo>
                    <a:pt x="16" y="176"/>
                  </a:lnTo>
                  <a:lnTo>
                    <a:pt x="16" y="178"/>
                  </a:lnTo>
                  <a:lnTo>
                    <a:pt x="15" y="180"/>
                  </a:lnTo>
                  <a:lnTo>
                    <a:pt x="13" y="180"/>
                  </a:lnTo>
                  <a:lnTo>
                    <a:pt x="12" y="178"/>
                  </a:lnTo>
                  <a:lnTo>
                    <a:pt x="11" y="177"/>
                  </a:lnTo>
                  <a:lnTo>
                    <a:pt x="11" y="177"/>
                  </a:lnTo>
                  <a:close/>
                  <a:moveTo>
                    <a:pt x="26" y="127"/>
                  </a:moveTo>
                  <a:lnTo>
                    <a:pt x="26" y="123"/>
                  </a:lnTo>
                  <a:lnTo>
                    <a:pt x="32" y="105"/>
                  </a:lnTo>
                  <a:lnTo>
                    <a:pt x="35" y="97"/>
                  </a:lnTo>
                  <a:lnTo>
                    <a:pt x="36" y="95"/>
                  </a:lnTo>
                  <a:lnTo>
                    <a:pt x="38" y="95"/>
                  </a:lnTo>
                  <a:lnTo>
                    <a:pt x="38" y="97"/>
                  </a:lnTo>
                  <a:lnTo>
                    <a:pt x="39" y="97"/>
                  </a:lnTo>
                  <a:lnTo>
                    <a:pt x="39" y="98"/>
                  </a:lnTo>
                  <a:lnTo>
                    <a:pt x="36" y="106"/>
                  </a:lnTo>
                  <a:lnTo>
                    <a:pt x="30" y="124"/>
                  </a:lnTo>
                  <a:lnTo>
                    <a:pt x="30" y="128"/>
                  </a:lnTo>
                  <a:lnTo>
                    <a:pt x="28" y="129"/>
                  </a:lnTo>
                  <a:lnTo>
                    <a:pt x="27" y="129"/>
                  </a:lnTo>
                  <a:lnTo>
                    <a:pt x="27" y="129"/>
                  </a:lnTo>
                  <a:lnTo>
                    <a:pt x="26" y="128"/>
                  </a:lnTo>
                  <a:lnTo>
                    <a:pt x="24" y="127"/>
                  </a:lnTo>
                  <a:lnTo>
                    <a:pt x="26" y="127"/>
                  </a:lnTo>
                  <a:lnTo>
                    <a:pt x="26" y="127"/>
                  </a:lnTo>
                  <a:close/>
                  <a:moveTo>
                    <a:pt x="42" y="76"/>
                  </a:moveTo>
                  <a:lnTo>
                    <a:pt x="46" y="67"/>
                  </a:lnTo>
                  <a:lnTo>
                    <a:pt x="54" y="49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7" y="48"/>
                  </a:lnTo>
                  <a:lnTo>
                    <a:pt x="58" y="48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0" y="68"/>
                  </a:lnTo>
                  <a:lnTo>
                    <a:pt x="46" y="79"/>
                  </a:lnTo>
                  <a:lnTo>
                    <a:pt x="46" y="79"/>
                  </a:lnTo>
                  <a:lnTo>
                    <a:pt x="45" y="80"/>
                  </a:lnTo>
                  <a:lnTo>
                    <a:pt x="43" y="79"/>
                  </a:lnTo>
                  <a:lnTo>
                    <a:pt x="43" y="79"/>
                  </a:lnTo>
                  <a:lnTo>
                    <a:pt x="42" y="79"/>
                  </a:lnTo>
                  <a:lnTo>
                    <a:pt x="42" y="78"/>
                  </a:lnTo>
                  <a:lnTo>
                    <a:pt x="42" y="76"/>
                  </a:lnTo>
                  <a:lnTo>
                    <a:pt x="42" y="76"/>
                  </a:lnTo>
                  <a:close/>
                  <a:moveTo>
                    <a:pt x="62" y="29"/>
                  </a:moveTo>
                  <a:lnTo>
                    <a:pt x="72" y="10"/>
                  </a:lnTo>
                  <a:lnTo>
                    <a:pt x="76" y="2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3"/>
                  </a:lnTo>
                  <a:lnTo>
                    <a:pt x="76" y="11"/>
                  </a:lnTo>
                  <a:lnTo>
                    <a:pt x="66" y="30"/>
                  </a:lnTo>
                  <a:lnTo>
                    <a:pt x="65" y="31"/>
                  </a:lnTo>
                  <a:lnTo>
                    <a:pt x="65" y="31"/>
                  </a:lnTo>
                  <a:lnTo>
                    <a:pt x="64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01560" y="1640880"/>
              <a:ext cx="72360" cy="615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1" y="31"/>
                  </a:move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4" y="53"/>
                  </a:lnTo>
                  <a:lnTo>
                    <a:pt x="8" y="60"/>
                  </a:lnTo>
                  <a:lnTo>
                    <a:pt x="12" y="65"/>
                  </a:lnTo>
                  <a:lnTo>
                    <a:pt x="19" y="69"/>
                  </a:lnTo>
                  <a:lnTo>
                    <a:pt x="26" y="72"/>
                  </a:lnTo>
                  <a:lnTo>
                    <a:pt x="29" y="73"/>
                  </a:lnTo>
                  <a:lnTo>
                    <a:pt x="33" y="73"/>
                  </a:lnTo>
                  <a:lnTo>
                    <a:pt x="37" y="75"/>
                  </a:lnTo>
                  <a:lnTo>
                    <a:pt x="41" y="75"/>
                  </a:lnTo>
                  <a:lnTo>
                    <a:pt x="44" y="73"/>
                  </a:lnTo>
                  <a:lnTo>
                    <a:pt x="48" y="73"/>
                  </a:lnTo>
                  <a:lnTo>
                    <a:pt x="54" y="71"/>
                  </a:lnTo>
                  <a:lnTo>
                    <a:pt x="60" y="67"/>
                  </a:lnTo>
                  <a:lnTo>
                    <a:pt x="65" y="63"/>
                  </a:lnTo>
                  <a:lnTo>
                    <a:pt x="69" y="56"/>
                  </a:lnTo>
                  <a:lnTo>
                    <a:pt x="73" y="49"/>
                  </a:lnTo>
                  <a:lnTo>
                    <a:pt x="75" y="46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5" y="38"/>
                  </a:lnTo>
                  <a:lnTo>
                    <a:pt x="75" y="34"/>
                  </a:lnTo>
                  <a:lnTo>
                    <a:pt x="75" y="31"/>
                  </a:lnTo>
                  <a:lnTo>
                    <a:pt x="75" y="27"/>
                  </a:lnTo>
                  <a:lnTo>
                    <a:pt x="73" y="23"/>
                  </a:lnTo>
                  <a:lnTo>
                    <a:pt x="72" y="20"/>
                  </a:lnTo>
                  <a:lnTo>
                    <a:pt x="68" y="15"/>
                  </a:lnTo>
                  <a:lnTo>
                    <a:pt x="63" y="10"/>
                  </a:lnTo>
                  <a:lnTo>
                    <a:pt x="57" y="4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10" y="12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1" y="27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00600" y="1365120"/>
              <a:ext cx="716400" cy="308880"/>
            </a:xfrm>
            <a:custGeom>
              <a:avLst/>
              <a:gdLst/>
              <a:ahLst/>
              <a:rect l="l" t="t" r="r" b="b"/>
              <a:pathLst>
                <a:path w="732" h="368">
                  <a:moveTo>
                    <a:pt x="729" y="368"/>
                  </a:moveTo>
                  <a:lnTo>
                    <a:pt x="702" y="355"/>
                  </a:lnTo>
                  <a:lnTo>
                    <a:pt x="701" y="353"/>
                  </a:lnTo>
                  <a:lnTo>
                    <a:pt x="701" y="352"/>
                  </a:lnTo>
                  <a:lnTo>
                    <a:pt x="701" y="351"/>
                  </a:lnTo>
                  <a:lnTo>
                    <a:pt x="702" y="351"/>
                  </a:lnTo>
                  <a:lnTo>
                    <a:pt x="705" y="351"/>
                  </a:lnTo>
                  <a:lnTo>
                    <a:pt x="732" y="364"/>
                  </a:lnTo>
                  <a:lnTo>
                    <a:pt x="732" y="366"/>
                  </a:lnTo>
                  <a:lnTo>
                    <a:pt x="732" y="367"/>
                  </a:lnTo>
                  <a:lnTo>
                    <a:pt x="731" y="368"/>
                  </a:lnTo>
                  <a:lnTo>
                    <a:pt x="729" y="368"/>
                  </a:lnTo>
                  <a:lnTo>
                    <a:pt x="729" y="368"/>
                  </a:lnTo>
                  <a:close/>
                  <a:moveTo>
                    <a:pt x="683" y="344"/>
                  </a:moveTo>
                  <a:lnTo>
                    <a:pt x="656" y="330"/>
                  </a:lnTo>
                  <a:lnTo>
                    <a:pt x="655" y="329"/>
                  </a:lnTo>
                  <a:lnTo>
                    <a:pt x="655" y="329"/>
                  </a:lnTo>
                  <a:lnTo>
                    <a:pt x="655" y="328"/>
                  </a:lnTo>
                  <a:lnTo>
                    <a:pt x="656" y="326"/>
                  </a:lnTo>
                  <a:lnTo>
                    <a:pt x="657" y="326"/>
                  </a:lnTo>
                  <a:lnTo>
                    <a:pt x="657" y="326"/>
                  </a:lnTo>
                  <a:lnTo>
                    <a:pt x="684" y="341"/>
                  </a:lnTo>
                  <a:lnTo>
                    <a:pt x="686" y="341"/>
                  </a:lnTo>
                  <a:lnTo>
                    <a:pt x="686" y="343"/>
                  </a:lnTo>
                  <a:lnTo>
                    <a:pt x="686" y="344"/>
                  </a:lnTo>
                  <a:lnTo>
                    <a:pt x="684" y="344"/>
                  </a:lnTo>
                  <a:lnTo>
                    <a:pt x="683" y="345"/>
                  </a:lnTo>
                  <a:lnTo>
                    <a:pt x="683" y="344"/>
                  </a:lnTo>
                  <a:lnTo>
                    <a:pt x="683" y="344"/>
                  </a:lnTo>
                  <a:close/>
                  <a:moveTo>
                    <a:pt x="637" y="321"/>
                  </a:moveTo>
                  <a:lnTo>
                    <a:pt x="608" y="307"/>
                  </a:lnTo>
                  <a:lnTo>
                    <a:pt x="608" y="306"/>
                  </a:lnTo>
                  <a:lnTo>
                    <a:pt x="608" y="306"/>
                  </a:lnTo>
                  <a:lnTo>
                    <a:pt x="608" y="305"/>
                  </a:lnTo>
                  <a:lnTo>
                    <a:pt x="610" y="303"/>
                  </a:lnTo>
                  <a:lnTo>
                    <a:pt x="610" y="303"/>
                  </a:lnTo>
                  <a:lnTo>
                    <a:pt x="611" y="303"/>
                  </a:lnTo>
                  <a:lnTo>
                    <a:pt x="638" y="317"/>
                  </a:lnTo>
                  <a:lnTo>
                    <a:pt x="640" y="318"/>
                  </a:lnTo>
                  <a:lnTo>
                    <a:pt x="640" y="319"/>
                  </a:lnTo>
                  <a:lnTo>
                    <a:pt x="640" y="319"/>
                  </a:lnTo>
                  <a:lnTo>
                    <a:pt x="638" y="321"/>
                  </a:lnTo>
                  <a:lnTo>
                    <a:pt x="637" y="321"/>
                  </a:lnTo>
                  <a:lnTo>
                    <a:pt x="637" y="321"/>
                  </a:lnTo>
                  <a:close/>
                  <a:moveTo>
                    <a:pt x="589" y="298"/>
                  </a:moveTo>
                  <a:lnTo>
                    <a:pt x="562" y="284"/>
                  </a:lnTo>
                  <a:lnTo>
                    <a:pt x="561" y="283"/>
                  </a:lnTo>
                  <a:lnTo>
                    <a:pt x="561" y="281"/>
                  </a:lnTo>
                  <a:lnTo>
                    <a:pt x="562" y="280"/>
                  </a:lnTo>
                  <a:lnTo>
                    <a:pt x="565" y="280"/>
                  </a:lnTo>
                  <a:lnTo>
                    <a:pt x="592" y="294"/>
                  </a:lnTo>
                  <a:lnTo>
                    <a:pt x="592" y="295"/>
                  </a:lnTo>
                  <a:lnTo>
                    <a:pt x="592" y="296"/>
                  </a:lnTo>
                  <a:lnTo>
                    <a:pt x="591" y="298"/>
                  </a:lnTo>
                  <a:lnTo>
                    <a:pt x="591" y="298"/>
                  </a:lnTo>
                  <a:lnTo>
                    <a:pt x="589" y="298"/>
                  </a:lnTo>
                  <a:lnTo>
                    <a:pt x="589" y="298"/>
                  </a:lnTo>
                  <a:close/>
                  <a:moveTo>
                    <a:pt x="543" y="275"/>
                  </a:moveTo>
                  <a:lnTo>
                    <a:pt x="516" y="261"/>
                  </a:lnTo>
                  <a:lnTo>
                    <a:pt x="514" y="260"/>
                  </a:lnTo>
                  <a:lnTo>
                    <a:pt x="514" y="258"/>
                  </a:lnTo>
                  <a:lnTo>
                    <a:pt x="516" y="257"/>
                  </a:lnTo>
                  <a:lnTo>
                    <a:pt x="517" y="257"/>
                  </a:lnTo>
                  <a:lnTo>
                    <a:pt x="517" y="257"/>
                  </a:lnTo>
                  <a:lnTo>
                    <a:pt x="544" y="271"/>
                  </a:lnTo>
                  <a:lnTo>
                    <a:pt x="546" y="272"/>
                  </a:lnTo>
                  <a:lnTo>
                    <a:pt x="546" y="273"/>
                  </a:lnTo>
                  <a:lnTo>
                    <a:pt x="544" y="275"/>
                  </a:lnTo>
                  <a:lnTo>
                    <a:pt x="543" y="275"/>
                  </a:lnTo>
                  <a:lnTo>
                    <a:pt x="543" y="275"/>
                  </a:lnTo>
                  <a:lnTo>
                    <a:pt x="543" y="275"/>
                  </a:lnTo>
                  <a:close/>
                  <a:moveTo>
                    <a:pt x="495" y="251"/>
                  </a:moveTo>
                  <a:lnTo>
                    <a:pt x="468" y="238"/>
                  </a:lnTo>
                  <a:lnTo>
                    <a:pt x="468" y="237"/>
                  </a:lnTo>
                  <a:lnTo>
                    <a:pt x="467" y="235"/>
                  </a:lnTo>
                  <a:lnTo>
                    <a:pt x="468" y="235"/>
                  </a:lnTo>
                  <a:lnTo>
                    <a:pt x="470" y="234"/>
                  </a:lnTo>
                  <a:lnTo>
                    <a:pt x="471" y="234"/>
                  </a:lnTo>
                  <a:lnTo>
                    <a:pt x="498" y="247"/>
                  </a:lnTo>
                  <a:lnTo>
                    <a:pt x="500" y="249"/>
                  </a:lnTo>
                  <a:lnTo>
                    <a:pt x="500" y="249"/>
                  </a:lnTo>
                  <a:lnTo>
                    <a:pt x="500" y="250"/>
                  </a:lnTo>
                  <a:lnTo>
                    <a:pt x="498" y="251"/>
                  </a:lnTo>
                  <a:lnTo>
                    <a:pt x="495" y="251"/>
                  </a:lnTo>
                  <a:lnTo>
                    <a:pt x="495" y="251"/>
                  </a:lnTo>
                  <a:close/>
                  <a:moveTo>
                    <a:pt x="449" y="228"/>
                  </a:moveTo>
                  <a:lnTo>
                    <a:pt x="422" y="213"/>
                  </a:lnTo>
                  <a:lnTo>
                    <a:pt x="421" y="213"/>
                  </a:lnTo>
                  <a:lnTo>
                    <a:pt x="421" y="212"/>
                  </a:lnTo>
                  <a:lnTo>
                    <a:pt x="421" y="211"/>
                  </a:lnTo>
                  <a:lnTo>
                    <a:pt x="422" y="209"/>
                  </a:lnTo>
                  <a:lnTo>
                    <a:pt x="423" y="209"/>
                  </a:lnTo>
                  <a:lnTo>
                    <a:pt x="425" y="211"/>
                  </a:lnTo>
                  <a:lnTo>
                    <a:pt x="452" y="224"/>
                  </a:lnTo>
                  <a:lnTo>
                    <a:pt x="452" y="226"/>
                  </a:lnTo>
                  <a:lnTo>
                    <a:pt x="452" y="226"/>
                  </a:lnTo>
                  <a:lnTo>
                    <a:pt x="452" y="227"/>
                  </a:lnTo>
                  <a:lnTo>
                    <a:pt x="451" y="228"/>
                  </a:lnTo>
                  <a:lnTo>
                    <a:pt x="451" y="228"/>
                  </a:lnTo>
                  <a:lnTo>
                    <a:pt x="449" y="228"/>
                  </a:lnTo>
                  <a:lnTo>
                    <a:pt x="449" y="228"/>
                  </a:lnTo>
                  <a:close/>
                  <a:moveTo>
                    <a:pt x="403" y="204"/>
                  </a:moveTo>
                  <a:lnTo>
                    <a:pt x="376" y="190"/>
                  </a:lnTo>
                  <a:lnTo>
                    <a:pt x="374" y="189"/>
                  </a:lnTo>
                  <a:lnTo>
                    <a:pt x="374" y="188"/>
                  </a:lnTo>
                  <a:lnTo>
                    <a:pt x="376" y="186"/>
                  </a:lnTo>
                  <a:lnTo>
                    <a:pt x="377" y="186"/>
                  </a:lnTo>
                  <a:lnTo>
                    <a:pt x="377" y="186"/>
                  </a:lnTo>
                  <a:lnTo>
                    <a:pt x="404" y="200"/>
                  </a:lnTo>
                  <a:lnTo>
                    <a:pt x="406" y="201"/>
                  </a:lnTo>
                  <a:lnTo>
                    <a:pt x="406" y="204"/>
                  </a:lnTo>
                  <a:lnTo>
                    <a:pt x="404" y="204"/>
                  </a:lnTo>
                  <a:lnTo>
                    <a:pt x="403" y="204"/>
                  </a:lnTo>
                  <a:lnTo>
                    <a:pt x="403" y="204"/>
                  </a:lnTo>
                  <a:close/>
                  <a:moveTo>
                    <a:pt x="355" y="181"/>
                  </a:moveTo>
                  <a:lnTo>
                    <a:pt x="328" y="167"/>
                  </a:lnTo>
                  <a:lnTo>
                    <a:pt x="328" y="166"/>
                  </a:lnTo>
                  <a:lnTo>
                    <a:pt x="328" y="164"/>
                  </a:lnTo>
                  <a:lnTo>
                    <a:pt x="330" y="163"/>
                  </a:lnTo>
                  <a:lnTo>
                    <a:pt x="331" y="163"/>
                  </a:lnTo>
                  <a:lnTo>
                    <a:pt x="358" y="177"/>
                  </a:lnTo>
                  <a:lnTo>
                    <a:pt x="359" y="178"/>
                  </a:lnTo>
                  <a:lnTo>
                    <a:pt x="359" y="179"/>
                  </a:lnTo>
                  <a:lnTo>
                    <a:pt x="358" y="181"/>
                  </a:lnTo>
                  <a:lnTo>
                    <a:pt x="357" y="181"/>
                  </a:lnTo>
                  <a:lnTo>
                    <a:pt x="355" y="181"/>
                  </a:lnTo>
                  <a:lnTo>
                    <a:pt x="355" y="181"/>
                  </a:lnTo>
                  <a:close/>
                  <a:moveTo>
                    <a:pt x="309" y="158"/>
                  </a:moveTo>
                  <a:lnTo>
                    <a:pt x="282" y="144"/>
                  </a:lnTo>
                  <a:lnTo>
                    <a:pt x="281" y="143"/>
                  </a:lnTo>
                  <a:lnTo>
                    <a:pt x="281" y="141"/>
                  </a:lnTo>
                  <a:lnTo>
                    <a:pt x="281" y="141"/>
                  </a:lnTo>
                  <a:lnTo>
                    <a:pt x="282" y="14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312" y="154"/>
                  </a:lnTo>
                  <a:lnTo>
                    <a:pt x="312" y="155"/>
                  </a:lnTo>
                  <a:lnTo>
                    <a:pt x="312" y="156"/>
                  </a:lnTo>
                  <a:lnTo>
                    <a:pt x="312" y="156"/>
                  </a:lnTo>
                  <a:lnTo>
                    <a:pt x="310" y="158"/>
                  </a:lnTo>
                  <a:lnTo>
                    <a:pt x="310" y="158"/>
                  </a:lnTo>
                  <a:lnTo>
                    <a:pt x="309" y="158"/>
                  </a:lnTo>
                  <a:lnTo>
                    <a:pt x="309" y="158"/>
                  </a:lnTo>
                  <a:close/>
                  <a:moveTo>
                    <a:pt x="263" y="135"/>
                  </a:moveTo>
                  <a:lnTo>
                    <a:pt x="236" y="121"/>
                  </a:lnTo>
                  <a:lnTo>
                    <a:pt x="234" y="120"/>
                  </a:lnTo>
                  <a:lnTo>
                    <a:pt x="234" y="118"/>
                  </a:lnTo>
                  <a:lnTo>
                    <a:pt x="234" y="118"/>
                  </a:lnTo>
                  <a:lnTo>
                    <a:pt x="236" y="117"/>
                  </a:lnTo>
                  <a:lnTo>
                    <a:pt x="237" y="117"/>
                  </a:lnTo>
                  <a:lnTo>
                    <a:pt x="264" y="130"/>
                  </a:lnTo>
                  <a:lnTo>
                    <a:pt x="266" y="132"/>
                  </a:lnTo>
                  <a:lnTo>
                    <a:pt x="266" y="132"/>
                  </a:lnTo>
                  <a:lnTo>
                    <a:pt x="266" y="133"/>
                  </a:lnTo>
                  <a:lnTo>
                    <a:pt x="264" y="135"/>
                  </a:lnTo>
                  <a:lnTo>
                    <a:pt x="263" y="135"/>
                  </a:lnTo>
                  <a:lnTo>
                    <a:pt x="263" y="135"/>
                  </a:lnTo>
                  <a:close/>
                  <a:moveTo>
                    <a:pt x="215" y="111"/>
                  </a:moveTo>
                  <a:lnTo>
                    <a:pt x="188" y="98"/>
                  </a:lnTo>
                  <a:lnTo>
                    <a:pt x="188" y="96"/>
                  </a:lnTo>
                  <a:lnTo>
                    <a:pt x="188" y="94"/>
                  </a:lnTo>
                  <a:lnTo>
                    <a:pt x="189" y="94"/>
                  </a:lnTo>
                  <a:lnTo>
                    <a:pt x="189" y="94"/>
                  </a:lnTo>
                  <a:lnTo>
                    <a:pt x="191" y="94"/>
                  </a:lnTo>
                  <a:lnTo>
                    <a:pt x="218" y="107"/>
                  </a:lnTo>
                  <a:lnTo>
                    <a:pt x="219" y="109"/>
                  </a:lnTo>
                  <a:lnTo>
                    <a:pt x="219" y="109"/>
                  </a:lnTo>
                  <a:lnTo>
                    <a:pt x="219" y="110"/>
                  </a:lnTo>
                  <a:lnTo>
                    <a:pt x="218" y="111"/>
                  </a:lnTo>
                  <a:lnTo>
                    <a:pt x="217" y="111"/>
                  </a:lnTo>
                  <a:lnTo>
                    <a:pt x="215" y="111"/>
                  </a:lnTo>
                  <a:lnTo>
                    <a:pt x="215" y="111"/>
                  </a:lnTo>
                  <a:close/>
                  <a:moveTo>
                    <a:pt x="169" y="87"/>
                  </a:moveTo>
                  <a:lnTo>
                    <a:pt x="142" y="73"/>
                  </a:lnTo>
                  <a:lnTo>
                    <a:pt x="140" y="72"/>
                  </a:lnTo>
                  <a:lnTo>
                    <a:pt x="140" y="71"/>
                  </a:lnTo>
                  <a:lnTo>
                    <a:pt x="142" y="69"/>
                  </a:lnTo>
                  <a:lnTo>
                    <a:pt x="143" y="69"/>
                  </a:lnTo>
                  <a:lnTo>
                    <a:pt x="143" y="71"/>
                  </a:lnTo>
                  <a:lnTo>
                    <a:pt x="170" y="84"/>
                  </a:lnTo>
                  <a:lnTo>
                    <a:pt x="172" y="86"/>
                  </a:lnTo>
                  <a:lnTo>
                    <a:pt x="172" y="87"/>
                  </a:lnTo>
                  <a:lnTo>
                    <a:pt x="170" y="88"/>
                  </a:lnTo>
                  <a:lnTo>
                    <a:pt x="169" y="87"/>
                  </a:lnTo>
                  <a:lnTo>
                    <a:pt x="169" y="87"/>
                  </a:lnTo>
                  <a:close/>
                  <a:moveTo>
                    <a:pt x="123" y="64"/>
                  </a:moveTo>
                  <a:lnTo>
                    <a:pt x="96" y="50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4" y="47"/>
                  </a:lnTo>
                  <a:lnTo>
                    <a:pt x="96" y="46"/>
                  </a:lnTo>
                  <a:lnTo>
                    <a:pt x="97" y="46"/>
                  </a:lnTo>
                  <a:lnTo>
                    <a:pt x="124" y="60"/>
                  </a:lnTo>
                  <a:lnTo>
                    <a:pt x="126" y="61"/>
                  </a:lnTo>
                  <a:lnTo>
                    <a:pt x="126" y="64"/>
                  </a:lnTo>
                  <a:lnTo>
                    <a:pt x="124" y="64"/>
                  </a:lnTo>
                  <a:lnTo>
                    <a:pt x="123" y="64"/>
                  </a:lnTo>
                  <a:lnTo>
                    <a:pt x="123" y="64"/>
                  </a:lnTo>
                  <a:close/>
                  <a:moveTo>
                    <a:pt x="75" y="41"/>
                  </a:moveTo>
                  <a:lnTo>
                    <a:pt x="48" y="27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8" y="24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78" y="37"/>
                  </a:lnTo>
                  <a:lnTo>
                    <a:pt x="79" y="38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8" y="41"/>
                  </a:lnTo>
                  <a:lnTo>
                    <a:pt x="77" y="41"/>
                  </a:lnTo>
                  <a:lnTo>
                    <a:pt x="75" y="41"/>
                  </a:lnTo>
                  <a:lnTo>
                    <a:pt x="75" y="41"/>
                  </a:lnTo>
                  <a:close/>
                  <a:moveTo>
                    <a:pt x="29" y="18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8120" y="1639080"/>
              <a:ext cx="74520" cy="6300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4" y="21"/>
                  </a:moveTo>
                  <a:lnTo>
                    <a:pt x="2" y="24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5" y="57"/>
                  </a:lnTo>
                  <a:lnTo>
                    <a:pt x="9" y="62"/>
                  </a:lnTo>
                  <a:lnTo>
                    <a:pt x="15" y="68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5" y="76"/>
                  </a:lnTo>
                  <a:lnTo>
                    <a:pt x="39" y="76"/>
                  </a:lnTo>
                  <a:lnTo>
                    <a:pt x="42" y="74"/>
                  </a:lnTo>
                  <a:lnTo>
                    <a:pt x="46" y="74"/>
                  </a:lnTo>
                  <a:lnTo>
                    <a:pt x="50" y="73"/>
                  </a:lnTo>
                  <a:lnTo>
                    <a:pt x="55" y="70"/>
                  </a:lnTo>
                  <a:lnTo>
                    <a:pt x="62" y="66"/>
                  </a:lnTo>
                  <a:lnTo>
                    <a:pt x="68" y="61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3" y="51"/>
                  </a:lnTo>
                  <a:lnTo>
                    <a:pt x="74" y="47"/>
                  </a:lnTo>
                  <a:lnTo>
                    <a:pt x="74" y="45"/>
                  </a:lnTo>
                  <a:lnTo>
                    <a:pt x="74" y="40"/>
                  </a:lnTo>
                  <a:lnTo>
                    <a:pt x="74" y="36"/>
                  </a:lnTo>
                  <a:lnTo>
                    <a:pt x="74" y="34"/>
                  </a:lnTo>
                  <a:lnTo>
                    <a:pt x="74" y="30"/>
                  </a:lnTo>
                  <a:lnTo>
                    <a:pt x="73" y="25"/>
                  </a:lnTo>
                  <a:lnTo>
                    <a:pt x="70" y="20"/>
                  </a:lnTo>
                  <a:lnTo>
                    <a:pt x="66" y="13"/>
                  </a:lnTo>
                  <a:lnTo>
                    <a:pt x="61" y="8"/>
                  </a:lnTo>
                  <a:lnTo>
                    <a:pt x="54" y="4"/>
                  </a:lnTo>
                  <a:lnTo>
                    <a:pt x="51" y="2"/>
                  </a:lnTo>
                  <a:lnTo>
                    <a:pt x="47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5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39280" y="1226520"/>
              <a:ext cx="1757880" cy="412560"/>
            </a:xfrm>
            <a:custGeom>
              <a:avLst/>
              <a:gdLst/>
              <a:ahLst/>
              <a:rect l="l" t="t" r="r" b="b"/>
              <a:pathLst>
                <a:path w="1795" h="494">
                  <a:moveTo>
                    <a:pt x="1790" y="492"/>
                  </a:moveTo>
                  <a:lnTo>
                    <a:pt x="1787" y="472"/>
                  </a:lnTo>
                  <a:lnTo>
                    <a:pt x="1787" y="472"/>
                  </a:lnTo>
                  <a:lnTo>
                    <a:pt x="1783" y="462"/>
                  </a:lnTo>
                  <a:lnTo>
                    <a:pt x="1783" y="461"/>
                  </a:lnTo>
                  <a:lnTo>
                    <a:pt x="1783" y="461"/>
                  </a:lnTo>
                  <a:lnTo>
                    <a:pt x="1783" y="460"/>
                  </a:lnTo>
                  <a:lnTo>
                    <a:pt x="1784" y="460"/>
                  </a:lnTo>
                  <a:lnTo>
                    <a:pt x="1786" y="460"/>
                  </a:lnTo>
                  <a:lnTo>
                    <a:pt x="1787" y="460"/>
                  </a:lnTo>
                  <a:lnTo>
                    <a:pt x="1787" y="461"/>
                  </a:lnTo>
                  <a:lnTo>
                    <a:pt x="1791" y="471"/>
                  </a:lnTo>
                  <a:lnTo>
                    <a:pt x="1791" y="471"/>
                  </a:lnTo>
                  <a:lnTo>
                    <a:pt x="1791" y="471"/>
                  </a:lnTo>
                  <a:lnTo>
                    <a:pt x="1795" y="491"/>
                  </a:lnTo>
                  <a:lnTo>
                    <a:pt x="1795" y="491"/>
                  </a:lnTo>
                  <a:lnTo>
                    <a:pt x="1794" y="492"/>
                  </a:lnTo>
                  <a:lnTo>
                    <a:pt x="1792" y="494"/>
                  </a:lnTo>
                  <a:lnTo>
                    <a:pt x="1791" y="492"/>
                  </a:lnTo>
                  <a:lnTo>
                    <a:pt x="1790" y="492"/>
                  </a:lnTo>
                  <a:lnTo>
                    <a:pt x="1790" y="492"/>
                  </a:lnTo>
                  <a:close/>
                  <a:moveTo>
                    <a:pt x="1773" y="443"/>
                  </a:moveTo>
                  <a:lnTo>
                    <a:pt x="1767" y="432"/>
                  </a:lnTo>
                  <a:lnTo>
                    <a:pt x="1756" y="419"/>
                  </a:lnTo>
                  <a:lnTo>
                    <a:pt x="1754" y="417"/>
                  </a:lnTo>
                  <a:lnTo>
                    <a:pt x="1756" y="417"/>
                  </a:lnTo>
                  <a:lnTo>
                    <a:pt x="1756" y="416"/>
                  </a:lnTo>
                  <a:lnTo>
                    <a:pt x="1757" y="416"/>
                  </a:lnTo>
                  <a:lnTo>
                    <a:pt x="1758" y="416"/>
                  </a:lnTo>
                  <a:lnTo>
                    <a:pt x="1758" y="416"/>
                  </a:lnTo>
                  <a:lnTo>
                    <a:pt x="1769" y="430"/>
                  </a:lnTo>
                  <a:lnTo>
                    <a:pt x="1777" y="442"/>
                  </a:lnTo>
                  <a:lnTo>
                    <a:pt x="1777" y="442"/>
                  </a:lnTo>
                  <a:lnTo>
                    <a:pt x="1777" y="443"/>
                  </a:lnTo>
                  <a:lnTo>
                    <a:pt x="1776" y="445"/>
                  </a:lnTo>
                  <a:lnTo>
                    <a:pt x="1775" y="445"/>
                  </a:lnTo>
                  <a:lnTo>
                    <a:pt x="1773" y="445"/>
                  </a:lnTo>
                  <a:lnTo>
                    <a:pt x="1773" y="443"/>
                  </a:lnTo>
                  <a:lnTo>
                    <a:pt x="1773" y="443"/>
                  </a:lnTo>
                  <a:close/>
                  <a:moveTo>
                    <a:pt x="1741" y="404"/>
                  </a:moveTo>
                  <a:lnTo>
                    <a:pt x="1728" y="393"/>
                  </a:lnTo>
                  <a:lnTo>
                    <a:pt x="1718" y="383"/>
                  </a:lnTo>
                  <a:lnTo>
                    <a:pt x="1718" y="383"/>
                  </a:lnTo>
                  <a:lnTo>
                    <a:pt x="1716" y="382"/>
                  </a:lnTo>
                  <a:lnTo>
                    <a:pt x="1718" y="381"/>
                  </a:lnTo>
                  <a:lnTo>
                    <a:pt x="1718" y="381"/>
                  </a:lnTo>
                  <a:lnTo>
                    <a:pt x="1719" y="379"/>
                  </a:lnTo>
                  <a:lnTo>
                    <a:pt x="1720" y="381"/>
                  </a:lnTo>
                  <a:lnTo>
                    <a:pt x="1731" y="389"/>
                  </a:lnTo>
                  <a:lnTo>
                    <a:pt x="1743" y="401"/>
                  </a:lnTo>
                  <a:lnTo>
                    <a:pt x="1743" y="401"/>
                  </a:lnTo>
                  <a:lnTo>
                    <a:pt x="1745" y="403"/>
                  </a:lnTo>
                  <a:lnTo>
                    <a:pt x="1743" y="403"/>
                  </a:lnTo>
                  <a:lnTo>
                    <a:pt x="1743" y="404"/>
                  </a:lnTo>
                  <a:lnTo>
                    <a:pt x="1743" y="404"/>
                  </a:lnTo>
                  <a:lnTo>
                    <a:pt x="1742" y="404"/>
                  </a:lnTo>
                  <a:lnTo>
                    <a:pt x="1741" y="404"/>
                  </a:lnTo>
                  <a:lnTo>
                    <a:pt x="1741" y="404"/>
                  </a:lnTo>
                  <a:close/>
                  <a:moveTo>
                    <a:pt x="1701" y="371"/>
                  </a:moveTo>
                  <a:lnTo>
                    <a:pt x="1675" y="354"/>
                  </a:lnTo>
                  <a:lnTo>
                    <a:pt x="1674" y="352"/>
                  </a:lnTo>
                  <a:lnTo>
                    <a:pt x="1674" y="351"/>
                  </a:lnTo>
                  <a:lnTo>
                    <a:pt x="1675" y="351"/>
                  </a:lnTo>
                  <a:lnTo>
                    <a:pt x="1677" y="349"/>
                  </a:lnTo>
                  <a:lnTo>
                    <a:pt x="1677" y="349"/>
                  </a:lnTo>
                  <a:lnTo>
                    <a:pt x="1678" y="351"/>
                  </a:lnTo>
                  <a:lnTo>
                    <a:pt x="1703" y="367"/>
                  </a:lnTo>
                  <a:lnTo>
                    <a:pt x="1704" y="369"/>
                  </a:lnTo>
                  <a:lnTo>
                    <a:pt x="1704" y="370"/>
                  </a:lnTo>
                  <a:lnTo>
                    <a:pt x="1704" y="370"/>
                  </a:lnTo>
                  <a:lnTo>
                    <a:pt x="1703" y="371"/>
                  </a:lnTo>
                  <a:lnTo>
                    <a:pt x="1701" y="371"/>
                  </a:lnTo>
                  <a:lnTo>
                    <a:pt x="1701" y="371"/>
                  </a:lnTo>
                  <a:lnTo>
                    <a:pt x="1701" y="371"/>
                  </a:lnTo>
                  <a:close/>
                  <a:moveTo>
                    <a:pt x="1656" y="343"/>
                  </a:moveTo>
                  <a:lnTo>
                    <a:pt x="1641" y="333"/>
                  </a:lnTo>
                  <a:lnTo>
                    <a:pt x="1631" y="328"/>
                  </a:lnTo>
                  <a:lnTo>
                    <a:pt x="1629" y="326"/>
                  </a:lnTo>
                  <a:lnTo>
                    <a:pt x="1629" y="325"/>
                  </a:lnTo>
                  <a:lnTo>
                    <a:pt x="1629" y="325"/>
                  </a:lnTo>
                  <a:lnTo>
                    <a:pt x="1631" y="324"/>
                  </a:lnTo>
                  <a:lnTo>
                    <a:pt x="1631" y="324"/>
                  </a:lnTo>
                  <a:lnTo>
                    <a:pt x="1632" y="324"/>
                  </a:lnTo>
                  <a:lnTo>
                    <a:pt x="1632" y="324"/>
                  </a:lnTo>
                  <a:lnTo>
                    <a:pt x="1644" y="330"/>
                  </a:lnTo>
                  <a:lnTo>
                    <a:pt x="1659" y="339"/>
                  </a:lnTo>
                  <a:lnTo>
                    <a:pt x="1660" y="340"/>
                  </a:lnTo>
                  <a:lnTo>
                    <a:pt x="1660" y="341"/>
                  </a:lnTo>
                  <a:lnTo>
                    <a:pt x="1660" y="343"/>
                  </a:lnTo>
                  <a:lnTo>
                    <a:pt x="1658" y="343"/>
                  </a:lnTo>
                  <a:lnTo>
                    <a:pt x="1658" y="343"/>
                  </a:lnTo>
                  <a:lnTo>
                    <a:pt x="1656" y="343"/>
                  </a:lnTo>
                  <a:lnTo>
                    <a:pt x="1656" y="343"/>
                  </a:lnTo>
                  <a:close/>
                  <a:moveTo>
                    <a:pt x="1611" y="318"/>
                  </a:moveTo>
                  <a:lnTo>
                    <a:pt x="1605" y="314"/>
                  </a:lnTo>
                  <a:lnTo>
                    <a:pt x="1584" y="305"/>
                  </a:lnTo>
                  <a:lnTo>
                    <a:pt x="1583" y="303"/>
                  </a:lnTo>
                  <a:lnTo>
                    <a:pt x="1583" y="303"/>
                  </a:lnTo>
                  <a:lnTo>
                    <a:pt x="1583" y="302"/>
                  </a:lnTo>
                  <a:lnTo>
                    <a:pt x="1584" y="301"/>
                  </a:lnTo>
                  <a:lnTo>
                    <a:pt x="1584" y="301"/>
                  </a:lnTo>
                  <a:lnTo>
                    <a:pt x="1586" y="301"/>
                  </a:lnTo>
                  <a:lnTo>
                    <a:pt x="1607" y="311"/>
                  </a:lnTo>
                  <a:lnTo>
                    <a:pt x="1613" y="314"/>
                  </a:lnTo>
                  <a:lnTo>
                    <a:pt x="1614" y="314"/>
                  </a:lnTo>
                  <a:lnTo>
                    <a:pt x="1614" y="315"/>
                  </a:lnTo>
                  <a:lnTo>
                    <a:pt x="1614" y="315"/>
                  </a:lnTo>
                  <a:lnTo>
                    <a:pt x="1614" y="317"/>
                  </a:lnTo>
                  <a:lnTo>
                    <a:pt x="1613" y="317"/>
                  </a:lnTo>
                  <a:lnTo>
                    <a:pt x="1613" y="318"/>
                  </a:lnTo>
                  <a:lnTo>
                    <a:pt x="1611" y="318"/>
                  </a:lnTo>
                  <a:lnTo>
                    <a:pt x="1611" y="318"/>
                  </a:lnTo>
                  <a:lnTo>
                    <a:pt x="1611" y="318"/>
                  </a:lnTo>
                  <a:close/>
                  <a:moveTo>
                    <a:pt x="1564" y="295"/>
                  </a:moveTo>
                  <a:lnTo>
                    <a:pt x="1537" y="283"/>
                  </a:lnTo>
                  <a:lnTo>
                    <a:pt x="1535" y="283"/>
                  </a:lnTo>
                  <a:lnTo>
                    <a:pt x="1535" y="281"/>
                  </a:lnTo>
                  <a:lnTo>
                    <a:pt x="1535" y="281"/>
                  </a:lnTo>
                  <a:lnTo>
                    <a:pt x="1535" y="280"/>
                  </a:lnTo>
                  <a:lnTo>
                    <a:pt x="1535" y="280"/>
                  </a:lnTo>
                  <a:lnTo>
                    <a:pt x="1537" y="279"/>
                  </a:lnTo>
                  <a:lnTo>
                    <a:pt x="1538" y="279"/>
                  </a:lnTo>
                  <a:lnTo>
                    <a:pt x="1567" y="291"/>
                  </a:lnTo>
                  <a:lnTo>
                    <a:pt x="1567" y="292"/>
                  </a:lnTo>
                  <a:lnTo>
                    <a:pt x="1567" y="294"/>
                  </a:lnTo>
                  <a:lnTo>
                    <a:pt x="1567" y="295"/>
                  </a:lnTo>
                  <a:lnTo>
                    <a:pt x="1565" y="295"/>
                  </a:lnTo>
                  <a:lnTo>
                    <a:pt x="1565" y="295"/>
                  </a:lnTo>
                  <a:lnTo>
                    <a:pt x="1564" y="295"/>
                  </a:lnTo>
                  <a:lnTo>
                    <a:pt x="1564" y="295"/>
                  </a:lnTo>
                  <a:close/>
                  <a:moveTo>
                    <a:pt x="1516" y="275"/>
                  </a:moveTo>
                  <a:lnTo>
                    <a:pt x="1488" y="264"/>
                  </a:lnTo>
                  <a:lnTo>
                    <a:pt x="1488" y="264"/>
                  </a:lnTo>
                  <a:lnTo>
                    <a:pt x="1486" y="262"/>
                  </a:lnTo>
                  <a:lnTo>
                    <a:pt x="1486" y="262"/>
                  </a:lnTo>
                  <a:lnTo>
                    <a:pt x="1486" y="261"/>
                  </a:lnTo>
                  <a:lnTo>
                    <a:pt x="1486" y="260"/>
                  </a:lnTo>
                  <a:lnTo>
                    <a:pt x="1488" y="260"/>
                  </a:lnTo>
                  <a:lnTo>
                    <a:pt x="1489" y="260"/>
                  </a:lnTo>
                  <a:lnTo>
                    <a:pt x="1518" y="271"/>
                  </a:lnTo>
                  <a:lnTo>
                    <a:pt x="1519" y="272"/>
                  </a:lnTo>
                  <a:lnTo>
                    <a:pt x="1519" y="273"/>
                  </a:lnTo>
                  <a:lnTo>
                    <a:pt x="1519" y="273"/>
                  </a:lnTo>
                  <a:lnTo>
                    <a:pt x="1518" y="275"/>
                  </a:lnTo>
                  <a:lnTo>
                    <a:pt x="1516" y="275"/>
                  </a:lnTo>
                  <a:lnTo>
                    <a:pt x="1516" y="275"/>
                  </a:lnTo>
                  <a:lnTo>
                    <a:pt x="1516" y="275"/>
                  </a:lnTo>
                  <a:close/>
                  <a:moveTo>
                    <a:pt x="1467" y="256"/>
                  </a:moveTo>
                  <a:lnTo>
                    <a:pt x="1439" y="246"/>
                  </a:lnTo>
                  <a:lnTo>
                    <a:pt x="1437" y="245"/>
                  </a:lnTo>
                  <a:lnTo>
                    <a:pt x="1437" y="245"/>
                  </a:lnTo>
                  <a:lnTo>
                    <a:pt x="1437" y="243"/>
                  </a:lnTo>
                  <a:lnTo>
                    <a:pt x="1437" y="242"/>
                  </a:lnTo>
                  <a:lnTo>
                    <a:pt x="1439" y="242"/>
                  </a:lnTo>
                  <a:lnTo>
                    <a:pt x="1440" y="242"/>
                  </a:lnTo>
                  <a:lnTo>
                    <a:pt x="1469" y="252"/>
                  </a:lnTo>
                  <a:lnTo>
                    <a:pt x="1470" y="253"/>
                  </a:lnTo>
                  <a:lnTo>
                    <a:pt x="1470" y="253"/>
                  </a:lnTo>
                  <a:lnTo>
                    <a:pt x="1470" y="254"/>
                  </a:lnTo>
                  <a:lnTo>
                    <a:pt x="1470" y="254"/>
                  </a:lnTo>
                  <a:lnTo>
                    <a:pt x="1470" y="256"/>
                  </a:lnTo>
                  <a:lnTo>
                    <a:pt x="1469" y="256"/>
                  </a:lnTo>
                  <a:lnTo>
                    <a:pt x="1467" y="256"/>
                  </a:lnTo>
                  <a:lnTo>
                    <a:pt x="1467" y="256"/>
                  </a:lnTo>
                  <a:close/>
                  <a:moveTo>
                    <a:pt x="1418" y="239"/>
                  </a:moveTo>
                  <a:lnTo>
                    <a:pt x="1390" y="230"/>
                  </a:lnTo>
                  <a:lnTo>
                    <a:pt x="1388" y="228"/>
                  </a:lnTo>
                  <a:lnTo>
                    <a:pt x="1387" y="227"/>
                  </a:lnTo>
                  <a:lnTo>
                    <a:pt x="1388" y="226"/>
                  </a:lnTo>
                  <a:lnTo>
                    <a:pt x="1388" y="224"/>
                  </a:lnTo>
                  <a:lnTo>
                    <a:pt x="1390" y="224"/>
                  </a:lnTo>
                  <a:lnTo>
                    <a:pt x="1391" y="224"/>
                  </a:lnTo>
                  <a:lnTo>
                    <a:pt x="1420" y="235"/>
                  </a:lnTo>
                  <a:lnTo>
                    <a:pt x="1421" y="235"/>
                  </a:lnTo>
                  <a:lnTo>
                    <a:pt x="1421" y="237"/>
                  </a:lnTo>
                  <a:lnTo>
                    <a:pt x="1421" y="238"/>
                  </a:lnTo>
                  <a:lnTo>
                    <a:pt x="1421" y="238"/>
                  </a:lnTo>
                  <a:lnTo>
                    <a:pt x="1420" y="238"/>
                  </a:lnTo>
                  <a:lnTo>
                    <a:pt x="1420" y="239"/>
                  </a:lnTo>
                  <a:lnTo>
                    <a:pt x="1418" y="239"/>
                  </a:lnTo>
                  <a:lnTo>
                    <a:pt x="1418" y="239"/>
                  </a:lnTo>
                  <a:close/>
                  <a:moveTo>
                    <a:pt x="1369" y="223"/>
                  </a:moveTo>
                  <a:lnTo>
                    <a:pt x="1339" y="213"/>
                  </a:lnTo>
                  <a:lnTo>
                    <a:pt x="1339" y="213"/>
                  </a:lnTo>
                  <a:lnTo>
                    <a:pt x="1338" y="212"/>
                  </a:lnTo>
                  <a:lnTo>
                    <a:pt x="1338" y="212"/>
                  </a:lnTo>
                  <a:lnTo>
                    <a:pt x="1338" y="211"/>
                  </a:lnTo>
                  <a:lnTo>
                    <a:pt x="1339" y="209"/>
                  </a:lnTo>
                  <a:lnTo>
                    <a:pt x="1339" y="209"/>
                  </a:lnTo>
                  <a:lnTo>
                    <a:pt x="1341" y="209"/>
                  </a:lnTo>
                  <a:lnTo>
                    <a:pt x="1371" y="218"/>
                  </a:lnTo>
                  <a:lnTo>
                    <a:pt x="1371" y="219"/>
                  </a:lnTo>
                  <a:lnTo>
                    <a:pt x="1371" y="219"/>
                  </a:lnTo>
                  <a:lnTo>
                    <a:pt x="1372" y="220"/>
                  </a:lnTo>
                  <a:lnTo>
                    <a:pt x="1372" y="220"/>
                  </a:lnTo>
                  <a:lnTo>
                    <a:pt x="1371" y="222"/>
                  </a:lnTo>
                  <a:lnTo>
                    <a:pt x="1371" y="222"/>
                  </a:lnTo>
                  <a:lnTo>
                    <a:pt x="1369" y="223"/>
                  </a:lnTo>
                  <a:lnTo>
                    <a:pt x="1369" y="223"/>
                  </a:lnTo>
                  <a:lnTo>
                    <a:pt x="1369" y="223"/>
                  </a:lnTo>
                  <a:close/>
                  <a:moveTo>
                    <a:pt x="1319" y="207"/>
                  </a:moveTo>
                  <a:lnTo>
                    <a:pt x="1314" y="205"/>
                  </a:lnTo>
                  <a:lnTo>
                    <a:pt x="1289" y="199"/>
                  </a:lnTo>
                  <a:lnTo>
                    <a:pt x="1288" y="197"/>
                  </a:lnTo>
                  <a:lnTo>
                    <a:pt x="1288" y="197"/>
                  </a:lnTo>
                  <a:lnTo>
                    <a:pt x="1288" y="196"/>
                  </a:lnTo>
                  <a:lnTo>
                    <a:pt x="1288" y="196"/>
                  </a:lnTo>
                  <a:lnTo>
                    <a:pt x="1289" y="194"/>
                  </a:lnTo>
                  <a:lnTo>
                    <a:pt x="1289" y="194"/>
                  </a:lnTo>
                  <a:lnTo>
                    <a:pt x="1290" y="194"/>
                  </a:lnTo>
                  <a:lnTo>
                    <a:pt x="1315" y="201"/>
                  </a:lnTo>
                  <a:lnTo>
                    <a:pt x="1320" y="203"/>
                  </a:lnTo>
                  <a:lnTo>
                    <a:pt x="1322" y="204"/>
                  </a:lnTo>
                  <a:lnTo>
                    <a:pt x="1322" y="205"/>
                  </a:lnTo>
                  <a:lnTo>
                    <a:pt x="1322" y="205"/>
                  </a:lnTo>
                  <a:lnTo>
                    <a:pt x="1320" y="207"/>
                  </a:lnTo>
                  <a:lnTo>
                    <a:pt x="1320" y="207"/>
                  </a:lnTo>
                  <a:lnTo>
                    <a:pt x="1319" y="207"/>
                  </a:lnTo>
                  <a:lnTo>
                    <a:pt x="1319" y="207"/>
                  </a:lnTo>
                  <a:lnTo>
                    <a:pt x="1319" y="207"/>
                  </a:lnTo>
                  <a:close/>
                  <a:moveTo>
                    <a:pt x="1269" y="193"/>
                  </a:moveTo>
                  <a:lnTo>
                    <a:pt x="1255" y="189"/>
                  </a:lnTo>
                  <a:lnTo>
                    <a:pt x="1239" y="185"/>
                  </a:lnTo>
                  <a:lnTo>
                    <a:pt x="1237" y="184"/>
                  </a:lnTo>
                  <a:lnTo>
                    <a:pt x="1237" y="182"/>
                  </a:lnTo>
                  <a:lnTo>
                    <a:pt x="1237" y="181"/>
                  </a:lnTo>
                  <a:lnTo>
                    <a:pt x="1239" y="181"/>
                  </a:lnTo>
                  <a:lnTo>
                    <a:pt x="1239" y="181"/>
                  </a:lnTo>
                  <a:lnTo>
                    <a:pt x="1240" y="181"/>
                  </a:lnTo>
                  <a:lnTo>
                    <a:pt x="1256" y="185"/>
                  </a:lnTo>
                  <a:lnTo>
                    <a:pt x="1270" y="189"/>
                  </a:lnTo>
                  <a:lnTo>
                    <a:pt x="1270" y="189"/>
                  </a:lnTo>
                  <a:lnTo>
                    <a:pt x="1271" y="189"/>
                  </a:lnTo>
                  <a:lnTo>
                    <a:pt x="1271" y="190"/>
                  </a:lnTo>
                  <a:lnTo>
                    <a:pt x="1271" y="192"/>
                  </a:lnTo>
                  <a:lnTo>
                    <a:pt x="1270" y="193"/>
                  </a:lnTo>
                  <a:lnTo>
                    <a:pt x="1269" y="193"/>
                  </a:lnTo>
                  <a:lnTo>
                    <a:pt x="1269" y="193"/>
                  </a:lnTo>
                  <a:lnTo>
                    <a:pt x="1269" y="193"/>
                  </a:lnTo>
                  <a:close/>
                  <a:moveTo>
                    <a:pt x="1218" y="179"/>
                  </a:moveTo>
                  <a:lnTo>
                    <a:pt x="1193" y="173"/>
                  </a:lnTo>
                  <a:lnTo>
                    <a:pt x="1188" y="171"/>
                  </a:lnTo>
                  <a:lnTo>
                    <a:pt x="1188" y="171"/>
                  </a:lnTo>
                  <a:lnTo>
                    <a:pt x="1187" y="170"/>
                  </a:lnTo>
                  <a:lnTo>
                    <a:pt x="1187" y="170"/>
                  </a:lnTo>
                  <a:lnTo>
                    <a:pt x="1187" y="169"/>
                  </a:lnTo>
                  <a:lnTo>
                    <a:pt x="1188" y="167"/>
                  </a:lnTo>
                  <a:lnTo>
                    <a:pt x="1188" y="167"/>
                  </a:lnTo>
                  <a:lnTo>
                    <a:pt x="1190" y="167"/>
                  </a:lnTo>
                  <a:lnTo>
                    <a:pt x="1194" y="169"/>
                  </a:lnTo>
                  <a:lnTo>
                    <a:pt x="1220" y="175"/>
                  </a:lnTo>
                  <a:lnTo>
                    <a:pt x="1220" y="175"/>
                  </a:lnTo>
                  <a:lnTo>
                    <a:pt x="1221" y="175"/>
                  </a:lnTo>
                  <a:lnTo>
                    <a:pt x="1221" y="177"/>
                  </a:lnTo>
                  <a:lnTo>
                    <a:pt x="1221" y="178"/>
                  </a:lnTo>
                  <a:lnTo>
                    <a:pt x="1220" y="179"/>
                  </a:lnTo>
                  <a:lnTo>
                    <a:pt x="1218" y="179"/>
                  </a:lnTo>
                  <a:lnTo>
                    <a:pt x="1218" y="179"/>
                  </a:lnTo>
                  <a:lnTo>
                    <a:pt x="1218" y="179"/>
                  </a:lnTo>
                  <a:close/>
                  <a:moveTo>
                    <a:pt x="1168" y="166"/>
                  </a:moveTo>
                  <a:lnTo>
                    <a:pt x="1138" y="159"/>
                  </a:lnTo>
                  <a:lnTo>
                    <a:pt x="1137" y="158"/>
                  </a:lnTo>
                  <a:lnTo>
                    <a:pt x="1137" y="158"/>
                  </a:lnTo>
                  <a:lnTo>
                    <a:pt x="1137" y="156"/>
                  </a:lnTo>
                  <a:lnTo>
                    <a:pt x="1137" y="156"/>
                  </a:lnTo>
                  <a:lnTo>
                    <a:pt x="1137" y="155"/>
                  </a:lnTo>
                  <a:lnTo>
                    <a:pt x="1138" y="155"/>
                  </a:lnTo>
                  <a:lnTo>
                    <a:pt x="1140" y="155"/>
                  </a:lnTo>
                  <a:lnTo>
                    <a:pt x="1168" y="162"/>
                  </a:lnTo>
                  <a:lnTo>
                    <a:pt x="1169" y="163"/>
                  </a:lnTo>
                  <a:lnTo>
                    <a:pt x="1171" y="164"/>
                  </a:lnTo>
                  <a:lnTo>
                    <a:pt x="1171" y="164"/>
                  </a:lnTo>
                  <a:lnTo>
                    <a:pt x="1169" y="166"/>
                  </a:lnTo>
                  <a:lnTo>
                    <a:pt x="1168" y="166"/>
                  </a:lnTo>
                  <a:lnTo>
                    <a:pt x="1168" y="166"/>
                  </a:lnTo>
                  <a:lnTo>
                    <a:pt x="1168" y="166"/>
                  </a:lnTo>
                  <a:close/>
                  <a:moveTo>
                    <a:pt x="1116" y="154"/>
                  </a:moveTo>
                  <a:lnTo>
                    <a:pt x="1088" y="148"/>
                  </a:lnTo>
                  <a:lnTo>
                    <a:pt x="1086" y="147"/>
                  </a:lnTo>
                  <a:lnTo>
                    <a:pt x="1085" y="147"/>
                  </a:lnTo>
                  <a:lnTo>
                    <a:pt x="1085" y="145"/>
                  </a:lnTo>
                  <a:lnTo>
                    <a:pt x="1085" y="145"/>
                  </a:lnTo>
                  <a:lnTo>
                    <a:pt x="1086" y="143"/>
                  </a:lnTo>
                  <a:lnTo>
                    <a:pt x="1088" y="143"/>
                  </a:lnTo>
                  <a:lnTo>
                    <a:pt x="1088" y="143"/>
                  </a:lnTo>
                  <a:lnTo>
                    <a:pt x="1118" y="150"/>
                  </a:lnTo>
                  <a:lnTo>
                    <a:pt x="1119" y="151"/>
                  </a:lnTo>
                  <a:lnTo>
                    <a:pt x="1119" y="152"/>
                  </a:lnTo>
                  <a:lnTo>
                    <a:pt x="1119" y="152"/>
                  </a:lnTo>
                  <a:lnTo>
                    <a:pt x="1119" y="154"/>
                  </a:lnTo>
                  <a:lnTo>
                    <a:pt x="1118" y="154"/>
                  </a:lnTo>
                  <a:lnTo>
                    <a:pt x="1116" y="154"/>
                  </a:lnTo>
                  <a:lnTo>
                    <a:pt x="1116" y="154"/>
                  </a:lnTo>
                  <a:close/>
                  <a:moveTo>
                    <a:pt x="1066" y="143"/>
                  </a:moveTo>
                  <a:lnTo>
                    <a:pt x="1059" y="141"/>
                  </a:lnTo>
                  <a:lnTo>
                    <a:pt x="1036" y="136"/>
                  </a:lnTo>
                  <a:lnTo>
                    <a:pt x="1035" y="136"/>
                  </a:lnTo>
                  <a:lnTo>
                    <a:pt x="1035" y="135"/>
                  </a:lnTo>
                  <a:lnTo>
                    <a:pt x="1035" y="135"/>
                  </a:lnTo>
                  <a:lnTo>
                    <a:pt x="1035" y="133"/>
                  </a:lnTo>
                  <a:lnTo>
                    <a:pt x="1035" y="132"/>
                  </a:lnTo>
                  <a:lnTo>
                    <a:pt x="1036" y="132"/>
                  </a:lnTo>
                  <a:lnTo>
                    <a:pt x="1038" y="132"/>
                  </a:lnTo>
                  <a:lnTo>
                    <a:pt x="1061" y="137"/>
                  </a:lnTo>
                  <a:lnTo>
                    <a:pt x="1067" y="139"/>
                  </a:lnTo>
                  <a:lnTo>
                    <a:pt x="1069" y="139"/>
                  </a:lnTo>
                  <a:lnTo>
                    <a:pt x="1069" y="140"/>
                  </a:lnTo>
                  <a:lnTo>
                    <a:pt x="1069" y="141"/>
                  </a:lnTo>
                  <a:lnTo>
                    <a:pt x="1067" y="143"/>
                  </a:lnTo>
                  <a:lnTo>
                    <a:pt x="1066" y="143"/>
                  </a:lnTo>
                  <a:lnTo>
                    <a:pt x="1066" y="143"/>
                  </a:lnTo>
                  <a:lnTo>
                    <a:pt x="1066" y="143"/>
                  </a:lnTo>
                  <a:close/>
                  <a:moveTo>
                    <a:pt x="1014" y="132"/>
                  </a:moveTo>
                  <a:lnTo>
                    <a:pt x="990" y="126"/>
                  </a:lnTo>
                  <a:lnTo>
                    <a:pt x="986" y="125"/>
                  </a:lnTo>
                  <a:lnTo>
                    <a:pt x="983" y="125"/>
                  </a:lnTo>
                  <a:lnTo>
                    <a:pt x="983" y="124"/>
                  </a:lnTo>
                  <a:lnTo>
                    <a:pt x="983" y="124"/>
                  </a:lnTo>
                  <a:lnTo>
                    <a:pt x="983" y="122"/>
                  </a:lnTo>
                  <a:lnTo>
                    <a:pt x="984" y="121"/>
                  </a:lnTo>
                  <a:lnTo>
                    <a:pt x="984" y="121"/>
                  </a:lnTo>
                  <a:lnTo>
                    <a:pt x="986" y="121"/>
                  </a:lnTo>
                  <a:lnTo>
                    <a:pt x="991" y="122"/>
                  </a:lnTo>
                  <a:lnTo>
                    <a:pt x="1016" y="128"/>
                  </a:lnTo>
                  <a:lnTo>
                    <a:pt x="1017" y="128"/>
                  </a:lnTo>
                  <a:lnTo>
                    <a:pt x="1017" y="129"/>
                  </a:lnTo>
                  <a:lnTo>
                    <a:pt x="1017" y="130"/>
                  </a:lnTo>
                  <a:lnTo>
                    <a:pt x="1017" y="132"/>
                  </a:lnTo>
                  <a:lnTo>
                    <a:pt x="1016" y="132"/>
                  </a:lnTo>
                  <a:lnTo>
                    <a:pt x="1014" y="132"/>
                  </a:lnTo>
                  <a:lnTo>
                    <a:pt x="1014" y="132"/>
                  </a:lnTo>
                  <a:close/>
                  <a:moveTo>
                    <a:pt x="964" y="121"/>
                  </a:moveTo>
                  <a:lnTo>
                    <a:pt x="934" y="116"/>
                  </a:lnTo>
                  <a:lnTo>
                    <a:pt x="933" y="116"/>
                  </a:lnTo>
                  <a:lnTo>
                    <a:pt x="933" y="114"/>
                  </a:lnTo>
                  <a:lnTo>
                    <a:pt x="931" y="114"/>
                  </a:lnTo>
                  <a:lnTo>
                    <a:pt x="933" y="113"/>
                  </a:lnTo>
                  <a:lnTo>
                    <a:pt x="933" y="111"/>
                  </a:lnTo>
                  <a:lnTo>
                    <a:pt x="933" y="111"/>
                  </a:lnTo>
                  <a:lnTo>
                    <a:pt x="934" y="111"/>
                  </a:lnTo>
                  <a:lnTo>
                    <a:pt x="934" y="111"/>
                  </a:lnTo>
                  <a:lnTo>
                    <a:pt x="964" y="117"/>
                  </a:lnTo>
                  <a:lnTo>
                    <a:pt x="965" y="118"/>
                  </a:lnTo>
                  <a:lnTo>
                    <a:pt x="967" y="118"/>
                  </a:lnTo>
                  <a:lnTo>
                    <a:pt x="967" y="120"/>
                  </a:lnTo>
                  <a:lnTo>
                    <a:pt x="965" y="121"/>
                  </a:lnTo>
                  <a:lnTo>
                    <a:pt x="965" y="121"/>
                  </a:lnTo>
                  <a:lnTo>
                    <a:pt x="964" y="121"/>
                  </a:lnTo>
                  <a:lnTo>
                    <a:pt x="964" y="121"/>
                  </a:lnTo>
                  <a:close/>
                  <a:moveTo>
                    <a:pt x="912" y="111"/>
                  </a:moveTo>
                  <a:lnTo>
                    <a:pt x="882" y="106"/>
                  </a:lnTo>
                  <a:lnTo>
                    <a:pt x="881" y="106"/>
                  </a:lnTo>
                  <a:lnTo>
                    <a:pt x="881" y="105"/>
                  </a:lnTo>
                  <a:lnTo>
                    <a:pt x="881" y="105"/>
                  </a:lnTo>
                  <a:lnTo>
                    <a:pt x="881" y="103"/>
                  </a:lnTo>
                  <a:lnTo>
                    <a:pt x="881" y="102"/>
                  </a:lnTo>
                  <a:lnTo>
                    <a:pt x="881" y="102"/>
                  </a:lnTo>
                  <a:lnTo>
                    <a:pt x="882" y="102"/>
                  </a:lnTo>
                  <a:lnTo>
                    <a:pt x="884" y="102"/>
                  </a:lnTo>
                  <a:lnTo>
                    <a:pt x="914" y="107"/>
                  </a:lnTo>
                  <a:lnTo>
                    <a:pt x="914" y="107"/>
                  </a:lnTo>
                  <a:lnTo>
                    <a:pt x="915" y="107"/>
                  </a:lnTo>
                  <a:lnTo>
                    <a:pt x="915" y="110"/>
                  </a:lnTo>
                  <a:lnTo>
                    <a:pt x="914" y="111"/>
                  </a:lnTo>
                  <a:lnTo>
                    <a:pt x="914" y="111"/>
                  </a:lnTo>
                  <a:lnTo>
                    <a:pt x="912" y="111"/>
                  </a:lnTo>
                  <a:lnTo>
                    <a:pt x="912" y="111"/>
                  </a:lnTo>
                  <a:close/>
                  <a:moveTo>
                    <a:pt x="861" y="102"/>
                  </a:moveTo>
                  <a:lnTo>
                    <a:pt x="843" y="99"/>
                  </a:lnTo>
                  <a:lnTo>
                    <a:pt x="831" y="96"/>
                  </a:lnTo>
                  <a:lnTo>
                    <a:pt x="831" y="96"/>
                  </a:lnTo>
                  <a:lnTo>
                    <a:pt x="829" y="95"/>
                  </a:lnTo>
                  <a:lnTo>
                    <a:pt x="829" y="95"/>
                  </a:lnTo>
                  <a:lnTo>
                    <a:pt x="829" y="94"/>
                  </a:lnTo>
                  <a:lnTo>
                    <a:pt x="829" y="94"/>
                  </a:lnTo>
                  <a:lnTo>
                    <a:pt x="831" y="92"/>
                  </a:lnTo>
                  <a:lnTo>
                    <a:pt x="831" y="92"/>
                  </a:lnTo>
                  <a:lnTo>
                    <a:pt x="832" y="92"/>
                  </a:lnTo>
                  <a:lnTo>
                    <a:pt x="843" y="94"/>
                  </a:lnTo>
                  <a:lnTo>
                    <a:pt x="862" y="98"/>
                  </a:lnTo>
                  <a:lnTo>
                    <a:pt x="863" y="98"/>
                  </a:lnTo>
                  <a:lnTo>
                    <a:pt x="863" y="99"/>
                  </a:lnTo>
                  <a:lnTo>
                    <a:pt x="863" y="101"/>
                  </a:lnTo>
                  <a:lnTo>
                    <a:pt x="863" y="101"/>
                  </a:lnTo>
                  <a:lnTo>
                    <a:pt x="862" y="102"/>
                  </a:lnTo>
                  <a:lnTo>
                    <a:pt x="862" y="102"/>
                  </a:lnTo>
                  <a:lnTo>
                    <a:pt x="861" y="102"/>
                  </a:lnTo>
                  <a:lnTo>
                    <a:pt x="861" y="102"/>
                  </a:lnTo>
                  <a:close/>
                  <a:moveTo>
                    <a:pt x="810" y="94"/>
                  </a:moveTo>
                  <a:lnTo>
                    <a:pt x="779" y="88"/>
                  </a:lnTo>
                  <a:lnTo>
                    <a:pt x="778" y="87"/>
                  </a:lnTo>
                  <a:lnTo>
                    <a:pt x="778" y="86"/>
                  </a:lnTo>
                  <a:lnTo>
                    <a:pt x="779" y="84"/>
                  </a:lnTo>
                  <a:lnTo>
                    <a:pt x="780" y="84"/>
                  </a:lnTo>
                  <a:lnTo>
                    <a:pt x="810" y="88"/>
                  </a:lnTo>
                  <a:lnTo>
                    <a:pt x="812" y="90"/>
                  </a:lnTo>
                  <a:lnTo>
                    <a:pt x="812" y="90"/>
                  </a:lnTo>
                  <a:lnTo>
                    <a:pt x="812" y="91"/>
                  </a:lnTo>
                  <a:lnTo>
                    <a:pt x="812" y="92"/>
                  </a:lnTo>
                  <a:lnTo>
                    <a:pt x="810" y="94"/>
                  </a:lnTo>
                  <a:lnTo>
                    <a:pt x="810" y="94"/>
                  </a:lnTo>
                  <a:close/>
                  <a:moveTo>
                    <a:pt x="759" y="84"/>
                  </a:moveTo>
                  <a:lnTo>
                    <a:pt x="729" y="80"/>
                  </a:lnTo>
                  <a:lnTo>
                    <a:pt x="726" y="79"/>
                  </a:lnTo>
                  <a:lnTo>
                    <a:pt x="726" y="77"/>
                  </a:lnTo>
                  <a:lnTo>
                    <a:pt x="727" y="76"/>
                  </a:lnTo>
                  <a:lnTo>
                    <a:pt x="729" y="76"/>
                  </a:lnTo>
                  <a:lnTo>
                    <a:pt x="759" y="80"/>
                  </a:lnTo>
                  <a:lnTo>
                    <a:pt x="760" y="80"/>
                  </a:lnTo>
                  <a:lnTo>
                    <a:pt x="760" y="82"/>
                  </a:lnTo>
                  <a:lnTo>
                    <a:pt x="761" y="83"/>
                  </a:lnTo>
                  <a:lnTo>
                    <a:pt x="760" y="84"/>
                  </a:lnTo>
                  <a:lnTo>
                    <a:pt x="759" y="84"/>
                  </a:lnTo>
                  <a:lnTo>
                    <a:pt x="759" y="84"/>
                  </a:lnTo>
                  <a:close/>
                  <a:moveTo>
                    <a:pt x="707" y="76"/>
                  </a:moveTo>
                  <a:lnTo>
                    <a:pt x="687" y="73"/>
                  </a:lnTo>
                  <a:lnTo>
                    <a:pt x="677" y="72"/>
                  </a:lnTo>
                  <a:lnTo>
                    <a:pt x="674" y="71"/>
                  </a:lnTo>
                  <a:lnTo>
                    <a:pt x="674" y="71"/>
                  </a:lnTo>
                  <a:lnTo>
                    <a:pt x="674" y="69"/>
                  </a:lnTo>
                  <a:lnTo>
                    <a:pt x="674" y="68"/>
                  </a:lnTo>
                  <a:lnTo>
                    <a:pt x="676" y="68"/>
                  </a:lnTo>
                  <a:lnTo>
                    <a:pt x="676" y="68"/>
                  </a:lnTo>
                  <a:lnTo>
                    <a:pt x="677" y="68"/>
                  </a:lnTo>
                  <a:lnTo>
                    <a:pt x="688" y="69"/>
                  </a:lnTo>
                  <a:lnTo>
                    <a:pt x="707" y="72"/>
                  </a:lnTo>
                  <a:lnTo>
                    <a:pt x="708" y="73"/>
                  </a:lnTo>
                  <a:lnTo>
                    <a:pt x="710" y="75"/>
                  </a:lnTo>
                  <a:lnTo>
                    <a:pt x="708" y="76"/>
                  </a:lnTo>
                  <a:lnTo>
                    <a:pt x="707" y="76"/>
                  </a:lnTo>
                  <a:lnTo>
                    <a:pt x="707" y="76"/>
                  </a:lnTo>
                  <a:lnTo>
                    <a:pt x="707" y="76"/>
                  </a:lnTo>
                  <a:close/>
                  <a:moveTo>
                    <a:pt x="655" y="69"/>
                  </a:moveTo>
                  <a:lnTo>
                    <a:pt x="625" y="65"/>
                  </a:lnTo>
                  <a:lnTo>
                    <a:pt x="623" y="64"/>
                  </a:lnTo>
                  <a:lnTo>
                    <a:pt x="623" y="62"/>
                  </a:lnTo>
                  <a:lnTo>
                    <a:pt x="624" y="61"/>
                  </a:lnTo>
                  <a:lnTo>
                    <a:pt x="625" y="60"/>
                  </a:lnTo>
                  <a:lnTo>
                    <a:pt x="655" y="65"/>
                  </a:lnTo>
                  <a:lnTo>
                    <a:pt x="657" y="65"/>
                  </a:lnTo>
                  <a:lnTo>
                    <a:pt x="657" y="65"/>
                  </a:lnTo>
                  <a:lnTo>
                    <a:pt x="658" y="67"/>
                  </a:lnTo>
                  <a:lnTo>
                    <a:pt x="657" y="68"/>
                  </a:lnTo>
                  <a:lnTo>
                    <a:pt x="655" y="69"/>
                  </a:lnTo>
                  <a:lnTo>
                    <a:pt x="655" y="69"/>
                  </a:lnTo>
                  <a:close/>
                  <a:moveTo>
                    <a:pt x="604" y="61"/>
                  </a:moveTo>
                  <a:lnTo>
                    <a:pt x="574" y="57"/>
                  </a:lnTo>
                  <a:lnTo>
                    <a:pt x="572" y="57"/>
                  </a:lnTo>
                  <a:lnTo>
                    <a:pt x="571" y="57"/>
                  </a:lnTo>
                  <a:lnTo>
                    <a:pt x="571" y="56"/>
                  </a:lnTo>
                  <a:lnTo>
                    <a:pt x="572" y="54"/>
                  </a:lnTo>
                  <a:lnTo>
                    <a:pt x="572" y="53"/>
                  </a:lnTo>
                  <a:lnTo>
                    <a:pt x="574" y="53"/>
                  </a:lnTo>
                  <a:lnTo>
                    <a:pt x="604" y="57"/>
                  </a:lnTo>
                  <a:lnTo>
                    <a:pt x="605" y="58"/>
                  </a:lnTo>
                  <a:lnTo>
                    <a:pt x="606" y="60"/>
                  </a:lnTo>
                  <a:lnTo>
                    <a:pt x="605" y="61"/>
                  </a:lnTo>
                  <a:lnTo>
                    <a:pt x="604" y="61"/>
                  </a:lnTo>
                  <a:lnTo>
                    <a:pt x="604" y="61"/>
                  </a:lnTo>
                  <a:close/>
                  <a:moveTo>
                    <a:pt x="552" y="54"/>
                  </a:moveTo>
                  <a:lnTo>
                    <a:pt x="523" y="52"/>
                  </a:lnTo>
                  <a:lnTo>
                    <a:pt x="522" y="50"/>
                  </a:lnTo>
                  <a:lnTo>
                    <a:pt x="521" y="50"/>
                  </a:lnTo>
                  <a:lnTo>
                    <a:pt x="519" y="50"/>
                  </a:lnTo>
                  <a:lnTo>
                    <a:pt x="519" y="49"/>
                  </a:lnTo>
                  <a:lnTo>
                    <a:pt x="519" y="48"/>
                  </a:lnTo>
                  <a:lnTo>
                    <a:pt x="521" y="48"/>
                  </a:lnTo>
                  <a:lnTo>
                    <a:pt x="521" y="46"/>
                  </a:lnTo>
                  <a:lnTo>
                    <a:pt x="522" y="46"/>
                  </a:lnTo>
                  <a:lnTo>
                    <a:pt x="525" y="48"/>
                  </a:lnTo>
                  <a:lnTo>
                    <a:pt x="552" y="50"/>
                  </a:lnTo>
                  <a:lnTo>
                    <a:pt x="553" y="52"/>
                  </a:lnTo>
                  <a:lnTo>
                    <a:pt x="553" y="52"/>
                  </a:lnTo>
                  <a:lnTo>
                    <a:pt x="553" y="53"/>
                  </a:lnTo>
                  <a:lnTo>
                    <a:pt x="553" y="53"/>
                  </a:lnTo>
                  <a:lnTo>
                    <a:pt x="553" y="54"/>
                  </a:lnTo>
                  <a:lnTo>
                    <a:pt x="552" y="54"/>
                  </a:lnTo>
                  <a:lnTo>
                    <a:pt x="552" y="54"/>
                  </a:lnTo>
                  <a:close/>
                  <a:moveTo>
                    <a:pt x="500" y="49"/>
                  </a:moveTo>
                  <a:lnTo>
                    <a:pt x="469" y="45"/>
                  </a:lnTo>
                  <a:lnTo>
                    <a:pt x="469" y="45"/>
                  </a:lnTo>
                  <a:lnTo>
                    <a:pt x="468" y="43"/>
                  </a:lnTo>
                  <a:lnTo>
                    <a:pt x="468" y="43"/>
                  </a:lnTo>
                  <a:lnTo>
                    <a:pt x="468" y="42"/>
                  </a:lnTo>
                  <a:lnTo>
                    <a:pt x="468" y="41"/>
                  </a:lnTo>
                  <a:lnTo>
                    <a:pt x="469" y="41"/>
                  </a:lnTo>
                  <a:lnTo>
                    <a:pt x="470" y="41"/>
                  </a:lnTo>
                  <a:lnTo>
                    <a:pt x="500" y="43"/>
                  </a:lnTo>
                  <a:lnTo>
                    <a:pt x="502" y="45"/>
                  </a:lnTo>
                  <a:lnTo>
                    <a:pt x="502" y="45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48"/>
                  </a:lnTo>
                  <a:lnTo>
                    <a:pt x="500" y="49"/>
                  </a:lnTo>
                  <a:lnTo>
                    <a:pt x="500" y="49"/>
                  </a:lnTo>
                  <a:close/>
                  <a:moveTo>
                    <a:pt x="447" y="42"/>
                  </a:moveTo>
                  <a:lnTo>
                    <a:pt x="439" y="41"/>
                  </a:lnTo>
                  <a:lnTo>
                    <a:pt x="417" y="39"/>
                  </a:lnTo>
                  <a:lnTo>
                    <a:pt x="416" y="38"/>
                  </a:lnTo>
                  <a:lnTo>
                    <a:pt x="416" y="38"/>
                  </a:lnTo>
                  <a:lnTo>
                    <a:pt x="416" y="37"/>
                  </a:lnTo>
                  <a:lnTo>
                    <a:pt x="416" y="37"/>
                  </a:lnTo>
                  <a:lnTo>
                    <a:pt x="416" y="35"/>
                  </a:lnTo>
                  <a:lnTo>
                    <a:pt x="416" y="35"/>
                  </a:lnTo>
                  <a:lnTo>
                    <a:pt x="419" y="34"/>
                  </a:lnTo>
                  <a:lnTo>
                    <a:pt x="440" y="37"/>
                  </a:lnTo>
                  <a:lnTo>
                    <a:pt x="449" y="38"/>
                  </a:lnTo>
                  <a:lnTo>
                    <a:pt x="449" y="38"/>
                  </a:lnTo>
                  <a:lnTo>
                    <a:pt x="450" y="38"/>
                  </a:lnTo>
                  <a:lnTo>
                    <a:pt x="450" y="39"/>
                  </a:lnTo>
                  <a:lnTo>
                    <a:pt x="450" y="41"/>
                  </a:lnTo>
                  <a:lnTo>
                    <a:pt x="450" y="42"/>
                  </a:lnTo>
                  <a:lnTo>
                    <a:pt x="447" y="42"/>
                  </a:lnTo>
                  <a:lnTo>
                    <a:pt x="447" y="42"/>
                  </a:lnTo>
                  <a:close/>
                  <a:moveTo>
                    <a:pt x="396" y="37"/>
                  </a:moveTo>
                  <a:lnTo>
                    <a:pt x="366" y="34"/>
                  </a:lnTo>
                  <a:lnTo>
                    <a:pt x="364" y="33"/>
                  </a:lnTo>
                  <a:lnTo>
                    <a:pt x="364" y="31"/>
                  </a:lnTo>
                  <a:lnTo>
                    <a:pt x="364" y="30"/>
                  </a:lnTo>
                  <a:lnTo>
                    <a:pt x="364" y="30"/>
                  </a:lnTo>
                  <a:lnTo>
                    <a:pt x="366" y="28"/>
                  </a:lnTo>
                  <a:lnTo>
                    <a:pt x="366" y="28"/>
                  </a:lnTo>
                  <a:lnTo>
                    <a:pt x="397" y="33"/>
                  </a:lnTo>
                  <a:lnTo>
                    <a:pt x="398" y="33"/>
                  </a:lnTo>
                  <a:lnTo>
                    <a:pt x="398" y="34"/>
                  </a:lnTo>
                  <a:lnTo>
                    <a:pt x="398" y="35"/>
                  </a:lnTo>
                  <a:lnTo>
                    <a:pt x="397" y="35"/>
                  </a:lnTo>
                  <a:lnTo>
                    <a:pt x="397" y="37"/>
                  </a:lnTo>
                  <a:lnTo>
                    <a:pt x="396" y="37"/>
                  </a:lnTo>
                  <a:lnTo>
                    <a:pt x="396" y="37"/>
                  </a:lnTo>
                  <a:close/>
                  <a:moveTo>
                    <a:pt x="344" y="31"/>
                  </a:moveTo>
                  <a:lnTo>
                    <a:pt x="314" y="28"/>
                  </a:lnTo>
                  <a:lnTo>
                    <a:pt x="313" y="27"/>
                  </a:lnTo>
                  <a:lnTo>
                    <a:pt x="313" y="27"/>
                  </a:lnTo>
                  <a:lnTo>
                    <a:pt x="311" y="26"/>
                  </a:lnTo>
                  <a:lnTo>
                    <a:pt x="313" y="24"/>
                  </a:lnTo>
                  <a:lnTo>
                    <a:pt x="313" y="24"/>
                  </a:lnTo>
                  <a:lnTo>
                    <a:pt x="314" y="24"/>
                  </a:lnTo>
                  <a:lnTo>
                    <a:pt x="344" y="27"/>
                  </a:lnTo>
                  <a:lnTo>
                    <a:pt x="345" y="27"/>
                  </a:lnTo>
                  <a:lnTo>
                    <a:pt x="347" y="28"/>
                  </a:lnTo>
                  <a:lnTo>
                    <a:pt x="347" y="30"/>
                  </a:lnTo>
                  <a:lnTo>
                    <a:pt x="345" y="30"/>
                  </a:lnTo>
                  <a:lnTo>
                    <a:pt x="344" y="31"/>
                  </a:lnTo>
                  <a:lnTo>
                    <a:pt x="344" y="31"/>
                  </a:lnTo>
                  <a:close/>
                  <a:moveTo>
                    <a:pt x="292" y="26"/>
                  </a:moveTo>
                  <a:lnTo>
                    <a:pt x="266" y="23"/>
                  </a:lnTo>
                  <a:lnTo>
                    <a:pt x="262" y="23"/>
                  </a:lnTo>
                  <a:lnTo>
                    <a:pt x="261" y="23"/>
                  </a:lnTo>
                  <a:lnTo>
                    <a:pt x="260" y="23"/>
                  </a:lnTo>
                  <a:lnTo>
                    <a:pt x="260" y="22"/>
                  </a:lnTo>
                  <a:lnTo>
                    <a:pt x="260" y="20"/>
                  </a:lnTo>
                  <a:lnTo>
                    <a:pt x="261" y="19"/>
                  </a:lnTo>
                  <a:lnTo>
                    <a:pt x="262" y="19"/>
                  </a:lnTo>
                  <a:lnTo>
                    <a:pt x="266" y="19"/>
                  </a:lnTo>
                  <a:lnTo>
                    <a:pt x="292" y="22"/>
                  </a:lnTo>
                  <a:lnTo>
                    <a:pt x="294" y="22"/>
                  </a:lnTo>
                  <a:lnTo>
                    <a:pt x="294" y="23"/>
                  </a:lnTo>
                  <a:lnTo>
                    <a:pt x="295" y="23"/>
                  </a:lnTo>
                  <a:lnTo>
                    <a:pt x="295" y="24"/>
                  </a:lnTo>
                  <a:lnTo>
                    <a:pt x="294" y="24"/>
                  </a:lnTo>
                  <a:lnTo>
                    <a:pt x="294" y="26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2" y="26"/>
                  </a:lnTo>
                  <a:close/>
                  <a:moveTo>
                    <a:pt x="241" y="22"/>
                  </a:moveTo>
                  <a:lnTo>
                    <a:pt x="209" y="19"/>
                  </a:lnTo>
                  <a:lnTo>
                    <a:pt x="209" y="19"/>
                  </a:lnTo>
                  <a:lnTo>
                    <a:pt x="208" y="18"/>
                  </a:lnTo>
                  <a:lnTo>
                    <a:pt x="208" y="18"/>
                  </a:lnTo>
                  <a:lnTo>
                    <a:pt x="208" y="16"/>
                  </a:lnTo>
                  <a:lnTo>
                    <a:pt x="208" y="15"/>
                  </a:lnTo>
                  <a:lnTo>
                    <a:pt x="209" y="15"/>
                  </a:lnTo>
                  <a:lnTo>
                    <a:pt x="211" y="15"/>
                  </a:lnTo>
                  <a:lnTo>
                    <a:pt x="241" y="18"/>
                  </a:lnTo>
                  <a:lnTo>
                    <a:pt x="241" y="18"/>
                  </a:lnTo>
                  <a:lnTo>
                    <a:pt x="242" y="18"/>
                  </a:lnTo>
                  <a:lnTo>
                    <a:pt x="242" y="19"/>
                  </a:lnTo>
                  <a:lnTo>
                    <a:pt x="242" y="19"/>
                  </a:lnTo>
                  <a:lnTo>
                    <a:pt x="242" y="20"/>
                  </a:lnTo>
                  <a:lnTo>
                    <a:pt x="242" y="20"/>
                  </a:lnTo>
                  <a:lnTo>
                    <a:pt x="241" y="22"/>
                  </a:lnTo>
                  <a:lnTo>
                    <a:pt x="241" y="22"/>
                  </a:lnTo>
                  <a:lnTo>
                    <a:pt x="241" y="22"/>
                  </a:lnTo>
                  <a:close/>
                  <a:moveTo>
                    <a:pt x="188" y="18"/>
                  </a:moveTo>
                  <a:lnTo>
                    <a:pt x="178" y="16"/>
                  </a:lnTo>
                  <a:lnTo>
                    <a:pt x="158" y="15"/>
                  </a:lnTo>
                  <a:lnTo>
                    <a:pt x="156" y="15"/>
                  </a:lnTo>
                  <a:lnTo>
                    <a:pt x="156" y="14"/>
                  </a:lnTo>
                  <a:lnTo>
                    <a:pt x="156" y="14"/>
                  </a:lnTo>
                  <a:lnTo>
                    <a:pt x="156" y="12"/>
                  </a:lnTo>
                  <a:lnTo>
                    <a:pt x="156" y="11"/>
                  </a:lnTo>
                  <a:lnTo>
                    <a:pt x="156" y="11"/>
                  </a:lnTo>
                  <a:lnTo>
                    <a:pt x="158" y="11"/>
                  </a:lnTo>
                  <a:lnTo>
                    <a:pt x="158" y="11"/>
                  </a:lnTo>
                  <a:lnTo>
                    <a:pt x="178" y="12"/>
                  </a:lnTo>
                  <a:lnTo>
                    <a:pt x="189" y="12"/>
                  </a:lnTo>
                  <a:lnTo>
                    <a:pt x="189" y="12"/>
                  </a:lnTo>
                  <a:lnTo>
                    <a:pt x="190" y="14"/>
                  </a:lnTo>
                  <a:lnTo>
                    <a:pt x="190" y="14"/>
                  </a:lnTo>
                  <a:lnTo>
                    <a:pt x="190" y="15"/>
                  </a:lnTo>
                  <a:lnTo>
                    <a:pt x="190" y="16"/>
                  </a:lnTo>
                  <a:lnTo>
                    <a:pt x="190" y="16"/>
                  </a:lnTo>
                  <a:lnTo>
                    <a:pt x="189" y="16"/>
                  </a:lnTo>
                  <a:lnTo>
                    <a:pt x="188" y="18"/>
                  </a:lnTo>
                  <a:lnTo>
                    <a:pt x="188" y="18"/>
                  </a:lnTo>
                  <a:close/>
                  <a:moveTo>
                    <a:pt x="136" y="14"/>
                  </a:moveTo>
                  <a:lnTo>
                    <a:pt x="106" y="11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103" y="8"/>
                  </a:lnTo>
                  <a:lnTo>
                    <a:pt x="105" y="7"/>
                  </a:lnTo>
                  <a:lnTo>
                    <a:pt x="106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7" y="9"/>
                  </a:lnTo>
                  <a:lnTo>
                    <a:pt x="139" y="11"/>
                  </a:lnTo>
                  <a:lnTo>
                    <a:pt x="139" y="12"/>
                  </a:lnTo>
                  <a:lnTo>
                    <a:pt x="137" y="12"/>
                  </a:lnTo>
                  <a:lnTo>
                    <a:pt x="137" y="14"/>
                  </a:lnTo>
                  <a:lnTo>
                    <a:pt x="136" y="14"/>
                  </a:lnTo>
                  <a:lnTo>
                    <a:pt x="136" y="14"/>
                  </a:lnTo>
                  <a:close/>
                  <a:moveTo>
                    <a:pt x="84" y="9"/>
                  </a:moveTo>
                  <a:lnTo>
                    <a:pt x="54" y="8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4" y="3"/>
                  </a:lnTo>
                  <a:lnTo>
                    <a:pt x="84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7"/>
                  </a:lnTo>
                  <a:lnTo>
                    <a:pt x="87" y="8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84" y="9"/>
                  </a:lnTo>
                  <a:close/>
                  <a:moveTo>
                    <a:pt x="32" y="7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56480" y="1605960"/>
              <a:ext cx="73800" cy="630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36" y="1"/>
                  </a:moveTo>
                  <a:lnTo>
                    <a:pt x="40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3"/>
                  </a:lnTo>
                  <a:lnTo>
                    <a:pt x="57" y="5"/>
                  </a:lnTo>
                  <a:lnTo>
                    <a:pt x="63" y="9"/>
                  </a:lnTo>
                  <a:lnTo>
                    <a:pt x="68" y="15"/>
                  </a:lnTo>
                  <a:lnTo>
                    <a:pt x="72" y="22"/>
                  </a:lnTo>
                  <a:lnTo>
                    <a:pt x="74" y="24"/>
                  </a:lnTo>
                  <a:lnTo>
                    <a:pt x="75" y="28"/>
                  </a:lnTo>
                  <a:lnTo>
                    <a:pt x="75" y="31"/>
                  </a:lnTo>
                  <a:lnTo>
                    <a:pt x="76" y="35"/>
                  </a:lnTo>
                  <a:lnTo>
                    <a:pt x="76" y="39"/>
                  </a:lnTo>
                  <a:lnTo>
                    <a:pt x="75" y="43"/>
                  </a:lnTo>
                  <a:lnTo>
                    <a:pt x="75" y="47"/>
                  </a:lnTo>
                  <a:lnTo>
                    <a:pt x="74" y="50"/>
                  </a:lnTo>
                  <a:lnTo>
                    <a:pt x="71" y="57"/>
                  </a:lnTo>
                  <a:lnTo>
                    <a:pt x="67" y="62"/>
                  </a:lnTo>
                  <a:lnTo>
                    <a:pt x="61" y="68"/>
                  </a:lnTo>
                  <a:lnTo>
                    <a:pt x="55" y="72"/>
                  </a:lnTo>
                  <a:lnTo>
                    <a:pt x="48" y="75"/>
                  </a:lnTo>
                  <a:lnTo>
                    <a:pt x="45" y="75"/>
                  </a:lnTo>
                  <a:lnTo>
                    <a:pt x="41" y="76"/>
                  </a:lnTo>
                  <a:lnTo>
                    <a:pt x="41" y="76"/>
                  </a:lnTo>
                  <a:lnTo>
                    <a:pt x="37" y="76"/>
                  </a:lnTo>
                  <a:lnTo>
                    <a:pt x="33" y="76"/>
                  </a:lnTo>
                  <a:lnTo>
                    <a:pt x="30" y="75"/>
                  </a:lnTo>
                  <a:lnTo>
                    <a:pt x="26" y="73"/>
                  </a:lnTo>
                  <a:lnTo>
                    <a:pt x="19" y="71"/>
                  </a:lnTo>
                  <a:lnTo>
                    <a:pt x="14" y="66"/>
                  </a:lnTo>
                  <a:lnTo>
                    <a:pt x="8" y="61"/>
                  </a:lnTo>
                  <a:lnTo>
                    <a:pt x="4" y="56"/>
                  </a:lnTo>
                  <a:lnTo>
                    <a:pt x="3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7" y="3"/>
                  </a:lnTo>
                  <a:lnTo>
                    <a:pt x="32" y="1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5720" y="1415160"/>
              <a:ext cx="919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agine this will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080" y="1560600"/>
              <a:ext cx="83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ltimately be 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82600" y="1560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42080" y="1560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6080" y="1706040"/>
              <a:ext cx="867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proj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99160" y="1706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4280" y="1996560"/>
              <a:ext cx="1321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evolutionary iterativ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6080" y="21423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41480" y="2142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20320" y="214236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5360" y="2287800"/>
              <a:ext cx="114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quirements evolv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4640" y="2432880"/>
              <a:ext cx="121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ver a set of the earl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7160" y="257868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3880" y="2578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82360" y="2578680"/>
              <a:ext cx="56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hrough 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5000" y="2724120"/>
              <a:ext cx="1263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ries of requirement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6440" y="2869200"/>
              <a:ext cx="63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orkshop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46800" y="28692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92880" y="286920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7160" y="3015000"/>
              <a:ext cx="46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3920" y="30150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)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91000" y="30150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erhap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5000" y="3161880"/>
              <a:ext cx="1320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fter four iterations an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160" y="3307680"/>
              <a:ext cx="60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orksho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07200" y="3307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84960" y="3307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3000" y="330768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07520" y="33076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f th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6080" y="345276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quirements ar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000" y="359820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fined and refin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3960" y="3598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6080" y="3744000"/>
              <a:ext cx="71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verthel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56240" y="3744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5080" y="374400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nl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7520" y="388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5920" y="388908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9000" y="3889080"/>
              <a:ext cx="975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f the software i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7520" y="403452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il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7800" y="4034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4284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6092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6180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8024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8112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9956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0080" y="614520"/>
              <a:ext cx="31860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1852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19040" y="614520"/>
              <a:ext cx="32112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4036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40520" y="614520"/>
              <a:ext cx="31860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39520" y="6094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912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7844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9740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16720" y="614520"/>
              <a:ext cx="3207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3748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680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76120" y="614520"/>
              <a:ext cx="31860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9472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14040" y="614520"/>
              <a:ext cx="3207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3480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5412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7308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92400" y="614520"/>
              <a:ext cx="31860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1000" y="614520"/>
              <a:ext cx="32112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90920" y="6094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5280" y="744840"/>
              <a:ext cx="812160" cy="830520"/>
            </a:xfrm>
            <a:custGeom>
              <a:avLst/>
              <a:gdLst/>
              <a:ahLst/>
              <a:rect l="l" t="t" r="r" b="b"/>
              <a:pathLst>
                <a:path w="830" h="993">
                  <a:moveTo>
                    <a:pt x="12" y="3"/>
                  </a:moveTo>
                  <a:lnTo>
                    <a:pt x="71" y="74"/>
                  </a:lnTo>
                  <a:lnTo>
                    <a:pt x="71" y="75"/>
                  </a:lnTo>
                  <a:lnTo>
                    <a:pt x="72" y="78"/>
                  </a:lnTo>
                  <a:lnTo>
                    <a:pt x="71" y="80"/>
                  </a:lnTo>
                  <a:lnTo>
                    <a:pt x="70" y="82"/>
                  </a:lnTo>
                  <a:lnTo>
                    <a:pt x="67" y="83"/>
                  </a:lnTo>
                  <a:lnTo>
                    <a:pt x="64" y="83"/>
                  </a:lnTo>
                  <a:lnTo>
                    <a:pt x="63" y="83"/>
                  </a:lnTo>
                  <a:lnTo>
                    <a:pt x="60" y="82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3"/>
                  </a:lnTo>
                  <a:close/>
                  <a:moveTo>
                    <a:pt x="112" y="123"/>
                  </a:moveTo>
                  <a:lnTo>
                    <a:pt x="170" y="193"/>
                  </a:lnTo>
                  <a:lnTo>
                    <a:pt x="172" y="196"/>
                  </a:lnTo>
                  <a:lnTo>
                    <a:pt x="172" y="199"/>
                  </a:lnTo>
                  <a:lnTo>
                    <a:pt x="172" y="200"/>
                  </a:lnTo>
                  <a:lnTo>
                    <a:pt x="170" y="203"/>
                  </a:lnTo>
                  <a:lnTo>
                    <a:pt x="168" y="204"/>
                  </a:lnTo>
                  <a:lnTo>
                    <a:pt x="165" y="204"/>
                  </a:lnTo>
                  <a:lnTo>
                    <a:pt x="162" y="203"/>
                  </a:lnTo>
                  <a:lnTo>
                    <a:pt x="161" y="202"/>
                  </a:lnTo>
                  <a:lnTo>
                    <a:pt x="102" y="132"/>
                  </a:lnTo>
                  <a:lnTo>
                    <a:pt x="101" y="129"/>
                  </a:lnTo>
                  <a:lnTo>
                    <a:pt x="101" y="127"/>
                  </a:lnTo>
                  <a:lnTo>
                    <a:pt x="101" y="124"/>
                  </a:lnTo>
                  <a:lnTo>
                    <a:pt x="104" y="123"/>
                  </a:lnTo>
                  <a:lnTo>
                    <a:pt x="105" y="121"/>
                  </a:lnTo>
                  <a:lnTo>
                    <a:pt x="108" y="121"/>
                  </a:lnTo>
                  <a:lnTo>
                    <a:pt x="110" y="121"/>
                  </a:lnTo>
                  <a:lnTo>
                    <a:pt x="112" y="123"/>
                  </a:lnTo>
                  <a:lnTo>
                    <a:pt x="112" y="123"/>
                  </a:lnTo>
                  <a:close/>
                  <a:moveTo>
                    <a:pt x="212" y="244"/>
                  </a:moveTo>
                  <a:lnTo>
                    <a:pt x="271" y="314"/>
                  </a:lnTo>
                  <a:lnTo>
                    <a:pt x="272" y="316"/>
                  </a:lnTo>
                  <a:lnTo>
                    <a:pt x="272" y="319"/>
                  </a:lnTo>
                  <a:lnTo>
                    <a:pt x="272" y="321"/>
                  </a:lnTo>
                  <a:lnTo>
                    <a:pt x="270" y="323"/>
                  </a:lnTo>
                  <a:lnTo>
                    <a:pt x="268" y="324"/>
                  </a:lnTo>
                  <a:lnTo>
                    <a:pt x="265" y="324"/>
                  </a:lnTo>
                  <a:lnTo>
                    <a:pt x="263" y="324"/>
                  </a:lnTo>
                  <a:lnTo>
                    <a:pt x="261" y="323"/>
                  </a:lnTo>
                  <a:lnTo>
                    <a:pt x="203" y="252"/>
                  </a:lnTo>
                  <a:lnTo>
                    <a:pt x="202" y="249"/>
                  </a:lnTo>
                  <a:lnTo>
                    <a:pt x="202" y="248"/>
                  </a:lnTo>
                  <a:lnTo>
                    <a:pt x="202" y="245"/>
                  </a:lnTo>
                  <a:lnTo>
                    <a:pt x="203" y="242"/>
                  </a:lnTo>
                  <a:lnTo>
                    <a:pt x="206" y="241"/>
                  </a:lnTo>
                  <a:lnTo>
                    <a:pt x="208" y="241"/>
                  </a:lnTo>
                  <a:lnTo>
                    <a:pt x="211" y="242"/>
                  </a:lnTo>
                  <a:lnTo>
                    <a:pt x="212" y="244"/>
                  </a:lnTo>
                  <a:lnTo>
                    <a:pt x="212" y="244"/>
                  </a:lnTo>
                  <a:close/>
                  <a:moveTo>
                    <a:pt x="313" y="363"/>
                  </a:moveTo>
                  <a:lnTo>
                    <a:pt x="372" y="434"/>
                  </a:lnTo>
                  <a:lnTo>
                    <a:pt x="373" y="437"/>
                  </a:lnTo>
                  <a:lnTo>
                    <a:pt x="373" y="440"/>
                  </a:lnTo>
                  <a:lnTo>
                    <a:pt x="372" y="441"/>
                  </a:lnTo>
                  <a:lnTo>
                    <a:pt x="370" y="444"/>
                  </a:lnTo>
                  <a:lnTo>
                    <a:pt x="369" y="445"/>
                  </a:lnTo>
                  <a:lnTo>
                    <a:pt x="366" y="445"/>
                  </a:lnTo>
                  <a:lnTo>
                    <a:pt x="363" y="444"/>
                  </a:lnTo>
                  <a:lnTo>
                    <a:pt x="361" y="442"/>
                  </a:lnTo>
                  <a:lnTo>
                    <a:pt x="302" y="373"/>
                  </a:lnTo>
                  <a:lnTo>
                    <a:pt x="302" y="370"/>
                  </a:lnTo>
                  <a:lnTo>
                    <a:pt x="301" y="367"/>
                  </a:lnTo>
                  <a:lnTo>
                    <a:pt x="302" y="365"/>
                  </a:lnTo>
                  <a:lnTo>
                    <a:pt x="304" y="363"/>
                  </a:lnTo>
                  <a:lnTo>
                    <a:pt x="306" y="362"/>
                  </a:lnTo>
                  <a:lnTo>
                    <a:pt x="309" y="362"/>
                  </a:lnTo>
                  <a:lnTo>
                    <a:pt x="310" y="362"/>
                  </a:lnTo>
                  <a:lnTo>
                    <a:pt x="313" y="363"/>
                  </a:lnTo>
                  <a:lnTo>
                    <a:pt x="313" y="363"/>
                  </a:lnTo>
                  <a:close/>
                  <a:moveTo>
                    <a:pt x="414" y="484"/>
                  </a:moveTo>
                  <a:lnTo>
                    <a:pt x="472" y="555"/>
                  </a:lnTo>
                  <a:lnTo>
                    <a:pt x="472" y="557"/>
                  </a:lnTo>
                  <a:lnTo>
                    <a:pt x="474" y="559"/>
                  </a:lnTo>
                  <a:lnTo>
                    <a:pt x="472" y="562"/>
                  </a:lnTo>
                  <a:lnTo>
                    <a:pt x="471" y="563"/>
                  </a:lnTo>
                  <a:lnTo>
                    <a:pt x="468" y="565"/>
                  </a:lnTo>
                  <a:lnTo>
                    <a:pt x="465" y="565"/>
                  </a:lnTo>
                  <a:lnTo>
                    <a:pt x="464" y="565"/>
                  </a:lnTo>
                  <a:lnTo>
                    <a:pt x="461" y="563"/>
                  </a:lnTo>
                  <a:lnTo>
                    <a:pt x="403" y="493"/>
                  </a:lnTo>
                  <a:lnTo>
                    <a:pt x="401" y="490"/>
                  </a:lnTo>
                  <a:lnTo>
                    <a:pt x="401" y="489"/>
                  </a:lnTo>
                  <a:lnTo>
                    <a:pt x="403" y="486"/>
                  </a:lnTo>
                  <a:lnTo>
                    <a:pt x="404" y="483"/>
                  </a:lnTo>
                  <a:lnTo>
                    <a:pt x="406" y="482"/>
                  </a:lnTo>
                  <a:lnTo>
                    <a:pt x="408" y="482"/>
                  </a:lnTo>
                  <a:lnTo>
                    <a:pt x="411" y="483"/>
                  </a:lnTo>
                  <a:lnTo>
                    <a:pt x="414" y="484"/>
                  </a:lnTo>
                  <a:lnTo>
                    <a:pt x="414" y="484"/>
                  </a:lnTo>
                  <a:close/>
                  <a:moveTo>
                    <a:pt x="513" y="604"/>
                  </a:moveTo>
                  <a:lnTo>
                    <a:pt x="571" y="675"/>
                  </a:lnTo>
                  <a:lnTo>
                    <a:pt x="573" y="678"/>
                  </a:lnTo>
                  <a:lnTo>
                    <a:pt x="573" y="680"/>
                  </a:lnTo>
                  <a:lnTo>
                    <a:pt x="573" y="682"/>
                  </a:lnTo>
                  <a:lnTo>
                    <a:pt x="571" y="684"/>
                  </a:lnTo>
                  <a:lnTo>
                    <a:pt x="569" y="686"/>
                  </a:lnTo>
                  <a:lnTo>
                    <a:pt x="566" y="686"/>
                  </a:lnTo>
                  <a:lnTo>
                    <a:pt x="563" y="684"/>
                  </a:lnTo>
                  <a:lnTo>
                    <a:pt x="562" y="683"/>
                  </a:lnTo>
                  <a:lnTo>
                    <a:pt x="503" y="614"/>
                  </a:lnTo>
                  <a:lnTo>
                    <a:pt x="502" y="611"/>
                  </a:lnTo>
                  <a:lnTo>
                    <a:pt x="502" y="608"/>
                  </a:lnTo>
                  <a:lnTo>
                    <a:pt x="502" y="605"/>
                  </a:lnTo>
                  <a:lnTo>
                    <a:pt x="505" y="604"/>
                  </a:lnTo>
                  <a:lnTo>
                    <a:pt x="506" y="603"/>
                  </a:lnTo>
                  <a:lnTo>
                    <a:pt x="509" y="603"/>
                  </a:lnTo>
                  <a:lnTo>
                    <a:pt x="512" y="603"/>
                  </a:lnTo>
                  <a:lnTo>
                    <a:pt x="513" y="604"/>
                  </a:lnTo>
                  <a:lnTo>
                    <a:pt x="513" y="604"/>
                  </a:lnTo>
                  <a:close/>
                  <a:moveTo>
                    <a:pt x="614" y="725"/>
                  </a:moveTo>
                  <a:lnTo>
                    <a:pt x="672" y="796"/>
                  </a:lnTo>
                  <a:lnTo>
                    <a:pt x="673" y="797"/>
                  </a:lnTo>
                  <a:lnTo>
                    <a:pt x="673" y="800"/>
                  </a:lnTo>
                  <a:lnTo>
                    <a:pt x="673" y="803"/>
                  </a:lnTo>
                  <a:lnTo>
                    <a:pt x="671" y="804"/>
                  </a:lnTo>
                  <a:lnTo>
                    <a:pt x="669" y="805"/>
                  </a:lnTo>
                  <a:lnTo>
                    <a:pt x="667" y="805"/>
                  </a:lnTo>
                  <a:lnTo>
                    <a:pt x="664" y="805"/>
                  </a:lnTo>
                  <a:lnTo>
                    <a:pt x="663" y="804"/>
                  </a:lnTo>
                  <a:lnTo>
                    <a:pt x="604" y="733"/>
                  </a:lnTo>
                  <a:lnTo>
                    <a:pt x="603" y="731"/>
                  </a:lnTo>
                  <a:lnTo>
                    <a:pt x="603" y="729"/>
                  </a:lnTo>
                  <a:lnTo>
                    <a:pt x="603" y="727"/>
                  </a:lnTo>
                  <a:lnTo>
                    <a:pt x="604" y="724"/>
                  </a:lnTo>
                  <a:lnTo>
                    <a:pt x="607" y="722"/>
                  </a:lnTo>
                  <a:lnTo>
                    <a:pt x="610" y="722"/>
                  </a:lnTo>
                  <a:lnTo>
                    <a:pt x="612" y="724"/>
                  </a:lnTo>
                  <a:lnTo>
                    <a:pt x="614" y="725"/>
                  </a:lnTo>
                  <a:lnTo>
                    <a:pt x="614" y="725"/>
                  </a:lnTo>
                  <a:close/>
                  <a:moveTo>
                    <a:pt x="714" y="845"/>
                  </a:moveTo>
                  <a:lnTo>
                    <a:pt x="773" y="916"/>
                  </a:lnTo>
                  <a:lnTo>
                    <a:pt x="774" y="918"/>
                  </a:lnTo>
                  <a:lnTo>
                    <a:pt x="774" y="921"/>
                  </a:lnTo>
                  <a:lnTo>
                    <a:pt x="773" y="922"/>
                  </a:lnTo>
                  <a:lnTo>
                    <a:pt x="771" y="925"/>
                  </a:lnTo>
                  <a:lnTo>
                    <a:pt x="770" y="926"/>
                  </a:lnTo>
                  <a:lnTo>
                    <a:pt x="767" y="926"/>
                  </a:lnTo>
                  <a:lnTo>
                    <a:pt x="765" y="925"/>
                  </a:lnTo>
                  <a:lnTo>
                    <a:pt x="762" y="924"/>
                  </a:lnTo>
                  <a:lnTo>
                    <a:pt x="703" y="854"/>
                  </a:lnTo>
                  <a:lnTo>
                    <a:pt x="703" y="852"/>
                  </a:lnTo>
                  <a:lnTo>
                    <a:pt x="702" y="849"/>
                  </a:lnTo>
                  <a:lnTo>
                    <a:pt x="703" y="846"/>
                  </a:lnTo>
                  <a:lnTo>
                    <a:pt x="705" y="845"/>
                  </a:lnTo>
                  <a:lnTo>
                    <a:pt x="707" y="844"/>
                  </a:lnTo>
                  <a:lnTo>
                    <a:pt x="710" y="844"/>
                  </a:lnTo>
                  <a:lnTo>
                    <a:pt x="712" y="844"/>
                  </a:lnTo>
                  <a:lnTo>
                    <a:pt x="714" y="845"/>
                  </a:lnTo>
                  <a:lnTo>
                    <a:pt x="714" y="845"/>
                  </a:lnTo>
                  <a:close/>
                  <a:moveTo>
                    <a:pt x="815" y="966"/>
                  </a:moveTo>
                  <a:lnTo>
                    <a:pt x="829" y="982"/>
                  </a:lnTo>
                  <a:lnTo>
                    <a:pt x="829" y="985"/>
                  </a:lnTo>
                  <a:lnTo>
                    <a:pt x="830" y="986"/>
                  </a:lnTo>
                  <a:lnTo>
                    <a:pt x="829" y="989"/>
                  </a:lnTo>
                  <a:lnTo>
                    <a:pt x="827" y="992"/>
                  </a:lnTo>
                  <a:lnTo>
                    <a:pt x="824" y="993"/>
                  </a:lnTo>
                  <a:lnTo>
                    <a:pt x="822" y="993"/>
                  </a:lnTo>
                  <a:lnTo>
                    <a:pt x="820" y="992"/>
                  </a:lnTo>
                  <a:lnTo>
                    <a:pt x="818" y="990"/>
                  </a:lnTo>
                  <a:lnTo>
                    <a:pt x="804" y="974"/>
                  </a:lnTo>
                  <a:lnTo>
                    <a:pt x="803" y="971"/>
                  </a:lnTo>
                  <a:lnTo>
                    <a:pt x="803" y="970"/>
                  </a:lnTo>
                  <a:lnTo>
                    <a:pt x="804" y="967"/>
                  </a:lnTo>
                  <a:lnTo>
                    <a:pt x="805" y="965"/>
                  </a:lnTo>
                  <a:lnTo>
                    <a:pt x="807" y="963"/>
                  </a:lnTo>
                  <a:lnTo>
                    <a:pt x="809" y="963"/>
                  </a:lnTo>
                  <a:lnTo>
                    <a:pt x="812" y="965"/>
                  </a:lnTo>
                  <a:lnTo>
                    <a:pt x="815" y="966"/>
                  </a:lnTo>
                  <a:lnTo>
                    <a:pt x="815" y="96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32240" y="746640"/>
              <a:ext cx="5541840" cy="822240"/>
            </a:xfrm>
            <a:custGeom>
              <a:avLst/>
              <a:gdLst/>
              <a:ahLst/>
              <a:rect l="l" t="t" r="r" b="b"/>
              <a:pathLst>
                <a:path w="5662" h="984">
                  <a:moveTo>
                    <a:pt x="8" y="0"/>
                  </a:moveTo>
                  <a:lnTo>
                    <a:pt x="98" y="15"/>
                  </a:lnTo>
                  <a:lnTo>
                    <a:pt x="101" y="15"/>
                  </a:lnTo>
                  <a:lnTo>
                    <a:pt x="102" y="17"/>
                  </a:lnTo>
                  <a:lnTo>
                    <a:pt x="104" y="19"/>
                  </a:lnTo>
                  <a:lnTo>
                    <a:pt x="104" y="21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8" y="27"/>
                  </a:lnTo>
                  <a:lnTo>
                    <a:pt x="95" y="27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162" y="25"/>
                  </a:moveTo>
                  <a:lnTo>
                    <a:pt x="253" y="40"/>
                  </a:lnTo>
                  <a:lnTo>
                    <a:pt x="255" y="42"/>
                  </a:lnTo>
                  <a:lnTo>
                    <a:pt x="257" y="43"/>
                  </a:lnTo>
                  <a:lnTo>
                    <a:pt x="257" y="46"/>
                  </a:lnTo>
                  <a:lnTo>
                    <a:pt x="259" y="49"/>
                  </a:lnTo>
                  <a:lnTo>
                    <a:pt x="257" y="51"/>
                  </a:lnTo>
                  <a:lnTo>
                    <a:pt x="255" y="53"/>
                  </a:lnTo>
                  <a:lnTo>
                    <a:pt x="253" y="54"/>
                  </a:lnTo>
                  <a:lnTo>
                    <a:pt x="251" y="54"/>
                  </a:lnTo>
                  <a:lnTo>
                    <a:pt x="161" y="39"/>
                  </a:lnTo>
                  <a:lnTo>
                    <a:pt x="158" y="38"/>
                  </a:lnTo>
                  <a:lnTo>
                    <a:pt x="157" y="35"/>
                  </a:lnTo>
                  <a:lnTo>
                    <a:pt x="155" y="34"/>
                  </a:lnTo>
                  <a:lnTo>
                    <a:pt x="155" y="31"/>
                  </a:lnTo>
                  <a:lnTo>
                    <a:pt x="155" y="28"/>
                  </a:lnTo>
                  <a:lnTo>
                    <a:pt x="158" y="27"/>
                  </a:lnTo>
                  <a:lnTo>
                    <a:pt x="159" y="25"/>
                  </a:lnTo>
                  <a:lnTo>
                    <a:pt x="162" y="25"/>
                  </a:lnTo>
                  <a:lnTo>
                    <a:pt x="162" y="25"/>
                  </a:lnTo>
                  <a:close/>
                  <a:moveTo>
                    <a:pt x="317" y="53"/>
                  </a:moveTo>
                  <a:lnTo>
                    <a:pt x="407" y="68"/>
                  </a:lnTo>
                  <a:lnTo>
                    <a:pt x="410" y="69"/>
                  </a:lnTo>
                  <a:lnTo>
                    <a:pt x="411" y="70"/>
                  </a:lnTo>
                  <a:lnTo>
                    <a:pt x="412" y="73"/>
                  </a:lnTo>
                  <a:lnTo>
                    <a:pt x="412" y="76"/>
                  </a:lnTo>
                  <a:lnTo>
                    <a:pt x="411" y="77"/>
                  </a:lnTo>
                  <a:lnTo>
                    <a:pt x="410" y="80"/>
                  </a:lnTo>
                  <a:lnTo>
                    <a:pt x="407" y="80"/>
                  </a:lnTo>
                  <a:lnTo>
                    <a:pt x="406" y="80"/>
                  </a:lnTo>
                  <a:lnTo>
                    <a:pt x="314" y="65"/>
                  </a:lnTo>
                  <a:lnTo>
                    <a:pt x="312" y="64"/>
                  </a:lnTo>
                  <a:lnTo>
                    <a:pt x="310" y="62"/>
                  </a:lnTo>
                  <a:lnTo>
                    <a:pt x="309" y="59"/>
                  </a:lnTo>
                  <a:lnTo>
                    <a:pt x="309" y="58"/>
                  </a:lnTo>
                  <a:lnTo>
                    <a:pt x="310" y="55"/>
                  </a:lnTo>
                  <a:lnTo>
                    <a:pt x="312" y="53"/>
                  </a:lnTo>
                  <a:lnTo>
                    <a:pt x="314" y="53"/>
                  </a:lnTo>
                  <a:lnTo>
                    <a:pt x="317" y="53"/>
                  </a:lnTo>
                  <a:lnTo>
                    <a:pt x="317" y="53"/>
                  </a:lnTo>
                  <a:close/>
                  <a:moveTo>
                    <a:pt x="471" y="78"/>
                  </a:moveTo>
                  <a:lnTo>
                    <a:pt x="562" y="95"/>
                  </a:lnTo>
                  <a:lnTo>
                    <a:pt x="563" y="95"/>
                  </a:lnTo>
                  <a:lnTo>
                    <a:pt x="566" y="98"/>
                  </a:lnTo>
                  <a:lnTo>
                    <a:pt x="566" y="99"/>
                  </a:lnTo>
                  <a:lnTo>
                    <a:pt x="567" y="102"/>
                  </a:lnTo>
                  <a:lnTo>
                    <a:pt x="566" y="104"/>
                  </a:lnTo>
                  <a:lnTo>
                    <a:pt x="565" y="106"/>
                  </a:lnTo>
                  <a:lnTo>
                    <a:pt x="562" y="107"/>
                  </a:lnTo>
                  <a:lnTo>
                    <a:pt x="559" y="107"/>
                  </a:lnTo>
                  <a:lnTo>
                    <a:pt x="469" y="92"/>
                  </a:lnTo>
                  <a:lnTo>
                    <a:pt x="467" y="91"/>
                  </a:lnTo>
                  <a:lnTo>
                    <a:pt x="465" y="89"/>
                  </a:lnTo>
                  <a:lnTo>
                    <a:pt x="464" y="87"/>
                  </a:lnTo>
                  <a:lnTo>
                    <a:pt x="464" y="84"/>
                  </a:lnTo>
                  <a:lnTo>
                    <a:pt x="464" y="81"/>
                  </a:lnTo>
                  <a:lnTo>
                    <a:pt x="467" y="80"/>
                  </a:lnTo>
                  <a:lnTo>
                    <a:pt x="468" y="78"/>
                  </a:lnTo>
                  <a:lnTo>
                    <a:pt x="471" y="78"/>
                  </a:lnTo>
                  <a:lnTo>
                    <a:pt x="471" y="78"/>
                  </a:lnTo>
                  <a:close/>
                  <a:moveTo>
                    <a:pt x="626" y="106"/>
                  </a:moveTo>
                  <a:lnTo>
                    <a:pt x="716" y="121"/>
                  </a:lnTo>
                  <a:lnTo>
                    <a:pt x="718" y="122"/>
                  </a:lnTo>
                  <a:lnTo>
                    <a:pt x="720" y="123"/>
                  </a:lnTo>
                  <a:lnTo>
                    <a:pt x="721" y="126"/>
                  </a:lnTo>
                  <a:lnTo>
                    <a:pt x="721" y="129"/>
                  </a:lnTo>
                  <a:lnTo>
                    <a:pt x="720" y="130"/>
                  </a:lnTo>
                  <a:lnTo>
                    <a:pt x="718" y="133"/>
                  </a:lnTo>
                  <a:lnTo>
                    <a:pt x="716" y="133"/>
                  </a:lnTo>
                  <a:lnTo>
                    <a:pt x="714" y="134"/>
                  </a:lnTo>
                  <a:lnTo>
                    <a:pt x="623" y="118"/>
                  </a:lnTo>
                  <a:lnTo>
                    <a:pt x="620" y="117"/>
                  </a:lnTo>
                  <a:lnTo>
                    <a:pt x="619" y="115"/>
                  </a:lnTo>
                  <a:lnTo>
                    <a:pt x="618" y="112"/>
                  </a:lnTo>
                  <a:lnTo>
                    <a:pt x="618" y="111"/>
                  </a:lnTo>
                  <a:lnTo>
                    <a:pt x="619" y="108"/>
                  </a:lnTo>
                  <a:lnTo>
                    <a:pt x="620" y="106"/>
                  </a:lnTo>
                  <a:lnTo>
                    <a:pt x="623" y="106"/>
                  </a:lnTo>
                  <a:lnTo>
                    <a:pt x="626" y="106"/>
                  </a:lnTo>
                  <a:lnTo>
                    <a:pt x="626" y="106"/>
                  </a:lnTo>
                  <a:close/>
                  <a:moveTo>
                    <a:pt x="780" y="132"/>
                  </a:moveTo>
                  <a:lnTo>
                    <a:pt x="871" y="148"/>
                  </a:lnTo>
                  <a:lnTo>
                    <a:pt x="872" y="148"/>
                  </a:lnTo>
                  <a:lnTo>
                    <a:pt x="875" y="151"/>
                  </a:lnTo>
                  <a:lnTo>
                    <a:pt x="875" y="152"/>
                  </a:lnTo>
                  <a:lnTo>
                    <a:pt x="876" y="155"/>
                  </a:lnTo>
                  <a:lnTo>
                    <a:pt x="875" y="157"/>
                  </a:lnTo>
                  <a:lnTo>
                    <a:pt x="873" y="159"/>
                  </a:lnTo>
                  <a:lnTo>
                    <a:pt x="871" y="160"/>
                  </a:lnTo>
                  <a:lnTo>
                    <a:pt x="868" y="160"/>
                  </a:lnTo>
                  <a:lnTo>
                    <a:pt x="778" y="145"/>
                  </a:lnTo>
                  <a:lnTo>
                    <a:pt x="775" y="144"/>
                  </a:lnTo>
                  <a:lnTo>
                    <a:pt x="774" y="142"/>
                  </a:lnTo>
                  <a:lnTo>
                    <a:pt x="773" y="140"/>
                  </a:lnTo>
                  <a:lnTo>
                    <a:pt x="773" y="137"/>
                  </a:lnTo>
                  <a:lnTo>
                    <a:pt x="773" y="134"/>
                  </a:lnTo>
                  <a:lnTo>
                    <a:pt x="775" y="133"/>
                  </a:lnTo>
                  <a:lnTo>
                    <a:pt x="777" y="132"/>
                  </a:lnTo>
                  <a:lnTo>
                    <a:pt x="780" y="132"/>
                  </a:lnTo>
                  <a:lnTo>
                    <a:pt x="780" y="132"/>
                  </a:lnTo>
                  <a:close/>
                  <a:moveTo>
                    <a:pt x="935" y="159"/>
                  </a:moveTo>
                  <a:lnTo>
                    <a:pt x="1024" y="174"/>
                  </a:lnTo>
                  <a:lnTo>
                    <a:pt x="1027" y="175"/>
                  </a:lnTo>
                  <a:lnTo>
                    <a:pt x="1028" y="176"/>
                  </a:lnTo>
                  <a:lnTo>
                    <a:pt x="1030" y="179"/>
                  </a:lnTo>
                  <a:lnTo>
                    <a:pt x="1030" y="182"/>
                  </a:lnTo>
                  <a:lnTo>
                    <a:pt x="1028" y="183"/>
                  </a:lnTo>
                  <a:lnTo>
                    <a:pt x="1027" y="186"/>
                  </a:lnTo>
                  <a:lnTo>
                    <a:pt x="1024" y="186"/>
                  </a:lnTo>
                  <a:lnTo>
                    <a:pt x="1023" y="187"/>
                  </a:lnTo>
                  <a:lnTo>
                    <a:pt x="932" y="171"/>
                  </a:lnTo>
                  <a:lnTo>
                    <a:pt x="931" y="171"/>
                  </a:lnTo>
                  <a:lnTo>
                    <a:pt x="928" y="168"/>
                  </a:lnTo>
                  <a:lnTo>
                    <a:pt x="926" y="167"/>
                  </a:lnTo>
                  <a:lnTo>
                    <a:pt x="926" y="164"/>
                  </a:lnTo>
                  <a:lnTo>
                    <a:pt x="928" y="161"/>
                  </a:lnTo>
                  <a:lnTo>
                    <a:pt x="929" y="160"/>
                  </a:lnTo>
                  <a:lnTo>
                    <a:pt x="932" y="159"/>
                  </a:lnTo>
                  <a:lnTo>
                    <a:pt x="935" y="159"/>
                  </a:lnTo>
                  <a:lnTo>
                    <a:pt x="935" y="159"/>
                  </a:lnTo>
                  <a:close/>
                  <a:moveTo>
                    <a:pt x="1090" y="185"/>
                  </a:moveTo>
                  <a:lnTo>
                    <a:pt x="1179" y="201"/>
                  </a:lnTo>
                  <a:lnTo>
                    <a:pt x="1181" y="201"/>
                  </a:lnTo>
                  <a:lnTo>
                    <a:pt x="1184" y="204"/>
                  </a:lnTo>
                  <a:lnTo>
                    <a:pt x="1184" y="205"/>
                  </a:lnTo>
                  <a:lnTo>
                    <a:pt x="1185" y="208"/>
                  </a:lnTo>
                  <a:lnTo>
                    <a:pt x="1184" y="210"/>
                  </a:lnTo>
                  <a:lnTo>
                    <a:pt x="1182" y="212"/>
                  </a:lnTo>
                  <a:lnTo>
                    <a:pt x="1179" y="213"/>
                  </a:lnTo>
                  <a:lnTo>
                    <a:pt x="1177" y="213"/>
                  </a:lnTo>
                  <a:lnTo>
                    <a:pt x="1087" y="198"/>
                  </a:lnTo>
                  <a:lnTo>
                    <a:pt x="1084" y="197"/>
                  </a:lnTo>
                  <a:lnTo>
                    <a:pt x="1083" y="195"/>
                  </a:lnTo>
                  <a:lnTo>
                    <a:pt x="1082" y="193"/>
                  </a:lnTo>
                  <a:lnTo>
                    <a:pt x="1082" y="190"/>
                  </a:lnTo>
                  <a:lnTo>
                    <a:pt x="1083" y="187"/>
                  </a:lnTo>
                  <a:lnTo>
                    <a:pt x="1084" y="186"/>
                  </a:lnTo>
                  <a:lnTo>
                    <a:pt x="1087" y="185"/>
                  </a:lnTo>
                  <a:lnTo>
                    <a:pt x="1090" y="185"/>
                  </a:lnTo>
                  <a:lnTo>
                    <a:pt x="1090" y="185"/>
                  </a:lnTo>
                  <a:close/>
                  <a:moveTo>
                    <a:pt x="1243" y="212"/>
                  </a:moveTo>
                  <a:lnTo>
                    <a:pt x="1333" y="227"/>
                  </a:lnTo>
                  <a:lnTo>
                    <a:pt x="1336" y="228"/>
                  </a:lnTo>
                  <a:lnTo>
                    <a:pt x="1337" y="229"/>
                  </a:lnTo>
                  <a:lnTo>
                    <a:pt x="1339" y="232"/>
                  </a:lnTo>
                  <a:lnTo>
                    <a:pt x="1339" y="235"/>
                  </a:lnTo>
                  <a:lnTo>
                    <a:pt x="1337" y="236"/>
                  </a:lnTo>
                  <a:lnTo>
                    <a:pt x="1336" y="239"/>
                  </a:lnTo>
                  <a:lnTo>
                    <a:pt x="1334" y="240"/>
                  </a:lnTo>
                  <a:lnTo>
                    <a:pt x="1332" y="240"/>
                  </a:lnTo>
                  <a:lnTo>
                    <a:pt x="1241" y="224"/>
                  </a:lnTo>
                  <a:lnTo>
                    <a:pt x="1239" y="224"/>
                  </a:lnTo>
                  <a:lnTo>
                    <a:pt x="1237" y="221"/>
                  </a:lnTo>
                  <a:lnTo>
                    <a:pt x="1237" y="220"/>
                  </a:lnTo>
                  <a:lnTo>
                    <a:pt x="1237" y="217"/>
                  </a:lnTo>
                  <a:lnTo>
                    <a:pt x="1237" y="215"/>
                  </a:lnTo>
                  <a:lnTo>
                    <a:pt x="1238" y="213"/>
                  </a:lnTo>
                  <a:lnTo>
                    <a:pt x="1241" y="212"/>
                  </a:lnTo>
                  <a:lnTo>
                    <a:pt x="1243" y="212"/>
                  </a:lnTo>
                  <a:lnTo>
                    <a:pt x="1243" y="212"/>
                  </a:lnTo>
                  <a:close/>
                  <a:moveTo>
                    <a:pt x="1398" y="238"/>
                  </a:moveTo>
                  <a:lnTo>
                    <a:pt x="1488" y="254"/>
                  </a:lnTo>
                  <a:lnTo>
                    <a:pt x="1490" y="254"/>
                  </a:lnTo>
                  <a:lnTo>
                    <a:pt x="1492" y="257"/>
                  </a:lnTo>
                  <a:lnTo>
                    <a:pt x="1494" y="258"/>
                  </a:lnTo>
                  <a:lnTo>
                    <a:pt x="1494" y="261"/>
                  </a:lnTo>
                  <a:lnTo>
                    <a:pt x="1492" y="263"/>
                  </a:lnTo>
                  <a:lnTo>
                    <a:pt x="1491" y="265"/>
                  </a:lnTo>
                  <a:lnTo>
                    <a:pt x="1488" y="266"/>
                  </a:lnTo>
                  <a:lnTo>
                    <a:pt x="1485" y="266"/>
                  </a:lnTo>
                  <a:lnTo>
                    <a:pt x="1396" y="251"/>
                  </a:lnTo>
                  <a:lnTo>
                    <a:pt x="1393" y="250"/>
                  </a:lnTo>
                  <a:lnTo>
                    <a:pt x="1392" y="249"/>
                  </a:lnTo>
                  <a:lnTo>
                    <a:pt x="1390" y="246"/>
                  </a:lnTo>
                  <a:lnTo>
                    <a:pt x="1390" y="243"/>
                  </a:lnTo>
                  <a:lnTo>
                    <a:pt x="1392" y="242"/>
                  </a:lnTo>
                  <a:lnTo>
                    <a:pt x="1393" y="239"/>
                  </a:lnTo>
                  <a:lnTo>
                    <a:pt x="1396" y="238"/>
                  </a:lnTo>
                  <a:lnTo>
                    <a:pt x="1398" y="238"/>
                  </a:lnTo>
                  <a:lnTo>
                    <a:pt x="1398" y="238"/>
                  </a:lnTo>
                  <a:close/>
                  <a:moveTo>
                    <a:pt x="1552" y="265"/>
                  </a:moveTo>
                  <a:lnTo>
                    <a:pt x="1642" y="280"/>
                  </a:lnTo>
                  <a:lnTo>
                    <a:pt x="1645" y="281"/>
                  </a:lnTo>
                  <a:lnTo>
                    <a:pt x="1646" y="283"/>
                  </a:lnTo>
                  <a:lnTo>
                    <a:pt x="1647" y="285"/>
                  </a:lnTo>
                  <a:lnTo>
                    <a:pt x="1647" y="288"/>
                  </a:lnTo>
                  <a:lnTo>
                    <a:pt x="1647" y="291"/>
                  </a:lnTo>
                  <a:lnTo>
                    <a:pt x="1645" y="292"/>
                  </a:lnTo>
                  <a:lnTo>
                    <a:pt x="1643" y="293"/>
                  </a:lnTo>
                  <a:lnTo>
                    <a:pt x="1640" y="293"/>
                  </a:lnTo>
                  <a:lnTo>
                    <a:pt x="1551" y="277"/>
                  </a:lnTo>
                  <a:lnTo>
                    <a:pt x="1548" y="277"/>
                  </a:lnTo>
                  <a:lnTo>
                    <a:pt x="1545" y="274"/>
                  </a:lnTo>
                  <a:lnTo>
                    <a:pt x="1545" y="273"/>
                  </a:lnTo>
                  <a:lnTo>
                    <a:pt x="1545" y="270"/>
                  </a:lnTo>
                  <a:lnTo>
                    <a:pt x="1545" y="268"/>
                  </a:lnTo>
                  <a:lnTo>
                    <a:pt x="1548" y="266"/>
                  </a:lnTo>
                  <a:lnTo>
                    <a:pt x="1549" y="265"/>
                  </a:lnTo>
                  <a:lnTo>
                    <a:pt x="1552" y="265"/>
                  </a:lnTo>
                  <a:lnTo>
                    <a:pt x="1552" y="265"/>
                  </a:lnTo>
                  <a:close/>
                  <a:moveTo>
                    <a:pt x="1707" y="292"/>
                  </a:moveTo>
                  <a:lnTo>
                    <a:pt x="1797" y="307"/>
                  </a:lnTo>
                  <a:lnTo>
                    <a:pt x="1800" y="307"/>
                  </a:lnTo>
                  <a:lnTo>
                    <a:pt x="1801" y="310"/>
                  </a:lnTo>
                  <a:lnTo>
                    <a:pt x="1802" y="312"/>
                  </a:lnTo>
                  <a:lnTo>
                    <a:pt x="1802" y="315"/>
                  </a:lnTo>
                  <a:lnTo>
                    <a:pt x="1801" y="317"/>
                  </a:lnTo>
                  <a:lnTo>
                    <a:pt x="1800" y="319"/>
                  </a:lnTo>
                  <a:lnTo>
                    <a:pt x="1797" y="319"/>
                  </a:lnTo>
                  <a:lnTo>
                    <a:pt x="1794" y="319"/>
                  </a:lnTo>
                  <a:lnTo>
                    <a:pt x="1704" y="304"/>
                  </a:lnTo>
                  <a:lnTo>
                    <a:pt x="1702" y="303"/>
                  </a:lnTo>
                  <a:lnTo>
                    <a:pt x="1700" y="302"/>
                  </a:lnTo>
                  <a:lnTo>
                    <a:pt x="1699" y="299"/>
                  </a:lnTo>
                  <a:lnTo>
                    <a:pt x="1699" y="296"/>
                  </a:lnTo>
                  <a:lnTo>
                    <a:pt x="1700" y="295"/>
                  </a:lnTo>
                  <a:lnTo>
                    <a:pt x="1702" y="292"/>
                  </a:lnTo>
                  <a:lnTo>
                    <a:pt x="1704" y="292"/>
                  </a:lnTo>
                  <a:lnTo>
                    <a:pt x="1707" y="292"/>
                  </a:lnTo>
                  <a:lnTo>
                    <a:pt x="1707" y="292"/>
                  </a:lnTo>
                  <a:close/>
                  <a:moveTo>
                    <a:pt x="1861" y="318"/>
                  </a:moveTo>
                  <a:lnTo>
                    <a:pt x="1951" y="334"/>
                  </a:lnTo>
                  <a:lnTo>
                    <a:pt x="1953" y="334"/>
                  </a:lnTo>
                  <a:lnTo>
                    <a:pt x="1955" y="336"/>
                  </a:lnTo>
                  <a:lnTo>
                    <a:pt x="1956" y="338"/>
                  </a:lnTo>
                  <a:lnTo>
                    <a:pt x="1956" y="341"/>
                  </a:lnTo>
                  <a:lnTo>
                    <a:pt x="1956" y="344"/>
                  </a:lnTo>
                  <a:lnTo>
                    <a:pt x="1953" y="345"/>
                  </a:lnTo>
                  <a:lnTo>
                    <a:pt x="1952" y="346"/>
                  </a:lnTo>
                  <a:lnTo>
                    <a:pt x="1949" y="346"/>
                  </a:lnTo>
                  <a:lnTo>
                    <a:pt x="1859" y="331"/>
                  </a:lnTo>
                  <a:lnTo>
                    <a:pt x="1857" y="330"/>
                  </a:lnTo>
                  <a:lnTo>
                    <a:pt x="1854" y="329"/>
                  </a:lnTo>
                  <a:lnTo>
                    <a:pt x="1854" y="326"/>
                  </a:lnTo>
                  <a:lnTo>
                    <a:pt x="1854" y="323"/>
                  </a:lnTo>
                  <a:lnTo>
                    <a:pt x="1854" y="321"/>
                  </a:lnTo>
                  <a:lnTo>
                    <a:pt x="1857" y="319"/>
                  </a:lnTo>
                  <a:lnTo>
                    <a:pt x="1858" y="318"/>
                  </a:lnTo>
                  <a:lnTo>
                    <a:pt x="1861" y="318"/>
                  </a:lnTo>
                  <a:lnTo>
                    <a:pt x="1861" y="318"/>
                  </a:lnTo>
                  <a:close/>
                  <a:moveTo>
                    <a:pt x="2016" y="345"/>
                  </a:moveTo>
                  <a:lnTo>
                    <a:pt x="2106" y="360"/>
                  </a:lnTo>
                  <a:lnTo>
                    <a:pt x="2108" y="361"/>
                  </a:lnTo>
                  <a:lnTo>
                    <a:pt x="2110" y="363"/>
                  </a:lnTo>
                  <a:lnTo>
                    <a:pt x="2111" y="365"/>
                  </a:lnTo>
                  <a:lnTo>
                    <a:pt x="2111" y="368"/>
                  </a:lnTo>
                  <a:lnTo>
                    <a:pt x="2110" y="370"/>
                  </a:lnTo>
                  <a:lnTo>
                    <a:pt x="2108" y="372"/>
                  </a:lnTo>
                  <a:lnTo>
                    <a:pt x="2106" y="372"/>
                  </a:lnTo>
                  <a:lnTo>
                    <a:pt x="2103" y="374"/>
                  </a:lnTo>
                  <a:lnTo>
                    <a:pt x="2013" y="357"/>
                  </a:lnTo>
                  <a:lnTo>
                    <a:pt x="2010" y="356"/>
                  </a:lnTo>
                  <a:lnTo>
                    <a:pt x="2009" y="355"/>
                  </a:lnTo>
                  <a:lnTo>
                    <a:pt x="2008" y="352"/>
                  </a:lnTo>
                  <a:lnTo>
                    <a:pt x="2008" y="351"/>
                  </a:lnTo>
                  <a:lnTo>
                    <a:pt x="2009" y="348"/>
                  </a:lnTo>
                  <a:lnTo>
                    <a:pt x="2010" y="345"/>
                  </a:lnTo>
                  <a:lnTo>
                    <a:pt x="2013" y="345"/>
                  </a:lnTo>
                  <a:lnTo>
                    <a:pt x="2016" y="345"/>
                  </a:lnTo>
                  <a:lnTo>
                    <a:pt x="2016" y="345"/>
                  </a:lnTo>
                  <a:close/>
                  <a:moveTo>
                    <a:pt x="2170" y="371"/>
                  </a:moveTo>
                  <a:lnTo>
                    <a:pt x="2259" y="387"/>
                  </a:lnTo>
                  <a:lnTo>
                    <a:pt x="2262" y="387"/>
                  </a:lnTo>
                  <a:lnTo>
                    <a:pt x="2263" y="390"/>
                  </a:lnTo>
                  <a:lnTo>
                    <a:pt x="2265" y="391"/>
                  </a:lnTo>
                  <a:lnTo>
                    <a:pt x="2265" y="394"/>
                  </a:lnTo>
                  <a:lnTo>
                    <a:pt x="2265" y="397"/>
                  </a:lnTo>
                  <a:lnTo>
                    <a:pt x="2262" y="398"/>
                  </a:lnTo>
                  <a:lnTo>
                    <a:pt x="2261" y="399"/>
                  </a:lnTo>
                  <a:lnTo>
                    <a:pt x="2258" y="399"/>
                  </a:lnTo>
                  <a:lnTo>
                    <a:pt x="2168" y="385"/>
                  </a:lnTo>
                  <a:lnTo>
                    <a:pt x="2165" y="383"/>
                  </a:lnTo>
                  <a:lnTo>
                    <a:pt x="2163" y="382"/>
                  </a:lnTo>
                  <a:lnTo>
                    <a:pt x="2163" y="379"/>
                  </a:lnTo>
                  <a:lnTo>
                    <a:pt x="2163" y="376"/>
                  </a:lnTo>
                  <a:lnTo>
                    <a:pt x="2163" y="374"/>
                  </a:lnTo>
                  <a:lnTo>
                    <a:pt x="2165" y="372"/>
                  </a:lnTo>
                  <a:lnTo>
                    <a:pt x="2167" y="371"/>
                  </a:lnTo>
                  <a:lnTo>
                    <a:pt x="2170" y="371"/>
                  </a:lnTo>
                  <a:lnTo>
                    <a:pt x="2170" y="371"/>
                  </a:lnTo>
                  <a:close/>
                  <a:moveTo>
                    <a:pt x="2325" y="398"/>
                  </a:moveTo>
                  <a:lnTo>
                    <a:pt x="2414" y="413"/>
                  </a:lnTo>
                  <a:lnTo>
                    <a:pt x="2417" y="414"/>
                  </a:lnTo>
                  <a:lnTo>
                    <a:pt x="2418" y="416"/>
                  </a:lnTo>
                  <a:lnTo>
                    <a:pt x="2420" y="419"/>
                  </a:lnTo>
                  <a:lnTo>
                    <a:pt x="2420" y="421"/>
                  </a:lnTo>
                  <a:lnTo>
                    <a:pt x="2418" y="423"/>
                  </a:lnTo>
                  <a:lnTo>
                    <a:pt x="2417" y="425"/>
                  </a:lnTo>
                  <a:lnTo>
                    <a:pt x="2414" y="425"/>
                  </a:lnTo>
                  <a:lnTo>
                    <a:pt x="2412" y="427"/>
                  </a:lnTo>
                  <a:lnTo>
                    <a:pt x="2322" y="410"/>
                  </a:lnTo>
                  <a:lnTo>
                    <a:pt x="2319" y="409"/>
                  </a:lnTo>
                  <a:lnTo>
                    <a:pt x="2318" y="408"/>
                  </a:lnTo>
                  <a:lnTo>
                    <a:pt x="2316" y="406"/>
                  </a:lnTo>
                  <a:lnTo>
                    <a:pt x="2316" y="404"/>
                  </a:lnTo>
                  <a:lnTo>
                    <a:pt x="2318" y="401"/>
                  </a:lnTo>
                  <a:lnTo>
                    <a:pt x="2319" y="399"/>
                  </a:lnTo>
                  <a:lnTo>
                    <a:pt x="2322" y="398"/>
                  </a:lnTo>
                  <a:lnTo>
                    <a:pt x="2325" y="398"/>
                  </a:lnTo>
                  <a:lnTo>
                    <a:pt x="2325" y="398"/>
                  </a:lnTo>
                  <a:close/>
                  <a:moveTo>
                    <a:pt x="2478" y="424"/>
                  </a:moveTo>
                  <a:lnTo>
                    <a:pt x="2569" y="440"/>
                  </a:lnTo>
                  <a:lnTo>
                    <a:pt x="2571" y="440"/>
                  </a:lnTo>
                  <a:lnTo>
                    <a:pt x="2573" y="443"/>
                  </a:lnTo>
                  <a:lnTo>
                    <a:pt x="2573" y="444"/>
                  </a:lnTo>
                  <a:lnTo>
                    <a:pt x="2573" y="447"/>
                  </a:lnTo>
                  <a:lnTo>
                    <a:pt x="2573" y="450"/>
                  </a:lnTo>
                  <a:lnTo>
                    <a:pt x="2571" y="451"/>
                  </a:lnTo>
                  <a:lnTo>
                    <a:pt x="2569" y="453"/>
                  </a:lnTo>
                  <a:lnTo>
                    <a:pt x="2567" y="453"/>
                  </a:lnTo>
                  <a:lnTo>
                    <a:pt x="2477" y="438"/>
                  </a:lnTo>
                  <a:lnTo>
                    <a:pt x="2474" y="436"/>
                  </a:lnTo>
                  <a:lnTo>
                    <a:pt x="2473" y="435"/>
                  </a:lnTo>
                  <a:lnTo>
                    <a:pt x="2471" y="432"/>
                  </a:lnTo>
                  <a:lnTo>
                    <a:pt x="2471" y="429"/>
                  </a:lnTo>
                  <a:lnTo>
                    <a:pt x="2471" y="427"/>
                  </a:lnTo>
                  <a:lnTo>
                    <a:pt x="2474" y="425"/>
                  </a:lnTo>
                  <a:lnTo>
                    <a:pt x="2476" y="424"/>
                  </a:lnTo>
                  <a:lnTo>
                    <a:pt x="2478" y="424"/>
                  </a:lnTo>
                  <a:lnTo>
                    <a:pt x="2478" y="424"/>
                  </a:lnTo>
                  <a:close/>
                  <a:moveTo>
                    <a:pt x="2633" y="451"/>
                  </a:moveTo>
                  <a:lnTo>
                    <a:pt x="2723" y="466"/>
                  </a:lnTo>
                  <a:lnTo>
                    <a:pt x="2726" y="467"/>
                  </a:lnTo>
                  <a:lnTo>
                    <a:pt x="2727" y="469"/>
                  </a:lnTo>
                  <a:lnTo>
                    <a:pt x="2728" y="472"/>
                  </a:lnTo>
                  <a:lnTo>
                    <a:pt x="2728" y="474"/>
                  </a:lnTo>
                  <a:lnTo>
                    <a:pt x="2727" y="476"/>
                  </a:lnTo>
                  <a:lnTo>
                    <a:pt x="2726" y="478"/>
                  </a:lnTo>
                  <a:lnTo>
                    <a:pt x="2723" y="480"/>
                  </a:lnTo>
                  <a:lnTo>
                    <a:pt x="2720" y="480"/>
                  </a:lnTo>
                  <a:lnTo>
                    <a:pt x="2631" y="463"/>
                  </a:lnTo>
                  <a:lnTo>
                    <a:pt x="2628" y="463"/>
                  </a:lnTo>
                  <a:lnTo>
                    <a:pt x="2626" y="461"/>
                  </a:lnTo>
                  <a:lnTo>
                    <a:pt x="2625" y="459"/>
                  </a:lnTo>
                  <a:lnTo>
                    <a:pt x="2625" y="457"/>
                  </a:lnTo>
                  <a:lnTo>
                    <a:pt x="2626" y="454"/>
                  </a:lnTo>
                  <a:lnTo>
                    <a:pt x="2628" y="453"/>
                  </a:lnTo>
                  <a:lnTo>
                    <a:pt x="2631" y="451"/>
                  </a:lnTo>
                  <a:lnTo>
                    <a:pt x="2633" y="451"/>
                  </a:lnTo>
                  <a:lnTo>
                    <a:pt x="2633" y="451"/>
                  </a:lnTo>
                  <a:close/>
                  <a:moveTo>
                    <a:pt x="2787" y="477"/>
                  </a:moveTo>
                  <a:lnTo>
                    <a:pt x="2878" y="493"/>
                  </a:lnTo>
                  <a:lnTo>
                    <a:pt x="2879" y="493"/>
                  </a:lnTo>
                  <a:lnTo>
                    <a:pt x="2882" y="496"/>
                  </a:lnTo>
                  <a:lnTo>
                    <a:pt x="2882" y="497"/>
                  </a:lnTo>
                  <a:lnTo>
                    <a:pt x="2884" y="500"/>
                  </a:lnTo>
                  <a:lnTo>
                    <a:pt x="2882" y="503"/>
                  </a:lnTo>
                  <a:lnTo>
                    <a:pt x="2879" y="504"/>
                  </a:lnTo>
                  <a:lnTo>
                    <a:pt x="2878" y="506"/>
                  </a:lnTo>
                  <a:lnTo>
                    <a:pt x="2875" y="506"/>
                  </a:lnTo>
                  <a:lnTo>
                    <a:pt x="2786" y="491"/>
                  </a:lnTo>
                  <a:lnTo>
                    <a:pt x="2783" y="489"/>
                  </a:lnTo>
                  <a:lnTo>
                    <a:pt x="2782" y="488"/>
                  </a:lnTo>
                  <a:lnTo>
                    <a:pt x="2780" y="485"/>
                  </a:lnTo>
                  <a:lnTo>
                    <a:pt x="2780" y="482"/>
                  </a:lnTo>
                  <a:lnTo>
                    <a:pt x="2780" y="480"/>
                  </a:lnTo>
                  <a:lnTo>
                    <a:pt x="2783" y="478"/>
                  </a:lnTo>
                  <a:lnTo>
                    <a:pt x="2784" y="477"/>
                  </a:lnTo>
                  <a:lnTo>
                    <a:pt x="2787" y="477"/>
                  </a:lnTo>
                  <a:lnTo>
                    <a:pt x="2787" y="477"/>
                  </a:lnTo>
                  <a:close/>
                  <a:moveTo>
                    <a:pt x="2942" y="504"/>
                  </a:moveTo>
                  <a:lnTo>
                    <a:pt x="3032" y="519"/>
                  </a:lnTo>
                  <a:lnTo>
                    <a:pt x="3034" y="521"/>
                  </a:lnTo>
                  <a:lnTo>
                    <a:pt x="3036" y="522"/>
                  </a:lnTo>
                  <a:lnTo>
                    <a:pt x="3037" y="525"/>
                  </a:lnTo>
                  <a:lnTo>
                    <a:pt x="3037" y="527"/>
                  </a:lnTo>
                  <a:lnTo>
                    <a:pt x="3036" y="530"/>
                  </a:lnTo>
                  <a:lnTo>
                    <a:pt x="3034" y="531"/>
                  </a:lnTo>
                  <a:lnTo>
                    <a:pt x="3032" y="533"/>
                  </a:lnTo>
                  <a:lnTo>
                    <a:pt x="3029" y="533"/>
                  </a:lnTo>
                  <a:lnTo>
                    <a:pt x="2939" y="516"/>
                  </a:lnTo>
                  <a:lnTo>
                    <a:pt x="2937" y="516"/>
                  </a:lnTo>
                  <a:lnTo>
                    <a:pt x="2935" y="514"/>
                  </a:lnTo>
                  <a:lnTo>
                    <a:pt x="2934" y="512"/>
                  </a:lnTo>
                  <a:lnTo>
                    <a:pt x="2934" y="510"/>
                  </a:lnTo>
                  <a:lnTo>
                    <a:pt x="2935" y="507"/>
                  </a:lnTo>
                  <a:lnTo>
                    <a:pt x="2937" y="506"/>
                  </a:lnTo>
                  <a:lnTo>
                    <a:pt x="2939" y="504"/>
                  </a:lnTo>
                  <a:lnTo>
                    <a:pt x="2942" y="504"/>
                  </a:lnTo>
                  <a:lnTo>
                    <a:pt x="2942" y="504"/>
                  </a:lnTo>
                  <a:close/>
                  <a:moveTo>
                    <a:pt x="3096" y="531"/>
                  </a:moveTo>
                  <a:lnTo>
                    <a:pt x="3187" y="546"/>
                  </a:lnTo>
                  <a:lnTo>
                    <a:pt x="3188" y="546"/>
                  </a:lnTo>
                  <a:lnTo>
                    <a:pt x="3191" y="549"/>
                  </a:lnTo>
                  <a:lnTo>
                    <a:pt x="3191" y="550"/>
                  </a:lnTo>
                  <a:lnTo>
                    <a:pt x="3192" y="553"/>
                  </a:lnTo>
                  <a:lnTo>
                    <a:pt x="3191" y="556"/>
                  </a:lnTo>
                  <a:lnTo>
                    <a:pt x="3190" y="557"/>
                  </a:lnTo>
                  <a:lnTo>
                    <a:pt x="3187" y="559"/>
                  </a:lnTo>
                  <a:lnTo>
                    <a:pt x="3184" y="559"/>
                  </a:lnTo>
                  <a:lnTo>
                    <a:pt x="3094" y="544"/>
                  </a:lnTo>
                  <a:lnTo>
                    <a:pt x="3092" y="542"/>
                  </a:lnTo>
                  <a:lnTo>
                    <a:pt x="3090" y="541"/>
                  </a:lnTo>
                  <a:lnTo>
                    <a:pt x="3089" y="538"/>
                  </a:lnTo>
                  <a:lnTo>
                    <a:pt x="3089" y="535"/>
                  </a:lnTo>
                  <a:lnTo>
                    <a:pt x="3089" y="534"/>
                  </a:lnTo>
                  <a:lnTo>
                    <a:pt x="3092" y="531"/>
                  </a:lnTo>
                  <a:lnTo>
                    <a:pt x="3093" y="531"/>
                  </a:lnTo>
                  <a:lnTo>
                    <a:pt x="3096" y="531"/>
                  </a:lnTo>
                  <a:lnTo>
                    <a:pt x="3096" y="531"/>
                  </a:lnTo>
                  <a:close/>
                  <a:moveTo>
                    <a:pt x="3251" y="557"/>
                  </a:moveTo>
                  <a:lnTo>
                    <a:pt x="3341" y="572"/>
                  </a:lnTo>
                  <a:lnTo>
                    <a:pt x="3343" y="574"/>
                  </a:lnTo>
                  <a:lnTo>
                    <a:pt x="3345" y="575"/>
                  </a:lnTo>
                  <a:lnTo>
                    <a:pt x="3346" y="578"/>
                  </a:lnTo>
                  <a:lnTo>
                    <a:pt x="3346" y="580"/>
                  </a:lnTo>
                  <a:lnTo>
                    <a:pt x="3345" y="583"/>
                  </a:lnTo>
                  <a:lnTo>
                    <a:pt x="3343" y="584"/>
                  </a:lnTo>
                  <a:lnTo>
                    <a:pt x="3341" y="586"/>
                  </a:lnTo>
                  <a:lnTo>
                    <a:pt x="3339" y="586"/>
                  </a:lnTo>
                  <a:lnTo>
                    <a:pt x="3248" y="571"/>
                  </a:lnTo>
                  <a:lnTo>
                    <a:pt x="3245" y="569"/>
                  </a:lnTo>
                  <a:lnTo>
                    <a:pt x="3244" y="568"/>
                  </a:lnTo>
                  <a:lnTo>
                    <a:pt x="3243" y="565"/>
                  </a:lnTo>
                  <a:lnTo>
                    <a:pt x="3243" y="563"/>
                  </a:lnTo>
                  <a:lnTo>
                    <a:pt x="3244" y="560"/>
                  </a:lnTo>
                  <a:lnTo>
                    <a:pt x="3245" y="559"/>
                  </a:lnTo>
                  <a:lnTo>
                    <a:pt x="3248" y="557"/>
                  </a:lnTo>
                  <a:lnTo>
                    <a:pt x="3251" y="557"/>
                  </a:lnTo>
                  <a:lnTo>
                    <a:pt x="3251" y="557"/>
                  </a:lnTo>
                  <a:close/>
                  <a:moveTo>
                    <a:pt x="3404" y="584"/>
                  </a:moveTo>
                  <a:lnTo>
                    <a:pt x="3496" y="599"/>
                  </a:lnTo>
                  <a:lnTo>
                    <a:pt x="3497" y="601"/>
                  </a:lnTo>
                  <a:lnTo>
                    <a:pt x="3500" y="602"/>
                  </a:lnTo>
                  <a:lnTo>
                    <a:pt x="3500" y="605"/>
                  </a:lnTo>
                  <a:lnTo>
                    <a:pt x="3501" y="608"/>
                  </a:lnTo>
                  <a:lnTo>
                    <a:pt x="3500" y="609"/>
                  </a:lnTo>
                  <a:lnTo>
                    <a:pt x="3498" y="612"/>
                  </a:lnTo>
                  <a:lnTo>
                    <a:pt x="3496" y="612"/>
                  </a:lnTo>
                  <a:lnTo>
                    <a:pt x="3493" y="613"/>
                  </a:lnTo>
                  <a:lnTo>
                    <a:pt x="3403" y="597"/>
                  </a:lnTo>
                  <a:lnTo>
                    <a:pt x="3400" y="595"/>
                  </a:lnTo>
                  <a:lnTo>
                    <a:pt x="3399" y="594"/>
                  </a:lnTo>
                  <a:lnTo>
                    <a:pt x="3398" y="591"/>
                  </a:lnTo>
                  <a:lnTo>
                    <a:pt x="3398" y="590"/>
                  </a:lnTo>
                  <a:lnTo>
                    <a:pt x="3398" y="587"/>
                  </a:lnTo>
                  <a:lnTo>
                    <a:pt x="3400" y="584"/>
                  </a:lnTo>
                  <a:lnTo>
                    <a:pt x="3402" y="584"/>
                  </a:lnTo>
                  <a:lnTo>
                    <a:pt x="3404" y="584"/>
                  </a:lnTo>
                  <a:lnTo>
                    <a:pt x="3404" y="584"/>
                  </a:lnTo>
                  <a:close/>
                  <a:moveTo>
                    <a:pt x="3559" y="610"/>
                  </a:moveTo>
                  <a:lnTo>
                    <a:pt x="3649" y="627"/>
                  </a:lnTo>
                  <a:lnTo>
                    <a:pt x="3652" y="627"/>
                  </a:lnTo>
                  <a:lnTo>
                    <a:pt x="3653" y="629"/>
                  </a:lnTo>
                  <a:lnTo>
                    <a:pt x="3655" y="631"/>
                  </a:lnTo>
                  <a:lnTo>
                    <a:pt x="3655" y="633"/>
                  </a:lnTo>
                  <a:lnTo>
                    <a:pt x="3653" y="636"/>
                  </a:lnTo>
                  <a:lnTo>
                    <a:pt x="3652" y="637"/>
                  </a:lnTo>
                  <a:lnTo>
                    <a:pt x="3649" y="639"/>
                  </a:lnTo>
                  <a:lnTo>
                    <a:pt x="3648" y="639"/>
                  </a:lnTo>
                  <a:lnTo>
                    <a:pt x="3557" y="624"/>
                  </a:lnTo>
                  <a:lnTo>
                    <a:pt x="3555" y="623"/>
                  </a:lnTo>
                  <a:lnTo>
                    <a:pt x="3553" y="621"/>
                  </a:lnTo>
                  <a:lnTo>
                    <a:pt x="3551" y="618"/>
                  </a:lnTo>
                  <a:lnTo>
                    <a:pt x="3551" y="616"/>
                  </a:lnTo>
                  <a:lnTo>
                    <a:pt x="3553" y="613"/>
                  </a:lnTo>
                  <a:lnTo>
                    <a:pt x="3554" y="612"/>
                  </a:lnTo>
                  <a:lnTo>
                    <a:pt x="3557" y="610"/>
                  </a:lnTo>
                  <a:lnTo>
                    <a:pt x="3559" y="610"/>
                  </a:lnTo>
                  <a:lnTo>
                    <a:pt x="3559" y="610"/>
                  </a:lnTo>
                  <a:close/>
                  <a:moveTo>
                    <a:pt x="3715" y="637"/>
                  </a:moveTo>
                  <a:lnTo>
                    <a:pt x="3804" y="652"/>
                  </a:lnTo>
                  <a:lnTo>
                    <a:pt x="3806" y="654"/>
                  </a:lnTo>
                  <a:lnTo>
                    <a:pt x="3808" y="655"/>
                  </a:lnTo>
                  <a:lnTo>
                    <a:pt x="3808" y="658"/>
                  </a:lnTo>
                  <a:lnTo>
                    <a:pt x="3810" y="661"/>
                  </a:lnTo>
                  <a:lnTo>
                    <a:pt x="3808" y="662"/>
                  </a:lnTo>
                  <a:lnTo>
                    <a:pt x="3807" y="665"/>
                  </a:lnTo>
                  <a:lnTo>
                    <a:pt x="3804" y="665"/>
                  </a:lnTo>
                  <a:lnTo>
                    <a:pt x="3802" y="666"/>
                  </a:lnTo>
                  <a:lnTo>
                    <a:pt x="3712" y="650"/>
                  </a:lnTo>
                  <a:lnTo>
                    <a:pt x="3709" y="648"/>
                  </a:lnTo>
                  <a:lnTo>
                    <a:pt x="3708" y="647"/>
                  </a:lnTo>
                  <a:lnTo>
                    <a:pt x="3706" y="646"/>
                  </a:lnTo>
                  <a:lnTo>
                    <a:pt x="3706" y="643"/>
                  </a:lnTo>
                  <a:lnTo>
                    <a:pt x="3708" y="640"/>
                  </a:lnTo>
                  <a:lnTo>
                    <a:pt x="3709" y="637"/>
                  </a:lnTo>
                  <a:lnTo>
                    <a:pt x="3712" y="637"/>
                  </a:lnTo>
                  <a:lnTo>
                    <a:pt x="3715" y="637"/>
                  </a:lnTo>
                  <a:lnTo>
                    <a:pt x="3715" y="637"/>
                  </a:lnTo>
                  <a:close/>
                  <a:moveTo>
                    <a:pt x="3868" y="663"/>
                  </a:moveTo>
                  <a:lnTo>
                    <a:pt x="3958" y="680"/>
                  </a:lnTo>
                  <a:lnTo>
                    <a:pt x="3961" y="680"/>
                  </a:lnTo>
                  <a:lnTo>
                    <a:pt x="3962" y="682"/>
                  </a:lnTo>
                  <a:lnTo>
                    <a:pt x="3963" y="684"/>
                  </a:lnTo>
                  <a:lnTo>
                    <a:pt x="3963" y="686"/>
                  </a:lnTo>
                  <a:lnTo>
                    <a:pt x="3962" y="689"/>
                  </a:lnTo>
                  <a:lnTo>
                    <a:pt x="3961" y="691"/>
                  </a:lnTo>
                  <a:lnTo>
                    <a:pt x="3959" y="692"/>
                  </a:lnTo>
                  <a:lnTo>
                    <a:pt x="3957" y="692"/>
                  </a:lnTo>
                  <a:lnTo>
                    <a:pt x="3865" y="677"/>
                  </a:lnTo>
                  <a:lnTo>
                    <a:pt x="3864" y="676"/>
                  </a:lnTo>
                  <a:lnTo>
                    <a:pt x="3861" y="674"/>
                  </a:lnTo>
                  <a:lnTo>
                    <a:pt x="3861" y="671"/>
                  </a:lnTo>
                  <a:lnTo>
                    <a:pt x="3861" y="669"/>
                  </a:lnTo>
                  <a:lnTo>
                    <a:pt x="3861" y="666"/>
                  </a:lnTo>
                  <a:lnTo>
                    <a:pt x="3863" y="665"/>
                  </a:lnTo>
                  <a:lnTo>
                    <a:pt x="3865" y="663"/>
                  </a:lnTo>
                  <a:lnTo>
                    <a:pt x="3868" y="663"/>
                  </a:lnTo>
                  <a:lnTo>
                    <a:pt x="3868" y="663"/>
                  </a:lnTo>
                  <a:close/>
                  <a:moveTo>
                    <a:pt x="4023" y="691"/>
                  </a:moveTo>
                  <a:lnTo>
                    <a:pt x="4113" y="705"/>
                  </a:lnTo>
                  <a:lnTo>
                    <a:pt x="4114" y="707"/>
                  </a:lnTo>
                  <a:lnTo>
                    <a:pt x="4117" y="708"/>
                  </a:lnTo>
                  <a:lnTo>
                    <a:pt x="4117" y="711"/>
                  </a:lnTo>
                  <a:lnTo>
                    <a:pt x="4118" y="714"/>
                  </a:lnTo>
                  <a:lnTo>
                    <a:pt x="4117" y="715"/>
                  </a:lnTo>
                  <a:lnTo>
                    <a:pt x="4116" y="718"/>
                  </a:lnTo>
                  <a:lnTo>
                    <a:pt x="4113" y="718"/>
                  </a:lnTo>
                  <a:lnTo>
                    <a:pt x="4110" y="719"/>
                  </a:lnTo>
                  <a:lnTo>
                    <a:pt x="4021" y="703"/>
                  </a:lnTo>
                  <a:lnTo>
                    <a:pt x="4018" y="703"/>
                  </a:lnTo>
                  <a:lnTo>
                    <a:pt x="4016" y="700"/>
                  </a:lnTo>
                  <a:lnTo>
                    <a:pt x="4015" y="699"/>
                  </a:lnTo>
                  <a:lnTo>
                    <a:pt x="4015" y="696"/>
                  </a:lnTo>
                  <a:lnTo>
                    <a:pt x="4016" y="693"/>
                  </a:lnTo>
                  <a:lnTo>
                    <a:pt x="4018" y="692"/>
                  </a:lnTo>
                  <a:lnTo>
                    <a:pt x="4021" y="691"/>
                  </a:lnTo>
                  <a:lnTo>
                    <a:pt x="4023" y="691"/>
                  </a:lnTo>
                  <a:lnTo>
                    <a:pt x="4023" y="691"/>
                  </a:lnTo>
                  <a:close/>
                  <a:moveTo>
                    <a:pt x="4177" y="716"/>
                  </a:moveTo>
                  <a:lnTo>
                    <a:pt x="4267" y="733"/>
                  </a:lnTo>
                  <a:lnTo>
                    <a:pt x="4269" y="733"/>
                  </a:lnTo>
                  <a:lnTo>
                    <a:pt x="4271" y="735"/>
                  </a:lnTo>
                  <a:lnTo>
                    <a:pt x="4272" y="737"/>
                  </a:lnTo>
                  <a:lnTo>
                    <a:pt x="4272" y="739"/>
                  </a:lnTo>
                  <a:lnTo>
                    <a:pt x="4272" y="742"/>
                  </a:lnTo>
                  <a:lnTo>
                    <a:pt x="4269" y="744"/>
                  </a:lnTo>
                  <a:lnTo>
                    <a:pt x="4268" y="745"/>
                  </a:lnTo>
                  <a:lnTo>
                    <a:pt x="4265" y="745"/>
                  </a:lnTo>
                  <a:lnTo>
                    <a:pt x="4176" y="730"/>
                  </a:lnTo>
                  <a:lnTo>
                    <a:pt x="4173" y="729"/>
                  </a:lnTo>
                  <a:lnTo>
                    <a:pt x="4170" y="727"/>
                  </a:lnTo>
                  <a:lnTo>
                    <a:pt x="4170" y="725"/>
                  </a:lnTo>
                  <a:lnTo>
                    <a:pt x="4170" y="722"/>
                  </a:lnTo>
                  <a:lnTo>
                    <a:pt x="4170" y="719"/>
                  </a:lnTo>
                  <a:lnTo>
                    <a:pt x="4173" y="718"/>
                  </a:lnTo>
                  <a:lnTo>
                    <a:pt x="4174" y="716"/>
                  </a:lnTo>
                  <a:lnTo>
                    <a:pt x="4177" y="716"/>
                  </a:lnTo>
                  <a:lnTo>
                    <a:pt x="4177" y="716"/>
                  </a:lnTo>
                  <a:close/>
                  <a:moveTo>
                    <a:pt x="4332" y="744"/>
                  </a:moveTo>
                  <a:lnTo>
                    <a:pt x="4422" y="759"/>
                  </a:lnTo>
                  <a:lnTo>
                    <a:pt x="4424" y="760"/>
                  </a:lnTo>
                  <a:lnTo>
                    <a:pt x="4426" y="761"/>
                  </a:lnTo>
                  <a:lnTo>
                    <a:pt x="4427" y="764"/>
                  </a:lnTo>
                  <a:lnTo>
                    <a:pt x="4427" y="767"/>
                  </a:lnTo>
                  <a:lnTo>
                    <a:pt x="4426" y="769"/>
                  </a:lnTo>
                  <a:lnTo>
                    <a:pt x="4424" y="771"/>
                  </a:lnTo>
                  <a:lnTo>
                    <a:pt x="4422" y="772"/>
                  </a:lnTo>
                  <a:lnTo>
                    <a:pt x="4419" y="772"/>
                  </a:lnTo>
                  <a:lnTo>
                    <a:pt x="4329" y="756"/>
                  </a:lnTo>
                  <a:lnTo>
                    <a:pt x="4327" y="756"/>
                  </a:lnTo>
                  <a:lnTo>
                    <a:pt x="4325" y="753"/>
                  </a:lnTo>
                  <a:lnTo>
                    <a:pt x="4324" y="752"/>
                  </a:lnTo>
                  <a:lnTo>
                    <a:pt x="4324" y="749"/>
                  </a:lnTo>
                  <a:lnTo>
                    <a:pt x="4325" y="746"/>
                  </a:lnTo>
                  <a:lnTo>
                    <a:pt x="4327" y="745"/>
                  </a:lnTo>
                  <a:lnTo>
                    <a:pt x="4329" y="744"/>
                  </a:lnTo>
                  <a:lnTo>
                    <a:pt x="4332" y="744"/>
                  </a:lnTo>
                  <a:lnTo>
                    <a:pt x="4332" y="744"/>
                  </a:lnTo>
                  <a:close/>
                  <a:moveTo>
                    <a:pt x="4486" y="771"/>
                  </a:moveTo>
                  <a:lnTo>
                    <a:pt x="4575" y="786"/>
                  </a:lnTo>
                  <a:lnTo>
                    <a:pt x="4578" y="786"/>
                  </a:lnTo>
                  <a:lnTo>
                    <a:pt x="4579" y="788"/>
                  </a:lnTo>
                  <a:lnTo>
                    <a:pt x="4581" y="790"/>
                  </a:lnTo>
                  <a:lnTo>
                    <a:pt x="4581" y="793"/>
                  </a:lnTo>
                  <a:lnTo>
                    <a:pt x="4581" y="795"/>
                  </a:lnTo>
                  <a:lnTo>
                    <a:pt x="4578" y="797"/>
                  </a:lnTo>
                  <a:lnTo>
                    <a:pt x="4577" y="798"/>
                  </a:lnTo>
                  <a:lnTo>
                    <a:pt x="4574" y="798"/>
                  </a:lnTo>
                  <a:lnTo>
                    <a:pt x="4484" y="783"/>
                  </a:lnTo>
                  <a:lnTo>
                    <a:pt x="4482" y="782"/>
                  </a:lnTo>
                  <a:lnTo>
                    <a:pt x="4479" y="780"/>
                  </a:lnTo>
                  <a:lnTo>
                    <a:pt x="4479" y="778"/>
                  </a:lnTo>
                  <a:lnTo>
                    <a:pt x="4479" y="775"/>
                  </a:lnTo>
                  <a:lnTo>
                    <a:pt x="4479" y="774"/>
                  </a:lnTo>
                  <a:lnTo>
                    <a:pt x="4482" y="771"/>
                  </a:lnTo>
                  <a:lnTo>
                    <a:pt x="4483" y="771"/>
                  </a:lnTo>
                  <a:lnTo>
                    <a:pt x="4486" y="771"/>
                  </a:lnTo>
                  <a:lnTo>
                    <a:pt x="4486" y="771"/>
                  </a:lnTo>
                  <a:close/>
                  <a:moveTo>
                    <a:pt x="4641" y="797"/>
                  </a:moveTo>
                  <a:lnTo>
                    <a:pt x="4730" y="812"/>
                  </a:lnTo>
                  <a:lnTo>
                    <a:pt x="4733" y="813"/>
                  </a:lnTo>
                  <a:lnTo>
                    <a:pt x="4735" y="814"/>
                  </a:lnTo>
                  <a:lnTo>
                    <a:pt x="4736" y="817"/>
                  </a:lnTo>
                  <a:lnTo>
                    <a:pt x="4736" y="820"/>
                  </a:lnTo>
                  <a:lnTo>
                    <a:pt x="4735" y="822"/>
                  </a:lnTo>
                  <a:lnTo>
                    <a:pt x="4733" y="824"/>
                  </a:lnTo>
                  <a:lnTo>
                    <a:pt x="4730" y="825"/>
                  </a:lnTo>
                  <a:lnTo>
                    <a:pt x="4728" y="825"/>
                  </a:lnTo>
                  <a:lnTo>
                    <a:pt x="4638" y="810"/>
                  </a:lnTo>
                  <a:lnTo>
                    <a:pt x="4635" y="809"/>
                  </a:lnTo>
                  <a:lnTo>
                    <a:pt x="4634" y="806"/>
                  </a:lnTo>
                  <a:lnTo>
                    <a:pt x="4633" y="805"/>
                  </a:lnTo>
                  <a:lnTo>
                    <a:pt x="4633" y="802"/>
                  </a:lnTo>
                  <a:lnTo>
                    <a:pt x="4634" y="799"/>
                  </a:lnTo>
                  <a:lnTo>
                    <a:pt x="4635" y="798"/>
                  </a:lnTo>
                  <a:lnTo>
                    <a:pt x="4638" y="797"/>
                  </a:lnTo>
                  <a:lnTo>
                    <a:pt x="4641" y="797"/>
                  </a:lnTo>
                  <a:lnTo>
                    <a:pt x="4641" y="797"/>
                  </a:lnTo>
                  <a:close/>
                  <a:moveTo>
                    <a:pt x="4794" y="824"/>
                  </a:moveTo>
                  <a:lnTo>
                    <a:pt x="4884" y="839"/>
                  </a:lnTo>
                  <a:lnTo>
                    <a:pt x="4887" y="840"/>
                  </a:lnTo>
                  <a:lnTo>
                    <a:pt x="4888" y="842"/>
                  </a:lnTo>
                  <a:lnTo>
                    <a:pt x="4890" y="844"/>
                  </a:lnTo>
                  <a:lnTo>
                    <a:pt x="4890" y="847"/>
                  </a:lnTo>
                  <a:lnTo>
                    <a:pt x="4890" y="848"/>
                  </a:lnTo>
                  <a:lnTo>
                    <a:pt x="4887" y="851"/>
                  </a:lnTo>
                  <a:lnTo>
                    <a:pt x="4885" y="851"/>
                  </a:lnTo>
                  <a:lnTo>
                    <a:pt x="4883" y="851"/>
                  </a:lnTo>
                  <a:lnTo>
                    <a:pt x="4793" y="836"/>
                  </a:lnTo>
                  <a:lnTo>
                    <a:pt x="4790" y="835"/>
                  </a:lnTo>
                  <a:lnTo>
                    <a:pt x="4788" y="833"/>
                  </a:lnTo>
                  <a:lnTo>
                    <a:pt x="4788" y="831"/>
                  </a:lnTo>
                  <a:lnTo>
                    <a:pt x="4788" y="829"/>
                  </a:lnTo>
                  <a:lnTo>
                    <a:pt x="4788" y="827"/>
                  </a:lnTo>
                  <a:lnTo>
                    <a:pt x="4790" y="824"/>
                  </a:lnTo>
                  <a:lnTo>
                    <a:pt x="4792" y="824"/>
                  </a:lnTo>
                  <a:lnTo>
                    <a:pt x="4794" y="824"/>
                  </a:lnTo>
                  <a:lnTo>
                    <a:pt x="4794" y="824"/>
                  </a:lnTo>
                  <a:close/>
                  <a:moveTo>
                    <a:pt x="4949" y="850"/>
                  </a:moveTo>
                  <a:lnTo>
                    <a:pt x="5039" y="866"/>
                  </a:lnTo>
                  <a:lnTo>
                    <a:pt x="5042" y="866"/>
                  </a:lnTo>
                  <a:lnTo>
                    <a:pt x="5043" y="867"/>
                  </a:lnTo>
                  <a:lnTo>
                    <a:pt x="5045" y="870"/>
                  </a:lnTo>
                  <a:lnTo>
                    <a:pt x="5045" y="873"/>
                  </a:lnTo>
                  <a:lnTo>
                    <a:pt x="5043" y="876"/>
                  </a:lnTo>
                  <a:lnTo>
                    <a:pt x="5042" y="877"/>
                  </a:lnTo>
                  <a:lnTo>
                    <a:pt x="5039" y="878"/>
                  </a:lnTo>
                  <a:lnTo>
                    <a:pt x="5036" y="878"/>
                  </a:lnTo>
                  <a:lnTo>
                    <a:pt x="4947" y="863"/>
                  </a:lnTo>
                  <a:lnTo>
                    <a:pt x="4944" y="862"/>
                  </a:lnTo>
                  <a:lnTo>
                    <a:pt x="4943" y="861"/>
                  </a:lnTo>
                  <a:lnTo>
                    <a:pt x="4941" y="858"/>
                  </a:lnTo>
                  <a:lnTo>
                    <a:pt x="4941" y="855"/>
                  </a:lnTo>
                  <a:lnTo>
                    <a:pt x="4943" y="852"/>
                  </a:lnTo>
                  <a:lnTo>
                    <a:pt x="4944" y="851"/>
                  </a:lnTo>
                  <a:lnTo>
                    <a:pt x="4947" y="850"/>
                  </a:lnTo>
                  <a:lnTo>
                    <a:pt x="4949" y="850"/>
                  </a:lnTo>
                  <a:lnTo>
                    <a:pt x="4949" y="850"/>
                  </a:lnTo>
                  <a:close/>
                  <a:moveTo>
                    <a:pt x="5103" y="877"/>
                  </a:moveTo>
                  <a:lnTo>
                    <a:pt x="5194" y="892"/>
                  </a:lnTo>
                  <a:lnTo>
                    <a:pt x="5196" y="893"/>
                  </a:lnTo>
                  <a:lnTo>
                    <a:pt x="5198" y="895"/>
                  </a:lnTo>
                  <a:lnTo>
                    <a:pt x="5198" y="897"/>
                  </a:lnTo>
                  <a:lnTo>
                    <a:pt x="5198" y="900"/>
                  </a:lnTo>
                  <a:lnTo>
                    <a:pt x="5198" y="901"/>
                  </a:lnTo>
                  <a:lnTo>
                    <a:pt x="5196" y="904"/>
                  </a:lnTo>
                  <a:lnTo>
                    <a:pt x="5194" y="904"/>
                  </a:lnTo>
                  <a:lnTo>
                    <a:pt x="5191" y="905"/>
                  </a:lnTo>
                  <a:lnTo>
                    <a:pt x="5102" y="889"/>
                  </a:lnTo>
                  <a:lnTo>
                    <a:pt x="5099" y="888"/>
                  </a:lnTo>
                  <a:lnTo>
                    <a:pt x="5098" y="886"/>
                  </a:lnTo>
                  <a:lnTo>
                    <a:pt x="5096" y="884"/>
                  </a:lnTo>
                  <a:lnTo>
                    <a:pt x="5096" y="882"/>
                  </a:lnTo>
                  <a:lnTo>
                    <a:pt x="5096" y="880"/>
                  </a:lnTo>
                  <a:lnTo>
                    <a:pt x="5099" y="877"/>
                  </a:lnTo>
                  <a:lnTo>
                    <a:pt x="5100" y="877"/>
                  </a:lnTo>
                  <a:lnTo>
                    <a:pt x="5103" y="877"/>
                  </a:lnTo>
                  <a:lnTo>
                    <a:pt x="5103" y="877"/>
                  </a:lnTo>
                  <a:close/>
                  <a:moveTo>
                    <a:pt x="5258" y="903"/>
                  </a:moveTo>
                  <a:lnTo>
                    <a:pt x="5348" y="919"/>
                  </a:lnTo>
                  <a:lnTo>
                    <a:pt x="5351" y="919"/>
                  </a:lnTo>
                  <a:lnTo>
                    <a:pt x="5352" y="922"/>
                  </a:lnTo>
                  <a:lnTo>
                    <a:pt x="5353" y="923"/>
                  </a:lnTo>
                  <a:lnTo>
                    <a:pt x="5353" y="926"/>
                  </a:lnTo>
                  <a:lnTo>
                    <a:pt x="5352" y="929"/>
                  </a:lnTo>
                  <a:lnTo>
                    <a:pt x="5351" y="930"/>
                  </a:lnTo>
                  <a:lnTo>
                    <a:pt x="5348" y="931"/>
                  </a:lnTo>
                  <a:lnTo>
                    <a:pt x="5345" y="931"/>
                  </a:lnTo>
                  <a:lnTo>
                    <a:pt x="5255" y="916"/>
                  </a:lnTo>
                  <a:lnTo>
                    <a:pt x="5253" y="915"/>
                  </a:lnTo>
                  <a:lnTo>
                    <a:pt x="5251" y="914"/>
                  </a:lnTo>
                  <a:lnTo>
                    <a:pt x="5250" y="911"/>
                  </a:lnTo>
                  <a:lnTo>
                    <a:pt x="5250" y="908"/>
                  </a:lnTo>
                  <a:lnTo>
                    <a:pt x="5251" y="905"/>
                  </a:lnTo>
                  <a:lnTo>
                    <a:pt x="5253" y="904"/>
                  </a:lnTo>
                  <a:lnTo>
                    <a:pt x="5255" y="903"/>
                  </a:lnTo>
                  <a:lnTo>
                    <a:pt x="5258" y="903"/>
                  </a:lnTo>
                  <a:lnTo>
                    <a:pt x="5258" y="903"/>
                  </a:lnTo>
                  <a:close/>
                  <a:moveTo>
                    <a:pt x="5412" y="930"/>
                  </a:moveTo>
                  <a:lnTo>
                    <a:pt x="5503" y="945"/>
                  </a:lnTo>
                  <a:lnTo>
                    <a:pt x="5504" y="946"/>
                  </a:lnTo>
                  <a:lnTo>
                    <a:pt x="5507" y="948"/>
                  </a:lnTo>
                  <a:lnTo>
                    <a:pt x="5507" y="950"/>
                  </a:lnTo>
                  <a:lnTo>
                    <a:pt x="5508" y="953"/>
                  </a:lnTo>
                  <a:lnTo>
                    <a:pt x="5507" y="954"/>
                  </a:lnTo>
                  <a:lnTo>
                    <a:pt x="5504" y="957"/>
                  </a:lnTo>
                  <a:lnTo>
                    <a:pt x="5503" y="957"/>
                  </a:lnTo>
                  <a:lnTo>
                    <a:pt x="5500" y="958"/>
                  </a:lnTo>
                  <a:lnTo>
                    <a:pt x="5410" y="942"/>
                  </a:lnTo>
                  <a:lnTo>
                    <a:pt x="5408" y="942"/>
                  </a:lnTo>
                  <a:lnTo>
                    <a:pt x="5406" y="939"/>
                  </a:lnTo>
                  <a:lnTo>
                    <a:pt x="5405" y="938"/>
                  </a:lnTo>
                  <a:lnTo>
                    <a:pt x="5405" y="935"/>
                  </a:lnTo>
                  <a:lnTo>
                    <a:pt x="5405" y="933"/>
                  </a:lnTo>
                  <a:lnTo>
                    <a:pt x="5408" y="931"/>
                  </a:lnTo>
                  <a:lnTo>
                    <a:pt x="5409" y="930"/>
                  </a:lnTo>
                  <a:lnTo>
                    <a:pt x="5412" y="930"/>
                  </a:lnTo>
                  <a:lnTo>
                    <a:pt x="5412" y="930"/>
                  </a:lnTo>
                  <a:close/>
                  <a:moveTo>
                    <a:pt x="5567" y="956"/>
                  </a:moveTo>
                  <a:lnTo>
                    <a:pt x="5657" y="972"/>
                  </a:lnTo>
                  <a:lnTo>
                    <a:pt x="5659" y="972"/>
                  </a:lnTo>
                  <a:lnTo>
                    <a:pt x="5661" y="975"/>
                  </a:lnTo>
                  <a:lnTo>
                    <a:pt x="5662" y="976"/>
                  </a:lnTo>
                  <a:lnTo>
                    <a:pt x="5662" y="979"/>
                  </a:lnTo>
                  <a:lnTo>
                    <a:pt x="5661" y="982"/>
                  </a:lnTo>
                  <a:lnTo>
                    <a:pt x="5659" y="983"/>
                  </a:lnTo>
                  <a:lnTo>
                    <a:pt x="5657" y="984"/>
                  </a:lnTo>
                  <a:lnTo>
                    <a:pt x="5654" y="984"/>
                  </a:lnTo>
                  <a:lnTo>
                    <a:pt x="5564" y="969"/>
                  </a:lnTo>
                  <a:lnTo>
                    <a:pt x="5561" y="968"/>
                  </a:lnTo>
                  <a:lnTo>
                    <a:pt x="5560" y="967"/>
                  </a:lnTo>
                  <a:lnTo>
                    <a:pt x="5559" y="964"/>
                  </a:lnTo>
                  <a:lnTo>
                    <a:pt x="5559" y="961"/>
                  </a:lnTo>
                  <a:lnTo>
                    <a:pt x="5560" y="958"/>
                  </a:lnTo>
                  <a:lnTo>
                    <a:pt x="5561" y="957"/>
                  </a:lnTo>
                  <a:lnTo>
                    <a:pt x="5564" y="956"/>
                  </a:lnTo>
                  <a:lnTo>
                    <a:pt x="5567" y="956"/>
                  </a:lnTo>
                  <a:lnTo>
                    <a:pt x="5567" y="9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4880" y="4158000"/>
              <a:ext cx="980280" cy="683640"/>
            </a:xfrm>
            <a:custGeom>
              <a:avLst/>
              <a:gdLst/>
              <a:ahLst/>
              <a:rect l="l" t="t" r="r" b="b"/>
              <a:pathLst>
                <a:path w="1002" h="819">
                  <a:moveTo>
                    <a:pt x="1000" y="12"/>
                  </a:moveTo>
                  <a:lnTo>
                    <a:pt x="929" y="70"/>
                  </a:lnTo>
                  <a:lnTo>
                    <a:pt x="926" y="71"/>
                  </a:lnTo>
                  <a:lnTo>
                    <a:pt x="923" y="71"/>
                  </a:lnTo>
                  <a:lnTo>
                    <a:pt x="922" y="71"/>
                  </a:lnTo>
                  <a:lnTo>
                    <a:pt x="919" y="68"/>
                  </a:lnTo>
                  <a:lnTo>
                    <a:pt x="918" y="67"/>
                  </a:lnTo>
                  <a:lnTo>
                    <a:pt x="918" y="64"/>
                  </a:lnTo>
                  <a:lnTo>
                    <a:pt x="919" y="61"/>
                  </a:lnTo>
                  <a:lnTo>
                    <a:pt x="921" y="60"/>
                  </a:lnTo>
                  <a:lnTo>
                    <a:pt x="991" y="2"/>
                  </a:lnTo>
                  <a:lnTo>
                    <a:pt x="994" y="0"/>
                  </a:lnTo>
                  <a:lnTo>
                    <a:pt x="996" y="0"/>
                  </a:lnTo>
                  <a:lnTo>
                    <a:pt x="998" y="2"/>
                  </a:lnTo>
                  <a:lnTo>
                    <a:pt x="1001" y="3"/>
                  </a:lnTo>
                  <a:lnTo>
                    <a:pt x="1002" y="4"/>
                  </a:lnTo>
                  <a:lnTo>
                    <a:pt x="1002" y="7"/>
                  </a:lnTo>
                  <a:lnTo>
                    <a:pt x="1001" y="10"/>
                  </a:lnTo>
                  <a:lnTo>
                    <a:pt x="1000" y="12"/>
                  </a:lnTo>
                  <a:lnTo>
                    <a:pt x="1000" y="12"/>
                  </a:lnTo>
                  <a:close/>
                  <a:moveTo>
                    <a:pt x="879" y="110"/>
                  </a:moveTo>
                  <a:lnTo>
                    <a:pt x="808" y="169"/>
                  </a:lnTo>
                  <a:lnTo>
                    <a:pt x="805" y="170"/>
                  </a:lnTo>
                  <a:lnTo>
                    <a:pt x="802" y="170"/>
                  </a:lnTo>
                  <a:lnTo>
                    <a:pt x="800" y="169"/>
                  </a:lnTo>
                  <a:lnTo>
                    <a:pt x="798" y="168"/>
                  </a:lnTo>
                  <a:lnTo>
                    <a:pt x="797" y="165"/>
                  </a:lnTo>
                  <a:lnTo>
                    <a:pt x="797" y="163"/>
                  </a:lnTo>
                  <a:lnTo>
                    <a:pt x="797" y="161"/>
                  </a:lnTo>
                  <a:lnTo>
                    <a:pt x="800" y="158"/>
                  </a:lnTo>
                  <a:lnTo>
                    <a:pt x="870" y="101"/>
                  </a:lnTo>
                  <a:lnTo>
                    <a:pt x="872" y="100"/>
                  </a:lnTo>
                  <a:lnTo>
                    <a:pt x="875" y="100"/>
                  </a:lnTo>
                  <a:lnTo>
                    <a:pt x="877" y="100"/>
                  </a:lnTo>
                  <a:lnTo>
                    <a:pt x="879" y="102"/>
                  </a:lnTo>
                  <a:lnTo>
                    <a:pt x="880" y="104"/>
                  </a:lnTo>
                  <a:lnTo>
                    <a:pt x="880" y="106"/>
                  </a:lnTo>
                  <a:lnTo>
                    <a:pt x="880" y="109"/>
                  </a:lnTo>
                  <a:lnTo>
                    <a:pt x="879" y="110"/>
                  </a:lnTo>
                  <a:lnTo>
                    <a:pt x="879" y="110"/>
                  </a:lnTo>
                  <a:close/>
                  <a:moveTo>
                    <a:pt x="756" y="210"/>
                  </a:moveTo>
                  <a:lnTo>
                    <a:pt x="685" y="268"/>
                  </a:lnTo>
                  <a:lnTo>
                    <a:pt x="684" y="270"/>
                  </a:lnTo>
                  <a:lnTo>
                    <a:pt x="681" y="270"/>
                  </a:lnTo>
                  <a:lnTo>
                    <a:pt x="679" y="268"/>
                  </a:lnTo>
                  <a:lnTo>
                    <a:pt x="677" y="267"/>
                  </a:lnTo>
                  <a:lnTo>
                    <a:pt x="676" y="264"/>
                  </a:lnTo>
                  <a:lnTo>
                    <a:pt x="675" y="261"/>
                  </a:lnTo>
                  <a:lnTo>
                    <a:pt x="676" y="260"/>
                  </a:lnTo>
                  <a:lnTo>
                    <a:pt x="677" y="257"/>
                  </a:lnTo>
                  <a:lnTo>
                    <a:pt x="748" y="200"/>
                  </a:lnTo>
                  <a:lnTo>
                    <a:pt x="751" y="199"/>
                  </a:lnTo>
                  <a:lnTo>
                    <a:pt x="753" y="199"/>
                  </a:lnTo>
                  <a:lnTo>
                    <a:pt x="756" y="199"/>
                  </a:lnTo>
                  <a:lnTo>
                    <a:pt x="758" y="200"/>
                  </a:lnTo>
                  <a:lnTo>
                    <a:pt x="759" y="203"/>
                  </a:lnTo>
                  <a:lnTo>
                    <a:pt x="759" y="206"/>
                  </a:lnTo>
                  <a:lnTo>
                    <a:pt x="759" y="208"/>
                  </a:lnTo>
                  <a:lnTo>
                    <a:pt x="756" y="210"/>
                  </a:lnTo>
                  <a:lnTo>
                    <a:pt x="756" y="210"/>
                  </a:lnTo>
                  <a:close/>
                  <a:moveTo>
                    <a:pt x="635" y="309"/>
                  </a:moveTo>
                  <a:lnTo>
                    <a:pt x="564" y="366"/>
                  </a:lnTo>
                  <a:lnTo>
                    <a:pt x="562" y="367"/>
                  </a:lnTo>
                  <a:lnTo>
                    <a:pt x="559" y="367"/>
                  </a:lnTo>
                  <a:lnTo>
                    <a:pt x="558" y="367"/>
                  </a:lnTo>
                  <a:lnTo>
                    <a:pt x="555" y="366"/>
                  </a:lnTo>
                  <a:lnTo>
                    <a:pt x="554" y="363"/>
                  </a:lnTo>
                  <a:lnTo>
                    <a:pt x="554" y="361"/>
                  </a:lnTo>
                  <a:lnTo>
                    <a:pt x="555" y="358"/>
                  </a:lnTo>
                  <a:lnTo>
                    <a:pt x="556" y="357"/>
                  </a:lnTo>
                  <a:lnTo>
                    <a:pt x="627" y="299"/>
                  </a:lnTo>
                  <a:lnTo>
                    <a:pt x="630" y="298"/>
                  </a:lnTo>
                  <a:lnTo>
                    <a:pt x="632" y="297"/>
                  </a:lnTo>
                  <a:lnTo>
                    <a:pt x="634" y="298"/>
                  </a:lnTo>
                  <a:lnTo>
                    <a:pt x="637" y="299"/>
                  </a:lnTo>
                  <a:lnTo>
                    <a:pt x="638" y="302"/>
                  </a:lnTo>
                  <a:lnTo>
                    <a:pt x="638" y="305"/>
                  </a:lnTo>
                  <a:lnTo>
                    <a:pt x="637" y="306"/>
                  </a:lnTo>
                  <a:lnTo>
                    <a:pt x="635" y="309"/>
                  </a:lnTo>
                  <a:lnTo>
                    <a:pt x="635" y="309"/>
                  </a:lnTo>
                  <a:close/>
                  <a:moveTo>
                    <a:pt x="514" y="408"/>
                  </a:moveTo>
                  <a:lnTo>
                    <a:pt x="443" y="465"/>
                  </a:lnTo>
                  <a:lnTo>
                    <a:pt x="441" y="467"/>
                  </a:lnTo>
                  <a:lnTo>
                    <a:pt x="438" y="467"/>
                  </a:lnTo>
                  <a:lnTo>
                    <a:pt x="435" y="467"/>
                  </a:lnTo>
                  <a:lnTo>
                    <a:pt x="434" y="465"/>
                  </a:lnTo>
                  <a:lnTo>
                    <a:pt x="433" y="463"/>
                  </a:lnTo>
                  <a:lnTo>
                    <a:pt x="433" y="460"/>
                  </a:lnTo>
                  <a:lnTo>
                    <a:pt x="433" y="457"/>
                  </a:lnTo>
                  <a:lnTo>
                    <a:pt x="435" y="456"/>
                  </a:lnTo>
                  <a:lnTo>
                    <a:pt x="506" y="397"/>
                  </a:lnTo>
                  <a:lnTo>
                    <a:pt x="507" y="396"/>
                  </a:lnTo>
                  <a:lnTo>
                    <a:pt x="510" y="396"/>
                  </a:lnTo>
                  <a:lnTo>
                    <a:pt x="513" y="397"/>
                  </a:lnTo>
                  <a:lnTo>
                    <a:pt x="515" y="399"/>
                  </a:lnTo>
                  <a:lnTo>
                    <a:pt x="515" y="401"/>
                  </a:lnTo>
                  <a:lnTo>
                    <a:pt x="517" y="403"/>
                  </a:lnTo>
                  <a:lnTo>
                    <a:pt x="515" y="406"/>
                  </a:lnTo>
                  <a:lnTo>
                    <a:pt x="514" y="408"/>
                  </a:lnTo>
                  <a:lnTo>
                    <a:pt x="514" y="408"/>
                  </a:lnTo>
                  <a:close/>
                  <a:moveTo>
                    <a:pt x="393" y="508"/>
                  </a:moveTo>
                  <a:lnTo>
                    <a:pt x="321" y="565"/>
                  </a:lnTo>
                  <a:lnTo>
                    <a:pt x="320" y="566"/>
                  </a:lnTo>
                  <a:lnTo>
                    <a:pt x="317" y="566"/>
                  </a:lnTo>
                  <a:lnTo>
                    <a:pt x="314" y="566"/>
                  </a:lnTo>
                  <a:lnTo>
                    <a:pt x="313" y="563"/>
                  </a:lnTo>
                  <a:lnTo>
                    <a:pt x="311" y="562"/>
                  </a:lnTo>
                  <a:lnTo>
                    <a:pt x="311" y="559"/>
                  </a:lnTo>
                  <a:lnTo>
                    <a:pt x="311" y="557"/>
                  </a:lnTo>
                  <a:lnTo>
                    <a:pt x="313" y="555"/>
                  </a:lnTo>
                  <a:lnTo>
                    <a:pt x="384" y="497"/>
                  </a:lnTo>
                  <a:lnTo>
                    <a:pt x="386" y="495"/>
                  </a:lnTo>
                  <a:lnTo>
                    <a:pt x="389" y="495"/>
                  </a:lnTo>
                  <a:lnTo>
                    <a:pt x="392" y="497"/>
                  </a:lnTo>
                  <a:lnTo>
                    <a:pt x="393" y="498"/>
                  </a:lnTo>
                  <a:lnTo>
                    <a:pt x="394" y="499"/>
                  </a:lnTo>
                  <a:lnTo>
                    <a:pt x="394" y="502"/>
                  </a:lnTo>
                  <a:lnTo>
                    <a:pt x="394" y="505"/>
                  </a:lnTo>
                  <a:lnTo>
                    <a:pt x="393" y="508"/>
                  </a:lnTo>
                  <a:lnTo>
                    <a:pt x="393" y="508"/>
                  </a:lnTo>
                  <a:close/>
                  <a:moveTo>
                    <a:pt x="271" y="605"/>
                  </a:moveTo>
                  <a:lnTo>
                    <a:pt x="200" y="664"/>
                  </a:lnTo>
                  <a:lnTo>
                    <a:pt x="197" y="665"/>
                  </a:lnTo>
                  <a:lnTo>
                    <a:pt x="196" y="665"/>
                  </a:lnTo>
                  <a:lnTo>
                    <a:pt x="193" y="664"/>
                  </a:lnTo>
                  <a:lnTo>
                    <a:pt x="190" y="663"/>
                  </a:lnTo>
                  <a:lnTo>
                    <a:pt x="189" y="660"/>
                  </a:lnTo>
                  <a:lnTo>
                    <a:pt x="189" y="659"/>
                  </a:lnTo>
                  <a:lnTo>
                    <a:pt x="190" y="656"/>
                  </a:lnTo>
                  <a:lnTo>
                    <a:pt x="192" y="653"/>
                  </a:lnTo>
                  <a:lnTo>
                    <a:pt x="263" y="596"/>
                  </a:lnTo>
                  <a:lnTo>
                    <a:pt x="265" y="595"/>
                  </a:lnTo>
                  <a:lnTo>
                    <a:pt x="268" y="595"/>
                  </a:lnTo>
                  <a:lnTo>
                    <a:pt x="269" y="595"/>
                  </a:lnTo>
                  <a:lnTo>
                    <a:pt x="272" y="597"/>
                  </a:lnTo>
                  <a:lnTo>
                    <a:pt x="273" y="599"/>
                  </a:lnTo>
                  <a:lnTo>
                    <a:pt x="273" y="601"/>
                  </a:lnTo>
                  <a:lnTo>
                    <a:pt x="272" y="604"/>
                  </a:lnTo>
                  <a:lnTo>
                    <a:pt x="271" y="605"/>
                  </a:lnTo>
                  <a:lnTo>
                    <a:pt x="271" y="605"/>
                  </a:lnTo>
                  <a:close/>
                  <a:moveTo>
                    <a:pt x="150" y="705"/>
                  </a:moveTo>
                  <a:lnTo>
                    <a:pt x="79" y="763"/>
                  </a:lnTo>
                  <a:lnTo>
                    <a:pt x="76" y="763"/>
                  </a:lnTo>
                  <a:lnTo>
                    <a:pt x="73" y="765"/>
                  </a:lnTo>
                  <a:lnTo>
                    <a:pt x="72" y="763"/>
                  </a:lnTo>
                  <a:lnTo>
                    <a:pt x="69" y="762"/>
                  </a:lnTo>
                  <a:lnTo>
                    <a:pt x="68" y="759"/>
                  </a:lnTo>
                  <a:lnTo>
                    <a:pt x="68" y="756"/>
                  </a:lnTo>
                  <a:lnTo>
                    <a:pt x="69" y="755"/>
                  </a:lnTo>
                  <a:lnTo>
                    <a:pt x="71" y="752"/>
                  </a:lnTo>
                  <a:lnTo>
                    <a:pt x="141" y="695"/>
                  </a:lnTo>
                  <a:lnTo>
                    <a:pt x="144" y="694"/>
                  </a:lnTo>
                  <a:lnTo>
                    <a:pt x="146" y="694"/>
                  </a:lnTo>
                  <a:lnTo>
                    <a:pt x="148" y="694"/>
                  </a:lnTo>
                  <a:lnTo>
                    <a:pt x="151" y="695"/>
                  </a:lnTo>
                  <a:lnTo>
                    <a:pt x="152" y="698"/>
                  </a:lnTo>
                  <a:lnTo>
                    <a:pt x="152" y="701"/>
                  </a:lnTo>
                  <a:lnTo>
                    <a:pt x="151" y="703"/>
                  </a:lnTo>
                  <a:lnTo>
                    <a:pt x="150" y="705"/>
                  </a:lnTo>
                  <a:lnTo>
                    <a:pt x="150" y="705"/>
                  </a:lnTo>
                  <a:close/>
                  <a:moveTo>
                    <a:pt x="29" y="804"/>
                  </a:moveTo>
                  <a:lnTo>
                    <a:pt x="11" y="818"/>
                  </a:lnTo>
                  <a:lnTo>
                    <a:pt x="8" y="819"/>
                  </a:lnTo>
                  <a:lnTo>
                    <a:pt x="7" y="819"/>
                  </a:lnTo>
                  <a:lnTo>
                    <a:pt x="4" y="819"/>
                  </a:lnTo>
                  <a:lnTo>
                    <a:pt x="1" y="816"/>
                  </a:lnTo>
                  <a:lnTo>
                    <a:pt x="0" y="815"/>
                  </a:lnTo>
                  <a:lnTo>
                    <a:pt x="0" y="812"/>
                  </a:lnTo>
                  <a:lnTo>
                    <a:pt x="1" y="809"/>
                  </a:lnTo>
                  <a:lnTo>
                    <a:pt x="3" y="808"/>
                  </a:lnTo>
                  <a:lnTo>
                    <a:pt x="20" y="793"/>
                  </a:lnTo>
                  <a:lnTo>
                    <a:pt x="22" y="793"/>
                  </a:lnTo>
                  <a:lnTo>
                    <a:pt x="25" y="792"/>
                  </a:lnTo>
                  <a:lnTo>
                    <a:pt x="27" y="793"/>
                  </a:lnTo>
                  <a:lnTo>
                    <a:pt x="29" y="795"/>
                  </a:lnTo>
                  <a:lnTo>
                    <a:pt x="30" y="797"/>
                  </a:lnTo>
                  <a:lnTo>
                    <a:pt x="30" y="800"/>
                  </a:lnTo>
                  <a:lnTo>
                    <a:pt x="30" y="801"/>
                  </a:lnTo>
                  <a:lnTo>
                    <a:pt x="29" y="804"/>
                  </a:lnTo>
                  <a:lnTo>
                    <a:pt x="29" y="8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92280" y="4156560"/>
              <a:ext cx="4165560" cy="685080"/>
            </a:xfrm>
            <a:custGeom>
              <a:avLst/>
              <a:gdLst/>
              <a:ahLst/>
              <a:rect l="l" t="t" r="r" b="b"/>
              <a:pathLst>
                <a:path w="4256" h="820">
                  <a:moveTo>
                    <a:pt x="7" y="0"/>
                  </a:moveTo>
                  <a:lnTo>
                    <a:pt x="97" y="16"/>
                  </a:lnTo>
                  <a:lnTo>
                    <a:pt x="100" y="18"/>
                  </a:lnTo>
                  <a:lnTo>
                    <a:pt x="101" y="19"/>
                  </a:lnTo>
                  <a:lnTo>
                    <a:pt x="102" y="22"/>
                  </a:lnTo>
                  <a:lnTo>
                    <a:pt x="102" y="24"/>
                  </a:lnTo>
                  <a:lnTo>
                    <a:pt x="101" y="26"/>
                  </a:lnTo>
                  <a:lnTo>
                    <a:pt x="100" y="28"/>
                  </a:lnTo>
                  <a:lnTo>
                    <a:pt x="97" y="28"/>
                  </a:lnTo>
                  <a:lnTo>
                    <a:pt x="94" y="30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161" y="28"/>
                  </a:moveTo>
                  <a:lnTo>
                    <a:pt x="250" y="46"/>
                  </a:lnTo>
                  <a:lnTo>
                    <a:pt x="253" y="46"/>
                  </a:lnTo>
                  <a:lnTo>
                    <a:pt x="255" y="49"/>
                  </a:lnTo>
                  <a:lnTo>
                    <a:pt x="256" y="50"/>
                  </a:lnTo>
                  <a:lnTo>
                    <a:pt x="256" y="53"/>
                  </a:lnTo>
                  <a:lnTo>
                    <a:pt x="255" y="56"/>
                  </a:lnTo>
                  <a:lnTo>
                    <a:pt x="253" y="57"/>
                  </a:lnTo>
                  <a:lnTo>
                    <a:pt x="250" y="58"/>
                  </a:lnTo>
                  <a:lnTo>
                    <a:pt x="249" y="58"/>
                  </a:lnTo>
                  <a:lnTo>
                    <a:pt x="159" y="42"/>
                  </a:lnTo>
                  <a:lnTo>
                    <a:pt x="157" y="41"/>
                  </a:lnTo>
                  <a:lnTo>
                    <a:pt x="154" y="38"/>
                  </a:lnTo>
                  <a:lnTo>
                    <a:pt x="154" y="37"/>
                  </a:lnTo>
                  <a:lnTo>
                    <a:pt x="154" y="34"/>
                  </a:lnTo>
                  <a:lnTo>
                    <a:pt x="154" y="31"/>
                  </a:lnTo>
                  <a:lnTo>
                    <a:pt x="157" y="30"/>
                  </a:lnTo>
                  <a:lnTo>
                    <a:pt x="158" y="28"/>
                  </a:lnTo>
                  <a:lnTo>
                    <a:pt x="161" y="28"/>
                  </a:lnTo>
                  <a:lnTo>
                    <a:pt x="161" y="28"/>
                  </a:lnTo>
                  <a:close/>
                  <a:moveTo>
                    <a:pt x="314" y="58"/>
                  </a:moveTo>
                  <a:lnTo>
                    <a:pt x="404" y="75"/>
                  </a:lnTo>
                  <a:lnTo>
                    <a:pt x="407" y="76"/>
                  </a:lnTo>
                  <a:lnTo>
                    <a:pt x="408" y="77"/>
                  </a:lnTo>
                  <a:lnTo>
                    <a:pt x="410" y="80"/>
                  </a:lnTo>
                  <a:lnTo>
                    <a:pt x="410" y="83"/>
                  </a:lnTo>
                  <a:lnTo>
                    <a:pt x="410" y="84"/>
                  </a:lnTo>
                  <a:lnTo>
                    <a:pt x="407" y="87"/>
                  </a:lnTo>
                  <a:lnTo>
                    <a:pt x="406" y="87"/>
                  </a:lnTo>
                  <a:lnTo>
                    <a:pt x="403" y="88"/>
                  </a:lnTo>
                  <a:lnTo>
                    <a:pt x="313" y="71"/>
                  </a:lnTo>
                  <a:lnTo>
                    <a:pt x="310" y="69"/>
                  </a:lnTo>
                  <a:lnTo>
                    <a:pt x="309" y="68"/>
                  </a:lnTo>
                  <a:lnTo>
                    <a:pt x="308" y="65"/>
                  </a:lnTo>
                  <a:lnTo>
                    <a:pt x="308" y="62"/>
                  </a:lnTo>
                  <a:lnTo>
                    <a:pt x="308" y="61"/>
                  </a:lnTo>
                  <a:lnTo>
                    <a:pt x="310" y="58"/>
                  </a:lnTo>
                  <a:lnTo>
                    <a:pt x="312" y="58"/>
                  </a:lnTo>
                  <a:lnTo>
                    <a:pt x="314" y="58"/>
                  </a:lnTo>
                  <a:lnTo>
                    <a:pt x="314" y="58"/>
                  </a:lnTo>
                  <a:close/>
                  <a:moveTo>
                    <a:pt x="469" y="87"/>
                  </a:moveTo>
                  <a:lnTo>
                    <a:pt x="559" y="105"/>
                  </a:lnTo>
                  <a:lnTo>
                    <a:pt x="561" y="105"/>
                  </a:lnTo>
                  <a:lnTo>
                    <a:pt x="563" y="107"/>
                  </a:lnTo>
                  <a:lnTo>
                    <a:pt x="563" y="109"/>
                  </a:lnTo>
                  <a:lnTo>
                    <a:pt x="563" y="111"/>
                  </a:lnTo>
                  <a:lnTo>
                    <a:pt x="563" y="114"/>
                  </a:lnTo>
                  <a:lnTo>
                    <a:pt x="561" y="115"/>
                  </a:lnTo>
                  <a:lnTo>
                    <a:pt x="559" y="117"/>
                  </a:lnTo>
                  <a:lnTo>
                    <a:pt x="556" y="117"/>
                  </a:lnTo>
                  <a:lnTo>
                    <a:pt x="467" y="101"/>
                  </a:lnTo>
                  <a:lnTo>
                    <a:pt x="464" y="99"/>
                  </a:lnTo>
                  <a:lnTo>
                    <a:pt x="463" y="98"/>
                  </a:lnTo>
                  <a:lnTo>
                    <a:pt x="461" y="95"/>
                  </a:lnTo>
                  <a:lnTo>
                    <a:pt x="461" y="92"/>
                  </a:lnTo>
                  <a:lnTo>
                    <a:pt x="463" y="90"/>
                  </a:lnTo>
                  <a:lnTo>
                    <a:pt x="464" y="88"/>
                  </a:lnTo>
                  <a:lnTo>
                    <a:pt x="467" y="87"/>
                  </a:lnTo>
                  <a:lnTo>
                    <a:pt x="469" y="87"/>
                  </a:lnTo>
                  <a:lnTo>
                    <a:pt x="469" y="87"/>
                  </a:lnTo>
                  <a:close/>
                  <a:moveTo>
                    <a:pt x="623" y="117"/>
                  </a:moveTo>
                  <a:lnTo>
                    <a:pt x="713" y="133"/>
                  </a:lnTo>
                  <a:lnTo>
                    <a:pt x="714" y="135"/>
                  </a:lnTo>
                  <a:lnTo>
                    <a:pt x="717" y="136"/>
                  </a:lnTo>
                  <a:lnTo>
                    <a:pt x="717" y="139"/>
                  </a:lnTo>
                  <a:lnTo>
                    <a:pt x="718" y="141"/>
                  </a:lnTo>
                  <a:lnTo>
                    <a:pt x="717" y="144"/>
                  </a:lnTo>
                  <a:lnTo>
                    <a:pt x="716" y="145"/>
                  </a:lnTo>
                  <a:lnTo>
                    <a:pt x="713" y="147"/>
                  </a:lnTo>
                  <a:lnTo>
                    <a:pt x="710" y="147"/>
                  </a:lnTo>
                  <a:lnTo>
                    <a:pt x="620" y="129"/>
                  </a:lnTo>
                  <a:lnTo>
                    <a:pt x="618" y="128"/>
                  </a:lnTo>
                  <a:lnTo>
                    <a:pt x="616" y="126"/>
                  </a:lnTo>
                  <a:lnTo>
                    <a:pt x="615" y="124"/>
                  </a:lnTo>
                  <a:lnTo>
                    <a:pt x="615" y="122"/>
                  </a:lnTo>
                  <a:lnTo>
                    <a:pt x="616" y="120"/>
                  </a:lnTo>
                  <a:lnTo>
                    <a:pt x="618" y="117"/>
                  </a:lnTo>
                  <a:lnTo>
                    <a:pt x="620" y="117"/>
                  </a:lnTo>
                  <a:lnTo>
                    <a:pt x="623" y="117"/>
                  </a:lnTo>
                  <a:lnTo>
                    <a:pt x="623" y="117"/>
                  </a:lnTo>
                  <a:close/>
                  <a:moveTo>
                    <a:pt x="777" y="145"/>
                  </a:moveTo>
                  <a:lnTo>
                    <a:pt x="867" y="163"/>
                  </a:lnTo>
                  <a:lnTo>
                    <a:pt x="869" y="163"/>
                  </a:lnTo>
                  <a:lnTo>
                    <a:pt x="871" y="166"/>
                  </a:lnTo>
                  <a:lnTo>
                    <a:pt x="872" y="167"/>
                  </a:lnTo>
                  <a:lnTo>
                    <a:pt x="872" y="170"/>
                  </a:lnTo>
                  <a:lnTo>
                    <a:pt x="871" y="173"/>
                  </a:lnTo>
                  <a:lnTo>
                    <a:pt x="869" y="174"/>
                  </a:lnTo>
                  <a:lnTo>
                    <a:pt x="867" y="175"/>
                  </a:lnTo>
                  <a:lnTo>
                    <a:pt x="864" y="175"/>
                  </a:lnTo>
                  <a:lnTo>
                    <a:pt x="774" y="159"/>
                  </a:lnTo>
                  <a:lnTo>
                    <a:pt x="771" y="158"/>
                  </a:lnTo>
                  <a:lnTo>
                    <a:pt x="770" y="156"/>
                  </a:lnTo>
                  <a:lnTo>
                    <a:pt x="769" y="154"/>
                  </a:lnTo>
                  <a:lnTo>
                    <a:pt x="769" y="151"/>
                  </a:lnTo>
                  <a:lnTo>
                    <a:pt x="770" y="148"/>
                  </a:lnTo>
                  <a:lnTo>
                    <a:pt x="771" y="147"/>
                  </a:lnTo>
                  <a:lnTo>
                    <a:pt x="774" y="145"/>
                  </a:lnTo>
                  <a:lnTo>
                    <a:pt x="777" y="145"/>
                  </a:lnTo>
                  <a:lnTo>
                    <a:pt x="777" y="145"/>
                  </a:lnTo>
                  <a:close/>
                  <a:moveTo>
                    <a:pt x="930" y="175"/>
                  </a:moveTo>
                  <a:lnTo>
                    <a:pt x="1020" y="192"/>
                  </a:lnTo>
                  <a:lnTo>
                    <a:pt x="1023" y="193"/>
                  </a:lnTo>
                  <a:lnTo>
                    <a:pt x="1024" y="194"/>
                  </a:lnTo>
                  <a:lnTo>
                    <a:pt x="1026" y="197"/>
                  </a:lnTo>
                  <a:lnTo>
                    <a:pt x="1026" y="200"/>
                  </a:lnTo>
                  <a:lnTo>
                    <a:pt x="1024" y="203"/>
                  </a:lnTo>
                  <a:lnTo>
                    <a:pt x="1023" y="204"/>
                  </a:lnTo>
                  <a:lnTo>
                    <a:pt x="1020" y="205"/>
                  </a:lnTo>
                  <a:lnTo>
                    <a:pt x="1018" y="205"/>
                  </a:lnTo>
                  <a:lnTo>
                    <a:pt x="928" y="188"/>
                  </a:lnTo>
                  <a:lnTo>
                    <a:pt x="925" y="188"/>
                  </a:lnTo>
                  <a:lnTo>
                    <a:pt x="924" y="185"/>
                  </a:lnTo>
                  <a:lnTo>
                    <a:pt x="924" y="183"/>
                  </a:lnTo>
                  <a:lnTo>
                    <a:pt x="924" y="181"/>
                  </a:lnTo>
                  <a:lnTo>
                    <a:pt x="924" y="178"/>
                  </a:lnTo>
                  <a:lnTo>
                    <a:pt x="926" y="177"/>
                  </a:lnTo>
                  <a:lnTo>
                    <a:pt x="928" y="175"/>
                  </a:lnTo>
                  <a:lnTo>
                    <a:pt x="930" y="175"/>
                  </a:lnTo>
                  <a:lnTo>
                    <a:pt x="930" y="175"/>
                  </a:lnTo>
                  <a:close/>
                  <a:moveTo>
                    <a:pt x="1084" y="204"/>
                  </a:moveTo>
                  <a:lnTo>
                    <a:pt x="1174" y="222"/>
                  </a:lnTo>
                  <a:lnTo>
                    <a:pt x="1177" y="222"/>
                  </a:lnTo>
                  <a:lnTo>
                    <a:pt x="1178" y="224"/>
                  </a:lnTo>
                  <a:lnTo>
                    <a:pt x="1179" y="227"/>
                  </a:lnTo>
                  <a:lnTo>
                    <a:pt x="1179" y="230"/>
                  </a:lnTo>
                  <a:lnTo>
                    <a:pt x="1178" y="231"/>
                  </a:lnTo>
                  <a:lnTo>
                    <a:pt x="1177" y="234"/>
                  </a:lnTo>
                  <a:lnTo>
                    <a:pt x="1174" y="234"/>
                  </a:lnTo>
                  <a:lnTo>
                    <a:pt x="1173" y="234"/>
                  </a:lnTo>
                  <a:lnTo>
                    <a:pt x="1081" y="217"/>
                  </a:lnTo>
                  <a:lnTo>
                    <a:pt x="1080" y="216"/>
                  </a:lnTo>
                  <a:lnTo>
                    <a:pt x="1077" y="215"/>
                  </a:lnTo>
                  <a:lnTo>
                    <a:pt x="1077" y="212"/>
                  </a:lnTo>
                  <a:lnTo>
                    <a:pt x="1077" y="209"/>
                  </a:lnTo>
                  <a:lnTo>
                    <a:pt x="1077" y="207"/>
                  </a:lnTo>
                  <a:lnTo>
                    <a:pt x="1080" y="205"/>
                  </a:lnTo>
                  <a:lnTo>
                    <a:pt x="1081" y="204"/>
                  </a:lnTo>
                  <a:lnTo>
                    <a:pt x="1084" y="204"/>
                  </a:lnTo>
                  <a:lnTo>
                    <a:pt x="1084" y="204"/>
                  </a:lnTo>
                  <a:close/>
                  <a:moveTo>
                    <a:pt x="1238" y="234"/>
                  </a:moveTo>
                  <a:lnTo>
                    <a:pt x="1328" y="251"/>
                  </a:lnTo>
                  <a:lnTo>
                    <a:pt x="1330" y="251"/>
                  </a:lnTo>
                  <a:lnTo>
                    <a:pt x="1332" y="254"/>
                  </a:lnTo>
                  <a:lnTo>
                    <a:pt x="1333" y="256"/>
                  </a:lnTo>
                  <a:lnTo>
                    <a:pt x="1333" y="258"/>
                  </a:lnTo>
                  <a:lnTo>
                    <a:pt x="1333" y="261"/>
                  </a:lnTo>
                  <a:lnTo>
                    <a:pt x="1330" y="262"/>
                  </a:lnTo>
                  <a:lnTo>
                    <a:pt x="1329" y="264"/>
                  </a:lnTo>
                  <a:lnTo>
                    <a:pt x="1326" y="264"/>
                  </a:lnTo>
                  <a:lnTo>
                    <a:pt x="1236" y="246"/>
                  </a:lnTo>
                  <a:lnTo>
                    <a:pt x="1234" y="246"/>
                  </a:lnTo>
                  <a:lnTo>
                    <a:pt x="1232" y="243"/>
                  </a:lnTo>
                  <a:lnTo>
                    <a:pt x="1231" y="242"/>
                  </a:lnTo>
                  <a:lnTo>
                    <a:pt x="1231" y="239"/>
                  </a:lnTo>
                  <a:lnTo>
                    <a:pt x="1231" y="237"/>
                  </a:lnTo>
                  <a:lnTo>
                    <a:pt x="1234" y="235"/>
                  </a:lnTo>
                  <a:lnTo>
                    <a:pt x="1235" y="234"/>
                  </a:lnTo>
                  <a:lnTo>
                    <a:pt x="1238" y="234"/>
                  </a:lnTo>
                  <a:lnTo>
                    <a:pt x="1238" y="234"/>
                  </a:lnTo>
                  <a:close/>
                  <a:moveTo>
                    <a:pt x="1393" y="264"/>
                  </a:moveTo>
                  <a:lnTo>
                    <a:pt x="1483" y="280"/>
                  </a:lnTo>
                  <a:lnTo>
                    <a:pt x="1484" y="281"/>
                  </a:lnTo>
                  <a:lnTo>
                    <a:pt x="1487" y="283"/>
                  </a:lnTo>
                  <a:lnTo>
                    <a:pt x="1487" y="285"/>
                  </a:lnTo>
                  <a:lnTo>
                    <a:pt x="1487" y="288"/>
                  </a:lnTo>
                  <a:lnTo>
                    <a:pt x="1487" y="290"/>
                  </a:lnTo>
                  <a:lnTo>
                    <a:pt x="1484" y="292"/>
                  </a:lnTo>
                  <a:lnTo>
                    <a:pt x="1483" y="292"/>
                  </a:lnTo>
                  <a:lnTo>
                    <a:pt x="1480" y="294"/>
                  </a:lnTo>
                  <a:lnTo>
                    <a:pt x="1390" y="276"/>
                  </a:lnTo>
                  <a:lnTo>
                    <a:pt x="1387" y="275"/>
                  </a:lnTo>
                  <a:lnTo>
                    <a:pt x="1386" y="273"/>
                  </a:lnTo>
                  <a:lnTo>
                    <a:pt x="1385" y="271"/>
                  </a:lnTo>
                  <a:lnTo>
                    <a:pt x="1385" y="268"/>
                  </a:lnTo>
                  <a:lnTo>
                    <a:pt x="1386" y="265"/>
                  </a:lnTo>
                  <a:lnTo>
                    <a:pt x="1387" y="264"/>
                  </a:lnTo>
                  <a:lnTo>
                    <a:pt x="1390" y="264"/>
                  </a:lnTo>
                  <a:lnTo>
                    <a:pt x="1393" y="264"/>
                  </a:lnTo>
                  <a:lnTo>
                    <a:pt x="1393" y="264"/>
                  </a:lnTo>
                  <a:close/>
                  <a:moveTo>
                    <a:pt x="1547" y="292"/>
                  </a:moveTo>
                  <a:lnTo>
                    <a:pt x="1636" y="310"/>
                  </a:lnTo>
                  <a:lnTo>
                    <a:pt x="1638" y="310"/>
                  </a:lnTo>
                  <a:lnTo>
                    <a:pt x="1640" y="313"/>
                  </a:lnTo>
                  <a:lnTo>
                    <a:pt x="1640" y="314"/>
                  </a:lnTo>
                  <a:lnTo>
                    <a:pt x="1642" y="317"/>
                  </a:lnTo>
                  <a:lnTo>
                    <a:pt x="1640" y="319"/>
                  </a:lnTo>
                  <a:lnTo>
                    <a:pt x="1639" y="321"/>
                  </a:lnTo>
                  <a:lnTo>
                    <a:pt x="1636" y="322"/>
                  </a:lnTo>
                  <a:lnTo>
                    <a:pt x="1634" y="322"/>
                  </a:lnTo>
                  <a:lnTo>
                    <a:pt x="1544" y="306"/>
                  </a:lnTo>
                  <a:lnTo>
                    <a:pt x="1541" y="305"/>
                  </a:lnTo>
                  <a:lnTo>
                    <a:pt x="1540" y="302"/>
                  </a:lnTo>
                  <a:lnTo>
                    <a:pt x="1538" y="300"/>
                  </a:lnTo>
                  <a:lnTo>
                    <a:pt x="1538" y="298"/>
                  </a:lnTo>
                  <a:lnTo>
                    <a:pt x="1540" y="295"/>
                  </a:lnTo>
                  <a:lnTo>
                    <a:pt x="1541" y="294"/>
                  </a:lnTo>
                  <a:lnTo>
                    <a:pt x="1544" y="292"/>
                  </a:lnTo>
                  <a:lnTo>
                    <a:pt x="1547" y="292"/>
                  </a:lnTo>
                  <a:lnTo>
                    <a:pt x="1547" y="292"/>
                  </a:lnTo>
                  <a:close/>
                  <a:moveTo>
                    <a:pt x="1700" y="322"/>
                  </a:moveTo>
                  <a:lnTo>
                    <a:pt x="1790" y="339"/>
                  </a:lnTo>
                  <a:lnTo>
                    <a:pt x="1793" y="340"/>
                  </a:lnTo>
                  <a:lnTo>
                    <a:pt x="1794" y="341"/>
                  </a:lnTo>
                  <a:lnTo>
                    <a:pt x="1795" y="344"/>
                  </a:lnTo>
                  <a:lnTo>
                    <a:pt x="1795" y="347"/>
                  </a:lnTo>
                  <a:lnTo>
                    <a:pt x="1794" y="348"/>
                  </a:lnTo>
                  <a:lnTo>
                    <a:pt x="1793" y="351"/>
                  </a:lnTo>
                  <a:lnTo>
                    <a:pt x="1790" y="351"/>
                  </a:lnTo>
                  <a:lnTo>
                    <a:pt x="1787" y="352"/>
                  </a:lnTo>
                  <a:lnTo>
                    <a:pt x="1698" y="334"/>
                  </a:lnTo>
                  <a:lnTo>
                    <a:pt x="1695" y="333"/>
                  </a:lnTo>
                  <a:lnTo>
                    <a:pt x="1693" y="332"/>
                  </a:lnTo>
                  <a:lnTo>
                    <a:pt x="1692" y="329"/>
                  </a:lnTo>
                  <a:lnTo>
                    <a:pt x="1692" y="326"/>
                  </a:lnTo>
                  <a:lnTo>
                    <a:pt x="1693" y="325"/>
                  </a:lnTo>
                  <a:lnTo>
                    <a:pt x="1695" y="322"/>
                  </a:lnTo>
                  <a:lnTo>
                    <a:pt x="1698" y="322"/>
                  </a:lnTo>
                  <a:lnTo>
                    <a:pt x="1700" y="322"/>
                  </a:lnTo>
                  <a:lnTo>
                    <a:pt x="1700" y="322"/>
                  </a:lnTo>
                  <a:close/>
                  <a:moveTo>
                    <a:pt x="1854" y="351"/>
                  </a:moveTo>
                  <a:lnTo>
                    <a:pt x="1944" y="368"/>
                  </a:lnTo>
                  <a:lnTo>
                    <a:pt x="1946" y="368"/>
                  </a:lnTo>
                  <a:lnTo>
                    <a:pt x="1948" y="371"/>
                  </a:lnTo>
                  <a:lnTo>
                    <a:pt x="1949" y="373"/>
                  </a:lnTo>
                  <a:lnTo>
                    <a:pt x="1949" y="375"/>
                  </a:lnTo>
                  <a:lnTo>
                    <a:pt x="1948" y="378"/>
                  </a:lnTo>
                  <a:lnTo>
                    <a:pt x="1946" y="379"/>
                  </a:lnTo>
                  <a:lnTo>
                    <a:pt x="1944" y="381"/>
                  </a:lnTo>
                  <a:lnTo>
                    <a:pt x="1941" y="381"/>
                  </a:lnTo>
                  <a:lnTo>
                    <a:pt x="1851" y="364"/>
                  </a:lnTo>
                  <a:lnTo>
                    <a:pt x="1849" y="363"/>
                  </a:lnTo>
                  <a:lnTo>
                    <a:pt x="1847" y="362"/>
                  </a:lnTo>
                  <a:lnTo>
                    <a:pt x="1847" y="359"/>
                  </a:lnTo>
                  <a:lnTo>
                    <a:pt x="1847" y="356"/>
                  </a:lnTo>
                  <a:lnTo>
                    <a:pt x="1847" y="353"/>
                  </a:lnTo>
                  <a:lnTo>
                    <a:pt x="1850" y="352"/>
                  </a:lnTo>
                  <a:lnTo>
                    <a:pt x="1851" y="351"/>
                  </a:lnTo>
                  <a:lnTo>
                    <a:pt x="1854" y="351"/>
                  </a:lnTo>
                  <a:lnTo>
                    <a:pt x="1854" y="351"/>
                  </a:lnTo>
                  <a:close/>
                  <a:moveTo>
                    <a:pt x="2008" y="381"/>
                  </a:moveTo>
                  <a:lnTo>
                    <a:pt x="2097" y="397"/>
                  </a:lnTo>
                  <a:lnTo>
                    <a:pt x="2100" y="398"/>
                  </a:lnTo>
                  <a:lnTo>
                    <a:pt x="2101" y="400"/>
                  </a:lnTo>
                  <a:lnTo>
                    <a:pt x="2103" y="402"/>
                  </a:lnTo>
                  <a:lnTo>
                    <a:pt x="2103" y="405"/>
                  </a:lnTo>
                  <a:lnTo>
                    <a:pt x="2101" y="408"/>
                  </a:lnTo>
                  <a:lnTo>
                    <a:pt x="2100" y="409"/>
                  </a:lnTo>
                  <a:lnTo>
                    <a:pt x="2097" y="411"/>
                  </a:lnTo>
                  <a:lnTo>
                    <a:pt x="2096" y="411"/>
                  </a:lnTo>
                  <a:lnTo>
                    <a:pt x="2005" y="393"/>
                  </a:lnTo>
                  <a:lnTo>
                    <a:pt x="2004" y="392"/>
                  </a:lnTo>
                  <a:lnTo>
                    <a:pt x="2001" y="390"/>
                  </a:lnTo>
                  <a:lnTo>
                    <a:pt x="2001" y="387"/>
                  </a:lnTo>
                  <a:lnTo>
                    <a:pt x="2001" y="386"/>
                  </a:lnTo>
                  <a:lnTo>
                    <a:pt x="2001" y="383"/>
                  </a:lnTo>
                  <a:lnTo>
                    <a:pt x="2004" y="381"/>
                  </a:lnTo>
                  <a:lnTo>
                    <a:pt x="2005" y="381"/>
                  </a:lnTo>
                  <a:lnTo>
                    <a:pt x="2008" y="381"/>
                  </a:lnTo>
                  <a:lnTo>
                    <a:pt x="2008" y="381"/>
                  </a:lnTo>
                  <a:close/>
                  <a:moveTo>
                    <a:pt x="2161" y="409"/>
                  </a:moveTo>
                  <a:lnTo>
                    <a:pt x="2251" y="427"/>
                  </a:lnTo>
                  <a:lnTo>
                    <a:pt x="2254" y="427"/>
                  </a:lnTo>
                  <a:lnTo>
                    <a:pt x="2255" y="430"/>
                  </a:lnTo>
                  <a:lnTo>
                    <a:pt x="2257" y="431"/>
                  </a:lnTo>
                  <a:lnTo>
                    <a:pt x="2257" y="434"/>
                  </a:lnTo>
                  <a:lnTo>
                    <a:pt x="2257" y="436"/>
                  </a:lnTo>
                  <a:lnTo>
                    <a:pt x="2254" y="438"/>
                  </a:lnTo>
                  <a:lnTo>
                    <a:pt x="2252" y="439"/>
                  </a:lnTo>
                  <a:lnTo>
                    <a:pt x="2250" y="439"/>
                  </a:lnTo>
                  <a:lnTo>
                    <a:pt x="2160" y="423"/>
                  </a:lnTo>
                  <a:lnTo>
                    <a:pt x="2157" y="421"/>
                  </a:lnTo>
                  <a:lnTo>
                    <a:pt x="2156" y="420"/>
                  </a:lnTo>
                  <a:lnTo>
                    <a:pt x="2155" y="417"/>
                  </a:lnTo>
                  <a:lnTo>
                    <a:pt x="2155" y="415"/>
                  </a:lnTo>
                  <a:lnTo>
                    <a:pt x="2155" y="412"/>
                  </a:lnTo>
                  <a:lnTo>
                    <a:pt x="2157" y="411"/>
                  </a:lnTo>
                  <a:lnTo>
                    <a:pt x="2159" y="409"/>
                  </a:lnTo>
                  <a:lnTo>
                    <a:pt x="2161" y="409"/>
                  </a:lnTo>
                  <a:lnTo>
                    <a:pt x="2161" y="409"/>
                  </a:lnTo>
                  <a:close/>
                  <a:moveTo>
                    <a:pt x="2316" y="439"/>
                  </a:moveTo>
                  <a:lnTo>
                    <a:pt x="2406" y="456"/>
                  </a:lnTo>
                  <a:lnTo>
                    <a:pt x="2407" y="457"/>
                  </a:lnTo>
                  <a:lnTo>
                    <a:pt x="2410" y="458"/>
                  </a:lnTo>
                  <a:lnTo>
                    <a:pt x="2410" y="461"/>
                  </a:lnTo>
                  <a:lnTo>
                    <a:pt x="2410" y="464"/>
                  </a:lnTo>
                  <a:lnTo>
                    <a:pt x="2410" y="466"/>
                  </a:lnTo>
                  <a:lnTo>
                    <a:pt x="2407" y="468"/>
                  </a:lnTo>
                  <a:lnTo>
                    <a:pt x="2406" y="469"/>
                  </a:lnTo>
                  <a:lnTo>
                    <a:pt x="2403" y="469"/>
                  </a:lnTo>
                  <a:lnTo>
                    <a:pt x="2314" y="451"/>
                  </a:lnTo>
                  <a:lnTo>
                    <a:pt x="2311" y="451"/>
                  </a:lnTo>
                  <a:lnTo>
                    <a:pt x="2310" y="449"/>
                  </a:lnTo>
                  <a:lnTo>
                    <a:pt x="2308" y="447"/>
                  </a:lnTo>
                  <a:lnTo>
                    <a:pt x="2308" y="445"/>
                  </a:lnTo>
                  <a:lnTo>
                    <a:pt x="2310" y="442"/>
                  </a:lnTo>
                  <a:lnTo>
                    <a:pt x="2311" y="441"/>
                  </a:lnTo>
                  <a:lnTo>
                    <a:pt x="2314" y="439"/>
                  </a:lnTo>
                  <a:lnTo>
                    <a:pt x="2316" y="439"/>
                  </a:lnTo>
                  <a:lnTo>
                    <a:pt x="2316" y="439"/>
                  </a:lnTo>
                  <a:close/>
                  <a:moveTo>
                    <a:pt x="2470" y="468"/>
                  </a:moveTo>
                  <a:lnTo>
                    <a:pt x="2560" y="485"/>
                  </a:lnTo>
                  <a:lnTo>
                    <a:pt x="2561" y="485"/>
                  </a:lnTo>
                  <a:lnTo>
                    <a:pt x="2564" y="488"/>
                  </a:lnTo>
                  <a:lnTo>
                    <a:pt x="2564" y="491"/>
                  </a:lnTo>
                  <a:lnTo>
                    <a:pt x="2565" y="494"/>
                  </a:lnTo>
                  <a:lnTo>
                    <a:pt x="2564" y="495"/>
                  </a:lnTo>
                  <a:lnTo>
                    <a:pt x="2563" y="498"/>
                  </a:lnTo>
                  <a:lnTo>
                    <a:pt x="2560" y="498"/>
                  </a:lnTo>
                  <a:lnTo>
                    <a:pt x="2557" y="498"/>
                  </a:lnTo>
                  <a:lnTo>
                    <a:pt x="2467" y="481"/>
                  </a:lnTo>
                  <a:lnTo>
                    <a:pt x="2465" y="480"/>
                  </a:lnTo>
                  <a:lnTo>
                    <a:pt x="2463" y="479"/>
                  </a:lnTo>
                  <a:lnTo>
                    <a:pt x="2462" y="476"/>
                  </a:lnTo>
                  <a:lnTo>
                    <a:pt x="2462" y="473"/>
                  </a:lnTo>
                  <a:lnTo>
                    <a:pt x="2463" y="470"/>
                  </a:lnTo>
                  <a:lnTo>
                    <a:pt x="2465" y="469"/>
                  </a:lnTo>
                  <a:lnTo>
                    <a:pt x="2467" y="468"/>
                  </a:lnTo>
                  <a:lnTo>
                    <a:pt x="2470" y="468"/>
                  </a:lnTo>
                  <a:lnTo>
                    <a:pt x="2470" y="468"/>
                  </a:lnTo>
                  <a:close/>
                  <a:moveTo>
                    <a:pt x="2624" y="498"/>
                  </a:moveTo>
                  <a:lnTo>
                    <a:pt x="2713" y="515"/>
                  </a:lnTo>
                  <a:lnTo>
                    <a:pt x="2716" y="515"/>
                  </a:lnTo>
                  <a:lnTo>
                    <a:pt x="2718" y="518"/>
                  </a:lnTo>
                  <a:lnTo>
                    <a:pt x="2719" y="519"/>
                  </a:lnTo>
                  <a:lnTo>
                    <a:pt x="2719" y="522"/>
                  </a:lnTo>
                  <a:lnTo>
                    <a:pt x="2718" y="525"/>
                  </a:lnTo>
                  <a:lnTo>
                    <a:pt x="2716" y="526"/>
                  </a:lnTo>
                  <a:lnTo>
                    <a:pt x="2713" y="528"/>
                  </a:lnTo>
                  <a:lnTo>
                    <a:pt x="2711" y="528"/>
                  </a:lnTo>
                  <a:lnTo>
                    <a:pt x="2621" y="510"/>
                  </a:lnTo>
                  <a:lnTo>
                    <a:pt x="2618" y="510"/>
                  </a:lnTo>
                  <a:lnTo>
                    <a:pt x="2617" y="507"/>
                  </a:lnTo>
                  <a:lnTo>
                    <a:pt x="2616" y="506"/>
                  </a:lnTo>
                  <a:lnTo>
                    <a:pt x="2616" y="503"/>
                  </a:lnTo>
                  <a:lnTo>
                    <a:pt x="2617" y="500"/>
                  </a:lnTo>
                  <a:lnTo>
                    <a:pt x="2618" y="499"/>
                  </a:lnTo>
                  <a:lnTo>
                    <a:pt x="2621" y="498"/>
                  </a:lnTo>
                  <a:lnTo>
                    <a:pt x="2624" y="498"/>
                  </a:lnTo>
                  <a:lnTo>
                    <a:pt x="2624" y="498"/>
                  </a:lnTo>
                  <a:close/>
                  <a:moveTo>
                    <a:pt x="2777" y="528"/>
                  </a:moveTo>
                  <a:lnTo>
                    <a:pt x="2867" y="544"/>
                  </a:lnTo>
                  <a:lnTo>
                    <a:pt x="2870" y="545"/>
                  </a:lnTo>
                  <a:lnTo>
                    <a:pt x="2871" y="547"/>
                  </a:lnTo>
                  <a:lnTo>
                    <a:pt x="2873" y="549"/>
                  </a:lnTo>
                  <a:lnTo>
                    <a:pt x="2873" y="552"/>
                  </a:lnTo>
                  <a:lnTo>
                    <a:pt x="2871" y="553"/>
                  </a:lnTo>
                  <a:lnTo>
                    <a:pt x="2870" y="556"/>
                  </a:lnTo>
                  <a:lnTo>
                    <a:pt x="2867" y="556"/>
                  </a:lnTo>
                  <a:lnTo>
                    <a:pt x="2864" y="558"/>
                  </a:lnTo>
                  <a:lnTo>
                    <a:pt x="2775" y="540"/>
                  </a:lnTo>
                  <a:lnTo>
                    <a:pt x="2772" y="538"/>
                  </a:lnTo>
                  <a:lnTo>
                    <a:pt x="2771" y="537"/>
                  </a:lnTo>
                  <a:lnTo>
                    <a:pt x="2771" y="534"/>
                  </a:lnTo>
                  <a:lnTo>
                    <a:pt x="2771" y="532"/>
                  </a:lnTo>
                  <a:lnTo>
                    <a:pt x="2771" y="529"/>
                  </a:lnTo>
                  <a:lnTo>
                    <a:pt x="2772" y="528"/>
                  </a:lnTo>
                  <a:lnTo>
                    <a:pt x="2775" y="528"/>
                  </a:lnTo>
                  <a:lnTo>
                    <a:pt x="2777" y="528"/>
                  </a:lnTo>
                  <a:lnTo>
                    <a:pt x="2777" y="528"/>
                  </a:lnTo>
                  <a:close/>
                  <a:moveTo>
                    <a:pt x="2931" y="556"/>
                  </a:moveTo>
                  <a:lnTo>
                    <a:pt x="3021" y="574"/>
                  </a:lnTo>
                  <a:lnTo>
                    <a:pt x="3024" y="574"/>
                  </a:lnTo>
                  <a:lnTo>
                    <a:pt x="3025" y="577"/>
                  </a:lnTo>
                  <a:lnTo>
                    <a:pt x="3026" y="578"/>
                  </a:lnTo>
                  <a:lnTo>
                    <a:pt x="3026" y="581"/>
                  </a:lnTo>
                  <a:lnTo>
                    <a:pt x="3025" y="583"/>
                  </a:lnTo>
                  <a:lnTo>
                    <a:pt x="3024" y="585"/>
                  </a:lnTo>
                  <a:lnTo>
                    <a:pt x="3021" y="586"/>
                  </a:lnTo>
                  <a:lnTo>
                    <a:pt x="3018" y="586"/>
                  </a:lnTo>
                  <a:lnTo>
                    <a:pt x="2928" y="570"/>
                  </a:lnTo>
                  <a:lnTo>
                    <a:pt x="2927" y="568"/>
                  </a:lnTo>
                  <a:lnTo>
                    <a:pt x="2924" y="566"/>
                  </a:lnTo>
                  <a:lnTo>
                    <a:pt x="2924" y="564"/>
                  </a:lnTo>
                  <a:lnTo>
                    <a:pt x="2924" y="562"/>
                  </a:lnTo>
                  <a:lnTo>
                    <a:pt x="2924" y="559"/>
                  </a:lnTo>
                  <a:lnTo>
                    <a:pt x="2927" y="558"/>
                  </a:lnTo>
                  <a:lnTo>
                    <a:pt x="2928" y="556"/>
                  </a:lnTo>
                  <a:lnTo>
                    <a:pt x="2931" y="556"/>
                  </a:lnTo>
                  <a:lnTo>
                    <a:pt x="2931" y="556"/>
                  </a:lnTo>
                  <a:close/>
                  <a:moveTo>
                    <a:pt x="3085" y="586"/>
                  </a:moveTo>
                  <a:lnTo>
                    <a:pt x="3175" y="602"/>
                  </a:lnTo>
                  <a:lnTo>
                    <a:pt x="3177" y="604"/>
                  </a:lnTo>
                  <a:lnTo>
                    <a:pt x="3179" y="605"/>
                  </a:lnTo>
                  <a:lnTo>
                    <a:pt x="3180" y="608"/>
                  </a:lnTo>
                  <a:lnTo>
                    <a:pt x="3180" y="611"/>
                  </a:lnTo>
                  <a:lnTo>
                    <a:pt x="3180" y="612"/>
                  </a:lnTo>
                  <a:lnTo>
                    <a:pt x="3177" y="615"/>
                  </a:lnTo>
                  <a:lnTo>
                    <a:pt x="3176" y="615"/>
                  </a:lnTo>
                  <a:lnTo>
                    <a:pt x="3173" y="616"/>
                  </a:lnTo>
                  <a:lnTo>
                    <a:pt x="3083" y="598"/>
                  </a:lnTo>
                  <a:lnTo>
                    <a:pt x="3081" y="597"/>
                  </a:lnTo>
                  <a:lnTo>
                    <a:pt x="3079" y="596"/>
                  </a:lnTo>
                  <a:lnTo>
                    <a:pt x="3078" y="593"/>
                  </a:lnTo>
                  <a:lnTo>
                    <a:pt x="3078" y="590"/>
                  </a:lnTo>
                  <a:lnTo>
                    <a:pt x="3078" y="589"/>
                  </a:lnTo>
                  <a:lnTo>
                    <a:pt x="3081" y="586"/>
                  </a:lnTo>
                  <a:lnTo>
                    <a:pt x="3082" y="586"/>
                  </a:lnTo>
                  <a:lnTo>
                    <a:pt x="3085" y="586"/>
                  </a:lnTo>
                  <a:lnTo>
                    <a:pt x="3085" y="586"/>
                  </a:lnTo>
                  <a:close/>
                  <a:moveTo>
                    <a:pt x="3240" y="615"/>
                  </a:moveTo>
                  <a:lnTo>
                    <a:pt x="3330" y="632"/>
                  </a:lnTo>
                  <a:lnTo>
                    <a:pt x="3331" y="632"/>
                  </a:lnTo>
                  <a:lnTo>
                    <a:pt x="3334" y="635"/>
                  </a:lnTo>
                  <a:lnTo>
                    <a:pt x="3334" y="636"/>
                  </a:lnTo>
                  <a:lnTo>
                    <a:pt x="3334" y="639"/>
                  </a:lnTo>
                  <a:lnTo>
                    <a:pt x="3334" y="642"/>
                  </a:lnTo>
                  <a:lnTo>
                    <a:pt x="3331" y="643"/>
                  </a:lnTo>
                  <a:lnTo>
                    <a:pt x="3330" y="645"/>
                  </a:lnTo>
                  <a:lnTo>
                    <a:pt x="3327" y="645"/>
                  </a:lnTo>
                  <a:lnTo>
                    <a:pt x="3237" y="628"/>
                  </a:lnTo>
                  <a:lnTo>
                    <a:pt x="3234" y="627"/>
                  </a:lnTo>
                  <a:lnTo>
                    <a:pt x="3233" y="626"/>
                  </a:lnTo>
                  <a:lnTo>
                    <a:pt x="3232" y="623"/>
                  </a:lnTo>
                  <a:lnTo>
                    <a:pt x="3232" y="620"/>
                  </a:lnTo>
                  <a:lnTo>
                    <a:pt x="3233" y="617"/>
                  </a:lnTo>
                  <a:lnTo>
                    <a:pt x="3234" y="616"/>
                  </a:lnTo>
                  <a:lnTo>
                    <a:pt x="3237" y="615"/>
                  </a:lnTo>
                  <a:lnTo>
                    <a:pt x="3240" y="615"/>
                  </a:lnTo>
                  <a:lnTo>
                    <a:pt x="3240" y="615"/>
                  </a:lnTo>
                  <a:close/>
                  <a:moveTo>
                    <a:pt x="3393" y="645"/>
                  </a:moveTo>
                  <a:lnTo>
                    <a:pt x="3483" y="661"/>
                  </a:lnTo>
                  <a:lnTo>
                    <a:pt x="3485" y="662"/>
                  </a:lnTo>
                  <a:lnTo>
                    <a:pt x="3487" y="664"/>
                  </a:lnTo>
                  <a:lnTo>
                    <a:pt x="3487" y="666"/>
                  </a:lnTo>
                  <a:lnTo>
                    <a:pt x="3489" y="669"/>
                  </a:lnTo>
                  <a:lnTo>
                    <a:pt x="3487" y="672"/>
                  </a:lnTo>
                  <a:lnTo>
                    <a:pt x="3485" y="673"/>
                  </a:lnTo>
                  <a:lnTo>
                    <a:pt x="3483" y="674"/>
                  </a:lnTo>
                  <a:lnTo>
                    <a:pt x="3481" y="674"/>
                  </a:lnTo>
                  <a:lnTo>
                    <a:pt x="3391" y="657"/>
                  </a:lnTo>
                  <a:lnTo>
                    <a:pt x="3388" y="655"/>
                  </a:lnTo>
                  <a:lnTo>
                    <a:pt x="3387" y="654"/>
                  </a:lnTo>
                  <a:lnTo>
                    <a:pt x="3385" y="651"/>
                  </a:lnTo>
                  <a:lnTo>
                    <a:pt x="3385" y="650"/>
                  </a:lnTo>
                  <a:lnTo>
                    <a:pt x="3387" y="647"/>
                  </a:lnTo>
                  <a:lnTo>
                    <a:pt x="3388" y="645"/>
                  </a:lnTo>
                  <a:lnTo>
                    <a:pt x="3391" y="645"/>
                  </a:lnTo>
                  <a:lnTo>
                    <a:pt x="3393" y="645"/>
                  </a:lnTo>
                  <a:lnTo>
                    <a:pt x="3393" y="645"/>
                  </a:lnTo>
                  <a:close/>
                  <a:moveTo>
                    <a:pt x="3547" y="673"/>
                  </a:moveTo>
                  <a:lnTo>
                    <a:pt x="3637" y="691"/>
                  </a:lnTo>
                  <a:lnTo>
                    <a:pt x="3640" y="691"/>
                  </a:lnTo>
                  <a:lnTo>
                    <a:pt x="3641" y="694"/>
                  </a:lnTo>
                  <a:lnTo>
                    <a:pt x="3642" y="695"/>
                  </a:lnTo>
                  <a:lnTo>
                    <a:pt x="3642" y="698"/>
                  </a:lnTo>
                  <a:lnTo>
                    <a:pt x="3641" y="700"/>
                  </a:lnTo>
                  <a:lnTo>
                    <a:pt x="3640" y="702"/>
                  </a:lnTo>
                  <a:lnTo>
                    <a:pt x="3637" y="703"/>
                  </a:lnTo>
                  <a:lnTo>
                    <a:pt x="3634" y="703"/>
                  </a:lnTo>
                  <a:lnTo>
                    <a:pt x="3544" y="687"/>
                  </a:lnTo>
                  <a:lnTo>
                    <a:pt x="3542" y="685"/>
                  </a:lnTo>
                  <a:lnTo>
                    <a:pt x="3540" y="684"/>
                  </a:lnTo>
                  <a:lnTo>
                    <a:pt x="3539" y="681"/>
                  </a:lnTo>
                  <a:lnTo>
                    <a:pt x="3539" y="679"/>
                  </a:lnTo>
                  <a:lnTo>
                    <a:pt x="3540" y="676"/>
                  </a:lnTo>
                  <a:lnTo>
                    <a:pt x="3542" y="674"/>
                  </a:lnTo>
                  <a:lnTo>
                    <a:pt x="3544" y="673"/>
                  </a:lnTo>
                  <a:lnTo>
                    <a:pt x="3547" y="673"/>
                  </a:lnTo>
                  <a:lnTo>
                    <a:pt x="3547" y="673"/>
                  </a:lnTo>
                  <a:close/>
                  <a:moveTo>
                    <a:pt x="3701" y="703"/>
                  </a:moveTo>
                  <a:lnTo>
                    <a:pt x="3791" y="719"/>
                  </a:lnTo>
                  <a:lnTo>
                    <a:pt x="3793" y="721"/>
                  </a:lnTo>
                  <a:lnTo>
                    <a:pt x="3795" y="722"/>
                  </a:lnTo>
                  <a:lnTo>
                    <a:pt x="3796" y="725"/>
                  </a:lnTo>
                  <a:lnTo>
                    <a:pt x="3796" y="728"/>
                  </a:lnTo>
                  <a:lnTo>
                    <a:pt x="3795" y="730"/>
                  </a:lnTo>
                  <a:lnTo>
                    <a:pt x="3793" y="732"/>
                  </a:lnTo>
                  <a:lnTo>
                    <a:pt x="3791" y="733"/>
                  </a:lnTo>
                  <a:lnTo>
                    <a:pt x="3788" y="733"/>
                  </a:lnTo>
                  <a:lnTo>
                    <a:pt x="3698" y="715"/>
                  </a:lnTo>
                  <a:lnTo>
                    <a:pt x="3695" y="715"/>
                  </a:lnTo>
                  <a:lnTo>
                    <a:pt x="3694" y="713"/>
                  </a:lnTo>
                  <a:lnTo>
                    <a:pt x="3693" y="711"/>
                  </a:lnTo>
                  <a:lnTo>
                    <a:pt x="3693" y="708"/>
                  </a:lnTo>
                  <a:lnTo>
                    <a:pt x="3694" y="706"/>
                  </a:lnTo>
                  <a:lnTo>
                    <a:pt x="3695" y="704"/>
                  </a:lnTo>
                  <a:lnTo>
                    <a:pt x="3698" y="703"/>
                  </a:lnTo>
                  <a:lnTo>
                    <a:pt x="3701" y="703"/>
                  </a:lnTo>
                  <a:lnTo>
                    <a:pt x="3701" y="703"/>
                  </a:lnTo>
                  <a:close/>
                  <a:moveTo>
                    <a:pt x="3855" y="732"/>
                  </a:moveTo>
                  <a:lnTo>
                    <a:pt x="3944" y="749"/>
                  </a:lnTo>
                  <a:lnTo>
                    <a:pt x="3947" y="751"/>
                  </a:lnTo>
                  <a:lnTo>
                    <a:pt x="3948" y="752"/>
                  </a:lnTo>
                  <a:lnTo>
                    <a:pt x="3950" y="755"/>
                  </a:lnTo>
                  <a:lnTo>
                    <a:pt x="3950" y="757"/>
                  </a:lnTo>
                  <a:lnTo>
                    <a:pt x="3948" y="759"/>
                  </a:lnTo>
                  <a:lnTo>
                    <a:pt x="3947" y="762"/>
                  </a:lnTo>
                  <a:lnTo>
                    <a:pt x="3944" y="762"/>
                  </a:lnTo>
                  <a:lnTo>
                    <a:pt x="3942" y="762"/>
                  </a:lnTo>
                  <a:lnTo>
                    <a:pt x="3852" y="745"/>
                  </a:lnTo>
                  <a:lnTo>
                    <a:pt x="3850" y="744"/>
                  </a:lnTo>
                  <a:lnTo>
                    <a:pt x="3848" y="742"/>
                  </a:lnTo>
                  <a:lnTo>
                    <a:pt x="3848" y="740"/>
                  </a:lnTo>
                  <a:lnTo>
                    <a:pt x="3848" y="737"/>
                  </a:lnTo>
                  <a:lnTo>
                    <a:pt x="3848" y="734"/>
                  </a:lnTo>
                  <a:lnTo>
                    <a:pt x="3850" y="733"/>
                  </a:lnTo>
                  <a:lnTo>
                    <a:pt x="3852" y="732"/>
                  </a:lnTo>
                  <a:lnTo>
                    <a:pt x="3855" y="732"/>
                  </a:lnTo>
                  <a:lnTo>
                    <a:pt x="3855" y="732"/>
                  </a:lnTo>
                  <a:close/>
                  <a:moveTo>
                    <a:pt x="4008" y="762"/>
                  </a:moveTo>
                  <a:lnTo>
                    <a:pt x="4098" y="779"/>
                  </a:lnTo>
                  <a:lnTo>
                    <a:pt x="4101" y="779"/>
                  </a:lnTo>
                  <a:lnTo>
                    <a:pt x="4102" y="782"/>
                  </a:lnTo>
                  <a:lnTo>
                    <a:pt x="4103" y="783"/>
                  </a:lnTo>
                  <a:lnTo>
                    <a:pt x="4103" y="786"/>
                  </a:lnTo>
                  <a:lnTo>
                    <a:pt x="4103" y="789"/>
                  </a:lnTo>
                  <a:lnTo>
                    <a:pt x="4101" y="790"/>
                  </a:lnTo>
                  <a:lnTo>
                    <a:pt x="4099" y="791"/>
                  </a:lnTo>
                  <a:lnTo>
                    <a:pt x="4097" y="791"/>
                  </a:lnTo>
                  <a:lnTo>
                    <a:pt x="4007" y="774"/>
                  </a:lnTo>
                  <a:lnTo>
                    <a:pt x="4004" y="774"/>
                  </a:lnTo>
                  <a:lnTo>
                    <a:pt x="4003" y="771"/>
                  </a:lnTo>
                  <a:lnTo>
                    <a:pt x="4001" y="770"/>
                  </a:lnTo>
                  <a:lnTo>
                    <a:pt x="4001" y="767"/>
                  </a:lnTo>
                  <a:lnTo>
                    <a:pt x="4001" y="764"/>
                  </a:lnTo>
                  <a:lnTo>
                    <a:pt x="4004" y="763"/>
                  </a:lnTo>
                  <a:lnTo>
                    <a:pt x="4006" y="762"/>
                  </a:lnTo>
                  <a:lnTo>
                    <a:pt x="4008" y="762"/>
                  </a:lnTo>
                  <a:lnTo>
                    <a:pt x="4008" y="762"/>
                  </a:lnTo>
                  <a:close/>
                  <a:moveTo>
                    <a:pt x="4163" y="791"/>
                  </a:moveTo>
                  <a:lnTo>
                    <a:pt x="4250" y="808"/>
                  </a:lnTo>
                  <a:lnTo>
                    <a:pt x="4253" y="808"/>
                  </a:lnTo>
                  <a:lnTo>
                    <a:pt x="4254" y="810"/>
                  </a:lnTo>
                  <a:lnTo>
                    <a:pt x="4256" y="812"/>
                  </a:lnTo>
                  <a:lnTo>
                    <a:pt x="4256" y="815"/>
                  </a:lnTo>
                  <a:lnTo>
                    <a:pt x="4254" y="817"/>
                  </a:lnTo>
                  <a:lnTo>
                    <a:pt x="4253" y="819"/>
                  </a:lnTo>
                  <a:lnTo>
                    <a:pt x="4250" y="820"/>
                  </a:lnTo>
                  <a:lnTo>
                    <a:pt x="4248" y="820"/>
                  </a:lnTo>
                  <a:lnTo>
                    <a:pt x="4161" y="804"/>
                  </a:lnTo>
                  <a:lnTo>
                    <a:pt x="4158" y="802"/>
                  </a:lnTo>
                  <a:lnTo>
                    <a:pt x="4156" y="801"/>
                  </a:lnTo>
                  <a:lnTo>
                    <a:pt x="4155" y="798"/>
                  </a:lnTo>
                  <a:lnTo>
                    <a:pt x="4155" y="796"/>
                  </a:lnTo>
                  <a:lnTo>
                    <a:pt x="4156" y="793"/>
                  </a:lnTo>
                  <a:lnTo>
                    <a:pt x="4158" y="791"/>
                  </a:lnTo>
                  <a:lnTo>
                    <a:pt x="4161" y="791"/>
                  </a:lnTo>
                  <a:lnTo>
                    <a:pt x="4163" y="791"/>
                  </a:lnTo>
                  <a:lnTo>
                    <a:pt x="4163" y="7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4840" y="468828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eek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46720" y="468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60640" y="4836960"/>
              <a:ext cx="399240" cy="344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02120" y="4937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59880" y="4836960"/>
              <a:ext cx="398880" cy="344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70648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03400" y="4624560"/>
            <a:ext cx="32400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11040" y="471960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27400" y="4624560"/>
            <a:ext cx="32400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22440" y="4719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51400" y="4624560"/>
            <a:ext cx="32364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7776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45760" y="448308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ek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47440" y="4483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1200" y="4624560"/>
            <a:ext cx="32364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5320" y="471960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44840" y="4624560"/>
            <a:ext cx="32400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7156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68840" y="4624560"/>
            <a:ext cx="32400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76480" y="471960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92840" y="4624560"/>
            <a:ext cx="32364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87520" y="4719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16480" y="4624560"/>
            <a:ext cx="32400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4320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76000" y="449892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ek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76240" y="4498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18320" y="4624560"/>
            <a:ext cx="32364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34240" y="471960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41960" y="4624560"/>
            <a:ext cx="32400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6868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65960" y="4624560"/>
            <a:ext cx="32364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73600" y="471960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89600" y="4624560"/>
            <a:ext cx="32400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84640" y="4719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113600" y="4624560"/>
            <a:ext cx="32400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4032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73600" y="5308560"/>
            <a:ext cx="87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ickoff meet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73600" y="5446800"/>
            <a:ext cx="1027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arifying ite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73600" y="558468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als with the 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67920" y="558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75760" y="572292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71160" y="5722920"/>
            <a:ext cx="25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38240" y="5018040"/>
            <a:ext cx="371520" cy="274680"/>
          </a:xfrm>
          <a:custGeom>
            <a:avLst/>
            <a:gdLst/>
            <a:ahLst/>
            <a:rect l="l" t="t" r="r" b="b"/>
            <a:pathLst>
              <a:path w="469" h="345">
                <a:moveTo>
                  <a:pt x="465" y="1"/>
                </a:moveTo>
                <a:lnTo>
                  <a:pt x="467" y="10"/>
                </a:lnTo>
                <a:lnTo>
                  <a:pt x="467" y="10"/>
                </a:lnTo>
                <a:lnTo>
                  <a:pt x="467" y="11"/>
                </a:lnTo>
                <a:lnTo>
                  <a:pt x="469" y="19"/>
                </a:lnTo>
                <a:lnTo>
                  <a:pt x="469" y="19"/>
                </a:lnTo>
                <a:lnTo>
                  <a:pt x="469" y="19"/>
                </a:lnTo>
                <a:lnTo>
                  <a:pt x="469" y="29"/>
                </a:lnTo>
                <a:lnTo>
                  <a:pt x="467" y="33"/>
                </a:lnTo>
                <a:lnTo>
                  <a:pt x="467" y="33"/>
                </a:lnTo>
                <a:lnTo>
                  <a:pt x="467" y="34"/>
                </a:lnTo>
                <a:lnTo>
                  <a:pt x="465" y="34"/>
                </a:lnTo>
                <a:lnTo>
                  <a:pt x="463" y="34"/>
                </a:lnTo>
                <a:lnTo>
                  <a:pt x="463" y="33"/>
                </a:lnTo>
                <a:lnTo>
                  <a:pt x="463" y="31"/>
                </a:lnTo>
                <a:lnTo>
                  <a:pt x="463" y="29"/>
                </a:lnTo>
                <a:lnTo>
                  <a:pt x="465" y="19"/>
                </a:lnTo>
                <a:lnTo>
                  <a:pt x="465" y="20"/>
                </a:lnTo>
                <a:lnTo>
                  <a:pt x="463" y="11"/>
                </a:lnTo>
                <a:lnTo>
                  <a:pt x="463" y="11"/>
                </a:lnTo>
                <a:lnTo>
                  <a:pt x="461" y="3"/>
                </a:lnTo>
                <a:lnTo>
                  <a:pt x="459" y="1"/>
                </a:lnTo>
                <a:lnTo>
                  <a:pt x="461" y="1"/>
                </a:lnTo>
                <a:lnTo>
                  <a:pt x="461" y="0"/>
                </a:lnTo>
                <a:lnTo>
                  <a:pt x="462" y="0"/>
                </a:lnTo>
                <a:lnTo>
                  <a:pt x="462" y="0"/>
                </a:lnTo>
                <a:lnTo>
                  <a:pt x="463" y="0"/>
                </a:lnTo>
                <a:lnTo>
                  <a:pt x="465" y="1"/>
                </a:lnTo>
                <a:lnTo>
                  <a:pt x="465" y="1"/>
                </a:lnTo>
                <a:close/>
                <a:moveTo>
                  <a:pt x="462" y="54"/>
                </a:moveTo>
                <a:lnTo>
                  <a:pt x="459" y="58"/>
                </a:lnTo>
                <a:lnTo>
                  <a:pt x="454" y="69"/>
                </a:lnTo>
                <a:lnTo>
                  <a:pt x="448" y="80"/>
                </a:lnTo>
                <a:lnTo>
                  <a:pt x="447" y="82"/>
                </a:lnTo>
                <a:lnTo>
                  <a:pt x="446" y="82"/>
                </a:lnTo>
                <a:lnTo>
                  <a:pt x="446" y="82"/>
                </a:lnTo>
                <a:lnTo>
                  <a:pt x="444" y="82"/>
                </a:lnTo>
                <a:lnTo>
                  <a:pt x="443" y="80"/>
                </a:lnTo>
                <a:lnTo>
                  <a:pt x="443" y="79"/>
                </a:lnTo>
                <a:lnTo>
                  <a:pt x="443" y="79"/>
                </a:lnTo>
                <a:lnTo>
                  <a:pt x="444" y="78"/>
                </a:lnTo>
                <a:lnTo>
                  <a:pt x="451" y="67"/>
                </a:lnTo>
                <a:lnTo>
                  <a:pt x="455" y="57"/>
                </a:lnTo>
                <a:lnTo>
                  <a:pt x="458" y="52"/>
                </a:lnTo>
                <a:lnTo>
                  <a:pt x="458" y="52"/>
                </a:lnTo>
                <a:lnTo>
                  <a:pt x="459" y="50"/>
                </a:lnTo>
                <a:lnTo>
                  <a:pt x="459" y="50"/>
                </a:lnTo>
                <a:lnTo>
                  <a:pt x="461" y="52"/>
                </a:lnTo>
                <a:lnTo>
                  <a:pt x="461" y="52"/>
                </a:lnTo>
                <a:lnTo>
                  <a:pt x="462" y="52"/>
                </a:lnTo>
                <a:lnTo>
                  <a:pt x="462" y="54"/>
                </a:lnTo>
                <a:lnTo>
                  <a:pt x="462" y="54"/>
                </a:lnTo>
                <a:close/>
                <a:moveTo>
                  <a:pt x="433" y="98"/>
                </a:moveTo>
                <a:lnTo>
                  <a:pt x="431" y="102"/>
                </a:lnTo>
                <a:lnTo>
                  <a:pt x="421" y="113"/>
                </a:lnTo>
                <a:lnTo>
                  <a:pt x="413" y="121"/>
                </a:lnTo>
                <a:lnTo>
                  <a:pt x="410" y="121"/>
                </a:lnTo>
                <a:lnTo>
                  <a:pt x="409" y="121"/>
                </a:lnTo>
                <a:lnTo>
                  <a:pt x="409" y="120"/>
                </a:lnTo>
                <a:lnTo>
                  <a:pt x="409" y="120"/>
                </a:lnTo>
                <a:lnTo>
                  <a:pt x="409" y="118"/>
                </a:lnTo>
                <a:lnTo>
                  <a:pt x="409" y="118"/>
                </a:lnTo>
                <a:lnTo>
                  <a:pt x="417" y="110"/>
                </a:lnTo>
                <a:lnTo>
                  <a:pt x="428" y="99"/>
                </a:lnTo>
                <a:lnTo>
                  <a:pt x="431" y="95"/>
                </a:lnTo>
                <a:lnTo>
                  <a:pt x="431" y="95"/>
                </a:lnTo>
                <a:lnTo>
                  <a:pt x="432" y="95"/>
                </a:lnTo>
                <a:lnTo>
                  <a:pt x="433" y="95"/>
                </a:lnTo>
                <a:lnTo>
                  <a:pt x="433" y="97"/>
                </a:lnTo>
                <a:lnTo>
                  <a:pt x="433" y="98"/>
                </a:lnTo>
                <a:lnTo>
                  <a:pt x="433" y="98"/>
                </a:lnTo>
                <a:lnTo>
                  <a:pt x="433" y="98"/>
                </a:lnTo>
                <a:close/>
                <a:moveTo>
                  <a:pt x="397" y="136"/>
                </a:moveTo>
                <a:lnTo>
                  <a:pt x="383" y="147"/>
                </a:lnTo>
                <a:lnTo>
                  <a:pt x="374" y="155"/>
                </a:lnTo>
                <a:lnTo>
                  <a:pt x="372" y="155"/>
                </a:lnTo>
                <a:lnTo>
                  <a:pt x="371" y="155"/>
                </a:lnTo>
                <a:lnTo>
                  <a:pt x="371" y="155"/>
                </a:lnTo>
                <a:lnTo>
                  <a:pt x="370" y="155"/>
                </a:lnTo>
                <a:lnTo>
                  <a:pt x="370" y="154"/>
                </a:lnTo>
                <a:lnTo>
                  <a:pt x="370" y="152"/>
                </a:lnTo>
                <a:lnTo>
                  <a:pt x="371" y="152"/>
                </a:lnTo>
                <a:lnTo>
                  <a:pt x="380" y="144"/>
                </a:lnTo>
                <a:lnTo>
                  <a:pt x="394" y="132"/>
                </a:lnTo>
                <a:lnTo>
                  <a:pt x="395" y="132"/>
                </a:lnTo>
                <a:lnTo>
                  <a:pt x="395" y="132"/>
                </a:lnTo>
                <a:lnTo>
                  <a:pt x="397" y="133"/>
                </a:lnTo>
                <a:lnTo>
                  <a:pt x="397" y="135"/>
                </a:lnTo>
                <a:lnTo>
                  <a:pt x="397" y="135"/>
                </a:lnTo>
                <a:lnTo>
                  <a:pt x="397" y="136"/>
                </a:lnTo>
                <a:lnTo>
                  <a:pt x="397" y="136"/>
                </a:lnTo>
                <a:close/>
                <a:moveTo>
                  <a:pt x="356" y="169"/>
                </a:moveTo>
                <a:lnTo>
                  <a:pt x="353" y="170"/>
                </a:lnTo>
                <a:lnTo>
                  <a:pt x="337" y="182"/>
                </a:lnTo>
                <a:lnTo>
                  <a:pt x="331" y="186"/>
                </a:lnTo>
                <a:lnTo>
                  <a:pt x="330" y="186"/>
                </a:lnTo>
                <a:lnTo>
                  <a:pt x="329" y="186"/>
                </a:lnTo>
                <a:lnTo>
                  <a:pt x="327" y="186"/>
                </a:lnTo>
                <a:lnTo>
                  <a:pt x="327" y="184"/>
                </a:lnTo>
                <a:lnTo>
                  <a:pt x="327" y="184"/>
                </a:lnTo>
                <a:lnTo>
                  <a:pt x="329" y="182"/>
                </a:lnTo>
                <a:lnTo>
                  <a:pt x="334" y="178"/>
                </a:lnTo>
                <a:lnTo>
                  <a:pt x="351" y="167"/>
                </a:lnTo>
                <a:lnTo>
                  <a:pt x="353" y="165"/>
                </a:lnTo>
                <a:lnTo>
                  <a:pt x="353" y="165"/>
                </a:lnTo>
                <a:lnTo>
                  <a:pt x="355" y="165"/>
                </a:lnTo>
                <a:lnTo>
                  <a:pt x="356" y="166"/>
                </a:lnTo>
                <a:lnTo>
                  <a:pt x="356" y="167"/>
                </a:lnTo>
                <a:lnTo>
                  <a:pt x="356" y="167"/>
                </a:lnTo>
                <a:lnTo>
                  <a:pt x="356" y="169"/>
                </a:lnTo>
                <a:lnTo>
                  <a:pt x="356" y="169"/>
                </a:lnTo>
                <a:close/>
                <a:moveTo>
                  <a:pt x="312" y="199"/>
                </a:moveTo>
                <a:lnTo>
                  <a:pt x="302" y="205"/>
                </a:lnTo>
                <a:lnTo>
                  <a:pt x="287" y="215"/>
                </a:lnTo>
                <a:lnTo>
                  <a:pt x="285" y="215"/>
                </a:lnTo>
                <a:lnTo>
                  <a:pt x="285" y="215"/>
                </a:lnTo>
                <a:lnTo>
                  <a:pt x="284" y="214"/>
                </a:lnTo>
                <a:lnTo>
                  <a:pt x="284" y="212"/>
                </a:lnTo>
                <a:lnTo>
                  <a:pt x="284" y="212"/>
                </a:lnTo>
                <a:lnTo>
                  <a:pt x="284" y="211"/>
                </a:lnTo>
                <a:lnTo>
                  <a:pt x="299" y="201"/>
                </a:lnTo>
                <a:lnTo>
                  <a:pt x="310" y="194"/>
                </a:lnTo>
                <a:lnTo>
                  <a:pt x="311" y="194"/>
                </a:lnTo>
                <a:lnTo>
                  <a:pt x="311" y="194"/>
                </a:lnTo>
                <a:lnTo>
                  <a:pt x="314" y="196"/>
                </a:lnTo>
                <a:lnTo>
                  <a:pt x="314" y="196"/>
                </a:lnTo>
                <a:lnTo>
                  <a:pt x="314" y="197"/>
                </a:lnTo>
                <a:lnTo>
                  <a:pt x="312" y="199"/>
                </a:lnTo>
                <a:lnTo>
                  <a:pt x="312" y="199"/>
                </a:lnTo>
                <a:close/>
                <a:moveTo>
                  <a:pt x="268" y="226"/>
                </a:moveTo>
                <a:lnTo>
                  <a:pt x="262" y="228"/>
                </a:lnTo>
                <a:lnTo>
                  <a:pt x="242" y="241"/>
                </a:lnTo>
                <a:lnTo>
                  <a:pt x="240" y="241"/>
                </a:lnTo>
                <a:lnTo>
                  <a:pt x="240" y="241"/>
                </a:lnTo>
                <a:lnTo>
                  <a:pt x="239" y="241"/>
                </a:lnTo>
                <a:lnTo>
                  <a:pt x="239" y="239"/>
                </a:lnTo>
                <a:lnTo>
                  <a:pt x="238" y="238"/>
                </a:lnTo>
                <a:lnTo>
                  <a:pt x="238" y="238"/>
                </a:lnTo>
                <a:lnTo>
                  <a:pt x="239" y="237"/>
                </a:lnTo>
                <a:lnTo>
                  <a:pt x="239" y="237"/>
                </a:lnTo>
                <a:lnTo>
                  <a:pt x="259" y="226"/>
                </a:lnTo>
                <a:lnTo>
                  <a:pt x="266" y="222"/>
                </a:lnTo>
                <a:lnTo>
                  <a:pt x="266" y="222"/>
                </a:lnTo>
                <a:lnTo>
                  <a:pt x="268" y="222"/>
                </a:lnTo>
                <a:lnTo>
                  <a:pt x="269" y="223"/>
                </a:lnTo>
                <a:lnTo>
                  <a:pt x="269" y="223"/>
                </a:lnTo>
                <a:lnTo>
                  <a:pt x="269" y="224"/>
                </a:lnTo>
                <a:lnTo>
                  <a:pt x="268" y="226"/>
                </a:lnTo>
                <a:lnTo>
                  <a:pt x="268" y="226"/>
                </a:lnTo>
                <a:close/>
                <a:moveTo>
                  <a:pt x="223" y="250"/>
                </a:moveTo>
                <a:lnTo>
                  <a:pt x="220" y="252"/>
                </a:lnTo>
                <a:lnTo>
                  <a:pt x="197" y="264"/>
                </a:lnTo>
                <a:lnTo>
                  <a:pt x="195" y="265"/>
                </a:lnTo>
                <a:lnTo>
                  <a:pt x="193" y="265"/>
                </a:lnTo>
                <a:lnTo>
                  <a:pt x="191" y="264"/>
                </a:lnTo>
                <a:lnTo>
                  <a:pt x="191" y="262"/>
                </a:lnTo>
                <a:lnTo>
                  <a:pt x="193" y="261"/>
                </a:lnTo>
                <a:lnTo>
                  <a:pt x="195" y="260"/>
                </a:lnTo>
                <a:lnTo>
                  <a:pt x="217" y="249"/>
                </a:lnTo>
                <a:lnTo>
                  <a:pt x="220" y="248"/>
                </a:lnTo>
                <a:lnTo>
                  <a:pt x="221" y="246"/>
                </a:lnTo>
                <a:lnTo>
                  <a:pt x="221" y="246"/>
                </a:lnTo>
                <a:lnTo>
                  <a:pt x="223" y="248"/>
                </a:lnTo>
                <a:lnTo>
                  <a:pt x="223" y="249"/>
                </a:lnTo>
                <a:lnTo>
                  <a:pt x="223" y="250"/>
                </a:lnTo>
                <a:lnTo>
                  <a:pt x="223" y="250"/>
                </a:lnTo>
                <a:close/>
                <a:moveTo>
                  <a:pt x="175" y="275"/>
                </a:moveTo>
                <a:lnTo>
                  <a:pt x="174" y="275"/>
                </a:lnTo>
                <a:lnTo>
                  <a:pt x="151" y="286"/>
                </a:lnTo>
                <a:lnTo>
                  <a:pt x="148" y="287"/>
                </a:lnTo>
                <a:lnTo>
                  <a:pt x="147" y="287"/>
                </a:lnTo>
                <a:lnTo>
                  <a:pt x="145" y="287"/>
                </a:lnTo>
                <a:lnTo>
                  <a:pt x="145" y="286"/>
                </a:lnTo>
                <a:lnTo>
                  <a:pt x="145" y="286"/>
                </a:lnTo>
                <a:lnTo>
                  <a:pt x="145" y="284"/>
                </a:lnTo>
                <a:lnTo>
                  <a:pt x="147" y="283"/>
                </a:lnTo>
                <a:lnTo>
                  <a:pt x="148" y="282"/>
                </a:lnTo>
                <a:lnTo>
                  <a:pt x="172" y="271"/>
                </a:lnTo>
                <a:lnTo>
                  <a:pt x="174" y="271"/>
                </a:lnTo>
                <a:lnTo>
                  <a:pt x="175" y="271"/>
                </a:lnTo>
                <a:lnTo>
                  <a:pt x="175" y="271"/>
                </a:lnTo>
                <a:lnTo>
                  <a:pt x="176" y="271"/>
                </a:lnTo>
                <a:lnTo>
                  <a:pt x="176" y="272"/>
                </a:lnTo>
                <a:lnTo>
                  <a:pt x="176" y="272"/>
                </a:lnTo>
                <a:lnTo>
                  <a:pt x="176" y="273"/>
                </a:lnTo>
                <a:lnTo>
                  <a:pt x="175" y="275"/>
                </a:lnTo>
                <a:lnTo>
                  <a:pt x="175" y="275"/>
                </a:lnTo>
                <a:close/>
                <a:moveTo>
                  <a:pt x="127" y="296"/>
                </a:moveTo>
                <a:lnTo>
                  <a:pt x="126" y="296"/>
                </a:lnTo>
                <a:lnTo>
                  <a:pt x="100" y="307"/>
                </a:lnTo>
                <a:lnTo>
                  <a:pt x="100" y="307"/>
                </a:lnTo>
                <a:lnTo>
                  <a:pt x="99" y="307"/>
                </a:lnTo>
                <a:lnTo>
                  <a:pt x="98" y="307"/>
                </a:lnTo>
                <a:lnTo>
                  <a:pt x="98" y="307"/>
                </a:lnTo>
                <a:lnTo>
                  <a:pt x="98" y="307"/>
                </a:lnTo>
                <a:lnTo>
                  <a:pt x="96" y="306"/>
                </a:lnTo>
                <a:lnTo>
                  <a:pt x="96" y="305"/>
                </a:lnTo>
                <a:lnTo>
                  <a:pt x="98" y="305"/>
                </a:lnTo>
                <a:lnTo>
                  <a:pt x="98" y="305"/>
                </a:lnTo>
                <a:lnTo>
                  <a:pt x="99" y="303"/>
                </a:lnTo>
                <a:lnTo>
                  <a:pt x="123" y="292"/>
                </a:lnTo>
                <a:lnTo>
                  <a:pt x="126" y="292"/>
                </a:lnTo>
                <a:lnTo>
                  <a:pt x="127" y="292"/>
                </a:lnTo>
                <a:lnTo>
                  <a:pt x="129" y="292"/>
                </a:lnTo>
                <a:lnTo>
                  <a:pt x="129" y="294"/>
                </a:lnTo>
                <a:lnTo>
                  <a:pt x="129" y="295"/>
                </a:lnTo>
                <a:lnTo>
                  <a:pt x="129" y="295"/>
                </a:lnTo>
                <a:lnTo>
                  <a:pt x="127" y="296"/>
                </a:lnTo>
                <a:lnTo>
                  <a:pt x="127" y="296"/>
                </a:lnTo>
                <a:close/>
                <a:moveTo>
                  <a:pt x="80" y="317"/>
                </a:moveTo>
                <a:lnTo>
                  <a:pt x="74" y="318"/>
                </a:lnTo>
                <a:lnTo>
                  <a:pt x="51" y="328"/>
                </a:lnTo>
                <a:lnTo>
                  <a:pt x="50" y="328"/>
                </a:lnTo>
                <a:lnTo>
                  <a:pt x="50" y="328"/>
                </a:lnTo>
                <a:lnTo>
                  <a:pt x="49" y="326"/>
                </a:lnTo>
                <a:lnTo>
                  <a:pt x="49" y="326"/>
                </a:lnTo>
                <a:lnTo>
                  <a:pt x="49" y="325"/>
                </a:lnTo>
                <a:lnTo>
                  <a:pt x="49" y="324"/>
                </a:lnTo>
                <a:lnTo>
                  <a:pt x="50" y="324"/>
                </a:lnTo>
                <a:lnTo>
                  <a:pt x="73" y="314"/>
                </a:lnTo>
                <a:lnTo>
                  <a:pt x="79" y="313"/>
                </a:lnTo>
                <a:lnTo>
                  <a:pt x="80" y="313"/>
                </a:lnTo>
                <a:lnTo>
                  <a:pt x="80" y="313"/>
                </a:lnTo>
                <a:lnTo>
                  <a:pt x="81" y="313"/>
                </a:lnTo>
                <a:lnTo>
                  <a:pt x="81" y="314"/>
                </a:lnTo>
                <a:lnTo>
                  <a:pt x="81" y="316"/>
                </a:lnTo>
                <a:lnTo>
                  <a:pt x="80" y="317"/>
                </a:lnTo>
                <a:lnTo>
                  <a:pt x="80" y="317"/>
                </a:lnTo>
                <a:close/>
                <a:moveTo>
                  <a:pt x="31" y="335"/>
                </a:moveTo>
                <a:lnTo>
                  <a:pt x="21" y="339"/>
                </a:lnTo>
                <a:lnTo>
                  <a:pt x="2" y="345"/>
                </a:lnTo>
                <a:lnTo>
                  <a:pt x="1" y="345"/>
                </a:lnTo>
                <a:lnTo>
                  <a:pt x="1" y="345"/>
                </a:lnTo>
                <a:lnTo>
                  <a:pt x="0" y="345"/>
                </a:lnTo>
                <a:lnTo>
                  <a:pt x="0" y="344"/>
                </a:lnTo>
                <a:lnTo>
                  <a:pt x="0" y="343"/>
                </a:lnTo>
                <a:lnTo>
                  <a:pt x="0" y="343"/>
                </a:lnTo>
                <a:lnTo>
                  <a:pt x="0" y="341"/>
                </a:lnTo>
                <a:lnTo>
                  <a:pt x="1" y="341"/>
                </a:lnTo>
                <a:lnTo>
                  <a:pt x="20" y="335"/>
                </a:lnTo>
                <a:lnTo>
                  <a:pt x="30" y="330"/>
                </a:lnTo>
                <a:lnTo>
                  <a:pt x="30" y="330"/>
                </a:lnTo>
                <a:lnTo>
                  <a:pt x="31" y="330"/>
                </a:lnTo>
                <a:lnTo>
                  <a:pt x="31" y="332"/>
                </a:lnTo>
                <a:lnTo>
                  <a:pt x="32" y="332"/>
                </a:lnTo>
                <a:lnTo>
                  <a:pt x="32" y="333"/>
                </a:lnTo>
                <a:lnTo>
                  <a:pt x="31" y="335"/>
                </a:lnTo>
                <a:lnTo>
                  <a:pt x="31" y="335"/>
                </a:lnTo>
                <a:lnTo>
                  <a:pt x="31" y="33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76640" y="4991040"/>
            <a:ext cx="58680" cy="58680"/>
          </a:xfrm>
          <a:custGeom>
            <a:avLst/>
            <a:gdLst/>
            <a:ahLst/>
            <a:rect l="l" t="t" r="r" b="b"/>
            <a:pathLst>
              <a:path w="75" h="74">
                <a:moveTo>
                  <a:pt x="52" y="72"/>
                </a:moveTo>
                <a:lnTo>
                  <a:pt x="59" y="68"/>
                </a:lnTo>
                <a:lnTo>
                  <a:pt x="64" y="64"/>
                </a:lnTo>
                <a:lnTo>
                  <a:pt x="68" y="58"/>
                </a:lnTo>
                <a:lnTo>
                  <a:pt x="72" y="51"/>
                </a:lnTo>
                <a:lnTo>
                  <a:pt x="74" y="49"/>
                </a:lnTo>
                <a:lnTo>
                  <a:pt x="74" y="45"/>
                </a:lnTo>
                <a:lnTo>
                  <a:pt x="75" y="40"/>
                </a:lnTo>
                <a:lnTo>
                  <a:pt x="75" y="38"/>
                </a:lnTo>
                <a:lnTo>
                  <a:pt x="75" y="34"/>
                </a:lnTo>
                <a:lnTo>
                  <a:pt x="74" y="30"/>
                </a:lnTo>
                <a:lnTo>
                  <a:pt x="72" y="27"/>
                </a:lnTo>
                <a:lnTo>
                  <a:pt x="72" y="23"/>
                </a:lnTo>
                <a:lnTo>
                  <a:pt x="68" y="16"/>
                </a:lnTo>
                <a:lnTo>
                  <a:pt x="63" y="11"/>
                </a:lnTo>
                <a:lnTo>
                  <a:pt x="57" y="6"/>
                </a:lnTo>
                <a:lnTo>
                  <a:pt x="52" y="2"/>
                </a:lnTo>
                <a:lnTo>
                  <a:pt x="48" y="1"/>
                </a:lnTo>
                <a:lnTo>
                  <a:pt x="45" y="1"/>
                </a:lnTo>
                <a:lnTo>
                  <a:pt x="41" y="0"/>
                </a:lnTo>
                <a:lnTo>
                  <a:pt x="37" y="0"/>
                </a:lnTo>
                <a:lnTo>
                  <a:pt x="34" y="0"/>
                </a:lnTo>
                <a:lnTo>
                  <a:pt x="30" y="1"/>
                </a:lnTo>
                <a:lnTo>
                  <a:pt x="26" y="1"/>
                </a:lnTo>
                <a:lnTo>
                  <a:pt x="23" y="2"/>
                </a:lnTo>
                <a:lnTo>
                  <a:pt x="23" y="2"/>
                </a:lnTo>
                <a:lnTo>
                  <a:pt x="17" y="6"/>
                </a:lnTo>
                <a:lnTo>
                  <a:pt x="10" y="11"/>
                </a:lnTo>
                <a:lnTo>
                  <a:pt x="6" y="16"/>
                </a:lnTo>
                <a:lnTo>
                  <a:pt x="3" y="23"/>
                </a:lnTo>
                <a:lnTo>
                  <a:pt x="2" y="27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0" y="40"/>
                </a:lnTo>
                <a:lnTo>
                  <a:pt x="0" y="45"/>
                </a:lnTo>
                <a:lnTo>
                  <a:pt x="2" y="49"/>
                </a:lnTo>
                <a:lnTo>
                  <a:pt x="3" y="51"/>
                </a:lnTo>
                <a:lnTo>
                  <a:pt x="6" y="58"/>
                </a:lnTo>
                <a:lnTo>
                  <a:pt x="11" y="64"/>
                </a:lnTo>
                <a:lnTo>
                  <a:pt x="17" y="69"/>
                </a:lnTo>
                <a:lnTo>
                  <a:pt x="23" y="72"/>
                </a:lnTo>
                <a:lnTo>
                  <a:pt x="26" y="73"/>
                </a:lnTo>
                <a:lnTo>
                  <a:pt x="30" y="74"/>
                </a:lnTo>
                <a:lnTo>
                  <a:pt x="33" y="74"/>
                </a:lnTo>
                <a:lnTo>
                  <a:pt x="37" y="74"/>
                </a:lnTo>
                <a:lnTo>
                  <a:pt x="41" y="74"/>
                </a:lnTo>
                <a:lnTo>
                  <a:pt x="44" y="74"/>
                </a:lnTo>
                <a:lnTo>
                  <a:pt x="48" y="73"/>
                </a:lnTo>
                <a:lnTo>
                  <a:pt x="5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01480" y="5288040"/>
            <a:ext cx="59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am agi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01840" y="542592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el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03320" y="5425920"/>
            <a:ext cx="11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02200" y="556416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2760" y="5564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03640" y="5702400"/>
            <a:ext cx="279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M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02560" y="584028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iteboar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01840" y="5978520"/>
            <a:ext cx="53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ketch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88920" y="5978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02920" y="611676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99400" y="6116760"/>
            <a:ext cx="3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84280" y="5018040"/>
            <a:ext cx="104760" cy="263520"/>
          </a:xfrm>
          <a:custGeom>
            <a:avLst/>
            <a:gdLst/>
            <a:ahLst/>
            <a:rect l="l" t="t" r="r" b="b"/>
            <a:pathLst>
              <a:path w="132" h="331">
                <a:moveTo>
                  <a:pt x="1" y="1"/>
                </a:moveTo>
                <a:lnTo>
                  <a:pt x="9" y="0"/>
                </a:lnTo>
                <a:lnTo>
                  <a:pt x="17" y="0"/>
                </a:lnTo>
                <a:lnTo>
                  <a:pt x="26" y="0"/>
                </a:lnTo>
                <a:lnTo>
                  <a:pt x="32" y="1"/>
                </a:lnTo>
                <a:lnTo>
                  <a:pt x="32" y="1"/>
                </a:lnTo>
                <a:lnTo>
                  <a:pt x="34" y="2"/>
                </a:lnTo>
                <a:lnTo>
                  <a:pt x="34" y="4"/>
                </a:lnTo>
                <a:lnTo>
                  <a:pt x="32" y="5"/>
                </a:lnTo>
                <a:lnTo>
                  <a:pt x="32" y="5"/>
                </a:lnTo>
                <a:lnTo>
                  <a:pt x="31" y="5"/>
                </a:lnTo>
                <a:lnTo>
                  <a:pt x="26" y="4"/>
                </a:lnTo>
                <a:lnTo>
                  <a:pt x="19" y="4"/>
                </a:lnTo>
                <a:lnTo>
                  <a:pt x="11" y="4"/>
                </a:lnTo>
                <a:lnTo>
                  <a:pt x="1" y="5"/>
                </a:lnTo>
                <a:lnTo>
                  <a:pt x="0" y="5"/>
                </a:lnTo>
                <a:lnTo>
                  <a:pt x="0" y="4"/>
                </a:ln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close/>
                <a:moveTo>
                  <a:pt x="53" y="9"/>
                </a:moveTo>
                <a:lnTo>
                  <a:pt x="57" y="11"/>
                </a:lnTo>
                <a:lnTo>
                  <a:pt x="64" y="16"/>
                </a:lnTo>
                <a:lnTo>
                  <a:pt x="70" y="21"/>
                </a:lnTo>
                <a:lnTo>
                  <a:pt x="76" y="28"/>
                </a:lnTo>
                <a:lnTo>
                  <a:pt x="77" y="30"/>
                </a:lnTo>
                <a:lnTo>
                  <a:pt x="77" y="31"/>
                </a:lnTo>
                <a:lnTo>
                  <a:pt x="77" y="31"/>
                </a:lnTo>
                <a:lnTo>
                  <a:pt x="76" y="32"/>
                </a:lnTo>
                <a:lnTo>
                  <a:pt x="76" y="32"/>
                </a:lnTo>
                <a:lnTo>
                  <a:pt x="74" y="32"/>
                </a:lnTo>
                <a:lnTo>
                  <a:pt x="73" y="32"/>
                </a:lnTo>
                <a:lnTo>
                  <a:pt x="73" y="32"/>
                </a:lnTo>
                <a:lnTo>
                  <a:pt x="73" y="31"/>
                </a:lnTo>
                <a:lnTo>
                  <a:pt x="66" y="25"/>
                </a:lnTo>
                <a:lnTo>
                  <a:pt x="61" y="20"/>
                </a:lnTo>
                <a:lnTo>
                  <a:pt x="54" y="15"/>
                </a:lnTo>
                <a:lnTo>
                  <a:pt x="50" y="13"/>
                </a:lnTo>
                <a:lnTo>
                  <a:pt x="50" y="12"/>
                </a:lnTo>
                <a:lnTo>
                  <a:pt x="50" y="11"/>
                </a:lnTo>
                <a:lnTo>
                  <a:pt x="50" y="11"/>
                </a:lnTo>
                <a:lnTo>
                  <a:pt x="51" y="9"/>
                </a:lnTo>
                <a:lnTo>
                  <a:pt x="51" y="9"/>
                </a:lnTo>
                <a:lnTo>
                  <a:pt x="53" y="9"/>
                </a:lnTo>
                <a:lnTo>
                  <a:pt x="53" y="9"/>
                </a:lnTo>
                <a:close/>
                <a:moveTo>
                  <a:pt x="89" y="47"/>
                </a:moveTo>
                <a:lnTo>
                  <a:pt x="94" y="53"/>
                </a:lnTo>
                <a:lnTo>
                  <a:pt x="98" y="62"/>
                </a:lnTo>
                <a:lnTo>
                  <a:pt x="103" y="73"/>
                </a:lnTo>
                <a:lnTo>
                  <a:pt x="103" y="74"/>
                </a:lnTo>
                <a:lnTo>
                  <a:pt x="103" y="74"/>
                </a:lnTo>
                <a:lnTo>
                  <a:pt x="103" y="76"/>
                </a:lnTo>
                <a:lnTo>
                  <a:pt x="103" y="77"/>
                </a:lnTo>
                <a:lnTo>
                  <a:pt x="102" y="77"/>
                </a:lnTo>
                <a:lnTo>
                  <a:pt x="100" y="77"/>
                </a:lnTo>
                <a:lnTo>
                  <a:pt x="99" y="76"/>
                </a:lnTo>
                <a:lnTo>
                  <a:pt x="99" y="74"/>
                </a:lnTo>
                <a:lnTo>
                  <a:pt x="95" y="65"/>
                </a:lnTo>
                <a:lnTo>
                  <a:pt x="89" y="55"/>
                </a:lnTo>
                <a:lnTo>
                  <a:pt x="85" y="49"/>
                </a:lnTo>
                <a:lnTo>
                  <a:pt x="85" y="49"/>
                </a:lnTo>
                <a:lnTo>
                  <a:pt x="85" y="47"/>
                </a:lnTo>
                <a:lnTo>
                  <a:pt x="85" y="47"/>
                </a:lnTo>
                <a:lnTo>
                  <a:pt x="87" y="46"/>
                </a:lnTo>
                <a:lnTo>
                  <a:pt x="87" y="46"/>
                </a:lnTo>
                <a:lnTo>
                  <a:pt x="88" y="46"/>
                </a:lnTo>
                <a:lnTo>
                  <a:pt x="89" y="47"/>
                </a:lnTo>
                <a:lnTo>
                  <a:pt x="89" y="47"/>
                </a:lnTo>
                <a:close/>
                <a:moveTo>
                  <a:pt x="111" y="95"/>
                </a:moveTo>
                <a:lnTo>
                  <a:pt x="111" y="95"/>
                </a:lnTo>
                <a:lnTo>
                  <a:pt x="115" y="107"/>
                </a:lnTo>
                <a:lnTo>
                  <a:pt x="118" y="119"/>
                </a:lnTo>
                <a:lnTo>
                  <a:pt x="119" y="125"/>
                </a:lnTo>
                <a:lnTo>
                  <a:pt x="119" y="125"/>
                </a:lnTo>
                <a:lnTo>
                  <a:pt x="119" y="126"/>
                </a:lnTo>
                <a:lnTo>
                  <a:pt x="118" y="126"/>
                </a:lnTo>
                <a:lnTo>
                  <a:pt x="118" y="127"/>
                </a:lnTo>
                <a:lnTo>
                  <a:pt x="117" y="127"/>
                </a:lnTo>
                <a:lnTo>
                  <a:pt x="115" y="126"/>
                </a:lnTo>
                <a:lnTo>
                  <a:pt x="115" y="126"/>
                </a:lnTo>
                <a:lnTo>
                  <a:pt x="114" y="121"/>
                </a:lnTo>
                <a:lnTo>
                  <a:pt x="111" y="108"/>
                </a:lnTo>
                <a:lnTo>
                  <a:pt x="107" y="96"/>
                </a:lnTo>
                <a:lnTo>
                  <a:pt x="107" y="96"/>
                </a:lnTo>
                <a:lnTo>
                  <a:pt x="107" y="95"/>
                </a:lnTo>
                <a:lnTo>
                  <a:pt x="107" y="93"/>
                </a:lnTo>
                <a:lnTo>
                  <a:pt x="108" y="93"/>
                </a:lnTo>
                <a:lnTo>
                  <a:pt x="110" y="93"/>
                </a:lnTo>
                <a:lnTo>
                  <a:pt x="110" y="93"/>
                </a:lnTo>
                <a:lnTo>
                  <a:pt x="111" y="93"/>
                </a:lnTo>
                <a:lnTo>
                  <a:pt x="111" y="95"/>
                </a:lnTo>
                <a:lnTo>
                  <a:pt x="111" y="95"/>
                </a:lnTo>
                <a:close/>
                <a:moveTo>
                  <a:pt x="123" y="147"/>
                </a:moveTo>
                <a:lnTo>
                  <a:pt x="123" y="147"/>
                </a:lnTo>
                <a:lnTo>
                  <a:pt x="126" y="161"/>
                </a:lnTo>
                <a:lnTo>
                  <a:pt x="128" y="176"/>
                </a:lnTo>
                <a:lnTo>
                  <a:pt x="128" y="176"/>
                </a:lnTo>
                <a:lnTo>
                  <a:pt x="128" y="176"/>
                </a:lnTo>
                <a:lnTo>
                  <a:pt x="128" y="178"/>
                </a:lnTo>
                <a:lnTo>
                  <a:pt x="126" y="178"/>
                </a:lnTo>
                <a:lnTo>
                  <a:pt x="126" y="179"/>
                </a:lnTo>
                <a:lnTo>
                  <a:pt x="125" y="178"/>
                </a:lnTo>
                <a:lnTo>
                  <a:pt x="123" y="178"/>
                </a:lnTo>
                <a:lnTo>
                  <a:pt x="123" y="176"/>
                </a:lnTo>
                <a:lnTo>
                  <a:pt x="123" y="176"/>
                </a:lnTo>
                <a:lnTo>
                  <a:pt x="122" y="161"/>
                </a:lnTo>
                <a:lnTo>
                  <a:pt x="119" y="148"/>
                </a:lnTo>
                <a:lnTo>
                  <a:pt x="119" y="147"/>
                </a:lnTo>
                <a:lnTo>
                  <a:pt x="119" y="145"/>
                </a:lnTo>
                <a:lnTo>
                  <a:pt x="121" y="144"/>
                </a:lnTo>
                <a:lnTo>
                  <a:pt x="121" y="144"/>
                </a:lnTo>
                <a:lnTo>
                  <a:pt x="122" y="144"/>
                </a:lnTo>
                <a:lnTo>
                  <a:pt x="122" y="144"/>
                </a:lnTo>
                <a:lnTo>
                  <a:pt x="123" y="147"/>
                </a:lnTo>
                <a:lnTo>
                  <a:pt x="123" y="147"/>
                </a:lnTo>
                <a:close/>
                <a:moveTo>
                  <a:pt x="130" y="198"/>
                </a:moveTo>
                <a:lnTo>
                  <a:pt x="132" y="224"/>
                </a:lnTo>
                <a:lnTo>
                  <a:pt x="132" y="228"/>
                </a:lnTo>
                <a:lnTo>
                  <a:pt x="130" y="229"/>
                </a:lnTo>
                <a:lnTo>
                  <a:pt x="130" y="229"/>
                </a:lnTo>
                <a:lnTo>
                  <a:pt x="129" y="231"/>
                </a:lnTo>
                <a:lnTo>
                  <a:pt x="129" y="231"/>
                </a:lnTo>
                <a:lnTo>
                  <a:pt x="128" y="231"/>
                </a:lnTo>
                <a:lnTo>
                  <a:pt x="128" y="229"/>
                </a:lnTo>
                <a:lnTo>
                  <a:pt x="126" y="229"/>
                </a:lnTo>
                <a:lnTo>
                  <a:pt x="126" y="228"/>
                </a:lnTo>
                <a:lnTo>
                  <a:pt x="126" y="224"/>
                </a:lnTo>
                <a:lnTo>
                  <a:pt x="125" y="198"/>
                </a:lnTo>
                <a:lnTo>
                  <a:pt x="126" y="197"/>
                </a:lnTo>
                <a:lnTo>
                  <a:pt x="126" y="195"/>
                </a:lnTo>
                <a:lnTo>
                  <a:pt x="128" y="195"/>
                </a:lnTo>
                <a:lnTo>
                  <a:pt x="128" y="195"/>
                </a:lnTo>
                <a:lnTo>
                  <a:pt x="129" y="197"/>
                </a:lnTo>
                <a:lnTo>
                  <a:pt x="130" y="198"/>
                </a:lnTo>
                <a:lnTo>
                  <a:pt x="130" y="198"/>
                </a:lnTo>
                <a:close/>
                <a:moveTo>
                  <a:pt x="132" y="250"/>
                </a:moveTo>
                <a:lnTo>
                  <a:pt x="132" y="258"/>
                </a:lnTo>
                <a:lnTo>
                  <a:pt x="130" y="281"/>
                </a:lnTo>
                <a:lnTo>
                  <a:pt x="129" y="283"/>
                </a:lnTo>
                <a:lnTo>
                  <a:pt x="129" y="283"/>
                </a:lnTo>
                <a:lnTo>
                  <a:pt x="128" y="283"/>
                </a:lnTo>
                <a:lnTo>
                  <a:pt x="126" y="283"/>
                </a:lnTo>
                <a:lnTo>
                  <a:pt x="126" y="283"/>
                </a:lnTo>
                <a:lnTo>
                  <a:pt x="126" y="281"/>
                </a:lnTo>
                <a:lnTo>
                  <a:pt x="126" y="258"/>
                </a:lnTo>
                <a:lnTo>
                  <a:pt x="126" y="250"/>
                </a:lnTo>
                <a:lnTo>
                  <a:pt x="126" y="250"/>
                </a:lnTo>
                <a:lnTo>
                  <a:pt x="128" y="249"/>
                </a:lnTo>
                <a:lnTo>
                  <a:pt x="129" y="249"/>
                </a:lnTo>
                <a:lnTo>
                  <a:pt x="129" y="249"/>
                </a:lnTo>
                <a:lnTo>
                  <a:pt x="130" y="249"/>
                </a:lnTo>
                <a:lnTo>
                  <a:pt x="130" y="250"/>
                </a:lnTo>
                <a:lnTo>
                  <a:pt x="132" y="250"/>
                </a:lnTo>
                <a:lnTo>
                  <a:pt x="132" y="250"/>
                </a:lnTo>
                <a:close/>
                <a:moveTo>
                  <a:pt x="129" y="303"/>
                </a:moveTo>
                <a:lnTo>
                  <a:pt x="126" y="330"/>
                </a:lnTo>
                <a:lnTo>
                  <a:pt x="126" y="330"/>
                </a:lnTo>
                <a:lnTo>
                  <a:pt x="125" y="331"/>
                </a:lnTo>
                <a:lnTo>
                  <a:pt x="123" y="331"/>
                </a:lnTo>
                <a:lnTo>
                  <a:pt x="122" y="331"/>
                </a:lnTo>
                <a:lnTo>
                  <a:pt x="122" y="331"/>
                </a:lnTo>
                <a:lnTo>
                  <a:pt x="122" y="330"/>
                </a:lnTo>
                <a:lnTo>
                  <a:pt x="123" y="303"/>
                </a:lnTo>
                <a:lnTo>
                  <a:pt x="125" y="300"/>
                </a:lnTo>
                <a:lnTo>
                  <a:pt x="126" y="300"/>
                </a:lnTo>
                <a:lnTo>
                  <a:pt x="128" y="300"/>
                </a:lnTo>
                <a:lnTo>
                  <a:pt x="128" y="302"/>
                </a:lnTo>
                <a:lnTo>
                  <a:pt x="129" y="302"/>
                </a:lnTo>
                <a:lnTo>
                  <a:pt x="129" y="303"/>
                </a:lnTo>
                <a:lnTo>
                  <a:pt x="129" y="30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57280" y="4991040"/>
            <a:ext cx="59040" cy="58680"/>
          </a:xfrm>
          <a:custGeom>
            <a:avLst/>
            <a:gdLst/>
            <a:ahLst/>
            <a:rect l="l" t="t" r="r" b="b"/>
            <a:pathLst>
              <a:path w="75" h="74">
                <a:moveTo>
                  <a:pt x="74" y="30"/>
                </a:moveTo>
                <a:lnTo>
                  <a:pt x="72" y="25"/>
                </a:lnTo>
                <a:lnTo>
                  <a:pt x="71" y="21"/>
                </a:lnTo>
                <a:lnTo>
                  <a:pt x="68" y="16"/>
                </a:lnTo>
                <a:lnTo>
                  <a:pt x="63" y="11"/>
                </a:lnTo>
                <a:lnTo>
                  <a:pt x="57" y="5"/>
                </a:lnTo>
                <a:lnTo>
                  <a:pt x="51" y="2"/>
                </a:lnTo>
                <a:lnTo>
                  <a:pt x="48" y="1"/>
                </a:lnTo>
                <a:lnTo>
                  <a:pt x="44" y="1"/>
                </a:lnTo>
                <a:lnTo>
                  <a:pt x="41" y="0"/>
                </a:lnTo>
                <a:lnTo>
                  <a:pt x="37" y="0"/>
                </a:lnTo>
                <a:lnTo>
                  <a:pt x="33" y="0"/>
                </a:lnTo>
                <a:lnTo>
                  <a:pt x="29" y="1"/>
                </a:lnTo>
                <a:lnTo>
                  <a:pt x="26" y="2"/>
                </a:lnTo>
                <a:lnTo>
                  <a:pt x="22" y="2"/>
                </a:lnTo>
                <a:lnTo>
                  <a:pt x="15" y="6"/>
                </a:lnTo>
                <a:lnTo>
                  <a:pt x="10" y="12"/>
                </a:lnTo>
                <a:lnTo>
                  <a:pt x="6" y="17"/>
                </a:lnTo>
                <a:lnTo>
                  <a:pt x="3" y="23"/>
                </a:lnTo>
                <a:lnTo>
                  <a:pt x="2" y="27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46"/>
                </a:lnTo>
                <a:lnTo>
                  <a:pt x="2" y="49"/>
                </a:lnTo>
                <a:lnTo>
                  <a:pt x="3" y="53"/>
                </a:lnTo>
                <a:lnTo>
                  <a:pt x="7" y="59"/>
                </a:lnTo>
                <a:lnTo>
                  <a:pt x="11" y="65"/>
                </a:lnTo>
                <a:lnTo>
                  <a:pt x="17" y="69"/>
                </a:lnTo>
                <a:lnTo>
                  <a:pt x="23" y="72"/>
                </a:lnTo>
                <a:lnTo>
                  <a:pt x="26" y="73"/>
                </a:lnTo>
                <a:lnTo>
                  <a:pt x="30" y="74"/>
                </a:lnTo>
                <a:lnTo>
                  <a:pt x="34" y="74"/>
                </a:lnTo>
                <a:lnTo>
                  <a:pt x="37" y="74"/>
                </a:lnTo>
                <a:lnTo>
                  <a:pt x="41" y="74"/>
                </a:lnTo>
                <a:lnTo>
                  <a:pt x="45" y="74"/>
                </a:lnTo>
                <a:lnTo>
                  <a:pt x="49" y="73"/>
                </a:lnTo>
                <a:lnTo>
                  <a:pt x="52" y="72"/>
                </a:lnTo>
                <a:lnTo>
                  <a:pt x="59" y="68"/>
                </a:lnTo>
                <a:lnTo>
                  <a:pt x="64" y="64"/>
                </a:lnTo>
                <a:lnTo>
                  <a:pt x="68" y="58"/>
                </a:lnTo>
                <a:lnTo>
                  <a:pt x="72" y="51"/>
                </a:lnTo>
                <a:lnTo>
                  <a:pt x="74" y="47"/>
                </a:lnTo>
                <a:lnTo>
                  <a:pt x="74" y="45"/>
                </a:lnTo>
                <a:lnTo>
                  <a:pt x="75" y="40"/>
                </a:lnTo>
                <a:lnTo>
                  <a:pt x="75" y="36"/>
                </a:lnTo>
                <a:lnTo>
                  <a:pt x="74" y="34"/>
                </a:lnTo>
                <a:lnTo>
                  <a:pt x="74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02840" y="529920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02120" y="543708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d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72920" y="5437080"/>
            <a:ext cx="11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02480" y="557532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60760" y="5018040"/>
            <a:ext cx="387360" cy="263520"/>
          </a:xfrm>
          <a:custGeom>
            <a:avLst/>
            <a:gdLst/>
            <a:ahLst/>
            <a:rect l="l" t="t" r="r" b="b"/>
            <a:pathLst>
              <a:path w="489" h="330">
                <a:moveTo>
                  <a:pt x="3" y="0"/>
                </a:moveTo>
                <a:lnTo>
                  <a:pt x="29" y="18"/>
                </a:lnTo>
                <a:lnTo>
                  <a:pt x="29" y="19"/>
                </a:lnTo>
                <a:lnTo>
                  <a:pt x="29" y="19"/>
                </a:lnTo>
                <a:lnTo>
                  <a:pt x="29" y="20"/>
                </a:lnTo>
                <a:lnTo>
                  <a:pt x="28" y="22"/>
                </a:lnTo>
                <a:lnTo>
                  <a:pt x="26" y="22"/>
                </a:lnTo>
                <a:lnTo>
                  <a:pt x="26" y="22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close/>
                <a:moveTo>
                  <a:pt x="47" y="30"/>
                </a:moveTo>
                <a:lnTo>
                  <a:pt x="73" y="46"/>
                </a:lnTo>
                <a:lnTo>
                  <a:pt x="73" y="48"/>
                </a:lnTo>
                <a:lnTo>
                  <a:pt x="73" y="48"/>
                </a:lnTo>
                <a:lnTo>
                  <a:pt x="73" y="50"/>
                </a:lnTo>
                <a:lnTo>
                  <a:pt x="71" y="50"/>
                </a:lnTo>
                <a:lnTo>
                  <a:pt x="70" y="50"/>
                </a:lnTo>
                <a:lnTo>
                  <a:pt x="70" y="50"/>
                </a:lnTo>
                <a:lnTo>
                  <a:pt x="44" y="34"/>
                </a:lnTo>
                <a:lnTo>
                  <a:pt x="44" y="33"/>
                </a:lnTo>
                <a:lnTo>
                  <a:pt x="43" y="31"/>
                </a:lnTo>
                <a:lnTo>
                  <a:pt x="44" y="30"/>
                </a:lnTo>
                <a:lnTo>
                  <a:pt x="44" y="30"/>
                </a:lnTo>
                <a:lnTo>
                  <a:pt x="45" y="30"/>
                </a:lnTo>
                <a:lnTo>
                  <a:pt x="45" y="30"/>
                </a:lnTo>
                <a:lnTo>
                  <a:pt x="47" y="30"/>
                </a:lnTo>
                <a:lnTo>
                  <a:pt x="47" y="30"/>
                </a:lnTo>
                <a:close/>
                <a:moveTo>
                  <a:pt x="90" y="58"/>
                </a:moveTo>
                <a:lnTo>
                  <a:pt x="115" y="76"/>
                </a:lnTo>
                <a:lnTo>
                  <a:pt x="116" y="78"/>
                </a:lnTo>
                <a:lnTo>
                  <a:pt x="116" y="78"/>
                </a:lnTo>
                <a:lnTo>
                  <a:pt x="116" y="79"/>
                </a:lnTo>
                <a:lnTo>
                  <a:pt x="115" y="80"/>
                </a:lnTo>
                <a:lnTo>
                  <a:pt x="113" y="80"/>
                </a:lnTo>
                <a:lnTo>
                  <a:pt x="113" y="80"/>
                </a:lnTo>
                <a:lnTo>
                  <a:pt x="88" y="63"/>
                </a:lnTo>
                <a:lnTo>
                  <a:pt x="86" y="61"/>
                </a:lnTo>
                <a:lnTo>
                  <a:pt x="86" y="60"/>
                </a:lnTo>
                <a:lnTo>
                  <a:pt x="88" y="60"/>
                </a:lnTo>
                <a:lnTo>
                  <a:pt x="89" y="58"/>
                </a:lnTo>
                <a:lnTo>
                  <a:pt x="89" y="58"/>
                </a:lnTo>
                <a:lnTo>
                  <a:pt x="90" y="58"/>
                </a:lnTo>
                <a:lnTo>
                  <a:pt x="90" y="58"/>
                </a:lnTo>
                <a:close/>
                <a:moveTo>
                  <a:pt x="134" y="88"/>
                </a:moveTo>
                <a:lnTo>
                  <a:pt x="158" y="105"/>
                </a:lnTo>
                <a:lnTo>
                  <a:pt x="160" y="106"/>
                </a:lnTo>
                <a:lnTo>
                  <a:pt x="160" y="107"/>
                </a:lnTo>
                <a:lnTo>
                  <a:pt x="160" y="109"/>
                </a:lnTo>
                <a:lnTo>
                  <a:pt x="157" y="109"/>
                </a:lnTo>
                <a:lnTo>
                  <a:pt x="157" y="109"/>
                </a:lnTo>
                <a:lnTo>
                  <a:pt x="156" y="109"/>
                </a:lnTo>
                <a:lnTo>
                  <a:pt x="131" y="91"/>
                </a:lnTo>
                <a:lnTo>
                  <a:pt x="130" y="90"/>
                </a:lnTo>
                <a:lnTo>
                  <a:pt x="130" y="90"/>
                </a:lnTo>
                <a:lnTo>
                  <a:pt x="130" y="88"/>
                </a:lnTo>
                <a:lnTo>
                  <a:pt x="131" y="88"/>
                </a:lnTo>
                <a:lnTo>
                  <a:pt x="132" y="88"/>
                </a:lnTo>
                <a:lnTo>
                  <a:pt x="134" y="88"/>
                </a:lnTo>
                <a:lnTo>
                  <a:pt x="134" y="88"/>
                </a:lnTo>
                <a:close/>
                <a:moveTo>
                  <a:pt x="176" y="117"/>
                </a:moveTo>
                <a:lnTo>
                  <a:pt x="202" y="135"/>
                </a:lnTo>
                <a:lnTo>
                  <a:pt x="202" y="135"/>
                </a:lnTo>
                <a:lnTo>
                  <a:pt x="203" y="136"/>
                </a:lnTo>
                <a:lnTo>
                  <a:pt x="202" y="137"/>
                </a:lnTo>
                <a:lnTo>
                  <a:pt x="202" y="137"/>
                </a:lnTo>
                <a:lnTo>
                  <a:pt x="200" y="139"/>
                </a:lnTo>
                <a:lnTo>
                  <a:pt x="199" y="137"/>
                </a:lnTo>
                <a:lnTo>
                  <a:pt x="175" y="121"/>
                </a:lnTo>
                <a:lnTo>
                  <a:pt x="173" y="120"/>
                </a:lnTo>
                <a:lnTo>
                  <a:pt x="173" y="120"/>
                </a:lnTo>
                <a:lnTo>
                  <a:pt x="173" y="118"/>
                </a:lnTo>
                <a:lnTo>
                  <a:pt x="175" y="117"/>
                </a:lnTo>
                <a:lnTo>
                  <a:pt x="175" y="117"/>
                </a:lnTo>
                <a:lnTo>
                  <a:pt x="176" y="117"/>
                </a:lnTo>
                <a:lnTo>
                  <a:pt x="176" y="117"/>
                </a:lnTo>
                <a:lnTo>
                  <a:pt x="176" y="117"/>
                </a:lnTo>
                <a:close/>
                <a:moveTo>
                  <a:pt x="219" y="147"/>
                </a:moveTo>
                <a:lnTo>
                  <a:pt x="245" y="163"/>
                </a:lnTo>
                <a:lnTo>
                  <a:pt x="245" y="165"/>
                </a:lnTo>
                <a:lnTo>
                  <a:pt x="247" y="166"/>
                </a:lnTo>
                <a:lnTo>
                  <a:pt x="245" y="167"/>
                </a:lnTo>
                <a:lnTo>
                  <a:pt x="245" y="167"/>
                </a:lnTo>
                <a:lnTo>
                  <a:pt x="244" y="167"/>
                </a:lnTo>
                <a:lnTo>
                  <a:pt x="243" y="167"/>
                </a:lnTo>
                <a:lnTo>
                  <a:pt x="218" y="150"/>
                </a:lnTo>
                <a:lnTo>
                  <a:pt x="217" y="148"/>
                </a:lnTo>
                <a:lnTo>
                  <a:pt x="217" y="148"/>
                </a:lnTo>
                <a:lnTo>
                  <a:pt x="217" y="147"/>
                </a:lnTo>
                <a:lnTo>
                  <a:pt x="217" y="147"/>
                </a:lnTo>
                <a:lnTo>
                  <a:pt x="218" y="146"/>
                </a:lnTo>
                <a:lnTo>
                  <a:pt x="219" y="147"/>
                </a:lnTo>
                <a:lnTo>
                  <a:pt x="219" y="147"/>
                </a:lnTo>
                <a:close/>
                <a:moveTo>
                  <a:pt x="263" y="175"/>
                </a:moveTo>
                <a:lnTo>
                  <a:pt x="289" y="193"/>
                </a:lnTo>
                <a:lnTo>
                  <a:pt x="289" y="194"/>
                </a:lnTo>
                <a:lnTo>
                  <a:pt x="289" y="194"/>
                </a:lnTo>
                <a:lnTo>
                  <a:pt x="289" y="196"/>
                </a:lnTo>
                <a:lnTo>
                  <a:pt x="287" y="197"/>
                </a:lnTo>
                <a:lnTo>
                  <a:pt x="286" y="197"/>
                </a:lnTo>
                <a:lnTo>
                  <a:pt x="286" y="196"/>
                </a:lnTo>
                <a:lnTo>
                  <a:pt x="260" y="180"/>
                </a:lnTo>
                <a:lnTo>
                  <a:pt x="260" y="178"/>
                </a:lnTo>
                <a:lnTo>
                  <a:pt x="260" y="177"/>
                </a:lnTo>
                <a:lnTo>
                  <a:pt x="260" y="177"/>
                </a:lnTo>
                <a:lnTo>
                  <a:pt x="260" y="175"/>
                </a:lnTo>
                <a:lnTo>
                  <a:pt x="262" y="175"/>
                </a:lnTo>
                <a:lnTo>
                  <a:pt x="263" y="175"/>
                </a:lnTo>
                <a:lnTo>
                  <a:pt x="263" y="175"/>
                </a:lnTo>
                <a:close/>
                <a:moveTo>
                  <a:pt x="306" y="205"/>
                </a:moveTo>
                <a:lnTo>
                  <a:pt x="332" y="222"/>
                </a:lnTo>
                <a:lnTo>
                  <a:pt x="332" y="223"/>
                </a:lnTo>
                <a:lnTo>
                  <a:pt x="332" y="223"/>
                </a:lnTo>
                <a:lnTo>
                  <a:pt x="332" y="224"/>
                </a:lnTo>
                <a:lnTo>
                  <a:pt x="331" y="226"/>
                </a:lnTo>
                <a:lnTo>
                  <a:pt x="330" y="226"/>
                </a:lnTo>
                <a:lnTo>
                  <a:pt x="330" y="226"/>
                </a:lnTo>
                <a:lnTo>
                  <a:pt x="304" y="208"/>
                </a:lnTo>
                <a:lnTo>
                  <a:pt x="304" y="208"/>
                </a:lnTo>
                <a:lnTo>
                  <a:pt x="302" y="207"/>
                </a:lnTo>
                <a:lnTo>
                  <a:pt x="304" y="205"/>
                </a:lnTo>
                <a:lnTo>
                  <a:pt x="305" y="204"/>
                </a:lnTo>
                <a:lnTo>
                  <a:pt x="305" y="204"/>
                </a:lnTo>
                <a:lnTo>
                  <a:pt x="306" y="205"/>
                </a:lnTo>
                <a:lnTo>
                  <a:pt x="306" y="205"/>
                </a:lnTo>
                <a:close/>
                <a:moveTo>
                  <a:pt x="350" y="234"/>
                </a:moveTo>
                <a:lnTo>
                  <a:pt x="374" y="252"/>
                </a:lnTo>
                <a:lnTo>
                  <a:pt x="376" y="253"/>
                </a:lnTo>
                <a:lnTo>
                  <a:pt x="376" y="253"/>
                </a:lnTo>
                <a:lnTo>
                  <a:pt x="376" y="254"/>
                </a:lnTo>
                <a:lnTo>
                  <a:pt x="374" y="254"/>
                </a:lnTo>
                <a:lnTo>
                  <a:pt x="373" y="256"/>
                </a:lnTo>
                <a:lnTo>
                  <a:pt x="373" y="254"/>
                </a:lnTo>
                <a:lnTo>
                  <a:pt x="347" y="238"/>
                </a:lnTo>
                <a:lnTo>
                  <a:pt x="346" y="237"/>
                </a:lnTo>
                <a:lnTo>
                  <a:pt x="346" y="235"/>
                </a:lnTo>
                <a:lnTo>
                  <a:pt x="347" y="235"/>
                </a:lnTo>
                <a:lnTo>
                  <a:pt x="349" y="234"/>
                </a:lnTo>
                <a:lnTo>
                  <a:pt x="349" y="234"/>
                </a:lnTo>
                <a:lnTo>
                  <a:pt x="350" y="234"/>
                </a:lnTo>
                <a:lnTo>
                  <a:pt x="350" y="234"/>
                </a:lnTo>
                <a:close/>
                <a:moveTo>
                  <a:pt x="394" y="264"/>
                </a:moveTo>
                <a:lnTo>
                  <a:pt x="418" y="280"/>
                </a:lnTo>
                <a:lnTo>
                  <a:pt x="419" y="282"/>
                </a:lnTo>
                <a:lnTo>
                  <a:pt x="419" y="283"/>
                </a:lnTo>
                <a:lnTo>
                  <a:pt x="419" y="283"/>
                </a:lnTo>
                <a:lnTo>
                  <a:pt x="417" y="284"/>
                </a:lnTo>
                <a:lnTo>
                  <a:pt x="417" y="284"/>
                </a:lnTo>
                <a:lnTo>
                  <a:pt x="415" y="284"/>
                </a:lnTo>
                <a:lnTo>
                  <a:pt x="391" y="267"/>
                </a:lnTo>
                <a:lnTo>
                  <a:pt x="389" y="265"/>
                </a:lnTo>
                <a:lnTo>
                  <a:pt x="389" y="265"/>
                </a:lnTo>
                <a:lnTo>
                  <a:pt x="389" y="264"/>
                </a:lnTo>
                <a:lnTo>
                  <a:pt x="391" y="262"/>
                </a:lnTo>
                <a:lnTo>
                  <a:pt x="392" y="262"/>
                </a:lnTo>
                <a:lnTo>
                  <a:pt x="394" y="264"/>
                </a:lnTo>
                <a:lnTo>
                  <a:pt x="394" y="264"/>
                </a:lnTo>
                <a:close/>
                <a:moveTo>
                  <a:pt x="436" y="292"/>
                </a:moveTo>
                <a:lnTo>
                  <a:pt x="462" y="310"/>
                </a:lnTo>
                <a:lnTo>
                  <a:pt x="462" y="310"/>
                </a:lnTo>
                <a:lnTo>
                  <a:pt x="463" y="311"/>
                </a:lnTo>
                <a:lnTo>
                  <a:pt x="462" y="313"/>
                </a:lnTo>
                <a:lnTo>
                  <a:pt x="460" y="313"/>
                </a:lnTo>
                <a:lnTo>
                  <a:pt x="460" y="314"/>
                </a:lnTo>
                <a:lnTo>
                  <a:pt x="459" y="313"/>
                </a:lnTo>
                <a:lnTo>
                  <a:pt x="434" y="296"/>
                </a:lnTo>
                <a:lnTo>
                  <a:pt x="433" y="295"/>
                </a:lnTo>
                <a:lnTo>
                  <a:pt x="433" y="295"/>
                </a:lnTo>
                <a:lnTo>
                  <a:pt x="433" y="294"/>
                </a:lnTo>
                <a:lnTo>
                  <a:pt x="434" y="292"/>
                </a:lnTo>
                <a:lnTo>
                  <a:pt x="436" y="292"/>
                </a:lnTo>
                <a:lnTo>
                  <a:pt x="436" y="292"/>
                </a:lnTo>
                <a:lnTo>
                  <a:pt x="436" y="292"/>
                </a:lnTo>
                <a:close/>
                <a:moveTo>
                  <a:pt x="479" y="322"/>
                </a:moveTo>
                <a:lnTo>
                  <a:pt x="487" y="326"/>
                </a:lnTo>
                <a:lnTo>
                  <a:pt x="487" y="328"/>
                </a:lnTo>
                <a:lnTo>
                  <a:pt x="489" y="329"/>
                </a:lnTo>
                <a:lnTo>
                  <a:pt x="487" y="330"/>
                </a:lnTo>
                <a:lnTo>
                  <a:pt x="486" y="330"/>
                </a:lnTo>
                <a:lnTo>
                  <a:pt x="486" y="330"/>
                </a:lnTo>
                <a:lnTo>
                  <a:pt x="485" y="330"/>
                </a:lnTo>
                <a:lnTo>
                  <a:pt x="478" y="325"/>
                </a:lnTo>
                <a:lnTo>
                  <a:pt x="476" y="324"/>
                </a:lnTo>
                <a:lnTo>
                  <a:pt x="476" y="324"/>
                </a:lnTo>
                <a:lnTo>
                  <a:pt x="476" y="322"/>
                </a:lnTo>
                <a:lnTo>
                  <a:pt x="478" y="321"/>
                </a:lnTo>
                <a:lnTo>
                  <a:pt x="479" y="321"/>
                </a:lnTo>
                <a:lnTo>
                  <a:pt x="479" y="322"/>
                </a:lnTo>
                <a:lnTo>
                  <a:pt x="479" y="32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31960" y="4991040"/>
            <a:ext cx="58680" cy="58680"/>
          </a:xfrm>
          <a:custGeom>
            <a:avLst/>
            <a:gdLst/>
            <a:ahLst/>
            <a:rect l="l" t="t" r="r" b="b"/>
            <a:pathLst>
              <a:path w="75" h="74">
                <a:moveTo>
                  <a:pt x="68" y="58"/>
                </a:moveTo>
                <a:lnTo>
                  <a:pt x="69" y="55"/>
                </a:lnTo>
                <a:lnTo>
                  <a:pt x="72" y="51"/>
                </a:lnTo>
                <a:lnTo>
                  <a:pt x="74" y="49"/>
                </a:lnTo>
                <a:lnTo>
                  <a:pt x="74" y="45"/>
                </a:lnTo>
                <a:lnTo>
                  <a:pt x="75" y="40"/>
                </a:lnTo>
                <a:lnTo>
                  <a:pt x="75" y="38"/>
                </a:lnTo>
                <a:lnTo>
                  <a:pt x="75" y="34"/>
                </a:lnTo>
                <a:lnTo>
                  <a:pt x="74" y="30"/>
                </a:lnTo>
                <a:lnTo>
                  <a:pt x="72" y="23"/>
                </a:lnTo>
                <a:lnTo>
                  <a:pt x="68" y="17"/>
                </a:lnTo>
                <a:lnTo>
                  <a:pt x="64" y="11"/>
                </a:lnTo>
                <a:lnTo>
                  <a:pt x="59" y="6"/>
                </a:lnTo>
                <a:lnTo>
                  <a:pt x="55" y="4"/>
                </a:lnTo>
                <a:lnTo>
                  <a:pt x="52" y="2"/>
                </a:lnTo>
                <a:lnTo>
                  <a:pt x="48" y="1"/>
                </a:lnTo>
                <a:lnTo>
                  <a:pt x="44" y="1"/>
                </a:lnTo>
                <a:lnTo>
                  <a:pt x="41" y="0"/>
                </a:lnTo>
                <a:lnTo>
                  <a:pt x="37" y="0"/>
                </a:lnTo>
                <a:lnTo>
                  <a:pt x="34" y="0"/>
                </a:lnTo>
                <a:lnTo>
                  <a:pt x="30" y="1"/>
                </a:lnTo>
                <a:lnTo>
                  <a:pt x="23" y="2"/>
                </a:lnTo>
                <a:lnTo>
                  <a:pt x="16" y="6"/>
                </a:lnTo>
                <a:lnTo>
                  <a:pt x="11" y="11"/>
                </a:lnTo>
                <a:lnTo>
                  <a:pt x="6" y="16"/>
                </a:lnTo>
                <a:lnTo>
                  <a:pt x="6" y="16"/>
                </a:lnTo>
                <a:lnTo>
                  <a:pt x="4" y="20"/>
                </a:lnTo>
                <a:lnTo>
                  <a:pt x="3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0" y="40"/>
                </a:lnTo>
                <a:lnTo>
                  <a:pt x="0" y="45"/>
                </a:lnTo>
                <a:lnTo>
                  <a:pt x="3" y="51"/>
                </a:lnTo>
                <a:lnTo>
                  <a:pt x="6" y="58"/>
                </a:lnTo>
                <a:lnTo>
                  <a:pt x="10" y="64"/>
                </a:lnTo>
                <a:lnTo>
                  <a:pt x="16" y="69"/>
                </a:lnTo>
                <a:lnTo>
                  <a:pt x="19" y="70"/>
                </a:lnTo>
                <a:lnTo>
                  <a:pt x="23" y="72"/>
                </a:lnTo>
                <a:lnTo>
                  <a:pt x="26" y="73"/>
                </a:lnTo>
                <a:lnTo>
                  <a:pt x="30" y="74"/>
                </a:lnTo>
                <a:lnTo>
                  <a:pt x="33" y="74"/>
                </a:lnTo>
                <a:lnTo>
                  <a:pt x="37" y="74"/>
                </a:lnTo>
                <a:lnTo>
                  <a:pt x="41" y="74"/>
                </a:lnTo>
                <a:lnTo>
                  <a:pt x="44" y="74"/>
                </a:lnTo>
                <a:lnTo>
                  <a:pt x="50" y="72"/>
                </a:lnTo>
                <a:lnTo>
                  <a:pt x="57" y="69"/>
                </a:lnTo>
                <a:lnTo>
                  <a:pt x="63" y="64"/>
                </a:lnTo>
                <a:lnTo>
                  <a:pt x="68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9840" y="399420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25240" y="39942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88960" y="399420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27120" y="3994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ek ite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95160" y="5272200"/>
            <a:ext cx="1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22240" y="527220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61120" y="527220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op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94440" y="541008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94080" y="554832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als i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94440" y="568656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o muc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95520" y="58244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27440" y="5032440"/>
            <a:ext cx="235080" cy="222120"/>
          </a:xfrm>
          <a:custGeom>
            <a:avLst/>
            <a:gdLst/>
            <a:ahLst/>
            <a:rect l="l" t="t" r="r" b="b"/>
            <a:pathLst>
              <a:path w="297" h="280">
                <a:moveTo>
                  <a:pt x="281" y="1"/>
                </a:moveTo>
                <a:lnTo>
                  <a:pt x="286" y="9"/>
                </a:lnTo>
                <a:lnTo>
                  <a:pt x="290" y="17"/>
                </a:lnTo>
                <a:lnTo>
                  <a:pt x="294" y="27"/>
                </a:lnTo>
                <a:lnTo>
                  <a:pt x="294" y="28"/>
                </a:lnTo>
                <a:lnTo>
                  <a:pt x="294" y="30"/>
                </a:lnTo>
                <a:lnTo>
                  <a:pt x="294" y="30"/>
                </a:lnTo>
                <a:lnTo>
                  <a:pt x="293" y="31"/>
                </a:lnTo>
                <a:lnTo>
                  <a:pt x="291" y="31"/>
                </a:lnTo>
                <a:lnTo>
                  <a:pt x="290" y="31"/>
                </a:lnTo>
                <a:lnTo>
                  <a:pt x="290" y="30"/>
                </a:lnTo>
                <a:lnTo>
                  <a:pt x="290" y="28"/>
                </a:lnTo>
                <a:lnTo>
                  <a:pt x="286" y="20"/>
                </a:lnTo>
                <a:lnTo>
                  <a:pt x="282" y="12"/>
                </a:lnTo>
                <a:lnTo>
                  <a:pt x="277" y="4"/>
                </a:lnTo>
                <a:lnTo>
                  <a:pt x="277" y="2"/>
                </a:lnTo>
                <a:lnTo>
                  <a:pt x="277" y="1"/>
                </a:lnTo>
                <a:lnTo>
                  <a:pt x="277" y="0"/>
                </a:lnTo>
                <a:lnTo>
                  <a:pt x="278" y="0"/>
                </a:lnTo>
                <a:lnTo>
                  <a:pt x="278" y="0"/>
                </a:lnTo>
                <a:lnTo>
                  <a:pt x="281" y="1"/>
                </a:lnTo>
                <a:lnTo>
                  <a:pt x="281" y="1"/>
                </a:lnTo>
                <a:close/>
                <a:moveTo>
                  <a:pt x="297" y="50"/>
                </a:moveTo>
                <a:lnTo>
                  <a:pt x="297" y="54"/>
                </a:lnTo>
                <a:lnTo>
                  <a:pt x="297" y="64"/>
                </a:lnTo>
                <a:lnTo>
                  <a:pt x="296" y="72"/>
                </a:lnTo>
                <a:lnTo>
                  <a:pt x="293" y="81"/>
                </a:lnTo>
                <a:lnTo>
                  <a:pt x="291" y="81"/>
                </a:lnTo>
                <a:lnTo>
                  <a:pt x="291" y="83"/>
                </a:lnTo>
                <a:lnTo>
                  <a:pt x="290" y="83"/>
                </a:lnTo>
                <a:lnTo>
                  <a:pt x="290" y="83"/>
                </a:lnTo>
                <a:lnTo>
                  <a:pt x="289" y="81"/>
                </a:lnTo>
                <a:lnTo>
                  <a:pt x="289" y="81"/>
                </a:lnTo>
                <a:lnTo>
                  <a:pt x="287" y="80"/>
                </a:lnTo>
                <a:lnTo>
                  <a:pt x="289" y="80"/>
                </a:lnTo>
                <a:lnTo>
                  <a:pt x="290" y="72"/>
                </a:lnTo>
                <a:lnTo>
                  <a:pt x="293" y="62"/>
                </a:lnTo>
                <a:lnTo>
                  <a:pt x="293" y="54"/>
                </a:lnTo>
                <a:lnTo>
                  <a:pt x="293" y="50"/>
                </a:lnTo>
                <a:lnTo>
                  <a:pt x="293" y="50"/>
                </a:lnTo>
                <a:lnTo>
                  <a:pt x="294" y="49"/>
                </a:lnTo>
                <a:lnTo>
                  <a:pt x="294" y="49"/>
                </a:lnTo>
                <a:lnTo>
                  <a:pt x="296" y="49"/>
                </a:lnTo>
                <a:lnTo>
                  <a:pt x="296" y="49"/>
                </a:lnTo>
                <a:lnTo>
                  <a:pt x="297" y="49"/>
                </a:lnTo>
                <a:lnTo>
                  <a:pt x="297" y="50"/>
                </a:lnTo>
                <a:lnTo>
                  <a:pt x="297" y="50"/>
                </a:lnTo>
                <a:lnTo>
                  <a:pt x="297" y="50"/>
                </a:lnTo>
                <a:close/>
                <a:moveTo>
                  <a:pt x="283" y="102"/>
                </a:moveTo>
                <a:lnTo>
                  <a:pt x="278" y="111"/>
                </a:lnTo>
                <a:lnTo>
                  <a:pt x="272" y="121"/>
                </a:lnTo>
                <a:lnTo>
                  <a:pt x="267" y="128"/>
                </a:lnTo>
                <a:lnTo>
                  <a:pt x="266" y="128"/>
                </a:lnTo>
                <a:lnTo>
                  <a:pt x="266" y="128"/>
                </a:lnTo>
                <a:lnTo>
                  <a:pt x="264" y="128"/>
                </a:lnTo>
                <a:lnTo>
                  <a:pt x="263" y="126"/>
                </a:lnTo>
                <a:lnTo>
                  <a:pt x="263" y="126"/>
                </a:lnTo>
                <a:lnTo>
                  <a:pt x="263" y="125"/>
                </a:lnTo>
                <a:lnTo>
                  <a:pt x="263" y="125"/>
                </a:lnTo>
                <a:lnTo>
                  <a:pt x="268" y="118"/>
                </a:lnTo>
                <a:lnTo>
                  <a:pt x="275" y="108"/>
                </a:lnTo>
                <a:lnTo>
                  <a:pt x="281" y="99"/>
                </a:lnTo>
                <a:lnTo>
                  <a:pt x="281" y="99"/>
                </a:lnTo>
                <a:lnTo>
                  <a:pt x="281" y="98"/>
                </a:lnTo>
                <a:lnTo>
                  <a:pt x="282" y="98"/>
                </a:lnTo>
                <a:lnTo>
                  <a:pt x="283" y="99"/>
                </a:lnTo>
                <a:lnTo>
                  <a:pt x="283" y="99"/>
                </a:lnTo>
                <a:lnTo>
                  <a:pt x="283" y="100"/>
                </a:lnTo>
                <a:lnTo>
                  <a:pt x="285" y="100"/>
                </a:lnTo>
                <a:lnTo>
                  <a:pt x="283" y="102"/>
                </a:lnTo>
                <a:lnTo>
                  <a:pt x="283" y="102"/>
                </a:lnTo>
                <a:close/>
                <a:moveTo>
                  <a:pt x="252" y="144"/>
                </a:moveTo>
                <a:lnTo>
                  <a:pt x="248" y="149"/>
                </a:lnTo>
                <a:lnTo>
                  <a:pt x="237" y="157"/>
                </a:lnTo>
                <a:lnTo>
                  <a:pt x="230" y="164"/>
                </a:lnTo>
                <a:lnTo>
                  <a:pt x="229" y="166"/>
                </a:lnTo>
                <a:lnTo>
                  <a:pt x="228" y="164"/>
                </a:lnTo>
                <a:lnTo>
                  <a:pt x="228" y="164"/>
                </a:lnTo>
                <a:lnTo>
                  <a:pt x="226" y="163"/>
                </a:lnTo>
                <a:lnTo>
                  <a:pt x="226" y="162"/>
                </a:lnTo>
                <a:lnTo>
                  <a:pt x="228" y="162"/>
                </a:lnTo>
                <a:lnTo>
                  <a:pt x="234" y="155"/>
                </a:lnTo>
                <a:lnTo>
                  <a:pt x="244" y="145"/>
                </a:lnTo>
                <a:lnTo>
                  <a:pt x="249" y="141"/>
                </a:lnTo>
                <a:lnTo>
                  <a:pt x="249" y="140"/>
                </a:lnTo>
                <a:lnTo>
                  <a:pt x="251" y="140"/>
                </a:lnTo>
                <a:lnTo>
                  <a:pt x="252" y="140"/>
                </a:lnTo>
                <a:lnTo>
                  <a:pt x="252" y="141"/>
                </a:lnTo>
                <a:lnTo>
                  <a:pt x="252" y="141"/>
                </a:lnTo>
                <a:lnTo>
                  <a:pt x="253" y="142"/>
                </a:lnTo>
                <a:lnTo>
                  <a:pt x="252" y="142"/>
                </a:lnTo>
                <a:lnTo>
                  <a:pt x="252" y="144"/>
                </a:lnTo>
                <a:lnTo>
                  <a:pt x="252" y="144"/>
                </a:lnTo>
                <a:close/>
                <a:moveTo>
                  <a:pt x="213" y="178"/>
                </a:moveTo>
                <a:lnTo>
                  <a:pt x="203" y="186"/>
                </a:lnTo>
                <a:lnTo>
                  <a:pt x="191" y="194"/>
                </a:lnTo>
                <a:lnTo>
                  <a:pt x="188" y="196"/>
                </a:lnTo>
                <a:lnTo>
                  <a:pt x="187" y="197"/>
                </a:lnTo>
                <a:lnTo>
                  <a:pt x="185" y="196"/>
                </a:lnTo>
                <a:lnTo>
                  <a:pt x="185" y="196"/>
                </a:lnTo>
                <a:lnTo>
                  <a:pt x="185" y="194"/>
                </a:lnTo>
                <a:lnTo>
                  <a:pt x="185" y="194"/>
                </a:lnTo>
                <a:lnTo>
                  <a:pt x="185" y="193"/>
                </a:lnTo>
                <a:lnTo>
                  <a:pt x="188" y="191"/>
                </a:lnTo>
                <a:lnTo>
                  <a:pt x="200" y="182"/>
                </a:lnTo>
                <a:lnTo>
                  <a:pt x="210" y="175"/>
                </a:lnTo>
                <a:lnTo>
                  <a:pt x="211" y="175"/>
                </a:lnTo>
                <a:lnTo>
                  <a:pt x="211" y="175"/>
                </a:lnTo>
                <a:lnTo>
                  <a:pt x="214" y="175"/>
                </a:lnTo>
                <a:lnTo>
                  <a:pt x="214" y="176"/>
                </a:lnTo>
                <a:lnTo>
                  <a:pt x="214" y="178"/>
                </a:lnTo>
                <a:lnTo>
                  <a:pt x="213" y="178"/>
                </a:lnTo>
                <a:lnTo>
                  <a:pt x="213" y="178"/>
                </a:lnTo>
                <a:close/>
                <a:moveTo>
                  <a:pt x="169" y="208"/>
                </a:moveTo>
                <a:lnTo>
                  <a:pt x="162" y="212"/>
                </a:lnTo>
                <a:lnTo>
                  <a:pt x="147" y="221"/>
                </a:lnTo>
                <a:lnTo>
                  <a:pt x="143" y="223"/>
                </a:lnTo>
                <a:lnTo>
                  <a:pt x="142" y="223"/>
                </a:lnTo>
                <a:lnTo>
                  <a:pt x="142" y="223"/>
                </a:lnTo>
                <a:lnTo>
                  <a:pt x="141" y="221"/>
                </a:lnTo>
                <a:lnTo>
                  <a:pt x="141" y="220"/>
                </a:lnTo>
                <a:lnTo>
                  <a:pt x="141" y="220"/>
                </a:lnTo>
                <a:lnTo>
                  <a:pt x="141" y="219"/>
                </a:lnTo>
                <a:lnTo>
                  <a:pt x="145" y="217"/>
                </a:lnTo>
                <a:lnTo>
                  <a:pt x="160" y="209"/>
                </a:lnTo>
                <a:lnTo>
                  <a:pt x="168" y="204"/>
                </a:lnTo>
                <a:lnTo>
                  <a:pt x="168" y="204"/>
                </a:lnTo>
                <a:lnTo>
                  <a:pt x="169" y="204"/>
                </a:lnTo>
                <a:lnTo>
                  <a:pt x="170" y="205"/>
                </a:lnTo>
                <a:lnTo>
                  <a:pt x="170" y="205"/>
                </a:lnTo>
                <a:lnTo>
                  <a:pt x="170" y="206"/>
                </a:lnTo>
                <a:lnTo>
                  <a:pt x="169" y="208"/>
                </a:lnTo>
                <a:lnTo>
                  <a:pt x="169" y="208"/>
                </a:lnTo>
                <a:close/>
                <a:moveTo>
                  <a:pt x="124" y="232"/>
                </a:moveTo>
                <a:lnTo>
                  <a:pt x="115" y="238"/>
                </a:lnTo>
                <a:lnTo>
                  <a:pt x="98" y="244"/>
                </a:lnTo>
                <a:lnTo>
                  <a:pt x="96" y="246"/>
                </a:lnTo>
                <a:lnTo>
                  <a:pt x="94" y="246"/>
                </a:lnTo>
                <a:lnTo>
                  <a:pt x="93" y="244"/>
                </a:lnTo>
                <a:lnTo>
                  <a:pt x="93" y="244"/>
                </a:lnTo>
                <a:lnTo>
                  <a:pt x="93" y="243"/>
                </a:lnTo>
                <a:lnTo>
                  <a:pt x="93" y="243"/>
                </a:lnTo>
                <a:lnTo>
                  <a:pt x="94" y="242"/>
                </a:lnTo>
                <a:lnTo>
                  <a:pt x="96" y="240"/>
                </a:lnTo>
                <a:lnTo>
                  <a:pt x="113" y="234"/>
                </a:lnTo>
                <a:lnTo>
                  <a:pt x="121" y="230"/>
                </a:lnTo>
                <a:lnTo>
                  <a:pt x="123" y="228"/>
                </a:lnTo>
                <a:lnTo>
                  <a:pt x="123" y="228"/>
                </a:lnTo>
                <a:lnTo>
                  <a:pt x="124" y="230"/>
                </a:lnTo>
                <a:lnTo>
                  <a:pt x="124" y="230"/>
                </a:lnTo>
                <a:lnTo>
                  <a:pt x="124" y="231"/>
                </a:lnTo>
                <a:lnTo>
                  <a:pt x="124" y="232"/>
                </a:lnTo>
                <a:lnTo>
                  <a:pt x="124" y="232"/>
                </a:lnTo>
                <a:lnTo>
                  <a:pt x="124" y="232"/>
                </a:lnTo>
                <a:close/>
                <a:moveTo>
                  <a:pt x="75" y="254"/>
                </a:moveTo>
                <a:lnTo>
                  <a:pt x="62" y="259"/>
                </a:lnTo>
                <a:lnTo>
                  <a:pt x="47" y="265"/>
                </a:lnTo>
                <a:lnTo>
                  <a:pt x="47" y="265"/>
                </a:lnTo>
                <a:lnTo>
                  <a:pt x="45" y="265"/>
                </a:lnTo>
                <a:lnTo>
                  <a:pt x="45" y="265"/>
                </a:lnTo>
                <a:lnTo>
                  <a:pt x="44" y="264"/>
                </a:lnTo>
                <a:lnTo>
                  <a:pt x="44" y="264"/>
                </a:lnTo>
                <a:lnTo>
                  <a:pt x="44" y="262"/>
                </a:lnTo>
                <a:lnTo>
                  <a:pt x="45" y="261"/>
                </a:lnTo>
                <a:lnTo>
                  <a:pt x="60" y="255"/>
                </a:lnTo>
                <a:lnTo>
                  <a:pt x="74" y="250"/>
                </a:lnTo>
                <a:lnTo>
                  <a:pt x="75" y="250"/>
                </a:lnTo>
                <a:lnTo>
                  <a:pt x="77" y="250"/>
                </a:lnTo>
                <a:lnTo>
                  <a:pt x="77" y="251"/>
                </a:lnTo>
                <a:lnTo>
                  <a:pt x="77" y="253"/>
                </a:lnTo>
                <a:lnTo>
                  <a:pt x="77" y="253"/>
                </a:lnTo>
                <a:lnTo>
                  <a:pt x="77" y="254"/>
                </a:lnTo>
                <a:lnTo>
                  <a:pt x="75" y="254"/>
                </a:lnTo>
                <a:lnTo>
                  <a:pt x="75" y="254"/>
                </a:lnTo>
                <a:close/>
                <a:moveTo>
                  <a:pt x="26" y="273"/>
                </a:moveTo>
                <a:lnTo>
                  <a:pt x="24" y="273"/>
                </a:lnTo>
                <a:lnTo>
                  <a:pt x="3" y="280"/>
                </a:lnTo>
                <a:lnTo>
                  <a:pt x="2" y="280"/>
                </a:lnTo>
                <a:lnTo>
                  <a:pt x="0" y="280"/>
                </a:lnTo>
                <a:lnTo>
                  <a:pt x="0" y="278"/>
                </a:lnTo>
                <a:lnTo>
                  <a:pt x="0" y="277"/>
                </a:lnTo>
                <a:lnTo>
                  <a:pt x="0" y="277"/>
                </a:lnTo>
                <a:lnTo>
                  <a:pt x="0" y="276"/>
                </a:lnTo>
                <a:lnTo>
                  <a:pt x="2" y="276"/>
                </a:lnTo>
                <a:lnTo>
                  <a:pt x="22" y="269"/>
                </a:lnTo>
                <a:lnTo>
                  <a:pt x="25" y="268"/>
                </a:lnTo>
                <a:lnTo>
                  <a:pt x="26" y="268"/>
                </a:lnTo>
                <a:lnTo>
                  <a:pt x="26" y="268"/>
                </a:lnTo>
                <a:lnTo>
                  <a:pt x="28" y="269"/>
                </a:lnTo>
                <a:lnTo>
                  <a:pt x="28" y="269"/>
                </a:lnTo>
                <a:lnTo>
                  <a:pt x="28" y="270"/>
                </a:lnTo>
                <a:lnTo>
                  <a:pt x="28" y="272"/>
                </a:lnTo>
                <a:lnTo>
                  <a:pt x="26" y="273"/>
                </a:lnTo>
                <a:lnTo>
                  <a:pt x="26" y="27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18240" y="5005440"/>
            <a:ext cx="58680" cy="58680"/>
          </a:xfrm>
          <a:custGeom>
            <a:avLst/>
            <a:gdLst/>
            <a:ahLst/>
            <a:rect l="l" t="t" r="r" b="b"/>
            <a:pathLst>
              <a:path w="75" h="75">
                <a:moveTo>
                  <a:pt x="60" y="68"/>
                </a:moveTo>
                <a:lnTo>
                  <a:pt x="65" y="63"/>
                </a:lnTo>
                <a:lnTo>
                  <a:pt x="70" y="57"/>
                </a:lnTo>
                <a:lnTo>
                  <a:pt x="72" y="51"/>
                </a:lnTo>
                <a:lnTo>
                  <a:pt x="74" y="44"/>
                </a:lnTo>
                <a:lnTo>
                  <a:pt x="75" y="40"/>
                </a:lnTo>
                <a:lnTo>
                  <a:pt x="75" y="36"/>
                </a:lnTo>
                <a:lnTo>
                  <a:pt x="74" y="33"/>
                </a:lnTo>
                <a:lnTo>
                  <a:pt x="74" y="29"/>
                </a:lnTo>
                <a:lnTo>
                  <a:pt x="72" y="25"/>
                </a:lnTo>
                <a:lnTo>
                  <a:pt x="71" y="22"/>
                </a:lnTo>
                <a:lnTo>
                  <a:pt x="70" y="18"/>
                </a:lnTo>
                <a:lnTo>
                  <a:pt x="67" y="15"/>
                </a:lnTo>
                <a:lnTo>
                  <a:pt x="61" y="10"/>
                </a:lnTo>
                <a:lnTo>
                  <a:pt x="56" y="6"/>
                </a:lnTo>
                <a:lnTo>
                  <a:pt x="49" y="3"/>
                </a:lnTo>
                <a:lnTo>
                  <a:pt x="42" y="0"/>
                </a:lnTo>
                <a:lnTo>
                  <a:pt x="38" y="0"/>
                </a:lnTo>
                <a:lnTo>
                  <a:pt x="36" y="0"/>
                </a:lnTo>
                <a:lnTo>
                  <a:pt x="31" y="0"/>
                </a:lnTo>
                <a:lnTo>
                  <a:pt x="27" y="2"/>
                </a:lnTo>
                <a:lnTo>
                  <a:pt x="25" y="3"/>
                </a:lnTo>
                <a:lnTo>
                  <a:pt x="21" y="4"/>
                </a:lnTo>
                <a:lnTo>
                  <a:pt x="18" y="6"/>
                </a:lnTo>
                <a:lnTo>
                  <a:pt x="15" y="8"/>
                </a:lnTo>
                <a:lnTo>
                  <a:pt x="15" y="8"/>
                </a:lnTo>
                <a:lnTo>
                  <a:pt x="8" y="13"/>
                </a:lnTo>
                <a:lnTo>
                  <a:pt x="4" y="19"/>
                </a:lnTo>
                <a:lnTo>
                  <a:pt x="2" y="26"/>
                </a:lnTo>
                <a:lnTo>
                  <a:pt x="0" y="33"/>
                </a:lnTo>
                <a:lnTo>
                  <a:pt x="0" y="36"/>
                </a:lnTo>
                <a:lnTo>
                  <a:pt x="0" y="40"/>
                </a:lnTo>
                <a:lnTo>
                  <a:pt x="0" y="44"/>
                </a:lnTo>
                <a:lnTo>
                  <a:pt x="0" y="47"/>
                </a:lnTo>
                <a:lnTo>
                  <a:pt x="2" y="51"/>
                </a:lnTo>
                <a:lnTo>
                  <a:pt x="3" y="53"/>
                </a:lnTo>
                <a:lnTo>
                  <a:pt x="4" y="57"/>
                </a:lnTo>
                <a:lnTo>
                  <a:pt x="7" y="60"/>
                </a:lnTo>
                <a:lnTo>
                  <a:pt x="12" y="66"/>
                </a:lnTo>
                <a:lnTo>
                  <a:pt x="18" y="71"/>
                </a:lnTo>
                <a:lnTo>
                  <a:pt x="25" y="74"/>
                </a:lnTo>
                <a:lnTo>
                  <a:pt x="31" y="75"/>
                </a:lnTo>
                <a:lnTo>
                  <a:pt x="36" y="75"/>
                </a:lnTo>
                <a:lnTo>
                  <a:pt x="40" y="75"/>
                </a:lnTo>
                <a:lnTo>
                  <a:pt x="42" y="75"/>
                </a:lnTo>
                <a:lnTo>
                  <a:pt x="46" y="74"/>
                </a:lnTo>
                <a:lnTo>
                  <a:pt x="49" y="74"/>
                </a:lnTo>
                <a:lnTo>
                  <a:pt x="53" y="72"/>
                </a:lnTo>
                <a:lnTo>
                  <a:pt x="56" y="70"/>
                </a:lnTo>
                <a:lnTo>
                  <a:pt x="6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1960" y="5272200"/>
            <a:ext cx="59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l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78080" y="527220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15880" y="5272200"/>
            <a:ext cx="1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32320" y="541008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d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08240" y="541008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1960" y="55483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eeze for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2680" y="5686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2320" y="5824440"/>
            <a:ext cx="46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89680" y="5041800"/>
            <a:ext cx="446040" cy="258840"/>
          </a:xfrm>
          <a:custGeom>
            <a:avLst/>
            <a:gdLst/>
            <a:ahLst/>
            <a:rect l="l" t="t" r="r" b="b"/>
            <a:pathLst>
              <a:path w="563" h="326">
                <a:moveTo>
                  <a:pt x="563" y="2"/>
                </a:moveTo>
                <a:lnTo>
                  <a:pt x="563" y="8"/>
                </a:lnTo>
                <a:lnTo>
                  <a:pt x="563" y="8"/>
                </a:lnTo>
                <a:lnTo>
                  <a:pt x="563" y="8"/>
                </a:lnTo>
                <a:lnTo>
                  <a:pt x="560" y="15"/>
                </a:lnTo>
                <a:lnTo>
                  <a:pt x="560" y="15"/>
                </a:lnTo>
                <a:lnTo>
                  <a:pt x="560" y="16"/>
                </a:lnTo>
                <a:lnTo>
                  <a:pt x="557" y="23"/>
                </a:lnTo>
                <a:lnTo>
                  <a:pt x="553" y="29"/>
                </a:lnTo>
                <a:lnTo>
                  <a:pt x="552" y="31"/>
                </a:lnTo>
                <a:lnTo>
                  <a:pt x="551" y="32"/>
                </a:lnTo>
                <a:lnTo>
                  <a:pt x="549" y="32"/>
                </a:lnTo>
                <a:lnTo>
                  <a:pt x="549" y="32"/>
                </a:lnTo>
                <a:lnTo>
                  <a:pt x="548" y="29"/>
                </a:lnTo>
                <a:lnTo>
                  <a:pt x="548" y="29"/>
                </a:lnTo>
                <a:lnTo>
                  <a:pt x="548" y="28"/>
                </a:lnTo>
                <a:lnTo>
                  <a:pt x="549" y="28"/>
                </a:lnTo>
                <a:lnTo>
                  <a:pt x="553" y="20"/>
                </a:lnTo>
                <a:lnTo>
                  <a:pt x="556" y="13"/>
                </a:lnTo>
                <a:lnTo>
                  <a:pt x="556" y="15"/>
                </a:lnTo>
                <a:lnTo>
                  <a:pt x="559" y="8"/>
                </a:lnTo>
                <a:lnTo>
                  <a:pt x="559" y="8"/>
                </a:lnTo>
                <a:lnTo>
                  <a:pt x="559" y="2"/>
                </a:lnTo>
                <a:lnTo>
                  <a:pt x="559" y="1"/>
                </a:lnTo>
                <a:lnTo>
                  <a:pt x="559" y="0"/>
                </a:lnTo>
                <a:lnTo>
                  <a:pt x="560" y="0"/>
                </a:lnTo>
                <a:lnTo>
                  <a:pt x="560" y="0"/>
                </a:lnTo>
                <a:lnTo>
                  <a:pt x="561" y="0"/>
                </a:lnTo>
                <a:lnTo>
                  <a:pt x="561" y="0"/>
                </a:lnTo>
                <a:lnTo>
                  <a:pt x="563" y="1"/>
                </a:lnTo>
                <a:lnTo>
                  <a:pt x="563" y="2"/>
                </a:lnTo>
                <a:lnTo>
                  <a:pt x="563" y="2"/>
                </a:lnTo>
                <a:close/>
                <a:moveTo>
                  <a:pt x="538" y="49"/>
                </a:moveTo>
                <a:lnTo>
                  <a:pt x="530" y="55"/>
                </a:lnTo>
                <a:lnTo>
                  <a:pt x="521" y="63"/>
                </a:lnTo>
                <a:lnTo>
                  <a:pt x="515" y="69"/>
                </a:lnTo>
                <a:lnTo>
                  <a:pt x="514" y="69"/>
                </a:lnTo>
                <a:lnTo>
                  <a:pt x="513" y="69"/>
                </a:lnTo>
                <a:lnTo>
                  <a:pt x="513" y="69"/>
                </a:lnTo>
                <a:lnTo>
                  <a:pt x="511" y="66"/>
                </a:lnTo>
                <a:lnTo>
                  <a:pt x="511" y="66"/>
                </a:lnTo>
                <a:lnTo>
                  <a:pt x="513" y="65"/>
                </a:lnTo>
                <a:lnTo>
                  <a:pt x="518" y="61"/>
                </a:lnTo>
                <a:lnTo>
                  <a:pt x="527" y="53"/>
                </a:lnTo>
                <a:lnTo>
                  <a:pt x="534" y="44"/>
                </a:lnTo>
                <a:lnTo>
                  <a:pt x="536" y="44"/>
                </a:lnTo>
                <a:lnTo>
                  <a:pt x="538" y="44"/>
                </a:lnTo>
                <a:lnTo>
                  <a:pt x="538" y="46"/>
                </a:lnTo>
                <a:lnTo>
                  <a:pt x="538" y="49"/>
                </a:lnTo>
                <a:lnTo>
                  <a:pt x="538" y="49"/>
                </a:lnTo>
                <a:close/>
                <a:moveTo>
                  <a:pt x="498" y="83"/>
                </a:moveTo>
                <a:lnTo>
                  <a:pt x="498" y="83"/>
                </a:lnTo>
                <a:lnTo>
                  <a:pt x="484" y="93"/>
                </a:lnTo>
                <a:lnTo>
                  <a:pt x="473" y="100"/>
                </a:lnTo>
                <a:lnTo>
                  <a:pt x="472" y="100"/>
                </a:lnTo>
                <a:lnTo>
                  <a:pt x="470" y="100"/>
                </a:lnTo>
                <a:lnTo>
                  <a:pt x="470" y="100"/>
                </a:lnTo>
                <a:lnTo>
                  <a:pt x="470" y="99"/>
                </a:lnTo>
                <a:lnTo>
                  <a:pt x="470" y="97"/>
                </a:lnTo>
                <a:lnTo>
                  <a:pt x="470" y="96"/>
                </a:lnTo>
                <a:lnTo>
                  <a:pt x="481" y="89"/>
                </a:lnTo>
                <a:lnTo>
                  <a:pt x="495" y="80"/>
                </a:lnTo>
                <a:lnTo>
                  <a:pt x="495" y="78"/>
                </a:lnTo>
                <a:lnTo>
                  <a:pt x="496" y="78"/>
                </a:lnTo>
                <a:lnTo>
                  <a:pt x="498" y="78"/>
                </a:lnTo>
                <a:lnTo>
                  <a:pt x="499" y="80"/>
                </a:lnTo>
                <a:lnTo>
                  <a:pt x="499" y="81"/>
                </a:lnTo>
                <a:lnTo>
                  <a:pt x="499" y="81"/>
                </a:lnTo>
                <a:lnTo>
                  <a:pt x="498" y="83"/>
                </a:lnTo>
                <a:lnTo>
                  <a:pt x="498" y="83"/>
                </a:lnTo>
                <a:close/>
                <a:moveTo>
                  <a:pt x="455" y="112"/>
                </a:moveTo>
                <a:lnTo>
                  <a:pt x="453" y="114"/>
                </a:lnTo>
                <a:lnTo>
                  <a:pt x="436" y="125"/>
                </a:lnTo>
                <a:lnTo>
                  <a:pt x="430" y="129"/>
                </a:lnTo>
                <a:lnTo>
                  <a:pt x="428" y="129"/>
                </a:lnTo>
                <a:lnTo>
                  <a:pt x="427" y="129"/>
                </a:lnTo>
                <a:lnTo>
                  <a:pt x="425" y="127"/>
                </a:lnTo>
                <a:lnTo>
                  <a:pt x="425" y="126"/>
                </a:lnTo>
                <a:lnTo>
                  <a:pt x="427" y="125"/>
                </a:lnTo>
                <a:lnTo>
                  <a:pt x="427" y="125"/>
                </a:lnTo>
                <a:lnTo>
                  <a:pt x="434" y="121"/>
                </a:lnTo>
                <a:lnTo>
                  <a:pt x="450" y="110"/>
                </a:lnTo>
                <a:lnTo>
                  <a:pt x="453" y="108"/>
                </a:lnTo>
                <a:lnTo>
                  <a:pt x="453" y="108"/>
                </a:lnTo>
                <a:lnTo>
                  <a:pt x="454" y="108"/>
                </a:lnTo>
                <a:lnTo>
                  <a:pt x="455" y="110"/>
                </a:lnTo>
                <a:lnTo>
                  <a:pt x="455" y="110"/>
                </a:lnTo>
                <a:lnTo>
                  <a:pt x="455" y="111"/>
                </a:lnTo>
                <a:lnTo>
                  <a:pt x="455" y="112"/>
                </a:lnTo>
                <a:lnTo>
                  <a:pt x="455" y="112"/>
                </a:lnTo>
                <a:close/>
                <a:moveTo>
                  <a:pt x="411" y="140"/>
                </a:moveTo>
                <a:lnTo>
                  <a:pt x="400" y="146"/>
                </a:lnTo>
                <a:lnTo>
                  <a:pt x="383" y="155"/>
                </a:lnTo>
                <a:lnTo>
                  <a:pt x="382" y="155"/>
                </a:lnTo>
                <a:lnTo>
                  <a:pt x="381" y="153"/>
                </a:lnTo>
                <a:lnTo>
                  <a:pt x="381" y="152"/>
                </a:lnTo>
                <a:lnTo>
                  <a:pt x="382" y="151"/>
                </a:lnTo>
                <a:lnTo>
                  <a:pt x="397" y="142"/>
                </a:lnTo>
                <a:lnTo>
                  <a:pt x="408" y="136"/>
                </a:lnTo>
                <a:lnTo>
                  <a:pt x="409" y="136"/>
                </a:lnTo>
                <a:lnTo>
                  <a:pt x="409" y="136"/>
                </a:lnTo>
                <a:lnTo>
                  <a:pt x="411" y="136"/>
                </a:lnTo>
                <a:lnTo>
                  <a:pt x="411" y="137"/>
                </a:lnTo>
                <a:lnTo>
                  <a:pt x="412" y="137"/>
                </a:lnTo>
                <a:lnTo>
                  <a:pt x="411" y="138"/>
                </a:lnTo>
                <a:lnTo>
                  <a:pt x="411" y="140"/>
                </a:lnTo>
                <a:lnTo>
                  <a:pt x="411" y="140"/>
                </a:lnTo>
                <a:close/>
                <a:moveTo>
                  <a:pt x="364" y="165"/>
                </a:moveTo>
                <a:lnTo>
                  <a:pt x="359" y="168"/>
                </a:lnTo>
                <a:lnTo>
                  <a:pt x="338" y="179"/>
                </a:lnTo>
                <a:lnTo>
                  <a:pt x="337" y="179"/>
                </a:lnTo>
                <a:lnTo>
                  <a:pt x="336" y="179"/>
                </a:lnTo>
                <a:lnTo>
                  <a:pt x="334" y="179"/>
                </a:lnTo>
                <a:lnTo>
                  <a:pt x="334" y="176"/>
                </a:lnTo>
                <a:lnTo>
                  <a:pt x="336" y="175"/>
                </a:lnTo>
                <a:lnTo>
                  <a:pt x="356" y="164"/>
                </a:lnTo>
                <a:lnTo>
                  <a:pt x="363" y="161"/>
                </a:lnTo>
                <a:lnTo>
                  <a:pt x="363" y="161"/>
                </a:lnTo>
                <a:lnTo>
                  <a:pt x="364" y="161"/>
                </a:lnTo>
                <a:lnTo>
                  <a:pt x="366" y="163"/>
                </a:lnTo>
                <a:lnTo>
                  <a:pt x="366" y="164"/>
                </a:lnTo>
                <a:lnTo>
                  <a:pt x="366" y="164"/>
                </a:lnTo>
                <a:lnTo>
                  <a:pt x="364" y="165"/>
                </a:lnTo>
                <a:lnTo>
                  <a:pt x="364" y="165"/>
                </a:lnTo>
                <a:close/>
                <a:moveTo>
                  <a:pt x="318" y="190"/>
                </a:moveTo>
                <a:lnTo>
                  <a:pt x="314" y="191"/>
                </a:lnTo>
                <a:lnTo>
                  <a:pt x="291" y="204"/>
                </a:lnTo>
                <a:lnTo>
                  <a:pt x="289" y="204"/>
                </a:lnTo>
                <a:lnTo>
                  <a:pt x="288" y="202"/>
                </a:lnTo>
                <a:lnTo>
                  <a:pt x="288" y="201"/>
                </a:lnTo>
                <a:lnTo>
                  <a:pt x="288" y="201"/>
                </a:lnTo>
                <a:lnTo>
                  <a:pt x="289" y="199"/>
                </a:lnTo>
                <a:lnTo>
                  <a:pt x="313" y="187"/>
                </a:lnTo>
                <a:lnTo>
                  <a:pt x="317" y="186"/>
                </a:lnTo>
                <a:lnTo>
                  <a:pt x="318" y="186"/>
                </a:lnTo>
                <a:lnTo>
                  <a:pt x="319" y="186"/>
                </a:lnTo>
                <a:lnTo>
                  <a:pt x="319" y="187"/>
                </a:lnTo>
                <a:lnTo>
                  <a:pt x="318" y="190"/>
                </a:lnTo>
                <a:lnTo>
                  <a:pt x="318" y="190"/>
                </a:lnTo>
                <a:close/>
                <a:moveTo>
                  <a:pt x="272" y="213"/>
                </a:moveTo>
                <a:lnTo>
                  <a:pt x="266" y="214"/>
                </a:lnTo>
                <a:lnTo>
                  <a:pt x="245" y="225"/>
                </a:lnTo>
                <a:lnTo>
                  <a:pt x="242" y="225"/>
                </a:lnTo>
                <a:lnTo>
                  <a:pt x="241" y="224"/>
                </a:lnTo>
                <a:lnTo>
                  <a:pt x="241" y="223"/>
                </a:lnTo>
                <a:lnTo>
                  <a:pt x="242" y="221"/>
                </a:lnTo>
                <a:lnTo>
                  <a:pt x="265" y="210"/>
                </a:lnTo>
                <a:lnTo>
                  <a:pt x="269" y="209"/>
                </a:lnTo>
                <a:lnTo>
                  <a:pt x="270" y="209"/>
                </a:lnTo>
                <a:lnTo>
                  <a:pt x="273" y="209"/>
                </a:lnTo>
                <a:lnTo>
                  <a:pt x="273" y="210"/>
                </a:lnTo>
                <a:lnTo>
                  <a:pt x="272" y="213"/>
                </a:lnTo>
                <a:lnTo>
                  <a:pt x="272" y="213"/>
                </a:lnTo>
                <a:close/>
                <a:moveTo>
                  <a:pt x="224" y="235"/>
                </a:moveTo>
                <a:lnTo>
                  <a:pt x="216" y="238"/>
                </a:lnTo>
                <a:lnTo>
                  <a:pt x="197" y="247"/>
                </a:lnTo>
                <a:lnTo>
                  <a:pt x="196" y="247"/>
                </a:lnTo>
                <a:lnTo>
                  <a:pt x="194" y="247"/>
                </a:lnTo>
                <a:lnTo>
                  <a:pt x="193" y="246"/>
                </a:lnTo>
                <a:lnTo>
                  <a:pt x="193" y="244"/>
                </a:lnTo>
                <a:lnTo>
                  <a:pt x="194" y="243"/>
                </a:lnTo>
                <a:lnTo>
                  <a:pt x="194" y="243"/>
                </a:lnTo>
                <a:lnTo>
                  <a:pt x="215" y="235"/>
                </a:lnTo>
                <a:lnTo>
                  <a:pt x="223" y="231"/>
                </a:lnTo>
                <a:lnTo>
                  <a:pt x="223" y="231"/>
                </a:lnTo>
                <a:lnTo>
                  <a:pt x="224" y="231"/>
                </a:lnTo>
                <a:lnTo>
                  <a:pt x="226" y="232"/>
                </a:lnTo>
                <a:lnTo>
                  <a:pt x="226" y="233"/>
                </a:lnTo>
                <a:lnTo>
                  <a:pt x="224" y="235"/>
                </a:lnTo>
                <a:lnTo>
                  <a:pt x="224" y="235"/>
                </a:lnTo>
                <a:close/>
                <a:moveTo>
                  <a:pt x="177" y="255"/>
                </a:moveTo>
                <a:lnTo>
                  <a:pt x="163" y="262"/>
                </a:lnTo>
                <a:lnTo>
                  <a:pt x="148" y="267"/>
                </a:lnTo>
                <a:lnTo>
                  <a:pt x="148" y="267"/>
                </a:lnTo>
                <a:lnTo>
                  <a:pt x="147" y="267"/>
                </a:lnTo>
                <a:lnTo>
                  <a:pt x="145" y="266"/>
                </a:lnTo>
                <a:lnTo>
                  <a:pt x="145" y="265"/>
                </a:lnTo>
                <a:lnTo>
                  <a:pt x="145" y="265"/>
                </a:lnTo>
                <a:lnTo>
                  <a:pt x="147" y="263"/>
                </a:lnTo>
                <a:lnTo>
                  <a:pt x="162" y="258"/>
                </a:lnTo>
                <a:lnTo>
                  <a:pt x="175" y="251"/>
                </a:lnTo>
                <a:lnTo>
                  <a:pt x="177" y="251"/>
                </a:lnTo>
                <a:lnTo>
                  <a:pt x="177" y="253"/>
                </a:lnTo>
                <a:lnTo>
                  <a:pt x="178" y="253"/>
                </a:lnTo>
                <a:lnTo>
                  <a:pt x="178" y="254"/>
                </a:lnTo>
                <a:lnTo>
                  <a:pt x="178" y="254"/>
                </a:lnTo>
                <a:lnTo>
                  <a:pt x="177" y="255"/>
                </a:lnTo>
                <a:lnTo>
                  <a:pt x="177" y="255"/>
                </a:lnTo>
                <a:lnTo>
                  <a:pt x="177" y="255"/>
                </a:lnTo>
                <a:close/>
                <a:moveTo>
                  <a:pt x="129" y="276"/>
                </a:moveTo>
                <a:lnTo>
                  <a:pt x="107" y="285"/>
                </a:lnTo>
                <a:lnTo>
                  <a:pt x="100" y="288"/>
                </a:lnTo>
                <a:lnTo>
                  <a:pt x="99" y="288"/>
                </a:lnTo>
                <a:lnTo>
                  <a:pt x="98" y="288"/>
                </a:lnTo>
                <a:lnTo>
                  <a:pt x="98" y="287"/>
                </a:lnTo>
                <a:lnTo>
                  <a:pt x="96" y="285"/>
                </a:lnTo>
                <a:lnTo>
                  <a:pt x="98" y="285"/>
                </a:lnTo>
                <a:lnTo>
                  <a:pt x="99" y="284"/>
                </a:lnTo>
                <a:lnTo>
                  <a:pt x="106" y="281"/>
                </a:lnTo>
                <a:lnTo>
                  <a:pt x="126" y="272"/>
                </a:lnTo>
                <a:lnTo>
                  <a:pt x="128" y="272"/>
                </a:lnTo>
                <a:lnTo>
                  <a:pt x="128" y="272"/>
                </a:lnTo>
                <a:lnTo>
                  <a:pt x="129" y="273"/>
                </a:lnTo>
                <a:lnTo>
                  <a:pt x="129" y="273"/>
                </a:lnTo>
                <a:lnTo>
                  <a:pt x="129" y="274"/>
                </a:lnTo>
                <a:lnTo>
                  <a:pt x="129" y="276"/>
                </a:lnTo>
                <a:lnTo>
                  <a:pt x="129" y="276"/>
                </a:lnTo>
                <a:lnTo>
                  <a:pt x="129" y="276"/>
                </a:lnTo>
                <a:close/>
                <a:moveTo>
                  <a:pt x="80" y="296"/>
                </a:moveTo>
                <a:lnTo>
                  <a:pt x="79" y="296"/>
                </a:lnTo>
                <a:lnTo>
                  <a:pt x="51" y="307"/>
                </a:lnTo>
                <a:lnTo>
                  <a:pt x="50" y="307"/>
                </a:lnTo>
                <a:lnTo>
                  <a:pt x="49" y="307"/>
                </a:lnTo>
                <a:lnTo>
                  <a:pt x="49" y="306"/>
                </a:lnTo>
                <a:lnTo>
                  <a:pt x="49" y="304"/>
                </a:lnTo>
                <a:lnTo>
                  <a:pt x="49" y="304"/>
                </a:lnTo>
                <a:lnTo>
                  <a:pt x="49" y="303"/>
                </a:lnTo>
                <a:lnTo>
                  <a:pt x="50" y="303"/>
                </a:lnTo>
                <a:lnTo>
                  <a:pt x="77" y="292"/>
                </a:lnTo>
                <a:lnTo>
                  <a:pt x="79" y="292"/>
                </a:lnTo>
                <a:lnTo>
                  <a:pt x="79" y="292"/>
                </a:lnTo>
                <a:lnTo>
                  <a:pt x="80" y="292"/>
                </a:lnTo>
                <a:lnTo>
                  <a:pt x="80" y="292"/>
                </a:lnTo>
                <a:lnTo>
                  <a:pt x="81" y="293"/>
                </a:lnTo>
                <a:lnTo>
                  <a:pt x="81" y="295"/>
                </a:lnTo>
                <a:lnTo>
                  <a:pt x="80" y="295"/>
                </a:lnTo>
                <a:lnTo>
                  <a:pt x="80" y="296"/>
                </a:lnTo>
                <a:lnTo>
                  <a:pt x="80" y="296"/>
                </a:lnTo>
                <a:close/>
                <a:moveTo>
                  <a:pt x="31" y="315"/>
                </a:moveTo>
                <a:lnTo>
                  <a:pt x="3" y="326"/>
                </a:lnTo>
                <a:lnTo>
                  <a:pt x="1" y="325"/>
                </a:lnTo>
                <a:lnTo>
                  <a:pt x="0" y="325"/>
                </a:lnTo>
                <a:lnTo>
                  <a:pt x="0" y="325"/>
                </a:lnTo>
                <a:lnTo>
                  <a:pt x="0" y="322"/>
                </a:lnTo>
                <a:lnTo>
                  <a:pt x="0" y="322"/>
                </a:lnTo>
                <a:lnTo>
                  <a:pt x="1" y="322"/>
                </a:lnTo>
                <a:lnTo>
                  <a:pt x="30" y="311"/>
                </a:lnTo>
                <a:lnTo>
                  <a:pt x="30" y="311"/>
                </a:lnTo>
                <a:lnTo>
                  <a:pt x="31" y="311"/>
                </a:lnTo>
                <a:lnTo>
                  <a:pt x="32" y="312"/>
                </a:lnTo>
                <a:lnTo>
                  <a:pt x="32" y="312"/>
                </a:lnTo>
                <a:lnTo>
                  <a:pt x="32" y="314"/>
                </a:lnTo>
                <a:lnTo>
                  <a:pt x="31" y="315"/>
                </a:lnTo>
                <a:lnTo>
                  <a:pt x="31" y="31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05480" y="5013360"/>
            <a:ext cx="58680" cy="60120"/>
          </a:xfrm>
          <a:custGeom>
            <a:avLst/>
            <a:gdLst/>
            <a:ahLst/>
            <a:rect l="l" t="t" r="r" b="b"/>
            <a:pathLst>
              <a:path w="75" h="75">
                <a:moveTo>
                  <a:pt x="41" y="75"/>
                </a:moveTo>
                <a:lnTo>
                  <a:pt x="45" y="75"/>
                </a:lnTo>
                <a:lnTo>
                  <a:pt x="49" y="74"/>
                </a:lnTo>
                <a:lnTo>
                  <a:pt x="56" y="71"/>
                </a:lnTo>
                <a:lnTo>
                  <a:pt x="62" y="67"/>
                </a:lnTo>
                <a:lnTo>
                  <a:pt x="67" y="61"/>
                </a:lnTo>
                <a:lnTo>
                  <a:pt x="71" y="55"/>
                </a:lnTo>
                <a:lnTo>
                  <a:pt x="74" y="48"/>
                </a:lnTo>
                <a:lnTo>
                  <a:pt x="74" y="45"/>
                </a:lnTo>
                <a:lnTo>
                  <a:pt x="75" y="41"/>
                </a:lnTo>
                <a:lnTo>
                  <a:pt x="75" y="37"/>
                </a:lnTo>
                <a:lnTo>
                  <a:pt x="75" y="34"/>
                </a:lnTo>
                <a:lnTo>
                  <a:pt x="74" y="30"/>
                </a:lnTo>
                <a:lnTo>
                  <a:pt x="72" y="26"/>
                </a:lnTo>
                <a:lnTo>
                  <a:pt x="71" y="23"/>
                </a:lnTo>
                <a:lnTo>
                  <a:pt x="70" y="19"/>
                </a:lnTo>
                <a:lnTo>
                  <a:pt x="66" y="14"/>
                </a:lnTo>
                <a:lnTo>
                  <a:pt x="60" y="8"/>
                </a:lnTo>
                <a:lnTo>
                  <a:pt x="55" y="4"/>
                </a:lnTo>
                <a:lnTo>
                  <a:pt x="48" y="2"/>
                </a:lnTo>
                <a:lnTo>
                  <a:pt x="45" y="0"/>
                </a:lnTo>
                <a:lnTo>
                  <a:pt x="41" y="0"/>
                </a:lnTo>
                <a:lnTo>
                  <a:pt x="37" y="0"/>
                </a:lnTo>
                <a:lnTo>
                  <a:pt x="33" y="0"/>
                </a:lnTo>
                <a:lnTo>
                  <a:pt x="33" y="0"/>
                </a:lnTo>
                <a:lnTo>
                  <a:pt x="29" y="0"/>
                </a:lnTo>
                <a:lnTo>
                  <a:pt x="26" y="2"/>
                </a:lnTo>
                <a:lnTo>
                  <a:pt x="19" y="4"/>
                </a:lnTo>
                <a:lnTo>
                  <a:pt x="13" y="8"/>
                </a:lnTo>
                <a:lnTo>
                  <a:pt x="9" y="14"/>
                </a:lnTo>
                <a:lnTo>
                  <a:pt x="4" y="21"/>
                </a:lnTo>
                <a:lnTo>
                  <a:pt x="2" y="27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5"/>
                </a:lnTo>
                <a:lnTo>
                  <a:pt x="2" y="49"/>
                </a:lnTo>
                <a:lnTo>
                  <a:pt x="3" y="52"/>
                </a:lnTo>
                <a:lnTo>
                  <a:pt x="4" y="56"/>
                </a:lnTo>
                <a:lnTo>
                  <a:pt x="9" y="61"/>
                </a:lnTo>
                <a:lnTo>
                  <a:pt x="14" y="67"/>
                </a:lnTo>
                <a:lnTo>
                  <a:pt x="19" y="71"/>
                </a:lnTo>
                <a:lnTo>
                  <a:pt x="26" y="74"/>
                </a:lnTo>
                <a:lnTo>
                  <a:pt x="30" y="75"/>
                </a:lnTo>
                <a:lnTo>
                  <a:pt x="33" y="75"/>
                </a:lnTo>
                <a:lnTo>
                  <a:pt x="37" y="75"/>
                </a:lnTo>
                <a:lnTo>
                  <a:pt x="41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81560" y="5276880"/>
            <a:ext cx="57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mo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82640" y="54151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48160" y="54151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85600" y="54151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81560" y="555300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82280" y="5691240"/>
            <a:ext cx="54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9680" y="526428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x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69320" y="54021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69320" y="554040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69320" y="567864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480080" y="5678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70040" y="581652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66880" y="5816520"/>
            <a:ext cx="3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31120" y="5032440"/>
            <a:ext cx="122040" cy="263520"/>
          </a:xfrm>
          <a:custGeom>
            <a:avLst/>
            <a:gdLst/>
            <a:ahLst/>
            <a:rect l="l" t="t" r="r" b="b"/>
            <a:pathLst>
              <a:path w="155" h="330">
                <a:moveTo>
                  <a:pt x="109" y="0"/>
                </a:moveTo>
                <a:lnTo>
                  <a:pt x="117" y="5"/>
                </a:lnTo>
                <a:lnTo>
                  <a:pt x="124" y="9"/>
                </a:lnTo>
                <a:lnTo>
                  <a:pt x="131" y="15"/>
                </a:lnTo>
                <a:lnTo>
                  <a:pt x="133" y="19"/>
                </a:lnTo>
                <a:lnTo>
                  <a:pt x="135" y="20"/>
                </a:lnTo>
                <a:lnTo>
                  <a:pt x="133" y="21"/>
                </a:lnTo>
                <a:lnTo>
                  <a:pt x="132" y="21"/>
                </a:lnTo>
                <a:lnTo>
                  <a:pt x="131" y="21"/>
                </a:lnTo>
                <a:lnTo>
                  <a:pt x="128" y="19"/>
                </a:lnTo>
                <a:lnTo>
                  <a:pt x="123" y="13"/>
                </a:lnTo>
                <a:lnTo>
                  <a:pt x="114" y="8"/>
                </a:lnTo>
                <a:lnTo>
                  <a:pt x="106" y="4"/>
                </a:lnTo>
                <a:lnTo>
                  <a:pt x="106" y="2"/>
                </a:lnTo>
                <a:lnTo>
                  <a:pt x="106" y="1"/>
                </a:lnTo>
                <a:lnTo>
                  <a:pt x="108" y="0"/>
                </a:lnTo>
                <a:lnTo>
                  <a:pt x="108" y="0"/>
                </a:lnTo>
                <a:lnTo>
                  <a:pt x="109" y="0"/>
                </a:lnTo>
                <a:lnTo>
                  <a:pt x="109" y="0"/>
                </a:lnTo>
                <a:close/>
                <a:moveTo>
                  <a:pt x="147" y="36"/>
                </a:moveTo>
                <a:lnTo>
                  <a:pt x="150" y="43"/>
                </a:lnTo>
                <a:lnTo>
                  <a:pt x="152" y="51"/>
                </a:lnTo>
                <a:lnTo>
                  <a:pt x="154" y="60"/>
                </a:lnTo>
                <a:lnTo>
                  <a:pt x="155" y="66"/>
                </a:lnTo>
                <a:lnTo>
                  <a:pt x="155" y="68"/>
                </a:lnTo>
                <a:lnTo>
                  <a:pt x="154" y="69"/>
                </a:lnTo>
                <a:lnTo>
                  <a:pt x="152" y="69"/>
                </a:lnTo>
                <a:lnTo>
                  <a:pt x="151" y="68"/>
                </a:lnTo>
                <a:lnTo>
                  <a:pt x="151" y="68"/>
                </a:lnTo>
                <a:lnTo>
                  <a:pt x="151" y="66"/>
                </a:lnTo>
                <a:lnTo>
                  <a:pt x="150" y="61"/>
                </a:lnTo>
                <a:lnTo>
                  <a:pt x="148" y="53"/>
                </a:lnTo>
                <a:lnTo>
                  <a:pt x="146" y="45"/>
                </a:lnTo>
                <a:lnTo>
                  <a:pt x="143" y="38"/>
                </a:lnTo>
                <a:lnTo>
                  <a:pt x="143" y="36"/>
                </a:lnTo>
                <a:lnTo>
                  <a:pt x="143" y="36"/>
                </a:lnTo>
                <a:lnTo>
                  <a:pt x="144" y="35"/>
                </a:lnTo>
                <a:lnTo>
                  <a:pt x="144" y="35"/>
                </a:lnTo>
                <a:lnTo>
                  <a:pt x="146" y="35"/>
                </a:lnTo>
                <a:lnTo>
                  <a:pt x="146" y="36"/>
                </a:lnTo>
                <a:lnTo>
                  <a:pt x="147" y="36"/>
                </a:lnTo>
                <a:lnTo>
                  <a:pt x="147" y="36"/>
                </a:lnTo>
                <a:close/>
                <a:moveTo>
                  <a:pt x="155" y="88"/>
                </a:moveTo>
                <a:lnTo>
                  <a:pt x="155" y="99"/>
                </a:lnTo>
                <a:lnTo>
                  <a:pt x="152" y="108"/>
                </a:lnTo>
                <a:lnTo>
                  <a:pt x="150" y="119"/>
                </a:lnTo>
                <a:lnTo>
                  <a:pt x="150" y="119"/>
                </a:lnTo>
                <a:lnTo>
                  <a:pt x="150" y="119"/>
                </a:lnTo>
                <a:lnTo>
                  <a:pt x="148" y="121"/>
                </a:lnTo>
                <a:lnTo>
                  <a:pt x="148" y="121"/>
                </a:lnTo>
                <a:lnTo>
                  <a:pt x="147" y="119"/>
                </a:lnTo>
                <a:lnTo>
                  <a:pt x="146" y="119"/>
                </a:lnTo>
                <a:lnTo>
                  <a:pt x="146" y="118"/>
                </a:lnTo>
                <a:lnTo>
                  <a:pt x="146" y="118"/>
                </a:lnTo>
                <a:lnTo>
                  <a:pt x="148" y="108"/>
                </a:lnTo>
                <a:lnTo>
                  <a:pt x="150" y="98"/>
                </a:lnTo>
                <a:lnTo>
                  <a:pt x="151" y="88"/>
                </a:lnTo>
                <a:lnTo>
                  <a:pt x="151" y="87"/>
                </a:lnTo>
                <a:lnTo>
                  <a:pt x="152" y="87"/>
                </a:lnTo>
                <a:lnTo>
                  <a:pt x="152" y="87"/>
                </a:lnTo>
                <a:lnTo>
                  <a:pt x="154" y="87"/>
                </a:lnTo>
                <a:lnTo>
                  <a:pt x="154" y="87"/>
                </a:lnTo>
                <a:lnTo>
                  <a:pt x="155" y="87"/>
                </a:lnTo>
                <a:lnTo>
                  <a:pt x="155" y="88"/>
                </a:lnTo>
                <a:lnTo>
                  <a:pt x="155" y="88"/>
                </a:lnTo>
                <a:close/>
                <a:moveTo>
                  <a:pt x="144" y="140"/>
                </a:moveTo>
                <a:lnTo>
                  <a:pt x="143" y="142"/>
                </a:lnTo>
                <a:lnTo>
                  <a:pt x="139" y="153"/>
                </a:lnTo>
                <a:lnTo>
                  <a:pt x="133" y="166"/>
                </a:lnTo>
                <a:lnTo>
                  <a:pt x="132" y="168"/>
                </a:lnTo>
                <a:lnTo>
                  <a:pt x="131" y="168"/>
                </a:lnTo>
                <a:lnTo>
                  <a:pt x="131" y="168"/>
                </a:lnTo>
                <a:lnTo>
                  <a:pt x="129" y="170"/>
                </a:lnTo>
                <a:lnTo>
                  <a:pt x="128" y="168"/>
                </a:lnTo>
                <a:lnTo>
                  <a:pt x="128" y="168"/>
                </a:lnTo>
                <a:lnTo>
                  <a:pt x="128" y="167"/>
                </a:lnTo>
                <a:lnTo>
                  <a:pt x="128" y="167"/>
                </a:lnTo>
                <a:lnTo>
                  <a:pt x="128" y="166"/>
                </a:lnTo>
                <a:lnTo>
                  <a:pt x="129" y="164"/>
                </a:lnTo>
                <a:lnTo>
                  <a:pt x="135" y="152"/>
                </a:lnTo>
                <a:lnTo>
                  <a:pt x="139" y="141"/>
                </a:lnTo>
                <a:lnTo>
                  <a:pt x="140" y="138"/>
                </a:lnTo>
                <a:lnTo>
                  <a:pt x="140" y="137"/>
                </a:lnTo>
                <a:lnTo>
                  <a:pt x="142" y="137"/>
                </a:lnTo>
                <a:lnTo>
                  <a:pt x="143" y="137"/>
                </a:lnTo>
                <a:lnTo>
                  <a:pt x="143" y="137"/>
                </a:lnTo>
                <a:lnTo>
                  <a:pt x="143" y="138"/>
                </a:lnTo>
                <a:lnTo>
                  <a:pt x="144" y="138"/>
                </a:lnTo>
                <a:lnTo>
                  <a:pt x="144" y="140"/>
                </a:lnTo>
                <a:lnTo>
                  <a:pt x="144" y="140"/>
                </a:lnTo>
                <a:close/>
                <a:moveTo>
                  <a:pt x="121" y="187"/>
                </a:moveTo>
                <a:lnTo>
                  <a:pt x="120" y="190"/>
                </a:lnTo>
                <a:lnTo>
                  <a:pt x="113" y="202"/>
                </a:lnTo>
                <a:lnTo>
                  <a:pt x="105" y="213"/>
                </a:lnTo>
                <a:lnTo>
                  <a:pt x="104" y="215"/>
                </a:lnTo>
                <a:lnTo>
                  <a:pt x="104" y="215"/>
                </a:lnTo>
                <a:lnTo>
                  <a:pt x="102" y="215"/>
                </a:lnTo>
                <a:lnTo>
                  <a:pt x="101" y="212"/>
                </a:lnTo>
                <a:lnTo>
                  <a:pt x="101" y="212"/>
                </a:lnTo>
                <a:lnTo>
                  <a:pt x="102" y="210"/>
                </a:lnTo>
                <a:lnTo>
                  <a:pt x="109" y="200"/>
                </a:lnTo>
                <a:lnTo>
                  <a:pt x="116" y="187"/>
                </a:lnTo>
                <a:lnTo>
                  <a:pt x="117" y="185"/>
                </a:lnTo>
                <a:lnTo>
                  <a:pt x="118" y="185"/>
                </a:lnTo>
                <a:lnTo>
                  <a:pt x="118" y="185"/>
                </a:lnTo>
                <a:lnTo>
                  <a:pt x="120" y="185"/>
                </a:lnTo>
                <a:lnTo>
                  <a:pt x="121" y="186"/>
                </a:lnTo>
                <a:lnTo>
                  <a:pt x="121" y="186"/>
                </a:lnTo>
                <a:lnTo>
                  <a:pt x="121" y="187"/>
                </a:lnTo>
                <a:lnTo>
                  <a:pt x="121" y="187"/>
                </a:lnTo>
                <a:close/>
                <a:moveTo>
                  <a:pt x="93" y="231"/>
                </a:moveTo>
                <a:lnTo>
                  <a:pt x="87" y="239"/>
                </a:lnTo>
                <a:lnTo>
                  <a:pt x="76" y="253"/>
                </a:lnTo>
                <a:lnTo>
                  <a:pt x="74" y="255"/>
                </a:lnTo>
                <a:lnTo>
                  <a:pt x="74" y="255"/>
                </a:lnTo>
                <a:lnTo>
                  <a:pt x="72" y="255"/>
                </a:lnTo>
                <a:lnTo>
                  <a:pt x="72" y="255"/>
                </a:lnTo>
                <a:lnTo>
                  <a:pt x="71" y="255"/>
                </a:lnTo>
                <a:lnTo>
                  <a:pt x="71" y="255"/>
                </a:lnTo>
                <a:lnTo>
                  <a:pt x="70" y="254"/>
                </a:lnTo>
                <a:lnTo>
                  <a:pt x="71" y="253"/>
                </a:lnTo>
                <a:lnTo>
                  <a:pt x="74" y="250"/>
                </a:lnTo>
                <a:lnTo>
                  <a:pt x="83" y="238"/>
                </a:lnTo>
                <a:lnTo>
                  <a:pt x="89" y="228"/>
                </a:lnTo>
                <a:lnTo>
                  <a:pt x="90" y="228"/>
                </a:lnTo>
                <a:lnTo>
                  <a:pt x="90" y="228"/>
                </a:lnTo>
                <a:lnTo>
                  <a:pt x="91" y="228"/>
                </a:lnTo>
                <a:lnTo>
                  <a:pt x="93" y="228"/>
                </a:lnTo>
                <a:lnTo>
                  <a:pt x="93" y="230"/>
                </a:lnTo>
                <a:lnTo>
                  <a:pt x="93" y="231"/>
                </a:lnTo>
                <a:lnTo>
                  <a:pt x="93" y="231"/>
                </a:lnTo>
                <a:lnTo>
                  <a:pt x="93" y="231"/>
                </a:lnTo>
                <a:close/>
                <a:moveTo>
                  <a:pt x="60" y="272"/>
                </a:moveTo>
                <a:lnTo>
                  <a:pt x="55" y="278"/>
                </a:lnTo>
                <a:lnTo>
                  <a:pt x="42" y="291"/>
                </a:lnTo>
                <a:lnTo>
                  <a:pt x="40" y="295"/>
                </a:lnTo>
                <a:lnTo>
                  <a:pt x="38" y="295"/>
                </a:lnTo>
                <a:lnTo>
                  <a:pt x="38" y="295"/>
                </a:lnTo>
                <a:lnTo>
                  <a:pt x="37" y="295"/>
                </a:lnTo>
                <a:lnTo>
                  <a:pt x="37" y="295"/>
                </a:lnTo>
                <a:lnTo>
                  <a:pt x="36" y="293"/>
                </a:lnTo>
                <a:lnTo>
                  <a:pt x="36" y="293"/>
                </a:lnTo>
                <a:lnTo>
                  <a:pt x="36" y="292"/>
                </a:lnTo>
                <a:lnTo>
                  <a:pt x="37" y="292"/>
                </a:lnTo>
                <a:lnTo>
                  <a:pt x="40" y="288"/>
                </a:lnTo>
                <a:lnTo>
                  <a:pt x="52" y="276"/>
                </a:lnTo>
                <a:lnTo>
                  <a:pt x="57" y="269"/>
                </a:lnTo>
                <a:lnTo>
                  <a:pt x="59" y="269"/>
                </a:lnTo>
                <a:lnTo>
                  <a:pt x="59" y="269"/>
                </a:lnTo>
                <a:lnTo>
                  <a:pt x="60" y="269"/>
                </a:lnTo>
                <a:lnTo>
                  <a:pt x="60" y="270"/>
                </a:lnTo>
                <a:lnTo>
                  <a:pt x="60" y="272"/>
                </a:lnTo>
                <a:lnTo>
                  <a:pt x="60" y="272"/>
                </a:lnTo>
                <a:lnTo>
                  <a:pt x="60" y="272"/>
                </a:lnTo>
                <a:close/>
                <a:moveTo>
                  <a:pt x="25" y="310"/>
                </a:moveTo>
                <a:lnTo>
                  <a:pt x="16" y="317"/>
                </a:lnTo>
                <a:lnTo>
                  <a:pt x="3" y="330"/>
                </a:lnTo>
                <a:lnTo>
                  <a:pt x="3" y="330"/>
                </a:lnTo>
                <a:lnTo>
                  <a:pt x="2" y="330"/>
                </a:lnTo>
                <a:lnTo>
                  <a:pt x="0" y="330"/>
                </a:lnTo>
                <a:lnTo>
                  <a:pt x="0" y="329"/>
                </a:lnTo>
                <a:lnTo>
                  <a:pt x="0" y="329"/>
                </a:lnTo>
                <a:lnTo>
                  <a:pt x="0" y="327"/>
                </a:lnTo>
                <a:lnTo>
                  <a:pt x="14" y="314"/>
                </a:lnTo>
                <a:lnTo>
                  <a:pt x="21" y="307"/>
                </a:lnTo>
                <a:lnTo>
                  <a:pt x="22" y="307"/>
                </a:lnTo>
                <a:lnTo>
                  <a:pt x="22" y="306"/>
                </a:lnTo>
                <a:lnTo>
                  <a:pt x="23" y="307"/>
                </a:lnTo>
                <a:lnTo>
                  <a:pt x="25" y="307"/>
                </a:lnTo>
                <a:lnTo>
                  <a:pt x="25" y="308"/>
                </a:lnTo>
                <a:lnTo>
                  <a:pt x="25" y="310"/>
                </a:lnTo>
                <a:lnTo>
                  <a:pt x="25" y="31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85120" y="5005440"/>
            <a:ext cx="60120" cy="58680"/>
          </a:xfrm>
          <a:custGeom>
            <a:avLst/>
            <a:gdLst/>
            <a:ahLst/>
            <a:rect l="l" t="t" r="r" b="b"/>
            <a:pathLst>
              <a:path w="76" h="75">
                <a:moveTo>
                  <a:pt x="72" y="55"/>
                </a:moveTo>
                <a:lnTo>
                  <a:pt x="73" y="51"/>
                </a:lnTo>
                <a:lnTo>
                  <a:pt x="74" y="47"/>
                </a:lnTo>
                <a:lnTo>
                  <a:pt x="74" y="44"/>
                </a:lnTo>
                <a:lnTo>
                  <a:pt x="76" y="40"/>
                </a:lnTo>
                <a:lnTo>
                  <a:pt x="76" y="36"/>
                </a:lnTo>
                <a:lnTo>
                  <a:pt x="74" y="33"/>
                </a:lnTo>
                <a:lnTo>
                  <a:pt x="74" y="29"/>
                </a:lnTo>
                <a:lnTo>
                  <a:pt x="73" y="25"/>
                </a:lnTo>
                <a:lnTo>
                  <a:pt x="70" y="19"/>
                </a:lnTo>
                <a:lnTo>
                  <a:pt x="66" y="13"/>
                </a:lnTo>
                <a:lnTo>
                  <a:pt x="61" y="8"/>
                </a:lnTo>
                <a:lnTo>
                  <a:pt x="54" y="4"/>
                </a:lnTo>
                <a:lnTo>
                  <a:pt x="50" y="3"/>
                </a:lnTo>
                <a:lnTo>
                  <a:pt x="47" y="2"/>
                </a:lnTo>
                <a:lnTo>
                  <a:pt x="43" y="0"/>
                </a:lnTo>
                <a:lnTo>
                  <a:pt x="39" y="0"/>
                </a:lnTo>
                <a:lnTo>
                  <a:pt x="35" y="0"/>
                </a:lnTo>
                <a:lnTo>
                  <a:pt x="32" y="0"/>
                </a:lnTo>
                <a:lnTo>
                  <a:pt x="25" y="3"/>
                </a:lnTo>
                <a:lnTo>
                  <a:pt x="19" y="6"/>
                </a:lnTo>
                <a:lnTo>
                  <a:pt x="13" y="10"/>
                </a:lnTo>
                <a:lnTo>
                  <a:pt x="8" y="15"/>
                </a:lnTo>
                <a:lnTo>
                  <a:pt x="4" y="22"/>
                </a:lnTo>
                <a:lnTo>
                  <a:pt x="4" y="22"/>
                </a:lnTo>
                <a:lnTo>
                  <a:pt x="2" y="25"/>
                </a:lnTo>
                <a:lnTo>
                  <a:pt x="1" y="29"/>
                </a:lnTo>
                <a:lnTo>
                  <a:pt x="1" y="33"/>
                </a:lnTo>
                <a:lnTo>
                  <a:pt x="0" y="36"/>
                </a:lnTo>
                <a:lnTo>
                  <a:pt x="0" y="40"/>
                </a:lnTo>
                <a:lnTo>
                  <a:pt x="1" y="44"/>
                </a:lnTo>
                <a:lnTo>
                  <a:pt x="2" y="51"/>
                </a:lnTo>
                <a:lnTo>
                  <a:pt x="5" y="57"/>
                </a:lnTo>
                <a:lnTo>
                  <a:pt x="9" y="63"/>
                </a:lnTo>
                <a:lnTo>
                  <a:pt x="14" y="68"/>
                </a:lnTo>
                <a:lnTo>
                  <a:pt x="21" y="72"/>
                </a:lnTo>
                <a:lnTo>
                  <a:pt x="25" y="74"/>
                </a:lnTo>
                <a:lnTo>
                  <a:pt x="28" y="74"/>
                </a:lnTo>
                <a:lnTo>
                  <a:pt x="32" y="75"/>
                </a:lnTo>
                <a:lnTo>
                  <a:pt x="36" y="75"/>
                </a:lnTo>
                <a:lnTo>
                  <a:pt x="39" y="75"/>
                </a:lnTo>
                <a:lnTo>
                  <a:pt x="43" y="75"/>
                </a:lnTo>
                <a:lnTo>
                  <a:pt x="50" y="74"/>
                </a:lnTo>
                <a:lnTo>
                  <a:pt x="57" y="70"/>
                </a:lnTo>
                <a:lnTo>
                  <a:pt x="62" y="66"/>
                </a:lnTo>
                <a:lnTo>
                  <a:pt x="68" y="60"/>
                </a:lnTo>
                <a:lnTo>
                  <a:pt x="72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32560" y="5032440"/>
            <a:ext cx="426960" cy="260280"/>
          </a:xfrm>
          <a:custGeom>
            <a:avLst/>
            <a:gdLst/>
            <a:ahLst/>
            <a:rect l="l" t="t" r="r" b="b"/>
            <a:pathLst>
              <a:path w="538" h="327">
                <a:moveTo>
                  <a:pt x="532" y="1"/>
                </a:moveTo>
                <a:lnTo>
                  <a:pt x="536" y="13"/>
                </a:lnTo>
                <a:lnTo>
                  <a:pt x="538" y="27"/>
                </a:lnTo>
                <a:lnTo>
                  <a:pt x="538" y="31"/>
                </a:lnTo>
                <a:lnTo>
                  <a:pt x="538" y="32"/>
                </a:lnTo>
                <a:lnTo>
                  <a:pt x="538" y="32"/>
                </a:lnTo>
                <a:lnTo>
                  <a:pt x="537" y="34"/>
                </a:lnTo>
                <a:lnTo>
                  <a:pt x="536" y="34"/>
                </a:lnTo>
                <a:lnTo>
                  <a:pt x="534" y="34"/>
                </a:lnTo>
                <a:lnTo>
                  <a:pt x="534" y="32"/>
                </a:lnTo>
                <a:lnTo>
                  <a:pt x="534" y="32"/>
                </a:lnTo>
                <a:lnTo>
                  <a:pt x="534" y="27"/>
                </a:lnTo>
                <a:lnTo>
                  <a:pt x="532" y="15"/>
                </a:lnTo>
                <a:lnTo>
                  <a:pt x="528" y="2"/>
                </a:lnTo>
                <a:lnTo>
                  <a:pt x="526" y="2"/>
                </a:lnTo>
                <a:lnTo>
                  <a:pt x="528" y="1"/>
                </a:lnTo>
                <a:lnTo>
                  <a:pt x="529" y="0"/>
                </a:lnTo>
                <a:lnTo>
                  <a:pt x="529" y="0"/>
                </a:lnTo>
                <a:lnTo>
                  <a:pt x="530" y="0"/>
                </a:lnTo>
                <a:lnTo>
                  <a:pt x="532" y="1"/>
                </a:lnTo>
                <a:lnTo>
                  <a:pt x="532" y="1"/>
                </a:lnTo>
                <a:close/>
                <a:moveTo>
                  <a:pt x="538" y="54"/>
                </a:moveTo>
                <a:lnTo>
                  <a:pt x="536" y="65"/>
                </a:lnTo>
                <a:lnTo>
                  <a:pt x="532" y="79"/>
                </a:lnTo>
                <a:lnTo>
                  <a:pt x="530" y="84"/>
                </a:lnTo>
                <a:lnTo>
                  <a:pt x="529" y="84"/>
                </a:lnTo>
                <a:lnTo>
                  <a:pt x="528" y="84"/>
                </a:lnTo>
                <a:lnTo>
                  <a:pt x="526" y="84"/>
                </a:lnTo>
                <a:lnTo>
                  <a:pt x="526" y="83"/>
                </a:lnTo>
                <a:lnTo>
                  <a:pt x="526" y="81"/>
                </a:lnTo>
                <a:lnTo>
                  <a:pt x="528" y="77"/>
                </a:lnTo>
                <a:lnTo>
                  <a:pt x="532" y="65"/>
                </a:lnTo>
                <a:lnTo>
                  <a:pt x="534" y="53"/>
                </a:lnTo>
                <a:lnTo>
                  <a:pt x="534" y="51"/>
                </a:lnTo>
                <a:lnTo>
                  <a:pt x="536" y="51"/>
                </a:lnTo>
                <a:lnTo>
                  <a:pt x="537" y="51"/>
                </a:lnTo>
                <a:lnTo>
                  <a:pt x="537" y="51"/>
                </a:lnTo>
                <a:lnTo>
                  <a:pt x="537" y="51"/>
                </a:lnTo>
                <a:lnTo>
                  <a:pt x="538" y="54"/>
                </a:lnTo>
                <a:lnTo>
                  <a:pt x="538" y="54"/>
                </a:lnTo>
                <a:close/>
                <a:moveTo>
                  <a:pt x="521" y="103"/>
                </a:moveTo>
                <a:lnTo>
                  <a:pt x="519" y="103"/>
                </a:lnTo>
                <a:lnTo>
                  <a:pt x="511" y="115"/>
                </a:lnTo>
                <a:lnTo>
                  <a:pt x="502" y="128"/>
                </a:lnTo>
                <a:lnTo>
                  <a:pt x="502" y="129"/>
                </a:lnTo>
                <a:lnTo>
                  <a:pt x="500" y="129"/>
                </a:lnTo>
                <a:lnTo>
                  <a:pt x="499" y="129"/>
                </a:lnTo>
                <a:lnTo>
                  <a:pt x="499" y="128"/>
                </a:lnTo>
                <a:lnTo>
                  <a:pt x="498" y="126"/>
                </a:lnTo>
                <a:lnTo>
                  <a:pt x="499" y="125"/>
                </a:lnTo>
                <a:lnTo>
                  <a:pt x="509" y="114"/>
                </a:lnTo>
                <a:lnTo>
                  <a:pt x="517" y="102"/>
                </a:lnTo>
                <a:lnTo>
                  <a:pt x="517" y="100"/>
                </a:lnTo>
                <a:lnTo>
                  <a:pt x="517" y="100"/>
                </a:lnTo>
                <a:lnTo>
                  <a:pt x="518" y="100"/>
                </a:lnTo>
                <a:lnTo>
                  <a:pt x="518" y="100"/>
                </a:lnTo>
                <a:lnTo>
                  <a:pt x="519" y="100"/>
                </a:lnTo>
                <a:lnTo>
                  <a:pt x="519" y="100"/>
                </a:lnTo>
                <a:lnTo>
                  <a:pt x="521" y="102"/>
                </a:lnTo>
                <a:lnTo>
                  <a:pt x="521" y="102"/>
                </a:lnTo>
                <a:lnTo>
                  <a:pt x="521" y="103"/>
                </a:lnTo>
                <a:lnTo>
                  <a:pt x="521" y="103"/>
                </a:lnTo>
                <a:close/>
                <a:moveTo>
                  <a:pt x="487" y="144"/>
                </a:moveTo>
                <a:lnTo>
                  <a:pt x="479" y="152"/>
                </a:lnTo>
                <a:lnTo>
                  <a:pt x="465" y="164"/>
                </a:lnTo>
                <a:lnTo>
                  <a:pt x="465" y="164"/>
                </a:lnTo>
                <a:lnTo>
                  <a:pt x="464" y="166"/>
                </a:lnTo>
                <a:lnTo>
                  <a:pt x="462" y="166"/>
                </a:lnTo>
                <a:lnTo>
                  <a:pt x="461" y="164"/>
                </a:lnTo>
                <a:lnTo>
                  <a:pt x="461" y="163"/>
                </a:lnTo>
                <a:lnTo>
                  <a:pt x="461" y="163"/>
                </a:lnTo>
                <a:lnTo>
                  <a:pt x="461" y="162"/>
                </a:lnTo>
                <a:lnTo>
                  <a:pt x="462" y="162"/>
                </a:lnTo>
                <a:lnTo>
                  <a:pt x="462" y="162"/>
                </a:lnTo>
                <a:lnTo>
                  <a:pt x="476" y="149"/>
                </a:lnTo>
                <a:lnTo>
                  <a:pt x="484" y="141"/>
                </a:lnTo>
                <a:lnTo>
                  <a:pt x="485" y="140"/>
                </a:lnTo>
                <a:lnTo>
                  <a:pt x="487" y="141"/>
                </a:lnTo>
                <a:lnTo>
                  <a:pt x="488" y="142"/>
                </a:lnTo>
                <a:lnTo>
                  <a:pt x="487" y="144"/>
                </a:lnTo>
                <a:lnTo>
                  <a:pt x="487" y="144"/>
                </a:lnTo>
                <a:close/>
                <a:moveTo>
                  <a:pt x="447" y="178"/>
                </a:moveTo>
                <a:lnTo>
                  <a:pt x="434" y="187"/>
                </a:lnTo>
                <a:lnTo>
                  <a:pt x="422" y="196"/>
                </a:lnTo>
                <a:lnTo>
                  <a:pt x="420" y="196"/>
                </a:lnTo>
                <a:lnTo>
                  <a:pt x="420" y="196"/>
                </a:lnTo>
                <a:lnTo>
                  <a:pt x="419" y="194"/>
                </a:lnTo>
                <a:lnTo>
                  <a:pt x="419" y="193"/>
                </a:lnTo>
                <a:lnTo>
                  <a:pt x="419" y="193"/>
                </a:lnTo>
                <a:lnTo>
                  <a:pt x="419" y="191"/>
                </a:lnTo>
                <a:lnTo>
                  <a:pt x="431" y="183"/>
                </a:lnTo>
                <a:lnTo>
                  <a:pt x="445" y="174"/>
                </a:lnTo>
                <a:lnTo>
                  <a:pt x="445" y="174"/>
                </a:lnTo>
                <a:lnTo>
                  <a:pt x="446" y="174"/>
                </a:lnTo>
                <a:lnTo>
                  <a:pt x="447" y="175"/>
                </a:lnTo>
                <a:lnTo>
                  <a:pt x="447" y="175"/>
                </a:lnTo>
                <a:lnTo>
                  <a:pt x="447" y="176"/>
                </a:lnTo>
                <a:lnTo>
                  <a:pt x="447" y="178"/>
                </a:lnTo>
                <a:lnTo>
                  <a:pt x="447" y="178"/>
                </a:lnTo>
                <a:close/>
                <a:moveTo>
                  <a:pt x="402" y="206"/>
                </a:moveTo>
                <a:lnTo>
                  <a:pt x="398" y="209"/>
                </a:lnTo>
                <a:lnTo>
                  <a:pt x="378" y="220"/>
                </a:lnTo>
                <a:lnTo>
                  <a:pt x="377" y="221"/>
                </a:lnTo>
                <a:lnTo>
                  <a:pt x="375" y="221"/>
                </a:lnTo>
                <a:lnTo>
                  <a:pt x="374" y="221"/>
                </a:lnTo>
                <a:lnTo>
                  <a:pt x="373" y="220"/>
                </a:lnTo>
                <a:lnTo>
                  <a:pt x="373" y="219"/>
                </a:lnTo>
                <a:lnTo>
                  <a:pt x="374" y="217"/>
                </a:lnTo>
                <a:lnTo>
                  <a:pt x="374" y="217"/>
                </a:lnTo>
                <a:lnTo>
                  <a:pt x="377" y="216"/>
                </a:lnTo>
                <a:lnTo>
                  <a:pt x="396" y="205"/>
                </a:lnTo>
                <a:lnTo>
                  <a:pt x="401" y="202"/>
                </a:lnTo>
                <a:lnTo>
                  <a:pt x="401" y="202"/>
                </a:lnTo>
                <a:lnTo>
                  <a:pt x="402" y="202"/>
                </a:lnTo>
                <a:lnTo>
                  <a:pt x="404" y="204"/>
                </a:lnTo>
                <a:lnTo>
                  <a:pt x="404" y="204"/>
                </a:lnTo>
                <a:lnTo>
                  <a:pt x="404" y="205"/>
                </a:lnTo>
                <a:lnTo>
                  <a:pt x="402" y="206"/>
                </a:lnTo>
                <a:lnTo>
                  <a:pt x="402" y="206"/>
                </a:lnTo>
                <a:close/>
                <a:moveTo>
                  <a:pt x="356" y="231"/>
                </a:moveTo>
                <a:lnTo>
                  <a:pt x="336" y="240"/>
                </a:lnTo>
                <a:lnTo>
                  <a:pt x="329" y="243"/>
                </a:lnTo>
                <a:lnTo>
                  <a:pt x="328" y="243"/>
                </a:lnTo>
                <a:lnTo>
                  <a:pt x="326" y="243"/>
                </a:lnTo>
                <a:lnTo>
                  <a:pt x="326" y="243"/>
                </a:lnTo>
                <a:lnTo>
                  <a:pt x="326" y="242"/>
                </a:lnTo>
                <a:lnTo>
                  <a:pt x="326" y="240"/>
                </a:lnTo>
                <a:lnTo>
                  <a:pt x="326" y="239"/>
                </a:lnTo>
                <a:lnTo>
                  <a:pt x="326" y="239"/>
                </a:lnTo>
                <a:lnTo>
                  <a:pt x="334" y="236"/>
                </a:lnTo>
                <a:lnTo>
                  <a:pt x="355" y="227"/>
                </a:lnTo>
                <a:lnTo>
                  <a:pt x="355" y="227"/>
                </a:lnTo>
                <a:lnTo>
                  <a:pt x="356" y="227"/>
                </a:lnTo>
                <a:lnTo>
                  <a:pt x="356" y="227"/>
                </a:lnTo>
                <a:lnTo>
                  <a:pt x="358" y="228"/>
                </a:lnTo>
                <a:lnTo>
                  <a:pt x="358" y="228"/>
                </a:lnTo>
                <a:lnTo>
                  <a:pt x="358" y="230"/>
                </a:lnTo>
                <a:lnTo>
                  <a:pt x="358" y="230"/>
                </a:lnTo>
                <a:lnTo>
                  <a:pt x="356" y="231"/>
                </a:lnTo>
                <a:lnTo>
                  <a:pt x="356" y="231"/>
                </a:lnTo>
                <a:close/>
                <a:moveTo>
                  <a:pt x="309" y="251"/>
                </a:moveTo>
                <a:lnTo>
                  <a:pt x="290" y="259"/>
                </a:lnTo>
                <a:lnTo>
                  <a:pt x="280" y="262"/>
                </a:lnTo>
                <a:lnTo>
                  <a:pt x="279" y="262"/>
                </a:lnTo>
                <a:lnTo>
                  <a:pt x="279" y="262"/>
                </a:lnTo>
                <a:lnTo>
                  <a:pt x="277" y="262"/>
                </a:lnTo>
                <a:lnTo>
                  <a:pt x="277" y="261"/>
                </a:lnTo>
                <a:lnTo>
                  <a:pt x="277" y="259"/>
                </a:lnTo>
                <a:lnTo>
                  <a:pt x="277" y="258"/>
                </a:lnTo>
                <a:lnTo>
                  <a:pt x="279" y="258"/>
                </a:lnTo>
                <a:lnTo>
                  <a:pt x="287" y="255"/>
                </a:lnTo>
                <a:lnTo>
                  <a:pt x="307" y="247"/>
                </a:lnTo>
                <a:lnTo>
                  <a:pt x="309" y="247"/>
                </a:lnTo>
                <a:lnTo>
                  <a:pt x="309" y="247"/>
                </a:lnTo>
                <a:lnTo>
                  <a:pt x="310" y="249"/>
                </a:lnTo>
                <a:lnTo>
                  <a:pt x="310" y="250"/>
                </a:lnTo>
                <a:lnTo>
                  <a:pt x="310" y="250"/>
                </a:lnTo>
                <a:lnTo>
                  <a:pt x="309" y="251"/>
                </a:lnTo>
                <a:lnTo>
                  <a:pt x="309" y="251"/>
                </a:lnTo>
                <a:lnTo>
                  <a:pt x="309" y="251"/>
                </a:lnTo>
                <a:close/>
                <a:moveTo>
                  <a:pt x="260" y="269"/>
                </a:moveTo>
                <a:lnTo>
                  <a:pt x="238" y="276"/>
                </a:lnTo>
                <a:lnTo>
                  <a:pt x="230" y="278"/>
                </a:lnTo>
                <a:lnTo>
                  <a:pt x="230" y="278"/>
                </a:lnTo>
                <a:lnTo>
                  <a:pt x="228" y="278"/>
                </a:lnTo>
                <a:lnTo>
                  <a:pt x="228" y="278"/>
                </a:lnTo>
                <a:lnTo>
                  <a:pt x="227" y="277"/>
                </a:lnTo>
                <a:lnTo>
                  <a:pt x="227" y="276"/>
                </a:lnTo>
                <a:lnTo>
                  <a:pt x="227" y="276"/>
                </a:lnTo>
                <a:lnTo>
                  <a:pt x="228" y="274"/>
                </a:lnTo>
                <a:lnTo>
                  <a:pt x="228" y="274"/>
                </a:lnTo>
                <a:lnTo>
                  <a:pt x="237" y="272"/>
                </a:lnTo>
                <a:lnTo>
                  <a:pt x="258" y="265"/>
                </a:lnTo>
                <a:lnTo>
                  <a:pt x="260" y="265"/>
                </a:lnTo>
                <a:lnTo>
                  <a:pt x="260" y="266"/>
                </a:lnTo>
                <a:lnTo>
                  <a:pt x="261" y="266"/>
                </a:lnTo>
                <a:lnTo>
                  <a:pt x="261" y="268"/>
                </a:lnTo>
                <a:lnTo>
                  <a:pt x="261" y="268"/>
                </a:lnTo>
                <a:lnTo>
                  <a:pt x="260" y="269"/>
                </a:lnTo>
                <a:lnTo>
                  <a:pt x="260" y="269"/>
                </a:lnTo>
                <a:lnTo>
                  <a:pt x="260" y="269"/>
                </a:lnTo>
                <a:close/>
                <a:moveTo>
                  <a:pt x="209" y="285"/>
                </a:moveTo>
                <a:lnTo>
                  <a:pt x="183" y="292"/>
                </a:lnTo>
                <a:lnTo>
                  <a:pt x="179" y="293"/>
                </a:lnTo>
                <a:lnTo>
                  <a:pt x="178" y="292"/>
                </a:lnTo>
                <a:lnTo>
                  <a:pt x="178" y="292"/>
                </a:lnTo>
                <a:lnTo>
                  <a:pt x="177" y="292"/>
                </a:lnTo>
                <a:lnTo>
                  <a:pt x="178" y="289"/>
                </a:lnTo>
                <a:lnTo>
                  <a:pt x="179" y="289"/>
                </a:lnTo>
                <a:lnTo>
                  <a:pt x="183" y="288"/>
                </a:lnTo>
                <a:lnTo>
                  <a:pt x="208" y="281"/>
                </a:lnTo>
                <a:lnTo>
                  <a:pt x="209" y="281"/>
                </a:lnTo>
                <a:lnTo>
                  <a:pt x="209" y="281"/>
                </a:lnTo>
                <a:lnTo>
                  <a:pt x="211" y="283"/>
                </a:lnTo>
                <a:lnTo>
                  <a:pt x="211" y="283"/>
                </a:lnTo>
                <a:lnTo>
                  <a:pt x="211" y="284"/>
                </a:lnTo>
                <a:lnTo>
                  <a:pt x="209" y="285"/>
                </a:lnTo>
                <a:lnTo>
                  <a:pt x="209" y="285"/>
                </a:lnTo>
                <a:close/>
                <a:moveTo>
                  <a:pt x="159" y="299"/>
                </a:moveTo>
                <a:lnTo>
                  <a:pt x="156" y="299"/>
                </a:lnTo>
                <a:lnTo>
                  <a:pt x="129" y="306"/>
                </a:lnTo>
                <a:lnTo>
                  <a:pt x="128" y="306"/>
                </a:lnTo>
                <a:lnTo>
                  <a:pt x="128" y="304"/>
                </a:lnTo>
                <a:lnTo>
                  <a:pt x="126" y="304"/>
                </a:lnTo>
                <a:lnTo>
                  <a:pt x="126" y="303"/>
                </a:lnTo>
                <a:lnTo>
                  <a:pt x="126" y="302"/>
                </a:lnTo>
                <a:lnTo>
                  <a:pt x="128" y="302"/>
                </a:lnTo>
                <a:lnTo>
                  <a:pt x="155" y="295"/>
                </a:lnTo>
                <a:lnTo>
                  <a:pt x="158" y="295"/>
                </a:lnTo>
                <a:lnTo>
                  <a:pt x="159" y="293"/>
                </a:lnTo>
                <a:lnTo>
                  <a:pt x="159" y="295"/>
                </a:lnTo>
                <a:lnTo>
                  <a:pt x="160" y="295"/>
                </a:lnTo>
                <a:lnTo>
                  <a:pt x="160" y="296"/>
                </a:lnTo>
                <a:lnTo>
                  <a:pt x="160" y="296"/>
                </a:lnTo>
                <a:lnTo>
                  <a:pt x="160" y="298"/>
                </a:lnTo>
                <a:lnTo>
                  <a:pt x="159" y="299"/>
                </a:lnTo>
                <a:lnTo>
                  <a:pt x="159" y="299"/>
                </a:lnTo>
                <a:close/>
                <a:moveTo>
                  <a:pt x="107" y="310"/>
                </a:moveTo>
                <a:lnTo>
                  <a:pt x="96" y="312"/>
                </a:lnTo>
                <a:lnTo>
                  <a:pt x="77" y="315"/>
                </a:lnTo>
                <a:lnTo>
                  <a:pt x="76" y="315"/>
                </a:lnTo>
                <a:lnTo>
                  <a:pt x="75" y="314"/>
                </a:lnTo>
                <a:lnTo>
                  <a:pt x="76" y="312"/>
                </a:lnTo>
                <a:lnTo>
                  <a:pt x="77" y="311"/>
                </a:lnTo>
                <a:lnTo>
                  <a:pt x="96" y="308"/>
                </a:lnTo>
                <a:lnTo>
                  <a:pt x="107" y="306"/>
                </a:lnTo>
                <a:lnTo>
                  <a:pt x="107" y="306"/>
                </a:lnTo>
                <a:lnTo>
                  <a:pt x="109" y="306"/>
                </a:lnTo>
                <a:lnTo>
                  <a:pt x="110" y="307"/>
                </a:lnTo>
                <a:lnTo>
                  <a:pt x="110" y="308"/>
                </a:lnTo>
                <a:lnTo>
                  <a:pt x="109" y="308"/>
                </a:lnTo>
                <a:lnTo>
                  <a:pt x="107" y="310"/>
                </a:lnTo>
                <a:lnTo>
                  <a:pt x="107" y="310"/>
                </a:lnTo>
                <a:close/>
                <a:moveTo>
                  <a:pt x="57" y="319"/>
                </a:moveTo>
                <a:lnTo>
                  <a:pt x="35" y="323"/>
                </a:lnTo>
                <a:lnTo>
                  <a:pt x="26" y="325"/>
                </a:lnTo>
                <a:lnTo>
                  <a:pt x="24" y="323"/>
                </a:lnTo>
                <a:lnTo>
                  <a:pt x="24" y="323"/>
                </a:lnTo>
                <a:lnTo>
                  <a:pt x="24" y="322"/>
                </a:lnTo>
                <a:lnTo>
                  <a:pt x="24" y="321"/>
                </a:lnTo>
                <a:lnTo>
                  <a:pt x="24" y="321"/>
                </a:lnTo>
                <a:lnTo>
                  <a:pt x="24" y="319"/>
                </a:lnTo>
                <a:lnTo>
                  <a:pt x="26" y="319"/>
                </a:lnTo>
                <a:lnTo>
                  <a:pt x="34" y="318"/>
                </a:lnTo>
                <a:lnTo>
                  <a:pt x="56" y="315"/>
                </a:lnTo>
                <a:lnTo>
                  <a:pt x="57" y="315"/>
                </a:lnTo>
                <a:lnTo>
                  <a:pt x="57" y="315"/>
                </a:lnTo>
                <a:lnTo>
                  <a:pt x="58" y="317"/>
                </a:lnTo>
                <a:lnTo>
                  <a:pt x="57" y="318"/>
                </a:lnTo>
                <a:lnTo>
                  <a:pt x="57" y="319"/>
                </a:lnTo>
                <a:lnTo>
                  <a:pt x="57" y="319"/>
                </a:lnTo>
                <a:close/>
                <a:moveTo>
                  <a:pt x="5" y="327"/>
                </a:moveTo>
                <a:lnTo>
                  <a:pt x="3" y="327"/>
                </a:lnTo>
                <a:lnTo>
                  <a:pt x="1" y="327"/>
                </a:lnTo>
                <a:lnTo>
                  <a:pt x="0" y="326"/>
                </a:lnTo>
                <a:lnTo>
                  <a:pt x="0" y="323"/>
                </a:lnTo>
                <a:lnTo>
                  <a:pt x="1" y="323"/>
                </a:lnTo>
                <a:lnTo>
                  <a:pt x="3" y="323"/>
                </a:lnTo>
                <a:lnTo>
                  <a:pt x="4" y="323"/>
                </a:lnTo>
                <a:lnTo>
                  <a:pt x="5" y="323"/>
                </a:lnTo>
                <a:lnTo>
                  <a:pt x="5" y="323"/>
                </a:lnTo>
                <a:lnTo>
                  <a:pt x="7" y="323"/>
                </a:lnTo>
                <a:lnTo>
                  <a:pt x="7" y="325"/>
                </a:lnTo>
                <a:lnTo>
                  <a:pt x="7" y="325"/>
                </a:lnTo>
                <a:lnTo>
                  <a:pt x="7" y="326"/>
                </a:lnTo>
                <a:lnTo>
                  <a:pt x="5" y="327"/>
                </a:lnTo>
                <a:lnTo>
                  <a:pt x="5" y="3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23160" y="5005440"/>
            <a:ext cx="60120" cy="58680"/>
          </a:xfrm>
          <a:custGeom>
            <a:avLst/>
            <a:gdLst/>
            <a:ahLst/>
            <a:rect l="l" t="t" r="r" b="b"/>
            <a:pathLst>
              <a:path w="75" h="75">
                <a:moveTo>
                  <a:pt x="52" y="72"/>
                </a:moveTo>
                <a:lnTo>
                  <a:pt x="57" y="70"/>
                </a:lnTo>
                <a:lnTo>
                  <a:pt x="64" y="64"/>
                </a:lnTo>
                <a:lnTo>
                  <a:pt x="68" y="59"/>
                </a:lnTo>
                <a:lnTo>
                  <a:pt x="72" y="52"/>
                </a:lnTo>
                <a:lnTo>
                  <a:pt x="74" y="45"/>
                </a:lnTo>
                <a:lnTo>
                  <a:pt x="75" y="42"/>
                </a:lnTo>
                <a:lnTo>
                  <a:pt x="75" y="38"/>
                </a:lnTo>
                <a:lnTo>
                  <a:pt x="75" y="34"/>
                </a:lnTo>
                <a:lnTo>
                  <a:pt x="74" y="32"/>
                </a:lnTo>
                <a:lnTo>
                  <a:pt x="74" y="28"/>
                </a:lnTo>
                <a:lnTo>
                  <a:pt x="72" y="23"/>
                </a:lnTo>
                <a:lnTo>
                  <a:pt x="68" y="17"/>
                </a:lnTo>
                <a:lnTo>
                  <a:pt x="64" y="11"/>
                </a:lnTo>
                <a:lnTo>
                  <a:pt x="59" y="7"/>
                </a:lnTo>
                <a:lnTo>
                  <a:pt x="52" y="3"/>
                </a:lnTo>
                <a:lnTo>
                  <a:pt x="45" y="2"/>
                </a:lnTo>
                <a:lnTo>
                  <a:pt x="41" y="0"/>
                </a:lnTo>
                <a:lnTo>
                  <a:pt x="38" y="0"/>
                </a:lnTo>
                <a:lnTo>
                  <a:pt x="34" y="0"/>
                </a:lnTo>
                <a:lnTo>
                  <a:pt x="30" y="0"/>
                </a:lnTo>
                <a:lnTo>
                  <a:pt x="26" y="2"/>
                </a:lnTo>
                <a:lnTo>
                  <a:pt x="23" y="3"/>
                </a:lnTo>
                <a:lnTo>
                  <a:pt x="23" y="3"/>
                </a:lnTo>
                <a:lnTo>
                  <a:pt x="17" y="7"/>
                </a:lnTo>
                <a:lnTo>
                  <a:pt x="11" y="11"/>
                </a:lnTo>
                <a:lnTo>
                  <a:pt x="6" y="17"/>
                </a:lnTo>
                <a:lnTo>
                  <a:pt x="3" y="23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0" y="41"/>
                </a:lnTo>
                <a:lnTo>
                  <a:pt x="0" y="45"/>
                </a:lnTo>
                <a:lnTo>
                  <a:pt x="2" y="48"/>
                </a:lnTo>
                <a:lnTo>
                  <a:pt x="3" y="52"/>
                </a:lnTo>
                <a:lnTo>
                  <a:pt x="6" y="59"/>
                </a:lnTo>
                <a:lnTo>
                  <a:pt x="11" y="64"/>
                </a:lnTo>
                <a:lnTo>
                  <a:pt x="17" y="70"/>
                </a:lnTo>
                <a:lnTo>
                  <a:pt x="22" y="72"/>
                </a:lnTo>
                <a:lnTo>
                  <a:pt x="29" y="75"/>
                </a:lnTo>
                <a:lnTo>
                  <a:pt x="33" y="75"/>
                </a:lnTo>
                <a:lnTo>
                  <a:pt x="37" y="75"/>
                </a:lnTo>
                <a:lnTo>
                  <a:pt x="40" y="75"/>
                </a:lnTo>
                <a:lnTo>
                  <a:pt x="44" y="75"/>
                </a:lnTo>
                <a:lnTo>
                  <a:pt x="48" y="74"/>
                </a:lnTo>
                <a:lnTo>
                  <a:pt x="5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184880" y="5035680"/>
            <a:ext cx="74880" cy="179280"/>
          </a:xfrm>
          <a:custGeom>
            <a:avLst/>
            <a:gdLst/>
            <a:ahLst/>
            <a:rect l="l" t="t" r="r" b="b"/>
            <a:pathLst>
              <a:path w="94" h="226">
                <a:moveTo>
                  <a:pt x="94" y="4"/>
                </a:moveTo>
                <a:lnTo>
                  <a:pt x="83" y="32"/>
                </a:lnTo>
                <a:lnTo>
                  <a:pt x="82" y="33"/>
                </a:lnTo>
                <a:lnTo>
                  <a:pt x="81" y="33"/>
                </a:lnTo>
                <a:lnTo>
                  <a:pt x="81" y="33"/>
                </a:lnTo>
                <a:lnTo>
                  <a:pt x="79" y="32"/>
                </a:lnTo>
                <a:lnTo>
                  <a:pt x="79" y="32"/>
                </a:lnTo>
                <a:lnTo>
                  <a:pt x="79" y="30"/>
                </a:lnTo>
                <a:lnTo>
                  <a:pt x="90" y="2"/>
                </a:lnTo>
                <a:lnTo>
                  <a:pt x="91" y="2"/>
                </a:lnTo>
                <a:lnTo>
                  <a:pt x="91" y="0"/>
                </a:lnTo>
                <a:lnTo>
                  <a:pt x="93" y="0"/>
                </a:lnTo>
                <a:lnTo>
                  <a:pt x="93" y="2"/>
                </a:lnTo>
                <a:lnTo>
                  <a:pt x="94" y="2"/>
                </a:lnTo>
                <a:lnTo>
                  <a:pt x="94" y="2"/>
                </a:lnTo>
                <a:lnTo>
                  <a:pt x="94" y="3"/>
                </a:lnTo>
                <a:lnTo>
                  <a:pt x="94" y="4"/>
                </a:lnTo>
                <a:lnTo>
                  <a:pt x="94" y="4"/>
                </a:lnTo>
                <a:close/>
                <a:moveTo>
                  <a:pt x="75" y="52"/>
                </a:moveTo>
                <a:lnTo>
                  <a:pt x="63" y="81"/>
                </a:lnTo>
                <a:lnTo>
                  <a:pt x="63" y="81"/>
                </a:lnTo>
                <a:lnTo>
                  <a:pt x="62" y="82"/>
                </a:lnTo>
                <a:lnTo>
                  <a:pt x="60" y="82"/>
                </a:lnTo>
                <a:lnTo>
                  <a:pt x="59" y="81"/>
                </a:lnTo>
                <a:lnTo>
                  <a:pt x="59" y="79"/>
                </a:lnTo>
                <a:lnTo>
                  <a:pt x="59" y="79"/>
                </a:lnTo>
                <a:lnTo>
                  <a:pt x="71" y="51"/>
                </a:lnTo>
                <a:lnTo>
                  <a:pt x="71" y="49"/>
                </a:lnTo>
                <a:lnTo>
                  <a:pt x="72" y="49"/>
                </a:lnTo>
                <a:lnTo>
                  <a:pt x="74" y="49"/>
                </a:lnTo>
                <a:lnTo>
                  <a:pt x="74" y="49"/>
                </a:lnTo>
                <a:lnTo>
                  <a:pt x="75" y="51"/>
                </a:lnTo>
                <a:lnTo>
                  <a:pt x="75" y="51"/>
                </a:lnTo>
                <a:lnTo>
                  <a:pt x="75" y="52"/>
                </a:lnTo>
                <a:lnTo>
                  <a:pt x="75" y="52"/>
                </a:lnTo>
                <a:close/>
                <a:moveTo>
                  <a:pt x="55" y="101"/>
                </a:moveTo>
                <a:lnTo>
                  <a:pt x="44" y="128"/>
                </a:lnTo>
                <a:lnTo>
                  <a:pt x="43" y="130"/>
                </a:lnTo>
                <a:lnTo>
                  <a:pt x="43" y="130"/>
                </a:lnTo>
                <a:lnTo>
                  <a:pt x="41" y="130"/>
                </a:lnTo>
                <a:lnTo>
                  <a:pt x="40" y="130"/>
                </a:lnTo>
                <a:lnTo>
                  <a:pt x="40" y="128"/>
                </a:lnTo>
                <a:lnTo>
                  <a:pt x="40" y="128"/>
                </a:lnTo>
                <a:lnTo>
                  <a:pt x="40" y="127"/>
                </a:lnTo>
                <a:lnTo>
                  <a:pt x="51" y="100"/>
                </a:lnTo>
                <a:lnTo>
                  <a:pt x="51" y="98"/>
                </a:lnTo>
                <a:lnTo>
                  <a:pt x="52" y="98"/>
                </a:lnTo>
                <a:lnTo>
                  <a:pt x="53" y="98"/>
                </a:lnTo>
                <a:lnTo>
                  <a:pt x="55" y="98"/>
                </a:lnTo>
                <a:lnTo>
                  <a:pt x="55" y="100"/>
                </a:lnTo>
                <a:lnTo>
                  <a:pt x="55" y="101"/>
                </a:lnTo>
                <a:lnTo>
                  <a:pt x="55" y="101"/>
                </a:lnTo>
                <a:close/>
                <a:moveTo>
                  <a:pt x="36" y="149"/>
                </a:moveTo>
                <a:lnTo>
                  <a:pt x="23" y="177"/>
                </a:lnTo>
                <a:lnTo>
                  <a:pt x="23" y="179"/>
                </a:lnTo>
                <a:lnTo>
                  <a:pt x="22" y="179"/>
                </a:lnTo>
                <a:lnTo>
                  <a:pt x="22" y="179"/>
                </a:lnTo>
                <a:lnTo>
                  <a:pt x="21" y="179"/>
                </a:lnTo>
                <a:lnTo>
                  <a:pt x="21" y="177"/>
                </a:lnTo>
                <a:lnTo>
                  <a:pt x="19" y="177"/>
                </a:lnTo>
                <a:lnTo>
                  <a:pt x="19" y="176"/>
                </a:lnTo>
                <a:lnTo>
                  <a:pt x="19" y="176"/>
                </a:lnTo>
                <a:lnTo>
                  <a:pt x="32" y="147"/>
                </a:lnTo>
                <a:lnTo>
                  <a:pt x="33" y="146"/>
                </a:lnTo>
                <a:lnTo>
                  <a:pt x="33" y="146"/>
                </a:lnTo>
                <a:lnTo>
                  <a:pt x="34" y="146"/>
                </a:lnTo>
                <a:lnTo>
                  <a:pt x="36" y="147"/>
                </a:lnTo>
                <a:lnTo>
                  <a:pt x="36" y="149"/>
                </a:lnTo>
                <a:lnTo>
                  <a:pt x="36" y="149"/>
                </a:lnTo>
                <a:lnTo>
                  <a:pt x="36" y="149"/>
                </a:lnTo>
                <a:close/>
                <a:moveTo>
                  <a:pt x="15" y="198"/>
                </a:moveTo>
                <a:lnTo>
                  <a:pt x="4" y="226"/>
                </a:lnTo>
                <a:lnTo>
                  <a:pt x="3" y="226"/>
                </a:lnTo>
                <a:lnTo>
                  <a:pt x="3" y="226"/>
                </a:lnTo>
                <a:lnTo>
                  <a:pt x="2" y="226"/>
                </a:lnTo>
                <a:lnTo>
                  <a:pt x="2" y="226"/>
                </a:lnTo>
                <a:lnTo>
                  <a:pt x="0" y="226"/>
                </a:lnTo>
                <a:lnTo>
                  <a:pt x="0" y="225"/>
                </a:lnTo>
                <a:lnTo>
                  <a:pt x="0" y="225"/>
                </a:lnTo>
                <a:lnTo>
                  <a:pt x="0" y="223"/>
                </a:lnTo>
                <a:lnTo>
                  <a:pt x="11" y="196"/>
                </a:lnTo>
                <a:lnTo>
                  <a:pt x="13" y="195"/>
                </a:lnTo>
                <a:lnTo>
                  <a:pt x="14" y="195"/>
                </a:lnTo>
                <a:lnTo>
                  <a:pt x="14" y="195"/>
                </a:lnTo>
                <a:lnTo>
                  <a:pt x="15" y="195"/>
                </a:lnTo>
                <a:lnTo>
                  <a:pt x="15" y="196"/>
                </a:lnTo>
                <a:lnTo>
                  <a:pt x="15" y="196"/>
                </a:lnTo>
                <a:lnTo>
                  <a:pt x="15" y="198"/>
                </a:lnTo>
                <a:lnTo>
                  <a:pt x="15" y="19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27720" y="5006880"/>
            <a:ext cx="59040" cy="60480"/>
          </a:xfrm>
          <a:custGeom>
            <a:avLst/>
            <a:gdLst/>
            <a:ahLst/>
            <a:rect l="l" t="t" r="r" b="b"/>
            <a:pathLst>
              <a:path w="75" h="76">
                <a:moveTo>
                  <a:pt x="23" y="73"/>
                </a:moveTo>
                <a:lnTo>
                  <a:pt x="27" y="73"/>
                </a:lnTo>
                <a:lnTo>
                  <a:pt x="31" y="75"/>
                </a:lnTo>
                <a:lnTo>
                  <a:pt x="34" y="75"/>
                </a:lnTo>
                <a:lnTo>
                  <a:pt x="38" y="76"/>
                </a:lnTo>
                <a:lnTo>
                  <a:pt x="42" y="75"/>
                </a:lnTo>
                <a:lnTo>
                  <a:pt x="45" y="75"/>
                </a:lnTo>
                <a:lnTo>
                  <a:pt x="51" y="72"/>
                </a:lnTo>
                <a:lnTo>
                  <a:pt x="58" y="69"/>
                </a:lnTo>
                <a:lnTo>
                  <a:pt x="64" y="64"/>
                </a:lnTo>
                <a:lnTo>
                  <a:pt x="69" y="59"/>
                </a:lnTo>
                <a:lnTo>
                  <a:pt x="72" y="52"/>
                </a:lnTo>
                <a:lnTo>
                  <a:pt x="73" y="49"/>
                </a:lnTo>
                <a:lnTo>
                  <a:pt x="75" y="45"/>
                </a:lnTo>
                <a:lnTo>
                  <a:pt x="75" y="41"/>
                </a:lnTo>
                <a:lnTo>
                  <a:pt x="75" y="38"/>
                </a:lnTo>
                <a:lnTo>
                  <a:pt x="75" y="34"/>
                </a:lnTo>
                <a:lnTo>
                  <a:pt x="75" y="30"/>
                </a:lnTo>
                <a:lnTo>
                  <a:pt x="72" y="23"/>
                </a:lnTo>
                <a:lnTo>
                  <a:pt x="69" y="18"/>
                </a:lnTo>
                <a:lnTo>
                  <a:pt x="64" y="11"/>
                </a:lnTo>
                <a:lnTo>
                  <a:pt x="58" y="7"/>
                </a:lnTo>
                <a:lnTo>
                  <a:pt x="51" y="3"/>
                </a:lnTo>
                <a:lnTo>
                  <a:pt x="51" y="3"/>
                </a:lnTo>
                <a:lnTo>
                  <a:pt x="47" y="1"/>
                </a:lnTo>
                <a:lnTo>
                  <a:pt x="45" y="1"/>
                </a:lnTo>
                <a:lnTo>
                  <a:pt x="41" y="0"/>
                </a:lnTo>
                <a:lnTo>
                  <a:pt x="36" y="0"/>
                </a:lnTo>
                <a:lnTo>
                  <a:pt x="34" y="0"/>
                </a:lnTo>
                <a:lnTo>
                  <a:pt x="30" y="1"/>
                </a:lnTo>
                <a:lnTo>
                  <a:pt x="23" y="3"/>
                </a:lnTo>
                <a:lnTo>
                  <a:pt x="16" y="7"/>
                </a:lnTo>
                <a:lnTo>
                  <a:pt x="11" y="11"/>
                </a:lnTo>
                <a:lnTo>
                  <a:pt x="7" y="18"/>
                </a:lnTo>
                <a:lnTo>
                  <a:pt x="2" y="25"/>
                </a:lnTo>
                <a:lnTo>
                  <a:pt x="1" y="27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1" y="46"/>
                </a:lnTo>
                <a:lnTo>
                  <a:pt x="2" y="53"/>
                </a:lnTo>
                <a:lnTo>
                  <a:pt x="7" y="59"/>
                </a:lnTo>
                <a:lnTo>
                  <a:pt x="11" y="64"/>
                </a:lnTo>
                <a:lnTo>
                  <a:pt x="16" y="69"/>
                </a:lnTo>
                <a:lnTo>
                  <a:pt x="23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65320" y="5916600"/>
            <a:ext cx="782640" cy="412920"/>
          </a:xfrm>
          <a:custGeom>
            <a:avLst/>
            <a:gdLst/>
            <a:ahLst/>
            <a:rect l="l" t="t" r="r" b="b"/>
            <a:pathLst>
              <a:path w="987" h="521">
                <a:moveTo>
                  <a:pt x="983" y="520"/>
                </a:moveTo>
                <a:lnTo>
                  <a:pt x="983" y="520"/>
                </a:lnTo>
                <a:lnTo>
                  <a:pt x="983" y="518"/>
                </a:lnTo>
                <a:lnTo>
                  <a:pt x="983" y="518"/>
                </a:lnTo>
                <a:lnTo>
                  <a:pt x="983" y="517"/>
                </a:lnTo>
                <a:lnTo>
                  <a:pt x="985" y="516"/>
                </a:lnTo>
                <a:lnTo>
                  <a:pt x="985" y="516"/>
                </a:lnTo>
                <a:lnTo>
                  <a:pt x="986" y="517"/>
                </a:lnTo>
                <a:lnTo>
                  <a:pt x="986" y="517"/>
                </a:lnTo>
                <a:lnTo>
                  <a:pt x="987" y="518"/>
                </a:lnTo>
                <a:lnTo>
                  <a:pt x="987" y="518"/>
                </a:lnTo>
                <a:lnTo>
                  <a:pt x="987" y="520"/>
                </a:lnTo>
                <a:lnTo>
                  <a:pt x="985" y="520"/>
                </a:lnTo>
                <a:lnTo>
                  <a:pt x="985" y="521"/>
                </a:lnTo>
                <a:lnTo>
                  <a:pt x="983" y="520"/>
                </a:lnTo>
                <a:lnTo>
                  <a:pt x="983" y="520"/>
                </a:lnTo>
                <a:close/>
                <a:moveTo>
                  <a:pt x="964" y="510"/>
                </a:moveTo>
                <a:lnTo>
                  <a:pt x="964" y="510"/>
                </a:lnTo>
                <a:lnTo>
                  <a:pt x="963" y="509"/>
                </a:lnTo>
                <a:lnTo>
                  <a:pt x="963" y="508"/>
                </a:lnTo>
                <a:lnTo>
                  <a:pt x="964" y="508"/>
                </a:lnTo>
                <a:lnTo>
                  <a:pt x="966" y="506"/>
                </a:lnTo>
                <a:lnTo>
                  <a:pt x="966" y="506"/>
                </a:lnTo>
                <a:lnTo>
                  <a:pt x="967" y="506"/>
                </a:lnTo>
                <a:lnTo>
                  <a:pt x="967" y="506"/>
                </a:lnTo>
                <a:lnTo>
                  <a:pt x="967" y="508"/>
                </a:lnTo>
                <a:lnTo>
                  <a:pt x="968" y="509"/>
                </a:lnTo>
                <a:lnTo>
                  <a:pt x="967" y="509"/>
                </a:lnTo>
                <a:lnTo>
                  <a:pt x="966" y="510"/>
                </a:lnTo>
                <a:lnTo>
                  <a:pt x="966" y="510"/>
                </a:lnTo>
                <a:lnTo>
                  <a:pt x="964" y="510"/>
                </a:lnTo>
                <a:lnTo>
                  <a:pt x="964" y="510"/>
                </a:lnTo>
                <a:close/>
                <a:moveTo>
                  <a:pt x="945" y="499"/>
                </a:moveTo>
                <a:lnTo>
                  <a:pt x="945" y="499"/>
                </a:lnTo>
                <a:lnTo>
                  <a:pt x="944" y="498"/>
                </a:lnTo>
                <a:lnTo>
                  <a:pt x="944" y="498"/>
                </a:lnTo>
                <a:lnTo>
                  <a:pt x="945" y="497"/>
                </a:lnTo>
                <a:lnTo>
                  <a:pt x="947" y="495"/>
                </a:lnTo>
                <a:lnTo>
                  <a:pt x="947" y="495"/>
                </a:lnTo>
                <a:lnTo>
                  <a:pt x="948" y="497"/>
                </a:lnTo>
                <a:lnTo>
                  <a:pt x="948" y="497"/>
                </a:lnTo>
                <a:lnTo>
                  <a:pt x="948" y="497"/>
                </a:lnTo>
                <a:lnTo>
                  <a:pt x="948" y="498"/>
                </a:lnTo>
                <a:lnTo>
                  <a:pt x="948" y="499"/>
                </a:lnTo>
                <a:lnTo>
                  <a:pt x="947" y="499"/>
                </a:lnTo>
                <a:lnTo>
                  <a:pt x="945" y="501"/>
                </a:lnTo>
                <a:lnTo>
                  <a:pt x="945" y="499"/>
                </a:lnTo>
                <a:lnTo>
                  <a:pt x="945" y="499"/>
                </a:lnTo>
                <a:close/>
                <a:moveTo>
                  <a:pt x="926" y="490"/>
                </a:moveTo>
                <a:lnTo>
                  <a:pt x="926" y="490"/>
                </a:lnTo>
                <a:lnTo>
                  <a:pt x="925" y="488"/>
                </a:lnTo>
                <a:lnTo>
                  <a:pt x="925" y="487"/>
                </a:lnTo>
                <a:lnTo>
                  <a:pt x="925" y="487"/>
                </a:lnTo>
                <a:lnTo>
                  <a:pt x="926" y="486"/>
                </a:lnTo>
                <a:lnTo>
                  <a:pt x="928" y="486"/>
                </a:lnTo>
                <a:lnTo>
                  <a:pt x="929" y="486"/>
                </a:lnTo>
                <a:lnTo>
                  <a:pt x="929" y="486"/>
                </a:lnTo>
                <a:lnTo>
                  <a:pt x="929" y="487"/>
                </a:lnTo>
                <a:lnTo>
                  <a:pt x="929" y="488"/>
                </a:lnTo>
                <a:lnTo>
                  <a:pt x="929" y="490"/>
                </a:lnTo>
                <a:lnTo>
                  <a:pt x="929" y="490"/>
                </a:lnTo>
                <a:lnTo>
                  <a:pt x="928" y="490"/>
                </a:lnTo>
                <a:lnTo>
                  <a:pt x="926" y="490"/>
                </a:lnTo>
                <a:lnTo>
                  <a:pt x="926" y="490"/>
                </a:lnTo>
                <a:close/>
                <a:moveTo>
                  <a:pt x="907" y="480"/>
                </a:moveTo>
                <a:lnTo>
                  <a:pt x="907" y="480"/>
                </a:lnTo>
                <a:lnTo>
                  <a:pt x="906" y="478"/>
                </a:lnTo>
                <a:lnTo>
                  <a:pt x="906" y="478"/>
                </a:lnTo>
                <a:lnTo>
                  <a:pt x="906" y="476"/>
                </a:lnTo>
                <a:lnTo>
                  <a:pt x="907" y="476"/>
                </a:lnTo>
                <a:lnTo>
                  <a:pt x="909" y="476"/>
                </a:lnTo>
                <a:lnTo>
                  <a:pt x="909" y="476"/>
                </a:lnTo>
                <a:lnTo>
                  <a:pt x="909" y="476"/>
                </a:lnTo>
                <a:lnTo>
                  <a:pt x="910" y="478"/>
                </a:lnTo>
                <a:lnTo>
                  <a:pt x="910" y="478"/>
                </a:lnTo>
                <a:lnTo>
                  <a:pt x="910" y="479"/>
                </a:lnTo>
                <a:lnTo>
                  <a:pt x="909" y="480"/>
                </a:lnTo>
                <a:lnTo>
                  <a:pt x="907" y="480"/>
                </a:lnTo>
                <a:lnTo>
                  <a:pt x="907" y="480"/>
                </a:lnTo>
                <a:lnTo>
                  <a:pt x="907" y="480"/>
                </a:lnTo>
                <a:close/>
                <a:moveTo>
                  <a:pt x="887" y="469"/>
                </a:moveTo>
                <a:lnTo>
                  <a:pt x="887" y="469"/>
                </a:lnTo>
                <a:lnTo>
                  <a:pt x="887" y="469"/>
                </a:lnTo>
                <a:lnTo>
                  <a:pt x="887" y="468"/>
                </a:lnTo>
                <a:lnTo>
                  <a:pt x="887" y="467"/>
                </a:lnTo>
                <a:lnTo>
                  <a:pt x="888" y="465"/>
                </a:lnTo>
                <a:lnTo>
                  <a:pt x="889" y="465"/>
                </a:lnTo>
                <a:lnTo>
                  <a:pt x="889" y="465"/>
                </a:lnTo>
                <a:lnTo>
                  <a:pt x="889" y="465"/>
                </a:lnTo>
                <a:lnTo>
                  <a:pt x="891" y="467"/>
                </a:lnTo>
                <a:lnTo>
                  <a:pt x="891" y="468"/>
                </a:lnTo>
                <a:lnTo>
                  <a:pt x="891" y="469"/>
                </a:lnTo>
                <a:lnTo>
                  <a:pt x="888" y="469"/>
                </a:lnTo>
                <a:lnTo>
                  <a:pt x="888" y="469"/>
                </a:lnTo>
                <a:lnTo>
                  <a:pt x="887" y="469"/>
                </a:lnTo>
                <a:lnTo>
                  <a:pt x="887" y="469"/>
                </a:lnTo>
                <a:close/>
                <a:moveTo>
                  <a:pt x="868" y="460"/>
                </a:moveTo>
                <a:lnTo>
                  <a:pt x="868" y="460"/>
                </a:lnTo>
                <a:lnTo>
                  <a:pt x="868" y="457"/>
                </a:lnTo>
                <a:lnTo>
                  <a:pt x="868" y="457"/>
                </a:lnTo>
                <a:lnTo>
                  <a:pt x="868" y="456"/>
                </a:lnTo>
                <a:lnTo>
                  <a:pt x="868" y="456"/>
                </a:lnTo>
                <a:lnTo>
                  <a:pt x="869" y="456"/>
                </a:lnTo>
                <a:lnTo>
                  <a:pt x="870" y="456"/>
                </a:lnTo>
                <a:lnTo>
                  <a:pt x="870" y="456"/>
                </a:lnTo>
                <a:lnTo>
                  <a:pt x="872" y="457"/>
                </a:lnTo>
                <a:lnTo>
                  <a:pt x="872" y="457"/>
                </a:lnTo>
                <a:lnTo>
                  <a:pt x="872" y="459"/>
                </a:lnTo>
                <a:lnTo>
                  <a:pt x="869" y="460"/>
                </a:lnTo>
                <a:lnTo>
                  <a:pt x="869" y="460"/>
                </a:lnTo>
                <a:lnTo>
                  <a:pt x="868" y="460"/>
                </a:lnTo>
                <a:lnTo>
                  <a:pt x="868" y="460"/>
                </a:lnTo>
                <a:close/>
                <a:moveTo>
                  <a:pt x="849" y="449"/>
                </a:moveTo>
                <a:lnTo>
                  <a:pt x="849" y="449"/>
                </a:lnTo>
                <a:lnTo>
                  <a:pt x="849" y="449"/>
                </a:lnTo>
                <a:lnTo>
                  <a:pt x="847" y="448"/>
                </a:lnTo>
                <a:lnTo>
                  <a:pt x="847" y="448"/>
                </a:lnTo>
                <a:lnTo>
                  <a:pt x="849" y="446"/>
                </a:lnTo>
                <a:lnTo>
                  <a:pt x="850" y="445"/>
                </a:lnTo>
                <a:lnTo>
                  <a:pt x="850" y="445"/>
                </a:lnTo>
                <a:lnTo>
                  <a:pt x="851" y="446"/>
                </a:lnTo>
                <a:lnTo>
                  <a:pt x="851" y="446"/>
                </a:lnTo>
                <a:lnTo>
                  <a:pt x="851" y="448"/>
                </a:lnTo>
                <a:lnTo>
                  <a:pt x="853" y="448"/>
                </a:lnTo>
                <a:lnTo>
                  <a:pt x="851" y="449"/>
                </a:lnTo>
                <a:lnTo>
                  <a:pt x="851" y="449"/>
                </a:lnTo>
                <a:lnTo>
                  <a:pt x="850" y="449"/>
                </a:lnTo>
                <a:lnTo>
                  <a:pt x="849" y="449"/>
                </a:lnTo>
                <a:lnTo>
                  <a:pt x="849" y="449"/>
                </a:lnTo>
                <a:close/>
                <a:moveTo>
                  <a:pt x="830" y="440"/>
                </a:moveTo>
                <a:lnTo>
                  <a:pt x="830" y="440"/>
                </a:lnTo>
                <a:lnTo>
                  <a:pt x="828" y="438"/>
                </a:lnTo>
                <a:lnTo>
                  <a:pt x="828" y="438"/>
                </a:lnTo>
                <a:lnTo>
                  <a:pt x="830" y="437"/>
                </a:lnTo>
                <a:lnTo>
                  <a:pt x="831" y="435"/>
                </a:lnTo>
                <a:lnTo>
                  <a:pt x="831" y="435"/>
                </a:lnTo>
                <a:lnTo>
                  <a:pt x="832" y="435"/>
                </a:lnTo>
                <a:lnTo>
                  <a:pt x="832" y="435"/>
                </a:lnTo>
                <a:lnTo>
                  <a:pt x="832" y="437"/>
                </a:lnTo>
                <a:lnTo>
                  <a:pt x="832" y="438"/>
                </a:lnTo>
                <a:lnTo>
                  <a:pt x="832" y="438"/>
                </a:lnTo>
                <a:lnTo>
                  <a:pt x="831" y="440"/>
                </a:lnTo>
                <a:lnTo>
                  <a:pt x="830" y="440"/>
                </a:lnTo>
                <a:lnTo>
                  <a:pt x="830" y="440"/>
                </a:lnTo>
                <a:lnTo>
                  <a:pt x="830" y="440"/>
                </a:lnTo>
                <a:close/>
                <a:moveTo>
                  <a:pt x="811" y="429"/>
                </a:moveTo>
                <a:lnTo>
                  <a:pt x="811" y="429"/>
                </a:lnTo>
                <a:lnTo>
                  <a:pt x="809" y="427"/>
                </a:lnTo>
                <a:lnTo>
                  <a:pt x="809" y="427"/>
                </a:lnTo>
                <a:lnTo>
                  <a:pt x="809" y="426"/>
                </a:lnTo>
                <a:lnTo>
                  <a:pt x="811" y="425"/>
                </a:lnTo>
                <a:lnTo>
                  <a:pt x="812" y="425"/>
                </a:lnTo>
                <a:lnTo>
                  <a:pt x="813" y="426"/>
                </a:lnTo>
                <a:lnTo>
                  <a:pt x="813" y="426"/>
                </a:lnTo>
                <a:lnTo>
                  <a:pt x="813" y="427"/>
                </a:lnTo>
                <a:lnTo>
                  <a:pt x="813" y="427"/>
                </a:lnTo>
                <a:lnTo>
                  <a:pt x="813" y="429"/>
                </a:lnTo>
                <a:lnTo>
                  <a:pt x="812" y="429"/>
                </a:lnTo>
                <a:lnTo>
                  <a:pt x="811" y="430"/>
                </a:lnTo>
                <a:lnTo>
                  <a:pt x="811" y="429"/>
                </a:lnTo>
                <a:lnTo>
                  <a:pt x="811" y="429"/>
                </a:lnTo>
                <a:close/>
                <a:moveTo>
                  <a:pt x="792" y="419"/>
                </a:moveTo>
                <a:lnTo>
                  <a:pt x="792" y="419"/>
                </a:lnTo>
                <a:lnTo>
                  <a:pt x="790" y="418"/>
                </a:lnTo>
                <a:lnTo>
                  <a:pt x="790" y="416"/>
                </a:lnTo>
                <a:lnTo>
                  <a:pt x="790" y="416"/>
                </a:lnTo>
                <a:lnTo>
                  <a:pt x="790" y="415"/>
                </a:lnTo>
                <a:lnTo>
                  <a:pt x="792" y="415"/>
                </a:lnTo>
                <a:lnTo>
                  <a:pt x="793" y="415"/>
                </a:lnTo>
                <a:lnTo>
                  <a:pt x="793" y="415"/>
                </a:lnTo>
                <a:lnTo>
                  <a:pt x="794" y="416"/>
                </a:lnTo>
                <a:lnTo>
                  <a:pt x="794" y="418"/>
                </a:lnTo>
                <a:lnTo>
                  <a:pt x="794" y="419"/>
                </a:lnTo>
                <a:lnTo>
                  <a:pt x="793" y="419"/>
                </a:lnTo>
                <a:lnTo>
                  <a:pt x="792" y="419"/>
                </a:lnTo>
                <a:lnTo>
                  <a:pt x="792" y="419"/>
                </a:lnTo>
                <a:lnTo>
                  <a:pt x="792" y="419"/>
                </a:lnTo>
                <a:close/>
                <a:moveTo>
                  <a:pt x="771" y="410"/>
                </a:moveTo>
                <a:lnTo>
                  <a:pt x="771" y="410"/>
                </a:lnTo>
                <a:lnTo>
                  <a:pt x="771" y="408"/>
                </a:lnTo>
                <a:lnTo>
                  <a:pt x="771" y="407"/>
                </a:lnTo>
                <a:lnTo>
                  <a:pt x="771" y="406"/>
                </a:lnTo>
                <a:lnTo>
                  <a:pt x="773" y="406"/>
                </a:lnTo>
                <a:lnTo>
                  <a:pt x="773" y="406"/>
                </a:lnTo>
                <a:lnTo>
                  <a:pt x="774" y="406"/>
                </a:lnTo>
                <a:lnTo>
                  <a:pt x="774" y="406"/>
                </a:lnTo>
                <a:lnTo>
                  <a:pt x="775" y="407"/>
                </a:lnTo>
                <a:lnTo>
                  <a:pt x="775" y="407"/>
                </a:lnTo>
                <a:lnTo>
                  <a:pt x="775" y="408"/>
                </a:lnTo>
                <a:lnTo>
                  <a:pt x="773" y="410"/>
                </a:lnTo>
                <a:lnTo>
                  <a:pt x="773" y="410"/>
                </a:lnTo>
                <a:lnTo>
                  <a:pt x="771" y="410"/>
                </a:lnTo>
                <a:lnTo>
                  <a:pt x="771" y="410"/>
                </a:lnTo>
                <a:close/>
                <a:moveTo>
                  <a:pt x="752" y="399"/>
                </a:moveTo>
                <a:lnTo>
                  <a:pt x="752" y="399"/>
                </a:lnTo>
                <a:lnTo>
                  <a:pt x="752" y="397"/>
                </a:lnTo>
                <a:lnTo>
                  <a:pt x="752" y="396"/>
                </a:lnTo>
                <a:lnTo>
                  <a:pt x="752" y="396"/>
                </a:lnTo>
                <a:lnTo>
                  <a:pt x="753" y="395"/>
                </a:lnTo>
                <a:lnTo>
                  <a:pt x="753" y="395"/>
                </a:lnTo>
                <a:lnTo>
                  <a:pt x="755" y="395"/>
                </a:lnTo>
                <a:lnTo>
                  <a:pt x="755" y="395"/>
                </a:lnTo>
                <a:lnTo>
                  <a:pt x="755" y="396"/>
                </a:lnTo>
                <a:lnTo>
                  <a:pt x="756" y="396"/>
                </a:lnTo>
                <a:lnTo>
                  <a:pt x="755" y="399"/>
                </a:lnTo>
                <a:lnTo>
                  <a:pt x="755" y="399"/>
                </a:lnTo>
                <a:lnTo>
                  <a:pt x="753" y="399"/>
                </a:lnTo>
                <a:lnTo>
                  <a:pt x="753" y="399"/>
                </a:lnTo>
                <a:lnTo>
                  <a:pt x="752" y="399"/>
                </a:lnTo>
                <a:lnTo>
                  <a:pt x="752" y="399"/>
                </a:lnTo>
                <a:close/>
                <a:moveTo>
                  <a:pt x="733" y="389"/>
                </a:moveTo>
                <a:lnTo>
                  <a:pt x="733" y="389"/>
                </a:lnTo>
                <a:lnTo>
                  <a:pt x="732" y="386"/>
                </a:lnTo>
                <a:lnTo>
                  <a:pt x="732" y="386"/>
                </a:lnTo>
                <a:lnTo>
                  <a:pt x="733" y="385"/>
                </a:lnTo>
                <a:lnTo>
                  <a:pt x="733" y="385"/>
                </a:lnTo>
                <a:lnTo>
                  <a:pt x="734" y="385"/>
                </a:lnTo>
                <a:lnTo>
                  <a:pt x="736" y="385"/>
                </a:lnTo>
                <a:lnTo>
                  <a:pt x="736" y="385"/>
                </a:lnTo>
                <a:lnTo>
                  <a:pt x="736" y="386"/>
                </a:lnTo>
                <a:lnTo>
                  <a:pt x="737" y="386"/>
                </a:lnTo>
                <a:lnTo>
                  <a:pt x="736" y="388"/>
                </a:lnTo>
                <a:lnTo>
                  <a:pt x="734" y="389"/>
                </a:lnTo>
                <a:lnTo>
                  <a:pt x="734" y="389"/>
                </a:lnTo>
                <a:lnTo>
                  <a:pt x="733" y="389"/>
                </a:lnTo>
                <a:lnTo>
                  <a:pt x="733" y="389"/>
                </a:lnTo>
                <a:close/>
                <a:moveTo>
                  <a:pt x="714" y="378"/>
                </a:moveTo>
                <a:lnTo>
                  <a:pt x="714" y="378"/>
                </a:lnTo>
                <a:lnTo>
                  <a:pt x="713" y="377"/>
                </a:lnTo>
                <a:lnTo>
                  <a:pt x="713" y="376"/>
                </a:lnTo>
                <a:lnTo>
                  <a:pt x="713" y="376"/>
                </a:lnTo>
                <a:lnTo>
                  <a:pt x="714" y="374"/>
                </a:lnTo>
                <a:lnTo>
                  <a:pt x="715" y="374"/>
                </a:lnTo>
                <a:lnTo>
                  <a:pt x="717" y="376"/>
                </a:lnTo>
                <a:lnTo>
                  <a:pt x="717" y="376"/>
                </a:lnTo>
                <a:lnTo>
                  <a:pt x="717" y="377"/>
                </a:lnTo>
                <a:lnTo>
                  <a:pt x="717" y="377"/>
                </a:lnTo>
                <a:lnTo>
                  <a:pt x="717" y="378"/>
                </a:lnTo>
                <a:lnTo>
                  <a:pt x="717" y="378"/>
                </a:lnTo>
                <a:lnTo>
                  <a:pt x="715" y="378"/>
                </a:lnTo>
                <a:lnTo>
                  <a:pt x="714" y="378"/>
                </a:lnTo>
                <a:lnTo>
                  <a:pt x="714" y="378"/>
                </a:lnTo>
                <a:close/>
                <a:moveTo>
                  <a:pt x="695" y="369"/>
                </a:moveTo>
                <a:lnTo>
                  <a:pt x="695" y="369"/>
                </a:lnTo>
                <a:lnTo>
                  <a:pt x="694" y="367"/>
                </a:lnTo>
                <a:lnTo>
                  <a:pt x="694" y="366"/>
                </a:lnTo>
                <a:lnTo>
                  <a:pt x="694" y="366"/>
                </a:lnTo>
                <a:lnTo>
                  <a:pt x="695" y="365"/>
                </a:lnTo>
                <a:lnTo>
                  <a:pt x="696" y="365"/>
                </a:lnTo>
                <a:lnTo>
                  <a:pt x="698" y="365"/>
                </a:lnTo>
                <a:lnTo>
                  <a:pt x="698" y="365"/>
                </a:lnTo>
                <a:lnTo>
                  <a:pt x="698" y="365"/>
                </a:lnTo>
                <a:lnTo>
                  <a:pt x="698" y="366"/>
                </a:lnTo>
                <a:lnTo>
                  <a:pt x="698" y="367"/>
                </a:lnTo>
                <a:lnTo>
                  <a:pt x="696" y="369"/>
                </a:lnTo>
                <a:lnTo>
                  <a:pt x="695" y="369"/>
                </a:lnTo>
                <a:lnTo>
                  <a:pt x="695" y="369"/>
                </a:lnTo>
                <a:lnTo>
                  <a:pt x="695" y="369"/>
                </a:lnTo>
                <a:close/>
                <a:moveTo>
                  <a:pt x="676" y="358"/>
                </a:moveTo>
                <a:lnTo>
                  <a:pt x="676" y="358"/>
                </a:lnTo>
                <a:lnTo>
                  <a:pt x="675" y="357"/>
                </a:lnTo>
                <a:lnTo>
                  <a:pt x="675" y="357"/>
                </a:lnTo>
                <a:lnTo>
                  <a:pt x="675" y="355"/>
                </a:lnTo>
                <a:lnTo>
                  <a:pt x="676" y="354"/>
                </a:lnTo>
                <a:lnTo>
                  <a:pt x="677" y="354"/>
                </a:lnTo>
                <a:lnTo>
                  <a:pt x="677" y="355"/>
                </a:lnTo>
                <a:lnTo>
                  <a:pt x="677" y="355"/>
                </a:lnTo>
                <a:lnTo>
                  <a:pt x="679" y="357"/>
                </a:lnTo>
                <a:lnTo>
                  <a:pt x="679" y="357"/>
                </a:lnTo>
                <a:lnTo>
                  <a:pt x="679" y="358"/>
                </a:lnTo>
                <a:lnTo>
                  <a:pt x="677" y="358"/>
                </a:lnTo>
                <a:lnTo>
                  <a:pt x="676" y="359"/>
                </a:lnTo>
                <a:lnTo>
                  <a:pt x="676" y="358"/>
                </a:lnTo>
                <a:lnTo>
                  <a:pt x="676" y="358"/>
                </a:lnTo>
                <a:close/>
                <a:moveTo>
                  <a:pt x="656" y="348"/>
                </a:moveTo>
                <a:lnTo>
                  <a:pt x="656" y="348"/>
                </a:lnTo>
                <a:lnTo>
                  <a:pt x="656" y="347"/>
                </a:lnTo>
                <a:lnTo>
                  <a:pt x="656" y="346"/>
                </a:lnTo>
                <a:lnTo>
                  <a:pt x="656" y="346"/>
                </a:lnTo>
                <a:lnTo>
                  <a:pt x="656" y="344"/>
                </a:lnTo>
                <a:lnTo>
                  <a:pt x="657" y="344"/>
                </a:lnTo>
                <a:lnTo>
                  <a:pt x="658" y="344"/>
                </a:lnTo>
                <a:lnTo>
                  <a:pt x="658" y="344"/>
                </a:lnTo>
                <a:lnTo>
                  <a:pt x="660" y="346"/>
                </a:lnTo>
                <a:lnTo>
                  <a:pt x="660" y="347"/>
                </a:lnTo>
                <a:lnTo>
                  <a:pt x="660" y="347"/>
                </a:lnTo>
                <a:lnTo>
                  <a:pt x="657" y="348"/>
                </a:lnTo>
                <a:lnTo>
                  <a:pt x="657" y="348"/>
                </a:lnTo>
                <a:lnTo>
                  <a:pt x="656" y="348"/>
                </a:lnTo>
                <a:lnTo>
                  <a:pt x="656" y="348"/>
                </a:lnTo>
                <a:close/>
                <a:moveTo>
                  <a:pt x="637" y="339"/>
                </a:moveTo>
                <a:lnTo>
                  <a:pt x="637" y="339"/>
                </a:lnTo>
                <a:lnTo>
                  <a:pt x="637" y="338"/>
                </a:lnTo>
                <a:lnTo>
                  <a:pt x="635" y="336"/>
                </a:lnTo>
                <a:lnTo>
                  <a:pt x="637" y="335"/>
                </a:lnTo>
                <a:lnTo>
                  <a:pt x="638" y="335"/>
                </a:lnTo>
                <a:lnTo>
                  <a:pt x="638" y="335"/>
                </a:lnTo>
                <a:lnTo>
                  <a:pt x="639" y="335"/>
                </a:lnTo>
                <a:lnTo>
                  <a:pt x="639" y="335"/>
                </a:lnTo>
                <a:lnTo>
                  <a:pt x="641" y="336"/>
                </a:lnTo>
                <a:lnTo>
                  <a:pt x="641" y="336"/>
                </a:lnTo>
                <a:lnTo>
                  <a:pt x="639" y="338"/>
                </a:lnTo>
                <a:lnTo>
                  <a:pt x="639" y="338"/>
                </a:lnTo>
                <a:lnTo>
                  <a:pt x="638" y="339"/>
                </a:lnTo>
                <a:lnTo>
                  <a:pt x="637" y="339"/>
                </a:lnTo>
                <a:lnTo>
                  <a:pt x="637" y="339"/>
                </a:lnTo>
                <a:close/>
                <a:moveTo>
                  <a:pt x="617" y="328"/>
                </a:moveTo>
                <a:lnTo>
                  <a:pt x="617" y="328"/>
                </a:lnTo>
                <a:lnTo>
                  <a:pt x="616" y="327"/>
                </a:lnTo>
                <a:lnTo>
                  <a:pt x="616" y="325"/>
                </a:lnTo>
                <a:lnTo>
                  <a:pt x="617" y="325"/>
                </a:lnTo>
                <a:lnTo>
                  <a:pt x="619" y="324"/>
                </a:lnTo>
                <a:lnTo>
                  <a:pt x="619" y="324"/>
                </a:lnTo>
                <a:lnTo>
                  <a:pt x="620" y="324"/>
                </a:lnTo>
                <a:lnTo>
                  <a:pt x="620" y="324"/>
                </a:lnTo>
                <a:lnTo>
                  <a:pt x="620" y="325"/>
                </a:lnTo>
                <a:lnTo>
                  <a:pt x="622" y="327"/>
                </a:lnTo>
                <a:lnTo>
                  <a:pt x="620" y="328"/>
                </a:lnTo>
                <a:lnTo>
                  <a:pt x="619" y="328"/>
                </a:lnTo>
                <a:lnTo>
                  <a:pt x="619" y="328"/>
                </a:lnTo>
                <a:lnTo>
                  <a:pt x="617" y="328"/>
                </a:lnTo>
                <a:lnTo>
                  <a:pt x="617" y="328"/>
                </a:lnTo>
                <a:close/>
                <a:moveTo>
                  <a:pt x="598" y="318"/>
                </a:moveTo>
                <a:lnTo>
                  <a:pt x="598" y="318"/>
                </a:lnTo>
                <a:lnTo>
                  <a:pt x="597" y="316"/>
                </a:lnTo>
                <a:lnTo>
                  <a:pt x="597" y="316"/>
                </a:lnTo>
                <a:lnTo>
                  <a:pt x="597" y="314"/>
                </a:lnTo>
                <a:lnTo>
                  <a:pt x="598" y="314"/>
                </a:lnTo>
                <a:lnTo>
                  <a:pt x="600" y="314"/>
                </a:lnTo>
                <a:lnTo>
                  <a:pt x="601" y="314"/>
                </a:lnTo>
                <a:lnTo>
                  <a:pt x="601" y="314"/>
                </a:lnTo>
                <a:lnTo>
                  <a:pt x="601" y="316"/>
                </a:lnTo>
                <a:lnTo>
                  <a:pt x="601" y="316"/>
                </a:lnTo>
                <a:lnTo>
                  <a:pt x="601" y="317"/>
                </a:lnTo>
                <a:lnTo>
                  <a:pt x="600" y="318"/>
                </a:lnTo>
                <a:lnTo>
                  <a:pt x="598" y="318"/>
                </a:lnTo>
                <a:lnTo>
                  <a:pt x="598" y="318"/>
                </a:lnTo>
                <a:lnTo>
                  <a:pt x="598" y="318"/>
                </a:lnTo>
                <a:close/>
                <a:moveTo>
                  <a:pt x="579" y="308"/>
                </a:moveTo>
                <a:lnTo>
                  <a:pt x="579" y="308"/>
                </a:lnTo>
                <a:lnTo>
                  <a:pt x="578" y="308"/>
                </a:lnTo>
                <a:lnTo>
                  <a:pt x="578" y="306"/>
                </a:lnTo>
                <a:lnTo>
                  <a:pt x="578" y="305"/>
                </a:lnTo>
                <a:lnTo>
                  <a:pt x="579" y="304"/>
                </a:lnTo>
                <a:lnTo>
                  <a:pt x="581" y="304"/>
                </a:lnTo>
                <a:lnTo>
                  <a:pt x="581" y="305"/>
                </a:lnTo>
                <a:lnTo>
                  <a:pt x="581" y="305"/>
                </a:lnTo>
                <a:lnTo>
                  <a:pt x="582" y="306"/>
                </a:lnTo>
                <a:lnTo>
                  <a:pt x="582" y="306"/>
                </a:lnTo>
                <a:lnTo>
                  <a:pt x="582" y="308"/>
                </a:lnTo>
                <a:lnTo>
                  <a:pt x="581" y="308"/>
                </a:lnTo>
                <a:lnTo>
                  <a:pt x="581" y="308"/>
                </a:lnTo>
                <a:lnTo>
                  <a:pt x="579" y="308"/>
                </a:lnTo>
                <a:lnTo>
                  <a:pt x="579" y="308"/>
                </a:lnTo>
                <a:close/>
                <a:moveTo>
                  <a:pt x="560" y="298"/>
                </a:moveTo>
                <a:lnTo>
                  <a:pt x="560" y="298"/>
                </a:lnTo>
                <a:lnTo>
                  <a:pt x="559" y="297"/>
                </a:lnTo>
                <a:lnTo>
                  <a:pt x="559" y="295"/>
                </a:lnTo>
                <a:lnTo>
                  <a:pt x="559" y="295"/>
                </a:lnTo>
                <a:lnTo>
                  <a:pt x="560" y="294"/>
                </a:lnTo>
                <a:lnTo>
                  <a:pt x="562" y="294"/>
                </a:lnTo>
                <a:lnTo>
                  <a:pt x="562" y="294"/>
                </a:lnTo>
                <a:lnTo>
                  <a:pt x="562" y="294"/>
                </a:lnTo>
                <a:lnTo>
                  <a:pt x="563" y="294"/>
                </a:lnTo>
                <a:lnTo>
                  <a:pt x="563" y="295"/>
                </a:lnTo>
                <a:lnTo>
                  <a:pt x="563" y="297"/>
                </a:lnTo>
                <a:lnTo>
                  <a:pt x="562" y="298"/>
                </a:lnTo>
                <a:lnTo>
                  <a:pt x="560" y="298"/>
                </a:lnTo>
                <a:lnTo>
                  <a:pt x="560" y="298"/>
                </a:lnTo>
                <a:lnTo>
                  <a:pt x="560" y="298"/>
                </a:lnTo>
                <a:close/>
                <a:moveTo>
                  <a:pt x="540" y="287"/>
                </a:moveTo>
                <a:lnTo>
                  <a:pt x="540" y="287"/>
                </a:lnTo>
                <a:lnTo>
                  <a:pt x="540" y="286"/>
                </a:lnTo>
                <a:lnTo>
                  <a:pt x="540" y="286"/>
                </a:lnTo>
                <a:lnTo>
                  <a:pt x="540" y="284"/>
                </a:lnTo>
                <a:lnTo>
                  <a:pt x="541" y="283"/>
                </a:lnTo>
                <a:lnTo>
                  <a:pt x="541" y="283"/>
                </a:lnTo>
                <a:lnTo>
                  <a:pt x="543" y="284"/>
                </a:lnTo>
                <a:lnTo>
                  <a:pt x="543" y="284"/>
                </a:lnTo>
                <a:lnTo>
                  <a:pt x="544" y="286"/>
                </a:lnTo>
                <a:lnTo>
                  <a:pt x="544" y="286"/>
                </a:lnTo>
                <a:lnTo>
                  <a:pt x="544" y="287"/>
                </a:lnTo>
                <a:lnTo>
                  <a:pt x="541" y="287"/>
                </a:lnTo>
                <a:lnTo>
                  <a:pt x="541" y="289"/>
                </a:lnTo>
                <a:lnTo>
                  <a:pt x="540" y="287"/>
                </a:lnTo>
                <a:lnTo>
                  <a:pt x="540" y="287"/>
                </a:lnTo>
                <a:close/>
                <a:moveTo>
                  <a:pt x="521" y="278"/>
                </a:moveTo>
                <a:lnTo>
                  <a:pt x="521" y="278"/>
                </a:lnTo>
                <a:lnTo>
                  <a:pt x="521" y="276"/>
                </a:lnTo>
                <a:lnTo>
                  <a:pt x="520" y="276"/>
                </a:lnTo>
                <a:lnTo>
                  <a:pt x="521" y="275"/>
                </a:lnTo>
                <a:lnTo>
                  <a:pt x="521" y="274"/>
                </a:lnTo>
                <a:lnTo>
                  <a:pt x="522" y="274"/>
                </a:lnTo>
                <a:lnTo>
                  <a:pt x="524" y="274"/>
                </a:lnTo>
                <a:lnTo>
                  <a:pt x="524" y="274"/>
                </a:lnTo>
                <a:lnTo>
                  <a:pt x="524" y="275"/>
                </a:lnTo>
                <a:lnTo>
                  <a:pt x="524" y="275"/>
                </a:lnTo>
                <a:lnTo>
                  <a:pt x="525" y="276"/>
                </a:lnTo>
                <a:lnTo>
                  <a:pt x="524" y="276"/>
                </a:lnTo>
                <a:lnTo>
                  <a:pt x="522" y="278"/>
                </a:lnTo>
                <a:lnTo>
                  <a:pt x="522" y="278"/>
                </a:lnTo>
                <a:lnTo>
                  <a:pt x="521" y="278"/>
                </a:lnTo>
                <a:lnTo>
                  <a:pt x="521" y="278"/>
                </a:lnTo>
                <a:close/>
                <a:moveTo>
                  <a:pt x="502" y="267"/>
                </a:moveTo>
                <a:lnTo>
                  <a:pt x="502" y="267"/>
                </a:lnTo>
                <a:lnTo>
                  <a:pt x="501" y="265"/>
                </a:lnTo>
                <a:lnTo>
                  <a:pt x="501" y="265"/>
                </a:lnTo>
                <a:lnTo>
                  <a:pt x="502" y="264"/>
                </a:lnTo>
                <a:lnTo>
                  <a:pt x="503" y="264"/>
                </a:lnTo>
                <a:lnTo>
                  <a:pt x="503" y="264"/>
                </a:lnTo>
                <a:lnTo>
                  <a:pt x="505" y="264"/>
                </a:lnTo>
                <a:lnTo>
                  <a:pt x="505" y="264"/>
                </a:lnTo>
                <a:lnTo>
                  <a:pt x="505" y="264"/>
                </a:lnTo>
                <a:lnTo>
                  <a:pt x="505" y="265"/>
                </a:lnTo>
                <a:lnTo>
                  <a:pt x="505" y="267"/>
                </a:lnTo>
                <a:lnTo>
                  <a:pt x="505" y="267"/>
                </a:lnTo>
                <a:lnTo>
                  <a:pt x="503" y="268"/>
                </a:lnTo>
                <a:lnTo>
                  <a:pt x="502" y="267"/>
                </a:lnTo>
                <a:lnTo>
                  <a:pt x="502" y="267"/>
                </a:lnTo>
                <a:close/>
                <a:moveTo>
                  <a:pt x="483" y="257"/>
                </a:moveTo>
                <a:lnTo>
                  <a:pt x="483" y="257"/>
                </a:lnTo>
                <a:lnTo>
                  <a:pt x="481" y="256"/>
                </a:lnTo>
                <a:lnTo>
                  <a:pt x="481" y="255"/>
                </a:lnTo>
                <a:lnTo>
                  <a:pt x="481" y="255"/>
                </a:lnTo>
                <a:lnTo>
                  <a:pt x="483" y="253"/>
                </a:lnTo>
                <a:lnTo>
                  <a:pt x="484" y="253"/>
                </a:lnTo>
                <a:lnTo>
                  <a:pt x="486" y="253"/>
                </a:lnTo>
                <a:lnTo>
                  <a:pt x="486" y="253"/>
                </a:lnTo>
                <a:lnTo>
                  <a:pt x="486" y="255"/>
                </a:lnTo>
                <a:lnTo>
                  <a:pt x="486" y="256"/>
                </a:lnTo>
                <a:lnTo>
                  <a:pt x="486" y="257"/>
                </a:lnTo>
                <a:lnTo>
                  <a:pt x="484" y="257"/>
                </a:lnTo>
                <a:lnTo>
                  <a:pt x="483" y="257"/>
                </a:lnTo>
                <a:lnTo>
                  <a:pt x="483" y="257"/>
                </a:lnTo>
                <a:lnTo>
                  <a:pt x="483" y="257"/>
                </a:lnTo>
                <a:close/>
                <a:moveTo>
                  <a:pt x="464" y="248"/>
                </a:moveTo>
                <a:lnTo>
                  <a:pt x="464" y="248"/>
                </a:lnTo>
                <a:lnTo>
                  <a:pt x="462" y="245"/>
                </a:lnTo>
                <a:lnTo>
                  <a:pt x="462" y="245"/>
                </a:lnTo>
                <a:lnTo>
                  <a:pt x="462" y="244"/>
                </a:lnTo>
                <a:lnTo>
                  <a:pt x="464" y="244"/>
                </a:lnTo>
                <a:lnTo>
                  <a:pt x="465" y="244"/>
                </a:lnTo>
                <a:lnTo>
                  <a:pt x="465" y="244"/>
                </a:lnTo>
                <a:lnTo>
                  <a:pt x="465" y="244"/>
                </a:lnTo>
                <a:lnTo>
                  <a:pt x="467" y="245"/>
                </a:lnTo>
                <a:lnTo>
                  <a:pt x="467" y="245"/>
                </a:lnTo>
                <a:lnTo>
                  <a:pt x="467" y="246"/>
                </a:lnTo>
                <a:lnTo>
                  <a:pt x="465" y="248"/>
                </a:lnTo>
                <a:lnTo>
                  <a:pt x="464" y="248"/>
                </a:lnTo>
                <a:lnTo>
                  <a:pt x="464" y="248"/>
                </a:lnTo>
                <a:lnTo>
                  <a:pt x="464" y="248"/>
                </a:lnTo>
                <a:close/>
                <a:moveTo>
                  <a:pt x="443" y="237"/>
                </a:moveTo>
                <a:lnTo>
                  <a:pt x="443" y="237"/>
                </a:lnTo>
                <a:lnTo>
                  <a:pt x="443" y="236"/>
                </a:lnTo>
                <a:lnTo>
                  <a:pt x="443" y="234"/>
                </a:lnTo>
                <a:lnTo>
                  <a:pt x="443" y="234"/>
                </a:lnTo>
                <a:lnTo>
                  <a:pt x="443" y="233"/>
                </a:lnTo>
                <a:lnTo>
                  <a:pt x="445" y="233"/>
                </a:lnTo>
                <a:lnTo>
                  <a:pt x="446" y="234"/>
                </a:lnTo>
                <a:lnTo>
                  <a:pt x="446" y="234"/>
                </a:lnTo>
                <a:lnTo>
                  <a:pt x="447" y="234"/>
                </a:lnTo>
                <a:lnTo>
                  <a:pt x="447" y="236"/>
                </a:lnTo>
                <a:lnTo>
                  <a:pt x="447" y="237"/>
                </a:lnTo>
                <a:lnTo>
                  <a:pt x="445" y="237"/>
                </a:lnTo>
                <a:lnTo>
                  <a:pt x="445" y="237"/>
                </a:lnTo>
                <a:lnTo>
                  <a:pt x="443" y="237"/>
                </a:lnTo>
                <a:lnTo>
                  <a:pt x="443" y="237"/>
                </a:lnTo>
                <a:close/>
                <a:moveTo>
                  <a:pt x="424" y="227"/>
                </a:moveTo>
                <a:lnTo>
                  <a:pt x="424" y="227"/>
                </a:lnTo>
                <a:lnTo>
                  <a:pt x="424" y="226"/>
                </a:lnTo>
                <a:lnTo>
                  <a:pt x="424" y="225"/>
                </a:lnTo>
                <a:lnTo>
                  <a:pt x="424" y="225"/>
                </a:lnTo>
                <a:lnTo>
                  <a:pt x="426" y="223"/>
                </a:lnTo>
                <a:lnTo>
                  <a:pt x="426" y="223"/>
                </a:lnTo>
                <a:lnTo>
                  <a:pt x="427" y="223"/>
                </a:lnTo>
                <a:lnTo>
                  <a:pt x="427" y="223"/>
                </a:lnTo>
                <a:lnTo>
                  <a:pt x="428" y="225"/>
                </a:lnTo>
                <a:lnTo>
                  <a:pt x="428" y="226"/>
                </a:lnTo>
                <a:lnTo>
                  <a:pt x="428" y="226"/>
                </a:lnTo>
                <a:lnTo>
                  <a:pt x="426" y="227"/>
                </a:lnTo>
                <a:lnTo>
                  <a:pt x="426" y="227"/>
                </a:lnTo>
                <a:lnTo>
                  <a:pt x="424" y="227"/>
                </a:lnTo>
                <a:lnTo>
                  <a:pt x="424" y="227"/>
                </a:lnTo>
                <a:close/>
                <a:moveTo>
                  <a:pt x="405" y="216"/>
                </a:moveTo>
                <a:lnTo>
                  <a:pt x="405" y="216"/>
                </a:lnTo>
                <a:lnTo>
                  <a:pt x="404" y="215"/>
                </a:lnTo>
                <a:lnTo>
                  <a:pt x="404" y="215"/>
                </a:lnTo>
                <a:lnTo>
                  <a:pt x="405" y="214"/>
                </a:lnTo>
                <a:lnTo>
                  <a:pt x="407" y="212"/>
                </a:lnTo>
                <a:lnTo>
                  <a:pt x="407" y="212"/>
                </a:lnTo>
                <a:lnTo>
                  <a:pt x="408" y="214"/>
                </a:lnTo>
                <a:lnTo>
                  <a:pt x="408" y="214"/>
                </a:lnTo>
                <a:lnTo>
                  <a:pt x="408" y="215"/>
                </a:lnTo>
                <a:lnTo>
                  <a:pt x="409" y="215"/>
                </a:lnTo>
                <a:lnTo>
                  <a:pt x="408" y="216"/>
                </a:lnTo>
                <a:lnTo>
                  <a:pt x="407" y="216"/>
                </a:lnTo>
                <a:lnTo>
                  <a:pt x="407" y="218"/>
                </a:lnTo>
                <a:lnTo>
                  <a:pt x="405" y="216"/>
                </a:lnTo>
                <a:lnTo>
                  <a:pt x="405" y="216"/>
                </a:lnTo>
                <a:close/>
                <a:moveTo>
                  <a:pt x="386" y="207"/>
                </a:moveTo>
                <a:lnTo>
                  <a:pt x="386" y="207"/>
                </a:lnTo>
                <a:lnTo>
                  <a:pt x="385" y="206"/>
                </a:lnTo>
                <a:lnTo>
                  <a:pt x="385" y="206"/>
                </a:lnTo>
                <a:lnTo>
                  <a:pt x="386" y="204"/>
                </a:lnTo>
                <a:lnTo>
                  <a:pt x="388" y="203"/>
                </a:lnTo>
                <a:lnTo>
                  <a:pt x="388" y="203"/>
                </a:lnTo>
                <a:lnTo>
                  <a:pt x="389" y="203"/>
                </a:lnTo>
                <a:lnTo>
                  <a:pt x="389" y="203"/>
                </a:lnTo>
                <a:lnTo>
                  <a:pt x="389" y="204"/>
                </a:lnTo>
                <a:lnTo>
                  <a:pt x="389" y="206"/>
                </a:lnTo>
                <a:lnTo>
                  <a:pt x="389" y="206"/>
                </a:lnTo>
                <a:lnTo>
                  <a:pt x="388" y="207"/>
                </a:lnTo>
                <a:lnTo>
                  <a:pt x="386" y="207"/>
                </a:lnTo>
                <a:lnTo>
                  <a:pt x="386" y="207"/>
                </a:lnTo>
                <a:lnTo>
                  <a:pt x="386" y="207"/>
                </a:lnTo>
                <a:close/>
                <a:moveTo>
                  <a:pt x="367" y="196"/>
                </a:moveTo>
                <a:lnTo>
                  <a:pt x="367" y="196"/>
                </a:lnTo>
                <a:lnTo>
                  <a:pt x="366" y="195"/>
                </a:lnTo>
                <a:lnTo>
                  <a:pt x="366" y="195"/>
                </a:lnTo>
                <a:lnTo>
                  <a:pt x="366" y="193"/>
                </a:lnTo>
                <a:lnTo>
                  <a:pt x="367" y="193"/>
                </a:lnTo>
                <a:lnTo>
                  <a:pt x="369" y="193"/>
                </a:lnTo>
                <a:lnTo>
                  <a:pt x="370" y="193"/>
                </a:lnTo>
                <a:lnTo>
                  <a:pt x="370" y="193"/>
                </a:lnTo>
                <a:lnTo>
                  <a:pt x="370" y="195"/>
                </a:lnTo>
                <a:lnTo>
                  <a:pt x="370" y="195"/>
                </a:lnTo>
                <a:lnTo>
                  <a:pt x="370" y="196"/>
                </a:lnTo>
                <a:lnTo>
                  <a:pt x="370" y="196"/>
                </a:lnTo>
                <a:lnTo>
                  <a:pt x="369" y="197"/>
                </a:lnTo>
                <a:lnTo>
                  <a:pt x="367" y="196"/>
                </a:lnTo>
                <a:lnTo>
                  <a:pt x="367" y="196"/>
                </a:lnTo>
                <a:close/>
                <a:moveTo>
                  <a:pt x="348" y="187"/>
                </a:moveTo>
                <a:lnTo>
                  <a:pt x="348" y="187"/>
                </a:lnTo>
                <a:lnTo>
                  <a:pt x="347" y="185"/>
                </a:lnTo>
                <a:lnTo>
                  <a:pt x="347" y="184"/>
                </a:lnTo>
                <a:lnTo>
                  <a:pt x="347" y="184"/>
                </a:lnTo>
                <a:lnTo>
                  <a:pt x="348" y="182"/>
                </a:lnTo>
                <a:lnTo>
                  <a:pt x="350" y="182"/>
                </a:lnTo>
                <a:lnTo>
                  <a:pt x="350" y="182"/>
                </a:lnTo>
                <a:lnTo>
                  <a:pt x="350" y="182"/>
                </a:lnTo>
                <a:lnTo>
                  <a:pt x="351" y="184"/>
                </a:lnTo>
                <a:lnTo>
                  <a:pt x="351" y="185"/>
                </a:lnTo>
                <a:lnTo>
                  <a:pt x="351" y="187"/>
                </a:lnTo>
                <a:lnTo>
                  <a:pt x="350" y="187"/>
                </a:lnTo>
                <a:lnTo>
                  <a:pt x="348" y="187"/>
                </a:lnTo>
                <a:lnTo>
                  <a:pt x="348" y="187"/>
                </a:lnTo>
                <a:lnTo>
                  <a:pt x="348" y="187"/>
                </a:lnTo>
                <a:close/>
                <a:moveTo>
                  <a:pt x="328" y="177"/>
                </a:moveTo>
                <a:lnTo>
                  <a:pt x="328" y="177"/>
                </a:lnTo>
                <a:lnTo>
                  <a:pt x="328" y="176"/>
                </a:lnTo>
                <a:lnTo>
                  <a:pt x="328" y="174"/>
                </a:lnTo>
                <a:lnTo>
                  <a:pt x="328" y="173"/>
                </a:lnTo>
                <a:lnTo>
                  <a:pt x="328" y="173"/>
                </a:lnTo>
                <a:lnTo>
                  <a:pt x="329" y="173"/>
                </a:lnTo>
                <a:lnTo>
                  <a:pt x="329" y="173"/>
                </a:lnTo>
                <a:lnTo>
                  <a:pt x="330" y="173"/>
                </a:lnTo>
                <a:lnTo>
                  <a:pt x="330" y="173"/>
                </a:lnTo>
                <a:lnTo>
                  <a:pt x="332" y="174"/>
                </a:lnTo>
                <a:lnTo>
                  <a:pt x="332" y="174"/>
                </a:lnTo>
                <a:lnTo>
                  <a:pt x="332" y="176"/>
                </a:lnTo>
                <a:lnTo>
                  <a:pt x="329" y="177"/>
                </a:lnTo>
                <a:lnTo>
                  <a:pt x="329" y="177"/>
                </a:lnTo>
                <a:lnTo>
                  <a:pt x="328" y="177"/>
                </a:lnTo>
                <a:lnTo>
                  <a:pt x="328" y="177"/>
                </a:lnTo>
                <a:close/>
                <a:moveTo>
                  <a:pt x="309" y="166"/>
                </a:moveTo>
                <a:lnTo>
                  <a:pt x="309" y="166"/>
                </a:lnTo>
                <a:lnTo>
                  <a:pt x="309" y="165"/>
                </a:lnTo>
                <a:lnTo>
                  <a:pt x="309" y="163"/>
                </a:lnTo>
                <a:lnTo>
                  <a:pt x="309" y="163"/>
                </a:lnTo>
                <a:lnTo>
                  <a:pt x="309" y="162"/>
                </a:lnTo>
                <a:lnTo>
                  <a:pt x="310" y="162"/>
                </a:lnTo>
                <a:lnTo>
                  <a:pt x="311" y="163"/>
                </a:lnTo>
                <a:lnTo>
                  <a:pt x="311" y="163"/>
                </a:lnTo>
                <a:lnTo>
                  <a:pt x="311" y="163"/>
                </a:lnTo>
                <a:lnTo>
                  <a:pt x="313" y="165"/>
                </a:lnTo>
                <a:lnTo>
                  <a:pt x="311" y="166"/>
                </a:lnTo>
                <a:lnTo>
                  <a:pt x="311" y="166"/>
                </a:lnTo>
                <a:lnTo>
                  <a:pt x="310" y="166"/>
                </a:lnTo>
                <a:lnTo>
                  <a:pt x="310" y="166"/>
                </a:lnTo>
                <a:lnTo>
                  <a:pt x="309" y="166"/>
                </a:lnTo>
                <a:lnTo>
                  <a:pt x="309" y="166"/>
                </a:lnTo>
                <a:close/>
                <a:moveTo>
                  <a:pt x="290" y="157"/>
                </a:moveTo>
                <a:lnTo>
                  <a:pt x="290" y="157"/>
                </a:lnTo>
                <a:lnTo>
                  <a:pt x="290" y="155"/>
                </a:lnTo>
                <a:lnTo>
                  <a:pt x="288" y="155"/>
                </a:lnTo>
                <a:lnTo>
                  <a:pt x="288" y="154"/>
                </a:lnTo>
                <a:lnTo>
                  <a:pt x="290" y="154"/>
                </a:lnTo>
                <a:lnTo>
                  <a:pt x="291" y="153"/>
                </a:lnTo>
                <a:lnTo>
                  <a:pt x="291" y="153"/>
                </a:lnTo>
                <a:lnTo>
                  <a:pt x="292" y="153"/>
                </a:lnTo>
                <a:lnTo>
                  <a:pt x="292" y="153"/>
                </a:lnTo>
                <a:lnTo>
                  <a:pt x="292" y="154"/>
                </a:lnTo>
                <a:lnTo>
                  <a:pt x="294" y="155"/>
                </a:lnTo>
                <a:lnTo>
                  <a:pt x="292" y="155"/>
                </a:lnTo>
                <a:lnTo>
                  <a:pt x="292" y="157"/>
                </a:lnTo>
                <a:lnTo>
                  <a:pt x="291" y="157"/>
                </a:lnTo>
                <a:lnTo>
                  <a:pt x="290" y="157"/>
                </a:lnTo>
                <a:lnTo>
                  <a:pt x="290" y="157"/>
                </a:lnTo>
                <a:close/>
                <a:moveTo>
                  <a:pt x="271" y="146"/>
                </a:moveTo>
                <a:lnTo>
                  <a:pt x="271" y="146"/>
                </a:lnTo>
                <a:lnTo>
                  <a:pt x="269" y="144"/>
                </a:lnTo>
                <a:lnTo>
                  <a:pt x="269" y="144"/>
                </a:lnTo>
                <a:lnTo>
                  <a:pt x="269" y="143"/>
                </a:lnTo>
                <a:lnTo>
                  <a:pt x="271" y="142"/>
                </a:lnTo>
                <a:lnTo>
                  <a:pt x="272" y="142"/>
                </a:lnTo>
                <a:lnTo>
                  <a:pt x="273" y="143"/>
                </a:lnTo>
                <a:lnTo>
                  <a:pt x="273" y="143"/>
                </a:lnTo>
                <a:lnTo>
                  <a:pt x="273" y="144"/>
                </a:lnTo>
                <a:lnTo>
                  <a:pt x="273" y="144"/>
                </a:lnTo>
                <a:lnTo>
                  <a:pt x="273" y="146"/>
                </a:lnTo>
                <a:lnTo>
                  <a:pt x="272" y="146"/>
                </a:lnTo>
                <a:lnTo>
                  <a:pt x="271" y="147"/>
                </a:lnTo>
                <a:lnTo>
                  <a:pt x="271" y="146"/>
                </a:lnTo>
                <a:lnTo>
                  <a:pt x="271" y="146"/>
                </a:lnTo>
                <a:close/>
                <a:moveTo>
                  <a:pt x="252" y="136"/>
                </a:moveTo>
                <a:lnTo>
                  <a:pt x="252" y="136"/>
                </a:lnTo>
                <a:lnTo>
                  <a:pt x="250" y="135"/>
                </a:lnTo>
                <a:lnTo>
                  <a:pt x="250" y="134"/>
                </a:lnTo>
                <a:lnTo>
                  <a:pt x="250" y="134"/>
                </a:lnTo>
                <a:lnTo>
                  <a:pt x="252" y="132"/>
                </a:lnTo>
                <a:lnTo>
                  <a:pt x="253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34"/>
                </a:lnTo>
                <a:lnTo>
                  <a:pt x="254" y="135"/>
                </a:lnTo>
                <a:lnTo>
                  <a:pt x="253" y="136"/>
                </a:lnTo>
                <a:lnTo>
                  <a:pt x="252" y="136"/>
                </a:lnTo>
                <a:lnTo>
                  <a:pt x="252" y="136"/>
                </a:lnTo>
                <a:lnTo>
                  <a:pt x="252" y="136"/>
                </a:lnTo>
                <a:close/>
                <a:moveTo>
                  <a:pt x="233" y="125"/>
                </a:moveTo>
                <a:lnTo>
                  <a:pt x="233" y="125"/>
                </a:lnTo>
                <a:lnTo>
                  <a:pt x="231" y="124"/>
                </a:lnTo>
                <a:lnTo>
                  <a:pt x="231" y="124"/>
                </a:lnTo>
                <a:lnTo>
                  <a:pt x="231" y="123"/>
                </a:lnTo>
                <a:lnTo>
                  <a:pt x="233" y="123"/>
                </a:lnTo>
                <a:lnTo>
                  <a:pt x="234" y="123"/>
                </a:lnTo>
                <a:lnTo>
                  <a:pt x="234" y="123"/>
                </a:lnTo>
                <a:lnTo>
                  <a:pt x="234" y="123"/>
                </a:lnTo>
                <a:lnTo>
                  <a:pt x="235" y="124"/>
                </a:lnTo>
                <a:lnTo>
                  <a:pt x="235" y="124"/>
                </a:lnTo>
                <a:lnTo>
                  <a:pt x="235" y="125"/>
                </a:lnTo>
                <a:lnTo>
                  <a:pt x="234" y="127"/>
                </a:lnTo>
                <a:lnTo>
                  <a:pt x="233" y="127"/>
                </a:lnTo>
                <a:lnTo>
                  <a:pt x="233" y="125"/>
                </a:lnTo>
                <a:lnTo>
                  <a:pt x="233" y="125"/>
                </a:lnTo>
                <a:close/>
                <a:moveTo>
                  <a:pt x="212" y="116"/>
                </a:moveTo>
                <a:lnTo>
                  <a:pt x="212" y="116"/>
                </a:lnTo>
                <a:lnTo>
                  <a:pt x="212" y="114"/>
                </a:lnTo>
                <a:lnTo>
                  <a:pt x="212" y="113"/>
                </a:lnTo>
                <a:lnTo>
                  <a:pt x="212" y="113"/>
                </a:lnTo>
                <a:lnTo>
                  <a:pt x="214" y="112"/>
                </a:lnTo>
                <a:lnTo>
                  <a:pt x="214" y="112"/>
                </a:lnTo>
                <a:lnTo>
                  <a:pt x="215" y="112"/>
                </a:lnTo>
                <a:lnTo>
                  <a:pt x="215" y="112"/>
                </a:lnTo>
                <a:lnTo>
                  <a:pt x="216" y="113"/>
                </a:lnTo>
                <a:lnTo>
                  <a:pt x="216" y="114"/>
                </a:lnTo>
                <a:lnTo>
                  <a:pt x="216" y="116"/>
                </a:lnTo>
                <a:lnTo>
                  <a:pt x="214" y="116"/>
                </a:lnTo>
                <a:lnTo>
                  <a:pt x="214" y="116"/>
                </a:lnTo>
                <a:lnTo>
                  <a:pt x="212" y="116"/>
                </a:lnTo>
                <a:lnTo>
                  <a:pt x="212" y="116"/>
                </a:lnTo>
                <a:close/>
                <a:moveTo>
                  <a:pt x="193" y="106"/>
                </a:moveTo>
                <a:lnTo>
                  <a:pt x="193" y="106"/>
                </a:lnTo>
                <a:lnTo>
                  <a:pt x="193" y="104"/>
                </a:lnTo>
                <a:lnTo>
                  <a:pt x="193" y="104"/>
                </a:lnTo>
                <a:lnTo>
                  <a:pt x="193" y="102"/>
                </a:lnTo>
                <a:lnTo>
                  <a:pt x="194" y="102"/>
                </a:lnTo>
                <a:lnTo>
                  <a:pt x="194" y="102"/>
                </a:lnTo>
                <a:lnTo>
                  <a:pt x="196" y="102"/>
                </a:lnTo>
                <a:lnTo>
                  <a:pt x="196" y="102"/>
                </a:lnTo>
                <a:lnTo>
                  <a:pt x="197" y="104"/>
                </a:lnTo>
                <a:lnTo>
                  <a:pt x="197" y="104"/>
                </a:lnTo>
                <a:lnTo>
                  <a:pt x="196" y="105"/>
                </a:lnTo>
                <a:lnTo>
                  <a:pt x="194" y="106"/>
                </a:lnTo>
                <a:lnTo>
                  <a:pt x="194" y="106"/>
                </a:lnTo>
                <a:lnTo>
                  <a:pt x="193" y="106"/>
                </a:lnTo>
                <a:lnTo>
                  <a:pt x="193" y="106"/>
                </a:lnTo>
                <a:close/>
                <a:moveTo>
                  <a:pt x="174" y="95"/>
                </a:moveTo>
                <a:lnTo>
                  <a:pt x="174" y="95"/>
                </a:lnTo>
                <a:lnTo>
                  <a:pt x="173" y="94"/>
                </a:lnTo>
                <a:lnTo>
                  <a:pt x="173" y="93"/>
                </a:lnTo>
                <a:lnTo>
                  <a:pt x="174" y="93"/>
                </a:lnTo>
                <a:lnTo>
                  <a:pt x="174" y="91"/>
                </a:lnTo>
                <a:lnTo>
                  <a:pt x="175" y="91"/>
                </a:lnTo>
                <a:lnTo>
                  <a:pt x="177" y="93"/>
                </a:lnTo>
                <a:lnTo>
                  <a:pt x="177" y="93"/>
                </a:lnTo>
                <a:lnTo>
                  <a:pt x="177" y="93"/>
                </a:lnTo>
                <a:lnTo>
                  <a:pt x="177" y="93"/>
                </a:lnTo>
                <a:lnTo>
                  <a:pt x="178" y="94"/>
                </a:lnTo>
                <a:lnTo>
                  <a:pt x="177" y="95"/>
                </a:lnTo>
                <a:lnTo>
                  <a:pt x="175" y="95"/>
                </a:lnTo>
                <a:lnTo>
                  <a:pt x="175" y="95"/>
                </a:lnTo>
                <a:lnTo>
                  <a:pt x="174" y="95"/>
                </a:lnTo>
                <a:lnTo>
                  <a:pt x="174" y="95"/>
                </a:lnTo>
                <a:close/>
                <a:moveTo>
                  <a:pt x="155" y="86"/>
                </a:moveTo>
                <a:lnTo>
                  <a:pt x="155" y="86"/>
                </a:lnTo>
                <a:lnTo>
                  <a:pt x="154" y="85"/>
                </a:lnTo>
                <a:lnTo>
                  <a:pt x="154" y="83"/>
                </a:lnTo>
                <a:lnTo>
                  <a:pt x="154" y="83"/>
                </a:lnTo>
                <a:lnTo>
                  <a:pt x="155" y="82"/>
                </a:lnTo>
                <a:lnTo>
                  <a:pt x="156" y="82"/>
                </a:lnTo>
                <a:lnTo>
                  <a:pt x="158" y="82"/>
                </a:lnTo>
                <a:lnTo>
                  <a:pt x="158" y="82"/>
                </a:lnTo>
                <a:lnTo>
                  <a:pt x="158" y="83"/>
                </a:lnTo>
                <a:lnTo>
                  <a:pt x="158" y="85"/>
                </a:lnTo>
                <a:lnTo>
                  <a:pt x="158" y="85"/>
                </a:lnTo>
                <a:lnTo>
                  <a:pt x="158" y="86"/>
                </a:lnTo>
                <a:lnTo>
                  <a:pt x="156" y="86"/>
                </a:lnTo>
                <a:lnTo>
                  <a:pt x="155" y="86"/>
                </a:lnTo>
                <a:lnTo>
                  <a:pt x="155" y="86"/>
                </a:lnTo>
                <a:close/>
                <a:moveTo>
                  <a:pt x="136" y="75"/>
                </a:moveTo>
                <a:lnTo>
                  <a:pt x="136" y="75"/>
                </a:lnTo>
                <a:lnTo>
                  <a:pt x="135" y="75"/>
                </a:lnTo>
                <a:lnTo>
                  <a:pt x="135" y="74"/>
                </a:lnTo>
                <a:lnTo>
                  <a:pt x="135" y="72"/>
                </a:lnTo>
                <a:lnTo>
                  <a:pt x="136" y="71"/>
                </a:lnTo>
                <a:lnTo>
                  <a:pt x="137" y="71"/>
                </a:lnTo>
                <a:lnTo>
                  <a:pt x="137" y="72"/>
                </a:lnTo>
                <a:lnTo>
                  <a:pt x="137" y="72"/>
                </a:lnTo>
                <a:lnTo>
                  <a:pt x="139" y="74"/>
                </a:lnTo>
                <a:lnTo>
                  <a:pt x="139" y="74"/>
                </a:lnTo>
                <a:lnTo>
                  <a:pt x="139" y="75"/>
                </a:lnTo>
                <a:lnTo>
                  <a:pt x="137" y="75"/>
                </a:lnTo>
                <a:lnTo>
                  <a:pt x="136" y="76"/>
                </a:lnTo>
                <a:lnTo>
                  <a:pt x="136" y="75"/>
                </a:lnTo>
                <a:lnTo>
                  <a:pt x="136" y="75"/>
                </a:lnTo>
                <a:close/>
                <a:moveTo>
                  <a:pt x="117" y="66"/>
                </a:moveTo>
                <a:lnTo>
                  <a:pt x="117" y="66"/>
                </a:lnTo>
                <a:lnTo>
                  <a:pt x="116" y="64"/>
                </a:lnTo>
                <a:lnTo>
                  <a:pt x="116" y="63"/>
                </a:lnTo>
                <a:lnTo>
                  <a:pt x="116" y="63"/>
                </a:lnTo>
                <a:lnTo>
                  <a:pt x="117" y="61"/>
                </a:lnTo>
                <a:lnTo>
                  <a:pt x="118" y="61"/>
                </a:lnTo>
                <a:lnTo>
                  <a:pt x="118" y="61"/>
                </a:lnTo>
                <a:lnTo>
                  <a:pt x="118" y="61"/>
                </a:lnTo>
                <a:lnTo>
                  <a:pt x="120" y="63"/>
                </a:lnTo>
                <a:lnTo>
                  <a:pt x="120" y="64"/>
                </a:lnTo>
                <a:lnTo>
                  <a:pt x="120" y="64"/>
                </a:lnTo>
                <a:lnTo>
                  <a:pt x="118" y="66"/>
                </a:lnTo>
                <a:lnTo>
                  <a:pt x="117" y="66"/>
                </a:lnTo>
                <a:lnTo>
                  <a:pt x="117" y="66"/>
                </a:lnTo>
                <a:lnTo>
                  <a:pt x="117" y="66"/>
                </a:lnTo>
                <a:close/>
                <a:moveTo>
                  <a:pt x="97" y="55"/>
                </a:moveTo>
                <a:lnTo>
                  <a:pt x="97" y="55"/>
                </a:lnTo>
                <a:lnTo>
                  <a:pt x="97" y="53"/>
                </a:lnTo>
                <a:lnTo>
                  <a:pt x="97" y="53"/>
                </a:lnTo>
                <a:lnTo>
                  <a:pt x="97" y="52"/>
                </a:lnTo>
                <a:lnTo>
                  <a:pt x="97" y="52"/>
                </a:lnTo>
                <a:lnTo>
                  <a:pt x="98" y="51"/>
                </a:lnTo>
                <a:lnTo>
                  <a:pt x="99" y="52"/>
                </a:lnTo>
                <a:lnTo>
                  <a:pt x="99" y="52"/>
                </a:lnTo>
                <a:lnTo>
                  <a:pt x="101" y="53"/>
                </a:lnTo>
                <a:lnTo>
                  <a:pt x="101" y="53"/>
                </a:lnTo>
                <a:lnTo>
                  <a:pt x="101" y="55"/>
                </a:lnTo>
                <a:lnTo>
                  <a:pt x="98" y="56"/>
                </a:lnTo>
                <a:lnTo>
                  <a:pt x="98" y="56"/>
                </a:lnTo>
                <a:lnTo>
                  <a:pt x="97" y="55"/>
                </a:lnTo>
                <a:lnTo>
                  <a:pt x="97" y="55"/>
                </a:lnTo>
                <a:close/>
                <a:moveTo>
                  <a:pt x="78" y="45"/>
                </a:moveTo>
                <a:lnTo>
                  <a:pt x="78" y="45"/>
                </a:lnTo>
                <a:lnTo>
                  <a:pt x="78" y="45"/>
                </a:lnTo>
                <a:lnTo>
                  <a:pt x="76" y="44"/>
                </a:lnTo>
                <a:lnTo>
                  <a:pt x="78" y="42"/>
                </a:lnTo>
                <a:lnTo>
                  <a:pt x="78" y="41"/>
                </a:lnTo>
                <a:lnTo>
                  <a:pt x="79" y="41"/>
                </a:lnTo>
                <a:lnTo>
                  <a:pt x="79" y="41"/>
                </a:lnTo>
                <a:lnTo>
                  <a:pt x="80" y="41"/>
                </a:lnTo>
                <a:lnTo>
                  <a:pt x="80" y="41"/>
                </a:lnTo>
                <a:lnTo>
                  <a:pt x="80" y="42"/>
                </a:lnTo>
                <a:lnTo>
                  <a:pt x="82" y="44"/>
                </a:lnTo>
                <a:lnTo>
                  <a:pt x="80" y="45"/>
                </a:lnTo>
                <a:lnTo>
                  <a:pt x="79" y="45"/>
                </a:lnTo>
                <a:lnTo>
                  <a:pt x="79" y="45"/>
                </a:lnTo>
                <a:lnTo>
                  <a:pt x="78" y="45"/>
                </a:lnTo>
                <a:lnTo>
                  <a:pt x="78" y="45"/>
                </a:lnTo>
                <a:close/>
                <a:moveTo>
                  <a:pt x="58" y="36"/>
                </a:moveTo>
                <a:lnTo>
                  <a:pt x="58" y="36"/>
                </a:lnTo>
                <a:lnTo>
                  <a:pt x="57" y="33"/>
                </a:lnTo>
                <a:lnTo>
                  <a:pt x="57" y="33"/>
                </a:lnTo>
                <a:lnTo>
                  <a:pt x="58" y="32"/>
                </a:lnTo>
                <a:lnTo>
                  <a:pt x="60" y="32"/>
                </a:lnTo>
                <a:lnTo>
                  <a:pt x="60" y="32"/>
                </a:lnTo>
                <a:lnTo>
                  <a:pt x="61" y="32"/>
                </a:lnTo>
                <a:lnTo>
                  <a:pt x="61" y="32"/>
                </a:lnTo>
                <a:lnTo>
                  <a:pt x="61" y="32"/>
                </a:lnTo>
                <a:lnTo>
                  <a:pt x="61" y="33"/>
                </a:lnTo>
                <a:lnTo>
                  <a:pt x="61" y="34"/>
                </a:lnTo>
                <a:lnTo>
                  <a:pt x="61" y="34"/>
                </a:lnTo>
                <a:lnTo>
                  <a:pt x="60" y="36"/>
                </a:lnTo>
                <a:lnTo>
                  <a:pt x="60" y="36"/>
                </a:lnTo>
                <a:lnTo>
                  <a:pt x="58" y="36"/>
                </a:lnTo>
                <a:lnTo>
                  <a:pt x="58" y="36"/>
                </a:lnTo>
                <a:close/>
                <a:moveTo>
                  <a:pt x="39" y="25"/>
                </a:moveTo>
                <a:lnTo>
                  <a:pt x="39" y="25"/>
                </a:lnTo>
                <a:lnTo>
                  <a:pt x="38" y="23"/>
                </a:lnTo>
                <a:lnTo>
                  <a:pt x="38" y="22"/>
                </a:lnTo>
                <a:lnTo>
                  <a:pt x="38" y="22"/>
                </a:lnTo>
                <a:lnTo>
                  <a:pt x="39" y="21"/>
                </a:lnTo>
                <a:lnTo>
                  <a:pt x="39" y="21"/>
                </a:lnTo>
                <a:lnTo>
                  <a:pt x="42" y="21"/>
                </a:lnTo>
                <a:lnTo>
                  <a:pt x="42" y="21"/>
                </a:lnTo>
                <a:lnTo>
                  <a:pt x="42" y="22"/>
                </a:lnTo>
                <a:lnTo>
                  <a:pt x="42" y="23"/>
                </a:lnTo>
                <a:lnTo>
                  <a:pt x="42" y="25"/>
                </a:lnTo>
                <a:lnTo>
                  <a:pt x="41" y="25"/>
                </a:lnTo>
                <a:lnTo>
                  <a:pt x="39" y="25"/>
                </a:lnTo>
                <a:lnTo>
                  <a:pt x="39" y="25"/>
                </a:lnTo>
                <a:lnTo>
                  <a:pt x="39" y="25"/>
                </a:lnTo>
                <a:close/>
                <a:moveTo>
                  <a:pt x="20" y="15"/>
                </a:moveTo>
                <a:lnTo>
                  <a:pt x="20" y="15"/>
                </a:lnTo>
                <a:lnTo>
                  <a:pt x="19" y="14"/>
                </a:lnTo>
                <a:lnTo>
                  <a:pt x="19" y="12"/>
                </a:lnTo>
                <a:lnTo>
                  <a:pt x="19" y="12"/>
                </a:lnTo>
                <a:lnTo>
                  <a:pt x="20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3" y="12"/>
                </a:lnTo>
                <a:lnTo>
                  <a:pt x="23" y="14"/>
                </a:lnTo>
                <a:lnTo>
                  <a:pt x="23" y="14"/>
                </a:lnTo>
                <a:lnTo>
                  <a:pt x="22" y="15"/>
                </a:lnTo>
                <a:lnTo>
                  <a:pt x="22" y="15"/>
                </a:lnTo>
                <a:lnTo>
                  <a:pt x="20" y="15"/>
                </a:lnTo>
                <a:lnTo>
                  <a:pt x="20" y="15"/>
                </a:lnTo>
                <a:close/>
                <a:moveTo>
                  <a:pt x="1" y="4"/>
                </a:moveTo>
                <a:lnTo>
                  <a:pt x="1" y="4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4" y="2"/>
                </a:ln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1" y="6"/>
                </a:lnTo>
                <a:lnTo>
                  <a:pt x="1" y="4"/>
                </a:lnTo>
                <a:lnTo>
                  <a:pt x="1" y="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06640" y="5872320"/>
            <a:ext cx="60480" cy="60120"/>
          </a:xfrm>
          <a:custGeom>
            <a:avLst/>
            <a:gdLst/>
            <a:ahLst/>
            <a:rect l="l" t="t" r="r" b="b"/>
            <a:pathLst>
              <a:path w="75" h="75">
                <a:moveTo>
                  <a:pt x="71" y="56"/>
                </a:moveTo>
                <a:lnTo>
                  <a:pt x="72" y="52"/>
                </a:lnTo>
                <a:lnTo>
                  <a:pt x="73" y="47"/>
                </a:lnTo>
                <a:lnTo>
                  <a:pt x="73" y="45"/>
                </a:lnTo>
                <a:lnTo>
                  <a:pt x="75" y="41"/>
                </a:lnTo>
                <a:lnTo>
                  <a:pt x="75" y="37"/>
                </a:lnTo>
                <a:lnTo>
                  <a:pt x="75" y="34"/>
                </a:lnTo>
                <a:lnTo>
                  <a:pt x="73" y="30"/>
                </a:lnTo>
                <a:lnTo>
                  <a:pt x="73" y="26"/>
                </a:lnTo>
                <a:lnTo>
                  <a:pt x="71" y="20"/>
                </a:lnTo>
                <a:lnTo>
                  <a:pt x="67" y="13"/>
                </a:lnTo>
                <a:lnTo>
                  <a:pt x="61" y="8"/>
                </a:lnTo>
                <a:lnTo>
                  <a:pt x="54" y="4"/>
                </a:lnTo>
                <a:lnTo>
                  <a:pt x="50" y="3"/>
                </a:lnTo>
                <a:lnTo>
                  <a:pt x="48" y="1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3" y="0"/>
                </a:lnTo>
                <a:lnTo>
                  <a:pt x="30" y="1"/>
                </a:lnTo>
                <a:lnTo>
                  <a:pt x="26" y="1"/>
                </a:lnTo>
                <a:lnTo>
                  <a:pt x="19" y="4"/>
                </a:lnTo>
                <a:lnTo>
                  <a:pt x="14" y="8"/>
                </a:lnTo>
                <a:lnTo>
                  <a:pt x="8" y="13"/>
                </a:lnTo>
                <a:lnTo>
                  <a:pt x="4" y="20"/>
                </a:lnTo>
                <a:lnTo>
                  <a:pt x="4" y="20"/>
                </a:lnTo>
                <a:lnTo>
                  <a:pt x="3" y="23"/>
                </a:lnTo>
                <a:lnTo>
                  <a:pt x="1" y="27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5"/>
                </a:lnTo>
                <a:lnTo>
                  <a:pt x="1" y="49"/>
                </a:lnTo>
                <a:lnTo>
                  <a:pt x="4" y="56"/>
                </a:lnTo>
                <a:lnTo>
                  <a:pt x="8" y="61"/>
                </a:lnTo>
                <a:lnTo>
                  <a:pt x="14" y="66"/>
                </a:lnTo>
                <a:lnTo>
                  <a:pt x="19" y="71"/>
                </a:lnTo>
                <a:lnTo>
                  <a:pt x="23" y="72"/>
                </a:lnTo>
                <a:lnTo>
                  <a:pt x="26" y="73"/>
                </a:lnTo>
                <a:lnTo>
                  <a:pt x="30" y="75"/>
                </a:lnTo>
                <a:lnTo>
                  <a:pt x="34" y="75"/>
                </a:lnTo>
                <a:lnTo>
                  <a:pt x="37" y="75"/>
                </a:lnTo>
                <a:lnTo>
                  <a:pt x="41" y="75"/>
                </a:lnTo>
                <a:lnTo>
                  <a:pt x="45" y="75"/>
                </a:lnTo>
                <a:lnTo>
                  <a:pt x="48" y="73"/>
                </a:lnTo>
                <a:lnTo>
                  <a:pt x="54" y="71"/>
                </a:lnTo>
                <a:lnTo>
                  <a:pt x="61" y="66"/>
                </a:lnTo>
                <a:lnTo>
                  <a:pt x="65" y="61"/>
                </a:lnTo>
                <a:lnTo>
                  <a:pt x="71" y="5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92560" y="6075360"/>
            <a:ext cx="12301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92560" y="6075360"/>
            <a:ext cx="1230120" cy="469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49800" y="6103800"/>
            <a:ext cx="558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st OO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87280" y="6103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18600" y="6103800"/>
            <a:ext cx="35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47640" y="6242040"/>
            <a:ext cx="1172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ying UML dur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48000" y="638028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peri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7832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0" y="0"/>
                </a:moveTo>
                <a:lnTo>
                  <a:pt x="182" y="1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7832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0" y="0"/>
                </a:moveTo>
                <a:lnTo>
                  <a:pt x="182" y="1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7832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182" y="183"/>
                </a:moveTo>
                <a:lnTo>
                  <a:pt x="0" y="0"/>
                </a:lnTo>
                <a:lnTo>
                  <a:pt x="0" y="183"/>
                </a:lnTo>
                <a:lnTo>
                  <a:pt x="182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7832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182" y="183"/>
                </a:moveTo>
                <a:lnTo>
                  <a:pt x="0" y="0"/>
                </a:lnTo>
                <a:lnTo>
                  <a:pt x="0" y="183"/>
                </a:lnTo>
                <a:lnTo>
                  <a:pt x="18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73480" y="6075360"/>
            <a:ext cx="123048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73480" y="6075360"/>
            <a:ext cx="1230480" cy="469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30000" y="617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35200" y="6173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72280" y="6173640"/>
            <a:ext cx="83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se model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28560" y="6311880"/>
            <a:ext cx="113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uring the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5960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0" y="0"/>
                </a:moveTo>
                <a:lnTo>
                  <a:pt x="182" y="1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5960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0" y="0"/>
                </a:moveTo>
                <a:lnTo>
                  <a:pt x="182" y="1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5960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182" y="183"/>
                </a:moveTo>
                <a:lnTo>
                  <a:pt x="0" y="0"/>
                </a:lnTo>
                <a:lnTo>
                  <a:pt x="0" y="183"/>
                </a:lnTo>
                <a:lnTo>
                  <a:pt x="182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5960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182" y="183"/>
                </a:moveTo>
                <a:lnTo>
                  <a:pt x="0" y="0"/>
                </a:lnTo>
                <a:lnTo>
                  <a:pt x="0" y="183"/>
                </a:lnTo>
                <a:lnTo>
                  <a:pt x="18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96160" y="5896080"/>
            <a:ext cx="376200" cy="182520"/>
          </a:xfrm>
          <a:custGeom>
            <a:avLst/>
            <a:gdLst/>
            <a:ahLst/>
            <a:rect l="l" t="t" r="r" b="b"/>
            <a:pathLst>
              <a:path w="475" h="230">
                <a:moveTo>
                  <a:pt x="0" y="226"/>
                </a:moveTo>
                <a:lnTo>
                  <a:pt x="0" y="226"/>
                </a:lnTo>
                <a:lnTo>
                  <a:pt x="1" y="226"/>
                </a:lnTo>
                <a:lnTo>
                  <a:pt x="1" y="226"/>
                </a:lnTo>
                <a:lnTo>
                  <a:pt x="4" y="228"/>
                </a:lnTo>
                <a:lnTo>
                  <a:pt x="4" y="228"/>
                </a:lnTo>
                <a:lnTo>
                  <a:pt x="4" y="229"/>
                </a:lnTo>
                <a:lnTo>
                  <a:pt x="3" y="230"/>
                </a:lnTo>
                <a:lnTo>
                  <a:pt x="3" y="230"/>
                </a:lnTo>
                <a:lnTo>
                  <a:pt x="1" y="230"/>
                </a:lnTo>
                <a:lnTo>
                  <a:pt x="1" y="230"/>
                </a:lnTo>
                <a:lnTo>
                  <a:pt x="0" y="229"/>
                </a:lnTo>
                <a:lnTo>
                  <a:pt x="0" y="229"/>
                </a:lnTo>
                <a:lnTo>
                  <a:pt x="0" y="228"/>
                </a:lnTo>
                <a:lnTo>
                  <a:pt x="0" y="226"/>
                </a:lnTo>
                <a:lnTo>
                  <a:pt x="0" y="226"/>
                </a:lnTo>
                <a:close/>
                <a:moveTo>
                  <a:pt x="20" y="217"/>
                </a:moveTo>
                <a:lnTo>
                  <a:pt x="20" y="217"/>
                </a:lnTo>
                <a:lnTo>
                  <a:pt x="20" y="217"/>
                </a:lnTo>
                <a:lnTo>
                  <a:pt x="22" y="217"/>
                </a:lnTo>
                <a:lnTo>
                  <a:pt x="23" y="218"/>
                </a:lnTo>
                <a:lnTo>
                  <a:pt x="23" y="219"/>
                </a:lnTo>
                <a:lnTo>
                  <a:pt x="23" y="219"/>
                </a:lnTo>
                <a:lnTo>
                  <a:pt x="22" y="221"/>
                </a:lnTo>
                <a:lnTo>
                  <a:pt x="22" y="221"/>
                </a:lnTo>
                <a:lnTo>
                  <a:pt x="22" y="221"/>
                </a:lnTo>
                <a:lnTo>
                  <a:pt x="20" y="221"/>
                </a:lnTo>
                <a:lnTo>
                  <a:pt x="19" y="219"/>
                </a:lnTo>
                <a:lnTo>
                  <a:pt x="19" y="219"/>
                </a:lnTo>
                <a:lnTo>
                  <a:pt x="19" y="218"/>
                </a:lnTo>
                <a:lnTo>
                  <a:pt x="20" y="217"/>
                </a:lnTo>
                <a:lnTo>
                  <a:pt x="20" y="217"/>
                </a:lnTo>
                <a:close/>
                <a:moveTo>
                  <a:pt x="39" y="207"/>
                </a:moveTo>
                <a:lnTo>
                  <a:pt x="39" y="207"/>
                </a:lnTo>
                <a:lnTo>
                  <a:pt x="41" y="207"/>
                </a:lnTo>
                <a:lnTo>
                  <a:pt x="42" y="207"/>
                </a:lnTo>
                <a:lnTo>
                  <a:pt x="42" y="208"/>
                </a:lnTo>
                <a:lnTo>
                  <a:pt x="43" y="208"/>
                </a:lnTo>
                <a:lnTo>
                  <a:pt x="42" y="210"/>
                </a:lnTo>
                <a:lnTo>
                  <a:pt x="42" y="211"/>
                </a:lnTo>
                <a:lnTo>
                  <a:pt x="42" y="211"/>
                </a:lnTo>
                <a:lnTo>
                  <a:pt x="41" y="211"/>
                </a:lnTo>
                <a:lnTo>
                  <a:pt x="41" y="211"/>
                </a:lnTo>
                <a:lnTo>
                  <a:pt x="39" y="210"/>
                </a:lnTo>
                <a:lnTo>
                  <a:pt x="39" y="208"/>
                </a:lnTo>
                <a:lnTo>
                  <a:pt x="39" y="207"/>
                </a:lnTo>
                <a:lnTo>
                  <a:pt x="39" y="207"/>
                </a:lnTo>
                <a:close/>
                <a:moveTo>
                  <a:pt x="60" y="198"/>
                </a:moveTo>
                <a:lnTo>
                  <a:pt x="60" y="198"/>
                </a:lnTo>
                <a:lnTo>
                  <a:pt x="60" y="198"/>
                </a:lnTo>
                <a:lnTo>
                  <a:pt x="61" y="198"/>
                </a:lnTo>
                <a:lnTo>
                  <a:pt x="63" y="199"/>
                </a:lnTo>
                <a:lnTo>
                  <a:pt x="63" y="199"/>
                </a:lnTo>
                <a:lnTo>
                  <a:pt x="63" y="200"/>
                </a:lnTo>
                <a:lnTo>
                  <a:pt x="61" y="202"/>
                </a:lnTo>
                <a:lnTo>
                  <a:pt x="61" y="202"/>
                </a:lnTo>
                <a:lnTo>
                  <a:pt x="60" y="202"/>
                </a:lnTo>
                <a:lnTo>
                  <a:pt x="58" y="200"/>
                </a:lnTo>
                <a:lnTo>
                  <a:pt x="58" y="200"/>
                </a:lnTo>
                <a:lnTo>
                  <a:pt x="58" y="199"/>
                </a:lnTo>
                <a:lnTo>
                  <a:pt x="58" y="199"/>
                </a:lnTo>
                <a:lnTo>
                  <a:pt x="60" y="198"/>
                </a:lnTo>
                <a:lnTo>
                  <a:pt x="60" y="198"/>
                </a:lnTo>
                <a:close/>
                <a:moveTo>
                  <a:pt x="79" y="188"/>
                </a:moveTo>
                <a:lnTo>
                  <a:pt x="79" y="188"/>
                </a:lnTo>
                <a:lnTo>
                  <a:pt x="80" y="188"/>
                </a:lnTo>
                <a:lnTo>
                  <a:pt x="80" y="188"/>
                </a:lnTo>
                <a:lnTo>
                  <a:pt x="82" y="189"/>
                </a:lnTo>
                <a:lnTo>
                  <a:pt x="83" y="189"/>
                </a:lnTo>
                <a:lnTo>
                  <a:pt x="82" y="191"/>
                </a:lnTo>
                <a:lnTo>
                  <a:pt x="82" y="192"/>
                </a:lnTo>
                <a:lnTo>
                  <a:pt x="82" y="192"/>
                </a:lnTo>
                <a:lnTo>
                  <a:pt x="80" y="192"/>
                </a:lnTo>
                <a:lnTo>
                  <a:pt x="80" y="192"/>
                </a:lnTo>
                <a:lnTo>
                  <a:pt x="79" y="192"/>
                </a:lnTo>
                <a:lnTo>
                  <a:pt x="77" y="191"/>
                </a:lnTo>
                <a:lnTo>
                  <a:pt x="77" y="189"/>
                </a:lnTo>
                <a:lnTo>
                  <a:pt x="79" y="188"/>
                </a:lnTo>
                <a:lnTo>
                  <a:pt x="79" y="188"/>
                </a:lnTo>
                <a:close/>
                <a:moveTo>
                  <a:pt x="99" y="179"/>
                </a:moveTo>
                <a:lnTo>
                  <a:pt x="99" y="179"/>
                </a:lnTo>
                <a:lnTo>
                  <a:pt x="99" y="179"/>
                </a:lnTo>
                <a:lnTo>
                  <a:pt x="101" y="179"/>
                </a:lnTo>
                <a:lnTo>
                  <a:pt x="102" y="180"/>
                </a:lnTo>
                <a:lnTo>
                  <a:pt x="102" y="181"/>
                </a:lnTo>
                <a:lnTo>
                  <a:pt x="101" y="183"/>
                </a:lnTo>
                <a:lnTo>
                  <a:pt x="101" y="183"/>
                </a:lnTo>
                <a:lnTo>
                  <a:pt x="99" y="183"/>
                </a:lnTo>
                <a:lnTo>
                  <a:pt x="99" y="183"/>
                </a:lnTo>
                <a:lnTo>
                  <a:pt x="98" y="183"/>
                </a:lnTo>
                <a:lnTo>
                  <a:pt x="98" y="183"/>
                </a:lnTo>
                <a:lnTo>
                  <a:pt x="98" y="181"/>
                </a:lnTo>
                <a:lnTo>
                  <a:pt x="98" y="180"/>
                </a:lnTo>
                <a:lnTo>
                  <a:pt x="99" y="179"/>
                </a:lnTo>
                <a:lnTo>
                  <a:pt x="99" y="179"/>
                </a:lnTo>
                <a:close/>
                <a:moveTo>
                  <a:pt x="118" y="170"/>
                </a:moveTo>
                <a:lnTo>
                  <a:pt x="118" y="170"/>
                </a:lnTo>
                <a:lnTo>
                  <a:pt x="118" y="169"/>
                </a:lnTo>
                <a:lnTo>
                  <a:pt x="120" y="169"/>
                </a:lnTo>
                <a:lnTo>
                  <a:pt x="121" y="170"/>
                </a:lnTo>
                <a:lnTo>
                  <a:pt x="121" y="172"/>
                </a:lnTo>
                <a:lnTo>
                  <a:pt x="121" y="172"/>
                </a:lnTo>
                <a:lnTo>
                  <a:pt x="121" y="173"/>
                </a:lnTo>
                <a:lnTo>
                  <a:pt x="121" y="173"/>
                </a:lnTo>
                <a:lnTo>
                  <a:pt x="118" y="173"/>
                </a:lnTo>
                <a:lnTo>
                  <a:pt x="117" y="173"/>
                </a:lnTo>
                <a:lnTo>
                  <a:pt x="117" y="172"/>
                </a:lnTo>
                <a:lnTo>
                  <a:pt x="117" y="170"/>
                </a:lnTo>
                <a:lnTo>
                  <a:pt x="117" y="170"/>
                </a:lnTo>
                <a:lnTo>
                  <a:pt x="118" y="170"/>
                </a:lnTo>
                <a:lnTo>
                  <a:pt x="118" y="170"/>
                </a:lnTo>
                <a:close/>
                <a:moveTo>
                  <a:pt x="137" y="161"/>
                </a:moveTo>
                <a:lnTo>
                  <a:pt x="137" y="161"/>
                </a:lnTo>
                <a:lnTo>
                  <a:pt x="139" y="160"/>
                </a:lnTo>
                <a:lnTo>
                  <a:pt x="139" y="160"/>
                </a:lnTo>
                <a:lnTo>
                  <a:pt x="141" y="161"/>
                </a:lnTo>
                <a:lnTo>
                  <a:pt x="141" y="162"/>
                </a:lnTo>
                <a:lnTo>
                  <a:pt x="141" y="162"/>
                </a:lnTo>
                <a:lnTo>
                  <a:pt x="140" y="164"/>
                </a:lnTo>
                <a:lnTo>
                  <a:pt x="140" y="164"/>
                </a:lnTo>
                <a:lnTo>
                  <a:pt x="139" y="165"/>
                </a:lnTo>
                <a:lnTo>
                  <a:pt x="139" y="164"/>
                </a:lnTo>
                <a:lnTo>
                  <a:pt x="137" y="164"/>
                </a:lnTo>
                <a:lnTo>
                  <a:pt x="137" y="162"/>
                </a:lnTo>
                <a:lnTo>
                  <a:pt x="137" y="162"/>
                </a:lnTo>
                <a:lnTo>
                  <a:pt x="137" y="161"/>
                </a:lnTo>
                <a:lnTo>
                  <a:pt x="137" y="161"/>
                </a:lnTo>
                <a:close/>
                <a:moveTo>
                  <a:pt x="158" y="151"/>
                </a:moveTo>
                <a:lnTo>
                  <a:pt x="158" y="151"/>
                </a:lnTo>
                <a:lnTo>
                  <a:pt x="158" y="150"/>
                </a:lnTo>
                <a:lnTo>
                  <a:pt x="159" y="150"/>
                </a:lnTo>
                <a:lnTo>
                  <a:pt x="160" y="151"/>
                </a:lnTo>
                <a:lnTo>
                  <a:pt x="160" y="153"/>
                </a:lnTo>
                <a:lnTo>
                  <a:pt x="159" y="154"/>
                </a:lnTo>
                <a:lnTo>
                  <a:pt x="159" y="154"/>
                </a:lnTo>
                <a:lnTo>
                  <a:pt x="159" y="155"/>
                </a:lnTo>
                <a:lnTo>
                  <a:pt x="158" y="154"/>
                </a:lnTo>
                <a:lnTo>
                  <a:pt x="158" y="154"/>
                </a:lnTo>
                <a:lnTo>
                  <a:pt x="156" y="154"/>
                </a:lnTo>
                <a:lnTo>
                  <a:pt x="156" y="153"/>
                </a:lnTo>
                <a:lnTo>
                  <a:pt x="156" y="153"/>
                </a:lnTo>
                <a:lnTo>
                  <a:pt x="158" y="151"/>
                </a:lnTo>
                <a:lnTo>
                  <a:pt x="158" y="151"/>
                </a:lnTo>
                <a:close/>
                <a:moveTo>
                  <a:pt x="177" y="142"/>
                </a:moveTo>
                <a:lnTo>
                  <a:pt x="177" y="142"/>
                </a:lnTo>
                <a:lnTo>
                  <a:pt x="178" y="142"/>
                </a:lnTo>
                <a:lnTo>
                  <a:pt x="179" y="142"/>
                </a:lnTo>
                <a:lnTo>
                  <a:pt x="179" y="142"/>
                </a:lnTo>
                <a:lnTo>
                  <a:pt x="181" y="143"/>
                </a:lnTo>
                <a:lnTo>
                  <a:pt x="179" y="143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8" y="146"/>
                </a:lnTo>
                <a:lnTo>
                  <a:pt x="178" y="145"/>
                </a:lnTo>
                <a:lnTo>
                  <a:pt x="177" y="145"/>
                </a:lnTo>
                <a:lnTo>
                  <a:pt x="177" y="143"/>
                </a:lnTo>
                <a:lnTo>
                  <a:pt x="177" y="142"/>
                </a:lnTo>
                <a:lnTo>
                  <a:pt x="177" y="142"/>
                </a:lnTo>
                <a:close/>
                <a:moveTo>
                  <a:pt x="197" y="132"/>
                </a:moveTo>
                <a:lnTo>
                  <a:pt x="197" y="132"/>
                </a:lnTo>
                <a:lnTo>
                  <a:pt x="197" y="132"/>
                </a:lnTo>
                <a:lnTo>
                  <a:pt x="199" y="132"/>
                </a:lnTo>
                <a:lnTo>
                  <a:pt x="200" y="132"/>
                </a:lnTo>
                <a:lnTo>
                  <a:pt x="200" y="134"/>
                </a:lnTo>
                <a:lnTo>
                  <a:pt x="200" y="134"/>
                </a:lnTo>
                <a:lnTo>
                  <a:pt x="199" y="136"/>
                </a:lnTo>
                <a:lnTo>
                  <a:pt x="199" y="136"/>
                </a:lnTo>
                <a:lnTo>
                  <a:pt x="199" y="136"/>
                </a:lnTo>
                <a:lnTo>
                  <a:pt x="197" y="136"/>
                </a:lnTo>
                <a:lnTo>
                  <a:pt x="196" y="135"/>
                </a:lnTo>
                <a:lnTo>
                  <a:pt x="196" y="134"/>
                </a:lnTo>
                <a:lnTo>
                  <a:pt x="196" y="134"/>
                </a:lnTo>
                <a:lnTo>
                  <a:pt x="197" y="132"/>
                </a:lnTo>
                <a:lnTo>
                  <a:pt x="197" y="132"/>
                </a:lnTo>
                <a:close/>
                <a:moveTo>
                  <a:pt x="216" y="123"/>
                </a:moveTo>
                <a:lnTo>
                  <a:pt x="216" y="123"/>
                </a:lnTo>
                <a:lnTo>
                  <a:pt x="218" y="123"/>
                </a:lnTo>
                <a:lnTo>
                  <a:pt x="218" y="123"/>
                </a:lnTo>
                <a:lnTo>
                  <a:pt x="219" y="123"/>
                </a:lnTo>
                <a:lnTo>
                  <a:pt x="220" y="124"/>
                </a:lnTo>
                <a:lnTo>
                  <a:pt x="219" y="124"/>
                </a:lnTo>
                <a:lnTo>
                  <a:pt x="219" y="127"/>
                </a:lnTo>
                <a:lnTo>
                  <a:pt x="219" y="127"/>
                </a:lnTo>
                <a:lnTo>
                  <a:pt x="218" y="127"/>
                </a:lnTo>
                <a:lnTo>
                  <a:pt x="218" y="127"/>
                </a:lnTo>
                <a:lnTo>
                  <a:pt x="216" y="126"/>
                </a:lnTo>
                <a:lnTo>
                  <a:pt x="215" y="124"/>
                </a:lnTo>
                <a:lnTo>
                  <a:pt x="215" y="124"/>
                </a:lnTo>
                <a:lnTo>
                  <a:pt x="216" y="123"/>
                </a:lnTo>
                <a:lnTo>
                  <a:pt x="216" y="123"/>
                </a:lnTo>
                <a:close/>
                <a:moveTo>
                  <a:pt x="237" y="113"/>
                </a:moveTo>
                <a:lnTo>
                  <a:pt x="237" y="113"/>
                </a:lnTo>
                <a:lnTo>
                  <a:pt x="238" y="113"/>
                </a:lnTo>
                <a:lnTo>
                  <a:pt x="238" y="113"/>
                </a:lnTo>
                <a:lnTo>
                  <a:pt x="239" y="115"/>
                </a:lnTo>
                <a:lnTo>
                  <a:pt x="239" y="115"/>
                </a:lnTo>
                <a:lnTo>
                  <a:pt x="239" y="116"/>
                </a:lnTo>
                <a:lnTo>
                  <a:pt x="238" y="117"/>
                </a:lnTo>
                <a:lnTo>
                  <a:pt x="238" y="117"/>
                </a:lnTo>
                <a:lnTo>
                  <a:pt x="237" y="117"/>
                </a:lnTo>
                <a:lnTo>
                  <a:pt x="237" y="117"/>
                </a:lnTo>
                <a:lnTo>
                  <a:pt x="235" y="116"/>
                </a:lnTo>
                <a:lnTo>
                  <a:pt x="235" y="115"/>
                </a:lnTo>
                <a:lnTo>
                  <a:pt x="237" y="113"/>
                </a:lnTo>
                <a:lnTo>
                  <a:pt x="237" y="113"/>
                </a:lnTo>
                <a:close/>
                <a:moveTo>
                  <a:pt x="256" y="104"/>
                </a:moveTo>
                <a:lnTo>
                  <a:pt x="256" y="104"/>
                </a:lnTo>
                <a:lnTo>
                  <a:pt x="256" y="104"/>
                </a:lnTo>
                <a:lnTo>
                  <a:pt x="257" y="104"/>
                </a:lnTo>
                <a:lnTo>
                  <a:pt x="258" y="105"/>
                </a:lnTo>
                <a:lnTo>
                  <a:pt x="258" y="105"/>
                </a:lnTo>
                <a:lnTo>
                  <a:pt x="258" y="106"/>
                </a:lnTo>
                <a:lnTo>
                  <a:pt x="258" y="108"/>
                </a:lnTo>
                <a:lnTo>
                  <a:pt x="258" y="108"/>
                </a:lnTo>
                <a:lnTo>
                  <a:pt x="256" y="108"/>
                </a:lnTo>
                <a:lnTo>
                  <a:pt x="254" y="106"/>
                </a:lnTo>
                <a:lnTo>
                  <a:pt x="254" y="105"/>
                </a:lnTo>
                <a:lnTo>
                  <a:pt x="254" y="105"/>
                </a:lnTo>
                <a:lnTo>
                  <a:pt x="254" y="104"/>
                </a:lnTo>
                <a:lnTo>
                  <a:pt x="256" y="104"/>
                </a:lnTo>
                <a:lnTo>
                  <a:pt x="256" y="104"/>
                </a:lnTo>
                <a:close/>
                <a:moveTo>
                  <a:pt x="275" y="94"/>
                </a:moveTo>
                <a:lnTo>
                  <a:pt x="275" y="94"/>
                </a:lnTo>
                <a:lnTo>
                  <a:pt x="276" y="94"/>
                </a:lnTo>
                <a:lnTo>
                  <a:pt x="276" y="94"/>
                </a:lnTo>
                <a:lnTo>
                  <a:pt x="279" y="96"/>
                </a:lnTo>
                <a:lnTo>
                  <a:pt x="279" y="96"/>
                </a:lnTo>
                <a:lnTo>
                  <a:pt x="279" y="97"/>
                </a:lnTo>
                <a:lnTo>
                  <a:pt x="277" y="98"/>
                </a:lnTo>
                <a:lnTo>
                  <a:pt x="277" y="98"/>
                </a:lnTo>
                <a:lnTo>
                  <a:pt x="276" y="98"/>
                </a:lnTo>
                <a:lnTo>
                  <a:pt x="276" y="98"/>
                </a:lnTo>
                <a:lnTo>
                  <a:pt x="275" y="97"/>
                </a:lnTo>
                <a:lnTo>
                  <a:pt x="275" y="97"/>
                </a:lnTo>
                <a:lnTo>
                  <a:pt x="275" y="96"/>
                </a:lnTo>
                <a:lnTo>
                  <a:pt x="275" y="94"/>
                </a:lnTo>
                <a:lnTo>
                  <a:pt x="275" y="94"/>
                </a:lnTo>
                <a:close/>
                <a:moveTo>
                  <a:pt x="295" y="85"/>
                </a:moveTo>
                <a:lnTo>
                  <a:pt x="295" y="85"/>
                </a:lnTo>
                <a:lnTo>
                  <a:pt x="295" y="85"/>
                </a:lnTo>
                <a:lnTo>
                  <a:pt x="296" y="85"/>
                </a:lnTo>
                <a:lnTo>
                  <a:pt x="298" y="86"/>
                </a:lnTo>
                <a:lnTo>
                  <a:pt x="298" y="87"/>
                </a:lnTo>
                <a:lnTo>
                  <a:pt x="296" y="89"/>
                </a:lnTo>
                <a:lnTo>
                  <a:pt x="296" y="89"/>
                </a:lnTo>
                <a:lnTo>
                  <a:pt x="296" y="89"/>
                </a:lnTo>
                <a:lnTo>
                  <a:pt x="295" y="89"/>
                </a:lnTo>
                <a:lnTo>
                  <a:pt x="295" y="89"/>
                </a:lnTo>
                <a:lnTo>
                  <a:pt x="294" y="87"/>
                </a:lnTo>
                <a:lnTo>
                  <a:pt x="294" y="87"/>
                </a:lnTo>
                <a:lnTo>
                  <a:pt x="294" y="86"/>
                </a:lnTo>
                <a:lnTo>
                  <a:pt x="295" y="85"/>
                </a:lnTo>
                <a:lnTo>
                  <a:pt x="295" y="85"/>
                </a:lnTo>
                <a:close/>
                <a:moveTo>
                  <a:pt x="314" y="75"/>
                </a:moveTo>
                <a:lnTo>
                  <a:pt x="314" y="75"/>
                </a:lnTo>
                <a:lnTo>
                  <a:pt x="315" y="75"/>
                </a:lnTo>
                <a:lnTo>
                  <a:pt x="315" y="75"/>
                </a:lnTo>
                <a:lnTo>
                  <a:pt x="317" y="77"/>
                </a:lnTo>
                <a:lnTo>
                  <a:pt x="318" y="77"/>
                </a:lnTo>
                <a:lnTo>
                  <a:pt x="317" y="78"/>
                </a:lnTo>
                <a:lnTo>
                  <a:pt x="317" y="78"/>
                </a:lnTo>
                <a:lnTo>
                  <a:pt x="317" y="79"/>
                </a:lnTo>
                <a:lnTo>
                  <a:pt x="317" y="79"/>
                </a:lnTo>
                <a:lnTo>
                  <a:pt x="315" y="79"/>
                </a:lnTo>
                <a:lnTo>
                  <a:pt x="314" y="78"/>
                </a:lnTo>
                <a:lnTo>
                  <a:pt x="313" y="78"/>
                </a:lnTo>
                <a:lnTo>
                  <a:pt x="313" y="77"/>
                </a:lnTo>
                <a:lnTo>
                  <a:pt x="314" y="77"/>
                </a:lnTo>
                <a:lnTo>
                  <a:pt x="314" y="75"/>
                </a:lnTo>
                <a:lnTo>
                  <a:pt x="314" y="75"/>
                </a:lnTo>
                <a:close/>
                <a:moveTo>
                  <a:pt x="335" y="66"/>
                </a:moveTo>
                <a:lnTo>
                  <a:pt x="335" y="66"/>
                </a:lnTo>
                <a:lnTo>
                  <a:pt x="335" y="66"/>
                </a:lnTo>
                <a:lnTo>
                  <a:pt x="336" y="66"/>
                </a:lnTo>
                <a:lnTo>
                  <a:pt x="337" y="67"/>
                </a:lnTo>
                <a:lnTo>
                  <a:pt x="337" y="67"/>
                </a:lnTo>
                <a:lnTo>
                  <a:pt x="337" y="68"/>
                </a:lnTo>
                <a:lnTo>
                  <a:pt x="336" y="70"/>
                </a:lnTo>
                <a:lnTo>
                  <a:pt x="336" y="70"/>
                </a:lnTo>
                <a:lnTo>
                  <a:pt x="336" y="70"/>
                </a:lnTo>
                <a:lnTo>
                  <a:pt x="335" y="70"/>
                </a:lnTo>
                <a:lnTo>
                  <a:pt x="333" y="70"/>
                </a:lnTo>
                <a:lnTo>
                  <a:pt x="333" y="68"/>
                </a:lnTo>
                <a:lnTo>
                  <a:pt x="333" y="67"/>
                </a:lnTo>
                <a:lnTo>
                  <a:pt x="335" y="66"/>
                </a:lnTo>
                <a:lnTo>
                  <a:pt x="335" y="66"/>
                </a:lnTo>
                <a:close/>
                <a:moveTo>
                  <a:pt x="354" y="56"/>
                </a:moveTo>
                <a:lnTo>
                  <a:pt x="354" y="56"/>
                </a:lnTo>
                <a:lnTo>
                  <a:pt x="355" y="56"/>
                </a:lnTo>
                <a:lnTo>
                  <a:pt x="355" y="56"/>
                </a:lnTo>
                <a:lnTo>
                  <a:pt x="356" y="58"/>
                </a:lnTo>
                <a:lnTo>
                  <a:pt x="358" y="58"/>
                </a:lnTo>
                <a:lnTo>
                  <a:pt x="356" y="59"/>
                </a:lnTo>
                <a:lnTo>
                  <a:pt x="356" y="60"/>
                </a:lnTo>
                <a:lnTo>
                  <a:pt x="356" y="60"/>
                </a:lnTo>
                <a:lnTo>
                  <a:pt x="355" y="60"/>
                </a:lnTo>
                <a:lnTo>
                  <a:pt x="354" y="60"/>
                </a:lnTo>
                <a:lnTo>
                  <a:pt x="354" y="60"/>
                </a:lnTo>
                <a:lnTo>
                  <a:pt x="352" y="59"/>
                </a:lnTo>
                <a:lnTo>
                  <a:pt x="352" y="58"/>
                </a:lnTo>
                <a:lnTo>
                  <a:pt x="354" y="56"/>
                </a:lnTo>
                <a:lnTo>
                  <a:pt x="354" y="56"/>
                </a:lnTo>
                <a:close/>
                <a:moveTo>
                  <a:pt x="374" y="47"/>
                </a:moveTo>
                <a:lnTo>
                  <a:pt x="374" y="47"/>
                </a:lnTo>
                <a:lnTo>
                  <a:pt x="375" y="47"/>
                </a:lnTo>
                <a:lnTo>
                  <a:pt x="375" y="48"/>
                </a:lnTo>
                <a:lnTo>
                  <a:pt x="377" y="48"/>
                </a:lnTo>
                <a:lnTo>
                  <a:pt x="377" y="49"/>
                </a:lnTo>
                <a:lnTo>
                  <a:pt x="377" y="49"/>
                </a:lnTo>
                <a:lnTo>
                  <a:pt x="375" y="51"/>
                </a:lnTo>
                <a:lnTo>
                  <a:pt x="375" y="51"/>
                </a:lnTo>
                <a:lnTo>
                  <a:pt x="375" y="51"/>
                </a:lnTo>
                <a:lnTo>
                  <a:pt x="374" y="51"/>
                </a:lnTo>
                <a:lnTo>
                  <a:pt x="374" y="51"/>
                </a:lnTo>
                <a:lnTo>
                  <a:pt x="373" y="51"/>
                </a:lnTo>
                <a:lnTo>
                  <a:pt x="373" y="48"/>
                </a:lnTo>
                <a:lnTo>
                  <a:pt x="374" y="47"/>
                </a:lnTo>
                <a:lnTo>
                  <a:pt x="374" y="47"/>
                </a:lnTo>
                <a:close/>
                <a:moveTo>
                  <a:pt x="393" y="38"/>
                </a:moveTo>
                <a:lnTo>
                  <a:pt x="393" y="38"/>
                </a:lnTo>
                <a:lnTo>
                  <a:pt x="393" y="37"/>
                </a:lnTo>
                <a:lnTo>
                  <a:pt x="394" y="37"/>
                </a:lnTo>
                <a:lnTo>
                  <a:pt x="396" y="38"/>
                </a:lnTo>
                <a:lnTo>
                  <a:pt x="396" y="40"/>
                </a:lnTo>
                <a:lnTo>
                  <a:pt x="396" y="40"/>
                </a:lnTo>
                <a:lnTo>
                  <a:pt x="396" y="41"/>
                </a:lnTo>
                <a:lnTo>
                  <a:pt x="396" y="41"/>
                </a:lnTo>
                <a:lnTo>
                  <a:pt x="394" y="43"/>
                </a:lnTo>
                <a:lnTo>
                  <a:pt x="393" y="41"/>
                </a:lnTo>
                <a:lnTo>
                  <a:pt x="392" y="41"/>
                </a:lnTo>
                <a:lnTo>
                  <a:pt x="392" y="40"/>
                </a:lnTo>
                <a:lnTo>
                  <a:pt x="392" y="38"/>
                </a:lnTo>
                <a:lnTo>
                  <a:pt x="393" y="38"/>
                </a:lnTo>
                <a:lnTo>
                  <a:pt x="393" y="38"/>
                </a:lnTo>
                <a:close/>
                <a:moveTo>
                  <a:pt x="412" y="29"/>
                </a:moveTo>
                <a:lnTo>
                  <a:pt x="412" y="29"/>
                </a:lnTo>
                <a:lnTo>
                  <a:pt x="413" y="28"/>
                </a:lnTo>
                <a:lnTo>
                  <a:pt x="413" y="28"/>
                </a:lnTo>
                <a:lnTo>
                  <a:pt x="416" y="29"/>
                </a:lnTo>
                <a:lnTo>
                  <a:pt x="416" y="30"/>
                </a:lnTo>
                <a:lnTo>
                  <a:pt x="416" y="30"/>
                </a:lnTo>
                <a:lnTo>
                  <a:pt x="415" y="32"/>
                </a:lnTo>
                <a:lnTo>
                  <a:pt x="415" y="32"/>
                </a:lnTo>
                <a:lnTo>
                  <a:pt x="413" y="33"/>
                </a:lnTo>
                <a:lnTo>
                  <a:pt x="413" y="32"/>
                </a:lnTo>
                <a:lnTo>
                  <a:pt x="412" y="32"/>
                </a:lnTo>
                <a:lnTo>
                  <a:pt x="412" y="30"/>
                </a:lnTo>
                <a:lnTo>
                  <a:pt x="412" y="30"/>
                </a:lnTo>
                <a:lnTo>
                  <a:pt x="412" y="29"/>
                </a:lnTo>
                <a:lnTo>
                  <a:pt x="412" y="29"/>
                </a:lnTo>
                <a:close/>
                <a:moveTo>
                  <a:pt x="432" y="19"/>
                </a:moveTo>
                <a:lnTo>
                  <a:pt x="432" y="19"/>
                </a:lnTo>
                <a:lnTo>
                  <a:pt x="434" y="18"/>
                </a:lnTo>
                <a:lnTo>
                  <a:pt x="435" y="19"/>
                </a:lnTo>
                <a:lnTo>
                  <a:pt x="435" y="19"/>
                </a:lnTo>
                <a:lnTo>
                  <a:pt x="435" y="21"/>
                </a:lnTo>
                <a:lnTo>
                  <a:pt x="434" y="22"/>
                </a:lnTo>
                <a:lnTo>
                  <a:pt x="434" y="22"/>
                </a:lnTo>
                <a:lnTo>
                  <a:pt x="434" y="24"/>
                </a:lnTo>
                <a:lnTo>
                  <a:pt x="432" y="22"/>
                </a:lnTo>
                <a:lnTo>
                  <a:pt x="432" y="22"/>
                </a:lnTo>
                <a:lnTo>
                  <a:pt x="431" y="22"/>
                </a:lnTo>
                <a:lnTo>
                  <a:pt x="431" y="21"/>
                </a:lnTo>
                <a:lnTo>
                  <a:pt x="431" y="21"/>
                </a:lnTo>
                <a:lnTo>
                  <a:pt x="432" y="19"/>
                </a:lnTo>
                <a:lnTo>
                  <a:pt x="432" y="19"/>
                </a:lnTo>
                <a:close/>
                <a:moveTo>
                  <a:pt x="451" y="10"/>
                </a:moveTo>
                <a:lnTo>
                  <a:pt x="451" y="10"/>
                </a:lnTo>
                <a:lnTo>
                  <a:pt x="453" y="10"/>
                </a:lnTo>
                <a:lnTo>
                  <a:pt x="453" y="10"/>
                </a:lnTo>
                <a:lnTo>
                  <a:pt x="454" y="10"/>
                </a:lnTo>
                <a:lnTo>
                  <a:pt x="456" y="11"/>
                </a:lnTo>
                <a:lnTo>
                  <a:pt x="454" y="11"/>
                </a:lnTo>
                <a:lnTo>
                  <a:pt x="454" y="14"/>
                </a:lnTo>
                <a:lnTo>
                  <a:pt x="454" y="14"/>
                </a:lnTo>
                <a:lnTo>
                  <a:pt x="453" y="14"/>
                </a:lnTo>
                <a:lnTo>
                  <a:pt x="451" y="13"/>
                </a:lnTo>
                <a:lnTo>
                  <a:pt x="450" y="11"/>
                </a:lnTo>
                <a:lnTo>
                  <a:pt x="450" y="11"/>
                </a:lnTo>
                <a:lnTo>
                  <a:pt x="451" y="10"/>
                </a:lnTo>
                <a:lnTo>
                  <a:pt x="451" y="10"/>
                </a:lnTo>
                <a:lnTo>
                  <a:pt x="451" y="10"/>
                </a:lnTo>
                <a:close/>
                <a:moveTo>
                  <a:pt x="472" y="0"/>
                </a:moveTo>
                <a:lnTo>
                  <a:pt x="472" y="0"/>
                </a:lnTo>
                <a:lnTo>
                  <a:pt x="472" y="0"/>
                </a:lnTo>
                <a:lnTo>
                  <a:pt x="473" y="0"/>
                </a:lnTo>
                <a:lnTo>
                  <a:pt x="475" y="0"/>
                </a:lnTo>
                <a:lnTo>
                  <a:pt x="475" y="2"/>
                </a:lnTo>
                <a:lnTo>
                  <a:pt x="475" y="2"/>
                </a:lnTo>
                <a:lnTo>
                  <a:pt x="473" y="4"/>
                </a:lnTo>
                <a:lnTo>
                  <a:pt x="473" y="4"/>
                </a:lnTo>
                <a:lnTo>
                  <a:pt x="473" y="4"/>
                </a:lnTo>
                <a:lnTo>
                  <a:pt x="472" y="4"/>
                </a:lnTo>
                <a:lnTo>
                  <a:pt x="471" y="3"/>
                </a:lnTo>
                <a:lnTo>
                  <a:pt x="471" y="2"/>
                </a:lnTo>
                <a:lnTo>
                  <a:pt x="471" y="2"/>
                </a:lnTo>
                <a:lnTo>
                  <a:pt x="472" y="0"/>
                </a:lnTo>
                <a:lnTo>
                  <a:pt x="47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72360" y="5851440"/>
            <a:ext cx="60120" cy="60480"/>
          </a:xfrm>
          <a:custGeom>
            <a:avLst/>
            <a:gdLst/>
            <a:ahLst/>
            <a:rect l="l" t="t" r="r" b="b"/>
            <a:pathLst>
              <a:path w="74" h="75">
                <a:moveTo>
                  <a:pt x="2" y="53"/>
                </a:moveTo>
                <a:lnTo>
                  <a:pt x="1" y="50"/>
                </a:lnTo>
                <a:lnTo>
                  <a:pt x="0" y="46"/>
                </a:lnTo>
                <a:lnTo>
                  <a:pt x="0" y="42"/>
                </a:lnTo>
                <a:lnTo>
                  <a:pt x="0" y="39"/>
                </a:lnTo>
                <a:lnTo>
                  <a:pt x="0" y="35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9" y="12"/>
                </a:lnTo>
                <a:lnTo>
                  <a:pt x="13" y="7"/>
                </a:lnTo>
                <a:lnTo>
                  <a:pt x="20" y="4"/>
                </a:lnTo>
                <a:lnTo>
                  <a:pt x="24" y="1"/>
                </a:lnTo>
                <a:lnTo>
                  <a:pt x="28" y="1"/>
                </a:lnTo>
                <a:lnTo>
                  <a:pt x="31" y="0"/>
                </a:lnTo>
                <a:lnTo>
                  <a:pt x="35" y="0"/>
                </a:lnTo>
                <a:lnTo>
                  <a:pt x="39" y="0"/>
                </a:lnTo>
                <a:lnTo>
                  <a:pt x="42" y="0"/>
                </a:lnTo>
                <a:lnTo>
                  <a:pt x="46" y="0"/>
                </a:lnTo>
                <a:lnTo>
                  <a:pt x="49" y="1"/>
                </a:lnTo>
                <a:lnTo>
                  <a:pt x="55" y="4"/>
                </a:lnTo>
                <a:lnTo>
                  <a:pt x="61" y="10"/>
                </a:lnTo>
                <a:lnTo>
                  <a:pt x="66" y="14"/>
                </a:lnTo>
                <a:lnTo>
                  <a:pt x="70" y="20"/>
                </a:lnTo>
                <a:lnTo>
                  <a:pt x="70" y="20"/>
                </a:lnTo>
                <a:lnTo>
                  <a:pt x="72" y="24"/>
                </a:lnTo>
                <a:lnTo>
                  <a:pt x="73" y="29"/>
                </a:lnTo>
                <a:lnTo>
                  <a:pt x="73" y="31"/>
                </a:lnTo>
                <a:lnTo>
                  <a:pt x="74" y="35"/>
                </a:lnTo>
                <a:lnTo>
                  <a:pt x="74" y="39"/>
                </a:lnTo>
                <a:lnTo>
                  <a:pt x="73" y="42"/>
                </a:lnTo>
                <a:lnTo>
                  <a:pt x="72" y="49"/>
                </a:lnTo>
                <a:lnTo>
                  <a:pt x="69" y="56"/>
                </a:lnTo>
                <a:lnTo>
                  <a:pt x="65" y="63"/>
                </a:lnTo>
                <a:lnTo>
                  <a:pt x="59" y="67"/>
                </a:lnTo>
                <a:lnTo>
                  <a:pt x="53" y="71"/>
                </a:lnTo>
                <a:lnTo>
                  <a:pt x="49" y="72"/>
                </a:lnTo>
                <a:lnTo>
                  <a:pt x="46" y="73"/>
                </a:lnTo>
                <a:lnTo>
                  <a:pt x="42" y="75"/>
                </a:lnTo>
                <a:lnTo>
                  <a:pt x="38" y="75"/>
                </a:lnTo>
                <a:lnTo>
                  <a:pt x="35" y="75"/>
                </a:lnTo>
                <a:lnTo>
                  <a:pt x="31" y="75"/>
                </a:lnTo>
                <a:lnTo>
                  <a:pt x="24" y="72"/>
                </a:lnTo>
                <a:lnTo>
                  <a:pt x="17" y="69"/>
                </a:lnTo>
                <a:lnTo>
                  <a:pt x="12" y="65"/>
                </a:lnTo>
                <a:lnTo>
                  <a:pt x="6" y="60"/>
                </a:lnTo>
                <a:lnTo>
                  <a:pt x="2" y="5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899-0881-4D65-BF74-DB2C773188A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uild-Feedback-Adapt Cyc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In complex changing systems,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dback and adap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key ingredients for succes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from early development, programmers trying to read specifications, and client dem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fine the requiremen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from tests and develop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fine the design and model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from the progress of the team tackling early featu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fine the schedule and estimat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from the client and marketplace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-prioritize the featur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tackle in the next iter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CE6-A3CC-454E-A070-B9F992A388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enefits to Iterative Develop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Less project failure, better productivity, and lower defect r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Early rather than late mitigation of high r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arly visible prog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arly feedback, user engagement, and adap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Managed complexity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cc00cc"/>
                </a:solidFill>
                <a:latin typeface="Comic Sans MS"/>
              </a:rPr>
              <a:t>the team is not overwhelmed by “analysis paralysis” or very long and complex ste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The learning within an iteration can be methodically used to improve the development process itself, iteration by iter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3ED-E79B-4B59-9535-E2352D12CE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Unified Process (UP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 “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People are more important than any process. Good people with a good   process will outperform good people with no process any time.”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Grady Booc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oftware development proc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scribes an approach to building, deploying, and possibly maintaining softwar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emerged as a popular and effective iterative software development process for building OO syste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articular,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ational Unified Proc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s modified at Rational Software, is widely practiced and adopted by indust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CB7-2288-4008-BDF9-2C830E7027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ified Process (UP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urages a combination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k-driv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ent-driv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terative plan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oals of the early iterations are chosen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y and drive down the highest risk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es the practice of architecture-centric iterative development - Early iterations focus on building, testing, and stabilizing the core architectur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ckles the difficult things fir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 visible features that the client cares most abou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86D-6957-4269-990A-6D73ADE9D4E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 of U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P puts an emphasis on addressing very early high risks are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does not assume a fixed set of firm requirements at the inception of the project, but allows to refine the requirements as the project evolv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does not put either a strong focus on documents or ‘ceremonie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ain focus remains the software product itself, and its quali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08C-DF6C-4A91-9FF6-66A5A6C6FE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6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Schedule-oriented terms in th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28560" y="1098720"/>
          <a:ext cx="7848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098720"/>
                    <a:ext cx="7848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580-D65C-4408-B8BA-40A7E296B2A2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ile Methods and Attitud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ile development methods usual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imeboxed iterative and evolutionary development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ploy adaptive planning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mote incremental deliver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include other values and practices that encourage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ag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rapid and flexible response to chan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90B-ADD7-4C46-AF3B-B3B28E7112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sting Agile Metho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ional Unified Process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(RU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reme Programming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(X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 Driven Development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(FD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r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n source software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ystal Family of Methodolog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ynamic Systems Development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aptive software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ile Mode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gmatic Programm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835-BEED-4592-A8CB-63B947721C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aly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s 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vestig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he problem and requirements, rather than a solu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oftware development, we are primarily concerned with two forms of analy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quirements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discovering the requirements that a system must meet in order to be successfu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Object-Oriented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investigating the objects in a domain to discover information important to meet the requireme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E09-49CD-4733-B47C-1210C24574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Agile Manifest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2001 a group interested in iterative and agile methods met to find common ground. Out of this came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gile Allia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a manifesto and statement of principles to capture the spirit of agile method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viduals and interactions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cesses and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software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prehensive documen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collaboration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ract negot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ding to change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llowing a 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C30-70D4-4E70-B1E7-6CB1266A08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Agile Princip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Our highest priority is to satisfy the customer through early and continuous delivery of valuable soft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Welcome changing requirements, even late in development. Agile processes harness change for the customer’s competitive advanta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iver working software frequently, from a couple of weeks to a couple of months, with a preference to the shorter time sc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iness people and developers must work together daily throughout the projec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Build projects around motivated individuals. Give them the environment and support they need, and trust them to get the job d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The most efficient and effective method of conveying info to and within a development team is face-to-face convers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BB5-D97E-4D72-84BA-79B8E46D78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Agile Princip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software is the primary measure of progr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ile processes promote sustainable develop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c00cc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The sponsors, developers, and users should be able to maintain a constant pace indefinite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c00cc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ontinuous attention to technical excellence and good design enhances agili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implic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art of maximizing the amount of work NOT done – is essenti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est architectures, requirements, and designs emerge from self-organizing tea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c00cc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At regular intervals, the team reflects on how to become more effective, then tunes and adjusts its behavior according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540-EA16-4710-928A-67E6253BEF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ile Model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urpose of modeling (sketching UML, …) is primarily t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underst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not to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very act of modeling can and should provide a way to better understand the problem or solution spa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this viewpoint,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rpose of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“doing UM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r OOA/D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”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not for a designer to create many detailed UML diagrams that are handed off to a programme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rather to quickly explore alternatives (more quickly than with code) and the path to a good OO desig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A95-BF5E-41E6-802B-F4EFF2CB3DB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ile Modeling Principles and Values (Ambler, 200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opting an agile method does not mean avoiding any model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The purpose of modeling and models is primarily to support understanding  and communication, not documen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model or apply the UML to all or most of the software design. Apply UML for the smaller percentage of unusual, difficult, tricky parts of design spa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Use the simples</a:t>
            </a: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 tool possible. </a:t>
            </a: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Prefer</a:t>
            </a: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”</a:t>
            </a: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 sketching UML on whiteboards, and capturing the diagrams with a digital camer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Don’t model alone, mode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airs (or triads) at the whiteboard, in the awareness that the purpose is to discover, understand, and share that understand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23D-9353-4779-A53A-57965A658C1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ile Modeling Principles and Valu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models in parallel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: Dynamic-view vs. static vie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Use </a:t>
            </a: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“good enough” </a:t>
            </a: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simple notation while sketching with a pen on whiteboards.  Exact UML details aren’t importa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 that all models will be inaccurate, and the final code or design different – than the model. Only tested code demonstrates the true desig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Developers themselves should do the OO design modeling, for themselv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76A-2C9C-48D5-A581-3A43B8160A5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162080" y="1085760"/>
            <a:ext cx="6781680" cy="50738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5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A UML sketch of a sequence diagram from 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A70-22BD-4C47-9228-E040885EEAB0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Agile U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Prefer a small set of UP activities and artifac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Requirements and designs are not completed before implementation. They adaptively emerge through a series of iterations, based on feedbac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Apply the UML with agile modeling princip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There isn’t a detailed plan for the entire projec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high-level plan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(called the </a:t>
            </a:r>
            <a:r>
              <a:rPr b="0" lang="tr-TR" sz="1800" spc="-1" strike="noStrike">
                <a:solidFill>
                  <a:srgbClr val="ff0000"/>
                </a:solidFill>
                <a:latin typeface="Comic Sans MS"/>
              </a:rPr>
              <a:t>Phase Plan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) that estimates the project end date and other major milestones, but it does not detail the fine-grained steps to those milestone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detailed plan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(called the </a:t>
            </a:r>
            <a:r>
              <a:rPr b="0" lang="tr-TR" sz="1800" spc="-1" strike="noStrike">
                <a:solidFill>
                  <a:srgbClr val="ff0000"/>
                </a:solidFill>
                <a:latin typeface="Comic Sans MS"/>
              </a:rPr>
              <a:t>Iteration Plan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) only plans with greater detail one iteration in advance. Detailed planning is done adaptively from iteration to iter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8BB-5746-44B6-9426-24F6592FB2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st Practi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Get high risk and high value fir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onstant user feedback and eng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rly cohesive core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 early, often, and realistic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Apply use cases where 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Do some visual modeling with U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 requirements and scope cree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 change requests and config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678-6903-40BC-9B4E-DAB6C61DE3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 Phas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n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eption is not a requirements phase; rather a feasibility phase, where just enough investigation is done to support a decision to continue or sto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fe-cycle objectives of the project are stated, so that the needs of every stakeholder  are considered. Scope and boundary conditions, acceptance criteria and some requirements are establishe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roximate vision, business case, scope, vague estimat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Elabo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nalysis is done to determine the risks, stability of vision of what the product is to become, stability of architecture and expenditure of resources. 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fined vision, iterative implementation of core architecture, resolution of high risks, identification of most requirements and scope, more realistic estimates.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38A-DF93-4434-9F38-BBD7DCA1EB5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 Cas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Use Cases is not a specifically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artifact – they are simply written stor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However, they are 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practice for elaborating and understanding requiremen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D46-A94F-4C7B-AF2A-10BF99F100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 Phas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onstruction phase is a  manufacturing process. It emphasizes managing resources and controlling operations to optimize costs, schedules and quality. This phase is broken into several itera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erative implementation of the remaining lower risk and easier elements, and preparation for deploy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ransition phase is the phase where the product is put in the hands of its end users. It involves issues of marketing, packaging, installing, configuring, supporting the user-community, making correction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a tests, deploy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4BA-4F4E-474B-B5E7-25FCAAE15B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7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UP discip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1049400"/>
          <a:ext cx="9144000" cy="57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9400"/>
                    <a:ext cx="914400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D7F-BE4A-499E-B6B9-2D6395FE7603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7BF-05AF-407E-9548-0F10EE56B588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siness Modeling Discip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urpose of this discipline is to model the business context and the scope of your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done usually in Inception and Elaboration ph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ities include the development of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context model showing how the system fits into its overall environm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high-level business requirements model eg. use case mod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domain model e.g. class diagram or data diagram depicting major business classes or entiti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business process mod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7E1-0552-4ABC-8475-2A1C13588F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1523880" y="762120"/>
          <a:ext cx="6172200" cy="60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617220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2438280" y="228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4A7-9245-4752-B509-A38AF11AFA00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quirements Discip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urpose of this discipline is to engineer the requirements for the project, including their identification, modeling, and documentation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in deliverable of this discipline is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ftware Requirements Specif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RS), also referred to as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quirements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hich encompasses the captured requir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4B8-AB02-4C0C-B342-B029083A98F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4" name=""/>
          <p:cNvGraphicFramePr/>
          <p:nvPr/>
        </p:nvGraphicFramePr>
        <p:xfrm>
          <a:off x="2438280" y="838080"/>
          <a:ext cx="43624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838080"/>
                    <a:ext cx="43624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"/>
          <p:cNvSpPr/>
          <p:nvPr/>
        </p:nvSpPr>
        <p:spPr>
          <a:xfrm>
            <a:off x="3124080" y="30492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2B8-A849-4754-A5A8-44C10E6B25C0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ysis &amp; Design Discip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urpose of this discipline is to evolve a robust architecture for the system based on the requirements, to transform the requirements into a design, and to ensure that implementation environment issues are reflected in the design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972-4031-42B6-A73F-8E91CAD3214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2666880" y="614520"/>
          <a:ext cx="3810240" cy="56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614520"/>
                    <a:ext cx="3810240" cy="56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2895480" y="228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 and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CBB-5D11-4643-890B-CEA739C3583C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vironment Discip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urpose of this discipline is to support development work. Practically all the work in this workflow are done in Inception ph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ctivities incl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 implementing and configuring UP , selecting and acquiring required tools, developing in-house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providing software and hardware maintenance and trai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980-782C-4DA0-8D73-92E7A08E7E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mphasize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ceptual sol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fulfills the requirements, rather than its implementation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ideas often exclude low-level or obvious details – obvious to the intended consum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subsets of design, includ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chitectural desig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 desig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base desig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B63-E2BE-4B76-9528-4344C556F0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352680" y="228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2895480" y="762120"/>
          <a:ext cx="35877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762120"/>
                    <a:ext cx="35877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FD6-4A3E-4E40-8E95-B802653C9BA0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2133720" y="609480"/>
          <a:ext cx="527976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609480"/>
                    <a:ext cx="5279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2666880" y="228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47C-9407-4A02-A95E-E0E742A451B9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0" name=""/>
          <p:cNvGraphicFramePr/>
          <p:nvPr/>
        </p:nvGraphicFramePr>
        <p:xfrm>
          <a:off x="2905200" y="533520"/>
          <a:ext cx="33336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0" y="533520"/>
                    <a:ext cx="33336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36576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5CC-F345-46EB-AAF8-EBE61920B9BC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8580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Chapt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SE 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introduce the chosen case studies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1905120"/>
            <a:ext cx="6477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Few things are harder to put up with than a good example</a:t>
            </a: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.” </a:t>
            </a:r>
            <a:br>
              <a:rPr sz="1600"/>
            </a:b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Mark Tw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4B1-FECC-465A-9140-CD6E61343D29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ngoing Case Stud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Case One:  The NextGen POS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oint of Sale (POS) System is a replacement for a cash register that adds many computer services to the traditional cash register. Most retail stores now use POS syste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Case Two: The Monopoly Gam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22C-396B-4469-AB34-555E6CC49DB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chitectural Lay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minor topi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 Logic and Domain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le and Payment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main topic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ical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 and Persistenc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secondary topic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9F1-13F1-418D-9943-6362BA655AC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3.1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Sample layers and objects in an o-o system, and the case stud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0" y="1143000"/>
          <a:ext cx="914400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7D1-0B47-4DA5-B02C-E910FB0B69BD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erative Learning/Develop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xt is organized in three iter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teration will deliver a product to the customer, with subsequent iterations adding features to the earlier 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teration will do analysis and design only on the features for the current release of the soft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457200" y="2971800"/>
          <a:ext cx="82756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2756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"/>
          <p:cNvSpPr/>
          <p:nvPr/>
        </p:nvSpPr>
        <p:spPr>
          <a:xfrm>
            <a:off x="609480" y="5638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9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Book organization is related to the UP phases and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514-E85A-4EAE-9D94-E6D0B846214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iented Analysis and Design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(OOA/D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O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 emphasis is on finding and describing the objects (or concepts) in the problem domain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, i.e.,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ain objects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During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OOD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(or simply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object design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),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emphasis is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ng software objects and how they collaborate to fulfill the requir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OOP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(O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sign objects are implemented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in a programming languag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is also known as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d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nstru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51F-6460-4CA0-8E80-875D436E32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1932120"/>
          <a:ext cx="9144000" cy="33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32120"/>
                    <a:ext cx="91440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.2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Object-orientation emphasizes representation of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4AB-5CC8-4E8E-9F08-C275A01B767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ponsibilit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y-Driven Desig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It is the classical OO design 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st important skill in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OA/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ssigning responsibilities to objec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at determines how objects interact and what classes should perform what oper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1 - Sept.11/18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7F8-3E94-4940-876D-752CEAE049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3:51:44Z</dcterms:created>
  <dc:creator>KIVANCD</dc:creator>
  <dc:description>RLSD 60911</dc:description>
  <dc:language>en-US</dc:language>
  <cp:lastModifiedBy>KIVANCD</cp:lastModifiedBy>
  <dcterms:modified xsi:type="dcterms:W3CDTF">2006-10-08T10:07:52Z</dcterms:modified>
  <cp:revision>17</cp:revision>
  <dc:subject/>
  <dc:title>Object Oriented Analysis and Design - Lecture 1</dc:title>
</cp:coreProperties>
</file>