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E63-96B1-4BEB-AB9C-EB620C11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7E1-1437-475F-BFDD-3FBBB7FF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BFF-93C4-40E8-B805-CFB64AAB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51B-F9F9-44F3-8AF9-6196D53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A24-50A0-470E-AD3C-5597DD81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0B0-5209-4D95-9CE1-A20F57C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46D-FB1B-41CA-891D-8301846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D0F-FA7F-40A5-A861-0BF89936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77C-6962-40D0-B91D-74A97B22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E10-5BDF-4002-BFA1-F867B8C1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3D6-5CAD-4227-B4C4-25EEADC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105-4BDF-4E7E-8302-0A56842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B86-B1BC-4AA3-91A1-3DC31EC812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JECT-ORIENTED ANALYSIS AND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OOA/D (Object-Oriented Analysis and Desig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llustrate a brief OOA/D examp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Overview UML and visual agile mode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Time is a great teacher, but unfortunately it kills all its pupils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Hector Berlio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Unified Modeling Language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L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he de fac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tandar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ming notatio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for drawing or presenting pictures related to OO soft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0000"/>
                </a:solidFill>
                <a:uFillTx/>
                <a:latin typeface="Comic Sans MS"/>
              </a:rPr>
              <a:t>UML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is a visual language for specifying, constructing and documenting the artifacts of OO syste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ing UML helps you communicate with others in creating softwar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6E2-1A7C-4A3B-ADDD-077DB83B06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hree ways people apply UML are 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ske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nformal and incomple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ams (often hand sketched on whiteboards) created to explore difficult parts of the problem or solution 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gile modeling emphasizes UML </a:t>
            </a:r>
            <a:r>
              <a:rPr b="0" i="1" lang="tr-TR" sz="1800" spc="-1" strike="noStrike">
                <a:solidFill>
                  <a:srgbClr val="000000"/>
                </a:solidFill>
                <a:latin typeface="Comic Sans MS"/>
              </a:rPr>
              <a:t>as sketch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bluepr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relatively detailed design diagrams used either for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reverse engineer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visualize and better understand existing code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or for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forward engineer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uide for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cod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ion, either manually or automatically with a t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a programming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executable specification of a sw system in UM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158-4A3A-4DCE-B2FE-8643EB3A50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hre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pective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apply UML are 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Conceptual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are interpreted as describing things in a situation of the real world or domain of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Specification (software)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describe sw abstractions or components with specifications and interfaces, but no commitment to a particular language implem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Implementation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describe sw implementations in a particular technolog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F50-67F0-49E1-9151-F39B1099DA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1566720"/>
          <a:ext cx="822960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66720"/>
                    <a:ext cx="822960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6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Different perspectives with U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actice, most software-oriented UML diagramming assumes an implementation perspective and the specification perspective is seldom used for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948-4F04-4827-9DF5-327326FF491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eaning of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n different persp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eptual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real-world concept or thing. A conceptual or essential perspectiv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P Domain Model contains conceptual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ftware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class representing a specification or implementation perspective of a sw development, regardless of the process or meth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mplementation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class implemented in a specific OO language such as Jav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EC0-D52E-4BEE-941C-14C6064C08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 Short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A/D steps of a small “Dice Game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Domain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Interaction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Design Class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Step 1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ine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Use Case: Play a Dice G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layer requests to roll the dice. System presents results. If the dice face value totals seven, player wins; otherwise, player lo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8EB-0BE0-4EC5-80CA-33358A22C7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649520"/>
          <a:ext cx="8229600" cy="38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9520"/>
                    <a:ext cx="8229600" cy="38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3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artial domain model (conceptual object model) of the dice g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60" y="13968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Step 2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ine a Domai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omain model shows the </a:t>
            </a:r>
            <a:r>
              <a:rPr b="0" i="1" lang="tr-TR" sz="1800" spc="-1" strike="noStrike">
                <a:solidFill>
                  <a:srgbClr val="000000"/>
                </a:solidFill>
                <a:latin typeface="Times New Roman"/>
              </a:rPr>
              <a:t>noteworthy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domain concepts as objects, their attributes, and associ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7FC-E7A9-4DF9-8125-7EE9EFBDA9F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3320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4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equence diagram illustrating messages between software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00" y="139680"/>
            <a:ext cx="89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Step 3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Object Responsibilities and Draw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action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sequence diagram (a kind of UML interaction diagram) shows the flow of messages between software objects and thus the invocation of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935-81EB-4254-8FFD-1D9E5113C6E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2347920"/>
          <a:ext cx="822960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7920"/>
                    <a:ext cx="82296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5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artial design class diagram (software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40" y="139680"/>
            <a:ext cx="48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Step 4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ine Design Class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static view of the class (including its attributes and methods) definitions is usefully shown with a UML class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457-DF82-4959-80A2-0B3C769D931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aly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s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roblem and requirements, rather than a solu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oftware development, we are primarily concerned with two forms of analy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quirements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discovering the requirements that a system must meet in order to be successfu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Object-Oriented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nvestigating the objects in a domain to discover information important to meet the requirem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E95-ACA8-4725-9D23-1AAC7F8928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 Ca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Use Cases is not a specifically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rtifact – they are simply written sto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owever, they are 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practice for elaborating and understanding requiremen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F54-4C0F-4A9B-A060-4B4A6FEA7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mphasiz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ceptual 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fulfills the requirements, rather than its implementation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ideas often exclude low-level or obvious details – obvious to the intended consum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subsets of design, includ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chitectural desig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desig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base desig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7EB-1824-46B4-812C-2AA622432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iented Analysis and Design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(OOA/D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O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emphasis is on finding and describing the objects (or concepts) in the problem domai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 i.e.,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ain objects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O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or simply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bject desig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,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emphasis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software objects and how they collaborate to fulfill the requir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OP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O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sign objects are implemente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in a programming langu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s also known as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395-DE5B-4946-9487-E60DDF4FAB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1932120"/>
          <a:ext cx="914400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2120"/>
                    <a:ext cx="91440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2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Object-orientation emphasizes representation of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770-B319-4A86-8245-589F45634B4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ponsibility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-Driven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t is the classical OO design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important skill in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A/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ssigning responsibilities to objec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determines how objects interact and what classes should perform what oper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9D6-04E9-41C0-93F5-2E7DE20032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ain tried-and-true solutions to design problems have been expressed as principles of best practice, often in the form of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sign Patter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named problem solution formula that apply excellent design princip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E79-20EB-4342-B830-FB5D19131A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Unified Process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ndardized approach to analysis and design helps to ensure that all necessary tasks are understood and completed in software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quirements analysis and OOA/D needs to be presented and practiced in the context of some development proce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Here, an </a:t>
            </a:r>
            <a:r>
              <a:rPr b="0" lang="tr-TR" sz="2000" spc="-1" strike="noStrike">
                <a:solidFill>
                  <a:srgbClr val="ff9900"/>
                </a:solidFill>
                <a:latin typeface="Comic Sans MS"/>
              </a:rPr>
              <a:t>agil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light, flexible) approach to well-known Unified Process (UP) is used as a sample iterative development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2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84B-FE44-4205-9685-94C2A87104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D</dc:creator>
  <dc:description>RLSD 60918 KD</dc:description>
  <dc:language>en-US</dc:language>
  <cp:lastModifiedBy>KIVANCD</cp:lastModifiedBy>
  <dcterms:modified xsi:type="dcterms:W3CDTF">2006-10-08T10:40:09Z</dcterms:modified>
  <cp:revision>21</cp:revision>
  <dc:subject/>
  <dc:title>Object Oriented Analysis and Design - Lecture 2</dc:title>
</cp:coreProperties>
</file>