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3.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09B52-10D4-412B-B546-53A04685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6A3FC-93DF-4FA6-8EE9-777EC690B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3AFCD-A686-4F95-BC8D-5F46D9CA4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CE246-C3E8-4ACD-AC5D-EDCA667B1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CB80B-9FF6-47DB-BAE2-A68CF7D9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9CF38-42AB-41F8-BCE0-C6FE9AD0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0573D-9A27-41C0-AD51-B9DB86EEF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5075-268A-451D-A626-8B2822C6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D001E-63E0-465C-B3FA-A1B55188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0E4E-46BC-4FBD-B2B7-7CB12E27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2074-9577-48F0-8974-B920DFF4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30B8-6412-4189-9467-F86D6CE6F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ick to edit the outline text format</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cond Outline Level</a:t>
            </a:r>
            <a:endParaRPr b="0" lang="en-US" sz="2200" spc="-1" strike="noStrike">
              <a:solidFill>
                <a:srgbClr val="000000"/>
              </a:solidFill>
              <a:latin typeface="Comic Sans MS"/>
            </a:endParaRPr>
          </a:p>
          <a:p>
            <a:pPr lvl="2" marL="11430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ird Outline Level</a:t>
            </a:r>
            <a:endParaRPr b="0" lang="en-US" sz="2200" spc="-1" strike="noStrike">
              <a:solidFill>
                <a:srgbClr val="000000"/>
              </a:solidFill>
              <a:latin typeface="Comic Sans MS"/>
            </a:endParaRPr>
          </a:p>
          <a:p>
            <a:pPr lvl="3" marL="16002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urth Outline Level</a:t>
            </a:r>
            <a:endParaRPr b="0" lang="en-US" sz="2200" spc="-1" strike="noStrike">
              <a:solidFill>
                <a:srgbClr val="000000"/>
              </a:solidFill>
              <a:latin typeface="Comic Sans MS"/>
            </a:endParaRPr>
          </a:p>
          <a:p>
            <a:pPr lvl="4"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fth Outline Level</a:t>
            </a:r>
            <a:endParaRPr b="0" lang="en-US" sz="2200" spc="-1" strike="noStrike">
              <a:solidFill>
                <a:srgbClr val="000000"/>
              </a:solidFill>
              <a:latin typeface="Comic Sans MS"/>
            </a:endParaRPr>
          </a:p>
          <a:p>
            <a:pPr lvl="5"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xth Outline Level</a:t>
            </a:r>
            <a:endParaRPr b="0" lang="en-US" sz="2200" spc="-1" strike="noStrike">
              <a:solidFill>
                <a:srgbClr val="000000"/>
              </a:solidFill>
              <a:latin typeface="Comic Sans MS"/>
            </a:endParaRPr>
          </a:p>
          <a:p>
            <a:pPr lvl="6" marL="2057400" indent="-2286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venth Outline Level</a:t>
            </a:r>
            <a:endParaRPr b="0" lang="en-US" sz="2200" spc="-1" strike="noStrike">
              <a:solidFill>
                <a:srgbClr val="000000"/>
              </a:solidFill>
              <a:latin typeface="Comic Sans MS"/>
            </a:endParaRPr>
          </a:p>
        </p:txBody>
      </p:sp>
      <p:sp>
        <p:nvSpPr>
          <p:cNvPr id="2" name="PlaceHolder 3"/>
          <p:cNvSpPr>
            <a:spLocks noGrp="1"/>
          </p:cNvSpPr>
          <p:nvPr>
            <p:ph type="dt" idx="1"/>
          </p:nvPr>
        </p:nvSpPr>
        <p:spPr>
          <a:xfrm>
            <a:off x="685800" y="6400440"/>
            <a:ext cx="23623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3720" y="6400440"/>
            <a:ext cx="3591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00440"/>
            <a:ext cx="23623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6BFE-C5B3-4336-B333-8FB6E0B80D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9</a:t>
            </a:r>
            <a:br>
              <a:rPr sz="2800"/>
            </a:br>
            <a:r>
              <a:rPr b="1" lang="tr-TR" sz="2800" spc="-1" strike="noStrike">
                <a:solidFill>
                  <a:srgbClr val="ff0000"/>
                </a:solidFill>
                <a:latin typeface="Tahoma"/>
              </a:rPr>
              <a:t>DOMAIN MODELS</a:t>
            </a:r>
            <a:endParaRPr b="0" lang="en-US" sz="2800" spc="-1" strike="noStrike">
              <a:solidFill>
                <a:srgbClr val="000000"/>
              </a:solidFill>
              <a:latin typeface="Times New Roman"/>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Identify conceptual classes related to the current iterat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Create an initial domain mode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Model appropriate attributes and associations</a:t>
            </a:r>
            <a:endParaRPr b="0" lang="en-US" sz="1800" spc="-1" strike="noStrike">
              <a:solidFill>
                <a:srgbClr val="000000"/>
              </a:solidFill>
              <a:latin typeface="Times New Roman"/>
            </a:endParaRPr>
          </a:p>
        </p:txBody>
      </p:sp>
      <p:sp>
        <p:nvSpPr>
          <p:cNvPr id="43"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a:t>
            </a:r>
            <a:r>
              <a:rPr b="1" i="1" lang="tr-TR" sz="1500" spc="-1" strike="noStrike">
                <a:solidFill>
                  <a:srgbClr val="000000"/>
                </a:solidFill>
                <a:latin typeface="Comic Sans MS"/>
              </a:rPr>
              <a:t>It’s all very well in practice, but it will never work in theory.” </a:t>
            </a:r>
            <a:br>
              <a:rPr sz="1500"/>
            </a:br>
            <a:r>
              <a:rPr b="1" i="1" lang="tr-TR" sz="1500" spc="-1" strike="noStrike">
                <a:solidFill>
                  <a:srgbClr val="000000"/>
                </a:solidFill>
                <a:latin typeface="Comic Sans MS"/>
              </a:rPr>
              <a:t>- anonymous management maxim</a:t>
            </a: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A8CB02A4-CBE4-4A31-B16A-50DDA7DC29AD}" type="slidenum">
              <a:t>1</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ceptual Class Identification:</a:t>
            </a:r>
            <a:endParaRPr b="1" lang="en-US" sz="2800" spc="-1" strike="noStrike">
              <a:solidFill>
                <a:srgbClr val="000000"/>
              </a:solidFill>
              <a:latin typeface="Tahoma"/>
            </a:endParaRPr>
          </a:p>
        </p:txBody>
      </p:sp>
      <p:sp>
        <p:nvSpPr>
          <p:cNvPr id="22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is better to overspecify a domain with lots of fine-grained conceptual classes than it is to underspecify i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cover classes </a:t>
            </a:r>
            <a:r>
              <a:rPr b="0" lang="en-US" sz="2200" spc="-1" strike="noStrike">
                <a:solidFill>
                  <a:srgbClr val="3333cc"/>
                </a:solidFill>
                <a:latin typeface="Comic Sans MS"/>
              </a:rPr>
              <a:t>up front</a:t>
            </a:r>
            <a:r>
              <a:rPr b="0" lang="en-US" sz="2200" spc="-1" strike="noStrike">
                <a:solidFill>
                  <a:srgbClr val="000000"/>
                </a:solidFill>
                <a:latin typeface="Comic Sans MS"/>
              </a:rPr>
              <a:t> rather than later.</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like data modeling, it is valid to include concepts for which there are no attributes, or which have a purely </a:t>
            </a:r>
            <a:r>
              <a:rPr b="0" lang="en-US" sz="2200" spc="-1" strike="noStrike">
                <a:solidFill>
                  <a:srgbClr val="3333cc"/>
                </a:solidFill>
                <a:latin typeface="Comic Sans MS"/>
              </a:rPr>
              <a:t>behavioral role</a:t>
            </a:r>
            <a:r>
              <a:rPr b="0" lang="en-US" sz="2200" spc="-1" strike="noStrike">
                <a:solidFill>
                  <a:srgbClr val="000000"/>
                </a:solidFill>
                <a:latin typeface="Comic Sans MS"/>
              </a:rPr>
              <a:t> rather than an </a:t>
            </a:r>
            <a:r>
              <a:rPr b="0" lang="en-US" sz="2200" spc="-1" strike="noStrike">
                <a:solidFill>
                  <a:srgbClr val="3333cc"/>
                </a:solidFill>
                <a:latin typeface="Comic Sans MS"/>
              </a:rPr>
              <a:t>informational role</a:t>
            </a:r>
            <a:r>
              <a:rPr b="0" lang="en-US" sz="2200" spc="-1" strike="noStrike">
                <a:solidFill>
                  <a:srgbClr val="000000"/>
                </a:solidFill>
                <a:latin typeface="Comic Sans MS"/>
              </a:rPr>
              <a:t>.</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EA4F438B-4073-4C9B-8AC1-0AE0EE9893D2}" type="slidenum">
              <a:t>10</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 </a:t>
            </a:r>
            <a:r>
              <a:rPr b="1" lang="en-US" sz="2800" spc="-1" strike="noStrike">
                <a:solidFill>
                  <a:srgbClr val="000000"/>
                </a:solidFill>
                <a:latin typeface="Tahoma"/>
              </a:rPr>
              <a:t>Identify Conceptual Classes</a:t>
            </a:r>
            <a:br>
              <a:rPr sz="2800"/>
            </a:br>
            <a:r>
              <a:rPr b="1" lang="en-US" sz="2800" spc="-1" strike="noStrike">
                <a:solidFill>
                  <a:srgbClr val="000000"/>
                </a:solidFill>
                <a:latin typeface="Tahoma"/>
              </a:rPr>
              <a:t>by Category List:</a:t>
            </a:r>
            <a:endParaRPr b="1" lang="en-US" sz="2800" spc="-1" strike="noStrike">
              <a:solidFill>
                <a:srgbClr val="000000"/>
              </a:solidFill>
              <a:latin typeface="Tahoma"/>
            </a:endParaRPr>
          </a:p>
        </p:txBody>
      </p:sp>
      <p:sp>
        <p:nvSpPr>
          <p:cNvPr id="23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mon Candidates for classes include:</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Tangible objects, Description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	</a:t>
            </a:r>
            <a:r>
              <a:rPr b="0" lang="en-US" sz="2200" spc="-1" strike="noStrike">
                <a:solidFill>
                  <a:srgbClr val="000000"/>
                </a:solidFill>
                <a:latin typeface="Comic Sans MS"/>
              </a:rPr>
              <a:t>Role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Places, Transaction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	</a:t>
            </a:r>
            <a:r>
              <a:rPr b="0" lang="en-US" sz="2200" spc="-1" strike="noStrike">
                <a:solidFill>
                  <a:srgbClr val="000000"/>
                </a:solidFill>
                <a:latin typeface="Comic Sans MS"/>
              </a:rPr>
              <a:t>Container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Systems, Abstract noun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	</a:t>
            </a:r>
            <a:r>
              <a:rPr b="0" lang="en-US" sz="2200" spc="-1" strike="noStrike">
                <a:solidFill>
                  <a:srgbClr val="000000"/>
                </a:solidFill>
                <a:latin typeface="Comic Sans MS"/>
              </a:rPr>
              <a:t>Rule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Organizations, Events, Processe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Written Material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	</a:t>
            </a:r>
            <a:r>
              <a:rPr b="0" lang="en-US" sz="2200" spc="-1" strike="noStrike">
                <a:solidFill>
                  <a:srgbClr val="000000"/>
                </a:solidFill>
                <a:latin typeface="Comic Sans MS"/>
              </a:rPr>
              <a:t>Catalogs, Records,</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Financial Instruments  and Services</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27C9504C-F801-4CB4-B1FE-05B1349322DA}" type="slidenum">
              <a:t>1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b. </a:t>
            </a:r>
            <a:r>
              <a:rPr b="1" lang="en-US" sz="2800" spc="-1" strike="noStrike">
                <a:solidFill>
                  <a:srgbClr val="000000"/>
                </a:solidFill>
                <a:latin typeface="Tahoma"/>
              </a:rPr>
              <a:t>Identify Conceptual Classes</a:t>
            </a:r>
            <a:br>
              <a:rPr sz="2800"/>
            </a:br>
            <a:r>
              <a:rPr b="1" lang="en-US" sz="2800" spc="-1" strike="noStrike">
                <a:solidFill>
                  <a:srgbClr val="000000"/>
                </a:solidFill>
                <a:latin typeface="Tahoma"/>
              </a:rPr>
              <a:t>by Noun Phrase:</a:t>
            </a:r>
            <a:endParaRPr b="1" lang="en-US" sz="2800" spc="-1" strike="noStrike">
              <a:solidFill>
                <a:srgbClr val="000000"/>
              </a:solidFill>
              <a:latin typeface="Tahoma"/>
            </a:endParaRPr>
          </a:p>
        </p:txBody>
      </p:sp>
      <p:sp>
        <p:nvSpPr>
          <p:cNvPr id="23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Nouns and Noun Phrases in textual descriptions of the domain.</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y dressed Use Cases are good for this type of linguistic analysis.</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Note that, i</a:t>
            </a:r>
            <a:r>
              <a:rPr b="0" lang="en-US" sz="2200" spc="-1" strike="noStrike">
                <a:solidFill>
                  <a:srgbClr val="000000"/>
                </a:solidFill>
                <a:latin typeface="Comic Sans MS"/>
              </a:rPr>
              <a:t>t’s not strictly a mechanical process:</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ds may be ambiguou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phrases may represent the same concept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F7F02DEA-19B1-4E97-8C2C-357883ECA9D4}" type="slidenum">
              <a:t>12</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les Domain example - </a:t>
            </a:r>
            <a:br>
              <a:rPr sz="2800"/>
            </a:br>
            <a:r>
              <a:rPr b="1" lang="en-US" sz="2800" spc="-1" strike="noStrike">
                <a:solidFill>
                  <a:srgbClr val="000000"/>
                </a:solidFill>
                <a:latin typeface="Tahoma"/>
              </a:rPr>
              <a:t>‘Purchase Items’ Use Case</a:t>
            </a:r>
            <a:endParaRPr b="1" lang="en-US" sz="2800" spc="-1" strike="noStrike">
              <a:solidFill>
                <a:srgbClr val="000000"/>
              </a:solidFill>
              <a:latin typeface="Tahoma"/>
            </a:endParaRPr>
          </a:p>
        </p:txBody>
      </p:sp>
      <p:sp>
        <p:nvSpPr>
          <p:cNvPr id="2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 find concepts such as Register, Sale, Item, Customer, Receipt etc. in this use case.</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hould we include Receipt in the Model?</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 As a report of a sale, it’s duplicate info.</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 Business Rules for a Return require that the customer has a receip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ggestion: Include it in the iteration where the Return Use Case is covered.</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BE9C19AD-DEAD-4785-8519-BA2BB656358D}" type="slidenum">
              <a:t>1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9.7</a:t>
            </a:r>
            <a:r>
              <a:rPr b="1" lang="tr-TR" sz="1600" spc="-1" strike="noStrike">
                <a:solidFill>
                  <a:srgbClr val="000000"/>
                </a:solidFill>
                <a:latin typeface="Tahoma"/>
              </a:rPr>
              <a:t> Initial POS domain model</a:t>
            </a:r>
            <a:endParaRPr b="1" lang="en-US" sz="1600" spc="-1" strike="noStrike">
              <a:solidFill>
                <a:srgbClr val="000000"/>
              </a:solidFill>
              <a:latin typeface="Tahoma"/>
            </a:endParaRPr>
          </a:p>
        </p:txBody>
      </p:sp>
      <p:pic>
        <p:nvPicPr>
          <p:cNvPr id="236" name="" descr=""/>
          <p:cNvPicPr/>
          <p:nvPr/>
        </p:nvPicPr>
        <p:blipFill>
          <a:blip r:embed="rId1"/>
          <a:stretch/>
        </p:blipFill>
        <p:spPr>
          <a:xfrm>
            <a:off x="76320" y="1460520"/>
            <a:ext cx="8915400" cy="343836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0AA39E07-6D98-41DE-86D2-B78F84D91C8E}" type="slidenum">
              <a:t>14</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teps to create a </a:t>
            </a:r>
            <a:br>
              <a:rPr sz="2800"/>
            </a:br>
            <a:r>
              <a:rPr b="1" lang="en-US" sz="2800" spc="-1" strike="noStrike">
                <a:solidFill>
                  <a:srgbClr val="ff0000"/>
                </a:solidFill>
                <a:latin typeface="Tahoma"/>
              </a:rPr>
              <a:t>Domain Model</a:t>
            </a:r>
            <a:endParaRPr b="1" lang="en-US" sz="2800" spc="-1" strike="noStrike">
              <a:solidFill>
                <a:srgbClr val="000000"/>
              </a:solidFill>
              <a:latin typeface="Tahoma"/>
            </a:endParaRPr>
          </a:p>
        </p:txBody>
      </p:sp>
      <p:sp>
        <p:nvSpPr>
          <p:cNvPr id="2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Candidate Conceptual classe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raw them in a Domain Model</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 associations necessary to record the relationships that must be retained</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 attributes necessary for information to be preserved</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pply existing Analysis Patterns</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B51EA632-8884-4F0C-A2C9-ED1CF57B10C3}" type="slidenum">
              <a:t>15</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ply the </a:t>
            </a:r>
            <a:br>
              <a:rPr sz="2800"/>
            </a:br>
            <a:r>
              <a:rPr b="1" lang="en-US" sz="2800" spc="-1" strike="noStrike">
                <a:solidFill>
                  <a:srgbClr val="000000"/>
                </a:solidFill>
                <a:latin typeface="Tahoma"/>
              </a:rPr>
              <a:t>Mapmaker Strategy</a:t>
            </a:r>
            <a:endParaRPr b="1" lang="en-US" sz="2800" spc="-1" strike="noStrike">
              <a:solidFill>
                <a:srgbClr val="000000"/>
              </a:solidFill>
              <a:latin typeface="Tahoma"/>
            </a:endParaRPr>
          </a:p>
        </p:txBody>
      </p:sp>
      <p:sp>
        <p:nvSpPr>
          <p:cNvPr id="24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existing names for things, the vocabulary of the domain</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clude irrelevant features </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 not add things that are not there</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5E6E719E-102D-426D-9D14-B46A4BD719BB}" type="slidenum">
              <a:t>1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Common Mistake - </a:t>
            </a:r>
            <a:br>
              <a:rPr sz="2800"/>
            </a:br>
            <a:r>
              <a:rPr b="1" lang="en-US" sz="2800" spc="-1" strike="noStrike">
                <a:solidFill>
                  <a:srgbClr val="000000"/>
                </a:solidFill>
                <a:latin typeface="Tahoma"/>
              </a:rPr>
              <a:t>Classes as Attributes</a:t>
            </a:r>
            <a:endParaRPr b="1" lang="en-US" sz="2800" spc="-1" strike="noStrike">
              <a:solidFill>
                <a:srgbClr val="000000"/>
              </a:solidFill>
              <a:latin typeface="Tahoma"/>
            </a:endParaRPr>
          </a:p>
        </p:txBody>
      </p:sp>
      <p:sp>
        <p:nvSpPr>
          <p:cNvPr id="242" name="PlaceHolder 2"/>
          <p:cNvSpPr>
            <a:spLocks noGrp="1"/>
          </p:cNvSpPr>
          <p:nvPr>
            <p:ph/>
          </p:nvPr>
        </p:nvSpPr>
        <p:spPr>
          <a:xfrm>
            <a:off x="685800" y="1218960"/>
            <a:ext cx="7772400" cy="2057400"/>
          </a:xfrm>
          <a:prstGeom prst="rect">
            <a:avLst/>
          </a:prstGeom>
          <a:noFill/>
          <a:ln w="0">
            <a:noFill/>
          </a:ln>
        </p:spPr>
        <p:txBody>
          <a:bodyPr lIns="90000" rIns="90000" tIns="46800" bIns="46800" anchor="t">
            <a:normAutofit/>
          </a:bodyPr>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Rule:</a:t>
            </a:r>
            <a:r>
              <a:rPr b="0" lang="en-US" sz="2200" spc="-1" strike="noStrike">
                <a:solidFill>
                  <a:srgbClr val="000000"/>
                </a:solidFill>
                <a:latin typeface="Comic Sans MS"/>
              </a:rPr>
              <a:t> If we do not think of a thing as a number or text in the real world, then it is probably a conceptual class.</a:t>
            </a:r>
            <a:endParaRPr b="0" lang="en-US" sz="22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takes up space, then it is likely a conceptual class.</a:t>
            </a:r>
            <a:endParaRPr b="0" lang="en-US" sz="1800" spc="-1" strike="noStrike">
              <a:solidFill>
                <a:srgbClr val="000000"/>
              </a:solidFill>
              <a:latin typeface="Comic Sans MS"/>
            </a:endParaRPr>
          </a:p>
        </p:txBody>
      </p:sp>
      <p:graphicFrame>
        <p:nvGraphicFramePr>
          <p:cNvPr id="243" name=""/>
          <p:cNvGraphicFramePr/>
          <p:nvPr/>
        </p:nvGraphicFramePr>
        <p:xfrm>
          <a:off x="6095880" y="3276720"/>
          <a:ext cx="2133720" cy="858600"/>
        </p:xfrm>
        <a:graphic>
          <a:graphicData uri="http://schemas.openxmlformats.org/drawingml/2006/table">
            <a:tbl>
              <a:tblPr/>
              <a:tblGrid>
                <a:gridCol w="2133720"/>
              </a:tblGrid>
              <a:tr h="429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rpor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44" name=""/>
          <p:cNvSpPr/>
          <p:nvPr/>
        </p:nvSpPr>
        <p:spPr>
          <a:xfrm>
            <a:off x="3581280" y="4167360"/>
            <a:ext cx="1828800" cy="761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s.</a:t>
            </a:r>
            <a:endParaRPr b="0" lang="en-US" sz="2800" spc="-1" strike="noStrike">
              <a:solidFill>
                <a:srgbClr val="000000"/>
              </a:solidFill>
              <a:latin typeface="Times New Roman"/>
            </a:endParaRPr>
          </a:p>
        </p:txBody>
      </p:sp>
      <p:graphicFrame>
        <p:nvGraphicFramePr>
          <p:cNvPr id="245" name=""/>
          <p:cNvGraphicFramePr/>
          <p:nvPr/>
        </p:nvGraphicFramePr>
        <p:xfrm>
          <a:off x="685800" y="3276720"/>
          <a:ext cx="2286000" cy="1503360"/>
        </p:xfrm>
        <a:graphic>
          <a:graphicData uri="http://schemas.openxmlformats.org/drawingml/2006/table">
            <a:tbl>
              <a:tblPr/>
              <a:tblGrid>
                <a:gridCol w="2286000"/>
              </a:tblGrid>
              <a:tr h="377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ight</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2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46" name=""/>
          <p:cNvSpPr/>
          <p:nvPr/>
        </p:nvSpPr>
        <p:spPr>
          <a:xfrm>
            <a:off x="2971800" y="3710160"/>
            <a:ext cx="31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247" name=""/>
          <p:cNvGraphicFramePr/>
          <p:nvPr/>
        </p:nvGraphicFramePr>
        <p:xfrm>
          <a:off x="457200" y="5081760"/>
          <a:ext cx="1828800" cy="1547640"/>
        </p:xfrm>
        <a:graphic>
          <a:graphicData uri="http://schemas.openxmlformats.org/drawingml/2006/table">
            <a:tbl>
              <a:tblPr/>
              <a:tblGrid>
                <a:gridCol w="1828800"/>
              </a:tblGrid>
              <a:tr h="51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igh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3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48" name=""/>
          <p:cNvGraphicFramePr/>
          <p:nvPr/>
        </p:nvGraphicFramePr>
        <p:xfrm>
          <a:off x="3809880" y="5081760"/>
          <a:ext cx="1828800" cy="1485720"/>
        </p:xfrm>
        <a:graphic>
          <a:graphicData uri="http://schemas.openxmlformats.org/drawingml/2006/table">
            <a:tbl>
              <a:tblPr/>
              <a:tblGrid>
                <a:gridCol w="1828800"/>
              </a:tblGrid>
              <a:tr h="455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ightDes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3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49" name=""/>
          <p:cNvGraphicFramePr/>
          <p:nvPr/>
        </p:nvGraphicFramePr>
        <p:xfrm>
          <a:off x="7086600" y="5081760"/>
          <a:ext cx="1828800" cy="1142640"/>
        </p:xfrm>
        <a:graphic>
          <a:graphicData uri="http://schemas.openxmlformats.org/drawingml/2006/table">
            <a:tbl>
              <a:tblPr/>
              <a:tblGrid>
                <a:gridCol w="1828800"/>
              </a:tblGrid>
              <a:tr h="571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or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70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50" name=""/>
          <p:cNvSpPr/>
          <p:nvPr/>
        </p:nvSpPr>
        <p:spPr>
          <a:xfrm>
            <a:off x="3581280" y="3252960"/>
            <a:ext cx="205740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es-to</a:t>
            </a:r>
            <a:endParaRPr b="0" lang="en-US" sz="1600" spc="-1" strike="noStrike">
              <a:solidFill>
                <a:srgbClr val="000000"/>
              </a:solidFill>
              <a:latin typeface="Times New Roman"/>
            </a:endParaRPr>
          </a:p>
        </p:txBody>
      </p:sp>
      <p:sp>
        <p:nvSpPr>
          <p:cNvPr id="251" name=""/>
          <p:cNvSpPr/>
          <p:nvPr/>
        </p:nvSpPr>
        <p:spPr>
          <a:xfrm>
            <a:off x="2286000" y="5919840"/>
            <a:ext cx="1523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5638680" y="591984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2286000" y="5410080"/>
            <a:ext cx="144792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d-by</a:t>
            </a:r>
            <a:endParaRPr b="0" lang="en-US" sz="1600" spc="-1" strike="noStrike">
              <a:solidFill>
                <a:srgbClr val="000000"/>
              </a:solidFill>
              <a:latin typeface="Times New Roman"/>
            </a:endParaRPr>
          </a:p>
        </p:txBody>
      </p:sp>
      <p:sp>
        <p:nvSpPr>
          <p:cNvPr id="254" name=""/>
          <p:cNvSpPr/>
          <p:nvPr/>
        </p:nvSpPr>
        <p:spPr>
          <a:xfrm>
            <a:off x="5715000" y="5257800"/>
            <a:ext cx="1295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s</a:t>
            </a:r>
            <a:endParaRPr b="0" lang="en-US" sz="1600" spc="-1" strike="noStrike">
              <a:solidFill>
                <a:srgbClr val="000000"/>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ights-t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2D47BD02-2A85-4FCE-B3C6-3C3A68FEA06F}" type="slidenum">
              <a:t>1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9.9</a:t>
            </a:r>
            <a:r>
              <a:rPr b="1" lang="tr-TR" sz="1600" spc="-1" strike="noStrike">
                <a:solidFill>
                  <a:srgbClr val="000000"/>
                </a:solidFill>
                <a:latin typeface="Tahoma"/>
              </a:rPr>
              <a:t> Descriptions about other things. The * means a multiplicity of “many.”</a:t>
            </a:r>
            <a:endParaRPr b="1" lang="en-US" sz="1600" spc="-1" strike="noStrike">
              <a:solidFill>
                <a:srgbClr val="000000"/>
              </a:solidFill>
              <a:latin typeface="Tahoma"/>
            </a:endParaRPr>
          </a:p>
        </p:txBody>
      </p:sp>
      <p:pic>
        <p:nvPicPr>
          <p:cNvPr id="256" name="" descr=""/>
          <p:cNvPicPr/>
          <p:nvPr/>
        </p:nvPicPr>
        <p:blipFill>
          <a:blip r:embed="rId1"/>
          <a:stretch/>
        </p:blipFill>
        <p:spPr>
          <a:xfrm>
            <a:off x="457200" y="990720"/>
            <a:ext cx="8153280" cy="463680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11C98C08-462A-437E-9ED5-26F5D08A3DE5}" type="slidenum">
              <a:t>18</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pecification or Description Conceptual Classes</a:t>
            </a:r>
            <a:endParaRPr b="1" lang="en-US" sz="2800" spc="-1" strike="noStrike">
              <a:solidFill>
                <a:srgbClr val="000000"/>
              </a:solidFill>
              <a:latin typeface="Tahoma"/>
            </a:endParaRPr>
          </a:p>
        </p:txBody>
      </p:sp>
      <p:sp>
        <p:nvSpPr>
          <p:cNvPr id="258" name="PlaceHolder 2"/>
          <p:cNvSpPr>
            <a:spLocks noGrp="1"/>
          </p:cNvSpPr>
          <p:nvPr>
            <p:ph/>
          </p:nvPr>
        </p:nvSpPr>
        <p:spPr>
          <a:xfrm>
            <a:off x="5257440" y="1752120"/>
            <a:ext cx="3886200" cy="20574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Class that records information about an item.</a:t>
            </a:r>
            <a:endParaRPr b="0" lang="en-US" sz="1800" spc="-1" strike="noStrike">
              <a:solidFill>
                <a:srgbClr val="000000"/>
              </a:solidFill>
              <a:latin typeface="Comic Sans MS"/>
            </a:endParaRPr>
          </a:p>
          <a:p>
            <a:pPr lvl="1" marL="735480" indent="-2829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ven if all </a:t>
            </a:r>
            <a:r>
              <a:rPr b="0" lang="tr-TR" sz="1600" spc="-1" strike="noStrike">
                <a:solidFill>
                  <a:srgbClr val="000000"/>
                </a:solidFill>
                <a:latin typeface="Comic Sans MS"/>
              </a:rPr>
              <a:t>i</a:t>
            </a:r>
            <a:r>
              <a:rPr b="0" lang="en-US" sz="1600" spc="-1" strike="noStrike">
                <a:solidFill>
                  <a:srgbClr val="000000"/>
                </a:solidFill>
                <a:latin typeface="Comic Sans MS"/>
              </a:rPr>
              <a:t>nstances of the item are sold out, the description remains.</a:t>
            </a:r>
            <a:endParaRPr b="0" lang="en-US" sz="1600" spc="-1" strike="noStrike">
              <a:solidFill>
                <a:srgbClr val="000000"/>
              </a:solidFill>
              <a:latin typeface="Comic Sans MS"/>
            </a:endParaRPr>
          </a:p>
          <a:p>
            <a:pPr lvl="1" marL="735480" indent="-28296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voids duplication of recording the descriptive information with each instance of the item.</a:t>
            </a:r>
            <a:endParaRPr b="0" lang="en-US" sz="1600" spc="-1" strike="noStrike">
              <a:solidFill>
                <a:srgbClr val="000000"/>
              </a:solidFill>
              <a:latin typeface="Comic Sans MS"/>
            </a:endParaRPr>
          </a:p>
        </p:txBody>
      </p:sp>
      <p:pic>
        <p:nvPicPr>
          <p:cNvPr id="259" name="" descr=""/>
          <p:cNvPicPr/>
          <p:nvPr/>
        </p:nvPicPr>
        <p:blipFill>
          <a:blip r:embed="rId1"/>
          <a:stretch/>
        </p:blipFill>
        <p:spPr>
          <a:xfrm>
            <a:off x="0" y="1052640"/>
            <a:ext cx="6629400" cy="5729040"/>
          </a:xfrm>
          <a:prstGeom prst="rect">
            <a:avLst/>
          </a:prstGeom>
          <a:ln w="0">
            <a:noFill/>
          </a:ln>
        </p:spPr>
      </p:pic>
      <p:sp>
        <p:nvSpPr>
          <p:cNvPr id="260" name=""/>
          <p:cNvSpPr/>
          <p:nvPr/>
        </p:nvSpPr>
        <p:spPr>
          <a:xfrm>
            <a:off x="609480" y="2743200"/>
            <a:ext cx="35816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9.10</a:t>
            </a:r>
            <a:r>
              <a:rPr b="1" lang="tr-TR" sz="1600" spc="-1" strike="noStrike">
                <a:solidFill>
                  <a:srgbClr val="000000"/>
                </a:solidFill>
                <a:latin typeface="Tahoma"/>
              </a:rPr>
              <a:t> Descriptions about other th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028F99DA-1C08-4938-92FE-333D4A49D92C}" type="slidenum">
              <a:t>1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Domain Model</a:t>
            </a:r>
            <a:endParaRPr b="1" lang="en-US" sz="2800" spc="-1" strike="noStrike">
              <a:solidFill>
                <a:srgbClr val="000000"/>
              </a:solidFill>
              <a:latin typeface="Tahoma"/>
            </a:endParaRPr>
          </a:p>
        </p:txBody>
      </p:sp>
      <p:sp>
        <p:nvSpPr>
          <p:cNvPr id="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llustrates meaningful conceptual classes in a problem domain.</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s a representation of real-world concepts, not software component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s NOT a set of diagrams describing software classes, or software objects and their responsibilities.</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40441C6D-7D96-4DF8-B3D3-BBB6757C24D2}" type="slidenum">
              <a:t>2</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ML Notation: Multiple Perspectives</a:t>
            </a:r>
            <a:endParaRPr b="1" lang="en-US" sz="2800" spc="-1" strike="noStrike">
              <a:solidFill>
                <a:srgbClr val="000000"/>
              </a:solidFill>
              <a:latin typeface="Tahoma"/>
            </a:endParaRPr>
          </a:p>
        </p:txBody>
      </p:sp>
      <p:sp>
        <p:nvSpPr>
          <p:cNvPr id="2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ML describes raw diagram types, such as class diagrams. It does not impose a specific method or proces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 the Unified Process, applies raw UML to defined methodology models.</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Remember, </a:t>
            </a:r>
            <a:r>
              <a:rPr b="0" lang="en-US" sz="2200" spc="-1" strike="noStrike">
                <a:solidFill>
                  <a:srgbClr val="000000"/>
                </a:solidFill>
                <a:latin typeface="Comic Sans MS"/>
              </a:rPr>
              <a:t>UML can be used for 3 different perspectives:</a:t>
            </a:r>
            <a:endParaRPr b="0" lang="en-US" sz="2200" spc="-1" strike="noStrike">
              <a:solidFill>
                <a:srgbClr val="000000"/>
              </a:solidFill>
              <a:latin typeface="Comic Sans MS"/>
            </a:endParaRPr>
          </a:p>
          <a:p>
            <a:pPr marL="343080" indent="-34308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ssential</a:t>
            </a:r>
            <a:r>
              <a:rPr b="0" lang="en-US" sz="2000" spc="-1" strike="noStrike">
                <a:solidFill>
                  <a:srgbClr val="000000"/>
                </a:solidFill>
                <a:latin typeface="Comic Sans MS"/>
              </a:rPr>
              <a:t> – describe the real world</a:t>
            </a:r>
            <a:endParaRPr b="0" lang="en-US" sz="2000" spc="-1" strike="noStrike">
              <a:solidFill>
                <a:srgbClr val="000000"/>
              </a:solidFill>
              <a:latin typeface="Comic Sans MS"/>
            </a:endParaRPr>
          </a:p>
          <a:p>
            <a:pPr marL="343080" indent="-34308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ions</a:t>
            </a:r>
            <a:r>
              <a:rPr b="0" lang="en-US" sz="2000" spc="-1" strike="noStrike">
                <a:solidFill>
                  <a:srgbClr val="000000"/>
                </a:solidFill>
                <a:latin typeface="Comic Sans MS"/>
              </a:rPr>
              <a:t> – software abstractions, such as components and their interfaces</a:t>
            </a:r>
            <a:endParaRPr b="0" lang="en-US" sz="2000" spc="-1" strike="noStrike">
              <a:solidFill>
                <a:srgbClr val="000000"/>
              </a:solidFill>
              <a:latin typeface="Comic Sans MS"/>
            </a:endParaRPr>
          </a:p>
          <a:p>
            <a:pPr marL="343080" indent="-34308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mplementation</a:t>
            </a:r>
            <a:r>
              <a:rPr b="0" lang="en-US" sz="2000" spc="-1" strike="noStrike">
                <a:solidFill>
                  <a:srgbClr val="000000"/>
                </a:solidFill>
                <a:latin typeface="Comic Sans MS"/>
              </a:rPr>
              <a:t> – specific language (Java)</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39288630-A2AB-4775-85B8-97134D65AB1F}" type="slidenum">
              <a:t>20</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ntroduction</a:t>
            </a:r>
            <a:endParaRPr b="1" lang="en-US" sz="2800" spc="-1" strike="noStrike">
              <a:solidFill>
                <a:srgbClr val="000000"/>
              </a:solidFill>
              <a:latin typeface="Tahoma"/>
            </a:endParaRPr>
          </a:p>
        </p:txBody>
      </p:sp>
      <p:sp>
        <p:nvSpPr>
          <p:cNvPr id="2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associations of conceptual classes  needed to satisfy the information requirements of current scenario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lso identify the aid in comprehending the domain model.</a:t>
            </a:r>
            <a:endParaRPr b="0" lang="en-US" sz="2200" spc="-1" strike="noStrike">
              <a:solidFill>
                <a:srgbClr val="000000"/>
              </a:solidFill>
              <a:latin typeface="Comic Sans MS"/>
            </a:endParaRPr>
          </a:p>
        </p:txBody>
      </p:sp>
      <p:pic>
        <p:nvPicPr>
          <p:cNvPr id="265" name="" descr=""/>
          <p:cNvPicPr/>
          <p:nvPr/>
        </p:nvPicPr>
        <p:blipFill>
          <a:blip r:embed="rId1"/>
          <a:stretch/>
        </p:blipFill>
        <p:spPr>
          <a:xfrm>
            <a:off x="228600" y="3894120"/>
            <a:ext cx="6248520" cy="2428920"/>
          </a:xfrm>
          <a:prstGeom prst="rect">
            <a:avLst/>
          </a:prstGeom>
          <a:ln w="0">
            <a:noFill/>
          </a:ln>
        </p:spPr>
      </p:pic>
      <p:sp>
        <p:nvSpPr>
          <p:cNvPr id="266" name=""/>
          <p:cNvSpPr/>
          <p:nvPr/>
        </p:nvSpPr>
        <p:spPr>
          <a:xfrm>
            <a:off x="457200" y="4495680"/>
            <a:ext cx="32767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11 Associa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C42B5780-CA4D-4722-AABC-A174385A7E57}" type="slidenum">
              <a:t>2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Useful Associations</a:t>
            </a:r>
            <a:endParaRPr b="1" lang="en-US" sz="2800" spc="-1" strike="noStrike">
              <a:solidFill>
                <a:srgbClr val="000000"/>
              </a:solidFill>
              <a:latin typeface="Tahoma"/>
            </a:endParaRPr>
          </a:p>
        </p:txBody>
      </p:sp>
      <p:sp>
        <p:nvSpPr>
          <p:cNvPr id="26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ociations for which knowledge of the relationship needs to be preserved for some duration.</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ociations derived from the Common Associations List.</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033C39A1-5208-4D7D-B655-7B762AE6C14C}" type="slidenum">
              <a:t>22</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26668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12 </a:t>
            </a:r>
            <a:r>
              <a:rPr b="1" lang="en-US" sz="1600" spc="-1" strike="noStrike">
                <a:solidFill>
                  <a:srgbClr val="000000"/>
                </a:solidFill>
                <a:latin typeface="Tahoma"/>
              </a:rPr>
              <a:t>UML Association Notation</a:t>
            </a:r>
            <a:endParaRPr b="1" lang="en-US" sz="1600" spc="-1" strike="noStrike">
              <a:solidFill>
                <a:srgbClr val="000000"/>
              </a:solidFill>
              <a:latin typeface="Tahoma"/>
            </a:endParaRPr>
          </a:p>
        </p:txBody>
      </p:sp>
      <p:pic>
        <p:nvPicPr>
          <p:cNvPr id="270" name="" descr=""/>
          <p:cNvPicPr/>
          <p:nvPr/>
        </p:nvPicPr>
        <p:blipFill>
          <a:blip r:embed="rId1"/>
          <a:stretch/>
        </p:blipFill>
        <p:spPr>
          <a:xfrm>
            <a:off x="457200" y="-76320"/>
            <a:ext cx="8229600" cy="4870440"/>
          </a:xfrm>
          <a:prstGeom prst="rect">
            <a:avLst/>
          </a:prstGeom>
          <a:ln w="0">
            <a:noFill/>
          </a:ln>
        </p:spPr>
      </p:pic>
      <p:sp>
        <p:nvSpPr>
          <p:cNvPr id="271" name=""/>
          <p:cNvSpPr/>
          <p:nvPr/>
        </p:nvSpPr>
        <p:spPr>
          <a:xfrm>
            <a:off x="380880" y="5102280"/>
            <a:ext cx="8153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association is represented as a line between classes with an association name.</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sociations are inherently bidirectional.</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tional reading direction arrow is only an aid to the reader of the diagra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4657CFCD-595B-4A2E-881D-409DF9D63A6F}" type="slidenum">
              <a:t>23</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60"/>
            <a:ext cx="3353040" cy="609480"/>
          </a:xfrm>
          <a:prstGeom prst="rect">
            <a:avLst/>
          </a:prstGeom>
          <a:noFill/>
          <a:ln w="0">
            <a:noFill/>
          </a:ln>
        </p:spPr>
        <p:txBody>
          <a:bodyPr lIns="90000" rIns="90000" tIns="46800" bIns="468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13 Multiplicity on an association.</a:t>
            </a:r>
            <a:endParaRPr b="1" lang="en-US" sz="1600" spc="-1" strike="noStrike">
              <a:solidFill>
                <a:srgbClr val="000000"/>
              </a:solidFill>
              <a:latin typeface="Tahoma"/>
            </a:endParaRPr>
          </a:p>
        </p:txBody>
      </p:sp>
      <p:pic>
        <p:nvPicPr>
          <p:cNvPr id="273" name="" descr=""/>
          <p:cNvPicPr/>
          <p:nvPr/>
        </p:nvPicPr>
        <p:blipFill>
          <a:blip r:embed="rId1"/>
          <a:stretch/>
        </p:blipFill>
        <p:spPr>
          <a:xfrm>
            <a:off x="0" y="914400"/>
            <a:ext cx="4114800" cy="1647720"/>
          </a:xfrm>
          <a:prstGeom prst="rect">
            <a:avLst/>
          </a:prstGeom>
          <a:ln w="0">
            <a:noFill/>
          </a:ln>
        </p:spPr>
      </p:pic>
      <p:pic>
        <p:nvPicPr>
          <p:cNvPr id="274" name="" descr=""/>
          <p:cNvPicPr/>
          <p:nvPr/>
        </p:nvPicPr>
        <p:blipFill>
          <a:blip r:embed="rId2"/>
          <a:stretch/>
        </p:blipFill>
        <p:spPr>
          <a:xfrm>
            <a:off x="4249800" y="838080"/>
            <a:ext cx="4894200" cy="5251680"/>
          </a:xfrm>
          <a:prstGeom prst="rect">
            <a:avLst/>
          </a:prstGeom>
          <a:ln w="0">
            <a:noFill/>
          </a:ln>
        </p:spPr>
      </p:pic>
      <p:sp>
        <p:nvSpPr>
          <p:cNvPr id="275" name=""/>
          <p:cNvSpPr/>
          <p:nvPr/>
        </p:nvSpPr>
        <p:spPr>
          <a:xfrm>
            <a:off x="5791320" y="152280"/>
            <a:ext cx="26668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14 Multiplicity valu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33A68568-03F0-4C2B-B358-B9E459E29160}" type="slidenum">
              <a:t>24</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15 Multiplicity is context dependent.</a:t>
            </a:r>
            <a:endParaRPr b="1" lang="en-US" sz="1600" spc="-1" strike="noStrike">
              <a:solidFill>
                <a:srgbClr val="000000"/>
              </a:solidFill>
              <a:latin typeface="Tahoma"/>
            </a:endParaRPr>
          </a:p>
        </p:txBody>
      </p:sp>
      <p:pic>
        <p:nvPicPr>
          <p:cNvPr id="277" name="" descr=""/>
          <p:cNvPicPr/>
          <p:nvPr/>
        </p:nvPicPr>
        <p:blipFill>
          <a:blip r:embed="rId1"/>
          <a:stretch/>
        </p:blipFill>
        <p:spPr>
          <a:xfrm>
            <a:off x="0" y="990720"/>
            <a:ext cx="8763120" cy="586728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0B9BA35F-1C27-4325-A1C7-0683AD4B5905}" type="slidenum">
              <a:t>25</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Finding Associations-Common Associations List</a:t>
            </a:r>
            <a:endParaRPr b="1" lang="en-US" sz="2800" spc="-1" strike="noStrike">
              <a:solidFill>
                <a:srgbClr val="000000"/>
              </a:solidFill>
              <a:latin typeface="Tahoma"/>
            </a:endParaRPr>
          </a:p>
        </p:txBody>
      </p:sp>
      <p:sp>
        <p:nvSpPr>
          <p:cNvPr id="2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mmon categories that are worth considering are:</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physical part of</a:t>
            </a:r>
            <a:r>
              <a:rPr b="0" lang="en-US" sz="2200" spc="-1" strike="noStrike">
                <a:solidFill>
                  <a:srgbClr val="000000"/>
                </a:solidFill>
                <a:latin typeface="Comic Sans MS"/>
              </a:rPr>
              <a:t> B . </a:t>
            </a:r>
            <a:r>
              <a:rPr b="0" i="1" lang="en-US" sz="2000" spc="-1" strike="noStrike">
                <a:solidFill>
                  <a:srgbClr val="000000"/>
                </a:solidFill>
                <a:latin typeface="Comic Sans MS"/>
              </a:rPr>
              <a:t>Eg: Wing-Airplan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logical part of</a:t>
            </a:r>
            <a:r>
              <a:rPr b="0" lang="en-US" sz="2200" spc="-1" strike="noStrike">
                <a:solidFill>
                  <a:srgbClr val="000000"/>
                </a:solidFill>
                <a:latin typeface="Comic Sans MS"/>
              </a:rPr>
              <a:t> B. </a:t>
            </a:r>
            <a:r>
              <a:rPr b="0" i="1" lang="en-US" sz="2000" spc="-1" strike="noStrike">
                <a:solidFill>
                  <a:srgbClr val="000000"/>
                </a:solidFill>
                <a:latin typeface="Comic Sans MS"/>
              </a:rPr>
              <a:t>Eg: SalesLineItem-Sal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physically contained in</a:t>
            </a:r>
            <a:r>
              <a:rPr b="0" lang="en-US" sz="2200" spc="-1" strike="noStrike">
                <a:solidFill>
                  <a:srgbClr val="000000"/>
                </a:solidFill>
                <a:latin typeface="Comic Sans MS"/>
              </a:rPr>
              <a:t> B . </a:t>
            </a:r>
            <a:r>
              <a:rPr b="0" i="1" lang="en-US" sz="2000" spc="-1" strike="noStrike">
                <a:solidFill>
                  <a:srgbClr val="000000"/>
                </a:solidFill>
                <a:latin typeface="Comic Sans MS"/>
              </a:rPr>
              <a:t>Eg: Register- Stor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logically contained in</a:t>
            </a:r>
            <a:r>
              <a:rPr b="0" lang="en-US" sz="2200" spc="-1" strike="noStrike">
                <a:solidFill>
                  <a:srgbClr val="000000"/>
                </a:solidFill>
                <a:latin typeface="Comic Sans MS"/>
              </a:rPr>
              <a:t> B. </a:t>
            </a:r>
            <a:r>
              <a:rPr b="0" i="1" lang="en-US" sz="2000" spc="-1" strike="noStrike">
                <a:solidFill>
                  <a:srgbClr val="000000"/>
                </a:solidFill>
                <a:latin typeface="Comic Sans MS"/>
              </a:rPr>
              <a:t>Eg:ItemDescription-Catalog.</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description of</a:t>
            </a:r>
            <a:r>
              <a:rPr b="0" lang="en-US" sz="2200" spc="-1" strike="noStrike">
                <a:solidFill>
                  <a:srgbClr val="000000"/>
                </a:solidFill>
                <a:latin typeface="Comic Sans MS"/>
              </a:rPr>
              <a:t> B.</a:t>
            </a:r>
            <a:r>
              <a:rPr b="0" i="1" lang="en-US" sz="2000" spc="-1" strike="noStrike">
                <a:solidFill>
                  <a:srgbClr val="000000"/>
                </a:solidFill>
                <a:latin typeface="Comic Sans MS"/>
              </a:rPr>
              <a:t>Eg:ItemDescription-Item.</a:t>
            </a: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line item of</a:t>
            </a:r>
            <a:r>
              <a:rPr b="0" lang="en-US" sz="2200" spc="-1" strike="noStrike">
                <a:solidFill>
                  <a:srgbClr val="000000"/>
                </a:solidFill>
                <a:latin typeface="Comic Sans MS"/>
              </a:rPr>
              <a:t> a transaction or report B.</a:t>
            </a:r>
            <a:r>
              <a:rPr b="0" i="1" lang="en-US" sz="2000" spc="-1" strike="noStrike">
                <a:solidFill>
                  <a:srgbClr val="000000"/>
                </a:solidFill>
                <a:latin typeface="Comic Sans MS"/>
              </a:rPr>
              <a:t>Eg:SalesLineItem-Sale</a:t>
            </a:r>
            <a:r>
              <a:rPr b="0" lang="en-US" sz="2200" spc="-1" strike="noStrike">
                <a:solidFill>
                  <a:srgbClr val="000000"/>
                </a:solidFill>
                <a:latin typeface="Comic Sans MS"/>
              </a:rPr>
              <a:t>.</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member of</a:t>
            </a:r>
            <a:r>
              <a:rPr b="0" lang="en-US" sz="2200" spc="-1" strike="noStrike">
                <a:solidFill>
                  <a:srgbClr val="000000"/>
                </a:solidFill>
                <a:latin typeface="Comic Sans MS"/>
              </a:rPr>
              <a:t> B .</a:t>
            </a:r>
            <a:r>
              <a:rPr b="0" i="1" lang="en-US" sz="2000" spc="-1" strike="noStrike">
                <a:solidFill>
                  <a:srgbClr val="000000"/>
                </a:solidFill>
                <a:latin typeface="Comic Sans MS"/>
              </a:rPr>
              <a:t>Eg: Cashier-Stor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a:t>
            </a:r>
            <a:r>
              <a:rPr b="0" lang="en-US" sz="2200" spc="-1" strike="noStrike">
                <a:solidFill>
                  <a:srgbClr val="3333cc"/>
                </a:solidFill>
                <a:latin typeface="Comic Sans MS"/>
              </a:rPr>
              <a:t>uses or manages</a:t>
            </a:r>
            <a:r>
              <a:rPr b="0" lang="en-US" sz="2200" spc="-1" strike="noStrike">
                <a:solidFill>
                  <a:srgbClr val="000000"/>
                </a:solidFill>
                <a:latin typeface="Comic Sans MS"/>
              </a:rPr>
              <a:t> B.</a:t>
            </a:r>
            <a:r>
              <a:rPr b="0" i="1" lang="en-US" sz="2000" spc="-1" strike="noStrike">
                <a:solidFill>
                  <a:srgbClr val="000000"/>
                </a:solidFill>
                <a:latin typeface="Comic Sans MS"/>
              </a:rPr>
              <a:t>Eg:Cashier-Register.</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1BCAA2C4-9B7E-426F-A74F-AC0BD6FE2B7B}" type="slidenum">
              <a:t>2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Common Associations List </a:t>
            </a:r>
            <a:r>
              <a:rPr b="1" lang="tr-TR" sz="2800" spc="-1" strike="noStrike">
                <a:solidFill>
                  <a:srgbClr val="000000"/>
                </a:solidFill>
                <a:latin typeface="Tahoma"/>
              </a:rPr>
              <a:t>2</a:t>
            </a:r>
            <a:endParaRPr b="1" lang="en-US" sz="2800" spc="-1" strike="noStrike">
              <a:solidFill>
                <a:srgbClr val="000000"/>
              </a:solidFill>
              <a:latin typeface="Tahoma"/>
            </a:endParaRPr>
          </a:p>
        </p:txBody>
      </p:sp>
      <p:sp>
        <p:nvSpPr>
          <p:cNvPr id="281"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known/logged/recorded/reported/captured in</a:t>
            </a:r>
            <a:r>
              <a:rPr b="0" lang="en-US" sz="2200" spc="-1" strike="noStrike">
                <a:solidFill>
                  <a:srgbClr val="000000"/>
                </a:solidFill>
                <a:latin typeface="Comic Sans MS"/>
              </a:rPr>
              <a:t> B.Eg: Sale-Register.</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n organizational subunit of</a:t>
            </a:r>
            <a:r>
              <a:rPr b="0" lang="en-US" sz="2200" spc="-1" strike="noStrike">
                <a:solidFill>
                  <a:srgbClr val="000000"/>
                </a:solidFill>
                <a:latin typeface="Comic Sans MS"/>
              </a:rPr>
              <a:t> B . </a:t>
            </a:r>
            <a:r>
              <a:rPr b="0" i="1" lang="en-US" sz="2000" spc="-1" strike="noStrike">
                <a:solidFill>
                  <a:srgbClr val="000000"/>
                </a:solidFill>
                <a:latin typeface="Comic Sans MS"/>
              </a:rPr>
              <a:t>Eg:Department-Stor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a:t>
            </a:r>
            <a:r>
              <a:rPr b="0" lang="en-US" sz="2200" spc="-1" strike="noStrike">
                <a:solidFill>
                  <a:srgbClr val="3333cc"/>
                </a:solidFill>
                <a:latin typeface="Comic Sans MS"/>
              </a:rPr>
              <a:t>communicates with</a:t>
            </a:r>
            <a:r>
              <a:rPr b="0" lang="en-US" sz="2200" spc="-1" strike="noStrike">
                <a:solidFill>
                  <a:srgbClr val="000000"/>
                </a:solidFill>
                <a:latin typeface="Comic Sans MS"/>
              </a:rPr>
              <a:t> B. </a:t>
            </a:r>
            <a:r>
              <a:rPr b="0" i="1" lang="en-US" sz="2000" spc="-1" strike="noStrike">
                <a:solidFill>
                  <a:srgbClr val="000000"/>
                </a:solidFill>
                <a:latin typeface="Comic Sans MS"/>
              </a:rPr>
              <a:t>Eg:Customer-Cashier.</a:t>
            </a: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next to</a:t>
            </a:r>
            <a:r>
              <a:rPr b="0" lang="en-US" sz="2200" spc="-1" strike="noStrike">
                <a:solidFill>
                  <a:srgbClr val="000000"/>
                </a:solidFill>
                <a:latin typeface="Comic Sans MS"/>
              </a:rPr>
              <a:t> B. </a:t>
            </a:r>
            <a:r>
              <a:rPr b="0" i="1" lang="en-US" sz="2000" spc="-1" strike="noStrike">
                <a:solidFill>
                  <a:srgbClr val="000000"/>
                </a:solidFill>
                <a:latin typeface="Comic Sans MS"/>
              </a:rPr>
              <a:t>Eg:City-City</a:t>
            </a:r>
            <a:r>
              <a:rPr b="0" lang="en-US" sz="2200" spc="-1" strike="noStrike">
                <a:solidFill>
                  <a:srgbClr val="000000"/>
                </a:solidFill>
                <a:latin typeface="Comic Sans MS"/>
              </a:rPr>
              <a:t>.</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related to</a:t>
            </a:r>
            <a:r>
              <a:rPr b="0" lang="en-US" sz="2200" spc="-1" strike="noStrike">
                <a:solidFill>
                  <a:srgbClr val="000000"/>
                </a:solidFill>
                <a:latin typeface="Comic Sans MS"/>
              </a:rPr>
              <a:t> a transaction B. </a:t>
            </a:r>
            <a:r>
              <a:rPr b="0" i="1" lang="en-US" sz="2000" spc="-1" strike="noStrike">
                <a:solidFill>
                  <a:srgbClr val="000000"/>
                </a:solidFill>
                <a:latin typeface="Comic Sans MS"/>
              </a:rPr>
              <a:t>Eg: Customer-Payment.</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transaction related to another transaction</a:t>
            </a:r>
            <a:r>
              <a:rPr b="0" lang="en-US" sz="2200" spc="-1" strike="noStrike">
                <a:solidFill>
                  <a:srgbClr val="000000"/>
                </a:solidFill>
                <a:latin typeface="Comic Sans MS"/>
              </a:rPr>
              <a:t> B. </a:t>
            </a:r>
            <a:r>
              <a:rPr b="0" i="1" lang="en-US" sz="2000" spc="-1" strike="noStrike">
                <a:solidFill>
                  <a:srgbClr val="000000"/>
                </a:solidFill>
                <a:latin typeface="Comic Sans MS"/>
              </a:rPr>
              <a:t>Eg:Payment-Sale.</a:t>
            </a: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next to</a:t>
            </a:r>
            <a:r>
              <a:rPr b="0" lang="en-US" sz="2200" spc="-1" strike="noStrike">
                <a:solidFill>
                  <a:srgbClr val="000000"/>
                </a:solidFill>
                <a:latin typeface="Comic Sans MS"/>
              </a:rPr>
              <a:t> B. </a:t>
            </a:r>
            <a:r>
              <a:rPr b="0" i="1" lang="en-US" sz="2000" spc="-1" strike="noStrike">
                <a:solidFill>
                  <a:srgbClr val="000000"/>
                </a:solidFill>
                <a:latin typeface="Comic Sans MS"/>
              </a:rPr>
              <a:t>Eg:City-City</a:t>
            </a:r>
            <a:r>
              <a:rPr b="0" lang="en-US" sz="2200" spc="-1" strike="noStrike">
                <a:solidFill>
                  <a:srgbClr val="000000"/>
                </a:solidFill>
                <a:latin typeface="Comic Sans MS"/>
              </a:rPr>
              <a:t>.</a:t>
            </a: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owned by</a:t>
            </a:r>
            <a:r>
              <a:rPr b="0" lang="en-US" sz="2200" spc="-1" strike="noStrike">
                <a:solidFill>
                  <a:srgbClr val="000000"/>
                </a:solidFill>
                <a:latin typeface="Comic Sans MS"/>
              </a:rPr>
              <a:t> B. </a:t>
            </a:r>
            <a:r>
              <a:rPr b="0" i="1" lang="en-US" sz="2000" spc="-1" strike="noStrike">
                <a:solidFill>
                  <a:srgbClr val="000000"/>
                </a:solidFill>
                <a:latin typeface="Comic Sans MS"/>
              </a:rPr>
              <a:t>Eg:Register-Stor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n event related to</a:t>
            </a:r>
            <a:r>
              <a:rPr b="0" lang="en-US" sz="2200" spc="-1" strike="noStrike">
                <a:solidFill>
                  <a:srgbClr val="000000"/>
                </a:solidFill>
                <a:latin typeface="Comic Sans MS"/>
              </a:rPr>
              <a:t> B. </a:t>
            </a:r>
            <a:r>
              <a:rPr b="0" i="1" lang="en-US" sz="2000" spc="-1" strike="noStrike">
                <a:solidFill>
                  <a:srgbClr val="000000"/>
                </a:solidFill>
                <a:latin typeface="Comic Sans MS"/>
              </a:rPr>
              <a:t>Eg:Sale-Customer.</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744FC9E3-D04D-4D60-9889-204F13A355A4}" type="slidenum">
              <a:t>2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igh-Priority Associations</a:t>
            </a:r>
            <a:endParaRPr b="1" lang="en-US" sz="2800" spc="-1" strike="noStrike">
              <a:solidFill>
                <a:srgbClr val="000000"/>
              </a:solidFill>
              <a:latin typeface="Tahoma"/>
            </a:endParaRPr>
          </a:p>
        </p:txBody>
      </p:sp>
      <p:sp>
        <p:nvSpPr>
          <p:cNvPr id="28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a physical or logical part of</a:t>
            </a:r>
            <a:r>
              <a:rPr b="0" lang="en-US" sz="2200" spc="-1" strike="noStrike">
                <a:solidFill>
                  <a:srgbClr val="000000"/>
                </a:solidFill>
                <a:latin typeface="Comic Sans MS"/>
              </a:rPr>
              <a:t> B.</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physically or logically contained in/on</a:t>
            </a:r>
            <a:r>
              <a:rPr b="0" lang="en-US" sz="2200" spc="-1" strike="noStrike">
                <a:solidFill>
                  <a:srgbClr val="000000"/>
                </a:solidFill>
                <a:latin typeface="Comic Sans MS"/>
              </a:rPr>
              <a:t> B.</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a:t>
            </a:r>
            <a:r>
              <a:rPr b="0" lang="en-US" sz="2200" spc="-1" strike="noStrike">
                <a:solidFill>
                  <a:srgbClr val="3333cc"/>
                </a:solidFill>
                <a:latin typeface="Comic Sans MS"/>
              </a:rPr>
              <a:t>recorded in</a:t>
            </a:r>
            <a:r>
              <a:rPr b="0" lang="en-US" sz="2200" spc="-1" strike="noStrike">
                <a:solidFill>
                  <a:srgbClr val="000000"/>
                </a:solidFill>
                <a:latin typeface="Comic Sans MS"/>
              </a:rPr>
              <a:t> B.</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FE48A8A4-A69E-4665-A0E6-FCA84FBB4DF9}" type="slidenum">
              <a:t>28</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Associations Guidelines</a:t>
            </a:r>
            <a:endParaRPr b="1" lang="en-US" sz="2800" spc="-1" strike="noStrike">
              <a:solidFill>
                <a:srgbClr val="000000"/>
              </a:solidFill>
              <a:latin typeface="Tahoma"/>
            </a:endParaRPr>
          </a:p>
        </p:txBody>
      </p:sp>
      <p:sp>
        <p:nvSpPr>
          <p:cNvPr id="28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nowledge of the relationship needs to be preserved for some duration.</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ing conceptual classes is more important than identifying association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oid showing redundant or derivable associations.</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AA784513-AFC6-405E-A766-E3A625427483}" type="slidenum">
              <a:t>2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 Domain Model</a:t>
            </a:r>
            <a:endParaRPr b="1" lang="en-US" sz="2800" spc="-1" strike="noStrike">
              <a:solidFill>
                <a:srgbClr val="000000"/>
              </a:solidFill>
              <a:latin typeface="Tahoma"/>
            </a:endParaRPr>
          </a:p>
        </p:txBody>
      </p:sp>
      <p:sp>
        <p:nvSpPr>
          <p:cNvPr id="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is the most important model in OO analysi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t introduces noteworthy concepts in a domai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It can act as a source of inspiration for designing some software objects and will be input to several artifacts explored in the case studi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s development entails identifying a rich set of conceptual classes, and is at the heart of object oriented analysi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visual representation of the decomposition of a domain into individual conceptual classes or objects.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a visual dictionary of noteworthy abstraction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Note: A domain model is optional in UP.</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5DD165E6-4A4C-4C05-AB24-7556997B65BE}" type="slidenum">
              <a:t>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Roles</a:t>
            </a:r>
            <a:endParaRPr b="1" lang="en-US" sz="2800" spc="-1" strike="noStrike">
              <a:solidFill>
                <a:srgbClr val="000000"/>
              </a:solidFill>
              <a:latin typeface="Tahoma"/>
            </a:endParaRPr>
          </a:p>
        </p:txBody>
      </p:sp>
      <p:sp>
        <p:nvSpPr>
          <p:cNvPr id="28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ach end of an association is called a rol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les may have </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am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multiplicity express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avigability</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C35B8257-F071-4C2D-9CC7-07E61991E397}" type="slidenum">
              <a:t>30</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ultiplicity</a:t>
            </a:r>
            <a:endParaRPr b="1" lang="en-US" sz="2800" spc="-1" strike="noStrike">
              <a:solidFill>
                <a:srgbClr val="000000"/>
              </a:solidFill>
              <a:latin typeface="Tahoma"/>
            </a:endParaRPr>
          </a:p>
        </p:txBody>
      </p:sp>
      <p:sp>
        <p:nvSpPr>
          <p:cNvPr id="28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Multiplicity</a:t>
            </a:r>
            <a:r>
              <a:rPr b="0" lang="en-US" sz="2200" spc="-1" strike="noStrike">
                <a:solidFill>
                  <a:srgbClr val="000000"/>
                </a:solidFill>
                <a:latin typeface="Comic Sans MS"/>
              </a:rPr>
              <a:t> defines the number of instances of a class A ,that can be associated with one instance of class B,at a particular moment.</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In countries with monogamy laws,a person can be married to 1 person at any particular time.</a:t>
            </a:r>
            <a:r>
              <a:rPr b="0" lang="tr-TR" sz="2000" spc="-1" strike="noStrike">
                <a:solidFill>
                  <a:srgbClr val="000000"/>
                </a:solidFill>
                <a:latin typeface="Comic Sans MS"/>
              </a:rPr>
              <a:t> </a:t>
            </a:r>
            <a:r>
              <a:rPr b="0" lang="en-US" sz="2000" spc="-1" strike="noStrike">
                <a:solidFill>
                  <a:srgbClr val="000000"/>
                </a:solidFill>
                <a:latin typeface="Comic Sans MS"/>
              </a:rPr>
              <a:t>But over a span of time one person can be married to many person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CC7FEB76-E114-40C5-B67D-854D5119DC6C}" type="slidenum">
              <a:t>3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Naming Associations</a:t>
            </a:r>
            <a:endParaRPr b="1" lang="en-US" sz="2800" spc="-1" strike="noStrike">
              <a:solidFill>
                <a:srgbClr val="000000"/>
              </a:solidFill>
              <a:latin typeface="Tahoma"/>
            </a:endParaRPr>
          </a:p>
        </p:txBody>
      </p:sp>
      <p:sp>
        <p:nvSpPr>
          <p:cNvPr id="29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me an association based on </a:t>
            </a:r>
            <a:r>
              <a:rPr b="1" lang="en-US" sz="2000" spc="-1" strike="noStrike">
                <a:solidFill>
                  <a:srgbClr val="3333cc"/>
                </a:solidFill>
                <a:latin typeface="Comic Sans MS"/>
              </a:rPr>
              <a:t>TypeName-VerbPhrase-TypeName</a:t>
            </a:r>
            <a:r>
              <a:rPr b="0" lang="en-US" sz="2200" spc="-1" strike="noStrike">
                <a:solidFill>
                  <a:srgbClr val="000000"/>
                </a:solidFill>
                <a:latin typeface="Comic Sans MS"/>
              </a:rPr>
              <a:t> forma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mes should start with a capital letter.</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egal formats are:</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id-b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idBy</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E45F8EA8-D19D-4A4E-B3EE-F7E5B4E94C5D}" type="slidenum">
              <a:t>32</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Associations Names</a:t>
            </a:r>
            <a:endParaRPr b="1" lang="en-US" sz="2800" spc="-1" strike="noStrike">
              <a:solidFill>
                <a:srgbClr val="000000"/>
              </a:solidFill>
              <a:latin typeface="Tahoma"/>
            </a:endParaRPr>
          </a:p>
        </p:txBody>
      </p:sp>
      <p:graphicFrame>
        <p:nvGraphicFramePr>
          <p:cNvPr id="293" name=""/>
          <p:cNvGraphicFramePr/>
          <p:nvPr/>
        </p:nvGraphicFramePr>
        <p:xfrm>
          <a:off x="1295280" y="914400"/>
          <a:ext cx="6832800" cy="5522760"/>
        </p:xfrm>
        <a:graphic>
          <a:graphicData uri="http://schemas.openxmlformats.org/presentationml/2006/ole">
            <p:oleObj progId="Word.Document.12" r:id="rId1" spid="">
              <p:embed/>
              <p:pic>
                <p:nvPicPr>
                  <p:cNvPr id="294" name="" descr=""/>
                  <p:cNvPicPr/>
                  <p:nvPr/>
                </p:nvPicPr>
                <p:blipFill>
                  <a:blip r:embed="rId2"/>
                  <a:stretch/>
                </p:blipFill>
                <p:spPr>
                  <a:xfrm>
                    <a:off x="1295280" y="914400"/>
                    <a:ext cx="6832800" cy="5522760"/>
                  </a:xfrm>
                  <a:prstGeom prst="rect">
                    <a:avLst/>
                  </a:prstGeom>
                  <a:ln w="0">
                    <a:noFill/>
                  </a:ln>
                </p:spPr>
              </p:pic>
            </p:oleObj>
          </a:graphicData>
        </a:graphic>
      </p:graphicFrame>
      <p:sp>
        <p:nvSpPr>
          <p:cNvPr id="295" name=""/>
          <p:cNvSpPr/>
          <p:nvPr/>
        </p:nvSpPr>
        <p:spPr>
          <a:xfrm>
            <a:off x="3200400" y="601992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5.Association nam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527054D9-5B85-4346-8B8E-CB5A2FB83F22}" type="slidenum">
              <a:t>33</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ultiple Associations</a:t>
            </a:r>
            <a:endParaRPr b="1" lang="en-US" sz="2800" spc="-1" strike="noStrike">
              <a:solidFill>
                <a:srgbClr val="000000"/>
              </a:solidFill>
              <a:latin typeface="Tahoma"/>
            </a:endParaRPr>
          </a:p>
        </p:txBody>
      </p:sp>
      <p:sp>
        <p:nvSpPr>
          <p:cNvPr id="29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wo types may have multiple associations between them.</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g. 9.1</a:t>
            </a:r>
            <a:r>
              <a:rPr b="0" lang="tr-TR" sz="2200" spc="-1" strike="noStrike">
                <a:solidFill>
                  <a:srgbClr val="000000"/>
                </a:solidFill>
                <a:latin typeface="Comic Sans MS"/>
              </a:rPr>
              <a:t>6</a:t>
            </a:r>
            <a:endParaRPr b="0" lang="en-US" sz="2200" spc="-1" strike="noStrike">
              <a:solidFill>
                <a:srgbClr val="000000"/>
              </a:solidFill>
              <a:latin typeface="Comic Sans MS"/>
            </a:endParaRPr>
          </a:p>
        </p:txBody>
      </p:sp>
      <p:pic>
        <p:nvPicPr>
          <p:cNvPr id="298" name="" descr=""/>
          <p:cNvPicPr/>
          <p:nvPr/>
        </p:nvPicPr>
        <p:blipFill>
          <a:blip r:embed="rId1"/>
          <a:stretch/>
        </p:blipFill>
        <p:spPr>
          <a:xfrm>
            <a:off x="1066680" y="2971800"/>
            <a:ext cx="6782040" cy="2016000"/>
          </a:xfrm>
          <a:prstGeom prst="rect">
            <a:avLst/>
          </a:prstGeom>
          <a:ln w="0">
            <a:noFill/>
          </a:ln>
        </p:spPr>
      </p:pic>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5DEB295E-BC3D-4298-8921-71909BC2A77E}" type="slidenum">
              <a:t>34</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mplementation</a:t>
            </a:r>
            <a:endParaRPr b="1" lang="en-US" sz="2800" spc="-1" strike="noStrike">
              <a:solidFill>
                <a:srgbClr val="000000"/>
              </a:solidFill>
              <a:latin typeface="Tahoma"/>
            </a:endParaRPr>
          </a:p>
        </p:txBody>
      </p:sp>
      <p:sp>
        <p:nvSpPr>
          <p:cNvPr id="30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domain model can be updated to reflect the newly discovered association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ut,avoid updating any documentation or model unless there is a concrete justification for future use.</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er design considerations so that extraneous information is not included and maximizing design options later o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A0845476-8F13-41D2-BCC0-E43DD696EE64}" type="slidenum">
              <a:t>35</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Cleaning Associations</a:t>
            </a:r>
            <a:endParaRPr b="1" lang="en-US" sz="2800" spc="-1" strike="noStrike">
              <a:solidFill>
                <a:srgbClr val="000000"/>
              </a:solidFill>
              <a:latin typeface="Tahoma"/>
            </a:endParaRPr>
          </a:p>
        </p:txBody>
      </p:sp>
      <p:sp>
        <p:nvSpPr>
          <p:cNvPr id="30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 not overwhelm the domain model with associations that are not strongly required.</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need-to-know criterion for maintaining association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leting associations that are not strictly demanded on a need-to-know basis can create a model that misses the poin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 comprehension-only associations to enrich critical understanding of the domai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1C84EA57-0443-44D3-8C98-CF4FCA903237}" type="slidenum">
              <a:t>3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17 NextGen POS partial domain model</a:t>
            </a:r>
            <a:br>
              <a:rPr sz="1600"/>
            </a:br>
            <a:endParaRPr b="1" lang="en-US" sz="1600" spc="-1" strike="noStrike">
              <a:solidFill>
                <a:srgbClr val="000000"/>
              </a:solidFill>
              <a:latin typeface="Tahoma"/>
            </a:endParaRPr>
          </a:p>
        </p:txBody>
      </p:sp>
      <p:pic>
        <p:nvPicPr>
          <p:cNvPr id="304" name="" descr=""/>
          <p:cNvPicPr/>
          <p:nvPr/>
        </p:nvPicPr>
        <p:blipFill>
          <a:blip r:embed="rId1"/>
          <a:stretch/>
        </p:blipFill>
        <p:spPr>
          <a:xfrm>
            <a:off x="914400" y="677880"/>
            <a:ext cx="7238880" cy="618012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A327DE92-879B-4556-9B84-DF403F6086C0}" type="slidenum">
              <a:t>37</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Conclusion</a:t>
            </a:r>
            <a:endParaRPr b="1" lang="en-US" sz="2800" spc="-1" strike="noStrike">
              <a:solidFill>
                <a:srgbClr val="000000"/>
              </a:solidFill>
              <a:latin typeface="Tahoma"/>
            </a:endParaRPr>
          </a:p>
        </p:txBody>
      </p:sp>
      <p:sp>
        <p:nvSpPr>
          <p:cNvPr id="30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en in doubt if the concept is required,keep the concep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en in doubt if the the association is required,drop it.</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 not keep derivable associatio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84ABF17F-D71B-4A78-A91B-537BCAF83792}" type="slidenum">
              <a:t>38</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Attributes</a:t>
            </a:r>
            <a:endParaRPr b="1" lang="en-US" sz="2800" spc="-1" strike="noStrike">
              <a:solidFill>
                <a:srgbClr val="000000"/>
              </a:solidFill>
              <a:latin typeface="Tahoma"/>
            </a:endParaRPr>
          </a:p>
        </p:txBody>
      </p:sp>
      <p:sp>
        <p:nvSpPr>
          <p:cNvPr id="30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fter establishing classes based on the concepts of use case scenarios, the scenarios are examined to discover attributes</a:t>
            </a:r>
            <a:r>
              <a:rPr b="0" lang="tr-TR" sz="2200" spc="-1" strike="noStrike">
                <a:solidFill>
                  <a:srgbClr val="000000"/>
                </a:solidFill>
                <a:latin typeface="Comic Sans MS"/>
              </a:rPr>
              <a:t>.</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Attributes</a:t>
            </a:r>
            <a:r>
              <a:rPr b="0" lang="en-US" sz="2200" spc="-1" strike="noStrike">
                <a:solidFill>
                  <a:srgbClr val="000000"/>
                </a:solidFill>
                <a:latin typeface="Comic Sans MS"/>
              </a:rPr>
              <a:t> are logical data values of an object</a:t>
            </a:r>
            <a:r>
              <a:rPr b="0" lang="tr-TR" sz="2200" spc="-1" strike="noStrike">
                <a:solidFill>
                  <a:srgbClr val="00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2863A8B2-7D09-4615-A996-F7F654370FC1}" type="slidenum">
              <a:t>3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98680" y="2421000"/>
            <a:ext cx="1236600" cy="1311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398680" y="2421000"/>
            <a:ext cx="1236600" cy="1311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459880" y="2486160"/>
            <a:ext cx="74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cess Sale</a:t>
            </a:r>
            <a:endParaRPr b="0" lang="en-US" sz="1000" spc="-1" strike="noStrike">
              <a:solidFill>
                <a:srgbClr val="000000"/>
              </a:solidFill>
              <a:latin typeface="Times New Roman"/>
            </a:endParaRPr>
          </a:p>
        </p:txBody>
      </p:sp>
      <p:sp>
        <p:nvSpPr>
          <p:cNvPr id="51" name=""/>
          <p:cNvSpPr/>
          <p:nvPr/>
        </p:nvSpPr>
        <p:spPr>
          <a:xfrm>
            <a:off x="2460240" y="278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52" name=""/>
          <p:cNvSpPr/>
          <p:nvPr/>
        </p:nvSpPr>
        <p:spPr>
          <a:xfrm>
            <a:off x="2526840" y="2781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3" name=""/>
          <p:cNvSpPr/>
          <p:nvPr/>
        </p:nvSpPr>
        <p:spPr>
          <a:xfrm>
            <a:off x="2595600" y="2781360"/>
            <a:ext cx="1000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arrives </a:t>
            </a:r>
            <a:endParaRPr b="0" lang="en-US" sz="1000" spc="-1" strike="noStrike">
              <a:solidFill>
                <a:srgbClr val="000000"/>
              </a:solidFill>
              <a:latin typeface="Times New Roman"/>
            </a:endParaRPr>
          </a:p>
        </p:txBody>
      </p:sp>
      <p:sp>
        <p:nvSpPr>
          <p:cNvPr id="54" name=""/>
          <p:cNvSpPr/>
          <p:nvPr/>
        </p:nvSpPr>
        <p:spPr>
          <a:xfrm>
            <a:off x="2460240" y="292752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55" name=""/>
          <p:cNvSpPr/>
          <p:nvPr/>
        </p:nvSpPr>
        <p:spPr>
          <a:xfrm>
            <a:off x="2460240" y="30751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56" name=""/>
          <p:cNvSpPr/>
          <p:nvPr/>
        </p:nvSpPr>
        <p:spPr>
          <a:xfrm>
            <a:off x="2526480" y="30751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7" name=""/>
          <p:cNvSpPr/>
          <p:nvPr/>
        </p:nvSpPr>
        <p:spPr>
          <a:xfrm>
            <a:off x="2460240" y="3222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58" name=""/>
          <p:cNvSpPr/>
          <p:nvPr/>
        </p:nvSpPr>
        <p:spPr>
          <a:xfrm>
            <a:off x="2526840" y="32227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9" name=""/>
          <p:cNvSpPr/>
          <p:nvPr/>
        </p:nvSpPr>
        <p:spPr>
          <a:xfrm>
            <a:off x="2594880" y="322272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ier enters </a:t>
            </a:r>
            <a:endParaRPr b="0" lang="en-US" sz="1000" spc="-1" strike="noStrike">
              <a:solidFill>
                <a:srgbClr val="000000"/>
              </a:solidFill>
              <a:latin typeface="Times New Roman"/>
            </a:endParaRPr>
          </a:p>
        </p:txBody>
      </p:sp>
      <p:sp>
        <p:nvSpPr>
          <p:cNvPr id="60" name=""/>
          <p:cNvSpPr/>
          <p:nvPr/>
        </p:nvSpPr>
        <p:spPr>
          <a:xfrm>
            <a:off x="2462040" y="337032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identifier</a:t>
            </a:r>
            <a:endParaRPr b="0" lang="en-US" sz="1000" spc="-1" strike="noStrike">
              <a:solidFill>
                <a:srgbClr val="000000"/>
              </a:solidFill>
              <a:latin typeface="Times New Roman"/>
            </a:endParaRPr>
          </a:p>
        </p:txBody>
      </p:sp>
      <p:sp>
        <p:nvSpPr>
          <p:cNvPr id="61" name=""/>
          <p:cNvSpPr/>
          <p:nvPr/>
        </p:nvSpPr>
        <p:spPr>
          <a:xfrm>
            <a:off x="3188880" y="3370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62" name=""/>
          <p:cNvSpPr/>
          <p:nvPr/>
        </p:nvSpPr>
        <p:spPr>
          <a:xfrm>
            <a:off x="2460240" y="3516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63" name=""/>
          <p:cNvSpPr/>
          <p:nvPr/>
        </p:nvSpPr>
        <p:spPr>
          <a:xfrm>
            <a:off x="2526480" y="35164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4" name=""/>
          <p:cNvSpPr/>
          <p:nvPr/>
        </p:nvSpPr>
        <p:spPr>
          <a:xfrm>
            <a:off x="2593440" y="3805200"/>
            <a:ext cx="86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 Case Text</a:t>
            </a:r>
            <a:endParaRPr b="0" lang="en-US" sz="1000" spc="-1" strike="noStrike">
              <a:solidFill>
                <a:srgbClr val="000000"/>
              </a:solidFill>
              <a:latin typeface="Times New Roman"/>
            </a:endParaRPr>
          </a:p>
        </p:txBody>
      </p:sp>
      <p:sp>
        <p:nvSpPr>
          <p:cNvPr id="65" name=""/>
          <p:cNvSpPr/>
          <p:nvPr/>
        </p:nvSpPr>
        <p:spPr>
          <a:xfrm>
            <a:off x="4119480" y="2421000"/>
            <a:ext cx="151776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19480" y="2421000"/>
            <a:ext cx="1517760" cy="79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79240" y="252252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a:t>
            </a:r>
            <a:endParaRPr b="0" lang="en-US" sz="1000" spc="-1" strike="noStrike">
              <a:solidFill>
                <a:srgbClr val="000000"/>
              </a:solidFill>
              <a:latin typeface="Times New Roman"/>
            </a:endParaRPr>
          </a:p>
        </p:txBody>
      </p:sp>
      <p:sp>
        <p:nvSpPr>
          <p:cNvPr id="68" name=""/>
          <p:cNvSpPr/>
          <p:nvPr/>
        </p:nvSpPr>
        <p:spPr>
          <a:xfrm>
            <a:off x="4717800" y="25225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9" name=""/>
          <p:cNvSpPr/>
          <p:nvPr/>
        </p:nvSpPr>
        <p:spPr>
          <a:xfrm>
            <a:off x="4787640" y="252252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Item</a:t>
            </a:r>
            <a:endParaRPr b="0" lang="en-US" sz="1000" spc="-1" strike="noStrike">
              <a:solidFill>
                <a:srgbClr val="000000"/>
              </a:solidFill>
              <a:latin typeface="Times New Roman"/>
            </a:endParaRPr>
          </a:p>
        </p:txBody>
      </p:sp>
      <p:sp>
        <p:nvSpPr>
          <p:cNvPr id="70" name=""/>
          <p:cNvSpPr/>
          <p:nvPr/>
        </p:nvSpPr>
        <p:spPr>
          <a:xfrm>
            <a:off x="5304960" y="2522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1" name=""/>
          <p:cNvSpPr/>
          <p:nvPr/>
        </p:nvSpPr>
        <p:spPr>
          <a:xfrm>
            <a:off x="5346720" y="252252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2" name=""/>
          <p:cNvSpPr/>
          <p:nvPr/>
        </p:nvSpPr>
        <p:spPr>
          <a:xfrm>
            <a:off x="5468760" y="252252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3" name=""/>
          <p:cNvSpPr/>
          <p:nvPr/>
        </p:nvSpPr>
        <p:spPr>
          <a:xfrm>
            <a:off x="4179240" y="281628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a:t>
            </a:r>
            <a:endParaRPr b="0" lang="en-US" sz="1000" spc="-1" strike="noStrike">
              <a:solidFill>
                <a:srgbClr val="000000"/>
              </a:solidFill>
              <a:latin typeface="Times New Roman"/>
            </a:endParaRPr>
          </a:p>
        </p:txBody>
      </p:sp>
      <p:sp>
        <p:nvSpPr>
          <p:cNvPr id="74" name=""/>
          <p:cNvSpPr/>
          <p:nvPr/>
        </p:nvSpPr>
        <p:spPr>
          <a:xfrm>
            <a:off x="4424040" y="28162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5" name=""/>
          <p:cNvSpPr/>
          <p:nvPr/>
        </p:nvSpPr>
        <p:spPr>
          <a:xfrm>
            <a:off x="4466880" y="28162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a:t>
            </a:r>
            <a:endParaRPr b="0" lang="en-US" sz="1000" spc="-1" strike="noStrike">
              <a:solidFill>
                <a:srgbClr val="000000"/>
              </a:solidFill>
              <a:latin typeface="Times New Roman"/>
            </a:endParaRPr>
          </a:p>
        </p:txBody>
      </p:sp>
      <p:sp>
        <p:nvSpPr>
          <p:cNvPr id="76" name=""/>
          <p:cNvSpPr/>
          <p:nvPr/>
        </p:nvSpPr>
        <p:spPr>
          <a:xfrm>
            <a:off x="5017680" y="28162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7" name=""/>
          <p:cNvSpPr/>
          <p:nvPr/>
        </p:nvSpPr>
        <p:spPr>
          <a:xfrm>
            <a:off x="4179600" y="29638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78" name=""/>
          <p:cNvSpPr/>
          <p:nvPr/>
        </p:nvSpPr>
        <p:spPr>
          <a:xfrm>
            <a:off x="4253760" y="2960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a:t>
            </a:r>
            <a:endParaRPr b="0" lang="en-US" sz="1000" spc="-1" strike="noStrike">
              <a:solidFill>
                <a:srgbClr val="000000"/>
              </a:solidFill>
              <a:latin typeface="Times New Roman"/>
            </a:endParaRPr>
          </a:p>
        </p:txBody>
      </p:sp>
      <p:sp>
        <p:nvSpPr>
          <p:cNvPr id="79" name=""/>
          <p:cNvSpPr/>
          <p:nvPr/>
        </p:nvSpPr>
        <p:spPr>
          <a:xfrm>
            <a:off x="4354200" y="3287880"/>
            <a:ext cx="122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 Contracts</a:t>
            </a:r>
            <a:endParaRPr b="0" lang="en-US" sz="1000" spc="-1" strike="noStrike">
              <a:solidFill>
                <a:srgbClr val="000000"/>
              </a:solidFill>
              <a:latin typeface="Times New Roman"/>
            </a:endParaRPr>
          </a:p>
        </p:txBody>
      </p:sp>
      <p:sp>
        <p:nvSpPr>
          <p:cNvPr id="80" name=""/>
          <p:cNvSpPr/>
          <p:nvPr/>
        </p:nvSpPr>
        <p:spPr>
          <a:xfrm>
            <a:off x="2892600" y="561960"/>
            <a:ext cx="8110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892600" y="561960"/>
            <a:ext cx="811080" cy="27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74840" y="62532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a:t>
            </a:r>
            <a:endParaRPr b="0" lang="en-US" sz="1000" spc="-1" strike="noStrike">
              <a:solidFill>
                <a:srgbClr val="000000"/>
              </a:solidFill>
              <a:latin typeface="Times New Roman"/>
            </a:endParaRPr>
          </a:p>
        </p:txBody>
      </p:sp>
      <p:sp>
        <p:nvSpPr>
          <p:cNvPr id="83" name=""/>
          <p:cNvSpPr/>
          <p:nvPr/>
        </p:nvSpPr>
        <p:spPr>
          <a:xfrm>
            <a:off x="2892600" y="836640"/>
            <a:ext cx="8110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892600" y="836640"/>
            <a:ext cx="811080" cy="419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964600" y="898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Times New Roman"/>
            </a:endParaRPr>
          </a:p>
        </p:txBody>
      </p:sp>
      <p:sp>
        <p:nvSpPr>
          <p:cNvPr id="86" name=""/>
          <p:cNvSpPr/>
          <p:nvPr/>
        </p:nvSpPr>
        <p:spPr>
          <a:xfrm>
            <a:off x="2964600" y="1042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a:t>
            </a:r>
            <a:endParaRPr b="0" lang="en-US" sz="1000" spc="-1" strike="noStrike">
              <a:solidFill>
                <a:srgbClr val="000000"/>
              </a:solidFill>
              <a:latin typeface="Times New Roman"/>
            </a:endParaRPr>
          </a:p>
        </p:txBody>
      </p:sp>
      <p:sp>
        <p:nvSpPr>
          <p:cNvPr id="87" name=""/>
          <p:cNvSpPr/>
          <p:nvPr/>
        </p:nvSpPr>
        <p:spPr>
          <a:xfrm>
            <a:off x="4486320" y="561960"/>
            <a:ext cx="81108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86320" y="561960"/>
            <a:ext cx="811080" cy="4176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738680" y="6224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000000"/>
              </a:solidFill>
              <a:latin typeface="Times New Roman"/>
            </a:endParaRPr>
          </a:p>
        </p:txBody>
      </p:sp>
      <p:sp>
        <p:nvSpPr>
          <p:cNvPr id="90" name=""/>
          <p:cNvSpPr/>
          <p:nvPr/>
        </p:nvSpPr>
        <p:spPr>
          <a:xfrm>
            <a:off x="4654440" y="76824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neItem</a:t>
            </a:r>
            <a:endParaRPr b="0" lang="en-US" sz="1000" spc="-1" strike="noStrike">
              <a:solidFill>
                <a:srgbClr val="000000"/>
              </a:solidFill>
              <a:latin typeface="Times New Roman"/>
            </a:endParaRPr>
          </a:p>
        </p:txBody>
      </p:sp>
      <p:sp>
        <p:nvSpPr>
          <p:cNvPr id="91" name=""/>
          <p:cNvSpPr/>
          <p:nvPr/>
        </p:nvSpPr>
        <p:spPr>
          <a:xfrm>
            <a:off x="4486320" y="979560"/>
            <a:ext cx="81108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86320" y="979560"/>
            <a:ext cx="811080" cy="276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56880" y="104292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tity</a:t>
            </a:r>
            <a:endParaRPr b="0" lang="en-US" sz="1000" spc="-1" strike="noStrike">
              <a:solidFill>
                <a:srgbClr val="000000"/>
              </a:solidFill>
              <a:latin typeface="Times New Roman"/>
            </a:endParaRPr>
          </a:p>
        </p:txBody>
      </p:sp>
      <p:sp>
        <p:nvSpPr>
          <p:cNvPr id="94" name=""/>
          <p:cNvSpPr/>
          <p:nvPr/>
        </p:nvSpPr>
        <p:spPr>
          <a:xfrm>
            <a:off x="3703680" y="907920"/>
            <a:ext cx="7826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4241520" y="669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6" name=""/>
          <p:cNvSpPr/>
          <p:nvPr/>
        </p:nvSpPr>
        <p:spPr>
          <a:xfrm>
            <a:off x="4308120" y="669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97" name=""/>
          <p:cNvSpPr/>
          <p:nvPr/>
        </p:nvSpPr>
        <p:spPr>
          <a:xfrm>
            <a:off x="4376160" y="64440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8" name=""/>
          <p:cNvSpPr/>
          <p:nvPr/>
        </p:nvSpPr>
        <p:spPr>
          <a:xfrm>
            <a:off x="3811320" y="660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9" name=""/>
          <p:cNvSpPr/>
          <p:nvPr/>
        </p:nvSpPr>
        <p:spPr>
          <a:xfrm>
            <a:off x="6151680" y="633240"/>
            <a:ext cx="8110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151680" y="633240"/>
            <a:ext cx="811080" cy="27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71720" y="6922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a:t>
            </a:r>
            <a:endParaRPr b="0" lang="en-US" sz="1000" spc="-1" strike="noStrike">
              <a:solidFill>
                <a:srgbClr val="000000"/>
              </a:solidFill>
              <a:latin typeface="Times New Roman"/>
            </a:endParaRPr>
          </a:p>
        </p:txBody>
      </p:sp>
      <p:sp>
        <p:nvSpPr>
          <p:cNvPr id="102" name=""/>
          <p:cNvSpPr/>
          <p:nvPr/>
        </p:nvSpPr>
        <p:spPr>
          <a:xfrm>
            <a:off x="6151680" y="907920"/>
            <a:ext cx="811080" cy="27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151680" y="907920"/>
            <a:ext cx="811080" cy="27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22240" y="9684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a:t>
            </a:r>
            <a:endParaRPr b="0" lang="en-US" sz="1000" spc="-1" strike="noStrike">
              <a:solidFill>
                <a:srgbClr val="000000"/>
              </a:solidFill>
              <a:latin typeface="Times New Roman"/>
            </a:endParaRPr>
          </a:p>
        </p:txBody>
      </p:sp>
      <p:sp>
        <p:nvSpPr>
          <p:cNvPr id="105" name=""/>
          <p:cNvSpPr/>
          <p:nvPr/>
        </p:nvSpPr>
        <p:spPr>
          <a:xfrm>
            <a:off x="5297400" y="907920"/>
            <a:ext cx="8542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flipV="1">
            <a:off x="2682720" y="1577880"/>
            <a:ext cx="179640" cy="75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819520" y="1465200"/>
            <a:ext cx="82440" cy="133560"/>
          </a:xfrm>
          <a:custGeom>
            <a:avLst/>
            <a:gdLst/>
            <a:ahLst/>
            <a:rect l="l" t="t" r="r" b="b"/>
            <a:pathLst>
              <a:path w="104" h="168">
                <a:moveTo>
                  <a:pt x="0" y="144"/>
                </a:moveTo>
                <a:lnTo>
                  <a:pt x="89" y="0"/>
                </a:lnTo>
                <a:lnTo>
                  <a:pt x="104" y="168"/>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780080" y="1465200"/>
            <a:ext cx="180720" cy="846360"/>
          </a:xfrm>
          <a:custGeom>
            <a:avLst/>
            <a:gdLst/>
            <a:ahLst/>
            <a:rect l="l" t="t" r="r" b="b"/>
            <a:pathLst>
              <a:path w="229" h="1065">
                <a:moveTo>
                  <a:pt x="229" y="0"/>
                </a:moveTo>
                <a:lnTo>
                  <a:pt x="202" y="157"/>
                </a:lnTo>
                <a:lnTo>
                  <a:pt x="187" y="235"/>
                </a:lnTo>
                <a:lnTo>
                  <a:pt x="173" y="312"/>
                </a:lnTo>
                <a:lnTo>
                  <a:pt x="157" y="389"/>
                </a:lnTo>
                <a:lnTo>
                  <a:pt x="142" y="463"/>
                </a:lnTo>
                <a:lnTo>
                  <a:pt x="128" y="535"/>
                </a:lnTo>
                <a:lnTo>
                  <a:pt x="113" y="606"/>
                </a:lnTo>
                <a:lnTo>
                  <a:pt x="97" y="676"/>
                </a:lnTo>
                <a:lnTo>
                  <a:pt x="83" y="741"/>
                </a:lnTo>
                <a:lnTo>
                  <a:pt x="68" y="805"/>
                </a:lnTo>
                <a:lnTo>
                  <a:pt x="54" y="864"/>
                </a:lnTo>
                <a:lnTo>
                  <a:pt x="41" y="921"/>
                </a:lnTo>
                <a:lnTo>
                  <a:pt x="34" y="947"/>
                </a:lnTo>
                <a:lnTo>
                  <a:pt x="26" y="973"/>
                </a:lnTo>
                <a:lnTo>
                  <a:pt x="21" y="997"/>
                </a:lnTo>
                <a:lnTo>
                  <a:pt x="13" y="1022"/>
                </a:lnTo>
                <a:lnTo>
                  <a:pt x="8" y="1044"/>
                </a:lnTo>
                <a:lnTo>
                  <a:pt x="0" y="106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740120" y="2287440"/>
            <a:ext cx="82800" cy="133560"/>
          </a:xfrm>
          <a:custGeom>
            <a:avLst/>
            <a:gdLst/>
            <a:ahLst/>
            <a:rect l="l" t="t" r="r" b="b"/>
            <a:pathLst>
              <a:path w="104" h="168">
                <a:moveTo>
                  <a:pt x="104" y="36"/>
                </a:moveTo>
                <a:lnTo>
                  <a:pt x="0" y="168"/>
                </a:lnTo>
                <a:lnTo>
                  <a:pt x="4" y="0"/>
                </a:lnTo>
                <a:lnTo>
                  <a:pt x="10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87440" y="1589040"/>
            <a:ext cx="1059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domain objects</a:t>
            </a:r>
            <a:endParaRPr b="0" lang="en-US" sz="1000" spc="-1" strike="noStrike">
              <a:solidFill>
                <a:srgbClr val="000000"/>
              </a:solidFill>
              <a:latin typeface="Times New Roman"/>
            </a:endParaRPr>
          </a:p>
        </p:txBody>
      </p:sp>
      <p:sp>
        <p:nvSpPr>
          <p:cNvPr id="111" name=""/>
          <p:cNvSpPr/>
          <p:nvPr/>
        </p:nvSpPr>
        <p:spPr>
          <a:xfrm>
            <a:off x="6016320" y="15890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2" name=""/>
          <p:cNvSpPr/>
          <p:nvPr/>
        </p:nvSpPr>
        <p:spPr>
          <a:xfrm>
            <a:off x="4987080" y="173664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tributes</a:t>
            </a:r>
            <a:endParaRPr b="0" lang="en-US" sz="1000" spc="-1" strike="noStrike">
              <a:solidFill>
                <a:srgbClr val="000000"/>
              </a:solidFill>
              <a:latin typeface="Times New Roman"/>
            </a:endParaRPr>
          </a:p>
        </p:txBody>
      </p:sp>
      <p:sp>
        <p:nvSpPr>
          <p:cNvPr id="113" name=""/>
          <p:cNvSpPr/>
          <p:nvPr/>
        </p:nvSpPr>
        <p:spPr>
          <a:xfrm>
            <a:off x="5492520" y="17366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4" name=""/>
          <p:cNvSpPr/>
          <p:nvPr/>
        </p:nvSpPr>
        <p:spPr>
          <a:xfrm>
            <a:off x="5559480" y="1736640"/>
            <a:ext cx="977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d associations </a:t>
            </a:r>
            <a:endParaRPr b="0" lang="en-US" sz="1000" spc="-1" strike="noStrike">
              <a:solidFill>
                <a:srgbClr val="000000"/>
              </a:solidFill>
              <a:latin typeface="Times New Roman"/>
            </a:endParaRPr>
          </a:p>
        </p:txBody>
      </p:sp>
      <p:sp>
        <p:nvSpPr>
          <p:cNvPr id="115" name=""/>
          <p:cNvSpPr/>
          <p:nvPr/>
        </p:nvSpPr>
        <p:spPr>
          <a:xfrm>
            <a:off x="4984560" y="1882800"/>
            <a:ext cx="153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at undergo state changes</a:t>
            </a:r>
            <a:endParaRPr b="0" lang="en-US" sz="1000" spc="-1" strike="noStrike">
              <a:solidFill>
                <a:srgbClr val="000000"/>
              </a:solidFill>
              <a:latin typeface="Times New Roman"/>
            </a:endParaRPr>
          </a:p>
        </p:txBody>
      </p:sp>
      <p:sp>
        <p:nvSpPr>
          <p:cNvPr id="116" name=""/>
          <p:cNvSpPr/>
          <p:nvPr/>
        </p:nvSpPr>
        <p:spPr>
          <a:xfrm>
            <a:off x="2176560" y="252360"/>
            <a:ext cx="5486400" cy="1195560"/>
          </a:xfrm>
          <a:custGeom>
            <a:avLst/>
            <a:gdLst/>
            <a:ahLst/>
            <a:rect l="l" t="t" r="r" b="b"/>
            <a:pathLst>
              <a:path w="6911" h="1508">
                <a:moveTo>
                  <a:pt x="364" y="1484"/>
                </a:moveTo>
                <a:lnTo>
                  <a:pt x="711" y="1484"/>
                </a:lnTo>
                <a:lnTo>
                  <a:pt x="714" y="1484"/>
                </a:lnTo>
                <a:lnTo>
                  <a:pt x="716" y="1486"/>
                </a:lnTo>
                <a:lnTo>
                  <a:pt x="719" y="1487"/>
                </a:lnTo>
                <a:lnTo>
                  <a:pt x="720" y="1489"/>
                </a:lnTo>
                <a:lnTo>
                  <a:pt x="722" y="1490"/>
                </a:lnTo>
                <a:lnTo>
                  <a:pt x="723" y="1492"/>
                </a:lnTo>
                <a:lnTo>
                  <a:pt x="723" y="1494"/>
                </a:lnTo>
                <a:lnTo>
                  <a:pt x="723" y="1496"/>
                </a:lnTo>
                <a:lnTo>
                  <a:pt x="723" y="1499"/>
                </a:lnTo>
                <a:lnTo>
                  <a:pt x="723" y="1500"/>
                </a:lnTo>
                <a:lnTo>
                  <a:pt x="722" y="1503"/>
                </a:lnTo>
                <a:lnTo>
                  <a:pt x="720" y="1505"/>
                </a:lnTo>
                <a:lnTo>
                  <a:pt x="719" y="1506"/>
                </a:lnTo>
                <a:lnTo>
                  <a:pt x="716" y="1508"/>
                </a:lnTo>
                <a:lnTo>
                  <a:pt x="714" y="1508"/>
                </a:lnTo>
                <a:lnTo>
                  <a:pt x="711" y="1508"/>
                </a:lnTo>
                <a:lnTo>
                  <a:pt x="364" y="1508"/>
                </a:lnTo>
                <a:lnTo>
                  <a:pt x="362" y="1508"/>
                </a:lnTo>
                <a:lnTo>
                  <a:pt x="359" y="1508"/>
                </a:lnTo>
                <a:lnTo>
                  <a:pt x="358" y="1506"/>
                </a:lnTo>
                <a:lnTo>
                  <a:pt x="356" y="1505"/>
                </a:lnTo>
                <a:lnTo>
                  <a:pt x="355" y="1503"/>
                </a:lnTo>
                <a:lnTo>
                  <a:pt x="353" y="1500"/>
                </a:lnTo>
                <a:lnTo>
                  <a:pt x="352" y="1499"/>
                </a:lnTo>
                <a:lnTo>
                  <a:pt x="352" y="1496"/>
                </a:lnTo>
                <a:lnTo>
                  <a:pt x="352" y="1494"/>
                </a:lnTo>
                <a:lnTo>
                  <a:pt x="353" y="1492"/>
                </a:lnTo>
                <a:lnTo>
                  <a:pt x="355" y="1490"/>
                </a:lnTo>
                <a:lnTo>
                  <a:pt x="356" y="1489"/>
                </a:lnTo>
                <a:lnTo>
                  <a:pt x="358" y="1487"/>
                </a:lnTo>
                <a:lnTo>
                  <a:pt x="359" y="1486"/>
                </a:lnTo>
                <a:lnTo>
                  <a:pt x="362" y="1484"/>
                </a:lnTo>
                <a:lnTo>
                  <a:pt x="364" y="1484"/>
                </a:lnTo>
                <a:lnTo>
                  <a:pt x="364" y="1484"/>
                </a:lnTo>
                <a:close/>
                <a:moveTo>
                  <a:pt x="920" y="1484"/>
                </a:moveTo>
                <a:lnTo>
                  <a:pt x="1268" y="1484"/>
                </a:lnTo>
                <a:lnTo>
                  <a:pt x="1271" y="1484"/>
                </a:lnTo>
                <a:lnTo>
                  <a:pt x="1272" y="1486"/>
                </a:lnTo>
                <a:lnTo>
                  <a:pt x="1275" y="1487"/>
                </a:lnTo>
                <a:lnTo>
                  <a:pt x="1277" y="1489"/>
                </a:lnTo>
                <a:lnTo>
                  <a:pt x="1278" y="1490"/>
                </a:lnTo>
                <a:lnTo>
                  <a:pt x="1280" y="1492"/>
                </a:lnTo>
                <a:lnTo>
                  <a:pt x="1280" y="1494"/>
                </a:lnTo>
                <a:lnTo>
                  <a:pt x="1280" y="1496"/>
                </a:lnTo>
                <a:lnTo>
                  <a:pt x="1280" y="1499"/>
                </a:lnTo>
                <a:lnTo>
                  <a:pt x="1280" y="1500"/>
                </a:lnTo>
                <a:lnTo>
                  <a:pt x="1278" y="1503"/>
                </a:lnTo>
                <a:lnTo>
                  <a:pt x="1277" y="1505"/>
                </a:lnTo>
                <a:lnTo>
                  <a:pt x="1275" y="1506"/>
                </a:lnTo>
                <a:lnTo>
                  <a:pt x="1272" y="1508"/>
                </a:lnTo>
                <a:lnTo>
                  <a:pt x="1271" y="1508"/>
                </a:lnTo>
                <a:lnTo>
                  <a:pt x="1268" y="1508"/>
                </a:lnTo>
                <a:lnTo>
                  <a:pt x="920" y="1508"/>
                </a:lnTo>
                <a:lnTo>
                  <a:pt x="919" y="1508"/>
                </a:lnTo>
                <a:lnTo>
                  <a:pt x="916" y="1508"/>
                </a:lnTo>
                <a:lnTo>
                  <a:pt x="914" y="1506"/>
                </a:lnTo>
                <a:lnTo>
                  <a:pt x="913" y="1505"/>
                </a:lnTo>
                <a:lnTo>
                  <a:pt x="911" y="1503"/>
                </a:lnTo>
                <a:lnTo>
                  <a:pt x="910" y="1500"/>
                </a:lnTo>
                <a:lnTo>
                  <a:pt x="909" y="1499"/>
                </a:lnTo>
                <a:lnTo>
                  <a:pt x="909" y="1496"/>
                </a:lnTo>
                <a:lnTo>
                  <a:pt x="909" y="1494"/>
                </a:lnTo>
                <a:lnTo>
                  <a:pt x="910" y="1492"/>
                </a:lnTo>
                <a:lnTo>
                  <a:pt x="911" y="1490"/>
                </a:lnTo>
                <a:lnTo>
                  <a:pt x="913" y="1489"/>
                </a:lnTo>
                <a:lnTo>
                  <a:pt x="914" y="1487"/>
                </a:lnTo>
                <a:lnTo>
                  <a:pt x="916" y="1486"/>
                </a:lnTo>
                <a:lnTo>
                  <a:pt x="919" y="1484"/>
                </a:lnTo>
                <a:lnTo>
                  <a:pt x="920" y="1484"/>
                </a:lnTo>
                <a:lnTo>
                  <a:pt x="920" y="1484"/>
                </a:lnTo>
                <a:close/>
                <a:moveTo>
                  <a:pt x="1477" y="1484"/>
                </a:moveTo>
                <a:lnTo>
                  <a:pt x="1825" y="1484"/>
                </a:lnTo>
                <a:lnTo>
                  <a:pt x="1827" y="1484"/>
                </a:lnTo>
                <a:lnTo>
                  <a:pt x="1829" y="1486"/>
                </a:lnTo>
                <a:lnTo>
                  <a:pt x="1832" y="1487"/>
                </a:lnTo>
                <a:lnTo>
                  <a:pt x="1833" y="1489"/>
                </a:lnTo>
                <a:lnTo>
                  <a:pt x="1835" y="1490"/>
                </a:lnTo>
                <a:lnTo>
                  <a:pt x="1836" y="1492"/>
                </a:lnTo>
                <a:lnTo>
                  <a:pt x="1836" y="1494"/>
                </a:lnTo>
                <a:lnTo>
                  <a:pt x="1836" y="1496"/>
                </a:lnTo>
                <a:lnTo>
                  <a:pt x="1836" y="1499"/>
                </a:lnTo>
                <a:lnTo>
                  <a:pt x="1836" y="1500"/>
                </a:lnTo>
                <a:lnTo>
                  <a:pt x="1835" y="1503"/>
                </a:lnTo>
                <a:lnTo>
                  <a:pt x="1833" y="1505"/>
                </a:lnTo>
                <a:lnTo>
                  <a:pt x="1832" y="1506"/>
                </a:lnTo>
                <a:lnTo>
                  <a:pt x="1829" y="1508"/>
                </a:lnTo>
                <a:lnTo>
                  <a:pt x="1827" y="1508"/>
                </a:lnTo>
                <a:lnTo>
                  <a:pt x="1825" y="1508"/>
                </a:lnTo>
                <a:lnTo>
                  <a:pt x="1477" y="1508"/>
                </a:lnTo>
                <a:lnTo>
                  <a:pt x="1475" y="1508"/>
                </a:lnTo>
                <a:lnTo>
                  <a:pt x="1472" y="1508"/>
                </a:lnTo>
                <a:lnTo>
                  <a:pt x="1471" y="1506"/>
                </a:lnTo>
                <a:lnTo>
                  <a:pt x="1469" y="1505"/>
                </a:lnTo>
                <a:lnTo>
                  <a:pt x="1468" y="1503"/>
                </a:lnTo>
                <a:lnTo>
                  <a:pt x="1467" y="1500"/>
                </a:lnTo>
                <a:lnTo>
                  <a:pt x="1465" y="1499"/>
                </a:lnTo>
                <a:lnTo>
                  <a:pt x="1465" y="1496"/>
                </a:lnTo>
                <a:lnTo>
                  <a:pt x="1465" y="1494"/>
                </a:lnTo>
                <a:lnTo>
                  <a:pt x="1467" y="1492"/>
                </a:lnTo>
                <a:lnTo>
                  <a:pt x="1468" y="1490"/>
                </a:lnTo>
                <a:lnTo>
                  <a:pt x="1469" y="1489"/>
                </a:lnTo>
                <a:lnTo>
                  <a:pt x="1471" y="1487"/>
                </a:lnTo>
                <a:lnTo>
                  <a:pt x="1472" y="1486"/>
                </a:lnTo>
                <a:lnTo>
                  <a:pt x="1475" y="1484"/>
                </a:lnTo>
                <a:lnTo>
                  <a:pt x="1477" y="1484"/>
                </a:lnTo>
                <a:lnTo>
                  <a:pt x="1477" y="1484"/>
                </a:lnTo>
                <a:close/>
                <a:moveTo>
                  <a:pt x="2033" y="1484"/>
                </a:moveTo>
                <a:lnTo>
                  <a:pt x="2381" y="1484"/>
                </a:lnTo>
                <a:lnTo>
                  <a:pt x="2384" y="1484"/>
                </a:lnTo>
                <a:lnTo>
                  <a:pt x="2385" y="1486"/>
                </a:lnTo>
                <a:lnTo>
                  <a:pt x="2388" y="1487"/>
                </a:lnTo>
                <a:lnTo>
                  <a:pt x="2390" y="1489"/>
                </a:lnTo>
                <a:lnTo>
                  <a:pt x="2391" y="1490"/>
                </a:lnTo>
                <a:lnTo>
                  <a:pt x="2393" y="1492"/>
                </a:lnTo>
                <a:lnTo>
                  <a:pt x="2393" y="1494"/>
                </a:lnTo>
                <a:lnTo>
                  <a:pt x="2393" y="1496"/>
                </a:lnTo>
                <a:lnTo>
                  <a:pt x="2393" y="1499"/>
                </a:lnTo>
                <a:lnTo>
                  <a:pt x="2393" y="1500"/>
                </a:lnTo>
                <a:lnTo>
                  <a:pt x="2391" y="1503"/>
                </a:lnTo>
                <a:lnTo>
                  <a:pt x="2390" y="1505"/>
                </a:lnTo>
                <a:lnTo>
                  <a:pt x="2388" y="1506"/>
                </a:lnTo>
                <a:lnTo>
                  <a:pt x="2385" y="1508"/>
                </a:lnTo>
                <a:lnTo>
                  <a:pt x="2384" y="1508"/>
                </a:lnTo>
                <a:lnTo>
                  <a:pt x="2381" y="1508"/>
                </a:lnTo>
                <a:lnTo>
                  <a:pt x="2033" y="1508"/>
                </a:lnTo>
                <a:lnTo>
                  <a:pt x="2032" y="1508"/>
                </a:lnTo>
                <a:lnTo>
                  <a:pt x="2029" y="1508"/>
                </a:lnTo>
                <a:lnTo>
                  <a:pt x="2027" y="1506"/>
                </a:lnTo>
                <a:lnTo>
                  <a:pt x="2026" y="1505"/>
                </a:lnTo>
                <a:lnTo>
                  <a:pt x="2025" y="1503"/>
                </a:lnTo>
                <a:lnTo>
                  <a:pt x="2023" y="1500"/>
                </a:lnTo>
                <a:lnTo>
                  <a:pt x="2022" y="1499"/>
                </a:lnTo>
                <a:lnTo>
                  <a:pt x="2022" y="1496"/>
                </a:lnTo>
                <a:lnTo>
                  <a:pt x="2022" y="1494"/>
                </a:lnTo>
                <a:lnTo>
                  <a:pt x="2023" y="1492"/>
                </a:lnTo>
                <a:lnTo>
                  <a:pt x="2025" y="1490"/>
                </a:lnTo>
                <a:lnTo>
                  <a:pt x="2026" y="1489"/>
                </a:lnTo>
                <a:lnTo>
                  <a:pt x="2027" y="1487"/>
                </a:lnTo>
                <a:lnTo>
                  <a:pt x="2029" y="1486"/>
                </a:lnTo>
                <a:lnTo>
                  <a:pt x="2032" y="1484"/>
                </a:lnTo>
                <a:lnTo>
                  <a:pt x="2033" y="1484"/>
                </a:lnTo>
                <a:lnTo>
                  <a:pt x="2033" y="1484"/>
                </a:lnTo>
                <a:close/>
                <a:moveTo>
                  <a:pt x="2590" y="1484"/>
                </a:moveTo>
                <a:lnTo>
                  <a:pt x="2938" y="1484"/>
                </a:lnTo>
                <a:lnTo>
                  <a:pt x="2941" y="1484"/>
                </a:lnTo>
                <a:lnTo>
                  <a:pt x="2942" y="1486"/>
                </a:lnTo>
                <a:lnTo>
                  <a:pt x="2945" y="1487"/>
                </a:lnTo>
                <a:lnTo>
                  <a:pt x="2946" y="1489"/>
                </a:lnTo>
                <a:lnTo>
                  <a:pt x="2948" y="1490"/>
                </a:lnTo>
                <a:lnTo>
                  <a:pt x="2949" y="1492"/>
                </a:lnTo>
                <a:lnTo>
                  <a:pt x="2949" y="1494"/>
                </a:lnTo>
                <a:lnTo>
                  <a:pt x="2949" y="1496"/>
                </a:lnTo>
                <a:lnTo>
                  <a:pt x="2949" y="1499"/>
                </a:lnTo>
                <a:lnTo>
                  <a:pt x="2949" y="1500"/>
                </a:lnTo>
                <a:lnTo>
                  <a:pt x="2948" y="1503"/>
                </a:lnTo>
                <a:lnTo>
                  <a:pt x="2946" y="1505"/>
                </a:lnTo>
                <a:lnTo>
                  <a:pt x="2945" y="1506"/>
                </a:lnTo>
                <a:lnTo>
                  <a:pt x="2942" y="1508"/>
                </a:lnTo>
                <a:lnTo>
                  <a:pt x="2941" y="1508"/>
                </a:lnTo>
                <a:lnTo>
                  <a:pt x="2938" y="1508"/>
                </a:lnTo>
                <a:lnTo>
                  <a:pt x="2590" y="1508"/>
                </a:lnTo>
                <a:lnTo>
                  <a:pt x="2588" y="1508"/>
                </a:lnTo>
                <a:lnTo>
                  <a:pt x="2586" y="1508"/>
                </a:lnTo>
                <a:lnTo>
                  <a:pt x="2584" y="1506"/>
                </a:lnTo>
                <a:lnTo>
                  <a:pt x="2583" y="1505"/>
                </a:lnTo>
                <a:lnTo>
                  <a:pt x="2581" y="1503"/>
                </a:lnTo>
                <a:lnTo>
                  <a:pt x="2580" y="1500"/>
                </a:lnTo>
                <a:lnTo>
                  <a:pt x="2578" y="1499"/>
                </a:lnTo>
                <a:lnTo>
                  <a:pt x="2578" y="1496"/>
                </a:lnTo>
                <a:lnTo>
                  <a:pt x="2578" y="1494"/>
                </a:lnTo>
                <a:lnTo>
                  <a:pt x="2580" y="1492"/>
                </a:lnTo>
                <a:lnTo>
                  <a:pt x="2581" y="1490"/>
                </a:lnTo>
                <a:lnTo>
                  <a:pt x="2583" y="1489"/>
                </a:lnTo>
                <a:lnTo>
                  <a:pt x="2584" y="1487"/>
                </a:lnTo>
                <a:lnTo>
                  <a:pt x="2586" y="1486"/>
                </a:lnTo>
                <a:lnTo>
                  <a:pt x="2588" y="1484"/>
                </a:lnTo>
                <a:lnTo>
                  <a:pt x="2590" y="1484"/>
                </a:lnTo>
                <a:lnTo>
                  <a:pt x="2590" y="1484"/>
                </a:lnTo>
                <a:close/>
                <a:moveTo>
                  <a:pt x="3146" y="1484"/>
                </a:moveTo>
                <a:lnTo>
                  <a:pt x="3494" y="1484"/>
                </a:lnTo>
                <a:lnTo>
                  <a:pt x="3497" y="1484"/>
                </a:lnTo>
                <a:lnTo>
                  <a:pt x="3499" y="1486"/>
                </a:lnTo>
                <a:lnTo>
                  <a:pt x="3502" y="1487"/>
                </a:lnTo>
                <a:lnTo>
                  <a:pt x="3503" y="1489"/>
                </a:lnTo>
                <a:lnTo>
                  <a:pt x="3504" y="1490"/>
                </a:lnTo>
                <a:lnTo>
                  <a:pt x="3506" y="1492"/>
                </a:lnTo>
                <a:lnTo>
                  <a:pt x="3506" y="1494"/>
                </a:lnTo>
                <a:lnTo>
                  <a:pt x="3506" y="1496"/>
                </a:lnTo>
                <a:lnTo>
                  <a:pt x="3506" y="1499"/>
                </a:lnTo>
                <a:lnTo>
                  <a:pt x="3506" y="1500"/>
                </a:lnTo>
                <a:lnTo>
                  <a:pt x="3504" y="1503"/>
                </a:lnTo>
                <a:lnTo>
                  <a:pt x="3503" y="1505"/>
                </a:lnTo>
                <a:lnTo>
                  <a:pt x="3502" y="1506"/>
                </a:lnTo>
                <a:lnTo>
                  <a:pt x="3499" y="1508"/>
                </a:lnTo>
                <a:lnTo>
                  <a:pt x="3497" y="1508"/>
                </a:lnTo>
                <a:lnTo>
                  <a:pt x="3494" y="1508"/>
                </a:lnTo>
                <a:lnTo>
                  <a:pt x="3146" y="1508"/>
                </a:lnTo>
                <a:lnTo>
                  <a:pt x="3145" y="1508"/>
                </a:lnTo>
                <a:lnTo>
                  <a:pt x="3142" y="1508"/>
                </a:lnTo>
                <a:lnTo>
                  <a:pt x="3141" y="1506"/>
                </a:lnTo>
                <a:lnTo>
                  <a:pt x="3139" y="1505"/>
                </a:lnTo>
                <a:lnTo>
                  <a:pt x="3138" y="1503"/>
                </a:lnTo>
                <a:lnTo>
                  <a:pt x="3136" y="1500"/>
                </a:lnTo>
                <a:lnTo>
                  <a:pt x="3135" y="1499"/>
                </a:lnTo>
                <a:lnTo>
                  <a:pt x="3135" y="1496"/>
                </a:lnTo>
                <a:lnTo>
                  <a:pt x="3135" y="1494"/>
                </a:lnTo>
                <a:lnTo>
                  <a:pt x="3136" y="1492"/>
                </a:lnTo>
                <a:lnTo>
                  <a:pt x="3138" y="1490"/>
                </a:lnTo>
                <a:lnTo>
                  <a:pt x="3139" y="1489"/>
                </a:lnTo>
                <a:lnTo>
                  <a:pt x="3141" y="1487"/>
                </a:lnTo>
                <a:lnTo>
                  <a:pt x="3142" y="1486"/>
                </a:lnTo>
                <a:lnTo>
                  <a:pt x="3145" y="1484"/>
                </a:lnTo>
                <a:lnTo>
                  <a:pt x="3146" y="1484"/>
                </a:lnTo>
                <a:lnTo>
                  <a:pt x="3146" y="1484"/>
                </a:lnTo>
                <a:close/>
                <a:moveTo>
                  <a:pt x="3703" y="1484"/>
                </a:moveTo>
                <a:lnTo>
                  <a:pt x="4051" y="1484"/>
                </a:lnTo>
                <a:lnTo>
                  <a:pt x="4054" y="1484"/>
                </a:lnTo>
                <a:lnTo>
                  <a:pt x="4055" y="1486"/>
                </a:lnTo>
                <a:lnTo>
                  <a:pt x="4058" y="1487"/>
                </a:lnTo>
                <a:lnTo>
                  <a:pt x="4060" y="1489"/>
                </a:lnTo>
                <a:lnTo>
                  <a:pt x="4061" y="1490"/>
                </a:lnTo>
                <a:lnTo>
                  <a:pt x="4063" y="1492"/>
                </a:lnTo>
                <a:lnTo>
                  <a:pt x="4063" y="1494"/>
                </a:lnTo>
                <a:lnTo>
                  <a:pt x="4063" y="1496"/>
                </a:lnTo>
                <a:lnTo>
                  <a:pt x="4063" y="1499"/>
                </a:lnTo>
                <a:lnTo>
                  <a:pt x="4063" y="1500"/>
                </a:lnTo>
                <a:lnTo>
                  <a:pt x="4061" y="1503"/>
                </a:lnTo>
                <a:lnTo>
                  <a:pt x="4060" y="1505"/>
                </a:lnTo>
                <a:lnTo>
                  <a:pt x="4058" y="1506"/>
                </a:lnTo>
                <a:lnTo>
                  <a:pt x="4055" y="1508"/>
                </a:lnTo>
                <a:lnTo>
                  <a:pt x="4054" y="1508"/>
                </a:lnTo>
                <a:lnTo>
                  <a:pt x="4051" y="1508"/>
                </a:lnTo>
                <a:lnTo>
                  <a:pt x="3703" y="1508"/>
                </a:lnTo>
                <a:lnTo>
                  <a:pt x="3702" y="1508"/>
                </a:lnTo>
                <a:lnTo>
                  <a:pt x="3699" y="1508"/>
                </a:lnTo>
                <a:lnTo>
                  <a:pt x="3697" y="1506"/>
                </a:lnTo>
                <a:lnTo>
                  <a:pt x="3696" y="1505"/>
                </a:lnTo>
                <a:lnTo>
                  <a:pt x="3694" y="1503"/>
                </a:lnTo>
                <a:lnTo>
                  <a:pt x="3693" y="1500"/>
                </a:lnTo>
                <a:lnTo>
                  <a:pt x="3691" y="1499"/>
                </a:lnTo>
                <a:lnTo>
                  <a:pt x="3691" y="1496"/>
                </a:lnTo>
                <a:lnTo>
                  <a:pt x="3691" y="1494"/>
                </a:lnTo>
                <a:lnTo>
                  <a:pt x="3693" y="1492"/>
                </a:lnTo>
                <a:lnTo>
                  <a:pt x="3694" y="1490"/>
                </a:lnTo>
                <a:lnTo>
                  <a:pt x="3696" y="1489"/>
                </a:lnTo>
                <a:lnTo>
                  <a:pt x="3697" y="1487"/>
                </a:lnTo>
                <a:lnTo>
                  <a:pt x="3699" y="1486"/>
                </a:lnTo>
                <a:lnTo>
                  <a:pt x="3702" y="1484"/>
                </a:lnTo>
                <a:lnTo>
                  <a:pt x="3703" y="1484"/>
                </a:lnTo>
                <a:lnTo>
                  <a:pt x="3703" y="1484"/>
                </a:lnTo>
                <a:close/>
                <a:moveTo>
                  <a:pt x="4260" y="1484"/>
                </a:moveTo>
                <a:lnTo>
                  <a:pt x="4607" y="1484"/>
                </a:lnTo>
                <a:lnTo>
                  <a:pt x="4610" y="1484"/>
                </a:lnTo>
                <a:lnTo>
                  <a:pt x="4612" y="1486"/>
                </a:lnTo>
                <a:lnTo>
                  <a:pt x="4615" y="1487"/>
                </a:lnTo>
                <a:lnTo>
                  <a:pt x="4616" y="1489"/>
                </a:lnTo>
                <a:lnTo>
                  <a:pt x="4618" y="1490"/>
                </a:lnTo>
                <a:lnTo>
                  <a:pt x="4619" y="1492"/>
                </a:lnTo>
                <a:lnTo>
                  <a:pt x="4619" y="1494"/>
                </a:lnTo>
                <a:lnTo>
                  <a:pt x="4619" y="1496"/>
                </a:lnTo>
                <a:lnTo>
                  <a:pt x="4619" y="1499"/>
                </a:lnTo>
                <a:lnTo>
                  <a:pt x="4619" y="1500"/>
                </a:lnTo>
                <a:lnTo>
                  <a:pt x="4618" y="1503"/>
                </a:lnTo>
                <a:lnTo>
                  <a:pt x="4616" y="1505"/>
                </a:lnTo>
                <a:lnTo>
                  <a:pt x="4615" y="1506"/>
                </a:lnTo>
                <a:lnTo>
                  <a:pt x="4612" y="1508"/>
                </a:lnTo>
                <a:lnTo>
                  <a:pt x="4610" y="1508"/>
                </a:lnTo>
                <a:lnTo>
                  <a:pt x="4607" y="1508"/>
                </a:lnTo>
                <a:lnTo>
                  <a:pt x="4260" y="1508"/>
                </a:lnTo>
                <a:lnTo>
                  <a:pt x="4258" y="1508"/>
                </a:lnTo>
                <a:lnTo>
                  <a:pt x="4255" y="1508"/>
                </a:lnTo>
                <a:lnTo>
                  <a:pt x="4254" y="1506"/>
                </a:lnTo>
                <a:lnTo>
                  <a:pt x="4252" y="1505"/>
                </a:lnTo>
                <a:lnTo>
                  <a:pt x="4251" y="1503"/>
                </a:lnTo>
                <a:lnTo>
                  <a:pt x="4249" y="1500"/>
                </a:lnTo>
                <a:lnTo>
                  <a:pt x="4248" y="1499"/>
                </a:lnTo>
                <a:lnTo>
                  <a:pt x="4248" y="1496"/>
                </a:lnTo>
                <a:lnTo>
                  <a:pt x="4248" y="1494"/>
                </a:lnTo>
                <a:lnTo>
                  <a:pt x="4249" y="1492"/>
                </a:lnTo>
                <a:lnTo>
                  <a:pt x="4251" y="1490"/>
                </a:lnTo>
                <a:lnTo>
                  <a:pt x="4252" y="1489"/>
                </a:lnTo>
                <a:lnTo>
                  <a:pt x="4254" y="1487"/>
                </a:lnTo>
                <a:lnTo>
                  <a:pt x="4255" y="1486"/>
                </a:lnTo>
                <a:lnTo>
                  <a:pt x="4258" y="1484"/>
                </a:lnTo>
                <a:lnTo>
                  <a:pt x="4260" y="1484"/>
                </a:lnTo>
                <a:lnTo>
                  <a:pt x="4260" y="1484"/>
                </a:lnTo>
                <a:close/>
                <a:moveTo>
                  <a:pt x="4816" y="1484"/>
                </a:moveTo>
                <a:lnTo>
                  <a:pt x="5164" y="1484"/>
                </a:lnTo>
                <a:lnTo>
                  <a:pt x="5167" y="1484"/>
                </a:lnTo>
                <a:lnTo>
                  <a:pt x="5168" y="1486"/>
                </a:lnTo>
                <a:lnTo>
                  <a:pt x="5171" y="1487"/>
                </a:lnTo>
                <a:lnTo>
                  <a:pt x="5173" y="1489"/>
                </a:lnTo>
                <a:lnTo>
                  <a:pt x="5174" y="1490"/>
                </a:lnTo>
                <a:lnTo>
                  <a:pt x="5176" y="1492"/>
                </a:lnTo>
                <a:lnTo>
                  <a:pt x="5176" y="1494"/>
                </a:lnTo>
                <a:lnTo>
                  <a:pt x="5176" y="1496"/>
                </a:lnTo>
                <a:lnTo>
                  <a:pt x="5176" y="1499"/>
                </a:lnTo>
                <a:lnTo>
                  <a:pt x="5176" y="1500"/>
                </a:lnTo>
                <a:lnTo>
                  <a:pt x="5174" y="1503"/>
                </a:lnTo>
                <a:lnTo>
                  <a:pt x="5173" y="1505"/>
                </a:lnTo>
                <a:lnTo>
                  <a:pt x="5171" y="1506"/>
                </a:lnTo>
                <a:lnTo>
                  <a:pt x="5168" y="1508"/>
                </a:lnTo>
                <a:lnTo>
                  <a:pt x="5167" y="1508"/>
                </a:lnTo>
                <a:lnTo>
                  <a:pt x="5164" y="1508"/>
                </a:lnTo>
                <a:lnTo>
                  <a:pt x="4816" y="1508"/>
                </a:lnTo>
                <a:lnTo>
                  <a:pt x="4815" y="1508"/>
                </a:lnTo>
                <a:lnTo>
                  <a:pt x="4812" y="1508"/>
                </a:lnTo>
                <a:lnTo>
                  <a:pt x="4810" y="1506"/>
                </a:lnTo>
                <a:lnTo>
                  <a:pt x="4809" y="1505"/>
                </a:lnTo>
                <a:lnTo>
                  <a:pt x="4808" y="1503"/>
                </a:lnTo>
                <a:lnTo>
                  <a:pt x="4806" y="1500"/>
                </a:lnTo>
                <a:lnTo>
                  <a:pt x="4805" y="1499"/>
                </a:lnTo>
                <a:lnTo>
                  <a:pt x="4805" y="1496"/>
                </a:lnTo>
                <a:lnTo>
                  <a:pt x="4805" y="1494"/>
                </a:lnTo>
                <a:lnTo>
                  <a:pt x="4806" y="1492"/>
                </a:lnTo>
                <a:lnTo>
                  <a:pt x="4808" y="1490"/>
                </a:lnTo>
                <a:lnTo>
                  <a:pt x="4809" y="1489"/>
                </a:lnTo>
                <a:lnTo>
                  <a:pt x="4810" y="1487"/>
                </a:lnTo>
                <a:lnTo>
                  <a:pt x="4812" y="1486"/>
                </a:lnTo>
                <a:lnTo>
                  <a:pt x="4815" y="1484"/>
                </a:lnTo>
                <a:lnTo>
                  <a:pt x="4816" y="1484"/>
                </a:lnTo>
                <a:lnTo>
                  <a:pt x="4816" y="1484"/>
                </a:lnTo>
                <a:close/>
                <a:moveTo>
                  <a:pt x="5373" y="1484"/>
                </a:moveTo>
                <a:lnTo>
                  <a:pt x="5721" y="1484"/>
                </a:lnTo>
                <a:lnTo>
                  <a:pt x="5724" y="1484"/>
                </a:lnTo>
                <a:lnTo>
                  <a:pt x="5725" y="1486"/>
                </a:lnTo>
                <a:lnTo>
                  <a:pt x="5728" y="1487"/>
                </a:lnTo>
                <a:lnTo>
                  <a:pt x="5729" y="1489"/>
                </a:lnTo>
                <a:lnTo>
                  <a:pt x="5731" y="1490"/>
                </a:lnTo>
                <a:lnTo>
                  <a:pt x="5732" y="1492"/>
                </a:lnTo>
                <a:lnTo>
                  <a:pt x="5732" y="1494"/>
                </a:lnTo>
                <a:lnTo>
                  <a:pt x="5732" y="1496"/>
                </a:lnTo>
                <a:lnTo>
                  <a:pt x="5732" y="1499"/>
                </a:lnTo>
                <a:lnTo>
                  <a:pt x="5732" y="1500"/>
                </a:lnTo>
                <a:lnTo>
                  <a:pt x="5731" y="1503"/>
                </a:lnTo>
                <a:lnTo>
                  <a:pt x="5729" y="1505"/>
                </a:lnTo>
                <a:lnTo>
                  <a:pt x="5728" y="1506"/>
                </a:lnTo>
                <a:lnTo>
                  <a:pt x="5725" y="1508"/>
                </a:lnTo>
                <a:lnTo>
                  <a:pt x="5724" y="1508"/>
                </a:lnTo>
                <a:lnTo>
                  <a:pt x="5721" y="1508"/>
                </a:lnTo>
                <a:lnTo>
                  <a:pt x="5373" y="1508"/>
                </a:lnTo>
                <a:lnTo>
                  <a:pt x="5371" y="1508"/>
                </a:lnTo>
                <a:lnTo>
                  <a:pt x="5368" y="1508"/>
                </a:lnTo>
                <a:lnTo>
                  <a:pt x="5367" y="1506"/>
                </a:lnTo>
                <a:lnTo>
                  <a:pt x="5366" y="1505"/>
                </a:lnTo>
                <a:lnTo>
                  <a:pt x="5364" y="1503"/>
                </a:lnTo>
                <a:lnTo>
                  <a:pt x="5363" y="1500"/>
                </a:lnTo>
                <a:lnTo>
                  <a:pt x="5361" y="1499"/>
                </a:lnTo>
                <a:lnTo>
                  <a:pt x="5361" y="1496"/>
                </a:lnTo>
                <a:lnTo>
                  <a:pt x="5361" y="1494"/>
                </a:lnTo>
                <a:lnTo>
                  <a:pt x="5363" y="1492"/>
                </a:lnTo>
                <a:lnTo>
                  <a:pt x="5364" y="1490"/>
                </a:lnTo>
                <a:lnTo>
                  <a:pt x="5366" y="1489"/>
                </a:lnTo>
                <a:lnTo>
                  <a:pt x="5367" y="1487"/>
                </a:lnTo>
                <a:lnTo>
                  <a:pt x="5368" y="1486"/>
                </a:lnTo>
                <a:lnTo>
                  <a:pt x="5371" y="1484"/>
                </a:lnTo>
                <a:lnTo>
                  <a:pt x="5373" y="1484"/>
                </a:lnTo>
                <a:lnTo>
                  <a:pt x="5373" y="1484"/>
                </a:lnTo>
                <a:close/>
                <a:moveTo>
                  <a:pt x="5929" y="1484"/>
                </a:moveTo>
                <a:lnTo>
                  <a:pt x="6277" y="1484"/>
                </a:lnTo>
                <a:lnTo>
                  <a:pt x="6280" y="1484"/>
                </a:lnTo>
                <a:lnTo>
                  <a:pt x="6282" y="1486"/>
                </a:lnTo>
                <a:lnTo>
                  <a:pt x="6284" y="1487"/>
                </a:lnTo>
                <a:lnTo>
                  <a:pt x="6286" y="1489"/>
                </a:lnTo>
                <a:lnTo>
                  <a:pt x="6287" y="1490"/>
                </a:lnTo>
                <a:lnTo>
                  <a:pt x="6289" y="1492"/>
                </a:lnTo>
                <a:lnTo>
                  <a:pt x="6289" y="1494"/>
                </a:lnTo>
                <a:lnTo>
                  <a:pt x="6289" y="1496"/>
                </a:lnTo>
                <a:lnTo>
                  <a:pt x="6289" y="1499"/>
                </a:lnTo>
                <a:lnTo>
                  <a:pt x="6289" y="1500"/>
                </a:lnTo>
                <a:lnTo>
                  <a:pt x="6287" y="1503"/>
                </a:lnTo>
                <a:lnTo>
                  <a:pt x="6286" y="1505"/>
                </a:lnTo>
                <a:lnTo>
                  <a:pt x="6284" y="1506"/>
                </a:lnTo>
                <a:lnTo>
                  <a:pt x="6282" y="1508"/>
                </a:lnTo>
                <a:lnTo>
                  <a:pt x="6280" y="1508"/>
                </a:lnTo>
                <a:lnTo>
                  <a:pt x="6277" y="1508"/>
                </a:lnTo>
                <a:lnTo>
                  <a:pt x="5929" y="1508"/>
                </a:lnTo>
                <a:lnTo>
                  <a:pt x="5928" y="1508"/>
                </a:lnTo>
                <a:lnTo>
                  <a:pt x="5925" y="1508"/>
                </a:lnTo>
                <a:lnTo>
                  <a:pt x="5924" y="1506"/>
                </a:lnTo>
                <a:lnTo>
                  <a:pt x="5922" y="1505"/>
                </a:lnTo>
                <a:lnTo>
                  <a:pt x="5921" y="1503"/>
                </a:lnTo>
                <a:lnTo>
                  <a:pt x="5919" y="1500"/>
                </a:lnTo>
                <a:lnTo>
                  <a:pt x="5918" y="1499"/>
                </a:lnTo>
                <a:lnTo>
                  <a:pt x="5918" y="1496"/>
                </a:lnTo>
                <a:lnTo>
                  <a:pt x="5918" y="1494"/>
                </a:lnTo>
                <a:lnTo>
                  <a:pt x="5919" y="1492"/>
                </a:lnTo>
                <a:lnTo>
                  <a:pt x="5921" y="1490"/>
                </a:lnTo>
                <a:lnTo>
                  <a:pt x="5922" y="1489"/>
                </a:lnTo>
                <a:lnTo>
                  <a:pt x="5924" y="1487"/>
                </a:lnTo>
                <a:lnTo>
                  <a:pt x="5925" y="1486"/>
                </a:lnTo>
                <a:lnTo>
                  <a:pt x="5928" y="1484"/>
                </a:lnTo>
                <a:lnTo>
                  <a:pt x="5929" y="1484"/>
                </a:lnTo>
                <a:lnTo>
                  <a:pt x="5929" y="1484"/>
                </a:lnTo>
                <a:close/>
                <a:moveTo>
                  <a:pt x="6486" y="1484"/>
                </a:moveTo>
                <a:lnTo>
                  <a:pt x="6551" y="1484"/>
                </a:lnTo>
                <a:lnTo>
                  <a:pt x="6569" y="1484"/>
                </a:lnTo>
                <a:lnTo>
                  <a:pt x="6586" y="1483"/>
                </a:lnTo>
                <a:lnTo>
                  <a:pt x="6602" y="1481"/>
                </a:lnTo>
                <a:lnTo>
                  <a:pt x="6619" y="1479"/>
                </a:lnTo>
                <a:lnTo>
                  <a:pt x="6635" y="1474"/>
                </a:lnTo>
                <a:lnTo>
                  <a:pt x="6651" y="1470"/>
                </a:lnTo>
                <a:lnTo>
                  <a:pt x="6667" y="1464"/>
                </a:lnTo>
                <a:lnTo>
                  <a:pt x="6682" y="1458"/>
                </a:lnTo>
                <a:lnTo>
                  <a:pt x="6698" y="1452"/>
                </a:lnTo>
                <a:lnTo>
                  <a:pt x="6712" y="1444"/>
                </a:lnTo>
                <a:lnTo>
                  <a:pt x="6725" y="1437"/>
                </a:lnTo>
                <a:lnTo>
                  <a:pt x="6740" y="1428"/>
                </a:lnTo>
                <a:lnTo>
                  <a:pt x="6753" y="1418"/>
                </a:lnTo>
                <a:lnTo>
                  <a:pt x="6766" y="1408"/>
                </a:lnTo>
                <a:lnTo>
                  <a:pt x="6777" y="1397"/>
                </a:lnTo>
                <a:lnTo>
                  <a:pt x="6789" y="1386"/>
                </a:lnTo>
                <a:lnTo>
                  <a:pt x="6796" y="1380"/>
                </a:lnTo>
                <a:lnTo>
                  <a:pt x="6798" y="1377"/>
                </a:lnTo>
                <a:lnTo>
                  <a:pt x="6799" y="1377"/>
                </a:lnTo>
                <a:lnTo>
                  <a:pt x="6802" y="1376"/>
                </a:lnTo>
                <a:lnTo>
                  <a:pt x="6803" y="1376"/>
                </a:lnTo>
                <a:lnTo>
                  <a:pt x="6806" y="1376"/>
                </a:lnTo>
                <a:lnTo>
                  <a:pt x="6808" y="1376"/>
                </a:lnTo>
                <a:lnTo>
                  <a:pt x="6811" y="1377"/>
                </a:lnTo>
                <a:lnTo>
                  <a:pt x="6812" y="1379"/>
                </a:lnTo>
                <a:lnTo>
                  <a:pt x="6814" y="1380"/>
                </a:lnTo>
                <a:lnTo>
                  <a:pt x="6815" y="1383"/>
                </a:lnTo>
                <a:lnTo>
                  <a:pt x="6815" y="1384"/>
                </a:lnTo>
                <a:lnTo>
                  <a:pt x="6815" y="1387"/>
                </a:lnTo>
                <a:lnTo>
                  <a:pt x="6815" y="1389"/>
                </a:lnTo>
                <a:lnTo>
                  <a:pt x="6815" y="1392"/>
                </a:lnTo>
                <a:lnTo>
                  <a:pt x="6814" y="1393"/>
                </a:lnTo>
                <a:lnTo>
                  <a:pt x="6812" y="1396"/>
                </a:lnTo>
                <a:lnTo>
                  <a:pt x="6805" y="1403"/>
                </a:lnTo>
                <a:lnTo>
                  <a:pt x="6792" y="1415"/>
                </a:lnTo>
                <a:lnTo>
                  <a:pt x="6779" y="1426"/>
                </a:lnTo>
                <a:lnTo>
                  <a:pt x="6766" y="1437"/>
                </a:lnTo>
                <a:lnTo>
                  <a:pt x="6751" y="1447"/>
                </a:lnTo>
                <a:lnTo>
                  <a:pt x="6737" y="1457"/>
                </a:lnTo>
                <a:lnTo>
                  <a:pt x="6722" y="1466"/>
                </a:lnTo>
                <a:lnTo>
                  <a:pt x="6706" y="1473"/>
                </a:lnTo>
                <a:lnTo>
                  <a:pt x="6690" y="1480"/>
                </a:lnTo>
                <a:lnTo>
                  <a:pt x="6674" y="1487"/>
                </a:lnTo>
                <a:lnTo>
                  <a:pt x="6657" y="1492"/>
                </a:lnTo>
                <a:lnTo>
                  <a:pt x="6641" y="1497"/>
                </a:lnTo>
                <a:lnTo>
                  <a:pt x="6624" y="1500"/>
                </a:lnTo>
                <a:lnTo>
                  <a:pt x="6605" y="1505"/>
                </a:lnTo>
                <a:lnTo>
                  <a:pt x="6587" y="1506"/>
                </a:lnTo>
                <a:lnTo>
                  <a:pt x="6569" y="1508"/>
                </a:lnTo>
                <a:lnTo>
                  <a:pt x="6551" y="1508"/>
                </a:lnTo>
                <a:lnTo>
                  <a:pt x="6486" y="1508"/>
                </a:lnTo>
                <a:lnTo>
                  <a:pt x="6485" y="1508"/>
                </a:lnTo>
                <a:lnTo>
                  <a:pt x="6482" y="1508"/>
                </a:lnTo>
                <a:lnTo>
                  <a:pt x="6480" y="1506"/>
                </a:lnTo>
                <a:lnTo>
                  <a:pt x="6479" y="1505"/>
                </a:lnTo>
                <a:lnTo>
                  <a:pt x="6477" y="1503"/>
                </a:lnTo>
                <a:lnTo>
                  <a:pt x="6476" y="1500"/>
                </a:lnTo>
                <a:lnTo>
                  <a:pt x="6474" y="1499"/>
                </a:lnTo>
                <a:lnTo>
                  <a:pt x="6474" y="1496"/>
                </a:lnTo>
                <a:lnTo>
                  <a:pt x="6474" y="1494"/>
                </a:lnTo>
                <a:lnTo>
                  <a:pt x="6476" y="1492"/>
                </a:lnTo>
                <a:lnTo>
                  <a:pt x="6477" y="1490"/>
                </a:lnTo>
                <a:lnTo>
                  <a:pt x="6479" y="1489"/>
                </a:lnTo>
                <a:lnTo>
                  <a:pt x="6480" y="1487"/>
                </a:lnTo>
                <a:lnTo>
                  <a:pt x="6482" y="1486"/>
                </a:lnTo>
                <a:lnTo>
                  <a:pt x="6485" y="1484"/>
                </a:lnTo>
                <a:lnTo>
                  <a:pt x="6486" y="1484"/>
                </a:lnTo>
                <a:lnTo>
                  <a:pt x="6486" y="1484"/>
                </a:lnTo>
                <a:close/>
                <a:moveTo>
                  <a:pt x="6883" y="1200"/>
                </a:moveTo>
                <a:lnTo>
                  <a:pt x="6883" y="1200"/>
                </a:lnTo>
                <a:lnTo>
                  <a:pt x="6886" y="1183"/>
                </a:lnTo>
                <a:lnTo>
                  <a:pt x="6887" y="1166"/>
                </a:lnTo>
                <a:lnTo>
                  <a:pt x="6887" y="1148"/>
                </a:lnTo>
                <a:lnTo>
                  <a:pt x="6887" y="1147"/>
                </a:lnTo>
                <a:lnTo>
                  <a:pt x="6887" y="1144"/>
                </a:lnTo>
                <a:lnTo>
                  <a:pt x="6889" y="1142"/>
                </a:lnTo>
                <a:lnTo>
                  <a:pt x="6890" y="1141"/>
                </a:lnTo>
                <a:lnTo>
                  <a:pt x="6892" y="1139"/>
                </a:lnTo>
                <a:lnTo>
                  <a:pt x="6895" y="1138"/>
                </a:lnTo>
                <a:lnTo>
                  <a:pt x="6896" y="1137"/>
                </a:lnTo>
                <a:lnTo>
                  <a:pt x="6899" y="1137"/>
                </a:lnTo>
                <a:lnTo>
                  <a:pt x="6902" y="1138"/>
                </a:lnTo>
                <a:lnTo>
                  <a:pt x="6903" y="1138"/>
                </a:lnTo>
                <a:lnTo>
                  <a:pt x="6905" y="1139"/>
                </a:lnTo>
                <a:lnTo>
                  <a:pt x="6906" y="1141"/>
                </a:lnTo>
                <a:lnTo>
                  <a:pt x="6908" y="1142"/>
                </a:lnTo>
                <a:lnTo>
                  <a:pt x="6909" y="1144"/>
                </a:lnTo>
                <a:lnTo>
                  <a:pt x="6911" y="1147"/>
                </a:lnTo>
                <a:lnTo>
                  <a:pt x="6911" y="1150"/>
                </a:lnTo>
                <a:lnTo>
                  <a:pt x="6911" y="1167"/>
                </a:lnTo>
                <a:lnTo>
                  <a:pt x="6909" y="1186"/>
                </a:lnTo>
                <a:lnTo>
                  <a:pt x="6906" y="1203"/>
                </a:lnTo>
                <a:lnTo>
                  <a:pt x="6906" y="1205"/>
                </a:lnTo>
                <a:lnTo>
                  <a:pt x="6905" y="1208"/>
                </a:lnTo>
                <a:lnTo>
                  <a:pt x="6905" y="1209"/>
                </a:lnTo>
                <a:lnTo>
                  <a:pt x="6901" y="1212"/>
                </a:lnTo>
                <a:lnTo>
                  <a:pt x="6899" y="1213"/>
                </a:lnTo>
                <a:lnTo>
                  <a:pt x="6898" y="1213"/>
                </a:lnTo>
                <a:lnTo>
                  <a:pt x="6895" y="1215"/>
                </a:lnTo>
                <a:lnTo>
                  <a:pt x="6893" y="1215"/>
                </a:lnTo>
                <a:lnTo>
                  <a:pt x="6890" y="1213"/>
                </a:lnTo>
                <a:lnTo>
                  <a:pt x="6889" y="1212"/>
                </a:lnTo>
                <a:lnTo>
                  <a:pt x="6885" y="1209"/>
                </a:lnTo>
                <a:lnTo>
                  <a:pt x="6885" y="1208"/>
                </a:lnTo>
                <a:lnTo>
                  <a:pt x="6883" y="1205"/>
                </a:lnTo>
                <a:lnTo>
                  <a:pt x="6883" y="1203"/>
                </a:lnTo>
                <a:lnTo>
                  <a:pt x="6883" y="1200"/>
                </a:lnTo>
                <a:lnTo>
                  <a:pt x="6883" y="1200"/>
                </a:lnTo>
                <a:close/>
                <a:moveTo>
                  <a:pt x="6887" y="1148"/>
                </a:moveTo>
                <a:lnTo>
                  <a:pt x="6887" y="855"/>
                </a:lnTo>
                <a:lnTo>
                  <a:pt x="6887" y="852"/>
                </a:lnTo>
                <a:lnTo>
                  <a:pt x="6887" y="851"/>
                </a:lnTo>
                <a:lnTo>
                  <a:pt x="6889" y="848"/>
                </a:lnTo>
                <a:lnTo>
                  <a:pt x="6890" y="847"/>
                </a:lnTo>
                <a:lnTo>
                  <a:pt x="6892" y="845"/>
                </a:lnTo>
                <a:lnTo>
                  <a:pt x="6895" y="844"/>
                </a:lnTo>
                <a:lnTo>
                  <a:pt x="6896" y="844"/>
                </a:lnTo>
                <a:lnTo>
                  <a:pt x="6899" y="844"/>
                </a:lnTo>
                <a:lnTo>
                  <a:pt x="6901" y="844"/>
                </a:lnTo>
                <a:lnTo>
                  <a:pt x="6903" y="844"/>
                </a:lnTo>
                <a:lnTo>
                  <a:pt x="6905" y="845"/>
                </a:lnTo>
                <a:lnTo>
                  <a:pt x="6906" y="847"/>
                </a:lnTo>
                <a:lnTo>
                  <a:pt x="6908" y="848"/>
                </a:lnTo>
                <a:lnTo>
                  <a:pt x="6909" y="851"/>
                </a:lnTo>
                <a:lnTo>
                  <a:pt x="6911" y="852"/>
                </a:lnTo>
                <a:lnTo>
                  <a:pt x="6911" y="855"/>
                </a:lnTo>
                <a:lnTo>
                  <a:pt x="6911" y="1148"/>
                </a:lnTo>
                <a:lnTo>
                  <a:pt x="6911" y="1151"/>
                </a:lnTo>
                <a:lnTo>
                  <a:pt x="6909" y="1152"/>
                </a:lnTo>
                <a:lnTo>
                  <a:pt x="6908" y="1155"/>
                </a:lnTo>
                <a:lnTo>
                  <a:pt x="6906" y="1157"/>
                </a:lnTo>
                <a:lnTo>
                  <a:pt x="6905" y="1158"/>
                </a:lnTo>
                <a:lnTo>
                  <a:pt x="6903" y="1160"/>
                </a:lnTo>
                <a:lnTo>
                  <a:pt x="6901" y="1160"/>
                </a:lnTo>
                <a:lnTo>
                  <a:pt x="6899" y="1160"/>
                </a:lnTo>
                <a:lnTo>
                  <a:pt x="6896" y="1160"/>
                </a:lnTo>
                <a:lnTo>
                  <a:pt x="6895" y="1160"/>
                </a:lnTo>
                <a:lnTo>
                  <a:pt x="6892" y="1158"/>
                </a:lnTo>
                <a:lnTo>
                  <a:pt x="6890" y="1157"/>
                </a:lnTo>
                <a:lnTo>
                  <a:pt x="6889" y="1155"/>
                </a:lnTo>
                <a:lnTo>
                  <a:pt x="6887" y="1152"/>
                </a:lnTo>
                <a:lnTo>
                  <a:pt x="6887" y="1151"/>
                </a:lnTo>
                <a:lnTo>
                  <a:pt x="6887" y="1148"/>
                </a:lnTo>
                <a:lnTo>
                  <a:pt x="6887" y="1148"/>
                </a:lnTo>
                <a:close/>
                <a:moveTo>
                  <a:pt x="6887" y="647"/>
                </a:moveTo>
                <a:lnTo>
                  <a:pt x="6887" y="360"/>
                </a:lnTo>
                <a:lnTo>
                  <a:pt x="6887" y="342"/>
                </a:lnTo>
                <a:lnTo>
                  <a:pt x="6886" y="325"/>
                </a:lnTo>
                <a:lnTo>
                  <a:pt x="6883" y="309"/>
                </a:lnTo>
                <a:lnTo>
                  <a:pt x="6882" y="300"/>
                </a:lnTo>
                <a:lnTo>
                  <a:pt x="6882" y="299"/>
                </a:lnTo>
                <a:lnTo>
                  <a:pt x="6882" y="296"/>
                </a:lnTo>
                <a:lnTo>
                  <a:pt x="6883" y="295"/>
                </a:lnTo>
                <a:lnTo>
                  <a:pt x="6883" y="292"/>
                </a:lnTo>
                <a:lnTo>
                  <a:pt x="6887" y="289"/>
                </a:lnTo>
                <a:lnTo>
                  <a:pt x="6889" y="287"/>
                </a:lnTo>
                <a:lnTo>
                  <a:pt x="6892" y="287"/>
                </a:lnTo>
                <a:lnTo>
                  <a:pt x="6893" y="287"/>
                </a:lnTo>
                <a:lnTo>
                  <a:pt x="6896" y="287"/>
                </a:lnTo>
                <a:lnTo>
                  <a:pt x="6898" y="289"/>
                </a:lnTo>
                <a:lnTo>
                  <a:pt x="6901" y="289"/>
                </a:lnTo>
                <a:lnTo>
                  <a:pt x="6903" y="293"/>
                </a:lnTo>
                <a:lnTo>
                  <a:pt x="6903" y="295"/>
                </a:lnTo>
                <a:lnTo>
                  <a:pt x="6905" y="297"/>
                </a:lnTo>
                <a:lnTo>
                  <a:pt x="6906" y="306"/>
                </a:lnTo>
                <a:lnTo>
                  <a:pt x="6909" y="324"/>
                </a:lnTo>
                <a:lnTo>
                  <a:pt x="6911" y="342"/>
                </a:lnTo>
                <a:lnTo>
                  <a:pt x="6911" y="360"/>
                </a:lnTo>
                <a:lnTo>
                  <a:pt x="6911" y="647"/>
                </a:lnTo>
                <a:lnTo>
                  <a:pt x="6911" y="648"/>
                </a:lnTo>
                <a:lnTo>
                  <a:pt x="6909" y="651"/>
                </a:lnTo>
                <a:lnTo>
                  <a:pt x="6908" y="652"/>
                </a:lnTo>
                <a:lnTo>
                  <a:pt x="6906" y="654"/>
                </a:lnTo>
                <a:lnTo>
                  <a:pt x="6905" y="655"/>
                </a:lnTo>
                <a:lnTo>
                  <a:pt x="6903" y="657"/>
                </a:lnTo>
                <a:lnTo>
                  <a:pt x="6901" y="658"/>
                </a:lnTo>
                <a:lnTo>
                  <a:pt x="6899" y="658"/>
                </a:lnTo>
                <a:lnTo>
                  <a:pt x="6896" y="658"/>
                </a:lnTo>
                <a:lnTo>
                  <a:pt x="6895" y="657"/>
                </a:lnTo>
                <a:lnTo>
                  <a:pt x="6892" y="655"/>
                </a:lnTo>
                <a:lnTo>
                  <a:pt x="6890" y="654"/>
                </a:lnTo>
                <a:lnTo>
                  <a:pt x="6889" y="652"/>
                </a:lnTo>
                <a:lnTo>
                  <a:pt x="6887" y="651"/>
                </a:lnTo>
                <a:lnTo>
                  <a:pt x="6887" y="648"/>
                </a:lnTo>
                <a:lnTo>
                  <a:pt x="6887" y="647"/>
                </a:lnTo>
                <a:lnTo>
                  <a:pt x="6887" y="647"/>
                </a:lnTo>
                <a:close/>
                <a:moveTo>
                  <a:pt x="6790" y="125"/>
                </a:moveTo>
                <a:lnTo>
                  <a:pt x="6789" y="122"/>
                </a:lnTo>
                <a:lnTo>
                  <a:pt x="6777" y="110"/>
                </a:lnTo>
                <a:lnTo>
                  <a:pt x="6764" y="100"/>
                </a:lnTo>
                <a:lnTo>
                  <a:pt x="6753" y="90"/>
                </a:lnTo>
                <a:lnTo>
                  <a:pt x="6738" y="81"/>
                </a:lnTo>
                <a:lnTo>
                  <a:pt x="6725" y="73"/>
                </a:lnTo>
                <a:lnTo>
                  <a:pt x="6711" y="64"/>
                </a:lnTo>
                <a:lnTo>
                  <a:pt x="6696" y="57"/>
                </a:lnTo>
                <a:lnTo>
                  <a:pt x="6682" y="50"/>
                </a:lnTo>
                <a:lnTo>
                  <a:pt x="6666" y="44"/>
                </a:lnTo>
                <a:lnTo>
                  <a:pt x="6651" y="39"/>
                </a:lnTo>
                <a:lnTo>
                  <a:pt x="6635" y="34"/>
                </a:lnTo>
                <a:lnTo>
                  <a:pt x="6618" y="31"/>
                </a:lnTo>
                <a:lnTo>
                  <a:pt x="6602" y="28"/>
                </a:lnTo>
                <a:lnTo>
                  <a:pt x="6585" y="25"/>
                </a:lnTo>
                <a:lnTo>
                  <a:pt x="6569" y="25"/>
                </a:lnTo>
                <a:lnTo>
                  <a:pt x="6551" y="24"/>
                </a:lnTo>
                <a:lnTo>
                  <a:pt x="6548" y="24"/>
                </a:lnTo>
                <a:lnTo>
                  <a:pt x="6545" y="22"/>
                </a:lnTo>
                <a:lnTo>
                  <a:pt x="6544" y="22"/>
                </a:lnTo>
                <a:lnTo>
                  <a:pt x="6543" y="21"/>
                </a:lnTo>
                <a:lnTo>
                  <a:pt x="6541" y="18"/>
                </a:lnTo>
                <a:lnTo>
                  <a:pt x="6540" y="16"/>
                </a:lnTo>
                <a:lnTo>
                  <a:pt x="6540" y="15"/>
                </a:lnTo>
                <a:lnTo>
                  <a:pt x="6540" y="12"/>
                </a:lnTo>
                <a:lnTo>
                  <a:pt x="6540" y="9"/>
                </a:lnTo>
                <a:lnTo>
                  <a:pt x="6540" y="8"/>
                </a:lnTo>
                <a:lnTo>
                  <a:pt x="6541" y="6"/>
                </a:lnTo>
                <a:lnTo>
                  <a:pt x="6543" y="3"/>
                </a:lnTo>
                <a:lnTo>
                  <a:pt x="6544" y="2"/>
                </a:lnTo>
                <a:lnTo>
                  <a:pt x="6547" y="2"/>
                </a:lnTo>
                <a:lnTo>
                  <a:pt x="6548" y="0"/>
                </a:lnTo>
                <a:lnTo>
                  <a:pt x="6551" y="0"/>
                </a:lnTo>
                <a:lnTo>
                  <a:pt x="6570" y="2"/>
                </a:lnTo>
                <a:lnTo>
                  <a:pt x="6587" y="3"/>
                </a:lnTo>
                <a:lnTo>
                  <a:pt x="6606" y="5"/>
                </a:lnTo>
                <a:lnTo>
                  <a:pt x="6624" y="8"/>
                </a:lnTo>
                <a:lnTo>
                  <a:pt x="6641" y="12"/>
                </a:lnTo>
                <a:lnTo>
                  <a:pt x="6658" y="16"/>
                </a:lnTo>
                <a:lnTo>
                  <a:pt x="6674" y="22"/>
                </a:lnTo>
                <a:lnTo>
                  <a:pt x="6692" y="29"/>
                </a:lnTo>
                <a:lnTo>
                  <a:pt x="6708" y="37"/>
                </a:lnTo>
                <a:lnTo>
                  <a:pt x="6722" y="44"/>
                </a:lnTo>
                <a:lnTo>
                  <a:pt x="6738" y="52"/>
                </a:lnTo>
                <a:lnTo>
                  <a:pt x="6753" y="63"/>
                </a:lnTo>
                <a:lnTo>
                  <a:pt x="6766" y="73"/>
                </a:lnTo>
                <a:lnTo>
                  <a:pt x="6780" y="83"/>
                </a:lnTo>
                <a:lnTo>
                  <a:pt x="6793" y="95"/>
                </a:lnTo>
                <a:lnTo>
                  <a:pt x="6805" y="106"/>
                </a:lnTo>
                <a:lnTo>
                  <a:pt x="6808" y="109"/>
                </a:lnTo>
                <a:lnTo>
                  <a:pt x="6809" y="110"/>
                </a:lnTo>
                <a:lnTo>
                  <a:pt x="6809" y="112"/>
                </a:lnTo>
                <a:lnTo>
                  <a:pt x="6811" y="115"/>
                </a:lnTo>
                <a:lnTo>
                  <a:pt x="6811" y="116"/>
                </a:lnTo>
                <a:lnTo>
                  <a:pt x="6811" y="119"/>
                </a:lnTo>
                <a:lnTo>
                  <a:pt x="6809" y="121"/>
                </a:lnTo>
                <a:lnTo>
                  <a:pt x="6809" y="124"/>
                </a:lnTo>
                <a:lnTo>
                  <a:pt x="6808" y="125"/>
                </a:lnTo>
                <a:lnTo>
                  <a:pt x="6805" y="126"/>
                </a:lnTo>
                <a:lnTo>
                  <a:pt x="6803" y="126"/>
                </a:lnTo>
                <a:lnTo>
                  <a:pt x="6801" y="128"/>
                </a:lnTo>
                <a:lnTo>
                  <a:pt x="6799" y="128"/>
                </a:lnTo>
                <a:lnTo>
                  <a:pt x="6796" y="128"/>
                </a:lnTo>
                <a:lnTo>
                  <a:pt x="6795" y="126"/>
                </a:lnTo>
                <a:lnTo>
                  <a:pt x="6792" y="126"/>
                </a:lnTo>
                <a:lnTo>
                  <a:pt x="6790" y="125"/>
                </a:lnTo>
                <a:lnTo>
                  <a:pt x="6790" y="125"/>
                </a:lnTo>
                <a:close/>
                <a:moveTo>
                  <a:pt x="6551" y="24"/>
                </a:moveTo>
                <a:lnTo>
                  <a:pt x="6479" y="24"/>
                </a:lnTo>
                <a:lnTo>
                  <a:pt x="6477" y="24"/>
                </a:lnTo>
                <a:lnTo>
                  <a:pt x="6474" y="22"/>
                </a:lnTo>
                <a:lnTo>
                  <a:pt x="6473" y="22"/>
                </a:lnTo>
                <a:lnTo>
                  <a:pt x="6471" y="21"/>
                </a:lnTo>
                <a:lnTo>
                  <a:pt x="6470" y="19"/>
                </a:lnTo>
                <a:lnTo>
                  <a:pt x="6469" y="16"/>
                </a:lnTo>
                <a:lnTo>
                  <a:pt x="6467" y="15"/>
                </a:lnTo>
                <a:lnTo>
                  <a:pt x="6467" y="12"/>
                </a:lnTo>
                <a:lnTo>
                  <a:pt x="6467" y="9"/>
                </a:lnTo>
                <a:lnTo>
                  <a:pt x="6469" y="8"/>
                </a:lnTo>
                <a:lnTo>
                  <a:pt x="6470" y="6"/>
                </a:lnTo>
                <a:lnTo>
                  <a:pt x="6471" y="3"/>
                </a:lnTo>
                <a:lnTo>
                  <a:pt x="6473" y="2"/>
                </a:lnTo>
                <a:lnTo>
                  <a:pt x="6474" y="2"/>
                </a:lnTo>
                <a:lnTo>
                  <a:pt x="6477" y="0"/>
                </a:lnTo>
                <a:lnTo>
                  <a:pt x="6479" y="0"/>
                </a:lnTo>
                <a:lnTo>
                  <a:pt x="6551" y="0"/>
                </a:lnTo>
                <a:lnTo>
                  <a:pt x="6553" y="0"/>
                </a:lnTo>
                <a:lnTo>
                  <a:pt x="6556" y="2"/>
                </a:lnTo>
                <a:lnTo>
                  <a:pt x="6557" y="2"/>
                </a:lnTo>
                <a:lnTo>
                  <a:pt x="6558" y="3"/>
                </a:lnTo>
                <a:lnTo>
                  <a:pt x="6560" y="6"/>
                </a:lnTo>
                <a:lnTo>
                  <a:pt x="6561" y="8"/>
                </a:lnTo>
                <a:lnTo>
                  <a:pt x="6563" y="9"/>
                </a:lnTo>
                <a:lnTo>
                  <a:pt x="6563" y="12"/>
                </a:lnTo>
                <a:lnTo>
                  <a:pt x="6563" y="15"/>
                </a:lnTo>
                <a:lnTo>
                  <a:pt x="6561" y="16"/>
                </a:lnTo>
                <a:lnTo>
                  <a:pt x="6560" y="19"/>
                </a:lnTo>
                <a:lnTo>
                  <a:pt x="6558" y="21"/>
                </a:lnTo>
                <a:lnTo>
                  <a:pt x="6557" y="22"/>
                </a:lnTo>
                <a:lnTo>
                  <a:pt x="6556" y="22"/>
                </a:lnTo>
                <a:lnTo>
                  <a:pt x="6553" y="24"/>
                </a:lnTo>
                <a:lnTo>
                  <a:pt x="6551" y="24"/>
                </a:lnTo>
                <a:lnTo>
                  <a:pt x="6551" y="24"/>
                </a:lnTo>
                <a:close/>
                <a:moveTo>
                  <a:pt x="6270" y="24"/>
                </a:moveTo>
                <a:lnTo>
                  <a:pt x="5922" y="24"/>
                </a:lnTo>
                <a:lnTo>
                  <a:pt x="5921" y="24"/>
                </a:lnTo>
                <a:lnTo>
                  <a:pt x="5918" y="22"/>
                </a:lnTo>
                <a:lnTo>
                  <a:pt x="5916" y="22"/>
                </a:lnTo>
                <a:lnTo>
                  <a:pt x="5915" y="21"/>
                </a:lnTo>
                <a:lnTo>
                  <a:pt x="5913" y="19"/>
                </a:lnTo>
                <a:lnTo>
                  <a:pt x="5912" y="16"/>
                </a:lnTo>
                <a:lnTo>
                  <a:pt x="5911" y="15"/>
                </a:lnTo>
                <a:lnTo>
                  <a:pt x="5911" y="12"/>
                </a:lnTo>
                <a:lnTo>
                  <a:pt x="5911" y="9"/>
                </a:lnTo>
                <a:lnTo>
                  <a:pt x="5912" y="8"/>
                </a:lnTo>
                <a:lnTo>
                  <a:pt x="5913" y="6"/>
                </a:lnTo>
                <a:lnTo>
                  <a:pt x="5915" y="3"/>
                </a:lnTo>
                <a:lnTo>
                  <a:pt x="5916" y="2"/>
                </a:lnTo>
                <a:lnTo>
                  <a:pt x="5918" y="2"/>
                </a:lnTo>
                <a:lnTo>
                  <a:pt x="5921" y="0"/>
                </a:lnTo>
                <a:lnTo>
                  <a:pt x="5922" y="0"/>
                </a:lnTo>
                <a:lnTo>
                  <a:pt x="6270" y="0"/>
                </a:lnTo>
                <a:lnTo>
                  <a:pt x="6273" y="0"/>
                </a:lnTo>
                <a:lnTo>
                  <a:pt x="6274" y="2"/>
                </a:lnTo>
                <a:lnTo>
                  <a:pt x="6277" y="2"/>
                </a:lnTo>
                <a:lnTo>
                  <a:pt x="6279" y="3"/>
                </a:lnTo>
                <a:lnTo>
                  <a:pt x="6280" y="6"/>
                </a:lnTo>
                <a:lnTo>
                  <a:pt x="6282" y="8"/>
                </a:lnTo>
                <a:lnTo>
                  <a:pt x="6282" y="9"/>
                </a:lnTo>
                <a:lnTo>
                  <a:pt x="6282" y="12"/>
                </a:lnTo>
                <a:lnTo>
                  <a:pt x="6282" y="15"/>
                </a:lnTo>
                <a:lnTo>
                  <a:pt x="6282" y="16"/>
                </a:lnTo>
                <a:lnTo>
                  <a:pt x="6280" y="19"/>
                </a:lnTo>
                <a:lnTo>
                  <a:pt x="6279" y="21"/>
                </a:lnTo>
                <a:lnTo>
                  <a:pt x="6277" y="22"/>
                </a:lnTo>
                <a:lnTo>
                  <a:pt x="6274" y="22"/>
                </a:lnTo>
                <a:lnTo>
                  <a:pt x="6273" y="24"/>
                </a:lnTo>
                <a:lnTo>
                  <a:pt x="6270" y="24"/>
                </a:lnTo>
                <a:lnTo>
                  <a:pt x="6270" y="24"/>
                </a:lnTo>
                <a:close/>
                <a:moveTo>
                  <a:pt x="5713" y="24"/>
                </a:moveTo>
                <a:lnTo>
                  <a:pt x="5366" y="24"/>
                </a:lnTo>
                <a:lnTo>
                  <a:pt x="5364" y="24"/>
                </a:lnTo>
                <a:lnTo>
                  <a:pt x="5361" y="22"/>
                </a:lnTo>
                <a:lnTo>
                  <a:pt x="5360" y="22"/>
                </a:lnTo>
                <a:lnTo>
                  <a:pt x="5358" y="21"/>
                </a:lnTo>
                <a:lnTo>
                  <a:pt x="5357" y="19"/>
                </a:lnTo>
                <a:lnTo>
                  <a:pt x="5355" y="16"/>
                </a:lnTo>
                <a:lnTo>
                  <a:pt x="5354" y="15"/>
                </a:lnTo>
                <a:lnTo>
                  <a:pt x="5354" y="12"/>
                </a:lnTo>
                <a:lnTo>
                  <a:pt x="5354" y="9"/>
                </a:lnTo>
                <a:lnTo>
                  <a:pt x="5355" y="8"/>
                </a:lnTo>
                <a:lnTo>
                  <a:pt x="5357" y="6"/>
                </a:lnTo>
                <a:lnTo>
                  <a:pt x="5358" y="3"/>
                </a:lnTo>
                <a:lnTo>
                  <a:pt x="5360" y="2"/>
                </a:lnTo>
                <a:lnTo>
                  <a:pt x="5361" y="2"/>
                </a:lnTo>
                <a:lnTo>
                  <a:pt x="5364" y="0"/>
                </a:lnTo>
                <a:lnTo>
                  <a:pt x="5366" y="0"/>
                </a:lnTo>
                <a:lnTo>
                  <a:pt x="5713" y="0"/>
                </a:lnTo>
                <a:lnTo>
                  <a:pt x="5716" y="0"/>
                </a:lnTo>
                <a:lnTo>
                  <a:pt x="5718" y="2"/>
                </a:lnTo>
                <a:lnTo>
                  <a:pt x="5721" y="2"/>
                </a:lnTo>
                <a:lnTo>
                  <a:pt x="5722" y="3"/>
                </a:lnTo>
                <a:lnTo>
                  <a:pt x="5724" y="6"/>
                </a:lnTo>
                <a:lnTo>
                  <a:pt x="5725" y="8"/>
                </a:lnTo>
                <a:lnTo>
                  <a:pt x="5725" y="9"/>
                </a:lnTo>
                <a:lnTo>
                  <a:pt x="5725" y="12"/>
                </a:lnTo>
                <a:lnTo>
                  <a:pt x="5725" y="15"/>
                </a:lnTo>
                <a:lnTo>
                  <a:pt x="5725" y="16"/>
                </a:lnTo>
                <a:lnTo>
                  <a:pt x="5724" y="19"/>
                </a:lnTo>
                <a:lnTo>
                  <a:pt x="5722" y="21"/>
                </a:lnTo>
                <a:lnTo>
                  <a:pt x="5721" y="22"/>
                </a:lnTo>
                <a:lnTo>
                  <a:pt x="5718" y="22"/>
                </a:lnTo>
                <a:lnTo>
                  <a:pt x="5716" y="24"/>
                </a:lnTo>
                <a:lnTo>
                  <a:pt x="5713" y="24"/>
                </a:lnTo>
                <a:lnTo>
                  <a:pt x="5713" y="24"/>
                </a:lnTo>
                <a:close/>
                <a:moveTo>
                  <a:pt x="5157" y="24"/>
                </a:moveTo>
                <a:lnTo>
                  <a:pt x="4809" y="24"/>
                </a:lnTo>
                <a:lnTo>
                  <a:pt x="4808" y="24"/>
                </a:lnTo>
                <a:lnTo>
                  <a:pt x="4805" y="22"/>
                </a:lnTo>
                <a:lnTo>
                  <a:pt x="4803" y="22"/>
                </a:lnTo>
                <a:lnTo>
                  <a:pt x="4802" y="21"/>
                </a:lnTo>
                <a:lnTo>
                  <a:pt x="4800" y="19"/>
                </a:lnTo>
                <a:lnTo>
                  <a:pt x="4799" y="16"/>
                </a:lnTo>
                <a:lnTo>
                  <a:pt x="4797" y="15"/>
                </a:lnTo>
                <a:lnTo>
                  <a:pt x="4797" y="12"/>
                </a:lnTo>
                <a:lnTo>
                  <a:pt x="4797" y="9"/>
                </a:lnTo>
                <a:lnTo>
                  <a:pt x="4799" y="8"/>
                </a:lnTo>
                <a:lnTo>
                  <a:pt x="4800" y="6"/>
                </a:lnTo>
                <a:lnTo>
                  <a:pt x="4802" y="3"/>
                </a:lnTo>
                <a:lnTo>
                  <a:pt x="4803" y="2"/>
                </a:lnTo>
                <a:lnTo>
                  <a:pt x="4805" y="2"/>
                </a:lnTo>
                <a:lnTo>
                  <a:pt x="4808" y="0"/>
                </a:lnTo>
                <a:lnTo>
                  <a:pt x="4809" y="0"/>
                </a:lnTo>
                <a:lnTo>
                  <a:pt x="5157" y="0"/>
                </a:lnTo>
                <a:lnTo>
                  <a:pt x="5160" y="0"/>
                </a:lnTo>
                <a:lnTo>
                  <a:pt x="5161" y="2"/>
                </a:lnTo>
                <a:lnTo>
                  <a:pt x="5164" y="2"/>
                </a:lnTo>
                <a:lnTo>
                  <a:pt x="5166" y="3"/>
                </a:lnTo>
                <a:lnTo>
                  <a:pt x="5167" y="6"/>
                </a:lnTo>
                <a:lnTo>
                  <a:pt x="5168" y="8"/>
                </a:lnTo>
                <a:lnTo>
                  <a:pt x="5168" y="9"/>
                </a:lnTo>
                <a:lnTo>
                  <a:pt x="5168" y="12"/>
                </a:lnTo>
                <a:lnTo>
                  <a:pt x="5168" y="15"/>
                </a:lnTo>
                <a:lnTo>
                  <a:pt x="5168" y="16"/>
                </a:lnTo>
                <a:lnTo>
                  <a:pt x="5167" y="19"/>
                </a:lnTo>
                <a:lnTo>
                  <a:pt x="5166" y="21"/>
                </a:lnTo>
                <a:lnTo>
                  <a:pt x="5164" y="22"/>
                </a:lnTo>
                <a:lnTo>
                  <a:pt x="5161" y="22"/>
                </a:lnTo>
                <a:lnTo>
                  <a:pt x="5160" y="24"/>
                </a:lnTo>
                <a:lnTo>
                  <a:pt x="5157" y="24"/>
                </a:lnTo>
                <a:lnTo>
                  <a:pt x="5157" y="24"/>
                </a:lnTo>
                <a:close/>
                <a:moveTo>
                  <a:pt x="4600" y="24"/>
                </a:moveTo>
                <a:lnTo>
                  <a:pt x="4252" y="24"/>
                </a:lnTo>
                <a:lnTo>
                  <a:pt x="4251" y="24"/>
                </a:lnTo>
                <a:lnTo>
                  <a:pt x="4248" y="22"/>
                </a:lnTo>
                <a:lnTo>
                  <a:pt x="4247" y="22"/>
                </a:lnTo>
                <a:lnTo>
                  <a:pt x="4245" y="21"/>
                </a:lnTo>
                <a:lnTo>
                  <a:pt x="4244" y="19"/>
                </a:lnTo>
                <a:lnTo>
                  <a:pt x="4242" y="16"/>
                </a:lnTo>
                <a:lnTo>
                  <a:pt x="4241" y="15"/>
                </a:lnTo>
                <a:lnTo>
                  <a:pt x="4241" y="12"/>
                </a:lnTo>
                <a:lnTo>
                  <a:pt x="4241" y="9"/>
                </a:lnTo>
                <a:lnTo>
                  <a:pt x="4242" y="8"/>
                </a:lnTo>
                <a:lnTo>
                  <a:pt x="4244" y="6"/>
                </a:lnTo>
                <a:lnTo>
                  <a:pt x="4245" y="3"/>
                </a:lnTo>
                <a:lnTo>
                  <a:pt x="4247" y="2"/>
                </a:lnTo>
                <a:lnTo>
                  <a:pt x="4248" y="2"/>
                </a:lnTo>
                <a:lnTo>
                  <a:pt x="4251" y="0"/>
                </a:lnTo>
                <a:lnTo>
                  <a:pt x="4252" y="0"/>
                </a:lnTo>
                <a:lnTo>
                  <a:pt x="4600" y="0"/>
                </a:lnTo>
                <a:lnTo>
                  <a:pt x="4603" y="0"/>
                </a:lnTo>
                <a:lnTo>
                  <a:pt x="4605" y="2"/>
                </a:lnTo>
                <a:lnTo>
                  <a:pt x="4607" y="2"/>
                </a:lnTo>
                <a:lnTo>
                  <a:pt x="4609" y="3"/>
                </a:lnTo>
                <a:lnTo>
                  <a:pt x="4610" y="6"/>
                </a:lnTo>
                <a:lnTo>
                  <a:pt x="4612" y="8"/>
                </a:lnTo>
                <a:lnTo>
                  <a:pt x="4612" y="9"/>
                </a:lnTo>
                <a:lnTo>
                  <a:pt x="4612" y="12"/>
                </a:lnTo>
                <a:lnTo>
                  <a:pt x="4612" y="15"/>
                </a:lnTo>
                <a:lnTo>
                  <a:pt x="4612" y="16"/>
                </a:lnTo>
                <a:lnTo>
                  <a:pt x="4610" y="19"/>
                </a:lnTo>
                <a:lnTo>
                  <a:pt x="4609" y="21"/>
                </a:lnTo>
                <a:lnTo>
                  <a:pt x="4607" y="22"/>
                </a:lnTo>
                <a:lnTo>
                  <a:pt x="4605" y="22"/>
                </a:lnTo>
                <a:lnTo>
                  <a:pt x="4603" y="24"/>
                </a:lnTo>
                <a:lnTo>
                  <a:pt x="4600" y="24"/>
                </a:lnTo>
                <a:lnTo>
                  <a:pt x="4600" y="24"/>
                </a:lnTo>
                <a:close/>
                <a:moveTo>
                  <a:pt x="4044" y="24"/>
                </a:moveTo>
                <a:lnTo>
                  <a:pt x="3696" y="24"/>
                </a:lnTo>
                <a:lnTo>
                  <a:pt x="3694" y="24"/>
                </a:lnTo>
                <a:lnTo>
                  <a:pt x="3691" y="22"/>
                </a:lnTo>
                <a:lnTo>
                  <a:pt x="3690" y="22"/>
                </a:lnTo>
                <a:lnTo>
                  <a:pt x="3689" y="21"/>
                </a:lnTo>
                <a:lnTo>
                  <a:pt x="3687" y="19"/>
                </a:lnTo>
                <a:lnTo>
                  <a:pt x="3686" y="16"/>
                </a:lnTo>
                <a:lnTo>
                  <a:pt x="3684" y="15"/>
                </a:lnTo>
                <a:lnTo>
                  <a:pt x="3684" y="12"/>
                </a:lnTo>
                <a:lnTo>
                  <a:pt x="3684" y="9"/>
                </a:lnTo>
                <a:lnTo>
                  <a:pt x="3686" y="8"/>
                </a:lnTo>
                <a:lnTo>
                  <a:pt x="3687" y="6"/>
                </a:lnTo>
                <a:lnTo>
                  <a:pt x="3689" y="3"/>
                </a:lnTo>
                <a:lnTo>
                  <a:pt x="3690" y="2"/>
                </a:lnTo>
                <a:lnTo>
                  <a:pt x="3691" y="2"/>
                </a:lnTo>
                <a:lnTo>
                  <a:pt x="3694" y="0"/>
                </a:lnTo>
                <a:lnTo>
                  <a:pt x="3696" y="0"/>
                </a:lnTo>
                <a:lnTo>
                  <a:pt x="4044" y="0"/>
                </a:lnTo>
                <a:lnTo>
                  <a:pt x="4047" y="0"/>
                </a:lnTo>
                <a:lnTo>
                  <a:pt x="4048" y="2"/>
                </a:lnTo>
                <a:lnTo>
                  <a:pt x="4051" y="2"/>
                </a:lnTo>
                <a:lnTo>
                  <a:pt x="4052" y="3"/>
                </a:lnTo>
                <a:lnTo>
                  <a:pt x="4054" y="6"/>
                </a:lnTo>
                <a:lnTo>
                  <a:pt x="4055" y="8"/>
                </a:lnTo>
                <a:lnTo>
                  <a:pt x="4055" y="9"/>
                </a:lnTo>
                <a:lnTo>
                  <a:pt x="4055" y="12"/>
                </a:lnTo>
                <a:lnTo>
                  <a:pt x="4055" y="15"/>
                </a:lnTo>
                <a:lnTo>
                  <a:pt x="4055" y="16"/>
                </a:lnTo>
                <a:lnTo>
                  <a:pt x="4054" y="19"/>
                </a:lnTo>
                <a:lnTo>
                  <a:pt x="4052" y="21"/>
                </a:lnTo>
                <a:lnTo>
                  <a:pt x="4051" y="22"/>
                </a:lnTo>
                <a:lnTo>
                  <a:pt x="4048" y="22"/>
                </a:lnTo>
                <a:lnTo>
                  <a:pt x="4047" y="24"/>
                </a:lnTo>
                <a:lnTo>
                  <a:pt x="4044" y="24"/>
                </a:lnTo>
                <a:lnTo>
                  <a:pt x="4044" y="24"/>
                </a:lnTo>
                <a:close/>
                <a:moveTo>
                  <a:pt x="3487" y="24"/>
                </a:moveTo>
                <a:lnTo>
                  <a:pt x="3139" y="24"/>
                </a:lnTo>
                <a:lnTo>
                  <a:pt x="3138" y="24"/>
                </a:lnTo>
                <a:lnTo>
                  <a:pt x="3135" y="22"/>
                </a:lnTo>
                <a:lnTo>
                  <a:pt x="3133" y="22"/>
                </a:lnTo>
                <a:lnTo>
                  <a:pt x="3132" y="21"/>
                </a:lnTo>
                <a:lnTo>
                  <a:pt x="3131" y="19"/>
                </a:lnTo>
                <a:lnTo>
                  <a:pt x="3129" y="16"/>
                </a:lnTo>
                <a:lnTo>
                  <a:pt x="3128" y="15"/>
                </a:lnTo>
                <a:lnTo>
                  <a:pt x="3128" y="12"/>
                </a:lnTo>
                <a:lnTo>
                  <a:pt x="3128" y="9"/>
                </a:lnTo>
                <a:lnTo>
                  <a:pt x="3129" y="8"/>
                </a:lnTo>
                <a:lnTo>
                  <a:pt x="3131" y="6"/>
                </a:lnTo>
                <a:lnTo>
                  <a:pt x="3132" y="3"/>
                </a:lnTo>
                <a:lnTo>
                  <a:pt x="3133" y="2"/>
                </a:lnTo>
                <a:lnTo>
                  <a:pt x="3135" y="2"/>
                </a:lnTo>
                <a:lnTo>
                  <a:pt x="3138" y="0"/>
                </a:lnTo>
                <a:lnTo>
                  <a:pt x="3139" y="0"/>
                </a:lnTo>
                <a:lnTo>
                  <a:pt x="3487" y="0"/>
                </a:lnTo>
                <a:lnTo>
                  <a:pt x="3490" y="0"/>
                </a:lnTo>
                <a:lnTo>
                  <a:pt x="3491" y="2"/>
                </a:lnTo>
                <a:lnTo>
                  <a:pt x="3494" y="2"/>
                </a:lnTo>
                <a:lnTo>
                  <a:pt x="3496" y="3"/>
                </a:lnTo>
                <a:lnTo>
                  <a:pt x="3497" y="6"/>
                </a:lnTo>
                <a:lnTo>
                  <a:pt x="3499" y="8"/>
                </a:lnTo>
                <a:lnTo>
                  <a:pt x="3499" y="9"/>
                </a:lnTo>
                <a:lnTo>
                  <a:pt x="3499" y="12"/>
                </a:lnTo>
                <a:lnTo>
                  <a:pt x="3499" y="15"/>
                </a:lnTo>
                <a:lnTo>
                  <a:pt x="3499" y="16"/>
                </a:lnTo>
                <a:lnTo>
                  <a:pt x="3497" y="19"/>
                </a:lnTo>
                <a:lnTo>
                  <a:pt x="3496" y="21"/>
                </a:lnTo>
                <a:lnTo>
                  <a:pt x="3494" y="22"/>
                </a:lnTo>
                <a:lnTo>
                  <a:pt x="3491" y="22"/>
                </a:lnTo>
                <a:lnTo>
                  <a:pt x="3490" y="24"/>
                </a:lnTo>
                <a:lnTo>
                  <a:pt x="3487" y="24"/>
                </a:lnTo>
                <a:lnTo>
                  <a:pt x="3487" y="24"/>
                </a:lnTo>
                <a:close/>
                <a:moveTo>
                  <a:pt x="2930" y="24"/>
                </a:moveTo>
                <a:lnTo>
                  <a:pt x="2583" y="24"/>
                </a:lnTo>
                <a:lnTo>
                  <a:pt x="2581" y="24"/>
                </a:lnTo>
                <a:lnTo>
                  <a:pt x="2578" y="22"/>
                </a:lnTo>
                <a:lnTo>
                  <a:pt x="2577" y="22"/>
                </a:lnTo>
                <a:lnTo>
                  <a:pt x="2575" y="21"/>
                </a:lnTo>
                <a:lnTo>
                  <a:pt x="2574" y="19"/>
                </a:lnTo>
                <a:lnTo>
                  <a:pt x="2572" y="16"/>
                </a:lnTo>
                <a:lnTo>
                  <a:pt x="2571" y="15"/>
                </a:lnTo>
                <a:lnTo>
                  <a:pt x="2571" y="12"/>
                </a:lnTo>
                <a:lnTo>
                  <a:pt x="2571" y="9"/>
                </a:lnTo>
                <a:lnTo>
                  <a:pt x="2572" y="8"/>
                </a:lnTo>
                <a:lnTo>
                  <a:pt x="2574" y="6"/>
                </a:lnTo>
                <a:lnTo>
                  <a:pt x="2575" y="3"/>
                </a:lnTo>
                <a:lnTo>
                  <a:pt x="2577" y="2"/>
                </a:lnTo>
                <a:lnTo>
                  <a:pt x="2578" y="2"/>
                </a:lnTo>
                <a:lnTo>
                  <a:pt x="2581" y="0"/>
                </a:lnTo>
                <a:lnTo>
                  <a:pt x="2583" y="0"/>
                </a:lnTo>
                <a:lnTo>
                  <a:pt x="2930" y="0"/>
                </a:lnTo>
                <a:lnTo>
                  <a:pt x="2933" y="0"/>
                </a:lnTo>
                <a:lnTo>
                  <a:pt x="2935" y="2"/>
                </a:lnTo>
                <a:lnTo>
                  <a:pt x="2938" y="2"/>
                </a:lnTo>
                <a:lnTo>
                  <a:pt x="2939" y="3"/>
                </a:lnTo>
                <a:lnTo>
                  <a:pt x="2941" y="6"/>
                </a:lnTo>
                <a:lnTo>
                  <a:pt x="2942" y="8"/>
                </a:lnTo>
                <a:lnTo>
                  <a:pt x="2942" y="9"/>
                </a:lnTo>
                <a:lnTo>
                  <a:pt x="2942" y="12"/>
                </a:lnTo>
                <a:lnTo>
                  <a:pt x="2942" y="15"/>
                </a:lnTo>
                <a:lnTo>
                  <a:pt x="2942" y="16"/>
                </a:lnTo>
                <a:lnTo>
                  <a:pt x="2941" y="19"/>
                </a:lnTo>
                <a:lnTo>
                  <a:pt x="2939" y="21"/>
                </a:lnTo>
                <a:lnTo>
                  <a:pt x="2938" y="22"/>
                </a:lnTo>
                <a:lnTo>
                  <a:pt x="2935" y="22"/>
                </a:lnTo>
                <a:lnTo>
                  <a:pt x="2933" y="24"/>
                </a:lnTo>
                <a:lnTo>
                  <a:pt x="2930" y="24"/>
                </a:lnTo>
                <a:lnTo>
                  <a:pt x="2930" y="24"/>
                </a:lnTo>
                <a:close/>
                <a:moveTo>
                  <a:pt x="2374" y="24"/>
                </a:moveTo>
                <a:lnTo>
                  <a:pt x="2026" y="24"/>
                </a:lnTo>
                <a:lnTo>
                  <a:pt x="2025" y="24"/>
                </a:lnTo>
                <a:lnTo>
                  <a:pt x="2022" y="22"/>
                </a:lnTo>
                <a:lnTo>
                  <a:pt x="2020" y="22"/>
                </a:lnTo>
                <a:lnTo>
                  <a:pt x="2019" y="21"/>
                </a:lnTo>
                <a:lnTo>
                  <a:pt x="2017" y="19"/>
                </a:lnTo>
                <a:lnTo>
                  <a:pt x="2016" y="16"/>
                </a:lnTo>
                <a:lnTo>
                  <a:pt x="2014" y="15"/>
                </a:lnTo>
                <a:lnTo>
                  <a:pt x="2014" y="12"/>
                </a:lnTo>
                <a:lnTo>
                  <a:pt x="2014" y="9"/>
                </a:lnTo>
                <a:lnTo>
                  <a:pt x="2016" y="8"/>
                </a:lnTo>
                <a:lnTo>
                  <a:pt x="2017" y="6"/>
                </a:lnTo>
                <a:lnTo>
                  <a:pt x="2019" y="3"/>
                </a:lnTo>
                <a:lnTo>
                  <a:pt x="2020" y="2"/>
                </a:lnTo>
                <a:lnTo>
                  <a:pt x="2022" y="2"/>
                </a:lnTo>
                <a:lnTo>
                  <a:pt x="2025" y="0"/>
                </a:lnTo>
                <a:lnTo>
                  <a:pt x="2026" y="0"/>
                </a:lnTo>
                <a:lnTo>
                  <a:pt x="2374" y="0"/>
                </a:lnTo>
                <a:lnTo>
                  <a:pt x="2377" y="0"/>
                </a:lnTo>
                <a:lnTo>
                  <a:pt x="2378" y="2"/>
                </a:lnTo>
                <a:lnTo>
                  <a:pt x="2381" y="2"/>
                </a:lnTo>
                <a:lnTo>
                  <a:pt x="2383" y="3"/>
                </a:lnTo>
                <a:lnTo>
                  <a:pt x="2384" y="6"/>
                </a:lnTo>
                <a:lnTo>
                  <a:pt x="2385" y="8"/>
                </a:lnTo>
                <a:lnTo>
                  <a:pt x="2385" y="9"/>
                </a:lnTo>
                <a:lnTo>
                  <a:pt x="2385" y="12"/>
                </a:lnTo>
                <a:lnTo>
                  <a:pt x="2385" y="15"/>
                </a:lnTo>
                <a:lnTo>
                  <a:pt x="2385" y="16"/>
                </a:lnTo>
                <a:lnTo>
                  <a:pt x="2384" y="19"/>
                </a:lnTo>
                <a:lnTo>
                  <a:pt x="2383" y="21"/>
                </a:lnTo>
                <a:lnTo>
                  <a:pt x="2381" y="22"/>
                </a:lnTo>
                <a:lnTo>
                  <a:pt x="2378" y="22"/>
                </a:lnTo>
                <a:lnTo>
                  <a:pt x="2377" y="24"/>
                </a:lnTo>
                <a:lnTo>
                  <a:pt x="2374" y="24"/>
                </a:lnTo>
                <a:lnTo>
                  <a:pt x="2374" y="24"/>
                </a:lnTo>
                <a:close/>
                <a:moveTo>
                  <a:pt x="1817" y="24"/>
                </a:moveTo>
                <a:lnTo>
                  <a:pt x="1469" y="24"/>
                </a:lnTo>
                <a:lnTo>
                  <a:pt x="1468" y="24"/>
                </a:lnTo>
                <a:lnTo>
                  <a:pt x="1465" y="22"/>
                </a:lnTo>
                <a:lnTo>
                  <a:pt x="1464" y="22"/>
                </a:lnTo>
                <a:lnTo>
                  <a:pt x="1462" y="21"/>
                </a:lnTo>
                <a:lnTo>
                  <a:pt x="1461" y="19"/>
                </a:lnTo>
                <a:lnTo>
                  <a:pt x="1459" y="16"/>
                </a:lnTo>
                <a:lnTo>
                  <a:pt x="1458" y="15"/>
                </a:lnTo>
                <a:lnTo>
                  <a:pt x="1458" y="12"/>
                </a:lnTo>
                <a:lnTo>
                  <a:pt x="1458" y="9"/>
                </a:lnTo>
                <a:lnTo>
                  <a:pt x="1459" y="8"/>
                </a:lnTo>
                <a:lnTo>
                  <a:pt x="1461" y="6"/>
                </a:lnTo>
                <a:lnTo>
                  <a:pt x="1462" y="3"/>
                </a:lnTo>
                <a:lnTo>
                  <a:pt x="1464" y="2"/>
                </a:lnTo>
                <a:lnTo>
                  <a:pt x="1465" y="2"/>
                </a:lnTo>
                <a:lnTo>
                  <a:pt x="1468" y="0"/>
                </a:lnTo>
                <a:lnTo>
                  <a:pt x="1469" y="0"/>
                </a:lnTo>
                <a:lnTo>
                  <a:pt x="1817" y="0"/>
                </a:lnTo>
                <a:lnTo>
                  <a:pt x="1820" y="0"/>
                </a:lnTo>
                <a:lnTo>
                  <a:pt x="1822" y="2"/>
                </a:lnTo>
                <a:lnTo>
                  <a:pt x="1825" y="2"/>
                </a:lnTo>
                <a:lnTo>
                  <a:pt x="1826" y="3"/>
                </a:lnTo>
                <a:lnTo>
                  <a:pt x="1827" y="6"/>
                </a:lnTo>
                <a:lnTo>
                  <a:pt x="1829" y="8"/>
                </a:lnTo>
                <a:lnTo>
                  <a:pt x="1829" y="9"/>
                </a:lnTo>
                <a:lnTo>
                  <a:pt x="1829" y="12"/>
                </a:lnTo>
                <a:lnTo>
                  <a:pt x="1829" y="15"/>
                </a:lnTo>
                <a:lnTo>
                  <a:pt x="1829" y="16"/>
                </a:lnTo>
                <a:lnTo>
                  <a:pt x="1827" y="19"/>
                </a:lnTo>
                <a:lnTo>
                  <a:pt x="1826" y="21"/>
                </a:lnTo>
                <a:lnTo>
                  <a:pt x="1825" y="22"/>
                </a:lnTo>
                <a:lnTo>
                  <a:pt x="1822" y="22"/>
                </a:lnTo>
                <a:lnTo>
                  <a:pt x="1820" y="24"/>
                </a:lnTo>
                <a:lnTo>
                  <a:pt x="1817" y="24"/>
                </a:lnTo>
                <a:lnTo>
                  <a:pt x="1817" y="24"/>
                </a:lnTo>
                <a:close/>
                <a:moveTo>
                  <a:pt x="1261" y="24"/>
                </a:moveTo>
                <a:lnTo>
                  <a:pt x="913" y="24"/>
                </a:lnTo>
                <a:lnTo>
                  <a:pt x="911" y="24"/>
                </a:lnTo>
                <a:lnTo>
                  <a:pt x="909" y="22"/>
                </a:lnTo>
                <a:lnTo>
                  <a:pt x="907" y="22"/>
                </a:lnTo>
                <a:lnTo>
                  <a:pt x="906" y="21"/>
                </a:lnTo>
                <a:lnTo>
                  <a:pt x="904" y="19"/>
                </a:lnTo>
                <a:lnTo>
                  <a:pt x="903" y="16"/>
                </a:lnTo>
                <a:lnTo>
                  <a:pt x="901" y="15"/>
                </a:lnTo>
                <a:lnTo>
                  <a:pt x="901" y="12"/>
                </a:lnTo>
                <a:lnTo>
                  <a:pt x="901" y="9"/>
                </a:lnTo>
                <a:lnTo>
                  <a:pt x="903" y="8"/>
                </a:lnTo>
                <a:lnTo>
                  <a:pt x="904" y="6"/>
                </a:lnTo>
                <a:lnTo>
                  <a:pt x="906" y="3"/>
                </a:lnTo>
                <a:lnTo>
                  <a:pt x="907" y="2"/>
                </a:lnTo>
                <a:lnTo>
                  <a:pt x="909" y="2"/>
                </a:lnTo>
                <a:lnTo>
                  <a:pt x="911" y="0"/>
                </a:lnTo>
                <a:lnTo>
                  <a:pt x="913" y="0"/>
                </a:lnTo>
                <a:lnTo>
                  <a:pt x="1261" y="0"/>
                </a:lnTo>
                <a:lnTo>
                  <a:pt x="1264" y="0"/>
                </a:lnTo>
                <a:lnTo>
                  <a:pt x="1265" y="2"/>
                </a:lnTo>
                <a:lnTo>
                  <a:pt x="1268" y="2"/>
                </a:lnTo>
                <a:lnTo>
                  <a:pt x="1269" y="3"/>
                </a:lnTo>
                <a:lnTo>
                  <a:pt x="1271" y="6"/>
                </a:lnTo>
                <a:lnTo>
                  <a:pt x="1272" y="8"/>
                </a:lnTo>
                <a:lnTo>
                  <a:pt x="1272" y="9"/>
                </a:lnTo>
                <a:lnTo>
                  <a:pt x="1272" y="12"/>
                </a:lnTo>
                <a:lnTo>
                  <a:pt x="1272" y="15"/>
                </a:lnTo>
                <a:lnTo>
                  <a:pt x="1272" y="16"/>
                </a:lnTo>
                <a:lnTo>
                  <a:pt x="1271" y="19"/>
                </a:lnTo>
                <a:lnTo>
                  <a:pt x="1269" y="21"/>
                </a:lnTo>
                <a:lnTo>
                  <a:pt x="1268" y="22"/>
                </a:lnTo>
                <a:lnTo>
                  <a:pt x="1265" y="22"/>
                </a:lnTo>
                <a:lnTo>
                  <a:pt x="1264" y="24"/>
                </a:lnTo>
                <a:lnTo>
                  <a:pt x="1261" y="24"/>
                </a:lnTo>
                <a:lnTo>
                  <a:pt x="1261" y="24"/>
                </a:lnTo>
                <a:close/>
                <a:moveTo>
                  <a:pt x="704" y="24"/>
                </a:moveTo>
                <a:lnTo>
                  <a:pt x="359" y="24"/>
                </a:lnTo>
                <a:lnTo>
                  <a:pt x="358" y="24"/>
                </a:lnTo>
                <a:lnTo>
                  <a:pt x="355" y="24"/>
                </a:lnTo>
                <a:lnTo>
                  <a:pt x="352" y="24"/>
                </a:lnTo>
                <a:lnTo>
                  <a:pt x="350" y="22"/>
                </a:lnTo>
                <a:lnTo>
                  <a:pt x="349" y="21"/>
                </a:lnTo>
                <a:lnTo>
                  <a:pt x="348" y="19"/>
                </a:lnTo>
                <a:lnTo>
                  <a:pt x="346" y="16"/>
                </a:lnTo>
                <a:lnTo>
                  <a:pt x="346" y="15"/>
                </a:lnTo>
                <a:lnTo>
                  <a:pt x="345" y="12"/>
                </a:lnTo>
                <a:lnTo>
                  <a:pt x="345" y="10"/>
                </a:lnTo>
                <a:lnTo>
                  <a:pt x="346" y="8"/>
                </a:lnTo>
                <a:lnTo>
                  <a:pt x="348" y="6"/>
                </a:lnTo>
                <a:lnTo>
                  <a:pt x="349" y="5"/>
                </a:lnTo>
                <a:lnTo>
                  <a:pt x="350" y="3"/>
                </a:lnTo>
                <a:lnTo>
                  <a:pt x="352" y="2"/>
                </a:lnTo>
                <a:lnTo>
                  <a:pt x="355" y="0"/>
                </a:lnTo>
                <a:lnTo>
                  <a:pt x="356" y="0"/>
                </a:lnTo>
                <a:lnTo>
                  <a:pt x="359" y="0"/>
                </a:lnTo>
                <a:lnTo>
                  <a:pt x="704" y="0"/>
                </a:lnTo>
                <a:lnTo>
                  <a:pt x="707" y="0"/>
                </a:lnTo>
                <a:lnTo>
                  <a:pt x="708" y="2"/>
                </a:lnTo>
                <a:lnTo>
                  <a:pt x="711" y="2"/>
                </a:lnTo>
                <a:lnTo>
                  <a:pt x="713" y="3"/>
                </a:lnTo>
                <a:lnTo>
                  <a:pt x="714" y="6"/>
                </a:lnTo>
                <a:lnTo>
                  <a:pt x="716" y="8"/>
                </a:lnTo>
                <a:lnTo>
                  <a:pt x="716" y="9"/>
                </a:lnTo>
                <a:lnTo>
                  <a:pt x="716" y="12"/>
                </a:lnTo>
                <a:lnTo>
                  <a:pt x="716" y="15"/>
                </a:lnTo>
                <a:lnTo>
                  <a:pt x="716" y="16"/>
                </a:lnTo>
                <a:lnTo>
                  <a:pt x="714" y="19"/>
                </a:lnTo>
                <a:lnTo>
                  <a:pt x="713" y="21"/>
                </a:lnTo>
                <a:lnTo>
                  <a:pt x="711" y="22"/>
                </a:lnTo>
                <a:lnTo>
                  <a:pt x="708" y="22"/>
                </a:lnTo>
                <a:lnTo>
                  <a:pt x="707" y="24"/>
                </a:lnTo>
                <a:lnTo>
                  <a:pt x="704" y="24"/>
                </a:lnTo>
                <a:lnTo>
                  <a:pt x="704" y="24"/>
                </a:lnTo>
                <a:close/>
                <a:moveTo>
                  <a:pt x="168" y="84"/>
                </a:moveTo>
                <a:lnTo>
                  <a:pt x="158" y="90"/>
                </a:lnTo>
                <a:lnTo>
                  <a:pt x="145" y="100"/>
                </a:lnTo>
                <a:lnTo>
                  <a:pt x="133" y="112"/>
                </a:lnTo>
                <a:lnTo>
                  <a:pt x="121" y="122"/>
                </a:lnTo>
                <a:lnTo>
                  <a:pt x="110" y="134"/>
                </a:lnTo>
                <a:lnTo>
                  <a:pt x="100" y="147"/>
                </a:lnTo>
                <a:lnTo>
                  <a:pt x="90" y="160"/>
                </a:lnTo>
                <a:lnTo>
                  <a:pt x="79" y="173"/>
                </a:lnTo>
                <a:lnTo>
                  <a:pt x="71" y="186"/>
                </a:lnTo>
                <a:lnTo>
                  <a:pt x="63" y="200"/>
                </a:lnTo>
                <a:lnTo>
                  <a:pt x="56" y="215"/>
                </a:lnTo>
                <a:lnTo>
                  <a:pt x="49" y="229"/>
                </a:lnTo>
                <a:lnTo>
                  <a:pt x="43" y="245"/>
                </a:lnTo>
                <a:lnTo>
                  <a:pt x="37" y="260"/>
                </a:lnTo>
                <a:lnTo>
                  <a:pt x="33" y="276"/>
                </a:lnTo>
                <a:lnTo>
                  <a:pt x="30" y="293"/>
                </a:lnTo>
                <a:lnTo>
                  <a:pt x="26" y="309"/>
                </a:lnTo>
                <a:lnTo>
                  <a:pt x="24" y="326"/>
                </a:lnTo>
                <a:lnTo>
                  <a:pt x="23" y="342"/>
                </a:lnTo>
                <a:lnTo>
                  <a:pt x="23" y="360"/>
                </a:lnTo>
                <a:lnTo>
                  <a:pt x="23" y="363"/>
                </a:lnTo>
                <a:lnTo>
                  <a:pt x="21" y="364"/>
                </a:lnTo>
                <a:lnTo>
                  <a:pt x="20" y="367"/>
                </a:lnTo>
                <a:lnTo>
                  <a:pt x="19" y="368"/>
                </a:lnTo>
                <a:lnTo>
                  <a:pt x="17" y="370"/>
                </a:lnTo>
                <a:lnTo>
                  <a:pt x="16" y="371"/>
                </a:lnTo>
                <a:lnTo>
                  <a:pt x="13" y="371"/>
                </a:lnTo>
                <a:lnTo>
                  <a:pt x="11" y="371"/>
                </a:lnTo>
                <a:lnTo>
                  <a:pt x="8" y="371"/>
                </a:lnTo>
                <a:lnTo>
                  <a:pt x="6" y="370"/>
                </a:lnTo>
                <a:lnTo>
                  <a:pt x="4" y="370"/>
                </a:lnTo>
                <a:lnTo>
                  <a:pt x="3" y="368"/>
                </a:lnTo>
                <a:lnTo>
                  <a:pt x="1" y="366"/>
                </a:lnTo>
                <a:lnTo>
                  <a:pt x="0" y="364"/>
                </a:lnTo>
                <a:lnTo>
                  <a:pt x="0" y="363"/>
                </a:lnTo>
                <a:lnTo>
                  <a:pt x="0" y="360"/>
                </a:lnTo>
                <a:lnTo>
                  <a:pt x="0" y="341"/>
                </a:lnTo>
                <a:lnTo>
                  <a:pt x="1" y="324"/>
                </a:lnTo>
                <a:lnTo>
                  <a:pt x="4" y="305"/>
                </a:lnTo>
                <a:lnTo>
                  <a:pt x="7" y="287"/>
                </a:lnTo>
                <a:lnTo>
                  <a:pt x="11" y="270"/>
                </a:lnTo>
                <a:lnTo>
                  <a:pt x="16" y="252"/>
                </a:lnTo>
                <a:lnTo>
                  <a:pt x="21" y="237"/>
                </a:lnTo>
                <a:lnTo>
                  <a:pt x="27" y="221"/>
                </a:lnTo>
                <a:lnTo>
                  <a:pt x="34" y="205"/>
                </a:lnTo>
                <a:lnTo>
                  <a:pt x="43" y="189"/>
                </a:lnTo>
                <a:lnTo>
                  <a:pt x="52" y="173"/>
                </a:lnTo>
                <a:lnTo>
                  <a:pt x="61" y="158"/>
                </a:lnTo>
                <a:lnTo>
                  <a:pt x="71" y="145"/>
                </a:lnTo>
                <a:lnTo>
                  <a:pt x="82" y="131"/>
                </a:lnTo>
                <a:lnTo>
                  <a:pt x="92" y="118"/>
                </a:lnTo>
                <a:lnTo>
                  <a:pt x="106" y="106"/>
                </a:lnTo>
                <a:lnTo>
                  <a:pt x="117" y="95"/>
                </a:lnTo>
                <a:lnTo>
                  <a:pt x="130" y="83"/>
                </a:lnTo>
                <a:lnTo>
                  <a:pt x="145" y="71"/>
                </a:lnTo>
                <a:lnTo>
                  <a:pt x="155" y="64"/>
                </a:lnTo>
                <a:lnTo>
                  <a:pt x="156" y="63"/>
                </a:lnTo>
                <a:lnTo>
                  <a:pt x="158" y="63"/>
                </a:lnTo>
                <a:lnTo>
                  <a:pt x="161" y="63"/>
                </a:lnTo>
                <a:lnTo>
                  <a:pt x="162" y="63"/>
                </a:lnTo>
                <a:lnTo>
                  <a:pt x="165" y="63"/>
                </a:lnTo>
                <a:lnTo>
                  <a:pt x="166" y="64"/>
                </a:lnTo>
                <a:lnTo>
                  <a:pt x="169" y="66"/>
                </a:lnTo>
                <a:lnTo>
                  <a:pt x="171" y="67"/>
                </a:lnTo>
                <a:lnTo>
                  <a:pt x="172" y="70"/>
                </a:lnTo>
                <a:lnTo>
                  <a:pt x="172" y="71"/>
                </a:lnTo>
                <a:lnTo>
                  <a:pt x="172" y="74"/>
                </a:lnTo>
                <a:lnTo>
                  <a:pt x="172" y="76"/>
                </a:lnTo>
                <a:lnTo>
                  <a:pt x="172" y="79"/>
                </a:lnTo>
                <a:lnTo>
                  <a:pt x="171" y="80"/>
                </a:lnTo>
                <a:lnTo>
                  <a:pt x="169" y="81"/>
                </a:lnTo>
                <a:lnTo>
                  <a:pt x="168" y="84"/>
                </a:lnTo>
                <a:lnTo>
                  <a:pt x="168" y="84"/>
                </a:lnTo>
                <a:close/>
                <a:moveTo>
                  <a:pt x="23" y="360"/>
                </a:moveTo>
                <a:lnTo>
                  <a:pt x="23" y="373"/>
                </a:lnTo>
                <a:lnTo>
                  <a:pt x="23" y="374"/>
                </a:lnTo>
                <a:lnTo>
                  <a:pt x="21" y="377"/>
                </a:lnTo>
                <a:lnTo>
                  <a:pt x="20" y="379"/>
                </a:lnTo>
                <a:lnTo>
                  <a:pt x="19" y="380"/>
                </a:lnTo>
                <a:lnTo>
                  <a:pt x="17" y="381"/>
                </a:lnTo>
                <a:lnTo>
                  <a:pt x="16" y="383"/>
                </a:lnTo>
                <a:lnTo>
                  <a:pt x="13" y="383"/>
                </a:lnTo>
                <a:lnTo>
                  <a:pt x="11" y="384"/>
                </a:lnTo>
                <a:lnTo>
                  <a:pt x="8" y="383"/>
                </a:lnTo>
                <a:lnTo>
                  <a:pt x="7" y="383"/>
                </a:lnTo>
                <a:lnTo>
                  <a:pt x="4" y="381"/>
                </a:lnTo>
                <a:lnTo>
                  <a:pt x="3" y="380"/>
                </a:lnTo>
                <a:lnTo>
                  <a:pt x="1" y="379"/>
                </a:lnTo>
                <a:lnTo>
                  <a:pt x="0" y="377"/>
                </a:lnTo>
                <a:lnTo>
                  <a:pt x="0" y="374"/>
                </a:lnTo>
                <a:lnTo>
                  <a:pt x="0" y="373"/>
                </a:lnTo>
                <a:lnTo>
                  <a:pt x="0" y="360"/>
                </a:lnTo>
                <a:lnTo>
                  <a:pt x="0" y="357"/>
                </a:lnTo>
                <a:lnTo>
                  <a:pt x="0" y="355"/>
                </a:lnTo>
                <a:lnTo>
                  <a:pt x="1" y="354"/>
                </a:lnTo>
                <a:lnTo>
                  <a:pt x="3" y="351"/>
                </a:lnTo>
                <a:lnTo>
                  <a:pt x="4" y="350"/>
                </a:lnTo>
                <a:lnTo>
                  <a:pt x="7" y="350"/>
                </a:lnTo>
                <a:lnTo>
                  <a:pt x="8" y="348"/>
                </a:lnTo>
                <a:lnTo>
                  <a:pt x="11" y="348"/>
                </a:lnTo>
                <a:lnTo>
                  <a:pt x="13" y="348"/>
                </a:lnTo>
                <a:lnTo>
                  <a:pt x="16" y="350"/>
                </a:lnTo>
                <a:lnTo>
                  <a:pt x="17" y="350"/>
                </a:lnTo>
                <a:lnTo>
                  <a:pt x="19" y="351"/>
                </a:lnTo>
                <a:lnTo>
                  <a:pt x="20" y="354"/>
                </a:lnTo>
                <a:lnTo>
                  <a:pt x="21" y="355"/>
                </a:lnTo>
                <a:lnTo>
                  <a:pt x="23" y="357"/>
                </a:lnTo>
                <a:lnTo>
                  <a:pt x="23" y="360"/>
                </a:lnTo>
                <a:lnTo>
                  <a:pt x="23" y="360"/>
                </a:lnTo>
                <a:close/>
                <a:moveTo>
                  <a:pt x="23" y="581"/>
                </a:moveTo>
                <a:lnTo>
                  <a:pt x="23" y="929"/>
                </a:lnTo>
                <a:lnTo>
                  <a:pt x="23" y="931"/>
                </a:lnTo>
                <a:lnTo>
                  <a:pt x="21" y="934"/>
                </a:lnTo>
                <a:lnTo>
                  <a:pt x="20" y="935"/>
                </a:lnTo>
                <a:lnTo>
                  <a:pt x="19" y="937"/>
                </a:lnTo>
                <a:lnTo>
                  <a:pt x="17" y="938"/>
                </a:lnTo>
                <a:lnTo>
                  <a:pt x="16" y="939"/>
                </a:lnTo>
                <a:lnTo>
                  <a:pt x="13" y="939"/>
                </a:lnTo>
                <a:lnTo>
                  <a:pt x="11" y="941"/>
                </a:lnTo>
                <a:lnTo>
                  <a:pt x="8" y="939"/>
                </a:lnTo>
                <a:lnTo>
                  <a:pt x="7" y="939"/>
                </a:lnTo>
                <a:lnTo>
                  <a:pt x="4" y="938"/>
                </a:lnTo>
                <a:lnTo>
                  <a:pt x="3" y="937"/>
                </a:lnTo>
                <a:lnTo>
                  <a:pt x="1" y="935"/>
                </a:lnTo>
                <a:lnTo>
                  <a:pt x="0" y="934"/>
                </a:lnTo>
                <a:lnTo>
                  <a:pt x="0" y="931"/>
                </a:lnTo>
                <a:lnTo>
                  <a:pt x="0" y="929"/>
                </a:lnTo>
                <a:lnTo>
                  <a:pt x="0" y="581"/>
                </a:lnTo>
                <a:lnTo>
                  <a:pt x="0" y="579"/>
                </a:lnTo>
                <a:lnTo>
                  <a:pt x="0" y="576"/>
                </a:lnTo>
                <a:lnTo>
                  <a:pt x="1" y="574"/>
                </a:lnTo>
                <a:lnTo>
                  <a:pt x="3" y="573"/>
                </a:lnTo>
                <a:lnTo>
                  <a:pt x="4" y="571"/>
                </a:lnTo>
                <a:lnTo>
                  <a:pt x="7" y="570"/>
                </a:lnTo>
                <a:lnTo>
                  <a:pt x="8" y="570"/>
                </a:lnTo>
                <a:lnTo>
                  <a:pt x="11" y="570"/>
                </a:lnTo>
                <a:lnTo>
                  <a:pt x="13" y="570"/>
                </a:lnTo>
                <a:lnTo>
                  <a:pt x="16" y="570"/>
                </a:lnTo>
                <a:lnTo>
                  <a:pt x="17" y="571"/>
                </a:lnTo>
                <a:lnTo>
                  <a:pt x="19" y="573"/>
                </a:lnTo>
                <a:lnTo>
                  <a:pt x="20" y="574"/>
                </a:lnTo>
                <a:lnTo>
                  <a:pt x="21" y="576"/>
                </a:lnTo>
                <a:lnTo>
                  <a:pt x="23" y="579"/>
                </a:lnTo>
                <a:lnTo>
                  <a:pt x="23" y="581"/>
                </a:lnTo>
                <a:lnTo>
                  <a:pt x="23" y="581"/>
                </a:lnTo>
                <a:close/>
                <a:moveTo>
                  <a:pt x="23" y="1138"/>
                </a:moveTo>
                <a:lnTo>
                  <a:pt x="23" y="1148"/>
                </a:lnTo>
                <a:lnTo>
                  <a:pt x="23" y="1167"/>
                </a:lnTo>
                <a:lnTo>
                  <a:pt x="24" y="1183"/>
                </a:lnTo>
                <a:lnTo>
                  <a:pt x="27" y="1200"/>
                </a:lnTo>
                <a:lnTo>
                  <a:pt x="30" y="1216"/>
                </a:lnTo>
                <a:lnTo>
                  <a:pt x="33" y="1234"/>
                </a:lnTo>
                <a:lnTo>
                  <a:pt x="37" y="1250"/>
                </a:lnTo>
                <a:lnTo>
                  <a:pt x="43" y="1264"/>
                </a:lnTo>
                <a:lnTo>
                  <a:pt x="49" y="1280"/>
                </a:lnTo>
                <a:lnTo>
                  <a:pt x="56" y="1294"/>
                </a:lnTo>
                <a:lnTo>
                  <a:pt x="63" y="1309"/>
                </a:lnTo>
                <a:lnTo>
                  <a:pt x="72" y="1323"/>
                </a:lnTo>
                <a:lnTo>
                  <a:pt x="81" y="1337"/>
                </a:lnTo>
                <a:lnTo>
                  <a:pt x="90" y="1350"/>
                </a:lnTo>
                <a:lnTo>
                  <a:pt x="100" y="1363"/>
                </a:lnTo>
                <a:lnTo>
                  <a:pt x="110" y="1376"/>
                </a:lnTo>
                <a:lnTo>
                  <a:pt x="121" y="1387"/>
                </a:lnTo>
                <a:lnTo>
                  <a:pt x="133" y="1397"/>
                </a:lnTo>
                <a:lnTo>
                  <a:pt x="145" y="1409"/>
                </a:lnTo>
                <a:lnTo>
                  <a:pt x="158" y="1419"/>
                </a:lnTo>
                <a:lnTo>
                  <a:pt x="168" y="1426"/>
                </a:lnTo>
                <a:lnTo>
                  <a:pt x="169" y="1428"/>
                </a:lnTo>
                <a:lnTo>
                  <a:pt x="171" y="1429"/>
                </a:lnTo>
                <a:lnTo>
                  <a:pt x="172" y="1431"/>
                </a:lnTo>
                <a:lnTo>
                  <a:pt x="172" y="1434"/>
                </a:lnTo>
                <a:lnTo>
                  <a:pt x="174" y="1435"/>
                </a:lnTo>
                <a:lnTo>
                  <a:pt x="172" y="1438"/>
                </a:lnTo>
                <a:lnTo>
                  <a:pt x="172" y="1439"/>
                </a:lnTo>
                <a:lnTo>
                  <a:pt x="171" y="1442"/>
                </a:lnTo>
                <a:lnTo>
                  <a:pt x="169" y="1444"/>
                </a:lnTo>
                <a:lnTo>
                  <a:pt x="168" y="1445"/>
                </a:lnTo>
                <a:lnTo>
                  <a:pt x="165" y="1445"/>
                </a:lnTo>
                <a:lnTo>
                  <a:pt x="163" y="1447"/>
                </a:lnTo>
                <a:lnTo>
                  <a:pt x="161" y="1447"/>
                </a:lnTo>
                <a:lnTo>
                  <a:pt x="159" y="1447"/>
                </a:lnTo>
                <a:lnTo>
                  <a:pt x="156" y="1445"/>
                </a:lnTo>
                <a:lnTo>
                  <a:pt x="155" y="1445"/>
                </a:lnTo>
                <a:lnTo>
                  <a:pt x="143" y="1437"/>
                </a:lnTo>
                <a:lnTo>
                  <a:pt x="130" y="1426"/>
                </a:lnTo>
                <a:lnTo>
                  <a:pt x="117" y="1415"/>
                </a:lnTo>
                <a:lnTo>
                  <a:pt x="104" y="1403"/>
                </a:lnTo>
                <a:lnTo>
                  <a:pt x="92" y="1390"/>
                </a:lnTo>
                <a:lnTo>
                  <a:pt x="81" y="1377"/>
                </a:lnTo>
                <a:lnTo>
                  <a:pt x="71" y="1364"/>
                </a:lnTo>
                <a:lnTo>
                  <a:pt x="61" y="1350"/>
                </a:lnTo>
                <a:lnTo>
                  <a:pt x="52" y="1335"/>
                </a:lnTo>
                <a:lnTo>
                  <a:pt x="43" y="1319"/>
                </a:lnTo>
                <a:lnTo>
                  <a:pt x="34" y="1305"/>
                </a:lnTo>
                <a:lnTo>
                  <a:pt x="27" y="1289"/>
                </a:lnTo>
                <a:lnTo>
                  <a:pt x="21" y="1273"/>
                </a:lnTo>
                <a:lnTo>
                  <a:pt x="16" y="1255"/>
                </a:lnTo>
                <a:lnTo>
                  <a:pt x="11" y="1238"/>
                </a:lnTo>
                <a:lnTo>
                  <a:pt x="7" y="1221"/>
                </a:lnTo>
                <a:lnTo>
                  <a:pt x="4" y="1203"/>
                </a:lnTo>
                <a:lnTo>
                  <a:pt x="1" y="1186"/>
                </a:lnTo>
                <a:lnTo>
                  <a:pt x="0" y="1167"/>
                </a:lnTo>
                <a:lnTo>
                  <a:pt x="0" y="1148"/>
                </a:lnTo>
                <a:lnTo>
                  <a:pt x="0" y="1138"/>
                </a:lnTo>
                <a:lnTo>
                  <a:pt x="0" y="1135"/>
                </a:lnTo>
                <a:lnTo>
                  <a:pt x="0" y="1132"/>
                </a:lnTo>
                <a:lnTo>
                  <a:pt x="1" y="1131"/>
                </a:lnTo>
                <a:lnTo>
                  <a:pt x="3" y="1129"/>
                </a:lnTo>
                <a:lnTo>
                  <a:pt x="4" y="1128"/>
                </a:lnTo>
                <a:lnTo>
                  <a:pt x="7" y="1126"/>
                </a:lnTo>
                <a:lnTo>
                  <a:pt x="8" y="1126"/>
                </a:lnTo>
                <a:lnTo>
                  <a:pt x="11" y="1126"/>
                </a:lnTo>
                <a:lnTo>
                  <a:pt x="13" y="1126"/>
                </a:lnTo>
                <a:lnTo>
                  <a:pt x="16" y="1126"/>
                </a:lnTo>
                <a:lnTo>
                  <a:pt x="17" y="1128"/>
                </a:lnTo>
                <a:lnTo>
                  <a:pt x="19" y="1129"/>
                </a:lnTo>
                <a:lnTo>
                  <a:pt x="20" y="1131"/>
                </a:lnTo>
                <a:lnTo>
                  <a:pt x="21" y="1132"/>
                </a:lnTo>
                <a:lnTo>
                  <a:pt x="23" y="1135"/>
                </a:lnTo>
                <a:lnTo>
                  <a:pt x="23" y="1138"/>
                </a:lnTo>
                <a:lnTo>
                  <a:pt x="23" y="1138"/>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720" y="317520"/>
            <a:ext cx="86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main Model</a:t>
            </a:r>
            <a:endParaRPr b="0" lang="en-US" sz="1000" spc="-1" strike="noStrike">
              <a:solidFill>
                <a:srgbClr val="000000"/>
              </a:solidFill>
              <a:latin typeface="Times New Roman"/>
            </a:endParaRPr>
          </a:p>
        </p:txBody>
      </p:sp>
      <p:sp>
        <p:nvSpPr>
          <p:cNvPr id="118" name=""/>
          <p:cNvSpPr/>
          <p:nvPr/>
        </p:nvSpPr>
        <p:spPr>
          <a:xfrm>
            <a:off x="2201760" y="2174760"/>
            <a:ext cx="3711600" cy="1971720"/>
          </a:xfrm>
          <a:custGeom>
            <a:avLst/>
            <a:gdLst/>
            <a:ahLst/>
            <a:rect l="l" t="t" r="r" b="b"/>
            <a:pathLst>
              <a:path w="4678" h="2484">
                <a:moveTo>
                  <a:pt x="348" y="2484"/>
                </a:moveTo>
                <a:lnTo>
                  <a:pt x="4330" y="2484"/>
                </a:lnTo>
                <a:lnTo>
                  <a:pt x="4347" y="2484"/>
                </a:lnTo>
                <a:lnTo>
                  <a:pt x="4364" y="2483"/>
                </a:lnTo>
                <a:lnTo>
                  <a:pt x="4382" y="2480"/>
                </a:lnTo>
                <a:lnTo>
                  <a:pt x="4399" y="2477"/>
                </a:lnTo>
                <a:lnTo>
                  <a:pt x="4417" y="2472"/>
                </a:lnTo>
                <a:lnTo>
                  <a:pt x="4433" y="2468"/>
                </a:lnTo>
                <a:lnTo>
                  <a:pt x="4448" y="2462"/>
                </a:lnTo>
                <a:lnTo>
                  <a:pt x="4464" y="2456"/>
                </a:lnTo>
                <a:lnTo>
                  <a:pt x="4480" y="2449"/>
                </a:lnTo>
                <a:lnTo>
                  <a:pt x="4495" y="2442"/>
                </a:lnTo>
                <a:lnTo>
                  <a:pt x="4509" y="2433"/>
                </a:lnTo>
                <a:lnTo>
                  <a:pt x="4524" y="2425"/>
                </a:lnTo>
                <a:lnTo>
                  <a:pt x="4537" y="2414"/>
                </a:lnTo>
                <a:lnTo>
                  <a:pt x="4550" y="2404"/>
                </a:lnTo>
                <a:lnTo>
                  <a:pt x="4563" y="2394"/>
                </a:lnTo>
                <a:lnTo>
                  <a:pt x="4575" y="2383"/>
                </a:lnTo>
                <a:lnTo>
                  <a:pt x="4586" y="2370"/>
                </a:lnTo>
                <a:lnTo>
                  <a:pt x="4598" y="2358"/>
                </a:lnTo>
                <a:lnTo>
                  <a:pt x="4608" y="2345"/>
                </a:lnTo>
                <a:lnTo>
                  <a:pt x="4618" y="2330"/>
                </a:lnTo>
                <a:lnTo>
                  <a:pt x="4627" y="2317"/>
                </a:lnTo>
                <a:lnTo>
                  <a:pt x="4635" y="2303"/>
                </a:lnTo>
                <a:lnTo>
                  <a:pt x="4643" y="2287"/>
                </a:lnTo>
                <a:lnTo>
                  <a:pt x="4650" y="2272"/>
                </a:lnTo>
                <a:lnTo>
                  <a:pt x="4656" y="2256"/>
                </a:lnTo>
                <a:lnTo>
                  <a:pt x="4662" y="2239"/>
                </a:lnTo>
                <a:lnTo>
                  <a:pt x="4666" y="2223"/>
                </a:lnTo>
                <a:lnTo>
                  <a:pt x="4670" y="2206"/>
                </a:lnTo>
                <a:lnTo>
                  <a:pt x="4673" y="2190"/>
                </a:lnTo>
                <a:lnTo>
                  <a:pt x="4676" y="2172"/>
                </a:lnTo>
                <a:lnTo>
                  <a:pt x="4676" y="2154"/>
                </a:lnTo>
                <a:lnTo>
                  <a:pt x="4678" y="2136"/>
                </a:lnTo>
                <a:lnTo>
                  <a:pt x="4678" y="2136"/>
                </a:lnTo>
                <a:lnTo>
                  <a:pt x="4678" y="348"/>
                </a:lnTo>
                <a:lnTo>
                  <a:pt x="4676" y="329"/>
                </a:lnTo>
                <a:lnTo>
                  <a:pt x="4676" y="312"/>
                </a:lnTo>
                <a:lnTo>
                  <a:pt x="4673" y="294"/>
                </a:lnTo>
                <a:lnTo>
                  <a:pt x="4670" y="277"/>
                </a:lnTo>
                <a:lnTo>
                  <a:pt x="4666" y="261"/>
                </a:lnTo>
                <a:lnTo>
                  <a:pt x="4662" y="243"/>
                </a:lnTo>
                <a:lnTo>
                  <a:pt x="4656" y="228"/>
                </a:lnTo>
                <a:lnTo>
                  <a:pt x="4650" y="212"/>
                </a:lnTo>
                <a:lnTo>
                  <a:pt x="4643" y="197"/>
                </a:lnTo>
                <a:lnTo>
                  <a:pt x="4635" y="181"/>
                </a:lnTo>
                <a:lnTo>
                  <a:pt x="4627" y="167"/>
                </a:lnTo>
                <a:lnTo>
                  <a:pt x="4618" y="154"/>
                </a:lnTo>
                <a:lnTo>
                  <a:pt x="4608" y="139"/>
                </a:lnTo>
                <a:lnTo>
                  <a:pt x="4598" y="126"/>
                </a:lnTo>
                <a:lnTo>
                  <a:pt x="4586" y="113"/>
                </a:lnTo>
                <a:lnTo>
                  <a:pt x="4575" y="101"/>
                </a:lnTo>
                <a:lnTo>
                  <a:pt x="4563" y="90"/>
                </a:lnTo>
                <a:lnTo>
                  <a:pt x="4550" y="80"/>
                </a:lnTo>
                <a:lnTo>
                  <a:pt x="4537" y="68"/>
                </a:lnTo>
                <a:lnTo>
                  <a:pt x="4524" y="59"/>
                </a:lnTo>
                <a:lnTo>
                  <a:pt x="4509" y="51"/>
                </a:lnTo>
                <a:lnTo>
                  <a:pt x="4495" y="42"/>
                </a:lnTo>
                <a:lnTo>
                  <a:pt x="4480" y="33"/>
                </a:lnTo>
                <a:lnTo>
                  <a:pt x="4464" y="28"/>
                </a:lnTo>
                <a:lnTo>
                  <a:pt x="4448" y="20"/>
                </a:lnTo>
                <a:lnTo>
                  <a:pt x="4433" y="16"/>
                </a:lnTo>
                <a:lnTo>
                  <a:pt x="4417" y="10"/>
                </a:lnTo>
                <a:lnTo>
                  <a:pt x="4399" y="7"/>
                </a:lnTo>
                <a:lnTo>
                  <a:pt x="4382" y="4"/>
                </a:lnTo>
                <a:lnTo>
                  <a:pt x="4364" y="1"/>
                </a:lnTo>
                <a:lnTo>
                  <a:pt x="4347" y="0"/>
                </a:lnTo>
                <a:lnTo>
                  <a:pt x="4330" y="0"/>
                </a:lnTo>
                <a:lnTo>
                  <a:pt x="348" y="0"/>
                </a:lnTo>
                <a:lnTo>
                  <a:pt x="329" y="0"/>
                </a:lnTo>
                <a:lnTo>
                  <a:pt x="312" y="1"/>
                </a:lnTo>
                <a:lnTo>
                  <a:pt x="294" y="4"/>
                </a:lnTo>
                <a:lnTo>
                  <a:pt x="277" y="7"/>
                </a:lnTo>
                <a:lnTo>
                  <a:pt x="261" y="10"/>
                </a:lnTo>
                <a:lnTo>
                  <a:pt x="244" y="16"/>
                </a:lnTo>
                <a:lnTo>
                  <a:pt x="228" y="20"/>
                </a:lnTo>
                <a:lnTo>
                  <a:pt x="212" y="28"/>
                </a:lnTo>
                <a:lnTo>
                  <a:pt x="196" y="33"/>
                </a:lnTo>
                <a:lnTo>
                  <a:pt x="181" y="42"/>
                </a:lnTo>
                <a:lnTo>
                  <a:pt x="167" y="51"/>
                </a:lnTo>
                <a:lnTo>
                  <a:pt x="152" y="59"/>
                </a:lnTo>
                <a:lnTo>
                  <a:pt x="139" y="68"/>
                </a:lnTo>
                <a:lnTo>
                  <a:pt x="126" y="80"/>
                </a:lnTo>
                <a:lnTo>
                  <a:pt x="113" y="90"/>
                </a:lnTo>
                <a:lnTo>
                  <a:pt x="102" y="101"/>
                </a:lnTo>
                <a:lnTo>
                  <a:pt x="90" y="113"/>
                </a:lnTo>
                <a:lnTo>
                  <a:pt x="78" y="126"/>
                </a:lnTo>
                <a:lnTo>
                  <a:pt x="68" y="139"/>
                </a:lnTo>
                <a:lnTo>
                  <a:pt x="60" y="154"/>
                </a:lnTo>
                <a:lnTo>
                  <a:pt x="49" y="167"/>
                </a:lnTo>
                <a:lnTo>
                  <a:pt x="41" y="181"/>
                </a:lnTo>
                <a:lnTo>
                  <a:pt x="33" y="197"/>
                </a:lnTo>
                <a:lnTo>
                  <a:pt x="26" y="212"/>
                </a:lnTo>
                <a:lnTo>
                  <a:pt x="20" y="228"/>
                </a:lnTo>
                <a:lnTo>
                  <a:pt x="15" y="243"/>
                </a:lnTo>
                <a:lnTo>
                  <a:pt x="10" y="261"/>
                </a:lnTo>
                <a:lnTo>
                  <a:pt x="6" y="277"/>
                </a:lnTo>
                <a:lnTo>
                  <a:pt x="3" y="294"/>
                </a:lnTo>
                <a:lnTo>
                  <a:pt x="2" y="312"/>
                </a:lnTo>
                <a:lnTo>
                  <a:pt x="0" y="329"/>
                </a:lnTo>
                <a:lnTo>
                  <a:pt x="0" y="348"/>
                </a:lnTo>
                <a:lnTo>
                  <a:pt x="0" y="2136"/>
                </a:lnTo>
                <a:lnTo>
                  <a:pt x="0" y="2154"/>
                </a:lnTo>
                <a:lnTo>
                  <a:pt x="2" y="2172"/>
                </a:lnTo>
                <a:lnTo>
                  <a:pt x="3" y="2190"/>
                </a:lnTo>
                <a:lnTo>
                  <a:pt x="6" y="2206"/>
                </a:lnTo>
                <a:lnTo>
                  <a:pt x="10" y="2223"/>
                </a:lnTo>
                <a:lnTo>
                  <a:pt x="15" y="2239"/>
                </a:lnTo>
                <a:lnTo>
                  <a:pt x="20" y="2256"/>
                </a:lnTo>
                <a:lnTo>
                  <a:pt x="26" y="2272"/>
                </a:lnTo>
                <a:lnTo>
                  <a:pt x="33" y="2287"/>
                </a:lnTo>
                <a:lnTo>
                  <a:pt x="41" y="2303"/>
                </a:lnTo>
                <a:lnTo>
                  <a:pt x="49" y="2317"/>
                </a:lnTo>
                <a:lnTo>
                  <a:pt x="60" y="2330"/>
                </a:lnTo>
                <a:lnTo>
                  <a:pt x="68" y="2345"/>
                </a:lnTo>
                <a:lnTo>
                  <a:pt x="78" y="2358"/>
                </a:lnTo>
                <a:lnTo>
                  <a:pt x="90" y="2370"/>
                </a:lnTo>
                <a:lnTo>
                  <a:pt x="102" y="2383"/>
                </a:lnTo>
                <a:lnTo>
                  <a:pt x="113" y="2394"/>
                </a:lnTo>
                <a:lnTo>
                  <a:pt x="126" y="2404"/>
                </a:lnTo>
                <a:lnTo>
                  <a:pt x="139" y="2414"/>
                </a:lnTo>
                <a:lnTo>
                  <a:pt x="152" y="2425"/>
                </a:lnTo>
                <a:lnTo>
                  <a:pt x="167" y="2433"/>
                </a:lnTo>
                <a:lnTo>
                  <a:pt x="181" y="2442"/>
                </a:lnTo>
                <a:lnTo>
                  <a:pt x="196" y="2449"/>
                </a:lnTo>
                <a:lnTo>
                  <a:pt x="212" y="2456"/>
                </a:lnTo>
                <a:lnTo>
                  <a:pt x="228" y="2462"/>
                </a:lnTo>
                <a:lnTo>
                  <a:pt x="244" y="2468"/>
                </a:lnTo>
                <a:lnTo>
                  <a:pt x="261" y="2472"/>
                </a:lnTo>
                <a:lnTo>
                  <a:pt x="277" y="2477"/>
                </a:lnTo>
                <a:lnTo>
                  <a:pt x="294" y="2480"/>
                </a:lnTo>
                <a:lnTo>
                  <a:pt x="312" y="2483"/>
                </a:lnTo>
                <a:lnTo>
                  <a:pt x="329" y="2484"/>
                </a:lnTo>
                <a:lnTo>
                  <a:pt x="348" y="2484"/>
                </a:lnTo>
                <a:lnTo>
                  <a:pt x="348" y="24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583080" y="223056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a:t>
            </a:r>
            <a:endParaRPr b="0" lang="en-US" sz="1000" spc="-1" strike="noStrike">
              <a:solidFill>
                <a:srgbClr val="000000"/>
              </a:solidFill>
              <a:latin typeface="Times New Roman"/>
            </a:endParaRPr>
          </a:p>
        </p:txBody>
      </p:sp>
      <p:sp>
        <p:nvSpPr>
          <p:cNvPr id="120" name=""/>
          <p:cNvSpPr/>
          <p:nvPr/>
        </p:nvSpPr>
        <p:spPr>
          <a:xfrm>
            <a:off x="3808080" y="22305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21" name=""/>
          <p:cNvSpPr/>
          <p:nvPr/>
        </p:nvSpPr>
        <p:spPr>
          <a:xfrm>
            <a:off x="3848040" y="2230560"/>
            <a:ext cx="70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odel</a:t>
            </a:r>
            <a:endParaRPr b="0" lang="en-US" sz="1000" spc="-1" strike="noStrike">
              <a:solidFill>
                <a:srgbClr val="000000"/>
              </a:solidFill>
              <a:latin typeface="Times New Roman"/>
            </a:endParaRPr>
          </a:p>
        </p:txBody>
      </p:sp>
      <p:sp>
        <p:nvSpPr>
          <p:cNvPr id="122" name=""/>
          <p:cNvSpPr/>
          <p:nvPr/>
        </p:nvSpPr>
        <p:spPr>
          <a:xfrm>
            <a:off x="2193840" y="4352760"/>
            <a:ext cx="5459400" cy="2354400"/>
          </a:xfrm>
          <a:custGeom>
            <a:avLst/>
            <a:gdLst/>
            <a:ahLst/>
            <a:rect l="l" t="t" r="r" b="b"/>
            <a:pathLst>
              <a:path w="6879" h="2966">
                <a:moveTo>
                  <a:pt x="348" y="2966"/>
                </a:moveTo>
                <a:lnTo>
                  <a:pt x="6531" y="2966"/>
                </a:lnTo>
                <a:lnTo>
                  <a:pt x="6549" y="2965"/>
                </a:lnTo>
                <a:lnTo>
                  <a:pt x="6566" y="2964"/>
                </a:lnTo>
                <a:lnTo>
                  <a:pt x="6583" y="2962"/>
                </a:lnTo>
                <a:lnTo>
                  <a:pt x="6601" y="2959"/>
                </a:lnTo>
                <a:lnTo>
                  <a:pt x="6618" y="2955"/>
                </a:lnTo>
                <a:lnTo>
                  <a:pt x="6634" y="2951"/>
                </a:lnTo>
                <a:lnTo>
                  <a:pt x="6650" y="2945"/>
                </a:lnTo>
                <a:lnTo>
                  <a:pt x="6666" y="2939"/>
                </a:lnTo>
                <a:lnTo>
                  <a:pt x="6682" y="2932"/>
                </a:lnTo>
                <a:lnTo>
                  <a:pt x="6696" y="2924"/>
                </a:lnTo>
                <a:lnTo>
                  <a:pt x="6711" y="2916"/>
                </a:lnTo>
                <a:lnTo>
                  <a:pt x="6725" y="2907"/>
                </a:lnTo>
                <a:lnTo>
                  <a:pt x="6738" y="2897"/>
                </a:lnTo>
                <a:lnTo>
                  <a:pt x="6752" y="2887"/>
                </a:lnTo>
                <a:lnTo>
                  <a:pt x="6765" y="2875"/>
                </a:lnTo>
                <a:lnTo>
                  <a:pt x="6776" y="2864"/>
                </a:lnTo>
                <a:lnTo>
                  <a:pt x="6788" y="2852"/>
                </a:lnTo>
                <a:lnTo>
                  <a:pt x="6799" y="2839"/>
                </a:lnTo>
                <a:lnTo>
                  <a:pt x="6809" y="2826"/>
                </a:lnTo>
                <a:lnTo>
                  <a:pt x="6820" y="2813"/>
                </a:lnTo>
                <a:lnTo>
                  <a:pt x="6828" y="2798"/>
                </a:lnTo>
                <a:lnTo>
                  <a:pt x="6837" y="2784"/>
                </a:lnTo>
                <a:lnTo>
                  <a:pt x="6844" y="2769"/>
                </a:lnTo>
                <a:lnTo>
                  <a:pt x="6852" y="2753"/>
                </a:lnTo>
                <a:lnTo>
                  <a:pt x="6857" y="2737"/>
                </a:lnTo>
                <a:lnTo>
                  <a:pt x="6863" y="2722"/>
                </a:lnTo>
                <a:lnTo>
                  <a:pt x="6867" y="2704"/>
                </a:lnTo>
                <a:lnTo>
                  <a:pt x="6872" y="2688"/>
                </a:lnTo>
                <a:lnTo>
                  <a:pt x="6875" y="2671"/>
                </a:lnTo>
                <a:lnTo>
                  <a:pt x="6878" y="2653"/>
                </a:lnTo>
                <a:lnTo>
                  <a:pt x="6878" y="2636"/>
                </a:lnTo>
                <a:lnTo>
                  <a:pt x="6879" y="2619"/>
                </a:lnTo>
                <a:lnTo>
                  <a:pt x="6879" y="2619"/>
                </a:lnTo>
                <a:lnTo>
                  <a:pt x="6879" y="348"/>
                </a:lnTo>
                <a:lnTo>
                  <a:pt x="6878" y="330"/>
                </a:lnTo>
                <a:lnTo>
                  <a:pt x="6878" y="311"/>
                </a:lnTo>
                <a:lnTo>
                  <a:pt x="6875" y="294"/>
                </a:lnTo>
                <a:lnTo>
                  <a:pt x="6872" y="278"/>
                </a:lnTo>
                <a:lnTo>
                  <a:pt x="6867" y="261"/>
                </a:lnTo>
                <a:lnTo>
                  <a:pt x="6863" y="245"/>
                </a:lnTo>
                <a:lnTo>
                  <a:pt x="6857" y="229"/>
                </a:lnTo>
                <a:lnTo>
                  <a:pt x="6852" y="213"/>
                </a:lnTo>
                <a:lnTo>
                  <a:pt x="6844" y="197"/>
                </a:lnTo>
                <a:lnTo>
                  <a:pt x="6837" y="182"/>
                </a:lnTo>
                <a:lnTo>
                  <a:pt x="6828" y="168"/>
                </a:lnTo>
                <a:lnTo>
                  <a:pt x="6820" y="153"/>
                </a:lnTo>
                <a:lnTo>
                  <a:pt x="6809" y="139"/>
                </a:lnTo>
                <a:lnTo>
                  <a:pt x="6799" y="126"/>
                </a:lnTo>
                <a:lnTo>
                  <a:pt x="6788" y="114"/>
                </a:lnTo>
                <a:lnTo>
                  <a:pt x="6776" y="101"/>
                </a:lnTo>
                <a:lnTo>
                  <a:pt x="6765" y="90"/>
                </a:lnTo>
                <a:lnTo>
                  <a:pt x="6752" y="80"/>
                </a:lnTo>
                <a:lnTo>
                  <a:pt x="6738" y="69"/>
                </a:lnTo>
                <a:lnTo>
                  <a:pt x="6725" y="59"/>
                </a:lnTo>
                <a:lnTo>
                  <a:pt x="6711" y="51"/>
                </a:lnTo>
                <a:lnTo>
                  <a:pt x="6696" y="42"/>
                </a:lnTo>
                <a:lnTo>
                  <a:pt x="6682" y="35"/>
                </a:lnTo>
                <a:lnTo>
                  <a:pt x="6666" y="27"/>
                </a:lnTo>
                <a:lnTo>
                  <a:pt x="6650" y="22"/>
                </a:lnTo>
                <a:lnTo>
                  <a:pt x="6634" y="16"/>
                </a:lnTo>
                <a:lnTo>
                  <a:pt x="6618" y="11"/>
                </a:lnTo>
                <a:lnTo>
                  <a:pt x="6601" y="7"/>
                </a:lnTo>
                <a:lnTo>
                  <a:pt x="6583" y="4"/>
                </a:lnTo>
                <a:lnTo>
                  <a:pt x="6566" y="1"/>
                </a:lnTo>
                <a:lnTo>
                  <a:pt x="6549" y="0"/>
                </a:lnTo>
                <a:lnTo>
                  <a:pt x="6531" y="0"/>
                </a:lnTo>
                <a:lnTo>
                  <a:pt x="348" y="0"/>
                </a:lnTo>
                <a:lnTo>
                  <a:pt x="330" y="0"/>
                </a:lnTo>
                <a:lnTo>
                  <a:pt x="312" y="1"/>
                </a:lnTo>
                <a:lnTo>
                  <a:pt x="294" y="4"/>
                </a:lnTo>
                <a:lnTo>
                  <a:pt x="278" y="7"/>
                </a:lnTo>
                <a:lnTo>
                  <a:pt x="261" y="11"/>
                </a:lnTo>
                <a:lnTo>
                  <a:pt x="245" y="16"/>
                </a:lnTo>
                <a:lnTo>
                  <a:pt x="229" y="22"/>
                </a:lnTo>
                <a:lnTo>
                  <a:pt x="213" y="27"/>
                </a:lnTo>
                <a:lnTo>
                  <a:pt x="197" y="35"/>
                </a:lnTo>
                <a:lnTo>
                  <a:pt x="183" y="42"/>
                </a:lnTo>
                <a:lnTo>
                  <a:pt x="168" y="51"/>
                </a:lnTo>
                <a:lnTo>
                  <a:pt x="154" y="59"/>
                </a:lnTo>
                <a:lnTo>
                  <a:pt x="139" y="69"/>
                </a:lnTo>
                <a:lnTo>
                  <a:pt x="126" y="80"/>
                </a:lnTo>
                <a:lnTo>
                  <a:pt x="115" y="90"/>
                </a:lnTo>
                <a:lnTo>
                  <a:pt x="101" y="101"/>
                </a:lnTo>
                <a:lnTo>
                  <a:pt x="90" y="114"/>
                </a:lnTo>
                <a:lnTo>
                  <a:pt x="80" y="126"/>
                </a:lnTo>
                <a:lnTo>
                  <a:pt x="70" y="139"/>
                </a:lnTo>
                <a:lnTo>
                  <a:pt x="59" y="153"/>
                </a:lnTo>
                <a:lnTo>
                  <a:pt x="51" y="168"/>
                </a:lnTo>
                <a:lnTo>
                  <a:pt x="42" y="182"/>
                </a:lnTo>
                <a:lnTo>
                  <a:pt x="35" y="197"/>
                </a:lnTo>
                <a:lnTo>
                  <a:pt x="28" y="213"/>
                </a:lnTo>
                <a:lnTo>
                  <a:pt x="22" y="229"/>
                </a:lnTo>
                <a:lnTo>
                  <a:pt x="16" y="245"/>
                </a:lnTo>
                <a:lnTo>
                  <a:pt x="12" y="261"/>
                </a:lnTo>
                <a:lnTo>
                  <a:pt x="7" y="278"/>
                </a:lnTo>
                <a:lnTo>
                  <a:pt x="4" y="294"/>
                </a:lnTo>
                <a:lnTo>
                  <a:pt x="1" y="311"/>
                </a:lnTo>
                <a:lnTo>
                  <a:pt x="0" y="330"/>
                </a:lnTo>
                <a:lnTo>
                  <a:pt x="0" y="348"/>
                </a:lnTo>
                <a:lnTo>
                  <a:pt x="0" y="2619"/>
                </a:lnTo>
                <a:lnTo>
                  <a:pt x="0" y="2636"/>
                </a:lnTo>
                <a:lnTo>
                  <a:pt x="1" y="2653"/>
                </a:lnTo>
                <a:lnTo>
                  <a:pt x="4" y="2671"/>
                </a:lnTo>
                <a:lnTo>
                  <a:pt x="7" y="2688"/>
                </a:lnTo>
                <a:lnTo>
                  <a:pt x="12" y="2704"/>
                </a:lnTo>
                <a:lnTo>
                  <a:pt x="16" y="2722"/>
                </a:lnTo>
                <a:lnTo>
                  <a:pt x="22" y="2737"/>
                </a:lnTo>
                <a:lnTo>
                  <a:pt x="28" y="2753"/>
                </a:lnTo>
                <a:lnTo>
                  <a:pt x="35" y="2769"/>
                </a:lnTo>
                <a:lnTo>
                  <a:pt x="42" y="2784"/>
                </a:lnTo>
                <a:lnTo>
                  <a:pt x="51" y="2798"/>
                </a:lnTo>
                <a:lnTo>
                  <a:pt x="59" y="2813"/>
                </a:lnTo>
                <a:lnTo>
                  <a:pt x="70" y="2826"/>
                </a:lnTo>
                <a:lnTo>
                  <a:pt x="80" y="2839"/>
                </a:lnTo>
                <a:lnTo>
                  <a:pt x="90" y="2852"/>
                </a:lnTo>
                <a:lnTo>
                  <a:pt x="101" y="2864"/>
                </a:lnTo>
                <a:lnTo>
                  <a:pt x="115" y="2875"/>
                </a:lnTo>
                <a:lnTo>
                  <a:pt x="126" y="2887"/>
                </a:lnTo>
                <a:lnTo>
                  <a:pt x="139" y="2897"/>
                </a:lnTo>
                <a:lnTo>
                  <a:pt x="154" y="2907"/>
                </a:lnTo>
                <a:lnTo>
                  <a:pt x="168" y="2916"/>
                </a:lnTo>
                <a:lnTo>
                  <a:pt x="183" y="2924"/>
                </a:lnTo>
                <a:lnTo>
                  <a:pt x="197" y="2932"/>
                </a:lnTo>
                <a:lnTo>
                  <a:pt x="213" y="2939"/>
                </a:lnTo>
                <a:lnTo>
                  <a:pt x="229" y="2945"/>
                </a:lnTo>
                <a:lnTo>
                  <a:pt x="245" y="2951"/>
                </a:lnTo>
                <a:lnTo>
                  <a:pt x="261" y="2955"/>
                </a:lnTo>
                <a:lnTo>
                  <a:pt x="278" y="2959"/>
                </a:lnTo>
                <a:lnTo>
                  <a:pt x="294" y="2962"/>
                </a:lnTo>
                <a:lnTo>
                  <a:pt x="312" y="2964"/>
                </a:lnTo>
                <a:lnTo>
                  <a:pt x="330" y="2965"/>
                </a:lnTo>
                <a:lnTo>
                  <a:pt x="348" y="2966"/>
                </a:lnTo>
                <a:lnTo>
                  <a:pt x="348" y="29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524480" y="4410000"/>
            <a:ext cx="82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Model</a:t>
            </a:r>
            <a:endParaRPr b="0" lang="en-US" sz="1000" spc="-1" strike="noStrike">
              <a:solidFill>
                <a:srgbClr val="000000"/>
              </a:solidFill>
              <a:latin typeface="Times New Roman"/>
            </a:endParaRPr>
          </a:p>
        </p:txBody>
      </p:sp>
      <p:sp>
        <p:nvSpPr>
          <p:cNvPr id="124" name=""/>
          <p:cNvSpPr/>
          <p:nvPr/>
        </p:nvSpPr>
        <p:spPr>
          <a:xfrm>
            <a:off x="3564000" y="4917960"/>
            <a:ext cx="4680" cy="1522440"/>
          </a:xfrm>
          <a:custGeom>
            <a:avLst/>
            <a:gdLst/>
            <a:ahLst/>
            <a:rect l="l" t="t" r="r" b="b"/>
            <a:pathLst>
              <a:path w="4" h="1919">
                <a:moveTo>
                  <a:pt x="4" y="3"/>
                </a:moveTo>
                <a:lnTo>
                  <a:pt x="4" y="73"/>
                </a:lnTo>
                <a:lnTo>
                  <a:pt x="4" y="74"/>
                </a:lnTo>
                <a:lnTo>
                  <a:pt x="4" y="74"/>
                </a:lnTo>
                <a:lnTo>
                  <a:pt x="3" y="74"/>
                </a:lnTo>
                <a:lnTo>
                  <a:pt x="3" y="76"/>
                </a:lnTo>
                <a:lnTo>
                  <a:pt x="1" y="74"/>
                </a:lnTo>
                <a:lnTo>
                  <a:pt x="1" y="74"/>
                </a:lnTo>
                <a:lnTo>
                  <a:pt x="0" y="74"/>
                </a:lnTo>
                <a:lnTo>
                  <a:pt x="0" y="73"/>
                </a:lnTo>
                <a:lnTo>
                  <a:pt x="0" y="3"/>
                </a:lnTo>
                <a:lnTo>
                  <a:pt x="0" y="2"/>
                </a:lnTo>
                <a:lnTo>
                  <a:pt x="1" y="2"/>
                </a:lnTo>
                <a:lnTo>
                  <a:pt x="1" y="0"/>
                </a:lnTo>
                <a:lnTo>
                  <a:pt x="3" y="0"/>
                </a:lnTo>
                <a:lnTo>
                  <a:pt x="3" y="0"/>
                </a:lnTo>
                <a:lnTo>
                  <a:pt x="4" y="2"/>
                </a:lnTo>
                <a:lnTo>
                  <a:pt x="4" y="2"/>
                </a:lnTo>
                <a:lnTo>
                  <a:pt x="4" y="3"/>
                </a:lnTo>
                <a:lnTo>
                  <a:pt x="4" y="3"/>
                </a:lnTo>
                <a:close/>
                <a:moveTo>
                  <a:pt x="4" y="115"/>
                </a:moveTo>
                <a:lnTo>
                  <a:pt x="4" y="184"/>
                </a:lnTo>
                <a:lnTo>
                  <a:pt x="4" y="184"/>
                </a:lnTo>
                <a:lnTo>
                  <a:pt x="4" y="186"/>
                </a:lnTo>
                <a:lnTo>
                  <a:pt x="3" y="186"/>
                </a:lnTo>
                <a:lnTo>
                  <a:pt x="3" y="186"/>
                </a:lnTo>
                <a:lnTo>
                  <a:pt x="1" y="186"/>
                </a:lnTo>
                <a:lnTo>
                  <a:pt x="1" y="186"/>
                </a:lnTo>
                <a:lnTo>
                  <a:pt x="0" y="184"/>
                </a:lnTo>
                <a:lnTo>
                  <a:pt x="0" y="184"/>
                </a:lnTo>
                <a:lnTo>
                  <a:pt x="0" y="115"/>
                </a:lnTo>
                <a:lnTo>
                  <a:pt x="0" y="113"/>
                </a:lnTo>
                <a:lnTo>
                  <a:pt x="1" y="113"/>
                </a:lnTo>
                <a:lnTo>
                  <a:pt x="1" y="112"/>
                </a:lnTo>
                <a:lnTo>
                  <a:pt x="3" y="112"/>
                </a:lnTo>
                <a:lnTo>
                  <a:pt x="3" y="112"/>
                </a:lnTo>
                <a:lnTo>
                  <a:pt x="4" y="113"/>
                </a:lnTo>
                <a:lnTo>
                  <a:pt x="4" y="113"/>
                </a:lnTo>
                <a:lnTo>
                  <a:pt x="4" y="115"/>
                </a:lnTo>
                <a:lnTo>
                  <a:pt x="4" y="115"/>
                </a:lnTo>
                <a:close/>
                <a:moveTo>
                  <a:pt x="4" y="227"/>
                </a:moveTo>
                <a:lnTo>
                  <a:pt x="4" y="296"/>
                </a:lnTo>
                <a:lnTo>
                  <a:pt x="4" y="296"/>
                </a:lnTo>
                <a:lnTo>
                  <a:pt x="4" y="298"/>
                </a:lnTo>
                <a:lnTo>
                  <a:pt x="3" y="298"/>
                </a:lnTo>
                <a:lnTo>
                  <a:pt x="1" y="298"/>
                </a:lnTo>
                <a:lnTo>
                  <a:pt x="0" y="296"/>
                </a:lnTo>
                <a:lnTo>
                  <a:pt x="0" y="296"/>
                </a:lnTo>
                <a:lnTo>
                  <a:pt x="0" y="227"/>
                </a:lnTo>
                <a:lnTo>
                  <a:pt x="0" y="225"/>
                </a:lnTo>
                <a:lnTo>
                  <a:pt x="1" y="224"/>
                </a:lnTo>
                <a:lnTo>
                  <a:pt x="1" y="224"/>
                </a:lnTo>
                <a:lnTo>
                  <a:pt x="3" y="224"/>
                </a:lnTo>
                <a:lnTo>
                  <a:pt x="3" y="224"/>
                </a:lnTo>
                <a:lnTo>
                  <a:pt x="4" y="224"/>
                </a:lnTo>
                <a:lnTo>
                  <a:pt x="4" y="225"/>
                </a:lnTo>
                <a:lnTo>
                  <a:pt x="4" y="227"/>
                </a:lnTo>
                <a:lnTo>
                  <a:pt x="4" y="227"/>
                </a:lnTo>
                <a:close/>
                <a:moveTo>
                  <a:pt x="4" y="337"/>
                </a:moveTo>
                <a:lnTo>
                  <a:pt x="4" y="406"/>
                </a:lnTo>
                <a:lnTo>
                  <a:pt x="4" y="408"/>
                </a:lnTo>
                <a:lnTo>
                  <a:pt x="4" y="409"/>
                </a:lnTo>
                <a:lnTo>
                  <a:pt x="3" y="409"/>
                </a:lnTo>
                <a:lnTo>
                  <a:pt x="3" y="409"/>
                </a:lnTo>
                <a:lnTo>
                  <a:pt x="1" y="409"/>
                </a:lnTo>
                <a:lnTo>
                  <a:pt x="1" y="409"/>
                </a:lnTo>
                <a:lnTo>
                  <a:pt x="0" y="408"/>
                </a:lnTo>
                <a:lnTo>
                  <a:pt x="0" y="406"/>
                </a:lnTo>
                <a:lnTo>
                  <a:pt x="0" y="337"/>
                </a:lnTo>
                <a:lnTo>
                  <a:pt x="0" y="337"/>
                </a:lnTo>
                <a:lnTo>
                  <a:pt x="1" y="335"/>
                </a:lnTo>
                <a:lnTo>
                  <a:pt x="1" y="335"/>
                </a:lnTo>
                <a:lnTo>
                  <a:pt x="3" y="335"/>
                </a:lnTo>
                <a:lnTo>
                  <a:pt x="3" y="335"/>
                </a:lnTo>
                <a:lnTo>
                  <a:pt x="4" y="335"/>
                </a:lnTo>
                <a:lnTo>
                  <a:pt x="4" y="337"/>
                </a:lnTo>
                <a:lnTo>
                  <a:pt x="4" y="337"/>
                </a:lnTo>
                <a:lnTo>
                  <a:pt x="4" y="337"/>
                </a:lnTo>
                <a:close/>
                <a:moveTo>
                  <a:pt x="4" y="448"/>
                </a:moveTo>
                <a:lnTo>
                  <a:pt x="4" y="518"/>
                </a:lnTo>
                <a:lnTo>
                  <a:pt x="4" y="519"/>
                </a:lnTo>
                <a:lnTo>
                  <a:pt x="4" y="519"/>
                </a:lnTo>
                <a:lnTo>
                  <a:pt x="3" y="521"/>
                </a:lnTo>
                <a:lnTo>
                  <a:pt x="3" y="521"/>
                </a:lnTo>
                <a:lnTo>
                  <a:pt x="1" y="521"/>
                </a:lnTo>
                <a:lnTo>
                  <a:pt x="1" y="519"/>
                </a:lnTo>
                <a:lnTo>
                  <a:pt x="0" y="519"/>
                </a:lnTo>
                <a:lnTo>
                  <a:pt x="0" y="518"/>
                </a:lnTo>
                <a:lnTo>
                  <a:pt x="0" y="448"/>
                </a:lnTo>
                <a:lnTo>
                  <a:pt x="0" y="447"/>
                </a:lnTo>
                <a:lnTo>
                  <a:pt x="1" y="447"/>
                </a:lnTo>
                <a:lnTo>
                  <a:pt x="1" y="447"/>
                </a:lnTo>
                <a:lnTo>
                  <a:pt x="3" y="447"/>
                </a:lnTo>
                <a:lnTo>
                  <a:pt x="3" y="447"/>
                </a:lnTo>
                <a:lnTo>
                  <a:pt x="4" y="447"/>
                </a:lnTo>
                <a:lnTo>
                  <a:pt x="4" y="447"/>
                </a:lnTo>
                <a:lnTo>
                  <a:pt x="4" y="448"/>
                </a:lnTo>
                <a:lnTo>
                  <a:pt x="4" y="448"/>
                </a:lnTo>
                <a:close/>
                <a:moveTo>
                  <a:pt x="4" y="560"/>
                </a:moveTo>
                <a:lnTo>
                  <a:pt x="4" y="629"/>
                </a:lnTo>
                <a:lnTo>
                  <a:pt x="4" y="631"/>
                </a:lnTo>
                <a:lnTo>
                  <a:pt x="4" y="631"/>
                </a:lnTo>
                <a:lnTo>
                  <a:pt x="3" y="631"/>
                </a:lnTo>
                <a:lnTo>
                  <a:pt x="3" y="632"/>
                </a:lnTo>
                <a:lnTo>
                  <a:pt x="1" y="631"/>
                </a:lnTo>
                <a:lnTo>
                  <a:pt x="1" y="631"/>
                </a:lnTo>
                <a:lnTo>
                  <a:pt x="0" y="631"/>
                </a:lnTo>
                <a:lnTo>
                  <a:pt x="0" y="629"/>
                </a:lnTo>
                <a:lnTo>
                  <a:pt x="0" y="560"/>
                </a:lnTo>
                <a:lnTo>
                  <a:pt x="0" y="558"/>
                </a:lnTo>
                <a:lnTo>
                  <a:pt x="1" y="558"/>
                </a:lnTo>
                <a:lnTo>
                  <a:pt x="1" y="557"/>
                </a:lnTo>
                <a:lnTo>
                  <a:pt x="3" y="557"/>
                </a:lnTo>
                <a:lnTo>
                  <a:pt x="3" y="557"/>
                </a:lnTo>
                <a:lnTo>
                  <a:pt x="4" y="558"/>
                </a:lnTo>
                <a:lnTo>
                  <a:pt x="4" y="558"/>
                </a:lnTo>
                <a:lnTo>
                  <a:pt x="4" y="560"/>
                </a:lnTo>
                <a:lnTo>
                  <a:pt x="4" y="560"/>
                </a:lnTo>
                <a:close/>
                <a:moveTo>
                  <a:pt x="4" y="671"/>
                </a:moveTo>
                <a:lnTo>
                  <a:pt x="4" y="741"/>
                </a:lnTo>
                <a:lnTo>
                  <a:pt x="4" y="741"/>
                </a:lnTo>
                <a:lnTo>
                  <a:pt x="4" y="742"/>
                </a:lnTo>
                <a:lnTo>
                  <a:pt x="3" y="742"/>
                </a:lnTo>
                <a:lnTo>
                  <a:pt x="3" y="742"/>
                </a:lnTo>
                <a:lnTo>
                  <a:pt x="1" y="742"/>
                </a:lnTo>
                <a:lnTo>
                  <a:pt x="1" y="742"/>
                </a:lnTo>
                <a:lnTo>
                  <a:pt x="0" y="741"/>
                </a:lnTo>
                <a:lnTo>
                  <a:pt x="0" y="741"/>
                </a:lnTo>
                <a:lnTo>
                  <a:pt x="0" y="671"/>
                </a:lnTo>
                <a:lnTo>
                  <a:pt x="0" y="670"/>
                </a:lnTo>
                <a:lnTo>
                  <a:pt x="1" y="670"/>
                </a:lnTo>
                <a:lnTo>
                  <a:pt x="1" y="669"/>
                </a:lnTo>
                <a:lnTo>
                  <a:pt x="3" y="669"/>
                </a:lnTo>
                <a:lnTo>
                  <a:pt x="3" y="669"/>
                </a:lnTo>
                <a:lnTo>
                  <a:pt x="4" y="670"/>
                </a:lnTo>
                <a:lnTo>
                  <a:pt x="4" y="670"/>
                </a:lnTo>
                <a:lnTo>
                  <a:pt x="4" y="671"/>
                </a:lnTo>
                <a:lnTo>
                  <a:pt x="4" y="671"/>
                </a:lnTo>
                <a:close/>
                <a:moveTo>
                  <a:pt x="4" y="783"/>
                </a:moveTo>
                <a:lnTo>
                  <a:pt x="4" y="853"/>
                </a:lnTo>
                <a:lnTo>
                  <a:pt x="4" y="853"/>
                </a:lnTo>
                <a:lnTo>
                  <a:pt x="4" y="854"/>
                </a:lnTo>
                <a:lnTo>
                  <a:pt x="3" y="854"/>
                </a:lnTo>
                <a:lnTo>
                  <a:pt x="1" y="854"/>
                </a:lnTo>
                <a:lnTo>
                  <a:pt x="0" y="853"/>
                </a:lnTo>
                <a:lnTo>
                  <a:pt x="0" y="853"/>
                </a:lnTo>
                <a:lnTo>
                  <a:pt x="0" y="783"/>
                </a:lnTo>
                <a:lnTo>
                  <a:pt x="0" y="782"/>
                </a:lnTo>
                <a:lnTo>
                  <a:pt x="1" y="780"/>
                </a:lnTo>
                <a:lnTo>
                  <a:pt x="1" y="780"/>
                </a:lnTo>
                <a:lnTo>
                  <a:pt x="3" y="780"/>
                </a:lnTo>
                <a:lnTo>
                  <a:pt x="3" y="780"/>
                </a:lnTo>
                <a:lnTo>
                  <a:pt x="4" y="780"/>
                </a:lnTo>
                <a:lnTo>
                  <a:pt x="4" y="782"/>
                </a:lnTo>
                <a:lnTo>
                  <a:pt x="4" y="783"/>
                </a:lnTo>
                <a:lnTo>
                  <a:pt x="4" y="783"/>
                </a:lnTo>
                <a:close/>
                <a:moveTo>
                  <a:pt x="4" y="893"/>
                </a:moveTo>
                <a:lnTo>
                  <a:pt x="4" y="963"/>
                </a:lnTo>
                <a:lnTo>
                  <a:pt x="4" y="964"/>
                </a:lnTo>
                <a:lnTo>
                  <a:pt x="4" y="966"/>
                </a:lnTo>
                <a:lnTo>
                  <a:pt x="3" y="966"/>
                </a:lnTo>
                <a:lnTo>
                  <a:pt x="3" y="966"/>
                </a:lnTo>
                <a:lnTo>
                  <a:pt x="1" y="966"/>
                </a:lnTo>
                <a:lnTo>
                  <a:pt x="1" y="966"/>
                </a:lnTo>
                <a:lnTo>
                  <a:pt x="0" y="964"/>
                </a:lnTo>
                <a:lnTo>
                  <a:pt x="0" y="963"/>
                </a:lnTo>
                <a:lnTo>
                  <a:pt x="0" y="893"/>
                </a:lnTo>
                <a:lnTo>
                  <a:pt x="0" y="893"/>
                </a:lnTo>
                <a:lnTo>
                  <a:pt x="1" y="892"/>
                </a:lnTo>
                <a:lnTo>
                  <a:pt x="1" y="892"/>
                </a:lnTo>
                <a:lnTo>
                  <a:pt x="3" y="892"/>
                </a:lnTo>
                <a:lnTo>
                  <a:pt x="3" y="892"/>
                </a:lnTo>
                <a:lnTo>
                  <a:pt x="4" y="892"/>
                </a:lnTo>
                <a:lnTo>
                  <a:pt x="4" y="893"/>
                </a:lnTo>
                <a:lnTo>
                  <a:pt x="4" y="893"/>
                </a:lnTo>
                <a:lnTo>
                  <a:pt x="4" y="893"/>
                </a:lnTo>
                <a:close/>
                <a:moveTo>
                  <a:pt x="4" y="1005"/>
                </a:moveTo>
                <a:lnTo>
                  <a:pt x="4" y="1074"/>
                </a:lnTo>
                <a:lnTo>
                  <a:pt x="4" y="1076"/>
                </a:lnTo>
                <a:lnTo>
                  <a:pt x="4" y="1076"/>
                </a:lnTo>
                <a:lnTo>
                  <a:pt x="3" y="1077"/>
                </a:lnTo>
                <a:lnTo>
                  <a:pt x="3" y="1077"/>
                </a:lnTo>
                <a:lnTo>
                  <a:pt x="1" y="1077"/>
                </a:lnTo>
                <a:lnTo>
                  <a:pt x="1" y="1076"/>
                </a:lnTo>
                <a:lnTo>
                  <a:pt x="0" y="1076"/>
                </a:lnTo>
                <a:lnTo>
                  <a:pt x="0" y="1074"/>
                </a:lnTo>
                <a:lnTo>
                  <a:pt x="0" y="1005"/>
                </a:lnTo>
                <a:lnTo>
                  <a:pt x="0" y="1003"/>
                </a:lnTo>
                <a:lnTo>
                  <a:pt x="1" y="1003"/>
                </a:lnTo>
                <a:lnTo>
                  <a:pt x="1" y="1003"/>
                </a:lnTo>
                <a:lnTo>
                  <a:pt x="3" y="1003"/>
                </a:lnTo>
                <a:lnTo>
                  <a:pt x="3" y="1003"/>
                </a:lnTo>
                <a:lnTo>
                  <a:pt x="4" y="1003"/>
                </a:lnTo>
                <a:lnTo>
                  <a:pt x="4" y="1003"/>
                </a:lnTo>
                <a:lnTo>
                  <a:pt x="4" y="1005"/>
                </a:lnTo>
                <a:lnTo>
                  <a:pt x="4" y="1005"/>
                </a:lnTo>
                <a:close/>
                <a:moveTo>
                  <a:pt x="4" y="1116"/>
                </a:moveTo>
                <a:lnTo>
                  <a:pt x="4" y="1186"/>
                </a:lnTo>
                <a:lnTo>
                  <a:pt x="4" y="1187"/>
                </a:lnTo>
                <a:lnTo>
                  <a:pt x="4" y="1187"/>
                </a:lnTo>
                <a:lnTo>
                  <a:pt x="3" y="1187"/>
                </a:lnTo>
                <a:lnTo>
                  <a:pt x="3" y="1189"/>
                </a:lnTo>
                <a:lnTo>
                  <a:pt x="1" y="1187"/>
                </a:lnTo>
                <a:lnTo>
                  <a:pt x="1" y="1187"/>
                </a:lnTo>
                <a:lnTo>
                  <a:pt x="0" y="1187"/>
                </a:lnTo>
                <a:lnTo>
                  <a:pt x="0" y="1186"/>
                </a:lnTo>
                <a:lnTo>
                  <a:pt x="0" y="1116"/>
                </a:lnTo>
                <a:lnTo>
                  <a:pt x="0" y="1115"/>
                </a:lnTo>
                <a:lnTo>
                  <a:pt x="1" y="1115"/>
                </a:lnTo>
                <a:lnTo>
                  <a:pt x="1" y="1113"/>
                </a:lnTo>
                <a:lnTo>
                  <a:pt x="3" y="1113"/>
                </a:lnTo>
                <a:lnTo>
                  <a:pt x="3" y="1113"/>
                </a:lnTo>
                <a:lnTo>
                  <a:pt x="4" y="1115"/>
                </a:lnTo>
                <a:lnTo>
                  <a:pt x="4" y="1115"/>
                </a:lnTo>
                <a:lnTo>
                  <a:pt x="4" y="1116"/>
                </a:lnTo>
                <a:lnTo>
                  <a:pt x="4" y="1116"/>
                </a:lnTo>
                <a:close/>
                <a:moveTo>
                  <a:pt x="4" y="1228"/>
                </a:moveTo>
                <a:lnTo>
                  <a:pt x="4" y="1298"/>
                </a:lnTo>
                <a:lnTo>
                  <a:pt x="4" y="1298"/>
                </a:lnTo>
                <a:lnTo>
                  <a:pt x="4" y="1299"/>
                </a:lnTo>
                <a:lnTo>
                  <a:pt x="3" y="1299"/>
                </a:lnTo>
                <a:lnTo>
                  <a:pt x="3" y="1299"/>
                </a:lnTo>
                <a:lnTo>
                  <a:pt x="1" y="1299"/>
                </a:lnTo>
                <a:lnTo>
                  <a:pt x="1" y="1299"/>
                </a:lnTo>
                <a:lnTo>
                  <a:pt x="0" y="1298"/>
                </a:lnTo>
                <a:lnTo>
                  <a:pt x="0" y="1298"/>
                </a:lnTo>
                <a:lnTo>
                  <a:pt x="0" y="1228"/>
                </a:lnTo>
                <a:lnTo>
                  <a:pt x="0" y="1227"/>
                </a:lnTo>
                <a:lnTo>
                  <a:pt x="1" y="1227"/>
                </a:lnTo>
                <a:lnTo>
                  <a:pt x="1" y="1225"/>
                </a:lnTo>
                <a:lnTo>
                  <a:pt x="3" y="1225"/>
                </a:lnTo>
                <a:lnTo>
                  <a:pt x="3" y="1225"/>
                </a:lnTo>
                <a:lnTo>
                  <a:pt x="4" y="1227"/>
                </a:lnTo>
                <a:lnTo>
                  <a:pt x="4" y="1227"/>
                </a:lnTo>
                <a:lnTo>
                  <a:pt x="4" y="1228"/>
                </a:lnTo>
                <a:lnTo>
                  <a:pt x="4" y="1228"/>
                </a:lnTo>
                <a:close/>
                <a:moveTo>
                  <a:pt x="4" y="1340"/>
                </a:moveTo>
                <a:lnTo>
                  <a:pt x="4" y="1409"/>
                </a:lnTo>
                <a:lnTo>
                  <a:pt x="4" y="1409"/>
                </a:lnTo>
                <a:lnTo>
                  <a:pt x="4" y="1411"/>
                </a:lnTo>
                <a:lnTo>
                  <a:pt x="3" y="1411"/>
                </a:lnTo>
                <a:lnTo>
                  <a:pt x="1" y="1411"/>
                </a:lnTo>
                <a:lnTo>
                  <a:pt x="0" y="1409"/>
                </a:lnTo>
                <a:lnTo>
                  <a:pt x="0" y="1409"/>
                </a:lnTo>
                <a:lnTo>
                  <a:pt x="0" y="1340"/>
                </a:lnTo>
                <a:lnTo>
                  <a:pt x="0" y="1338"/>
                </a:lnTo>
                <a:lnTo>
                  <a:pt x="1" y="1337"/>
                </a:lnTo>
                <a:lnTo>
                  <a:pt x="1" y="1337"/>
                </a:lnTo>
                <a:lnTo>
                  <a:pt x="3" y="1337"/>
                </a:lnTo>
                <a:lnTo>
                  <a:pt x="3" y="1337"/>
                </a:lnTo>
                <a:lnTo>
                  <a:pt x="4" y="1337"/>
                </a:lnTo>
                <a:lnTo>
                  <a:pt x="4" y="1338"/>
                </a:lnTo>
                <a:lnTo>
                  <a:pt x="4" y="1340"/>
                </a:lnTo>
                <a:lnTo>
                  <a:pt x="4" y="1340"/>
                </a:lnTo>
                <a:close/>
                <a:moveTo>
                  <a:pt x="4" y="1450"/>
                </a:moveTo>
                <a:lnTo>
                  <a:pt x="4" y="1519"/>
                </a:lnTo>
                <a:lnTo>
                  <a:pt x="4" y="1521"/>
                </a:lnTo>
                <a:lnTo>
                  <a:pt x="4" y="1522"/>
                </a:lnTo>
                <a:lnTo>
                  <a:pt x="3" y="1522"/>
                </a:lnTo>
                <a:lnTo>
                  <a:pt x="3" y="1522"/>
                </a:lnTo>
                <a:lnTo>
                  <a:pt x="1" y="1522"/>
                </a:lnTo>
                <a:lnTo>
                  <a:pt x="1" y="1522"/>
                </a:lnTo>
                <a:lnTo>
                  <a:pt x="0" y="1521"/>
                </a:lnTo>
                <a:lnTo>
                  <a:pt x="0" y="1519"/>
                </a:lnTo>
                <a:lnTo>
                  <a:pt x="0" y="1450"/>
                </a:lnTo>
                <a:lnTo>
                  <a:pt x="0" y="1450"/>
                </a:lnTo>
                <a:lnTo>
                  <a:pt x="1" y="1448"/>
                </a:lnTo>
                <a:lnTo>
                  <a:pt x="1" y="1448"/>
                </a:lnTo>
                <a:lnTo>
                  <a:pt x="3" y="1448"/>
                </a:lnTo>
                <a:lnTo>
                  <a:pt x="3" y="1448"/>
                </a:lnTo>
                <a:lnTo>
                  <a:pt x="4" y="1448"/>
                </a:lnTo>
                <a:lnTo>
                  <a:pt x="4" y="1450"/>
                </a:lnTo>
                <a:lnTo>
                  <a:pt x="4" y="1450"/>
                </a:lnTo>
                <a:lnTo>
                  <a:pt x="4" y="1450"/>
                </a:lnTo>
                <a:close/>
                <a:moveTo>
                  <a:pt x="4" y="1561"/>
                </a:moveTo>
                <a:lnTo>
                  <a:pt x="4" y="1631"/>
                </a:lnTo>
                <a:lnTo>
                  <a:pt x="4" y="1632"/>
                </a:lnTo>
                <a:lnTo>
                  <a:pt x="4" y="1632"/>
                </a:lnTo>
                <a:lnTo>
                  <a:pt x="3" y="1634"/>
                </a:lnTo>
                <a:lnTo>
                  <a:pt x="3" y="1634"/>
                </a:lnTo>
                <a:lnTo>
                  <a:pt x="1" y="1634"/>
                </a:lnTo>
                <a:lnTo>
                  <a:pt x="1" y="1632"/>
                </a:lnTo>
                <a:lnTo>
                  <a:pt x="0" y="1632"/>
                </a:lnTo>
                <a:lnTo>
                  <a:pt x="0" y="1631"/>
                </a:lnTo>
                <a:lnTo>
                  <a:pt x="0" y="1561"/>
                </a:lnTo>
                <a:lnTo>
                  <a:pt x="0" y="1560"/>
                </a:lnTo>
                <a:lnTo>
                  <a:pt x="1" y="1560"/>
                </a:lnTo>
                <a:lnTo>
                  <a:pt x="1" y="1560"/>
                </a:lnTo>
                <a:lnTo>
                  <a:pt x="3" y="1560"/>
                </a:lnTo>
                <a:lnTo>
                  <a:pt x="3" y="1560"/>
                </a:lnTo>
                <a:lnTo>
                  <a:pt x="4" y="1560"/>
                </a:lnTo>
                <a:lnTo>
                  <a:pt x="4" y="1560"/>
                </a:lnTo>
                <a:lnTo>
                  <a:pt x="4" y="1561"/>
                </a:lnTo>
                <a:lnTo>
                  <a:pt x="4" y="1561"/>
                </a:lnTo>
                <a:close/>
                <a:moveTo>
                  <a:pt x="4" y="1673"/>
                </a:moveTo>
                <a:lnTo>
                  <a:pt x="4" y="1742"/>
                </a:lnTo>
                <a:lnTo>
                  <a:pt x="4" y="1744"/>
                </a:lnTo>
                <a:lnTo>
                  <a:pt x="4" y="1744"/>
                </a:lnTo>
                <a:lnTo>
                  <a:pt x="3" y="1744"/>
                </a:lnTo>
                <a:lnTo>
                  <a:pt x="3" y="1745"/>
                </a:lnTo>
                <a:lnTo>
                  <a:pt x="1" y="1744"/>
                </a:lnTo>
                <a:lnTo>
                  <a:pt x="1" y="1744"/>
                </a:lnTo>
                <a:lnTo>
                  <a:pt x="0" y="1744"/>
                </a:lnTo>
                <a:lnTo>
                  <a:pt x="0" y="1742"/>
                </a:lnTo>
                <a:lnTo>
                  <a:pt x="0" y="1673"/>
                </a:lnTo>
                <a:lnTo>
                  <a:pt x="0" y="1671"/>
                </a:lnTo>
                <a:lnTo>
                  <a:pt x="1" y="1671"/>
                </a:lnTo>
                <a:lnTo>
                  <a:pt x="1" y="1670"/>
                </a:lnTo>
                <a:lnTo>
                  <a:pt x="3" y="1670"/>
                </a:lnTo>
                <a:lnTo>
                  <a:pt x="3" y="1670"/>
                </a:lnTo>
                <a:lnTo>
                  <a:pt x="4" y="1671"/>
                </a:lnTo>
                <a:lnTo>
                  <a:pt x="4" y="1671"/>
                </a:lnTo>
                <a:lnTo>
                  <a:pt x="4" y="1673"/>
                </a:lnTo>
                <a:lnTo>
                  <a:pt x="4" y="1673"/>
                </a:lnTo>
                <a:close/>
                <a:moveTo>
                  <a:pt x="4" y="1784"/>
                </a:moveTo>
                <a:lnTo>
                  <a:pt x="4" y="1854"/>
                </a:lnTo>
                <a:lnTo>
                  <a:pt x="4" y="1854"/>
                </a:lnTo>
                <a:lnTo>
                  <a:pt x="4" y="1855"/>
                </a:lnTo>
                <a:lnTo>
                  <a:pt x="3" y="1855"/>
                </a:lnTo>
                <a:lnTo>
                  <a:pt x="3" y="1855"/>
                </a:lnTo>
                <a:lnTo>
                  <a:pt x="1" y="1855"/>
                </a:lnTo>
                <a:lnTo>
                  <a:pt x="1" y="1855"/>
                </a:lnTo>
                <a:lnTo>
                  <a:pt x="0" y="1854"/>
                </a:lnTo>
                <a:lnTo>
                  <a:pt x="0" y="1854"/>
                </a:lnTo>
                <a:lnTo>
                  <a:pt x="0" y="1784"/>
                </a:lnTo>
                <a:lnTo>
                  <a:pt x="0" y="1783"/>
                </a:lnTo>
                <a:lnTo>
                  <a:pt x="1" y="1783"/>
                </a:lnTo>
                <a:lnTo>
                  <a:pt x="1" y="1782"/>
                </a:lnTo>
                <a:lnTo>
                  <a:pt x="3" y="1782"/>
                </a:lnTo>
                <a:lnTo>
                  <a:pt x="3" y="1782"/>
                </a:lnTo>
                <a:lnTo>
                  <a:pt x="4" y="1783"/>
                </a:lnTo>
                <a:lnTo>
                  <a:pt x="4" y="1783"/>
                </a:lnTo>
                <a:lnTo>
                  <a:pt x="4" y="1784"/>
                </a:lnTo>
                <a:lnTo>
                  <a:pt x="4" y="1784"/>
                </a:lnTo>
                <a:close/>
                <a:moveTo>
                  <a:pt x="4" y="1896"/>
                </a:moveTo>
                <a:lnTo>
                  <a:pt x="4" y="1916"/>
                </a:lnTo>
                <a:lnTo>
                  <a:pt x="4" y="1918"/>
                </a:lnTo>
                <a:lnTo>
                  <a:pt x="4" y="1918"/>
                </a:lnTo>
                <a:lnTo>
                  <a:pt x="3" y="1918"/>
                </a:lnTo>
                <a:lnTo>
                  <a:pt x="3" y="1919"/>
                </a:lnTo>
                <a:lnTo>
                  <a:pt x="1" y="1918"/>
                </a:lnTo>
                <a:lnTo>
                  <a:pt x="1" y="1918"/>
                </a:lnTo>
                <a:lnTo>
                  <a:pt x="0" y="1918"/>
                </a:lnTo>
                <a:lnTo>
                  <a:pt x="0" y="1916"/>
                </a:lnTo>
                <a:lnTo>
                  <a:pt x="0" y="1896"/>
                </a:lnTo>
                <a:lnTo>
                  <a:pt x="0" y="1895"/>
                </a:lnTo>
                <a:lnTo>
                  <a:pt x="1" y="1893"/>
                </a:lnTo>
                <a:lnTo>
                  <a:pt x="1" y="1893"/>
                </a:lnTo>
                <a:lnTo>
                  <a:pt x="3" y="1893"/>
                </a:lnTo>
                <a:lnTo>
                  <a:pt x="3" y="1893"/>
                </a:lnTo>
                <a:lnTo>
                  <a:pt x="4" y="1893"/>
                </a:lnTo>
                <a:lnTo>
                  <a:pt x="4" y="1895"/>
                </a:lnTo>
                <a:lnTo>
                  <a:pt x="4" y="1896"/>
                </a:lnTo>
                <a:lnTo>
                  <a:pt x="4" y="189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20920" y="4664160"/>
            <a:ext cx="690840" cy="236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303360" y="4707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7" name=""/>
          <p:cNvSpPr/>
          <p:nvPr/>
        </p:nvSpPr>
        <p:spPr>
          <a:xfrm>
            <a:off x="3371760" y="4707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er</a:t>
            </a:r>
            <a:endParaRPr b="0" lang="en-US" sz="1000" spc="-1" strike="noStrike">
              <a:solidFill>
                <a:srgbClr val="000000"/>
              </a:solidFill>
              <a:latin typeface="Times New Roman"/>
            </a:endParaRPr>
          </a:p>
        </p:txBody>
      </p:sp>
      <p:sp>
        <p:nvSpPr>
          <p:cNvPr id="128" name=""/>
          <p:cNvSpPr/>
          <p:nvPr/>
        </p:nvSpPr>
        <p:spPr>
          <a:xfrm>
            <a:off x="2268360" y="5346720"/>
            <a:ext cx="1221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2236680" y="5315040"/>
            <a:ext cx="63720" cy="63360"/>
          </a:xfrm>
          <a:custGeom>
            <a:avLst/>
            <a:gdLst/>
            <a:ahLst/>
            <a:rect l="l" t="t" r="r" b="b"/>
            <a:pathLst>
              <a:path w="80" h="80">
                <a:moveTo>
                  <a:pt x="80" y="41"/>
                </a:moveTo>
                <a:lnTo>
                  <a:pt x="80" y="37"/>
                </a:lnTo>
                <a:lnTo>
                  <a:pt x="80" y="32"/>
                </a:lnTo>
                <a:lnTo>
                  <a:pt x="78" y="29"/>
                </a:lnTo>
                <a:lnTo>
                  <a:pt x="77" y="25"/>
                </a:lnTo>
                <a:lnTo>
                  <a:pt x="74" y="18"/>
                </a:lnTo>
                <a:lnTo>
                  <a:pt x="68" y="12"/>
                </a:lnTo>
                <a:lnTo>
                  <a:pt x="62" y="8"/>
                </a:lnTo>
                <a:lnTo>
                  <a:pt x="57" y="3"/>
                </a:lnTo>
                <a:lnTo>
                  <a:pt x="52" y="2"/>
                </a:lnTo>
                <a:lnTo>
                  <a:pt x="48" y="2"/>
                </a:lnTo>
                <a:lnTo>
                  <a:pt x="45" y="0"/>
                </a:lnTo>
                <a:lnTo>
                  <a:pt x="41" y="0"/>
                </a:lnTo>
                <a:lnTo>
                  <a:pt x="36" y="0"/>
                </a:lnTo>
                <a:lnTo>
                  <a:pt x="32" y="2"/>
                </a:lnTo>
                <a:lnTo>
                  <a:pt x="29" y="2"/>
                </a:lnTo>
                <a:lnTo>
                  <a:pt x="25" y="3"/>
                </a:lnTo>
                <a:lnTo>
                  <a:pt x="17" y="8"/>
                </a:lnTo>
                <a:lnTo>
                  <a:pt x="12" y="12"/>
                </a:lnTo>
                <a:lnTo>
                  <a:pt x="7" y="18"/>
                </a:lnTo>
                <a:lnTo>
                  <a:pt x="3" y="25"/>
                </a:lnTo>
                <a:lnTo>
                  <a:pt x="2" y="29"/>
                </a:lnTo>
                <a:lnTo>
                  <a:pt x="2" y="32"/>
                </a:lnTo>
                <a:lnTo>
                  <a:pt x="0" y="37"/>
                </a:lnTo>
                <a:lnTo>
                  <a:pt x="0" y="41"/>
                </a:lnTo>
                <a:lnTo>
                  <a:pt x="0" y="41"/>
                </a:lnTo>
                <a:lnTo>
                  <a:pt x="0" y="45"/>
                </a:lnTo>
                <a:lnTo>
                  <a:pt x="2" y="48"/>
                </a:lnTo>
                <a:lnTo>
                  <a:pt x="2" y="53"/>
                </a:lnTo>
                <a:lnTo>
                  <a:pt x="3" y="57"/>
                </a:lnTo>
                <a:lnTo>
                  <a:pt x="7" y="63"/>
                </a:lnTo>
                <a:lnTo>
                  <a:pt x="12" y="69"/>
                </a:lnTo>
                <a:lnTo>
                  <a:pt x="17" y="74"/>
                </a:lnTo>
                <a:lnTo>
                  <a:pt x="25" y="77"/>
                </a:lnTo>
                <a:lnTo>
                  <a:pt x="29" y="79"/>
                </a:lnTo>
                <a:lnTo>
                  <a:pt x="32" y="80"/>
                </a:lnTo>
                <a:lnTo>
                  <a:pt x="36" y="80"/>
                </a:lnTo>
                <a:lnTo>
                  <a:pt x="41" y="80"/>
                </a:lnTo>
                <a:lnTo>
                  <a:pt x="45" y="80"/>
                </a:lnTo>
                <a:lnTo>
                  <a:pt x="48" y="80"/>
                </a:lnTo>
                <a:lnTo>
                  <a:pt x="52" y="79"/>
                </a:lnTo>
                <a:lnTo>
                  <a:pt x="57" y="77"/>
                </a:lnTo>
                <a:lnTo>
                  <a:pt x="62" y="74"/>
                </a:lnTo>
                <a:lnTo>
                  <a:pt x="68" y="69"/>
                </a:lnTo>
                <a:lnTo>
                  <a:pt x="74" y="63"/>
                </a:lnTo>
                <a:lnTo>
                  <a:pt x="77" y="57"/>
                </a:lnTo>
                <a:lnTo>
                  <a:pt x="78" y="53"/>
                </a:lnTo>
                <a:lnTo>
                  <a:pt x="80" y="48"/>
                </a:lnTo>
                <a:lnTo>
                  <a:pt x="80" y="45"/>
                </a:lnTo>
                <a:lnTo>
                  <a:pt x="80" y="4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 name=""/>
          <p:cNvSpPr/>
          <p:nvPr/>
        </p:nvSpPr>
        <p:spPr>
          <a:xfrm>
            <a:off x="3478320" y="5303880"/>
            <a:ext cx="85680" cy="85680"/>
          </a:xfrm>
          <a:custGeom>
            <a:avLst/>
            <a:gdLst/>
            <a:ahLst/>
            <a:rect l="l" t="t" r="r" b="b"/>
            <a:pathLst>
              <a:path w="107" h="108">
                <a:moveTo>
                  <a:pt x="0" y="0"/>
                </a:moveTo>
                <a:lnTo>
                  <a:pt x="107" y="54"/>
                </a:lnTo>
                <a:lnTo>
                  <a:pt x="0" y="10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36640" y="505764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Item</a:t>
            </a:r>
            <a:endParaRPr b="0" lang="en-US" sz="1000" spc="-1" strike="noStrike">
              <a:solidFill>
                <a:srgbClr val="000000"/>
              </a:solidFill>
              <a:latin typeface="Times New Roman"/>
            </a:endParaRPr>
          </a:p>
        </p:txBody>
      </p:sp>
      <p:sp>
        <p:nvSpPr>
          <p:cNvPr id="132" name=""/>
          <p:cNvSpPr/>
          <p:nvPr/>
        </p:nvSpPr>
        <p:spPr>
          <a:xfrm>
            <a:off x="2427120" y="52038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3" name=""/>
          <p:cNvSpPr/>
          <p:nvPr/>
        </p:nvSpPr>
        <p:spPr>
          <a:xfrm>
            <a:off x="2469240" y="520380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ID</a:t>
            </a:r>
            <a:endParaRPr b="0" lang="en-US" sz="1000" spc="-1" strike="noStrike">
              <a:solidFill>
                <a:srgbClr val="000000"/>
              </a:solidFill>
              <a:latin typeface="Times New Roman"/>
            </a:endParaRPr>
          </a:p>
        </p:txBody>
      </p:sp>
      <p:sp>
        <p:nvSpPr>
          <p:cNvPr id="134" name=""/>
          <p:cNvSpPr/>
          <p:nvPr/>
        </p:nvSpPr>
        <p:spPr>
          <a:xfrm>
            <a:off x="2823840" y="5203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5" name=""/>
          <p:cNvSpPr/>
          <p:nvPr/>
        </p:nvSpPr>
        <p:spPr>
          <a:xfrm>
            <a:off x="2890080" y="520380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tity</a:t>
            </a:r>
            <a:endParaRPr b="0" lang="en-US" sz="1000" spc="-1" strike="noStrike">
              <a:solidFill>
                <a:srgbClr val="000000"/>
              </a:solidFill>
              <a:latin typeface="Times New Roman"/>
            </a:endParaRPr>
          </a:p>
        </p:txBody>
      </p:sp>
      <p:sp>
        <p:nvSpPr>
          <p:cNvPr id="136" name=""/>
          <p:cNvSpPr/>
          <p:nvPr/>
        </p:nvSpPr>
        <p:spPr>
          <a:xfrm>
            <a:off x="3320640" y="52038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7" name=""/>
          <p:cNvSpPr/>
          <p:nvPr/>
        </p:nvSpPr>
        <p:spPr>
          <a:xfrm>
            <a:off x="5292720" y="4664160"/>
            <a:ext cx="1173240" cy="236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20880" y="4707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9" name=""/>
          <p:cNvSpPr/>
          <p:nvPr/>
        </p:nvSpPr>
        <p:spPr>
          <a:xfrm>
            <a:off x="5490720" y="4707000"/>
            <a:ext cx="87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Catalog</a:t>
            </a:r>
            <a:endParaRPr b="0" lang="en-US" sz="1000" spc="-1" strike="noStrike">
              <a:solidFill>
                <a:srgbClr val="000000"/>
              </a:solidFill>
              <a:latin typeface="Times New Roman"/>
            </a:endParaRPr>
          </a:p>
        </p:txBody>
      </p:sp>
      <p:sp>
        <p:nvSpPr>
          <p:cNvPr id="140" name=""/>
          <p:cNvSpPr/>
          <p:nvPr/>
        </p:nvSpPr>
        <p:spPr>
          <a:xfrm>
            <a:off x="5842080" y="4917960"/>
            <a:ext cx="3240" cy="1522440"/>
          </a:xfrm>
          <a:custGeom>
            <a:avLst/>
            <a:gdLst/>
            <a:ahLst/>
            <a:rect l="l" t="t" r="r" b="b"/>
            <a:pathLst>
              <a:path w="4" h="1919">
                <a:moveTo>
                  <a:pt x="4" y="3"/>
                </a:moveTo>
                <a:lnTo>
                  <a:pt x="4" y="73"/>
                </a:lnTo>
                <a:lnTo>
                  <a:pt x="4" y="74"/>
                </a:lnTo>
                <a:lnTo>
                  <a:pt x="4" y="74"/>
                </a:lnTo>
                <a:lnTo>
                  <a:pt x="3" y="74"/>
                </a:lnTo>
                <a:lnTo>
                  <a:pt x="3" y="76"/>
                </a:lnTo>
                <a:lnTo>
                  <a:pt x="1" y="74"/>
                </a:lnTo>
                <a:lnTo>
                  <a:pt x="1" y="74"/>
                </a:lnTo>
                <a:lnTo>
                  <a:pt x="0" y="74"/>
                </a:lnTo>
                <a:lnTo>
                  <a:pt x="0" y="73"/>
                </a:lnTo>
                <a:lnTo>
                  <a:pt x="0" y="3"/>
                </a:lnTo>
                <a:lnTo>
                  <a:pt x="0" y="2"/>
                </a:lnTo>
                <a:lnTo>
                  <a:pt x="1" y="2"/>
                </a:lnTo>
                <a:lnTo>
                  <a:pt x="1" y="0"/>
                </a:lnTo>
                <a:lnTo>
                  <a:pt x="3" y="0"/>
                </a:lnTo>
                <a:lnTo>
                  <a:pt x="3" y="0"/>
                </a:lnTo>
                <a:lnTo>
                  <a:pt x="4" y="2"/>
                </a:lnTo>
                <a:lnTo>
                  <a:pt x="4" y="2"/>
                </a:lnTo>
                <a:lnTo>
                  <a:pt x="4" y="3"/>
                </a:lnTo>
                <a:lnTo>
                  <a:pt x="4" y="3"/>
                </a:lnTo>
                <a:close/>
                <a:moveTo>
                  <a:pt x="4" y="115"/>
                </a:moveTo>
                <a:lnTo>
                  <a:pt x="4" y="184"/>
                </a:lnTo>
                <a:lnTo>
                  <a:pt x="4" y="184"/>
                </a:lnTo>
                <a:lnTo>
                  <a:pt x="4" y="186"/>
                </a:lnTo>
                <a:lnTo>
                  <a:pt x="3" y="186"/>
                </a:lnTo>
                <a:lnTo>
                  <a:pt x="3" y="186"/>
                </a:lnTo>
                <a:lnTo>
                  <a:pt x="1" y="186"/>
                </a:lnTo>
                <a:lnTo>
                  <a:pt x="1" y="186"/>
                </a:lnTo>
                <a:lnTo>
                  <a:pt x="0" y="184"/>
                </a:lnTo>
                <a:lnTo>
                  <a:pt x="0" y="184"/>
                </a:lnTo>
                <a:lnTo>
                  <a:pt x="0" y="115"/>
                </a:lnTo>
                <a:lnTo>
                  <a:pt x="0" y="113"/>
                </a:lnTo>
                <a:lnTo>
                  <a:pt x="1" y="113"/>
                </a:lnTo>
                <a:lnTo>
                  <a:pt x="1" y="112"/>
                </a:lnTo>
                <a:lnTo>
                  <a:pt x="3" y="112"/>
                </a:lnTo>
                <a:lnTo>
                  <a:pt x="3" y="112"/>
                </a:lnTo>
                <a:lnTo>
                  <a:pt x="4" y="113"/>
                </a:lnTo>
                <a:lnTo>
                  <a:pt x="4" y="113"/>
                </a:lnTo>
                <a:lnTo>
                  <a:pt x="4" y="115"/>
                </a:lnTo>
                <a:lnTo>
                  <a:pt x="4" y="115"/>
                </a:lnTo>
                <a:close/>
                <a:moveTo>
                  <a:pt x="4" y="227"/>
                </a:moveTo>
                <a:lnTo>
                  <a:pt x="4" y="296"/>
                </a:lnTo>
                <a:lnTo>
                  <a:pt x="4" y="296"/>
                </a:lnTo>
                <a:lnTo>
                  <a:pt x="4" y="298"/>
                </a:lnTo>
                <a:lnTo>
                  <a:pt x="3" y="298"/>
                </a:lnTo>
                <a:lnTo>
                  <a:pt x="1" y="298"/>
                </a:lnTo>
                <a:lnTo>
                  <a:pt x="0" y="296"/>
                </a:lnTo>
                <a:lnTo>
                  <a:pt x="0" y="296"/>
                </a:lnTo>
                <a:lnTo>
                  <a:pt x="0" y="227"/>
                </a:lnTo>
                <a:lnTo>
                  <a:pt x="0" y="225"/>
                </a:lnTo>
                <a:lnTo>
                  <a:pt x="1" y="224"/>
                </a:lnTo>
                <a:lnTo>
                  <a:pt x="1" y="224"/>
                </a:lnTo>
                <a:lnTo>
                  <a:pt x="3" y="224"/>
                </a:lnTo>
                <a:lnTo>
                  <a:pt x="3" y="224"/>
                </a:lnTo>
                <a:lnTo>
                  <a:pt x="4" y="224"/>
                </a:lnTo>
                <a:lnTo>
                  <a:pt x="4" y="225"/>
                </a:lnTo>
                <a:lnTo>
                  <a:pt x="4" y="227"/>
                </a:lnTo>
                <a:lnTo>
                  <a:pt x="4" y="227"/>
                </a:lnTo>
                <a:close/>
                <a:moveTo>
                  <a:pt x="4" y="337"/>
                </a:moveTo>
                <a:lnTo>
                  <a:pt x="4" y="406"/>
                </a:lnTo>
                <a:lnTo>
                  <a:pt x="4" y="408"/>
                </a:lnTo>
                <a:lnTo>
                  <a:pt x="4" y="409"/>
                </a:lnTo>
                <a:lnTo>
                  <a:pt x="3" y="409"/>
                </a:lnTo>
                <a:lnTo>
                  <a:pt x="3" y="409"/>
                </a:lnTo>
                <a:lnTo>
                  <a:pt x="1" y="409"/>
                </a:lnTo>
                <a:lnTo>
                  <a:pt x="1" y="409"/>
                </a:lnTo>
                <a:lnTo>
                  <a:pt x="0" y="408"/>
                </a:lnTo>
                <a:lnTo>
                  <a:pt x="0" y="406"/>
                </a:lnTo>
                <a:lnTo>
                  <a:pt x="0" y="337"/>
                </a:lnTo>
                <a:lnTo>
                  <a:pt x="0" y="337"/>
                </a:lnTo>
                <a:lnTo>
                  <a:pt x="1" y="335"/>
                </a:lnTo>
                <a:lnTo>
                  <a:pt x="1" y="335"/>
                </a:lnTo>
                <a:lnTo>
                  <a:pt x="3" y="335"/>
                </a:lnTo>
                <a:lnTo>
                  <a:pt x="3" y="335"/>
                </a:lnTo>
                <a:lnTo>
                  <a:pt x="4" y="335"/>
                </a:lnTo>
                <a:lnTo>
                  <a:pt x="4" y="337"/>
                </a:lnTo>
                <a:lnTo>
                  <a:pt x="4" y="337"/>
                </a:lnTo>
                <a:lnTo>
                  <a:pt x="4" y="337"/>
                </a:lnTo>
                <a:close/>
                <a:moveTo>
                  <a:pt x="4" y="448"/>
                </a:moveTo>
                <a:lnTo>
                  <a:pt x="4" y="518"/>
                </a:lnTo>
                <a:lnTo>
                  <a:pt x="4" y="519"/>
                </a:lnTo>
                <a:lnTo>
                  <a:pt x="4" y="519"/>
                </a:lnTo>
                <a:lnTo>
                  <a:pt x="3" y="521"/>
                </a:lnTo>
                <a:lnTo>
                  <a:pt x="3" y="521"/>
                </a:lnTo>
                <a:lnTo>
                  <a:pt x="1" y="521"/>
                </a:lnTo>
                <a:lnTo>
                  <a:pt x="1" y="519"/>
                </a:lnTo>
                <a:lnTo>
                  <a:pt x="0" y="519"/>
                </a:lnTo>
                <a:lnTo>
                  <a:pt x="0" y="518"/>
                </a:lnTo>
                <a:lnTo>
                  <a:pt x="0" y="448"/>
                </a:lnTo>
                <a:lnTo>
                  <a:pt x="0" y="447"/>
                </a:lnTo>
                <a:lnTo>
                  <a:pt x="1" y="447"/>
                </a:lnTo>
                <a:lnTo>
                  <a:pt x="1" y="447"/>
                </a:lnTo>
                <a:lnTo>
                  <a:pt x="3" y="447"/>
                </a:lnTo>
                <a:lnTo>
                  <a:pt x="3" y="447"/>
                </a:lnTo>
                <a:lnTo>
                  <a:pt x="4" y="447"/>
                </a:lnTo>
                <a:lnTo>
                  <a:pt x="4" y="447"/>
                </a:lnTo>
                <a:lnTo>
                  <a:pt x="4" y="448"/>
                </a:lnTo>
                <a:lnTo>
                  <a:pt x="4" y="448"/>
                </a:lnTo>
                <a:close/>
                <a:moveTo>
                  <a:pt x="4" y="560"/>
                </a:moveTo>
                <a:lnTo>
                  <a:pt x="4" y="629"/>
                </a:lnTo>
                <a:lnTo>
                  <a:pt x="4" y="631"/>
                </a:lnTo>
                <a:lnTo>
                  <a:pt x="4" y="631"/>
                </a:lnTo>
                <a:lnTo>
                  <a:pt x="3" y="631"/>
                </a:lnTo>
                <a:lnTo>
                  <a:pt x="3" y="632"/>
                </a:lnTo>
                <a:lnTo>
                  <a:pt x="1" y="631"/>
                </a:lnTo>
                <a:lnTo>
                  <a:pt x="1" y="631"/>
                </a:lnTo>
                <a:lnTo>
                  <a:pt x="0" y="631"/>
                </a:lnTo>
                <a:lnTo>
                  <a:pt x="0" y="629"/>
                </a:lnTo>
                <a:lnTo>
                  <a:pt x="0" y="560"/>
                </a:lnTo>
                <a:lnTo>
                  <a:pt x="0" y="558"/>
                </a:lnTo>
                <a:lnTo>
                  <a:pt x="1" y="558"/>
                </a:lnTo>
                <a:lnTo>
                  <a:pt x="1" y="557"/>
                </a:lnTo>
                <a:lnTo>
                  <a:pt x="3" y="557"/>
                </a:lnTo>
                <a:lnTo>
                  <a:pt x="3" y="557"/>
                </a:lnTo>
                <a:lnTo>
                  <a:pt x="4" y="558"/>
                </a:lnTo>
                <a:lnTo>
                  <a:pt x="4" y="558"/>
                </a:lnTo>
                <a:lnTo>
                  <a:pt x="4" y="560"/>
                </a:lnTo>
                <a:lnTo>
                  <a:pt x="4" y="560"/>
                </a:lnTo>
                <a:close/>
                <a:moveTo>
                  <a:pt x="4" y="671"/>
                </a:moveTo>
                <a:lnTo>
                  <a:pt x="4" y="741"/>
                </a:lnTo>
                <a:lnTo>
                  <a:pt x="4" y="741"/>
                </a:lnTo>
                <a:lnTo>
                  <a:pt x="4" y="742"/>
                </a:lnTo>
                <a:lnTo>
                  <a:pt x="3" y="742"/>
                </a:lnTo>
                <a:lnTo>
                  <a:pt x="3" y="742"/>
                </a:lnTo>
                <a:lnTo>
                  <a:pt x="1" y="742"/>
                </a:lnTo>
                <a:lnTo>
                  <a:pt x="1" y="742"/>
                </a:lnTo>
                <a:lnTo>
                  <a:pt x="0" y="741"/>
                </a:lnTo>
                <a:lnTo>
                  <a:pt x="0" y="741"/>
                </a:lnTo>
                <a:lnTo>
                  <a:pt x="0" y="671"/>
                </a:lnTo>
                <a:lnTo>
                  <a:pt x="0" y="670"/>
                </a:lnTo>
                <a:lnTo>
                  <a:pt x="1" y="670"/>
                </a:lnTo>
                <a:lnTo>
                  <a:pt x="1" y="669"/>
                </a:lnTo>
                <a:lnTo>
                  <a:pt x="3" y="669"/>
                </a:lnTo>
                <a:lnTo>
                  <a:pt x="3" y="669"/>
                </a:lnTo>
                <a:lnTo>
                  <a:pt x="4" y="670"/>
                </a:lnTo>
                <a:lnTo>
                  <a:pt x="4" y="670"/>
                </a:lnTo>
                <a:lnTo>
                  <a:pt x="4" y="671"/>
                </a:lnTo>
                <a:lnTo>
                  <a:pt x="4" y="671"/>
                </a:lnTo>
                <a:close/>
                <a:moveTo>
                  <a:pt x="4" y="783"/>
                </a:moveTo>
                <a:lnTo>
                  <a:pt x="4" y="853"/>
                </a:lnTo>
                <a:lnTo>
                  <a:pt x="4" y="853"/>
                </a:lnTo>
                <a:lnTo>
                  <a:pt x="4" y="854"/>
                </a:lnTo>
                <a:lnTo>
                  <a:pt x="3" y="854"/>
                </a:lnTo>
                <a:lnTo>
                  <a:pt x="1" y="854"/>
                </a:lnTo>
                <a:lnTo>
                  <a:pt x="0" y="853"/>
                </a:lnTo>
                <a:lnTo>
                  <a:pt x="0" y="853"/>
                </a:lnTo>
                <a:lnTo>
                  <a:pt x="0" y="783"/>
                </a:lnTo>
                <a:lnTo>
                  <a:pt x="0" y="782"/>
                </a:lnTo>
                <a:lnTo>
                  <a:pt x="1" y="780"/>
                </a:lnTo>
                <a:lnTo>
                  <a:pt x="1" y="780"/>
                </a:lnTo>
                <a:lnTo>
                  <a:pt x="3" y="780"/>
                </a:lnTo>
                <a:lnTo>
                  <a:pt x="3" y="780"/>
                </a:lnTo>
                <a:lnTo>
                  <a:pt x="4" y="780"/>
                </a:lnTo>
                <a:lnTo>
                  <a:pt x="4" y="782"/>
                </a:lnTo>
                <a:lnTo>
                  <a:pt x="4" y="783"/>
                </a:lnTo>
                <a:lnTo>
                  <a:pt x="4" y="783"/>
                </a:lnTo>
                <a:close/>
                <a:moveTo>
                  <a:pt x="4" y="893"/>
                </a:moveTo>
                <a:lnTo>
                  <a:pt x="4" y="963"/>
                </a:lnTo>
                <a:lnTo>
                  <a:pt x="4" y="964"/>
                </a:lnTo>
                <a:lnTo>
                  <a:pt x="4" y="966"/>
                </a:lnTo>
                <a:lnTo>
                  <a:pt x="3" y="966"/>
                </a:lnTo>
                <a:lnTo>
                  <a:pt x="3" y="966"/>
                </a:lnTo>
                <a:lnTo>
                  <a:pt x="1" y="966"/>
                </a:lnTo>
                <a:lnTo>
                  <a:pt x="1" y="966"/>
                </a:lnTo>
                <a:lnTo>
                  <a:pt x="0" y="964"/>
                </a:lnTo>
                <a:lnTo>
                  <a:pt x="0" y="963"/>
                </a:lnTo>
                <a:lnTo>
                  <a:pt x="0" y="893"/>
                </a:lnTo>
                <a:lnTo>
                  <a:pt x="0" y="893"/>
                </a:lnTo>
                <a:lnTo>
                  <a:pt x="1" y="892"/>
                </a:lnTo>
                <a:lnTo>
                  <a:pt x="1" y="892"/>
                </a:lnTo>
                <a:lnTo>
                  <a:pt x="3" y="892"/>
                </a:lnTo>
                <a:lnTo>
                  <a:pt x="3" y="892"/>
                </a:lnTo>
                <a:lnTo>
                  <a:pt x="4" y="892"/>
                </a:lnTo>
                <a:lnTo>
                  <a:pt x="4" y="893"/>
                </a:lnTo>
                <a:lnTo>
                  <a:pt x="4" y="893"/>
                </a:lnTo>
                <a:lnTo>
                  <a:pt x="4" y="893"/>
                </a:lnTo>
                <a:close/>
                <a:moveTo>
                  <a:pt x="4" y="1005"/>
                </a:moveTo>
                <a:lnTo>
                  <a:pt x="4" y="1074"/>
                </a:lnTo>
                <a:lnTo>
                  <a:pt x="4" y="1076"/>
                </a:lnTo>
                <a:lnTo>
                  <a:pt x="4" y="1076"/>
                </a:lnTo>
                <a:lnTo>
                  <a:pt x="3" y="1077"/>
                </a:lnTo>
                <a:lnTo>
                  <a:pt x="3" y="1077"/>
                </a:lnTo>
                <a:lnTo>
                  <a:pt x="1" y="1077"/>
                </a:lnTo>
                <a:lnTo>
                  <a:pt x="1" y="1076"/>
                </a:lnTo>
                <a:lnTo>
                  <a:pt x="0" y="1076"/>
                </a:lnTo>
                <a:lnTo>
                  <a:pt x="0" y="1074"/>
                </a:lnTo>
                <a:lnTo>
                  <a:pt x="0" y="1005"/>
                </a:lnTo>
                <a:lnTo>
                  <a:pt x="0" y="1003"/>
                </a:lnTo>
                <a:lnTo>
                  <a:pt x="1" y="1003"/>
                </a:lnTo>
                <a:lnTo>
                  <a:pt x="1" y="1003"/>
                </a:lnTo>
                <a:lnTo>
                  <a:pt x="3" y="1003"/>
                </a:lnTo>
                <a:lnTo>
                  <a:pt x="3" y="1003"/>
                </a:lnTo>
                <a:lnTo>
                  <a:pt x="4" y="1003"/>
                </a:lnTo>
                <a:lnTo>
                  <a:pt x="4" y="1003"/>
                </a:lnTo>
                <a:lnTo>
                  <a:pt x="4" y="1005"/>
                </a:lnTo>
                <a:lnTo>
                  <a:pt x="4" y="1005"/>
                </a:lnTo>
                <a:close/>
                <a:moveTo>
                  <a:pt x="4" y="1116"/>
                </a:moveTo>
                <a:lnTo>
                  <a:pt x="4" y="1186"/>
                </a:lnTo>
                <a:lnTo>
                  <a:pt x="4" y="1187"/>
                </a:lnTo>
                <a:lnTo>
                  <a:pt x="4" y="1187"/>
                </a:lnTo>
                <a:lnTo>
                  <a:pt x="3" y="1187"/>
                </a:lnTo>
                <a:lnTo>
                  <a:pt x="3" y="1189"/>
                </a:lnTo>
                <a:lnTo>
                  <a:pt x="1" y="1187"/>
                </a:lnTo>
                <a:lnTo>
                  <a:pt x="1" y="1187"/>
                </a:lnTo>
                <a:lnTo>
                  <a:pt x="0" y="1187"/>
                </a:lnTo>
                <a:lnTo>
                  <a:pt x="0" y="1186"/>
                </a:lnTo>
                <a:lnTo>
                  <a:pt x="0" y="1116"/>
                </a:lnTo>
                <a:lnTo>
                  <a:pt x="0" y="1115"/>
                </a:lnTo>
                <a:lnTo>
                  <a:pt x="1" y="1115"/>
                </a:lnTo>
                <a:lnTo>
                  <a:pt x="1" y="1113"/>
                </a:lnTo>
                <a:lnTo>
                  <a:pt x="3" y="1113"/>
                </a:lnTo>
                <a:lnTo>
                  <a:pt x="3" y="1113"/>
                </a:lnTo>
                <a:lnTo>
                  <a:pt x="4" y="1115"/>
                </a:lnTo>
                <a:lnTo>
                  <a:pt x="4" y="1115"/>
                </a:lnTo>
                <a:lnTo>
                  <a:pt x="4" y="1116"/>
                </a:lnTo>
                <a:lnTo>
                  <a:pt x="4" y="1116"/>
                </a:lnTo>
                <a:close/>
                <a:moveTo>
                  <a:pt x="4" y="1228"/>
                </a:moveTo>
                <a:lnTo>
                  <a:pt x="4" y="1298"/>
                </a:lnTo>
                <a:lnTo>
                  <a:pt x="4" y="1298"/>
                </a:lnTo>
                <a:lnTo>
                  <a:pt x="4" y="1299"/>
                </a:lnTo>
                <a:lnTo>
                  <a:pt x="3" y="1299"/>
                </a:lnTo>
                <a:lnTo>
                  <a:pt x="3" y="1299"/>
                </a:lnTo>
                <a:lnTo>
                  <a:pt x="1" y="1299"/>
                </a:lnTo>
                <a:lnTo>
                  <a:pt x="1" y="1299"/>
                </a:lnTo>
                <a:lnTo>
                  <a:pt x="0" y="1298"/>
                </a:lnTo>
                <a:lnTo>
                  <a:pt x="0" y="1298"/>
                </a:lnTo>
                <a:lnTo>
                  <a:pt x="0" y="1228"/>
                </a:lnTo>
                <a:lnTo>
                  <a:pt x="0" y="1227"/>
                </a:lnTo>
                <a:lnTo>
                  <a:pt x="1" y="1227"/>
                </a:lnTo>
                <a:lnTo>
                  <a:pt x="1" y="1225"/>
                </a:lnTo>
                <a:lnTo>
                  <a:pt x="3" y="1225"/>
                </a:lnTo>
                <a:lnTo>
                  <a:pt x="3" y="1225"/>
                </a:lnTo>
                <a:lnTo>
                  <a:pt x="4" y="1227"/>
                </a:lnTo>
                <a:lnTo>
                  <a:pt x="4" y="1227"/>
                </a:lnTo>
                <a:lnTo>
                  <a:pt x="4" y="1228"/>
                </a:lnTo>
                <a:lnTo>
                  <a:pt x="4" y="1228"/>
                </a:lnTo>
                <a:close/>
                <a:moveTo>
                  <a:pt x="4" y="1340"/>
                </a:moveTo>
                <a:lnTo>
                  <a:pt x="4" y="1409"/>
                </a:lnTo>
                <a:lnTo>
                  <a:pt x="4" y="1409"/>
                </a:lnTo>
                <a:lnTo>
                  <a:pt x="4" y="1411"/>
                </a:lnTo>
                <a:lnTo>
                  <a:pt x="3" y="1411"/>
                </a:lnTo>
                <a:lnTo>
                  <a:pt x="1" y="1411"/>
                </a:lnTo>
                <a:lnTo>
                  <a:pt x="0" y="1409"/>
                </a:lnTo>
                <a:lnTo>
                  <a:pt x="0" y="1409"/>
                </a:lnTo>
                <a:lnTo>
                  <a:pt x="0" y="1340"/>
                </a:lnTo>
                <a:lnTo>
                  <a:pt x="0" y="1338"/>
                </a:lnTo>
                <a:lnTo>
                  <a:pt x="1" y="1337"/>
                </a:lnTo>
                <a:lnTo>
                  <a:pt x="1" y="1337"/>
                </a:lnTo>
                <a:lnTo>
                  <a:pt x="3" y="1337"/>
                </a:lnTo>
                <a:lnTo>
                  <a:pt x="3" y="1337"/>
                </a:lnTo>
                <a:lnTo>
                  <a:pt x="4" y="1337"/>
                </a:lnTo>
                <a:lnTo>
                  <a:pt x="4" y="1338"/>
                </a:lnTo>
                <a:lnTo>
                  <a:pt x="4" y="1340"/>
                </a:lnTo>
                <a:lnTo>
                  <a:pt x="4" y="1340"/>
                </a:lnTo>
                <a:close/>
                <a:moveTo>
                  <a:pt x="4" y="1450"/>
                </a:moveTo>
                <a:lnTo>
                  <a:pt x="4" y="1519"/>
                </a:lnTo>
                <a:lnTo>
                  <a:pt x="4" y="1521"/>
                </a:lnTo>
                <a:lnTo>
                  <a:pt x="4" y="1522"/>
                </a:lnTo>
                <a:lnTo>
                  <a:pt x="3" y="1522"/>
                </a:lnTo>
                <a:lnTo>
                  <a:pt x="3" y="1522"/>
                </a:lnTo>
                <a:lnTo>
                  <a:pt x="1" y="1522"/>
                </a:lnTo>
                <a:lnTo>
                  <a:pt x="1" y="1522"/>
                </a:lnTo>
                <a:lnTo>
                  <a:pt x="0" y="1521"/>
                </a:lnTo>
                <a:lnTo>
                  <a:pt x="0" y="1519"/>
                </a:lnTo>
                <a:lnTo>
                  <a:pt x="0" y="1450"/>
                </a:lnTo>
                <a:lnTo>
                  <a:pt x="0" y="1450"/>
                </a:lnTo>
                <a:lnTo>
                  <a:pt x="1" y="1448"/>
                </a:lnTo>
                <a:lnTo>
                  <a:pt x="1" y="1448"/>
                </a:lnTo>
                <a:lnTo>
                  <a:pt x="3" y="1448"/>
                </a:lnTo>
                <a:lnTo>
                  <a:pt x="3" y="1448"/>
                </a:lnTo>
                <a:lnTo>
                  <a:pt x="4" y="1448"/>
                </a:lnTo>
                <a:lnTo>
                  <a:pt x="4" y="1450"/>
                </a:lnTo>
                <a:lnTo>
                  <a:pt x="4" y="1450"/>
                </a:lnTo>
                <a:lnTo>
                  <a:pt x="4" y="1450"/>
                </a:lnTo>
                <a:close/>
                <a:moveTo>
                  <a:pt x="4" y="1561"/>
                </a:moveTo>
                <a:lnTo>
                  <a:pt x="4" y="1631"/>
                </a:lnTo>
                <a:lnTo>
                  <a:pt x="4" y="1632"/>
                </a:lnTo>
                <a:lnTo>
                  <a:pt x="4" y="1632"/>
                </a:lnTo>
                <a:lnTo>
                  <a:pt x="3" y="1634"/>
                </a:lnTo>
                <a:lnTo>
                  <a:pt x="3" y="1634"/>
                </a:lnTo>
                <a:lnTo>
                  <a:pt x="1" y="1634"/>
                </a:lnTo>
                <a:lnTo>
                  <a:pt x="1" y="1632"/>
                </a:lnTo>
                <a:lnTo>
                  <a:pt x="0" y="1632"/>
                </a:lnTo>
                <a:lnTo>
                  <a:pt x="0" y="1631"/>
                </a:lnTo>
                <a:lnTo>
                  <a:pt x="0" y="1561"/>
                </a:lnTo>
                <a:lnTo>
                  <a:pt x="0" y="1560"/>
                </a:lnTo>
                <a:lnTo>
                  <a:pt x="1" y="1560"/>
                </a:lnTo>
                <a:lnTo>
                  <a:pt x="1" y="1560"/>
                </a:lnTo>
                <a:lnTo>
                  <a:pt x="3" y="1560"/>
                </a:lnTo>
                <a:lnTo>
                  <a:pt x="3" y="1560"/>
                </a:lnTo>
                <a:lnTo>
                  <a:pt x="4" y="1560"/>
                </a:lnTo>
                <a:lnTo>
                  <a:pt x="4" y="1560"/>
                </a:lnTo>
                <a:lnTo>
                  <a:pt x="4" y="1561"/>
                </a:lnTo>
                <a:lnTo>
                  <a:pt x="4" y="1561"/>
                </a:lnTo>
                <a:close/>
                <a:moveTo>
                  <a:pt x="4" y="1673"/>
                </a:moveTo>
                <a:lnTo>
                  <a:pt x="4" y="1742"/>
                </a:lnTo>
                <a:lnTo>
                  <a:pt x="4" y="1744"/>
                </a:lnTo>
                <a:lnTo>
                  <a:pt x="4" y="1744"/>
                </a:lnTo>
                <a:lnTo>
                  <a:pt x="3" y="1744"/>
                </a:lnTo>
                <a:lnTo>
                  <a:pt x="3" y="1745"/>
                </a:lnTo>
                <a:lnTo>
                  <a:pt x="1" y="1744"/>
                </a:lnTo>
                <a:lnTo>
                  <a:pt x="1" y="1744"/>
                </a:lnTo>
                <a:lnTo>
                  <a:pt x="0" y="1744"/>
                </a:lnTo>
                <a:lnTo>
                  <a:pt x="0" y="1742"/>
                </a:lnTo>
                <a:lnTo>
                  <a:pt x="0" y="1673"/>
                </a:lnTo>
                <a:lnTo>
                  <a:pt x="0" y="1671"/>
                </a:lnTo>
                <a:lnTo>
                  <a:pt x="1" y="1671"/>
                </a:lnTo>
                <a:lnTo>
                  <a:pt x="1" y="1670"/>
                </a:lnTo>
                <a:lnTo>
                  <a:pt x="3" y="1670"/>
                </a:lnTo>
                <a:lnTo>
                  <a:pt x="3" y="1670"/>
                </a:lnTo>
                <a:lnTo>
                  <a:pt x="4" y="1671"/>
                </a:lnTo>
                <a:lnTo>
                  <a:pt x="4" y="1671"/>
                </a:lnTo>
                <a:lnTo>
                  <a:pt x="4" y="1673"/>
                </a:lnTo>
                <a:lnTo>
                  <a:pt x="4" y="1673"/>
                </a:lnTo>
                <a:close/>
                <a:moveTo>
                  <a:pt x="4" y="1784"/>
                </a:moveTo>
                <a:lnTo>
                  <a:pt x="4" y="1854"/>
                </a:lnTo>
                <a:lnTo>
                  <a:pt x="4" y="1854"/>
                </a:lnTo>
                <a:lnTo>
                  <a:pt x="4" y="1855"/>
                </a:lnTo>
                <a:lnTo>
                  <a:pt x="3" y="1855"/>
                </a:lnTo>
                <a:lnTo>
                  <a:pt x="3" y="1855"/>
                </a:lnTo>
                <a:lnTo>
                  <a:pt x="1" y="1855"/>
                </a:lnTo>
                <a:lnTo>
                  <a:pt x="1" y="1855"/>
                </a:lnTo>
                <a:lnTo>
                  <a:pt x="0" y="1854"/>
                </a:lnTo>
                <a:lnTo>
                  <a:pt x="0" y="1854"/>
                </a:lnTo>
                <a:lnTo>
                  <a:pt x="0" y="1784"/>
                </a:lnTo>
                <a:lnTo>
                  <a:pt x="0" y="1783"/>
                </a:lnTo>
                <a:lnTo>
                  <a:pt x="1" y="1783"/>
                </a:lnTo>
                <a:lnTo>
                  <a:pt x="1" y="1782"/>
                </a:lnTo>
                <a:lnTo>
                  <a:pt x="3" y="1782"/>
                </a:lnTo>
                <a:lnTo>
                  <a:pt x="3" y="1782"/>
                </a:lnTo>
                <a:lnTo>
                  <a:pt x="4" y="1783"/>
                </a:lnTo>
                <a:lnTo>
                  <a:pt x="4" y="1783"/>
                </a:lnTo>
                <a:lnTo>
                  <a:pt x="4" y="1784"/>
                </a:lnTo>
                <a:lnTo>
                  <a:pt x="4" y="1784"/>
                </a:lnTo>
                <a:close/>
                <a:moveTo>
                  <a:pt x="4" y="1896"/>
                </a:moveTo>
                <a:lnTo>
                  <a:pt x="4" y="1916"/>
                </a:lnTo>
                <a:lnTo>
                  <a:pt x="4" y="1918"/>
                </a:lnTo>
                <a:lnTo>
                  <a:pt x="4" y="1918"/>
                </a:lnTo>
                <a:lnTo>
                  <a:pt x="3" y="1918"/>
                </a:lnTo>
                <a:lnTo>
                  <a:pt x="3" y="1919"/>
                </a:lnTo>
                <a:lnTo>
                  <a:pt x="1" y="1918"/>
                </a:lnTo>
                <a:lnTo>
                  <a:pt x="1" y="1918"/>
                </a:lnTo>
                <a:lnTo>
                  <a:pt x="0" y="1918"/>
                </a:lnTo>
                <a:lnTo>
                  <a:pt x="0" y="1916"/>
                </a:lnTo>
                <a:lnTo>
                  <a:pt x="0" y="1896"/>
                </a:lnTo>
                <a:lnTo>
                  <a:pt x="0" y="1895"/>
                </a:lnTo>
                <a:lnTo>
                  <a:pt x="1" y="1893"/>
                </a:lnTo>
                <a:lnTo>
                  <a:pt x="1" y="1893"/>
                </a:lnTo>
                <a:lnTo>
                  <a:pt x="3" y="1893"/>
                </a:lnTo>
                <a:lnTo>
                  <a:pt x="3" y="1893"/>
                </a:lnTo>
                <a:lnTo>
                  <a:pt x="4" y="1893"/>
                </a:lnTo>
                <a:lnTo>
                  <a:pt x="4" y="1895"/>
                </a:lnTo>
                <a:lnTo>
                  <a:pt x="4" y="1896"/>
                </a:lnTo>
                <a:lnTo>
                  <a:pt x="4" y="189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67240" y="5610240"/>
            <a:ext cx="2185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5742000" y="5567400"/>
            <a:ext cx="85680" cy="85680"/>
          </a:xfrm>
          <a:custGeom>
            <a:avLst/>
            <a:gdLst/>
            <a:ahLst/>
            <a:rect l="l" t="t" r="r" b="b"/>
            <a:pathLst>
              <a:path w="107" h="108">
                <a:moveTo>
                  <a:pt x="0" y="0"/>
                </a:moveTo>
                <a:lnTo>
                  <a:pt x="107" y="54"/>
                </a:lnTo>
                <a:lnTo>
                  <a:pt x="0" y="10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 name=""/>
          <p:cNvSpPr/>
          <p:nvPr/>
        </p:nvSpPr>
        <p:spPr>
          <a:xfrm>
            <a:off x="3805920" y="5472000"/>
            <a:ext cx="30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 </a:t>
            </a:r>
            <a:endParaRPr b="0" lang="en-US" sz="1000" spc="-1" strike="noStrike">
              <a:solidFill>
                <a:srgbClr val="000000"/>
              </a:solidFill>
              <a:latin typeface="Times New Roman"/>
            </a:endParaRPr>
          </a:p>
        </p:txBody>
      </p:sp>
      <p:sp>
        <p:nvSpPr>
          <p:cNvPr id="144" name=""/>
          <p:cNvSpPr/>
          <p:nvPr/>
        </p:nvSpPr>
        <p:spPr>
          <a:xfrm>
            <a:off x="4100760" y="5472000"/>
            <a:ext cx="109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 name=""/>
          <p:cNvSpPr/>
          <p:nvPr/>
        </p:nvSpPr>
        <p:spPr>
          <a:xfrm>
            <a:off x="4205520" y="5472000"/>
            <a:ext cx="900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ProductSpec</a:t>
            </a:r>
            <a:endParaRPr b="0" lang="en-US" sz="1000" spc="-1" strike="noStrike">
              <a:solidFill>
                <a:srgbClr val="000000"/>
              </a:solidFill>
              <a:latin typeface="Times New Roman"/>
            </a:endParaRPr>
          </a:p>
        </p:txBody>
      </p:sp>
      <p:sp>
        <p:nvSpPr>
          <p:cNvPr id="146" name=""/>
          <p:cNvSpPr/>
          <p:nvPr/>
        </p:nvSpPr>
        <p:spPr>
          <a:xfrm>
            <a:off x="5079600" y="547200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7" name=""/>
          <p:cNvSpPr/>
          <p:nvPr/>
        </p:nvSpPr>
        <p:spPr>
          <a:xfrm>
            <a:off x="5155200" y="54720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ID </a:t>
            </a:r>
            <a:endParaRPr b="0" lang="en-US" sz="1000" spc="-1" strike="noStrike">
              <a:solidFill>
                <a:srgbClr val="000000"/>
              </a:solidFill>
              <a:latin typeface="Times New Roman"/>
            </a:endParaRPr>
          </a:p>
        </p:txBody>
      </p:sp>
      <p:sp>
        <p:nvSpPr>
          <p:cNvPr id="148" name=""/>
          <p:cNvSpPr/>
          <p:nvPr/>
        </p:nvSpPr>
        <p:spPr>
          <a:xfrm>
            <a:off x="5543280" y="54720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49" name=""/>
          <p:cNvSpPr/>
          <p:nvPr/>
        </p:nvSpPr>
        <p:spPr>
          <a:xfrm>
            <a:off x="3567240" y="5886360"/>
            <a:ext cx="3514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7070760" y="5843520"/>
            <a:ext cx="85680" cy="85680"/>
          </a:xfrm>
          <a:custGeom>
            <a:avLst/>
            <a:gdLst/>
            <a:ahLst/>
            <a:rect l="l" t="t" r="r" b="b"/>
            <a:pathLst>
              <a:path w="107" h="107">
                <a:moveTo>
                  <a:pt x="0" y="0"/>
                </a:moveTo>
                <a:lnTo>
                  <a:pt x="107" y="54"/>
                </a:lnTo>
                <a:lnTo>
                  <a:pt x="0" y="107"/>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4083120" y="574668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LineItem</a:t>
            </a:r>
            <a:endParaRPr b="0" lang="en-US" sz="1000" spc="-1" strike="noStrike">
              <a:solidFill>
                <a:srgbClr val="000000"/>
              </a:solidFill>
              <a:latin typeface="Times New Roman"/>
            </a:endParaRPr>
          </a:p>
        </p:txBody>
      </p:sp>
      <p:sp>
        <p:nvSpPr>
          <p:cNvPr id="152" name=""/>
          <p:cNvSpPr/>
          <p:nvPr/>
        </p:nvSpPr>
        <p:spPr>
          <a:xfrm>
            <a:off x="4758840" y="574668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3" name=""/>
          <p:cNvSpPr/>
          <p:nvPr/>
        </p:nvSpPr>
        <p:spPr>
          <a:xfrm>
            <a:off x="4833000" y="5746680"/>
            <a:ext cx="26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a:t>
            </a:r>
            <a:endParaRPr b="0" lang="en-US" sz="1000" spc="-1" strike="noStrike">
              <a:solidFill>
                <a:srgbClr val="000000"/>
              </a:solidFill>
              <a:latin typeface="Times New Roman"/>
            </a:endParaRPr>
          </a:p>
        </p:txBody>
      </p:sp>
      <p:sp>
        <p:nvSpPr>
          <p:cNvPr id="154" name=""/>
          <p:cNvSpPr/>
          <p:nvPr/>
        </p:nvSpPr>
        <p:spPr>
          <a:xfrm>
            <a:off x="5094000" y="5746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5" name=""/>
          <p:cNvSpPr/>
          <p:nvPr/>
        </p:nvSpPr>
        <p:spPr>
          <a:xfrm>
            <a:off x="5160240" y="574668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tity </a:t>
            </a:r>
            <a:endParaRPr b="0" lang="en-US" sz="1000" spc="-1" strike="noStrike">
              <a:solidFill>
                <a:srgbClr val="000000"/>
              </a:solidFill>
              <a:latin typeface="Times New Roman"/>
            </a:endParaRPr>
          </a:p>
        </p:txBody>
      </p:sp>
      <p:sp>
        <p:nvSpPr>
          <p:cNvPr id="156" name=""/>
          <p:cNvSpPr/>
          <p:nvPr/>
        </p:nvSpPr>
        <p:spPr>
          <a:xfrm>
            <a:off x="5624280" y="574668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57" name=""/>
          <p:cNvSpPr/>
          <p:nvPr/>
        </p:nvSpPr>
        <p:spPr>
          <a:xfrm>
            <a:off x="6827760" y="4664160"/>
            <a:ext cx="639720" cy="236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90840" y="4707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9" name=""/>
          <p:cNvSpPr/>
          <p:nvPr/>
        </p:nvSpPr>
        <p:spPr>
          <a:xfrm>
            <a:off x="7059600" y="470700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a:t>
            </a:r>
            <a:endParaRPr b="0" lang="en-US" sz="1000" spc="-1" strike="noStrike">
              <a:solidFill>
                <a:srgbClr val="000000"/>
              </a:solidFill>
              <a:latin typeface="Times New Roman"/>
            </a:endParaRPr>
          </a:p>
        </p:txBody>
      </p:sp>
      <p:sp>
        <p:nvSpPr>
          <p:cNvPr id="160" name=""/>
          <p:cNvSpPr/>
          <p:nvPr/>
        </p:nvSpPr>
        <p:spPr>
          <a:xfrm>
            <a:off x="7155000" y="4917960"/>
            <a:ext cx="2880" cy="1522440"/>
          </a:xfrm>
          <a:custGeom>
            <a:avLst/>
            <a:gdLst/>
            <a:ahLst/>
            <a:rect l="l" t="t" r="r" b="b"/>
            <a:pathLst>
              <a:path w="4" h="1919">
                <a:moveTo>
                  <a:pt x="4" y="3"/>
                </a:moveTo>
                <a:lnTo>
                  <a:pt x="4" y="73"/>
                </a:lnTo>
                <a:lnTo>
                  <a:pt x="4" y="74"/>
                </a:lnTo>
                <a:lnTo>
                  <a:pt x="4" y="74"/>
                </a:lnTo>
                <a:lnTo>
                  <a:pt x="3" y="74"/>
                </a:lnTo>
                <a:lnTo>
                  <a:pt x="3" y="76"/>
                </a:lnTo>
                <a:lnTo>
                  <a:pt x="1" y="74"/>
                </a:lnTo>
                <a:lnTo>
                  <a:pt x="1" y="74"/>
                </a:lnTo>
                <a:lnTo>
                  <a:pt x="0" y="74"/>
                </a:lnTo>
                <a:lnTo>
                  <a:pt x="0" y="73"/>
                </a:lnTo>
                <a:lnTo>
                  <a:pt x="0" y="3"/>
                </a:lnTo>
                <a:lnTo>
                  <a:pt x="0" y="2"/>
                </a:lnTo>
                <a:lnTo>
                  <a:pt x="1" y="2"/>
                </a:lnTo>
                <a:lnTo>
                  <a:pt x="1" y="0"/>
                </a:lnTo>
                <a:lnTo>
                  <a:pt x="3" y="0"/>
                </a:lnTo>
                <a:lnTo>
                  <a:pt x="3" y="0"/>
                </a:lnTo>
                <a:lnTo>
                  <a:pt x="4" y="2"/>
                </a:lnTo>
                <a:lnTo>
                  <a:pt x="4" y="2"/>
                </a:lnTo>
                <a:lnTo>
                  <a:pt x="4" y="3"/>
                </a:lnTo>
                <a:lnTo>
                  <a:pt x="4" y="3"/>
                </a:lnTo>
                <a:close/>
                <a:moveTo>
                  <a:pt x="4" y="115"/>
                </a:moveTo>
                <a:lnTo>
                  <a:pt x="4" y="184"/>
                </a:lnTo>
                <a:lnTo>
                  <a:pt x="4" y="184"/>
                </a:lnTo>
                <a:lnTo>
                  <a:pt x="4" y="186"/>
                </a:lnTo>
                <a:lnTo>
                  <a:pt x="3" y="186"/>
                </a:lnTo>
                <a:lnTo>
                  <a:pt x="3" y="186"/>
                </a:lnTo>
                <a:lnTo>
                  <a:pt x="1" y="186"/>
                </a:lnTo>
                <a:lnTo>
                  <a:pt x="1" y="186"/>
                </a:lnTo>
                <a:lnTo>
                  <a:pt x="0" y="184"/>
                </a:lnTo>
                <a:lnTo>
                  <a:pt x="0" y="184"/>
                </a:lnTo>
                <a:lnTo>
                  <a:pt x="0" y="115"/>
                </a:lnTo>
                <a:lnTo>
                  <a:pt x="0" y="113"/>
                </a:lnTo>
                <a:lnTo>
                  <a:pt x="1" y="113"/>
                </a:lnTo>
                <a:lnTo>
                  <a:pt x="1" y="112"/>
                </a:lnTo>
                <a:lnTo>
                  <a:pt x="3" y="112"/>
                </a:lnTo>
                <a:lnTo>
                  <a:pt x="3" y="112"/>
                </a:lnTo>
                <a:lnTo>
                  <a:pt x="4" y="113"/>
                </a:lnTo>
                <a:lnTo>
                  <a:pt x="4" y="113"/>
                </a:lnTo>
                <a:lnTo>
                  <a:pt x="4" y="115"/>
                </a:lnTo>
                <a:lnTo>
                  <a:pt x="4" y="115"/>
                </a:lnTo>
                <a:close/>
                <a:moveTo>
                  <a:pt x="4" y="227"/>
                </a:moveTo>
                <a:lnTo>
                  <a:pt x="4" y="296"/>
                </a:lnTo>
                <a:lnTo>
                  <a:pt x="4" y="296"/>
                </a:lnTo>
                <a:lnTo>
                  <a:pt x="4" y="298"/>
                </a:lnTo>
                <a:lnTo>
                  <a:pt x="3" y="298"/>
                </a:lnTo>
                <a:lnTo>
                  <a:pt x="1" y="298"/>
                </a:lnTo>
                <a:lnTo>
                  <a:pt x="0" y="296"/>
                </a:lnTo>
                <a:lnTo>
                  <a:pt x="0" y="296"/>
                </a:lnTo>
                <a:lnTo>
                  <a:pt x="0" y="227"/>
                </a:lnTo>
                <a:lnTo>
                  <a:pt x="0" y="225"/>
                </a:lnTo>
                <a:lnTo>
                  <a:pt x="1" y="224"/>
                </a:lnTo>
                <a:lnTo>
                  <a:pt x="1" y="224"/>
                </a:lnTo>
                <a:lnTo>
                  <a:pt x="3" y="224"/>
                </a:lnTo>
                <a:lnTo>
                  <a:pt x="3" y="224"/>
                </a:lnTo>
                <a:lnTo>
                  <a:pt x="4" y="224"/>
                </a:lnTo>
                <a:lnTo>
                  <a:pt x="4" y="225"/>
                </a:lnTo>
                <a:lnTo>
                  <a:pt x="4" y="227"/>
                </a:lnTo>
                <a:lnTo>
                  <a:pt x="4" y="227"/>
                </a:lnTo>
                <a:close/>
                <a:moveTo>
                  <a:pt x="4" y="337"/>
                </a:moveTo>
                <a:lnTo>
                  <a:pt x="4" y="406"/>
                </a:lnTo>
                <a:lnTo>
                  <a:pt x="4" y="408"/>
                </a:lnTo>
                <a:lnTo>
                  <a:pt x="4" y="409"/>
                </a:lnTo>
                <a:lnTo>
                  <a:pt x="3" y="409"/>
                </a:lnTo>
                <a:lnTo>
                  <a:pt x="3" y="409"/>
                </a:lnTo>
                <a:lnTo>
                  <a:pt x="1" y="409"/>
                </a:lnTo>
                <a:lnTo>
                  <a:pt x="1" y="409"/>
                </a:lnTo>
                <a:lnTo>
                  <a:pt x="0" y="408"/>
                </a:lnTo>
                <a:lnTo>
                  <a:pt x="0" y="406"/>
                </a:lnTo>
                <a:lnTo>
                  <a:pt x="0" y="337"/>
                </a:lnTo>
                <a:lnTo>
                  <a:pt x="0" y="337"/>
                </a:lnTo>
                <a:lnTo>
                  <a:pt x="1" y="335"/>
                </a:lnTo>
                <a:lnTo>
                  <a:pt x="1" y="335"/>
                </a:lnTo>
                <a:lnTo>
                  <a:pt x="3" y="335"/>
                </a:lnTo>
                <a:lnTo>
                  <a:pt x="3" y="335"/>
                </a:lnTo>
                <a:lnTo>
                  <a:pt x="4" y="335"/>
                </a:lnTo>
                <a:lnTo>
                  <a:pt x="4" y="337"/>
                </a:lnTo>
                <a:lnTo>
                  <a:pt x="4" y="337"/>
                </a:lnTo>
                <a:lnTo>
                  <a:pt x="4" y="337"/>
                </a:lnTo>
                <a:close/>
                <a:moveTo>
                  <a:pt x="4" y="448"/>
                </a:moveTo>
                <a:lnTo>
                  <a:pt x="4" y="518"/>
                </a:lnTo>
                <a:lnTo>
                  <a:pt x="4" y="519"/>
                </a:lnTo>
                <a:lnTo>
                  <a:pt x="4" y="519"/>
                </a:lnTo>
                <a:lnTo>
                  <a:pt x="3" y="521"/>
                </a:lnTo>
                <a:lnTo>
                  <a:pt x="3" y="521"/>
                </a:lnTo>
                <a:lnTo>
                  <a:pt x="1" y="521"/>
                </a:lnTo>
                <a:lnTo>
                  <a:pt x="1" y="519"/>
                </a:lnTo>
                <a:lnTo>
                  <a:pt x="0" y="519"/>
                </a:lnTo>
                <a:lnTo>
                  <a:pt x="0" y="518"/>
                </a:lnTo>
                <a:lnTo>
                  <a:pt x="0" y="448"/>
                </a:lnTo>
                <a:lnTo>
                  <a:pt x="0" y="447"/>
                </a:lnTo>
                <a:lnTo>
                  <a:pt x="1" y="447"/>
                </a:lnTo>
                <a:lnTo>
                  <a:pt x="1" y="447"/>
                </a:lnTo>
                <a:lnTo>
                  <a:pt x="3" y="447"/>
                </a:lnTo>
                <a:lnTo>
                  <a:pt x="3" y="447"/>
                </a:lnTo>
                <a:lnTo>
                  <a:pt x="4" y="447"/>
                </a:lnTo>
                <a:lnTo>
                  <a:pt x="4" y="447"/>
                </a:lnTo>
                <a:lnTo>
                  <a:pt x="4" y="448"/>
                </a:lnTo>
                <a:lnTo>
                  <a:pt x="4" y="448"/>
                </a:lnTo>
                <a:close/>
                <a:moveTo>
                  <a:pt x="4" y="560"/>
                </a:moveTo>
                <a:lnTo>
                  <a:pt x="4" y="629"/>
                </a:lnTo>
                <a:lnTo>
                  <a:pt x="4" y="631"/>
                </a:lnTo>
                <a:lnTo>
                  <a:pt x="4" y="631"/>
                </a:lnTo>
                <a:lnTo>
                  <a:pt x="3" y="631"/>
                </a:lnTo>
                <a:lnTo>
                  <a:pt x="3" y="632"/>
                </a:lnTo>
                <a:lnTo>
                  <a:pt x="1" y="631"/>
                </a:lnTo>
                <a:lnTo>
                  <a:pt x="1" y="631"/>
                </a:lnTo>
                <a:lnTo>
                  <a:pt x="0" y="631"/>
                </a:lnTo>
                <a:lnTo>
                  <a:pt x="0" y="629"/>
                </a:lnTo>
                <a:lnTo>
                  <a:pt x="0" y="560"/>
                </a:lnTo>
                <a:lnTo>
                  <a:pt x="0" y="558"/>
                </a:lnTo>
                <a:lnTo>
                  <a:pt x="1" y="558"/>
                </a:lnTo>
                <a:lnTo>
                  <a:pt x="1" y="557"/>
                </a:lnTo>
                <a:lnTo>
                  <a:pt x="3" y="557"/>
                </a:lnTo>
                <a:lnTo>
                  <a:pt x="3" y="557"/>
                </a:lnTo>
                <a:lnTo>
                  <a:pt x="4" y="558"/>
                </a:lnTo>
                <a:lnTo>
                  <a:pt x="4" y="558"/>
                </a:lnTo>
                <a:lnTo>
                  <a:pt x="4" y="560"/>
                </a:lnTo>
                <a:lnTo>
                  <a:pt x="4" y="560"/>
                </a:lnTo>
                <a:close/>
                <a:moveTo>
                  <a:pt x="4" y="671"/>
                </a:moveTo>
                <a:lnTo>
                  <a:pt x="4" y="741"/>
                </a:lnTo>
                <a:lnTo>
                  <a:pt x="4" y="741"/>
                </a:lnTo>
                <a:lnTo>
                  <a:pt x="4" y="742"/>
                </a:lnTo>
                <a:lnTo>
                  <a:pt x="3" y="742"/>
                </a:lnTo>
                <a:lnTo>
                  <a:pt x="3" y="742"/>
                </a:lnTo>
                <a:lnTo>
                  <a:pt x="1" y="742"/>
                </a:lnTo>
                <a:lnTo>
                  <a:pt x="1" y="742"/>
                </a:lnTo>
                <a:lnTo>
                  <a:pt x="0" y="741"/>
                </a:lnTo>
                <a:lnTo>
                  <a:pt x="0" y="741"/>
                </a:lnTo>
                <a:lnTo>
                  <a:pt x="0" y="671"/>
                </a:lnTo>
                <a:lnTo>
                  <a:pt x="0" y="670"/>
                </a:lnTo>
                <a:lnTo>
                  <a:pt x="1" y="670"/>
                </a:lnTo>
                <a:lnTo>
                  <a:pt x="1" y="669"/>
                </a:lnTo>
                <a:lnTo>
                  <a:pt x="3" y="669"/>
                </a:lnTo>
                <a:lnTo>
                  <a:pt x="3" y="669"/>
                </a:lnTo>
                <a:lnTo>
                  <a:pt x="4" y="670"/>
                </a:lnTo>
                <a:lnTo>
                  <a:pt x="4" y="670"/>
                </a:lnTo>
                <a:lnTo>
                  <a:pt x="4" y="671"/>
                </a:lnTo>
                <a:lnTo>
                  <a:pt x="4" y="671"/>
                </a:lnTo>
                <a:close/>
                <a:moveTo>
                  <a:pt x="4" y="783"/>
                </a:moveTo>
                <a:lnTo>
                  <a:pt x="4" y="853"/>
                </a:lnTo>
                <a:lnTo>
                  <a:pt x="4" y="853"/>
                </a:lnTo>
                <a:lnTo>
                  <a:pt x="4" y="854"/>
                </a:lnTo>
                <a:lnTo>
                  <a:pt x="3" y="854"/>
                </a:lnTo>
                <a:lnTo>
                  <a:pt x="1" y="854"/>
                </a:lnTo>
                <a:lnTo>
                  <a:pt x="0" y="853"/>
                </a:lnTo>
                <a:lnTo>
                  <a:pt x="0" y="853"/>
                </a:lnTo>
                <a:lnTo>
                  <a:pt x="0" y="783"/>
                </a:lnTo>
                <a:lnTo>
                  <a:pt x="0" y="782"/>
                </a:lnTo>
                <a:lnTo>
                  <a:pt x="1" y="780"/>
                </a:lnTo>
                <a:lnTo>
                  <a:pt x="1" y="780"/>
                </a:lnTo>
                <a:lnTo>
                  <a:pt x="3" y="780"/>
                </a:lnTo>
                <a:lnTo>
                  <a:pt x="3" y="780"/>
                </a:lnTo>
                <a:lnTo>
                  <a:pt x="4" y="780"/>
                </a:lnTo>
                <a:lnTo>
                  <a:pt x="4" y="782"/>
                </a:lnTo>
                <a:lnTo>
                  <a:pt x="4" y="783"/>
                </a:lnTo>
                <a:lnTo>
                  <a:pt x="4" y="783"/>
                </a:lnTo>
                <a:close/>
                <a:moveTo>
                  <a:pt x="4" y="893"/>
                </a:moveTo>
                <a:lnTo>
                  <a:pt x="4" y="963"/>
                </a:lnTo>
                <a:lnTo>
                  <a:pt x="4" y="964"/>
                </a:lnTo>
                <a:lnTo>
                  <a:pt x="4" y="966"/>
                </a:lnTo>
                <a:lnTo>
                  <a:pt x="3" y="966"/>
                </a:lnTo>
                <a:lnTo>
                  <a:pt x="3" y="966"/>
                </a:lnTo>
                <a:lnTo>
                  <a:pt x="1" y="966"/>
                </a:lnTo>
                <a:lnTo>
                  <a:pt x="1" y="966"/>
                </a:lnTo>
                <a:lnTo>
                  <a:pt x="0" y="964"/>
                </a:lnTo>
                <a:lnTo>
                  <a:pt x="0" y="963"/>
                </a:lnTo>
                <a:lnTo>
                  <a:pt x="0" y="893"/>
                </a:lnTo>
                <a:lnTo>
                  <a:pt x="0" y="893"/>
                </a:lnTo>
                <a:lnTo>
                  <a:pt x="1" y="892"/>
                </a:lnTo>
                <a:lnTo>
                  <a:pt x="1" y="892"/>
                </a:lnTo>
                <a:lnTo>
                  <a:pt x="3" y="892"/>
                </a:lnTo>
                <a:lnTo>
                  <a:pt x="3" y="892"/>
                </a:lnTo>
                <a:lnTo>
                  <a:pt x="4" y="892"/>
                </a:lnTo>
                <a:lnTo>
                  <a:pt x="4" y="893"/>
                </a:lnTo>
                <a:lnTo>
                  <a:pt x="4" y="893"/>
                </a:lnTo>
                <a:lnTo>
                  <a:pt x="4" y="893"/>
                </a:lnTo>
                <a:close/>
                <a:moveTo>
                  <a:pt x="4" y="1005"/>
                </a:moveTo>
                <a:lnTo>
                  <a:pt x="4" y="1074"/>
                </a:lnTo>
                <a:lnTo>
                  <a:pt x="4" y="1076"/>
                </a:lnTo>
                <a:lnTo>
                  <a:pt x="4" y="1076"/>
                </a:lnTo>
                <a:lnTo>
                  <a:pt x="3" y="1077"/>
                </a:lnTo>
                <a:lnTo>
                  <a:pt x="3" y="1077"/>
                </a:lnTo>
                <a:lnTo>
                  <a:pt x="1" y="1077"/>
                </a:lnTo>
                <a:lnTo>
                  <a:pt x="1" y="1076"/>
                </a:lnTo>
                <a:lnTo>
                  <a:pt x="0" y="1076"/>
                </a:lnTo>
                <a:lnTo>
                  <a:pt x="0" y="1074"/>
                </a:lnTo>
                <a:lnTo>
                  <a:pt x="0" y="1005"/>
                </a:lnTo>
                <a:lnTo>
                  <a:pt x="0" y="1003"/>
                </a:lnTo>
                <a:lnTo>
                  <a:pt x="1" y="1003"/>
                </a:lnTo>
                <a:lnTo>
                  <a:pt x="1" y="1003"/>
                </a:lnTo>
                <a:lnTo>
                  <a:pt x="3" y="1003"/>
                </a:lnTo>
                <a:lnTo>
                  <a:pt x="3" y="1003"/>
                </a:lnTo>
                <a:lnTo>
                  <a:pt x="4" y="1003"/>
                </a:lnTo>
                <a:lnTo>
                  <a:pt x="4" y="1003"/>
                </a:lnTo>
                <a:lnTo>
                  <a:pt x="4" y="1005"/>
                </a:lnTo>
                <a:lnTo>
                  <a:pt x="4" y="1005"/>
                </a:lnTo>
                <a:close/>
                <a:moveTo>
                  <a:pt x="4" y="1116"/>
                </a:moveTo>
                <a:lnTo>
                  <a:pt x="4" y="1186"/>
                </a:lnTo>
                <a:lnTo>
                  <a:pt x="4" y="1187"/>
                </a:lnTo>
                <a:lnTo>
                  <a:pt x="4" y="1187"/>
                </a:lnTo>
                <a:lnTo>
                  <a:pt x="3" y="1187"/>
                </a:lnTo>
                <a:lnTo>
                  <a:pt x="3" y="1189"/>
                </a:lnTo>
                <a:lnTo>
                  <a:pt x="1" y="1187"/>
                </a:lnTo>
                <a:lnTo>
                  <a:pt x="1" y="1187"/>
                </a:lnTo>
                <a:lnTo>
                  <a:pt x="0" y="1187"/>
                </a:lnTo>
                <a:lnTo>
                  <a:pt x="0" y="1186"/>
                </a:lnTo>
                <a:lnTo>
                  <a:pt x="0" y="1116"/>
                </a:lnTo>
                <a:lnTo>
                  <a:pt x="0" y="1115"/>
                </a:lnTo>
                <a:lnTo>
                  <a:pt x="1" y="1115"/>
                </a:lnTo>
                <a:lnTo>
                  <a:pt x="1" y="1113"/>
                </a:lnTo>
                <a:lnTo>
                  <a:pt x="3" y="1113"/>
                </a:lnTo>
                <a:lnTo>
                  <a:pt x="3" y="1113"/>
                </a:lnTo>
                <a:lnTo>
                  <a:pt x="4" y="1115"/>
                </a:lnTo>
                <a:lnTo>
                  <a:pt x="4" y="1115"/>
                </a:lnTo>
                <a:lnTo>
                  <a:pt x="4" y="1116"/>
                </a:lnTo>
                <a:lnTo>
                  <a:pt x="4" y="1116"/>
                </a:lnTo>
                <a:close/>
                <a:moveTo>
                  <a:pt x="4" y="1228"/>
                </a:moveTo>
                <a:lnTo>
                  <a:pt x="4" y="1298"/>
                </a:lnTo>
                <a:lnTo>
                  <a:pt x="4" y="1298"/>
                </a:lnTo>
                <a:lnTo>
                  <a:pt x="4" y="1299"/>
                </a:lnTo>
                <a:lnTo>
                  <a:pt x="3" y="1299"/>
                </a:lnTo>
                <a:lnTo>
                  <a:pt x="3" y="1299"/>
                </a:lnTo>
                <a:lnTo>
                  <a:pt x="1" y="1299"/>
                </a:lnTo>
                <a:lnTo>
                  <a:pt x="1" y="1299"/>
                </a:lnTo>
                <a:lnTo>
                  <a:pt x="0" y="1298"/>
                </a:lnTo>
                <a:lnTo>
                  <a:pt x="0" y="1298"/>
                </a:lnTo>
                <a:lnTo>
                  <a:pt x="0" y="1228"/>
                </a:lnTo>
                <a:lnTo>
                  <a:pt x="0" y="1227"/>
                </a:lnTo>
                <a:lnTo>
                  <a:pt x="1" y="1227"/>
                </a:lnTo>
                <a:lnTo>
                  <a:pt x="1" y="1225"/>
                </a:lnTo>
                <a:lnTo>
                  <a:pt x="3" y="1225"/>
                </a:lnTo>
                <a:lnTo>
                  <a:pt x="3" y="1225"/>
                </a:lnTo>
                <a:lnTo>
                  <a:pt x="4" y="1227"/>
                </a:lnTo>
                <a:lnTo>
                  <a:pt x="4" y="1227"/>
                </a:lnTo>
                <a:lnTo>
                  <a:pt x="4" y="1228"/>
                </a:lnTo>
                <a:lnTo>
                  <a:pt x="4" y="1228"/>
                </a:lnTo>
                <a:close/>
                <a:moveTo>
                  <a:pt x="4" y="1340"/>
                </a:moveTo>
                <a:lnTo>
                  <a:pt x="4" y="1409"/>
                </a:lnTo>
                <a:lnTo>
                  <a:pt x="4" y="1409"/>
                </a:lnTo>
                <a:lnTo>
                  <a:pt x="4" y="1411"/>
                </a:lnTo>
                <a:lnTo>
                  <a:pt x="3" y="1411"/>
                </a:lnTo>
                <a:lnTo>
                  <a:pt x="1" y="1411"/>
                </a:lnTo>
                <a:lnTo>
                  <a:pt x="0" y="1409"/>
                </a:lnTo>
                <a:lnTo>
                  <a:pt x="0" y="1409"/>
                </a:lnTo>
                <a:lnTo>
                  <a:pt x="0" y="1340"/>
                </a:lnTo>
                <a:lnTo>
                  <a:pt x="0" y="1338"/>
                </a:lnTo>
                <a:lnTo>
                  <a:pt x="1" y="1337"/>
                </a:lnTo>
                <a:lnTo>
                  <a:pt x="1" y="1337"/>
                </a:lnTo>
                <a:lnTo>
                  <a:pt x="3" y="1337"/>
                </a:lnTo>
                <a:lnTo>
                  <a:pt x="3" y="1337"/>
                </a:lnTo>
                <a:lnTo>
                  <a:pt x="4" y="1337"/>
                </a:lnTo>
                <a:lnTo>
                  <a:pt x="4" y="1338"/>
                </a:lnTo>
                <a:lnTo>
                  <a:pt x="4" y="1340"/>
                </a:lnTo>
                <a:lnTo>
                  <a:pt x="4" y="1340"/>
                </a:lnTo>
                <a:close/>
                <a:moveTo>
                  <a:pt x="4" y="1450"/>
                </a:moveTo>
                <a:lnTo>
                  <a:pt x="4" y="1519"/>
                </a:lnTo>
                <a:lnTo>
                  <a:pt x="4" y="1521"/>
                </a:lnTo>
                <a:lnTo>
                  <a:pt x="4" y="1522"/>
                </a:lnTo>
                <a:lnTo>
                  <a:pt x="3" y="1522"/>
                </a:lnTo>
                <a:lnTo>
                  <a:pt x="3" y="1522"/>
                </a:lnTo>
                <a:lnTo>
                  <a:pt x="1" y="1522"/>
                </a:lnTo>
                <a:lnTo>
                  <a:pt x="1" y="1522"/>
                </a:lnTo>
                <a:lnTo>
                  <a:pt x="0" y="1521"/>
                </a:lnTo>
                <a:lnTo>
                  <a:pt x="0" y="1519"/>
                </a:lnTo>
                <a:lnTo>
                  <a:pt x="0" y="1450"/>
                </a:lnTo>
                <a:lnTo>
                  <a:pt x="0" y="1450"/>
                </a:lnTo>
                <a:lnTo>
                  <a:pt x="1" y="1448"/>
                </a:lnTo>
                <a:lnTo>
                  <a:pt x="1" y="1448"/>
                </a:lnTo>
                <a:lnTo>
                  <a:pt x="3" y="1448"/>
                </a:lnTo>
                <a:lnTo>
                  <a:pt x="3" y="1448"/>
                </a:lnTo>
                <a:lnTo>
                  <a:pt x="4" y="1448"/>
                </a:lnTo>
                <a:lnTo>
                  <a:pt x="4" y="1450"/>
                </a:lnTo>
                <a:lnTo>
                  <a:pt x="4" y="1450"/>
                </a:lnTo>
                <a:lnTo>
                  <a:pt x="4" y="1450"/>
                </a:lnTo>
                <a:close/>
                <a:moveTo>
                  <a:pt x="4" y="1561"/>
                </a:moveTo>
                <a:lnTo>
                  <a:pt x="4" y="1631"/>
                </a:lnTo>
                <a:lnTo>
                  <a:pt x="4" y="1632"/>
                </a:lnTo>
                <a:lnTo>
                  <a:pt x="4" y="1632"/>
                </a:lnTo>
                <a:lnTo>
                  <a:pt x="3" y="1634"/>
                </a:lnTo>
                <a:lnTo>
                  <a:pt x="3" y="1634"/>
                </a:lnTo>
                <a:lnTo>
                  <a:pt x="1" y="1634"/>
                </a:lnTo>
                <a:lnTo>
                  <a:pt x="1" y="1632"/>
                </a:lnTo>
                <a:lnTo>
                  <a:pt x="0" y="1632"/>
                </a:lnTo>
                <a:lnTo>
                  <a:pt x="0" y="1631"/>
                </a:lnTo>
                <a:lnTo>
                  <a:pt x="0" y="1561"/>
                </a:lnTo>
                <a:lnTo>
                  <a:pt x="0" y="1560"/>
                </a:lnTo>
                <a:lnTo>
                  <a:pt x="1" y="1560"/>
                </a:lnTo>
                <a:lnTo>
                  <a:pt x="1" y="1560"/>
                </a:lnTo>
                <a:lnTo>
                  <a:pt x="3" y="1560"/>
                </a:lnTo>
                <a:lnTo>
                  <a:pt x="3" y="1560"/>
                </a:lnTo>
                <a:lnTo>
                  <a:pt x="4" y="1560"/>
                </a:lnTo>
                <a:lnTo>
                  <a:pt x="4" y="1560"/>
                </a:lnTo>
                <a:lnTo>
                  <a:pt x="4" y="1561"/>
                </a:lnTo>
                <a:lnTo>
                  <a:pt x="4" y="1561"/>
                </a:lnTo>
                <a:close/>
                <a:moveTo>
                  <a:pt x="4" y="1673"/>
                </a:moveTo>
                <a:lnTo>
                  <a:pt x="4" y="1742"/>
                </a:lnTo>
                <a:lnTo>
                  <a:pt x="4" y="1744"/>
                </a:lnTo>
                <a:lnTo>
                  <a:pt x="4" y="1744"/>
                </a:lnTo>
                <a:lnTo>
                  <a:pt x="3" y="1744"/>
                </a:lnTo>
                <a:lnTo>
                  <a:pt x="3" y="1745"/>
                </a:lnTo>
                <a:lnTo>
                  <a:pt x="1" y="1744"/>
                </a:lnTo>
                <a:lnTo>
                  <a:pt x="1" y="1744"/>
                </a:lnTo>
                <a:lnTo>
                  <a:pt x="0" y="1744"/>
                </a:lnTo>
                <a:lnTo>
                  <a:pt x="0" y="1742"/>
                </a:lnTo>
                <a:lnTo>
                  <a:pt x="0" y="1673"/>
                </a:lnTo>
                <a:lnTo>
                  <a:pt x="0" y="1671"/>
                </a:lnTo>
                <a:lnTo>
                  <a:pt x="1" y="1671"/>
                </a:lnTo>
                <a:lnTo>
                  <a:pt x="1" y="1670"/>
                </a:lnTo>
                <a:lnTo>
                  <a:pt x="3" y="1670"/>
                </a:lnTo>
                <a:lnTo>
                  <a:pt x="3" y="1670"/>
                </a:lnTo>
                <a:lnTo>
                  <a:pt x="4" y="1671"/>
                </a:lnTo>
                <a:lnTo>
                  <a:pt x="4" y="1671"/>
                </a:lnTo>
                <a:lnTo>
                  <a:pt x="4" y="1673"/>
                </a:lnTo>
                <a:lnTo>
                  <a:pt x="4" y="1673"/>
                </a:lnTo>
                <a:close/>
                <a:moveTo>
                  <a:pt x="4" y="1784"/>
                </a:moveTo>
                <a:lnTo>
                  <a:pt x="4" y="1854"/>
                </a:lnTo>
                <a:lnTo>
                  <a:pt x="4" y="1854"/>
                </a:lnTo>
                <a:lnTo>
                  <a:pt x="4" y="1855"/>
                </a:lnTo>
                <a:lnTo>
                  <a:pt x="3" y="1855"/>
                </a:lnTo>
                <a:lnTo>
                  <a:pt x="3" y="1855"/>
                </a:lnTo>
                <a:lnTo>
                  <a:pt x="1" y="1855"/>
                </a:lnTo>
                <a:lnTo>
                  <a:pt x="1" y="1855"/>
                </a:lnTo>
                <a:lnTo>
                  <a:pt x="0" y="1854"/>
                </a:lnTo>
                <a:lnTo>
                  <a:pt x="0" y="1854"/>
                </a:lnTo>
                <a:lnTo>
                  <a:pt x="0" y="1784"/>
                </a:lnTo>
                <a:lnTo>
                  <a:pt x="0" y="1783"/>
                </a:lnTo>
                <a:lnTo>
                  <a:pt x="1" y="1783"/>
                </a:lnTo>
                <a:lnTo>
                  <a:pt x="1" y="1782"/>
                </a:lnTo>
                <a:lnTo>
                  <a:pt x="3" y="1782"/>
                </a:lnTo>
                <a:lnTo>
                  <a:pt x="3" y="1782"/>
                </a:lnTo>
                <a:lnTo>
                  <a:pt x="4" y="1783"/>
                </a:lnTo>
                <a:lnTo>
                  <a:pt x="4" y="1783"/>
                </a:lnTo>
                <a:lnTo>
                  <a:pt x="4" y="1784"/>
                </a:lnTo>
                <a:lnTo>
                  <a:pt x="4" y="1784"/>
                </a:lnTo>
                <a:close/>
                <a:moveTo>
                  <a:pt x="4" y="1896"/>
                </a:moveTo>
                <a:lnTo>
                  <a:pt x="4" y="1916"/>
                </a:lnTo>
                <a:lnTo>
                  <a:pt x="4" y="1918"/>
                </a:lnTo>
                <a:lnTo>
                  <a:pt x="4" y="1918"/>
                </a:lnTo>
                <a:lnTo>
                  <a:pt x="3" y="1918"/>
                </a:lnTo>
                <a:lnTo>
                  <a:pt x="3" y="1919"/>
                </a:lnTo>
                <a:lnTo>
                  <a:pt x="1" y="1918"/>
                </a:lnTo>
                <a:lnTo>
                  <a:pt x="1" y="1918"/>
                </a:lnTo>
                <a:lnTo>
                  <a:pt x="0" y="1918"/>
                </a:lnTo>
                <a:lnTo>
                  <a:pt x="0" y="1916"/>
                </a:lnTo>
                <a:lnTo>
                  <a:pt x="0" y="1896"/>
                </a:lnTo>
                <a:lnTo>
                  <a:pt x="0" y="1895"/>
                </a:lnTo>
                <a:lnTo>
                  <a:pt x="1" y="1893"/>
                </a:lnTo>
                <a:lnTo>
                  <a:pt x="1" y="1893"/>
                </a:lnTo>
                <a:lnTo>
                  <a:pt x="3" y="1893"/>
                </a:lnTo>
                <a:lnTo>
                  <a:pt x="3" y="1893"/>
                </a:lnTo>
                <a:lnTo>
                  <a:pt x="4" y="1893"/>
                </a:lnTo>
                <a:lnTo>
                  <a:pt x="4" y="1895"/>
                </a:lnTo>
                <a:lnTo>
                  <a:pt x="4" y="1896"/>
                </a:lnTo>
                <a:lnTo>
                  <a:pt x="4" y="1896"/>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67240" y="6162840"/>
            <a:ext cx="20653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5621400" y="6119640"/>
            <a:ext cx="85680" cy="86040"/>
          </a:xfrm>
          <a:custGeom>
            <a:avLst/>
            <a:gdLst/>
            <a:ahLst/>
            <a:rect l="l" t="t" r="r" b="b"/>
            <a:pathLst>
              <a:path w="108" h="107">
                <a:moveTo>
                  <a:pt x="0" y="0"/>
                </a:moveTo>
                <a:lnTo>
                  <a:pt x="108" y="54"/>
                </a:lnTo>
                <a:lnTo>
                  <a:pt x="0" y="107"/>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 name=""/>
          <p:cNvSpPr/>
          <p:nvPr/>
        </p:nvSpPr>
        <p:spPr>
          <a:xfrm>
            <a:off x="4260240" y="6019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 .</a:t>
            </a:r>
            <a:endParaRPr b="0" lang="en-US" sz="1000" spc="-1" strike="noStrike">
              <a:solidFill>
                <a:srgbClr val="000000"/>
              </a:solidFill>
              <a:latin typeface="Times New Roman"/>
            </a:endParaRPr>
          </a:p>
        </p:txBody>
      </p:sp>
      <p:sp>
        <p:nvSpPr>
          <p:cNvPr id="164" name=""/>
          <p:cNvSpPr/>
          <p:nvPr/>
        </p:nvSpPr>
        <p:spPr>
          <a:xfrm>
            <a:off x="7653240" y="1316160"/>
            <a:ext cx="206640" cy="3284280"/>
          </a:xfrm>
          <a:custGeom>
            <a:avLst/>
            <a:gdLst/>
            <a:ahLst/>
            <a:rect l="l" t="t" r="r" b="b"/>
            <a:pathLst>
              <a:path w="261" h="4137">
                <a:moveTo>
                  <a:pt x="0" y="0"/>
                </a:moveTo>
                <a:lnTo>
                  <a:pt x="29" y="168"/>
                </a:lnTo>
                <a:lnTo>
                  <a:pt x="55" y="335"/>
                </a:lnTo>
                <a:lnTo>
                  <a:pt x="81" y="501"/>
                </a:lnTo>
                <a:lnTo>
                  <a:pt x="104" y="668"/>
                </a:lnTo>
                <a:lnTo>
                  <a:pt x="126" y="833"/>
                </a:lnTo>
                <a:lnTo>
                  <a:pt x="148" y="997"/>
                </a:lnTo>
                <a:lnTo>
                  <a:pt x="165" y="1159"/>
                </a:lnTo>
                <a:lnTo>
                  <a:pt x="183" y="1320"/>
                </a:lnTo>
                <a:lnTo>
                  <a:pt x="199" y="1480"/>
                </a:lnTo>
                <a:lnTo>
                  <a:pt x="212" y="1636"/>
                </a:lnTo>
                <a:lnTo>
                  <a:pt x="225" y="1791"/>
                </a:lnTo>
                <a:lnTo>
                  <a:pt x="235" y="1943"/>
                </a:lnTo>
                <a:lnTo>
                  <a:pt x="244" y="2093"/>
                </a:lnTo>
                <a:lnTo>
                  <a:pt x="249" y="2239"/>
                </a:lnTo>
                <a:lnTo>
                  <a:pt x="255" y="2382"/>
                </a:lnTo>
                <a:lnTo>
                  <a:pt x="258" y="2523"/>
                </a:lnTo>
                <a:lnTo>
                  <a:pt x="261" y="2659"/>
                </a:lnTo>
                <a:lnTo>
                  <a:pt x="261" y="2726"/>
                </a:lnTo>
                <a:lnTo>
                  <a:pt x="261" y="2793"/>
                </a:lnTo>
                <a:lnTo>
                  <a:pt x="260" y="2856"/>
                </a:lnTo>
                <a:lnTo>
                  <a:pt x="260" y="2922"/>
                </a:lnTo>
                <a:lnTo>
                  <a:pt x="257" y="2984"/>
                </a:lnTo>
                <a:lnTo>
                  <a:pt x="255" y="3046"/>
                </a:lnTo>
                <a:lnTo>
                  <a:pt x="254" y="3106"/>
                </a:lnTo>
                <a:lnTo>
                  <a:pt x="251" y="3166"/>
                </a:lnTo>
                <a:lnTo>
                  <a:pt x="246" y="3224"/>
                </a:lnTo>
                <a:lnTo>
                  <a:pt x="244" y="3281"/>
                </a:lnTo>
                <a:lnTo>
                  <a:pt x="239" y="3337"/>
                </a:lnTo>
                <a:lnTo>
                  <a:pt x="235" y="3393"/>
                </a:lnTo>
                <a:lnTo>
                  <a:pt x="231" y="3446"/>
                </a:lnTo>
                <a:lnTo>
                  <a:pt x="225" y="3498"/>
                </a:lnTo>
                <a:lnTo>
                  <a:pt x="219" y="3549"/>
                </a:lnTo>
                <a:lnTo>
                  <a:pt x="212" y="3598"/>
                </a:lnTo>
                <a:lnTo>
                  <a:pt x="206" y="3646"/>
                </a:lnTo>
                <a:lnTo>
                  <a:pt x="199" y="3694"/>
                </a:lnTo>
                <a:lnTo>
                  <a:pt x="191" y="3739"/>
                </a:lnTo>
                <a:lnTo>
                  <a:pt x="183" y="3782"/>
                </a:lnTo>
                <a:lnTo>
                  <a:pt x="174" y="3826"/>
                </a:lnTo>
                <a:lnTo>
                  <a:pt x="165" y="3866"/>
                </a:lnTo>
                <a:lnTo>
                  <a:pt x="157" y="3906"/>
                </a:lnTo>
                <a:lnTo>
                  <a:pt x="146" y="3943"/>
                </a:lnTo>
                <a:lnTo>
                  <a:pt x="136" y="3979"/>
                </a:lnTo>
                <a:lnTo>
                  <a:pt x="126" y="4014"/>
                </a:lnTo>
                <a:lnTo>
                  <a:pt x="115" y="4048"/>
                </a:lnTo>
                <a:lnTo>
                  <a:pt x="103" y="4079"/>
                </a:lnTo>
                <a:lnTo>
                  <a:pt x="91" y="4108"/>
                </a:lnTo>
                <a:lnTo>
                  <a:pt x="78" y="413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53240" y="4567320"/>
            <a:ext cx="103320" cy="129960"/>
          </a:xfrm>
          <a:custGeom>
            <a:avLst/>
            <a:gdLst/>
            <a:ahLst/>
            <a:rect l="l" t="t" r="r" b="b"/>
            <a:pathLst>
              <a:path w="131" h="164">
                <a:moveTo>
                  <a:pt x="131" y="58"/>
                </a:moveTo>
                <a:lnTo>
                  <a:pt x="0" y="164"/>
                </a:lnTo>
                <a:lnTo>
                  <a:pt x="41" y="0"/>
                </a:lnTo>
                <a:lnTo>
                  <a:pt x="13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920720" y="246852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 </a:t>
            </a:r>
            <a:endParaRPr b="0" lang="en-US" sz="1000" spc="-1" strike="noStrike">
              <a:solidFill>
                <a:srgbClr val="000000"/>
              </a:solidFill>
              <a:latin typeface="Times New Roman"/>
            </a:endParaRPr>
          </a:p>
        </p:txBody>
      </p:sp>
      <p:sp>
        <p:nvSpPr>
          <p:cNvPr id="167" name=""/>
          <p:cNvSpPr/>
          <p:nvPr/>
        </p:nvSpPr>
        <p:spPr>
          <a:xfrm>
            <a:off x="7921080" y="261468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lasses in </a:t>
            </a:r>
            <a:endParaRPr b="0" lang="en-US" sz="1000" spc="-1" strike="noStrike">
              <a:solidFill>
                <a:srgbClr val="000000"/>
              </a:solidFill>
              <a:latin typeface="Times New Roman"/>
            </a:endParaRPr>
          </a:p>
        </p:txBody>
      </p:sp>
      <p:sp>
        <p:nvSpPr>
          <p:cNvPr id="168" name=""/>
          <p:cNvSpPr/>
          <p:nvPr/>
        </p:nvSpPr>
        <p:spPr>
          <a:xfrm>
            <a:off x="7921080" y="276228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a:t>
            </a:r>
            <a:endParaRPr b="0" lang="en-US" sz="1000" spc="-1" strike="noStrike">
              <a:solidFill>
                <a:srgbClr val="000000"/>
              </a:solidFill>
              <a:latin typeface="Times New Roman"/>
            </a:endParaRPr>
          </a:p>
        </p:txBody>
      </p:sp>
      <p:sp>
        <p:nvSpPr>
          <p:cNvPr id="169" name=""/>
          <p:cNvSpPr/>
          <p:nvPr/>
        </p:nvSpPr>
        <p:spPr>
          <a:xfrm>
            <a:off x="7921800" y="2909880"/>
            <a:ext cx="44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main </a:t>
            </a:r>
            <a:endParaRPr b="0" lang="en-US" sz="1000" spc="-1" strike="noStrike">
              <a:solidFill>
                <a:srgbClr val="000000"/>
              </a:solidFill>
              <a:latin typeface="Times New Roman"/>
            </a:endParaRPr>
          </a:p>
        </p:txBody>
      </p:sp>
      <p:sp>
        <p:nvSpPr>
          <p:cNvPr id="170" name=""/>
          <p:cNvSpPr/>
          <p:nvPr/>
        </p:nvSpPr>
        <p:spPr>
          <a:xfrm>
            <a:off x="7921440" y="305748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spire the </a:t>
            </a:r>
            <a:endParaRPr b="0" lang="en-US" sz="1000" spc="-1" strike="noStrike">
              <a:solidFill>
                <a:srgbClr val="000000"/>
              </a:solidFill>
              <a:latin typeface="Times New Roman"/>
            </a:endParaRPr>
          </a:p>
        </p:txBody>
      </p:sp>
      <p:sp>
        <p:nvSpPr>
          <p:cNvPr id="171" name=""/>
          <p:cNvSpPr/>
          <p:nvPr/>
        </p:nvSpPr>
        <p:spPr>
          <a:xfrm>
            <a:off x="7921080" y="320364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mes of </a:t>
            </a:r>
            <a:endParaRPr b="0" lang="en-US" sz="1000" spc="-1" strike="noStrike">
              <a:solidFill>
                <a:srgbClr val="000000"/>
              </a:solidFill>
              <a:latin typeface="Times New Roman"/>
            </a:endParaRPr>
          </a:p>
        </p:txBody>
      </p:sp>
      <p:sp>
        <p:nvSpPr>
          <p:cNvPr id="172" name=""/>
          <p:cNvSpPr/>
          <p:nvPr/>
        </p:nvSpPr>
        <p:spPr>
          <a:xfrm>
            <a:off x="7921440" y="3351240"/>
            <a:ext cx="34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me </a:t>
            </a:r>
            <a:endParaRPr b="0" lang="en-US" sz="1000" spc="-1" strike="noStrike">
              <a:solidFill>
                <a:srgbClr val="000000"/>
              </a:solidFill>
              <a:latin typeface="Times New Roman"/>
            </a:endParaRPr>
          </a:p>
        </p:txBody>
      </p:sp>
      <p:sp>
        <p:nvSpPr>
          <p:cNvPr id="173" name=""/>
          <p:cNvSpPr/>
          <p:nvPr/>
        </p:nvSpPr>
        <p:spPr>
          <a:xfrm>
            <a:off x="7921080" y="349884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ftware </a:t>
            </a:r>
            <a:endParaRPr b="0" lang="en-US" sz="1000" spc="-1" strike="noStrike">
              <a:solidFill>
                <a:srgbClr val="000000"/>
              </a:solidFill>
              <a:latin typeface="Times New Roman"/>
            </a:endParaRPr>
          </a:p>
        </p:txBody>
      </p:sp>
      <p:sp>
        <p:nvSpPr>
          <p:cNvPr id="174" name=""/>
          <p:cNvSpPr/>
          <p:nvPr/>
        </p:nvSpPr>
        <p:spPr>
          <a:xfrm>
            <a:off x="7921080" y="364644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lasses in </a:t>
            </a:r>
            <a:endParaRPr b="0" lang="en-US" sz="1000" spc="-1" strike="noStrike">
              <a:solidFill>
                <a:srgbClr val="000000"/>
              </a:solidFill>
              <a:latin typeface="Times New Roman"/>
            </a:endParaRPr>
          </a:p>
        </p:txBody>
      </p:sp>
      <p:sp>
        <p:nvSpPr>
          <p:cNvPr id="175" name=""/>
          <p:cNvSpPr/>
          <p:nvPr/>
        </p:nvSpPr>
        <p:spPr>
          <a:xfrm>
            <a:off x="7920720" y="379260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design </a:t>
            </a:r>
            <a:endParaRPr b="0" lang="en-US" sz="1000" spc="-1" strike="noStrike">
              <a:solidFill>
                <a:srgbClr val="000000"/>
              </a:solidFill>
              <a:latin typeface="Times New Roman"/>
            </a:endParaRPr>
          </a:p>
        </p:txBody>
      </p:sp>
      <p:sp>
        <p:nvSpPr>
          <p:cNvPr id="176" name=""/>
          <p:cNvSpPr/>
          <p:nvPr/>
        </p:nvSpPr>
        <p:spPr>
          <a:xfrm>
            <a:off x="2949480" y="1641600"/>
            <a:ext cx="1105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 classes </a:t>
            </a:r>
            <a:endParaRPr b="0" lang="en-US" sz="1000" spc="-1" strike="noStrike">
              <a:solidFill>
                <a:srgbClr val="000000"/>
              </a:solidFill>
              <a:latin typeface="Times New Roman"/>
            </a:endParaRPr>
          </a:p>
        </p:txBody>
      </p:sp>
      <p:sp>
        <p:nvSpPr>
          <p:cNvPr id="177" name=""/>
          <p:cNvSpPr/>
          <p:nvPr/>
        </p:nvSpPr>
        <p:spPr>
          <a:xfrm>
            <a:off x="4022280" y="1641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78" name=""/>
          <p:cNvSpPr/>
          <p:nvPr/>
        </p:nvSpPr>
        <p:spPr>
          <a:xfrm>
            <a:off x="2951280" y="178740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erms</a:t>
            </a:r>
            <a:endParaRPr b="0" lang="en-US" sz="1000" spc="-1" strike="noStrike">
              <a:solidFill>
                <a:srgbClr val="000000"/>
              </a:solidFill>
              <a:latin typeface="Times New Roman"/>
            </a:endParaRPr>
          </a:p>
        </p:txBody>
      </p:sp>
      <p:sp>
        <p:nvSpPr>
          <p:cNvPr id="179" name=""/>
          <p:cNvSpPr/>
          <p:nvPr/>
        </p:nvSpPr>
        <p:spPr>
          <a:xfrm>
            <a:off x="3258720" y="17874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0" name=""/>
          <p:cNvSpPr/>
          <p:nvPr/>
        </p:nvSpPr>
        <p:spPr>
          <a:xfrm>
            <a:off x="3324240" y="178740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s </a:t>
            </a:r>
            <a:endParaRPr b="0" lang="en-US" sz="1000" spc="-1" strike="noStrike">
              <a:solidFill>
                <a:srgbClr val="000000"/>
              </a:solidFill>
              <a:latin typeface="Times New Roman"/>
            </a:endParaRPr>
          </a:p>
        </p:txBody>
      </p:sp>
      <p:sp>
        <p:nvSpPr>
          <p:cNvPr id="181" name=""/>
          <p:cNvSpPr/>
          <p:nvPr/>
        </p:nvSpPr>
        <p:spPr>
          <a:xfrm>
            <a:off x="2950560" y="193500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tributes</a:t>
            </a:r>
            <a:endParaRPr b="0" lang="en-US" sz="1000" spc="-1" strike="noStrike">
              <a:solidFill>
                <a:srgbClr val="000000"/>
              </a:solidFill>
              <a:latin typeface="Times New Roman"/>
            </a:endParaRPr>
          </a:p>
        </p:txBody>
      </p:sp>
      <p:sp>
        <p:nvSpPr>
          <p:cNvPr id="182" name=""/>
          <p:cNvSpPr/>
          <p:nvPr/>
        </p:nvSpPr>
        <p:spPr>
          <a:xfrm>
            <a:off x="3455640" y="19350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3" name=""/>
          <p:cNvSpPr/>
          <p:nvPr/>
        </p:nvSpPr>
        <p:spPr>
          <a:xfrm>
            <a:off x="3523320" y="1935000"/>
            <a:ext cx="69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ssociations</a:t>
            </a:r>
            <a:endParaRPr b="0" lang="en-US" sz="1000" spc="-1" strike="noStrike">
              <a:solidFill>
                <a:srgbClr val="000000"/>
              </a:solidFill>
              <a:latin typeface="Times New Roman"/>
            </a:endParaRPr>
          </a:p>
        </p:txBody>
      </p:sp>
      <p:sp>
        <p:nvSpPr>
          <p:cNvPr id="184" name=""/>
          <p:cNvSpPr/>
          <p:nvPr/>
        </p:nvSpPr>
        <p:spPr>
          <a:xfrm>
            <a:off x="6377040" y="2421000"/>
            <a:ext cx="1035000" cy="79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377040" y="2421000"/>
            <a:ext cx="1035000" cy="793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37160" y="259560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ier</a:t>
            </a:r>
            <a:endParaRPr b="0" lang="en-US" sz="1000" spc="-1" strike="noStrike">
              <a:solidFill>
                <a:srgbClr val="000000"/>
              </a:solidFill>
              <a:latin typeface="Times New Roman"/>
            </a:endParaRPr>
          </a:p>
        </p:txBody>
      </p:sp>
      <p:sp>
        <p:nvSpPr>
          <p:cNvPr id="187" name=""/>
          <p:cNvSpPr/>
          <p:nvPr/>
        </p:nvSpPr>
        <p:spPr>
          <a:xfrm>
            <a:off x="6859080" y="259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88" name=""/>
          <p:cNvSpPr/>
          <p:nvPr/>
        </p:nvSpPr>
        <p:spPr>
          <a:xfrm>
            <a:off x="6927840" y="25956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89" name=""/>
          <p:cNvSpPr/>
          <p:nvPr/>
        </p:nvSpPr>
        <p:spPr>
          <a:xfrm>
            <a:off x="6437520" y="2743200"/>
            <a:ext cx="40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ID</a:t>
            </a:r>
            <a:endParaRPr b="0" lang="en-US" sz="1000" spc="-1" strike="noStrike">
              <a:solidFill>
                <a:srgbClr val="000000"/>
              </a:solidFill>
              <a:latin typeface="Times New Roman"/>
            </a:endParaRPr>
          </a:p>
        </p:txBody>
      </p:sp>
      <p:sp>
        <p:nvSpPr>
          <p:cNvPr id="190" name=""/>
          <p:cNvSpPr/>
          <p:nvPr/>
        </p:nvSpPr>
        <p:spPr>
          <a:xfrm>
            <a:off x="6832080" y="2743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91" name=""/>
          <p:cNvSpPr/>
          <p:nvPr/>
        </p:nvSpPr>
        <p:spPr>
          <a:xfrm>
            <a:off x="6900840" y="27432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92" name=""/>
          <p:cNvSpPr/>
          <p:nvPr/>
        </p:nvSpPr>
        <p:spPr>
          <a:xfrm>
            <a:off x="6436800" y="28908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93" name=""/>
          <p:cNvSpPr/>
          <p:nvPr/>
        </p:nvSpPr>
        <p:spPr>
          <a:xfrm>
            <a:off x="6618960" y="328788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ssary</a:t>
            </a:r>
            <a:endParaRPr b="0" lang="en-US" sz="1000" spc="-1" strike="noStrike">
              <a:solidFill>
                <a:srgbClr val="000000"/>
              </a:solidFill>
              <a:latin typeface="Times New Roman"/>
            </a:endParaRPr>
          </a:p>
        </p:txBody>
      </p:sp>
      <p:sp>
        <p:nvSpPr>
          <p:cNvPr id="194" name=""/>
          <p:cNvSpPr/>
          <p:nvPr/>
        </p:nvSpPr>
        <p:spPr>
          <a:xfrm>
            <a:off x="6618240" y="1465200"/>
            <a:ext cx="195480" cy="781200"/>
          </a:xfrm>
          <a:custGeom>
            <a:avLst/>
            <a:gdLst/>
            <a:ahLst/>
            <a:rect l="l" t="t" r="r" b="b"/>
            <a:pathLst>
              <a:path w="246" h="984">
                <a:moveTo>
                  <a:pt x="0" y="0"/>
                </a:moveTo>
                <a:lnTo>
                  <a:pt x="20" y="71"/>
                </a:lnTo>
                <a:lnTo>
                  <a:pt x="40" y="142"/>
                </a:lnTo>
                <a:lnTo>
                  <a:pt x="60" y="212"/>
                </a:lnTo>
                <a:lnTo>
                  <a:pt x="79" y="283"/>
                </a:lnTo>
                <a:lnTo>
                  <a:pt x="98" y="352"/>
                </a:lnTo>
                <a:lnTo>
                  <a:pt x="117" y="421"/>
                </a:lnTo>
                <a:lnTo>
                  <a:pt x="126" y="454"/>
                </a:lnTo>
                <a:lnTo>
                  <a:pt x="134" y="487"/>
                </a:lnTo>
                <a:lnTo>
                  <a:pt x="143" y="521"/>
                </a:lnTo>
                <a:lnTo>
                  <a:pt x="150" y="552"/>
                </a:lnTo>
                <a:lnTo>
                  <a:pt x="159" y="584"/>
                </a:lnTo>
                <a:lnTo>
                  <a:pt x="166" y="616"/>
                </a:lnTo>
                <a:lnTo>
                  <a:pt x="173" y="647"/>
                </a:lnTo>
                <a:lnTo>
                  <a:pt x="181" y="677"/>
                </a:lnTo>
                <a:lnTo>
                  <a:pt x="188" y="706"/>
                </a:lnTo>
                <a:lnTo>
                  <a:pt x="195" y="735"/>
                </a:lnTo>
                <a:lnTo>
                  <a:pt x="201" y="764"/>
                </a:lnTo>
                <a:lnTo>
                  <a:pt x="207" y="792"/>
                </a:lnTo>
                <a:lnTo>
                  <a:pt x="213" y="819"/>
                </a:lnTo>
                <a:lnTo>
                  <a:pt x="218" y="845"/>
                </a:lnTo>
                <a:lnTo>
                  <a:pt x="224" y="870"/>
                </a:lnTo>
                <a:lnTo>
                  <a:pt x="229" y="894"/>
                </a:lnTo>
                <a:lnTo>
                  <a:pt x="233" y="919"/>
                </a:lnTo>
                <a:lnTo>
                  <a:pt x="237" y="941"/>
                </a:lnTo>
                <a:lnTo>
                  <a:pt x="242" y="964"/>
                </a:lnTo>
                <a:lnTo>
                  <a:pt x="246" y="98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769080" y="2232000"/>
            <a:ext cx="84240" cy="130320"/>
          </a:xfrm>
          <a:custGeom>
            <a:avLst/>
            <a:gdLst/>
            <a:ahLst/>
            <a:rect l="l" t="t" r="r" b="b"/>
            <a:pathLst>
              <a:path w="106" h="166">
                <a:moveTo>
                  <a:pt x="106" y="0"/>
                </a:moveTo>
                <a:lnTo>
                  <a:pt x="69" y="166"/>
                </a:lnTo>
                <a:lnTo>
                  <a:pt x="0" y="12"/>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816240" y="1584360"/>
            <a:ext cx="79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laboration of </a:t>
            </a:r>
            <a:endParaRPr b="0" lang="en-US" sz="1000" spc="-1" strike="noStrike">
              <a:solidFill>
                <a:srgbClr val="000000"/>
              </a:solidFill>
              <a:latin typeface="Times New Roman"/>
            </a:endParaRPr>
          </a:p>
        </p:txBody>
      </p:sp>
      <p:sp>
        <p:nvSpPr>
          <p:cNvPr id="197" name=""/>
          <p:cNvSpPr/>
          <p:nvPr/>
        </p:nvSpPr>
        <p:spPr>
          <a:xfrm>
            <a:off x="6816960" y="173196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me terms in </a:t>
            </a:r>
            <a:endParaRPr b="0" lang="en-US" sz="1000" spc="-1" strike="noStrike">
              <a:solidFill>
                <a:srgbClr val="000000"/>
              </a:solidFill>
              <a:latin typeface="Times New Roman"/>
            </a:endParaRPr>
          </a:p>
        </p:txBody>
      </p:sp>
      <p:sp>
        <p:nvSpPr>
          <p:cNvPr id="198" name=""/>
          <p:cNvSpPr/>
          <p:nvPr/>
        </p:nvSpPr>
        <p:spPr>
          <a:xfrm>
            <a:off x="6816600" y="1879560"/>
            <a:ext cx="65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e domain </a:t>
            </a:r>
            <a:endParaRPr b="0" lang="en-US" sz="1000" spc="-1" strike="noStrike">
              <a:solidFill>
                <a:srgbClr val="000000"/>
              </a:solidFill>
              <a:latin typeface="Times New Roman"/>
            </a:endParaRPr>
          </a:p>
        </p:txBody>
      </p:sp>
      <p:sp>
        <p:nvSpPr>
          <p:cNvPr id="199" name=""/>
          <p:cNvSpPr/>
          <p:nvPr/>
        </p:nvSpPr>
        <p:spPr>
          <a:xfrm>
            <a:off x="6816960" y="2025720"/>
            <a:ext cx="34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el</a:t>
            </a:r>
            <a:endParaRPr b="0" lang="en-US" sz="1000" spc="-1" strike="noStrike">
              <a:solidFill>
                <a:srgbClr val="000000"/>
              </a:solidFill>
              <a:latin typeface="Times New Roman"/>
            </a:endParaRPr>
          </a:p>
        </p:txBody>
      </p:sp>
      <p:sp>
        <p:nvSpPr>
          <p:cNvPr id="200" name=""/>
          <p:cNvSpPr/>
          <p:nvPr/>
        </p:nvSpPr>
        <p:spPr>
          <a:xfrm>
            <a:off x="1616040" y="29718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quire</a:t>
            </a:r>
            <a:endParaRPr b="0" lang="en-US" sz="1000" spc="-1" strike="noStrike">
              <a:solidFill>
                <a:srgbClr val="000000"/>
              </a:solidFill>
              <a:latin typeface="Times New Roman"/>
            </a:endParaRPr>
          </a:p>
        </p:txBody>
      </p:sp>
      <p:sp>
        <p:nvSpPr>
          <p:cNvPr id="201" name=""/>
          <p:cNvSpPr/>
          <p:nvPr/>
        </p:nvSpPr>
        <p:spPr>
          <a:xfrm>
            <a:off x="2071440" y="297180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202" name=""/>
          <p:cNvSpPr/>
          <p:nvPr/>
        </p:nvSpPr>
        <p:spPr>
          <a:xfrm>
            <a:off x="1752120" y="31194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ents</a:t>
            </a:r>
            <a:endParaRPr b="0" lang="en-US" sz="1000" spc="-1" strike="noStrike">
              <a:solidFill>
                <a:srgbClr val="000000"/>
              </a:solidFill>
              <a:latin typeface="Times New Roman"/>
            </a:endParaRPr>
          </a:p>
        </p:txBody>
      </p:sp>
      <p:sp>
        <p:nvSpPr>
          <p:cNvPr id="203" name=""/>
          <p:cNvSpPr/>
          <p:nvPr/>
        </p:nvSpPr>
        <p:spPr>
          <a:xfrm>
            <a:off x="1574280" y="682560"/>
            <a:ext cx="59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usiness </a:t>
            </a:r>
            <a:endParaRPr b="0" lang="en-US" sz="1000" spc="-1" strike="noStrike">
              <a:solidFill>
                <a:srgbClr val="000000"/>
              </a:solidFill>
              <a:latin typeface="Times New Roman"/>
            </a:endParaRPr>
          </a:p>
        </p:txBody>
      </p:sp>
      <p:sp>
        <p:nvSpPr>
          <p:cNvPr id="204" name=""/>
          <p:cNvSpPr/>
          <p:nvPr/>
        </p:nvSpPr>
        <p:spPr>
          <a:xfrm>
            <a:off x="1582560" y="830160"/>
            <a:ext cx="55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odeling</a:t>
            </a:r>
            <a:endParaRPr b="0" lang="en-US" sz="1000" spc="-1" strike="noStrike">
              <a:solidFill>
                <a:srgbClr val="000000"/>
              </a:solidFill>
              <a:latin typeface="Times New Roman"/>
            </a:endParaRPr>
          </a:p>
        </p:txBody>
      </p:sp>
      <p:sp>
        <p:nvSpPr>
          <p:cNvPr id="205" name=""/>
          <p:cNvSpPr/>
          <p:nvPr/>
        </p:nvSpPr>
        <p:spPr>
          <a:xfrm>
            <a:off x="1703160" y="531180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esign</a:t>
            </a:r>
            <a:endParaRPr b="0" lang="en-US" sz="1000" spc="-1" strike="noStrike">
              <a:solidFill>
                <a:srgbClr val="000000"/>
              </a:solidFill>
              <a:latin typeface="Times New Roman"/>
            </a:endParaRPr>
          </a:p>
        </p:txBody>
      </p:sp>
      <p:sp>
        <p:nvSpPr>
          <p:cNvPr id="206" name=""/>
          <p:cNvSpPr/>
          <p:nvPr/>
        </p:nvSpPr>
        <p:spPr>
          <a:xfrm>
            <a:off x="3978360" y="42840"/>
            <a:ext cx="200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ple UP Artifact Relationships</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360" y="1752120"/>
            <a:ext cx="1676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9.1</a:t>
            </a:r>
            <a:r>
              <a:rPr b="1" lang="tr-TR" sz="1600" spc="-1" strike="noStrike">
                <a:solidFill>
                  <a:srgbClr val="000000"/>
                </a:solidFill>
                <a:latin typeface="Tahoma"/>
              </a:rPr>
              <a:t> Sample UP artifact influence.</a:t>
            </a:r>
            <a:endParaRPr b="1" lang="en-US" sz="1600" spc="-1" strike="noStrike">
              <a:solidFill>
                <a:srgbClr val="000000"/>
              </a:solidFill>
              <a:latin typeface="Tahoma"/>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8BD8F544-009F-42CD-A74D-F817BEAF07F7}" type="slidenum">
              <a:t>4</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ML Attribute Notation</a:t>
            </a:r>
            <a:endParaRPr b="1" lang="en-US" sz="2800" spc="-1" strike="noStrike">
              <a:solidFill>
                <a:srgbClr val="000000"/>
              </a:solidFill>
              <a:latin typeface="Tahoma"/>
            </a:endParaRPr>
          </a:p>
        </p:txBody>
      </p:sp>
      <p:pic>
        <p:nvPicPr>
          <p:cNvPr id="310" name="" descr=""/>
          <p:cNvPicPr/>
          <p:nvPr/>
        </p:nvPicPr>
        <p:blipFill>
          <a:blip r:embed="rId1"/>
          <a:stretch/>
        </p:blipFill>
        <p:spPr>
          <a:xfrm>
            <a:off x="1828800" y="2819520"/>
            <a:ext cx="5867280" cy="2435040"/>
          </a:xfrm>
          <a:prstGeom prst="rect">
            <a:avLst/>
          </a:prstGeom>
          <a:ln w="0">
            <a:noFill/>
          </a:ln>
        </p:spPr>
      </p:pic>
      <p:sp>
        <p:nvSpPr>
          <p:cNvPr id="311" name=""/>
          <p:cNvSpPr/>
          <p:nvPr/>
        </p:nvSpPr>
        <p:spPr>
          <a:xfrm>
            <a:off x="3093480" y="5410080"/>
            <a:ext cx="30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19 Class and attributes</a:t>
            </a:r>
            <a:endParaRPr b="0" lang="en-US" sz="1600" spc="-1" strike="noStrike">
              <a:solidFill>
                <a:srgbClr val="000000"/>
              </a:solidFill>
              <a:latin typeface="Times New Roman"/>
            </a:endParaRPr>
          </a:p>
        </p:txBody>
      </p:sp>
      <p:sp>
        <p:nvSpPr>
          <p:cNvPr id="312" name=""/>
          <p:cNvSpPr/>
          <p:nvPr/>
        </p:nvSpPr>
        <p:spPr>
          <a:xfrm>
            <a:off x="685800" y="1219320"/>
            <a:ext cx="807732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ep attributes simp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inguish between conceptual and</a:t>
            </a:r>
            <a:r>
              <a:rPr b="0" lang="tr-TR" sz="2000" spc="-1" strike="noStrike">
                <a:solidFill>
                  <a:srgbClr val="000000"/>
                </a:solidFill>
                <a:latin typeface="Comic Sans MS"/>
              </a:rPr>
              <a:t> </a:t>
            </a:r>
            <a:r>
              <a:rPr b="0" lang="en-US" sz="2000" spc="-1" strike="noStrike">
                <a:solidFill>
                  <a:srgbClr val="000000"/>
                </a:solidFill>
                <a:latin typeface="Comic Sans MS"/>
              </a:rPr>
              <a:t>implementation perspectiv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data types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1F064EDB-9100-45B6-B777-8E1745DB410F}" type="slidenum">
              <a:t>40</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20 Attribute notation in UML.</a:t>
            </a:r>
            <a:br>
              <a:rPr sz="1600"/>
            </a:br>
            <a:r>
              <a:rPr b="1" lang="en-US" sz="1600" spc="-1" strike="noStrike">
                <a:solidFill>
                  <a:srgbClr val="000000"/>
                </a:solidFill>
                <a:latin typeface="Tahoma"/>
              </a:rPr>
              <a:t>Relate with associations, not attributes</a:t>
            </a:r>
            <a:endParaRPr b="1" lang="en-US" sz="1600" spc="-1" strike="noStrike">
              <a:solidFill>
                <a:srgbClr val="000000"/>
              </a:solidFill>
              <a:latin typeface="Tahoma"/>
            </a:endParaRPr>
          </a:p>
        </p:txBody>
      </p:sp>
      <p:pic>
        <p:nvPicPr>
          <p:cNvPr id="314" name="" descr=""/>
          <p:cNvPicPr/>
          <p:nvPr/>
        </p:nvPicPr>
        <p:blipFill>
          <a:blip r:embed="rId1"/>
          <a:stretch/>
        </p:blipFill>
        <p:spPr>
          <a:xfrm>
            <a:off x="228600" y="1371600"/>
            <a:ext cx="9144000" cy="2324160"/>
          </a:xfrm>
          <a:prstGeom prst="rect">
            <a:avLst/>
          </a:prstGeom>
          <a:ln w="0">
            <a:noFill/>
          </a:ln>
        </p:spPr>
      </p:pic>
      <p:sp>
        <p:nvSpPr>
          <p:cNvPr id="315" name=""/>
          <p:cNvSpPr/>
          <p:nvPr/>
        </p:nvSpPr>
        <p:spPr>
          <a:xfrm>
            <a:off x="596520" y="4343400"/>
            <a:ext cx="747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r>
              <a:rPr b="0" lang="tr-TR" sz="2000" spc="-1" strike="noStrike">
                <a:solidFill>
                  <a:srgbClr val="000000"/>
                </a:solidFill>
                <a:latin typeface="Comic Sans MS"/>
              </a:rPr>
              <a:t>isibility</a:t>
            </a:r>
            <a:r>
              <a:rPr b="0" lang="en-US" sz="2000" spc="-1" strike="noStrike">
                <a:solidFill>
                  <a:srgbClr val="000000"/>
                </a:solidFill>
                <a:latin typeface="Comic Sans MS"/>
              </a:rPr>
              <a:t>  </a:t>
            </a:r>
            <a:r>
              <a:rPr b="0" lang="tr-TR" sz="2000" spc="-1" strike="noStrike">
                <a:solidFill>
                  <a:srgbClr val="000000"/>
                </a:solidFill>
                <a:latin typeface="Comic Sans MS"/>
              </a:rPr>
              <a:t> </a:t>
            </a:r>
            <a:r>
              <a:rPr b="1" lang="tr-TR" sz="2000" spc="-1" strike="noStrike">
                <a:solidFill>
                  <a:srgbClr val="000000"/>
                </a:solidFill>
                <a:latin typeface="Comic Sans MS"/>
              </a:rPr>
              <a:t>name: type</a:t>
            </a:r>
            <a:r>
              <a:rPr b="0" lang="tr-TR" sz="2000" spc="-1" strike="noStrike">
                <a:solidFill>
                  <a:srgbClr val="000000"/>
                </a:solidFill>
                <a:latin typeface="Comic Sans MS"/>
              </a:rPr>
              <a:t> </a:t>
            </a:r>
            <a:r>
              <a:rPr b="0" lang="en-US" sz="2000" spc="-1" strike="noStrike">
                <a:solidFill>
                  <a:srgbClr val="000000"/>
                </a:solidFill>
                <a:latin typeface="Comic Sans MS"/>
              </a:rPr>
              <a:t>  </a:t>
            </a:r>
            <a:r>
              <a:rPr b="0" lang="tr-TR" sz="2000" spc="-1" strike="noStrike">
                <a:solidFill>
                  <a:srgbClr val="000000"/>
                </a:solidFill>
                <a:latin typeface="Comic Sans MS"/>
              </a:rPr>
              <a:t>multiplicity = default </a:t>
            </a:r>
            <a:r>
              <a:rPr b="0" lang="en-US" sz="2000" spc="-1" strike="noStrike">
                <a:solidFill>
                  <a:srgbClr val="000000"/>
                </a:solidFill>
                <a:latin typeface="Comic Sans MS"/>
              </a:rPr>
              <a:t>{property-string}</a:t>
            </a:r>
            <a:endParaRPr b="0" lang="en-US" sz="2000" spc="-1" strike="noStrike">
              <a:solidFill>
                <a:srgbClr val="000000"/>
              </a:solidFill>
              <a:latin typeface="Times New Roman"/>
            </a:endParaRPr>
          </a:p>
        </p:txBody>
      </p:sp>
      <p:sp>
        <p:nvSpPr>
          <p:cNvPr id="316" name=""/>
          <p:cNvSpPr/>
          <p:nvPr/>
        </p:nvSpPr>
        <p:spPr>
          <a:xfrm flipV="1">
            <a:off x="4419720" y="2666520"/>
            <a:ext cx="2971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flipV="1">
            <a:off x="4952520" y="2438280"/>
            <a:ext cx="1600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flipV="1">
            <a:off x="228240" y="259092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26AF9445-383F-4CF2-9988-83C1C18FA0C6}" type="slidenum">
              <a:t>41</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1 Recording the quantity of items sold in a line item.</a:t>
            </a:r>
            <a:endParaRPr b="1" lang="en-US" sz="1600" spc="-1" strike="noStrike">
              <a:solidFill>
                <a:srgbClr val="000000"/>
              </a:solidFill>
              <a:latin typeface="Tahoma"/>
            </a:endParaRPr>
          </a:p>
        </p:txBody>
      </p:sp>
      <p:pic>
        <p:nvPicPr>
          <p:cNvPr id="320" name="" descr=""/>
          <p:cNvPicPr/>
          <p:nvPr/>
        </p:nvPicPr>
        <p:blipFill>
          <a:blip r:embed="rId1"/>
          <a:stretch/>
        </p:blipFill>
        <p:spPr>
          <a:xfrm>
            <a:off x="0" y="1066680"/>
            <a:ext cx="9144000" cy="487692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CA3602E6-0E45-402F-B1DD-2C0424E9ADB6}" type="slidenum">
              <a:t>42</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n Primitive Data Type</a:t>
            </a:r>
            <a:endParaRPr b="1" lang="en-US" sz="2800" spc="-1" strike="noStrike">
              <a:solidFill>
                <a:srgbClr val="000000"/>
              </a:solidFill>
              <a:latin typeface="Tahoma"/>
            </a:endParaRPr>
          </a:p>
        </p:txBody>
      </p:sp>
      <p:sp>
        <p:nvSpPr>
          <p:cNvPr id="32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resent what may be considered a primitive data type (such as a number or string) as a </a:t>
            </a:r>
            <a:r>
              <a:rPr b="0" lang="en-US" sz="2000" spc="-1" strike="noStrike">
                <a:solidFill>
                  <a:srgbClr val="3333cc"/>
                </a:solidFill>
                <a:latin typeface="Comic Sans MS"/>
              </a:rPr>
              <a:t>non primitive class</a:t>
            </a:r>
            <a:r>
              <a:rPr b="0" lang="en-US" sz="2000" spc="-1" strike="noStrike">
                <a:solidFill>
                  <a:srgbClr val="000000"/>
                </a:solidFill>
                <a:latin typeface="Comic Sans MS"/>
              </a:rPr>
              <a:t> </a:t>
            </a:r>
            <a:r>
              <a:rPr b="0" lang="en-US" sz="2000" spc="-1" strike="noStrike" u="sng">
                <a:solidFill>
                  <a:srgbClr val="000000"/>
                </a:solidFill>
                <a:uFillTx/>
                <a:latin typeface="Comic Sans MS"/>
              </a:rPr>
              <a:t>if</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composed of separate sections.</a:t>
            </a:r>
            <a:endParaRPr b="0" lang="en-US" sz="2000" spc="-1" strike="noStrike">
              <a:solidFill>
                <a:srgbClr val="000000"/>
              </a:solidFill>
              <a:latin typeface="Comic Sans MS"/>
            </a:endParaRPr>
          </a:p>
          <a:p>
            <a:pPr lvl="1" marL="735480" indent="-28296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 number, name of person</a:t>
            </a:r>
            <a:endParaRPr b="0" lang="en-US" sz="18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re are operations usually associated with it, such as parsing or validation.</a:t>
            </a:r>
            <a:endParaRPr b="0" lang="en-US" sz="2000" spc="-1" strike="noStrike">
              <a:solidFill>
                <a:srgbClr val="000000"/>
              </a:solidFill>
              <a:latin typeface="Comic Sans MS"/>
            </a:endParaRPr>
          </a:p>
          <a:p>
            <a:pPr lvl="1" marL="735480" indent="-28296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cial security number</a:t>
            </a:r>
            <a:endParaRPr b="0" lang="en-US" sz="18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has other attributes</a:t>
            </a:r>
            <a:endParaRPr b="0" lang="en-US" sz="2000" spc="-1" strike="noStrike">
              <a:solidFill>
                <a:srgbClr val="000000"/>
              </a:solidFill>
              <a:latin typeface="Comic Sans MS"/>
            </a:endParaRPr>
          </a:p>
          <a:p>
            <a:pPr lvl="1" marL="735480" indent="-28296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motional price could have a start date and end date</a:t>
            </a:r>
            <a:endParaRPr b="0" lang="en-US" sz="18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has a quantity with a unit.</a:t>
            </a:r>
            <a:endParaRPr b="0" lang="en-US" sz="2000" spc="-1" strike="noStrike">
              <a:solidFill>
                <a:srgbClr val="000000"/>
              </a:solidFill>
              <a:latin typeface="Comic Sans MS"/>
            </a:endParaRPr>
          </a:p>
          <a:p>
            <a:pPr lvl="1" marL="735480" indent="-28296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yment amount has a unit of currency</a:t>
            </a:r>
            <a:endParaRPr b="0" lang="en-US" sz="1800" spc="-1" strike="noStrike">
              <a:solidFill>
                <a:srgbClr val="000000"/>
              </a:solidFill>
              <a:latin typeface="Comic Sans MS"/>
            </a:endParaRPr>
          </a:p>
          <a:p>
            <a:pPr marL="339480" indent="-33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has abstraction of one or more types with some of these qualities.</a:t>
            </a:r>
            <a:endParaRPr b="0" lang="en-US" sz="2000" spc="-1" strike="noStrike">
              <a:solidFill>
                <a:srgbClr val="000000"/>
              </a:solidFill>
              <a:latin typeface="Comic Sans MS"/>
            </a:endParaRPr>
          </a:p>
          <a:p>
            <a:pPr lvl="1" marL="735480" indent="-28296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em identifier in the sales domain is a generalization of types such as Universal product code(UPC) or European Article Number(EAN)</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72EDCBA0-ECCD-45AC-AF13-04A213C05793}" type="slidenum">
              <a:t>4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n primitive </a:t>
            </a:r>
            <a:r>
              <a:rPr b="1" lang="tr-TR" sz="2800" spc="-1" strike="noStrike">
                <a:solidFill>
                  <a:srgbClr val="000000"/>
                </a:solidFill>
                <a:latin typeface="Tahoma"/>
              </a:rPr>
              <a:t>D</a:t>
            </a:r>
            <a:r>
              <a:rPr b="1" lang="en-US" sz="2800" spc="-1" strike="noStrike">
                <a:solidFill>
                  <a:srgbClr val="000000"/>
                </a:solidFill>
                <a:latin typeface="Tahoma"/>
              </a:rPr>
              <a:t>ata Types</a:t>
            </a:r>
            <a:endParaRPr b="1" lang="en-US" sz="2800" spc="-1" strike="noStrike">
              <a:solidFill>
                <a:srgbClr val="000000"/>
              </a:solidFill>
              <a:latin typeface="Tahoma"/>
            </a:endParaRPr>
          </a:p>
        </p:txBody>
      </p:sp>
      <p:sp>
        <p:nvSpPr>
          <p:cNvPr id="32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ying these guidelines to the POS domain model yields the following analysi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item identifier is an abstraction of various common coding codes schemes, including UPC-A, UPC-E, and the family of EAN schemes. These numeric coding schemes have subparts identifying the manufacturer, product and EA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rice and the amount attribute should be non primitive Quantity or Money classes because they are quantities in a unit of currency</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ddress attribute should be a non primitive Address class because it has separate section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782A855B-AF8D-461E-AFF3-3C5C377E5B7F}" type="slidenum">
              <a:t>44</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4 Two ways to indicate a data type property of an object.</a:t>
            </a:r>
            <a:endParaRPr b="1" lang="en-US" sz="1600" spc="-1" strike="noStrike">
              <a:solidFill>
                <a:srgbClr val="000000"/>
              </a:solidFill>
              <a:latin typeface="Tahoma"/>
            </a:endParaRPr>
          </a:p>
        </p:txBody>
      </p:sp>
      <p:pic>
        <p:nvPicPr>
          <p:cNvPr id="326" name="" descr=""/>
          <p:cNvPicPr/>
          <p:nvPr/>
        </p:nvPicPr>
        <p:blipFill>
          <a:blip r:embed="rId1"/>
          <a:stretch/>
        </p:blipFill>
        <p:spPr>
          <a:xfrm>
            <a:off x="0" y="1447920"/>
            <a:ext cx="9144000" cy="312876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987F069A-DBBA-48E4-B26B-85D5F7E88211}" type="slidenum">
              <a:t>45</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2 Relate with associations, not attributes.</a:t>
            </a:r>
            <a:endParaRPr b="1" lang="en-US" sz="1600" spc="-1" strike="noStrike">
              <a:solidFill>
                <a:srgbClr val="000000"/>
              </a:solidFill>
              <a:latin typeface="Tahoma"/>
            </a:endParaRPr>
          </a:p>
        </p:txBody>
      </p:sp>
      <p:pic>
        <p:nvPicPr>
          <p:cNvPr id="328" name="" descr=""/>
          <p:cNvPicPr/>
          <p:nvPr/>
        </p:nvPicPr>
        <p:blipFill>
          <a:blip r:embed="rId1"/>
          <a:stretch/>
        </p:blipFill>
        <p:spPr>
          <a:xfrm>
            <a:off x="380880" y="533520"/>
            <a:ext cx="8229600" cy="2835000"/>
          </a:xfrm>
          <a:prstGeom prst="rect">
            <a:avLst/>
          </a:prstGeom>
          <a:ln w="0">
            <a:noFill/>
          </a:ln>
        </p:spPr>
      </p:pic>
      <p:pic>
        <p:nvPicPr>
          <p:cNvPr id="329" name="" descr=""/>
          <p:cNvPicPr/>
          <p:nvPr/>
        </p:nvPicPr>
        <p:blipFill>
          <a:blip r:embed="rId2"/>
          <a:stretch/>
        </p:blipFill>
        <p:spPr>
          <a:xfrm>
            <a:off x="304920" y="4038480"/>
            <a:ext cx="8534160" cy="2186280"/>
          </a:xfrm>
          <a:prstGeom prst="rect">
            <a:avLst/>
          </a:prstGeom>
          <a:ln w="0">
            <a:noFill/>
          </a:ln>
        </p:spPr>
      </p:pic>
      <p:sp>
        <p:nvSpPr>
          <p:cNvPr id="330" name=""/>
          <p:cNvSpPr/>
          <p:nvPr/>
        </p:nvSpPr>
        <p:spPr>
          <a:xfrm>
            <a:off x="373320" y="3505320"/>
            <a:ext cx="80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Fig.9.23 Don’t show complex concepts as attributes; use association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C171F99C-B9D2-46BA-B8A3-33296F108FA0}" type="slidenum">
              <a:t>46</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5 Do not use attributes as foreign keys</a:t>
            </a:r>
            <a:endParaRPr b="1" lang="en-US" sz="1600" spc="-1" strike="noStrike">
              <a:solidFill>
                <a:srgbClr val="000000"/>
              </a:solidFill>
              <a:latin typeface="Tahoma"/>
            </a:endParaRPr>
          </a:p>
        </p:txBody>
      </p:sp>
      <p:pic>
        <p:nvPicPr>
          <p:cNvPr id="332" name="" descr=""/>
          <p:cNvPicPr/>
          <p:nvPr/>
        </p:nvPicPr>
        <p:blipFill>
          <a:blip r:embed="rId1"/>
          <a:stretch/>
        </p:blipFill>
        <p:spPr>
          <a:xfrm>
            <a:off x="0" y="1617840"/>
            <a:ext cx="9144000" cy="278892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4808E82F-7C0B-435F-826F-0C58E06B764B}" type="slidenum">
              <a:t>47</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6 Modeling quantities</a:t>
            </a:r>
            <a:endParaRPr b="1" lang="en-US" sz="1600" spc="-1" strike="noStrike">
              <a:solidFill>
                <a:srgbClr val="000000"/>
              </a:solidFill>
              <a:latin typeface="Tahoma"/>
            </a:endParaRPr>
          </a:p>
        </p:txBody>
      </p:sp>
      <p:pic>
        <p:nvPicPr>
          <p:cNvPr id="334" name="" descr=""/>
          <p:cNvPicPr/>
          <p:nvPr/>
        </p:nvPicPr>
        <p:blipFill>
          <a:blip r:embed="rId1"/>
          <a:stretch/>
        </p:blipFill>
        <p:spPr>
          <a:xfrm>
            <a:off x="0" y="1143000"/>
            <a:ext cx="9144000" cy="450540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15A42D86-8560-4455-B6FD-CE2C98636C53}" type="slidenum">
              <a:t>48</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9.27 NextGen POS partial domain model</a:t>
            </a:r>
            <a:endParaRPr b="1" lang="en-US" sz="1600" spc="-1" strike="noStrike">
              <a:solidFill>
                <a:srgbClr val="000000"/>
              </a:solidFill>
              <a:latin typeface="Tahoma"/>
            </a:endParaRPr>
          </a:p>
        </p:txBody>
      </p:sp>
      <p:pic>
        <p:nvPicPr>
          <p:cNvPr id="336" name="" descr=""/>
          <p:cNvPicPr/>
          <p:nvPr/>
        </p:nvPicPr>
        <p:blipFill>
          <a:blip r:embed="rId1"/>
          <a:stretch/>
        </p:blipFill>
        <p:spPr>
          <a:xfrm>
            <a:off x="0" y="914400"/>
            <a:ext cx="9144000" cy="548640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FFA9ECCE-3850-402A-9973-D234AED0290C}" type="slidenum">
              <a:t>49</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Domain Model is not a Software Artifact</a:t>
            </a:r>
            <a:endParaRPr b="1" lang="en-US" sz="2800" spc="-1" strike="noStrike">
              <a:solidFill>
                <a:srgbClr val="000000"/>
              </a:solidFill>
              <a:latin typeface="Tahoma"/>
            </a:endParaRPr>
          </a:p>
        </p:txBody>
      </p:sp>
      <p:graphicFrame>
        <p:nvGraphicFramePr>
          <p:cNvPr id="209" name=""/>
          <p:cNvGraphicFramePr/>
          <p:nvPr/>
        </p:nvGraphicFramePr>
        <p:xfrm>
          <a:off x="609480" y="2819520"/>
          <a:ext cx="3048120" cy="2742840"/>
        </p:xfrm>
        <a:graphic>
          <a:graphicData uri="http://schemas.openxmlformats.org/drawingml/2006/table">
            <a:tbl>
              <a:tblPr/>
              <a:tblGrid>
                <a:gridCol w="3048120"/>
              </a:tblGrid>
              <a:tr h="92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81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0" name=""/>
          <p:cNvGraphicFramePr/>
          <p:nvPr/>
        </p:nvGraphicFramePr>
        <p:xfrm>
          <a:off x="5715000" y="2666880"/>
          <a:ext cx="2666880" cy="849600"/>
        </p:xfrm>
        <a:graphic>
          <a:graphicData uri="http://schemas.openxmlformats.org/drawingml/2006/table">
            <a:tbl>
              <a:tblPr/>
              <a:tblGrid>
                <a:gridCol w="2666880"/>
              </a:tblGrid>
              <a:tr h="450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Databas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1" name=""/>
          <p:cNvGraphicFramePr/>
          <p:nvPr/>
        </p:nvGraphicFramePr>
        <p:xfrm>
          <a:off x="5943600" y="3962520"/>
          <a:ext cx="2286000" cy="1822320"/>
        </p:xfrm>
        <a:graphic>
          <a:graphicData uri="http://schemas.openxmlformats.org/drawingml/2006/table">
            <a:tbl>
              <a:tblPr/>
              <a:tblGrid>
                <a:gridCol w="22860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39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8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2" name=""/>
          <p:cNvSpPr/>
          <p:nvPr/>
        </p:nvSpPr>
        <p:spPr>
          <a:xfrm>
            <a:off x="304920" y="5562720"/>
            <a:ext cx="3809880" cy="380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ceptual class</a:t>
            </a:r>
            <a:endParaRPr b="0" lang="en-US" sz="1800" spc="-1" strike="noStrike">
              <a:solidFill>
                <a:srgbClr val="000000"/>
              </a:solidFill>
              <a:latin typeface="Times New Roman"/>
            </a:endParaRPr>
          </a:p>
        </p:txBody>
      </p:sp>
      <p:sp>
        <p:nvSpPr>
          <p:cNvPr id="213" name=""/>
          <p:cNvSpPr/>
          <p:nvPr/>
        </p:nvSpPr>
        <p:spPr>
          <a:xfrm>
            <a:off x="3809880" y="3809880"/>
            <a:ext cx="18288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a:t>
            </a:r>
            <a:endParaRPr b="0" lang="en-US" sz="3200" spc="-1" strike="noStrike">
              <a:solidFill>
                <a:srgbClr val="000000"/>
              </a:solidFill>
              <a:latin typeface="Times New Roman"/>
            </a:endParaRPr>
          </a:p>
        </p:txBody>
      </p:sp>
      <p:sp>
        <p:nvSpPr>
          <p:cNvPr id="214" name=""/>
          <p:cNvSpPr/>
          <p:nvPr/>
        </p:nvSpPr>
        <p:spPr>
          <a:xfrm>
            <a:off x="500400" y="1143000"/>
            <a:ext cx="79196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A domain model is i</a:t>
            </a:r>
            <a:r>
              <a:rPr b="0" lang="en-US" sz="2400" spc="-1" strike="noStrike">
                <a:solidFill>
                  <a:srgbClr val="000000"/>
                </a:solidFill>
                <a:latin typeface="Comic Sans MS"/>
              </a:rPr>
              <a:t>llustrated </a:t>
            </a:r>
            <a:r>
              <a:rPr b="0" lang="tr-TR" sz="2400" spc="-1" strike="noStrike">
                <a:solidFill>
                  <a:srgbClr val="000000"/>
                </a:solidFill>
                <a:latin typeface="Comic Sans MS"/>
              </a:rPr>
              <a:t>in UML </a:t>
            </a:r>
            <a:r>
              <a:rPr b="0" lang="en-US" sz="2400" spc="-1" strike="noStrike">
                <a:solidFill>
                  <a:srgbClr val="000000"/>
                </a:solidFill>
                <a:latin typeface="Comic Sans MS"/>
              </a:rPr>
              <a:t>using a set of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    </a:t>
            </a:r>
            <a:r>
              <a:rPr b="0" lang="en-US" sz="2400" spc="-1" strike="noStrike">
                <a:solidFill>
                  <a:srgbClr val="000000"/>
                </a:solidFill>
                <a:latin typeface="Comic Sans MS"/>
              </a:rPr>
              <a:t>class diagrams for which no operations are defin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EE9E9168-53DC-4BB3-849B-620F54819F09}" type="slidenum">
              <a:t>5</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main Model Conclusion</a:t>
            </a:r>
            <a:endParaRPr b="1" lang="en-US" sz="2800" spc="-1" strike="noStrike">
              <a:solidFill>
                <a:srgbClr val="000000"/>
              </a:solidFill>
              <a:latin typeface="Tahoma"/>
            </a:endParaRPr>
          </a:p>
        </p:txBody>
      </p:sp>
      <p:sp>
        <p:nvSpPr>
          <p:cNvPr id="33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Comic Sans MS"/>
              </a:rPr>
              <a:t>A </a:t>
            </a:r>
            <a:r>
              <a:rPr b="0" lang="en-US" sz="2000" spc="-1" strike="noStrike">
                <a:solidFill>
                  <a:srgbClr val="3333cc"/>
                </a:solidFill>
                <a:latin typeface="Comic Sans MS"/>
              </a:rPr>
              <a:t>good domain model captures the essential abstractions and information required  to understand the domain in context of current requirements, and aids people in understanding the domain – its concepts , terminology, and the relationshi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BB6390D2-3C39-4726-85C0-DB0DBFD6AD45}" type="slidenum">
              <a:t>50</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10</a:t>
            </a:r>
            <a:br>
              <a:rPr sz="2800"/>
            </a:br>
            <a:r>
              <a:rPr b="1" lang="en-US" sz="2800" spc="-1" strike="noStrike">
                <a:solidFill>
                  <a:srgbClr val="ff0000"/>
                </a:solidFill>
                <a:latin typeface="Tahoma"/>
              </a:rPr>
              <a:t>Drawing System Sequence Diagrams</a:t>
            </a:r>
            <a:endParaRPr b="0" lang="en-US" sz="2800" spc="-1" strike="noStrike">
              <a:solidFill>
                <a:srgbClr val="000000"/>
              </a:solidFill>
              <a:latin typeface="Times New Roman"/>
            </a:endParaRPr>
          </a:p>
        </p:txBody>
      </p:sp>
      <p:sp>
        <p:nvSpPr>
          <p:cNvPr id="340"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a:t>
            </a:r>
            <a:r>
              <a:rPr b="0" lang="tr-TR" sz="2000" spc="-1" strike="noStrike">
                <a:solidFill>
                  <a:srgbClr val="000000"/>
                </a:solidFill>
                <a:latin typeface="Comic Sans MS"/>
              </a:rPr>
              <a:t>s</a:t>
            </a:r>
            <a:r>
              <a:rPr b="0" lang="en-US" sz="2000" spc="-1" strike="noStrike">
                <a:solidFill>
                  <a:srgbClr val="000000"/>
                </a:solidFill>
                <a:latin typeface="Comic Sans MS"/>
              </a:rPr>
              <a:t>ystem </a:t>
            </a:r>
            <a:r>
              <a:rPr b="0" lang="tr-TR" sz="2000" spc="-1" strike="noStrike">
                <a:solidFill>
                  <a:srgbClr val="000000"/>
                </a:solidFill>
                <a:latin typeface="Comic Sans MS"/>
              </a:rPr>
              <a:t>e</a:t>
            </a:r>
            <a:r>
              <a:rPr b="0" lang="en-US" sz="2000" spc="-1" strike="noStrike">
                <a:solidFill>
                  <a:srgbClr val="000000"/>
                </a:solidFill>
                <a:latin typeface="Comic Sans MS"/>
              </a:rPr>
              <a:t>ven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reate </a:t>
            </a:r>
            <a:r>
              <a:rPr b="0" lang="tr-TR" sz="2000" spc="-1" strike="noStrike">
                <a:solidFill>
                  <a:srgbClr val="000000"/>
                </a:solidFill>
                <a:latin typeface="Comic Sans MS"/>
              </a:rPr>
              <a:t>s</a:t>
            </a:r>
            <a:r>
              <a:rPr b="0" lang="en-US" sz="2000" spc="-1" strike="noStrike">
                <a:solidFill>
                  <a:srgbClr val="000000"/>
                </a:solidFill>
                <a:latin typeface="Comic Sans MS"/>
                <a:ea typeface="Times New Roman"/>
              </a:rPr>
              <a:t>ystem </a:t>
            </a:r>
            <a:r>
              <a:rPr b="0" lang="tr-TR" sz="2000" spc="-1" strike="noStrike">
                <a:solidFill>
                  <a:srgbClr val="000000"/>
                </a:solidFill>
                <a:latin typeface="Comic Sans MS"/>
              </a:rPr>
              <a:t>s</a:t>
            </a:r>
            <a:r>
              <a:rPr b="0" lang="en-US" sz="2000" spc="-1" strike="noStrike">
                <a:solidFill>
                  <a:srgbClr val="000000"/>
                </a:solidFill>
                <a:latin typeface="Comic Sans MS"/>
                <a:ea typeface="Times New Roman"/>
              </a:rPr>
              <a:t>equence diagrams for </a:t>
            </a:r>
            <a:r>
              <a:rPr b="0" lang="tr-TR" sz="2000" spc="-1" strike="noStrike">
                <a:solidFill>
                  <a:srgbClr val="000000"/>
                </a:solidFill>
                <a:latin typeface="Comic Sans MS"/>
              </a:rPr>
              <a:t>use case scenarios</a:t>
            </a:r>
            <a:endParaRPr b="0" lang="en-US" sz="2000" spc="-1" strike="noStrike">
              <a:solidFill>
                <a:srgbClr val="000000"/>
              </a:solidFill>
              <a:latin typeface="Times New Roman"/>
            </a:endParaRPr>
          </a:p>
        </p:txBody>
      </p:sp>
      <p:sp>
        <p:nvSpPr>
          <p:cNvPr id="341"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a:t>
            </a:r>
            <a:r>
              <a:rPr b="1" i="1" lang="tr-TR" sz="1500" spc="-1" strike="noStrike">
                <a:solidFill>
                  <a:srgbClr val="000000"/>
                </a:solidFill>
                <a:latin typeface="Comic Sans MS"/>
              </a:rPr>
              <a:t>In theory, there is no difference between theory and practice. </a:t>
            </a:r>
            <a:endParaRPr b="0" lang="en-US" sz="15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But in practice, there is.” </a:t>
            </a:r>
            <a:br>
              <a:rPr sz="1500"/>
            </a:br>
            <a:r>
              <a:rPr b="1" i="1" lang="tr-TR" sz="1500" spc="-1" strike="noStrike">
                <a:solidFill>
                  <a:srgbClr val="000000"/>
                </a:solidFill>
                <a:latin typeface="Comic Sans MS"/>
              </a:rPr>
              <a:t>- Jan L.A. van de Snepscheut</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B2872537-26CE-46A5-A618-F9788088BEEF}" type="slidenum">
              <a:t>51</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143000" y="0"/>
            <a:ext cx="8001000" cy="6858000"/>
          </a:xfrm>
          <a:prstGeom prst="rect">
            <a:avLst/>
          </a:prstGeom>
          <a:ln w="0">
            <a:noFill/>
          </a:ln>
        </p:spPr>
      </p:pic>
      <p:sp>
        <p:nvSpPr>
          <p:cNvPr id="343" name=""/>
          <p:cNvSpPr/>
          <p:nvPr/>
        </p:nvSpPr>
        <p:spPr>
          <a:xfrm>
            <a:off x="4267080" y="5029200"/>
            <a:ext cx="190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0" y="1294920"/>
            <a:ext cx="1828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g 10.</a:t>
            </a:r>
            <a:r>
              <a:rPr b="1" lang="tr-TR" sz="1400" spc="-1" strike="noStrike">
                <a:solidFill>
                  <a:srgbClr val="000000"/>
                </a:solidFill>
                <a:latin typeface="Tahoma"/>
              </a:rPr>
              <a:t>1</a:t>
            </a:r>
            <a:r>
              <a:rPr b="1" lang="en-US" sz="1400" spc="-1" strike="noStrike">
                <a:solidFill>
                  <a:srgbClr val="000000"/>
                </a:solidFill>
                <a:latin typeface="Tahoma"/>
              </a:rPr>
              <a:t>: </a:t>
            </a:r>
            <a:r>
              <a:rPr b="1" lang="tr-TR" sz="1400" spc="-1" strike="noStrike">
                <a:solidFill>
                  <a:srgbClr val="000000"/>
                </a:solidFill>
                <a:latin typeface="Tahoma"/>
              </a:rPr>
              <a:t>Sample UP artifact influence.</a:t>
            </a:r>
            <a:endParaRPr b="1" lang="en-US" sz="1400" spc="-1" strike="noStrike">
              <a:solidFill>
                <a:srgbClr val="000000"/>
              </a:solidFill>
              <a:latin typeface="Tahoma"/>
            </a:endParaRPr>
          </a:p>
        </p:txBody>
      </p:sp>
      <p:sp>
        <p:nvSpPr>
          <p:cNvPr id="345" name=""/>
          <p:cNvSpPr/>
          <p:nvPr/>
        </p:nvSpPr>
        <p:spPr>
          <a:xfrm>
            <a:off x="-25560" y="3276720"/>
            <a:ext cx="1969920" cy="159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An SDD is a fast an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easily created artifac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that illustrates i/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events related 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systems und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discuss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9ECC5327-85A6-4047-954E-F170EDD131E4}" type="slidenum">
              <a:t>52</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eration 1</a:t>
            </a:r>
            <a:endParaRPr b="1" lang="en-US" sz="2800" spc="-1" strike="noStrike">
              <a:solidFill>
                <a:srgbClr val="000000"/>
              </a:solidFill>
              <a:latin typeface="Tahoma"/>
            </a:endParaRPr>
          </a:p>
        </p:txBody>
      </p:sp>
      <p:sp>
        <p:nvSpPr>
          <p:cNvPr id="3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First real development iteratio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The requirement work done during inception phase was to decide if the project was worth more serious investigatio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efore starting iteration 1 design work, further investigation of the problem domain is useful such as clarification of the input and output system events, related to the system.</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594D5E0A-D726-4EDC-A0D2-75B03A74BEA9}" type="slidenum">
              <a:t>53</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SD versus Sequence Diagram</a:t>
            </a:r>
            <a:endParaRPr b="1" lang="en-US" sz="2400" spc="-1" strike="noStrike">
              <a:solidFill>
                <a:srgbClr val="000000"/>
              </a:solidFill>
              <a:latin typeface="Tahoma"/>
            </a:endParaRPr>
          </a:p>
        </p:txBody>
      </p:sp>
      <p:sp>
        <p:nvSpPr>
          <p:cNvPr id="34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a:t>
            </a:r>
            <a:r>
              <a:rPr b="0" lang="en-US" sz="2200" spc="-1" strike="noStrike">
                <a:solidFill>
                  <a:srgbClr val="ff0000"/>
                </a:solidFill>
                <a:latin typeface="Comic Sans MS"/>
              </a:rPr>
              <a:t>System Sequence Diagram</a:t>
            </a:r>
            <a:r>
              <a:rPr b="0" lang="tr-TR" sz="2200" spc="-1" strike="noStrike">
                <a:solidFill>
                  <a:srgbClr val="ff0000"/>
                </a:solidFill>
                <a:latin typeface="Comic Sans MS"/>
              </a:rPr>
              <a:t> (SSD)</a:t>
            </a:r>
            <a:r>
              <a:rPr b="0" lang="en-US" sz="2200" spc="-1" strike="noStrike">
                <a:solidFill>
                  <a:srgbClr val="000000"/>
                </a:solidFill>
                <a:latin typeface="Comic Sans MS"/>
              </a:rPr>
              <a:t> is an artifact that illustrates input and output events related to the system under discussion. </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SSDs</a:t>
            </a:r>
            <a:r>
              <a:rPr b="0" lang="en-US" sz="2200" spc="-1" strike="noStrike">
                <a:solidFill>
                  <a:srgbClr val="000000"/>
                </a:solidFill>
                <a:latin typeface="Comic Sans MS"/>
              </a:rPr>
              <a:t> are typically associated with use-case realization in the logical view of system development.</a:t>
            </a:r>
            <a:endParaRPr b="0" lang="en-US" sz="22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stem Sequence Diagrams should be done for the main success scenario of the use-case, and frequent and alternative scenarios.</a:t>
            </a:r>
            <a:endParaRPr b="0" lang="en-US" sz="20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90000"/>
              </a:lnSpc>
              <a:spcBef>
                <a:spcPts val="55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Sequence Diagrams</a:t>
            </a:r>
            <a:r>
              <a:rPr b="0" lang="en-US" sz="2200" spc="-1" strike="noStrike">
                <a:solidFill>
                  <a:srgbClr val="000000"/>
                </a:solidFill>
                <a:latin typeface="Comic Sans MS"/>
              </a:rPr>
              <a:t> (Not </a:t>
            </a:r>
            <a:r>
              <a:rPr b="0" i="1" lang="en-US" sz="2200" spc="-1" strike="noStrike">
                <a:solidFill>
                  <a:srgbClr val="000000"/>
                </a:solidFill>
                <a:latin typeface="Comic Sans MS"/>
              </a:rPr>
              <a:t>System</a:t>
            </a:r>
            <a:r>
              <a:rPr b="0" lang="en-US" sz="2200" spc="-1" strike="noStrike">
                <a:solidFill>
                  <a:srgbClr val="000000"/>
                </a:solidFill>
                <a:latin typeface="Comic Sans MS"/>
              </a:rPr>
              <a:t> Sequence Diagrams) display object interactions arranged in time sequence.</a:t>
            </a:r>
            <a:endParaRPr b="0" lang="en-US" sz="22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Diagrams depict the temporal order of the events.</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6142C216-DC0A-4BE7-859B-3D09F689EE86}" type="slidenum">
              <a:t>54</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quence Diagrams</a:t>
            </a:r>
            <a:endParaRPr b="1" lang="en-US" sz="2800" spc="-1" strike="noStrike">
              <a:solidFill>
                <a:srgbClr val="000000"/>
              </a:solidFill>
              <a:latin typeface="Tahoma"/>
            </a:endParaRPr>
          </a:p>
        </p:txBody>
      </p:sp>
      <p:sp>
        <p:nvSpPr>
          <p:cNvPr id="3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quence Diagrams depict the </a:t>
            </a:r>
            <a:r>
              <a:rPr b="0" lang="en-US" sz="2200" spc="-1" strike="noStrike">
                <a:solidFill>
                  <a:srgbClr val="3333cc"/>
                </a:solidFill>
                <a:latin typeface="Comic Sans MS"/>
              </a:rPr>
              <a:t>objects and classes</a:t>
            </a:r>
            <a:r>
              <a:rPr b="0" lang="en-US" sz="2200" spc="-1" strike="noStrike">
                <a:solidFill>
                  <a:srgbClr val="000000"/>
                </a:solidFill>
                <a:latin typeface="Comic Sans MS"/>
              </a:rPr>
              <a:t> involved in the scenario and the </a:t>
            </a:r>
            <a:r>
              <a:rPr b="0" lang="en-US" sz="2200" spc="-1" strike="noStrike">
                <a:solidFill>
                  <a:srgbClr val="3333cc"/>
                </a:solidFill>
                <a:latin typeface="Comic Sans MS"/>
              </a:rPr>
              <a:t>sequence of</a:t>
            </a:r>
            <a:r>
              <a:rPr b="0" lang="en-US" sz="2200" spc="-1" strike="noStrike">
                <a:solidFill>
                  <a:srgbClr val="000000"/>
                </a:solidFill>
                <a:latin typeface="Comic Sans MS"/>
              </a:rPr>
              <a:t> </a:t>
            </a:r>
            <a:r>
              <a:rPr b="0" lang="en-US" sz="2200" spc="-1" strike="noStrike">
                <a:solidFill>
                  <a:srgbClr val="3333cc"/>
                </a:solidFill>
                <a:latin typeface="Comic Sans MS"/>
              </a:rPr>
              <a:t>messages</a:t>
            </a:r>
            <a:r>
              <a:rPr b="0" lang="en-US" sz="2200" spc="-1" strike="noStrike">
                <a:solidFill>
                  <a:srgbClr val="000000"/>
                </a:solidFill>
                <a:latin typeface="Comic Sans MS"/>
              </a:rPr>
              <a:t> exchanged between the objects needed to carry out the functionality of the system.</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perations of the system in response to the events generated.</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equence diagrams can be used to drive out testable user interface requirements.</a:t>
            </a: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788B980F-7A10-4438-B36B-9350D7B1BB4A}" type="slidenum">
              <a:t>55</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stem Sequence Diagrams</a:t>
            </a:r>
            <a:endParaRPr b="1" lang="en-US" sz="2400" spc="-1" strike="noStrike">
              <a:solidFill>
                <a:srgbClr val="000000"/>
              </a:solidFill>
              <a:latin typeface="Tahoma"/>
            </a:endParaRPr>
          </a:p>
        </p:txBody>
      </p:sp>
      <p:sp>
        <p:nvSpPr>
          <p:cNvPr id="353"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ases describe-</a:t>
            </a:r>
            <a:endParaRPr b="0" lang="en-US" sz="20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actors interact with system</a:t>
            </a:r>
            <a:endParaRPr b="0" lang="en-US" sz="1800" spc="-1" strike="noStrike">
              <a:solidFill>
                <a:srgbClr val="000000"/>
              </a:solidFill>
              <a:latin typeface="Comic Sans MS"/>
            </a:endParaRPr>
          </a:p>
          <a:p>
            <a:pPr lvl="1" marL="743040" indent="-28584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ical course of events that external actors  generat</a:t>
            </a:r>
            <a:r>
              <a:rPr b="0" lang="tr-TR" sz="1800" spc="-1" strike="noStrike">
                <a:solidFill>
                  <a:srgbClr val="000000"/>
                </a:solidFill>
                <a:latin typeface="Comic Sans MS"/>
              </a:rPr>
              <a:t>e, </a:t>
            </a:r>
            <a:r>
              <a:rPr b="0" lang="tr-TR" sz="1200" spc="-1" strike="noStrike">
                <a:solidFill>
                  <a:srgbClr val="000000"/>
                </a:solidFill>
                <a:latin typeface="Comic Sans MS"/>
              </a:rPr>
              <a:t>and</a:t>
            </a:r>
            <a:endParaRPr b="0" lang="en-US" sz="12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order of the events</a:t>
            </a:r>
            <a:endParaRPr b="0" lang="en-US" sz="18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particular scenario of use-case an SSD shows-</a:t>
            </a:r>
            <a:endParaRPr b="0" lang="en-US" sz="20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xternal actors that interact directly with the system.</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stem (as a black box).</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t>
            </a:r>
            <a:r>
              <a:rPr b="0" lang="en-US" sz="1800" spc="-1" strike="noStrike">
                <a:solidFill>
                  <a:srgbClr val="3333cc"/>
                </a:solidFill>
                <a:latin typeface="Comic Sans MS"/>
              </a:rPr>
              <a:t>system events</a:t>
            </a:r>
            <a:r>
              <a:rPr b="0" lang="en-US" sz="1800" spc="-1" strike="noStrike">
                <a:solidFill>
                  <a:srgbClr val="000000"/>
                </a:solidFill>
                <a:latin typeface="Comic Sans MS"/>
              </a:rPr>
              <a:t> that the actors generate.</a:t>
            </a:r>
            <a:endParaRPr b="0" lang="en-US" sz="1800" spc="-1" strike="noStrike">
              <a:solidFill>
                <a:srgbClr val="000000"/>
              </a:solidFill>
              <a:latin typeface="Comic Sans MS"/>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Note: A software system basically reacts to three things:</a:t>
            </a:r>
            <a:endParaRPr b="0" lang="en-US" sz="20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External events from actor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Timer event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Faults or exceptions</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3348D3DE-31D8-4D1E-90C0-9F2A2DE8A160}" type="slidenum">
              <a:t>5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SD—System Behavior</a:t>
            </a:r>
            <a:endParaRPr b="1" lang="en-US" sz="2800" spc="-1" strike="noStrike">
              <a:solidFill>
                <a:srgbClr val="000000"/>
              </a:solidFill>
              <a:latin typeface="Tahoma"/>
            </a:endParaRPr>
          </a:p>
        </p:txBody>
      </p:sp>
      <p:sp>
        <p:nvSpPr>
          <p:cNvPr id="3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is a description of what a system does, w/o explaining how it does it.</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One part of that description is a SDD. Other parts include the use cases and system operation contracts.</a:t>
            </a:r>
            <a:endParaRPr b="0" lang="en-US" sz="20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ystem behaves as </a:t>
            </a:r>
            <a:r>
              <a:rPr b="0" lang="tr-TR" sz="2200" spc="-1" strike="noStrike">
                <a:solidFill>
                  <a:srgbClr val="000000"/>
                </a:solidFill>
                <a:latin typeface="Comic Sans MS"/>
              </a:rPr>
              <a:t>a </a:t>
            </a:r>
            <a:r>
              <a:rPr b="0" lang="en-US" sz="2200" spc="-1" strike="noStrike">
                <a:solidFill>
                  <a:srgbClr val="000000"/>
                </a:solidFill>
                <a:latin typeface="Comic Sans MS"/>
              </a:rPr>
              <a:t>“</a:t>
            </a:r>
            <a:r>
              <a:rPr b="0" lang="en-US" sz="2200" spc="-1" strike="noStrike">
                <a:solidFill>
                  <a:srgbClr val="3333cc"/>
                </a:solidFill>
                <a:latin typeface="Comic Sans MS"/>
              </a:rPr>
              <a:t>Black Box</a:t>
            </a:r>
            <a:r>
              <a:rPr b="0" lang="en-US" sz="2200" spc="-1" strike="noStrike">
                <a:solidFill>
                  <a:srgbClr val="000000"/>
                </a:solidFill>
                <a:latin typeface="Comic Sans MS"/>
              </a:rPr>
              <a:t>”.</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ior objects are not shown, as they would be on a Sequence Diagram.</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9110C1AB-06BE-48D4-9735-9F20C0288F57}" type="slidenum">
              <a:t>5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ation</a:t>
            </a:r>
            <a:endParaRPr b="1" lang="en-US" sz="2800" spc="-1" strike="noStrike">
              <a:solidFill>
                <a:srgbClr val="000000"/>
              </a:solidFill>
              <a:latin typeface="Tahoma"/>
            </a:endParaRPr>
          </a:p>
        </p:txBody>
      </p:sp>
      <p:sp>
        <p:nvSpPr>
          <p:cNvPr id="35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ea typeface="Arial Unicode MS"/>
              </a:rPr>
              <a:t>Object</a:t>
            </a:r>
            <a:r>
              <a:rPr b="1" lang="en-US" sz="2200" spc="-1" strike="noStrike">
                <a:solidFill>
                  <a:srgbClr val="000000"/>
                </a:solidFill>
                <a:latin typeface="Comic Sans MS"/>
                <a:ea typeface="Arial Unicode MS"/>
              </a:rPr>
              <a:t>:</a:t>
            </a:r>
            <a:r>
              <a:rPr b="1" lang="en-US" sz="2200" spc="-1" strike="noStrike">
                <a:solidFill>
                  <a:srgbClr val="000000"/>
                </a:solidFill>
                <a:latin typeface="Comic Sans MS"/>
                <a:ea typeface="Arial Unicode MS"/>
              </a:rPr>
              <a:t>  </a:t>
            </a:r>
            <a:r>
              <a:rPr b="0" lang="en-US" sz="2200" spc="-1" strike="noStrike">
                <a:solidFill>
                  <a:srgbClr val="000000"/>
                </a:solidFill>
                <a:latin typeface="Comic Sans MS"/>
                <a:ea typeface="Arial Unicode MS"/>
              </a:rPr>
              <a:t>Objects are instances of classes. </a:t>
            </a:r>
            <a:endParaRPr b="0" lang="en-US" sz="2200" spc="-1" strike="noStrike">
              <a:solidFill>
                <a:srgbClr val="000000"/>
              </a:solidFill>
              <a:latin typeface="Comic Sans MS"/>
            </a:endParaRPr>
          </a:p>
          <a:p>
            <a:pPr lvl="1" marL="743040" indent="-285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Object is represented as a rectangle which contains the name of the object underlined.</a:t>
            </a:r>
            <a:endParaRPr b="0" lang="en-US" sz="2000" spc="-1" strike="noStrike">
              <a:solidFill>
                <a:srgbClr val="000000"/>
              </a:solidFill>
              <a:latin typeface="Comic Sans MS"/>
            </a:endParaRPr>
          </a:p>
          <a:p>
            <a:pPr lvl="1" marL="743040" indent="-285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Because the system is instantiated, it is shown as an object.</a:t>
            </a:r>
            <a:endParaRPr b="0" lang="en-US" sz="2000" spc="-1" strike="noStrike">
              <a:solidFill>
                <a:srgbClr val="000000"/>
              </a:solidFill>
              <a:latin typeface="Comic Sans MS"/>
            </a:endParaRPr>
          </a:p>
          <a:p>
            <a:pPr marL="343080" indent="-34308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ea typeface="Arial Unicode MS"/>
              </a:rPr>
              <a:t>Actor</a:t>
            </a:r>
            <a:r>
              <a:rPr b="1" lang="en-US" sz="2200" spc="-1" strike="noStrike">
                <a:solidFill>
                  <a:srgbClr val="000000"/>
                </a:solidFill>
                <a:latin typeface="Comic Sans MS"/>
                <a:ea typeface="Arial Unicode MS"/>
              </a:rPr>
              <a:t>:</a:t>
            </a:r>
            <a:r>
              <a:rPr b="0" lang="en-US" sz="2200" spc="-1" strike="noStrike">
                <a:solidFill>
                  <a:srgbClr val="000000"/>
                </a:solidFill>
                <a:latin typeface="Comic Sans MS"/>
                <a:ea typeface="Arial Unicode MS"/>
              </a:rPr>
              <a:t> An Actor is modeled using the ubiquitous symbol, the stick figure.</a:t>
            </a:r>
            <a:endParaRPr b="0" lang="en-US" sz="2200" spc="-1" strike="noStrike">
              <a:solidFill>
                <a:srgbClr val="000000"/>
              </a:solidFill>
              <a:latin typeface="Comic Sans MS"/>
            </a:endParaRPr>
          </a:p>
        </p:txBody>
      </p:sp>
      <p:sp>
        <p:nvSpPr>
          <p:cNvPr id="358" name=""/>
          <p:cNvSpPr/>
          <p:nvPr/>
        </p:nvSpPr>
        <p:spPr>
          <a:xfrm>
            <a:off x="6781680" y="3962520"/>
            <a:ext cx="533520" cy="533160"/>
          </a:xfrm>
          <a:prstGeom prst="flowChartConnector">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010280" y="449568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629400" y="5029200"/>
            <a:ext cx="38088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10280" y="5029200"/>
            <a:ext cx="30492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553080" y="44956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77120" y="5562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ctor1</a:t>
            </a:r>
            <a:endParaRPr b="0" lang="en-US" sz="2400" spc="-1" strike="noStrike">
              <a:solidFill>
                <a:srgbClr val="000000"/>
              </a:solidFill>
              <a:latin typeface="Times New Roman"/>
            </a:endParaRPr>
          </a:p>
        </p:txBody>
      </p:sp>
      <p:sp>
        <p:nvSpPr>
          <p:cNvPr id="364" name=""/>
          <p:cNvSpPr/>
          <p:nvPr/>
        </p:nvSpPr>
        <p:spPr>
          <a:xfrm>
            <a:off x="1752480" y="4495680"/>
            <a:ext cx="152424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000000"/>
                </a:solidFill>
                <a:uFillTx/>
                <a:latin typeface="Comic Sans MS"/>
              </a:rPr>
              <a:t>: Object1</a:t>
            </a:r>
            <a:endParaRPr b="0" lang="en-US" sz="2000" spc="-1" strike="noStrike">
              <a:solidFill>
                <a:srgbClr val="000000"/>
              </a:solidFill>
              <a:latin typeface="Times New Roman"/>
            </a:endParaRPr>
          </a:p>
        </p:txBody>
      </p:sp>
      <p:sp>
        <p:nvSpPr>
          <p:cNvPr id="365" name=""/>
          <p:cNvSpPr/>
          <p:nvPr/>
        </p:nvSpPr>
        <p:spPr>
          <a:xfrm>
            <a:off x="1752480" y="5334120"/>
            <a:ext cx="15242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00000"/>
                </a:solidFill>
                <a:uFillTx/>
                <a:latin typeface="Comic Sans MS"/>
              </a:rPr>
              <a:t>: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7C037CAC-262D-489B-8E9B-4D33A6795042}" type="slidenum">
              <a:t>58</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ation (</a:t>
            </a:r>
            <a:r>
              <a:rPr b="1" lang="tr-TR" sz="2800" spc="-1" strike="noStrike">
                <a:solidFill>
                  <a:srgbClr val="000000"/>
                </a:solidFill>
                <a:latin typeface="Tahoma"/>
              </a:rPr>
              <a:t>2</a:t>
            </a:r>
            <a:r>
              <a:rPr b="1" lang="en-US" sz="2800" spc="-1" strike="noStrike">
                <a:solidFill>
                  <a:srgbClr val="000000"/>
                </a:solidFill>
                <a:latin typeface="Tahoma"/>
              </a:rPr>
              <a:t>)</a:t>
            </a:r>
            <a:endParaRPr b="1" lang="en-US" sz="2800" spc="-1" strike="noStrike">
              <a:solidFill>
                <a:srgbClr val="000000"/>
              </a:solidFill>
              <a:latin typeface="Tahoma"/>
            </a:endParaRPr>
          </a:p>
        </p:txBody>
      </p:sp>
      <p:sp>
        <p:nvSpPr>
          <p:cNvPr id="3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Arial Unicode MS"/>
              </a:rPr>
              <a:t>Lifeline:</a:t>
            </a:r>
            <a:r>
              <a:rPr b="1" lang="en-US" sz="2200" spc="-1" strike="noStrike">
                <a:solidFill>
                  <a:srgbClr val="000000"/>
                </a:solidFill>
                <a:latin typeface="Comic Sans MS"/>
                <a:ea typeface="Arial Unicode MS"/>
              </a:rPr>
              <a:t> </a:t>
            </a:r>
            <a:r>
              <a:rPr b="0" lang="en-US" sz="2200" spc="-1" strike="noStrike">
                <a:solidFill>
                  <a:srgbClr val="000000"/>
                </a:solidFill>
                <a:latin typeface="Comic Sans MS"/>
                <a:ea typeface="Arial Unicode MS"/>
              </a:rPr>
              <a:t>The Life</a:t>
            </a:r>
            <a:r>
              <a:rPr b="0" lang="tr-TR" sz="2200" spc="-1" strike="noStrike">
                <a:solidFill>
                  <a:srgbClr val="000000"/>
                </a:solidFill>
                <a:latin typeface="Comic Sans MS"/>
              </a:rPr>
              <a:t>l</a:t>
            </a:r>
            <a:r>
              <a:rPr b="0" lang="en-US" sz="2200" spc="-1" strike="noStrike">
                <a:solidFill>
                  <a:srgbClr val="000000"/>
                </a:solidFill>
                <a:latin typeface="Comic Sans MS"/>
                <a:ea typeface="Arial Unicode MS"/>
              </a:rPr>
              <a:t>ine identifies the existence of the object over time. The notation for a Lifeline is a vertical dotted line extending from an object.</a:t>
            </a:r>
            <a:endParaRPr b="0" lang="en-US" sz="22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ea typeface="Times New Roman"/>
              </a:rPr>
              <a:t>Message:</a:t>
            </a:r>
            <a:r>
              <a:rPr b="1" lang="en-US" sz="2200" spc="-1" strike="noStrike">
                <a:solidFill>
                  <a:srgbClr val="000000"/>
                </a:solidFill>
                <a:latin typeface="Comic Sans MS"/>
                <a:ea typeface="Times New Roman"/>
              </a:rPr>
              <a:t> </a:t>
            </a:r>
            <a:r>
              <a:rPr b="0" lang="en-US" sz="2200" spc="-1" strike="noStrike">
                <a:solidFill>
                  <a:srgbClr val="000000"/>
                </a:solidFill>
                <a:latin typeface="Comic Sans MS"/>
                <a:ea typeface="Times New Roman"/>
              </a:rPr>
              <a:t>Messages, modeled as horizontal arrows between Activations, indicate the communications between objects.</a:t>
            </a:r>
            <a:endParaRPr b="0" lang="en-US" sz="2200" spc="-1" strike="noStrike">
              <a:solidFill>
                <a:srgbClr val="000000"/>
              </a:solidFill>
              <a:latin typeface="Comic Sans MS"/>
            </a:endParaRPr>
          </a:p>
        </p:txBody>
      </p:sp>
      <p:pic>
        <p:nvPicPr>
          <p:cNvPr id="368" name="" descr=""/>
          <p:cNvPicPr/>
          <p:nvPr/>
        </p:nvPicPr>
        <p:blipFill>
          <a:blip r:embed="rId1"/>
          <a:stretch/>
        </p:blipFill>
        <p:spPr>
          <a:xfrm>
            <a:off x="2590920" y="3654360"/>
            <a:ext cx="21960" cy="2822760"/>
          </a:xfrm>
          <a:prstGeom prst="rect">
            <a:avLst/>
          </a:prstGeom>
          <a:ln w="0">
            <a:noFill/>
          </a:ln>
        </p:spPr>
      </p:pic>
      <p:sp>
        <p:nvSpPr>
          <p:cNvPr id="369" name=""/>
          <p:cNvSpPr/>
          <p:nvPr/>
        </p:nvSpPr>
        <p:spPr>
          <a:xfrm>
            <a:off x="4317120" y="4343400"/>
            <a:ext cx="253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Name(argument)</a:t>
            </a:r>
            <a:endParaRPr b="0" lang="en-US" sz="1600" spc="-1" strike="noStrike">
              <a:solidFill>
                <a:srgbClr val="000000"/>
              </a:solidFill>
              <a:latin typeface="Times New Roman"/>
            </a:endParaRPr>
          </a:p>
        </p:txBody>
      </p:sp>
      <p:sp>
        <p:nvSpPr>
          <p:cNvPr id="370" name=""/>
          <p:cNvSpPr/>
          <p:nvPr/>
        </p:nvSpPr>
        <p:spPr>
          <a:xfrm>
            <a:off x="3809880" y="4724280"/>
            <a:ext cx="35053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FC063C13-DFDF-4CA6-B0D6-5EF698A2F82D}" type="slidenum">
              <a:t>5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ahoma"/>
              </a:rPr>
              <a:t>Example:</a:t>
            </a:r>
            <a:br>
              <a:rPr sz="1800"/>
            </a:br>
            <a:r>
              <a:rPr b="1" lang="tr-TR" sz="1600" spc="-1" strike="noStrike">
                <a:solidFill>
                  <a:srgbClr val="000000"/>
                </a:solidFill>
                <a:latin typeface="Tahoma"/>
              </a:rPr>
              <a:t>Fig 9.2 Partial domain model – a visual dictionary</a:t>
            </a:r>
            <a:endParaRPr b="1" lang="en-US" sz="1600" spc="-1" strike="noStrike">
              <a:solidFill>
                <a:srgbClr val="000000"/>
              </a:solidFill>
              <a:latin typeface="Tahoma"/>
            </a:endParaRPr>
          </a:p>
        </p:txBody>
      </p:sp>
      <p:graphicFrame>
        <p:nvGraphicFramePr>
          <p:cNvPr id="216" name=""/>
          <p:cNvGraphicFramePr/>
          <p:nvPr/>
        </p:nvGraphicFramePr>
        <p:xfrm>
          <a:off x="1371600" y="1017720"/>
          <a:ext cx="7772400" cy="5611680"/>
        </p:xfrm>
        <a:graphic>
          <a:graphicData uri="http://schemas.openxmlformats.org/presentationml/2006/ole">
            <p:oleObj r:id="rId1" spid="">
              <p:embed/>
              <p:pic>
                <p:nvPicPr>
                  <p:cNvPr id="217" name="" descr=""/>
                  <p:cNvPicPr/>
                  <p:nvPr/>
                </p:nvPicPr>
                <p:blipFill>
                  <a:blip r:embed="rId2"/>
                  <a:stretch/>
                </p:blipFill>
                <p:spPr>
                  <a:xfrm>
                    <a:off x="1371600" y="1017720"/>
                    <a:ext cx="7772400" cy="5611680"/>
                  </a:xfrm>
                  <a:prstGeom prst="rect">
                    <a:avLst/>
                  </a:prstGeom>
                  <a:ln w="0">
                    <a:noFill/>
                  </a:ln>
                </p:spPr>
              </p:pic>
            </p:oleObj>
          </a:graphicData>
        </a:graphic>
      </p:graphicFrame>
      <p:sp>
        <p:nvSpPr>
          <p:cNvPr id="218" name=""/>
          <p:cNvSpPr/>
          <p:nvPr/>
        </p:nvSpPr>
        <p:spPr>
          <a:xfrm>
            <a:off x="0" y="4551480"/>
            <a:ext cx="3429000" cy="230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mic Sans MS"/>
              </a:rPr>
              <a:t>A domain model</a:t>
            </a:r>
            <a:r>
              <a:rPr b="0" lang="en-US" sz="1600" spc="-1" strike="noStrike">
                <a:solidFill>
                  <a:srgbClr val="000000"/>
                </a:solidFill>
                <a:latin typeface="Comic Sans MS"/>
              </a:rPr>
              <a:t> may contain:</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main Objects or Conceptual Classes</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sociations between conceptual classes</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ributes of conceptual classes</a:t>
            </a:r>
            <a:endParaRPr b="0" lang="en-US" sz="1600" spc="-1" strike="noStrike">
              <a:solidFill>
                <a:srgbClr val="000000"/>
              </a:solidFill>
              <a:latin typeface="Times New Roman"/>
            </a:endParaRPr>
          </a:p>
          <a:p>
            <a:pPr>
              <a:lnSpc>
                <a:spcPct val="100000"/>
              </a:lnSpc>
              <a:spcBef>
                <a:spcPts val="10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No operation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E9953CB4-B645-42A6-95B6-A272F97F953F}" type="slidenum">
              <a:t>6</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762120" y="46080"/>
            <a:ext cx="8305560" cy="6735600"/>
          </a:xfrm>
          <a:prstGeom prst="rect">
            <a:avLst/>
          </a:prstGeom>
          <a:ln w="0">
            <a:noFill/>
          </a:ln>
        </p:spPr>
      </p:pic>
      <p:sp>
        <p:nvSpPr>
          <p:cNvPr id="372" name=""/>
          <p:cNvSpPr/>
          <p:nvPr/>
        </p:nvSpPr>
        <p:spPr>
          <a:xfrm>
            <a:off x="0" y="0"/>
            <a:ext cx="1828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g 10.</a:t>
            </a:r>
            <a:r>
              <a:rPr b="1" lang="tr-TR" sz="1400" spc="-1" strike="noStrike">
                <a:solidFill>
                  <a:srgbClr val="000000"/>
                </a:solidFill>
                <a:latin typeface="Tahoma"/>
              </a:rPr>
              <a:t>2</a:t>
            </a:r>
            <a:r>
              <a:rPr b="1" lang="en-US" sz="1400" spc="-1" strike="noStrike">
                <a:solidFill>
                  <a:srgbClr val="000000"/>
                </a:solidFill>
                <a:latin typeface="Tahoma"/>
              </a:rPr>
              <a:t>: </a:t>
            </a:r>
            <a:r>
              <a:rPr b="1" lang="tr-TR" sz="1400" spc="-1" strike="noStrike">
                <a:solidFill>
                  <a:srgbClr val="000000"/>
                </a:solidFill>
                <a:latin typeface="Tahoma"/>
              </a:rPr>
              <a:t>SSD for</a:t>
            </a:r>
            <a:br>
              <a:rPr sz="1400"/>
            </a:br>
            <a:r>
              <a:rPr b="1" lang="tr-TR" sz="1400" spc="-1" strike="noStrike">
                <a:solidFill>
                  <a:srgbClr val="000000"/>
                </a:solidFill>
                <a:latin typeface="Tahoma"/>
              </a:rPr>
              <a:t>A Process Sale</a:t>
            </a:r>
            <a:br>
              <a:rPr sz="1400"/>
            </a:br>
            <a:r>
              <a:rPr b="1" lang="tr-TR" sz="1400" spc="-1" strike="noStrike">
                <a:solidFill>
                  <a:srgbClr val="000000"/>
                </a:solidFill>
                <a:latin typeface="Tahoma"/>
              </a:rPr>
              <a:t>Scenario.</a:t>
            </a:r>
            <a:endParaRPr b="0" lang="en-US" sz="1400" spc="-1" strike="noStrike">
              <a:solidFill>
                <a:srgbClr val="000000"/>
              </a:solidFill>
              <a:latin typeface="Times New Roman"/>
            </a:endParaRPr>
          </a:p>
        </p:txBody>
      </p:sp>
      <p:sp>
        <p:nvSpPr>
          <p:cNvPr id="373" name=""/>
          <p:cNvSpPr/>
          <p:nvPr/>
        </p:nvSpPr>
        <p:spPr>
          <a:xfrm>
            <a:off x="1945080" y="762120"/>
            <a:ext cx="21344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hat SSD info must be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put into Glossary?</a:t>
            </a:r>
            <a:endParaRPr b="0" lang="en-US" sz="1400" spc="-1" strike="noStrike">
              <a:solidFill>
                <a:srgbClr val="000000"/>
              </a:solidFill>
              <a:latin typeface="Times New Roman"/>
            </a:endParaRPr>
          </a:p>
        </p:txBody>
      </p:sp>
      <p:sp>
        <p:nvSpPr>
          <p:cNvPr id="374" name=""/>
          <p:cNvSpPr/>
          <p:nvPr/>
        </p:nvSpPr>
        <p:spPr>
          <a:xfrm>
            <a:off x="1913040" y="152280"/>
            <a:ext cx="24652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Note the e</a:t>
            </a:r>
            <a:r>
              <a:rPr b="0" lang="en-US" sz="1400" spc="-1" strike="noStrike">
                <a:solidFill>
                  <a:srgbClr val="000000"/>
                </a:solidFill>
                <a:latin typeface="Comic Sans MS"/>
                <a:ea typeface="Times New Roman"/>
              </a:rPr>
              <a:t>vents generated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by cashier (actor)</a:t>
            </a:r>
            <a:r>
              <a:rPr b="0" lang="tr-TR" sz="1400" spc="-1" strike="noStrike">
                <a:solidFill>
                  <a:srgbClr val="000000"/>
                </a:solidFill>
                <a:latin typeface="Comic Sans MS"/>
              </a:rPr>
              <a:t> below.</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F8788DBB-35AB-4598-BE19-8C155752B1B4}" type="slidenum">
              <a:t>60</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tructing a </a:t>
            </a:r>
            <a:r>
              <a:rPr b="1" lang="tr-TR" sz="2400" spc="-1" strike="noStrike">
                <a:solidFill>
                  <a:srgbClr val="000000"/>
                </a:solidFill>
                <a:latin typeface="Tahoma"/>
              </a:rPr>
              <a:t>SSD</a:t>
            </a:r>
            <a:r>
              <a:rPr b="1" lang="en-US" sz="2400" spc="-1" strike="noStrike">
                <a:solidFill>
                  <a:srgbClr val="000000"/>
                </a:solidFill>
                <a:latin typeface="Tahoma"/>
              </a:rPr>
              <a:t> from a </a:t>
            </a:r>
            <a:r>
              <a:rPr b="1" lang="tr-TR" sz="2400" spc="-1" strike="noStrike">
                <a:solidFill>
                  <a:srgbClr val="000000"/>
                </a:solidFill>
                <a:latin typeface="Tahoma"/>
              </a:rPr>
              <a:t>U</a:t>
            </a:r>
            <a:r>
              <a:rPr b="1" lang="en-US" sz="2400" spc="-1" strike="noStrike">
                <a:solidFill>
                  <a:srgbClr val="000000"/>
                </a:solidFill>
                <a:latin typeface="Tahoma"/>
              </a:rPr>
              <a:t>se </a:t>
            </a:r>
            <a:r>
              <a:rPr b="1" lang="tr-TR" sz="2400" spc="-1" strike="noStrike">
                <a:solidFill>
                  <a:srgbClr val="000000"/>
                </a:solidFill>
                <a:latin typeface="Tahoma"/>
              </a:rPr>
              <a:t>C</a:t>
            </a:r>
            <a:r>
              <a:rPr b="1" lang="en-US" sz="2400" spc="-1" strike="noStrike">
                <a:solidFill>
                  <a:srgbClr val="000000"/>
                </a:solidFill>
                <a:latin typeface="Tahoma"/>
              </a:rPr>
              <a:t>ase</a:t>
            </a:r>
            <a:endParaRPr b="1" lang="en-US" sz="2400" spc="-1" strike="noStrike">
              <a:solidFill>
                <a:srgbClr val="000000"/>
              </a:solidFill>
              <a:latin typeface="Tahoma"/>
            </a:endParaRPr>
          </a:p>
        </p:txBody>
      </p:sp>
      <p:sp>
        <p:nvSpPr>
          <p:cNvPr id="376"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cc"/>
                </a:solidFill>
                <a:latin typeface="Comic Sans MS"/>
              </a:rPr>
              <a:t>1.</a:t>
            </a:r>
            <a:r>
              <a:rPr b="0" lang="tr-TR" sz="2000" spc="-1" strike="noStrike">
                <a:solidFill>
                  <a:srgbClr val="000000"/>
                </a:solidFill>
                <a:latin typeface="Comic Sans MS"/>
              </a:rPr>
              <a:t>  </a:t>
            </a:r>
            <a:r>
              <a:rPr b="0" lang="en-US" sz="2000" spc="-1" strike="noStrike">
                <a:solidFill>
                  <a:srgbClr val="000000"/>
                </a:solidFill>
                <a:latin typeface="Comic Sans MS"/>
                <a:ea typeface="Arial"/>
              </a:rPr>
              <a:t>Draw a line representing the system as a black box. </a:t>
            </a: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Arial"/>
              </a:rPr>
              <a:t>2.</a:t>
            </a:r>
            <a:r>
              <a:rPr b="0" lang="tr-TR" sz="2000" spc="-1" strike="noStrike">
                <a:solidFill>
                  <a:srgbClr val="000000"/>
                </a:solidFill>
                <a:latin typeface="Comic Sans MS"/>
              </a:rPr>
              <a:t> </a:t>
            </a:r>
            <a:r>
              <a:rPr b="0" lang="en-US" sz="2000" spc="-1" strike="noStrike">
                <a:solidFill>
                  <a:srgbClr val="000000"/>
                </a:solidFill>
                <a:latin typeface="Comic Sans MS"/>
                <a:ea typeface="Arial"/>
              </a:rPr>
              <a:t>Identify each actor that directly operates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on the system. Draw a line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for each such </a:t>
            </a:r>
            <a:r>
              <a:rPr b="0" lang="en-US" sz="2000" spc="-1" strike="noStrike">
                <a:solidFill>
                  <a:srgbClr val="000000"/>
                </a:solidFill>
                <a:latin typeface="Comic Sans MS"/>
                <a:ea typeface="Arial"/>
              </a:rPr>
              <a:t>	</a:t>
            </a:r>
            <a:r>
              <a:rPr b="0" lang="en-US" sz="2000" spc="-1" strike="noStrike">
                <a:solidFill>
                  <a:srgbClr val="000000"/>
                </a:solidFill>
                <a:latin typeface="Comic Sans MS"/>
                <a:ea typeface="Arial"/>
              </a:rPr>
              <a:t>actor.</a:t>
            </a: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3.</a:t>
            </a:r>
            <a:r>
              <a:rPr b="0" lang="tr-TR" sz="2000" spc="-1" strike="noStrike">
                <a:solidFill>
                  <a:srgbClr val="000000"/>
                </a:solidFill>
                <a:latin typeface="Comic Sans MS"/>
              </a:rPr>
              <a:t> </a:t>
            </a:r>
            <a:r>
              <a:rPr b="0" lang="en-US" sz="2000" spc="-1" strike="noStrike">
                <a:solidFill>
                  <a:srgbClr val="000000"/>
                </a:solidFill>
                <a:latin typeface="Comic Sans MS"/>
              </a:rPr>
              <a:t>From the use case, typical course of events text,  identify the system (external) events that each actor generates. They will correspond to an entry in the right hand side of the typical use case. Illustrate them on the diagram. </a:t>
            </a: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4.</a:t>
            </a:r>
            <a:r>
              <a:rPr b="0" lang="tr-TR" sz="2000" spc="-1" strike="noStrike">
                <a:solidFill>
                  <a:srgbClr val="000000"/>
                </a:solidFill>
                <a:latin typeface="Comic Sans MS"/>
              </a:rPr>
              <a:t> </a:t>
            </a:r>
            <a:r>
              <a:rPr b="0" lang="en-US" sz="2000" spc="-1" strike="noStrike">
                <a:solidFill>
                  <a:srgbClr val="000000"/>
                </a:solidFill>
                <a:latin typeface="Comic Sans MS"/>
              </a:rPr>
              <a:t>Optionally, include the use case text to the left of the diagram.</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1ED2B28A-A50B-4A41-BBE4-48AFD6F10549}" type="slidenum">
              <a:t>61</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76320" y="808200"/>
            <a:ext cx="8991360" cy="5973480"/>
          </a:xfrm>
          <a:prstGeom prst="rect">
            <a:avLst/>
          </a:prstGeom>
          <a:ln w="0">
            <a:noFill/>
          </a:ln>
        </p:spPr>
      </p:pic>
      <p:sp>
        <p:nvSpPr>
          <p:cNvPr id="378" name=""/>
          <p:cNvSpPr/>
          <p:nvPr/>
        </p:nvSpPr>
        <p:spPr>
          <a:xfrm>
            <a:off x="0" y="0"/>
            <a:ext cx="1828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g 10.</a:t>
            </a:r>
            <a:r>
              <a:rPr b="1" lang="tr-TR" sz="1400" spc="-1" strike="noStrike">
                <a:solidFill>
                  <a:srgbClr val="000000"/>
                </a:solidFill>
                <a:latin typeface="Tahoma"/>
              </a:rPr>
              <a:t>3</a:t>
            </a:r>
            <a:r>
              <a:rPr b="1" lang="en-US" sz="1400" spc="-1" strike="noStrike">
                <a:solidFill>
                  <a:srgbClr val="000000"/>
                </a:solidFill>
                <a:latin typeface="Tahoma"/>
              </a:rPr>
              <a:t>: </a:t>
            </a:r>
            <a:r>
              <a:rPr b="1" lang="tr-TR" sz="1400" spc="-1" strike="noStrike">
                <a:solidFill>
                  <a:srgbClr val="000000"/>
                </a:solidFill>
                <a:latin typeface="Tahoma"/>
              </a:rPr>
              <a:t>SSDs are derived from use cases; they show one scenario.</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3E0D2ACE-2D57-42F8-944A-CD51AAC748A7}" type="slidenum">
              <a:t>62</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762120" y="1592280"/>
            <a:ext cx="7543800" cy="3565440"/>
          </a:xfrm>
          <a:prstGeom prst="rect">
            <a:avLst/>
          </a:prstGeom>
          <a:ln w="0">
            <a:noFill/>
          </a:ln>
        </p:spPr>
      </p:pic>
      <p:sp>
        <p:nvSpPr>
          <p:cNvPr id="380" name=""/>
          <p:cNvSpPr/>
          <p:nvPr/>
        </p:nvSpPr>
        <p:spPr>
          <a:xfrm>
            <a:off x="0" y="0"/>
            <a:ext cx="1828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g 10.</a:t>
            </a:r>
            <a:r>
              <a:rPr b="1" lang="tr-TR" sz="1400" spc="-1" strike="noStrike">
                <a:solidFill>
                  <a:srgbClr val="000000"/>
                </a:solidFill>
                <a:latin typeface="Tahoma"/>
              </a:rPr>
              <a:t>4</a:t>
            </a:r>
            <a:r>
              <a:rPr b="1" lang="en-US" sz="1400" spc="-1" strike="noStrike">
                <a:solidFill>
                  <a:srgbClr val="000000"/>
                </a:solidFill>
                <a:latin typeface="Tahoma"/>
              </a:rPr>
              <a:t>: </a:t>
            </a:r>
            <a:r>
              <a:rPr b="1" lang="tr-TR" sz="1400" spc="-1" strike="noStrike">
                <a:solidFill>
                  <a:srgbClr val="000000"/>
                </a:solidFill>
                <a:latin typeface="Tahoma"/>
              </a:rPr>
              <a:t>Choose event</a:t>
            </a:r>
            <a:br>
              <a:rPr sz="1400"/>
            </a:br>
            <a:r>
              <a:rPr b="1" lang="tr-TR" sz="1400" spc="-1" strike="noStrike">
                <a:solidFill>
                  <a:srgbClr val="000000"/>
                </a:solidFill>
                <a:latin typeface="Tahoma"/>
              </a:rPr>
              <a:t>and operation names at an abstract level.</a:t>
            </a:r>
            <a:endParaRPr b="0" lang="en-US" sz="1400" spc="-1" strike="noStrike">
              <a:solidFill>
                <a:srgbClr val="000000"/>
              </a:solidFill>
              <a:latin typeface="Times New Roman"/>
            </a:endParaRPr>
          </a:p>
        </p:txBody>
      </p:sp>
      <p:sp>
        <p:nvSpPr>
          <p:cNvPr id="381" name=""/>
          <p:cNvSpPr/>
          <p:nvPr/>
        </p:nvSpPr>
        <p:spPr>
          <a:xfrm>
            <a:off x="570240" y="5451480"/>
            <a:ext cx="7552440" cy="69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System events should be expressed at the abstract level of intentio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rather than in terms of the physical input devic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EE8FF6B6-244F-4A2C-84F4-1B327776BA2C}" type="slidenum">
              <a:t>63</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457200"/>
            <a:ext cx="80010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ahoma"/>
              </a:rPr>
              <a:t>Chapter 11</a:t>
            </a:r>
            <a:br>
              <a:rPr sz="2800"/>
            </a:br>
            <a:r>
              <a:rPr b="1" lang="tr-TR" sz="2800" spc="-1" strike="noStrike">
                <a:solidFill>
                  <a:srgbClr val="ff0000"/>
                </a:solidFill>
                <a:latin typeface="Tahoma"/>
              </a:rPr>
              <a:t>Operation Contracts</a:t>
            </a:r>
            <a:endParaRPr b="0" lang="en-US" sz="2800" spc="-1" strike="noStrike">
              <a:solidFill>
                <a:srgbClr val="000000"/>
              </a:solidFill>
              <a:latin typeface="Times New Roman"/>
            </a:endParaRPr>
          </a:p>
        </p:txBody>
      </p:sp>
      <p:sp>
        <p:nvSpPr>
          <p:cNvPr id="383" name=""/>
          <p:cNvSpPr/>
          <p:nvPr/>
        </p:nvSpPr>
        <p:spPr>
          <a:xfrm>
            <a:off x="1371600" y="3886200"/>
            <a:ext cx="678168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bjectives</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Define system operation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reate </a:t>
            </a:r>
            <a:r>
              <a:rPr b="0" lang="tr-TR" sz="2000" spc="-1" strike="noStrike">
                <a:solidFill>
                  <a:srgbClr val="000000"/>
                </a:solidFill>
                <a:latin typeface="Comic Sans MS"/>
              </a:rPr>
              <a:t>contracts for system operations.</a:t>
            </a:r>
            <a:endParaRPr b="0" lang="en-US" sz="2000" spc="-1" strike="noStrike">
              <a:solidFill>
                <a:srgbClr val="000000"/>
              </a:solidFill>
              <a:latin typeface="Times New Roman"/>
            </a:endParaRPr>
          </a:p>
        </p:txBody>
      </p:sp>
      <p:sp>
        <p:nvSpPr>
          <p:cNvPr id="384" name=""/>
          <p:cNvSpPr/>
          <p:nvPr/>
        </p:nvSpPr>
        <p:spPr>
          <a:xfrm>
            <a:off x="1295280" y="1905120"/>
            <a:ext cx="7239240" cy="175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500" spc="-1" strike="noStrike">
                <a:solidFill>
                  <a:srgbClr val="000000"/>
                </a:solidFill>
                <a:latin typeface="Comic Sans MS"/>
              </a:rPr>
              <a:t>“</a:t>
            </a:r>
            <a:r>
              <a:rPr b="1" i="1" lang="tr-TR" sz="1500" spc="-1" strike="noStrike">
                <a:solidFill>
                  <a:srgbClr val="000000"/>
                </a:solidFill>
                <a:latin typeface="Comic Sans MS"/>
              </a:rPr>
              <a:t>When ideas fail, words come in very handy.” </a:t>
            </a:r>
            <a:br>
              <a:rPr sz="1500"/>
            </a:br>
            <a:r>
              <a:rPr b="1" i="1" lang="tr-TR" sz="1500" spc="-1" strike="noStrike">
                <a:solidFill>
                  <a:srgbClr val="000000"/>
                </a:solidFill>
                <a:latin typeface="Comic Sans MS"/>
              </a:rPr>
              <a:t>- Johann Wolfgang von Goethe</a:t>
            </a: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79CC451A-E192-45D5-AED6-69BE3E77D121}" type="slidenum">
              <a:t>64</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76320" y="914400"/>
            <a:ext cx="8915400" cy="5911920"/>
          </a:xfrm>
          <a:prstGeom prst="rect">
            <a:avLst/>
          </a:prstGeom>
          <a:ln w="0">
            <a:noFill/>
          </a:ln>
        </p:spPr>
      </p:pic>
      <p:sp>
        <p:nvSpPr>
          <p:cNvPr id="386" name=""/>
          <p:cNvSpPr/>
          <p:nvPr/>
        </p:nvSpPr>
        <p:spPr>
          <a:xfrm>
            <a:off x="0" y="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g 1</a:t>
            </a:r>
            <a:r>
              <a:rPr b="1" lang="tr-TR" sz="1400" spc="-1" strike="noStrike">
                <a:solidFill>
                  <a:srgbClr val="000000"/>
                </a:solidFill>
                <a:latin typeface="Tahoma"/>
              </a:rPr>
              <a:t>1</a:t>
            </a:r>
            <a:r>
              <a:rPr b="1" lang="en-US" sz="1400" spc="-1" strike="noStrike">
                <a:solidFill>
                  <a:srgbClr val="000000"/>
                </a:solidFill>
                <a:latin typeface="Tahoma"/>
              </a:rPr>
              <a:t>.</a:t>
            </a:r>
            <a:r>
              <a:rPr b="1" lang="tr-TR" sz="1400" spc="-1" strike="noStrike">
                <a:solidFill>
                  <a:srgbClr val="000000"/>
                </a:solidFill>
                <a:latin typeface="Tahoma"/>
              </a:rPr>
              <a:t>2</a:t>
            </a:r>
            <a:r>
              <a:rPr b="1" lang="en-US" sz="1400" spc="-1" strike="noStrike">
                <a:solidFill>
                  <a:srgbClr val="000000"/>
                </a:solidFill>
                <a:latin typeface="Tahoma"/>
              </a:rPr>
              <a:t>: </a:t>
            </a:r>
            <a:r>
              <a:rPr b="1" lang="tr-TR" sz="1400" spc="-1" strike="noStrike">
                <a:solidFill>
                  <a:srgbClr val="000000"/>
                </a:solidFill>
                <a:latin typeface="Tahoma"/>
              </a:rPr>
              <a:t>SDD. System operations handle input system events.</a:t>
            </a:r>
            <a:endParaRPr b="0" lang="en-US" sz="1400" spc="-1" strike="noStrike">
              <a:solidFill>
                <a:srgbClr val="000000"/>
              </a:solidFill>
              <a:latin typeface="Times New Roman"/>
            </a:endParaRPr>
          </a:p>
        </p:txBody>
      </p:sp>
      <p:sp>
        <p:nvSpPr>
          <p:cNvPr id="387" name=""/>
          <p:cNvSpPr/>
          <p:nvPr/>
        </p:nvSpPr>
        <p:spPr>
          <a:xfrm>
            <a:off x="3657600" y="152280"/>
            <a:ext cx="548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mic Sans MS"/>
              </a:rPr>
              <a:t>Operation contracts may be defined for </a:t>
            </a:r>
            <a:r>
              <a:rPr b="0" lang="tr-TR" sz="1800" spc="-1" strike="noStrike">
                <a:solidFill>
                  <a:srgbClr val="ff0000"/>
                </a:solidFill>
                <a:latin typeface="Comic Sans MS"/>
              </a:rPr>
              <a:t>system operations</a:t>
            </a:r>
            <a:r>
              <a:rPr b="0" lang="tr-TR" sz="1800" spc="-1" strike="noStrike">
                <a:solidFill>
                  <a:srgbClr val="000000"/>
                </a:solidFill>
                <a:latin typeface="Comic Sans MS"/>
              </a:rPr>
              <a:t> – operations that the system as a black box component offers in its public interface.</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CS319 Week 5 - Oct.9,2005</a:t>
            </a:r>
          </a:p>
        </p:txBody>
      </p:sp>
      <p:sp>
        <p:nvSpPr>
          <p:cNvPr id="3" name="PlaceHolder 2"/>
          <p:cNvSpPr>
            <a:spLocks noGrp="1"/>
          </p:cNvSpPr>
          <p:nvPr>
            <p:ph type="sldNum" idx="3"/>
          </p:nvPr>
        </p:nvSpPr>
        <p:spPr/>
        <p:txBody>
          <a:bodyPr/>
          <a:p>
            <a:fld id="{3D3226EC-4B3C-4A0A-91A4-FD6C42F4A2CB}" type="slidenum">
              <a:t>65</a:t>
            </a:fld>
          </a:p>
        </p:txBody>
      </p:sp>
      <p:sp>
        <p:nvSpPr>
          <p:cNvPr id="4" name="PlaceHolder 3"/>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main Model And Contracts</a:t>
            </a:r>
            <a:endParaRPr b="1" lang="en-US" sz="2800" spc="-1" strike="noStrike">
              <a:solidFill>
                <a:srgbClr val="000000"/>
              </a:solidFill>
              <a:latin typeface="Tahoma"/>
            </a:endParaRPr>
          </a:p>
        </p:txBody>
      </p:sp>
      <p:sp>
        <p:nvSpPr>
          <p:cNvPr id="38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1" lang="en-US" sz="2000" spc="-1" strike="noStrike">
                <a:solidFill>
                  <a:srgbClr val="ff0000"/>
                </a:solidFill>
                <a:latin typeface="Comic Sans MS"/>
              </a:rPr>
              <a:t>Domain Model</a:t>
            </a:r>
            <a:r>
              <a:rPr b="0" lang="en-US" sz="2000" spc="-1" strike="noStrike">
                <a:solidFill>
                  <a:srgbClr val="000000"/>
                </a:solidFill>
                <a:latin typeface="Comic Sans MS"/>
              </a:rPr>
              <a:t> is a visual representation of conceptual classes or real-world objects in a domain of interest.</a:t>
            </a:r>
            <a:endParaRPr b="0" lang="en-US" sz="2000" spc="-1" strike="noStrike">
              <a:solidFill>
                <a:srgbClr val="000000"/>
              </a:solidFill>
              <a:latin typeface="Comic Sans MS"/>
            </a:endParaRPr>
          </a:p>
          <a:p>
            <a:pPr marL="343080" indent="-34308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Contracts</a:t>
            </a:r>
            <a:r>
              <a:rPr b="0" lang="en-US" sz="2000" spc="-1" strike="noStrike">
                <a:solidFill>
                  <a:srgbClr val="000000"/>
                </a:solidFill>
                <a:latin typeface="Comic Sans MS"/>
              </a:rPr>
              <a:t> describe detailed system behavior in terms of state changes to objects in the Domain Model, after a system operation has execut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mic Sans MS"/>
              </a:rPr>
              <a:t>Guideline: </a:t>
            </a:r>
            <a:r>
              <a:rPr b="0" lang="en-US" sz="2200" spc="-1" strike="noStrike">
                <a:solidFill>
                  <a:srgbClr val="000000"/>
                </a:solidFill>
                <a:latin typeface="Comic Sans MS"/>
              </a:rPr>
              <a:t>Keep it Agile</a:t>
            </a:r>
            <a:endParaRPr b="0" lang="en-US" sz="22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many, or even most software development projects, operation contracts may be unnecessary.  For an agile process, use them only when necessary to add additional detail and understanding.</a:t>
            </a:r>
            <a:endParaRPr b="0" lang="en-US" sz="18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03300116-DDC5-4B20-AD94-3625AB58709A}" type="slidenum">
              <a:t>66</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Contract: </a:t>
            </a:r>
            <a:br>
              <a:rPr sz="2800"/>
            </a:br>
            <a:r>
              <a:rPr b="1" lang="en-US" sz="2800" spc="-1" strike="noStrike">
                <a:solidFill>
                  <a:srgbClr val="000000"/>
                </a:solidFill>
                <a:latin typeface="Tahoma"/>
              </a:rPr>
              <a:t>enterItem</a:t>
            </a:r>
            <a:endParaRPr b="1" lang="en-US" sz="2800" spc="-1" strike="noStrike">
              <a:solidFill>
                <a:srgbClr val="000000"/>
              </a:solidFill>
              <a:latin typeface="Tahoma"/>
            </a:endParaRPr>
          </a:p>
        </p:txBody>
      </p:sp>
      <p:sp>
        <p:nvSpPr>
          <p:cNvPr id="391" name="PlaceHolder 2"/>
          <p:cNvSpPr>
            <a:spLocks noGrp="1"/>
          </p:cNvSpPr>
          <p:nvPr>
            <p:ph/>
          </p:nvPr>
        </p:nvSpPr>
        <p:spPr>
          <a:xfrm>
            <a:off x="685800" y="1219320"/>
            <a:ext cx="8153280" cy="4876560"/>
          </a:xfrm>
          <a:prstGeom prst="rect">
            <a:avLst/>
          </a:prstGeom>
          <a:noFill/>
          <a:ln w="0">
            <a:noFill/>
          </a:ln>
        </p:spPr>
        <p:txBody>
          <a:bodyPr lIns="90000" rIns="90000" tIns="46800" bIns="46800"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3333cc"/>
                </a:solidFill>
                <a:latin typeface="Arial"/>
              </a:rPr>
              <a:t>Contract Template:</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Arial"/>
              </a:rPr>
              <a:t>Operation:        </a:t>
            </a:r>
            <a:r>
              <a:rPr b="1" lang="tr-TR" sz="1500" spc="-1" strike="noStrike">
                <a:solidFill>
                  <a:srgbClr val="800080"/>
                </a:solidFill>
                <a:latin typeface="Arial"/>
              </a:rPr>
              <a:t>	</a:t>
            </a:r>
            <a:r>
              <a:rPr b="0" lang="en-US" sz="1500" spc="-1" strike="noStrike">
                <a:solidFill>
                  <a:srgbClr val="800080"/>
                </a:solidFill>
                <a:latin typeface="Arial"/>
              </a:rPr>
              <a:t>Name Of operation, and parameters.</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Arial"/>
              </a:rPr>
              <a:t>Cross References: </a:t>
            </a:r>
            <a:r>
              <a:rPr b="0" i="1" lang="en-US" sz="1500" spc="-1" strike="noStrike">
                <a:solidFill>
                  <a:srgbClr val="800080"/>
                </a:solidFill>
                <a:latin typeface="Arial"/>
              </a:rPr>
              <a:t>(optional) Use </a:t>
            </a:r>
            <a:r>
              <a:rPr b="0" lang="en-US" sz="1500" spc="-1" strike="noStrike">
                <a:solidFill>
                  <a:srgbClr val="800080"/>
                </a:solidFill>
                <a:latin typeface="Arial"/>
              </a:rPr>
              <a:t>cases</a:t>
            </a:r>
            <a:r>
              <a:rPr b="0" i="1" lang="en-US" sz="1500" spc="-1" strike="noStrike">
                <a:solidFill>
                  <a:srgbClr val="800080"/>
                </a:solidFill>
                <a:latin typeface="Arial"/>
              </a:rPr>
              <a:t> this</a:t>
            </a:r>
            <a:r>
              <a:rPr b="0" i="1" lang="tr-TR" sz="1500" spc="-1" strike="noStrike">
                <a:solidFill>
                  <a:srgbClr val="800080"/>
                </a:solidFill>
                <a:latin typeface="Arial"/>
              </a:rPr>
              <a:t> </a:t>
            </a:r>
            <a:r>
              <a:rPr b="0" i="1" lang="en-US" sz="1500" spc="-1" strike="noStrike">
                <a:solidFill>
                  <a:srgbClr val="800080"/>
                </a:solidFill>
                <a:latin typeface="Arial"/>
              </a:rPr>
              <a:t>can occur within.</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Arial"/>
              </a:rPr>
              <a:t>Preconditions:</a:t>
            </a:r>
            <a:r>
              <a:rPr b="1" lang="en-US" sz="1500" spc="-1" strike="noStrike">
                <a:solidFill>
                  <a:srgbClr val="800080"/>
                </a:solidFill>
                <a:latin typeface="Arial"/>
              </a:rPr>
              <a:t>	</a:t>
            </a:r>
            <a:r>
              <a:rPr b="0" lang="en-US" sz="1500" spc="-1" strike="noStrike">
                <a:solidFill>
                  <a:srgbClr val="800080"/>
                </a:solidFill>
                <a:latin typeface="Arial"/>
              </a:rPr>
              <a:t>Noteworthy assumptions about the</a:t>
            </a:r>
            <a:r>
              <a:rPr b="0" lang="tr-TR" sz="1500" spc="-1" strike="noStrike">
                <a:solidFill>
                  <a:srgbClr val="800080"/>
                </a:solidFill>
                <a:latin typeface="Arial"/>
              </a:rPr>
              <a:t> </a:t>
            </a:r>
            <a:r>
              <a:rPr b="0" lang="en-US" sz="1500" spc="-1" strike="noStrike">
                <a:solidFill>
                  <a:srgbClr val="800080"/>
                </a:solidFill>
                <a:latin typeface="Arial"/>
              </a:rPr>
              <a:t>state of the system or </a:t>
            </a:r>
            <a:r>
              <a:rPr b="0" lang="tr-TR" sz="1500" spc="-1" strike="noStrike">
                <a:solidFill>
                  <a:srgbClr val="800080"/>
                </a:solidFill>
                <a:latin typeface="Arial"/>
              </a:rPr>
              <a:t>	</a:t>
            </a:r>
            <a:r>
              <a:rPr b="0" lang="tr-TR" sz="1500" spc="-1" strike="noStrike">
                <a:solidFill>
                  <a:srgbClr val="800080"/>
                </a:solidFill>
                <a:latin typeface="Arial"/>
              </a:rPr>
              <a:t>	</a:t>
            </a:r>
            <a:r>
              <a:rPr b="0" lang="tr-TR" sz="1500" spc="-1" strike="noStrike">
                <a:solidFill>
                  <a:srgbClr val="800080"/>
                </a:solidFill>
                <a:latin typeface="Arial"/>
              </a:rPr>
              <a:t>	</a:t>
            </a:r>
            <a:r>
              <a:rPr b="0" lang="en-US" sz="1500" spc="-1" strike="noStrike">
                <a:solidFill>
                  <a:srgbClr val="800080"/>
                </a:solidFill>
                <a:latin typeface="Arial"/>
              </a:rPr>
              <a:t>objects in the Domain Model before execution of the operation.</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0080"/>
                </a:solidFill>
                <a:latin typeface="Arial"/>
              </a:rPr>
              <a:t>Postconditions:</a:t>
            </a:r>
            <a:r>
              <a:rPr b="1" lang="en-US" sz="1500" spc="-1" strike="noStrike">
                <a:solidFill>
                  <a:srgbClr val="800080"/>
                </a:solidFill>
                <a:latin typeface="Arial"/>
              </a:rPr>
              <a:t>	</a:t>
            </a:r>
            <a:r>
              <a:rPr b="0" lang="en-US" sz="1500" spc="-1" strike="noStrike">
                <a:solidFill>
                  <a:srgbClr val="800080"/>
                </a:solidFill>
                <a:latin typeface="Arial"/>
              </a:rPr>
              <a:t>-The state of objects in the Domain Model after completion of</a:t>
            </a:r>
            <a:br>
              <a:rPr sz="1500"/>
            </a:br>
            <a:r>
              <a:rPr b="0" lang="en-US" sz="1500" spc="-1" strike="noStrike">
                <a:solidFill>
                  <a:srgbClr val="800080"/>
                </a:solidFill>
                <a:latin typeface="Arial"/>
              </a:rPr>
              <a:t>	</a:t>
            </a:r>
            <a:r>
              <a:rPr b="0" lang="en-US" sz="1500" spc="-1" strike="noStrike">
                <a:solidFill>
                  <a:srgbClr val="800080"/>
                </a:solidFill>
                <a:latin typeface="Arial"/>
              </a:rPr>
              <a:t>	</a:t>
            </a:r>
            <a:r>
              <a:rPr b="0" lang="en-US" sz="1500" spc="-1" strike="noStrike">
                <a:solidFill>
                  <a:srgbClr val="800080"/>
                </a:solidFill>
                <a:latin typeface="Arial"/>
              </a:rPr>
              <a:t>the operation.</a:t>
            </a:r>
            <a:r>
              <a:rPr b="1" lang="en-US" sz="1500" spc="-1" strike="noStrike">
                <a:solidFill>
                  <a:srgbClr val="800080"/>
                </a:solidFill>
                <a:latin typeface="Arial"/>
              </a:rPr>
              <a:t> </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Arial"/>
              </a:rPr>
              <a:t>Contract CO2: enterItem</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ration:</a:t>
            </a:r>
            <a:r>
              <a:rPr b="0" lang="en-US" sz="1500" spc="-1" strike="noStrike">
                <a:solidFill>
                  <a:srgbClr val="000000"/>
                </a:solidFill>
                <a:latin typeface="Arial"/>
              </a:rPr>
              <a:t>        </a:t>
            </a:r>
            <a:r>
              <a:rPr b="0" lang="tr-TR" sz="1500" spc="-1" strike="noStrike">
                <a:solidFill>
                  <a:srgbClr val="000000"/>
                </a:solidFill>
                <a:latin typeface="Arial"/>
              </a:rPr>
              <a:t>	</a:t>
            </a:r>
            <a:r>
              <a:rPr b="0" lang="en-US" sz="1500" spc="-1" strike="noStrike">
                <a:solidFill>
                  <a:srgbClr val="000000"/>
                </a:solidFill>
                <a:latin typeface="Arial"/>
              </a:rPr>
              <a:t>enterItem(itemID : ItemID,</a:t>
            </a:r>
            <a:r>
              <a:rPr b="0" lang="tr-TR" sz="1500" spc="-1" strike="noStrike">
                <a:solidFill>
                  <a:srgbClr val="000000"/>
                </a:solidFill>
                <a:latin typeface="Arial"/>
              </a:rPr>
              <a:t> </a:t>
            </a:r>
            <a:r>
              <a:rPr b="0" lang="en-US" sz="1500" spc="-1" strike="noStrike">
                <a:solidFill>
                  <a:srgbClr val="000000"/>
                </a:solidFill>
                <a:latin typeface="Arial"/>
              </a:rPr>
              <a:t>quantity : integer)</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oss References:</a:t>
            </a:r>
            <a:r>
              <a:rPr b="0" lang="en-US" sz="1500" spc="-1" strike="noStrike">
                <a:solidFill>
                  <a:srgbClr val="000000"/>
                </a:solidFill>
                <a:latin typeface="Arial"/>
              </a:rPr>
              <a:t> </a:t>
            </a:r>
            <a:r>
              <a:rPr b="0" lang="tr-TR" sz="1500" spc="-1" strike="noStrike">
                <a:solidFill>
                  <a:srgbClr val="000000"/>
                </a:solidFill>
                <a:latin typeface="Arial"/>
              </a:rPr>
              <a:t>	</a:t>
            </a:r>
            <a:r>
              <a:rPr b="0" lang="en-US" sz="1500" spc="-1" strike="noStrike">
                <a:solidFill>
                  <a:srgbClr val="000000"/>
                </a:solidFill>
                <a:latin typeface="Arial"/>
              </a:rPr>
              <a:t>Use Cases: Process Sale</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conditions:</a:t>
            </a:r>
            <a:r>
              <a:rPr b="0" lang="en-US" sz="1500" spc="-1" strike="noStrike">
                <a:solidFill>
                  <a:srgbClr val="000000"/>
                </a:solidFill>
                <a:latin typeface="Arial"/>
              </a:rPr>
              <a:t>	</a:t>
            </a:r>
            <a:r>
              <a:rPr b="0" lang="en-US" sz="1500" spc="-1" strike="noStrike">
                <a:solidFill>
                  <a:srgbClr val="000000"/>
                </a:solidFill>
                <a:latin typeface="Arial"/>
              </a:rPr>
              <a:t>There is a Sale Underway.</a:t>
            </a:r>
            <a:endParaRPr b="0" lang="en-US" sz="1500" spc="-1" strike="noStrike">
              <a:solidFill>
                <a:srgbClr val="000000"/>
              </a:solidFill>
              <a:latin typeface="Comic Sans MS"/>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conditions:</a:t>
            </a:r>
            <a:r>
              <a:rPr b="0" lang="en-US" sz="1500" spc="-1" strike="noStrike">
                <a:solidFill>
                  <a:srgbClr val="000000"/>
                </a:solidFill>
                <a:latin typeface="Arial"/>
              </a:rPr>
              <a:t>	</a:t>
            </a:r>
            <a:r>
              <a:rPr b="0" lang="en-US" sz="1500" spc="-1" strike="noStrike">
                <a:solidFill>
                  <a:srgbClr val="000000"/>
                </a:solidFill>
                <a:latin typeface="Arial"/>
              </a:rPr>
              <a:t>-</a:t>
            </a:r>
            <a:r>
              <a:rPr b="0" lang="tr-TR" sz="1500" spc="-1" strike="noStrike">
                <a:solidFill>
                  <a:srgbClr val="000000"/>
                </a:solidFill>
                <a:latin typeface="Arial"/>
              </a:rPr>
              <a:t> </a:t>
            </a:r>
            <a:r>
              <a:rPr b="0" lang="en-US" sz="1500" spc="-1" strike="noStrike">
                <a:solidFill>
                  <a:srgbClr val="000000"/>
                </a:solidFill>
                <a:latin typeface="Arial"/>
              </a:rPr>
              <a:t>A SalesLineItem instance sli was</a:t>
            </a:r>
            <a:r>
              <a:rPr b="0" lang="tr-TR" sz="1500" spc="-1" strike="noStrike">
                <a:solidFill>
                  <a:srgbClr val="000000"/>
                </a:solidFill>
                <a:latin typeface="Arial"/>
              </a:rPr>
              <a:t> </a:t>
            </a:r>
            <a:r>
              <a:rPr b="0" lang="en-US" sz="1500" spc="-1" strike="noStrike">
                <a:solidFill>
                  <a:srgbClr val="000000"/>
                </a:solidFill>
                <a:latin typeface="Arial"/>
              </a:rPr>
              <a:t>created (</a:t>
            </a:r>
            <a:r>
              <a:rPr b="0" i="1" lang="en-US" sz="1500" spc="-1" strike="noStrike">
                <a:solidFill>
                  <a:srgbClr val="000000"/>
                </a:solidFill>
                <a:latin typeface="Arial"/>
              </a:rPr>
              <a:t>instance creation</a:t>
            </a:r>
            <a:r>
              <a:rPr b="0" lang="en-US" sz="1500" spc="-1" strike="noStrike">
                <a:solidFill>
                  <a:srgbClr val="000000"/>
                </a:solidFill>
                <a:latin typeface="Arial"/>
              </a:rPr>
              <a:t>)</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tr-TR" sz="1500" spc="-1" strike="noStrike">
                <a:solidFill>
                  <a:srgbClr val="000000"/>
                </a:solidFill>
                <a:latin typeface="Arial"/>
              </a:rPr>
              <a:t> </a:t>
            </a:r>
            <a:r>
              <a:rPr b="0" lang="en-US" sz="1500" spc="-1" strike="noStrike">
                <a:solidFill>
                  <a:srgbClr val="000000"/>
                </a:solidFill>
                <a:latin typeface="Arial"/>
              </a:rPr>
              <a:t>sli was associated with the</a:t>
            </a:r>
            <a:r>
              <a:rPr b="0" lang="tr-TR" sz="1500" spc="-1" strike="noStrike">
                <a:solidFill>
                  <a:srgbClr val="000000"/>
                </a:solidFill>
                <a:latin typeface="Arial"/>
              </a:rPr>
              <a:t> </a:t>
            </a:r>
            <a:r>
              <a:rPr b="0" lang="en-US" sz="1500" spc="-1" strike="noStrike">
                <a:solidFill>
                  <a:srgbClr val="000000"/>
                </a:solidFill>
                <a:latin typeface="Arial"/>
              </a:rPr>
              <a:t>current Sale (</a:t>
            </a:r>
            <a:r>
              <a:rPr b="0" i="1" lang="en-US" sz="1500" spc="-1" strike="noStrike">
                <a:solidFill>
                  <a:srgbClr val="000000"/>
                </a:solidFill>
                <a:latin typeface="Arial"/>
              </a:rPr>
              <a:t>association formed</a:t>
            </a:r>
            <a:r>
              <a:rPr b="0" lang="en-US" sz="1500" spc="-1" strike="noStrike">
                <a:solidFill>
                  <a:srgbClr val="000000"/>
                </a:solidFill>
                <a:latin typeface="Arial"/>
              </a:rPr>
              <a:t>)</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tr-TR" sz="1500" spc="-1" strike="noStrike">
                <a:solidFill>
                  <a:srgbClr val="000000"/>
                </a:solidFill>
                <a:latin typeface="Arial"/>
              </a:rPr>
              <a:t> </a:t>
            </a:r>
            <a:r>
              <a:rPr b="0" lang="en-US" sz="1500" spc="-1" strike="noStrike">
                <a:solidFill>
                  <a:srgbClr val="000000"/>
                </a:solidFill>
                <a:latin typeface="Arial"/>
              </a:rPr>
              <a:t>sli.quantity became quantity</a:t>
            </a:r>
            <a:r>
              <a:rPr b="0" lang="tr-TR" sz="1500" spc="-1" strike="noStrike">
                <a:solidFill>
                  <a:srgbClr val="000000"/>
                </a:solidFill>
                <a:latin typeface="Arial"/>
              </a:rPr>
              <a:t> </a:t>
            </a:r>
            <a:r>
              <a:rPr b="0" lang="en-US" sz="1500" spc="-1" strike="noStrike">
                <a:solidFill>
                  <a:srgbClr val="000000"/>
                </a:solidFill>
                <a:latin typeface="Arial"/>
              </a:rPr>
              <a:t>(</a:t>
            </a:r>
            <a:r>
              <a:rPr b="0" i="1" lang="en-US" sz="1500" spc="-1" strike="noStrike">
                <a:solidFill>
                  <a:srgbClr val="000000"/>
                </a:solidFill>
                <a:latin typeface="Arial"/>
              </a:rPr>
              <a:t>attribute modification</a:t>
            </a:r>
            <a:r>
              <a:rPr b="0" lang="en-US" sz="1500" spc="-1" strike="noStrike">
                <a:solidFill>
                  <a:srgbClr val="000000"/>
                </a:solidFill>
                <a:latin typeface="Arial"/>
              </a:rPr>
              <a:t>)</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a:t>
            </a:r>
            <a:r>
              <a:rPr b="0" lang="tr-TR" sz="1500" spc="-1" strike="noStrike">
                <a:solidFill>
                  <a:srgbClr val="000000"/>
                </a:solidFill>
                <a:latin typeface="Arial"/>
              </a:rPr>
              <a:t> </a:t>
            </a:r>
            <a:r>
              <a:rPr b="0" lang="en-US" sz="1500" spc="-1" strike="noStrike">
                <a:solidFill>
                  <a:srgbClr val="000000"/>
                </a:solidFill>
                <a:latin typeface="Arial"/>
              </a:rPr>
              <a:t>sli was associated with a ProductSpecification, based on</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tr-TR" sz="1500" spc="-1" strike="noStrike">
                <a:solidFill>
                  <a:srgbClr val="000000"/>
                </a:solidFill>
                <a:latin typeface="Arial"/>
              </a:rPr>
              <a:t>       </a:t>
            </a:r>
            <a:r>
              <a:rPr b="0" lang="en-US" sz="1500" spc="-1" strike="noStrike">
                <a:solidFill>
                  <a:srgbClr val="000000"/>
                </a:solidFill>
                <a:latin typeface="Arial"/>
              </a:rPr>
              <a:t>itemID match (</a:t>
            </a:r>
            <a:r>
              <a:rPr b="0" i="1" lang="en-US" sz="1500" spc="-1" strike="noStrike">
                <a:solidFill>
                  <a:srgbClr val="000000"/>
                </a:solidFill>
                <a:latin typeface="Arial"/>
              </a:rPr>
              <a:t>association formed</a:t>
            </a:r>
            <a:r>
              <a:rPr b="0" lang="en-US" sz="1500" spc="-1" strike="noStrike">
                <a:solidFill>
                  <a:srgbClr val="000000"/>
                </a:solidFill>
                <a:latin typeface="Arial"/>
              </a:rPr>
              <a:t>)</a:t>
            </a:r>
            <a:endParaRPr b="0" lang="en-US" sz="15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25BE1B85-D680-4E83-833E-B754C7A64D82}" type="slidenum">
              <a:t>67</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stconditions</a:t>
            </a:r>
            <a:endParaRPr b="1" lang="en-US" sz="2800" spc="-1" strike="noStrike">
              <a:solidFill>
                <a:srgbClr val="000000"/>
              </a:solidFill>
              <a:latin typeface="Tahoma"/>
            </a:endParaRPr>
          </a:p>
        </p:txBody>
      </p:sp>
      <p:sp>
        <p:nvSpPr>
          <p:cNvPr id="39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ostconditions describe </a:t>
            </a:r>
            <a:r>
              <a:rPr b="0" lang="en-US" sz="2000" spc="-1" strike="noStrike">
                <a:solidFill>
                  <a:srgbClr val="3333cc"/>
                </a:solidFill>
                <a:latin typeface="Comic Sans MS"/>
              </a:rPr>
              <a:t>changes in the state of objects</a:t>
            </a:r>
            <a:r>
              <a:rPr b="0" lang="en-US" sz="2000" spc="-1" strike="noStrike">
                <a:solidFill>
                  <a:srgbClr val="000000"/>
                </a:solidFill>
                <a:latin typeface="Comic Sans MS"/>
              </a:rPr>
              <a:t> in the Domain Model.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main Model state changes include </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ances created,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ociations formed or broke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attributes changed.</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tconditions are not actions to be performed, during the operation; rather, they are declarations about the Domain Model objects that are true when the operation has finished.</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15B9B2FC-6C3F-4A68-8069-955B65BADAC3}" type="slidenum">
              <a:t>68</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3 A domain model shows real-situation conceptual classes, not software classes.</a:t>
            </a:r>
            <a:endParaRPr b="1" lang="en-US" sz="1600" spc="-1" strike="noStrike">
              <a:solidFill>
                <a:srgbClr val="000000"/>
              </a:solidFill>
              <a:latin typeface="Tahoma"/>
            </a:endParaRPr>
          </a:p>
        </p:txBody>
      </p:sp>
      <p:sp>
        <p:nvSpPr>
          <p:cNvPr id="220" name=""/>
          <p:cNvSpPr/>
          <p:nvPr/>
        </p:nvSpPr>
        <p:spPr>
          <a:xfrm>
            <a:off x="762120" y="59436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ahoma"/>
              </a:rPr>
              <a:t>Fig. 9.4 A domain model does not show software artifacts or classes.</a:t>
            </a:r>
            <a:endParaRPr b="0" lang="en-US" sz="1600" spc="-1" strike="noStrike">
              <a:solidFill>
                <a:srgbClr val="000000"/>
              </a:solidFill>
              <a:latin typeface="Times New Roman"/>
            </a:endParaRPr>
          </a:p>
        </p:txBody>
      </p:sp>
      <p:pic>
        <p:nvPicPr>
          <p:cNvPr id="221" name="" descr=""/>
          <p:cNvPicPr/>
          <p:nvPr/>
        </p:nvPicPr>
        <p:blipFill>
          <a:blip r:embed="rId1"/>
          <a:stretch/>
        </p:blipFill>
        <p:spPr>
          <a:xfrm>
            <a:off x="304920" y="914400"/>
            <a:ext cx="8229600" cy="1409760"/>
          </a:xfrm>
          <a:prstGeom prst="rect">
            <a:avLst/>
          </a:prstGeom>
          <a:ln w="0">
            <a:noFill/>
          </a:ln>
        </p:spPr>
      </p:pic>
      <p:pic>
        <p:nvPicPr>
          <p:cNvPr id="222" name="" descr=""/>
          <p:cNvPicPr/>
          <p:nvPr/>
        </p:nvPicPr>
        <p:blipFill>
          <a:blip r:embed="rId2"/>
          <a:stretch/>
        </p:blipFill>
        <p:spPr>
          <a:xfrm>
            <a:off x="533520" y="2438280"/>
            <a:ext cx="8229600" cy="357192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6ACB6D79-91B9-43C8-A9D0-FB47350FCF5D}" type="slidenum">
              <a:t>7</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ig. 9.6</a:t>
            </a:r>
            <a:r>
              <a:rPr b="1" lang="tr-TR" sz="1600" spc="-1" strike="noStrike">
                <a:solidFill>
                  <a:srgbClr val="000000"/>
                </a:solidFill>
                <a:latin typeface="Tahoma"/>
              </a:rPr>
              <a:t> Lower representational gap with OO modeling</a:t>
            </a:r>
            <a:endParaRPr b="1" lang="en-US" sz="1600" spc="-1" strike="noStrike">
              <a:solidFill>
                <a:srgbClr val="000000"/>
              </a:solidFill>
              <a:latin typeface="Tahoma"/>
            </a:endParaRPr>
          </a:p>
        </p:txBody>
      </p:sp>
      <p:pic>
        <p:nvPicPr>
          <p:cNvPr id="224" name="" descr=""/>
          <p:cNvPicPr/>
          <p:nvPr/>
        </p:nvPicPr>
        <p:blipFill>
          <a:blip r:embed="rId1"/>
          <a:stretch/>
        </p:blipFill>
        <p:spPr>
          <a:xfrm>
            <a:off x="0" y="789120"/>
            <a:ext cx="9144000" cy="5535360"/>
          </a:xfrm>
          <a:prstGeom prst="rect">
            <a:avLst/>
          </a:prstGeom>
          <a:ln w="0">
            <a:noFill/>
          </a:ln>
        </p:spPr>
      </p:pic>
      <p:sp>
        <p:nvSpPr>
          <p:cNvPr id="3" name="PlaceHolder 2"/>
          <p:cNvSpPr>
            <a:spLocks noGrp="1"/>
          </p:cNvSpPr>
          <p:nvPr>
            <p:ph type="ftr" idx="2"/>
          </p:nvPr>
        </p:nvSpPr>
        <p:spPr/>
        <p:txBody>
          <a:bodyPr/>
          <a:p>
            <a:r>
              <a:t>CS319 Week 5 - Oct.9,2005</a:t>
            </a:r>
          </a:p>
        </p:txBody>
      </p:sp>
      <p:sp>
        <p:nvSpPr>
          <p:cNvPr id="4" name="PlaceHolder 3"/>
          <p:cNvSpPr>
            <a:spLocks noGrp="1"/>
          </p:cNvSpPr>
          <p:nvPr>
            <p:ph type="sldNum" idx="3"/>
          </p:nvPr>
        </p:nvSpPr>
        <p:spPr/>
        <p:txBody>
          <a:bodyPr/>
          <a:p>
            <a:fld id="{365B0A4D-308E-45AC-B1A2-53C4D0175CAF}" type="slidenum">
              <a:t>8</a:t>
            </a:fld>
          </a:p>
        </p:txBody>
      </p:sp>
      <p:sp>
        <p:nvSpPr>
          <p:cNvPr id="5" name="PlaceHolder 4"/>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composition</a:t>
            </a:r>
            <a:endParaRPr b="1" lang="en-US" sz="2800" spc="-1" strike="noStrike">
              <a:solidFill>
                <a:srgbClr val="000000"/>
              </a:solidFill>
              <a:latin typeface="Tahoma"/>
            </a:endParaRPr>
          </a:p>
        </p:txBody>
      </p:sp>
      <p:sp>
        <p:nvSpPr>
          <p:cNvPr id="22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central distinction between Object-oriented analysis and structured analysis is the </a:t>
            </a:r>
            <a:r>
              <a:rPr b="0" lang="en-US" sz="2200" spc="-1" strike="noStrike">
                <a:solidFill>
                  <a:srgbClr val="3333cc"/>
                </a:solidFill>
                <a:latin typeface="Comic Sans MS"/>
              </a:rPr>
              <a:t>division by objects</a:t>
            </a:r>
            <a:r>
              <a:rPr b="0" lang="en-US" sz="2200" spc="-1" strike="noStrike">
                <a:solidFill>
                  <a:srgbClr val="000000"/>
                </a:solidFill>
                <a:latin typeface="Comic Sans MS"/>
              </a:rPr>
              <a:t> rather than </a:t>
            </a:r>
            <a:r>
              <a:rPr b="0" lang="en-US" sz="2200" spc="-1" strike="noStrike">
                <a:solidFill>
                  <a:srgbClr val="3333cc"/>
                </a:solidFill>
                <a:latin typeface="Comic Sans MS"/>
              </a:rPr>
              <a:t>by functions</a:t>
            </a:r>
            <a:r>
              <a:rPr b="0" lang="en-US" sz="2200" spc="-1" strike="noStrike">
                <a:solidFill>
                  <a:srgbClr val="000000"/>
                </a:solidFill>
                <a:latin typeface="Comic Sans MS"/>
              </a:rPr>
              <a:t> during decomposition.</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each iteration, only objects in current scenarios are considered for addition to the domain model.</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CS319 Week 5 - Oct.9,2005</a:t>
            </a:r>
          </a:p>
        </p:txBody>
      </p:sp>
      <p:sp>
        <p:nvSpPr>
          <p:cNvPr id="5" name="PlaceHolder 4"/>
          <p:cNvSpPr>
            <a:spLocks noGrp="1"/>
          </p:cNvSpPr>
          <p:nvPr>
            <p:ph type="sldNum" idx="3"/>
          </p:nvPr>
        </p:nvSpPr>
        <p:spPr/>
        <p:txBody>
          <a:bodyPr/>
          <a:p>
            <a:fld id="{B0DD8A18-ACBB-4198-8912-CCDE38912356}" type="slidenum">
              <a:t>9</a:t>
            </a:fld>
          </a:p>
        </p:txBody>
      </p:sp>
      <p:sp>
        <p:nvSpPr>
          <p:cNvPr id="6" name="PlaceHolder 5"/>
          <p:cNvSpPr>
            <a:spLocks noGrp="1"/>
          </p:cNvSpPr>
          <p:nvPr>
            <p:ph type="dt" idx="1"/>
          </p:nvPr>
        </p:nvSpPr>
        <p:spPr/>
        <p:txBody>
          <a:bodyPr/>
          <a:p>
            <a:r>
              <a:rPr lang="en-US"/>
              <a:t>Dr. Kivanc Dinc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03:51:44Z</dcterms:created>
  <dc:creator>KIVANCD</dc:creator>
  <dc:description>RLSD 61009 KD</dc:description>
  <dc:language>en-US</dc:language>
  <cp:lastModifiedBy>KIVANCD</cp:lastModifiedBy>
  <dcterms:modified xsi:type="dcterms:W3CDTF">2006-10-30T22:50:31Z</dcterms:modified>
  <cp:revision>50</cp:revision>
  <dc:subject/>
  <dc:title>Object Oriented Analysis and Design - Lecture 5</dc:title>
</cp:coreProperties>
</file>